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E79-D251-465F-BD65-4AC0B9891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A2A-A465-470C-96F2-29DA51128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 Göthe and Kathryn Fryer are Solution Architects in the Rational organization, who are developing customer-based scenarios to illustrate GDD approaches and identify best practices with Rational tools and opportunities for future solution enhancem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s, joined Rational in 1991 and has held various positions; development manager for Rational Rose development in Sweden, Rational Technical Sales and Service Manager in Nordic and in the Ericsson Corporate Account Team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ryn joined IBM Canada in 1990; her previous positions include roles in User Experience, User Assistance, Development and Management, in several brands including DB2, WebSphere and R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68A-055D-4F1C-AB79-62D8C8432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EBDB-ACB7-430B-A16F-ECF6AB174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37E-04DE-4FD6-8963-87FDD316F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37D8-DE5B-4E2C-B293-E51A11306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23BF-E0F7-437F-B0C6-A9426C5D4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12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8480" y="157644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40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12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8480" y="3137760"/>
            <a:ext cx="28350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080" y="808200"/>
            <a:ext cx="883584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13776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576440"/>
            <a:ext cx="42969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080" y="3137760"/>
            <a:ext cx="8805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35720"/>
            <a:ext cx="914400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434240" y="123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048120" y="647712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1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Button_Left"/>
          <p:cNvPicPr/>
          <p:nvPr/>
        </p:nvPicPr>
        <p:blipFill>
          <a:blip r:embed="rId3"/>
          <a:stretch/>
        </p:blipFill>
        <p:spPr>
          <a:xfrm>
            <a:off x="109440" y="6475320"/>
            <a:ext cx="29520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4"/>
          <p:cNvSpPr/>
          <p:nvPr/>
        </p:nvSpPr>
        <p:spPr>
          <a:xfrm>
            <a:off x="-1814400" y="2874960"/>
            <a:ext cx="9144000" cy="37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5"/>
          <p:cNvSpPr/>
          <p:nvPr/>
        </p:nvSpPr>
        <p:spPr>
          <a:xfrm>
            <a:off x="114480" y="833400"/>
            <a:ext cx="8943840" cy="336384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6613560"/>
            <a:ext cx="163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7 IBM Corp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5" descr="Button_Left"/>
          <p:cNvPicPr/>
          <p:nvPr/>
        </p:nvPicPr>
        <p:blipFill>
          <a:blip r:embed="rId2"/>
          <a:stretch/>
        </p:blipFill>
        <p:spPr>
          <a:xfrm>
            <a:off x="480960" y="557208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6" descr="Buttons_Right"/>
          <p:cNvPicPr/>
          <p:nvPr/>
        </p:nvPicPr>
        <p:blipFill>
          <a:blip r:embed="rId3"/>
          <a:stretch/>
        </p:blipFill>
        <p:spPr>
          <a:xfrm>
            <a:off x="7329600" y="5572080"/>
            <a:ext cx="1342800" cy="2383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91"/>
          <p:cNvGrpSpPr/>
          <p:nvPr/>
        </p:nvGrpSpPr>
        <p:grpSpPr>
          <a:xfrm>
            <a:off x="0" y="5924520"/>
            <a:ext cx="9144000" cy="92160"/>
            <a:chOff x="0" y="5924520"/>
            <a:chExt cx="9144000" cy="92160"/>
          </a:xfrm>
        </p:grpSpPr>
        <p:sp>
          <p:nvSpPr>
            <p:cNvPr id="52" name="Rectangle 88"/>
            <p:cNvSpPr/>
            <p:nvPr/>
          </p:nvSpPr>
          <p:spPr>
            <a:xfrm>
              <a:off x="0" y="5935320"/>
              <a:ext cx="5300640" cy="69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9"/>
            <p:cNvSpPr/>
            <p:nvPr/>
          </p:nvSpPr>
          <p:spPr>
            <a:xfrm>
              <a:off x="5286240" y="5924520"/>
              <a:ext cx="3857760" cy="92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9bb9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90" descr="Marker"/>
          <p:cNvPicPr/>
          <p:nvPr/>
        </p:nvPicPr>
        <p:blipFill>
          <a:blip r:embed="rId4"/>
          <a:stretch/>
        </p:blipFill>
        <p:spPr>
          <a:xfrm>
            <a:off x="5270400" y="5913360"/>
            <a:ext cx="104760" cy="11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Video_River"/>
          <p:cNvPicPr/>
          <p:nvPr/>
        </p:nvPicPr>
        <p:blipFill>
          <a:blip r:embed="rId5"/>
          <a:srcRect l="0" t="34978" r="23595" b="32648"/>
          <a:stretch/>
        </p:blipFill>
        <p:spPr>
          <a:xfrm>
            <a:off x="128520" y="4924440"/>
            <a:ext cx="8929800" cy="595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41400" y="4295880"/>
            <a:ext cx="9102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1"/>
          <p:cNvGrpSpPr/>
          <p:nvPr/>
        </p:nvGrpSpPr>
        <p:grpSpPr>
          <a:xfrm>
            <a:off x="7931160" y="6284880"/>
            <a:ext cx="1162080" cy="559080"/>
            <a:chOff x="7931160" y="6284880"/>
            <a:chExt cx="1162080" cy="559080"/>
          </a:xfrm>
        </p:grpSpPr>
        <p:pic>
          <p:nvPicPr>
            <p:cNvPr id="58" name="Picture 102" descr="ibm_white_logo_300dpi"/>
            <p:cNvPicPr/>
            <p:nvPr/>
          </p:nvPicPr>
          <p:blipFill>
            <a:blip r:embed="rId6"/>
            <a:srcRect l="0" t="0" r="6479" b="0"/>
            <a:stretch/>
          </p:blipFill>
          <p:spPr>
            <a:xfrm>
              <a:off x="7931160" y="6284880"/>
              <a:ext cx="10033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03"/>
            <p:cNvSpPr/>
            <p:nvPr/>
          </p:nvSpPr>
          <p:spPr>
            <a:xfrm>
              <a:off x="8863200" y="656712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07" descr="Rational_Negative"/>
          <p:cNvPicPr/>
          <p:nvPr/>
        </p:nvPicPr>
        <p:blipFill>
          <a:blip r:embed="rId7"/>
          <a:stretch/>
        </p:blipFill>
        <p:spPr>
          <a:xfrm>
            <a:off x="123840" y="252360"/>
            <a:ext cx="1552680" cy="29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4080" y="1576440"/>
            <a:ext cx="8805600" cy="29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2872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720" indent="-22140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6624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9412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94120" indent="-22608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ClearQuest Application Lifecycle Management Training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ile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Comments, Questions and Responses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080" y="1576080"/>
            <a:ext cx="8805600" cy="22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a record is expected to be the only person directly modifying or state transitioning the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not hard coded into the system, merely a suggeste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wish to modify a record you are not the Owner of, do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estionOrCom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that you are just commenting or that you are Requesting a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Question or Com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Unanswer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bb9"/>
                </a:solidFill>
                <a:latin typeface="Arial"/>
              </a:rPr>
              <a:t>When Tests have ‘Failed’</a:t>
            </a:r>
            <a:endParaRPr b="0" lang="en-US" sz="20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74320"/>
            <a:ext cx="895968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as ‘Test_ToD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ledIn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ry 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line and 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‘Dev_ToDo’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ly: Add a Comment to the ’Dev’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as ‘Dev_ToD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uery: My FailedInBuild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that Failed th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oose New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edActivit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ed Record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ield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to set by New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-&gt;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your UserID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lick 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original Activity, set ‘Test_ToDo’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lick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pl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bl Click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latedActivit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Or select and choose ‘Show Record Details’) and choose Change State-&gt;Open/Activ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New Fixes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 ‘Dev’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‘Test_ToDo’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Release Engineer role, ReDo the Baseline and Build steps with new Baseline and Bu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n as ‘Test_ToDo’ and execu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‘Test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05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new Build, Retest Work and if it passes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239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if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on FailedInBuild and ReD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239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utionCo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‘Fix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23920">
              <a:spcBef>
                <a:spcPts val="22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edInBuild or NoPlanToTestIn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ry 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line and 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 and click ‘OK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0240" y="1828080"/>
            <a:ext cx="87534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Agile ClearQuest Application Lifecycle Management Demo</a:t>
            </a:r>
            <a:br>
              <a:rPr sz="2000"/>
            </a:b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90240" y="2637000"/>
            <a:ext cx="8396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 of ALM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roup 41" descr=""/>
          <p:cNvPicPr/>
          <p:nvPr/>
        </p:nvPicPr>
        <p:blipFill>
          <a:blip r:embed="rId1"/>
          <a:stretch/>
        </p:blipFill>
        <p:spPr>
          <a:xfrm>
            <a:off x="2200320" y="457200"/>
            <a:ext cx="404172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2967120" y="765000"/>
            <a:ext cx="1819080" cy="1371240"/>
            <a:chOff x="2967120" y="765000"/>
            <a:chExt cx="1819080" cy="1371240"/>
          </a:xfrm>
        </p:grpSpPr>
        <p:pic>
          <p:nvPicPr>
            <p:cNvPr id="110" name="Picture 5" descr="Developer_Woman"/>
            <p:cNvPicPr/>
            <p:nvPr/>
          </p:nvPicPr>
          <p:blipFill>
            <a:blip r:embed="rId2"/>
            <a:stretch/>
          </p:blipFill>
          <p:spPr>
            <a:xfrm>
              <a:off x="3019320" y="765000"/>
              <a:ext cx="109764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6"/>
            <p:cNvSpPr/>
            <p:nvPr/>
          </p:nvSpPr>
          <p:spPr>
            <a:xfrm>
              <a:off x="2967120" y="1411200"/>
              <a:ext cx="181908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 Narrow"/>
                </a:rPr>
                <a:t>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99"/>
                  </a:solidFill>
                  <a:latin typeface="Arial"/>
                </a:rPr>
                <a:t>Checks out code in CC Explorer and Creates New Activ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208400" y="2068560"/>
            <a:ext cx="150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Default Activity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Project-&gt;Set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Process 26"/>
          <p:cNvSpPr/>
          <p:nvPr/>
        </p:nvSpPr>
        <p:spPr>
          <a:xfrm>
            <a:off x="3235320" y="220680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owchart: Process 27"/>
          <p:cNvSpPr/>
          <p:nvPr/>
        </p:nvSpPr>
        <p:spPr>
          <a:xfrm>
            <a:off x="3235320" y="2576520"/>
            <a:ext cx="973080" cy="2952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Process 28"/>
          <p:cNvSpPr/>
          <p:nvPr/>
        </p:nvSpPr>
        <p:spPr>
          <a:xfrm>
            <a:off x="3235320" y="2987640"/>
            <a:ext cx="973080" cy="297000"/>
          </a:xfrm>
          <a:prstGeom prst="flowChartProcess">
            <a:avLst/>
          </a:prstGeom>
          <a:solidFill>
            <a:srgbClr val="7889fb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lowchart: Process 30"/>
          <p:cNvSpPr/>
          <p:nvPr/>
        </p:nvSpPr>
        <p:spPr>
          <a:xfrm>
            <a:off x="3235320" y="3908520"/>
            <a:ext cx="974880" cy="2966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Flowchart: Process 36"/>
          <p:cNvGrpSpPr/>
          <p:nvPr/>
        </p:nvGrpSpPr>
        <p:grpSpPr>
          <a:xfrm>
            <a:off x="4311720" y="2502000"/>
            <a:ext cx="1403280" cy="877680"/>
            <a:chOff x="4311720" y="2502000"/>
            <a:chExt cx="1403280" cy="877680"/>
          </a:xfrm>
        </p:grpSpPr>
        <p:pic>
          <p:nvPicPr>
            <p:cNvPr id="118" name="Flowchart: Process 36" descr=""/>
            <p:cNvPicPr/>
            <p:nvPr/>
          </p:nvPicPr>
          <p:blipFill>
            <a:blip r:embed="rId3"/>
            <a:stretch/>
          </p:blipFill>
          <p:spPr>
            <a:xfrm>
              <a:off x="4311720" y="2502000"/>
              <a:ext cx="1403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02160" y="2692440"/>
              <a:ext cx="974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lowchart: Process 29"/>
          <p:cNvSpPr/>
          <p:nvPr/>
        </p:nvSpPr>
        <p:spPr>
          <a:xfrm>
            <a:off x="3235320" y="3438360"/>
            <a:ext cx="974880" cy="29700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Developer_Woman"/>
          <p:cNvPicPr/>
          <p:nvPr/>
        </p:nvPicPr>
        <p:blipFill>
          <a:blip r:embed="rId1"/>
          <a:stretch/>
        </p:blipFill>
        <p:spPr>
          <a:xfrm>
            <a:off x="3019320" y="765000"/>
            <a:ext cx="1096920" cy="646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967120" y="1411200"/>
            <a:ext cx="1819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hecks out code in CC Explorer and Creates New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761080" y="2576520"/>
            <a:ext cx="150660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Deliver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Complete </a:t>
            </a:r>
            <a:br>
              <a:rPr sz="1100"/>
            </a:b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Delivery &amp;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Flowchart: Process 36"/>
          <p:cNvGrpSpPr/>
          <p:nvPr/>
        </p:nvGrpSpPr>
        <p:grpSpPr>
          <a:xfrm>
            <a:off x="4311720" y="2502000"/>
            <a:ext cx="1403280" cy="877680"/>
            <a:chOff x="4311720" y="2502000"/>
            <a:chExt cx="1403280" cy="877680"/>
          </a:xfrm>
        </p:grpSpPr>
        <p:pic>
          <p:nvPicPr>
            <p:cNvPr id="130" name="Flowchart: Process 36" descr=""/>
            <p:cNvPicPr/>
            <p:nvPr/>
          </p:nvPicPr>
          <p:blipFill>
            <a:blip r:embed="rId2"/>
            <a:stretch/>
          </p:blipFill>
          <p:spPr>
            <a:xfrm>
              <a:off x="4311720" y="2502000"/>
              <a:ext cx="1403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02160" y="2692440"/>
              <a:ext cx="974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5" descr="Developer_Woman"/>
          <p:cNvPicPr/>
          <p:nvPr/>
        </p:nvPicPr>
        <p:blipFill>
          <a:blip r:embed="rId3"/>
          <a:stretch/>
        </p:blipFill>
        <p:spPr>
          <a:xfrm>
            <a:off x="5761080" y="1882800"/>
            <a:ext cx="1096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ie 22"/>
          <p:cNvSpPr/>
          <p:nvPr/>
        </p:nvSpPr>
        <p:spPr>
          <a:xfrm>
            <a:off x="1409760" y="49536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440160" y="5256360"/>
            <a:ext cx="2206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 Narrow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Create Base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Run Bui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Validate Build and Promo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Flowchart: Process 37"/>
          <p:cNvGrpSpPr/>
          <p:nvPr/>
        </p:nvGrpSpPr>
        <p:grpSpPr>
          <a:xfrm>
            <a:off x="4363920" y="3998880"/>
            <a:ext cx="1397160" cy="725400"/>
            <a:chOff x="4363920" y="3998880"/>
            <a:chExt cx="1397160" cy="725400"/>
          </a:xfrm>
        </p:grpSpPr>
        <p:pic>
          <p:nvPicPr>
            <p:cNvPr id="141" name="Flowchart: Process 37" descr=""/>
            <p:cNvPicPr/>
            <p:nvPr/>
          </p:nvPicPr>
          <p:blipFill>
            <a:blip r:embed="rId1"/>
            <a:stretch/>
          </p:blipFill>
          <p:spPr>
            <a:xfrm>
              <a:off x="4363920" y="3998880"/>
              <a:ext cx="1397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51480" y="4189320"/>
              <a:ext cx="974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Flowchart: Process 38"/>
          <p:cNvGrpSpPr/>
          <p:nvPr/>
        </p:nvGrpSpPr>
        <p:grpSpPr>
          <a:xfrm>
            <a:off x="3181320" y="3998880"/>
            <a:ext cx="1403280" cy="725400"/>
            <a:chOff x="3181320" y="3998880"/>
            <a:chExt cx="1403280" cy="725400"/>
          </a:xfrm>
        </p:grpSpPr>
        <p:pic>
          <p:nvPicPr>
            <p:cNvPr id="144" name="Flowchart: Process 38" descr=""/>
            <p:cNvPicPr/>
            <p:nvPr/>
          </p:nvPicPr>
          <p:blipFill>
            <a:blip r:embed="rId2"/>
            <a:stretch/>
          </p:blipFill>
          <p:spPr>
            <a:xfrm>
              <a:off x="3181320" y="3998880"/>
              <a:ext cx="1403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370320" y="4189320"/>
              <a:ext cx="973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Flowchart: Process 36"/>
          <p:cNvGrpSpPr/>
          <p:nvPr/>
        </p:nvGrpSpPr>
        <p:grpSpPr>
          <a:xfrm>
            <a:off x="3662280" y="2646360"/>
            <a:ext cx="1403280" cy="877680"/>
            <a:chOff x="3662280" y="2646360"/>
            <a:chExt cx="1403280" cy="877680"/>
          </a:xfrm>
        </p:grpSpPr>
        <p:pic>
          <p:nvPicPr>
            <p:cNvPr id="147" name="Flowchart: Process 36" descr=""/>
            <p:cNvPicPr/>
            <p:nvPr/>
          </p:nvPicPr>
          <p:blipFill>
            <a:blip r:embed="rId3"/>
            <a:stretch/>
          </p:blipFill>
          <p:spPr>
            <a:xfrm>
              <a:off x="3662280" y="2646360"/>
              <a:ext cx="1403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852720" y="2836800"/>
              <a:ext cx="974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5" descr="Developer_Woman"/>
          <p:cNvPicPr/>
          <p:nvPr/>
        </p:nvPicPr>
        <p:blipFill>
          <a:blip r:embed="rId4"/>
          <a:stretch/>
        </p:blipFill>
        <p:spPr>
          <a:xfrm>
            <a:off x="3019320" y="765000"/>
            <a:ext cx="1096920" cy="646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2967120" y="1411200"/>
            <a:ext cx="1819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hecks out code in CC Explorer and Creates New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761080" y="2576520"/>
            <a:ext cx="150660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Deliver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omplete </a:t>
            </a:r>
            <a:br>
              <a:rPr sz="1100"/>
            </a:b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Delivery &amp;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Developer_Woman"/>
          <p:cNvPicPr/>
          <p:nvPr/>
        </p:nvPicPr>
        <p:blipFill>
          <a:blip r:embed="rId5"/>
          <a:stretch/>
        </p:blipFill>
        <p:spPr>
          <a:xfrm>
            <a:off x="5761080" y="1882800"/>
            <a:ext cx="1096920" cy="64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eveloper_Woman"/>
          <p:cNvPicPr/>
          <p:nvPr/>
        </p:nvPicPr>
        <p:blipFill>
          <a:blip r:embed="rId6"/>
          <a:stretch/>
        </p:blipFill>
        <p:spPr>
          <a:xfrm>
            <a:off x="3246480" y="4610160"/>
            <a:ext cx="1096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50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ie 49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ie 48"/>
          <p:cNvSpPr/>
          <p:nvPr/>
        </p:nvSpPr>
        <p:spPr>
          <a:xfrm>
            <a:off x="1411200" y="495360"/>
            <a:ext cx="5867640" cy="586728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e 47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e 45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2649600" y="1527120"/>
            <a:ext cx="3503520" cy="3503520"/>
          </a:xfrm>
          <a:prstGeom prst="ellips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e 22"/>
          <p:cNvSpPr/>
          <p:nvPr/>
        </p:nvSpPr>
        <p:spPr>
          <a:xfrm>
            <a:off x="1433520" y="504720"/>
            <a:ext cx="5867280" cy="58658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ie 44"/>
          <p:cNvSpPr/>
          <p:nvPr/>
        </p:nvSpPr>
        <p:spPr>
          <a:xfrm>
            <a:off x="1428840" y="498600"/>
            <a:ext cx="5877000" cy="5878440"/>
          </a:xfrm>
          <a:prstGeom prst="pie">
            <a:avLst/>
          </a:prstGeom>
          <a:solidFill>
            <a:srgbClr val="00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Tester"/>
          <p:cNvPicPr/>
          <p:nvPr/>
        </p:nvPicPr>
        <p:blipFill>
          <a:blip r:embed="rId1"/>
          <a:stretch/>
        </p:blipFill>
        <p:spPr>
          <a:xfrm>
            <a:off x="2235240" y="3218040"/>
            <a:ext cx="1073160" cy="647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7"/>
          <p:cNvSpPr/>
          <p:nvPr/>
        </p:nvSpPr>
        <p:spPr>
          <a:xfrm>
            <a:off x="1655640" y="3630600"/>
            <a:ext cx="1600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 Narrow"/>
              </a:rPr>
              <a:t>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Perform te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Sets </a:t>
            </a:r>
            <a:r>
              <a:rPr b="1" lang="en-US" sz="1100" spc="-1" strike="noStrike">
                <a:solidFill>
                  <a:srgbClr val="ffffcc"/>
                </a:solidFill>
                <a:latin typeface="Arial"/>
              </a:rPr>
              <a:t>Activity</a:t>
            </a: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cc"/>
                </a:solidFill>
                <a:latin typeface="Arial"/>
              </a:rPr>
              <a:t>ValidatedInBuild,  NoPlanToTestInBuild or FailedInBui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728880" y="5545080"/>
            <a:ext cx="2206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eveloper as </a:t>
            </a: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reate Base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Run Bui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Validate Build and Promo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Flowchart: Process 37"/>
          <p:cNvGrpSpPr/>
          <p:nvPr/>
        </p:nvGrpSpPr>
        <p:grpSpPr>
          <a:xfrm>
            <a:off x="4653000" y="4287960"/>
            <a:ext cx="1396800" cy="725400"/>
            <a:chOff x="4653000" y="4287960"/>
            <a:chExt cx="1396800" cy="725400"/>
          </a:xfrm>
        </p:grpSpPr>
        <p:pic>
          <p:nvPicPr>
            <p:cNvPr id="166" name="Flowchart: Process 37" descr=""/>
            <p:cNvPicPr/>
            <p:nvPr/>
          </p:nvPicPr>
          <p:blipFill>
            <a:blip r:embed="rId2"/>
            <a:stretch/>
          </p:blipFill>
          <p:spPr>
            <a:xfrm>
              <a:off x="4653000" y="4287960"/>
              <a:ext cx="13968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840200" y="4478400"/>
              <a:ext cx="9741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Flowchart: Process 38"/>
          <p:cNvGrpSpPr/>
          <p:nvPr/>
        </p:nvGrpSpPr>
        <p:grpSpPr>
          <a:xfrm>
            <a:off x="3470400" y="4287960"/>
            <a:ext cx="1403280" cy="725400"/>
            <a:chOff x="3470400" y="4287960"/>
            <a:chExt cx="1403280" cy="725400"/>
          </a:xfrm>
        </p:grpSpPr>
        <p:pic>
          <p:nvPicPr>
            <p:cNvPr id="169" name="Flowchart: Process 38" descr=""/>
            <p:cNvPicPr/>
            <p:nvPr/>
          </p:nvPicPr>
          <p:blipFill>
            <a:blip r:embed="rId3"/>
            <a:stretch/>
          </p:blipFill>
          <p:spPr>
            <a:xfrm>
              <a:off x="3470400" y="4287960"/>
              <a:ext cx="1403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659400" y="4478400"/>
              <a:ext cx="973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Flowchart: Process 36"/>
          <p:cNvGrpSpPr/>
          <p:nvPr/>
        </p:nvGrpSpPr>
        <p:grpSpPr>
          <a:xfrm>
            <a:off x="3728880" y="2987640"/>
            <a:ext cx="1403280" cy="877680"/>
            <a:chOff x="3728880" y="2987640"/>
            <a:chExt cx="1403280" cy="877680"/>
          </a:xfrm>
        </p:grpSpPr>
        <p:pic>
          <p:nvPicPr>
            <p:cNvPr id="172" name="Flowchart: Process 36" descr=""/>
            <p:cNvPicPr/>
            <p:nvPr/>
          </p:nvPicPr>
          <p:blipFill>
            <a:blip r:embed="rId4"/>
            <a:stretch/>
          </p:blipFill>
          <p:spPr>
            <a:xfrm>
              <a:off x="3728880" y="2987640"/>
              <a:ext cx="1403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919320" y="3178080"/>
              <a:ext cx="974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5" descr="Developer_Woman"/>
          <p:cNvPicPr/>
          <p:nvPr/>
        </p:nvPicPr>
        <p:blipFill>
          <a:blip r:embed="rId5"/>
          <a:stretch/>
        </p:blipFill>
        <p:spPr>
          <a:xfrm>
            <a:off x="3308400" y="1054080"/>
            <a:ext cx="1096920" cy="646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255840" y="1700280"/>
            <a:ext cx="1819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hecks out code in CC Explorer and Creates New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049800" y="2865600"/>
            <a:ext cx="150660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 Narrow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Deliver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37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Complete </a:t>
            </a:r>
            <a:br>
              <a:rPr sz="1100"/>
            </a:br>
            <a:r>
              <a:rPr b="0" lang="en-US" sz="1100" spc="-1" strike="noStrike">
                <a:solidFill>
                  <a:srgbClr val="c0c0c0"/>
                </a:solidFill>
                <a:latin typeface="Arial"/>
              </a:rPr>
              <a:t>Delivery &amp; Ac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Developer_Woman"/>
          <p:cNvPicPr/>
          <p:nvPr/>
        </p:nvPicPr>
        <p:blipFill>
          <a:blip r:embed="rId6"/>
          <a:stretch/>
        </p:blipFill>
        <p:spPr>
          <a:xfrm>
            <a:off x="6049800" y="2171880"/>
            <a:ext cx="1097280" cy="64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eveloper_Woman"/>
          <p:cNvPicPr/>
          <p:nvPr/>
        </p:nvPicPr>
        <p:blipFill>
          <a:blip r:embed="rId7"/>
          <a:stretch/>
        </p:blipFill>
        <p:spPr>
          <a:xfrm>
            <a:off x="3556080" y="4898880"/>
            <a:ext cx="10969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Developer </a:t>
            </a:r>
            <a:r>
              <a:rPr b="0" i="1" lang="en-US" sz="2400" spc="-1" strike="noStrike">
                <a:solidFill>
                  <a:srgbClr val="009bb9"/>
                </a:solidFill>
                <a:latin typeface="Arial"/>
              </a:rPr>
              <a:t>Submits</a:t>
            </a: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9bb9"/>
                </a:solidFill>
                <a:latin typeface="Arial"/>
              </a:rPr>
              <a:t>Activates</a:t>
            </a: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 then </a:t>
            </a:r>
            <a:r>
              <a:rPr b="0" i="1" lang="en-US" sz="2400" spc="-1" strike="noStrike">
                <a:solidFill>
                  <a:srgbClr val="009bb9"/>
                </a:solidFill>
                <a:latin typeface="Arial"/>
              </a:rPr>
              <a:t>Completes </a:t>
            </a: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536840"/>
            <a:ext cx="728676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indows Eclipse client or CQW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Dev_ToDo’  (Password is BLAN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clipse, you can also pre-log in as Test_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nd ALMProje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, choose ‘Category_ToDo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tilities-&gt;Set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M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Dev’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‘Dev_ToDo’, cop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-&gt;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Click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nd Record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-&gt;ID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ChangeState-&g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‘Dev_ToDo’ and Click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mulate doing development (like CC UCM checkout , Deliver 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opy ID to simulate nightly buil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‘Test_ToD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Sum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Developer Creates Baseline of Code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50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witch hats to become 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mulate Script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Menu Actions-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&lt;TOD&gt; Baselin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&lt;TOD&gt; PVO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default Project where Category = ‘Category_ToDo’ and Release = ‘Release_ToD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Dev_ToD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ctivities Tab, Activities field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Copi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Search Key Box and cli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74"/>
              </a:spcBef>
              <a:spcAft>
                <a:spcPts val="374"/>
              </a:spcAft>
              <a:buClr>
                <a:srgbClr val="009bb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only record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 on 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bb9"/>
                </a:solidFill>
                <a:latin typeface="Arial"/>
              </a:rPr>
              <a:t>Developer (Build) Simulate Build script (non-UCM)</a:t>
            </a:r>
            <a:endParaRPr b="0" lang="en-US" sz="24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080" y="1576440"/>
            <a:ext cx="88056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24"/>
              </a:spcBef>
              <a:spcAft>
                <a:spcPts val="37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 Actions-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‘&lt;TOD&gt;Build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37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LM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-&gt;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 record f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‘Dev_ToD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ick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 ‘&lt;TOD&gt;’ used to crea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ase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reated earlier and click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Stat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‘Passed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264"/>
              </a:spcBef>
              <a:spcAft>
                <a:spcPts val="264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K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4080" y="808200"/>
            <a:ext cx="883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b9"/>
                </a:solidFill>
                <a:latin typeface="Arial"/>
              </a:rPr>
              <a:t>Project Tester</a:t>
            </a:r>
            <a:endParaRPr b="0" lang="en-US" sz="2800" spc="-1" strike="noStrike">
              <a:solidFill>
                <a:srgbClr val="009bb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as ‘Test_ToDo’ </a:t>
            </a: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(Password is BL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Execute \Public queries\Practices\Agile\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‘Dev’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(if present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spcAft>
                <a:spcPts val="224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ends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009b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‘Dev’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ed In Bu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300"/>
              </a:spcBef>
              <a:spcAft>
                <a:spcPts val="300"/>
              </a:spcAft>
              <a:buClr>
                <a:srgbClr val="009bb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07:13:46Z</dcterms:created>
  <dc:creator>Mats Göthe</dc:creator>
  <dc:description/>
  <dc:language>en-US</dc:language>
  <cp:lastModifiedBy>rwmyers</cp:lastModifiedBy>
  <dcterms:modified xsi:type="dcterms:W3CDTF">2010-01-19T21:24:59Z</dcterms:modified>
  <cp:revision>144</cp:revision>
  <dc:subject/>
  <dc:title>ALM Demo </dc:title>
</cp:coreProperties>
</file>