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6A14-B660-41A4-94A7-DA18408AE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 Göthe and Kathryn Fryer are Solution Architects in the Rational organization, who are developing customer-based scenarios to illustrate GDD approaches and identify best practices with Rational tools and opportunities for future solution enhancemen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, joined Rational in 1991 and has held various positions; development manager for Rational Rose development in Sweden, Rational Technical Sales and Service Manager in Nordic and in the Ericsson Corporate Account Team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ryn joined IBM Canada in 1990; her previous positions include roles in User Experience, User Assistance, Development and Management, in several brands including DB2, WebSphere and Rat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DA58-5D2C-4DC6-8907-C3F42A307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BEA-3324-4B3E-8E19-297778357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 Göthe and Kathryn Fryer are Solution Architects in the Rational organization, who are developing customer-based scenarios to illustrate GDD approaches and identify best practices with Rational tools and opportunities for future solution enhancemen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, joined Rational in 1991 and has held various positions; development manager for Rational Rose development in Sweden, Rational Technical Sales and Service Manager in Nordic and in the Ericsson Corporate Account Team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ryn joined IBM Canada in 1990; her previous positions include roles in User Experience, User Assistance, Development and Management, in several brands including DB2, WebSphere and Rat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4FD3-37B8-4F51-8002-60BC7DD32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2C92-D1FA-4468-AA1A-E3106EF07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1554-2F5E-4EBD-85AB-897BE09A4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C9DD-DC63-4931-A700-E14B04B34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D7E3-F29F-45DF-8D4E-E51209F5D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12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84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40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12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84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4080" y="808200"/>
            <a:ext cx="883584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312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084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540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312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084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4080" y="808200"/>
            <a:ext cx="883584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35720"/>
            <a:ext cx="914400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720" indent="-22140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6624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9412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434240" y="1238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3048120" y="647712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M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1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2" descr="Button_Left"/>
          <p:cNvPicPr/>
          <p:nvPr/>
        </p:nvPicPr>
        <p:blipFill>
          <a:blip r:embed="rId3"/>
          <a:stretch/>
        </p:blipFill>
        <p:spPr>
          <a:xfrm>
            <a:off x="109440" y="6475320"/>
            <a:ext cx="29520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4"/>
          <p:cNvSpPr/>
          <p:nvPr/>
        </p:nvSpPr>
        <p:spPr>
          <a:xfrm>
            <a:off x="-1814400" y="2874960"/>
            <a:ext cx="9144000" cy="379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5"/>
          <p:cNvSpPr/>
          <p:nvPr/>
        </p:nvSpPr>
        <p:spPr>
          <a:xfrm>
            <a:off x="114480" y="833400"/>
            <a:ext cx="8943840" cy="3363840"/>
          </a:xfrm>
          <a:prstGeom prst="roundRect">
            <a:avLst>
              <a:gd name="adj" fmla="val 477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2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6613560"/>
            <a:ext cx="163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07 IBM Corpo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5" descr="Button_Left"/>
          <p:cNvPicPr/>
          <p:nvPr/>
        </p:nvPicPr>
        <p:blipFill>
          <a:blip r:embed="rId2"/>
          <a:stretch/>
        </p:blipFill>
        <p:spPr>
          <a:xfrm>
            <a:off x="480960" y="5572080"/>
            <a:ext cx="29520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6" descr="Buttons_Right"/>
          <p:cNvPicPr/>
          <p:nvPr/>
        </p:nvPicPr>
        <p:blipFill>
          <a:blip r:embed="rId3"/>
          <a:stretch/>
        </p:blipFill>
        <p:spPr>
          <a:xfrm>
            <a:off x="7329600" y="5572080"/>
            <a:ext cx="1342800" cy="23832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91"/>
          <p:cNvGrpSpPr/>
          <p:nvPr/>
        </p:nvGrpSpPr>
        <p:grpSpPr>
          <a:xfrm>
            <a:off x="0" y="5924520"/>
            <a:ext cx="9144000" cy="92160"/>
            <a:chOff x="0" y="5924520"/>
            <a:chExt cx="9144000" cy="92160"/>
          </a:xfrm>
        </p:grpSpPr>
        <p:sp>
          <p:nvSpPr>
            <p:cNvPr id="52" name="Rectangle 88"/>
            <p:cNvSpPr/>
            <p:nvPr/>
          </p:nvSpPr>
          <p:spPr>
            <a:xfrm>
              <a:off x="0" y="5935320"/>
              <a:ext cx="5300640" cy="69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89"/>
            <p:cNvSpPr/>
            <p:nvPr/>
          </p:nvSpPr>
          <p:spPr>
            <a:xfrm>
              <a:off x="5286240" y="5924520"/>
              <a:ext cx="3857760" cy="92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9bb9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90" descr="Marker"/>
          <p:cNvPicPr/>
          <p:nvPr/>
        </p:nvPicPr>
        <p:blipFill>
          <a:blip r:embed="rId4"/>
          <a:stretch/>
        </p:blipFill>
        <p:spPr>
          <a:xfrm>
            <a:off x="5270400" y="5913360"/>
            <a:ext cx="104760" cy="11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Video_River"/>
          <p:cNvPicPr/>
          <p:nvPr/>
        </p:nvPicPr>
        <p:blipFill>
          <a:blip r:embed="rId5"/>
          <a:srcRect l="0" t="34978" r="23595" b="32648"/>
          <a:stretch/>
        </p:blipFill>
        <p:spPr>
          <a:xfrm>
            <a:off x="128520" y="4924440"/>
            <a:ext cx="8929800" cy="5954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41400" y="4295880"/>
            <a:ext cx="9102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01"/>
          <p:cNvGrpSpPr/>
          <p:nvPr/>
        </p:nvGrpSpPr>
        <p:grpSpPr>
          <a:xfrm>
            <a:off x="7931160" y="6284880"/>
            <a:ext cx="1162080" cy="559080"/>
            <a:chOff x="7931160" y="6284880"/>
            <a:chExt cx="1162080" cy="559080"/>
          </a:xfrm>
        </p:grpSpPr>
        <p:pic>
          <p:nvPicPr>
            <p:cNvPr id="58" name="Picture 102" descr="ibm_white_logo_300dpi"/>
            <p:cNvPicPr/>
            <p:nvPr/>
          </p:nvPicPr>
          <p:blipFill>
            <a:blip r:embed="rId6"/>
            <a:srcRect l="0" t="0" r="6479" b="0"/>
            <a:stretch/>
          </p:blipFill>
          <p:spPr>
            <a:xfrm>
              <a:off x="7931160" y="6284880"/>
              <a:ext cx="10033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103"/>
            <p:cNvSpPr/>
            <p:nvPr/>
          </p:nvSpPr>
          <p:spPr>
            <a:xfrm>
              <a:off x="8863200" y="656712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107" descr="Rational_Negative"/>
          <p:cNvPicPr/>
          <p:nvPr/>
        </p:nvPicPr>
        <p:blipFill>
          <a:blip r:embed="rId7"/>
          <a:stretch/>
        </p:blipFill>
        <p:spPr>
          <a:xfrm>
            <a:off x="123840" y="252360"/>
            <a:ext cx="1552680" cy="29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720" indent="-22140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6624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9412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image" Target="../media/image16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0240" y="1828080"/>
            <a:ext cx="87534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ClearQuest Application Lifecycle Management Training</a:t>
            </a:r>
            <a:br>
              <a:rPr sz="2000"/>
            </a:b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0240" y="2637000"/>
            <a:ext cx="839628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Driven Development Practice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Non-UCM Developer (non-UCM demo)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01240" y="1775880"/>
            <a:ext cx="8737560" cy="43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Execute query ‘Developer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Category = ‘Test Driven Developmen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ask in Result Set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ze Display s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-&gt;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eld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of the Activi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doing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Solution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ight ID and Ctrl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Solution/Implement Developer Test/Run Developer Tes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l-Click then Cho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 Resolution Summary and Resolu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A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Project Release Engineer Create Baseline of Code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4080" y="1576080"/>
            <a:ext cx="88056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witch hats to become 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imulate Scripti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as ‘TDDP_ReleaseEngineer’ (Blank Pass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Menu Actions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w 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‘&lt;TOD&gt; Baselin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V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&lt;TOD&gt; PVO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-&gt;Search &lt;Highlight Project where Category = ‘Test Driven Developmen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Activities Tab, Activities field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 Copi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y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Search Key Box and clic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only record and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K on ne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Project Release Engineer (Build) Simulate Build script (non-UCM)</a:t>
            </a: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56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as ‘TDDP_ReleaseEngineer’ (if not already logged in as that Us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 Actions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&lt;TOD&gt;Buil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LM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-&gt;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record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c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‘&lt;TOD&gt;’ used to cre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d earlier and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‘Passe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automatically se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-&gt;Pri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Test Driven Development’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oleLab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‘TDDP_ReleaseEnginee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K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Tester conducting Walkthrough and Completing Task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5880"/>
            <a:ext cx="734868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er Completing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Login as ‘TDDP_Tester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lank Pass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Execute ‘Completing Tasks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Category = ‘Test Driven Developmen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is point, you could use th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i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rrange a Walk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aining ‘Implement Solution’ fix (if Build was cre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s button and clic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 ResolutionSummary and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ask A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Request Submitter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17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499"/>
              </a:spcBef>
              <a:spcAft>
                <a:spcPts val="901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out the development cycle, I may be checking on the status of my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Login as ‘TDDP_Stakehold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lank Pass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Execute ‘Requestor’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ategory = ‘Use-Case Driven Developmen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Opene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Complete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States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.Activ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ork done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omments, Questions and Responses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4080" y="1576080"/>
            <a:ext cx="8805600" cy="22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a record is expected to be the only person directly modifying or state transitioning the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not hard coded into the system, merely a suggested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wish to modify a record you are not the Owner of, do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uestionOrCom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indicate that you are just commenting or that you are Requesting a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a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po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Question or Com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Unanswered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Duplicates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ndicate that a Request is a Duplicate of another Request, we do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quest2 is seen as a duplicate of Request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Request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Choose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kAsDuplic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. (This create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-&gt;Com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b wi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Reques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Request2 and a Comment = "&lt;&lt;DOUBLE CLICK HERE, then selec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 to provide duplicate information.&gt;&gt;"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DBl-Click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 to updat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dicating that this is seen as a ‘Duplicate’.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will be Mandatory. Enter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Request1 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-&gt;Duplicat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and Save the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Request2 runs a query 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uplicates Needing Comple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or is notified of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Of Com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Reques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em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Request2 decides if they agree that thei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‘Duplicate’ of Request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 If they agree that their Request2 is a ‘Duplicate’ of Request1 they execut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uplicateComple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 on Request2.  Th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ransitions Request2 to ‘Completed’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Request2 dbl-Clicks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-&gt;Com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choose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po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y dbl-click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 to add their response and sa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 If they do not think that Request2 is a ‘Duplicate’ of Request1, 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Request2 dbl-Clicks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choose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po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) They dbl-click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-&gt;Respon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 to add their response saying that they do not agree for the following reasons and save their Response.  They do no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Request2 b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ccep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bb9"/>
                </a:solidFill>
                <a:latin typeface="Arial"/>
              </a:rPr>
              <a:t>Rejected, Unreproducible and WorksAsDesigned Requests</a:t>
            </a:r>
            <a:endParaRPr b="0" lang="en-US" sz="20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4080" y="1576080"/>
            <a:ext cx="880560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teps on ‘Request Submitter’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-&gt;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later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as ‘TDDP_Developer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xecute \Public queries\Practices\Test Driven Development\Triage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til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con 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ject_Request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Unreproducibl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WorksAsDesign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‘ALL’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appear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-&gt;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will be in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e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further Tasks will be permitted to b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pre-existing Tasks will b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m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erse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as ‘TDDP_Tester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-&gt;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Op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the Project to ‘Test Driven Developmen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Mandatory field values wi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Defect’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‘OK’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bb9"/>
                </a:solidFill>
                <a:latin typeface="Arial"/>
              </a:rPr>
              <a:t>Rejected, Unreproducible and WorksAsDesigned Tasks</a:t>
            </a:r>
            <a:endParaRPr b="0" lang="en-US" sz="20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as ‘TDDP_Teste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e \Public queries\Practices\Test Driven Development\Triage Requirement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-&gt;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later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nge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con and cho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ReO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tion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ject_Task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be state transitioned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l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pre-exis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ented (CQ ALM 1.1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ers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 as ‘TDDP_Teste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-&gt;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Ope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337"/>
              </a:spcBef>
              <a:spcAft>
                <a:spcPts val="337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‘OK’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bb9"/>
                </a:solidFill>
                <a:latin typeface="Arial"/>
              </a:rPr>
              <a:t>Rejected, Unreproducible and WorksAsDesigned Activities</a:t>
            </a:r>
            <a:endParaRPr b="0" lang="en-US" sz="20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37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n as ‘TDDP_Developer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tiv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 Task just ReOpe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‘TDDP_Tester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tilities-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reate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xecute \Public queries\Practices\Test Driven Developer\Dev Lead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 ‘Dev’ Activity and set ‘TDDP_Developer’ as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xecute \Public queries\Practices\Test Driven Developer\Dev \Developer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ange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con and choo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 on ‘Implement Solution’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 ResolutionCode = ‘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ject_Activity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be state transitioned to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le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reverse this, ReOpe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Change the Project and reset auto-generated fiel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te: Commented records (CQ ALM 1.1 only) will now be out of synch, but few records, if any, will be eff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roup 41" descr=""/>
          <p:cNvPicPr/>
          <p:nvPr/>
        </p:nvPicPr>
        <p:blipFill>
          <a:blip r:embed="rId1"/>
          <a:stretch/>
        </p:blipFill>
        <p:spPr>
          <a:xfrm>
            <a:off x="2193840" y="469800"/>
            <a:ext cx="4041720" cy="46450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2967120" y="765000"/>
            <a:ext cx="1819080" cy="1240200"/>
            <a:chOff x="2967120" y="765000"/>
            <a:chExt cx="1819080" cy="1240200"/>
          </a:xfrm>
        </p:grpSpPr>
        <p:pic>
          <p:nvPicPr>
            <p:cNvPr id="110" name="Picture 5" descr="Developer_Woman"/>
            <p:cNvPicPr/>
            <p:nvPr/>
          </p:nvPicPr>
          <p:blipFill>
            <a:blip r:embed="rId2"/>
            <a:stretch/>
          </p:blipFill>
          <p:spPr>
            <a:xfrm>
              <a:off x="3019320" y="76500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6"/>
            <p:cNvSpPr/>
            <p:nvPr/>
          </p:nvSpPr>
          <p:spPr>
            <a:xfrm>
              <a:off x="2967120" y="1411200"/>
              <a:ext cx="18190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Submit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Submit requ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Stakeholder i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Flowchart: Process 26"/>
          <p:cNvSpPr/>
          <p:nvPr/>
        </p:nvSpPr>
        <p:spPr>
          <a:xfrm>
            <a:off x="3246480" y="2779560"/>
            <a:ext cx="97452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owchart: Process 27"/>
          <p:cNvSpPr/>
          <p:nvPr/>
        </p:nvSpPr>
        <p:spPr>
          <a:xfrm>
            <a:off x="3246480" y="3149640"/>
            <a:ext cx="97452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lowchart: Process 28"/>
          <p:cNvSpPr/>
          <p:nvPr/>
        </p:nvSpPr>
        <p:spPr>
          <a:xfrm>
            <a:off x="3246480" y="3560760"/>
            <a:ext cx="97452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Flowchart: Process 29"/>
          <p:cNvGrpSpPr/>
          <p:nvPr/>
        </p:nvGrpSpPr>
        <p:grpSpPr>
          <a:xfrm>
            <a:off x="4340160" y="2724120"/>
            <a:ext cx="1395360" cy="725400"/>
            <a:chOff x="4340160" y="2724120"/>
            <a:chExt cx="1395360" cy="725400"/>
          </a:xfrm>
        </p:grpSpPr>
        <p:pic>
          <p:nvPicPr>
            <p:cNvPr id="116" name="Flowchart: Process 29" descr=""/>
            <p:cNvPicPr/>
            <p:nvPr/>
          </p:nvPicPr>
          <p:blipFill>
            <a:blip r:embed="rId3"/>
            <a:stretch/>
          </p:blipFill>
          <p:spPr>
            <a:xfrm>
              <a:off x="4340160" y="2724120"/>
              <a:ext cx="13953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525920" y="2914560"/>
              <a:ext cx="9748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0240" y="1828080"/>
            <a:ext cx="87534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ClearQuest Application Lifecycle Management Demo</a:t>
            </a:r>
            <a:br>
              <a:rPr sz="2000"/>
            </a:b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0240" y="2637000"/>
            <a:ext cx="839628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d of CQ ALM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Group 62" descr=""/>
          <p:cNvPicPr/>
          <p:nvPr/>
        </p:nvPicPr>
        <p:blipFill>
          <a:blip r:embed="rId1"/>
          <a:stretch/>
        </p:blipFill>
        <p:spPr>
          <a:xfrm>
            <a:off x="2185920" y="533520"/>
            <a:ext cx="5200560" cy="4645080"/>
          </a:xfrm>
          <a:prstGeom prst="rect">
            <a:avLst/>
          </a:prstGeom>
          <a:ln w="0">
            <a:noFill/>
          </a:ln>
        </p:spPr>
      </p:pic>
      <p:sp>
        <p:nvSpPr>
          <p:cNvPr id="119" name="Flowchart: Process 26"/>
          <p:cNvSpPr/>
          <p:nvPr/>
        </p:nvSpPr>
        <p:spPr>
          <a:xfrm>
            <a:off x="3235320" y="1954080"/>
            <a:ext cx="97308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lowchart: Process 27"/>
          <p:cNvSpPr/>
          <p:nvPr/>
        </p:nvSpPr>
        <p:spPr>
          <a:xfrm>
            <a:off x="3235320" y="232416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Process 28"/>
          <p:cNvSpPr/>
          <p:nvPr/>
        </p:nvSpPr>
        <p:spPr>
          <a:xfrm>
            <a:off x="3235320" y="273528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lowchart: Process 30"/>
          <p:cNvSpPr/>
          <p:nvPr/>
        </p:nvSpPr>
        <p:spPr>
          <a:xfrm>
            <a:off x="4514760" y="2558880"/>
            <a:ext cx="9748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8"/>
          <p:cNvGrpSpPr/>
          <p:nvPr/>
        </p:nvGrpSpPr>
        <p:grpSpPr>
          <a:xfrm>
            <a:off x="5489640" y="1357200"/>
            <a:ext cx="1917360" cy="2395800"/>
            <a:chOff x="5489640" y="1357200"/>
            <a:chExt cx="1917360" cy="2395800"/>
          </a:xfrm>
        </p:grpSpPr>
        <p:pic>
          <p:nvPicPr>
            <p:cNvPr id="124" name="Picture 19" descr="Stakeholder-2"/>
            <p:cNvPicPr/>
            <p:nvPr/>
          </p:nvPicPr>
          <p:blipFill>
            <a:blip r:embed="rId2"/>
            <a:stretch/>
          </p:blipFill>
          <p:spPr>
            <a:xfrm>
              <a:off x="5489640" y="1357200"/>
              <a:ext cx="1051200" cy="6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0"/>
            <p:cNvSpPr/>
            <p:nvPr/>
          </p:nvSpPr>
          <p:spPr>
            <a:xfrm>
              <a:off x="5671080" y="2004480"/>
              <a:ext cx="173592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dd &amp;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Activa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Set Tester a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Open Activit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Deliver change Complete Activiti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1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Flowchart: Process 35"/>
          <p:cNvGrpSpPr/>
          <p:nvPr/>
        </p:nvGrpSpPr>
        <p:grpSpPr>
          <a:xfrm>
            <a:off x="3506760" y="2871720"/>
            <a:ext cx="1401840" cy="1044360"/>
            <a:chOff x="3506760" y="2871720"/>
            <a:chExt cx="1401840" cy="1044360"/>
          </a:xfrm>
        </p:grpSpPr>
        <p:pic>
          <p:nvPicPr>
            <p:cNvPr id="127" name="Flowchart: Process 35" descr=""/>
            <p:cNvPicPr/>
            <p:nvPr/>
          </p:nvPicPr>
          <p:blipFill>
            <a:blip r:embed="rId3"/>
            <a:stretch/>
          </p:blipFill>
          <p:spPr>
            <a:xfrm>
              <a:off x="3506760" y="2871720"/>
              <a:ext cx="1401840" cy="10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697560" y="3098520"/>
              <a:ext cx="9745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plement 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Flowchart: Process 36"/>
          <p:cNvGrpSpPr/>
          <p:nvPr/>
        </p:nvGrpSpPr>
        <p:grpSpPr>
          <a:xfrm>
            <a:off x="4514760" y="2855880"/>
            <a:ext cx="1401480" cy="1044360"/>
            <a:chOff x="4514760" y="2855880"/>
            <a:chExt cx="1401480" cy="1044360"/>
          </a:xfrm>
        </p:grpSpPr>
        <p:pic>
          <p:nvPicPr>
            <p:cNvPr id="130" name="Flowchart: Process 36" descr=""/>
            <p:cNvPicPr/>
            <p:nvPr/>
          </p:nvPicPr>
          <p:blipFill>
            <a:blip r:embed="rId4"/>
            <a:stretch/>
          </p:blipFill>
          <p:spPr>
            <a:xfrm>
              <a:off x="4514760" y="2855880"/>
              <a:ext cx="1401480" cy="10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703400" y="3082680"/>
              <a:ext cx="97488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n Developer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Flowchart: Process 29"/>
          <p:cNvSpPr/>
          <p:nvPr/>
        </p:nvSpPr>
        <p:spPr>
          <a:xfrm>
            <a:off x="4514760" y="2087640"/>
            <a:ext cx="974880" cy="29664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Project-Manager"/>
          <p:cNvPicPr/>
          <p:nvPr/>
        </p:nvPicPr>
        <p:blipFill>
          <a:blip r:embed="rId5"/>
          <a:srcRect l="-4841" t="794" r="0" b="32943"/>
          <a:stretch/>
        </p:blipFill>
        <p:spPr>
          <a:xfrm>
            <a:off x="6164280" y="1222200"/>
            <a:ext cx="996840" cy="63036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15"/>
          <p:cNvGrpSpPr/>
          <p:nvPr/>
        </p:nvGrpSpPr>
        <p:grpSpPr>
          <a:xfrm>
            <a:off x="2743200" y="3619440"/>
            <a:ext cx="1438200" cy="949320"/>
            <a:chOff x="2743200" y="3619440"/>
            <a:chExt cx="1438200" cy="949320"/>
          </a:xfrm>
        </p:grpSpPr>
        <p:pic>
          <p:nvPicPr>
            <p:cNvPr id="135" name="Picture 16" descr="Tester"/>
            <p:cNvPicPr/>
            <p:nvPr/>
          </p:nvPicPr>
          <p:blipFill>
            <a:blip r:embed="rId6"/>
            <a:stretch/>
          </p:blipFill>
          <p:spPr>
            <a:xfrm>
              <a:off x="2966040" y="3619440"/>
              <a:ext cx="96444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7"/>
            <p:cNvSpPr/>
            <p:nvPr/>
          </p:nvSpPr>
          <p:spPr>
            <a:xfrm>
              <a:off x="2743200" y="4270320"/>
              <a:ext cx="1438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Te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1"/>
          <p:cNvGrpSpPr/>
          <p:nvPr/>
        </p:nvGrpSpPr>
        <p:grpSpPr>
          <a:xfrm>
            <a:off x="4562640" y="3571920"/>
            <a:ext cx="1506240" cy="944640"/>
            <a:chOff x="4562640" y="3571920"/>
            <a:chExt cx="1506240" cy="944640"/>
          </a:xfrm>
        </p:grpSpPr>
        <p:pic>
          <p:nvPicPr>
            <p:cNvPr id="138" name="Picture 22" descr="Developer"/>
            <p:cNvPicPr/>
            <p:nvPr/>
          </p:nvPicPr>
          <p:blipFill>
            <a:blip r:embed="rId7"/>
            <a:stretch/>
          </p:blipFill>
          <p:spPr>
            <a:xfrm>
              <a:off x="4812480" y="3571920"/>
              <a:ext cx="9626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23"/>
            <p:cNvSpPr/>
            <p:nvPr/>
          </p:nvSpPr>
          <p:spPr>
            <a:xfrm>
              <a:off x="4562640" y="4218120"/>
              <a:ext cx="15062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0"/>
          <p:cNvGrpSpPr/>
          <p:nvPr/>
        </p:nvGrpSpPr>
        <p:grpSpPr>
          <a:xfrm>
            <a:off x="2967120" y="666720"/>
            <a:ext cx="1819080" cy="1240200"/>
            <a:chOff x="2967120" y="666720"/>
            <a:chExt cx="1819080" cy="1240200"/>
          </a:xfrm>
        </p:grpSpPr>
        <p:pic>
          <p:nvPicPr>
            <p:cNvPr id="141" name="Picture 5" descr="Developer_Woman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3019320" y="66672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2967120" y="1312920"/>
              <a:ext cx="18190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9d9d9"/>
                  </a:solidFill>
                  <a:latin typeface="Arial"/>
                </a:rPr>
                <a:t>Submit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ubmit requ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takeholder i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Flowchart: Process 35"/>
          <p:cNvGrpSpPr/>
          <p:nvPr/>
        </p:nvGrpSpPr>
        <p:grpSpPr>
          <a:xfrm>
            <a:off x="2335320" y="2871720"/>
            <a:ext cx="1591920" cy="1044360"/>
            <a:chOff x="2335320" y="2871720"/>
            <a:chExt cx="1591920" cy="1044360"/>
          </a:xfrm>
        </p:grpSpPr>
        <p:pic>
          <p:nvPicPr>
            <p:cNvPr id="144" name="Flowchart: Process 35" descr=""/>
            <p:cNvPicPr/>
            <p:nvPr/>
          </p:nvPicPr>
          <p:blipFill>
            <a:blip r:embed="rId9"/>
            <a:stretch/>
          </p:blipFill>
          <p:spPr>
            <a:xfrm>
              <a:off x="2335320" y="2871720"/>
              <a:ext cx="1591920" cy="10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551680" y="3098520"/>
              <a:ext cx="11066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plement Developer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ie 48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0"/>
          <p:cNvSpPr/>
          <p:nvPr/>
        </p:nvSpPr>
        <p:spPr>
          <a:xfrm>
            <a:off x="2649600" y="152712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ie 22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3338640" y="4608360"/>
            <a:ext cx="2307600" cy="1501920"/>
            <a:chOff x="3338640" y="4608360"/>
            <a:chExt cx="2307600" cy="1501920"/>
          </a:xfrm>
        </p:grpSpPr>
        <p:sp>
          <p:nvSpPr>
            <p:cNvPr id="153" name="Text Box 8"/>
            <p:cNvSpPr/>
            <p:nvPr/>
          </p:nvSpPr>
          <p:spPr>
            <a:xfrm>
              <a:off x="3440160" y="5256720"/>
              <a:ext cx="2206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Release Engine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Create Bas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Run 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Validate Build and Promo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9" descr="Developer2"/>
            <p:cNvPicPr/>
            <p:nvPr/>
          </p:nvPicPr>
          <p:blipFill>
            <a:blip r:embed="rId1"/>
            <a:stretch/>
          </p:blipFill>
          <p:spPr>
            <a:xfrm>
              <a:off x="3338640" y="4608360"/>
              <a:ext cx="1141920" cy="64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Flowchart: Process 26"/>
          <p:cNvSpPr/>
          <p:nvPr/>
        </p:nvSpPr>
        <p:spPr>
          <a:xfrm>
            <a:off x="3235320" y="1954080"/>
            <a:ext cx="97308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lowchart: Process 27"/>
          <p:cNvSpPr/>
          <p:nvPr/>
        </p:nvSpPr>
        <p:spPr>
          <a:xfrm>
            <a:off x="3235320" y="232416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owchart: Process 28"/>
          <p:cNvSpPr/>
          <p:nvPr/>
        </p:nvSpPr>
        <p:spPr>
          <a:xfrm>
            <a:off x="3235320" y="273528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lowchart: Process 30"/>
          <p:cNvSpPr/>
          <p:nvPr/>
        </p:nvSpPr>
        <p:spPr>
          <a:xfrm>
            <a:off x="4514760" y="2558880"/>
            <a:ext cx="9748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Flowchart: Process 37"/>
          <p:cNvGrpSpPr/>
          <p:nvPr/>
        </p:nvGrpSpPr>
        <p:grpSpPr>
          <a:xfrm>
            <a:off x="4363920" y="3998880"/>
            <a:ext cx="1397160" cy="725400"/>
            <a:chOff x="4363920" y="3998880"/>
            <a:chExt cx="1397160" cy="725400"/>
          </a:xfrm>
        </p:grpSpPr>
        <p:pic>
          <p:nvPicPr>
            <p:cNvPr id="160" name="Flowchart: Process 37" descr=""/>
            <p:cNvPicPr/>
            <p:nvPr/>
          </p:nvPicPr>
          <p:blipFill>
            <a:blip r:embed="rId2"/>
            <a:stretch/>
          </p:blipFill>
          <p:spPr>
            <a:xfrm>
              <a:off x="4363920" y="3998880"/>
              <a:ext cx="13971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51480" y="4189320"/>
              <a:ext cx="9745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Flowchart: Process 38"/>
          <p:cNvGrpSpPr/>
          <p:nvPr/>
        </p:nvGrpSpPr>
        <p:grpSpPr>
          <a:xfrm>
            <a:off x="3181320" y="3998880"/>
            <a:ext cx="1403280" cy="725400"/>
            <a:chOff x="3181320" y="3998880"/>
            <a:chExt cx="1403280" cy="725400"/>
          </a:xfrm>
        </p:grpSpPr>
        <p:pic>
          <p:nvPicPr>
            <p:cNvPr id="163" name="Flowchart: Process 38" descr=""/>
            <p:cNvPicPr/>
            <p:nvPr/>
          </p:nvPicPr>
          <p:blipFill>
            <a:blip r:embed="rId3"/>
            <a:stretch/>
          </p:blipFill>
          <p:spPr>
            <a:xfrm>
              <a:off x="3181320" y="3998880"/>
              <a:ext cx="14032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370320" y="4189320"/>
              <a:ext cx="9730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Flowchart: Process 29"/>
          <p:cNvSpPr/>
          <p:nvPr/>
        </p:nvSpPr>
        <p:spPr>
          <a:xfrm>
            <a:off x="4514760" y="2087640"/>
            <a:ext cx="974880" cy="29664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0"/>
          <p:cNvGrpSpPr/>
          <p:nvPr/>
        </p:nvGrpSpPr>
        <p:grpSpPr>
          <a:xfrm>
            <a:off x="2967120" y="666720"/>
            <a:ext cx="1819080" cy="1240200"/>
            <a:chOff x="2967120" y="666720"/>
            <a:chExt cx="1819080" cy="1240200"/>
          </a:xfrm>
        </p:grpSpPr>
        <p:pic>
          <p:nvPicPr>
            <p:cNvPr id="167" name="Picture 5" descr="Developer_Woman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3019320" y="66672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6"/>
            <p:cNvSpPr/>
            <p:nvPr/>
          </p:nvSpPr>
          <p:spPr>
            <a:xfrm>
              <a:off x="2967120" y="1312920"/>
              <a:ext cx="18190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9d9d9"/>
                  </a:solidFill>
                  <a:latin typeface="Arial"/>
                </a:rPr>
                <a:t>Submit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ubmit requ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takeholder i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8"/>
          <p:cNvGrpSpPr/>
          <p:nvPr/>
        </p:nvGrpSpPr>
        <p:grpSpPr>
          <a:xfrm>
            <a:off x="5634000" y="1417680"/>
            <a:ext cx="1917360" cy="2395800"/>
            <a:chOff x="5634000" y="1417680"/>
            <a:chExt cx="1917360" cy="2395800"/>
          </a:xfrm>
        </p:grpSpPr>
        <p:pic>
          <p:nvPicPr>
            <p:cNvPr id="170" name="Picture 19" descr="Stakeholder-2"/>
            <p:cNvPicPr/>
            <p:nvPr/>
          </p:nvPicPr>
          <p:blipFill>
            <a:blip r:embed="rId5"/>
            <a:stretch/>
          </p:blipFill>
          <p:spPr>
            <a:xfrm>
              <a:off x="5634000" y="1417680"/>
              <a:ext cx="1051200" cy="6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0"/>
            <p:cNvSpPr/>
            <p:nvPr/>
          </p:nvSpPr>
          <p:spPr>
            <a:xfrm>
              <a:off x="5815440" y="2064960"/>
              <a:ext cx="173592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c0c0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dd &amp;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ctiva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Set Tester a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Open Activit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Deliver change Complete Activiti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1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3" descr="Project-Manager"/>
          <p:cNvPicPr/>
          <p:nvPr/>
        </p:nvPicPr>
        <p:blipFill>
          <a:blip r:embed="rId6"/>
          <a:srcRect l="-4841" t="794" r="0" b="32943"/>
          <a:stretch/>
        </p:blipFill>
        <p:spPr>
          <a:xfrm>
            <a:off x="6308640" y="1366920"/>
            <a:ext cx="997200" cy="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ie 50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ie 49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ie 48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0"/>
          <p:cNvSpPr/>
          <p:nvPr/>
        </p:nvSpPr>
        <p:spPr>
          <a:xfrm>
            <a:off x="2727360" y="159084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ie 22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lowchart: Process 26"/>
          <p:cNvSpPr/>
          <p:nvPr/>
        </p:nvSpPr>
        <p:spPr>
          <a:xfrm>
            <a:off x="3235320" y="1954080"/>
            <a:ext cx="97308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lowchart: Process 27"/>
          <p:cNvSpPr/>
          <p:nvPr/>
        </p:nvSpPr>
        <p:spPr>
          <a:xfrm>
            <a:off x="3235320" y="232416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lowchart: Process 28"/>
          <p:cNvSpPr/>
          <p:nvPr/>
        </p:nvSpPr>
        <p:spPr>
          <a:xfrm>
            <a:off x="3235320" y="273528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Flowchart: Process 30"/>
          <p:cNvGrpSpPr/>
          <p:nvPr/>
        </p:nvGrpSpPr>
        <p:grpSpPr>
          <a:xfrm>
            <a:off x="4327560" y="2371680"/>
            <a:ext cx="1396800" cy="719280"/>
            <a:chOff x="4327560" y="2371680"/>
            <a:chExt cx="1396800" cy="719280"/>
          </a:xfrm>
        </p:grpSpPr>
        <p:pic>
          <p:nvPicPr>
            <p:cNvPr id="185" name="Flowchart: Process 30" descr=""/>
            <p:cNvPicPr/>
            <p:nvPr/>
          </p:nvPicPr>
          <p:blipFill>
            <a:blip r:embed="rId1"/>
            <a:stretch/>
          </p:blipFill>
          <p:spPr>
            <a:xfrm>
              <a:off x="4327560" y="2371680"/>
              <a:ext cx="13968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514760" y="2558880"/>
              <a:ext cx="9748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Flowchart: Process 37"/>
          <p:cNvSpPr/>
          <p:nvPr/>
        </p:nvSpPr>
        <p:spPr>
          <a:xfrm>
            <a:off x="4551480" y="4189320"/>
            <a:ext cx="97452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lowchart: Process 38"/>
          <p:cNvSpPr/>
          <p:nvPr/>
        </p:nvSpPr>
        <p:spPr>
          <a:xfrm>
            <a:off x="3370320" y="4189320"/>
            <a:ext cx="9730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Flowchart: Process 29"/>
          <p:cNvGrpSpPr/>
          <p:nvPr/>
        </p:nvGrpSpPr>
        <p:grpSpPr>
          <a:xfrm>
            <a:off x="4327560" y="1901880"/>
            <a:ext cx="1396800" cy="718920"/>
            <a:chOff x="4327560" y="1901880"/>
            <a:chExt cx="1396800" cy="718920"/>
          </a:xfrm>
        </p:grpSpPr>
        <p:pic>
          <p:nvPicPr>
            <p:cNvPr id="190" name="Flowchart: Process 29" descr=""/>
            <p:cNvPicPr/>
            <p:nvPr/>
          </p:nvPicPr>
          <p:blipFill>
            <a:blip r:embed="rId2"/>
            <a:stretch/>
          </p:blipFill>
          <p:spPr>
            <a:xfrm>
              <a:off x="4327560" y="1901880"/>
              <a:ext cx="1396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514760" y="2087640"/>
              <a:ext cx="9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7"/>
          <p:cNvGrpSpPr/>
          <p:nvPr/>
        </p:nvGrpSpPr>
        <p:grpSpPr>
          <a:xfrm>
            <a:off x="3338640" y="4608360"/>
            <a:ext cx="2307600" cy="1501920"/>
            <a:chOff x="3338640" y="4608360"/>
            <a:chExt cx="2307600" cy="1501920"/>
          </a:xfrm>
        </p:grpSpPr>
        <p:sp>
          <p:nvSpPr>
            <p:cNvPr id="193" name="Text Box 8"/>
            <p:cNvSpPr/>
            <p:nvPr/>
          </p:nvSpPr>
          <p:spPr>
            <a:xfrm>
              <a:off x="3440160" y="5256720"/>
              <a:ext cx="2206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fbfbf"/>
                  </a:solidFill>
                  <a:latin typeface="Arial Narrow"/>
                </a:rPr>
                <a:t>Bui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Create Bas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Run 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Validate Build and Promo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9" descr="Developer2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3338640" y="4608360"/>
              <a:ext cx="1141920" cy="64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15"/>
          <p:cNvGrpSpPr/>
          <p:nvPr/>
        </p:nvGrpSpPr>
        <p:grpSpPr>
          <a:xfrm>
            <a:off x="1662120" y="1795320"/>
            <a:ext cx="1438200" cy="1461600"/>
            <a:chOff x="1662120" y="1795320"/>
            <a:chExt cx="1438200" cy="1461600"/>
          </a:xfrm>
        </p:grpSpPr>
        <p:pic>
          <p:nvPicPr>
            <p:cNvPr id="196" name="Picture 16" descr="Tester"/>
            <p:cNvPicPr/>
            <p:nvPr/>
          </p:nvPicPr>
          <p:blipFill>
            <a:blip r:embed="rId4"/>
            <a:stretch/>
          </p:blipFill>
          <p:spPr>
            <a:xfrm>
              <a:off x="1662120" y="1795320"/>
              <a:ext cx="96444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7"/>
            <p:cNvSpPr/>
            <p:nvPr/>
          </p:nvSpPr>
          <p:spPr>
            <a:xfrm>
              <a:off x="1662120" y="2446200"/>
              <a:ext cx="143820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 Narrow"/>
                </a:rPr>
                <a:t>Te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Perform walkthroug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Arial"/>
                </a:rPr>
                <a:t>Comple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5634000" y="1417680"/>
            <a:ext cx="1917360" cy="2395800"/>
            <a:chOff x="5634000" y="1417680"/>
            <a:chExt cx="1917360" cy="2395800"/>
          </a:xfrm>
        </p:grpSpPr>
        <p:pic>
          <p:nvPicPr>
            <p:cNvPr id="199" name="Picture 19" descr="Stakeholder-2"/>
            <p:cNvPicPr/>
            <p:nvPr/>
          </p:nvPicPr>
          <p:blipFill>
            <a:blip r:embed="rId5"/>
            <a:stretch/>
          </p:blipFill>
          <p:spPr>
            <a:xfrm>
              <a:off x="5634000" y="1417680"/>
              <a:ext cx="1051200" cy="6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20"/>
            <p:cNvSpPr/>
            <p:nvPr/>
          </p:nvSpPr>
          <p:spPr>
            <a:xfrm>
              <a:off x="5815440" y="2064960"/>
              <a:ext cx="173592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c0c0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dd &amp;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ctiva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Set Tester a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OpenActivit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Deliver change Complete Activiti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1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0"/>
          <p:cNvGrpSpPr/>
          <p:nvPr/>
        </p:nvGrpSpPr>
        <p:grpSpPr>
          <a:xfrm>
            <a:off x="2967120" y="666720"/>
            <a:ext cx="1819080" cy="1240200"/>
            <a:chOff x="2967120" y="666720"/>
            <a:chExt cx="1819080" cy="1240200"/>
          </a:xfrm>
        </p:grpSpPr>
        <p:pic>
          <p:nvPicPr>
            <p:cNvPr id="202" name="Picture 5" descr="Developer_Woman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3019320" y="66672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6"/>
            <p:cNvSpPr/>
            <p:nvPr/>
          </p:nvSpPr>
          <p:spPr>
            <a:xfrm>
              <a:off x="2967120" y="1312920"/>
              <a:ext cx="18190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9d9d9"/>
                  </a:solidFill>
                  <a:latin typeface="Arial"/>
                </a:rPr>
                <a:t>Submit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ubmit requ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d9d9d9"/>
                  </a:solidFill>
                  <a:latin typeface="Arial"/>
                </a:rPr>
                <a:t>Stakeholder i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ie 50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ie 49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ie 48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2727360" y="159084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ie 22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lowchart: Process 26"/>
          <p:cNvSpPr/>
          <p:nvPr/>
        </p:nvSpPr>
        <p:spPr>
          <a:xfrm>
            <a:off x="3235320" y="1954080"/>
            <a:ext cx="973080" cy="29556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lowchart: Process 27"/>
          <p:cNvSpPr/>
          <p:nvPr/>
        </p:nvSpPr>
        <p:spPr>
          <a:xfrm>
            <a:off x="3235320" y="232416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lowchart: Process 28"/>
          <p:cNvSpPr/>
          <p:nvPr/>
        </p:nvSpPr>
        <p:spPr>
          <a:xfrm>
            <a:off x="3235320" y="273528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Flowchart: Process 30"/>
          <p:cNvGrpSpPr/>
          <p:nvPr/>
        </p:nvGrpSpPr>
        <p:grpSpPr>
          <a:xfrm>
            <a:off x="4327560" y="2371680"/>
            <a:ext cx="1396800" cy="719280"/>
            <a:chOff x="4327560" y="2371680"/>
            <a:chExt cx="1396800" cy="719280"/>
          </a:xfrm>
        </p:grpSpPr>
        <p:pic>
          <p:nvPicPr>
            <p:cNvPr id="216" name="Flowchart: Process 30" descr=""/>
            <p:cNvPicPr/>
            <p:nvPr/>
          </p:nvPicPr>
          <p:blipFill>
            <a:blip r:embed="rId1"/>
            <a:stretch/>
          </p:blipFill>
          <p:spPr>
            <a:xfrm>
              <a:off x="4327560" y="2371680"/>
              <a:ext cx="13968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14760" y="2558880"/>
              <a:ext cx="9748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Flowchart: Process 37"/>
          <p:cNvSpPr/>
          <p:nvPr/>
        </p:nvSpPr>
        <p:spPr>
          <a:xfrm>
            <a:off x="4551480" y="4189320"/>
            <a:ext cx="97452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lowchart: Process 38"/>
          <p:cNvSpPr/>
          <p:nvPr/>
        </p:nvSpPr>
        <p:spPr>
          <a:xfrm>
            <a:off x="3370320" y="4189320"/>
            <a:ext cx="9730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Flowchart: Process 29"/>
          <p:cNvGrpSpPr/>
          <p:nvPr/>
        </p:nvGrpSpPr>
        <p:grpSpPr>
          <a:xfrm>
            <a:off x="4327560" y="1901880"/>
            <a:ext cx="1396800" cy="718920"/>
            <a:chOff x="4327560" y="1901880"/>
            <a:chExt cx="1396800" cy="718920"/>
          </a:xfrm>
        </p:grpSpPr>
        <p:pic>
          <p:nvPicPr>
            <p:cNvPr id="221" name="Flowchart: Process 29" descr=""/>
            <p:cNvPicPr/>
            <p:nvPr/>
          </p:nvPicPr>
          <p:blipFill>
            <a:blip r:embed="rId2"/>
            <a:stretch/>
          </p:blipFill>
          <p:spPr>
            <a:xfrm>
              <a:off x="4327560" y="1901880"/>
              <a:ext cx="1396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514760" y="2087640"/>
              <a:ext cx="9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7"/>
          <p:cNvGrpSpPr/>
          <p:nvPr/>
        </p:nvGrpSpPr>
        <p:grpSpPr>
          <a:xfrm>
            <a:off x="3338640" y="4608360"/>
            <a:ext cx="2307600" cy="1501920"/>
            <a:chOff x="3338640" y="4608360"/>
            <a:chExt cx="2307600" cy="1501920"/>
          </a:xfrm>
        </p:grpSpPr>
        <p:sp>
          <p:nvSpPr>
            <p:cNvPr id="224" name="Text Box 8"/>
            <p:cNvSpPr/>
            <p:nvPr/>
          </p:nvSpPr>
          <p:spPr>
            <a:xfrm>
              <a:off x="3440160" y="5256720"/>
              <a:ext cx="2206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fbfbf"/>
                  </a:solidFill>
                  <a:latin typeface="Arial Narrow"/>
                </a:rPr>
                <a:t>Bui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Create Bas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Run 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bfbfb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bfbfbf"/>
                  </a:solidFill>
                  <a:latin typeface="Arial"/>
                </a:rPr>
                <a:t>Validate Build and Promo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9" descr="Developer2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3338640" y="4608360"/>
              <a:ext cx="1141920" cy="64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20"/>
          <p:cNvGrpSpPr/>
          <p:nvPr/>
        </p:nvGrpSpPr>
        <p:grpSpPr>
          <a:xfrm>
            <a:off x="2967120" y="666720"/>
            <a:ext cx="1819080" cy="1086840"/>
            <a:chOff x="2967120" y="666720"/>
            <a:chExt cx="1819080" cy="1086840"/>
          </a:xfrm>
        </p:grpSpPr>
        <p:pic>
          <p:nvPicPr>
            <p:cNvPr id="227" name="Picture 5" descr="Developer_Woman"/>
            <p:cNvPicPr/>
            <p:nvPr/>
          </p:nvPicPr>
          <p:blipFill>
            <a:blip r:embed="rId4"/>
            <a:stretch/>
          </p:blipFill>
          <p:spPr>
            <a:xfrm>
              <a:off x="3019320" y="666720"/>
              <a:ext cx="10976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6"/>
            <p:cNvSpPr/>
            <p:nvPr/>
          </p:nvSpPr>
          <p:spPr>
            <a:xfrm>
              <a:off x="2967120" y="1312920"/>
              <a:ext cx="1819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 Narrow"/>
                </a:rPr>
                <a:t>Stakeho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99"/>
                  </a:solidFill>
                  <a:latin typeface="Arial"/>
                </a:rPr>
                <a:t>Accept/Reject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1662120" y="1795320"/>
            <a:ext cx="1438200" cy="1461600"/>
            <a:chOff x="1662120" y="1795320"/>
            <a:chExt cx="1438200" cy="1461600"/>
          </a:xfrm>
        </p:grpSpPr>
        <p:pic>
          <p:nvPicPr>
            <p:cNvPr id="230" name="Picture 16" descr="Tester"/>
            <p:cNvPicPr/>
            <p:nvPr/>
          </p:nvPicPr>
          <p:blipFill>
            <a:blip r:embed="rId5"/>
            <a:stretch/>
          </p:blipFill>
          <p:spPr>
            <a:xfrm>
              <a:off x="1662120" y="1795320"/>
              <a:ext cx="96444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17"/>
            <p:cNvSpPr/>
            <p:nvPr/>
          </p:nvSpPr>
          <p:spPr>
            <a:xfrm>
              <a:off x="1662120" y="2446200"/>
              <a:ext cx="143820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c0c0"/>
                  </a:solidFill>
                  <a:latin typeface="Arial Narrow"/>
                </a:rPr>
                <a:t>Te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Perform walkthroug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Comple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8"/>
          <p:cNvGrpSpPr/>
          <p:nvPr/>
        </p:nvGrpSpPr>
        <p:grpSpPr>
          <a:xfrm>
            <a:off x="5634000" y="1357200"/>
            <a:ext cx="1917360" cy="2395800"/>
            <a:chOff x="5634000" y="1357200"/>
            <a:chExt cx="1917360" cy="2395800"/>
          </a:xfrm>
        </p:grpSpPr>
        <p:pic>
          <p:nvPicPr>
            <p:cNvPr id="233" name="Picture 19" descr="Stakeholder-2"/>
            <p:cNvPicPr/>
            <p:nvPr/>
          </p:nvPicPr>
          <p:blipFill>
            <a:blip r:embed="rId6"/>
            <a:stretch/>
          </p:blipFill>
          <p:spPr>
            <a:xfrm>
              <a:off x="5634000" y="1357200"/>
              <a:ext cx="1051200" cy="6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20"/>
            <p:cNvSpPr/>
            <p:nvPr/>
          </p:nvSpPr>
          <p:spPr>
            <a:xfrm>
              <a:off x="5815440" y="2004480"/>
              <a:ext cx="173592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c0c0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Triages requ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dd &amp; plan Tas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Activate Ta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Set Tester as Ow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buClr>
                  <a:srgbClr val="c0c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Open Activit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0c0c0"/>
                  </a:solidFill>
                  <a:latin typeface="Arial"/>
                </a:rPr>
                <a:t>Deliver change Complete Activiti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1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Request Submitter</a:t>
            </a:r>
            <a:br>
              <a:rPr sz="2400"/>
            </a:b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536480"/>
            <a:ext cx="7286760" cy="48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Windows Eclipse client or CQ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n as ‘TDDP_Stakeholder’ (Blank Pass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doing Demo, In Eclipse, you can also pre-log in as TDDP_Developer, TDDP_Tester, TDDP_ReleaseEngin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New Request i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TypeLab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‘TDDP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ego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Test Driven Developmen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ou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set one on chos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ou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set one on chos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ou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ration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set one on chos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If you do not set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-&gt;CurrentPro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if you do not choose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-&gt;Pro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need to be chosen before you will see any choices i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-&gt;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m Contr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 H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Type – choose ‘Defec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Seve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ve (brief) tour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hould be set to ‘Stakeholder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Queries in Public queries\Practices\Test Driven Development folder unless 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Triage Requests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2760" y="1775880"/>
            <a:ext cx="7686720" cy="403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Tasks and setting Developer 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24"/>
              </a:spcBef>
              <a:spcAft>
                <a:spcPts val="5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Login as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TDDP_Developer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lank Passw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Execute ‘Triage Request’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Category = ‘Test Driven Developmen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esult Set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ze Display s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-&gt;Ta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eld 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lic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eate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ne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-&gt;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 should be set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le-&gt;Prim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= 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Driven Develop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’, RoleLab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‘TDDP_Developer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Developer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1240" y="1196640"/>
            <a:ext cx="8737560" cy="43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query ‘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Dev Lea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Category = ‘Test Driven Developmen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ask in Result Set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ange_State Activat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Owner = ‘TDDP:Tester’ then click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ze Display s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-&gt;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eld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eate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3 new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ubmitt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-&gt;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 Developer Test’ and s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TDDP:Developer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Implement Solution’ and s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TDDP:Developer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Run Developer Test’ and s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TDDP:Developer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l_mastersh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hould b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Configuration-&gt;Role-&gt;Primary-&gt;ratl_mastersh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Configu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= 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Driven Develop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, Record_Type 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Activity’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ctivity 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07:13:46Z</dcterms:created>
  <dc:creator>Mats Göthe</dc:creator>
  <dc:description/>
  <dc:language>en-US</dc:language>
  <cp:lastModifiedBy>rwmyers</cp:lastModifiedBy>
  <dcterms:modified xsi:type="dcterms:W3CDTF">2010-01-21T20:14:32Z</dcterms:modified>
  <cp:revision>143</cp:revision>
  <dc:subject/>
  <dc:title>ALM Demo </dc:title>
</cp:coreProperties>
</file>