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FCE-6878-4333-A33D-CEA63226B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69E6-4C01-488C-A90A-1EBD1B694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5936-F036-4155-8F28-DB72474E8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CCE-8317-496D-A239-5EF7337BE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86E3-6F9A-4A8F-943C-22D984062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2F3-20BF-48C1-8738-139C1F036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91C-46EF-443F-A08D-A4948A882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BE8-B1F8-4CBE-B58B-8C2E84BB7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3559-8FFE-4DA5-B278-C3F41874D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2036-675E-4560-B56D-EAF843399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6A8-D244-492B-8CEF-D4F1DCD65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F0C-7D49-435B-B83B-C75964420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35720"/>
            <a:ext cx="914400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434240" y="123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048120" y="64771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1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Button_Left"/>
          <p:cNvPicPr/>
          <p:nvPr/>
        </p:nvPicPr>
        <p:blipFill>
          <a:blip r:embed="rId3"/>
          <a:stretch/>
        </p:blipFill>
        <p:spPr>
          <a:xfrm>
            <a:off x="109440" y="6475320"/>
            <a:ext cx="29520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4"/>
          <p:cNvSpPr/>
          <p:nvPr/>
        </p:nvSpPr>
        <p:spPr>
          <a:xfrm>
            <a:off x="-1814400" y="2874960"/>
            <a:ext cx="9144000" cy="37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5"/>
          <p:cNvSpPr/>
          <p:nvPr/>
        </p:nvSpPr>
        <p:spPr>
          <a:xfrm>
            <a:off x="114480" y="833400"/>
            <a:ext cx="8943840" cy="336384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613560"/>
            <a:ext cx="163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7 IBM Corp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5" descr="Button_Left"/>
          <p:cNvPicPr/>
          <p:nvPr/>
        </p:nvPicPr>
        <p:blipFill>
          <a:blip r:embed="rId2"/>
          <a:stretch/>
        </p:blipFill>
        <p:spPr>
          <a:xfrm>
            <a:off x="480960" y="557208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6" descr="Buttons_Right"/>
          <p:cNvPicPr/>
          <p:nvPr/>
        </p:nvPicPr>
        <p:blipFill>
          <a:blip r:embed="rId3"/>
          <a:stretch/>
        </p:blipFill>
        <p:spPr>
          <a:xfrm>
            <a:off x="7329600" y="5572080"/>
            <a:ext cx="1342800" cy="2383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91"/>
          <p:cNvGrpSpPr/>
          <p:nvPr/>
        </p:nvGrpSpPr>
        <p:grpSpPr>
          <a:xfrm>
            <a:off x="0" y="5924520"/>
            <a:ext cx="9144000" cy="92160"/>
            <a:chOff x="0" y="5924520"/>
            <a:chExt cx="9144000" cy="92160"/>
          </a:xfrm>
        </p:grpSpPr>
        <p:sp>
          <p:nvSpPr>
            <p:cNvPr id="52" name="Rectangle 88"/>
            <p:cNvSpPr/>
            <p:nvPr/>
          </p:nvSpPr>
          <p:spPr>
            <a:xfrm>
              <a:off x="0" y="5935320"/>
              <a:ext cx="5300640" cy="69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9"/>
            <p:cNvSpPr/>
            <p:nvPr/>
          </p:nvSpPr>
          <p:spPr>
            <a:xfrm>
              <a:off x="5286240" y="5924520"/>
              <a:ext cx="3857760" cy="92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9bb9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90" descr="Marker"/>
          <p:cNvPicPr/>
          <p:nvPr/>
        </p:nvPicPr>
        <p:blipFill>
          <a:blip r:embed="rId4"/>
          <a:stretch/>
        </p:blipFill>
        <p:spPr>
          <a:xfrm>
            <a:off x="5270400" y="5913360"/>
            <a:ext cx="104760" cy="11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Video_River"/>
          <p:cNvPicPr/>
          <p:nvPr/>
        </p:nvPicPr>
        <p:blipFill>
          <a:blip r:embed="rId5"/>
          <a:srcRect l="0" t="34978" r="23595" b="32648"/>
          <a:stretch/>
        </p:blipFill>
        <p:spPr>
          <a:xfrm>
            <a:off x="128520" y="4924440"/>
            <a:ext cx="8929800" cy="595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41400" y="4295880"/>
            <a:ext cx="9102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1"/>
          <p:cNvGrpSpPr/>
          <p:nvPr/>
        </p:nvGrpSpPr>
        <p:grpSpPr>
          <a:xfrm>
            <a:off x="7931160" y="6284880"/>
            <a:ext cx="1162080" cy="559080"/>
            <a:chOff x="7931160" y="6284880"/>
            <a:chExt cx="1162080" cy="559080"/>
          </a:xfrm>
        </p:grpSpPr>
        <p:pic>
          <p:nvPicPr>
            <p:cNvPr id="58" name="Picture 102" descr="ibm_white_logo_300dpi"/>
            <p:cNvPicPr/>
            <p:nvPr/>
          </p:nvPicPr>
          <p:blipFill>
            <a:blip r:embed="rId6"/>
            <a:srcRect l="0" t="0" r="6479" b="0"/>
            <a:stretch/>
          </p:blipFill>
          <p:spPr>
            <a:xfrm>
              <a:off x="7931160" y="6284880"/>
              <a:ext cx="10033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03"/>
            <p:cNvSpPr/>
            <p:nvPr/>
          </p:nvSpPr>
          <p:spPr>
            <a:xfrm>
              <a:off x="8863200" y="656712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07" descr="Rational_Negative"/>
          <p:cNvPicPr/>
          <p:nvPr/>
        </p:nvPicPr>
        <p:blipFill>
          <a:blip r:embed="rId7"/>
          <a:stretch/>
        </p:blipFill>
        <p:spPr>
          <a:xfrm>
            <a:off x="123840" y="252360"/>
            <a:ext cx="1552680" cy="29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image" Target="../media/image14.png"/><Relationship Id="rId9" Type="http://schemas.openxmlformats.org/officeDocument/2006/relationships/image" Target="../media/image22.png"/><Relationship Id="rId10" Type="http://schemas.openxmlformats.org/officeDocument/2006/relationships/image" Target="../media/image14.png"/><Relationship Id="rId11" Type="http://schemas.openxmlformats.org/officeDocument/2006/relationships/image" Target="../media/image19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4.png"/><Relationship Id="rId11" Type="http://schemas.openxmlformats.org/officeDocument/2006/relationships/image" Target="../media/image22.png"/><Relationship Id="rId12" Type="http://schemas.openxmlformats.org/officeDocument/2006/relationships/image" Target="../media/image14.png"/><Relationship Id="rId13" Type="http://schemas.openxmlformats.org/officeDocument/2006/relationships/image" Target="../media/image1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23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12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image" Target="../media/image19.png"/><Relationship Id="rId10" Type="http://schemas.openxmlformats.org/officeDocument/2006/relationships/image" Target="../media/image9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ClearQuest Application Lifecycle Management Training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-Case Driven Development Practice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1662120" y="3368520"/>
            <a:ext cx="1438200" cy="1319040"/>
            <a:chOff x="1662120" y="3368520"/>
            <a:chExt cx="1438200" cy="1319040"/>
          </a:xfrm>
        </p:grpSpPr>
        <p:pic>
          <p:nvPicPr>
            <p:cNvPr id="320" name="Picture 16" descr="Tester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62120" y="3368520"/>
              <a:ext cx="964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7"/>
            <p:cNvSpPr/>
            <p:nvPr/>
          </p:nvSpPr>
          <p:spPr>
            <a:xfrm>
              <a:off x="1662120" y="4019040"/>
              <a:ext cx="1438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Perform t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omplete 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Flowchart: Process 30"/>
          <p:cNvGrpSpPr/>
          <p:nvPr/>
        </p:nvGrpSpPr>
        <p:grpSpPr>
          <a:xfrm>
            <a:off x="4327560" y="2371680"/>
            <a:ext cx="1396800" cy="719280"/>
            <a:chOff x="4327560" y="2371680"/>
            <a:chExt cx="1396800" cy="719280"/>
          </a:xfrm>
        </p:grpSpPr>
        <p:pic>
          <p:nvPicPr>
            <p:cNvPr id="326" name="Flowchart: Process 30" descr=""/>
            <p:cNvPicPr/>
            <p:nvPr/>
          </p:nvPicPr>
          <p:blipFill>
            <a:blip r:embed="rId2"/>
            <a:stretch/>
          </p:blipFill>
          <p:spPr>
            <a:xfrm>
              <a:off x="4327560" y="2371680"/>
              <a:ext cx="1396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514760" y="2558880"/>
              <a:ext cx="974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Flowchart: Process 37"/>
          <p:cNvSpPr/>
          <p:nvPr/>
        </p:nvSpPr>
        <p:spPr>
          <a:xfrm>
            <a:off x="4551480" y="4189320"/>
            <a:ext cx="97452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38"/>
          <p:cNvSpPr/>
          <p:nvPr/>
        </p:nvSpPr>
        <p:spPr>
          <a:xfrm>
            <a:off x="3370320" y="4189320"/>
            <a:ext cx="9730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Flowchart: Process 29"/>
          <p:cNvGrpSpPr/>
          <p:nvPr/>
        </p:nvGrpSpPr>
        <p:grpSpPr>
          <a:xfrm>
            <a:off x="4327560" y="1901880"/>
            <a:ext cx="1396800" cy="718920"/>
            <a:chOff x="4327560" y="1901880"/>
            <a:chExt cx="1396800" cy="718920"/>
          </a:xfrm>
        </p:grpSpPr>
        <p:pic>
          <p:nvPicPr>
            <p:cNvPr id="331" name="Flowchart: Process 29" descr=""/>
            <p:cNvPicPr/>
            <p:nvPr/>
          </p:nvPicPr>
          <p:blipFill>
            <a:blip r:embed="rId3"/>
            <a:stretch/>
          </p:blipFill>
          <p:spPr>
            <a:xfrm>
              <a:off x="4327560" y="1901880"/>
              <a:ext cx="1396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14760" y="2087640"/>
              <a:ext cx="9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334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9" descr="Developer2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337" name="Picture 22" descr="Developer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13" descr="Project-Manager"/>
          <p:cNvPicPr/>
          <p:nvPr/>
        </p:nvPicPr>
        <p:blipFill>
          <a:blip r:embed="rId6">
            <a:grayscl/>
          </a:blip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0"/>
          <p:cNvGrpSpPr/>
          <p:nvPr/>
        </p:nvGrpSpPr>
        <p:grpSpPr>
          <a:xfrm>
            <a:off x="2967120" y="666720"/>
            <a:ext cx="1819080" cy="1086840"/>
            <a:chOff x="2967120" y="666720"/>
            <a:chExt cx="1819080" cy="1086840"/>
          </a:xfrm>
        </p:grpSpPr>
        <p:pic>
          <p:nvPicPr>
            <p:cNvPr id="341" name="Picture 5" descr="Developer_Woman"/>
            <p:cNvPicPr/>
            <p:nvPr/>
          </p:nvPicPr>
          <p:blipFill>
            <a:blip r:embed="rId7"/>
            <a:stretch/>
          </p:blipFill>
          <p:spPr>
            <a:xfrm>
              <a:off x="3019320" y="666720"/>
              <a:ext cx="1097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6"/>
            <p:cNvSpPr/>
            <p:nvPr/>
          </p:nvSpPr>
          <p:spPr>
            <a:xfrm>
              <a:off x="2967120" y="1312920"/>
              <a:ext cx="181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 Narrow"/>
                </a:rPr>
                <a:t>Sub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99"/>
                  </a:solidFill>
                  <a:latin typeface="Arial"/>
                </a:rPr>
                <a:t>Accept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8"/>
          <p:cNvGrpSpPr/>
          <p:nvPr/>
        </p:nvGrpSpPr>
        <p:grpSpPr>
          <a:xfrm>
            <a:off x="1617840" y="1757520"/>
            <a:ext cx="1549080" cy="1416600"/>
            <a:chOff x="1617840" y="1757520"/>
            <a:chExt cx="1549080" cy="1416600"/>
          </a:xfrm>
        </p:grpSpPr>
        <p:pic>
          <p:nvPicPr>
            <p:cNvPr id="344" name="Picture 19" descr="Stakeholder-2"/>
            <p:cNvPicPr/>
            <p:nvPr/>
          </p:nvPicPr>
          <p:blipFill>
            <a:blip r:embed="rId8"/>
            <a:stretch/>
          </p:blipFill>
          <p:spPr>
            <a:xfrm>
              <a:off x="1617840" y="1757520"/>
              <a:ext cx="9532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0"/>
            <p:cNvSpPr/>
            <p:nvPr/>
          </p:nvSpPr>
          <p:spPr>
            <a:xfrm>
              <a:off x="1617840" y="2363400"/>
              <a:ext cx="154908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rchi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Review 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Use-Cas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Flowchart: Process 34"/>
          <p:cNvGrpSpPr/>
          <p:nvPr/>
        </p:nvGrpSpPr>
        <p:grpSpPr>
          <a:xfrm>
            <a:off x="2590920" y="3108240"/>
            <a:ext cx="1401480" cy="1080720"/>
            <a:chOff x="2590920" y="3108240"/>
            <a:chExt cx="1401480" cy="1080720"/>
          </a:xfrm>
        </p:grpSpPr>
        <p:pic>
          <p:nvPicPr>
            <p:cNvPr id="347" name="Flowchart: Process 34" descr=""/>
            <p:cNvPicPr/>
            <p:nvPr/>
          </p:nvPicPr>
          <p:blipFill>
            <a:blip r:embed="rId9"/>
            <a:stretch/>
          </p:blipFill>
          <p:spPr>
            <a:xfrm>
              <a:off x="2590920" y="3108240"/>
              <a:ext cx="140148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781360" y="3342960"/>
              <a:ext cx="9745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5904000" y="1886040"/>
            <a:ext cx="1667880" cy="1576800"/>
            <a:chOff x="5904000" y="1886040"/>
            <a:chExt cx="1667880" cy="1576800"/>
          </a:xfrm>
        </p:grpSpPr>
        <p:pic>
          <p:nvPicPr>
            <p:cNvPr id="350" name="Picture 19" descr="Stakeholder-2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5904000" y="1886040"/>
              <a:ext cx="954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0"/>
            <p:cNvSpPr/>
            <p:nvPr/>
          </p:nvSpPr>
          <p:spPr>
            <a:xfrm>
              <a:off x="5995080" y="2534040"/>
              <a:ext cx="1576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Flowchart: Process 36"/>
          <p:cNvGrpSpPr/>
          <p:nvPr/>
        </p:nvGrpSpPr>
        <p:grpSpPr>
          <a:xfrm>
            <a:off x="4670280" y="3003480"/>
            <a:ext cx="1403280" cy="1185480"/>
            <a:chOff x="4670280" y="3003480"/>
            <a:chExt cx="1403280" cy="1185480"/>
          </a:xfrm>
        </p:grpSpPr>
        <p:pic>
          <p:nvPicPr>
            <p:cNvPr id="353" name="Flowchart: Process 36" descr=""/>
            <p:cNvPicPr/>
            <p:nvPr/>
          </p:nvPicPr>
          <p:blipFill>
            <a:blip r:embed="rId11"/>
            <a:stretch/>
          </p:blipFill>
          <p:spPr>
            <a:xfrm>
              <a:off x="4670280" y="300348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860720" y="326052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356" name="Picture 13" descr="Project-Manager"/>
            <p:cNvPicPr/>
            <p:nvPr/>
          </p:nvPicPr>
          <p:blipFill>
            <a:blip r:embed="rId12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5"/>
          <p:cNvGrpSpPr/>
          <p:nvPr/>
        </p:nvGrpSpPr>
        <p:grpSpPr>
          <a:xfrm>
            <a:off x="1662120" y="3368520"/>
            <a:ext cx="1438200" cy="1319040"/>
            <a:chOff x="1662120" y="3368520"/>
            <a:chExt cx="1438200" cy="1319040"/>
          </a:xfrm>
        </p:grpSpPr>
        <p:pic>
          <p:nvPicPr>
            <p:cNvPr id="367" name="Picture 16" descr="Tester"/>
            <p:cNvPicPr/>
            <p:nvPr/>
          </p:nvPicPr>
          <p:blipFill>
            <a:blip r:embed="rId1"/>
            <a:stretch/>
          </p:blipFill>
          <p:spPr>
            <a:xfrm>
              <a:off x="1662120" y="3368520"/>
              <a:ext cx="964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17"/>
            <p:cNvSpPr/>
            <p:nvPr/>
          </p:nvSpPr>
          <p:spPr>
            <a:xfrm>
              <a:off x="1662120" y="4019040"/>
              <a:ext cx="1438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erform t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omplete 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370" name="Picture 22" descr="Developer"/>
            <p:cNvPicPr/>
            <p:nvPr/>
          </p:nvPicPr>
          <p:blipFill>
            <a:blip r:embed="rId2"/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373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9" descr="Developer2"/>
            <p:cNvPicPr/>
            <p:nvPr/>
          </p:nvPicPr>
          <p:blipFill>
            <a:blip r:embed="rId3"/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Flowchart: Process 30"/>
          <p:cNvGrpSpPr/>
          <p:nvPr/>
        </p:nvGrpSpPr>
        <p:grpSpPr>
          <a:xfrm>
            <a:off x="4327560" y="2371680"/>
            <a:ext cx="1396800" cy="719280"/>
            <a:chOff x="4327560" y="2371680"/>
            <a:chExt cx="1396800" cy="719280"/>
          </a:xfrm>
        </p:grpSpPr>
        <p:pic>
          <p:nvPicPr>
            <p:cNvPr id="379" name="Flowchart: Process 30" descr=""/>
            <p:cNvPicPr/>
            <p:nvPr/>
          </p:nvPicPr>
          <p:blipFill>
            <a:blip r:embed="rId4"/>
            <a:stretch/>
          </p:blipFill>
          <p:spPr>
            <a:xfrm>
              <a:off x="4327560" y="2371680"/>
              <a:ext cx="1396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514760" y="2558880"/>
              <a:ext cx="974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Flowchart: Process 37"/>
          <p:cNvGrpSpPr/>
          <p:nvPr/>
        </p:nvGrpSpPr>
        <p:grpSpPr>
          <a:xfrm>
            <a:off x="4363920" y="3998880"/>
            <a:ext cx="1397160" cy="725400"/>
            <a:chOff x="4363920" y="3998880"/>
            <a:chExt cx="1397160" cy="725400"/>
          </a:xfrm>
        </p:grpSpPr>
        <p:pic>
          <p:nvPicPr>
            <p:cNvPr id="382" name="Flowchart: Process 37" descr=""/>
            <p:cNvPicPr/>
            <p:nvPr/>
          </p:nvPicPr>
          <p:blipFill>
            <a:blip r:embed="rId5"/>
            <a:stretch/>
          </p:blipFill>
          <p:spPr>
            <a:xfrm>
              <a:off x="4363920" y="3998880"/>
              <a:ext cx="1397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551480" y="4189320"/>
              <a:ext cx="974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Flowchart: Process 38"/>
          <p:cNvGrpSpPr/>
          <p:nvPr/>
        </p:nvGrpSpPr>
        <p:grpSpPr>
          <a:xfrm>
            <a:off x="3181320" y="3998880"/>
            <a:ext cx="1403280" cy="725400"/>
            <a:chOff x="3181320" y="3998880"/>
            <a:chExt cx="1403280" cy="725400"/>
          </a:xfrm>
        </p:grpSpPr>
        <p:pic>
          <p:nvPicPr>
            <p:cNvPr id="385" name="Flowchart: Process 38" descr=""/>
            <p:cNvPicPr/>
            <p:nvPr/>
          </p:nvPicPr>
          <p:blipFill>
            <a:blip r:embed="rId6"/>
            <a:stretch/>
          </p:blipFill>
          <p:spPr>
            <a:xfrm>
              <a:off x="3181320" y="3998880"/>
              <a:ext cx="1403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370320" y="4189320"/>
              <a:ext cx="973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Flowchart: Process 29"/>
          <p:cNvGrpSpPr/>
          <p:nvPr/>
        </p:nvGrpSpPr>
        <p:grpSpPr>
          <a:xfrm>
            <a:off x="4327560" y="1901880"/>
            <a:ext cx="1396800" cy="718920"/>
            <a:chOff x="4327560" y="1901880"/>
            <a:chExt cx="1396800" cy="718920"/>
          </a:xfrm>
        </p:grpSpPr>
        <p:pic>
          <p:nvPicPr>
            <p:cNvPr id="388" name="Flowchart: Process 29" descr=""/>
            <p:cNvPicPr/>
            <p:nvPr/>
          </p:nvPicPr>
          <p:blipFill>
            <a:blip r:embed="rId7"/>
            <a:stretch/>
          </p:blipFill>
          <p:spPr>
            <a:xfrm>
              <a:off x="4327560" y="1901880"/>
              <a:ext cx="1396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514760" y="2087640"/>
              <a:ext cx="9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13" descr="Project-Manager"/>
          <p:cNvPicPr/>
          <p:nvPr/>
        </p:nvPicPr>
        <p:blipFill>
          <a:blip r:embed="rId8"/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20"/>
          <p:cNvGrpSpPr/>
          <p:nvPr/>
        </p:nvGrpSpPr>
        <p:grpSpPr>
          <a:xfrm>
            <a:off x="2967120" y="666720"/>
            <a:ext cx="1819080" cy="1086840"/>
            <a:chOff x="2967120" y="666720"/>
            <a:chExt cx="1819080" cy="1086840"/>
          </a:xfrm>
        </p:grpSpPr>
        <p:pic>
          <p:nvPicPr>
            <p:cNvPr id="392" name="Picture 5" descr="Developer_Woman"/>
            <p:cNvPicPr/>
            <p:nvPr/>
          </p:nvPicPr>
          <p:blipFill>
            <a:blip r:embed="rId9"/>
            <a:stretch/>
          </p:blipFill>
          <p:spPr>
            <a:xfrm>
              <a:off x="3019320" y="666720"/>
              <a:ext cx="1097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6"/>
            <p:cNvSpPr/>
            <p:nvPr/>
          </p:nvSpPr>
          <p:spPr>
            <a:xfrm>
              <a:off x="2967120" y="1312920"/>
              <a:ext cx="181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Sub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ccept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8"/>
          <p:cNvGrpSpPr/>
          <p:nvPr/>
        </p:nvGrpSpPr>
        <p:grpSpPr>
          <a:xfrm>
            <a:off x="1617840" y="1757520"/>
            <a:ext cx="1549080" cy="1416600"/>
            <a:chOff x="1617840" y="1757520"/>
            <a:chExt cx="1549080" cy="1416600"/>
          </a:xfrm>
        </p:grpSpPr>
        <p:pic>
          <p:nvPicPr>
            <p:cNvPr id="395" name="Picture 19" descr="Stakeholder-2"/>
            <p:cNvPicPr/>
            <p:nvPr/>
          </p:nvPicPr>
          <p:blipFill>
            <a:blip r:embed="rId10"/>
            <a:stretch/>
          </p:blipFill>
          <p:spPr>
            <a:xfrm>
              <a:off x="1617840" y="1757520"/>
              <a:ext cx="9532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20"/>
            <p:cNvSpPr/>
            <p:nvPr/>
          </p:nvSpPr>
          <p:spPr>
            <a:xfrm>
              <a:off x="1617840" y="2363400"/>
              <a:ext cx="154908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rchi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Review 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Use-Cas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Flowchart: Process 34"/>
          <p:cNvGrpSpPr/>
          <p:nvPr/>
        </p:nvGrpSpPr>
        <p:grpSpPr>
          <a:xfrm>
            <a:off x="2590920" y="3108240"/>
            <a:ext cx="1401480" cy="1080720"/>
            <a:chOff x="2590920" y="3108240"/>
            <a:chExt cx="1401480" cy="1080720"/>
          </a:xfrm>
        </p:grpSpPr>
        <p:pic>
          <p:nvPicPr>
            <p:cNvPr id="398" name="Flowchart: Process 34" descr=""/>
            <p:cNvPicPr/>
            <p:nvPr/>
          </p:nvPicPr>
          <p:blipFill>
            <a:blip r:embed="rId11"/>
            <a:stretch/>
          </p:blipFill>
          <p:spPr>
            <a:xfrm>
              <a:off x="2590920" y="3108240"/>
              <a:ext cx="140148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781360" y="3342960"/>
              <a:ext cx="9745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8"/>
          <p:cNvGrpSpPr/>
          <p:nvPr/>
        </p:nvGrpSpPr>
        <p:grpSpPr>
          <a:xfrm>
            <a:off x="5904000" y="1886040"/>
            <a:ext cx="1667880" cy="1576800"/>
            <a:chOff x="5904000" y="1886040"/>
            <a:chExt cx="1667880" cy="1576800"/>
          </a:xfrm>
        </p:grpSpPr>
        <p:pic>
          <p:nvPicPr>
            <p:cNvPr id="401" name="Picture 19" descr="Stakeholder-2"/>
            <p:cNvPicPr/>
            <p:nvPr/>
          </p:nvPicPr>
          <p:blipFill>
            <a:blip r:embed="rId12">
              <a:grayscl/>
            </a:blip>
            <a:stretch/>
          </p:blipFill>
          <p:spPr>
            <a:xfrm>
              <a:off x="5904000" y="1886040"/>
              <a:ext cx="954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 Box 20"/>
            <p:cNvSpPr/>
            <p:nvPr/>
          </p:nvSpPr>
          <p:spPr>
            <a:xfrm>
              <a:off x="5995080" y="2534040"/>
              <a:ext cx="1576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Flowchart: Process 36"/>
          <p:cNvGrpSpPr/>
          <p:nvPr/>
        </p:nvGrpSpPr>
        <p:grpSpPr>
          <a:xfrm>
            <a:off x="4670280" y="3003480"/>
            <a:ext cx="1403280" cy="1185480"/>
            <a:chOff x="4670280" y="3003480"/>
            <a:chExt cx="1403280" cy="1185480"/>
          </a:xfrm>
        </p:grpSpPr>
        <p:pic>
          <p:nvPicPr>
            <p:cNvPr id="404" name="Flowchart: Process 36" descr=""/>
            <p:cNvPicPr/>
            <p:nvPr/>
          </p:nvPicPr>
          <p:blipFill>
            <a:blip r:embed="rId13"/>
            <a:stretch/>
          </p:blipFill>
          <p:spPr>
            <a:xfrm>
              <a:off x="4670280" y="300348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860720" y="326052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407" name="Picture 13" descr="Project-Manager"/>
            <p:cNvPicPr/>
            <p:nvPr/>
          </p:nvPicPr>
          <p:blipFill>
            <a:blip r:embed="rId14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Request Submitter</a:t>
            </a:r>
            <a:br>
              <a:rPr sz="24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2400" y="1536840"/>
            <a:ext cx="728676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dows Eclipse client or CQ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as ‘UDDP_Stakeholder’ (Blank Pass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oing Demo, in Eclipse, you can also pre-log in as UDDP_Analyst, UDDP_Architect, UDDP_Developer, UDDP_Tester, UDDP_ReleaseEngineer, UDDP_Stak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New Request 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TypeL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UDD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Use-Case Driven Developmen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eration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you do not set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-&gt;Current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if you do not choose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-&gt;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need to be chosen before you will see any choices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-&gt;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m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H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Type – “UDDP:Require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Sev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(brief) tour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hould be set to ‘Stakeholder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ll Queries in Public queries\Practices\Use-Case Driven Development folder unless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Project Triag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12760" y="1775880"/>
            <a:ext cx="76867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 Tasks and setting Dev Lead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Login (if not already connected) a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UDDP_Analyst’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’Triage Requirements’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Release =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Result Set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Tas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new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-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 should be set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e-&gt;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-Case Driven Develop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’, RoleL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‘UDDP_Archit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-Case Model/System-wide Requirements/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 should be set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e-&gt;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-Case Driven Develop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’, RoleL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‘UDDP_Analy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Architec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1240" y="1483920"/>
            <a:ext cx="8737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</a:t>
            </a: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(if not already connected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‘UDDP_Architec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gate Use-Case Work’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Release =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ask in Result Set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_State Activat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wner = ‘UDDP_Architec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-&gt;Activities (Dev/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f using CQMS) 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‘Dev’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-&gt;Role-&gt;Primary-&gt;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-Case Driven Develop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, Record_Type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Activity’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Owner to ‘UDDP_Developer’ and 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f using CQMS) 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‘Test’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-&gt;Role-&gt;Primary-&gt;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-Case Driven Develop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, Record_Type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Activity’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Tes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Owner to ‘UDDP_Tester’ and 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Analys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01240" y="1775880"/>
            <a:ext cx="8737560" cy="37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as ‘UDDP_Analyst’ 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Processing Tasks’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Release =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ask in Result Set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_State Activat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for all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wner = ‘UDDP_Analys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pply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work needs to be delegated, 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Activity otherwise do not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ctivities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new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-&gt;Activities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-Case Model/System-wide Requirements/Actor) i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bmitt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at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UDDP_Analys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-&gt;Role-&gt;Primary-&gt;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-Case Driven Develop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, Record_Type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Activity’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-Case Model/System-wide Requirements/Actor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Non-UCM Develop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01240" y="1776240"/>
            <a:ext cx="8737560" cy="40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Login as ‘UDDP_Develop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Developer’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Release = IS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ask in Result Set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 ‘Dev’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Fixing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l-Click then 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 ID and Ctrl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a Resolution Summary and Resolutio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Analyst completing </a:t>
            </a:r>
            <a:r>
              <a:rPr b="1" lang="en-US" sz="2800" spc="-1" strike="noStrike">
                <a:solidFill>
                  <a:srgbClr val="009bb9"/>
                </a:solidFill>
                <a:latin typeface="Arial"/>
              </a:rPr>
              <a:t>Activities (If any)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01240" y="1776240"/>
            <a:ext cx="8737560" cy="44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Login as ‘UDDP_Analyst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‘Analyst’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Release IS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ctivities were delegated from Tasks Owned by ‘UDDP_Analyst’, click on each Task in Result Set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UDDP_Analys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performing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l-Click then Cho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 ID and Ctrl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a Resolution Summary and Resolution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A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Project Release Engineer Create Baseline of Code (non-UCM)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44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witch hats to become 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mulate Script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as ‘UDDP_ReleaseEngineer’ 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Menu Actions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&lt;TOD&gt; Baselin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VO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&lt;TOD&gt; PVO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-&gt;Search &lt;Highlight Project where Category = ‘Use-Case Driven Development’ and Release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Activities Tab, Activities field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e Copi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o Search Key Box and 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 only record and 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K on new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Project Release Engineer (Build) Simulate Build script (non-UCM)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as ‘UDDP_ReleaseEngineer’ (if not already logged in as that UserID) 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 Actions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‘&lt;TOD&gt;Build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LM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-&gt;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 record f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‘&lt;TOD&gt;’ used to crea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ase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reated earlier and 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Stat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Passed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automatically set 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e-&gt;Prim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Use-Case Driven Development’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oleL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UDDP_ReleaseEngineer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K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Process Overview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536840"/>
            <a:ext cx="7286760" cy="39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312"/>
              </a:spcBef>
              <a:spcAft>
                <a:spcPts val="18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nalyst creates a Request-Type='Requirement' by pushing the Requirement from ReqPro into CQALM or by creating the Request in CQ ALM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choose the Stakeholder as the Request Owner from the set of all Users in the SecurityPolicy-&gt;ratl_context_grou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Analyst can complete the work with no further delegation, they can Accept the Request and be don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more work needs to be done, the Analyst does the CreateTask Action which produces the various Tasks needed for the Use-Case Driven Development Practi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rchitect Activates the Task (s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rchitect can Complete the work without needing to delegate the work, they can Complete the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rchitect needs to delegate the work, they do the CreateActivity 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rs and Testers Complete the 'Dev' and 'Test' Activiti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rchitect Completes the Task when sufficient Activities have been Complet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akeholder accepts the Request if they are satisfied with the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Project Release Engineer (Build) UCM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n as ‘UDDP_ReleaseEngineer’ (Blank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Baseline and Build UCM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Project Test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12400" y="1775880"/>
            <a:ext cx="7348680" cy="38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ng Test Typ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UDDP_Test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</a:t>
            </a: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‘Tester wo Build’ (for Projects NOT using Build/Activity) or ‘Tester w Build’ (for Projects using Build/Ac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Release IS NU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‘Dev’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(if present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 Build, Test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‘Test’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l-Click and 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ed In Bu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ResolutionSummary and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080" y="807840"/>
            <a:ext cx="883584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bb9"/>
                </a:solidFill>
                <a:latin typeface="Arial"/>
              </a:rPr>
              <a:t>Architect </a:t>
            </a: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9bb9"/>
                </a:solidFill>
                <a:latin typeface="Arial"/>
              </a:rPr>
              <a:t> Analyst </a:t>
            </a:r>
            <a:r>
              <a:rPr b="0" i="1" lang="en-US" sz="2400" spc="-1" strike="noStrike">
                <a:solidFill>
                  <a:srgbClr val="009bb9"/>
                </a:solidFill>
                <a:latin typeface="Arial"/>
              </a:rPr>
              <a:t>Completing</a:t>
            </a:r>
            <a:r>
              <a:rPr b="1" lang="en-US" sz="2400" spc="-1" strike="noStrike">
                <a:solidFill>
                  <a:srgbClr val="009bb9"/>
                </a:solidFill>
                <a:latin typeface="Arial"/>
              </a:rPr>
              <a:t> Task</a:t>
            </a:r>
            <a:br>
              <a:rPr sz="24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2400" y="1775880"/>
            <a:ext cx="734868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Login first as ‘UDDP_Architect’ then as ’UDDP_Analyst’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</a:t>
            </a: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‘Completing Task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Release IS 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-&gt;Activity St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Activities ex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ing ‘Dev’ fix (if Build was cre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button and 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lete (Shift-click select all Tasks for Analy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ResolutionSummary and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s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ly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aly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Request Submitt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12400" y="1775880"/>
            <a:ext cx="7348680" cy="39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499"/>
              </a:spcBef>
              <a:spcAft>
                <a:spcPts val="901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 the development cycle, I may be checking on the status of my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24"/>
              </a:spcBef>
              <a:spcAft>
                <a:spcPts val="5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Login as ‘UDDP_Stakeholder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Execute public queries-&gt;Practices-&gt;Use-Case Driven Development-&gt;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 ‘Requestor’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Release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Opene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Complete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States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.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ork done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omments, Questions and Response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22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 record is expected to be the only person directly modifying or state transitioning the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t hard coded into the system, merely a suggeste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wish to modify a record you are not the Owner of, do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estionOrCom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that you are just commenting or that you are Requesting a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Question or Com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Unanswer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Duplicate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rder to indicate that a Request is a Duplicate of another Request, we do the follow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 Request2 is seen as a duplicate of Request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Select Request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Choose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rkAsDuplic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tion. (This creates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ab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Reques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Yes’ on Request2 and a Comment = "&lt;&lt;ALMReque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Request-&gt;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has been marked as Duplicate&gt;&gt;"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Dbl-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 to update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dicating that this is seen as a ‘Duplicate’.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plicate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 will be Mandatory. Enter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Request1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-&gt;Duplicate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 and Save the Com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Request2 runs a query 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plicates Needing Comple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r is notified of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plicateOf 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Reques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em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)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Request2 decides if they agree that thei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‘Duplicate’ of Request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) If they agree that their Request2 is a ‘Duplicate’ of Request1 they execute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uplicate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tion on Request2.  Th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itions Request2 to ‘Completed’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)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Request2 dbl-Click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choose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) They dbl-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 to add their response and save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) If they do not think that Request2 is a ‘Duplicate’ of Request1, 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Request2 dbl-Click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choose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) They dbl-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-&gt;Respon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 to add their response saying that they do not agree for the following reasons and save their Response.  They do 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Request2 b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p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Request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teps on ‘Request Submitter’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lat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UDDP_Analys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ecute \Public queries\Practices\Use-Case Driven Development\Triage Requirements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til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con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ject_Reques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Unreproducib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WorksAsDesig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‘ALL’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appea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ill be in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further Tasks will be permitted to b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pre-existing Tasks will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rse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UDDP_Architec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Op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Project to ‘Use-Case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datory field values wi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Use Case Model’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‘OK’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Task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42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UDDP_Analys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ecute \Public queries\Practices\Use-Case Driven Development\Processing Tasks’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M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Execute Utilities-&gt;Create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tilities-&gt;CreateActiv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eState-&gt;Op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et i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UDDP_Analyst’ and 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lat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ange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con and 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C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ject_Task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state transitioned to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pre-exis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ented (CQ ALM 1.1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verse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gin as ‘UDDP_Architec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Ope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‘OK’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Activitie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as ‘UDDP_Developer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-&gt;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d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Select the Task then select the Activity of Type = ‘UDDP: Use-Case Mod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nge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and cho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 ResolutionCode =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ject_Activit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tate transitioned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reverse this, ReOpen the Activity and reset auto-generated fiel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ClearQuest Application Lifecycle Management Demo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 of CQ ALM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Group 41" descr=""/>
          <p:cNvPicPr/>
          <p:nvPr/>
        </p:nvPicPr>
        <p:blipFill>
          <a:blip r:embed="rId1"/>
          <a:stretch/>
        </p:blipFill>
        <p:spPr>
          <a:xfrm>
            <a:off x="2193840" y="469800"/>
            <a:ext cx="404172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0"/>
          <p:cNvGrpSpPr/>
          <p:nvPr/>
        </p:nvGrpSpPr>
        <p:grpSpPr>
          <a:xfrm>
            <a:off x="2967120" y="765000"/>
            <a:ext cx="1819080" cy="1240200"/>
            <a:chOff x="2967120" y="765000"/>
            <a:chExt cx="1819080" cy="1240200"/>
          </a:xfrm>
        </p:grpSpPr>
        <p:pic>
          <p:nvPicPr>
            <p:cNvPr id="112" name="Picture 5" descr="Developer_Woman"/>
            <p:cNvPicPr/>
            <p:nvPr/>
          </p:nvPicPr>
          <p:blipFill>
            <a:blip r:embed="rId2"/>
            <a:stretch/>
          </p:blipFill>
          <p:spPr>
            <a:xfrm>
              <a:off x="3019320" y="76500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2967120" y="141120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Flowchart: Process 26"/>
          <p:cNvSpPr/>
          <p:nvPr/>
        </p:nvSpPr>
        <p:spPr>
          <a:xfrm>
            <a:off x="3246480" y="2779560"/>
            <a:ext cx="97452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Process 27"/>
          <p:cNvSpPr/>
          <p:nvPr/>
        </p:nvSpPr>
        <p:spPr>
          <a:xfrm>
            <a:off x="3246480" y="314964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lowchart: Process 28"/>
          <p:cNvSpPr/>
          <p:nvPr/>
        </p:nvSpPr>
        <p:spPr>
          <a:xfrm>
            <a:off x="3246480" y="356076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Flowchart: Process 29"/>
          <p:cNvGrpSpPr/>
          <p:nvPr/>
        </p:nvGrpSpPr>
        <p:grpSpPr>
          <a:xfrm>
            <a:off x="4340160" y="2724120"/>
            <a:ext cx="1395360" cy="725400"/>
            <a:chOff x="4340160" y="2724120"/>
            <a:chExt cx="1395360" cy="725400"/>
          </a:xfrm>
        </p:grpSpPr>
        <p:pic>
          <p:nvPicPr>
            <p:cNvPr id="118" name="Flowchart: Process 29" descr=""/>
            <p:cNvPicPr/>
            <p:nvPr/>
          </p:nvPicPr>
          <p:blipFill>
            <a:blip r:embed="rId3"/>
            <a:stretch/>
          </p:blipFill>
          <p:spPr>
            <a:xfrm>
              <a:off x="4340160" y="2724120"/>
              <a:ext cx="1395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25920" y="2914560"/>
              <a:ext cx="9748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roup 55" descr=""/>
          <p:cNvPicPr/>
          <p:nvPr/>
        </p:nvPicPr>
        <p:blipFill>
          <a:blip r:embed="rId1"/>
          <a:stretch/>
        </p:blipFill>
        <p:spPr>
          <a:xfrm>
            <a:off x="2193840" y="469800"/>
            <a:ext cx="449280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21" name="Flowchart: Process 30"/>
          <p:cNvGrpSpPr/>
          <p:nvPr/>
        </p:nvGrpSpPr>
        <p:grpSpPr>
          <a:xfrm>
            <a:off x="4327560" y="3157560"/>
            <a:ext cx="1396800" cy="725400"/>
            <a:chOff x="4327560" y="3157560"/>
            <a:chExt cx="1396800" cy="725400"/>
          </a:xfrm>
        </p:grpSpPr>
        <p:pic>
          <p:nvPicPr>
            <p:cNvPr id="122" name="Flowchart: Process 30" descr=""/>
            <p:cNvPicPr/>
            <p:nvPr/>
          </p:nvPicPr>
          <p:blipFill>
            <a:blip r:embed="rId2"/>
            <a:stretch/>
          </p:blipFill>
          <p:spPr>
            <a:xfrm>
              <a:off x="4327560" y="3157560"/>
              <a:ext cx="13968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14760" y="3346560"/>
              <a:ext cx="9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4649760" y="765000"/>
            <a:ext cx="2089080" cy="1452240"/>
            <a:chOff x="4649760" y="765000"/>
            <a:chExt cx="2089080" cy="1452240"/>
          </a:xfrm>
        </p:grpSpPr>
        <p:pic>
          <p:nvPicPr>
            <p:cNvPr id="125" name="Picture 13" descr="Project-Manager"/>
            <p:cNvPicPr/>
            <p:nvPr/>
          </p:nvPicPr>
          <p:blipFill>
            <a:blip r:embed="rId3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4"/>
            <p:cNvSpPr/>
            <p:nvPr/>
          </p:nvSpPr>
          <p:spPr>
            <a:xfrm>
              <a:off x="4684680" y="1395360"/>
              <a:ext cx="205416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rchitect is Use-Ca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lowchart: Process 41"/>
          <p:cNvSpPr/>
          <p:nvPr/>
        </p:nvSpPr>
        <p:spPr>
          <a:xfrm>
            <a:off x="3246480" y="2779560"/>
            <a:ext cx="97452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Process 42"/>
          <p:cNvSpPr/>
          <p:nvPr/>
        </p:nvSpPr>
        <p:spPr>
          <a:xfrm>
            <a:off x="3246480" y="314964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owchart: Process 43"/>
          <p:cNvSpPr/>
          <p:nvPr/>
        </p:nvSpPr>
        <p:spPr>
          <a:xfrm>
            <a:off x="3246480" y="356076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Process 51"/>
          <p:cNvSpPr/>
          <p:nvPr/>
        </p:nvSpPr>
        <p:spPr>
          <a:xfrm>
            <a:off x="4525920" y="2914560"/>
            <a:ext cx="974880" cy="2952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0"/>
          <p:cNvGrpSpPr/>
          <p:nvPr/>
        </p:nvGrpSpPr>
        <p:grpSpPr>
          <a:xfrm>
            <a:off x="2967120" y="765000"/>
            <a:ext cx="1819080" cy="1229040"/>
            <a:chOff x="2967120" y="765000"/>
            <a:chExt cx="1819080" cy="1229040"/>
          </a:xfrm>
        </p:grpSpPr>
        <p:pic>
          <p:nvPicPr>
            <p:cNvPr id="132" name="Picture 5" descr="Developer_Woman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3019320" y="76500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6"/>
            <p:cNvSpPr/>
            <p:nvPr/>
          </p:nvSpPr>
          <p:spPr>
            <a:xfrm>
              <a:off x="2967120" y="1411200"/>
              <a:ext cx="18190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9d9d9"/>
                  </a:solidFill>
                  <a:latin typeface="Arial Narrow"/>
                </a:rPr>
                <a:t>Sub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d9d9d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d9d9d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Group 62" descr=""/>
          <p:cNvPicPr/>
          <p:nvPr/>
        </p:nvPicPr>
        <p:blipFill>
          <a:blip r:embed="rId1"/>
          <a:stretch/>
        </p:blipFill>
        <p:spPr>
          <a:xfrm>
            <a:off x="2185920" y="469800"/>
            <a:ext cx="5200560" cy="4645080"/>
          </a:xfrm>
          <a:prstGeom prst="rect">
            <a:avLst/>
          </a:prstGeom>
          <a:ln w="0">
            <a:noFill/>
          </a:ln>
        </p:spPr>
      </p:pic>
      <p:sp>
        <p:nvSpPr>
          <p:cNvPr id="135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5904000" y="1886040"/>
            <a:ext cx="1739520" cy="1728360"/>
            <a:chOff x="5904000" y="1886040"/>
            <a:chExt cx="1739520" cy="1728360"/>
          </a:xfrm>
        </p:grpSpPr>
        <p:pic>
          <p:nvPicPr>
            <p:cNvPr id="140" name="Picture 19" descr="Stakeholder-2"/>
            <p:cNvPicPr/>
            <p:nvPr/>
          </p:nvPicPr>
          <p:blipFill>
            <a:blip r:embed="rId2"/>
            <a:stretch/>
          </p:blipFill>
          <p:spPr>
            <a:xfrm>
              <a:off x="5904000" y="1886040"/>
              <a:ext cx="9536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0"/>
            <p:cNvSpPr/>
            <p:nvPr/>
          </p:nvSpPr>
          <p:spPr>
            <a:xfrm>
              <a:off x="6068520" y="2533680"/>
              <a:ext cx="1575000" cy="10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rchi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Flowchart: Process 35"/>
          <p:cNvGrpSpPr/>
          <p:nvPr/>
        </p:nvGrpSpPr>
        <p:grpSpPr>
          <a:xfrm>
            <a:off x="3282840" y="2871720"/>
            <a:ext cx="1401840" cy="1044360"/>
            <a:chOff x="3282840" y="2871720"/>
            <a:chExt cx="1401840" cy="1044360"/>
          </a:xfrm>
        </p:grpSpPr>
        <p:pic>
          <p:nvPicPr>
            <p:cNvPr id="143" name="Flowchart: Process 35" descr=""/>
            <p:cNvPicPr/>
            <p:nvPr/>
          </p:nvPicPr>
          <p:blipFill>
            <a:blip r:embed="rId3"/>
            <a:stretch/>
          </p:blipFill>
          <p:spPr>
            <a:xfrm>
              <a:off x="3282840" y="2871720"/>
              <a:ext cx="140184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473640" y="3098520"/>
              <a:ext cx="9745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Flowchart: Process 36"/>
          <p:cNvGrpSpPr/>
          <p:nvPr/>
        </p:nvGrpSpPr>
        <p:grpSpPr>
          <a:xfrm>
            <a:off x="4514760" y="2871720"/>
            <a:ext cx="1401480" cy="1044360"/>
            <a:chOff x="4514760" y="2871720"/>
            <a:chExt cx="1401480" cy="1044360"/>
          </a:xfrm>
        </p:grpSpPr>
        <p:pic>
          <p:nvPicPr>
            <p:cNvPr id="146" name="Flowchart: Process 36" descr=""/>
            <p:cNvPicPr/>
            <p:nvPr/>
          </p:nvPicPr>
          <p:blipFill>
            <a:blip r:embed="rId4"/>
            <a:stretch/>
          </p:blipFill>
          <p:spPr>
            <a:xfrm>
              <a:off x="4514760" y="2871720"/>
              <a:ext cx="140148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03400" y="3098520"/>
              <a:ext cx="97488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Test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Project-Manager"/>
          <p:cNvPicPr/>
          <p:nvPr/>
        </p:nvPicPr>
        <p:blipFill>
          <a:blip r:embed="rId5"/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5"/>
          <p:cNvGrpSpPr/>
          <p:nvPr/>
        </p:nvGrpSpPr>
        <p:grpSpPr>
          <a:xfrm>
            <a:off x="2743200" y="3619440"/>
            <a:ext cx="1438200" cy="949320"/>
            <a:chOff x="2743200" y="3619440"/>
            <a:chExt cx="1438200" cy="949320"/>
          </a:xfrm>
        </p:grpSpPr>
        <p:pic>
          <p:nvPicPr>
            <p:cNvPr id="151" name="Picture 16" descr="Tester"/>
            <p:cNvPicPr/>
            <p:nvPr/>
          </p:nvPicPr>
          <p:blipFill>
            <a:blip r:embed="rId6"/>
            <a:stretch/>
          </p:blipFill>
          <p:spPr>
            <a:xfrm>
              <a:off x="2966040" y="3619440"/>
              <a:ext cx="9644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7"/>
            <p:cNvSpPr/>
            <p:nvPr/>
          </p:nvSpPr>
          <p:spPr>
            <a:xfrm>
              <a:off x="2743200" y="4270320"/>
              <a:ext cx="143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1"/>
          <p:cNvGrpSpPr/>
          <p:nvPr/>
        </p:nvGrpSpPr>
        <p:grpSpPr>
          <a:xfrm>
            <a:off x="4562640" y="3571920"/>
            <a:ext cx="1506240" cy="944640"/>
            <a:chOff x="4562640" y="3571920"/>
            <a:chExt cx="1506240" cy="944640"/>
          </a:xfrm>
        </p:grpSpPr>
        <p:pic>
          <p:nvPicPr>
            <p:cNvPr id="154" name="Picture 22" descr="Developer"/>
            <p:cNvPicPr/>
            <p:nvPr/>
          </p:nvPicPr>
          <p:blipFill>
            <a:blip r:embed="rId7"/>
            <a:stretch/>
          </p:blipFill>
          <p:spPr>
            <a:xfrm>
              <a:off x="4812480" y="3571920"/>
              <a:ext cx="962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3"/>
            <p:cNvSpPr/>
            <p:nvPr/>
          </p:nvSpPr>
          <p:spPr>
            <a:xfrm>
              <a:off x="4562640" y="4218120"/>
              <a:ext cx="1506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157" name="Picture 5" descr="Developer_Woman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Flowchart: Process 35"/>
          <p:cNvGrpSpPr/>
          <p:nvPr/>
        </p:nvGrpSpPr>
        <p:grpSpPr>
          <a:xfrm>
            <a:off x="3736800" y="3429000"/>
            <a:ext cx="1401840" cy="1439640"/>
            <a:chOff x="3736800" y="3429000"/>
            <a:chExt cx="1401840" cy="1439640"/>
          </a:xfrm>
        </p:grpSpPr>
        <p:pic>
          <p:nvPicPr>
            <p:cNvPr id="160" name="Flowchart: Process 35" descr=""/>
            <p:cNvPicPr/>
            <p:nvPr/>
          </p:nvPicPr>
          <p:blipFill>
            <a:blip r:embed="rId9"/>
            <a:stretch/>
          </p:blipFill>
          <p:spPr>
            <a:xfrm>
              <a:off x="3736800" y="3429000"/>
              <a:ext cx="1401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927600" y="3741840"/>
              <a:ext cx="97452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ctor/Use-Case Model/ System-wide Req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163" name="Picture 13" descr="Project-Manager"/>
            <p:cNvPicPr/>
            <p:nvPr/>
          </p:nvPicPr>
          <p:blipFill>
            <a:blip r:embed="rId10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171" name="Picture 22" descr="Developer"/>
            <p:cNvPicPr/>
            <p:nvPr/>
          </p:nvPicPr>
          <p:blipFill>
            <a:blip r:embed="rId1"/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"/>
          <p:cNvGrpSpPr/>
          <p:nvPr/>
        </p:nvGrpSpPr>
        <p:grpSpPr>
          <a:xfrm>
            <a:off x="5904000" y="1886040"/>
            <a:ext cx="1667880" cy="1409040"/>
            <a:chOff x="5904000" y="1886040"/>
            <a:chExt cx="1667880" cy="1409040"/>
          </a:xfrm>
        </p:grpSpPr>
        <p:pic>
          <p:nvPicPr>
            <p:cNvPr id="178" name="Picture 19" descr="Stakeholder-2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04000" y="1886040"/>
              <a:ext cx="95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0"/>
            <p:cNvSpPr/>
            <p:nvPr/>
          </p:nvSpPr>
          <p:spPr>
            <a:xfrm>
              <a:off x="5995080" y="2533680"/>
              <a:ext cx="157680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e2e5ff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e2e5ff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2e5ff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2e5ff"/>
                  </a:solidFill>
                  <a:latin typeface="Arial"/>
                </a:rPr>
                <a:t>Assign 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Flowchart: Process 36"/>
          <p:cNvGrpSpPr/>
          <p:nvPr/>
        </p:nvGrpSpPr>
        <p:grpSpPr>
          <a:xfrm>
            <a:off x="4595760" y="3467160"/>
            <a:ext cx="1403280" cy="1185480"/>
            <a:chOff x="4595760" y="3467160"/>
            <a:chExt cx="1403280" cy="1185480"/>
          </a:xfrm>
        </p:grpSpPr>
        <p:pic>
          <p:nvPicPr>
            <p:cNvPr id="181" name="Flowchart: Process 36" descr=""/>
            <p:cNvPicPr/>
            <p:nvPr/>
          </p:nvPicPr>
          <p:blipFill>
            <a:blip r:embed="rId3"/>
            <a:stretch/>
          </p:blipFill>
          <p:spPr>
            <a:xfrm>
              <a:off x="4595760" y="346716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86200" y="372420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Project-Manager"/>
          <p:cNvPicPr/>
          <p:nvPr/>
        </p:nvPicPr>
        <p:blipFill>
          <a:blip r:embed="rId4">
            <a:grayscl/>
          </a:blip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186" name="Picture 5" descr="Developer_Woman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189" name="Picture 13" descr="Project-Manager"/>
            <p:cNvPicPr/>
            <p:nvPr/>
          </p:nvPicPr>
          <p:blipFill>
            <a:blip r:embed="rId6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198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9" descr="Developer2"/>
            <p:cNvPicPr/>
            <p:nvPr/>
          </p:nvPicPr>
          <p:blipFill>
            <a:blip r:embed="rId1"/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Flowchart: Process 37"/>
          <p:cNvGrpSpPr/>
          <p:nvPr/>
        </p:nvGrpSpPr>
        <p:grpSpPr>
          <a:xfrm>
            <a:off x="4363920" y="3998880"/>
            <a:ext cx="1397160" cy="725400"/>
            <a:chOff x="4363920" y="3998880"/>
            <a:chExt cx="1397160" cy="725400"/>
          </a:xfrm>
        </p:grpSpPr>
        <p:pic>
          <p:nvPicPr>
            <p:cNvPr id="205" name="Flowchart: Process 37" descr=""/>
            <p:cNvPicPr/>
            <p:nvPr/>
          </p:nvPicPr>
          <p:blipFill>
            <a:blip r:embed="rId2"/>
            <a:stretch/>
          </p:blipFill>
          <p:spPr>
            <a:xfrm>
              <a:off x="4363920" y="3998880"/>
              <a:ext cx="1397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51480" y="4189320"/>
              <a:ext cx="974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Flowchart: Process 38"/>
          <p:cNvGrpSpPr/>
          <p:nvPr/>
        </p:nvGrpSpPr>
        <p:grpSpPr>
          <a:xfrm>
            <a:off x="3181320" y="3998880"/>
            <a:ext cx="1403280" cy="725400"/>
            <a:chOff x="3181320" y="3998880"/>
            <a:chExt cx="1403280" cy="725400"/>
          </a:xfrm>
        </p:grpSpPr>
        <p:pic>
          <p:nvPicPr>
            <p:cNvPr id="208" name="Flowchart: Process 38" descr=""/>
            <p:cNvPicPr/>
            <p:nvPr/>
          </p:nvPicPr>
          <p:blipFill>
            <a:blip r:embed="rId3"/>
            <a:stretch/>
          </p:blipFill>
          <p:spPr>
            <a:xfrm>
              <a:off x="3181320" y="3998880"/>
              <a:ext cx="1403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370320" y="4189320"/>
              <a:ext cx="973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Project-Manager"/>
          <p:cNvPicPr/>
          <p:nvPr/>
        </p:nvPicPr>
        <p:blipFill>
          <a:blip r:embed="rId4">
            <a:grayscl/>
          </a:blip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213" name="Picture 22" descr="Developer"/>
            <p:cNvPicPr/>
            <p:nvPr/>
          </p:nvPicPr>
          <p:blipFill>
            <a:blip r:embed="rId5"/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5904000" y="1886040"/>
            <a:ext cx="1667880" cy="1409040"/>
            <a:chOff x="5904000" y="1886040"/>
            <a:chExt cx="1667880" cy="1409040"/>
          </a:xfrm>
        </p:grpSpPr>
        <p:pic>
          <p:nvPicPr>
            <p:cNvPr id="216" name="Picture 19" descr="Stakeholder-2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904000" y="1886040"/>
              <a:ext cx="95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20"/>
            <p:cNvSpPr/>
            <p:nvPr/>
          </p:nvSpPr>
          <p:spPr>
            <a:xfrm>
              <a:off x="5995080" y="2533680"/>
              <a:ext cx="157680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Flowchart: Process 36"/>
          <p:cNvGrpSpPr/>
          <p:nvPr/>
        </p:nvGrpSpPr>
        <p:grpSpPr>
          <a:xfrm>
            <a:off x="4479840" y="3032280"/>
            <a:ext cx="1403280" cy="1185480"/>
            <a:chOff x="4479840" y="3032280"/>
            <a:chExt cx="1403280" cy="1185480"/>
          </a:xfrm>
        </p:grpSpPr>
        <p:pic>
          <p:nvPicPr>
            <p:cNvPr id="219" name="Flowchart: Process 36" descr=""/>
            <p:cNvPicPr/>
            <p:nvPr/>
          </p:nvPicPr>
          <p:blipFill>
            <a:blip r:embed="rId7"/>
            <a:stretch/>
          </p:blipFill>
          <p:spPr>
            <a:xfrm>
              <a:off x="4479840" y="303228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70280" y="328932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222" name="Picture 5" descr="Developer_Woman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225" name="Picture 13" descr="Project-Manager"/>
            <p:cNvPicPr/>
            <p:nvPr/>
          </p:nvPicPr>
          <p:blipFill>
            <a:blip r:embed="rId9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1662120" y="3368520"/>
            <a:ext cx="1438200" cy="1319040"/>
            <a:chOff x="1662120" y="3368520"/>
            <a:chExt cx="1438200" cy="1319040"/>
          </a:xfrm>
        </p:grpSpPr>
        <p:pic>
          <p:nvPicPr>
            <p:cNvPr id="235" name="Picture 16" descr="Tester"/>
            <p:cNvPicPr/>
            <p:nvPr/>
          </p:nvPicPr>
          <p:blipFill>
            <a:blip r:embed="rId1"/>
            <a:stretch/>
          </p:blipFill>
          <p:spPr>
            <a:xfrm>
              <a:off x="1662120" y="3368520"/>
              <a:ext cx="964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1662120" y="4019040"/>
              <a:ext cx="1438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Perform t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238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9" descr="Developer2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Flowchart: Process 34"/>
          <p:cNvGrpSpPr/>
          <p:nvPr/>
        </p:nvGrpSpPr>
        <p:grpSpPr>
          <a:xfrm>
            <a:off x="2590920" y="3108240"/>
            <a:ext cx="1401480" cy="1080720"/>
            <a:chOff x="2590920" y="3108240"/>
            <a:chExt cx="1401480" cy="1080720"/>
          </a:xfrm>
        </p:grpSpPr>
        <p:pic>
          <p:nvPicPr>
            <p:cNvPr id="245" name="Flowchart: Process 34" descr=""/>
            <p:cNvPicPr/>
            <p:nvPr/>
          </p:nvPicPr>
          <p:blipFill>
            <a:blip r:embed="rId3"/>
            <a:stretch/>
          </p:blipFill>
          <p:spPr>
            <a:xfrm>
              <a:off x="2590920" y="3108240"/>
              <a:ext cx="140148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2781360" y="3342960"/>
              <a:ext cx="9745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Flowchart: Process 37"/>
          <p:cNvSpPr/>
          <p:nvPr/>
        </p:nvSpPr>
        <p:spPr>
          <a:xfrm>
            <a:off x="4551480" y="4189320"/>
            <a:ext cx="97452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Process 38"/>
          <p:cNvSpPr/>
          <p:nvPr/>
        </p:nvSpPr>
        <p:spPr>
          <a:xfrm>
            <a:off x="3370320" y="4189320"/>
            <a:ext cx="9730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251" name="Picture 22" descr="Develope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13" descr="Project-Manager"/>
          <p:cNvPicPr/>
          <p:nvPr/>
        </p:nvPicPr>
        <p:blipFill>
          <a:blip r:embed="rId5">
            <a:grayscl/>
          </a:blip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8"/>
          <p:cNvGrpSpPr/>
          <p:nvPr/>
        </p:nvGrpSpPr>
        <p:grpSpPr>
          <a:xfrm>
            <a:off x="5904000" y="1886040"/>
            <a:ext cx="1667880" cy="1576800"/>
            <a:chOff x="5904000" y="1886040"/>
            <a:chExt cx="1667880" cy="1576800"/>
          </a:xfrm>
        </p:grpSpPr>
        <p:pic>
          <p:nvPicPr>
            <p:cNvPr id="255" name="Picture 19" descr="Stakeholder-2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904000" y="1886040"/>
              <a:ext cx="954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20"/>
            <p:cNvSpPr/>
            <p:nvPr/>
          </p:nvSpPr>
          <p:spPr>
            <a:xfrm>
              <a:off x="5995080" y="2534040"/>
              <a:ext cx="1576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Flowchart: Process 36"/>
          <p:cNvGrpSpPr/>
          <p:nvPr/>
        </p:nvGrpSpPr>
        <p:grpSpPr>
          <a:xfrm>
            <a:off x="4670280" y="3003480"/>
            <a:ext cx="1403280" cy="1185480"/>
            <a:chOff x="4670280" y="3003480"/>
            <a:chExt cx="1403280" cy="1185480"/>
          </a:xfrm>
        </p:grpSpPr>
        <p:pic>
          <p:nvPicPr>
            <p:cNvPr id="258" name="Flowchart: Process 36" descr=""/>
            <p:cNvPicPr/>
            <p:nvPr/>
          </p:nvPicPr>
          <p:blipFill>
            <a:blip r:embed="rId7"/>
            <a:stretch/>
          </p:blipFill>
          <p:spPr>
            <a:xfrm>
              <a:off x="4670280" y="300348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860720" y="326052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261" name="Picture 5" descr="Developer_Woman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264" name="Picture 13" descr="Project-Manager"/>
            <p:cNvPicPr/>
            <p:nvPr/>
          </p:nvPicPr>
          <p:blipFill>
            <a:blip r:embed="rId9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5"/>
          <p:cNvGrpSpPr/>
          <p:nvPr/>
        </p:nvGrpSpPr>
        <p:grpSpPr>
          <a:xfrm>
            <a:off x="1662120" y="3368520"/>
            <a:ext cx="1438200" cy="1319040"/>
            <a:chOff x="1662120" y="3368520"/>
            <a:chExt cx="1438200" cy="1319040"/>
          </a:xfrm>
        </p:grpSpPr>
        <p:pic>
          <p:nvPicPr>
            <p:cNvPr id="275" name="Picture 16" descr="Tester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62120" y="3368520"/>
              <a:ext cx="9644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7"/>
            <p:cNvSpPr/>
            <p:nvPr/>
          </p:nvSpPr>
          <p:spPr>
            <a:xfrm>
              <a:off x="1662120" y="4019040"/>
              <a:ext cx="1438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Perform t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omplete 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8"/>
          <p:cNvGrpSpPr/>
          <p:nvPr/>
        </p:nvGrpSpPr>
        <p:grpSpPr>
          <a:xfrm>
            <a:off x="1617840" y="1757520"/>
            <a:ext cx="1549080" cy="1416600"/>
            <a:chOff x="1617840" y="1757520"/>
            <a:chExt cx="1549080" cy="1416600"/>
          </a:xfrm>
        </p:grpSpPr>
        <p:pic>
          <p:nvPicPr>
            <p:cNvPr id="278" name="Picture 19" descr="Stakeholder-2"/>
            <p:cNvPicPr/>
            <p:nvPr/>
          </p:nvPicPr>
          <p:blipFill>
            <a:blip r:embed="rId2"/>
            <a:stretch/>
          </p:blipFill>
          <p:spPr>
            <a:xfrm>
              <a:off x="1617840" y="1757520"/>
              <a:ext cx="95328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0"/>
            <p:cNvSpPr/>
            <p:nvPr/>
          </p:nvSpPr>
          <p:spPr>
            <a:xfrm>
              <a:off x="1617840" y="2363400"/>
              <a:ext cx="154908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Archi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Review 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Use-Cas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Flowchart: Process 30"/>
          <p:cNvGrpSpPr/>
          <p:nvPr/>
        </p:nvGrpSpPr>
        <p:grpSpPr>
          <a:xfrm>
            <a:off x="4327560" y="2371680"/>
            <a:ext cx="1396800" cy="719280"/>
            <a:chOff x="4327560" y="2371680"/>
            <a:chExt cx="1396800" cy="719280"/>
          </a:xfrm>
        </p:grpSpPr>
        <p:pic>
          <p:nvPicPr>
            <p:cNvPr id="284" name="Flowchart: Process 30" descr=""/>
            <p:cNvPicPr/>
            <p:nvPr/>
          </p:nvPicPr>
          <p:blipFill>
            <a:blip r:embed="rId3"/>
            <a:stretch/>
          </p:blipFill>
          <p:spPr>
            <a:xfrm>
              <a:off x="4327560" y="2371680"/>
              <a:ext cx="1396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14760" y="2558880"/>
              <a:ext cx="974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lowchart: Process 37"/>
          <p:cNvSpPr/>
          <p:nvPr/>
        </p:nvSpPr>
        <p:spPr>
          <a:xfrm>
            <a:off x="4551480" y="4189320"/>
            <a:ext cx="97452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lowchart: Process 38"/>
          <p:cNvSpPr/>
          <p:nvPr/>
        </p:nvSpPr>
        <p:spPr>
          <a:xfrm>
            <a:off x="3370320" y="4189320"/>
            <a:ext cx="9730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290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9" descr="Developer2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21"/>
          <p:cNvGrpSpPr/>
          <p:nvPr/>
        </p:nvGrpSpPr>
        <p:grpSpPr>
          <a:xfrm>
            <a:off x="5770440" y="3792600"/>
            <a:ext cx="1506600" cy="1456920"/>
            <a:chOff x="5770440" y="3792600"/>
            <a:chExt cx="1506600" cy="1456920"/>
          </a:xfrm>
        </p:grpSpPr>
        <p:pic>
          <p:nvPicPr>
            <p:cNvPr id="293" name="Picture 22" descr="Developer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6020280" y="3792600"/>
              <a:ext cx="96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3"/>
            <p:cNvSpPr/>
            <p:nvPr/>
          </p:nvSpPr>
          <p:spPr>
            <a:xfrm>
              <a:off x="5770440" y="4438800"/>
              <a:ext cx="1506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Deliver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omplete </a:t>
              </a:r>
              <a:br>
                <a:rPr sz="1100"/>
              </a:b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13" descr="Project-Manager"/>
          <p:cNvPicPr/>
          <p:nvPr/>
        </p:nvPicPr>
        <p:blipFill>
          <a:blip r:embed="rId6">
            <a:grayscl/>
          </a:blip>
          <a:srcRect l="-4841" t="794" r="0" b="32943"/>
          <a:stretch/>
        </p:blipFill>
        <p:spPr>
          <a:xfrm>
            <a:off x="6400800" y="175104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296" name="Flowchart: Process 34"/>
          <p:cNvGrpSpPr/>
          <p:nvPr/>
        </p:nvGrpSpPr>
        <p:grpSpPr>
          <a:xfrm>
            <a:off x="2590920" y="3108240"/>
            <a:ext cx="1401480" cy="1080720"/>
            <a:chOff x="2590920" y="3108240"/>
            <a:chExt cx="1401480" cy="1080720"/>
          </a:xfrm>
        </p:grpSpPr>
        <p:pic>
          <p:nvPicPr>
            <p:cNvPr id="297" name="Flowchart: Process 34" descr=""/>
            <p:cNvPicPr/>
            <p:nvPr/>
          </p:nvPicPr>
          <p:blipFill>
            <a:blip r:embed="rId7"/>
            <a:stretch/>
          </p:blipFill>
          <p:spPr>
            <a:xfrm>
              <a:off x="2590920" y="3108240"/>
              <a:ext cx="140148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781360" y="3342960"/>
              <a:ext cx="9745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8"/>
          <p:cNvGrpSpPr/>
          <p:nvPr/>
        </p:nvGrpSpPr>
        <p:grpSpPr>
          <a:xfrm>
            <a:off x="5904000" y="1886040"/>
            <a:ext cx="1667880" cy="1576800"/>
            <a:chOff x="5904000" y="1886040"/>
            <a:chExt cx="1667880" cy="1576800"/>
          </a:xfrm>
        </p:grpSpPr>
        <p:pic>
          <p:nvPicPr>
            <p:cNvPr id="300" name="Picture 19" descr="Stakeholder-2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5904000" y="1886040"/>
              <a:ext cx="954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0"/>
            <p:cNvSpPr/>
            <p:nvPr/>
          </p:nvSpPr>
          <p:spPr>
            <a:xfrm>
              <a:off x="5995080" y="2534040"/>
              <a:ext cx="1576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rchit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Analy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ssign Activities</a:t>
              </a: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Flowchart: Process 36"/>
          <p:cNvGrpSpPr/>
          <p:nvPr/>
        </p:nvGrpSpPr>
        <p:grpSpPr>
          <a:xfrm>
            <a:off x="4670280" y="3003480"/>
            <a:ext cx="1403280" cy="1185480"/>
            <a:chOff x="4670280" y="3003480"/>
            <a:chExt cx="1403280" cy="1185480"/>
          </a:xfrm>
        </p:grpSpPr>
        <p:pic>
          <p:nvPicPr>
            <p:cNvPr id="303" name="Flowchart: Process 36" descr=""/>
            <p:cNvPicPr/>
            <p:nvPr/>
          </p:nvPicPr>
          <p:blipFill>
            <a:blip r:embed="rId9"/>
            <a:stretch/>
          </p:blipFill>
          <p:spPr>
            <a:xfrm>
              <a:off x="4670280" y="3003480"/>
              <a:ext cx="1403280" cy="11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860720" y="3260520"/>
              <a:ext cx="9748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-Case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306" name="Picture 5" descr="Developer_Woman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21"/>
          <p:cNvGrpSpPr/>
          <p:nvPr/>
        </p:nvGrpSpPr>
        <p:grpSpPr>
          <a:xfrm>
            <a:off x="4649760" y="765000"/>
            <a:ext cx="2089080" cy="1318320"/>
            <a:chOff x="4649760" y="765000"/>
            <a:chExt cx="2089080" cy="1318320"/>
          </a:xfrm>
        </p:grpSpPr>
        <p:pic>
          <p:nvPicPr>
            <p:cNvPr id="309" name="Picture 13" descr="Project-Manager"/>
            <p:cNvPicPr/>
            <p:nvPr/>
          </p:nvPicPr>
          <p:blipFill>
            <a:blip r:embed="rId11"/>
            <a:srcRect l="-4841" t="794" r="0" b="32943"/>
            <a:stretch/>
          </p:blipFill>
          <p:spPr>
            <a:xfrm>
              <a:off x="4649760" y="765000"/>
              <a:ext cx="99720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4"/>
            <p:cNvSpPr/>
            <p:nvPr/>
          </p:nvSpPr>
          <p:spPr>
            <a:xfrm>
              <a:off x="4684680" y="1395360"/>
              <a:ext cx="2054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and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rchitect is Use-Case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07:13:46Z</dcterms:created>
  <dc:creator>Mats Göthe</dc:creator>
  <dc:description/>
  <dc:language>en-US</dc:language>
  <cp:lastModifiedBy>rwmyers</cp:lastModifiedBy>
  <dcterms:modified xsi:type="dcterms:W3CDTF">2010-01-21T15:54:22Z</dcterms:modified>
  <cp:revision>166</cp:revision>
  <dc:subject/>
  <dc:title>ALM Demo </dc:title>
</cp:coreProperties>
</file>