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907588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5400" y="701280"/>
            <a:ext cx="500688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2"/>
          </p:nvPr>
        </p:nvSpPr>
        <p:spPr>
          <a:xfrm>
            <a:off x="947520" y="119160"/>
            <a:ext cx="5136840" cy="636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1 v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Netcool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Impac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amentals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3276720" y="8610120"/>
            <a:ext cx="2908080" cy="546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-</a:t>
            </a:r>
            <a:fld id="{9257E93E-D923-48CB-AAA6-642A0281975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1440" y="8991720"/>
            <a:ext cx="185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icromuse Inc., Micromuse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0120" y="428760"/>
            <a:ext cx="52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0120" y="8921880"/>
            <a:ext cx="529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01640"/>
            <a:ext cx="5006880" cy="34671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g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76720" y="8610120"/>
            <a:ext cx="2908080" cy="546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-</a:t>
            </a:r>
            <a:fld id="{29FD27BC-5FE7-4402-981B-2F9F5A97E8A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47520" y="119160"/>
            <a:ext cx="5136840" cy="636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1 v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Netcool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Impac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amentals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84240" y="695160"/>
            <a:ext cx="5024520" cy="3480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76720" y="8610120"/>
            <a:ext cx="2908080" cy="546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-</a:t>
            </a:r>
            <a:fld id="{4C2CBB17-758B-4CA3-8995-3098DA2ED46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47520" y="119160"/>
            <a:ext cx="5136840" cy="636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1 v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Netcool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Impac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amentals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84240" y="695160"/>
            <a:ext cx="5024520" cy="3480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76720" y="8610120"/>
            <a:ext cx="2908080" cy="546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-</a:t>
            </a:r>
            <a:fld id="{BD708A84-FD2D-466E-99FF-C8A74CA3762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47520" y="119160"/>
            <a:ext cx="5136840" cy="636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1 v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Netcool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Impac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amentals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400" y="837720"/>
            <a:ext cx="5030640" cy="7991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Questions and Lab</a:t>
            </a:r>
            <a:br>
              <a:rPr sz="1000"/>
            </a:b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Create the simple policy to test Command Response in Impa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.  Create an automated response to any diskspace low event that will go to that server and remove the typically runaway log file in /opt/myfile.log.  Insert an event into the objectserver with a Node equal to a server you can access, and with Summary like DIskspace full to t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8DEC-307A-4F5F-9074-A05B6051B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50E2-197D-46DE-A7FC-56B4271E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BAD2-65F3-4C38-B5AA-C150124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06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82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268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06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82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96A7-0135-44B3-81C9-770DEADA56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66680" y="649440"/>
            <a:ext cx="89330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9D8F-3C16-4E6F-BF1A-4BECEA35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06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82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268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06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82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6839E-0B8D-4EE8-BA08-D5EE466F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5BB9-A4F5-4DF4-8439-B7019D3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57B1D-2D89-413C-853E-5CAA9A30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46DF-0112-4E55-9C92-731C840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D3942-AD61-4069-AA42-DC61F14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2175-FE65-4474-AC2F-D080D271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6680" y="649440"/>
            <a:ext cx="89330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2CAA-B393-4AC8-ABEF-DD0B6280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EB5ED-7BBE-49D3-8753-1FAB842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F7C27-7A6B-4C7C-8565-7914407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E4F31-E2C8-4EA2-84B3-2A396A86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ACA61-C229-4DFA-B571-C35A2E2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F03CC-68D0-4CE7-AD11-FD726A74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06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82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8268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06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82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F3D84-1C20-4D53-B123-693F0E5C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211F6-3325-479B-B4A3-1692C947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EB819-D1E7-4FCE-BB0D-486EAB9C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85C14-A3DB-4BF9-A938-F70DCC48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10C7-F8BF-429E-AF57-2B527859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86475-080D-447A-A537-79270327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D658C-9663-4868-BE6D-7ED2DEF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6680" y="649440"/>
            <a:ext cx="89330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AA228-74BF-4DB9-9AF2-81855DC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44A05-1706-4315-ABF6-8329ED3D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EADFD-69AE-4ECC-8583-0DC550B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576AB-DF1B-4C7D-8CBE-C55403A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D21CA-19BC-40AF-95ED-9BE364F4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FF11D-5F4D-49AD-B9A6-6C78F5E3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06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82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268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06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82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8574B-965A-4967-84F4-63650CB9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E64AB-2982-4E5A-88A9-CA7E873B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3899-73D4-4D5C-8012-D07FE538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A9794-4B87-4D7A-97F8-3532874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5FA9E-F3A8-43D3-ADC8-5FCFF4C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7D598-1921-4033-A232-3CE8EF93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5911D-0712-495B-966A-B114EFD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66680" y="649440"/>
            <a:ext cx="89330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1CCD4-B756-4719-9DD0-82EB6F42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41579-A236-4999-B78A-4DD4E67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A1F8E-E225-4C7C-BEF7-0FD9351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D5673-5B28-42D5-A2C2-5FB9803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746B1-B938-46E5-A36D-DE62819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5C339-5472-4ED4-B223-82A1838A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6680" y="649440"/>
            <a:ext cx="89330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C8C2-0BDF-49DE-8BFA-13794109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06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8240" y="142668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268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06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8240" y="3465000"/>
            <a:ext cx="271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A3A00-D794-4BC3-93E1-71DC0391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D6CE-7E32-4D01-972D-B6FF09C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9080" y="346500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AB21-38A4-49F7-ACFC-E499071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9080" y="1426680"/>
            <a:ext cx="41104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2680" y="3465000"/>
            <a:ext cx="84232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9013-6E3C-4FA2-99E1-8C1BC7C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1560" indent="-22716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1560" indent="-227160"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1560" indent="-227160"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91200" y="6465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902880" cy="376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202440" y="6499080"/>
            <a:ext cx="3581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8 IBM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66680" y="6500520"/>
            <a:ext cx="10908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A787-0FEA-4185-A0F6-1758FC82AF0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909760" y="6500520"/>
            <a:ext cx="2109960" cy="2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7316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27010" r="0" b="52403"/>
          <a:stretch/>
        </p:blipFill>
        <p:spPr>
          <a:xfrm>
            <a:off x="0" y="0"/>
            <a:ext cx="9902880" cy="376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70280" y="52560"/>
            <a:ext cx="135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ivoli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9166320" y="61920"/>
            <a:ext cx="674640" cy="24768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1073160" y="12384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9200" y="1998720"/>
            <a:ext cx="86184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2880" cy="16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8151840" y="687240"/>
            <a:ext cx="1258920" cy="53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017800" y="1347480"/>
            <a:ext cx="0" cy="3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0" y="5162400"/>
            <a:ext cx="990288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842240" y="6248520"/>
            <a:ext cx="1776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8 IBM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9fb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  <a:p>
            <a:pPr lvl="1" marL="457200" indent="-227160" algn="ctr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00"/>
              </a:spcBef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00"/>
              </a:spcBef>
              <a:buClr>
                <a:srgbClr val="7889fb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2636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CCA-BD26-40FC-8031-567140AA8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600" y="2636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7BF-A703-4E6A-8A9F-B5C0CCCB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600" y="2636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D6A-2620-4108-A13C-C48407747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9200" y="1998720"/>
            <a:ext cx="86184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Module 7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18840" y="3484440"/>
            <a:ext cx="693396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9fb"/>
                </a:solidFill>
                <a:latin typeface="Arial"/>
              </a:rPr>
              <a:t>Generic Event Reader</a:t>
            </a:r>
            <a:endParaRPr b="1" lang="en-US" sz="3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eneric Event Reader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reader for data sources other than Object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DefaultEventReader service in policy execution, configuration (some differences), retur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uses EventContainer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 field analogous to Serial to receive new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 field analogous to StateChange to identify updated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8520" y="475920"/>
            <a:ext cx="89330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perations Performed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800" y="980640"/>
            <a:ext cx="8423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erEvent = NewEve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erEvent.&lt;field1&gt; = &lt;value_1&gt;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erEvent.&lt;fieldn&gt; = &lt;value_n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Event(ReaderEvent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Container.&lt;field1&gt; = &lt;new_value_1&gt;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Container.&lt;fieldn&gt; = &lt;new_value_n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Event(EventContainer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DeleteEvent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668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ngs to lookout for.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the table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ing the fil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560" y="649440"/>
            <a:ext cx="89330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reating and Configuring a new Generic Event Reader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2880" y="1426680"/>
            <a:ext cx="8423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 and Data Type(s) must pre-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88880" y="2852640"/>
            <a:ext cx="5133960" cy="2990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248440" y="3429000"/>
            <a:ext cx="4657680" cy="2952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72880" y="1844640"/>
            <a:ext cx="2781360" cy="781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1928520" y="2276640"/>
            <a:ext cx="431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82680" y="1426680"/>
            <a:ext cx="8423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LAB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Event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05120" y="3429000"/>
            <a:ext cx="1944720" cy="183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/>
  <dc:description/>
  <dc:language>en-US</dc:language>
  <cp:lastModifiedBy>Becky Anderson</cp:lastModifiedBy>
  <cp:lastPrinted>2002-06-17T05:40:18Z</cp:lastPrinted>
  <dcterms:modified xsi:type="dcterms:W3CDTF">2008-06-29T22:57:56Z</dcterms:modified>
  <cp:revision>132</cp:revision>
  <dc:subject/>
  <dc:title>Module 7</dc:title>
</cp:coreProperties>
</file>