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6E52-3C5A-4BD5-9EC4-492ECD459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12760" y="3787920"/>
            <a:ext cx="75772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1EB94-A7D0-4CE3-98B3-843043507A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12760" y="37879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5720" y="37879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7C597-6E18-4E63-A477-E6CF4A964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4880" y="14983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37000" y="14983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12760" y="37879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4880" y="37879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37000" y="37879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73818-FC87-4B8C-B8D9-8ADB5453E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4080" y="706320"/>
            <a:ext cx="84232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2760" y="37879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65309-0CBA-46FD-ABF3-793D12723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95720" y="37879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2760" y="3787920"/>
            <a:ext cx="75772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2760" y="3787920"/>
            <a:ext cx="75772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2760" y="37879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95720" y="37879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74880" y="14983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37000" y="14983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2760" y="37879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74880" y="37879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37000" y="3787920"/>
            <a:ext cx="243972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7520-0E47-4F1B-80A0-53C7B63E6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5241-9DF5-46B1-8CDC-22774413E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8D61-4607-4707-81E4-C26639A95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4080" y="706320"/>
            <a:ext cx="84232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2AF4-774A-467E-8E4D-FEA5024B3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12760" y="37879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1D73-C257-40E9-B81F-6B8D47A47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5720" y="37879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E7FF-772B-4EA1-80F7-5F2C054F5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276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5720" y="1498320"/>
            <a:ext cx="369756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12760" y="3787920"/>
            <a:ext cx="757728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818B-E99E-4439-8E88-4D2657DCA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706320"/>
            <a:ext cx="8423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2760" y="1498320"/>
            <a:ext cx="75772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3969ae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3969ae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3969a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240" y="6566040"/>
            <a:ext cx="3970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6BCF-6BF5-45F3-8A11-F1B67864CBF1}" type="slidenum">
              <a:rPr b="1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440360" y="193680"/>
            <a:ext cx="2632680" cy="328680"/>
            <a:chOff x="1440360" y="193680"/>
            <a:chExt cx="2632680" cy="328680"/>
          </a:xfrm>
        </p:grpSpPr>
        <p:sp>
          <p:nvSpPr>
            <p:cNvPr id="4" name=""/>
            <p:cNvSpPr/>
            <p:nvPr/>
          </p:nvSpPr>
          <p:spPr>
            <a:xfrm>
              <a:off x="1440360" y="193680"/>
              <a:ext cx="263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duct Lifecycle Man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47920" y="287280"/>
              <a:ext cx="0" cy="23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"/>
          <p:cNvSpPr/>
          <p:nvPr/>
        </p:nvSpPr>
        <p:spPr>
          <a:xfrm rot="16200000">
            <a:off x="8078760" y="331272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3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06640" y="39852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roduct Lifecycle Manag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63720" y="4217760"/>
            <a:ext cx="0" cy="9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1862280" y="473040"/>
            <a:ext cx="0" cy="331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8078760" y="3312720"/>
            <a:ext cx="191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3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95760" y="3236760"/>
            <a:ext cx="1676520" cy="9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a9c0d9"/>
                </a:solidFill>
                <a:latin typeface="Verdana"/>
              </a:rPr>
              <a:t>SMAR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9c0d9"/>
                </a:solidFill>
                <a:latin typeface="Tahoma"/>
              </a:rPr>
              <a:t>Product Knowled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9c0d9"/>
                </a:solidFill>
                <a:latin typeface="Tahoma"/>
              </a:rPr>
              <a:t>&amp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9c0d9"/>
                </a:solidFill>
                <a:latin typeface="Tahoma"/>
              </a:rPr>
              <a:t>Business Pro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9c0d9"/>
                </a:solidFill>
                <a:latin typeface="Tahoma"/>
              </a:rPr>
              <a:t>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95680" y="3162240"/>
            <a:ext cx="885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Marke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Inp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7920" y="2733840"/>
            <a:ext cx="8859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Conce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8280" y="2552760"/>
            <a:ext cx="88560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57640" y="2800440"/>
            <a:ext cx="8859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Sourc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3640" y="3238560"/>
            <a:ext cx="97164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Prototy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23920" y="3143160"/>
            <a:ext cx="1371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914640"/>
            <a:ext cx="18860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&amp; Asset Lifecyc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Management (AL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2333520"/>
            <a:ext cx="1371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roduct Knowledge Reu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71800" y="1762200"/>
            <a:ext cx="137160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Engineering Change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95920" y="2171880"/>
            <a:ext cx="1371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RFP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43720" y="2695680"/>
            <a:ext cx="13716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Supplier Relationship Management (SR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29560" y="3662280"/>
            <a:ext cx="1371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Project Collabo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58040" y="4448160"/>
            <a:ext cx="1552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Digital Manufacturing Suppo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0000" y="1847880"/>
            <a:ext cx="1371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Collaborative Desig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943520"/>
            <a:ext cx="1552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Quality Assurance &amp; Standards Compli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48200" y="5391000"/>
            <a:ext cx="155268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Bidding &amp; RFQ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76600" y="5315040"/>
            <a:ext cx="155268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Shipping &amp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fter S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52680" y="4800600"/>
            <a:ext cx="155232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ssues Manag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24400" y="3848040"/>
            <a:ext cx="130500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BOM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Planning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96000" y="4419720"/>
            <a:ext cx="11332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Manufactu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0200" y="4629240"/>
            <a:ext cx="79992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S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4880" y="4390920"/>
            <a:ext cx="9046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Order Fulfill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38440" y="3914640"/>
            <a:ext cx="905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Tahoma"/>
              </a:rPr>
              <a:t>After-Sales 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609480"/>
            <a:ext cx="7391520" cy="7333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badc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20c80"/>
                </a:solidFill>
                <a:latin typeface="Arial"/>
              </a:rPr>
              <a:t>SMARTEAM provides a powerful platform for implementing best practices across the product lifecycle, enabling CATIA users to leverage their CAD and related product knowledge to optimize business proces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DF53-49B0-4433-95B2-7C48B862FF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2:08:18Z</dcterms:created>
  <dc:creator>IBM User</dc:creator>
  <dc:description/>
  <dc:language>en-US</dc:language>
  <cp:lastModifiedBy>IBM_USER</cp:lastModifiedBy>
  <dcterms:modified xsi:type="dcterms:W3CDTF">2004-01-28T18:38:02Z</dcterms:modified>
  <cp:revision>93</cp:revision>
  <dc:subject/>
  <dc:title>Fabrication &amp; Assembly Industrial Machinery &amp; Mobile Equip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04763525</vt:r8>
  </property>
  <property fmtid="{D5CDD505-2E9C-101B-9397-08002B2CF9AE}" pid="3" name="_AuthorEmail">
    <vt:lpwstr>Shelli.Zargary@smarteam.com</vt:lpwstr>
  </property>
  <property fmtid="{D5CDD505-2E9C-101B-9397-08002B2CF9AE}" pid="4" name="_AuthorEmailDisplayName">
    <vt:lpwstr>Shelli Zargary</vt:lpwstr>
  </property>
  <property fmtid="{D5CDD505-2E9C-101B-9397-08002B2CF9AE}" pid="5" name="_EmailSubject">
    <vt:lpwstr>retention campaign revised.ppt</vt:lpwstr>
  </property>
  <property fmtid="{D5CDD505-2E9C-101B-9397-08002B2CF9AE}" pid="6" name="_ReviewingToolsShownOnce">
    <vt:lpwstr/>
  </property>
</Properties>
</file>