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45.png" ContentType="image/png"/>
  <Override PartName="/ppt/media/image37.jpeg" ContentType="image/jpeg"/>
  <Override PartName="/ppt/media/image13.png" ContentType="image/png"/>
  <Override PartName="/ppt/media/image38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2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3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698-0F7C-4E94-8904-FFE656CA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594-5437-4770-A33E-AFCF8178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111-4457-49D8-B03B-A2443125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C15-1A61-4117-9379-ACF770B6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524-AD1E-4DE3-81FF-FF846700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F3D-9E23-495C-9073-75148F8D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7D2-802A-4865-A31C-3790C43D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354-E4EC-4D97-8A43-E36F1066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FEA-8095-491B-9DA4-563F8AD8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FE8-D48A-4DBA-B16F-9FC494EF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0E8-30FE-486C-8E18-E936BCDE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DA1-4D7E-48C6-9F42-D9CA658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426B-7333-4154-BC33-48202D31A43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200" y="6480"/>
            <a:ext cx="1362240" cy="7692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50960" y="330120"/>
            <a:ext cx="839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9.jpeg"/><Relationship Id="rId21" Type="http://schemas.openxmlformats.org/officeDocument/2006/relationships/image" Target="../media/image40.jpeg"/><Relationship Id="rId22" Type="http://schemas.openxmlformats.org/officeDocument/2006/relationships/image" Target="../media/image41.jpeg"/><Relationship Id="rId23" Type="http://schemas.openxmlformats.org/officeDocument/2006/relationships/image" Target="../media/image42.jpe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200" y="6480"/>
            <a:ext cx="6720120" cy="769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0200" y="711360"/>
            <a:ext cx="7518240" cy="11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SmarTeam for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Arial Black"/>
              </a:rPr>
              <a:t>Resul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30840" y="5692680"/>
            <a:ext cx="42717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Arial"/>
              </a:rPr>
              <a:t>IBM PL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Arial"/>
              </a:rPr>
              <a:t>August 2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58880" y="2768760"/>
            <a:ext cx="748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283"/>
                </a:solidFill>
                <a:latin typeface="Arial Black"/>
              </a:rPr>
              <a:t>For Latest Information Visit www.ibm.com/solutions/plm/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620720" y="43848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LM Marketpl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348000" y="920880"/>
            <a:ext cx="5111640" cy="4960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610080" y="7275600"/>
            <a:ext cx="48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Morgan Stan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1640" y="6593040"/>
            <a:ext cx="411120" cy="326880"/>
          </a:xfrm>
          <a:custGeom>
            <a:avLst/>
            <a:gdLst/>
            <a:ahLst/>
            <a:rect l="l" t="t" r="r" b="b"/>
            <a:pathLst>
              <a:path w="259" h="206">
                <a:moveTo>
                  <a:pt x="259" y="0"/>
                </a:moveTo>
                <a:lnTo>
                  <a:pt x="195" y="0"/>
                </a:lnTo>
                <a:lnTo>
                  <a:pt x="58" y="106"/>
                </a:lnTo>
                <a:lnTo>
                  <a:pt x="0" y="206"/>
                </a:lnTo>
                <a:close/>
              </a:path>
            </a:pathLst>
          </a:custGeom>
          <a:solidFill>
            <a:srgbClr val="4040d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0200" y="6551640"/>
            <a:ext cx="187200" cy="369720"/>
          </a:xfrm>
          <a:custGeom>
            <a:avLst/>
            <a:gdLst/>
            <a:ahLst/>
            <a:rect l="l" t="t" r="r" b="b"/>
            <a:pathLst>
              <a:path w="118" h="233">
                <a:moveTo>
                  <a:pt x="34" y="117"/>
                </a:moveTo>
                <a:lnTo>
                  <a:pt x="0" y="233"/>
                </a:lnTo>
                <a:lnTo>
                  <a:pt x="48" y="163"/>
                </a:lnTo>
                <a:lnTo>
                  <a:pt x="118" y="0"/>
                </a:lnTo>
                <a:lnTo>
                  <a:pt x="20" y="56"/>
                </a:lnTo>
                <a:close/>
              </a:path>
            </a:pathLst>
          </a:custGeom>
          <a:solidFill>
            <a:srgbClr val="4040d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33720" y="6264360"/>
            <a:ext cx="419040" cy="328680"/>
          </a:xfrm>
          <a:custGeom>
            <a:avLst/>
            <a:gdLst/>
            <a:ahLst/>
            <a:rect l="l" t="t" r="r" b="b"/>
            <a:pathLst>
              <a:path w="264" h="207">
                <a:moveTo>
                  <a:pt x="264" y="207"/>
                </a:moveTo>
                <a:lnTo>
                  <a:pt x="200" y="207"/>
                </a:lnTo>
                <a:lnTo>
                  <a:pt x="63" y="101"/>
                </a:lnTo>
                <a:lnTo>
                  <a:pt x="0" y="0"/>
                </a:lnTo>
                <a:close/>
              </a:path>
            </a:pathLst>
          </a:custGeom>
          <a:solidFill>
            <a:srgbClr val="4040d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0280" y="6448320"/>
            <a:ext cx="133200" cy="304920"/>
          </a:xfrm>
          <a:custGeom>
            <a:avLst/>
            <a:gdLst/>
            <a:ahLst/>
            <a:rect l="l" t="t" r="r" b="b"/>
            <a:pathLst>
              <a:path w="84" h="192">
                <a:moveTo>
                  <a:pt x="0" y="192"/>
                </a:moveTo>
                <a:lnTo>
                  <a:pt x="84" y="133"/>
                </a:lnTo>
                <a:lnTo>
                  <a:pt x="82" y="41"/>
                </a:lnTo>
                <a:lnTo>
                  <a:pt x="0" y="0"/>
                </a:lnTo>
                <a:close/>
              </a:path>
            </a:pathLst>
          </a:custGeom>
          <a:solidFill>
            <a:srgbClr val="4040d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35160" y="6264360"/>
            <a:ext cx="187560" cy="365040"/>
          </a:xfrm>
          <a:custGeom>
            <a:avLst/>
            <a:gdLst/>
            <a:ahLst/>
            <a:rect l="l" t="t" r="r" b="b"/>
            <a:pathLst>
              <a:path w="118" h="230">
                <a:moveTo>
                  <a:pt x="35" y="116"/>
                </a:moveTo>
                <a:lnTo>
                  <a:pt x="0" y="0"/>
                </a:lnTo>
                <a:lnTo>
                  <a:pt x="46" y="70"/>
                </a:lnTo>
                <a:lnTo>
                  <a:pt x="118" y="230"/>
                </a:lnTo>
                <a:lnTo>
                  <a:pt x="19" y="177"/>
                </a:lnTo>
                <a:close/>
              </a:path>
            </a:pathLst>
          </a:custGeom>
          <a:solidFill>
            <a:srgbClr val="4040d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71720" y="6448320"/>
            <a:ext cx="306360" cy="58680"/>
          </a:xfrm>
          <a:custGeom>
            <a:avLst/>
            <a:gdLst/>
            <a:ahLst/>
            <a:rect l="l" t="t" r="r" b="b"/>
            <a:pathLst>
              <a:path w="193" h="37">
                <a:moveTo>
                  <a:pt x="0" y="0"/>
                </a:moveTo>
                <a:lnTo>
                  <a:pt x="137" y="0"/>
                </a:lnTo>
                <a:lnTo>
                  <a:pt x="193" y="37"/>
                </a:lnTo>
                <a:lnTo>
                  <a:pt x="31" y="30"/>
                </a:lnTo>
                <a:close/>
              </a:path>
            </a:pathLst>
          </a:custGeom>
          <a:solidFill>
            <a:srgbClr val="4040d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70280" y="6689880"/>
            <a:ext cx="314280" cy="63360"/>
          </a:xfrm>
          <a:custGeom>
            <a:avLst/>
            <a:gdLst/>
            <a:ahLst/>
            <a:rect l="l" t="t" r="r" b="b"/>
            <a:pathLst>
              <a:path w="198" h="40">
                <a:moveTo>
                  <a:pt x="0" y="40"/>
                </a:moveTo>
                <a:lnTo>
                  <a:pt x="138" y="40"/>
                </a:lnTo>
                <a:lnTo>
                  <a:pt x="198" y="0"/>
                </a:lnTo>
                <a:lnTo>
                  <a:pt x="40" y="0"/>
                </a:lnTo>
                <a:close/>
              </a:path>
            </a:pathLst>
          </a:custGeom>
          <a:solidFill>
            <a:srgbClr val="4040d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00520" y="6367320"/>
            <a:ext cx="490320" cy="46044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309" y="142"/>
                </a:moveTo>
                <a:lnTo>
                  <a:pt x="128" y="0"/>
                </a:lnTo>
                <a:lnTo>
                  <a:pt x="148" y="71"/>
                </a:lnTo>
                <a:lnTo>
                  <a:pt x="0" y="71"/>
                </a:lnTo>
                <a:lnTo>
                  <a:pt x="0" y="224"/>
                </a:lnTo>
                <a:lnTo>
                  <a:pt x="148" y="224"/>
                </a:lnTo>
                <a:lnTo>
                  <a:pt x="128" y="290"/>
                </a:lnTo>
                <a:lnTo>
                  <a:pt x="309" y="142"/>
                </a:lnTo>
                <a:close/>
              </a:path>
            </a:pathLst>
          </a:custGeom>
          <a:solidFill>
            <a:srgbClr val="4040d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46480" y="1025640"/>
            <a:ext cx="5332320" cy="501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6391440"/>
            <a:ext cx="6435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BM/DS is the PLM marketshare lead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620720" y="311040"/>
            <a:ext cx="80568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LM Marketplace - spl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72000" y="1739880"/>
            <a:ext cx="2892240" cy="408456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72000" y="5796000"/>
            <a:ext cx="28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72000" y="1739880"/>
            <a:ext cx="2892240" cy="407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95840" y="4906800"/>
            <a:ext cx="1199880" cy="903600"/>
          </a:xfrm>
          <a:prstGeom prst="rect">
            <a:avLst/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27560" y="4606920"/>
            <a:ext cx="1201680" cy="1203480"/>
          </a:xfrm>
          <a:prstGeom prst="rect">
            <a:avLst/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95840" y="4799160"/>
            <a:ext cx="1199880" cy="122040"/>
          </a:xfrm>
          <a:prstGeom prst="rect">
            <a:avLst/>
          </a:prstGeom>
          <a:solidFill>
            <a:srgbClr val="ffffa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27560" y="4471920"/>
            <a:ext cx="1201680" cy="149400"/>
          </a:xfrm>
          <a:prstGeom prst="rect">
            <a:avLst/>
          </a:prstGeom>
          <a:solidFill>
            <a:srgbClr val="ffffa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95840" y="4525920"/>
            <a:ext cx="1199880" cy="287280"/>
          </a:xfrm>
          <a:prstGeom prst="rect">
            <a:avLst/>
          </a:prstGeom>
          <a:solidFill>
            <a:srgbClr val="bcffb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27560" y="4089240"/>
            <a:ext cx="1201680" cy="395280"/>
          </a:xfrm>
          <a:prstGeom prst="rect">
            <a:avLst/>
          </a:prstGeom>
          <a:solidFill>
            <a:srgbClr val="bcffb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95840" y="4116240"/>
            <a:ext cx="1199880" cy="424080"/>
          </a:xfrm>
          <a:prstGeom prst="rect">
            <a:avLst/>
          </a:prstGeom>
          <a:solidFill>
            <a:srgbClr val="00b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27560" y="3543480"/>
            <a:ext cx="1201680" cy="558720"/>
          </a:xfrm>
          <a:prstGeom prst="rect">
            <a:avLst/>
          </a:prstGeom>
          <a:solidFill>
            <a:srgbClr val="00b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95840" y="3925800"/>
            <a:ext cx="1199880" cy="204840"/>
          </a:xfrm>
          <a:prstGeom prst="rect">
            <a:avLst/>
          </a:prstGeom>
          <a:solidFill>
            <a:srgbClr val="107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27560" y="2600280"/>
            <a:ext cx="1201680" cy="955800"/>
          </a:xfrm>
          <a:prstGeom prst="rect">
            <a:avLst/>
          </a:prstGeom>
          <a:solidFill>
            <a:srgbClr val="107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95840" y="3789360"/>
            <a:ext cx="1199880" cy="149400"/>
          </a:xfrm>
          <a:prstGeom prst="rect">
            <a:avLst/>
          </a:prstGeom>
          <a:solidFill>
            <a:srgbClr val="000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27560" y="2000160"/>
            <a:ext cx="1201680" cy="614520"/>
          </a:xfrm>
          <a:prstGeom prst="rect">
            <a:avLst/>
          </a:prstGeom>
          <a:solidFill>
            <a:srgbClr val="000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24240" y="3808440"/>
            <a:ext cx="373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$1,2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56320" y="2019240"/>
            <a:ext cx="37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$5,1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24240" y="3944880"/>
            <a:ext cx="373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$1,6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6320" y="2620800"/>
            <a:ext cx="37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$8,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24240" y="4137120"/>
            <a:ext cx="373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$3,54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56320" y="3562200"/>
            <a:ext cx="37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$4,74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24240" y="4545000"/>
            <a:ext cx="373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2,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56320" y="4108320"/>
            <a:ext cx="37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3,23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80040" y="4792680"/>
            <a:ext cx="27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9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56320" y="4491000"/>
            <a:ext cx="37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,16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24240" y="4929120"/>
            <a:ext cx="373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7,7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24640" y="4621320"/>
            <a:ext cx="44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0,3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03720" y="5918040"/>
            <a:ext cx="44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37240" y="5918040"/>
            <a:ext cx="43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672000" y="1739520"/>
            <a:ext cx="0" cy="405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1240" y="5692680"/>
            <a:ext cx="21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51240" y="5119560"/>
            <a:ext cx="21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55840" y="4532400"/>
            <a:ext cx="32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43240" y="3959280"/>
            <a:ext cx="32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55840" y="3371760"/>
            <a:ext cx="32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43240" y="2797200"/>
            <a:ext cx="32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55840" y="2209680"/>
            <a:ext cx="32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43240" y="1638360"/>
            <a:ext cx="32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98680" y="380520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49840" y="6054840"/>
            <a:ext cx="2879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71880" y="6137280"/>
            <a:ext cx="136440" cy="150840"/>
          </a:xfrm>
          <a:prstGeom prst="rect">
            <a:avLst/>
          </a:prstGeom>
          <a:solidFill>
            <a:srgbClr val="0000c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71880" y="613728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83200" y="6143760"/>
            <a:ext cx="9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ftware - P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71880" y="6315120"/>
            <a:ext cx="136440" cy="149040"/>
          </a:xfrm>
          <a:prstGeom prst="rect">
            <a:avLst/>
          </a:prstGeom>
          <a:solidFill>
            <a:srgbClr val="1079ff"/>
          </a:solidFill>
          <a:ln w="12600">
            <a:solidFill>
              <a:srgbClr val="10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71880" y="631512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83200" y="632160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 - P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71880" y="6492960"/>
            <a:ext cx="136440" cy="149040"/>
          </a:xfrm>
          <a:prstGeom prst="rect">
            <a:avLst/>
          </a:prstGeom>
          <a:solidFill>
            <a:srgbClr val="00b400"/>
          </a:solidFill>
          <a:ln w="12600">
            <a:solidFill>
              <a:srgbClr val="00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71880" y="6492960"/>
            <a:ext cx="1364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83200" y="6499080"/>
            <a:ext cx="108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ftware - M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51400" y="6137280"/>
            <a:ext cx="136440" cy="1508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51400" y="613728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60920" y="6143760"/>
            <a:ext cx="106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 - M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51400" y="6315120"/>
            <a:ext cx="136440" cy="149040"/>
          </a:xfrm>
          <a:prstGeom prst="rect">
            <a:avLst/>
          </a:prstGeom>
          <a:solidFill>
            <a:srgbClr val="ffffa4"/>
          </a:solidFill>
          <a:ln w="12600">
            <a:solidFill>
              <a:srgbClr val="ffff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51400" y="631512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0920" y="6321600"/>
            <a:ext cx="930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 - H/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51400" y="6492960"/>
            <a:ext cx="136440" cy="149040"/>
          </a:xfrm>
          <a:prstGeom prst="rect">
            <a:avLst/>
          </a:prstGeom>
          <a:solidFill>
            <a:srgbClr val="d2d2d2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51400" y="6492960"/>
            <a:ext cx="1364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60920" y="649908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24120" y="1131840"/>
            <a:ext cx="4740480" cy="57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48040" y="1125360"/>
            <a:ext cx="4587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M Market Opport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005440" y="4446360"/>
            <a:ext cx="255600" cy="34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975200" y="3558960"/>
            <a:ext cx="231840" cy="56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975200" y="2022120"/>
            <a:ext cx="243000" cy="18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62880" y="1687680"/>
            <a:ext cx="60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24720" y="2022480"/>
            <a:ext cx="503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10040" y="3409920"/>
            <a:ext cx="836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7,3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21240" y="1692360"/>
            <a:ext cx="8352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32,7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55720" y="7164360"/>
            <a:ext cx="524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PDM - CIM data,CAD - dataquest,  Hardware - IBM Market Intelligence. Company financial 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879720" y="4897440"/>
            <a:ext cx="3484800" cy="536400"/>
          </a:xfrm>
          <a:prstGeom prst="rect">
            <a:avLst/>
          </a:prstGeom>
          <a:gradFill rotWithShape="0">
            <a:gsLst>
              <a:gs pos="0">
                <a:srgbClr val="e882ff"/>
              </a:gs>
              <a:gs pos="50000">
                <a:srgbClr val="400097"/>
              </a:gs>
              <a:gs pos="100000">
                <a:srgbClr val="e882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59080" y="6769080"/>
            <a:ext cx="88920" cy="512640"/>
          </a:xfrm>
          <a:custGeom>
            <a:avLst/>
            <a:gdLst/>
            <a:ahLst/>
            <a:rect l="l" t="t" r="r" b="b"/>
            <a:pathLst>
              <a:path w="56" h="323">
                <a:moveTo>
                  <a:pt x="0" y="56"/>
                </a:moveTo>
                <a:lnTo>
                  <a:pt x="0" y="323"/>
                </a:lnTo>
                <a:lnTo>
                  <a:pt x="56" y="179"/>
                </a:lnTo>
                <a:lnTo>
                  <a:pt x="56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57640" y="6383160"/>
            <a:ext cx="898560" cy="901800"/>
          </a:xfrm>
          <a:custGeom>
            <a:avLst/>
            <a:gdLst/>
            <a:ahLst/>
            <a:rect l="l" t="t" r="r" b="b"/>
            <a:pathLst>
              <a:path w="566" h="568">
                <a:moveTo>
                  <a:pt x="476" y="0"/>
                </a:moveTo>
                <a:lnTo>
                  <a:pt x="566" y="0"/>
                </a:lnTo>
                <a:lnTo>
                  <a:pt x="0" y="568"/>
                </a:lnTo>
                <a:lnTo>
                  <a:pt x="57" y="41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93880" y="5877000"/>
            <a:ext cx="93600" cy="985680"/>
          </a:xfrm>
          <a:custGeom>
            <a:avLst/>
            <a:gdLst/>
            <a:ahLst/>
            <a:rect l="l" t="t" r="r" b="b"/>
            <a:pathLst>
              <a:path w="59" h="621">
                <a:moveTo>
                  <a:pt x="0" y="0"/>
                </a:moveTo>
                <a:lnTo>
                  <a:pt x="0" y="621"/>
                </a:lnTo>
                <a:lnTo>
                  <a:pt x="59" y="562"/>
                </a:lnTo>
                <a:lnTo>
                  <a:pt x="59" y="5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93880" y="5877000"/>
            <a:ext cx="1554120" cy="92160"/>
          </a:xfrm>
          <a:custGeom>
            <a:avLst/>
            <a:gdLst/>
            <a:ahLst/>
            <a:rect l="l" t="t" r="r" b="b"/>
            <a:pathLst>
              <a:path w="979" h="58">
                <a:moveTo>
                  <a:pt x="0" y="0"/>
                </a:moveTo>
                <a:lnTo>
                  <a:pt x="925" y="0"/>
                </a:lnTo>
                <a:lnTo>
                  <a:pt x="979" y="58"/>
                </a:lnTo>
                <a:lnTo>
                  <a:pt x="57" y="58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59080" y="5484960"/>
            <a:ext cx="87480" cy="484200"/>
          </a:xfrm>
          <a:custGeom>
            <a:avLst/>
            <a:gdLst/>
            <a:ahLst/>
            <a:rect l="l" t="t" r="r" b="b"/>
            <a:pathLst>
              <a:path w="55" h="305">
                <a:moveTo>
                  <a:pt x="0" y="251"/>
                </a:moveTo>
                <a:lnTo>
                  <a:pt x="0" y="0"/>
                </a:lnTo>
                <a:lnTo>
                  <a:pt x="55" y="119"/>
                </a:lnTo>
                <a:lnTo>
                  <a:pt x="55" y="305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59080" y="5479920"/>
            <a:ext cx="900000" cy="903240"/>
          </a:xfrm>
          <a:custGeom>
            <a:avLst/>
            <a:gdLst/>
            <a:ahLst/>
            <a:rect l="l" t="t" r="r" b="b"/>
            <a:pathLst>
              <a:path w="567" h="569">
                <a:moveTo>
                  <a:pt x="481" y="569"/>
                </a:moveTo>
                <a:lnTo>
                  <a:pt x="567" y="569"/>
                </a:lnTo>
                <a:lnTo>
                  <a:pt x="0" y="0"/>
                </a:lnTo>
                <a:lnTo>
                  <a:pt x="55" y="142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93880" y="6769080"/>
            <a:ext cx="1557360" cy="92160"/>
          </a:xfrm>
          <a:custGeom>
            <a:avLst/>
            <a:gdLst/>
            <a:ahLst/>
            <a:rect l="l" t="t" r="r" b="b"/>
            <a:pathLst>
              <a:path w="981" h="58">
                <a:moveTo>
                  <a:pt x="0" y="58"/>
                </a:moveTo>
                <a:lnTo>
                  <a:pt x="981" y="58"/>
                </a:lnTo>
                <a:lnTo>
                  <a:pt x="981" y="0"/>
                </a:lnTo>
                <a:lnTo>
                  <a:pt x="57" y="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93880" y="5873760"/>
            <a:ext cx="1465200" cy="987480"/>
          </a:xfrm>
          <a:custGeom>
            <a:avLst/>
            <a:gdLst/>
            <a:ahLst/>
            <a:rect l="l" t="t" r="r" b="b"/>
            <a:pathLst>
              <a:path w="923" h="622">
                <a:moveTo>
                  <a:pt x="0" y="622"/>
                </a:moveTo>
                <a:lnTo>
                  <a:pt x="0" y="0"/>
                </a:lnTo>
                <a:lnTo>
                  <a:pt x="923" y="0"/>
                </a:lnTo>
              </a:path>
            </a:pathLst>
          </a:custGeom>
          <a:noFill/>
          <a:ln w="25560">
            <a:solidFill>
              <a:srgbClr val="00b0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84240" y="5702400"/>
            <a:ext cx="2148120" cy="1366560"/>
          </a:xfrm>
          <a:custGeom>
            <a:avLst/>
            <a:gdLst/>
            <a:ahLst/>
            <a:rect l="l" t="t" r="r" b="b"/>
            <a:pathLst>
              <a:path w="1353" h="861">
                <a:moveTo>
                  <a:pt x="919" y="672"/>
                </a:moveTo>
                <a:lnTo>
                  <a:pt x="919" y="861"/>
                </a:lnTo>
                <a:lnTo>
                  <a:pt x="1353" y="428"/>
                </a:lnTo>
                <a:lnTo>
                  <a:pt x="921" y="0"/>
                </a:lnTo>
                <a:lnTo>
                  <a:pt x="921" y="168"/>
                </a:lnTo>
                <a:lnTo>
                  <a:pt x="0" y="168"/>
                </a:lnTo>
                <a:lnTo>
                  <a:pt x="0" y="672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90720" y="5970600"/>
            <a:ext cx="1454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87480" y="5972040"/>
            <a:ext cx="0" cy="793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57640" y="5494320"/>
            <a:ext cx="0" cy="379440"/>
          </a:xfrm>
          <a:prstGeom prst="line">
            <a:avLst/>
          </a:prstGeom>
          <a:ln w="25560">
            <a:solidFill>
              <a:srgbClr val="00b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0720" y="43848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LM Market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9"/>
          <a:stretch/>
        </p:blipFill>
        <p:spPr>
          <a:xfrm>
            <a:off x="1658880" y="1790640"/>
            <a:ext cx="4113360" cy="29448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5713560" y="1495440"/>
            <a:ext cx="4329000" cy="34624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4416480" y="5911560"/>
            <a:ext cx="49399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MCAD growth : 6% / Yea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DM  growth  :  34% / Yea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37760" y="7300800"/>
            <a:ext cx="635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 : DS Annual Report, Dataquest, IBM GMV, IBM-DS industry Tea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00600" y="5997240"/>
            <a:ext cx="14029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01-200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47120" y="4997520"/>
            <a:ext cx="313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all market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4320" y="1027080"/>
            <a:ext cx="4381560" cy="536760"/>
          </a:xfrm>
          <a:prstGeom prst="rect">
            <a:avLst/>
          </a:prstGeom>
          <a:gradFill rotWithShape="0">
            <a:gsLst>
              <a:gs pos="0">
                <a:srgbClr val="e882ff"/>
              </a:gs>
              <a:gs pos="50000">
                <a:srgbClr val="400097"/>
              </a:gs>
              <a:gs pos="100000">
                <a:srgbClr val="e882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607560" y="1127160"/>
            <a:ext cx="406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BM PLM market break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620720" y="43848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ain Chain Ele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66800" y="1495440"/>
            <a:ext cx="796284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Inefficient collaborati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cross multiple sites &amp; geograph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llaboration difficulties across the </a:t>
            </a: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design cha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cessive cost of working with </a:t>
            </a: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suppliers and contract sho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cessive </a:t>
            </a: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rework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due to poor impact &amp; change manag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tegration of </a:t>
            </a: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multiple disciplin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- mechanical, electrical, et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adline pressures (penalti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mely introduction of </a:t>
            </a: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new technologi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nto produc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voidable cost of </a:t>
            </a: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duplicate par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reation and administra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anual methods of </a:t>
            </a: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transferring inform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 indent="-17964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fficiency, errors, lost documents, paper cos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overhead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due to multiple systems/applications/da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warrant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os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Securit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exposures and viol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oor collaboration with </a:t>
            </a: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custom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st of compliance with federal and other </a:t>
            </a: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standar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ability to penetrate new markets or grow existing marke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voidable Co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25720" y="2082960"/>
            <a:ext cx="4714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lnSpc>
                <a:spcPct val="100000"/>
              </a:lnSpc>
              <a:spcAft>
                <a:spcPts val="41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ect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64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 lia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797040" indent="-1098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arranty cos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64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ventory scrap/rewo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797040" indent="-1098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ield, finished goods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797040" indent="-1098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 in progress, st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64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pecial ord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64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797040" indent="-1098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sign, analysis, generation of NC progra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797040" indent="-1098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04840" indent="-9036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lds/dies/fixtures/castin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04840" indent="-9036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64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cading effec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18040" y="2082960"/>
            <a:ext cx="3868920" cy="18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lnSpc>
                <a:spcPct val="100000"/>
              </a:lnSpc>
              <a:spcAft>
                <a:spcPts val="41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17784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ustomer dissatisfa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17784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oss of market sha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17784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ssed windows of opportun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17784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blic rel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17784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mployee mor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620720" y="43848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LM Solutions : Value Cha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728720" y="990720"/>
            <a:ext cx="8313840" cy="51465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744560" y="6181560"/>
            <a:ext cx="7823160" cy="13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4880" indent="-4348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PLM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4880" indent="-434880">
              <a:lnSpc>
                <a:spcPct val="100000"/>
              </a:lnSpc>
              <a:spcAft>
                <a:spcPts val="388"/>
              </a:spcAft>
              <a:buClr>
                <a:srgbClr val="da0030"/>
              </a:buClr>
              <a:buSzPct val="1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everages e-business technologies product content developed and integrated with enterprise business processes (ERP, CRM, SCM) throughout  the value cha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marTeam &amp; ENOVIA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1247760" y="1487520"/>
            <a:ext cx="871236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marTeam &amp; ENOVIA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976320" y="1692360"/>
            <a:ext cx="90662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marTeam Positioning Stat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585800" y="2957760"/>
            <a:ext cx="8093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SmarTeam is an </a:t>
            </a:r>
            <a:r>
              <a:rPr b="0" lang="en-US" sz="2300" spc="-1" strike="noStrike">
                <a:solidFill>
                  <a:srgbClr val="0000ff"/>
                </a:solidFill>
                <a:latin typeface="Arial Black"/>
              </a:rPr>
              <a:t>affordable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2300" spc="-1" strike="noStrike">
                <a:solidFill>
                  <a:srgbClr val="0000ff"/>
                </a:solidFill>
                <a:latin typeface="Arial Black"/>
              </a:rPr>
              <a:t>productive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0" lang="en-US" sz="2300" spc="-1" strike="noStrike">
                <a:solidFill>
                  <a:srgbClr val="0000ff"/>
                </a:solidFill>
                <a:latin typeface="Arial Black"/>
              </a:rPr>
              <a:t>fast to implement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Product Data Management (PDM) enterprise solution for Engineering, Manufacturing, and Power &amp; Process market segments. Unlike other PDM solutions, SmarTeam is </a:t>
            </a:r>
            <a:r>
              <a:rPr b="0" lang="en-US" sz="2300" spc="-1" strike="noStrike">
                <a:solidFill>
                  <a:srgbClr val="0000ff"/>
                </a:solidFill>
                <a:latin typeface="Arial Black"/>
              </a:rPr>
              <a:t>easily tailored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2300" spc="-1" strike="noStrike">
                <a:solidFill>
                  <a:srgbClr val="0000ff"/>
                </a:solidFill>
                <a:latin typeface="Arial Black"/>
              </a:rPr>
              <a:t>easy to learn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, and </a:t>
            </a:r>
            <a:r>
              <a:rPr b="0" lang="en-US" sz="2300" spc="-1" strike="noStrike">
                <a:solidFill>
                  <a:srgbClr val="0000ff"/>
                </a:solidFill>
                <a:latin typeface="Arial Black"/>
              </a:rPr>
              <a:t>quick to production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, so seats can be introduced at the </a:t>
            </a:r>
            <a:r>
              <a:rPr b="0" lang="en-US" sz="2300" spc="-1" strike="noStrike">
                <a:solidFill>
                  <a:srgbClr val="0000ff"/>
                </a:solidFill>
                <a:latin typeface="Arial Black"/>
              </a:rPr>
              <a:t>department level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and then deployed in a bottom-up approach throughout the </a:t>
            </a:r>
            <a:r>
              <a:rPr b="0" lang="en-US" sz="2300" spc="-1" strike="noStrike">
                <a:solidFill>
                  <a:srgbClr val="0000ff"/>
                </a:solidFill>
                <a:latin typeface="Arial Black"/>
              </a:rPr>
              <a:t>enterprise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733400" y="1925640"/>
            <a:ext cx="828540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nded in 1995, headquartered in Israel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wide offices, USA, Europe, As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4156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HQ Boston, Detroit, San Di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ajority owned by Dassault Systèm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ver 200 employe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ver 150 Value Added Resellers worldwi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ver 1,500 Customer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ver 40,000 us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4156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s, Automotive, Aerospace, Medical, F&amp;A, Consumer Goods and other industri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marTeam Company Profi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6119640" y="6168960"/>
            <a:ext cx="305604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720" y="43848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55640" y="1765440"/>
            <a:ext cx="7963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siness Environ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 Life Cycle Manag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marTeam and ENOVIA positio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marTea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I consider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620720" y="311040"/>
            <a:ext cx="805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marTeam Customer Suc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227400" y="1163520"/>
            <a:ext cx="1716120" cy="739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3216240" y="1281240"/>
            <a:ext cx="17161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249120" y="2359080"/>
            <a:ext cx="3429000" cy="7668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47600" y="2476440"/>
            <a:ext cx="3429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6689880" y="2443320"/>
            <a:ext cx="2842920" cy="581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6678720" y="2560680"/>
            <a:ext cx="28432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2795760" y="5780160"/>
            <a:ext cx="2366640" cy="5619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352600" y="6340320"/>
            <a:ext cx="2367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5457960" y="6496200"/>
            <a:ext cx="1224000" cy="8395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5127480" y="6762600"/>
            <a:ext cx="1225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6"/>
          <a:stretch/>
        </p:blipFill>
        <p:spPr>
          <a:xfrm>
            <a:off x="5056200" y="1182600"/>
            <a:ext cx="1552680" cy="8161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046840" y="1300320"/>
            <a:ext cx="15508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7"/>
          <a:stretch/>
        </p:blipFill>
        <p:spPr>
          <a:xfrm>
            <a:off x="7473960" y="5121360"/>
            <a:ext cx="2203560" cy="5904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7496280" y="5416560"/>
            <a:ext cx="22032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8"/>
          <a:stretch/>
        </p:blipFill>
        <p:spPr>
          <a:xfrm>
            <a:off x="1922400" y="4919760"/>
            <a:ext cx="2421000" cy="811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535040" y="5334120"/>
            <a:ext cx="24210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9"/>
          <a:stretch/>
        </p:blipFill>
        <p:spPr>
          <a:xfrm>
            <a:off x="3994200" y="2359080"/>
            <a:ext cx="2314440" cy="7858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983040" y="2476440"/>
            <a:ext cx="2316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0"/>
          <a:stretch/>
        </p:blipFill>
        <p:spPr>
          <a:xfrm>
            <a:off x="272880" y="1274760"/>
            <a:ext cx="2779920" cy="9176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47600" y="1300320"/>
            <a:ext cx="278136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1"/>
          <a:stretch/>
        </p:blipFill>
        <p:spPr>
          <a:xfrm>
            <a:off x="4562640" y="4272120"/>
            <a:ext cx="887400" cy="11826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800600" y="4241880"/>
            <a:ext cx="887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2"/>
          <a:stretch/>
        </p:blipFill>
        <p:spPr>
          <a:xfrm>
            <a:off x="4616280" y="3363840"/>
            <a:ext cx="2670480" cy="4636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821120" y="3452760"/>
            <a:ext cx="2670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3"/>
          <a:stretch/>
        </p:blipFill>
        <p:spPr>
          <a:xfrm>
            <a:off x="6039000" y="5762520"/>
            <a:ext cx="2776320" cy="7095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6108840" y="6004080"/>
            <a:ext cx="2774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4"/>
          <a:stretch/>
        </p:blipFill>
        <p:spPr>
          <a:xfrm>
            <a:off x="1890720" y="4284720"/>
            <a:ext cx="2379600" cy="7110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2106720" y="4492800"/>
            <a:ext cx="237960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5"/>
          <a:stretch/>
        </p:blipFill>
        <p:spPr>
          <a:xfrm>
            <a:off x="655560" y="4344840"/>
            <a:ext cx="944640" cy="8589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74840" y="4745160"/>
            <a:ext cx="944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6"/>
          <a:stretch/>
        </p:blipFill>
        <p:spPr>
          <a:xfrm>
            <a:off x="5664240" y="5214960"/>
            <a:ext cx="1542960" cy="4618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4719600" y="5499000"/>
            <a:ext cx="1544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7"/>
          <a:stretch/>
        </p:blipFill>
        <p:spPr>
          <a:xfrm>
            <a:off x="7072200" y="6541920"/>
            <a:ext cx="2560680" cy="69084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6924600" y="6786720"/>
            <a:ext cx="3019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8"/>
          <a:stretch/>
        </p:blipFill>
        <p:spPr>
          <a:xfrm>
            <a:off x="6770520" y="1182600"/>
            <a:ext cx="2778120" cy="8096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6759720" y="1300320"/>
            <a:ext cx="27781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9"/>
          <a:stretch/>
        </p:blipFill>
        <p:spPr>
          <a:xfrm>
            <a:off x="272880" y="3316320"/>
            <a:ext cx="4083120" cy="8301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47600" y="3568680"/>
            <a:ext cx="40831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0"/>
          <a:stretch/>
        </p:blipFill>
        <p:spPr>
          <a:xfrm>
            <a:off x="6043680" y="4057560"/>
            <a:ext cx="3263760" cy="10112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5781600" y="4322880"/>
            <a:ext cx="32641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1"/>
          <a:stretch/>
        </p:blipFill>
        <p:spPr>
          <a:xfrm>
            <a:off x="7773840" y="3024360"/>
            <a:ext cx="1878120" cy="106344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7659720" y="3232080"/>
            <a:ext cx="1878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2"/>
          <a:stretch/>
        </p:blipFill>
        <p:spPr>
          <a:xfrm>
            <a:off x="1460520" y="5742000"/>
            <a:ext cx="1469880" cy="12841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392040" y="6316560"/>
            <a:ext cx="147024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3"/>
          <a:stretch/>
        </p:blipFill>
        <p:spPr>
          <a:xfrm>
            <a:off x="3095640" y="6459480"/>
            <a:ext cx="2181240" cy="5922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106720" y="7010280"/>
            <a:ext cx="21812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655640" y="1765440"/>
            <a:ext cx="8304480" cy="35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duct Structure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wnstream synchronization with ERP/MR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OM Management and collabor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pply Chain product information collabor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stributed environment solution for multi-site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D information sharing over the web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cum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5280" indent="-125280">
              <a:lnSpc>
                <a:spcPct val="100000"/>
              </a:lnSpc>
              <a:spcAft>
                <a:spcPts val="425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n-Line collabor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20720" y="43848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marTeam Key Capabil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6119640" y="6168960"/>
            <a:ext cx="305604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633680" y="1598760"/>
            <a:ext cx="830232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source of product definiti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3D, 2D, documents, images, etc.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/7 access to correct information from any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ly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57320">
              <a:lnSpc>
                <a:spcPct val="100000"/>
              </a:lnSpc>
              <a:spcAft>
                <a:spcPts val="275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werful customizion tools using Wizard, User Authorization, Multi-Language support, Form Designer and predefined Business Templa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in class Multi-CAD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57320">
              <a:lnSpc>
                <a:spcPct val="100000"/>
              </a:lnSpc>
              <a:spcAft>
                <a:spcPts val="275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lidWorks, Autodesk Products, Solid Edge, other integrations developed  by partn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57320">
              <a:lnSpc>
                <a:spcPct val="100000"/>
              </a:lnSpc>
              <a:spcAft>
                <a:spcPts val="275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TIA V5 integration (unique to IBM Channe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y enabled for distributed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57320">
              <a:lnSpc>
                <a:spcPct val="100000"/>
              </a:lnSpc>
              <a:spcAft>
                <a:spcPts val="275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base synchronization, distributed vault support, BOM managem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architecture - 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ized application integration – 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tom-up scalable solution - Grow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20720" y="43848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marTeam Advant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6541920" y="6661080"/>
            <a:ext cx="305604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633680" y="1598760"/>
            <a:ext cx="830232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 indent="-17964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ask efficienc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 indent="-17964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formation acc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 indent="-17964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rror  avoidanc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ledge capture and re-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use of products and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er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-line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and rel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 ROI and user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Total Cost of 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web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20720" y="43848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marTeam Benef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541920" y="6661080"/>
            <a:ext cx="305604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8920" y="1859040"/>
            <a:ext cx="830232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and Medium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57320">
              <a:lnSpc>
                <a:spcPct val="100000"/>
              </a:lnSpc>
              <a:spcAft>
                <a:spcPts val="275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iscrete Manufacturing, Automotive Supply Chain, Medical Equipment, Process Indust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NT based infrastructure or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57320">
              <a:lnSpc>
                <a:spcPct val="100000"/>
              </a:lnSpc>
              <a:spcAft>
                <a:spcPts val="275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cilities Management, Mechanical Engineering, Electrical Engineering, Process Mechanical Engineering, Automotive Industry, Office Auto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-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57320">
              <a:lnSpc>
                <a:spcPct val="100000"/>
              </a:lnSpc>
              <a:spcAft>
                <a:spcPts val="275"/>
              </a:spcAft>
              <a:buClr>
                <a:srgbClr val="006283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TIA, AutoDesk, SolidWorks, SolidEdge, other third-party integrations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-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y Ch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s support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e.g. ISO9000, etc.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20720" y="43848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marTeam Mark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6119640" y="6168960"/>
            <a:ext cx="305604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601640" y="1166760"/>
            <a:ext cx="8334360" cy="61009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marTeam Solu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461960" y="1101600"/>
            <a:ext cx="8508960" cy="57960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marTeam Product Portfoli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marTeam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08000" y="1901880"/>
            <a:ext cx="6659640" cy="47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3040" indent="-203040">
              <a:lnSpc>
                <a:spcPct val="100000"/>
              </a:lnSpc>
              <a:spcAft>
                <a:spcPts val="425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reases Customer Loyal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65240">
              <a:lnSpc>
                <a:spcPct val="100000"/>
              </a:lnSpc>
              <a:spcAft>
                <a:spcPts val="337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get what they n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65240">
              <a:lnSpc>
                <a:spcPct val="100000"/>
              </a:lnSpc>
              <a:spcAft>
                <a:spcPts val="337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have vested interest in your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spcAft>
                <a:spcPts val="425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re Products to Market Fas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65240">
              <a:lnSpc>
                <a:spcPct val="100000"/>
              </a:lnSpc>
              <a:spcAft>
                <a:spcPts val="337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duct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65240">
              <a:lnSpc>
                <a:spcPct val="100000"/>
              </a:lnSpc>
              <a:spcAft>
                <a:spcPts val="337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capacity to inno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spcAft>
                <a:spcPts val="425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roved Qua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65240">
              <a:lnSpc>
                <a:spcPct val="100000"/>
              </a:lnSpc>
              <a:spcAft>
                <a:spcPts val="337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e customer and partner experience and 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65240">
              <a:lnSpc>
                <a:spcPct val="100000"/>
              </a:lnSpc>
              <a:spcAft>
                <a:spcPts val="337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spcAft>
                <a:spcPts val="425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er Cos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65240">
              <a:lnSpc>
                <a:spcPct val="100000"/>
              </a:lnSpc>
              <a:spcAft>
                <a:spcPts val="337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input from value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65240">
              <a:lnSpc>
                <a:spcPct val="100000"/>
              </a:lnSpc>
              <a:spcAft>
                <a:spcPts val="337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65240">
              <a:lnSpc>
                <a:spcPct val="100000"/>
              </a:lnSpc>
              <a:spcAft>
                <a:spcPts val="337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65240">
              <a:lnSpc>
                <a:spcPct val="100000"/>
              </a:lnSpc>
              <a:spcAft>
                <a:spcPts val="337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trategic CPC Metr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392120" y="1581120"/>
            <a:ext cx="8533080" cy="49467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5624640" y="5784840"/>
            <a:ext cx="14443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567400" y="3571920"/>
            <a:ext cx="14097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trategic CPC Metrics (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486080" y="1514520"/>
            <a:ext cx="8496000" cy="50864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213600" y="2717640"/>
            <a:ext cx="18018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44920" y="2986200"/>
            <a:ext cx="30668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47080" y="4192560"/>
            <a:ext cx="2606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32120" y="4684680"/>
            <a:ext cx="1581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82840" y="1674720"/>
            <a:ext cx="6076800" cy="4648320"/>
          </a:xfrm>
          <a:prstGeom prst="ellipse">
            <a:avLst/>
          </a:prstGeom>
          <a:gradFill rotWithShape="0">
            <a:gsLst>
              <a:gs pos="0">
                <a:srgbClr val="0098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65720" y="2841480"/>
            <a:ext cx="2157480" cy="231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29240" y="2724120"/>
            <a:ext cx="144360" cy="623880"/>
          </a:xfrm>
          <a:custGeom>
            <a:avLst/>
            <a:gdLst/>
            <a:ahLst/>
            <a:rect l="l" t="t" r="r" b="b"/>
            <a:pathLst>
              <a:path w="91" h="393">
                <a:moveTo>
                  <a:pt x="54" y="393"/>
                </a:moveTo>
                <a:lnTo>
                  <a:pt x="0" y="339"/>
                </a:lnTo>
                <a:lnTo>
                  <a:pt x="21" y="113"/>
                </a:lnTo>
                <a:lnTo>
                  <a:pt x="91" y="0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59320" y="2720880"/>
            <a:ext cx="312840" cy="522360"/>
          </a:xfrm>
          <a:custGeom>
            <a:avLst/>
            <a:gdLst/>
            <a:ahLst/>
            <a:rect l="l" t="t" r="r" b="b"/>
            <a:pathLst>
              <a:path w="197" h="329">
                <a:moveTo>
                  <a:pt x="98" y="111"/>
                </a:moveTo>
                <a:lnTo>
                  <a:pt x="197" y="0"/>
                </a:lnTo>
                <a:lnTo>
                  <a:pt x="149" y="123"/>
                </a:lnTo>
                <a:lnTo>
                  <a:pt x="41" y="329"/>
                </a:lnTo>
                <a:lnTo>
                  <a:pt x="0" y="177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27400" y="3265560"/>
            <a:ext cx="587520" cy="169920"/>
          </a:xfrm>
          <a:custGeom>
            <a:avLst/>
            <a:gdLst/>
            <a:ahLst/>
            <a:rect l="l" t="t" r="r" b="b"/>
            <a:pathLst>
              <a:path w="370" h="107">
                <a:moveTo>
                  <a:pt x="370" y="52"/>
                </a:moveTo>
                <a:lnTo>
                  <a:pt x="319" y="0"/>
                </a:lnTo>
                <a:lnTo>
                  <a:pt x="97" y="37"/>
                </a:lnTo>
                <a:lnTo>
                  <a:pt x="0" y="107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2332080"/>
            <a:ext cx="703080" cy="774720"/>
          </a:xfrm>
          <a:custGeom>
            <a:avLst/>
            <a:gdLst/>
            <a:ahLst/>
            <a:rect l="l" t="t" r="r" b="b"/>
            <a:pathLst>
              <a:path w="443" h="488">
                <a:moveTo>
                  <a:pt x="220" y="0"/>
                </a:moveTo>
                <a:lnTo>
                  <a:pt x="443" y="344"/>
                </a:lnTo>
                <a:lnTo>
                  <a:pt x="310" y="488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29200" y="3138480"/>
            <a:ext cx="460440" cy="295200"/>
          </a:xfrm>
          <a:custGeom>
            <a:avLst/>
            <a:gdLst/>
            <a:ahLst/>
            <a:rect l="l" t="t" r="r" b="b"/>
            <a:pathLst>
              <a:path w="290" h="186">
                <a:moveTo>
                  <a:pt x="91" y="84"/>
                </a:moveTo>
                <a:lnTo>
                  <a:pt x="0" y="186"/>
                </a:lnTo>
                <a:lnTo>
                  <a:pt x="103" y="128"/>
                </a:lnTo>
                <a:lnTo>
                  <a:pt x="290" y="14"/>
                </a:lnTo>
                <a:lnTo>
                  <a:pt x="125" y="0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47960" y="2724120"/>
            <a:ext cx="717840" cy="549360"/>
          </a:xfrm>
          <a:custGeom>
            <a:avLst/>
            <a:gdLst/>
            <a:ahLst/>
            <a:rect l="l" t="t" r="r" b="b"/>
            <a:pathLst>
              <a:path w="452" h="346">
                <a:moveTo>
                  <a:pt x="0" y="0"/>
                </a:moveTo>
                <a:lnTo>
                  <a:pt x="332" y="346"/>
                </a:lnTo>
                <a:lnTo>
                  <a:pt x="452" y="344"/>
                </a:lnTo>
                <a:lnTo>
                  <a:pt x="54" y="0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95720" y="2332080"/>
            <a:ext cx="534960" cy="744480"/>
          </a:xfrm>
          <a:custGeom>
            <a:avLst/>
            <a:gdLst/>
            <a:ahLst/>
            <a:rect l="l" t="t" r="r" b="b"/>
            <a:pathLst>
              <a:path w="337" h="469">
                <a:moveTo>
                  <a:pt x="0" y="0"/>
                </a:moveTo>
                <a:lnTo>
                  <a:pt x="336" y="346"/>
                </a:lnTo>
                <a:lnTo>
                  <a:pt x="337" y="469"/>
                </a:lnTo>
                <a:lnTo>
                  <a:pt x="0" y="78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13120" y="2406600"/>
            <a:ext cx="903240" cy="960480"/>
          </a:xfrm>
          <a:custGeom>
            <a:avLst/>
            <a:gdLst/>
            <a:ahLst/>
            <a:rect l="l" t="t" r="r" b="b"/>
            <a:pathLst>
              <a:path w="569" h="605">
                <a:moveTo>
                  <a:pt x="282" y="605"/>
                </a:moveTo>
                <a:lnTo>
                  <a:pt x="336" y="546"/>
                </a:lnTo>
                <a:lnTo>
                  <a:pt x="0" y="199"/>
                </a:lnTo>
                <a:lnTo>
                  <a:pt x="180" y="0"/>
                </a:lnTo>
                <a:lnTo>
                  <a:pt x="517" y="348"/>
                </a:lnTo>
                <a:lnTo>
                  <a:pt x="569" y="291"/>
                </a:lnTo>
                <a:lnTo>
                  <a:pt x="536" y="562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00efe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3640" y="2724120"/>
            <a:ext cx="146160" cy="623880"/>
          </a:xfrm>
          <a:custGeom>
            <a:avLst/>
            <a:gdLst/>
            <a:ahLst/>
            <a:rect l="l" t="t" r="r" b="b"/>
            <a:pathLst>
              <a:path w="92" h="393">
                <a:moveTo>
                  <a:pt x="38" y="393"/>
                </a:moveTo>
                <a:lnTo>
                  <a:pt x="92" y="339"/>
                </a:lnTo>
                <a:lnTo>
                  <a:pt x="71" y="11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5440" y="2720880"/>
            <a:ext cx="312840" cy="522360"/>
          </a:xfrm>
          <a:custGeom>
            <a:avLst/>
            <a:gdLst/>
            <a:ahLst/>
            <a:rect l="l" t="t" r="r" b="b"/>
            <a:pathLst>
              <a:path w="197" h="329">
                <a:moveTo>
                  <a:pt x="100" y="111"/>
                </a:moveTo>
                <a:lnTo>
                  <a:pt x="0" y="0"/>
                </a:lnTo>
                <a:lnTo>
                  <a:pt x="48" y="123"/>
                </a:lnTo>
                <a:lnTo>
                  <a:pt x="158" y="329"/>
                </a:lnTo>
                <a:lnTo>
                  <a:pt x="197" y="177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35560" y="3265560"/>
            <a:ext cx="584280" cy="169920"/>
          </a:xfrm>
          <a:custGeom>
            <a:avLst/>
            <a:gdLst/>
            <a:ahLst/>
            <a:rect l="l" t="t" r="r" b="b"/>
            <a:pathLst>
              <a:path w="368" h="107">
                <a:moveTo>
                  <a:pt x="0" y="52"/>
                </a:moveTo>
                <a:lnTo>
                  <a:pt x="50" y="0"/>
                </a:lnTo>
                <a:lnTo>
                  <a:pt x="271" y="37"/>
                </a:lnTo>
                <a:lnTo>
                  <a:pt x="368" y="107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99080" y="2332080"/>
            <a:ext cx="704880" cy="774720"/>
          </a:xfrm>
          <a:custGeom>
            <a:avLst/>
            <a:gdLst/>
            <a:ahLst/>
            <a:rect l="l" t="t" r="r" b="b"/>
            <a:pathLst>
              <a:path w="444" h="488">
                <a:moveTo>
                  <a:pt x="222" y="0"/>
                </a:moveTo>
                <a:lnTo>
                  <a:pt x="0" y="344"/>
                </a:lnTo>
                <a:lnTo>
                  <a:pt x="134" y="488"/>
                </a:lnTo>
                <a:lnTo>
                  <a:pt x="444" y="246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59400" y="3138480"/>
            <a:ext cx="459000" cy="295200"/>
          </a:xfrm>
          <a:custGeom>
            <a:avLst/>
            <a:gdLst/>
            <a:ahLst/>
            <a:rect l="l" t="t" r="r" b="b"/>
            <a:pathLst>
              <a:path w="289" h="186">
                <a:moveTo>
                  <a:pt x="199" y="84"/>
                </a:moveTo>
                <a:lnTo>
                  <a:pt x="289" y="186"/>
                </a:lnTo>
                <a:lnTo>
                  <a:pt x="188" y="128"/>
                </a:lnTo>
                <a:lnTo>
                  <a:pt x="0" y="14"/>
                </a:lnTo>
                <a:lnTo>
                  <a:pt x="166" y="0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3240" y="2724120"/>
            <a:ext cx="719280" cy="549360"/>
          </a:xfrm>
          <a:custGeom>
            <a:avLst/>
            <a:gdLst/>
            <a:ahLst/>
            <a:rect l="l" t="t" r="r" b="b"/>
            <a:pathLst>
              <a:path w="453" h="346">
                <a:moveTo>
                  <a:pt x="453" y="0"/>
                </a:moveTo>
                <a:lnTo>
                  <a:pt x="119" y="346"/>
                </a:lnTo>
                <a:lnTo>
                  <a:pt x="0" y="344"/>
                </a:lnTo>
                <a:lnTo>
                  <a:pt x="398" y="0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18360" y="2332080"/>
            <a:ext cx="533160" cy="744480"/>
          </a:xfrm>
          <a:custGeom>
            <a:avLst/>
            <a:gdLst/>
            <a:ahLst/>
            <a:rect l="l" t="t" r="r" b="b"/>
            <a:pathLst>
              <a:path w="336" h="469">
                <a:moveTo>
                  <a:pt x="336" y="0"/>
                </a:moveTo>
                <a:lnTo>
                  <a:pt x="2" y="346"/>
                </a:lnTo>
                <a:lnTo>
                  <a:pt x="0" y="469"/>
                </a:lnTo>
                <a:lnTo>
                  <a:pt x="336" y="78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32680" y="2406600"/>
            <a:ext cx="901440" cy="960480"/>
          </a:xfrm>
          <a:custGeom>
            <a:avLst/>
            <a:gdLst/>
            <a:ahLst/>
            <a:rect l="l" t="t" r="r" b="b"/>
            <a:pathLst>
              <a:path w="568" h="605">
                <a:moveTo>
                  <a:pt x="286" y="605"/>
                </a:moveTo>
                <a:lnTo>
                  <a:pt x="233" y="546"/>
                </a:lnTo>
                <a:lnTo>
                  <a:pt x="568" y="199"/>
                </a:lnTo>
                <a:lnTo>
                  <a:pt x="388" y="0"/>
                </a:lnTo>
                <a:lnTo>
                  <a:pt x="52" y="348"/>
                </a:lnTo>
                <a:lnTo>
                  <a:pt x="0" y="291"/>
                </a:lnTo>
                <a:lnTo>
                  <a:pt x="32" y="562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00efe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05680" y="4462560"/>
            <a:ext cx="144360" cy="622080"/>
          </a:xfrm>
          <a:custGeom>
            <a:avLst/>
            <a:gdLst/>
            <a:ahLst/>
            <a:rect l="l" t="t" r="r" b="b"/>
            <a:pathLst>
              <a:path w="91" h="392">
                <a:moveTo>
                  <a:pt x="38" y="0"/>
                </a:moveTo>
                <a:lnTo>
                  <a:pt x="91" y="52"/>
                </a:lnTo>
                <a:lnTo>
                  <a:pt x="71" y="279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07120" y="4564080"/>
            <a:ext cx="312840" cy="525600"/>
          </a:xfrm>
          <a:custGeom>
            <a:avLst/>
            <a:gdLst/>
            <a:ahLst/>
            <a:rect l="l" t="t" r="r" b="b"/>
            <a:pathLst>
              <a:path w="197" h="331">
                <a:moveTo>
                  <a:pt x="100" y="218"/>
                </a:moveTo>
                <a:lnTo>
                  <a:pt x="0" y="331"/>
                </a:lnTo>
                <a:lnTo>
                  <a:pt x="48" y="207"/>
                </a:lnTo>
                <a:lnTo>
                  <a:pt x="157" y="0"/>
                </a:lnTo>
                <a:lnTo>
                  <a:pt x="197" y="153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67600" y="4373640"/>
            <a:ext cx="583920" cy="169920"/>
          </a:xfrm>
          <a:custGeom>
            <a:avLst/>
            <a:gdLst/>
            <a:ahLst/>
            <a:rect l="l" t="t" r="r" b="b"/>
            <a:pathLst>
              <a:path w="368" h="107">
                <a:moveTo>
                  <a:pt x="0" y="55"/>
                </a:moveTo>
                <a:lnTo>
                  <a:pt x="49" y="107"/>
                </a:lnTo>
                <a:lnTo>
                  <a:pt x="271" y="70"/>
                </a:lnTo>
                <a:lnTo>
                  <a:pt x="368" y="0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31120" y="4703760"/>
            <a:ext cx="703080" cy="773280"/>
          </a:xfrm>
          <a:custGeom>
            <a:avLst/>
            <a:gdLst/>
            <a:ahLst/>
            <a:rect l="l" t="t" r="r" b="b"/>
            <a:pathLst>
              <a:path w="443" h="487">
                <a:moveTo>
                  <a:pt x="222" y="487"/>
                </a:moveTo>
                <a:lnTo>
                  <a:pt x="0" y="142"/>
                </a:lnTo>
                <a:lnTo>
                  <a:pt x="133" y="0"/>
                </a:lnTo>
                <a:lnTo>
                  <a:pt x="443" y="241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91440" y="4375080"/>
            <a:ext cx="460080" cy="293760"/>
          </a:xfrm>
          <a:custGeom>
            <a:avLst/>
            <a:gdLst/>
            <a:ahLst/>
            <a:rect l="l" t="t" r="r" b="b"/>
            <a:pathLst>
              <a:path w="290" h="185">
                <a:moveTo>
                  <a:pt x="199" y="102"/>
                </a:moveTo>
                <a:lnTo>
                  <a:pt x="290" y="0"/>
                </a:lnTo>
                <a:lnTo>
                  <a:pt x="186" y="57"/>
                </a:lnTo>
                <a:lnTo>
                  <a:pt x="0" y="172"/>
                </a:lnTo>
                <a:lnTo>
                  <a:pt x="165" y="185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15280" y="4535640"/>
            <a:ext cx="717480" cy="550800"/>
          </a:xfrm>
          <a:custGeom>
            <a:avLst/>
            <a:gdLst/>
            <a:ahLst/>
            <a:rect l="l" t="t" r="r" b="b"/>
            <a:pathLst>
              <a:path w="452" h="347">
                <a:moveTo>
                  <a:pt x="452" y="346"/>
                </a:moveTo>
                <a:lnTo>
                  <a:pt x="119" y="0"/>
                </a:lnTo>
                <a:lnTo>
                  <a:pt x="0" y="2"/>
                </a:lnTo>
                <a:lnTo>
                  <a:pt x="398" y="347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48240" y="4730760"/>
            <a:ext cx="535320" cy="746280"/>
          </a:xfrm>
          <a:custGeom>
            <a:avLst/>
            <a:gdLst/>
            <a:ahLst/>
            <a:rect l="l" t="t" r="r" b="b"/>
            <a:pathLst>
              <a:path w="337" h="470">
                <a:moveTo>
                  <a:pt x="337" y="470"/>
                </a:moveTo>
                <a:lnTo>
                  <a:pt x="1" y="123"/>
                </a:lnTo>
                <a:lnTo>
                  <a:pt x="0" y="0"/>
                </a:lnTo>
                <a:lnTo>
                  <a:pt x="337" y="391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64360" y="4441680"/>
            <a:ext cx="901440" cy="962280"/>
          </a:xfrm>
          <a:custGeom>
            <a:avLst/>
            <a:gdLst/>
            <a:ahLst/>
            <a:rect l="l" t="t" r="r" b="b"/>
            <a:pathLst>
              <a:path w="568" h="606">
                <a:moveTo>
                  <a:pt x="286" y="0"/>
                </a:moveTo>
                <a:lnTo>
                  <a:pt x="233" y="59"/>
                </a:lnTo>
                <a:lnTo>
                  <a:pt x="568" y="406"/>
                </a:lnTo>
                <a:lnTo>
                  <a:pt x="388" y="606"/>
                </a:lnTo>
                <a:lnTo>
                  <a:pt x="51" y="256"/>
                </a:lnTo>
                <a:lnTo>
                  <a:pt x="0" y="314"/>
                </a:lnTo>
                <a:lnTo>
                  <a:pt x="32" y="43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00efe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56160" y="4462560"/>
            <a:ext cx="146160" cy="622080"/>
          </a:xfrm>
          <a:custGeom>
            <a:avLst/>
            <a:gdLst/>
            <a:ahLst/>
            <a:rect l="l" t="t" r="r" b="b"/>
            <a:pathLst>
              <a:path w="92" h="392">
                <a:moveTo>
                  <a:pt x="54" y="0"/>
                </a:moveTo>
                <a:lnTo>
                  <a:pt x="0" y="52"/>
                </a:lnTo>
                <a:lnTo>
                  <a:pt x="21" y="279"/>
                </a:lnTo>
                <a:lnTo>
                  <a:pt x="92" y="392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86240" y="4564080"/>
            <a:ext cx="316080" cy="525600"/>
          </a:xfrm>
          <a:custGeom>
            <a:avLst/>
            <a:gdLst/>
            <a:ahLst/>
            <a:rect l="l" t="t" r="r" b="b"/>
            <a:pathLst>
              <a:path w="199" h="331">
                <a:moveTo>
                  <a:pt x="97" y="218"/>
                </a:moveTo>
                <a:lnTo>
                  <a:pt x="199" y="331"/>
                </a:lnTo>
                <a:lnTo>
                  <a:pt x="150" y="207"/>
                </a:lnTo>
                <a:lnTo>
                  <a:pt x="41" y="0"/>
                </a:lnTo>
                <a:lnTo>
                  <a:pt x="0" y="153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56120" y="4373640"/>
            <a:ext cx="585720" cy="169920"/>
          </a:xfrm>
          <a:custGeom>
            <a:avLst/>
            <a:gdLst/>
            <a:ahLst/>
            <a:rect l="l" t="t" r="r" b="b"/>
            <a:pathLst>
              <a:path w="369" h="107">
                <a:moveTo>
                  <a:pt x="369" y="55"/>
                </a:moveTo>
                <a:lnTo>
                  <a:pt x="319" y="107"/>
                </a:lnTo>
                <a:lnTo>
                  <a:pt x="97" y="7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73440" y="4703760"/>
            <a:ext cx="704880" cy="773280"/>
          </a:xfrm>
          <a:custGeom>
            <a:avLst/>
            <a:gdLst/>
            <a:ahLst/>
            <a:rect l="l" t="t" r="r" b="b"/>
            <a:pathLst>
              <a:path w="444" h="487">
                <a:moveTo>
                  <a:pt x="222" y="487"/>
                </a:moveTo>
                <a:lnTo>
                  <a:pt x="444" y="142"/>
                </a:lnTo>
                <a:lnTo>
                  <a:pt x="310" y="0"/>
                </a:lnTo>
                <a:lnTo>
                  <a:pt x="0" y="241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7560" y="4375080"/>
            <a:ext cx="459000" cy="293760"/>
          </a:xfrm>
          <a:custGeom>
            <a:avLst/>
            <a:gdLst/>
            <a:ahLst/>
            <a:rect l="l" t="t" r="r" b="b"/>
            <a:pathLst>
              <a:path w="289" h="185">
                <a:moveTo>
                  <a:pt x="89" y="102"/>
                </a:moveTo>
                <a:lnTo>
                  <a:pt x="0" y="0"/>
                </a:lnTo>
                <a:lnTo>
                  <a:pt x="102" y="57"/>
                </a:lnTo>
                <a:lnTo>
                  <a:pt x="289" y="172"/>
                </a:lnTo>
                <a:lnTo>
                  <a:pt x="124" y="185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73440" y="4535640"/>
            <a:ext cx="720720" cy="550800"/>
          </a:xfrm>
          <a:custGeom>
            <a:avLst/>
            <a:gdLst/>
            <a:ahLst/>
            <a:rect l="l" t="t" r="r" b="b"/>
            <a:pathLst>
              <a:path w="454" h="347">
                <a:moveTo>
                  <a:pt x="0" y="346"/>
                </a:moveTo>
                <a:lnTo>
                  <a:pt x="333" y="0"/>
                </a:lnTo>
                <a:lnTo>
                  <a:pt x="454" y="2"/>
                </a:lnTo>
                <a:lnTo>
                  <a:pt x="55" y="347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25880" y="4730760"/>
            <a:ext cx="531720" cy="746280"/>
          </a:xfrm>
          <a:custGeom>
            <a:avLst/>
            <a:gdLst/>
            <a:ahLst/>
            <a:rect l="l" t="t" r="r" b="b"/>
            <a:pathLst>
              <a:path w="335" h="470">
                <a:moveTo>
                  <a:pt x="0" y="470"/>
                </a:moveTo>
                <a:lnTo>
                  <a:pt x="334" y="123"/>
                </a:lnTo>
                <a:lnTo>
                  <a:pt x="335" y="0"/>
                </a:lnTo>
                <a:lnTo>
                  <a:pt x="0" y="391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43280" y="4441680"/>
            <a:ext cx="901800" cy="962280"/>
          </a:xfrm>
          <a:custGeom>
            <a:avLst/>
            <a:gdLst/>
            <a:ahLst/>
            <a:rect l="l" t="t" r="r" b="b"/>
            <a:pathLst>
              <a:path w="568" h="606">
                <a:moveTo>
                  <a:pt x="280" y="0"/>
                </a:moveTo>
                <a:lnTo>
                  <a:pt x="334" y="59"/>
                </a:lnTo>
                <a:lnTo>
                  <a:pt x="0" y="406"/>
                </a:lnTo>
                <a:lnTo>
                  <a:pt x="180" y="606"/>
                </a:lnTo>
                <a:lnTo>
                  <a:pt x="516" y="256"/>
                </a:lnTo>
                <a:lnTo>
                  <a:pt x="568" y="314"/>
                </a:lnTo>
                <a:lnTo>
                  <a:pt x="534" y="43"/>
                </a:ln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100000">
                <a:srgbClr val="00efe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81120" y="1671480"/>
            <a:ext cx="1557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0097"/>
                </a:solidFill>
                <a:latin typeface="Arial"/>
              </a:rPr>
              <a:t>Busin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71760" y="2093760"/>
            <a:ext cx="2406600" cy="18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Glob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Compet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Return Share 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Reduction of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Increased Market Sh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69200" y="1727280"/>
            <a:ext cx="2259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0097"/>
                </a:solidFill>
                <a:latin typeface="Arial"/>
              </a:rPr>
              <a:t>Technolog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75680" y="2144880"/>
            <a:ext cx="266688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0097"/>
                </a:solidFill>
                <a:latin typeface="Arial"/>
              </a:rPr>
              <a:t>Power of the We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0097"/>
                </a:solidFill>
                <a:latin typeface="Arial"/>
              </a:rPr>
              <a:t>Information vs. data vs. knowled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0097"/>
                </a:solidFill>
                <a:latin typeface="Arial"/>
              </a:rPr>
              <a:t>Knowledge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0097"/>
                </a:solidFill>
                <a:latin typeface="Arial"/>
              </a:rPr>
              <a:t>Collabo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84360" y="5059440"/>
            <a:ext cx="181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0097"/>
                </a:solidFill>
                <a:latin typeface="Arial"/>
              </a:rPr>
              <a:t>Custome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3840" y="5484960"/>
            <a:ext cx="239544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More sophist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More dema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Total lifecycle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Build-to-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Mass custo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86480" y="5022720"/>
            <a:ext cx="2040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0097"/>
                </a:solidFill>
                <a:latin typeface="Arial"/>
              </a:rPr>
              <a:t>Marke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00880" y="5394240"/>
            <a:ext cx="25192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"Virtual Enterpris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Full service prov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Leverage core busines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New Marke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f32d3b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97"/>
                </a:solidFill>
                <a:latin typeface="Arial"/>
              </a:rPr>
              <a:t>"Coopetitio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1800" y="2690640"/>
            <a:ext cx="2369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Speed to market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13360" y="3605040"/>
            <a:ext cx="1138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Growth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03880" y="4519440"/>
            <a:ext cx="235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Competitivenes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32320" y="3160800"/>
            <a:ext cx="3789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Enhanced customer servic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52880" y="4071960"/>
            <a:ext cx="2749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Access to key skill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37120" y="4987800"/>
            <a:ext cx="2581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Cost effectivenes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he Changing Business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620720" y="43848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marTeam ROI Quantif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15960" y="1071720"/>
            <a:ext cx="835020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0" indent="-936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c0"/>
                </a:solidFill>
                <a:latin typeface="Arial"/>
              </a:rPr>
              <a:t>Product creation cycle time reduc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= 10%-50% (enhanced access to correct data, design chain &amp; supply chain collaboration, maturity managemen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void one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C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= $2K-$5K (documentation, processing)(add more for retrofit and field service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void one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duplicate par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= $? (administration, drawings, documents, procurement, storage, inspection, manufacturing, potential ECs (~20)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void extra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analysi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= $2K-$10M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void one extra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physical mock-up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= $1K-$1M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duce materials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scrappag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= $? (raw stock, castings, forgings, molds, dies, documentatio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event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lost data &amp; informa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= $? (horror stories, risk reductio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nderstand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impac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of a product change = $? (potential ECs, scrappag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Fast implementa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user accept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= better RO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Drawing &amp; prin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reduction = 10%-50% of engineer's time (reconciling 2D and 3D files and states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etter support of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standard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= $? (cost of entry, mandatory, ISO9000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Faster to marke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= $? (opportunity costs, market share, earlier certification, lower COG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Aft>
                <a:spcPts val="312"/>
              </a:spcAft>
              <a:buClr>
                <a:srgbClr val="0062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Innova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= $? (earlier introduction of new technology, new markets, greater profit margins)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ther Measure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31920" y="2114640"/>
            <a:ext cx="7910640" cy="31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8200" indent="-268200">
              <a:lnSpc>
                <a:spcPct val="100000"/>
              </a:lnSpc>
              <a:spcAft>
                <a:spcPts val="575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ecast Accurac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Aft>
                <a:spcPts val="575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ventory Accurac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Aft>
                <a:spcPts val="575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ime Fence Adheren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Aft>
                <a:spcPts val="575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rk-in-process Inventor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Aft>
                <a:spcPts val="575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ventory Tur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Aft>
                <a:spcPts val="575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traint Utiliz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Next Steps.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22400" y="1246320"/>
            <a:ext cx="6070680" cy="61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8200" indent="-268200">
              <a:lnSpc>
                <a:spcPct val="100000"/>
              </a:lnSpc>
              <a:spcAft>
                <a:spcPts val="575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form In-House Stud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0720">
              <a:lnSpc>
                <a:spcPct val="100000"/>
              </a:lnSpc>
              <a:spcAft>
                <a:spcPts val="539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tablish "As-Is" st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Aft>
                <a:spcPts val="575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termine "To-Be" process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0720">
              <a:lnSpc>
                <a:spcPct val="100000"/>
              </a:lnSpc>
              <a:spcAft>
                <a:spcPts val="462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oritize process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0720">
              <a:lnSpc>
                <a:spcPct val="100000"/>
              </a:lnSpc>
              <a:spcAft>
                <a:spcPts val="462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velop roadmaps with pha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0720">
              <a:lnSpc>
                <a:spcPct val="100000"/>
              </a:lnSpc>
              <a:spcAft>
                <a:spcPts val="462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antify benefi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Aft>
                <a:spcPts val="539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velop implementation pla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0720">
              <a:lnSpc>
                <a:spcPct val="100000"/>
              </a:lnSpc>
              <a:spcAft>
                <a:spcPts val="462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oritize - dept/program phase 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0720">
              <a:lnSpc>
                <a:spcPct val="100000"/>
              </a:lnSpc>
              <a:spcAft>
                <a:spcPts val="462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-site - phase tw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0720">
              <a:lnSpc>
                <a:spcPct val="100000"/>
              </a:lnSpc>
              <a:spcAft>
                <a:spcPts val="462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Aft>
                <a:spcPts val="575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mal proposa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0720">
              <a:lnSpc>
                <a:spcPct val="100000"/>
              </a:lnSpc>
              <a:spcAft>
                <a:spcPts val="462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ludes ROI targe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0720">
              <a:lnSpc>
                <a:spcPct val="100000"/>
              </a:lnSpc>
              <a:spcAft>
                <a:spcPts val="462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asurement of resul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300320" y="1565280"/>
            <a:ext cx="8742240" cy="5191200"/>
          </a:xfrm>
          <a:prstGeom prst="rect">
            <a:avLst/>
          </a:prstGeom>
          <a:solidFill>
            <a:srgbClr val="a9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71720" y="1903320"/>
            <a:ext cx="5151240" cy="423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71720" y="4024440"/>
            <a:ext cx="487980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35480" y="1903320"/>
            <a:ext cx="0" cy="418788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46360" y="6303960"/>
            <a:ext cx="337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1752480" y="2599920"/>
            <a:ext cx="0" cy="2692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941560" y="2036880"/>
            <a:ext cx="2745000" cy="1828800"/>
          </a:xfrm>
          <a:prstGeom prst="line">
            <a:avLst/>
          </a:prstGeom>
          <a:ln w="255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54160" y="3863880"/>
            <a:ext cx="2732400" cy="0"/>
          </a:xfrm>
          <a:prstGeom prst="line">
            <a:avLst/>
          </a:prstGeom>
          <a:ln w="25560">
            <a:solidFill>
              <a:srgbClr val="40009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83320" y="2031840"/>
            <a:ext cx="0" cy="1841760"/>
          </a:xfrm>
          <a:prstGeom prst="line">
            <a:avLst/>
          </a:prstGeom>
          <a:ln w="25560">
            <a:solidFill>
              <a:srgbClr val="40009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63920" y="6279120"/>
            <a:ext cx="245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80078"/>
                </a:solidFill>
                <a:latin typeface="Arial"/>
              </a:rPr>
              <a:t>Revenue Foc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9720" y="4039920"/>
            <a:ext cx="217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80078"/>
                </a:solidFill>
                <a:latin typeface="Arial"/>
              </a:rPr>
              <a:t>Cost Foc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09800" y="6167880"/>
            <a:ext cx="666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80078"/>
                </a:solidFill>
                <a:latin typeface="Arial"/>
              </a:rPr>
              <a:t>Low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364440" y="6193440"/>
            <a:ext cx="739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80078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19160" y="5775120"/>
            <a:ext cx="1038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80078"/>
                </a:solidFill>
                <a:latin typeface="Arial"/>
              </a:rPr>
              <a:t>Low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46080" y="2188080"/>
            <a:ext cx="1114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80078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94040" y="4181400"/>
            <a:ext cx="2658960" cy="633600"/>
          </a:xfrm>
          <a:prstGeom prst="rect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enue Business Initi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26360" y="1555920"/>
            <a:ext cx="2384280" cy="633240"/>
          </a:xfrm>
          <a:prstGeom prst="rect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 Business Initi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97000" y="4908600"/>
            <a:ext cx="521496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8280" indent="-98280">
              <a:lnSpc>
                <a:spcPct val="100000"/>
              </a:lnSpc>
              <a:spcAft>
                <a:spcPts val="337"/>
              </a:spcAft>
              <a:buClr>
                <a:srgbClr val="400097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1 - Improve time to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37"/>
              </a:spcAft>
              <a:buClr>
                <a:srgbClr val="400097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2 - Open up new market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37"/>
              </a:spcAft>
              <a:buClr>
                <a:srgbClr val="400097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3-  Accelerate ramp-up to full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55000" y="2200320"/>
            <a:ext cx="2684160" cy="21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400097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# 4 - Improve product development cos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400097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# 5 - Increase supply chain design cont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400097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# 6 - Rapidly react to changing market condi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773320" y="2390760"/>
            <a:ext cx="131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735160" y="3024360"/>
            <a:ext cx="131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5735160" y="3691080"/>
            <a:ext cx="131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181320" y="38736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962520" y="38736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048280" y="38736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LM Business Initia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7773840" y="5867280"/>
            <a:ext cx="19209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Using The 9 Block Vision Mod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49600" y="1973160"/>
            <a:ext cx="1362240" cy="1359000"/>
          </a:xfrm>
          <a:prstGeom prst="rect">
            <a:avLst/>
          </a:prstGeom>
          <a:solidFill>
            <a:srgbClr val="fafa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11840" y="1973160"/>
            <a:ext cx="1361880" cy="1359000"/>
          </a:xfrm>
          <a:prstGeom prst="rect">
            <a:avLst/>
          </a:prstGeom>
          <a:solidFill>
            <a:srgbClr val="fafa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73720" y="1973160"/>
            <a:ext cx="1363680" cy="1359000"/>
          </a:xfrm>
          <a:prstGeom prst="rect">
            <a:avLst/>
          </a:prstGeom>
          <a:solidFill>
            <a:srgbClr val="fafa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49600" y="3332160"/>
            <a:ext cx="1362240" cy="1360440"/>
          </a:xfrm>
          <a:prstGeom prst="rect">
            <a:avLst/>
          </a:prstGeom>
          <a:solidFill>
            <a:srgbClr val="fafa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11840" y="3332160"/>
            <a:ext cx="1361880" cy="1360440"/>
          </a:xfrm>
          <a:prstGeom prst="rect">
            <a:avLst/>
          </a:prstGeom>
          <a:solidFill>
            <a:srgbClr val="fafa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73720" y="3332160"/>
            <a:ext cx="1363680" cy="1360440"/>
          </a:xfrm>
          <a:prstGeom prst="rect">
            <a:avLst/>
          </a:prstGeom>
          <a:solidFill>
            <a:srgbClr val="fafa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49600" y="4692600"/>
            <a:ext cx="1362240" cy="1359000"/>
          </a:xfrm>
          <a:prstGeom prst="rect">
            <a:avLst/>
          </a:prstGeom>
          <a:solidFill>
            <a:srgbClr val="fafa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11840" y="4692600"/>
            <a:ext cx="1361880" cy="1359000"/>
          </a:xfrm>
          <a:prstGeom prst="rect">
            <a:avLst/>
          </a:prstGeom>
          <a:solidFill>
            <a:srgbClr val="fafa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73720" y="4692600"/>
            <a:ext cx="1363680" cy="1359000"/>
          </a:xfrm>
          <a:prstGeom prst="rect">
            <a:avLst/>
          </a:prstGeom>
          <a:solidFill>
            <a:srgbClr val="fafa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48160" y="1976400"/>
            <a:ext cx="4092480" cy="407052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602160" y="1979640"/>
            <a:ext cx="45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21240" y="1995480"/>
            <a:ext cx="45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44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973760" y="1979640"/>
            <a:ext cx="45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94280" y="1995480"/>
            <a:ext cx="45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44"/>
                </a:solidFill>
                <a:latin typeface="Arial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19800" y="1979640"/>
            <a:ext cx="45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240680" y="1995480"/>
            <a:ext cx="44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44"/>
                </a:solidFill>
                <a:latin typeface="Arial"/>
              </a:rPr>
              <a:t>(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3340080"/>
            <a:ext cx="45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21240" y="3355920"/>
            <a:ext cx="45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44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73760" y="3340080"/>
            <a:ext cx="45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94280" y="3355920"/>
            <a:ext cx="45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44"/>
                </a:solidFill>
                <a:latin typeface="Arial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19800" y="3340080"/>
            <a:ext cx="45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240680" y="3355920"/>
            <a:ext cx="44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44"/>
                </a:solidFill>
                <a:latin typeface="Arial"/>
              </a:rPr>
              <a:t>(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02160" y="4700520"/>
            <a:ext cx="45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21240" y="4716360"/>
            <a:ext cx="45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44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73760" y="4700520"/>
            <a:ext cx="45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894280" y="4716360"/>
            <a:ext cx="45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44"/>
                </a:solidFill>
                <a:latin typeface="Arial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19800" y="4700520"/>
            <a:ext cx="45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40680" y="4716360"/>
            <a:ext cx="44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44"/>
                </a:solidFill>
                <a:latin typeface="Arial"/>
              </a:rPr>
              <a:t>(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54280" y="1463760"/>
            <a:ext cx="13510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280078"/>
                </a:solidFill>
                <a:latin typeface="Arial"/>
              </a:rPr>
              <a:t>Diagnose Reas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08600" y="1463760"/>
            <a:ext cx="13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280078"/>
                </a:solidFill>
                <a:latin typeface="Arial"/>
              </a:rPr>
              <a:t>Explore          Impa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03960" y="1463760"/>
            <a:ext cx="13510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280078"/>
                </a:solidFill>
                <a:latin typeface="Arial"/>
              </a:rPr>
              <a:t>Visualize Capabil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03480" y="2577960"/>
            <a:ext cx="1349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280078"/>
                </a:solidFill>
                <a:latin typeface="Arial"/>
              </a:rPr>
              <a:t>Op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081160" y="3970440"/>
            <a:ext cx="1351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280078"/>
                </a:solidFill>
                <a:latin typeface="Arial"/>
              </a:rPr>
              <a:t>Contro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081160" y="5354640"/>
            <a:ext cx="1351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280078"/>
                </a:solidFill>
                <a:latin typeface="Arial"/>
              </a:rPr>
              <a:t>Confi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94240" y="2357280"/>
            <a:ext cx="1250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"Tell me about it, what is causing you to have this...   (repeat pain)?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10440" y="4957920"/>
            <a:ext cx="1272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"From what I just heard, if you had the ability to... (summarize capability vision)... could you solve your              (repeat pain)?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959360" y="2336760"/>
            <a:ext cx="1270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"Besides yourself, who in your organization is impacted by this (repeat pain) and how are they impacted?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03960" y="2251080"/>
            <a:ext cx="12794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"What is it going to take for YOU to be able to solve this (repeat pain)?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"Could I try a few ideas on you?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598920" y="3884760"/>
            <a:ext cx="123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"Is it because...?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970520" y="3639960"/>
            <a:ext cx="1247760" cy="5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"Is this (pain) causing...?"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"If so, wouldn't (title) also be concerned?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18360" y="3659040"/>
            <a:ext cx="128088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"What if there were a way for you to... would that help?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"What if you were also able to...?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98920" y="5226120"/>
            <a:ext cx="1239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"So, the reasons for your (repeat pain) are...?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46760" y="4989600"/>
            <a:ext cx="12715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"From what I just heard... (repeat the who and how), it sounds like this is not just your problem, but a __________ problem?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87760" y="4284720"/>
            <a:ext cx="126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#  %  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984920" y="4284720"/>
            <a:ext cx="126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#  %  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6747480" y="5904360"/>
            <a:ext cx="453960" cy="471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72240" y="6546960"/>
            <a:ext cx="226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0004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0004c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rot="2760000">
            <a:off x="3000960" y="1362960"/>
            <a:ext cx="455760" cy="488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79640" y="1224000"/>
            <a:ext cx="135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0004c"/>
                </a:solidFill>
                <a:latin typeface="Arial"/>
              </a:rPr>
              <a:t>PAIN (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620720" y="447840"/>
            <a:ext cx="80568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ur evaluation method, « Virtual Product Innovation Assessment » measures the performance obtained using best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495440" y="1682640"/>
            <a:ext cx="8396280" cy="557388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6006960" y="2104920"/>
            <a:ext cx="403560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79200" y="6480"/>
            <a:ext cx="6720120" cy="769284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3387600" y="3016080"/>
            <a:ext cx="66549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ff"/>
                </a:solidFill>
                <a:latin typeface="Arial Black"/>
              </a:rPr>
              <a:t>Thank You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20720" y="311040"/>
            <a:ext cx="80568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BM Application Framewo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for e-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01680" y="1576440"/>
            <a:ext cx="7345440" cy="5643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6040" y="2155680"/>
            <a:ext cx="17175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nterprise Resource Planni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10160" y="2517840"/>
            <a:ext cx="1740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5600" y="3762360"/>
            <a:ext cx="17161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lation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8200" y="5556240"/>
            <a:ext cx="175752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fe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76960" y="4264200"/>
            <a:ext cx="1809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23080" y="5987880"/>
            <a:ext cx="17841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40240" y="3465360"/>
            <a:ext cx="276696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e-busines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Framework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89160" y="2143080"/>
            <a:ext cx="47304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82080" y="2143080"/>
            <a:ext cx="47304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20720" y="43848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reating and Driving Product Cont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14480" y="914400"/>
            <a:ext cx="7305840" cy="6448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59120" y="7018200"/>
            <a:ext cx="29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854e2"/>
                </a:solidFill>
                <a:latin typeface="Arial"/>
              </a:rPr>
              <a:t>Collabo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81560" y="70182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854e2"/>
                </a:solidFill>
                <a:latin typeface="Arial"/>
              </a:rPr>
              <a:t>Integ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0040" y="6551640"/>
            <a:ext cx="73407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urce: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Masters: Secrets of the Customer Role, John McKea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71560" y="1319040"/>
            <a:ext cx="6191280" cy="34228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47800" y="1292400"/>
            <a:ext cx="3121200" cy="701640"/>
          </a:xfrm>
          <a:prstGeom prst="rect">
            <a:avLst/>
          </a:prstGeom>
          <a:solidFill>
            <a:srgbClr val="485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duct Qua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48120" y="1292400"/>
            <a:ext cx="3121200" cy="701640"/>
          </a:xfrm>
          <a:prstGeom prst="rect">
            <a:avLst/>
          </a:prstGeom>
          <a:solidFill>
            <a:srgbClr val="485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47800" y="1974960"/>
            <a:ext cx="3121200" cy="703080"/>
          </a:xfrm>
          <a:prstGeom prst="rect">
            <a:avLst/>
          </a:prstGeom>
          <a:solidFill>
            <a:srgbClr val="485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48120" y="1974960"/>
            <a:ext cx="3121200" cy="703080"/>
          </a:xfrm>
          <a:prstGeom prst="rect">
            <a:avLst/>
          </a:prstGeom>
          <a:solidFill>
            <a:srgbClr val="485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47800" y="2657520"/>
            <a:ext cx="3121200" cy="701640"/>
          </a:xfrm>
          <a:prstGeom prst="rect">
            <a:avLst/>
          </a:prstGeom>
          <a:solidFill>
            <a:srgbClr val="485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pair / 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48120" y="2657520"/>
            <a:ext cx="3121200" cy="701640"/>
          </a:xfrm>
          <a:prstGeom prst="rect">
            <a:avLst/>
          </a:prstGeom>
          <a:solidFill>
            <a:srgbClr val="485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47800" y="3340080"/>
            <a:ext cx="3121200" cy="701640"/>
          </a:xfrm>
          <a:prstGeom prst="rect">
            <a:avLst/>
          </a:prstGeom>
          <a:solidFill>
            <a:srgbClr val="485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itial Inst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48120" y="3340080"/>
            <a:ext cx="3121200" cy="701640"/>
          </a:xfrm>
          <a:prstGeom prst="rect">
            <a:avLst/>
          </a:prstGeom>
          <a:solidFill>
            <a:srgbClr val="485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47800" y="4021200"/>
            <a:ext cx="3121200" cy="701640"/>
          </a:xfrm>
          <a:prstGeom prst="rect">
            <a:avLst/>
          </a:prstGeom>
          <a:solidFill>
            <a:srgbClr val="485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ill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48120" y="4021200"/>
            <a:ext cx="3121200" cy="701640"/>
          </a:xfrm>
          <a:prstGeom prst="rect">
            <a:avLst/>
          </a:prstGeom>
          <a:solidFill>
            <a:srgbClr val="485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25480" y="4979880"/>
            <a:ext cx="6931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a0030"/>
                </a:solidFill>
                <a:latin typeface="Arial"/>
              </a:rPr>
              <a:t>85% of downstream processes derive customer value from enhanced access to product content information throughout the product lifecyc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96960" y="1249200"/>
            <a:ext cx="7497720" cy="2883240"/>
          </a:xfrm>
          <a:prstGeom prst="rect">
            <a:avLst/>
          </a:prstGeom>
          <a:noFill/>
          <a:ln w="8892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91360" y="2284560"/>
            <a:ext cx="1000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0030"/>
                </a:solidFill>
                <a:latin typeface="Arial"/>
              </a:rPr>
              <a:t>85%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20720" y="43848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duct content = Customer 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20720" y="311040"/>
            <a:ext cx="80568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BM Application Framewo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 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52560" y="4327560"/>
            <a:ext cx="7416720" cy="65160"/>
          </a:xfrm>
          <a:custGeom>
            <a:avLst/>
            <a:gdLst/>
            <a:ahLst/>
            <a:rect l="l" t="t" r="r" b="b"/>
            <a:pathLst>
              <a:path w="4672" h="41">
                <a:moveTo>
                  <a:pt x="0" y="41"/>
                </a:moveTo>
                <a:lnTo>
                  <a:pt x="40" y="0"/>
                </a:lnTo>
                <a:lnTo>
                  <a:pt x="4672" y="0"/>
                </a:lnTo>
                <a:lnTo>
                  <a:pt x="4631" y="4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04120" y="5610240"/>
            <a:ext cx="295200" cy="1347840"/>
          </a:xfrm>
          <a:custGeom>
            <a:avLst/>
            <a:gdLst/>
            <a:ahLst/>
            <a:rect l="l" t="t" r="r" b="b"/>
            <a:pathLst>
              <a:path w="186" h="849">
                <a:moveTo>
                  <a:pt x="145" y="41"/>
                </a:moveTo>
                <a:lnTo>
                  <a:pt x="186" y="0"/>
                </a:lnTo>
                <a:lnTo>
                  <a:pt x="41" y="808"/>
                </a:lnTo>
                <a:lnTo>
                  <a:pt x="0" y="84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04120" y="4327560"/>
            <a:ext cx="295200" cy="1347840"/>
          </a:xfrm>
          <a:custGeom>
            <a:avLst/>
            <a:gdLst/>
            <a:ahLst/>
            <a:rect l="l" t="t" r="r" b="b"/>
            <a:pathLst>
              <a:path w="186" h="849">
                <a:moveTo>
                  <a:pt x="0" y="41"/>
                </a:moveTo>
                <a:lnTo>
                  <a:pt x="41" y="0"/>
                </a:lnTo>
                <a:lnTo>
                  <a:pt x="186" y="808"/>
                </a:lnTo>
                <a:lnTo>
                  <a:pt x="145" y="84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52560" y="4392720"/>
            <a:ext cx="7581960" cy="2565360"/>
          </a:xfrm>
          <a:custGeom>
            <a:avLst/>
            <a:gdLst/>
            <a:ahLst/>
            <a:rect l="l" t="t" r="r" b="b"/>
            <a:pathLst>
              <a:path w="4776" h="1616">
                <a:moveTo>
                  <a:pt x="0" y="0"/>
                </a:moveTo>
                <a:lnTo>
                  <a:pt x="145" y="808"/>
                </a:lnTo>
                <a:lnTo>
                  <a:pt x="0" y="1616"/>
                </a:lnTo>
                <a:lnTo>
                  <a:pt x="4631" y="1616"/>
                </a:lnTo>
                <a:lnTo>
                  <a:pt x="4776" y="808"/>
                </a:lnTo>
                <a:lnTo>
                  <a:pt x="4631" y="0"/>
                </a:lnTo>
                <a:close/>
              </a:path>
            </a:pathLst>
          </a:cu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52560" y="1465200"/>
            <a:ext cx="7416720" cy="66600"/>
          </a:xfrm>
          <a:custGeom>
            <a:avLst/>
            <a:gdLst/>
            <a:ahLst/>
            <a:rect l="l" t="t" r="r" b="b"/>
            <a:pathLst>
              <a:path w="4672" h="42">
                <a:moveTo>
                  <a:pt x="0" y="42"/>
                </a:moveTo>
                <a:lnTo>
                  <a:pt x="40" y="0"/>
                </a:lnTo>
                <a:lnTo>
                  <a:pt x="4672" y="0"/>
                </a:lnTo>
                <a:lnTo>
                  <a:pt x="4631" y="4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4120" y="2747880"/>
            <a:ext cx="295200" cy="1349280"/>
          </a:xfrm>
          <a:custGeom>
            <a:avLst/>
            <a:gdLst/>
            <a:ahLst/>
            <a:rect l="l" t="t" r="r" b="b"/>
            <a:pathLst>
              <a:path w="186" h="850">
                <a:moveTo>
                  <a:pt x="145" y="42"/>
                </a:moveTo>
                <a:lnTo>
                  <a:pt x="186" y="0"/>
                </a:lnTo>
                <a:lnTo>
                  <a:pt x="41" y="808"/>
                </a:lnTo>
                <a:lnTo>
                  <a:pt x="0" y="850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04120" y="1465200"/>
            <a:ext cx="295200" cy="1349280"/>
          </a:xfrm>
          <a:custGeom>
            <a:avLst/>
            <a:gdLst/>
            <a:ahLst/>
            <a:rect l="l" t="t" r="r" b="b"/>
            <a:pathLst>
              <a:path w="186" h="850">
                <a:moveTo>
                  <a:pt x="0" y="42"/>
                </a:moveTo>
                <a:lnTo>
                  <a:pt x="41" y="0"/>
                </a:lnTo>
                <a:lnTo>
                  <a:pt x="186" y="808"/>
                </a:lnTo>
                <a:lnTo>
                  <a:pt x="145" y="850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52560" y="1531800"/>
            <a:ext cx="7581960" cy="2565360"/>
          </a:xfrm>
          <a:custGeom>
            <a:avLst/>
            <a:gdLst/>
            <a:ahLst/>
            <a:rect l="l" t="t" r="r" b="b"/>
            <a:pathLst>
              <a:path w="4776" h="1616">
                <a:moveTo>
                  <a:pt x="0" y="0"/>
                </a:moveTo>
                <a:lnTo>
                  <a:pt x="145" y="808"/>
                </a:lnTo>
                <a:lnTo>
                  <a:pt x="0" y="1616"/>
                </a:lnTo>
                <a:lnTo>
                  <a:pt x="4631" y="1616"/>
                </a:lnTo>
                <a:lnTo>
                  <a:pt x="4776" y="808"/>
                </a:lnTo>
                <a:lnTo>
                  <a:pt x="4631" y="0"/>
                </a:lnTo>
                <a:close/>
              </a:path>
            </a:pathLst>
          </a:cu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70320" y="6323040"/>
            <a:ext cx="954000" cy="87120"/>
          </a:xfrm>
          <a:custGeom>
            <a:avLst/>
            <a:gdLst/>
            <a:ahLst/>
            <a:rect l="l" t="t" r="r" b="b"/>
            <a:pathLst>
              <a:path w="601" h="55">
                <a:moveTo>
                  <a:pt x="127" y="0"/>
                </a:moveTo>
                <a:lnTo>
                  <a:pt x="601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009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70320" y="6410160"/>
            <a:ext cx="758880" cy="32724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00c5ae"/>
              </a:gs>
              <a:gs pos="100000">
                <a:srgbClr val="0098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25960" y="6326280"/>
            <a:ext cx="198360" cy="411120"/>
          </a:xfrm>
          <a:custGeom>
            <a:avLst/>
            <a:gdLst/>
            <a:ahLst/>
            <a:rect l="l" t="t" r="r" b="b"/>
            <a:pathLst>
              <a:path w="125" h="259">
                <a:moveTo>
                  <a:pt x="125" y="0"/>
                </a:moveTo>
                <a:lnTo>
                  <a:pt x="125" y="205"/>
                </a:lnTo>
                <a:lnTo>
                  <a:pt x="0" y="259"/>
                </a:lnTo>
                <a:lnTo>
                  <a:pt x="0" y="5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86160" y="6431040"/>
            <a:ext cx="74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4000" y="6408720"/>
            <a:ext cx="760680" cy="328680"/>
          </a:xfrm>
          <a:custGeom>
            <a:avLst/>
            <a:gdLst/>
            <a:ahLst/>
            <a:rect l="l" t="t" r="r" b="b"/>
            <a:pathLst>
              <a:path w="479" h="207">
                <a:moveTo>
                  <a:pt x="479" y="207"/>
                </a:moveTo>
                <a:lnTo>
                  <a:pt x="479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bc0024"/>
              </a:gs>
              <a:gs pos="100000">
                <a:srgbClr val="00c5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4000" y="6321600"/>
            <a:ext cx="954360" cy="87120"/>
          </a:xfrm>
          <a:custGeom>
            <a:avLst/>
            <a:gdLst/>
            <a:ahLst/>
            <a:rect l="l" t="t" r="r" b="b"/>
            <a:pathLst>
              <a:path w="601" h="55">
                <a:moveTo>
                  <a:pt x="127" y="0"/>
                </a:moveTo>
                <a:lnTo>
                  <a:pt x="601" y="2"/>
                </a:lnTo>
                <a:lnTo>
                  <a:pt x="477" y="55"/>
                </a:lnTo>
                <a:lnTo>
                  <a:pt x="0" y="55"/>
                </a:lnTo>
                <a:close/>
              </a:path>
            </a:pathLst>
          </a:custGeom>
          <a:solidFill>
            <a:srgbClr val="96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1440" y="6324480"/>
            <a:ext cx="196920" cy="412920"/>
          </a:xfrm>
          <a:custGeom>
            <a:avLst/>
            <a:gdLst/>
            <a:ahLst/>
            <a:rect l="l" t="t" r="r" b="b"/>
            <a:pathLst>
              <a:path w="124" h="260">
                <a:moveTo>
                  <a:pt x="124" y="0"/>
                </a:moveTo>
                <a:lnTo>
                  <a:pt x="124" y="205"/>
                </a:lnTo>
                <a:lnTo>
                  <a:pt x="0" y="260"/>
                </a:lnTo>
                <a:lnTo>
                  <a:pt x="0" y="5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00480" y="6407280"/>
            <a:ext cx="801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ier Collabo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92600" y="6040440"/>
            <a:ext cx="758880" cy="32688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bc0024"/>
              </a:gs>
              <a:gs pos="100000">
                <a:srgbClr val="00c5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2600" y="5952960"/>
            <a:ext cx="954000" cy="87480"/>
          </a:xfrm>
          <a:custGeom>
            <a:avLst/>
            <a:gdLst/>
            <a:ahLst/>
            <a:rect l="l" t="t" r="r" b="b"/>
            <a:pathLst>
              <a:path w="601" h="55">
                <a:moveTo>
                  <a:pt x="125" y="0"/>
                </a:moveTo>
                <a:lnTo>
                  <a:pt x="601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96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48240" y="5956200"/>
            <a:ext cx="198360" cy="411120"/>
          </a:xfrm>
          <a:custGeom>
            <a:avLst/>
            <a:gdLst/>
            <a:ahLst/>
            <a:rect l="l" t="t" r="r" b="b"/>
            <a:pathLst>
              <a:path w="125" h="259">
                <a:moveTo>
                  <a:pt x="125" y="0"/>
                </a:moveTo>
                <a:lnTo>
                  <a:pt x="125" y="205"/>
                </a:lnTo>
                <a:lnTo>
                  <a:pt x="0" y="259"/>
                </a:lnTo>
                <a:lnTo>
                  <a:pt x="0" y="5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6049800"/>
            <a:ext cx="74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use / Plat. Pla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76520" y="5952960"/>
            <a:ext cx="955800" cy="87480"/>
          </a:xfrm>
          <a:custGeom>
            <a:avLst/>
            <a:gdLst/>
            <a:ahLst/>
            <a:rect l="l" t="t" r="r" b="b"/>
            <a:pathLst>
              <a:path w="602" h="55">
                <a:moveTo>
                  <a:pt x="126" y="0"/>
                </a:moveTo>
                <a:lnTo>
                  <a:pt x="602" y="2"/>
                </a:lnTo>
                <a:lnTo>
                  <a:pt x="477" y="55"/>
                </a:lnTo>
                <a:lnTo>
                  <a:pt x="0" y="55"/>
                </a:lnTo>
                <a:close/>
              </a:path>
            </a:pathLst>
          </a:custGeom>
          <a:solidFill>
            <a:srgbClr val="009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76520" y="6040440"/>
            <a:ext cx="758880" cy="32688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00c5ae"/>
              </a:gs>
              <a:gs pos="100000">
                <a:srgbClr val="0098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3600" y="5956200"/>
            <a:ext cx="198720" cy="411120"/>
          </a:xfrm>
          <a:custGeom>
            <a:avLst/>
            <a:gdLst/>
            <a:ahLst/>
            <a:rect l="l" t="t" r="r" b="b"/>
            <a:pathLst>
              <a:path w="125" h="259">
                <a:moveTo>
                  <a:pt x="125" y="0"/>
                </a:moveTo>
                <a:lnTo>
                  <a:pt x="125" y="205"/>
                </a:lnTo>
                <a:lnTo>
                  <a:pt x="0" y="259"/>
                </a:lnTo>
                <a:lnTo>
                  <a:pt x="0" y="5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2360" y="6062760"/>
            <a:ext cx="74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69040" y="3218040"/>
            <a:ext cx="19656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5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97320" y="1938240"/>
            <a:ext cx="758880" cy="32724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f32d3b"/>
              </a:gs>
              <a:gs pos="100000">
                <a:srgbClr val="bc00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97320" y="1849320"/>
            <a:ext cx="952560" cy="88920"/>
          </a:xfrm>
          <a:custGeom>
            <a:avLst/>
            <a:gdLst/>
            <a:ahLst/>
            <a:rect l="l" t="t" r="r" b="b"/>
            <a:pathLst>
              <a:path w="600" h="56">
                <a:moveTo>
                  <a:pt x="125" y="0"/>
                </a:moveTo>
                <a:lnTo>
                  <a:pt x="600" y="2"/>
                </a:lnTo>
                <a:lnTo>
                  <a:pt x="476" y="56"/>
                </a:lnTo>
                <a:lnTo>
                  <a:pt x="0" y="56"/>
                </a:lnTo>
                <a:close/>
              </a:path>
            </a:pathLst>
          </a:custGeom>
          <a:solidFill>
            <a:srgbClr val="96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52960" y="1852560"/>
            <a:ext cx="196920" cy="412920"/>
          </a:xfrm>
          <a:custGeom>
            <a:avLst/>
            <a:gdLst/>
            <a:ahLst/>
            <a:rect l="l" t="t" r="r" b="b"/>
            <a:pathLst>
              <a:path w="124" h="260">
                <a:moveTo>
                  <a:pt x="124" y="0"/>
                </a:moveTo>
                <a:lnTo>
                  <a:pt x="124" y="206"/>
                </a:lnTo>
                <a:lnTo>
                  <a:pt x="0" y="260"/>
                </a:lnTo>
                <a:lnTo>
                  <a:pt x="0" y="5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09920" y="1951200"/>
            <a:ext cx="74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siness Pla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97320" y="2332080"/>
            <a:ext cx="758880" cy="32688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f32d3b"/>
              </a:gs>
              <a:gs pos="100000">
                <a:srgbClr val="bc00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97320" y="2243160"/>
            <a:ext cx="952560" cy="88920"/>
          </a:xfrm>
          <a:custGeom>
            <a:avLst/>
            <a:gdLst/>
            <a:ahLst/>
            <a:rect l="l" t="t" r="r" b="b"/>
            <a:pathLst>
              <a:path w="600" h="56">
                <a:moveTo>
                  <a:pt x="125" y="0"/>
                </a:moveTo>
                <a:lnTo>
                  <a:pt x="600" y="2"/>
                </a:lnTo>
                <a:lnTo>
                  <a:pt x="476" y="56"/>
                </a:lnTo>
                <a:lnTo>
                  <a:pt x="0" y="56"/>
                </a:lnTo>
                <a:close/>
              </a:path>
            </a:pathLst>
          </a:custGeom>
          <a:solidFill>
            <a:srgbClr val="96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52960" y="2246400"/>
            <a:ext cx="196920" cy="412560"/>
          </a:xfrm>
          <a:custGeom>
            <a:avLst/>
            <a:gdLst/>
            <a:ahLst/>
            <a:rect l="l" t="t" r="r" b="b"/>
            <a:pathLst>
              <a:path w="124" h="260">
                <a:moveTo>
                  <a:pt x="124" y="0"/>
                </a:moveTo>
                <a:lnTo>
                  <a:pt x="124" y="206"/>
                </a:lnTo>
                <a:lnTo>
                  <a:pt x="0" y="260"/>
                </a:lnTo>
                <a:lnTo>
                  <a:pt x="0" y="5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09920" y="2343240"/>
            <a:ext cx="74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mand Pla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97320" y="2717640"/>
            <a:ext cx="758880" cy="330480"/>
          </a:xfrm>
          <a:custGeom>
            <a:avLst/>
            <a:gdLst/>
            <a:ahLst/>
            <a:rect l="l" t="t" r="r" b="b"/>
            <a:pathLst>
              <a:path w="478" h="208">
                <a:moveTo>
                  <a:pt x="478" y="208"/>
                </a:moveTo>
                <a:lnTo>
                  <a:pt x="478" y="0"/>
                </a:lnTo>
                <a:lnTo>
                  <a:pt x="0" y="0"/>
                </a:lnTo>
                <a:lnTo>
                  <a:pt x="0" y="208"/>
                </a:lnTo>
                <a:close/>
              </a:path>
            </a:pathLst>
          </a:custGeom>
          <a:gradFill rotWithShape="0">
            <a:gsLst>
              <a:gs pos="0">
                <a:srgbClr val="f32d3b"/>
              </a:gs>
              <a:gs pos="100000">
                <a:srgbClr val="bc00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97320" y="2631960"/>
            <a:ext cx="952560" cy="85680"/>
          </a:xfrm>
          <a:custGeom>
            <a:avLst/>
            <a:gdLst/>
            <a:ahLst/>
            <a:rect l="l" t="t" r="r" b="b"/>
            <a:pathLst>
              <a:path w="600" h="54">
                <a:moveTo>
                  <a:pt x="125" y="0"/>
                </a:moveTo>
                <a:lnTo>
                  <a:pt x="600" y="2"/>
                </a:lnTo>
                <a:lnTo>
                  <a:pt x="476" y="54"/>
                </a:lnTo>
                <a:lnTo>
                  <a:pt x="0" y="54"/>
                </a:lnTo>
                <a:close/>
              </a:path>
            </a:pathLst>
          </a:custGeom>
          <a:solidFill>
            <a:srgbClr val="96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52960" y="2635200"/>
            <a:ext cx="196920" cy="412920"/>
          </a:xfrm>
          <a:custGeom>
            <a:avLst/>
            <a:gdLst/>
            <a:ahLst/>
            <a:rect l="l" t="t" r="r" b="b"/>
            <a:pathLst>
              <a:path w="124" h="260">
                <a:moveTo>
                  <a:pt x="124" y="0"/>
                </a:moveTo>
                <a:lnTo>
                  <a:pt x="124" y="205"/>
                </a:lnTo>
                <a:lnTo>
                  <a:pt x="0" y="260"/>
                </a:lnTo>
                <a:lnTo>
                  <a:pt x="0" y="5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81480" y="2730600"/>
            <a:ext cx="79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 Ch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11600" y="3586320"/>
            <a:ext cx="954000" cy="88920"/>
          </a:xfrm>
          <a:custGeom>
            <a:avLst/>
            <a:gdLst/>
            <a:ahLst/>
            <a:rect l="l" t="t" r="r" b="b"/>
            <a:pathLst>
              <a:path w="601" h="56">
                <a:moveTo>
                  <a:pt x="126" y="0"/>
                </a:moveTo>
                <a:lnTo>
                  <a:pt x="601" y="3"/>
                </a:lnTo>
                <a:lnTo>
                  <a:pt x="477" y="56"/>
                </a:lnTo>
                <a:lnTo>
                  <a:pt x="0" y="56"/>
                </a:lnTo>
                <a:close/>
              </a:path>
            </a:pathLst>
          </a:custGeom>
          <a:solidFill>
            <a:srgbClr val="009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11600" y="3675240"/>
            <a:ext cx="758880" cy="32688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00c5ae"/>
              </a:gs>
              <a:gs pos="100000">
                <a:srgbClr val="0098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61120" y="3584520"/>
            <a:ext cx="19656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5"/>
                </a:lnTo>
                <a:lnTo>
                  <a:pt x="0" y="259"/>
                </a:lnTo>
                <a:lnTo>
                  <a:pt x="0" y="5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27440" y="3693960"/>
            <a:ext cx="74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35640" y="2120760"/>
            <a:ext cx="758880" cy="32724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9191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2031840"/>
            <a:ext cx="952560" cy="88920"/>
          </a:xfrm>
          <a:custGeom>
            <a:avLst/>
            <a:gdLst/>
            <a:ahLst/>
            <a:rect l="l" t="t" r="r" b="b"/>
            <a:pathLst>
              <a:path w="600" h="56">
                <a:moveTo>
                  <a:pt x="126" y="0"/>
                </a:moveTo>
                <a:lnTo>
                  <a:pt x="600" y="3"/>
                </a:lnTo>
                <a:lnTo>
                  <a:pt x="476" y="56"/>
                </a:lnTo>
                <a:lnTo>
                  <a:pt x="0" y="5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91280" y="2036880"/>
            <a:ext cx="19692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5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51480" y="2125800"/>
            <a:ext cx="74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35640" y="2514600"/>
            <a:ext cx="758880" cy="328680"/>
          </a:xfrm>
          <a:custGeom>
            <a:avLst/>
            <a:gdLst/>
            <a:ahLst/>
            <a:rect l="l" t="t" r="r" b="b"/>
            <a:pathLst>
              <a:path w="478" h="207">
                <a:moveTo>
                  <a:pt x="478" y="207"/>
                </a:moveTo>
                <a:lnTo>
                  <a:pt x="478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9191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2427120"/>
            <a:ext cx="952560" cy="87480"/>
          </a:xfrm>
          <a:custGeom>
            <a:avLst/>
            <a:gdLst/>
            <a:ahLst/>
            <a:rect l="l" t="t" r="r" b="b"/>
            <a:pathLst>
              <a:path w="600" h="55">
                <a:moveTo>
                  <a:pt x="126" y="0"/>
                </a:moveTo>
                <a:lnTo>
                  <a:pt x="600" y="3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91280" y="2432160"/>
            <a:ext cx="19692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4"/>
                </a:lnTo>
                <a:lnTo>
                  <a:pt x="0" y="259"/>
                </a:lnTo>
                <a:lnTo>
                  <a:pt x="0" y="50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51480" y="2532240"/>
            <a:ext cx="74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35640" y="3301920"/>
            <a:ext cx="758880" cy="32724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9191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35640" y="3214800"/>
            <a:ext cx="952560" cy="87120"/>
          </a:xfrm>
          <a:custGeom>
            <a:avLst/>
            <a:gdLst/>
            <a:ahLst/>
            <a:rect l="l" t="t" r="r" b="b"/>
            <a:pathLst>
              <a:path w="600" h="55">
                <a:moveTo>
                  <a:pt x="126" y="0"/>
                </a:moveTo>
                <a:lnTo>
                  <a:pt x="600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91280" y="3218040"/>
            <a:ext cx="19692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5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51480" y="3317760"/>
            <a:ext cx="74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54640" y="2120760"/>
            <a:ext cx="758880" cy="32724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9191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54640" y="2031840"/>
            <a:ext cx="952560" cy="88920"/>
          </a:xfrm>
          <a:custGeom>
            <a:avLst/>
            <a:gdLst/>
            <a:ahLst/>
            <a:rect l="l" t="t" r="r" b="b"/>
            <a:pathLst>
              <a:path w="600" h="56">
                <a:moveTo>
                  <a:pt x="126" y="0"/>
                </a:moveTo>
                <a:lnTo>
                  <a:pt x="600" y="3"/>
                </a:lnTo>
                <a:lnTo>
                  <a:pt x="476" y="56"/>
                </a:lnTo>
                <a:lnTo>
                  <a:pt x="0" y="5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2036880"/>
            <a:ext cx="19692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5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43560" y="2195640"/>
            <a:ext cx="73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46080" y="5661000"/>
            <a:ext cx="758880" cy="32688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f32d3b"/>
              </a:gs>
              <a:gs pos="100000">
                <a:srgbClr val="bc00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46080" y="5573880"/>
            <a:ext cx="954000" cy="87120"/>
          </a:xfrm>
          <a:custGeom>
            <a:avLst/>
            <a:gdLst/>
            <a:ahLst/>
            <a:rect l="l" t="t" r="r" b="b"/>
            <a:pathLst>
              <a:path w="601" h="55">
                <a:moveTo>
                  <a:pt x="127" y="0"/>
                </a:moveTo>
                <a:lnTo>
                  <a:pt x="601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96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01720" y="5576760"/>
            <a:ext cx="198360" cy="411120"/>
          </a:xfrm>
          <a:custGeom>
            <a:avLst/>
            <a:gdLst/>
            <a:ahLst/>
            <a:rect l="l" t="t" r="r" b="b"/>
            <a:pathLst>
              <a:path w="125" h="259">
                <a:moveTo>
                  <a:pt x="125" y="0"/>
                </a:moveTo>
                <a:lnTo>
                  <a:pt x="125" y="206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63720" y="5670720"/>
            <a:ext cx="74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folio Pla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66880" y="5661000"/>
            <a:ext cx="758880" cy="32688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f32d3b"/>
              </a:gs>
              <a:gs pos="100000">
                <a:srgbClr val="bc00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66880" y="5573880"/>
            <a:ext cx="952560" cy="87120"/>
          </a:xfrm>
          <a:custGeom>
            <a:avLst/>
            <a:gdLst/>
            <a:ahLst/>
            <a:rect l="l" t="t" r="r" b="b"/>
            <a:pathLst>
              <a:path w="600" h="55">
                <a:moveTo>
                  <a:pt x="126" y="0"/>
                </a:moveTo>
                <a:lnTo>
                  <a:pt x="600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96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22520" y="5576760"/>
            <a:ext cx="19692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6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35200" y="5665680"/>
            <a:ext cx="81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79760" y="5661000"/>
            <a:ext cx="758880" cy="32688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ffed24"/>
              </a:gs>
              <a:gs pos="100000">
                <a:srgbClr val="ffad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79760" y="5573880"/>
            <a:ext cx="954000" cy="87120"/>
          </a:xfrm>
          <a:custGeom>
            <a:avLst/>
            <a:gdLst/>
            <a:ahLst/>
            <a:rect l="l" t="t" r="r" b="b"/>
            <a:pathLst>
              <a:path w="601" h="55">
                <a:moveTo>
                  <a:pt x="126" y="0"/>
                </a:moveTo>
                <a:lnTo>
                  <a:pt x="601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49520" y="566568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cept /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35400" y="5576760"/>
            <a:ext cx="198360" cy="411120"/>
          </a:xfrm>
          <a:custGeom>
            <a:avLst/>
            <a:gdLst/>
            <a:ahLst/>
            <a:rect l="l" t="t" r="r" b="b"/>
            <a:pathLst>
              <a:path w="125" h="259">
                <a:moveTo>
                  <a:pt x="125" y="0"/>
                </a:moveTo>
                <a:lnTo>
                  <a:pt x="125" y="206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8f4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05240" y="5661000"/>
            <a:ext cx="758880" cy="32688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ffed24"/>
              </a:gs>
              <a:gs pos="100000">
                <a:srgbClr val="ffad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05240" y="5573880"/>
            <a:ext cx="954000" cy="87120"/>
          </a:xfrm>
          <a:custGeom>
            <a:avLst/>
            <a:gdLst/>
            <a:ahLst/>
            <a:rect l="l" t="t" r="r" b="b"/>
            <a:pathLst>
              <a:path w="601" h="55">
                <a:moveTo>
                  <a:pt x="127" y="0"/>
                </a:moveTo>
                <a:lnTo>
                  <a:pt x="601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60880" y="5576760"/>
            <a:ext cx="198360" cy="411120"/>
          </a:xfrm>
          <a:custGeom>
            <a:avLst/>
            <a:gdLst/>
            <a:ahLst/>
            <a:rect l="l" t="t" r="r" b="b"/>
            <a:pathLst>
              <a:path w="125" h="259">
                <a:moveTo>
                  <a:pt x="125" y="0"/>
                </a:moveTo>
                <a:lnTo>
                  <a:pt x="125" y="206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8f4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73560" y="5665680"/>
            <a:ext cx="81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d Def &amp; 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26040" y="5661000"/>
            <a:ext cx="758880" cy="32688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ffed24"/>
              </a:gs>
              <a:gs pos="100000">
                <a:srgbClr val="ffad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4000" y="5665680"/>
            <a:ext cx="81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A / MDA Detail 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81680" y="5576760"/>
            <a:ext cx="19692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6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8f4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43600" y="5661000"/>
            <a:ext cx="760320" cy="326880"/>
          </a:xfrm>
          <a:custGeom>
            <a:avLst/>
            <a:gdLst/>
            <a:ahLst/>
            <a:rect l="l" t="t" r="r" b="b"/>
            <a:pathLst>
              <a:path w="479" h="206">
                <a:moveTo>
                  <a:pt x="479" y="206"/>
                </a:moveTo>
                <a:lnTo>
                  <a:pt x="479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ffed24"/>
              </a:gs>
              <a:gs pos="100000">
                <a:srgbClr val="ffad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43600" y="5573880"/>
            <a:ext cx="954000" cy="87120"/>
          </a:xfrm>
          <a:custGeom>
            <a:avLst/>
            <a:gdLst/>
            <a:ahLst/>
            <a:rect l="l" t="t" r="r" b="b"/>
            <a:pathLst>
              <a:path w="601" h="55">
                <a:moveTo>
                  <a:pt x="127" y="0"/>
                </a:moveTo>
                <a:lnTo>
                  <a:pt x="601" y="2"/>
                </a:lnTo>
                <a:lnTo>
                  <a:pt x="477" y="55"/>
                </a:lnTo>
                <a:lnTo>
                  <a:pt x="0" y="55"/>
                </a:ln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13360" y="5665680"/>
            <a:ext cx="81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lec / Me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00680" y="5576760"/>
            <a:ext cx="19692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6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8f4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05240" y="5268960"/>
            <a:ext cx="758880" cy="32688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ffed24"/>
              </a:gs>
              <a:gs pos="100000">
                <a:srgbClr val="ffad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05240" y="5181480"/>
            <a:ext cx="954000" cy="87480"/>
          </a:xfrm>
          <a:custGeom>
            <a:avLst/>
            <a:gdLst/>
            <a:ahLst/>
            <a:rect l="l" t="t" r="r" b="b"/>
            <a:pathLst>
              <a:path w="601" h="55">
                <a:moveTo>
                  <a:pt x="127" y="0"/>
                </a:moveTo>
                <a:lnTo>
                  <a:pt x="601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60880" y="5184720"/>
            <a:ext cx="198360" cy="411120"/>
          </a:xfrm>
          <a:custGeom>
            <a:avLst/>
            <a:gdLst/>
            <a:ahLst/>
            <a:rect l="l" t="t" r="r" b="b"/>
            <a:pathLst>
              <a:path w="125" h="259">
                <a:moveTo>
                  <a:pt x="125" y="0"/>
                </a:moveTo>
                <a:lnTo>
                  <a:pt x="125" y="205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8f4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73560" y="5272200"/>
            <a:ext cx="81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gineering Chan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02000" y="4876920"/>
            <a:ext cx="760320" cy="328320"/>
          </a:xfrm>
          <a:custGeom>
            <a:avLst/>
            <a:gdLst/>
            <a:ahLst/>
            <a:rect l="l" t="t" r="r" b="b"/>
            <a:pathLst>
              <a:path w="479" h="207">
                <a:moveTo>
                  <a:pt x="479" y="207"/>
                </a:moveTo>
                <a:lnTo>
                  <a:pt x="479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f32d3b"/>
              </a:gs>
              <a:gs pos="100000">
                <a:srgbClr val="bc00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02000" y="4789440"/>
            <a:ext cx="955800" cy="87480"/>
          </a:xfrm>
          <a:custGeom>
            <a:avLst/>
            <a:gdLst/>
            <a:ahLst/>
            <a:rect l="l" t="t" r="r" b="b"/>
            <a:pathLst>
              <a:path w="602" h="55">
                <a:moveTo>
                  <a:pt x="127" y="0"/>
                </a:moveTo>
                <a:lnTo>
                  <a:pt x="602" y="2"/>
                </a:lnTo>
                <a:lnTo>
                  <a:pt x="477" y="55"/>
                </a:lnTo>
                <a:lnTo>
                  <a:pt x="0" y="55"/>
                </a:lnTo>
                <a:close/>
              </a:path>
            </a:pathLst>
          </a:custGeom>
          <a:solidFill>
            <a:srgbClr val="96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59080" y="4792680"/>
            <a:ext cx="198720" cy="412560"/>
          </a:xfrm>
          <a:custGeom>
            <a:avLst/>
            <a:gdLst/>
            <a:ahLst/>
            <a:rect l="l" t="t" r="r" b="b"/>
            <a:pathLst>
              <a:path w="125" h="260">
                <a:moveTo>
                  <a:pt x="125" y="0"/>
                </a:moveTo>
                <a:lnTo>
                  <a:pt x="125" y="206"/>
                </a:lnTo>
                <a:lnTo>
                  <a:pt x="0" y="260"/>
                </a:lnTo>
                <a:lnTo>
                  <a:pt x="0" y="5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05240" y="4871880"/>
            <a:ext cx="82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/Resource M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26040" y="5573880"/>
            <a:ext cx="952560" cy="87120"/>
          </a:xfrm>
          <a:custGeom>
            <a:avLst/>
            <a:gdLst/>
            <a:ahLst/>
            <a:rect l="l" t="t" r="r" b="b"/>
            <a:pathLst>
              <a:path w="600" h="55">
                <a:moveTo>
                  <a:pt x="126" y="0"/>
                </a:moveTo>
                <a:lnTo>
                  <a:pt x="600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72320" y="5661000"/>
            <a:ext cx="758520" cy="32688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ffed24"/>
              </a:gs>
              <a:gs pos="100000">
                <a:srgbClr val="ffad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7960" y="5576760"/>
            <a:ext cx="19656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6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8f4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2360" y="5665680"/>
            <a:ext cx="82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f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4400" y="5583240"/>
            <a:ext cx="954000" cy="85680"/>
          </a:xfrm>
          <a:custGeom>
            <a:avLst/>
            <a:gdLst/>
            <a:ahLst/>
            <a:rect l="l" t="t" r="r" b="b"/>
            <a:pathLst>
              <a:path w="601" h="54">
                <a:moveTo>
                  <a:pt x="126" y="0"/>
                </a:moveTo>
                <a:lnTo>
                  <a:pt x="601" y="2"/>
                </a:lnTo>
                <a:lnTo>
                  <a:pt x="476" y="54"/>
                </a:lnTo>
                <a:lnTo>
                  <a:pt x="0" y="54"/>
                </a:ln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72320" y="5261040"/>
            <a:ext cx="758520" cy="32688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ffed24"/>
              </a:gs>
              <a:gs pos="100000">
                <a:srgbClr val="ffad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4400" y="5173560"/>
            <a:ext cx="954000" cy="87480"/>
          </a:xfrm>
          <a:custGeom>
            <a:avLst/>
            <a:gdLst/>
            <a:ahLst/>
            <a:rect l="l" t="t" r="r" b="b"/>
            <a:pathLst>
              <a:path w="601" h="55">
                <a:moveTo>
                  <a:pt x="126" y="0"/>
                </a:moveTo>
                <a:lnTo>
                  <a:pt x="601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27960" y="5167440"/>
            <a:ext cx="196560" cy="409320"/>
          </a:xfrm>
          <a:custGeom>
            <a:avLst/>
            <a:gdLst/>
            <a:ahLst/>
            <a:rect l="l" t="t" r="r" b="b"/>
            <a:pathLst>
              <a:path w="124" h="258">
                <a:moveTo>
                  <a:pt x="124" y="0"/>
                </a:moveTo>
                <a:lnTo>
                  <a:pt x="124" y="204"/>
                </a:lnTo>
                <a:lnTo>
                  <a:pt x="0" y="258"/>
                </a:lnTo>
                <a:lnTo>
                  <a:pt x="0" y="51"/>
                </a:lnTo>
                <a:close/>
              </a:path>
            </a:pathLst>
          </a:custGeom>
          <a:solidFill>
            <a:srgbClr val="8f4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48200" y="526428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gital Plant Resour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89880" y="5573880"/>
            <a:ext cx="952200" cy="87120"/>
          </a:xfrm>
          <a:custGeom>
            <a:avLst/>
            <a:gdLst/>
            <a:ahLst/>
            <a:rect l="l" t="t" r="r" b="b"/>
            <a:pathLst>
              <a:path w="600" h="55">
                <a:moveTo>
                  <a:pt x="126" y="0"/>
                </a:moveTo>
                <a:lnTo>
                  <a:pt x="600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89880" y="5661000"/>
            <a:ext cx="758520" cy="32688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ffed24"/>
              </a:gs>
              <a:gs pos="100000">
                <a:srgbClr val="ffad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65760" y="566568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89880" y="5959440"/>
            <a:ext cx="952200" cy="87480"/>
          </a:xfrm>
          <a:custGeom>
            <a:avLst/>
            <a:gdLst/>
            <a:ahLst/>
            <a:rect l="l" t="t" r="r" b="b"/>
            <a:pathLst>
              <a:path w="600" h="55">
                <a:moveTo>
                  <a:pt x="126" y="0"/>
                </a:moveTo>
                <a:lnTo>
                  <a:pt x="600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45520" y="5962680"/>
            <a:ext cx="196560" cy="412560"/>
          </a:xfrm>
          <a:custGeom>
            <a:avLst/>
            <a:gdLst/>
            <a:ahLst/>
            <a:rect l="l" t="t" r="r" b="b"/>
            <a:pathLst>
              <a:path w="124" h="260">
                <a:moveTo>
                  <a:pt x="124" y="0"/>
                </a:moveTo>
                <a:lnTo>
                  <a:pt x="124" y="205"/>
                </a:lnTo>
                <a:lnTo>
                  <a:pt x="0" y="260"/>
                </a:lnTo>
                <a:lnTo>
                  <a:pt x="0" y="51"/>
                </a:lnTo>
                <a:close/>
              </a:path>
            </a:pathLst>
          </a:custGeom>
          <a:solidFill>
            <a:srgbClr val="8f4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89880" y="6046920"/>
            <a:ext cx="758520" cy="328320"/>
          </a:xfrm>
          <a:custGeom>
            <a:avLst/>
            <a:gdLst/>
            <a:ahLst/>
            <a:rect l="l" t="t" r="r" b="b"/>
            <a:pathLst>
              <a:path w="478" h="207">
                <a:moveTo>
                  <a:pt x="478" y="207"/>
                </a:moveTo>
                <a:lnTo>
                  <a:pt x="478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ffed24"/>
              </a:gs>
              <a:gs pos="100000">
                <a:srgbClr val="ffad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65760" y="605160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b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45520" y="5570640"/>
            <a:ext cx="19656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5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8f4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12120" y="5654520"/>
            <a:ext cx="758880" cy="32724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f32d3b"/>
              </a:gs>
              <a:gs pos="100000">
                <a:srgbClr val="bc00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12120" y="5567400"/>
            <a:ext cx="952560" cy="87120"/>
          </a:xfrm>
          <a:custGeom>
            <a:avLst/>
            <a:gdLst/>
            <a:ahLst/>
            <a:rect l="l" t="t" r="r" b="b"/>
            <a:pathLst>
              <a:path w="600" h="55">
                <a:moveTo>
                  <a:pt x="126" y="0"/>
                </a:moveTo>
                <a:lnTo>
                  <a:pt x="600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96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67760" y="5570640"/>
            <a:ext cx="19692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5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80440" y="5641920"/>
            <a:ext cx="81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d Trans Pla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77040" y="4410000"/>
            <a:ext cx="2890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c"/>
                </a:solidFill>
                <a:latin typeface="Arial"/>
              </a:rPr>
              <a:t>Product Creation Proc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33960" y="1571760"/>
            <a:ext cx="4194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c"/>
                </a:solidFill>
                <a:latin typeface="Arial"/>
              </a:rPr>
              <a:t>Customer Demand Fulfillment Proc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3000" y="6551640"/>
            <a:ext cx="206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c"/>
                </a:solidFill>
                <a:latin typeface="Arial"/>
              </a:rPr>
              <a:t>IBM Application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c"/>
                </a:solidFill>
                <a:latin typeface="Arial"/>
              </a:rPr>
              <a:t>for e-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3000" y="3722760"/>
            <a:ext cx="206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c"/>
                </a:solidFill>
                <a:latin typeface="Arial"/>
              </a:rPr>
              <a:t>IBM Application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c"/>
                </a:solidFill>
                <a:latin typeface="Arial"/>
              </a:rPr>
              <a:t>for e-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3108240"/>
            <a:ext cx="758880" cy="328680"/>
          </a:xfrm>
          <a:custGeom>
            <a:avLst/>
            <a:gdLst/>
            <a:ahLst/>
            <a:rect l="l" t="t" r="r" b="b"/>
            <a:pathLst>
              <a:path w="478" h="207">
                <a:moveTo>
                  <a:pt x="478" y="207"/>
                </a:moveTo>
                <a:lnTo>
                  <a:pt x="478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00ce00"/>
              </a:gs>
              <a:gs pos="100000">
                <a:srgbClr val="0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3022560"/>
            <a:ext cx="954360" cy="85680"/>
          </a:xfrm>
          <a:custGeom>
            <a:avLst/>
            <a:gdLst/>
            <a:ahLst/>
            <a:rect l="l" t="t" r="r" b="b"/>
            <a:pathLst>
              <a:path w="601" h="54">
                <a:moveTo>
                  <a:pt x="127" y="0"/>
                </a:moveTo>
                <a:lnTo>
                  <a:pt x="601" y="2"/>
                </a:lnTo>
                <a:lnTo>
                  <a:pt x="476" y="54"/>
                </a:lnTo>
                <a:lnTo>
                  <a:pt x="0" y="54"/>
                </a:lnTo>
                <a:close/>
              </a:path>
            </a:pathLst>
          </a:cu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3025800"/>
            <a:ext cx="198720" cy="411120"/>
          </a:xfrm>
          <a:custGeom>
            <a:avLst/>
            <a:gdLst/>
            <a:ahLst/>
            <a:rect l="l" t="t" r="r" b="b"/>
            <a:pathLst>
              <a:path w="125" h="259">
                <a:moveTo>
                  <a:pt x="125" y="0"/>
                </a:moveTo>
                <a:lnTo>
                  <a:pt x="125" y="205"/>
                </a:lnTo>
                <a:lnTo>
                  <a:pt x="0" y="259"/>
                </a:lnTo>
                <a:lnTo>
                  <a:pt x="0" y="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84200" y="3184560"/>
            <a:ext cx="73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19320" y="3403440"/>
            <a:ext cx="952560" cy="86040"/>
          </a:xfrm>
          <a:custGeom>
            <a:avLst/>
            <a:gdLst/>
            <a:ahLst/>
            <a:rect l="l" t="t" r="r" b="b"/>
            <a:pathLst>
              <a:path w="600" h="54">
                <a:moveTo>
                  <a:pt x="126" y="0"/>
                </a:moveTo>
                <a:lnTo>
                  <a:pt x="600" y="2"/>
                </a:lnTo>
                <a:lnTo>
                  <a:pt x="476" y="54"/>
                </a:lnTo>
                <a:lnTo>
                  <a:pt x="0" y="54"/>
                </a:lnTo>
                <a:close/>
              </a:path>
            </a:pathLst>
          </a:cu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19320" y="3108240"/>
            <a:ext cx="758880" cy="328680"/>
          </a:xfrm>
          <a:custGeom>
            <a:avLst/>
            <a:gdLst/>
            <a:ahLst/>
            <a:rect l="l" t="t" r="r" b="b"/>
            <a:pathLst>
              <a:path w="478" h="207">
                <a:moveTo>
                  <a:pt x="478" y="207"/>
                </a:moveTo>
                <a:lnTo>
                  <a:pt x="478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00ce00"/>
              </a:gs>
              <a:gs pos="100000">
                <a:srgbClr val="0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74960" y="3025800"/>
            <a:ext cx="19692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5"/>
                </a:lnTo>
                <a:lnTo>
                  <a:pt x="0" y="259"/>
                </a:lnTo>
                <a:lnTo>
                  <a:pt x="0" y="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28680" y="3116160"/>
            <a:ext cx="74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19320" y="2635200"/>
            <a:ext cx="952560" cy="85680"/>
          </a:xfrm>
          <a:custGeom>
            <a:avLst/>
            <a:gdLst/>
            <a:ahLst/>
            <a:rect l="l" t="t" r="r" b="b"/>
            <a:pathLst>
              <a:path w="600" h="54">
                <a:moveTo>
                  <a:pt x="126" y="0"/>
                </a:moveTo>
                <a:lnTo>
                  <a:pt x="600" y="2"/>
                </a:lnTo>
                <a:lnTo>
                  <a:pt x="476" y="54"/>
                </a:lnTo>
                <a:lnTo>
                  <a:pt x="0" y="54"/>
                </a:lnTo>
                <a:close/>
              </a:path>
            </a:pathLst>
          </a:cu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19320" y="2336760"/>
            <a:ext cx="758880" cy="32724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00ce00"/>
              </a:gs>
              <a:gs pos="100000">
                <a:srgbClr val="0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19320" y="2251080"/>
            <a:ext cx="952560" cy="85680"/>
          </a:xfrm>
          <a:custGeom>
            <a:avLst/>
            <a:gdLst/>
            <a:ahLst/>
            <a:rect l="l" t="t" r="r" b="b"/>
            <a:pathLst>
              <a:path w="600" h="54">
                <a:moveTo>
                  <a:pt x="126" y="0"/>
                </a:moveTo>
                <a:lnTo>
                  <a:pt x="600" y="2"/>
                </a:lnTo>
                <a:lnTo>
                  <a:pt x="476" y="54"/>
                </a:lnTo>
                <a:lnTo>
                  <a:pt x="0" y="54"/>
                </a:lnTo>
                <a:close/>
              </a:path>
            </a:pathLst>
          </a:cu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74960" y="2254320"/>
            <a:ext cx="196920" cy="409680"/>
          </a:xfrm>
          <a:custGeom>
            <a:avLst/>
            <a:gdLst/>
            <a:ahLst/>
            <a:rect l="l" t="t" r="r" b="b"/>
            <a:pathLst>
              <a:path w="124" h="258">
                <a:moveTo>
                  <a:pt x="124" y="0"/>
                </a:moveTo>
                <a:lnTo>
                  <a:pt x="124" y="204"/>
                </a:lnTo>
                <a:lnTo>
                  <a:pt x="0" y="258"/>
                </a:lnTo>
                <a:lnTo>
                  <a:pt x="0" y="5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8400" y="2351160"/>
            <a:ext cx="74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stomer Service M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19320" y="3022560"/>
            <a:ext cx="952560" cy="85680"/>
          </a:xfrm>
          <a:custGeom>
            <a:avLst/>
            <a:gdLst/>
            <a:ahLst/>
            <a:rect l="l" t="t" r="r" b="b"/>
            <a:pathLst>
              <a:path w="600" h="54">
                <a:moveTo>
                  <a:pt x="126" y="0"/>
                </a:moveTo>
                <a:lnTo>
                  <a:pt x="600" y="2"/>
                </a:lnTo>
                <a:lnTo>
                  <a:pt x="476" y="54"/>
                </a:lnTo>
                <a:lnTo>
                  <a:pt x="0" y="54"/>
                </a:lnTo>
                <a:close/>
              </a:path>
            </a:pathLst>
          </a:cu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19320" y="2720880"/>
            <a:ext cx="758880" cy="328680"/>
          </a:xfrm>
          <a:custGeom>
            <a:avLst/>
            <a:gdLst/>
            <a:ahLst/>
            <a:rect l="l" t="t" r="r" b="b"/>
            <a:pathLst>
              <a:path w="478" h="207">
                <a:moveTo>
                  <a:pt x="478" y="207"/>
                </a:moveTo>
                <a:lnTo>
                  <a:pt x="478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00ce00"/>
              </a:gs>
              <a:gs pos="100000">
                <a:srgbClr val="0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74960" y="2638440"/>
            <a:ext cx="19692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4"/>
                </a:lnTo>
                <a:lnTo>
                  <a:pt x="0" y="259"/>
                </a:lnTo>
                <a:lnTo>
                  <a:pt x="0" y="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28680" y="2743200"/>
            <a:ext cx="74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anne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19320" y="3489480"/>
            <a:ext cx="758880" cy="328320"/>
          </a:xfrm>
          <a:custGeom>
            <a:avLst/>
            <a:gdLst/>
            <a:ahLst/>
            <a:rect l="l" t="t" r="r" b="b"/>
            <a:pathLst>
              <a:path w="478" h="207">
                <a:moveTo>
                  <a:pt x="478" y="207"/>
                </a:moveTo>
                <a:lnTo>
                  <a:pt x="478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00ce00"/>
              </a:gs>
              <a:gs pos="100000">
                <a:srgbClr val="0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74960" y="3406680"/>
            <a:ext cx="19692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4"/>
                </a:lnTo>
                <a:lnTo>
                  <a:pt x="0" y="259"/>
                </a:lnTo>
                <a:lnTo>
                  <a:pt x="0" y="5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93760" y="3492360"/>
            <a:ext cx="81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d 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amp; Pric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763120" y="4789440"/>
            <a:ext cx="992160" cy="90360"/>
          </a:xfrm>
          <a:custGeom>
            <a:avLst/>
            <a:gdLst/>
            <a:ahLst/>
            <a:rect l="l" t="t" r="r" b="b"/>
            <a:pathLst>
              <a:path w="625" h="57">
                <a:moveTo>
                  <a:pt x="131" y="0"/>
                </a:moveTo>
                <a:lnTo>
                  <a:pt x="625" y="2"/>
                </a:lnTo>
                <a:lnTo>
                  <a:pt x="495" y="57"/>
                </a:lnTo>
                <a:lnTo>
                  <a:pt x="0" y="57"/>
                </a:lnTo>
                <a:close/>
              </a:path>
            </a:pathLst>
          </a:custGeom>
          <a:solidFill>
            <a:srgbClr val="009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763120" y="4879800"/>
            <a:ext cx="788760" cy="341640"/>
          </a:xfrm>
          <a:custGeom>
            <a:avLst/>
            <a:gdLst/>
            <a:ahLst/>
            <a:rect l="l" t="t" r="r" b="b"/>
            <a:pathLst>
              <a:path w="497" h="215">
                <a:moveTo>
                  <a:pt x="497" y="215"/>
                </a:moveTo>
                <a:lnTo>
                  <a:pt x="497" y="0"/>
                </a:lnTo>
                <a:lnTo>
                  <a:pt x="0" y="0"/>
                </a:lnTo>
                <a:lnTo>
                  <a:pt x="0" y="215"/>
                </a:lnTo>
                <a:close/>
              </a:path>
            </a:pathLst>
          </a:custGeom>
          <a:gradFill rotWithShape="0">
            <a:gsLst>
              <a:gs pos="0">
                <a:srgbClr val="00c5ae"/>
              </a:gs>
              <a:gs pos="100000">
                <a:srgbClr val="0098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548640" y="4792680"/>
            <a:ext cx="206640" cy="428760"/>
          </a:xfrm>
          <a:custGeom>
            <a:avLst/>
            <a:gdLst/>
            <a:ahLst/>
            <a:rect l="l" t="t" r="r" b="b"/>
            <a:pathLst>
              <a:path w="130" h="270">
                <a:moveTo>
                  <a:pt x="130" y="0"/>
                </a:moveTo>
                <a:lnTo>
                  <a:pt x="130" y="214"/>
                </a:lnTo>
                <a:lnTo>
                  <a:pt x="0" y="270"/>
                </a:lnTo>
                <a:lnTo>
                  <a:pt x="0" y="5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877240" y="4906800"/>
            <a:ext cx="5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769240" y="5770440"/>
            <a:ext cx="789120" cy="341280"/>
          </a:xfrm>
          <a:custGeom>
            <a:avLst/>
            <a:gdLst/>
            <a:ahLst/>
            <a:rect l="l" t="t" r="r" b="b"/>
            <a:pathLst>
              <a:path w="497" h="215">
                <a:moveTo>
                  <a:pt x="497" y="215"/>
                </a:moveTo>
                <a:lnTo>
                  <a:pt x="497" y="0"/>
                </a:lnTo>
                <a:lnTo>
                  <a:pt x="0" y="0"/>
                </a:lnTo>
                <a:lnTo>
                  <a:pt x="0" y="215"/>
                </a:lnTo>
                <a:close/>
              </a:path>
            </a:pathLst>
          </a:custGeom>
          <a:gradFill rotWithShape="0">
            <a:gsLst>
              <a:gs pos="0">
                <a:srgbClr val="ffed24"/>
              </a:gs>
              <a:gs pos="100000">
                <a:srgbClr val="ffad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555120" y="5673600"/>
            <a:ext cx="206280" cy="425520"/>
          </a:xfrm>
          <a:custGeom>
            <a:avLst/>
            <a:gdLst/>
            <a:ahLst/>
            <a:rect l="l" t="t" r="r" b="b"/>
            <a:pathLst>
              <a:path w="130" h="268">
                <a:moveTo>
                  <a:pt x="130" y="0"/>
                </a:moveTo>
                <a:lnTo>
                  <a:pt x="130" y="213"/>
                </a:lnTo>
                <a:lnTo>
                  <a:pt x="0" y="268"/>
                </a:lnTo>
                <a:lnTo>
                  <a:pt x="0" y="52"/>
                </a:lnTo>
                <a:close/>
              </a:path>
            </a:pathLst>
          </a:custGeom>
          <a:solidFill>
            <a:srgbClr val="8f4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761320" y="5678640"/>
            <a:ext cx="992160" cy="91800"/>
          </a:xfrm>
          <a:custGeom>
            <a:avLst/>
            <a:gdLst/>
            <a:ahLst/>
            <a:rect l="l" t="t" r="r" b="b"/>
            <a:pathLst>
              <a:path w="625" h="58">
                <a:moveTo>
                  <a:pt x="130" y="0"/>
                </a:moveTo>
                <a:lnTo>
                  <a:pt x="625" y="3"/>
                </a:lnTo>
                <a:lnTo>
                  <a:pt x="496" y="58"/>
                </a:lnTo>
                <a:lnTo>
                  <a:pt x="0" y="58"/>
                </a:ln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901000" y="5803920"/>
            <a:ext cx="5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59880" y="3983040"/>
            <a:ext cx="788760" cy="341280"/>
          </a:xfrm>
          <a:custGeom>
            <a:avLst/>
            <a:gdLst/>
            <a:ahLst/>
            <a:rect l="l" t="t" r="r" b="b"/>
            <a:pathLst>
              <a:path w="497" h="215">
                <a:moveTo>
                  <a:pt x="497" y="215"/>
                </a:moveTo>
                <a:lnTo>
                  <a:pt x="497" y="0"/>
                </a:lnTo>
                <a:lnTo>
                  <a:pt x="0" y="0"/>
                </a:lnTo>
                <a:lnTo>
                  <a:pt x="0" y="215"/>
                </a:lnTo>
                <a:close/>
              </a:path>
            </a:pathLst>
          </a:custGeom>
          <a:gradFill rotWithShape="0">
            <a:gsLst>
              <a:gs pos="0">
                <a:srgbClr val="f32d3b"/>
              </a:gs>
              <a:gs pos="100000">
                <a:srgbClr val="bc00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759880" y="3892680"/>
            <a:ext cx="992160" cy="90360"/>
          </a:xfrm>
          <a:custGeom>
            <a:avLst/>
            <a:gdLst/>
            <a:ahLst/>
            <a:rect l="l" t="t" r="r" b="b"/>
            <a:pathLst>
              <a:path w="625" h="57">
                <a:moveTo>
                  <a:pt x="131" y="0"/>
                </a:moveTo>
                <a:lnTo>
                  <a:pt x="625" y="3"/>
                </a:lnTo>
                <a:lnTo>
                  <a:pt x="496" y="57"/>
                </a:lnTo>
                <a:lnTo>
                  <a:pt x="0" y="57"/>
                </a:lnTo>
                <a:close/>
              </a:path>
            </a:pathLst>
          </a:custGeom>
          <a:solidFill>
            <a:srgbClr val="96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547200" y="3897360"/>
            <a:ext cx="204840" cy="426960"/>
          </a:xfrm>
          <a:custGeom>
            <a:avLst/>
            <a:gdLst/>
            <a:ahLst/>
            <a:rect l="l" t="t" r="r" b="b"/>
            <a:pathLst>
              <a:path w="129" h="269">
                <a:moveTo>
                  <a:pt x="129" y="0"/>
                </a:moveTo>
                <a:lnTo>
                  <a:pt x="129" y="213"/>
                </a:lnTo>
                <a:lnTo>
                  <a:pt x="0" y="269"/>
                </a:lnTo>
                <a:lnTo>
                  <a:pt x="0" y="5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881920" y="4006800"/>
            <a:ext cx="5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729640" y="2200320"/>
            <a:ext cx="787320" cy="341280"/>
          </a:xfrm>
          <a:custGeom>
            <a:avLst/>
            <a:gdLst/>
            <a:ahLst/>
            <a:rect l="l" t="t" r="r" b="b"/>
            <a:pathLst>
              <a:path w="496" h="215">
                <a:moveTo>
                  <a:pt x="496" y="215"/>
                </a:moveTo>
                <a:lnTo>
                  <a:pt x="496" y="0"/>
                </a:lnTo>
                <a:lnTo>
                  <a:pt x="0" y="0"/>
                </a:lnTo>
                <a:lnTo>
                  <a:pt x="0" y="215"/>
                </a:lnTo>
                <a:close/>
              </a:path>
            </a:pathLst>
          </a:custGeom>
          <a:gradFill rotWithShape="0">
            <a:gsLst>
              <a:gs pos="0">
                <a:srgbClr val="00ce00"/>
              </a:gs>
              <a:gs pos="100000">
                <a:srgbClr val="0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515520" y="2114640"/>
            <a:ext cx="204840" cy="426960"/>
          </a:xfrm>
          <a:custGeom>
            <a:avLst/>
            <a:gdLst/>
            <a:ahLst/>
            <a:rect l="l" t="t" r="r" b="b"/>
            <a:pathLst>
              <a:path w="129" h="269">
                <a:moveTo>
                  <a:pt x="129" y="0"/>
                </a:moveTo>
                <a:lnTo>
                  <a:pt x="129" y="213"/>
                </a:lnTo>
                <a:lnTo>
                  <a:pt x="0" y="269"/>
                </a:lnTo>
                <a:lnTo>
                  <a:pt x="0" y="5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729640" y="2109960"/>
            <a:ext cx="990720" cy="90360"/>
          </a:xfrm>
          <a:custGeom>
            <a:avLst/>
            <a:gdLst/>
            <a:ahLst/>
            <a:rect l="l" t="t" r="r" b="b"/>
            <a:pathLst>
              <a:path w="624" h="57">
                <a:moveTo>
                  <a:pt x="130" y="0"/>
                </a:moveTo>
                <a:lnTo>
                  <a:pt x="624" y="3"/>
                </a:lnTo>
                <a:lnTo>
                  <a:pt x="495" y="57"/>
                </a:lnTo>
                <a:lnTo>
                  <a:pt x="0" y="57"/>
                </a:lnTo>
                <a:close/>
              </a:path>
            </a:pathLst>
          </a:cu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837640" y="2216160"/>
            <a:ext cx="96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758080" y="3009960"/>
            <a:ext cx="992520" cy="90360"/>
          </a:xfrm>
          <a:custGeom>
            <a:avLst/>
            <a:gdLst/>
            <a:ahLst/>
            <a:rect l="l" t="t" r="r" b="b"/>
            <a:pathLst>
              <a:path w="625" h="57">
                <a:moveTo>
                  <a:pt x="131" y="0"/>
                </a:moveTo>
                <a:lnTo>
                  <a:pt x="625" y="2"/>
                </a:lnTo>
                <a:lnTo>
                  <a:pt x="496" y="57"/>
                </a:lnTo>
                <a:lnTo>
                  <a:pt x="0" y="57"/>
                </a:lnTo>
                <a:close/>
              </a:path>
            </a:pathLst>
          </a:custGeom>
          <a:solidFill>
            <a:srgbClr val="007c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758080" y="3100320"/>
            <a:ext cx="789120" cy="341280"/>
          </a:xfrm>
          <a:custGeom>
            <a:avLst/>
            <a:gdLst/>
            <a:ahLst/>
            <a:rect l="l" t="t" r="r" b="b"/>
            <a:pathLst>
              <a:path w="497" h="215">
                <a:moveTo>
                  <a:pt x="497" y="215"/>
                </a:moveTo>
                <a:lnTo>
                  <a:pt x="497" y="0"/>
                </a:lnTo>
                <a:lnTo>
                  <a:pt x="0" y="0"/>
                </a:lnTo>
                <a:lnTo>
                  <a:pt x="0" y="21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545760" y="3013200"/>
            <a:ext cx="204840" cy="428400"/>
          </a:xfrm>
          <a:custGeom>
            <a:avLst/>
            <a:gdLst/>
            <a:ahLst/>
            <a:rect l="l" t="t" r="r" b="b"/>
            <a:pathLst>
              <a:path w="129" h="270">
                <a:moveTo>
                  <a:pt x="129" y="0"/>
                </a:moveTo>
                <a:lnTo>
                  <a:pt x="129" y="214"/>
                </a:lnTo>
                <a:lnTo>
                  <a:pt x="0" y="270"/>
                </a:lnTo>
                <a:lnTo>
                  <a:pt x="0" y="53"/>
                </a:lnTo>
                <a:close/>
              </a:path>
            </a:pathLst>
          </a:custGeom>
          <a:solidFill>
            <a:srgbClr val="0054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881920" y="3139920"/>
            <a:ext cx="49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68760" y="4157640"/>
            <a:ext cx="1158840" cy="449280"/>
          </a:xfrm>
          <a:custGeom>
            <a:avLst/>
            <a:gdLst/>
            <a:ahLst/>
            <a:rect l="l" t="t" r="r" b="b"/>
            <a:pathLst>
              <a:path w="730" h="283">
                <a:moveTo>
                  <a:pt x="363" y="283"/>
                </a:moveTo>
                <a:lnTo>
                  <a:pt x="730" y="145"/>
                </a:lnTo>
                <a:lnTo>
                  <a:pt x="547" y="145"/>
                </a:lnTo>
                <a:lnTo>
                  <a:pt x="547" y="0"/>
                </a:lnTo>
                <a:lnTo>
                  <a:pt x="181" y="0"/>
                </a:lnTo>
                <a:lnTo>
                  <a:pt x="181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17880" y="3956040"/>
            <a:ext cx="1247760" cy="452520"/>
          </a:xfrm>
          <a:custGeom>
            <a:avLst/>
            <a:gdLst/>
            <a:ahLst/>
            <a:rect l="l" t="t" r="r" b="b"/>
            <a:pathLst>
              <a:path w="786" h="285">
                <a:moveTo>
                  <a:pt x="195" y="143"/>
                </a:moveTo>
                <a:lnTo>
                  <a:pt x="195" y="285"/>
                </a:lnTo>
                <a:lnTo>
                  <a:pt x="590" y="285"/>
                </a:lnTo>
                <a:lnTo>
                  <a:pt x="590" y="143"/>
                </a:lnTo>
                <a:lnTo>
                  <a:pt x="786" y="143"/>
                </a:lnTo>
                <a:lnTo>
                  <a:pt x="391" y="0"/>
                </a:lnTo>
                <a:lnTo>
                  <a:pt x="0" y="143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9720" y="3108240"/>
            <a:ext cx="758880" cy="328680"/>
          </a:xfrm>
          <a:custGeom>
            <a:avLst/>
            <a:gdLst/>
            <a:ahLst/>
            <a:rect l="l" t="t" r="r" b="b"/>
            <a:pathLst>
              <a:path w="478" h="207">
                <a:moveTo>
                  <a:pt x="478" y="207"/>
                </a:moveTo>
                <a:lnTo>
                  <a:pt x="478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f32d3b"/>
              </a:gs>
              <a:gs pos="100000">
                <a:srgbClr val="bc00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9720" y="3022560"/>
            <a:ext cx="952560" cy="85680"/>
          </a:xfrm>
          <a:custGeom>
            <a:avLst/>
            <a:gdLst/>
            <a:ahLst/>
            <a:rect l="l" t="t" r="r" b="b"/>
            <a:pathLst>
              <a:path w="600" h="54">
                <a:moveTo>
                  <a:pt x="126" y="0"/>
                </a:moveTo>
                <a:lnTo>
                  <a:pt x="600" y="2"/>
                </a:lnTo>
                <a:lnTo>
                  <a:pt x="476" y="54"/>
                </a:lnTo>
                <a:lnTo>
                  <a:pt x="0" y="54"/>
                </a:lnTo>
                <a:close/>
              </a:path>
            </a:pathLst>
          </a:custGeom>
          <a:solidFill>
            <a:srgbClr val="96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5360" y="3025800"/>
            <a:ext cx="19692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5"/>
                </a:lnTo>
                <a:lnTo>
                  <a:pt x="0" y="259"/>
                </a:lnTo>
                <a:lnTo>
                  <a:pt x="0" y="5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95560" y="311940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d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ulfill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0520" y="3108240"/>
            <a:ext cx="758880" cy="328680"/>
          </a:xfrm>
          <a:custGeom>
            <a:avLst/>
            <a:gdLst/>
            <a:ahLst/>
            <a:rect l="l" t="t" r="r" b="b"/>
            <a:pathLst>
              <a:path w="478" h="207">
                <a:moveTo>
                  <a:pt x="478" y="207"/>
                </a:moveTo>
                <a:lnTo>
                  <a:pt x="478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f32d3b"/>
              </a:gs>
              <a:gs pos="100000">
                <a:srgbClr val="bc00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0520" y="3022560"/>
            <a:ext cx="952560" cy="85680"/>
          </a:xfrm>
          <a:custGeom>
            <a:avLst/>
            <a:gdLst/>
            <a:ahLst/>
            <a:rect l="l" t="t" r="r" b="b"/>
            <a:pathLst>
              <a:path w="600" h="54">
                <a:moveTo>
                  <a:pt x="126" y="0"/>
                </a:moveTo>
                <a:lnTo>
                  <a:pt x="600" y="2"/>
                </a:lnTo>
                <a:lnTo>
                  <a:pt x="476" y="54"/>
                </a:lnTo>
                <a:lnTo>
                  <a:pt x="0" y="54"/>
                </a:lnTo>
                <a:close/>
              </a:path>
            </a:pathLst>
          </a:custGeom>
          <a:solidFill>
            <a:srgbClr val="96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56160" y="3025800"/>
            <a:ext cx="19692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5"/>
                </a:lnTo>
                <a:lnTo>
                  <a:pt x="0" y="259"/>
                </a:lnTo>
                <a:lnTo>
                  <a:pt x="0" y="5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68840" y="3112920"/>
            <a:ext cx="81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 Chain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13400" y="3301920"/>
            <a:ext cx="758880" cy="327240"/>
          </a:xfrm>
          <a:custGeom>
            <a:avLst/>
            <a:gdLst/>
            <a:ahLst/>
            <a:rect l="l" t="t" r="r" b="b"/>
            <a:pathLst>
              <a:path w="478" h="206">
                <a:moveTo>
                  <a:pt x="478" y="206"/>
                </a:moveTo>
                <a:lnTo>
                  <a:pt x="478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9191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29240" y="3375000"/>
            <a:ext cx="73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13400" y="3214800"/>
            <a:ext cx="952200" cy="87120"/>
          </a:xfrm>
          <a:custGeom>
            <a:avLst/>
            <a:gdLst/>
            <a:ahLst/>
            <a:rect l="l" t="t" r="r" b="b"/>
            <a:pathLst>
              <a:path w="600" h="55">
                <a:moveTo>
                  <a:pt x="126" y="0"/>
                </a:moveTo>
                <a:lnTo>
                  <a:pt x="600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13400" y="2906640"/>
            <a:ext cx="758880" cy="328680"/>
          </a:xfrm>
          <a:custGeom>
            <a:avLst/>
            <a:gdLst/>
            <a:ahLst/>
            <a:rect l="l" t="t" r="r" b="b"/>
            <a:pathLst>
              <a:path w="478" h="207">
                <a:moveTo>
                  <a:pt x="478" y="207"/>
                </a:moveTo>
                <a:lnTo>
                  <a:pt x="478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9191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13400" y="2819520"/>
            <a:ext cx="952200" cy="87120"/>
          </a:xfrm>
          <a:custGeom>
            <a:avLst/>
            <a:gdLst/>
            <a:ahLst/>
            <a:rect l="l" t="t" r="r" b="b"/>
            <a:pathLst>
              <a:path w="600" h="55">
                <a:moveTo>
                  <a:pt x="126" y="0"/>
                </a:moveTo>
                <a:lnTo>
                  <a:pt x="600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9040" y="2822400"/>
            <a:ext cx="196560" cy="412920"/>
          </a:xfrm>
          <a:custGeom>
            <a:avLst/>
            <a:gdLst/>
            <a:ahLst/>
            <a:rect l="l" t="t" r="r" b="b"/>
            <a:pathLst>
              <a:path w="124" h="260">
                <a:moveTo>
                  <a:pt x="124" y="0"/>
                </a:moveTo>
                <a:lnTo>
                  <a:pt x="124" y="205"/>
                </a:lnTo>
                <a:lnTo>
                  <a:pt x="0" y="260"/>
                </a:lnTo>
                <a:lnTo>
                  <a:pt x="0" y="52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29240" y="2981160"/>
            <a:ext cx="73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35640" y="2906640"/>
            <a:ext cx="758880" cy="328680"/>
          </a:xfrm>
          <a:custGeom>
            <a:avLst/>
            <a:gdLst/>
            <a:ahLst/>
            <a:rect l="l" t="t" r="r" b="b"/>
            <a:pathLst>
              <a:path w="478" h="207">
                <a:moveTo>
                  <a:pt x="478" y="207"/>
                </a:moveTo>
                <a:lnTo>
                  <a:pt x="478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9191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35640" y="2819520"/>
            <a:ext cx="952560" cy="87120"/>
          </a:xfrm>
          <a:custGeom>
            <a:avLst/>
            <a:gdLst/>
            <a:ahLst/>
            <a:rect l="l" t="t" r="r" b="b"/>
            <a:pathLst>
              <a:path w="600" h="55">
                <a:moveTo>
                  <a:pt x="126" y="0"/>
                </a:moveTo>
                <a:lnTo>
                  <a:pt x="600" y="2"/>
                </a:lnTo>
                <a:lnTo>
                  <a:pt x="476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91280" y="2822400"/>
            <a:ext cx="196920" cy="412920"/>
          </a:xfrm>
          <a:custGeom>
            <a:avLst/>
            <a:gdLst/>
            <a:ahLst/>
            <a:rect l="l" t="t" r="r" b="b"/>
            <a:pathLst>
              <a:path w="124" h="260">
                <a:moveTo>
                  <a:pt x="124" y="0"/>
                </a:moveTo>
                <a:lnTo>
                  <a:pt x="124" y="205"/>
                </a:lnTo>
                <a:lnTo>
                  <a:pt x="0" y="260"/>
                </a:lnTo>
                <a:lnTo>
                  <a:pt x="0" y="52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51480" y="2924280"/>
            <a:ext cx="74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pfloor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59680" y="3108240"/>
            <a:ext cx="758520" cy="328680"/>
          </a:xfrm>
          <a:custGeom>
            <a:avLst/>
            <a:gdLst/>
            <a:ahLst/>
            <a:rect l="l" t="t" r="r" b="b"/>
            <a:pathLst>
              <a:path w="478" h="207">
                <a:moveTo>
                  <a:pt x="478" y="207"/>
                </a:moveTo>
                <a:lnTo>
                  <a:pt x="478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f32d3b"/>
              </a:gs>
              <a:gs pos="100000">
                <a:srgbClr val="bc00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59680" y="3022560"/>
            <a:ext cx="952200" cy="85680"/>
          </a:xfrm>
          <a:custGeom>
            <a:avLst/>
            <a:gdLst/>
            <a:ahLst/>
            <a:rect l="l" t="t" r="r" b="b"/>
            <a:pathLst>
              <a:path w="600" h="54">
                <a:moveTo>
                  <a:pt x="125" y="0"/>
                </a:moveTo>
                <a:lnTo>
                  <a:pt x="600" y="2"/>
                </a:lnTo>
                <a:lnTo>
                  <a:pt x="476" y="54"/>
                </a:lnTo>
                <a:lnTo>
                  <a:pt x="0" y="54"/>
                </a:lnTo>
                <a:close/>
              </a:path>
            </a:pathLst>
          </a:custGeom>
          <a:solidFill>
            <a:srgbClr val="96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15320" y="3025800"/>
            <a:ext cx="19656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5"/>
                </a:lnTo>
                <a:lnTo>
                  <a:pt x="0" y="259"/>
                </a:lnTo>
                <a:lnTo>
                  <a:pt x="0" y="5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64360" y="3116160"/>
            <a:ext cx="90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ation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67520" y="2724120"/>
            <a:ext cx="760320" cy="326880"/>
          </a:xfrm>
          <a:custGeom>
            <a:avLst/>
            <a:gdLst/>
            <a:ahLst/>
            <a:rect l="l" t="t" r="r" b="b"/>
            <a:pathLst>
              <a:path w="479" h="206">
                <a:moveTo>
                  <a:pt x="479" y="206"/>
                </a:moveTo>
                <a:lnTo>
                  <a:pt x="479" y="0"/>
                </a:lnTo>
                <a:lnTo>
                  <a:pt x="0" y="0"/>
                </a:lnTo>
                <a:lnTo>
                  <a:pt x="0" y="206"/>
                </a:lnTo>
                <a:close/>
              </a:path>
            </a:pathLst>
          </a:custGeom>
          <a:gradFill rotWithShape="0">
            <a:gsLst>
              <a:gs pos="0">
                <a:srgbClr val="00c5ae"/>
              </a:gs>
              <a:gs pos="100000">
                <a:srgbClr val="0098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67520" y="2635200"/>
            <a:ext cx="954000" cy="88920"/>
          </a:xfrm>
          <a:custGeom>
            <a:avLst/>
            <a:gdLst/>
            <a:ahLst/>
            <a:rect l="l" t="t" r="r" b="b"/>
            <a:pathLst>
              <a:path w="601" h="56">
                <a:moveTo>
                  <a:pt x="126" y="0"/>
                </a:moveTo>
                <a:lnTo>
                  <a:pt x="601" y="3"/>
                </a:lnTo>
                <a:lnTo>
                  <a:pt x="477" y="56"/>
                </a:lnTo>
                <a:lnTo>
                  <a:pt x="0" y="56"/>
                </a:lnTo>
                <a:close/>
              </a:path>
            </a:pathLst>
          </a:custGeom>
          <a:solidFill>
            <a:srgbClr val="009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24960" y="2639880"/>
            <a:ext cx="19656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4"/>
                </a:lnTo>
                <a:lnTo>
                  <a:pt x="0" y="259"/>
                </a:lnTo>
                <a:lnTo>
                  <a:pt x="0" y="5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66080" y="2741760"/>
            <a:ext cx="7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eld Procu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67520" y="3108240"/>
            <a:ext cx="760320" cy="328680"/>
          </a:xfrm>
          <a:custGeom>
            <a:avLst/>
            <a:gdLst/>
            <a:ahLst/>
            <a:rect l="l" t="t" r="r" b="b"/>
            <a:pathLst>
              <a:path w="479" h="207">
                <a:moveTo>
                  <a:pt x="479" y="207"/>
                </a:moveTo>
                <a:lnTo>
                  <a:pt x="479" y="0"/>
                </a:lnTo>
                <a:lnTo>
                  <a:pt x="0" y="0"/>
                </a:lnTo>
                <a:lnTo>
                  <a:pt x="0" y="207"/>
                </a:lnTo>
                <a:close/>
              </a:path>
            </a:pathLst>
          </a:custGeom>
          <a:gradFill rotWithShape="0">
            <a:gsLst>
              <a:gs pos="0">
                <a:srgbClr val="00ce00"/>
              </a:gs>
              <a:gs pos="100000">
                <a:srgbClr val="0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67520" y="3022560"/>
            <a:ext cx="954000" cy="85680"/>
          </a:xfrm>
          <a:custGeom>
            <a:avLst/>
            <a:gdLst/>
            <a:ahLst/>
            <a:rect l="l" t="t" r="r" b="b"/>
            <a:pathLst>
              <a:path w="601" h="54">
                <a:moveTo>
                  <a:pt x="126" y="0"/>
                </a:moveTo>
                <a:lnTo>
                  <a:pt x="601" y="2"/>
                </a:lnTo>
                <a:lnTo>
                  <a:pt x="477" y="54"/>
                </a:lnTo>
                <a:lnTo>
                  <a:pt x="0" y="54"/>
                </a:lnTo>
                <a:close/>
              </a:path>
            </a:pathLst>
          </a:cu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24960" y="3025800"/>
            <a:ext cx="196560" cy="411120"/>
          </a:xfrm>
          <a:custGeom>
            <a:avLst/>
            <a:gdLst/>
            <a:ahLst/>
            <a:rect l="l" t="t" r="r" b="b"/>
            <a:pathLst>
              <a:path w="124" h="259">
                <a:moveTo>
                  <a:pt x="124" y="0"/>
                </a:moveTo>
                <a:lnTo>
                  <a:pt x="124" y="205"/>
                </a:lnTo>
                <a:lnTo>
                  <a:pt x="0" y="259"/>
                </a:lnTo>
                <a:lnTo>
                  <a:pt x="0" y="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72200" y="3129120"/>
            <a:ext cx="74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56120" y="3354480"/>
            <a:ext cx="3021120" cy="2444760"/>
          </a:xfrm>
          <a:custGeom>
            <a:avLst/>
            <a:gdLst/>
            <a:ahLst/>
            <a:rect l="l" t="t" r="r" b="b"/>
            <a:pathLst>
              <a:path w="1903" h="1540">
                <a:moveTo>
                  <a:pt x="1623" y="1540"/>
                </a:moveTo>
                <a:lnTo>
                  <a:pt x="1633" y="1540"/>
                </a:lnTo>
                <a:lnTo>
                  <a:pt x="1633" y="1530"/>
                </a:lnTo>
                <a:lnTo>
                  <a:pt x="1654" y="1530"/>
                </a:lnTo>
                <a:lnTo>
                  <a:pt x="1654" y="1519"/>
                </a:lnTo>
                <a:lnTo>
                  <a:pt x="1664" y="1519"/>
                </a:lnTo>
                <a:lnTo>
                  <a:pt x="1664" y="1509"/>
                </a:lnTo>
                <a:lnTo>
                  <a:pt x="1674" y="1498"/>
                </a:lnTo>
                <a:lnTo>
                  <a:pt x="1685" y="1498"/>
                </a:lnTo>
                <a:lnTo>
                  <a:pt x="1716" y="1468"/>
                </a:lnTo>
                <a:lnTo>
                  <a:pt x="1727" y="1468"/>
                </a:lnTo>
                <a:lnTo>
                  <a:pt x="1727" y="1457"/>
                </a:lnTo>
                <a:lnTo>
                  <a:pt x="1758" y="1426"/>
                </a:lnTo>
                <a:lnTo>
                  <a:pt x="1758" y="1415"/>
                </a:lnTo>
                <a:lnTo>
                  <a:pt x="1768" y="1415"/>
                </a:lnTo>
                <a:lnTo>
                  <a:pt x="1768" y="1395"/>
                </a:lnTo>
                <a:lnTo>
                  <a:pt x="1789" y="1384"/>
                </a:lnTo>
                <a:lnTo>
                  <a:pt x="1789" y="1373"/>
                </a:lnTo>
                <a:lnTo>
                  <a:pt x="1800" y="1363"/>
                </a:lnTo>
                <a:lnTo>
                  <a:pt x="1800" y="1353"/>
                </a:lnTo>
                <a:lnTo>
                  <a:pt x="1810" y="1332"/>
                </a:lnTo>
                <a:lnTo>
                  <a:pt x="1820" y="1322"/>
                </a:lnTo>
                <a:lnTo>
                  <a:pt x="1820" y="1311"/>
                </a:lnTo>
                <a:lnTo>
                  <a:pt x="1830" y="1301"/>
                </a:lnTo>
                <a:lnTo>
                  <a:pt x="1841" y="1280"/>
                </a:lnTo>
                <a:lnTo>
                  <a:pt x="1851" y="1207"/>
                </a:lnTo>
                <a:lnTo>
                  <a:pt x="1862" y="1197"/>
                </a:lnTo>
                <a:lnTo>
                  <a:pt x="1872" y="1176"/>
                </a:lnTo>
                <a:lnTo>
                  <a:pt x="1872" y="1155"/>
                </a:lnTo>
                <a:lnTo>
                  <a:pt x="1883" y="1145"/>
                </a:lnTo>
                <a:lnTo>
                  <a:pt x="1883" y="1124"/>
                </a:lnTo>
                <a:lnTo>
                  <a:pt x="1893" y="1103"/>
                </a:lnTo>
                <a:lnTo>
                  <a:pt x="1893" y="1093"/>
                </a:lnTo>
                <a:lnTo>
                  <a:pt x="1903" y="1082"/>
                </a:lnTo>
                <a:lnTo>
                  <a:pt x="1903" y="1041"/>
                </a:lnTo>
                <a:lnTo>
                  <a:pt x="1893" y="1020"/>
                </a:lnTo>
                <a:lnTo>
                  <a:pt x="1883" y="1009"/>
                </a:lnTo>
                <a:lnTo>
                  <a:pt x="1883" y="999"/>
                </a:lnTo>
                <a:lnTo>
                  <a:pt x="1872" y="988"/>
                </a:lnTo>
                <a:lnTo>
                  <a:pt x="1872" y="978"/>
                </a:lnTo>
                <a:lnTo>
                  <a:pt x="1862" y="968"/>
                </a:lnTo>
                <a:lnTo>
                  <a:pt x="1851" y="947"/>
                </a:lnTo>
                <a:lnTo>
                  <a:pt x="1851" y="936"/>
                </a:lnTo>
                <a:lnTo>
                  <a:pt x="1841" y="936"/>
                </a:lnTo>
                <a:lnTo>
                  <a:pt x="1841" y="916"/>
                </a:lnTo>
                <a:lnTo>
                  <a:pt x="1830" y="906"/>
                </a:lnTo>
                <a:lnTo>
                  <a:pt x="1820" y="906"/>
                </a:lnTo>
                <a:lnTo>
                  <a:pt x="1820" y="895"/>
                </a:lnTo>
                <a:lnTo>
                  <a:pt x="1758" y="874"/>
                </a:lnTo>
                <a:lnTo>
                  <a:pt x="1737" y="853"/>
                </a:lnTo>
                <a:lnTo>
                  <a:pt x="1727" y="853"/>
                </a:lnTo>
                <a:lnTo>
                  <a:pt x="1706" y="833"/>
                </a:lnTo>
                <a:lnTo>
                  <a:pt x="1695" y="833"/>
                </a:lnTo>
                <a:lnTo>
                  <a:pt x="1685" y="822"/>
                </a:lnTo>
                <a:lnTo>
                  <a:pt x="1644" y="801"/>
                </a:lnTo>
                <a:lnTo>
                  <a:pt x="1633" y="791"/>
                </a:lnTo>
                <a:lnTo>
                  <a:pt x="1560" y="781"/>
                </a:lnTo>
                <a:lnTo>
                  <a:pt x="1518" y="760"/>
                </a:lnTo>
                <a:lnTo>
                  <a:pt x="1488" y="760"/>
                </a:lnTo>
                <a:lnTo>
                  <a:pt x="1404" y="749"/>
                </a:lnTo>
                <a:lnTo>
                  <a:pt x="1383" y="739"/>
                </a:lnTo>
                <a:lnTo>
                  <a:pt x="1352" y="739"/>
                </a:lnTo>
                <a:lnTo>
                  <a:pt x="1332" y="728"/>
                </a:lnTo>
                <a:lnTo>
                  <a:pt x="1248" y="728"/>
                </a:lnTo>
                <a:lnTo>
                  <a:pt x="1227" y="718"/>
                </a:lnTo>
                <a:lnTo>
                  <a:pt x="1186" y="718"/>
                </a:lnTo>
                <a:lnTo>
                  <a:pt x="1165" y="708"/>
                </a:lnTo>
                <a:lnTo>
                  <a:pt x="1124" y="708"/>
                </a:lnTo>
                <a:lnTo>
                  <a:pt x="1103" y="697"/>
                </a:lnTo>
                <a:lnTo>
                  <a:pt x="1082" y="697"/>
                </a:lnTo>
                <a:lnTo>
                  <a:pt x="1061" y="687"/>
                </a:lnTo>
                <a:lnTo>
                  <a:pt x="1020" y="687"/>
                </a:lnTo>
                <a:lnTo>
                  <a:pt x="999" y="676"/>
                </a:lnTo>
                <a:lnTo>
                  <a:pt x="915" y="666"/>
                </a:lnTo>
                <a:lnTo>
                  <a:pt x="812" y="666"/>
                </a:lnTo>
                <a:lnTo>
                  <a:pt x="791" y="656"/>
                </a:lnTo>
                <a:lnTo>
                  <a:pt x="718" y="656"/>
                </a:lnTo>
                <a:lnTo>
                  <a:pt x="593" y="635"/>
                </a:lnTo>
                <a:lnTo>
                  <a:pt x="500" y="624"/>
                </a:lnTo>
                <a:lnTo>
                  <a:pt x="479" y="614"/>
                </a:lnTo>
                <a:lnTo>
                  <a:pt x="458" y="614"/>
                </a:lnTo>
                <a:lnTo>
                  <a:pt x="396" y="593"/>
                </a:lnTo>
                <a:lnTo>
                  <a:pt x="375" y="572"/>
                </a:lnTo>
                <a:lnTo>
                  <a:pt x="354" y="562"/>
                </a:lnTo>
                <a:lnTo>
                  <a:pt x="333" y="541"/>
                </a:lnTo>
                <a:lnTo>
                  <a:pt x="312" y="531"/>
                </a:lnTo>
                <a:lnTo>
                  <a:pt x="302" y="521"/>
                </a:lnTo>
                <a:lnTo>
                  <a:pt x="291" y="499"/>
                </a:lnTo>
                <a:lnTo>
                  <a:pt x="281" y="489"/>
                </a:lnTo>
                <a:lnTo>
                  <a:pt x="271" y="468"/>
                </a:lnTo>
                <a:lnTo>
                  <a:pt x="261" y="458"/>
                </a:lnTo>
                <a:lnTo>
                  <a:pt x="250" y="458"/>
                </a:lnTo>
                <a:lnTo>
                  <a:pt x="240" y="448"/>
                </a:lnTo>
                <a:lnTo>
                  <a:pt x="229" y="426"/>
                </a:lnTo>
                <a:lnTo>
                  <a:pt x="198" y="396"/>
                </a:lnTo>
                <a:lnTo>
                  <a:pt x="188" y="375"/>
                </a:lnTo>
                <a:lnTo>
                  <a:pt x="167" y="364"/>
                </a:lnTo>
                <a:lnTo>
                  <a:pt x="156" y="344"/>
                </a:lnTo>
                <a:lnTo>
                  <a:pt x="156" y="333"/>
                </a:lnTo>
                <a:lnTo>
                  <a:pt x="125" y="302"/>
                </a:lnTo>
                <a:lnTo>
                  <a:pt x="125" y="291"/>
                </a:lnTo>
                <a:lnTo>
                  <a:pt x="115" y="281"/>
                </a:lnTo>
                <a:lnTo>
                  <a:pt x="115" y="271"/>
                </a:lnTo>
                <a:lnTo>
                  <a:pt x="105" y="260"/>
                </a:lnTo>
                <a:lnTo>
                  <a:pt x="105" y="250"/>
                </a:lnTo>
                <a:lnTo>
                  <a:pt x="94" y="239"/>
                </a:lnTo>
                <a:lnTo>
                  <a:pt x="94" y="229"/>
                </a:lnTo>
                <a:lnTo>
                  <a:pt x="84" y="219"/>
                </a:lnTo>
                <a:lnTo>
                  <a:pt x="84" y="208"/>
                </a:lnTo>
                <a:lnTo>
                  <a:pt x="53" y="146"/>
                </a:lnTo>
                <a:lnTo>
                  <a:pt x="42" y="146"/>
                </a:lnTo>
                <a:lnTo>
                  <a:pt x="42" y="135"/>
                </a:lnTo>
                <a:lnTo>
                  <a:pt x="32" y="125"/>
                </a:lnTo>
                <a:lnTo>
                  <a:pt x="21" y="104"/>
                </a:lnTo>
                <a:lnTo>
                  <a:pt x="21" y="94"/>
                </a:lnTo>
                <a:lnTo>
                  <a:pt x="11" y="84"/>
                </a:lnTo>
                <a:lnTo>
                  <a:pt x="11" y="62"/>
                </a:lnTo>
                <a:lnTo>
                  <a:pt x="21" y="52"/>
                </a:lnTo>
                <a:lnTo>
                  <a:pt x="21" y="41"/>
                </a:lnTo>
                <a:lnTo>
                  <a:pt x="11" y="31"/>
                </a:lnTo>
                <a:lnTo>
                  <a:pt x="11" y="11"/>
                </a:lnTo>
                <a:lnTo>
                  <a:pt x="0" y="11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ffff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5160" y="3222720"/>
            <a:ext cx="1685880" cy="2163600"/>
          </a:xfrm>
          <a:custGeom>
            <a:avLst/>
            <a:gdLst/>
            <a:ahLst/>
            <a:rect l="l" t="t" r="r" b="b"/>
            <a:pathLst>
              <a:path w="1062" h="1363">
                <a:moveTo>
                  <a:pt x="0" y="1363"/>
                </a:moveTo>
                <a:cubicBezTo>
                  <a:pt x="640" y="1251"/>
                  <a:pt x="1062" y="636"/>
                  <a:pt x="935" y="0"/>
                </a:cubicBezTo>
              </a:path>
            </a:pathLst>
          </a:custGeom>
          <a:noFill/>
          <a:ln w="63360">
            <a:solidFill>
              <a:srgbClr val="6e6e6e"/>
            </a:solidFill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06680" y="3911760"/>
            <a:ext cx="874800" cy="1890720"/>
          </a:xfrm>
          <a:custGeom>
            <a:avLst/>
            <a:gdLst/>
            <a:ahLst/>
            <a:rect l="l" t="t" r="r" b="b"/>
            <a:pathLst>
              <a:path w="551" h="1191">
                <a:moveTo>
                  <a:pt x="0" y="0"/>
                </a:moveTo>
                <a:cubicBezTo>
                  <a:pt x="13" y="450"/>
                  <a:pt x="211" y="878"/>
                  <a:pt x="551" y="1191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59680" y="3438360"/>
            <a:ext cx="788760" cy="2144880"/>
          </a:xfrm>
          <a:custGeom>
            <a:avLst/>
            <a:gdLst/>
            <a:ahLst/>
            <a:rect l="l" t="t" r="r" b="b"/>
            <a:pathLst>
              <a:path w="497" h="1351">
                <a:moveTo>
                  <a:pt x="0" y="1351"/>
                </a:moveTo>
                <a:cubicBezTo>
                  <a:pt x="419" y="1025"/>
                  <a:pt x="497" y="422"/>
                  <a:pt x="177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72040" y="3419640"/>
            <a:ext cx="3168720" cy="2144520"/>
          </a:xfrm>
          <a:custGeom>
            <a:avLst/>
            <a:gdLst/>
            <a:ahLst/>
            <a:rect l="l" t="t" r="r" b="b"/>
            <a:pathLst>
              <a:path w="1996" h="1351">
                <a:moveTo>
                  <a:pt x="0" y="1260"/>
                </a:moveTo>
                <a:cubicBezTo>
                  <a:pt x="877" y="1351"/>
                  <a:pt x="1703" y="830"/>
                  <a:pt x="1996" y="0"/>
                </a:cubicBezTo>
              </a:path>
            </a:pathLst>
          </a:custGeom>
          <a:noFill/>
          <a:ln w="63360">
            <a:solidFill>
              <a:srgbClr val="00ce00"/>
            </a:solidFill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65840" y="3254400"/>
            <a:ext cx="2111400" cy="2529000"/>
          </a:xfrm>
          <a:custGeom>
            <a:avLst/>
            <a:gdLst/>
            <a:ahLst/>
            <a:rect l="l" t="t" r="r" b="b"/>
            <a:pathLst>
              <a:path w="1330" h="1593">
                <a:moveTo>
                  <a:pt x="1039" y="1593"/>
                </a:moveTo>
                <a:lnTo>
                  <a:pt x="1060" y="1593"/>
                </a:lnTo>
                <a:lnTo>
                  <a:pt x="1060" y="1583"/>
                </a:lnTo>
                <a:lnTo>
                  <a:pt x="1081" y="1583"/>
                </a:lnTo>
                <a:lnTo>
                  <a:pt x="1091" y="1573"/>
                </a:lnTo>
                <a:lnTo>
                  <a:pt x="1101" y="1573"/>
                </a:lnTo>
                <a:lnTo>
                  <a:pt x="1112" y="1563"/>
                </a:lnTo>
                <a:lnTo>
                  <a:pt x="1122" y="1563"/>
                </a:lnTo>
                <a:lnTo>
                  <a:pt x="1122" y="1553"/>
                </a:lnTo>
                <a:lnTo>
                  <a:pt x="1133" y="1553"/>
                </a:lnTo>
                <a:lnTo>
                  <a:pt x="1143" y="1543"/>
                </a:lnTo>
                <a:lnTo>
                  <a:pt x="1154" y="1543"/>
                </a:lnTo>
                <a:lnTo>
                  <a:pt x="1154" y="1533"/>
                </a:lnTo>
                <a:lnTo>
                  <a:pt x="1164" y="1533"/>
                </a:lnTo>
                <a:lnTo>
                  <a:pt x="1164" y="1522"/>
                </a:lnTo>
                <a:lnTo>
                  <a:pt x="1174" y="1522"/>
                </a:lnTo>
                <a:lnTo>
                  <a:pt x="1174" y="1512"/>
                </a:lnTo>
                <a:lnTo>
                  <a:pt x="1185" y="1502"/>
                </a:lnTo>
                <a:lnTo>
                  <a:pt x="1185" y="1492"/>
                </a:lnTo>
                <a:lnTo>
                  <a:pt x="1195" y="1492"/>
                </a:lnTo>
                <a:lnTo>
                  <a:pt x="1195" y="1482"/>
                </a:lnTo>
                <a:lnTo>
                  <a:pt x="1206" y="1482"/>
                </a:lnTo>
                <a:lnTo>
                  <a:pt x="1206" y="1472"/>
                </a:lnTo>
                <a:lnTo>
                  <a:pt x="1216" y="1462"/>
                </a:lnTo>
                <a:lnTo>
                  <a:pt x="1216" y="1451"/>
                </a:lnTo>
                <a:lnTo>
                  <a:pt x="1227" y="1451"/>
                </a:lnTo>
                <a:lnTo>
                  <a:pt x="1227" y="1441"/>
                </a:lnTo>
                <a:lnTo>
                  <a:pt x="1237" y="1431"/>
                </a:lnTo>
                <a:lnTo>
                  <a:pt x="1237" y="1421"/>
                </a:lnTo>
                <a:lnTo>
                  <a:pt x="1247" y="1421"/>
                </a:lnTo>
                <a:lnTo>
                  <a:pt x="1247" y="1401"/>
                </a:lnTo>
                <a:lnTo>
                  <a:pt x="1257" y="1391"/>
                </a:lnTo>
                <a:lnTo>
                  <a:pt x="1257" y="1381"/>
                </a:lnTo>
                <a:lnTo>
                  <a:pt x="1268" y="1381"/>
                </a:lnTo>
                <a:lnTo>
                  <a:pt x="1268" y="1360"/>
                </a:lnTo>
                <a:lnTo>
                  <a:pt x="1278" y="1350"/>
                </a:lnTo>
                <a:lnTo>
                  <a:pt x="1278" y="1330"/>
                </a:lnTo>
                <a:lnTo>
                  <a:pt x="1289" y="1330"/>
                </a:lnTo>
                <a:lnTo>
                  <a:pt x="1289" y="1310"/>
                </a:lnTo>
                <a:lnTo>
                  <a:pt x="1299" y="1299"/>
                </a:lnTo>
                <a:lnTo>
                  <a:pt x="1299" y="1279"/>
                </a:lnTo>
                <a:lnTo>
                  <a:pt x="1310" y="1269"/>
                </a:lnTo>
                <a:lnTo>
                  <a:pt x="1310" y="1218"/>
                </a:lnTo>
                <a:lnTo>
                  <a:pt x="1320" y="1208"/>
                </a:lnTo>
                <a:lnTo>
                  <a:pt x="1320" y="1147"/>
                </a:lnTo>
                <a:lnTo>
                  <a:pt x="1330" y="1137"/>
                </a:lnTo>
                <a:lnTo>
                  <a:pt x="1330" y="1025"/>
                </a:lnTo>
                <a:lnTo>
                  <a:pt x="1310" y="1005"/>
                </a:lnTo>
                <a:lnTo>
                  <a:pt x="1310" y="994"/>
                </a:lnTo>
                <a:lnTo>
                  <a:pt x="1299" y="994"/>
                </a:lnTo>
                <a:lnTo>
                  <a:pt x="1299" y="985"/>
                </a:lnTo>
                <a:lnTo>
                  <a:pt x="1289" y="985"/>
                </a:lnTo>
                <a:lnTo>
                  <a:pt x="1289" y="974"/>
                </a:lnTo>
                <a:lnTo>
                  <a:pt x="1278" y="974"/>
                </a:lnTo>
                <a:lnTo>
                  <a:pt x="1247" y="943"/>
                </a:lnTo>
                <a:lnTo>
                  <a:pt x="1237" y="943"/>
                </a:lnTo>
                <a:lnTo>
                  <a:pt x="1237" y="934"/>
                </a:lnTo>
                <a:lnTo>
                  <a:pt x="1227" y="934"/>
                </a:lnTo>
                <a:lnTo>
                  <a:pt x="1216" y="923"/>
                </a:lnTo>
                <a:lnTo>
                  <a:pt x="1206" y="923"/>
                </a:lnTo>
                <a:lnTo>
                  <a:pt x="1195" y="913"/>
                </a:lnTo>
                <a:lnTo>
                  <a:pt x="1185" y="913"/>
                </a:lnTo>
                <a:lnTo>
                  <a:pt x="1164" y="903"/>
                </a:lnTo>
                <a:lnTo>
                  <a:pt x="1164" y="893"/>
                </a:lnTo>
                <a:lnTo>
                  <a:pt x="1133" y="893"/>
                </a:lnTo>
                <a:lnTo>
                  <a:pt x="1133" y="883"/>
                </a:lnTo>
                <a:lnTo>
                  <a:pt x="1112" y="883"/>
                </a:lnTo>
                <a:lnTo>
                  <a:pt x="1101" y="872"/>
                </a:lnTo>
                <a:lnTo>
                  <a:pt x="1081" y="872"/>
                </a:lnTo>
                <a:lnTo>
                  <a:pt x="1071" y="862"/>
                </a:lnTo>
                <a:lnTo>
                  <a:pt x="1050" y="862"/>
                </a:lnTo>
                <a:lnTo>
                  <a:pt x="1039" y="852"/>
                </a:lnTo>
                <a:lnTo>
                  <a:pt x="1018" y="852"/>
                </a:lnTo>
                <a:lnTo>
                  <a:pt x="1018" y="842"/>
                </a:lnTo>
                <a:lnTo>
                  <a:pt x="987" y="842"/>
                </a:lnTo>
                <a:lnTo>
                  <a:pt x="977" y="832"/>
                </a:lnTo>
                <a:lnTo>
                  <a:pt x="956" y="832"/>
                </a:lnTo>
                <a:lnTo>
                  <a:pt x="945" y="822"/>
                </a:lnTo>
                <a:lnTo>
                  <a:pt x="925" y="822"/>
                </a:lnTo>
                <a:lnTo>
                  <a:pt x="925" y="812"/>
                </a:lnTo>
                <a:lnTo>
                  <a:pt x="894" y="812"/>
                </a:lnTo>
                <a:lnTo>
                  <a:pt x="883" y="802"/>
                </a:lnTo>
                <a:lnTo>
                  <a:pt x="852" y="802"/>
                </a:lnTo>
                <a:lnTo>
                  <a:pt x="852" y="791"/>
                </a:lnTo>
                <a:lnTo>
                  <a:pt x="831" y="791"/>
                </a:lnTo>
                <a:lnTo>
                  <a:pt x="769" y="781"/>
                </a:lnTo>
                <a:lnTo>
                  <a:pt x="748" y="781"/>
                </a:lnTo>
                <a:lnTo>
                  <a:pt x="738" y="771"/>
                </a:lnTo>
                <a:lnTo>
                  <a:pt x="675" y="761"/>
                </a:lnTo>
                <a:lnTo>
                  <a:pt x="654" y="761"/>
                </a:lnTo>
                <a:lnTo>
                  <a:pt x="644" y="751"/>
                </a:lnTo>
                <a:lnTo>
                  <a:pt x="613" y="751"/>
                </a:lnTo>
                <a:lnTo>
                  <a:pt x="603" y="741"/>
                </a:lnTo>
                <a:lnTo>
                  <a:pt x="582" y="741"/>
                </a:lnTo>
                <a:lnTo>
                  <a:pt x="571" y="731"/>
                </a:lnTo>
                <a:lnTo>
                  <a:pt x="561" y="731"/>
                </a:lnTo>
                <a:lnTo>
                  <a:pt x="551" y="721"/>
                </a:lnTo>
                <a:lnTo>
                  <a:pt x="540" y="721"/>
                </a:lnTo>
                <a:lnTo>
                  <a:pt x="530" y="710"/>
                </a:lnTo>
                <a:lnTo>
                  <a:pt x="519" y="710"/>
                </a:lnTo>
                <a:lnTo>
                  <a:pt x="509" y="700"/>
                </a:lnTo>
                <a:lnTo>
                  <a:pt x="498" y="700"/>
                </a:lnTo>
                <a:lnTo>
                  <a:pt x="488" y="690"/>
                </a:lnTo>
                <a:lnTo>
                  <a:pt x="478" y="690"/>
                </a:lnTo>
                <a:lnTo>
                  <a:pt x="457" y="670"/>
                </a:lnTo>
                <a:lnTo>
                  <a:pt x="447" y="670"/>
                </a:lnTo>
                <a:lnTo>
                  <a:pt x="426" y="650"/>
                </a:lnTo>
                <a:lnTo>
                  <a:pt x="415" y="650"/>
                </a:lnTo>
                <a:lnTo>
                  <a:pt x="384" y="619"/>
                </a:lnTo>
                <a:lnTo>
                  <a:pt x="363" y="609"/>
                </a:lnTo>
                <a:lnTo>
                  <a:pt x="353" y="599"/>
                </a:lnTo>
                <a:lnTo>
                  <a:pt x="332" y="588"/>
                </a:lnTo>
                <a:lnTo>
                  <a:pt x="332" y="579"/>
                </a:lnTo>
                <a:lnTo>
                  <a:pt x="312" y="568"/>
                </a:lnTo>
                <a:lnTo>
                  <a:pt x="301" y="558"/>
                </a:lnTo>
                <a:lnTo>
                  <a:pt x="280" y="548"/>
                </a:lnTo>
                <a:lnTo>
                  <a:pt x="228" y="497"/>
                </a:lnTo>
                <a:lnTo>
                  <a:pt x="218" y="497"/>
                </a:lnTo>
                <a:lnTo>
                  <a:pt x="218" y="487"/>
                </a:lnTo>
                <a:lnTo>
                  <a:pt x="176" y="446"/>
                </a:lnTo>
                <a:lnTo>
                  <a:pt x="176" y="436"/>
                </a:lnTo>
                <a:lnTo>
                  <a:pt x="156" y="426"/>
                </a:lnTo>
                <a:lnTo>
                  <a:pt x="145" y="416"/>
                </a:lnTo>
                <a:lnTo>
                  <a:pt x="145" y="406"/>
                </a:lnTo>
                <a:lnTo>
                  <a:pt x="135" y="396"/>
                </a:lnTo>
                <a:lnTo>
                  <a:pt x="135" y="385"/>
                </a:lnTo>
                <a:lnTo>
                  <a:pt x="114" y="365"/>
                </a:lnTo>
                <a:lnTo>
                  <a:pt x="114" y="355"/>
                </a:lnTo>
                <a:lnTo>
                  <a:pt x="103" y="345"/>
                </a:lnTo>
                <a:lnTo>
                  <a:pt x="103" y="335"/>
                </a:lnTo>
                <a:lnTo>
                  <a:pt x="93" y="325"/>
                </a:lnTo>
                <a:lnTo>
                  <a:pt x="93" y="304"/>
                </a:lnTo>
                <a:lnTo>
                  <a:pt x="83" y="294"/>
                </a:lnTo>
                <a:lnTo>
                  <a:pt x="83" y="274"/>
                </a:lnTo>
                <a:lnTo>
                  <a:pt x="72" y="263"/>
                </a:lnTo>
                <a:lnTo>
                  <a:pt x="72" y="243"/>
                </a:lnTo>
                <a:lnTo>
                  <a:pt x="62" y="233"/>
                </a:lnTo>
                <a:lnTo>
                  <a:pt x="62" y="212"/>
                </a:lnTo>
                <a:lnTo>
                  <a:pt x="51" y="203"/>
                </a:lnTo>
                <a:lnTo>
                  <a:pt x="51" y="192"/>
                </a:lnTo>
                <a:lnTo>
                  <a:pt x="41" y="183"/>
                </a:lnTo>
                <a:lnTo>
                  <a:pt x="41" y="162"/>
                </a:lnTo>
                <a:lnTo>
                  <a:pt x="30" y="162"/>
                </a:lnTo>
                <a:lnTo>
                  <a:pt x="30" y="142"/>
                </a:lnTo>
                <a:lnTo>
                  <a:pt x="20" y="132"/>
                </a:lnTo>
                <a:lnTo>
                  <a:pt x="20" y="101"/>
                </a:lnTo>
                <a:lnTo>
                  <a:pt x="10" y="101"/>
                </a:lnTo>
                <a:lnTo>
                  <a:pt x="10" y="40"/>
                </a:lnTo>
                <a:lnTo>
                  <a:pt x="0" y="40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ffff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89520" y="3238560"/>
            <a:ext cx="1271520" cy="2529000"/>
          </a:xfrm>
          <a:custGeom>
            <a:avLst/>
            <a:gdLst/>
            <a:ahLst/>
            <a:rect l="l" t="t" r="r" b="b"/>
            <a:pathLst>
              <a:path w="801" h="1593">
                <a:moveTo>
                  <a:pt x="510" y="1593"/>
                </a:moveTo>
                <a:lnTo>
                  <a:pt x="562" y="1573"/>
                </a:lnTo>
                <a:lnTo>
                  <a:pt x="572" y="1573"/>
                </a:lnTo>
                <a:lnTo>
                  <a:pt x="582" y="1563"/>
                </a:lnTo>
                <a:lnTo>
                  <a:pt x="593" y="1563"/>
                </a:lnTo>
                <a:lnTo>
                  <a:pt x="593" y="1553"/>
                </a:lnTo>
                <a:lnTo>
                  <a:pt x="614" y="1553"/>
                </a:lnTo>
                <a:lnTo>
                  <a:pt x="614" y="1542"/>
                </a:lnTo>
                <a:lnTo>
                  <a:pt x="635" y="1542"/>
                </a:lnTo>
                <a:lnTo>
                  <a:pt x="635" y="1532"/>
                </a:lnTo>
                <a:lnTo>
                  <a:pt x="645" y="1532"/>
                </a:lnTo>
                <a:lnTo>
                  <a:pt x="666" y="1512"/>
                </a:lnTo>
                <a:lnTo>
                  <a:pt x="676" y="1512"/>
                </a:lnTo>
                <a:lnTo>
                  <a:pt x="718" y="1472"/>
                </a:lnTo>
                <a:lnTo>
                  <a:pt x="728" y="1472"/>
                </a:lnTo>
                <a:lnTo>
                  <a:pt x="728" y="1461"/>
                </a:lnTo>
                <a:lnTo>
                  <a:pt x="749" y="1441"/>
                </a:lnTo>
                <a:lnTo>
                  <a:pt x="749" y="1431"/>
                </a:lnTo>
                <a:lnTo>
                  <a:pt x="759" y="1421"/>
                </a:lnTo>
                <a:lnTo>
                  <a:pt x="759" y="1401"/>
                </a:lnTo>
                <a:lnTo>
                  <a:pt x="770" y="1390"/>
                </a:lnTo>
                <a:lnTo>
                  <a:pt x="770" y="1370"/>
                </a:lnTo>
                <a:lnTo>
                  <a:pt x="780" y="1360"/>
                </a:lnTo>
                <a:lnTo>
                  <a:pt x="780" y="1339"/>
                </a:lnTo>
                <a:lnTo>
                  <a:pt x="791" y="1330"/>
                </a:lnTo>
                <a:lnTo>
                  <a:pt x="791" y="1086"/>
                </a:lnTo>
                <a:lnTo>
                  <a:pt x="801" y="1075"/>
                </a:lnTo>
                <a:lnTo>
                  <a:pt x="801" y="1066"/>
                </a:lnTo>
                <a:lnTo>
                  <a:pt x="791" y="1046"/>
                </a:lnTo>
                <a:lnTo>
                  <a:pt x="791" y="1004"/>
                </a:lnTo>
                <a:lnTo>
                  <a:pt x="780" y="1004"/>
                </a:lnTo>
                <a:lnTo>
                  <a:pt x="780" y="995"/>
                </a:lnTo>
                <a:lnTo>
                  <a:pt x="770" y="995"/>
                </a:lnTo>
                <a:lnTo>
                  <a:pt x="770" y="984"/>
                </a:lnTo>
                <a:lnTo>
                  <a:pt x="759" y="984"/>
                </a:lnTo>
                <a:lnTo>
                  <a:pt x="738" y="964"/>
                </a:lnTo>
                <a:lnTo>
                  <a:pt x="728" y="964"/>
                </a:lnTo>
                <a:lnTo>
                  <a:pt x="728" y="953"/>
                </a:lnTo>
                <a:lnTo>
                  <a:pt x="718" y="953"/>
                </a:lnTo>
                <a:lnTo>
                  <a:pt x="708" y="944"/>
                </a:lnTo>
                <a:lnTo>
                  <a:pt x="697" y="944"/>
                </a:lnTo>
                <a:lnTo>
                  <a:pt x="697" y="933"/>
                </a:lnTo>
                <a:lnTo>
                  <a:pt x="676" y="933"/>
                </a:lnTo>
                <a:lnTo>
                  <a:pt x="676" y="924"/>
                </a:lnTo>
                <a:lnTo>
                  <a:pt x="655" y="913"/>
                </a:lnTo>
                <a:lnTo>
                  <a:pt x="645" y="913"/>
                </a:lnTo>
                <a:lnTo>
                  <a:pt x="624" y="893"/>
                </a:lnTo>
                <a:lnTo>
                  <a:pt x="603" y="893"/>
                </a:lnTo>
                <a:lnTo>
                  <a:pt x="603" y="882"/>
                </a:lnTo>
                <a:lnTo>
                  <a:pt x="593" y="882"/>
                </a:lnTo>
                <a:lnTo>
                  <a:pt x="582" y="873"/>
                </a:lnTo>
                <a:lnTo>
                  <a:pt x="562" y="873"/>
                </a:lnTo>
                <a:lnTo>
                  <a:pt x="562" y="862"/>
                </a:lnTo>
                <a:lnTo>
                  <a:pt x="552" y="862"/>
                </a:lnTo>
                <a:lnTo>
                  <a:pt x="531" y="852"/>
                </a:lnTo>
                <a:lnTo>
                  <a:pt x="520" y="852"/>
                </a:lnTo>
                <a:lnTo>
                  <a:pt x="510" y="842"/>
                </a:lnTo>
                <a:lnTo>
                  <a:pt x="489" y="842"/>
                </a:lnTo>
                <a:lnTo>
                  <a:pt x="479" y="832"/>
                </a:lnTo>
                <a:lnTo>
                  <a:pt x="458" y="832"/>
                </a:lnTo>
                <a:lnTo>
                  <a:pt x="447" y="822"/>
                </a:lnTo>
                <a:lnTo>
                  <a:pt x="426" y="822"/>
                </a:lnTo>
                <a:lnTo>
                  <a:pt x="416" y="812"/>
                </a:lnTo>
                <a:lnTo>
                  <a:pt x="396" y="812"/>
                </a:lnTo>
                <a:lnTo>
                  <a:pt x="375" y="802"/>
                </a:lnTo>
                <a:lnTo>
                  <a:pt x="364" y="791"/>
                </a:lnTo>
                <a:lnTo>
                  <a:pt x="333" y="791"/>
                </a:lnTo>
                <a:lnTo>
                  <a:pt x="333" y="781"/>
                </a:lnTo>
                <a:lnTo>
                  <a:pt x="312" y="781"/>
                </a:lnTo>
                <a:lnTo>
                  <a:pt x="312" y="771"/>
                </a:lnTo>
                <a:lnTo>
                  <a:pt x="281" y="771"/>
                </a:lnTo>
                <a:lnTo>
                  <a:pt x="270" y="761"/>
                </a:lnTo>
                <a:lnTo>
                  <a:pt x="250" y="761"/>
                </a:lnTo>
                <a:lnTo>
                  <a:pt x="229" y="751"/>
                </a:lnTo>
                <a:lnTo>
                  <a:pt x="219" y="751"/>
                </a:lnTo>
                <a:lnTo>
                  <a:pt x="219" y="741"/>
                </a:lnTo>
                <a:lnTo>
                  <a:pt x="208" y="741"/>
                </a:lnTo>
                <a:lnTo>
                  <a:pt x="187" y="731"/>
                </a:lnTo>
                <a:lnTo>
                  <a:pt x="177" y="720"/>
                </a:lnTo>
                <a:lnTo>
                  <a:pt x="167" y="720"/>
                </a:lnTo>
                <a:lnTo>
                  <a:pt x="156" y="710"/>
                </a:lnTo>
                <a:lnTo>
                  <a:pt x="156" y="700"/>
                </a:lnTo>
                <a:lnTo>
                  <a:pt x="146" y="700"/>
                </a:lnTo>
                <a:lnTo>
                  <a:pt x="135" y="690"/>
                </a:lnTo>
                <a:lnTo>
                  <a:pt x="135" y="680"/>
                </a:lnTo>
                <a:lnTo>
                  <a:pt x="104" y="650"/>
                </a:lnTo>
                <a:lnTo>
                  <a:pt x="104" y="639"/>
                </a:lnTo>
                <a:lnTo>
                  <a:pt x="94" y="619"/>
                </a:lnTo>
                <a:lnTo>
                  <a:pt x="94" y="609"/>
                </a:lnTo>
                <a:lnTo>
                  <a:pt x="73" y="589"/>
                </a:lnTo>
                <a:lnTo>
                  <a:pt x="73" y="568"/>
                </a:lnTo>
                <a:lnTo>
                  <a:pt x="52" y="528"/>
                </a:lnTo>
                <a:lnTo>
                  <a:pt x="52" y="508"/>
                </a:lnTo>
                <a:lnTo>
                  <a:pt x="42" y="487"/>
                </a:lnTo>
                <a:lnTo>
                  <a:pt x="42" y="447"/>
                </a:lnTo>
                <a:lnTo>
                  <a:pt x="21" y="294"/>
                </a:lnTo>
                <a:lnTo>
                  <a:pt x="21" y="194"/>
                </a:lnTo>
                <a:lnTo>
                  <a:pt x="11" y="172"/>
                </a:lnTo>
                <a:lnTo>
                  <a:pt x="11" y="61"/>
                </a:lnTo>
                <a:lnTo>
                  <a:pt x="0" y="41"/>
                </a:lnTo>
                <a:lnTo>
                  <a:pt x="0" y="0"/>
                </a:lnTo>
                <a:lnTo>
                  <a:pt x="0" y="10"/>
                </a:lnTo>
                <a:lnTo>
                  <a:pt x="11" y="10"/>
                </a:lnTo>
              </a:path>
            </a:pathLst>
          </a:custGeom>
          <a:noFill/>
          <a:ln w="63360">
            <a:solidFill>
              <a:srgbClr val="ffff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68960" y="2662200"/>
            <a:ext cx="868320" cy="2525760"/>
          </a:xfrm>
          <a:custGeom>
            <a:avLst/>
            <a:gdLst/>
            <a:ahLst/>
            <a:rect l="l" t="t" r="r" b="b"/>
            <a:pathLst>
              <a:path w="547" h="1591">
                <a:moveTo>
                  <a:pt x="125" y="1591"/>
                </a:moveTo>
                <a:cubicBezTo>
                  <a:pt x="547" y="1122"/>
                  <a:pt x="489" y="398"/>
                  <a:pt x="0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685880" y="2014560"/>
            <a:ext cx="8004240" cy="43369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duct Life Cycle Objec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013120" y="1913040"/>
            <a:ext cx="7032600" cy="44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5120" indent="-195120">
              <a:lnSpc>
                <a:spcPct val="100000"/>
              </a:lnSpc>
              <a:spcAft>
                <a:spcPts val="414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ivers: Revenue &amp; Profit – Sooner and M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1480" indent="-191880">
              <a:lnSpc>
                <a:spcPct val="100000"/>
              </a:lnSpc>
              <a:spcAft>
                <a:spcPts val="349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novation Bandwid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01480" indent="-191880">
              <a:lnSpc>
                <a:spcPct val="100000"/>
              </a:lnSpc>
              <a:spcAft>
                <a:spcPts val="349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01480" indent="-191880">
              <a:lnSpc>
                <a:spcPct val="100000"/>
              </a:lnSpc>
              <a:spcAft>
                <a:spcPts val="349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Aft>
                <a:spcPts val="414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1480" indent="-191880">
              <a:lnSpc>
                <a:spcPct val="100000"/>
              </a:lnSpc>
              <a:spcAft>
                <a:spcPts val="349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rateg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01480" indent="-191880">
              <a:lnSpc>
                <a:spcPct val="100000"/>
              </a:lnSpc>
              <a:spcAft>
                <a:spcPts val="349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01480" indent="-191880">
              <a:lnSpc>
                <a:spcPct val="100000"/>
              </a:lnSpc>
              <a:spcAft>
                <a:spcPts val="349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rnal v. Outsourc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01480" indent="-191880">
              <a:lnSpc>
                <a:spcPct val="100000"/>
              </a:lnSpc>
              <a:spcAft>
                <a:spcPts val="349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est-of-Breed v. Integrated Sui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01480" indent="-191880">
              <a:lnSpc>
                <a:spcPct val="100000"/>
              </a:lnSpc>
              <a:spcAft>
                <a:spcPts val="349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t with Existing Infrastructure(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01480" indent="-191880">
              <a:lnSpc>
                <a:spcPct val="100000"/>
              </a:lnSpc>
              <a:spcAft>
                <a:spcPts val="349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ject Scope/Du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Aft>
                <a:spcPts val="414"/>
              </a:spcAft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1480" indent="-191880">
              <a:lnSpc>
                <a:spcPct val="100000"/>
              </a:lnSpc>
              <a:spcAft>
                <a:spcPts val="349"/>
              </a:spcAft>
              <a:buClr>
                <a:srgbClr val="0000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llaboration Centric Value Chai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20720" y="311040"/>
            <a:ext cx="805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ssembling the Sol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_User</cp:lastModifiedBy>
  <dcterms:modified xsi:type="dcterms:W3CDTF">2004-02-24T14:06:59Z</dcterms:modified>
  <cp:revision>1</cp:revision>
  <dc:subject/>
  <dc:title>No Slide Title</dc:title>
</cp:coreProperties>
</file>