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4.wmf" ContentType="image/x-wmf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2366-1745-4515-A600-DD1B8D7F5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AA2B-E148-4768-92C4-865AE4515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8CD4-6F11-4C3F-9682-B4BA69237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1336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768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4940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1336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768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8021-47F0-4EB0-B03F-0D7C89589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DAFC-8214-4C03-AC9D-FC0D33C48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1336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77680" y="410652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94940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1336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77680" y="482976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0514-8E07-4EBF-B060-BBEDCAF57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70CF-30B7-4599-B58B-AEDD06F24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37C5-A37F-44CA-AAE1-6EF5F5E40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7395-586B-42AF-8C85-B488515D0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3127-1B6B-4B2E-957B-5D1C345AE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82976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202A-65D2-47F4-B5D8-CA604C2E0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4940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410652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49400" y="482976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35A3-3965-4C73-8B24-67B0E35B5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3969a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240" y="6566040"/>
            <a:ext cx="397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0EEA-98D5-4F6A-BCBD-790A7ED350A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440360" y="193680"/>
            <a:ext cx="2632680" cy="328680"/>
            <a:chOff x="1440360" y="193680"/>
            <a:chExt cx="2632680" cy="328680"/>
          </a:xfrm>
        </p:grpSpPr>
        <p:sp>
          <p:nvSpPr>
            <p:cNvPr id="4" name=""/>
            <p:cNvSpPr/>
            <p:nvPr/>
          </p:nvSpPr>
          <p:spPr>
            <a:xfrm>
              <a:off x="1440360" y="193680"/>
              <a:ext cx="26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duct Lifecycle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47920" y="287280"/>
              <a:ext cx="0" cy="23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 rot="16200000">
            <a:off x="8078760" y="331272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3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06640" y="39852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roduct Lifecycle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863720" y="4217760"/>
            <a:ext cx="0" cy="9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2280" y="4730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8078760" y="331272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3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969a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969ae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969ae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hyperlink" Target="http://www.krebs.com/index.html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hyperlink" Target="http://www.krebs.com/index.html" TargetMode="External"/><Relationship Id="rId4" Type="http://schemas.openxmlformats.org/officeDocument/2006/relationships/image" Target="../media/image19.png"/><Relationship Id="rId5" Type="http://schemas.openxmlformats.org/officeDocument/2006/relationships/slide" Target="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jpe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9.png"/><Relationship Id="rId17" Type="http://schemas.openxmlformats.org/officeDocument/2006/relationships/image" Target="../media/image35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" Target=""/><Relationship Id="rId8" Type="http://schemas.openxmlformats.org/officeDocument/2006/relationships/image" Target="../media/image7.png"/><Relationship Id="rId9" Type="http://schemas.openxmlformats.org/officeDocument/2006/relationships/slide" Target="slide25.xml"/><Relationship Id="rId10" Type="http://schemas.openxmlformats.org/officeDocument/2006/relationships/image" Target="../media/image7.png"/><Relationship Id="rId11" Type="http://schemas.openxmlformats.org/officeDocument/2006/relationships/slide" Target="slide24.xml"/><Relationship Id="rId12" Type="http://schemas.openxmlformats.org/officeDocument/2006/relationships/image" Target="../media/image7.png"/><Relationship Id="rId13" Type="http://schemas.openxmlformats.org/officeDocument/2006/relationships/slide" Target=""/><Relationship Id="rId14" Type="http://schemas.openxmlformats.org/officeDocument/2006/relationships/image" Target="../media/image7.png"/><Relationship Id="rId15" Type="http://schemas.openxmlformats.org/officeDocument/2006/relationships/slide" Target="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8466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tching pains with capabilities for Industrial Machinery &amp; Mobile Equipmen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nid Kuznets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M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SMARTEAM Domain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23920" y="654372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&amp;A Training | Gothenburg | 28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ve Design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RTEAM – CATIA V5 Integration enhances Concurrent Engineering at V5R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e REFRESH command to get the most recent information on the lifecycle status of the different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icon displaying in the feature tree the existence of a more recent version of a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 replace with selected revisions (latest or n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Workspace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&amp; Efficient Team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vault transactions in early rapid iteration ph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3353040" cy="2361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8320" y="4232160"/>
            <a:ext cx="339876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A97B-3B4F-46FC-9BD2-DC1C5A670A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MARTEAM – CATIA Integration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-document relations are part of the V5 archite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y documents and type of relations between theses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ative SMARTEAM integration of CATIA link semantic enables dedicated behavior on each type of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ed nav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link type (ic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 document relations by link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roved “Impacts on”/”Impacted by” decision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y opera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dit, Check-Out, 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eck-In, New Release, Obso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in added valu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sed mani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wer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ed data flow between vault &amp; local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ed file brought on local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sed concurrent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172200" y="2514600"/>
            <a:ext cx="2895480" cy="24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3ABA-5865-49BD-8503-FE4251FA99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pplie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product, market globalization, price and time-to-market pressure, changing customer requirements – need to involve supplier into design/manufacturing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 data exchange is not sufficient, need intensively to collaborate with suppliers providing and receiving updated information on design and engineering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must participate in company processes such as ECO, ECR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access to enterpris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 on-line bidd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Speed up design process with Workflow, Community Work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Using Workflow the company can make EC up to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90%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By introduc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 management and Component selection via Supplier Collaboration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the company may achieve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5% materials sav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RFP best practice with supplier involvement you may achieve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30% faster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response with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higher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A387-FCBC-4442-800B-FF6B56962C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MARTEAM – BOM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48751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 Chain Collaboration Capabilities: SmartB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s and packages the BOM and its related information into a BOM Brief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an embedded BOM Editor for suppl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he edited BOM Briefcase returns to the OEM, enables the comparison and consolidation of multiple proposals and their synchronization back into the SMARTEAM data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capabilities Workflow incorporation of ECOs through the workflow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is a “sandbox” environm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inclu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l of Materi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to related documen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pecifications, CAD documents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gn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505320" cy="2444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715000" y="4572000"/>
            <a:ext cx="800280" cy="503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38160">
            <a:solidFill>
              <a:srgbClr val="665128"/>
            </a:solidFill>
            <a:miter/>
          </a:ln>
          <a:effectLst>
            <a:outerShdw dist="53966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WB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0" y="4114800"/>
            <a:ext cx="2286000" cy="1647720"/>
            <a:chOff x="6858000" y="4114800"/>
            <a:chExt cx="2286000" cy="1647720"/>
          </a:xfrm>
        </p:grpSpPr>
        <p:sp>
          <p:nvSpPr>
            <p:cNvPr id="154" name=""/>
            <p:cNvSpPr/>
            <p:nvPr/>
          </p:nvSpPr>
          <p:spPr>
            <a:xfrm>
              <a:off x="6858000" y="4114800"/>
              <a:ext cx="2286000" cy="1647720"/>
            </a:xfrm>
            <a:prstGeom prst="wedgeRectCallout">
              <a:avLst>
                <a:gd name="adj1" fmla="val -79407"/>
                <a:gd name="adj2" fmla="val 3194"/>
              </a:avLst>
            </a:prstGeom>
            <a:solidFill>
              <a:srgbClr val="7889fb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6895080" y="4215600"/>
            <a:ext cx="2198880" cy="143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95080" y="4215600"/>
                      <a:ext cx="2198880" cy="143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28C4-E81C-4BF5-9CE0-075E8CC853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rvice After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rovide customer with released engineering information to be used for maintenance and communication with 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 on product margin – need to make profit and revenue in AfterSales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ting correct SAS information to customer higher customer satisfaction – need for BOM conversion to manufacturing and to After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age and manage data (designs, drawings, specifications, etc.) required for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e changes made on customer back to OEM to keep them product information updated into OEM data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EM product information (BOM, 3D models, drawings) for product upgrade or enhancements or moder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may have no or have different PDM system then OEM – need to use brief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Create briefcase package using ST BOM and Brief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ument handling the company may achie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% cost re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higher customer satisfaction the company  gains market share and new order – F&amp;A customer are loy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Disaster avoidance, process compliance (environmental requirements) – re-use for future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BCFA-3129-4A53-AA96-32BB8A4FB6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MARTEAM – BOM and Briefcase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48751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contains set of tools for making comparisons throughout the product lifecyc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Bills of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vers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produ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tions, e.g. BOM and CAD document struct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M capabilities Workflow incorporation of ECOs through the workflow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M Briefcase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the BOM Briefcase in a wide variety of viewing formats, including summary and multi-level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and redline the BOM and its related documents with color-coded change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or replace documents inside the Brief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the CAD documentation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 to Exc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35720" y="1725480"/>
            <a:ext cx="1611360" cy="196920"/>
          </a:xfrm>
          <a:prstGeom prst="wedgeRectCallout">
            <a:avLst>
              <a:gd name="adj1" fmla="val 107541"/>
              <a:gd name="adj2" fmla="val -24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97640" y="2133720"/>
            <a:ext cx="1301760" cy="195120"/>
          </a:xfrm>
          <a:prstGeom prst="wedgeRectCallout">
            <a:avLst>
              <a:gd name="adj1" fmla="val 151601"/>
              <a:gd name="adj2" fmla="val -2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24560" y="1355760"/>
            <a:ext cx="1301760" cy="196920"/>
          </a:xfrm>
          <a:prstGeom prst="wedgeRectCallout">
            <a:avLst>
              <a:gd name="adj1" fmla="val 109453"/>
              <a:gd name="adj2" fmla="val -76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4000" y="13320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ook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37520" y="170640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ind nex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72720" y="20876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lor desig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028000">
            <a:off x="5267160" y="3134880"/>
            <a:ext cx="167652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1b00"/>
                </a:solidFill>
                <a:latin typeface="Arial"/>
              </a:rPr>
              <a:t>Free of char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028000">
            <a:off x="5556960" y="4725360"/>
            <a:ext cx="1346040" cy="94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1b00"/>
                </a:solidFill>
                <a:latin typeface="Arial"/>
              </a:rPr>
              <a:t>Working in nomad (non-SMARTEAM) 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10280" y="1143000"/>
            <a:ext cx="200196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19920" y="3048120"/>
            <a:ext cx="2895480" cy="32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EAE9-7701-4293-8975-4898BA939F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7696080" cy="502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989760" y="2895480"/>
            <a:ext cx="156060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CAD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62720" y="3124080"/>
            <a:ext cx="13716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81840" y="3962520"/>
            <a:ext cx="178128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r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rs as P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943600" y="396216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9760" y="1828800"/>
            <a:ext cx="156060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CAD 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428640" y="2133720"/>
            <a:ext cx="3505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685800"/>
            <a:ext cx="2035080" cy="53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90920" y="3886200"/>
            <a:ext cx="228600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siness Case: Customer Benefit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B1CB-0CA3-47B1-95FC-70A151E10E7F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7620120" cy="4724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685800"/>
            <a:ext cx="2035080" cy="536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989760" y="3336840"/>
            <a:ext cx="1925640" cy="173988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TIA V5 Knowledgeware and SmartFlow (Workflow Managemen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486400" y="4038480"/>
            <a:ext cx="14479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89760" y="2103480"/>
            <a:ext cx="1560600" cy="916920"/>
          </a:xfrm>
          <a:prstGeom prst="rect">
            <a:avLst/>
          </a:prstGeom>
          <a:solidFill>
            <a:srgbClr val="c0c0c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TIA V5 become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876560" y="2819520"/>
            <a:ext cx="20574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514600"/>
            <a:ext cx="228600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638496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siness Case: Customer Benefit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1C5F-9B28-4B8D-A8C7-90574CD93FA2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1835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EAM Data Model Designer (Wiz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ty to enable the administrator to define own data model designed specifically for the custome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6360" y="2855880"/>
            <a:ext cx="5019840" cy="2073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19720" y="3733920"/>
            <a:ext cx="4525920" cy="2311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4080" y="706320"/>
            <a:ext cx="8989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Customiz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5C78-06B3-459E-85C9-39AC97AFF2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26960" y="1371600"/>
            <a:ext cx="81835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EAM Forms Desig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ve tool to develop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33520" y="2362320"/>
          <a:ext cx="4038480" cy="302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362320"/>
                    <a:ext cx="40384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Customiz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1600200"/>
            <a:ext cx="3581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 Chart Desig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u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/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d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A259-2022-4ED1-B82A-C62C033567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P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Key Pai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 PLM Process and P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Pains with SMARTEAM Produc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RTEAM Customization and Integration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RTEAM into PLM Express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736F-0562-4535-A259-F131EA7129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9899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Integration with Data Author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680" y="1498320"/>
            <a:ext cx="54403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Collaboration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ng users, applications and 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with CATIA, AutoDes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CAD, Inventor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Office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D, Offic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ocuments might be stored in SMAR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ttributes and Assembly information may be stored in SMAR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lea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wit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EAM along with working with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SMARTEAM commands are available from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675400" y="1577880"/>
          <a:ext cx="3316320" cy="23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75400" y="1577880"/>
                    <a:ext cx="331632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562720" y="3657600"/>
          <a:ext cx="3392280" cy="25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3657600"/>
                    <a:ext cx="33922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C099-8D6A-4C24-9406-2BD2219327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029200" y="38210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22400" y="1444680"/>
            <a:ext cx="6840720" cy="2405160"/>
          </a:xfrm>
          <a:prstGeom prst="rect">
            <a:avLst/>
          </a:prstGeom>
          <a:solidFill>
            <a:srgbClr val="eb8b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MARTEAM-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7320" y="4468680"/>
            <a:ext cx="7705800" cy="2160720"/>
          </a:xfrm>
          <a:prstGeom prst="rect">
            <a:avLst/>
          </a:prstGeom>
          <a:solidFill>
            <a:srgbClr val="0e6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SMARTEAM -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09600" y="5140440"/>
            <a:ext cx="914400" cy="1447560"/>
          </a:xfrm>
          <a:prstGeom prst="can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99120" y="5041800"/>
            <a:ext cx="2232000" cy="1443240"/>
          </a:xfrm>
          <a:prstGeom prst="cube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ustomization Tools</a:t>
            </a:r>
            <a:br>
              <a:rPr sz="1400"/>
            </a:br>
            <a:br>
              <a:rPr sz="14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Data Model Designer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Forms Designer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Development Kit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Business Rules Hooks, 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2400" y="1373040"/>
            <a:ext cx="6553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86400" y="5041800"/>
            <a:ext cx="2232000" cy="1440000"/>
          </a:xfrm>
          <a:prstGeom prst="cube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Administration Tool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Users Maintenance, 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Database Connectivity,</a:t>
            </a:r>
            <a:br>
              <a:rPr sz="1000"/>
            </a:br>
            <a:r>
              <a:rPr b="0" lang="en-US" sz="1000" spc="-1" strike="noStrike">
                <a:solidFill>
                  <a:srgbClr val="ffff66"/>
                </a:solidFill>
                <a:latin typeface="Verdana"/>
              </a:rPr>
              <a:t>Setup and Configuration, 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3600" y="1949400"/>
            <a:ext cx="186372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Native windo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68960" y="1949400"/>
            <a:ext cx="216036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Highly customiz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02400" y="1949400"/>
            <a:ext cx="1584360" cy="792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DM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6520" y="2955960"/>
            <a:ext cx="1863720" cy="7207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Web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35480" y="2813040"/>
            <a:ext cx="2808360" cy="10080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Customiza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Administ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52600" y="5140440"/>
            <a:ext cx="914400" cy="1447560"/>
          </a:xfrm>
          <a:prstGeom prst="can">
            <a:avLst>
              <a:gd name="adj" fmla="val 25000"/>
            </a:avLst>
          </a:prstGeom>
          <a:solidFill>
            <a:srgbClr val="0083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V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040D-4243-4ED3-81C2-442963441B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00040" y="6059520"/>
            <a:ext cx="8485200" cy="45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  <a:ea typeface="Times New Roman"/>
              </a:rPr>
              <a:t>Cross enterprise collaboration technology reduces operational costs while cutting cycle times to propagate information between partners by 9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7520" y="6072120"/>
            <a:ext cx="320040" cy="218880"/>
            <a:chOff x="47520" y="6072120"/>
            <a:chExt cx="320040" cy="218880"/>
          </a:xfrm>
        </p:grpSpPr>
        <p:sp>
          <p:nvSpPr>
            <p:cNvPr id="221" name=""/>
            <p:cNvSpPr/>
            <p:nvPr/>
          </p:nvSpPr>
          <p:spPr>
            <a:xfrm>
              <a:off x="279720" y="6204240"/>
              <a:ext cx="4284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7560" y="611748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2560" y="616104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4360" y="6072120"/>
              <a:ext cx="4284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1480" y="6247800"/>
              <a:ext cx="4572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4360" y="616104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1120" y="6161040"/>
              <a:ext cx="4500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520" y="6161040"/>
              <a:ext cx="45720" cy="432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57200" y="2244600"/>
            <a:ext cx="2278080" cy="457200"/>
            <a:chOff x="457200" y="2244600"/>
            <a:chExt cx="2278080" cy="457200"/>
          </a:xfrm>
        </p:grpSpPr>
        <p:sp>
          <p:nvSpPr>
            <p:cNvPr id="230" name=""/>
            <p:cNvSpPr/>
            <p:nvPr/>
          </p:nvSpPr>
          <p:spPr>
            <a:xfrm>
              <a:off x="457200" y="2244600"/>
              <a:ext cx="449280" cy="4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6480" y="224460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200" y="2851200"/>
            <a:ext cx="2278080" cy="457200"/>
            <a:chOff x="457200" y="2851200"/>
            <a:chExt cx="2278080" cy="457200"/>
          </a:xfrm>
        </p:grpSpPr>
        <p:sp>
          <p:nvSpPr>
            <p:cNvPr id="233" name=""/>
            <p:cNvSpPr/>
            <p:nvPr/>
          </p:nvSpPr>
          <p:spPr>
            <a:xfrm>
              <a:off x="457200" y="2851200"/>
              <a:ext cx="449280" cy="4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6480" y="285120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57200" y="3459240"/>
            <a:ext cx="2278080" cy="457200"/>
            <a:chOff x="457200" y="3459240"/>
            <a:chExt cx="2278080" cy="457200"/>
          </a:xfrm>
        </p:grpSpPr>
        <p:sp>
          <p:nvSpPr>
            <p:cNvPr id="236" name=""/>
            <p:cNvSpPr/>
            <p:nvPr/>
          </p:nvSpPr>
          <p:spPr>
            <a:xfrm>
              <a:off x="457200" y="3459240"/>
              <a:ext cx="449280" cy="4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6480" y="345924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lan 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57200" y="4067280"/>
            <a:ext cx="2278080" cy="457200"/>
            <a:chOff x="457200" y="4067280"/>
            <a:chExt cx="2278080" cy="457200"/>
          </a:xfrm>
        </p:grpSpPr>
        <p:sp>
          <p:nvSpPr>
            <p:cNvPr id="239" name=""/>
            <p:cNvSpPr/>
            <p:nvPr/>
          </p:nvSpPr>
          <p:spPr>
            <a:xfrm>
              <a:off x="457200" y="4067280"/>
              <a:ext cx="449280" cy="457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06480" y="406728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nufa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57200" y="4675320"/>
            <a:ext cx="2278080" cy="457200"/>
            <a:chOff x="457200" y="4675320"/>
            <a:chExt cx="2278080" cy="457200"/>
          </a:xfrm>
        </p:grpSpPr>
        <p:sp>
          <p:nvSpPr>
            <p:cNvPr id="242" name=""/>
            <p:cNvSpPr/>
            <p:nvPr/>
          </p:nvSpPr>
          <p:spPr>
            <a:xfrm>
              <a:off x="457200" y="4675320"/>
              <a:ext cx="449280" cy="457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6480" y="467532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trib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57200" y="5283360"/>
            <a:ext cx="2278080" cy="457200"/>
            <a:chOff x="457200" y="5283360"/>
            <a:chExt cx="2278080" cy="457200"/>
          </a:xfrm>
        </p:grpSpPr>
        <p:sp>
          <p:nvSpPr>
            <p:cNvPr id="245" name=""/>
            <p:cNvSpPr/>
            <p:nvPr/>
          </p:nvSpPr>
          <p:spPr>
            <a:xfrm>
              <a:off x="457200" y="5283360"/>
              <a:ext cx="449280" cy="457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06480" y="5283360"/>
              <a:ext cx="1828800" cy="45720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7" name=""/>
          <p:cNvCxnSpPr>
            <a:stCxn id="230" idx="1"/>
            <a:endCxn id="233" idx="1"/>
          </p:cNvCxnSpPr>
          <p:nvPr/>
        </p:nvCxnSpPr>
        <p:spPr>
          <a:xfrm flipH="1" flipV="1" rot="10800000">
            <a:off x="456840" y="2472120"/>
            <a:ext cx="2160" cy="6073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3" idx="1"/>
            <a:endCxn id="236" idx="1"/>
          </p:cNvCxnSpPr>
          <p:nvPr/>
        </p:nvCxnSpPr>
        <p:spPr>
          <a:xfrm flipH="1" flipV="1" rot="10800000">
            <a:off x="456840" y="307872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6" idx="1"/>
            <a:endCxn id="239" idx="1"/>
          </p:cNvCxnSpPr>
          <p:nvPr/>
        </p:nvCxnSpPr>
        <p:spPr>
          <a:xfrm flipH="1" flipV="1" rot="10800000">
            <a:off x="456840" y="368676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9" idx="1"/>
            <a:endCxn id="242" idx="1"/>
          </p:cNvCxnSpPr>
          <p:nvPr/>
        </p:nvCxnSpPr>
        <p:spPr>
          <a:xfrm flipH="1" flipV="1" rot="10800000">
            <a:off x="456840" y="429480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2" idx="1"/>
            <a:endCxn id="245" idx="1"/>
          </p:cNvCxnSpPr>
          <p:nvPr/>
        </p:nvCxnSpPr>
        <p:spPr>
          <a:xfrm flipH="1" flipV="1" rot="10800000">
            <a:off x="456840" y="4902840"/>
            <a:ext cx="2160" cy="608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2930400" y="224460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hare desig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arch catalo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30400" y="285120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nd/Receive RFQ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nitor 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30400" y="345924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laborative forecas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O Propa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30400" y="4067280"/>
            <a:ext cx="255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30400" y="467532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hipment trac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30400" y="5283360"/>
            <a:ext cx="2556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Quality monito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aler/Retailer sup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52960" y="2244600"/>
            <a:ext cx="729000" cy="4572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52960" y="2851200"/>
            <a:ext cx="729000" cy="4572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52960" y="3459240"/>
            <a:ext cx="729000" cy="4572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52960" y="4067280"/>
            <a:ext cx="729000" cy="4572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52960" y="4675320"/>
            <a:ext cx="729000" cy="4572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52960" y="5283360"/>
            <a:ext cx="729000" cy="4572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005680" y="2244600"/>
            <a:ext cx="728640" cy="45720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05680" y="3459240"/>
            <a:ext cx="728640" cy="45720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05680" y="4067280"/>
            <a:ext cx="728640" cy="4572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05680" y="4675320"/>
            <a:ext cx="728640" cy="4572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07200" y="2244600"/>
            <a:ext cx="279360" cy="3495960"/>
            <a:chOff x="7207200" y="2244600"/>
            <a:chExt cx="279360" cy="3495960"/>
          </a:xfrm>
        </p:grpSpPr>
        <p:sp>
          <p:nvSpPr>
            <p:cNvPr id="269" name=""/>
            <p:cNvSpPr/>
            <p:nvPr/>
          </p:nvSpPr>
          <p:spPr>
            <a:xfrm>
              <a:off x="7207200" y="224460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07200" y="292104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07200" y="325764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07200" y="359568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07200" y="427032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07200" y="460836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07200" y="528336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7200" y="494676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7200" y="393372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0" y="2583000"/>
              <a:ext cx="279360" cy="457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16200000">
            <a:off x="5571000" y="3900600"/>
            <a:ext cx="34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Integration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8" idx="3"/>
          </p:cNvCxnSpPr>
          <p:nvPr/>
        </p:nvCxnSpPr>
        <p:spPr>
          <a:xfrm>
            <a:off x="6681600" y="247284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269" idx="3"/>
            <a:endCxn id="264" idx="1"/>
          </p:cNvCxnSpPr>
          <p:nvPr/>
        </p:nvCxnSpPr>
        <p:spPr>
          <a:xfrm>
            <a:off x="7486560" y="2472840"/>
            <a:ext cx="5198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/>
          <p:nvPr/>
        </p:nvCxnSpPr>
        <p:spPr>
          <a:xfrm>
            <a:off x="6681600" y="303984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/>
          <p:nvPr/>
        </p:nvCxnSpPr>
        <p:spPr>
          <a:xfrm>
            <a:off x="7486560" y="303984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/>
          <p:nvPr/>
        </p:nvCxnSpPr>
        <p:spPr>
          <a:xfrm>
            <a:off x="6681600" y="367632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>
            <a:off x="7486560" y="367632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/>
          <p:nvPr/>
        </p:nvCxnSpPr>
        <p:spPr>
          <a:xfrm>
            <a:off x="6681600" y="431280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/>
          <p:nvPr/>
        </p:nvCxnSpPr>
        <p:spPr>
          <a:xfrm>
            <a:off x="7486560" y="431280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8" name=""/>
          <p:cNvCxnSpPr/>
          <p:nvPr/>
        </p:nvCxnSpPr>
        <p:spPr>
          <a:xfrm>
            <a:off x="6681600" y="494964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>
            <a:off x="7486560" y="4949640"/>
            <a:ext cx="52632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0" name=""/>
          <p:cNvCxnSpPr>
            <a:stCxn id="263" idx="3"/>
            <a:endCxn id="275" idx="1"/>
          </p:cNvCxnSpPr>
          <p:nvPr/>
        </p:nvCxnSpPr>
        <p:spPr>
          <a:xfrm>
            <a:off x="6681600" y="5511600"/>
            <a:ext cx="52596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1" name=""/>
          <p:cNvCxnSpPr>
            <a:stCxn id="275" idx="3"/>
          </p:cNvCxnSpPr>
          <p:nvPr/>
        </p:nvCxnSpPr>
        <p:spPr>
          <a:xfrm>
            <a:off x="7486560" y="5511600"/>
            <a:ext cx="519840" cy="1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457200" y="2066760"/>
            <a:ext cx="2278080" cy="0"/>
          </a:xfrm>
          <a:prstGeom prst="line">
            <a:avLst/>
          </a:prstGeom>
          <a:ln w="9360">
            <a:solidFill>
              <a:srgbClr val="a9c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8640" y="1609560"/>
            <a:ext cx="22845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ross every major PLM activity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28960" y="2066760"/>
            <a:ext cx="2809800" cy="1800"/>
          </a:xfrm>
          <a:prstGeom prst="line">
            <a:avLst/>
          </a:prstGeom>
          <a:ln w="9360">
            <a:solidFill>
              <a:srgbClr val="a9c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30400" y="1609560"/>
            <a:ext cx="2818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gnificant cross enterprise collaborations are needed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52960" y="2066760"/>
            <a:ext cx="2781360" cy="0"/>
          </a:xfrm>
          <a:prstGeom prst="line">
            <a:avLst/>
          </a:prstGeom>
          <a:ln w="9360">
            <a:solidFill>
              <a:srgbClr val="a9c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4760" y="1609560"/>
            <a:ext cx="2790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stems are heterogeneous, so integration is essent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35920" y="2847960"/>
            <a:ext cx="728640" cy="45720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91640" y="5284800"/>
            <a:ext cx="728640" cy="45720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Cross Enterprise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0BAF-708E-4E5D-A78E-F0E30140927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751880" cy="4680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Gateway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3343-0B1C-4336-A3FB-52B4174DBD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295280" y="1143000"/>
            <a:ext cx="6400800" cy="685800"/>
            <a:chOff x="1295280" y="1143000"/>
            <a:chExt cx="6400800" cy="685800"/>
          </a:xfrm>
        </p:grpSpPr>
        <p:sp>
          <p:nvSpPr>
            <p:cNvPr id="304" name="_s1033"/>
            <p:cNvSpPr/>
            <p:nvPr/>
          </p:nvSpPr>
          <p:spPr>
            <a:xfrm>
              <a:off x="1295280" y="1143000"/>
              <a:ext cx="6400800" cy="685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EAM (EA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1033"/>
            <p:cNvSpPr/>
            <p:nvPr/>
          </p:nvSpPr>
          <p:spPr>
            <a:xfrm>
              <a:off x="3733920" y="1346400"/>
              <a:ext cx="1523880" cy="304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1033"/>
            <p:cNvSpPr/>
            <p:nvPr/>
          </p:nvSpPr>
          <p:spPr>
            <a:xfrm>
              <a:off x="5410080" y="1346400"/>
              <a:ext cx="1524240" cy="304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ynchro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295280" y="4052520"/>
            <a:ext cx="6400800" cy="1357200"/>
            <a:chOff x="1295280" y="4052520"/>
            <a:chExt cx="6400800" cy="1357200"/>
          </a:xfrm>
        </p:grpSpPr>
        <p:sp>
          <p:nvSpPr>
            <p:cNvPr id="308" name="_s1032"/>
            <p:cNvSpPr/>
            <p:nvPr/>
          </p:nvSpPr>
          <p:spPr>
            <a:xfrm>
              <a:off x="1295280" y="4495680"/>
              <a:ext cx="6400800" cy="914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AI</a:t>
              </a:r>
              <a:r>
                <a:rPr b="0" lang="en-US" sz="13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iddle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33"/>
            <p:cNvSpPr/>
            <p:nvPr/>
          </p:nvSpPr>
          <p:spPr>
            <a:xfrm>
              <a:off x="1608120" y="4800240"/>
              <a:ext cx="1515960" cy="456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Gatew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chema To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0" name=""/>
            <p:cNvCxnSpPr>
              <a:stCxn id="311" idx="2"/>
              <a:endCxn id="312" idx="0"/>
            </p:cNvCxnSpPr>
            <p:nvPr/>
          </p:nvCxnSpPr>
          <p:spPr>
            <a:xfrm>
              <a:off x="4266720" y="4052520"/>
              <a:ext cx="10440" cy="7340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3" name=""/>
            <p:cNvCxnSpPr>
              <a:stCxn id="314" idx="2"/>
              <a:endCxn id="315" idx="0"/>
            </p:cNvCxnSpPr>
            <p:nvPr/>
          </p:nvCxnSpPr>
          <p:spPr>
            <a:xfrm>
              <a:off x="6248520" y="4052520"/>
              <a:ext cx="18000" cy="7340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12" name="_s1033"/>
            <p:cNvSpPr/>
            <p:nvPr/>
          </p:nvSpPr>
          <p:spPr>
            <a:xfrm>
              <a:off x="3517920" y="4800240"/>
              <a:ext cx="1515960" cy="456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icrosof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izTal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1033"/>
            <p:cNvSpPr/>
            <p:nvPr/>
          </p:nvSpPr>
          <p:spPr>
            <a:xfrm>
              <a:off x="5506920" y="4800240"/>
              <a:ext cx="1516320" cy="4568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MQ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ntegr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575320" y="4838400"/>
              <a:ext cx="507600" cy="396360"/>
              <a:chOff x="5575320" y="4838400"/>
              <a:chExt cx="507600" cy="396360"/>
            </a:xfrm>
          </p:grpSpPr>
          <p:pic>
            <p:nvPicPr>
              <p:cNvPr id="3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49920" y="4838400"/>
                <a:ext cx="3330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75320" y="4899240"/>
                <a:ext cx="334080" cy="335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" name=""/>
            <p:cNvGrpSpPr/>
            <p:nvPr/>
          </p:nvGrpSpPr>
          <p:grpSpPr>
            <a:xfrm>
              <a:off x="3594240" y="4851000"/>
              <a:ext cx="507600" cy="396360"/>
              <a:chOff x="3594240" y="4851000"/>
              <a:chExt cx="507600" cy="396360"/>
            </a:xfrm>
          </p:grpSpPr>
          <p:pic>
            <p:nvPicPr>
              <p:cNvPr id="3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68840" y="4851000"/>
                <a:ext cx="33300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94240" y="4911840"/>
                <a:ext cx="334080" cy="33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2" name=""/>
          <p:cNvGrpSpPr/>
          <p:nvPr/>
        </p:nvGrpSpPr>
        <p:grpSpPr>
          <a:xfrm>
            <a:off x="1295280" y="1676160"/>
            <a:ext cx="6400800" cy="1524240"/>
            <a:chOff x="1295280" y="1676160"/>
            <a:chExt cx="6400800" cy="1524240"/>
          </a:xfrm>
        </p:grpSpPr>
        <p:sp>
          <p:nvSpPr>
            <p:cNvPr id="323" name="_s1033"/>
            <p:cNvSpPr/>
            <p:nvPr/>
          </p:nvSpPr>
          <p:spPr>
            <a:xfrm>
              <a:off x="1295280" y="1981440"/>
              <a:ext cx="6400800" cy="1218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Gateway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1033"/>
            <p:cNvSpPr/>
            <p:nvPr/>
          </p:nvSpPr>
          <p:spPr>
            <a:xfrm>
              <a:off x="1523880" y="2349720"/>
              <a:ext cx="1447920" cy="5331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ntegr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1033"/>
            <p:cNvSpPr/>
            <p:nvPr/>
          </p:nvSpPr>
          <p:spPr>
            <a:xfrm>
              <a:off x="3733920" y="2273400"/>
              <a:ext cx="3200400" cy="685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xchange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09880" y="2349720"/>
              <a:ext cx="473040" cy="533160"/>
              <a:chOff x="3809880" y="2349720"/>
              <a:chExt cx="473040" cy="533160"/>
            </a:xfrm>
          </p:grpSpPr>
          <p:sp>
            <p:nvSpPr>
              <p:cNvPr id="327" name="Documents"/>
              <p:cNvSpPr/>
              <p:nvPr/>
            </p:nvSpPr>
            <p:spPr>
              <a:xfrm>
                <a:off x="3833640" y="2349720"/>
                <a:ext cx="449280" cy="533160"/>
              </a:xfrm>
              <a:prstGeom prst="pi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09880" y="24973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XF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29" name=""/>
            <p:cNvCxnSpPr/>
            <p:nvPr/>
          </p:nvCxnSpPr>
          <p:spPr>
            <a:xfrm>
              <a:off x="4571640" y="1676160"/>
              <a:ext cx="1080" cy="5864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0" name=""/>
            <p:cNvCxnSpPr/>
            <p:nvPr/>
          </p:nvCxnSpPr>
          <p:spPr>
            <a:xfrm>
              <a:off x="6171840" y="1676160"/>
              <a:ext cx="1080" cy="58644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1" name=""/>
            <p:cNvCxnSpPr>
              <a:stCxn id="324" idx="3"/>
              <a:endCxn id="325" idx="1"/>
            </p:cNvCxnSpPr>
            <p:nvPr/>
          </p:nvCxnSpPr>
          <p:spPr>
            <a:xfrm>
              <a:off x="2985840" y="2616120"/>
              <a:ext cx="734040" cy="108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1295280" y="5257800"/>
            <a:ext cx="6400800" cy="1066320"/>
            <a:chOff x="1295280" y="5257800"/>
            <a:chExt cx="6400800" cy="1066320"/>
          </a:xfrm>
        </p:grpSpPr>
        <p:sp>
          <p:nvSpPr>
            <p:cNvPr id="333" name="_s1033"/>
            <p:cNvSpPr/>
            <p:nvPr/>
          </p:nvSpPr>
          <p:spPr>
            <a:xfrm>
              <a:off x="1295280" y="5638680"/>
              <a:ext cx="6400800" cy="6854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AI Adap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033"/>
            <p:cNvSpPr/>
            <p:nvPr/>
          </p:nvSpPr>
          <p:spPr>
            <a:xfrm>
              <a:off x="2717640" y="5867280"/>
              <a:ext cx="38124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3276720" y="5867280"/>
              <a:ext cx="3808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033"/>
            <p:cNvSpPr/>
            <p:nvPr/>
          </p:nvSpPr>
          <p:spPr>
            <a:xfrm>
              <a:off x="3860640" y="5867280"/>
              <a:ext cx="5590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no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33"/>
            <p:cNvSpPr/>
            <p:nvPr/>
          </p:nvSpPr>
          <p:spPr>
            <a:xfrm>
              <a:off x="4597560" y="5867280"/>
              <a:ext cx="53316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eib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33"/>
            <p:cNvSpPr/>
            <p:nvPr/>
          </p:nvSpPr>
          <p:spPr>
            <a:xfrm>
              <a:off x="5295960" y="5867280"/>
              <a:ext cx="57132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33"/>
            <p:cNvSpPr/>
            <p:nvPr/>
          </p:nvSpPr>
          <p:spPr>
            <a:xfrm>
              <a:off x="6019920" y="5867280"/>
              <a:ext cx="3808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J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33"/>
            <p:cNvSpPr/>
            <p:nvPr/>
          </p:nvSpPr>
          <p:spPr>
            <a:xfrm>
              <a:off x="6553080" y="5867280"/>
              <a:ext cx="38124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3"/>
            <p:cNvSpPr/>
            <p:nvPr/>
          </p:nvSpPr>
          <p:spPr>
            <a:xfrm>
              <a:off x="7086600" y="5867280"/>
              <a:ext cx="380880" cy="304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"/>
            <p:cNvCxnSpPr/>
            <p:nvPr/>
          </p:nvCxnSpPr>
          <p:spPr>
            <a:xfrm>
              <a:off x="4266720" y="5257800"/>
              <a:ext cx="1080" cy="36576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3" name=""/>
            <p:cNvCxnSpPr/>
            <p:nvPr/>
          </p:nvCxnSpPr>
          <p:spPr>
            <a:xfrm>
              <a:off x="6286320" y="5257800"/>
              <a:ext cx="1080" cy="36576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44" name=""/>
          <p:cNvGrpSpPr/>
          <p:nvPr/>
        </p:nvGrpSpPr>
        <p:grpSpPr>
          <a:xfrm>
            <a:off x="1295280" y="2971440"/>
            <a:ext cx="6400800" cy="1295280"/>
            <a:chOff x="1295280" y="2971440"/>
            <a:chExt cx="6400800" cy="1295280"/>
          </a:xfrm>
        </p:grpSpPr>
        <p:sp>
          <p:nvSpPr>
            <p:cNvPr id="345" name="_s1033"/>
            <p:cNvSpPr/>
            <p:nvPr/>
          </p:nvSpPr>
          <p:spPr>
            <a:xfrm>
              <a:off x="1295280" y="3428640"/>
              <a:ext cx="6400800" cy="838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martGatewa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IA Connec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1033"/>
            <p:cNvSpPr/>
            <p:nvPr/>
          </p:nvSpPr>
          <p:spPr>
            <a:xfrm>
              <a:off x="3429000" y="3581280"/>
              <a:ext cx="1676520" cy="456840"/>
            </a:xfrm>
            <a:prstGeom prst="roundRect">
              <a:avLst>
                <a:gd name="adj" fmla="val 16667"/>
              </a:avLst>
            </a:prstGeom>
            <a:solidFill>
              <a:srgbClr val="7889fb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S BizTal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nn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1033"/>
            <p:cNvSpPr/>
            <p:nvPr/>
          </p:nvSpPr>
          <p:spPr>
            <a:xfrm>
              <a:off x="5410080" y="3581280"/>
              <a:ext cx="1676520" cy="456840"/>
            </a:xfrm>
            <a:prstGeom prst="roundRect">
              <a:avLst>
                <a:gd name="adj" fmla="val 16667"/>
              </a:avLst>
            </a:prstGeom>
            <a:solidFill>
              <a:srgbClr val="7889fb"/>
            </a:solidFill>
            <a:ln w="28440">
              <a:solidFill>
                <a:srgbClr val="665128"/>
              </a:solidFill>
              <a:miter/>
            </a:ln>
            <a:effectLst>
              <a:outerShdw dist="53966" dir="2700000" blurRad="0" rotWithShape="0">
                <a:srgbClr val="cc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MQ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nn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6" name=""/>
            <p:cNvCxnSpPr/>
            <p:nvPr/>
          </p:nvCxnSpPr>
          <p:spPr>
            <a:xfrm>
              <a:off x="5333760" y="2971440"/>
              <a:ext cx="1080" cy="457560"/>
            </a:xfrm>
            <a:prstGeom prst="straightConnector1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AM E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C177-BA8A-4F68-ABC4-F447E91734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6960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 Express to address Mid-market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8240" y="1599840"/>
            <a:ext cx="760752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% of mid-market manufacturers are either likely or very likely to evaluate a complete PLM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kling business profitability is their main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quickly process RFQ’s and quote a competitive but profitable price is cited as the single biggest reason they are interested in PLM because this capability delivers additional revenue to the bottom line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benefits do they expect to get from P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esti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agating the BOM to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ng and executing a desig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esign drawing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review and approv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ng a purchase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PLM functions do many mid-market companies already have inst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orm of change manage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 viewing and mar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86720" y="5181480"/>
            <a:ext cx="70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R Report: “Mid-Market Manufacturers are ready to invest in PLM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Vendors can keep it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July 24, 20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334120" y="3124080"/>
            <a:ext cx="3195720" cy="1752480"/>
            <a:chOff x="5334120" y="3124080"/>
            <a:chExt cx="3195720" cy="1752480"/>
          </a:xfrm>
        </p:grpSpPr>
        <p:sp>
          <p:nvSpPr>
            <p:cNvPr id="352" name=""/>
            <p:cNvSpPr/>
            <p:nvPr/>
          </p:nvSpPr>
          <p:spPr>
            <a:xfrm>
              <a:off x="5486040" y="4343400"/>
              <a:ext cx="304560" cy="533160"/>
            </a:xfrm>
            <a:prstGeom prst="rightArrowCallout">
              <a:avLst>
                <a:gd name="adj1" fmla="val 43769"/>
                <a:gd name="adj2" fmla="val 43765"/>
                <a:gd name="adj3" fmla="val 16667"/>
                <a:gd name="adj4" fmla="val 66667"/>
              </a:avLst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334120" y="3124080"/>
              <a:ext cx="2427120" cy="914400"/>
              <a:chOff x="5334120" y="3124080"/>
              <a:chExt cx="2427120" cy="914400"/>
            </a:xfrm>
          </p:grpSpPr>
          <p:sp>
            <p:nvSpPr>
              <p:cNvPr id="354" name=""/>
              <p:cNvSpPr/>
              <p:nvPr/>
            </p:nvSpPr>
            <p:spPr>
              <a:xfrm>
                <a:off x="5334120" y="3124080"/>
                <a:ext cx="533160" cy="914400"/>
              </a:xfrm>
              <a:prstGeom prst="rightArrowCallout">
                <a:avLst>
                  <a:gd name="adj1" fmla="val 42880"/>
                  <a:gd name="adj2" fmla="val 42876"/>
                  <a:gd name="adj3" fmla="val 16667"/>
                  <a:gd name="adj4" fmla="val 66667"/>
                </a:avLst>
              </a:prstGeom>
              <a:solidFill>
                <a:srgbClr val="7889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07680" y="3450960"/>
                <a:ext cx="17535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MARTEAM Expres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6026400" y="4419360"/>
              <a:ext cx="2503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TIA Express (via TeamPDM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13E0-59A6-42F7-90A0-96D88600AA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MARTEAM Express Offering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43080" y="1523880"/>
          <a:ext cx="8458200" cy="3733920"/>
        </p:xfrm>
        <a:graphic>
          <a:graphicData uri="http://schemas.openxmlformats.org/drawingml/2006/table">
            <a:tbl>
              <a:tblPr/>
              <a:tblGrid>
                <a:gridCol w="1706400"/>
                <a:gridCol w="530388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reuse of diverse product knowledge for standardized RFQ and bid preparation and quick, accurate costing to drive revenues by increasing bid capacity and success r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Mg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sign  - Product 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ing standards-based openness and connectivity, collaborative workspaces, and interdisciplinary BOM management, this offering allows design engineers across the enterprise to share early-on 3D data created with diverse authoring tools, and to optimally manage change so as to optimize innovation and efficiently bring product to manufacturin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Mg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ping and Service After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version and revision control data to reduce errors in product and documentation delivered and to improve technical customer support. Enables sharing of real-time, design-centric customer and market feedback to drive N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969ae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1E17-D9F8-44E7-80E1-41AAB18376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19360" y="2932200"/>
            <a:ext cx="39052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3040" y="824040"/>
            <a:ext cx="8479080" cy="5622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58896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L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F8AD-83F8-4C67-AFFE-7ADED97D05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00" y="624960"/>
            <a:ext cx="87426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ustomer Pain Points in PLM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08520" y="1600200"/>
            <a:ext cx="318924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0040" indent="-230040">
              <a:spcAft>
                <a:spcPts val="13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believe that collaborating in real time with customers and suppliers will be critical the their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Aft>
                <a:spcPts val="13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nies want to find ways to better integrate their product lifecycle management solutions with other enterprise processes a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Aft>
                <a:spcPts val="130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ing design, manufacturing and service costs, and time to market is also a primary con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334120"/>
            <a:ext cx="6553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69ae"/>
                </a:solidFill>
                <a:latin typeface="Arial"/>
              </a:rPr>
              <a:t>Collaboration and Integration are top of mind issues that are driving the formulation of IBM’s PLM solution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8480" y="1828800"/>
            <a:ext cx="168624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T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resource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product/ right product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36680" y="1600200"/>
          <a:ext cx="3294000" cy="3521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6680" y="1600200"/>
                    <a:ext cx="329400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4CDC-5967-4052-BB2B-FB039EF9AD2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440" y="5626080"/>
            <a:ext cx="1204920" cy="843120"/>
          </a:xfrm>
          <a:prstGeom prst="rect">
            <a:avLst/>
          </a:prstGeom>
          <a:solidFill>
            <a:srgbClr val="a9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950080" y="2013120"/>
            <a:ext cx="560160" cy="833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5040" y="1147680"/>
            <a:ext cx="2354040" cy="115956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Provide After Market Services. Build cooperate Knowledge database for quick reuse of the right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Click To Download"/>
          <p:cNvPicPr/>
          <p:nvPr/>
        </p:nvPicPr>
        <p:blipFill>
          <a:blip r:embed="rId2"/>
          <a:stretch/>
        </p:blipFill>
        <p:spPr>
          <a:xfrm>
            <a:off x="6502320" y="98280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2044800" y="2588760"/>
            <a:ext cx="2560680" cy="48276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62120" y="2008080"/>
            <a:ext cx="668520" cy="820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0640" y="1274760"/>
            <a:ext cx="2354400" cy="73332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eed to reduce Cycle time for Bidding / Build To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Click To Download"/>
          <p:cNvPicPr/>
          <p:nvPr/>
        </p:nvPicPr>
        <p:blipFill>
          <a:blip r:embed="rId3"/>
          <a:stretch/>
        </p:blipFill>
        <p:spPr>
          <a:xfrm>
            <a:off x="636480" y="111276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268280" y="3335400"/>
            <a:ext cx="603360" cy="2581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400" y="5896080"/>
            <a:ext cx="2166840" cy="52020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Rapid change in customer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Click To Download"/>
          <p:cNvPicPr/>
          <p:nvPr/>
        </p:nvPicPr>
        <p:blipFill>
          <a:blip r:embed="rId4"/>
          <a:stretch/>
        </p:blipFill>
        <p:spPr>
          <a:xfrm>
            <a:off x="160200" y="5721480"/>
            <a:ext cx="411480" cy="41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 flipV="1">
            <a:off x="4185720" y="4064040"/>
            <a:ext cx="993960" cy="17222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197320" y="4818240"/>
            <a:ext cx="801720" cy="9856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37160" y="5780160"/>
            <a:ext cx="2354040" cy="94644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Increasing product complexity and demands of  international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Click To Download"/>
          <p:cNvPicPr/>
          <p:nvPr/>
        </p:nvPicPr>
        <p:blipFill>
          <a:blip r:embed="rId5"/>
          <a:stretch/>
        </p:blipFill>
        <p:spPr>
          <a:xfrm>
            <a:off x="4648320" y="563724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7097400" y="4229280"/>
            <a:ext cx="299880" cy="196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0040" y="3057480"/>
            <a:ext cx="2609640" cy="1159560"/>
          </a:xfrm>
          <a:prstGeom prst="rect">
            <a:avLst/>
          </a:prstGeom>
          <a:solidFill>
            <a:srgbClr val="a9c0d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Increasing delays and cost due to lack of co-ordination between different teams, locations, BUs and suppl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Click To Download"/>
          <p:cNvPicPr/>
          <p:nvPr/>
        </p:nvPicPr>
        <p:blipFill>
          <a:blip r:embed="rId6"/>
          <a:stretch/>
        </p:blipFill>
        <p:spPr>
          <a:xfrm>
            <a:off x="6361200" y="2900520"/>
            <a:ext cx="411120" cy="41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7097760" y="4238640"/>
            <a:ext cx="301680" cy="1022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71800" y="114300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193240" y="72864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321760" y="263844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34160" y="547056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079720" y="5578560"/>
            <a:ext cx="447480" cy="447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LM Process Model and Main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1116000" y="833400"/>
            <a:ext cx="7128000" cy="534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2674-050E-4443-B506-98EA04F9D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M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d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Chain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After S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8B74-650D-4330-A17E-48CC005252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d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498320"/>
            <a:ext cx="75769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Reduce long cycle time for bidding, provide ability to respond on changing customer requirements, need to search in existing portfolio to find appropriate project/product for re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ppropriate departments to provide input: engineering, procurement, manufacturing, after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se part re-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find appropriate project/product for re-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initial product structure: customer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able to interact with 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on time with customer qu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Put in place automated process to deliver and capture information from appropriate departments of th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Speed up the process using Workflow cap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RFP best practice you may achieve </a:t>
            </a:r>
            <a:r>
              <a:rPr b="1" lang="en-US" sz="1400" spc="-1" strike="noStrike" u="sng">
                <a:solidFill>
                  <a:srgbClr val="3969ae"/>
                </a:solidFill>
                <a:uFillTx/>
                <a:latin typeface="Arial"/>
              </a:rPr>
              <a:t>30% faster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response with </a:t>
            </a:r>
            <a:r>
              <a:rPr b="1" lang="en-US" sz="1400" spc="-1" strike="noStrike" u="sng">
                <a:solidFill>
                  <a:srgbClr val="3969ae"/>
                </a:solidFill>
                <a:uFillTx/>
                <a:latin typeface="Arial"/>
              </a:rPr>
              <a:t>higher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52ED-9FDE-4B56-B705-04603D04EB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orkflow Capabi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2743200" cy="1996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48320" y="4419720"/>
            <a:ext cx="2419200" cy="1981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57440" y="5051520"/>
            <a:ext cx="685800" cy="609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4572000"/>
            <a:ext cx="1752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b00"/>
                </a:solidFill>
                <a:latin typeface="Arial"/>
              </a:rPr>
              <a:t>Multi-le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b00"/>
                </a:solidFill>
                <a:latin typeface="Arial"/>
              </a:rPr>
              <a:t>work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b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4724280"/>
            <a:ext cx="685800" cy="6098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4876920"/>
            <a:ext cx="1652400" cy="916920"/>
            <a:chOff x="152280" y="4876920"/>
            <a:chExt cx="1652400" cy="916920"/>
          </a:xfrm>
        </p:grpSpPr>
        <p:sp>
          <p:nvSpPr>
            <p:cNvPr id="135" name=""/>
            <p:cNvSpPr/>
            <p:nvPr/>
          </p:nvSpPr>
          <p:spPr>
            <a:xfrm>
              <a:off x="152280" y="4876920"/>
              <a:ext cx="1508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0f035"/>
                  </a:solidFill>
                  <a:latin typeface="Arial"/>
                </a:rPr>
                <a:t>New distribution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2520" y="5081400"/>
              <a:ext cx="452160" cy="0"/>
            </a:xfrm>
            <a:prstGeom prst="line">
              <a:avLst/>
            </a:prstGeom>
            <a:ln w="31680">
              <a:solidFill>
                <a:srgbClr val="10f035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11648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1 Workflow enhanc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workflow increase flexibility by simplifying the representation of complex compan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iched process control and visibility drive enterprise-wid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ert mechanism warns supervisors of “almost due” and “past due” processes, avoiding bottlenec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ring of process knowledge via new “outgoing only” distribu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m members not part of a process can now get into the loop through CC (carbon copy) mech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0CCF-5E2B-4FA5-B4A4-6696415F23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gineering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P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customer requirements – need to get customer into design cycle providing review opport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collaboration with other functions/departments, have to re-design with their comments - need to get process planning, manufacturing, certification, procurement to have access to design data fo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up design – need to reuse previous projects by re-design existing projects with new customer requirements by using pre-defined EC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69ae"/>
                </a:solidFill>
                <a:latin typeface="Arial"/>
              </a:rPr>
              <a:t>Capabilities used and Customer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Speed up design process with Workflow, Collaborative Workspace, New methodologies to incorporate F&amp;A best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Using Workflow the customer can make EC up to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90%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By optimizing internal performance the customer may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2x new product intro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succes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With RFP best practice you may achieve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30% faster </a:t>
            </a:r>
            <a:r>
              <a:rPr b="0" lang="en-US" sz="1400" spc="-1" strike="noStrike">
                <a:solidFill>
                  <a:srgbClr val="3969ae"/>
                </a:solidFill>
                <a:latin typeface="Arial"/>
              </a:rPr>
              <a:t>response with </a:t>
            </a:r>
            <a:r>
              <a:rPr b="1" lang="en-US" sz="1400" spc="-1" strike="noStrike">
                <a:solidFill>
                  <a:srgbClr val="3969ae"/>
                </a:solidFill>
                <a:latin typeface="Arial"/>
              </a:rPr>
              <a:t>higher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improving customer facing performance the customer may achie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-50% faster time to mark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5258-A230-45E8-A807-DE64C31CD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9:09:49Z</dcterms:created>
  <dc:creator>IBM</dc:creator>
  <dc:description/>
  <dc:language>en-US</dc:language>
  <cp:lastModifiedBy>IBM_User</cp:lastModifiedBy>
  <cp:lastPrinted>2003-04-10T14:50:07Z</cp:lastPrinted>
  <dcterms:modified xsi:type="dcterms:W3CDTF">2004-03-01T09:13:08Z</dcterms:modified>
  <cp:revision>59</cp:revision>
  <dc:subject>IBM Presentation System</dc:subject>
  <dc:title>Presentation Title</dc:title>
</cp:coreProperties>
</file>