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0007600" cy="7704138"/>
  <p:notesSz cx="7704138"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704000" cy="100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7"/>
          </p:nvPr>
        </p:nvSpPr>
        <p:spPr>
          <a:xfrm>
            <a:off x="4252680" y="0"/>
            <a:ext cx="3252600" cy="512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1250640" y="770040"/>
            <a:ext cx="5003640" cy="3851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9"/>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C2C3-99A3-4512-A22A-F6B26DA657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1000" y="770040"/>
            <a:ext cx="5003640" cy="3851280"/>
          </a:xfrm>
          <a:prstGeom prst="rect">
            <a:avLst/>
          </a:prstGeom>
          <a:ln w="0">
            <a:noFill/>
          </a:ln>
        </p:spPr>
      </p:sp>
      <p:sp>
        <p:nvSpPr>
          <p:cNvPr id="237"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duced operational costs by automating processe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tomated order management,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hance Operational Efficiency and Visibility</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hance Channel Partner's Productivity</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 flow of information and visibility capturing customer data and sharing real-time information, such as price and availability, order status, qualified leads and funds requests with partner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rengthen Brand Experience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liver a high touch,  end to end brand experience resulting in greater customer loyalty, stronger relationships, and higher customer satisfaction</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stomized brand experienc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rease Return on Asset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manage, and increase effectiveness of asset utilization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end market reach by leveraging channel partners more effectively</a:t>
            </a:r>
            <a:endParaRPr b="0" lang="en-US" sz="1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51000" y="770040"/>
            <a:ext cx="5003640" cy="3851280"/>
          </a:xfrm>
          <a:prstGeom prst="rect">
            <a:avLst/>
          </a:prstGeom>
          <a:ln w="0">
            <a:noFill/>
          </a:ln>
        </p:spPr>
      </p:sp>
      <p:sp>
        <p:nvSpPr>
          <p:cNvPr id="239"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ccessful Channel Management and Demand Chain Initiatives start with comprehensive planning and creation of best practices.  In this section we will outline and review the key processes and steps in required to optimize your extended demand chain.</a:t>
            </a:r>
            <a:endParaRPr b="0" lang="en-US" sz="1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1000" y="770040"/>
            <a:ext cx="5003640" cy="3851280"/>
          </a:xfrm>
          <a:prstGeom prst="rect">
            <a:avLst/>
          </a:prstGeom>
          <a:ln w="0">
            <a:noFill/>
          </a:ln>
        </p:spPr>
      </p:sp>
      <p:sp>
        <p:nvSpPr>
          <p:cNvPr id="241"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per planning and strategy definition may be the most important step in any successful channel initiative.  Due to the huge implications to resources, brand, revenue, and core business model -- proper planning is critical.</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irst step in the planning process is the partner opportunity analysis.  The most important deliverable from this stage is the opportunity analysis and identification of key business goals and objectives.  You should be able to answer if channel partners will realistically enhance your business position (is your business conducive to a channel strategy? what types of partnerships do I need to forg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ce you have defined that channel partners will indeed enhance your market position, planning begins.  All to often this stage does not receive proper fore thought resulting in inaccurate expense predictions or channel conflict.  The two main deliverables in this stage are the cost structure analysis which allocates a budget and partner requirements document which outlines required skills, expertise, etc.</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1000" y="770040"/>
            <a:ext cx="5003640" cy="3851280"/>
          </a:xfrm>
          <a:prstGeom prst="rect">
            <a:avLst/>
          </a:prstGeom>
          <a:ln w="0">
            <a:noFill/>
          </a:ln>
        </p:spPr>
      </p:sp>
      <p:sp>
        <p:nvSpPr>
          <p:cNvPr id="243"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ruiting, Registration, and Approval</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cess begins when Suppliers execute campaigns to recruit new partners these campaigns may be run via events, direct mail/email, web, or other mediums directing interested applicants to a web registration interfac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tential channel partners contact Supplier submitting a partner registration or application form.</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pproval -- If the partner fits the necesary criteria (such as competency, geography, market focus - no channel conflict)they are approved and move to the Business Planning proces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rategic Business Planning</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ce approved and prior to contract creation, the Channel Manager and Partner work together to strategically align and create a joint business plan.</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ication of core strategies and competencies that each business partner can leverage.  This will often include identification of market expertise and focus, segmentation and engagement strength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Partnership Objectives -- Metrics Creation</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Planning - A strategic and tactical business plan is created outlining how each partner will execute their responsibilities and attain strategic objectives.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tract Negotiation and Capture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ce the Business Plan has been created,  a contract is negotiated translating business objectives and goals into terms and conditions of the relationship.</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lly Channel contracts are binding for one calendar or fiscal year sales period</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rms and conditions include such items as pricing, discounts, products, anual volume comitments, etc.</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that business terms and conditions define all aspects of the relationship AND are also used as the primary metrics for measurement.</a:t>
            </a:r>
            <a:endParaRPr b="0" lang="en-US" sz="1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1000" y="770040"/>
            <a:ext cx="5003640" cy="3851280"/>
          </a:xfrm>
          <a:prstGeom prst="rect">
            <a:avLst/>
          </a:prstGeom>
          <a:ln w="0">
            <a:noFill/>
          </a:ln>
        </p:spPr>
      </p:sp>
      <p:sp>
        <p:nvSpPr>
          <p:cNvPr id="245"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se are the main Sell-Side processes that you will and your channel partners will engage in to succed, this is a brief snapshot because we will extensively examine each of these areas in section two and outline how WebSphere Commerce can help you deploy best practices in each area.</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ly market to and with distribution partner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arketing and Communication</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ist partners in the sale of complex offering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isted Selling</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llaboative Selling</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plify the purchasing proces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 Chain Automation</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ptimize efficiencly to improve bottom lin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ly Service and Support partners to maximize partnership valu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ner Servic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ining</a:t>
            </a:r>
            <a:endParaRPr b="0" lang="en-US" sz="1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1000" y="770040"/>
            <a:ext cx="5003640" cy="3851280"/>
          </a:xfrm>
          <a:prstGeom prst="rect">
            <a:avLst/>
          </a:prstGeom>
          <a:ln w="0">
            <a:noFill/>
          </a:ln>
        </p:spPr>
      </p:sp>
      <p:sp>
        <p:nvSpPr>
          <p:cNvPr id="247"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nally business intelligence tools may be used to continually monitor and measure the performance of your demand chain relationship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itional Not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 History</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and Forecast</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stomer Order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Hand Inventory</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rchase Order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rk Order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fer Order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anned Order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ommended Shipment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eduled Load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OM Manager</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ount Statu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urchase Order Processing</a:t>
            </a: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stalled Product</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ntory Adjustments</a:t>
            </a:r>
            <a:r>
              <a:rPr b="0" lang="en-US" sz="1900" spc="-1" strike="noStrike">
                <a:solidFill>
                  <a:srgbClr val="000000"/>
                </a:solidFill>
                <a:latin typeface="Arial"/>
              </a:rPr>
              <a:t>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oice Processing</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ntory Level</a:t>
            </a:r>
            <a:endParaRPr b="0" lang="en-US" sz="1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1000" y="770040"/>
            <a:ext cx="5003640" cy="3851280"/>
          </a:xfrm>
          <a:prstGeom prst="rect">
            <a:avLst/>
          </a:prstGeom>
          <a:ln w="0">
            <a:noFill/>
          </a:ln>
        </p:spPr>
      </p:sp>
      <p:sp>
        <p:nvSpPr>
          <p:cNvPr id="229"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y the end of today's seminar you will know the following about IBM's WebSphere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provide an overview of the WebSphere Software Story and Reach and User Experienc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establish thought leadership and relevance to the retail customer's situation by identifying key trends, business challenges, and capabilities that WebSphere Commerce brings to the tabl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drill down on key online commerce business process areas to highlight challenges to retailers today by providing relevant customer examples and scenario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help you understand why you should chose "insert Business Partner Name" and IBM as your technology partner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how we can perform an assessment of your business to determine how WebSphere Commerce B2Bl can work for you </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1000" y="770040"/>
            <a:ext cx="5003640" cy="3851280"/>
          </a:xfrm>
          <a:prstGeom prst="rect">
            <a:avLst/>
          </a:prstGeom>
          <a:ln w="0">
            <a:noFill/>
          </a:ln>
        </p:spPr>
      </p:sp>
      <p:sp>
        <p:nvSpPr>
          <p:cNvPr id="231"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the WebSphere Story and how the Pyramid provides  depicts the ability to achieve various requirements customers are demanding.  This is a very high-level view of the WebSphere Brand.</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ree aspects tie WebSphere the broadest and deepest platform together</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ach and User Experience - helps build customer loyalty via a more personalized Web experience, and creating more effective commerce interactions. Companies can build portals to allow users, partners and employees readily find what they need in a highly interactive/personal way. With wireless access, businesses can reach new markets through WebSphere pervasive voice and transaction offering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process Management - allows companies to run their business the way they want to, innovating new processes dynamically, connecting at will to suppliers an customers - treating them as individuals. Cycle-time and costs for rapid ROI are reduced because IT systems adjust to the speed of their business ideas and business people are put in control of value-chain processe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Foundation and Tools - prepare existing applications for e-business, integrating them into automated, connected processes. For new innovative processes, WebSphere's productivity-enhancing tools let businesses exploit the latest technologies such as Web services. To power e-business, WebSphere has the fastest and most scalable e-business server of any platform.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leads the industry in open-standards adoption - giving the highest level of interoperability and flexibility to WebSphere e-busines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1000" y="770040"/>
            <a:ext cx="5003640" cy="3851280"/>
          </a:xfrm>
          <a:prstGeom prst="rect">
            <a:avLst/>
          </a:prstGeom>
          <a:ln w="0">
            <a:noFill/>
          </a:ln>
        </p:spPr>
      </p:sp>
      <p:sp>
        <p:nvSpPr>
          <p:cNvPr id="233"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fore we get started, it is important to quickly review some of the key trends impacting companies that sell through indirect sales channels and the specific trends that IBM is helping customers like yourself solve every day.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e of the most notable trends across all industries has been the redefinition of the partner relationship and an increased reliance on sales partners.  In the mid-to-late 1990s, many manufacturers believed they could lower their cost of sales and increase profits by going directly to customers on the Internet. The theory seemed sound; but, in practice, manufacturers quickly discovered that they were not in a position to fulfill orders and provide quality after-market service. This caused manufacturers to refocus their Internet strategies toward reinvesting in partner relationship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new focus has two important implication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gardless of the solution you ultimately choose, it is critical to deploy a solution capable of handling both direct and indirect channel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on adding real business value to your partners and effectively leveraging them... (a channel is only as good as its ability to generate revenue and successfully sell your products).</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 you begin to work more effectively with your channel partners it is important to enhance their productivity.  We are now in the third wave of e-Commerce (first being brochureware, and the second was fundamental order capture).. so it is critical to deliver value added processes support to accommodate real business situations such as returns, RFQs, and other business exception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mplication here is to deliver a solution with extensive out of box process support that is built for integratio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third, and clearly the most notable trend of the past 12-18 months has been the economic slowdown.  The fall of the dot.com's and a string of catalysts including the events of September 11th have slowed business velocity, placing an emphasis on expense reduction, cost controls, and doing more with less.  In response manufacturers and distributors are focused on reducing the cost of doing business. Large reductions in force remove costly human-capital expenses, but they leave the organization with the challenge of doing more with less.  To overcome this challenge, distributors and manufacturers will tighten relationships with demand channel partners, streamline processes, and make investments in technology that demonstrate cost savings.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in business implication here is that is important to extend and automate processes to your trading partners.  Internal systems and process were not designed for external use by a range of channel partners,.. you therefore need to focus on effectively externalizing processes and leveraging the headcount that resides outside the 4 walls of the enterprise.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A recent study by Gartner further supports that "Through 2004, expense reduction will be the primary business challenge for manufacturers and distributors" </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ly, Customer Power continues to grow as free-flowing information improves and geographical boundaries are eliminated.  The new customer expects more including higher service levels, better access to informatio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s, you will have to help your channels deliver higher end-customer value, and also ensure that your market facing stance is customer and partner friendl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just some of the trends that IBM is helping our customers respond to -- in the next few slides we will examine how WebSphere Commerce has helped our customers overcome these and many other challeng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1000" y="770040"/>
            <a:ext cx="5003640" cy="3851280"/>
          </a:xfrm>
          <a:prstGeom prst="rect">
            <a:avLst/>
          </a:prstGeom>
          <a:ln w="0">
            <a:noFill/>
          </a:ln>
        </p:spPr>
      </p:sp>
      <p:sp>
        <p:nvSpPr>
          <p:cNvPr id="235" name="PlaceHolder 2"/>
          <p:cNvSpPr>
            <a:spLocks noGrp="1"/>
          </p:cNvSpPr>
          <p:nvPr>
            <p:ph type="body"/>
          </p:nvPr>
        </p:nvSpPr>
        <p:spPr>
          <a:xfrm>
            <a:off x="999720" y="4878000"/>
            <a:ext cx="5504040" cy="4622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December 2001, a Gartner PRM survey encompassing 1,000</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erprises worldwide found that the number of customer service applications for supporting demand</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ners increased 800 percent from six months before.</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45A13-7981-4A2C-B77E-B0B574790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49160" y="222372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49160" y="463860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A19A-EAC5-4419-A801-2756EBCD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491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087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92301-1539-4F8B-BA52-5560ACF8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4916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62592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0232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4916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62592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0232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28F9-EEF4-4770-A67F-086F7679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6A1BE-70CE-48F8-A3EC-B09752231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49160" y="2223720"/>
            <a:ext cx="8507520" cy="462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168F1-B51D-47A2-90E3-5621BE653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9160" y="2223720"/>
            <a:ext cx="8507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4B059-547E-4DDE-A7EC-943D76986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7491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087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0765C-4213-4D46-B816-4BF695937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E951F-D303-4618-85CD-6842D9119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49160" y="684000"/>
            <a:ext cx="8507520" cy="595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FC000-50C6-4ECA-88D2-C92FAAF4F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087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7491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EFD8-0D5E-43D4-ADC8-B373446DC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749160" y="2223720"/>
            <a:ext cx="8507520" cy="462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165A-B9C7-4884-90C9-9FA7C42A4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7491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087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C7715-1CE5-48B3-BD87-368395649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749160" y="463860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853AC-AE84-4665-9A1E-6B321EEDE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749160" y="222372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749160" y="463860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0761C-554B-4311-83BF-7CF5365A2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7491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087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41C6C-D41F-46FF-9BE0-354177D64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74916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62592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502320" y="222372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74916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62592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502320" y="4638600"/>
            <a:ext cx="273924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11C6D-CC8A-47D2-91A7-EC54CC239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749160" y="2223720"/>
            <a:ext cx="8507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D0A70-0C01-4F98-9EF1-3C171E33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7491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087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ABC01-EBFE-4F9C-9FC9-6B5C9442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6ADF-CA8E-48E9-B744-0993D5B5A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9160" y="684000"/>
            <a:ext cx="8507520" cy="5953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132A-9289-4DAA-86C1-3C623C279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087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491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5247-A35A-4A4C-96F2-8D05FF2DC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9160" y="2223720"/>
            <a:ext cx="4151520" cy="462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08760" y="463860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89E29-4EBD-4DA8-A2D7-082E7F25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91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08760" y="2223720"/>
            <a:ext cx="4151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49160" y="4638600"/>
            <a:ext cx="8507520" cy="220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01A9-842A-4969-BFF5-F6671417A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9160" y="2223720"/>
            <a:ext cx="8507520" cy="4622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8800" y="7017840"/>
            <a:ext cx="2086200" cy="51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417840" y="7017840"/>
            <a:ext cx="3170160" cy="51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172280" y="7017840"/>
            <a:ext cx="2084400" cy="51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4C20-73BD-41B2-BCB2-2A16BED99AE0}"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1152360" y="6718320"/>
            <a:ext cx="8456760" cy="74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9160" y="684000"/>
            <a:ext cx="8507520" cy="12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749160" y="2223720"/>
            <a:ext cx="8507520" cy="4622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748800" y="7017840"/>
            <a:ext cx="2086200" cy="51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45" name="PlaceHolder 4"/>
          <p:cNvSpPr>
            <a:spLocks noGrp="1"/>
          </p:cNvSpPr>
          <p:nvPr>
            <p:ph type="ftr" idx="5"/>
          </p:nvPr>
        </p:nvSpPr>
        <p:spPr>
          <a:xfrm>
            <a:off x="3417840" y="7017840"/>
            <a:ext cx="3170160" cy="51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6" name="PlaceHolder 5"/>
          <p:cNvSpPr>
            <a:spLocks noGrp="1"/>
          </p:cNvSpPr>
          <p:nvPr>
            <p:ph type="sldNum" idx="6"/>
          </p:nvPr>
        </p:nvSpPr>
        <p:spPr>
          <a:xfrm>
            <a:off x="7172280" y="7017840"/>
            <a:ext cx="2084400" cy="51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2D0F-2C0C-4444-AD33-0B5DE943AB2A}"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7" name=""/>
          <p:cNvSpPr/>
          <p:nvPr/>
        </p:nvSpPr>
        <p:spPr>
          <a:xfrm>
            <a:off x="1152360" y="6718320"/>
            <a:ext cx="8456760" cy="741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260360" y="4394160"/>
            <a:ext cx="7386840" cy="289800"/>
          </a:xfrm>
          <a:prstGeom prst="rect">
            <a:avLst/>
          </a:prstGeom>
          <a:noFill/>
          <a:ln w="0">
            <a:noFill/>
          </a:ln>
        </p:spPr>
        <p:style>
          <a:lnRef idx="0"/>
          <a:fillRef idx="0"/>
          <a:effectRef idx="0"/>
          <a:fontRef idx="minor"/>
        </p:style>
        <p:txBody>
          <a:bodyPr lIns="0" rIns="0" tIns="0" bIns="0" anchor="t">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Narrow"/>
              </a:rPr>
              <a:t>Business Partner Presenter  Name, Date</a:t>
            </a:r>
            <a:endParaRPr b="0" lang="en-US" sz="1900" spc="-1" strike="noStrike">
              <a:solidFill>
                <a:srgbClr val="000000"/>
              </a:solidFill>
              <a:latin typeface="Times New Roman"/>
            </a:endParaRPr>
          </a:p>
        </p:txBody>
      </p:sp>
      <p:sp>
        <p:nvSpPr>
          <p:cNvPr id="92" name=""/>
          <p:cNvSpPr/>
          <p:nvPr/>
        </p:nvSpPr>
        <p:spPr>
          <a:xfrm>
            <a:off x="1004760" y="3648600"/>
            <a:ext cx="7651800" cy="624960"/>
          </a:xfrm>
          <a:prstGeom prst="rect">
            <a:avLst/>
          </a:prstGeom>
          <a:noFill/>
          <a:ln w="0">
            <a:noFill/>
          </a:ln>
        </p:spPr>
        <p:style>
          <a:lnRef idx="0"/>
          <a:fillRef idx="0"/>
          <a:effectRef idx="0"/>
          <a:fontRef idx="minor"/>
        </p:style>
        <p:txBody>
          <a:bodyPr lIns="0" rIns="0" tIns="0" bIns="0" anchor="b">
            <a:spAutoFit/>
          </a:bodyPr>
          <a:p>
            <a:pPr>
              <a:lnSpc>
                <a:spcPct val="100000"/>
              </a:lnSpc>
              <a:spcAft>
                <a:spcPts val="7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Narrow"/>
              </a:rPr>
              <a:t>Optimizing the Extended Demand Chain </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312920" y="1432080"/>
            <a:ext cx="8183520" cy="502632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Loss of qualified leads and opportunities once handed off to channel due to Channel's inability to deliver expected level of service or other reasons including:</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Inventory not available, poor process continuity, identification of competitive alternatives, etc.</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Inability to control brand experience impedes ability to build customer lifetime value.  This includes service and marketing consistency.</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Manufacturers have limited visibility into their distribution channels which are often several layers deep.  Poor information on inventory levels and sales pipelines therefore result in an inability to respond to dynamic market conditions leading to slow market response, and over or under production.</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Limited information on end-users resulting in less effective market management, segmentation, promotions, product development, and recognition of quality issues.</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Inability to track performance and  architect optimal Channel strategy to ensure proper reach and extended service levels for each customer segment.</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Channel conflict resulting in duplication and partnering tension wasting resource cycles.</a:t>
            </a:r>
            <a:endParaRPr b="0" lang="en-US" sz="2100" spc="-1" strike="noStrike">
              <a:solidFill>
                <a:srgbClr val="000000"/>
              </a:solidFill>
              <a:latin typeface="Times New Roman"/>
            </a:endParaRPr>
          </a:p>
        </p:txBody>
      </p:sp>
      <p:sp>
        <p:nvSpPr>
          <p:cNvPr id="122" name=""/>
          <p:cNvSpPr/>
          <p:nvPr/>
        </p:nvSpPr>
        <p:spPr>
          <a:xfrm>
            <a:off x="1324080" y="729360"/>
            <a:ext cx="763092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Challenges of Leveraging Partner Network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73120" y="2708280"/>
            <a:ext cx="7292880" cy="17978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Reduced operational costs by automating processes</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Enhance Operational Efficiency and Visibility</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Strengthen Brand Experience </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Increase Return on Assets</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Extend market reach by leveraging channel partners more effectively</a:t>
            </a:r>
            <a:endParaRPr b="0" lang="en-US" sz="2100" spc="-1" strike="noStrike">
              <a:solidFill>
                <a:srgbClr val="000000"/>
              </a:solidFill>
              <a:latin typeface="Times New Roman"/>
            </a:endParaRPr>
          </a:p>
        </p:txBody>
      </p:sp>
      <p:sp>
        <p:nvSpPr>
          <p:cNvPr id="124" name=""/>
          <p:cNvSpPr/>
          <p:nvPr/>
        </p:nvSpPr>
        <p:spPr>
          <a:xfrm flipV="1">
            <a:off x="0" y="7107120"/>
            <a:ext cx="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5" name=""/>
          <p:cNvSpPr/>
          <p:nvPr/>
        </p:nvSpPr>
        <p:spPr>
          <a:xfrm>
            <a:off x="1360440" y="1687320"/>
            <a:ext cx="7631280" cy="762120"/>
          </a:xfrm>
          <a:prstGeom prst="rect">
            <a:avLst/>
          </a:prstGeom>
          <a:noFill/>
          <a:ln w="0">
            <a:noFill/>
          </a:ln>
        </p:spPr>
        <p:style>
          <a:lnRef idx="0"/>
          <a:fillRef idx="0"/>
          <a:effectRef idx="0"/>
          <a:fontRef idx="minor"/>
        </p:style>
        <p:txBody>
          <a:bodyPr lIns="0" rIns="0" tIns="0" bIns="0" anchor="b">
            <a:sp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Narrow"/>
              </a:rPr>
              <a:t>Successful Demand Chain Strategies with Online Channel Management Delivers Proven Benefits </a:t>
            </a:r>
            <a:endParaRPr b="0" lang="en-US" sz="2500" spc="-1" strike="noStrike">
              <a:solidFill>
                <a:srgbClr val="000000"/>
              </a:solidFill>
              <a:latin typeface="Times New Roman"/>
            </a:endParaRPr>
          </a:p>
        </p:txBody>
      </p:sp>
      <p:sp>
        <p:nvSpPr>
          <p:cNvPr id="126" name=""/>
          <p:cNvSpPr/>
          <p:nvPr/>
        </p:nvSpPr>
        <p:spPr>
          <a:xfrm>
            <a:off x="1324080" y="729360"/>
            <a:ext cx="763092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Optimizing the Extended Demand Chai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36600" y="3286080"/>
            <a:ext cx="8199360" cy="3443400"/>
          </a:xfrm>
          <a:prstGeom prst="ellipse">
            <a:avLst/>
          </a:prstGeom>
          <a:noFill/>
          <a:ln w="507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116000" y="3127320"/>
            <a:ext cx="8562960" cy="1886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49920" y="2751120"/>
            <a:ext cx="2603520" cy="2714760"/>
          </a:xfrm>
          <a:prstGeom prst="ellipse">
            <a:avLst/>
          </a:prstGeom>
          <a:noFill/>
          <a:ln w="507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440" y="3174840"/>
            <a:ext cx="1454040" cy="1935360"/>
          </a:xfrm>
          <a:custGeom>
            <a:avLst/>
            <a:gdLst>
              <a:gd name="textAreaLeft" fmla="*/ 70920 w 1454040"/>
              <a:gd name="textAreaRight" fmla="*/ 1383120 w 1454040"/>
              <a:gd name="textAreaTop" fmla="*/ 70920 h 1935360"/>
              <a:gd name="textAreaBottom" fmla="*/ 1864440 h 1935360"/>
            </a:gdLst>
            <a:ahLst/>
            <a:rect l="textAreaLeft" t="textAreaTop" r="textAreaRight" b="textAreaBottom"/>
            <a:pathLst>
              <a:path w="21600" h="28748">
                <a:moveTo>
                  <a:pt x="3600" y="0"/>
                </a:moveTo>
                <a:arcTo wR="3600" hR="3600" stAng="16200000" swAng="-5400000"/>
                <a:lnTo>
                  <a:pt x="0" y="25148"/>
                </a:lnTo>
                <a:arcTo wR="3600" hR="3600" stAng="10800000" swAng="-5400000"/>
                <a:lnTo>
                  <a:pt x="18000" y="28748"/>
                </a:lnTo>
                <a:arcTo wR="3600" hR="3600" stAng="5400000" swAng="-5400000"/>
                <a:lnTo>
                  <a:pt x="21600" y="3600"/>
                </a:lnTo>
                <a:arcTo wR="3600" hR="3600" stAng="0" swAng="-5400000"/>
                <a:close/>
              </a:path>
            </a:pathLst>
          </a:cu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37280" y="2270160"/>
            <a:ext cx="16351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113360" y="3635280"/>
            <a:ext cx="1633320" cy="10540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37280" y="4986360"/>
            <a:ext cx="16351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384960" y="3635280"/>
            <a:ext cx="1633680" cy="10540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03360" y="3193920"/>
            <a:ext cx="1452600" cy="1933560"/>
          </a:xfrm>
          <a:custGeom>
            <a:avLst/>
            <a:gdLst>
              <a:gd name="textAreaLeft" fmla="*/ 70920 w 1452600"/>
              <a:gd name="textAreaRight" fmla="*/ 1381680 w 1452600"/>
              <a:gd name="textAreaTop" fmla="*/ 70920 h 1933560"/>
              <a:gd name="textAreaBottom" fmla="*/ 1862640 h 1933560"/>
            </a:gdLst>
            <a:ahLst/>
            <a:rect l="textAreaLeft" t="textAreaTop" r="textAreaRight" b="textAreaBottom"/>
            <a:pathLst>
              <a:path w="21600" h="28750">
                <a:moveTo>
                  <a:pt x="3600" y="0"/>
                </a:moveTo>
                <a:arcTo wR="3600" hR="3600" stAng="16200000" swAng="-5400000"/>
                <a:lnTo>
                  <a:pt x="0" y="25150"/>
                </a:lnTo>
                <a:arcTo wR="3600" hR="3600" stAng="10800000" swAng="-5400000"/>
                <a:lnTo>
                  <a:pt x="18000" y="28750"/>
                </a:lnTo>
                <a:arcTo wR="3600" hR="3600" stAng="5400000" swAng="-5400000"/>
                <a:lnTo>
                  <a:pt x="21600" y="3600"/>
                </a:lnTo>
                <a:arcTo wR="3600" hR="3600" stAng="0" swAng="-5400000"/>
                <a:close/>
              </a:path>
            </a:pathLst>
          </a:cu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12120" y="3174840"/>
            <a:ext cx="1452600" cy="1935360"/>
          </a:xfrm>
          <a:custGeom>
            <a:avLst/>
            <a:gdLst>
              <a:gd name="textAreaLeft" fmla="*/ 70920 w 1452600"/>
              <a:gd name="textAreaRight" fmla="*/ 1381680 w 1452600"/>
              <a:gd name="textAreaTop" fmla="*/ 70920 h 1935360"/>
              <a:gd name="textAreaBottom" fmla="*/ 1864440 h 1935360"/>
            </a:gdLst>
            <a:ahLst/>
            <a:rect l="textAreaLeft" t="textAreaTop" r="textAreaRight" b="textAreaBottom"/>
            <a:pathLst>
              <a:path w="21600" h="28777">
                <a:moveTo>
                  <a:pt x="3600" y="0"/>
                </a:moveTo>
                <a:arcTo wR="3600" hR="3600" stAng="16200000" swAng="-5400000"/>
                <a:lnTo>
                  <a:pt x="0" y="25177"/>
                </a:lnTo>
                <a:arcTo wR="3600" hR="3600" stAng="10800000" swAng="-5400000"/>
                <a:lnTo>
                  <a:pt x="18000" y="28777"/>
                </a:lnTo>
                <a:arcTo wR="3600" hR="3600" stAng="5400000" swAng="-5400000"/>
                <a:lnTo>
                  <a:pt x="21600" y="3600"/>
                </a:lnTo>
                <a:arcTo wR="3600" hR="3600" stAng="0" swAng="-5400000"/>
                <a:close/>
              </a:path>
            </a:pathLst>
          </a:cu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65000" y="3718080"/>
            <a:ext cx="1324080" cy="73044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ning and Strategy Assessment</a:t>
            </a:r>
            <a:endParaRPr b="0" lang="en-US" sz="1600" spc="-1" strike="noStrike">
              <a:solidFill>
                <a:srgbClr val="000000"/>
              </a:solidFill>
              <a:latin typeface="Times New Roman"/>
            </a:endParaRPr>
          </a:p>
        </p:txBody>
      </p:sp>
      <p:sp>
        <p:nvSpPr>
          <p:cNvPr id="138" name=""/>
          <p:cNvSpPr/>
          <p:nvPr/>
        </p:nvSpPr>
        <p:spPr>
          <a:xfrm>
            <a:off x="2460600" y="3746520"/>
            <a:ext cx="1389240" cy="97380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Capture &amp; Manage Relationships </a:t>
            </a:r>
            <a:endParaRPr b="0" lang="en-US" sz="1600" spc="-1" strike="noStrike">
              <a:solidFill>
                <a:srgbClr val="000000"/>
              </a:solidFill>
              <a:latin typeface="Times New Roman"/>
            </a:endParaRPr>
          </a:p>
        </p:txBody>
      </p:sp>
      <p:sp>
        <p:nvSpPr>
          <p:cNvPr id="139" name=""/>
          <p:cNvSpPr/>
          <p:nvPr/>
        </p:nvSpPr>
        <p:spPr>
          <a:xfrm>
            <a:off x="8458200" y="3905280"/>
            <a:ext cx="136224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and Analysis</a:t>
            </a:r>
            <a:endParaRPr b="0" lang="en-US" sz="1600" spc="-1" strike="noStrike">
              <a:solidFill>
                <a:srgbClr val="000000"/>
              </a:solidFill>
              <a:latin typeface="Times New Roman"/>
            </a:endParaRPr>
          </a:p>
        </p:txBody>
      </p:sp>
      <p:sp>
        <p:nvSpPr>
          <p:cNvPr id="140" name=""/>
          <p:cNvSpPr/>
          <p:nvPr/>
        </p:nvSpPr>
        <p:spPr>
          <a:xfrm>
            <a:off x="5508720" y="5272200"/>
            <a:ext cx="117936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amp; Support</a:t>
            </a:r>
            <a:endParaRPr b="0" lang="en-US" sz="1600" spc="-1" strike="noStrike">
              <a:solidFill>
                <a:srgbClr val="000000"/>
              </a:solidFill>
              <a:latin typeface="Times New Roman"/>
            </a:endParaRPr>
          </a:p>
        </p:txBody>
      </p:sp>
      <p:sp>
        <p:nvSpPr>
          <p:cNvPr id="141" name=""/>
          <p:cNvSpPr/>
          <p:nvPr/>
        </p:nvSpPr>
        <p:spPr>
          <a:xfrm>
            <a:off x="6505560" y="3860640"/>
            <a:ext cx="137304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 &amp;  Execution</a:t>
            </a:r>
            <a:endParaRPr b="0" lang="en-US" sz="1600" spc="-1" strike="noStrike">
              <a:solidFill>
                <a:srgbClr val="000000"/>
              </a:solidFill>
              <a:latin typeface="Times New Roman"/>
            </a:endParaRPr>
          </a:p>
        </p:txBody>
      </p:sp>
      <p:sp>
        <p:nvSpPr>
          <p:cNvPr id="142" name=""/>
          <p:cNvSpPr/>
          <p:nvPr/>
        </p:nvSpPr>
        <p:spPr>
          <a:xfrm>
            <a:off x="5641920" y="2649600"/>
            <a:ext cx="83988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a:t>
            </a:r>
            <a:endParaRPr b="0" lang="en-US" sz="1600" spc="-1" strike="noStrike">
              <a:solidFill>
                <a:srgbClr val="000000"/>
              </a:solidFill>
              <a:latin typeface="Times New Roman"/>
            </a:endParaRPr>
          </a:p>
        </p:txBody>
      </p:sp>
      <p:sp>
        <p:nvSpPr>
          <p:cNvPr id="143" name=""/>
          <p:cNvSpPr/>
          <p:nvPr/>
        </p:nvSpPr>
        <p:spPr>
          <a:xfrm>
            <a:off x="4359240" y="3951360"/>
            <a:ext cx="136044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p:txBody>
      </p:sp>
      <p:sp>
        <p:nvSpPr>
          <p:cNvPr id="144" name=""/>
          <p:cNvSpPr/>
          <p:nvPr/>
        </p:nvSpPr>
        <p:spPr>
          <a:xfrm>
            <a:off x="9137520" y="5114880"/>
            <a:ext cx="30240" cy="12600"/>
          </a:xfrm>
          <a:custGeom>
            <a:avLst/>
            <a:gdLst/>
            <a:ahLst/>
            <a:rect l="l" t="t" r="r" b="b"/>
            <a:pathLst>
              <a:path w="19" h="8">
                <a:moveTo>
                  <a:pt x="0" y="4"/>
                </a:moveTo>
                <a:cubicBezTo>
                  <a:pt x="0" y="4"/>
                  <a:pt x="0" y="4"/>
                  <a:pt x="0" y="4"/>
                </a:cubicBezTo>
                <a:cubicBezTo>
                  <a:pt x="3" y="2"/>
                  <a:pt x="12" y="0"/>
                  <a:pt x="15" y="4"/>
                </a:cubicBezTo>
                <a:cubicBezTo>
                  <a:pt x="15" y="4"/>
                  <a:pt x="16" y="2"/>
                  <a:pt x="16" y="2"/>
                </a:cubicBezTo>
                <a:cubicBezTo>
                  <a:pt x="16" y="2"/>
                  <a:pt x="19" y="7"/>
                  <a:pt x="19" y="7"/>
                </a:cubicBezTo>
                <a:cubicBezTo>
                  <a:pt x="15" y="8"/>
                  <a:pt x="15" y="8"/>
                  <a:pt x="15" y="8"/>
                </a:cubicBezTo>
                <a:cubicBezTo>
                  <a:pt x="15" y="8"/>
                  <a:pt x="15" y="7"/>
                  <a:pt x="15" y="7"/>
                </a:cubicBezTo>
                <a:cubicBezTo>
                  <a:pt x="11" y="4"/>
                  <a:pt x="5" y="4"/>
                  <a:pt x="2" y="5"/>
                </a:cubicBezTo>
                <a:cubicBezTo>
                  <a:pt x="2" y="5"/>
                  <a:pt x="0" y="4"/>
                  <a:pt x="0" y="4"/>
                </a:cubicBezTo>
                <a:close/>
              </a:path>
            </a:pathLst>
          </a:custGeom>
          <a:solidFill>
            <a:srgbClr val="00efef"/>
          </a:solidFill>
          <a:ln w="25560">
            <a:solidFill>
              <a:srgbClr val="000000"/>
            </a:solidFill>
            <a:round/>
          </a:ln>
        </p:spPr>
        <p:style>
          <a:lnRef idx="0"/>
          <a:fillRef idx="0"/>
          <a:effectRef idx="0"/>
          <a:fontRef idx="minor"/>
        </p:style>
        <p:txBody>
          <a:bodyPr wrap="none"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flipH="1" flipV="1">
            <a:off x="2405160" y="6194160"/>
            <a:ext cx="231840" cy="9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4729320" y="6705720"/>
            <a:ext cx="8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7758000" y="6364440"/>
            <a:ext cx="3672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 name=""/>
          <p:cNvSpPr/>
          <p:nvPr/>
        </p:nvSpPr>
        <p:spPr>
          <a:xfrm flipH="1">
            <a:off x="9351720" y="5318280"/>
            <a:ext cx="11160" cy="25200"/>
          </a:xfrm>
          <a:prstGeom prst="line">
            <a:avLst/>
          </a:prstGeom>
          <a:ln w="255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 name=""/>
          <p:cNvSpPr/>
          <p:nvPr/>
        </p:nvSpPr>
        <p:spPr>
          <a:xfrm flipH="1" flipV="1">
            <a:off x="1334880" y="5367240"/>
            <a:ext cx="12600" cy="36720"/>
          </a:xfrm>
          <a:prstGeom prst="line">
            <a:avLst/>
          </a:prstGeom>
          <a:ln w="255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a:off x="7101000" y="3213000"/>
            <a:ext cx="48960" cy="49320"/>
          </a:xfrm>
          <a:prstGeom prst="line">
            <a:avLst/>
          </a:prstGeom>
          <a:ln w="25560">
            <a:solidFill>
              <a:srgbClr val="000000"/>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 name=""/>
          <p:cNvSpPr/>
          <p:nvPr/>
        </p:nvSpPr>
        <p:spPr>
          <a:xfrm flipH="1">
            <a:off x="7161120" y="4892760"/>
            <a:ext cx="23760" cy="36360"/>
          </a:xfrm>
          <a:prstGeom prst="line">
            <a:avLst/>
          </a:prstGeom>
          <a:ln w="255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flipH="1" flipV="1">
            <a:off x="5057640" y="4856040"/>
            <a:ext cx="36720" cy="36720"/>
          </a:xfrm>
          <a:prstGeom prst="line">
            <a:avLst/>
          </a:prstGeom>
          <a:ln w="255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3" name=""/>
          <p:cNvSpPr/>
          <p:nvPr/>
        </p:nvSpPr>
        <p:spPr>
          <a:xfrm flipV="1">
            <a:off x="5008680" y="3359160"/>
            <a:ext cx="48960" cy="8568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 name=""/>
          <p:cNvSpPr/>
          <p:nvPr/>
        </p:nvSpPr>
        <p:spPr>
          <a:xfrm>
            <a:off x="2138400" y="4125960"/>
            <a:ext cx="25560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828960" y="4151160"/>
            <a:ext cx="26820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013600" y="4078440"/>
            <a:ext cx="37620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28360" y="6434280"/>
            <a:ext cx="2184480" cy="5252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ner and Customer </a:t>
            </a:r>
            <a:endParaRPr b="0" lang="en-US" sz="16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cycle Management</a:t>
            </a:r>
            <a:endParaRPr b="0" lang="en-US" sz="1600" spc="-1" strike="noStrike">
              <a:solidFill>
                <a:srgbClr val="000000"/>
              </a:solidFill>
              <a:latin typeface="Times New Roman"/>
            </a:endParaRPr>
          </a:p>
        </p:txBody>
      </p:sp>
      <p:sp>
        <p:nvSpPr>
          <p:cNvPr id="158" name=""/>
          <p:cNvSpPr/>
          <p:nvPr/>
        </p:nvSpPr>
        <p:spPr>
          <a:xfrm>
            <a:off x="1325520" y="343440"/>
            <a:ext cx="7631280" cy="829800"/>
          </a:xfrm>
          <a:prstGeom prst="rect">
            <a:avLst/>
          </a:prstGeom>
          <a:noFill/>
          <a:ln w="0">
            <a:noFill/>
          </a:ln>
        </p:spPr>
        <p:style>
          <a:lnRef idx="0"/>
          <a:fillRef idx="0"/>
          <a:effectRef idx="0"/>
          <a:fontRef idx="minor"/>
        </p:style>
        <p:txBody>
          <a:bodyPr lIns="0" rIns="0" tIns="0" bIns="0" anchor="b">
            <a:spAutoFit/>
          </a:bodyPr>
          <a:p>
            <a:pP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Managing the Extended Demand Chain:</a:t>
            </a:r>
            <a:endParaRPr b="0" lang="en-US" sz="2200" spc="-1" strike="noStrike">
              <a:solidFill>
                <a:srgbClr val="000000"/>
              </a:solidFill>
              <a:latin typeface="Times New Roman"/>
            </a:endParaRPr>
          </a:p>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Key Processes and Best Practic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8292960" y="2349360"/>
            <a:ext cx="0" cy="4137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24080" y="219240"/>
            <a:ext cx="7630920" cy="95220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Planning and Strategy Assessment</a:t>
            </a:r>
            <a:endParaRPr b="0" lang="en-US" sz="2900" spc="-1" strike="noStrike">
              <a:solidFill>
                <a:srgbClr val="000000"/>
              </a:solidFill>
              <a:latin typeface="Times New Roman"/>
            </a:endParaRPr>
          </a:p>
        </p:txBody>
      </p:sp>
      <p:sp>
        <p:nvSpPr>
          <p:cNvPr id="161" name=""/>
          <p:cNvSpPr/>
          <p:nvPr/>
        </p:nvSpPr>
        <p:spPr>
          <a:xfrm>
            <a:off x="898560" y="1386000"/>
            <a:ext cx="5873760" cy="59018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Partner Opportunity Analysis</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Identify business needs, goals, and  strategic objectives</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Define synergy with overall business model.</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Planning</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ost structure analysis -- Define budget and assess costs:</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Requirements analysis and Creation of Partner Profiles</a:t>
            </a:r>
            <a:endParaRPr b="0" lang="en-US" sz="1700" spc="-1" strike="noStrike">
              <a:solidFill>
                <a:srgbClr val="000000"/>
              </a:solidFill>
              <a:latin typeface="Times New Roman"/>
            </a:endParaRPr>
          </a:p>
          <a:p>
            <a:pPr lvl="2" marL="781200" indent="-90720">
              <a:lnSpc>
                <a:spcPct val="100000"/>
              </a:lnSpc>
              <a:spcAft>
                <a:spcPts val="312"/>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Required expertise and skills, technology, segment, geographic location, Value/Culture</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Align Sales and Marketing to tightly integrate channels</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reate a Sales and Marketing Plan</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Develop Go-to-Market Plan and Enablement Materials: </a:t>
            </a:r>
            <a:endParaRPr b="0" lang="en-US" sz="1700" spc="-1" strike="noStrike">
              <a:solidFill>
                <a:srgbClr val="000000"/>
              </a:solidFill>
              <a:latin typeface="Times New Roman"/>
            </a:endParaRPr>
          </a:p>
          <a:p>
            <a:pPr lvl="2" marL="781200" indent="-90720">
              <a:lnSpc>
                <a:spcPct val="100000"/>
              </a:lnSpc>
              <a:spcAft>
                <a:spcPts val="312"/>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Marketing programs, Press, Collateral, WPs, Presentations, Specifications, etc</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reate Collaboration framework (Mediation, Teaming, etc)</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Process Engineering and Creation of Best Practices </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Order and Inventory Movement </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Business Exception Management</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Develop Cost effective Service and Support mechanisms</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Define Key Metrics</a:t>
            </a:r>
            <a:endParaRPr b="0" lang="en-US" sz="2100" spc="-1" strike="noStrike">
              <a:solidFill>
                <a:srgbClr val="000000"/>
              </a:solidFill>
              <a:latin typeface="Times New Roman"/>
            </a:endParaRPr>
          </a:p>
        </p:txBody>
      </p:sp>
      <p:sp>
        <p:nvSpPr>
          <p:cNvPr id="162" name=""/>
          <p:cNvSpPr/>
          <p:nvPr/>
        </p:nvSpPr>
        <p:spPr>
          <a:xfrm>
            <a:off x="7086600" y="1447920"/>
            <a:ext cx="2495520" cy="9064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86600" y="6513480"/>
            <a:ext cx="2495520" cy="9064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086600" y="5246640"/>
            <a:ext cx="2495520" cy="90792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086600" y="3981600"/>
            <a:ext cx="2495520" cy="9064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86600" y="2714760"/>
            <a:ext cx="2495520" cy="9064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282160" y="2544840"/>
            <a:ext cx="0" cy="156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292960" y="3846600"/>
            <a:ext cx="0" cy="10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292960" y="5111640"/>
            <a:ext cx="0" cy="109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83400" y="1638360"/>
            <a:ext cx="171288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portunity Analysis</a:t>
            </a:r>
            <a:endParaRPr b="0" lang="en-US" sz="1600" spc="-1" strike="noStrike">
              <a:solidFill>
                <a:srgbClr val="000000"/>
              </a:solidFill>
              <a:latin typeface="Times New Roman"/>
            </a:endParaRPr>
          </a:p>
        </p:txBody>
      </p:sp>
      <p:sp>
        <p:nvSpPr>
          <p:cNvPr id="171" name=""/>
          <p:cNvSpPr/>
          <p:nvPr/>
        </p:nvSpPr>
        <p:spPr>
          <a:xfrm>
            <a:off x="7426440" y="6700680"/>
            <a:ext cx="171288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Metrics</a:t>
            </a:r>
            <a:endParaRPr b="0" lang="en-US" sz="1600" spc="-1" strike="noStrike">
              <a:solidFill>
                <a:srgbClr val="000000"/>
              </a:solidFill>
              <a:latin typeface="Times New Roman"/>
            </a:endParaRPr>
          </a:p>
        </p:txBody>
      </p:sp>
      <p:sp>
        <p:nvSpPr>
          <p:cNvPr id="172" name=""/>
          <p:cNvSpPr/>
          <p:nvPr/>
        </p:nvSpPr>
        <p:spPr>
          <a:xfrm>
            <a:off x="7462800" y="5460840"/>
            <a:ext cx="171288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 Engineering</a:t>
            </a:r>
            <a:endParaRPr b="0" lang="en-US" sz="1600" spc="-1" strike="noStrike">
              <a:solidFill>
                <a:srgbClr val="000000"/>
              </a:solidFill>
              <a:latin typeface="Times New Roman"/>
            </a:endParaRPr>
          </a:p>
        </p:txBody>
      </p:sp>
      <p:sp>
        <p:nvSpPr>
          <p:cNvPr id="173" name=""/>
          <p:cNvSpPr/>
          <p:nvPr/>
        </p:nvSpPr>
        <p:spPr>
          <a:xfrm>
            <a:off x="7504200" y="4164120"/>
            <a:ext cx="194472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and Marketing Planning</a:t>
            </a:r>
            <a:endParaRPr b="0" lang="en-US" sz="1600" spc="-1" strike="noStrike">
              <a:solidFill>
                <a:srgbClr val="000000"/>
              </a:solidFill>
              <a:latin typeface="Times New Roman"/>
            </a:endParaRPr>
          </a:p>
        </p:txBody>
      </p:sp>
      <p:sp>
        <p:nvSpPr>
          <p:cNvPr id="174" name=""/>
          <p:cNvSpPr/>
          <p:nvPr/>
        </p:nvSpPr>
        <p:spPr>
          <a:xfrm>
            <a:off x="7523280" y="2905200"/>
            <a:ext cx="171108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flipH="1">
            <a:off x="8049960" y="2471760"/>
            <a:ext cx="12600" cy="3844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324080" y="289800"/>
            <a:ext cx="7630920" cy="881640"/>
          </a:xfrm>
          <a:prstGeom prst="rect">
            <a:avLst/>
          </a:prstGeom>
          <a:noFill/>
          <a:ln w="0">
            <a:noFill/>
          </a:ln>
        </p:spPr>
        <p:style>
          <a:lnRef idx="0"/>
          <a:fillRef idx="0"/>
          <a:effectRef idx="0"/>
          <a:fontRef idx="minor"/>
        </p:style>
        <p:txBody>
          <a:bodyPr lIns="0" rIns="0" tIns="0" bIns="0" anchor="b">
            <a:sp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Engage Partners:</a:t>
            </a:r>
            <a:endParaRPr b="0" lang="en-US" sz="2500" spc="-1" strike="noStrike">
              <a:solidFill>
                <a:srgbClr val="000000"/>
              </a:solidFill>
              <a:latin typeface="Times New Roman"/>
            </a:endParaRPr>
          </a:p>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Define, Capture, and Manage Relationships</a:t>
            </a:r>
            <a:endParaRPr b="0" lang="en-US" sz="2900" spc="-1" strike="noStrike">
              <a:solidFill>
                <a:srgbClr val="000000"/>
              </a:solidFill>
              <a:latin typeface="Times New Roman"/>
            </a:endParaRPr>
          </a:p>
        </p:txBody>
      </p:sp>
      <p:sp>
        <p:nvSpPr>
          <p:cNvPr id="177" name=""/>
          <p:cNvSpPr/>
          <p:nvPr/>
        </p:nvSpPr>
        <p:spPr>
          <a:xfrm>
            <a:off x="800280" y="1638360"/>
            <a:ext cx="5924520" cy="600264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Recruiting, Registration, and Approval</a:t>
            </a:r>
            <a:endParaRPr b="0" lang="en-US" sz="21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Strategic Business Planning</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Work with business partner to develop or modify a standardized business plan</a:t>
            </a:r>
            <a:endParaRPr b="0" lang="en-US" sz="17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reate Strategic Partnership Agreement with concise terms, conditions, and metrics</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Contract Negotiation</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Once the Strategic Partnership Agreement has been created, a contract is negotiated translating business objectives and goals into terms and conditions of the relationship.</a:t>
            </a:r>
            <a:endParaRPr b="0" lang="en-US" sz="1700" spc="-1" strike="noStrike">
              <a:solidFill>
                <a:srgbClr val="000000"/>
              </a:solidFill>
              <a:latin typeface="Times New Roman"/>
            </a:endParaRPr>
          </a:p>
          <a:p>
            <a:pPr lvl="2"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products and services that each partner will sell</a:t>
            </a:r>
            <a:endParaRPr b="0" lang="en-US" sz="1700" spc="-1" strike="noStrike">
              <a:solidFill>
                <a:srgbClr val="000000"/>
              </a:solidFill>
              <a:latin typeface="Times New Roman"/>
            </a:endParaRPr>
          </a:p>
          <a:p>
            <a:pPr lvl="2"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pricing policies, royalties, payment terms</a:t>
            </a:r>
            <a:endParaRPr b="0" lang="en-US" sz="1700" spc="-1" strike="noStrike">
              <a:solidFill>
                <a:srgbClr val="000000"/>
              </a:solidFill>
              <a:latin typeface="Times New Roman"/>
            </a:endParaRPr>
          </a:p>
          <a:p>
            <a:pPr lvl="2"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how channels will represent the offerings</a:t>
            </a:r>
            <a:endParaRPr b="0" lang="en-US" sz="1700" spc="-1" strike="noStrike">
              <a:solidFill>
                <a:srgbClr val="000000"/>
              </a:solidFill>
              <a:latin typeface="Times New Roman"/>
            </a:endParaRPr>
          </a:p>
          <a:p>
            <a:pPr lvl="2"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hipping and inventory </a:t>
            </a:r>
            <a:endParaRPr b="0" lang="en-US" sz="1700" spc="-1" strike="noStrike">
              <a:solidFill>
                <a:srgbClr val="000000"/>
              </a:solidFill>
              <a:latin typeface="Times New Roman"/>
            </a:endParaRPr>
          </a:p>
          <a:p>
            <a:pPr lvl="2"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access, security, entitlements, and members</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Capture relationship terms, conditions, and processes online</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The contract is then captured online to streamline business processes and automatically applied to daily operational tasks to ensure adherence to contractual guidelines</a:t>
            </a:r>
            <a:endParaRPr b="0" lang="en-US" sz="1700" spc="-1" strike="noStrike">
              <a:solidFill>
                <a:srgbClr val="000000"/>
              </a:solidFill>
              <a:latin typeface="Times New Roman"/>
            </a:endParaRPr>
          </a:p>
        </p:txBody>
      </p:sp>
      <p:sp>
        <p:nvSpPr>
          <p:cNvPr id="178" name=""/>
          <p:cNvSpPr/>
          <p:nvPr/>
        </p:nvSpPr>
        <p:spPr>
          <a:xfrm>
            <a:off x="6905520" y="1447920"/>
            <a:ext cx="2495520" cy="105228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0960" y="1687680"/>
            <a:ext cx="171144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ruiting and Registration</a:t>
            </a:r>
            <a:endParaRPr b="0" lang="en-US" sz="1600" spc="-1" strike="noStrike">
              <a:solidFill>
                <a:srgbClr val="000000"/>
              </a:solidFill>
              <a:latin typeface="Times New Roman"/>
            </a:endParaRPr>
          </a:p>
        </p:txBody>
      </p:sp>
      <p:sp>
        <p:nvSpPr>
          <p:cNvPr id="180" name=""/>
          <p:cNvSpPr/>
          <p:nvPr/>
        </p:nvSpPr>
        <p:spPr>
          <a:xfrm>
            <a:off x="6905520" y="6332400"/>
            <a:ext cx="24955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905520" y="4692600"/>
            <a:ext cx="24955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05520" y="3076560"/>
            <a:ext cx="24955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02440" y="6599160"/>
            <a:ext cx="201780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turing Relationship Online</a:t>
            </a:r>
            <a:endParaRPr b="0" lang="en-US" sz="1600" spc="-1" strike="noStrike">
              <a:solidFill>
                <a:srgbClr val="000000"/>
              </a:solidFill>
              <a:latin typeface="Times New Roman"/>
            </a:endParaRPr>
          </a:p>
        </p:txBody>
      </p:sp>
      <p:sp>
        <p:nvSpPr>
          <p:cNvPr id="184" name=""/>
          <p:cNvSpPr/>
          <p:nvPr/>
        </p:nvSpPr>
        <p:spPr>
          <a:xfrm>
            <a:off x="7278840" y="4960800"/>
            <a:ext cx="171288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Negotiation</a:t>
            </a:r>
            <a:endParaRPr b="0" lang="en-US" sz="1600" spc="-1" strike="noStrike">
              <a:solidFill>
                <a:srgbClr val="000000"/>
              </a:solidFill>
              <a:latin typeface="Times New Roman"/>
            </a:endParaRPr>
          </a:p>
        </p:txBody>
      </p:sp>
      <p:sp>
        <p:nvSpPr>
          <p:cNvPr id="185" name=""/>
          <p:cNvSpPr/>
          <p:nvPr/>
        </p:nvSpPr>
        <p:spPr>
          <a:xfrm>
            <a:off x="7304040" y="3343320"/>
            <a:ext cx="171144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lanning</a:t>
            </a:r>
            <a:endParaRPr b="0" lang="en-US" sz="1600" spc="-1" strike="noStrike">
              <a:solidFill>
                <a:srgbClr val="000000"/>
              </a:solidFill>
              <a:latin typeface="Times New Roman"/>
            </a:endParaRPr>
          </a:p>
        </p:txBody>
      </p:sp>
      <p:sp>
        <p:nvSpPr>
          <p:cNvPr id="186" name=""/>
          <p:cNvSpPr/>
          <p:nvPr/>
        </p:nvSpPr>
        <p:spPr>
          <a:xfrm>
            <a:off x="8050320" y="4478400"/>
            <a:ext cx="0" cy="1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50320" y="2886120"/>
            <a:ext cx="0" cy="169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325520" y="291600"/>
            <a:ext cx="7631280" cy="881640"/>
          </a:xfrm>
          <a:prstGeom prst="rect">
            <a:avLst/>
          </a:prstGeom>
          <a:noFill/>
          <a:ln w="0">
            <a:noFill/>
          </a:ln>
        </p:spPr>
        <p:style>
          <a:lnRef idx="0"/>
          <a:fillRef idx="0"/>
          <a:effectRef idx="0"/>
          <a:fontRef idx="minor"/>
        </p:style>
        <p:txBody>
          <a:bodyPr lIns="0" rIns="0" tIns="0" bIns="0" anchor="b">
            <a:sp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Where the Rubber Hits the Road:</a:t>
            </a:r>
            <a:endParaRPr b="0" lang="en-US" sz="2500" spc="-1" strike="noStrike">
              <a:solidFill>
                <a:srgbClr val="000000"/>
              </a:solidFill>
              <a:latin typeface="Times New Roman"/>
            </a:endParaRPr>
          </a:p>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n Overview of Sell-Side Processes</a:t>
            </a:r>
            <a:endParaRPr b="0" lang="en-US" sz="2900" spc="-1" strike="noStrike">
              <a:solidFill>
                <a:srgbClr val="000000"/>
              </a:solidFill>
              <a:latin typeface="Times New Roman"/>
            </a:endParaRPr>
          </a:p>
        </p:txBody>
      </p:sp>
      <p:sp>
        <p:nvSpPr>
          <p:cNvPr id="189" name=""/>
          <p:cNvSpPr/>
          <p:nvPr/>
        </p:nvSpPr>
        <p:spPr>
          <a:xfrm>
            <a:off x="765000" y="3917880"/>
            <a:ext cx="2127600" cy="8233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market to and with distribution partners</a:t>
            </a:r>
            <a:endParaRPr b="0" lang="en-US" sz="1800" spc="-1" strike="noStrike">
              <a:solidFill>
                <a:srgbClr val="000000"/>
              </a:solidFill>
              <a:latin typeface="Times New Roman"/>
            </a:endParaRPr>
          </a:p>
        </p:txBody>
      </p:sp>
      <p:sp>
        <p:nvSpPr>
          <p:cNvPr id="190" name=""/>
          <p:cNvSpPr/>
          <p:nvPr/>
        </p:nvSpPr>
        <p:spPr>
          <a:xfrm>
            <a:off x="4035600" y="1768320"/>
            <a:ext cx="2585880" cy="5490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 partners in the sale of complex offerings</a:t>
            </a:r>
            <a:endParaRPr b="0" lang="en-US" sz="1800" spc="-1" strike="noStrike">
              <a:solidFill>
                <a:srgbClr val="000000"/>
              </a:solidFill>
              <a:latin typeface="Times New Roman"/>
            </a:endParaRPr>
          </a:p>
        </p:txBody>
      </p:sp>
      <p:sp>
        <p:nvSpPr>
          <p:cNvPr id="191" name=""/>
          <p:cNvSpPr/>
          <p:nvPr/>
        </p:nvSpPr>
        <p:spPr>
          <a:xfrm>
            <a:off x="4059360" y="2944800"/>
            <a:ext cx="2603520" cy="2712960"/>
          </a:xfrm>
          <a:prstGeom prst="ellipse">
            <a:avLst/>
          </a:prstGeom>
          <a:noFill/>
          <a:ln w="507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46720" y="2463840"/>
            <a:ext cx="16351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17880" y="3807000"/>
            <a:ext cx="1635120" cy="10508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446720" y="5180040"/>
            <a:ext cx="1635120" cy="105264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86360" y="3817800"/>
            <a:ext cx="1633680" cy="105120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718160" y="5465880"/>
            <a:ext cx="117936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amp; Support</a:t>
            </a:r>
            <a:endParaRPr b="0" lang="en-US" sz="1600" spc="-1" strike="noStrike">
              <a:solidFill>
                <a:srgbClr val="000000"/>
              </a:solidFill>
              <a:latin typeface="Times New Roman"/>
            </a:endParaRPr>
          </a:p>
        </p:txBody>
      </p:sp>
      <p:sp>
        <p:nvSpPr>
          <p:cNvPr id="197" name=""/>
          <p:cNvSpPr/>
          <p:nvPr/>
        </p:nvSpPr>
        <p:spPr>
          <a:xfrm>
            <a:off x="5970600" y="4078440"/>
            <a:ext cx="1373040" cy="48708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 &amp;  Execution</a:t>
            </a:r>
            <a:endParaRPr b="0" lang="en-US" sz="1600" spc="-1" strike="noStrike">
              <a:solidFill>
                <a:srgbClr val="000000"/>
              </a:solidFill>
              <a:latin typeface="Times New Roman"/>
            </a:endParaRPr>
          </a:p>
        </p:txBody>
      </p:sp>
      <p:sp>
        <p:nvSpPr>
          <p:cNvPr id="198" name=""/>
          <p:cNvSpPr/>
          <p:nvPr/>
        </p:nvSpPr>
        <p:spPr>
          <a:xfrm>
            <a:off x="4851360" y="2843280"/>
            <a:ext cx="83988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a:t>
            </a:r>
            <a:endParaRPr b="0" lang="en-US" sz="1600" spc="-1" strike="noStrike">
              <a:solidFill>
                <a:srgbClr val="000000"/>
              </a:solidFill>
              <a:latin typeface="Times New Roman"/>
            </a:endParaRPr>
          </a:p>
        </p:txBody>
      </p:sp>
      <p:sp>
        <p:nvSpPr>
          <p:cNvPr id="199" name=""/>
          <p:cNvSpPr/>
          <p:nvPr/>
        </p:nvSpPr>
        <p:spPr>
          <a:xfrm>
            <a:off x="3300480" y="4157640"/>
            <a:ext cx="136044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p:txBody>
      </p:sp>
      <p:sp>
        <p:nvSpPr>
          <p:cNvPr id="200" name=""/>
          <p:cNvSpPr/>
          <p:nvPr/>
        </p:nvSpPr>
        <p:spPr>
          <a:xfrm>
            <a:off x="6310440" y="3406680"/>
            <a:ext cx="47520" cy="49320"/>
          </a:xfrm>
          <a:prstGeom prst="line">
            <a:avLst/>
          </a:prstGeom>
          <a:ln w="25560">
            <a:solidFill>
              <a:srgbClr val="000000"/>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1" name=""/>
          <p:cNvSpPr/>
          <p:nvPr/>
        </p:nvSpPr>
        <p:spPr>
          <a:xfrm flipH="1">
            <a:off x="6370560" y="5084640"/>
            <a:ext cx="23760" cy="38160"/>
          </a:xfrm>
          <a:prstGeom prst="line">
            <a:avLst/>
          </a:prstGeom>
          <a:ln w="25560">
            <a:solidFill>
              <a:srgbClr val="000000"/>
            </a:solidFill>
            <a:miter/>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 name=""/>
          <p:cNvSpPr/>
          <p:nvPr/>
        </p:nvSpPr>
        <p:spPr>
          <a:xfrm flipH="1" flipV="1">
            <a:off x="4266720" y="5049360"/>
            <a:ext cx="34920" cy="34920"/>
          </a:xfrm>
          <a:prstGeom prst="line">
            <a:avLst/>
          </a:prstGeom>
          <a:ln w="25560">
            <a:solidFill>
              <a:srgbClr val="00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 name=""/>
          <p:cNvSpPr/>
          <p:nvPr/>
        </p:nvSpPr>
        <p:spPr>
          <a:xfrm flipV="1">
            <a:off x="4218120" y="3552840"/>
            <a:ext cx="48960" cy="8568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 name=""/>
          <p:cNvSpPr/>
          <p:nvPr/>
        </p:nvSpPr>
        <p:spPr>
          <a:xfrm>
            <a:off x="7180200" y="2905200"/>
            <a:ext cx="2573280" cy="5490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y the purchasing process</a:t>
            </a:r>
            <a:endParaRPr b="0" lang="en-US" sz="1800" spc="-1" strike="noStrike">
              <a:solidFill>
                <a:srgbClr val="000000"/>
              </a:solidFill>
              <a:latin typeface="Times New Roman"/>
            </a:endParaRPr>
          </a:p>
        </p:txBody>
      </p:sp>
      <p:sp>
        <p:nvSpPr>
          <p:cNvPr id="205" name=""/>
          <p:cNvSpPr/>
          <p:nvPr/>
        </p:nvSpPr>
        <p:spPr>
          <a:xfrm>
            <a:off x="6900840" y="5398920"/>
            <a:ext cx="2571840" cy="5490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fficiency to improve bottom line</a:t>
            </a:r>
            <a:endParaRPr b="0" lang="en-US" sz="1800" spc="-1" strike="noStrike">
              <a:solidFill>
                <a:srgbClr val="000000"/>
              </a:solidFill>
              <a:latin typeface="Times New Roman"/>
            </a:endParaRPr>
          </a:p>
        </p:txBody>
      </p:sp>
      <p:sp>
        <p:nvSpPr>
          <p:cNvPr id="206" name=""/>
          <p:cNvSpPr/>
          <p:nvPr/>
        </p:nvSpPr>
        <p:spPr>
          <a:xfrm>
            <a:off x="3841920" y="6429240"/>
            <a:ext cx="2943000" cy="8233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Service and Support partners to maximize partnership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324080" y="289800"/>
            <a:ext cx="7630920" cy="881640"/>
          </a:xfrm>
          <a:prstGeom prst="rect">
            <a:avLst/>
          </a:prstGeom>
          <a:noFill/>
          <a:ln w="0">
            <a:noFill/>
          </a:ln>
        </p:spPr>
        <p:style>
          <a:lnRef idx="0"/>
          <a:fillRef idx="0"/>
          <a:effectRef idx="0"/>
          <a:fontRef idx="minor"/>
        </p:style>
        <p:txBody>
          <a:bodyPr lIns="0" rIns="0" tIns="0" bIns="0" anchor="b">
            <a:spAutoFit/>
          </a:bodyPr>
          <a:p>
            <a:pPr>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Closing the Loop:</a:t>
            </a:r>
            <a:endParaRPr b="0" lang="en-US" sz="2500" spc="-1" strike="noStrike">
              <a:solidFill>
                <a:srgbClr val="000000"/>
              </a:solidFill>
              <a:latin typeface="Times New Roman"/>
            </a:endParaRPr>
          </a:p>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Monitoring and Analysis</a:t>
            </a:r>
            <a:endParaRPr b="0" lang="en-US" sz="2900" spc="-1" strike="noStrike">
              <a:solidFill>
                <a:srgbClr val="000000"/>
              </a:solidFill>
              <a:latin typeface="Times New Roman"/>
            </a:endParaRPr>
          </a:p>
        </p:txBody>
      </p:sp>
      <p:sp>
        <p:nvSpPr>
          <p:cNvPr id="208" name=""/>
          <p:cNvSpPr/>
          <p:nvPr/>
        </p:nvSpPr>
        <p:spPr>
          <a:xfrm>
            <a:off x="1057320" y="1359000"/>
            <a:ext cx="8694720" cy="3949560"/>
          </a:xfrm>
          <a:prstGeom prst="rect">
            <a:avLst/>
          </a:prstGeom>
          <a:noFill/>
          <a:ln w="0">
            <a:noFill/>
          </a:ln>
        </p:spPr>
        <p:style>
          <a:lnRef idx="0"/>
          <a:fillRef idx="0"/>
          <a:effectRef idx="0"/>
          <a:fontRef idx="minor"/>
        </p:style>
        <p:txBody>
          <a:bodyPr lIns="0" rIns="0" tIns="0" bIns="0" anchor="t">
            <a:spAutoFit/>
          </a:bodyPr>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Analytical tools may be used to continually measure the performance of demand chain relationships.  Metrics measured to determine attainment of goals, and objectives established in the Strategic Planning Phase.</a:t>
            </a:r>
            <a:endParaRPr b="0" lang="en-US" sz="2100" spc="-1" strike="noStrike">
              <a:solidFill>
                <a:srgbClr val="000000"/>
              </a:solidFill>
              <a:latin typeface="Times New Roman"/>
            </a:endParaRPr>
          </a:p>
          <a:p>
            <a:pPr lvl="2" marL="781200" indent="-90720">
              <a:lnSpc>
                <a:spcPct val="100000"/>
              </a:lnSpc>
              <a:spcAft>
                <a:spcPts val="312"/>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Performance Metrics and Channel Scorecards</a:t>
            </a:r>
            <a:endParaRPr b="0" lang="en-US" sz="1700" spc="-1" strike="noStrike">
              <a:solidFill>
                <a:srgbClr val="000000"/>
              </a:solidFill>
              <a:latin typeface="Times New Roman"/>
            </a:endParaRPr>
          </a:p>
          <a:p>
            <a:pPr lvl="3"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Closure rates, YTD Revenue, Average Deal Size, % New Business, Success rate in each market segment, Attainment of goals</a:t>
            </a:r>
            <a:endParaRPr b="0" lang="en-US" sz="1700" spc="-1" strike="noStrike">
              <a:solidFill>
                <a:srgbClr val="000000"/>
              </a:solidFill>
              <a:latin typeface="Times New Roman"/>
            </a:endParaRPr>
          </a:p>
          <a:p>
            <a:pPr marL="112680" indent="-112680">
              <a:lnSpc>
                <a:spcPct val="100000"/>
              </a:lnSpc>
              <a:spcAft>
                <a:spcPts val="3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Partner Lifecycle Management -- (Planning and Adjustment)</a:t>
            </a:r>
            <a:endParaRPr b="0" lang="en-US" sz="2100" spc="-1" strike="noStrike">
              <a:solidFill>
                <a:srgbClr val="000000"/>
              </a:solidFill>
              <a:latin typeface="Times New Roman"/>
            </a:endParaRPr>
          </a:p>
          <a:p>
            <a:pPr lvl="1" marL="541440" indent="-179640">
              <a:lnSpc>
                <a:spcPct val="100000"/>
              </a:lnSpc>
              <a:spcAft>
                <a:spcPts val="312"/>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Upon analysis of performance metrics and scorecards actions are taken in response to relationship and dynamic business conditions:</a:t>
            </a:r>
            <a:endParaRPr b="0" lang="en-US" sz="1700" spc="-1" strike="noStrike">
              <a:solidFill>
                <a:srgbClr val="000000"/>
              </a:solidFill>
              <a:latin typeface="Times New Roman"/>
            </a:endParaRPr>
          </a:p>
          <a:p>
            <a:pPr lvl="3"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orecast and planning refinements</a:t>
            </a:r>
            <a:endParaRPr b="0" lang="en-US" sz="1700" spc="-1" strike="noStrike">
              <a:solidFill>
                <a:srgbClr val="000000"/>
              </a:solidFill>
              <a:latin typeface="Times New Roman"/>
            </a:endParaRPr>
          </a:p>
          <a:p>
            <a:pPr lvl="3"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ontract Renewal or Revision</a:t>
            </a:r>
            <a:endParaRPr b="0" lang="en-US" sz="1700" spc="-1" strike="noStrike">
              <a:solidFill>
                <a:srgbClr val="000000"/>
              </a:solidFill>
              <a:latin typeface="Times New Roman"/>
            </a:endParaRPr>
          </a:p>
          <a:p>
            <a:pPr lvl="3"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Performance rewards such as monetary incentives, improved status, preferential markets</a:t>
            </a:r>
            <a:endParaRPr b="0" lang="en-US" sz="1700" spc="-1" strike="noStrike">
              <a:solidFill>
                <a:srgbClr val="000000"/>
              </a:solidFill>
              <a:latin typeface="Times New Roman"/>
            </a:endParaRPr>
          </a:p>
          <a:p>
            <a:pPr lvl="3" marL="1109520" indent="-91800">
              <a:lnSpc>
                <a:spcPct val="100000"/>
              </a:lnSpc>
              <a:spcAft>
                <a:spcPts val="312"/>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Contract Termination</a:t>
            </a:r>
            <a:endParaRPr b="0" lang="en-US" sz="1700" spc="-1" strike="noStrike">
              <a:solidFill>
                <a:srgbClr val="000000"/>
              </a:solidFill>
              <a:latin typeface="Times New Roman"/>
            </a:endParaRPr>
          </a:p>
        </p:txBody>
      </p:sp>
      <p:sp>
        <p:nvSpPr>
          <p:cNvPr id="209" name=""/>
          <p:cNvSpPr/>
          <p:nvPr/>
        </p:nvSpPr>
        <p:spPr>
          <a:xfrm>
            <a:off x="1676520" y="5427720"/>
            <a:ext cx="6716520" cy="2070000"/>
          </a:xfrm>
          <a:prstGeom prst="roundRect">
            <a:avLst>
              <a:gd name="adj" fmla="val 16667"/>
            </a:avLst>
          </a:prstGeom>
          <a:solidFill>
            <a:srgbClr val="f0f0f0"/>
          </a:solid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814400" y="5843520"/>
            <a:ext cx="1846440" cy="1017720"/>
          </a:xfrm>
          <a:prstGeom prst="rec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ance </a:t>
            </a:r>
            <a:endParaRPr b="0" lang="en-US" sz="1400" spc="-1" strike="noStrike">
              <a:solidFill>
                <a:srgbClr val="000000"/>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a:t>
            </a:r>
            <a:endParaRPr b="0" lang="en-US" sz="1400" spc="-1" strike="noStrike">
              <a:solidFill>
                <a:srgbClr val="000000"/>
              </a:solidFill>
              <a:latin typeface="Times New Roman"/>
            </a:endParaRPr>
          </a:p>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racking</a:t>
            </a:r>
            <a:endParaRPr b="0" lang="en-US" sz="1400" spc="-1" strike="noStrike">
              <a:solidFill>
                <a:srgbClr val="000000"/>
              </a:solidFill>
              <a:latin typeface="Times New Roman"/>
            </a:endParaRPr>
          </a:p>
        </p:txBody>
      </p:sp>
      <p:sp>
        <p:nvSpPr>
          <p:cNvPr id="211" name=""/>
          <p:cNvSpPr/>
          <p:nvPr/>
        </p:nvSpPr>
        <p:spPr>
          <a:xfrm>
            <a:off x="3944880" y="5591160"/>
            <a:ext cx="2152800" cy="1806480"/>
          </a:xfrm>
          <a:prstGeom prst="rec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formance Track</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amp; Term Track</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ure %</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per Order</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ier Scorecards</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 movement</a:t>
            </a:r>
            <a:endParaRPr b="0" lang="en-US" sz="1200" spc="-1" strike="noStrike">
              <a:solidFill>
                <a:srgbClr val="000000"/>
              </a:solidFill>
              <a:latin typeface="Times New Roman"/>
            </a:endParaRPr>
          </a:p>
        </p:txBody>
      </p:sp>
      <p:sp>
        <p:nvSpPr>
          <p:cNvPr id="212" name=""/>
          <p:cNvSpPr/>
          <p:nvPr/>
        </p:nvSpPr>
        <p:spPr>
          <a:xfrm>
            <a:off x="6235560" y="5662440"/>
            <a:ext cx="1970280" cy="1673280"/>
          </a:xfrm>
          <a:prstGeom prst="rect">
            <a:avLst/>
          </a:prstGeom>
          <a:solidFill>
            <a:srgbClr val="ffffff"/>
          </a:solidFill>
          <a:ln w="25560">
            <a:solidFill>
              <a:srgbClr val="000000"/>
            </a:solidFill>
            <a:miter/>
          </a:ln>
        </p:spPr>
        <p:style>
          <a:lnRef idx="0"/>
          <a:fillRef idx="0"/>
          <a:effectRef idx="0"/>
          <a:fontRef idx="minor"/>
        </p:style>
        <p:txBody>
          <a:bodyPr lIns="0" rIns="0" tIns="0" bIns="0" anchor="ctr">
            <a:noAutofit/>
          </a:bodyPr>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 Renewal</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 Revision</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ferential Market</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ward</a:t>
            </a:r>
            <a:endParaRPr b="0" lang="en-US" sz="1200" spc="-1" strike="noStrike">
              <a:solidFill>
                <a:srgbClr val="000000"/>
              </a:solidFill>
              <a:latin typeface="Times New Roman"/>
            </a:endParaRPr>
          </a:p>
          <a:p>
            <a:pPr marL="39600" indent="-39600">
              <a:lnSpc>
                <a:spcPct val="100000"/>
              </a:lnSpc>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a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3" name=""/>
          <p:cNvGraphicFramePr/>
          <p:nvPr/>
        </p:nvGraphicFramePr>
        <p:xfrm>
          <a:off x="1041480" y="-196920"/>
          <a:ext cx="8534160" cy="7250040"/>
        </p:xfrm>
        <a:graphic>
          <a:graphicData uri="http://schemas.openxmlformats.org/presentationml/2006/ole">
            <p:oleObj r:id="rId2" spid="">
              <p:embed/>
              <p:pic>
                <p:nvPicPr>
                  <p:cNvPr id="214" name="" descr=""/>
                  <p:cNvPicPr/>
                  <p:nvPr/>
                </p:nvPicPr>
                <p:blipFill>
                  <a:blip r:embed="rId3"/>
                  <a:stretch/>
                </p:blipFill>
                <p:spPr>
                  <a:xfrm>
                    <a:off x="1041480" y="-196920"/>
                    <a:ext cx="8534160" cy="725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5" name=""/>
          <p:cNvGraphicFramePr/>
          <p:nvPr/>
        </p:nvGraphicFramePr>
        <p:xfrm>
          <a:off x="990720" y="174600"/>
          <a:ext cx="8661240" cy="6343560"/>
        </p:xfrm>
        <a:graphic>
          <a:graphicData uri="http://schemas.openxmlformats.org/presentationml/2006/ole">
            <p:oleObj r:id="rId2" spid="">
              <p:embed/>
              <p:pic>
                <p:nvPicPr>
                  <p:cNvPr id="216" name="" descr=""/>
                  <p:cNvPicPr/>
                  <p:nvPr/>
                </p:nvPicPr>
                <p:blipFill>
                  <a:blip r:embed="rId3"/>
                  <a:stretch/>
                </p:blipFill>
                <p:spPr>
                  <a:xfrm>
                    <a:off x="990720" y="174600"/>
                    <a:ext cx="8661240" cy="63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7" name=""/>
          <p:cNvGraphicFramePr/>
          <p:nvPr/>
        </p:nvGraphicFramePr>
        <p:xfrm>
          <a:off x="888840" y="117360"/>
          <a:ext cx="8991720" cy="6166080"/>
        </p:xfrm>
        <a:graphic>
          <a:graphicData uri="http://schemas.openxmlformats.org/presentationml/2006/ole">
            <p:oleObj r:id="rId2" spid="">
              <p:embed/>
              <p:pic>
                <p:nvPicPr>
                  <p:cNvPr id="218" name="" descr=""/>
                  <p:cNvPicPr/>
                  <p:nvPr/>
                </p:nvPicPr>
                <p:blipFill>
                  <a:blip r:embed="rId3"/>
                  <a:stretch/>
                </p:blipFill>
                <p:spPr>
                  <a:xfrm>
                    <a:off x="888840" y="117360"/>
                    <a:ext cx="8991720" cy="616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324080" y="729360"/>
            <a:ext cx="763092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Agenda</a:t>
            </a:r>
            <a:endParaRPr b="0" lang="en-US" sz="2900" spc="-1" strike="noStrike">
              <a:solidFill>
                <a:srgbClr val="000000"/>
              </a:solidFill>
              <a:latin typeface="Times New Roman"/>
            </a:endParaRPr>
          </a:p>
        </p:txBody>
      </p:sp>
      <p:sp>
        <p:nvSpPr>
          <p:cNvPr id="94" name=""/>
          <p:cNvSpPr/>
          <p:nvPr/>
        </p:nvSpPr>
        <p:spPr>
          <a:xfrm>
            <a:off x="1312920" y="1432080"/>
            <a:ext cx="8183520" cy="4091040"/>
          </a:xfrm>
          <a:prstGeom prst="rect">
            <a:avLst/>
          </a:prstGeom>
          <a:noFill/>
          <a:ln w="0">
            <a:noFill/>
          </a:ln>
        </p:spPr>
        <p:style>
          <a:lnRef idx="0"/>
          <a:fillRef idx="0"/>
          <a:effectRef idx="0"/>
          <a:fontRef idx="minor"/>
        </p:style>
        <p:txBody>
          <a:bodyPr lIns="0" rIns="0" tIns="0" bIns="0" anchor="t">
            <a:spAutoFit/>
          </a:bodyPr>
          <a:p>
            <a:pPr marL="135000" indent="-13500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art One:  (30 minutes)</a:t>
            </a:r>
            <a:endParaRPr b="0" lang="en-US" sz="25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roducing The Extended Demand Chain</a:t>
            </a:r>
            <a:endParaRPr b="0" lang="en-US" sz="20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ey trends impacting the Extended Demand Chain</a:t>
            </a:r>
            <a:endParaRPr b="0" lang="en-US" sz="20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st Practices and Processes</a:t>
            </a:r>
            <a:endParaRPr b="0" lang="en-US" sz="20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se Studies</a:t>
            </a:r>
            <a:endParaRPr b="0" lang="en-US" sz="2000" spc="-1" strike="noStrike">
              <a:solidFill>
                <a:srgbClr val="000000"/>
              </a:solidFill>
              <a:latin typeface="Times New Roman"/>
            </a:endParaRPr>
          </a:p>
          <a:p>
            <a:pPr marL="135000" indent="-13500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art Two (30 minutes)</a:t>
            </a:r>
            <a:endParaRPr b="0" lang="en-US" sz="25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bSphere Commerce -- Solving your Business Challenges</a:t>
            </a:r>
            <a:endParaRPr b="0" lang="en-US" sz="20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best practices and case studies</a:t>
            </a:r>
            <a:endParaRPr b="0" lang="en-US" sz="2000" spc="-1" strike="noStrike">
              <a:solidFill>
                <a:srgbClr val="000000"/>
              </a:solidFill>
              <a:latin typeface="Times New Roman"/>
            </a:endParaRPr>
          </a:p>
          <a:p>
            <a:pPr marL="135000" indent="-135000">
              <a:lnSpc>
                <a:spcPct val="100000"/>
              </a:lnSpc>
              <a:spcAft>
                <a:spcPts val="462"/>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Part Three (30 minutes)</a:t>
            </a:r>
            <a:endParaRPr b="0" lang="en-US" sz="25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XXXXX Information on Business Partner Services and Successes</a:t>
            </a:r>
            <a:endParaRPr b="0" lang="en-US" sz="2000" spc="-1" strike="noStrike">
              <a:solidFill>
                <a:srgbClr val="000000"/>
              </a:solidFill>
              <a:latin typeface="Times New Roman"/>
            </a:endParaRPr>
          </a:p>
          <a:p>
            <a:pPr lvl="1" marL="573120" indent="-211320">
              <a:lnSpc>
                <a:spcPct val="100000"/>
              </a:lnSpc>
              <a:spcAft>
                <a:spcPts val="37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ext ste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9" name=""/>
          <p:cNvGraphicFramePr/>
          <p:nvPr/>
        </p:nvGraphicFramePr>
        <p:xfrm>
          <a:off x="965160" y="233280"/>
          <a:ext cx="8610480" cy="7275600"/>
        </p:xfrm>
        <a:graphic>
          <a:graphicData uri="http://schemas.openxmlformats.org/presentationml/2006/ole">
            <p:oleObj r:id="rId2" spid="">
              <p:embed/>
              <p:pic>
                <p:nvPicPr>
                  <p:cNvPr id="220" name="" descr=""/>
                  <p:cNvPicPr/>
                  <p:nvPr/>
                </p:nvPicPr>
                <p:blipFill>
                  <a:blip r:embed="rId3"/>
                  <a:stretch/>
                </p:blipFill>
                <p:spPr>
                  <a:xfrm>
                    <a:off x="965160" y="233280"/>
                    <a:ext cx="8610480" cy="727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1" name=""/>
          <p:cNvGraphicFramePr/>
          <p:nvPr/>
        </p:nvGraphicFramePr>
        <p:xfrm>
          <a:off x="1041480" y="345960"/>
          <a:ext cx="8458200" cy="6924960"/>
        </p:xfrm>
        <a:graphic>
          <a:graphicData uri="http://schemas.openxmlformats.org/presentationml/2006/ole">
            <p:oleObj r:id="rId2" spid="">
              <p:embed/>
              <p:pic>
                <p:nvPicPr>
                  <p:cNvPr id="222" name="" descr=""/>
                  <p:cNvPicPr/>
                  <p:nvPr/>
                </p:nvPicPr>
                <p:blipFill>
                  <a:blip r:embed="rId3"/>
                  <a:stretch/>
                </p:blipFill>
                <p:spPr>
                  <a:xfrm>
                    <a:off x="1041480" y="345960"/>
                    <a:ext cx="8458200" cy="692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3" name=""/>
          <p:cNvGraphicFramePr/>
          <p:nvPr/>
        </p:nvGraphicFramePr>
        <p:xfrm>
          <a:off x="888840" y="270000"/>
          <a:ext cx="8382240" cy="6973920"/>
        </p:xfrm>
        <a:graphic>
          <a:graphicData uri="http://schemas.openxmlformats.org/presentationml/2006/ole">
            <p:oleObj r:id="rId2" spid="">
              <p:embed/>
              <p:pic>
                <p:nvPicPr>
                  <p:cNvPr id="224" name="" descr=""/>
                  <p:cNvPicPr/>
                  <p:nvPr/>
                </p:nvPicPr>
                <p:blipFill>
                  <a:blip r:embed="rId3"/>
                  <a:stretch/>
                </p:blipFill>
                <p:spPr>
                  <a:xfrm>
                    <a:off x="888840" y="270000"/>
                    <a:ext cx="8382240" cy="69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 name=""/>
          <p:cNvGraphicFramePr/>
          <p:nvPr/>
        </p:nvGraphicFramePr>
        <p:xfrm>
          <a:off x="888840" y="279360"/>
          <a:ext cx="8585280" cy="6297480"/>
        </p:xfrm>
        <a:graphic>
          <a:graphicData uri="http://schemas.openxmlformats.org/presentationml/2006/ole">
            <p:oleObj r:id="rId2" spid="">
              <p:embed/>
              <p:pic>
                <p:nvPicPr>
                  <p:cNvPr id="226" name="" descr=""/>
                  <p:cNvPicPr/>
                  <p:nvPr/>
                </p:nvPicPr>
                <p:blipFill>
                  <a:blip r:embed="rId3"/>
                  <a:stretch/>
                </p:blipFill>
                <p:spPr>
                  <a:xfrm>
                    <a:off x="888840" y="279360"/>
                    <a:ext cx="8585280" cy="62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130560" y="3256560"/>
            <a:ext cx="3763800" cy="624960"/>
          </a:xfrm>
          <a:prstGeom prst="rect">
            <a:avLst/>
          </a:prstGeom>
          <a:noFill/>
          <a:ln w="0">
            <a:noFill/>
          </a:ln>
        </p:spPr>
        <p:style>
          <a:lnRef idx="0"/>
          <a:fillRef idx="0"/>
          <a:effectRef idx="0"/>
          <a:fontRef idx="minor"/>
        </p:style>
        <p:txBody>
          <a:bodyPr lIns="0" rIns="0" tIns="0" bIns="0" anchor="b">
            <a:spAutoFit/>
          </a:bodyPr>
          <a:p>
            <a:pPr>
              <a:lnSpc>
                <a:spcPct val="100000"/>
              </a:lnSpc>
              <a:spcAft>
                <a:spcPts val="7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Narrow"/>
              </a:rPr>
              <a:t>End of Section One</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224000" y="1528920"/>
            <a:ext cx="6337440" cy="5238000"/>
          </a:xfrm>
          <a:prstGeom prst="rect">
            <a:avLst/>
          </a:prstGeom>
          <a:noFill/>
          <a:ln w="0">
            <a:noFill/>
          </a:ln>
        </p:spPr>
        <p:style>
          <a:lnRef idx="0"/>
          <a:fillRef idx="0"/>
          <a:effectRef idx="0"/>
          <a:fontRef idx="minor"/>
        </p:style>
        <p:txBody>
          <a:bodyPr lIns="0" rIns="0" tIns="0" bIns="0" anchor="t">
            <a:spAutoFit/>
          </a:bodyPr>
          <a:p>
            <a:pPr marL="117360" indent="-11736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rovide an overview of the WebSphere Software Story and Reach and User Experience</a:t>
            </a:r>
            <a:endParaRPr b="0" lang="en-US" sz="2200" spc="-1" strike="noStrike">
              <a:solidFill>
                <a:srgbClr val="000000"/>
              </a:solidFill>
              <a:latin typeface="Times New Roman"/>
            </a:endParaRPr>
          </a:p>
          <a:p>
            <a:pPr marL="117360" indent="-11736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outline channel management and the Extended Demand Chain, including key trends, challenges, a process roadmap, and case studies</a:t>
            </a:r>
            <a:endParaRPr b="0" lang="en-US" sz="2200" spc="-1" strike="noStrike">
              <a:solidFill>
                <a:srgbClr val="000000"/>
              </a:solidFill>
              <a:latin typeface="Times New Roman"/>
            </a:endParaRPr>
          </a:p>
          <a:p>
            <a:pPr marL="117360" indent="-11736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drill down on key online commerce business process areas to highlight challenges to retailers today by providing relevant customer examples and scenarios</a:t>
            </a:r>
            <a:endParaRPr b="0" lang="en-US" sz="2200" spc="-1" strike="noStrike">
              <a:solidFill>
                <a:srgbClr val="000000"/>
              </a:solidFill>
              <a:latin typeface="Times New Roman"/>
            </a:endParaRPr>
          </a:p>
          <a:p>
            <a:pPr marL="117360" indent="-11736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help you understand why you should chose </a:t>
            </a:r>
            <a:r>
              <a:rPr b="0" lang="en-US" sz="2200" spc="-1" strike="noStrike">
                <a:solidFill>
                  <a:srgbClr val="0000ff"/>
                </a:solidFill>
                <a:latin typeface="Arial"/>
              </a:rPr>
              <a:t>"insert Business Partner Name"</a:t>
            </a:r>
            <a:r>
              <a:rPr b="0" lang="en-US" sz="2200" spc="-1" strike="noStrike">
                <a:solidFill>
                  <a:srgbClr val="000000"/>
                </a:solidFill>
                <a:latin typeface="Arial"/>
              </a:rPr>
              <a:t> and IBM as your technology partner </a:t>
            </a:r>
            <a:endParaRPr b="0" lang="en-US" sz="2200" spc="-1" strike="noStrike">
              <a:solidFill>
                <a:srgbClr val="000000"/>
              </a:solidFill>
              <a:latin typeface="Times New Roman"/>
            </a:endParaRPr>
          </a:p>
          <a:p>
            <a:pPr marL="117360" indent="-11736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how we can perform an assessment of your business to determine how WebSphere Commerce B2B can work for you </a:t>
            </a:r>
            <a:endParaRPr b="0" lang="en-US" sz="2200" spc="-1" strike="noStrike">
              <a:solidFill>
                <a:srgbClr val="000000"/>
              </a:solidFill>
              <a:latin typeface="Times New Roman"/>
            </a:endParaRPr>
          </a:p>
        </p:txBody>
      </p:sp>
      <p:sp>
        <p:nvSpPr>
          <p:cNvPr id="96" name=""/>
          <p:cNvSpPr/>
          <p:nvPr/>
        </p:nvSpPr>
        <p:spPr>
          <a:xfrm>
            <a:off x="1325520" y="746280"/>
            <a:ext cx="763128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ives of the Semin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3514680" y="2414520"/>
            <a:ext cx="3376800" cy="2951280"/>
          </a:xfrm>
          <a:prstGeom prst="rect">
            <a:avLst/>
          </a:prstGeom>
          <a:ln w="0">
            <a:noFill/>
          </a:ln>
        </p:spPr>
      </p:pic>
      <p:sp>
        <p:nvSpPr>
          <p:cNvPr id="98" name=""/>
          <p:cNvSpPr/>
          <p:nvPr/>
        </p:nvSpPr>
        <p:spPr>
          <a:xfrm>
            <a:off x="2665440" y="5500800"/>
            <a:ext cx="5059440" cy="809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hieve Scalability and Productivity</a:t>
            </a:r>
            <a:endParaRPr b="0" lang="en-US" sz="2000" spc="-1" strike="noStrike">
              <a:solidFill>
                <a:srgbClr val="000000"/>
              </a:solidFill>
              <a:latin typeface="Times New Roman"/>
            </a:endParaRPr>
          </a:p>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y Rapidly Building &amp; Reliably Growing Dynamic e-business Applications </a:t>
            </a:r>
            <a:endParaRPr b="0" lang="en-US" sz="1500" spc="-1" strike="noStrike">
              <a:solidFill>
                <a:srgbClr val="000000"/>
              </a:solidFill>
              <a:latin typeface="Times New Roman"/>
            </a:endParaRPr>
          </a:p>
        </p:txBody>
      </p:sp>
      <p:sp>
        <p:nvSpPr>
          <p:cNvPr id="99" name=""/>
          <p:cNvSpPr/>
          <p:nvPr/>
        </p:nvSpPr>
        <p:spPr>
          <a:xfrm>
            <a:off x="1816200" y="2987640"/>
            <a:ext cx="2228760" cy="1605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hieve Customer Loyalty</a:t>
            </a:r>
            <a:endParaRPr b="0" lang="en-US" sz="2000" spc="-1" strike="noStrike">
              <a:solidFill>
                <a:srgbClr val="000000"/>
              </a:solidFill>
              <a:latin typeface="Times New Roman"/>
            </a:endParaRPr>
          </a:p>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y Extending &amp; Personalizing User Experiences </a:t>
            </a:r>
            <a:endParaRPr b="0" lang="en-US" sz="1500" spc="-1" strike="noStrike">
              <a:solidFill>
                <a:srgbClr val="000000"/>
              </a:solidFill>
              <a:latin typeface="Times New Roman"/>
            </a:endParaRPr>
          </a:p>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0" name=""/>
          <p:cNvSpPr/>
          <p:nvPr/>
        </p:nvSpPr>
        <p:spPr>
          <a:xfrm>
            <a:off x="6413400" y="3000240"/>
            <a:ext cx="2376720" cy="15706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chieve Business Agility</a:t>
            </a:r>
            <a:endParaRPr b="0" lang="en-US" sz="2000" spc="-1" strike="noStrike">
              <a:solidFill>
                <a:srgbClr val="000000"/>
              </a:solidFill>
              <a:latin typeface="Times New Roman"/>
            </a:endParaRPr>
          </a:p>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y Integrating Applications &amp; Automating Business Processes</a:t>
            </a:r>
            <a:endParaRPr b="0" lang="en-US" sz="1500" spc="-1" strike="noStrike">
              <a:solidFill>
                <a:srgbClr val="000000"/>
              </a:solidFill>
              <a:latin typeface="Times New Roman"/>
            </a:endParaRPr>
          </a:p>
        </p:txBody>
      </p:sp>
      <p:sp>
        <p:nvSpPr>
          <p:cNvPr id="101" name=""/>
          <p:cNvSpPr/>
          <p:nvPr/>
        </p:nvSpPr>
        <p:spPr>
          <a:xfrm>
            <a:off x="1325520" y="731160"/>
            <a:ext cx="76312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IBM WebSphere Software Story</a:t>
            </a:r>
            <a:endParaRPr b="0" lang="en-US" sz="2900" spc="-1" strike="noStrike">
              <a:solidFill>
                <a:srgbClr val="000000"/>
              </a:solidFill>
              <a:latin typeface="Times New Roman"/>
            </a:endParaRPr>
          </a:p>
        </p:txBody>
      </p:sp>
      <p:sp>
        <p:nvSpPr>
          <p:cNvPr id="102" name=""/>
          <p:cNvSpPr/>
          <p:nvPr/>
        </p:nvSpPr>
        <p:spPr>
          <a:xfrm>
            <a:off x="1685880" y="1765440"/>
            <a:ext cx="7118280" cy="657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0078"/>
                </a:solidFill>
                <a:latin typeface="Arial Narrow"/>
              </a:rPr>
              <a:t>Comprehensive e-business infrastructure software</a:t>
            </a:r>
            <a:endParaRPr b="0" lang="en-US" sz="2000" spc="-1" strike="noStrike">
              <a:solidFill>
                <a:srgbClr val="000000"/>
              </a:solidFill>
              <a:latin typeface="Times New Roman"/>
            </a:endParaRPr>
          </a:p>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0078"/>
                </a:solidFill>
                <a:latin typeface="Arial Narrow"/>
              </a:rPr>
              <a:t>delivering customer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346040" y="117360"/>
          <a:ext cx="8077320" cy="7207200"/>
        </p:xfrm>
        <a:graphic>
          <a:graphicData uri="http://schemas.openxmlformats.org/presentationml/2006/ole">
            <p:oleObj r:id="rId2" spid="">
              <p:embed/>
              <p:pic>
                <p:nvPicPr>
                  <p:cNvPr id="104" name="" descr=""/>
                  <p:cNvPicPr/>
                  <p:nvPr/>
                </p:nvPicPr>
                <p:blipFill>
                  <a:blip r:embed="rId3"/>
                  <a:stretch/>
                </p:blipFill>
                <p:spPr>
                  <a:xfrm>
                    <a:off x="1346040" y="117360"/>
                    <a:ext cx="8077320" cy="720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041480" y="193680"/>
          <a:ext cx="8381880" cy="7042320"/>
        </p:xfrm>
        <a:graphic>
          <a:graphicData uri="http://schemas.openxmlformats.org/presentationml/2006/ole">
            <p:oleObj r:id="rId2" spid="">
              <p:embed/>
              <p:pic>
                <p:nvPicPr>
                  <p:cNvPr id="106" name="" descr=""/>
                  <p:cNvPicPr/>
                  <p:nvPr/>
                </p:nvPicPr>
                <p:blipFill>
                  <a:blip r:embed="rId3"/>
                  <a:stretch/>
                </p:blipFill>
                <p:spPr>
                  <a:xfrm>
                    <a:off x="1041480" y="193680"/>
                    <a:ext cx="8381880" cy="704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325520" y="731160"/>
            <a:ext cx="76312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rends Impacting the Extended Demand Chain</a:t>
            </a:r>
            <a:endParaRPr b="0" lang="en-US" sz="2900" spc="-1" strike="noStrike">
              <a:solidFill>
                <a:srgbClr val="000000"/>
              </a:solidFill>
              <a:latin typeface="Times New Roman"/>
            </a:endParaRPr>
          </a:p>
        </p:txBody>
      </p:sp>
      <p:graphicFrame>
        <p:nvGraphicFramePr>
          <p:cNvPr id="108" name=""/>
          <p:cNvGraphicFramePr/>
          <p:nvPr/>
        </p:nvGraphicFramePr>
        <p:xfrm>
          <a:off x="1498680" y="1488960"/>
          <a:ext cx="7619760" cy="5813640"/>
        </p:xfrm>
        <a:graphic>
          <a:graphicData uri="http://schemas.openxmlformats.org/presentationml/2006/ole">
            <p:oleObj r:id="rId2" spid="">
              <p:embed/>
              <p:pic>
                <p:nvPicPr>
                  <p:cNvPr id="109" name="" descr=""/>
                  <p:cNvPicPr/>
                  <p:nvPr/>
                </p:nvPicPr>
                <p:blipFill>
                  <a:blip r:embed="rId3"/>
                  <a:stretch/>
                </p:blipFill>
                <p:spPr>
                  <a:xfrm>
                    <a:off x="1498680" y="1488960"/>
                    <a:ext cx="7619760" cy="581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914400" y="1542960"/>
            <a:ext cx="8891640" cy="1114560"/>
          </a:xfrm>
          <a:custGeom>
            <a:avLst/>
            <a:gdLst/>
            <a:ahLst/>
            <a:rect l="l" t="t" r="r" b="b"/>
            <a:pathLst>
              <a:path w="5601" h="702">
                <a:moveTo>
                  <a:pt x="0" y="0"/>
                </a:moveTo>
                <a:cubicBezTo>
                  <a:pt x="0" y="0"/>
                  <a:pt x="0" y="0"/>
                  <a:pt x="0" y="0"/>
                </a:cubicBezTo>
                <a:cubicBezTo>
                  <a:pt x="5577" y="0"/>
                  <a:pt x="5577" y="0"/>
                  <a:pt x="5577" y="0"/>
                </a:cubicBezTo>
                <a:cubicBezTo>
                  <a:pt x="5577" y="484"/>
                  <a:pt x="5577" y="484"/>
                  <a:pt x="5577" y="484"/>
                </a:cubicBezTo>
                <a:cubicBezTo>
                  <a:pt x="5601" y="484"/>
                  <a:pt x="5601" y="484"/>
                  <a:pt x="5601" y="484"/>
                </a:cubicBezTo>
                <a:cubicBezTo>
                  <a:pt x="5601" y="484"/>
                  <a:pt x="5601" y="484"/>
                  <a:pt x="5601" y="484"/>
                </a:cubicBezTo>
                <a:cubicBezTo>
                  <a:pt x="5577" y="484"/>
                  <a:pt x="5577" y="484"/>
                  <a:pt x="5577" y="484"/>
                </a:cubicBezTo>
                <a:cubicBezTo>
                  <a:pt x="5577" y="483"/>
                  <a:pt x="5577" y="483"/>
                  <a:pt x="5577" y="483"/>
                </a:cubicBezTo>
                <a:cubicBezTo>
                  <a:pt x="5568" y="483"/>
                  <a:pt x="5568" y="483"/>
                  <a:pt x="5568" y="483"/>
                </a:cubicBezTo>
                <a:cubicBezTo>
                  <a:pt x="5547" y="483"/>
                  <a:pt x="5547" y="483"/>
                  <a:pt x="5547" y="483"/>
                </a:cubicBezTo>
                <a:cubicBezTo>
                  <a:pt x="5533" y="483"/>
                  <a:pt x="5533" y="483"/>
                  <a:pt x="5533" y="483"/>
                </a:cubicBezTo>
                <a:cubicBezTo>
                  <a:pt x="5519" y="480"/>
                  <a:pt x="5519" y="480"/>
                  <a:pt x="5519" y="480"/>
                </a:cubicBezTo>
                <a:cubicBezTo>
                  <a:pt x="5502" y="480"/>
                  <a:pt x="5502" y="480"/>
                  <a:pt x="5502" y="480"/>
                </a:cubicBezTo>
                <a:cubicBezTo>
                  <a:pt x="5485" y="480"/>
                  <a:pt x="5485" y="480"/>
                  <a:pt x="5485" y="480"/>
                </a:cubicBezTo>
                <a:cubicBezTo>
                  <a:pt x="5473" y="480"/>
                  <a:pt x="5473" y="480"/>
                  <a:pt x="5473" y="480"/>
                </a:cubicBezTo>
                <a:cubicBezTo>
                  <a:pt x="5456" y="480"/>
                  <a:pt x="5456" y="480"/>
                  <a:pt x="5456" y="480"/>
                </a:cubicBezTo>
                <a:cubicBezTo>
                  <a:pt x="5439" y="483"/>
                  <a:pt x="5439" y="483"/>
                  <a:pt x="5439" y="483"/>
                </a:cubicBezTo>
                <a:cubicBezTo>
                  <a:pt x="5426" y="483"/>
                  <a:pt x="5426" y="483"/>
                  <a:pt x="5426" y="483"/>
                </a:cubicBezTo>
                <a:cubicBezTo>
                  <a:pt x="5408" y="483"/>
                  <a:pt x="5408" y="483"/>
                  <a:pt x="5408" y="483"/>
                </a:cubicBezTo>
                <a:cubicBezTo>
                  <a:pt x="5395" y="484"/>
                  <a:pt x="5395" y="484"/>
                  <a:pt x="5395" y="484"/>
                </a:cubicBezTo>
                <a:cubicBezTo>
                  <a:pt x="5380" y="484"/>
                  <a:pt x="5380" y="484"/>
                  <a:pt x="5380" y="484"/>
                </a:cubicBezTo>
                <a:cubicBezTo>
                  <a:pt x="5380" y="487"/>
                  <a:pt x="5380" y="487"/>
                  <a:pt x="5380" y="487"/>
                </a:cubicBezTo>
                <a:cubicBezTo>
                  <a:pt x="5356" y="487"/>
                  <a:pt x="5356" y="487"/>
                  <a:pt x="5356" y="487"/>
                </a:cubicBezTo>
                <a:cubicBezTo>
                  <a:pt x="5356" y="488"/>
                  <a:pt x="5356" y="488"/>
                  <a:pt x="5356" y="488"/>
                </a:cubicBezTo>
                <a:cubicBezTo>
                  <a:pt x="5344" y="488"/>
                  <a:pt x="5344" y="488"/>
                  <a:pt x="5344" y="488"/>
                </a:cubicBezTo>
                <a:cubicBezTo>
                  <a:pt x="5344" y="491"/>
                  <a:pt x="5344" y="491"/>
                  <a:pt x="5344" y="491"/>
                </a:cubicBezTo>
                <a:cubicBezTo>
                  <a:pt x="5326" y="494"/>
                  <a:pt x="5326" y="494"/>
                  <a:pt x="5326" y="494"/>
                </a:cubicBezTo>
                <a:cubicBezTo>
                  <a:pt x="5311" y="496"/>
                  <a:pt x="5311" y="496"/>
                  <a:pt x="5311" y="496"/>
                </a:cubicBezTo>
                <a:cubicBezTo>
                  <a:pt x="5311" y="499"/>
                  <a:pt x="5311" y="499"/>
                  <a:pt x="5311" y="499"/>
                </a:cubicBezTo>
                <a:cubicBezTo>
                  <a:pt x="5303" y="499"/>
                  <a:pt x="5303" y="499"/>
                  <a:pt x="5303" y="499"/>
                </a:cubicBezTo>
                <a:cubicBezTo>
                  <a:pt x="5285" y="500"/>
                  <a:pt x="5285" y="500"/>
                  <a:pt x="5285" y="500"/>
                </a:cubicBezTo>
                <a:cubicBezTo>
                  <a:pt x="5270" y="504"/>
                  <a:pt x="5270" y="504"/>
                  <a:pt x="5270" y="504"/>
                </a:cubicBezTo>
                <a:cubicBezTo>
                  <a:pt x="5255" y="506"/>
                  <a:pt x="5255" y="506"/>
                  <a:pt x="5255" y="506"/>
                </a:cubicBezTo>
                <a:cubicBezTo>
                  <a:pt x="5239" y="509"/>
                  <a:pt x="5239" y="509"/>
                  <a:pt x="5239" y="509"/>
                </a:cubicBezTo>
                <a:cubicBezTo>
                  <a:pt x="5221" y="509"/>
                  <a:pt x="5221" y="509"/>
                  <a:pt x="5221" y="509"/>
                </a:cubicBezTo>
                <a:cubicBezTo>
                  <a:pt x="5221" y="511"/>
                  <a:pt x="5221" y="511"/>
                  <a:pt x="5221" y="511"/>
                </a:cubicBezTo>
                <a:cubicBezTo>
                  <a:pt x="5202" y="511"/>
                  <a:pt x="5202" y="511"/>
                  <a:pt x="5202" y="511"/>
                </a:cubicBezTo>
                <a:cubicBezTo>
                  <a:pt x="5197" y="513"/>
                  <a:pt x="5197" y="513"/>
                  <a:pt x="5197" y="513"/>
                </a:cubicBezTo>
                <a:cubicBezTo>
                  <a:pt x="5176" y="513"/>
                  <a:pt x="5176" y="513"/>
                  <a:pt x="5176" y="513"/>
                </a:cubicBezTo>
                <a:cubicBezTo>
                  <a:pt x="5176" y="518"/>
                  <a:pt x="5176" y="518"/>
                  <a:pt x="5176" y="518"/>
                </a:cubicBezTo>
                <a:cubicBezTo>
                  <a:pt x="5163" y="518"/>
                  <a:pt x="5163" y="518"/>
                  <a:pt x="5163" y="518"/>
                </a:cubicBezTo>
                <a:cubicBezTo>
                  <a:pt x="5163" y="518"/>
                  <a:pt x="5163" y="518"/>
                  <a:pt x="5163" y="518"/>
                </a:cubicBezTo>
                <a:cubicBezTo>
                  <a:pt x="5142" y="518"/>
                  <a:pt x="5142" y="518"/>
                  <a:pt x="5142" y="518"/>
                </a:cubicBezTo>
                <a:cubicBezTo>
                  <a:pt x="5142" y="520"/>
                  <a:pt x="5142" y="520"/>
                  <a:pt x="5142" y="520"/>
                </a:cubicBezTo>
                <a:cubicBezTo>
                  <a:pt x="5130" y="520"/>
                  <a:pt x="5130" y="520"/>
                  <a:pt x="5130" y="520"/>
                </a:cubicBezTo>
                <a:cubicBezTo>
                  <a:pt x="5130" y="523"/>
                  <a:pt x="5130" y="523"/>
                  <a:pt x="5130" y="523"/>
                </a:cubicBezTo>
                <a:cubicBezTo>
                  <a:pt x="5111" y="523"/>
                  <a:pt x="5111" y="523"/>
                  <a:pt x="5111" y="523"/>
                </a:cubicBezTo>
                <a:cubicBezTo>
                  <a:pt x="5100" y="525"/>
                  <a:pt x="5100" y="525"/>
                  <a:pt x="5100" y="525"/>
                </a:cubicBezTo>
                <a:cubicBezTo>
                  <a:pt x="5083" y="525"/>
                  <a:pt x="5083" y="525"/>
                  <a:pt x="5083" y="525"/>
                </a:cubicBezTo>
                <a:cubicBezTo>
                  <a:pt x="5066" y="525"/>
                  <a:pt x="5066" y="525"/>
                  <a:pt x="5066" y="525"/>
                </a:cubicBezTo>
                <a:cubicBezTo>
                  <a:pt x="5066" y="528"/>
                  <a:pt x="5066" y="528"/>
                  <a:pt x="5066" y="528"/>
                </a:cubicBezTo>
                <a:cubicBezTo>
                  <a:pt x="5052" y="528"/>
                  <a:pt x="5052" y="528"/>
                  <a:pt x="5052" y="528"/>
                </a:cubicBezTo>
                <a:cubicBezTo>
                  <a:pt x="5034" y="528"/>
                  <a:pt x="5034" y="528"/>
                  <a:pt x="5034" y="528"/>
                </a:cubicBezTo>
                <a:cubicBezTo>
                  <a:pt x="5024" y="528"/>
                  <a:pt x="5024" y="528"/>
                  <a:pt x="5024" y="528"/>
                </a:cubicBezTo>
                <a:cubicBezTo>
                  <a:pt x="5024" y="530"/>
                  <a:pt x="5024" y="530"/>
                  <a:pt x="5024" y="530"/>
                </a:cubicBezTo>
                <a:cubicBezTo>
                  <a:pt x="5004" y="530"/>
                  <a:pt x="5004" y="530"/>
                  <a:pt x="5004" y="530"/>
                </a:cubicBezTo>
                <a:cubicBezTo>
                  <a:pt x="4987" y="530"/>
                  <a:pt x="4987" y="530"/>
                  <a:pt x="4987" y="530"/>
                </a:cubicBezTo>
                <a:cubicBezTo>
                  <a:pt x="4987" y="531"/>
                  <a:pt x="4987" y="531"/>
                  <a:pt x="4987" y="531"/>
                </a:cubicBezTo>
                <a:cubicBezTo>
                  <a:pt x="4972" y="531"/>
                  <a:pt x="4972" y="531"/>
                  <a:pt x="4972" y="531"/>
                </a:cubicBezTo>
                <a:cubicBezTo>
                  <a:pt x="4956" y="531"/>
                  <a:pt x="4956" y="531"/>
                  <a:pt x="4956" y="531"/>
                </a:cubicBezTo>
                <a:cubicBezTo>
                  <a:pt x="4943" y="531"/>
                  <a:pt x="4943" y="531"/>
                  <a:pt x="4943" y="531"/>
                </a:cubicBezTo>
                <a:cubicBezTo>
                  <a:pt x="4927" y="531"/>
                  <a:pt x="4927" y="531"/>
                  <a:pt x="4927" y="531"/>
                </a:cubicBezTo>
                <a:cubicBezTo>
                  <a:pt x="4911" y="531"/>
                  <a:pt x="4911" y="531"/>
                  <a:pt x="4911" y="531"/>
                </a:cubicBezTo>
                <a:cubicBezTo>
                  <a:pt x="4893" y="535"/>
                  <a:pt x="4893" y="535"/>
                  <a:pt x="4893" y="535"/>
                </a:cubicBezTo>
                <a:cubicBezTo>
                  <a:pt x="4874" y="535"/>
                  <a:pt x="4874" y="535"/>
                  <a:pt x="4874" y="535"/>
                </a:cubicBezTo>
                <a:cubicBezTo>
                  <a:pt x="4861" y="535"/>
                  <a:pt x="4861" y="535"/>
                  <a:pt x="4861" y="535"/>
                </a:cubicBezTo>
                <a:cubicBezTo>
                  <a:pt x="4847" y="535"/>
                  <a:pt x="4847" y="535"/>
                  <a:pt x="4847" y="535"/>
                </a:cubicBezTo>
                <a:cubicBezTo>
                  <a:pt x="4832" y="535"/>
                  <a:pt x="4832" y="535"/>
                  <a:pt x="4832" y="535"/>
                </a:cubicBezTo>
                <a:cubicBezTo>
                  <a:pt x="4817" y="535"/>
                  <a:pt x="4817" y="535"/>
                  <a:pt x="4817" y="535"/>
                </a:cubicBezTo>
                <a:cubicBezTo>
                  <a:pt x="4803" y="538"/>
                  <a:pt x="4803" y="538"/>
                  <a:pt x="4803" y="538"/>
                </a:cubicBezTo>
                <a:cubicBezTo>
                  <a:pt x="4786" y="538"/>
                  <a:pt x="4786" y="538"/>
                  <a:pt x="4786" y="538"/>
                </a:cubicBezTo>
                <a:cubicBezTo>
                  <a:pt x="4766" y="538"/>
                  <a:pt x="4766" y="538"/>
                  <a:pt x="4766" y="538"/>
                </a:cubicBezTo>
                <a:cubicBezTo>
                  <a:pt x="4766" y="538"/>
                  <a:pt x="4766" y="538"/>
                  <a:pt x="4766" y="538"/>
                </a:cubicBezTo>
                <a:cubicBezTo>
                  <a:pt x="4752" y="538"/>
                  <a:pt x="4752" y="538"/>
                  <a:pt x="4752" y="538"/>
                </a:cubicBezTo>
                <a:cubicBezTo>
                  <a:pt x="4734" y="538"/>
                  <a:pt x="4734" y="538"/>
                  <a:pt x="4734" y="538"/>
                </a:cubicBezTo>
                <a:cubicBezTo>
                  <a:pt x="4734" y="541"/>
                  <a:pt x="4734" y="541"/>
                  <a:pt x="4734" y="541"/>
                </a:cubicBezTo>
                <a:cubicBezTo>
                  <a:pt x="4724" y="541"/>
                  <a:pt x="4724" y="541"/>
                  <a:pt x="4724" y="541"/>
                </a:cubicBezTo>
                <a:cubicBezTo>
                  <a:pt x="4699" y="541"/>
                  <a:pt x="4699" y="541"/>
                  <a:pt x="4699" y="541"/>
                </a:cubicBezTo>
                <a:cubicBezTo>
                  <a:pt x="4699" y="545"/>
                  <a:pt x="4699" y="545"/>
                  <a:pt x="4699" y="545"/>
                </a:cubicBezTo>
                <a:cubicBezTo>
                  <a:pt x="4693" y="545"/>
                  <a:pt x="4693" y="545"/>
                  <a:pt x="4693" y="545"/>
                </a:cubicBezTo>
                <a:cubicBezTo>
                  <a:pt x="4676" y="547"/>
                  <a:pt x="4676" y="547"/>
                  <a:pt x="4676" y="547"/>
                </a:cubicBezTo>
                <a:cubicBezTo>
                  <a:pt x="4660" y="547"/>
                  <a:pt x="4660" y="547"/>
                  <a:pt x="4660" y="547"/>
                </a:cubicBezTo>
                <a:cubicBezTo>
                  <a:pt x="4660" y="548"/>
                  <a:pt x="4660" y="548"/>
                  <a:pt x="4660" y="548"/>
                </a:cubicBezTo>
                <a:cubicBezTo>
                  <a:pt x="4644" y="548"/>
                  <a:pt x="4644" y="548"/>
                  <a:pt x="4644" y="548"/>
                </a:cubicBezTo>
                <a:cubicBezTo>
                  <a:pt x="4629" y="551"/>
                  <a:pt x="4629" y="551"/>
                  <a:pt x="4629" y="551"/>
                </a:cubicBezTo>
                <a:cubicBezTo>
                  <a:pt x="4610" y="551"/>
                  <a:pt x="4610" y="551"/>
                  <a:pt x="4610" y="551"/>
                </a:cubicBezTo>
                <a:cubicBezTo>
                  <a:pt x="4610" y="553"/>
                  <a:pt x="4610" y="553"/>
                  <a:pt x="4610" y="553"/>
                </a:cubicBezTo>
                <a:cubicBezTo>
                  <a:pt x="4598" y="553"/>
                  <a:pt x="4598" y="553"/>
                  <a:pt x="4598" y="553"/>
                </a:cubicBezTo>
                <a:cubicBezTo>
                  <a:pt x="4598" y="555"/>
                  <a:pt x="4598" y="555"/>
                  <a:pt x="4598" y="555"/>
                </a:cubicBezTo>
                <a:cubicBezTo>
                  <a:pt x="4583" y="555"/>
                  <a:pt x="4583" y="555"/>
                  <a:pt x="4583" y="555"/>
                </a:cubicBezTo>
                <a:cubicBezTo>
                  <a:pt x="4567" y="555"/>
                  <a:pt x="4567" y="555"/>
                  <a:pt x="4567" y="555"/>
                </a:cubicBezTo>
                <a:cubicBezTo>
                  <a:pt x="4567" y="557"/>
                  <a:pt x="4567" y="557"/>
                  <a:pt x="4567" y="557"/>
                </a:cubicBezTo>
                <a:cubicBezTo>
                  <a:pt x="4550" y="557"/>
                  <a:pt x="4550" y="557"/>
                  <a:pt x="4550" y="557"/>
                </a:cubicBezTo>
                <a:cubicBezTo>
                  <a:pt x="4535" y="557"/>
                  <a:pt x="4535" y="557"/>
                  <a:pt x="4535" y="557"/>
                </a:cubicBezTo>
                <a:cubicBezTo>
                  <a:pt x="4516" y="557"/>
                  <a:pt x="4516" y="557"/>
                  <a:pt x="4516" y="557"/>
                </a:cubicBezTo>
                <a:cubicBezTo>
                  <a:pt x="4507" y="557"/>
                  <a:pt x="4507" y="557"/>
                  <a:pt x="4507" y="557"/>
                </a:cubicBezTo>
                <a:cubicBezTo>
                  <a:pt x="4489" y="557"/>
                  <a:pt x="4489" y="557"/>
                  <a:pt x="4489" y="557"/>
                </a:cubicBezTo>
                <a:cubicBezTo>
                  <a:pt x="4473" y="557"/>
                  <a:pt x="4473" y="557"/>
                  <a:pt x="4473" y="557"/>
                </a:cubicBezTo>
                <a:cubicBezTo>
                  <a:pt x="4456" y="557"/>
                  <a:pt x="4456" y="557"/>
                  <a:pt x="4456" y="557"/>
                </a:cubicBezTo>
                <a:cubicBezTo>
                  <a:pt x="4439" y="557"/>
                  <a:pt x="4439" y="557"/>
                  <a:pt x="4439" y="557"/>
                </a:cubicBezTo>
                <a:cubicBezTo>
                  <a:pt x="4430" y="557"/>
                  <a:pt x="4430" y="557"/>
                  <a:pt x="4430" y="557"/>
                </a:cubicBezTo>
                <a:cubicBezTo>
                  <a:pt x="4409" y="555"/>
                  <a:pt x="4409" y="555"/>
                  <a:pt x="4409" y="555"/>
                </a:cubicBezTo>
                <a:cubicBezTo>
                  <a:pt x="4398" y="555"/>
                  <a:pt x="4398" y="555"/>
                  <a:pt x="4398" y="555"/>
                </a:cubicBezTo>
                <a:cubicBezTo>
                  <a:pt x="4381" y="555"/>
                  <a:pt x="4381" y="555"/>
                  <a:pt x="4381" y="555"/>
                </a:cubicBezTo>
                <a:cubicBezTo>
                  <a:pt x="4367" y="555"/>
                  <a:pt x="4367" y="555"/>
                  <a:pt x="4367" y="555"/>
                </a:cubicBezTo>
                <a:cubicBezTo>
                  <a:pt x="4347" y="553"/>
                  <a:pt x="4347" y="553"/>
                  <a:pt x="4347" y="553"/>
                </a:cubicBezTo>
                <a:cubicBezTo>
                  <a:pt x="4334" y="553"/>
                  <a:pt x="4334" y="553"/>
                  <a:pt x="4334" y="553"/>
                </a:cubicBezTo>
                <a:cubicBezTo>
                  <a:pt x="4334" y="551"/>
                  <a:pt x="4334" y="551"/>
                  <a:pt x="4334" y="551"/>
                </a:cubicBezTo>
                <a:cubicBezTo>
                  <a:pt x="4313" y="551"/>
                  <a:pt x="4313" y="551"/>
                  <a:pt x="4313" y="551"/>
                </a:cubicBezTo>
                <a:cubicBezTo>
                  <a:pt x="4313" y="548"/>
                  <a:pt x="4313" y="548"/>
                  <a:pt x="4313" y="548"/>
                </a:cubicBezTo>
                <a:cubicBezTo>
                  <a:pt x="4306" y="548"/>
                  <a:pt x="4306" y="548"/>
                  <a:pt x="4306" y="548"/>
                </a:cubicBezTo>
                <a:cubicBezTo>
                  <a:pt x="4288" y="548"/>
                  <a:pt x="4288" y="548"/>
                  <a:pt x="4288" y="548"/>
                </a:cubicBezTo>
                <a:cubicBezTo>
                  <a:pt x="4270" y="548"/>
                  <a:pt x="4270" y="548"/>
                  <a:pt x="4270" y="548"/>
                </a:cubicBezTo>
                <a:cubicBezTo>
                  <a:pt x="4250" y="548"/>
                  <a:pt x="4250" y="548"/>
                  <a:pt x="4250" y="548"/>
                </a:cubicBezTo>
                <a:cubicBezTo>
                  <a:pt x="4250" y="551"/>
                  <a:pt x="4250" y="551"/>
                  <a:pt x="4250" y="551"/>
                </a:cubicBezTo>
                <a:cubicBezTo>
                  <a:pt x="4237" y="551"/>
                  <a:pt x="4237" y="551"/>
                  <a:pt x="4237" y="551"/>
                </a:cubicBezTo>
                <a:cubicBezTo>
                  <a:pt x="4221" y="551"/>
                  <a:pt x="4221" y="551"/>
                  <a:pt x="4221" y="551"/>
                </a:cubicBezTo>
                <a:cubicBezTo>
                  <a:pt x="4221" y="553"/>
                  <a:pt x="4221" y="553"/>
                  <a:pt x="4221" y="553"/>
                </a:cubicBezTo>
                <a:cubicBezTo>
                  <a:pt x="4221" y="555"/>
                  <a:pt x="4221" y="555"/>
                  <a:pt x="4221" y="555"/>
                </a:cubicBezTo>
                <a:cubicBezTo>
                  <a:pt x="4208" y="555"/>
                  <a:pt x="4208" y="555"/>
                  <a:pt x="4208" y="555"/>
                </a:cubicBezTo>
                <a:cubicBezTo>
                  <a:pt x="4208" y="557"/>
                  <a:pt x="4208" y="557"/>
                  <a:pt x="4208" y="557"/>
                </a:cubicBezTo>
                <a:cubicBezTo>
                  <a:pt x="4194" y="557"/>
                  <a:pt x="4194" y="557"/>
                  <a:pt x="4194" y="557"/>
                </a:cubicBezTo>
                <a:cubicBezTo>
                  <a:pt x="4178" y="562"/>
                  <a:pt x="4178" y="562"/>
                  <a:pt x="4178" y="562"/>
                </a:cubicBezTo>
                <a:cubicBezTo>
                  <a:pt x="4156" y="562"/>
                  <a:pt x="4156" y="562"/>
                  <a:pt x="4156" y="562"/>
                </a:cubicBezTo>
                <a:cubicBezTo>
                  <a:pt x="4143" y="563"/>
                  <a:pt x="4143" y="563"/>
                  <a:pt x="4143" y="563"/>
                </a:cubicBezTo>
                <a:cubicBezTo>
                  <a:pt x="4130" y="563"/>
                  <a:pt x="4130" y="563"/>
                  <a:pt x="4130" y="563"/>
                </a:cubicBezTo>
                <a:cubicBezTo>
                  <a:pt x="4130" y="567"/>
                  <a:pt x="4130" y="567"/>
                  <a:pt x="4130" y="567"/>
                </a:cubicBezTo>
                <a:cubicBezTo>
                  <a:pt x="4116" y="567"/>
                  <a:pt x="4116" y="567"/>
                  <a:pt x="4116" y="567"/>
                </a:cubicBezTo>
                <a:cubicBezTo>
                  <a:pt x="4103" y="568"/>
                  <a:pt x="4103" y="568"/>
                  <a:pt x="4103" y="568"/>
                </a:cubicBezTo>
                <a:cubicBezTo>
                  <a:pt x="4087" y="569"/>
                  <a:pt x="4087" y="569"/>
                  <a:pt x="4087" y="569"/>
                </a:cubicBezTo>
                <a:cubicBezTo>
                  <a:pt x="4064" y="569"/>
                  <a:pt x="4064" y="569"/>
                  <a:pt x="4064" y="569"/>
                </a:cubicBezTo>
                <a:cubicBezTo>
                  <a:pt x="4053" y="572"/>
                  <a:pt x="4053" y="572"/>
                  <a:pt x="4053" y="572"/>
                </a:cubicBezTo>
                <a:cubicBezTo>
                  <a:pt x="4035" y="572"/>
                  <a:pt x="4035" y="572"/>
                  <a:pt x="4035" y="572"/>
                </a:cubicBezTo>
                <a:cubicBezTo>
                  <a:pt x="4035" y="576"/>
                  <a:pt x="4035" y="576"/>
                  <a:pt x="4035" y="576"/>
                </a:cubicBezTo>
                <a:cubicBezTo>
                  <a:pt x="4024" y="576"/>
                  <a:pt x="4024" y="576"/>
                  <a:pt x="4024" y="576"/>
                </a:cubicBezTo>
                <a:cubicBezTo>
                  <a:pt x="4007" y="576"/>
                  <a:pt x="4007" y="576"/>
                  <a:pt x="4007" y="576"/>
                </a:cubicBezTo>
                <a:cubicBezTo>
                  <a:pt x="4007" y="578"/>
                  <a:pt x="4007" y="578"/>
                  <a:pt x="4007" y="578"/>
                </a:cubicBezTo>
                <a:cubicBezTo>
                  <a:pt x="3987" y="578"/>
                  <a:pt x="3987" y="578"/>
                  <a:pt x="3987" y="578"/>
                </a:cubicBezTo>
                <a:cubicBezTo>
                  <a:pt x="3979" y="578"/>
                  <a:pt x="3979" y="578"/>
                  <a:pt x="3979" y="578"/>
                </a:cubicBezTo>
                <a:cubicBezTo>
                  <a:pt x="3955" y="578"/>
                  <a:pt x="3955" y="578"/>
                  <a:pt x="3955" y="578"/>
                </a:cubicBezTo>
                <a:cubicBezTo>
                  <a:pt x="3945" y="578"/>
                  <a:pt x="3945" y="578"/>
                  <a:pt x="3945" y="578"/>
                </a:cubicBezTo>
                <a:cubicBezTo>
                  <a:pt x="3928" y="578"/>
                  <a:pt x="3928" y="578"/>
                  <a:pt x="3928" y="578"/>
                </a:cubicBezTo>
                <a:cubicBezTo>
                  <a:pt x="3913" y="578"/>
                  <a:pt x="3913" y="578"/>
                  <a:pt x="3913" y="578"/>
                </a:cubicBezTo>
                <a:cubicBezTo>
                  <a:pt x="3895" y="576"/>
                  <a:pt x="3895" y="576"/>
                  <a:pt x="3895" y="576"/>
                </a:cubicBezTo>
                <a:cubicBezTo>
                  <a:pt x="3885" y="578"/>
                  <a:pt x="3885" y="578"/>
                  <a:pt x="3885" y="578"/>
                </a:cubicBezTo>
                <a:cubicBezTo>
                  <a:pt x="3867" y="578"/>
                  <a:pt x="3867" y="578"/>
                  <a:pt x="3867" y="578"/>
                </a:cubicBezTo>
                <a:cubicBezTo>
                  <a:pt x="3852" y="581"/>
                  <a:pt x="3852" y="581"/>
                  <a:pt x="3852" y="581"/>
                </a:cubicBezTo>
                <a:cubicBezTo>
                  <a:pt x="3834" y="584"/>
                  <a:pt x="3834" y="584"/>
                  <a:pt x="3834" y="584"/>
                </a:cubicBezTo>
                <a:cubicBezTo>
                  <a:pt x="3820" y="586"/>
                  <a:pt x="3820" y="586"/>
                  <a:pt x="3820" y="586"/>
                </a:cubicBezTo>
                <a:cubicBezTo>
                  <a:pt x="3801" y="586"/>
                  <a:pt x="3801" y="586"/>
                  <a:pt x="3801" y="586"/>
                </a:cubicBezTo>
                <a:cubicBezTo>
                  <a:pt x="3789" y="587"/>
                  <a:pt x="3789" y="587"/>
                  <a:pt x="3789" y="587"/>
                </a:cubicBezTo>
                <a:cubicBezTo>
                  <a:pt x="3772" y="590"/>
                  <a:pt x="3772" y="590"/>
                  <a:pt x="3772" y="590"/>
                </a:cubicBezTo>
                <a:cubicBezTo>
                  <a:pt x="3754" y="590"/>
                  <a:pt x="3754" y="590"/>
                  <a:pt x="3754" y="590"/>
                </a:cubicBezTo>
                <a:cubicBezTo>
                  <a:pt x="3739" y="593"/>
                  <a:pt x="3739" y="593"/>
                  <a:pt x="3739" y="593"/>
                </a:cubicBezTo>
                <a:cubicBezTo>
                  <a:pt x="3726" y="593"/>
                  <a:pt x="3726" y="593"/>
                  <a:pt x="3726" y="593"/>
                </a:cubicBezTo>
                <a:cubicBezTo>
                  <a:pt x="3706" y="593"/>
                  <a:pt x="3706" y="593"/>
                  <a:pt x="3706" y="593"/>
                </a:cubicBezTo>
                <a:cubicBezTo>
                  <a:pt x="3693" y="593"/>
                  <a:pt x="3693" y="593"/>
                  <a:pt x="3693" y="593"/>
                </a:cubicBezTo>
                <a:cubicBezTo>
                  <a:pt x="3674" y="598"/>
                  <a:pt x="3674" y="598"/>
                  <a:pt x="3674" y="598"/>
                </a:cubicBezTo>
                <a:cubicBezTo>
                  <a:pt x="3662" y="598"/>
                  <a:pt x="3662" y="598"/>
                  <a:pt x="3662" y="598"/>
                </a:cubicBezTo>
                <a:cubicBezTo>
                  <a:pt x="3662" y="598"/>
                  <a:pt x="3662" y="598"/>
                  <a:pt x="3662" y="598"/>
                </a:cubicBezTo>
                <a:cubicBezTo>
                  <a:pt x="3645" y="598"/>
                  <a:pt x="3645" y="598"/>
                  <a:pt x="3645" y="598"/>
                </a:cubicBezTo>
                <a:cubicBezTo>
                  <a:pt x="3631" y="600"/>
                  <a:pt x="3631" y="600"/>
                  <a:pt x="3631" y="600"/>
                </a:cubicBezTo>
                <a:cubicBezTo>
                  <a:pt x="3631" y="604"/>
                  <a:pt x="3631" y="604"/>
                  <a:pt x="3631" y="604"/>
                </a:cubicBezTo>
                <a:cubicBezTo>
                  <a:pt x="3614" y="604"/>
                  <a:pt x="3614" y="604"/>
                  <a:pt x="3614" y="604"/>
                </a:cubicBezTo>
                <a:cubicBezTo>
                  <a:pt x="3614" y="607"/>
                  <a:pt x="3614" y="607"/>
                  <a:pt x="3614" y="607"/>
                </a:cubicBezTo>
                <a:cubicBezTo>
                  <a:pt x="3601" y="608"/>
                  <a:pt x="3601" y="608"/>
                  <a:pt x="3601" y="608"/>
                </a:cubicBezTo>
                <a:cubicBezTo>
                  <a:pt x="3587" y="611"/>
                  <a:pt x="3587" y="611"/>
                  <a:pt x="3587" y="611"/>
                </a:cubicBezTo>
                <a:cubicBezTo>
                  <a:pt x="3575" y="613"/>
                  <a:pt x="3575" y="613"/>
                  <a:pt x="3575" y="613"/>
                </a:cubicBezTo>
                <a:cubicBezTo>
                  <a:pt x="3552" y="613"/>
                  <a:pt x="3552" y="613"/>
                  <a:pt x="3552" y="613"/>
                </a:cubicBezTo>
                <a:cubicBezTo>
                  <a:pt x="3537" y="613"/>
                  <a:pt x="3537" y="613"/>
                  <a:pt x="3537" y="613"/>
                </a:cubicBezTo>
                <a:cubicBezTo>
                  <a:pt x="3523" y="613"/>
                  <a:pt x="3523" y="613"/>
                  <a:pt x="3523" y="613"/>
                </a:cubicBezTo>
                <a:cubicBezTo>
                  <a:pt x="3507" y="613"/>
                  <a:pt x="3507" y="613"/>
                  <a:pt x="3507" y="613"/>
                </a:cubicBezTo>
                <a:cubicBezTo>
                  <a:pt x="3492" y="613"/>
                  <a:pt x="3492" y="613"/>
                  <a:pt x="3492" y="613"/>
                </a:cubicBezTo>
                <a:cubicBezTo>
                  <a:pt x="3480" y="613"/>
                  <a:pt x="3480" y="613"/>
                  <a:pt x="3480" y="613"/>
                </a:cubicBezTo>
                <a:cubicBezTo>
                  <a:pt x="3458" y="613"/>
                  <a:pt x="3458" y="613"/>
                  <a:pt x="3458" y="613"/>
                </a:cubicBezTo>
                <a:cubicBezTo>
                  <a:pt x="3446" y="613"/>
                  <a:pt x="3446" y="613"/>
                  <a:pt x="3446" y="613"/>
                </a:cubicBezTo>
                <a:cubicBezTo>
                  <a:pt x="3446" y="611"/>
                  <a:pt x="3446" y="611"/>
                  <a:pt x="3446" y="611"/>
                </a:cubicBezTo>
                <a:cubicBezTo>
                  <a:pt x="3431" y="611"/>
                  <a:pt x="3431" y="611"/>
                  <a:pt x="3431" y="611"/>
                </a:cubicBezTo>
                <a:cubicBezTo>
                  <a:pt x="3414" y="611"/>
                  <a:pt x="3414" y="611"/>
                  <a:pt x="3414" y="611"/>
                </a:cubicBezTo>
                <a:cubicBezTo>
                  <a:pt x="3414" y="608"/>
                  <a:pt x="3414" y="608"/>
                  <a:pt x="3414" y="608"/>
                </a:cubicBezTo>
                <a:cubicBezTo>
                  <a:pt x="3397" y="608"/>
                  <a:pt x="3397" y="608"/>
                  <a:pt x="3397" y="608"/>
                </a:cubicBezTo>
                <a:cubicBezTo>
                  <a:pt x="3384" y="608"/>
                  <a:pt x="3384" y="608"/>
                  <a:pt x="3384" y="608"/>
                </a:cubicBezTo>
                <a:cubicBezTo>
                  <a:pt x="3384" y="607"/>
                  <a:pt x="3384" y="607"/>
                  <a:pt x="3384" y="607"/>
                </a:cubicBezTo>
                <a:cubicBezTo>
                  <a:pt x="3365" y="607"/>
                  <a:pt x="3365" y="607"/>
                  <a:pt x="3365" y="607"/>
                </a:cubicBezTo>
                <a:cubicBezTo>
                  <a:pt x="3365" y="604"/>
                  <a:pt x="3365" y="604"/>
                  <a:pt x="3365" y="604"/>
                </a:cubicBezTo>
                <a:cubicBezTo>
                  <a:pt x="3347" y="604"/>
                  <a:pt x="3347" y="604"/>
                  <a:pt x="3347" y="604"/>
                </a:cubicBezTo>
                <a:cubicBezTo>
                  <a:pt x="3337" y="604"/>
                  <a:pt x="3337" y="604"/>
                  <a:pt x="3337" y="604"/>
                </a:cubicBezTo>
                <a:cubicBezTo>
                  <a:pt x="3319" y="600"/>
                  <a:pt x="3319" y="600"/>
                  <a:pt x="3319" y="600"/>
                </a:cubicBezTo>
                <a:cubicBezTo>
                  <a:pt x="3305" y="598"/>
                  <a:pt x="3305" y="598"/>
                  <a:pt x="3305" y="598"/>
                </a:cubicBezTo>
                <a:cubicBezTo>
                  <a:pt x="3287" y="600"/>
                  <a:pt x="3287" y="600"/>
                  <a:pt x="3287" y="600"/>
                </a:cubicBezTo>
                <a:cubicBezTo>
                  <a:pt x="3267" y="600"/>
                  <a:pt x="3267" y="600"/>
                  <a:pt x="3267" y="600"/>
                </a:cubicBezTo>
                <a:cubicBezTo>
                  <a:pt x="3254" y="604"/>
                  <a:pt x="3254" y="604"/>
                  <a:pt x="3254" y="604"/>
                </a:cubicBezTo>
                <a:cubicBezTo>
                  <a:pt x="3237" y="604"/>
                  <a:pt x="3237" y="604"/>
                  <a:pt x="3237" y="604"/>
                </a:cubicBezTo>
                <a:cubicBezTo>
                  <a:pt x="3237" y="607"/>
                  <a:pt x="3237" y="607"/>
                  <a:pt x="3237" y="607"/>
                </a:cubicBezTo>
                <a:cubicBezTo>
                  <a:pt x="3227" y="607"/>
                  <a:pt x="3227" y="607"/>
                  <a:pt x="3227" y="607"/>
                </a:cubicBezTo>
                <a:cubicBezTo>
                  <a:pt x="3214" y="607"/>
                  <a:pt x="3214" y="607"/>
                  <a:pt x="3214" y="607"/>
                </a:cubicBezTo>
                <a:cubicBezTo>
                  <a:pt x="3214" y="608"/>
                  <a:pt x="3214" y="608"/>
                  <a:pt x="3214" y="608"/>
                </a:cubicBezTo>
                <a:cubicBezTo>
                  <a:pt x="3194" y="608"/>
                  <a:pt x="3194" y="608"/>
                  <a:pt x="3194" y="608"/>
                </a:cubicBezTo>
                <a:cubicBezTo>
                  <a:pt x="3194" y="611"/>
                  <a:pt x="3194" y="611"/>
                  <a:pt x="3194" y="611"/>
                </a:cubicBezTo>
                <a:cubicBezTo>
                  <a:pt x="3178" y="611"/>
                  <a:pt x="3178" y="611"/>
                  <a:pt x="3178" y="611"/>
                </a:cubicBezTo>
                <a:cubicBezTo>
                  <a:pt x="3178" y="613"/>
                  <a:pt x="3178" y="613"/>
                  <a:pt x="3178" y="613"/>
                </a:cubicBezTo>
                <a:cubicBezTo>
                  <a:pt x="3162" y="613"/>
                  <a:pt x="3162" y="613"/>
                  <a:pt x="3162" y="613"/>
                </a:cubicBezTo>
                <a:cubicBezTo>
                  <a:pt x="3162" y="615"/>
                  <a:pt x="3162" y="615"/>
                  <a:pt x="3162" y="615"/>
                </a:cubicBezTo>
                <a:cubicBezTo>
                  <a:pt x="3145" y="615"/>
                  <a:pt x="3145" y="615"/>
                  <a:pt x="3145" y="615"/>
                </a:cubicBezTo>
                <a:cubicBezTo>
                  <a:pt x="3134" y="616"/>
                  <a:pt x="3134" y="616"/>
                  <a:pt x="3134" y="616"/>
                </a:cubicBezTo>
                <a:cubicBezTo>
                  <a:pt x="3115" y="616"/>
                  <a:pt x="3115" y="616"/>
                  <a:pt x="3115" y="616"/>
                </a:cubicBezTo>
                <a:cubicBezTo>
                  <a:pt x="3115" y="623"/>
                  <a:pt x="3115" y="623"/>
                  <a:pt x="3115" y="623"/>
                </a:cubicBezTo>
                <a:cubicBezTo>
                  <a:pt x="3096" y="623"/>
                  <a:pt x="3096" y="623"/>
                  <a:pt x="3096" y="623"/>
                </a:cubicBezTo>
                <a:cubicBezTo>
                  <a:pt x="3086" y="623"/>
                  <a:pt x="3086" y="623"/>
                  <a:pt x="3086" y="623"/>
                </a:cubicBezTo>
                <a:cubicBezTo>
                  <a:pt x="3086" y="623"/>
                  <a:pt x="3086" y="623"/>
                  <a:pt x="3086" y="623"/>
                </a:cubicBezTo>
                <a:cubicBezTo>
                  <a:pt x="3066" y="623"/>
                  <a:pt x="3066" y="623"/>
                  <a:pt x="3066" y="623"/>
                </a:cubicBezTo>
                <a:cubicBezTo>
                  <a:pt x="3055" y="625"/>
                  <a:pt x="3055" y="625"/>
                  <a:pt x="3055" y="625"/>
                </a:cubicBezTo>
                <a:cubicBezTo>
                  <a:pt x="3042" y="625"/>
                  <a:pt x="3042" y="625"/>
                  <a:pt x="3042" y="625"/>
                </a:cubicBezTo>
                <a:cubicBezTo>
                  <a:pt x="3042" y="627"/>
                  <a:pt x="3042" y="627"/>
                  <a:pt x="3042" y="627"/>
                </a:cubicBezTo>
                <a:cubicBezTo>
                  <a:pt x="3022" y="630"/>
                  <a:pt x="3022" y="630"/>
                  <a:pt x="3022" y="630"/>
                </a:cubicBezTo>
                <a:cubicBezTo>
                  <a:pt x="3022" y="632"/>
                  <a:pt x="3022" y="632"/>
                  <a:pt x="3022" y="632"/>
                </a:cubicBezTo>
                <a:cubicBezTo>
                  <a:pt x="3009" y="632"/>
                  <a:pt x="3009" y="632"/>
                  <a:pt x="3009" y="632"/>
                </a:cubicBezTo>
                <a:cubicBezTo>
                  <a:pt x="2991" y="633"/>
                  <a:pt x="2991" y="633"/>
                  <a:pt x="2991" y="633"/>
                </a:cubicBezTo>
                <a:cubicBezTo>
                  <a:pt x="2981" y="633"/>
                  <a:pt x="2981" y="633"/>
                  <a:pt x="2981" y="633"/>
                </a:cubicBezTo>
                <a:cubicBezTo>
                  <a:pt x="2959" y="633"/>
                  <a:pt x="2959" y="633"/>
                  <a:pt x="2959" y="633"/>
                </a:cubicBezTo>
                <a:cubicBezTo>
                  <a:pt x="2943" y="633"/>
                  <a:pt x="2943" y="633"/>
                  <a:pt x="2943" y="633"/>
                </a:cubicBezTo>
                <a:cubicBezTo>
                  <a:pt x="2932" y="633"/>
                  <a:pt x="2932" y="633"/>
                  <a:pt x="2932" y="633"/>
                </a:cubicBezTo>
                <a:cubicBezTo>
                  <a:pt x="2918" y="633"/>
                  <a:pt x="2918" y="633"/>
                  <a:pt x="2918" y="633"/>
                </a:cubicBezTo>
                <a:cubicBezTo>
                  <a:pt x="2918" y="632"/>
                  <a:pt x="2918" y="632"/>
                  <a:pt x="2918" y="632"/>
                </a:cubicBezTo>
                <a:cubicBezTo>
                  <a:pt x="2895" y="632"/>
                  <a:pt x="2895" y="632"/>
                  <a:pt x="2895" y="632"/>
                </a:cubicBezTo>
                <a:cubicBezTo>
                  <a:pt x="2881" y="630"/>
                  <a:pt x="2881" y="630"/>
                  <a:pt x="2881" y="630"/>
                </a:cubicBezTo>
                <a:cubicBezTo>
                  <a:pt x="2870" y="627"/>
                  <a:pt x="2870" y="627"/>
                  <a:pt x="2870" y="627"/>
                </a:cubicBezTo>
                <a:cubicBezTo>
                  <a:pt x="2847" y="627"/>
                  <a:pt x="2847" y="627"/>
                  <a:pt x="2847" y="627"/>
                </a:cubicBezTo>
                <a:cubicBezTo>
                  <a:pt x="2837" y="625"/>
                  <a:pt x="2837" y="625"/>
                  <a:pt x="2837" y="625"/>
                </a:cubicBezTo>
                <a:cubicBezTo>
                  <a:pt x="2822" y="623"/>
                  <a:pt x="2822" y="623"/>
                  <a:pt x="2822" y="623"/>
                </a:cubicBezTo>
                <a:cubicBezTo>
                  <a:pt x="2806" y="623"/>
                  <a:pt x="2806" y="623"/>
                  <a:pt x="2806" y="623"/>
                </a:cubicBezTo>
                <a:cubicBezTo>
                  <a:pt x="2792" y="623"/>
                  <a:pt x="2792" y="623"/>
                  <a:pt x="2792" y="623"/>
                </a:cubicBezTo>
                <a:cubicBezTo>
                  <a:pt x="2792" y="623"/>
                  <a:pt x="2792" y="623"/>
                  <a:pt x="2792" y="623"/>
                </a:cubicBezTo>
                <a:cubicBezTo>
                  <a:pt x="2773" y="623"/>
                  <a:pt x="2773" y="623"/>
                  <a:pt x="2773" y="623"/>
                </a:cubicBezTo>
                <a:cubicBezTo>
                  <a:pt x="2754" y="616"/>
                  <a:pt x="2754" y="616"/>
                  <a:pt x="2754" y="616"/>
                </a:cubicBezTo>
                <a:cubicBezTo>
                  <a:pt x="2740" y="616"/>
                  <a:pt x="2740" y="616"/>
                  <a:pt x="2740" y="616"/>
                </a:cubicBezTo>
                <a:cubicBezTo>
                  <a:pt x="2725" y="616"/>
                  <a:pt x="2725" y="616"/>
                  <a:pt x="2725" y="616"/>
                </a:cubicBezTo>
                <a:cubicBezTo>
                  <a:pt x="2709" y="616"/>
                  <a:pt x="2709" y="616"/>
                  <a:pt x="2709" y="616"/>
                </a:cubicBezTo>
                <a:cubicBezTo>
                  <a:pt x="2692" y="616"/>
                  <a:pt x="2692" y="616"/>
                  <a:pt x="2692" y="616"/>
                </a:cubicBezTo>
                <a:cubicBezTo>
                  <a:pt x="2677" y="616"/>
                  <a:pt x="2677" y="616"/>
                  <a:pt x="2677" y="616"/>
                </a:cubicBezTo>
                <a:cubicBezTo>
                  <a:pt x="2664" y="616"/>
                  <a:pt x="2664" y="616"/>
                  <a:pt x="2664" y="616"/>
                </a:cubicBezTo>
                <a:cubicBezTo>
                  <a:pt x="2650" y="616"/>
                  <a:pt x="2650" y="616"/>
                  <a:pt x="2650" y="616"/>
                </a:cubicBezTo>
                <a:cubicBezTo>
                  <a:pt x="2629" y="616"/>
                  <a:pt x="2629" y="616"/>
                  <a:pt x="2629" y="616"/>
                </a:cubicBezTo>
                <a:cubicBezTo>
                  <a:pt x="2619" y="616"/>
                  <a:pt x="2619" y="616"/>
                  <a:pt x="2619" y="616"/>
                </a:cubicBezTo>
                <a:cubicBezTo>
                  <a:pt x="2600" y="616"/>
                  <a:pt x="2600" y="616"/>
                  <a:pt x="2600" y="616"/>
                </a:cubicBezTo>
                <a:cubicBezTo>
                  <a:pt x="2590" y="616"/>
                  <a:pt x="2590" y="616"/>
                  <a:pt x="2590" y="616"/>
                </a:cubicBezTo>
                <a:cubicBezTo>
                  <a:pt x="2575" y="616"/>
                  <a:pt x="2575" y="616"/>
                  <a:pt x="2575" y="616"/>
                </a:cubicBezTo>
                <a:cubicBezTo>
                  <a:pt x="2554" y="623"/>
                  <a:pt x="2554" y="623"/>
                  <a:pt x="2554" y="623"/>
                </a:cubicBezTo>
                <a:cubicBezTo>
                  <a:pt x="2539" y="623"/>
                  <a:pt x="2539" y="623"/>
                  <a:pt x="2539" y="623"/>
                </a:cubicBezTo>
                <a:cubicBezTo>
                  <a:pt x="2527" y="623"/>
                  <a:pt x="2527" y="623"/>
                  <a:pt x="2527" y="623"/>
                </a:cubicBezTo>
                <a:cubicBezTo>
                  <a:pt x="2527" y="623"/>
                  <a:pt x="2527" y="623"/>
                  <a:pt x="2527" y="623"/>
                </a:cubicBezTo>
                <a:cubicBezTo>
                  <a:pt x="2507" y="623"/>
                  <a:pt x="2507" y="623"/>
                  <a:pt x="2507" y="623"/>
                </a:cubicBezTo>
                <a:cubicBezTo>
                  <a:pt x="2496" y="623"/>
                  <a:pt x="2496" y="623"/>
                  <a:pt x="2496" y="623"/>
                </a:cubicBezTo>
                <a:cubicBezTo>
                  <a:pt x="2496" y="625"/>
                  <a:pt x="2496" y="625"/>
                  <a:pt x="2496" y="625"/>
                </a:cubicBezTo>
                <a:cubicBezTo>
                  <a:pt x="2482" y="625"/>
                  <a:pt x="2482" y="625"/>
                  <a:pt x="2482" y="625"/>
                </a:cubicBezTo>
                <a:cubicBezTo>
                  <a:pt x="2457" y="625"/>
                  <a:pt x="2457" y="625"/>
                  <a:pt x="2457" y="625"/>
                </a:cubicBezTo>
                <a:cubicBezTo>
                  <a:pt x="2447" y="625"/>
                  <a:pt x="2447" y="625"/>
                  <a:pt x="2447" y="625"/>
                </a:cubicBezTo>
                <a:cubicBezTo>
                  <a:pt x="2428" y="625"/>
                  <a:pt x="2428" y="625"/>
                  <a:pt x="2428" y="625"/>
                </a:cubicBezTo>
                <a:cubicBezTo>
                  <a:pt x="2417" y="625"/>
                  <a:pt x="2417" y="625"/>
                  <a:pt x="2417" y="625"/>
                </a:cubicBezTo>
                <a:cubicBezTo>
                  <a:pt x="2402" y="625"/>
                  <a:pt x="2402" y="625"/>
                  <a:pt x="2402" y="625"/>
                </a:cubicBezTo>
                <a:cubicBezTo>
                  <a:pt x="2384" y="625"/>
                  <a:pt x="2384" y="625"/>
                  <a:pt x="2384" y="625"/>
                </a:cubicBezTo>
                <a:cubicBezTo>
                  <a:pt x="2372" y="625"/>
                  <a:pt x="2372" y="625"/>
                  <a:pt x="2372" y="625"/>
                </a:cubicBezTo>
                <a:cubicBezTo>
                  <a:pt x="2349" y="625"/>
                  <a:pt x="2349" y="625"/>
                  <a:pt x="2349" y="625"/>
                </a:cubicBezTo>
                <a:cubicBezTo>
                  <a:pt x="2349" y="627"/>
                  <a:pt x="2349" y="627"/>
                  <a:pt x="2349" y="627"/>
                </a:cubicBezTo>
                <a:cubicBezTo>
                  <a:pt x="2335" y="627"/>
                  <a:pt x="2335" y="627"/>
                  <a:pt x="2335" y="627"/>
                </a:cubicBezTo>
                <a:cubicBezTo>
                  <a:pt x="2319" y="627"/>
                  <a:pt x="2319" y="627"/>
                  <a:pt x="2319" y="627"/>
                </a:cubicBezTo>
                <a:cubicBezTo>
                  <a:pt x="2303" y="630"/>
                  <a:pt x="2303" y="630"/>
                  <a:pt x="2303" y="630"/>
                </a:cubicBezTo>
                <a:cubicBezTo>
                  <a:pt x="2290" y="630"/>
                  <a:pt x="2290" y="630"/>
                  <a:pt x="2290" y="630"/>
                </a:cubicBezTo>
                <a:cubicBezTo>
                  <a:pt x="2271" y="630"/>
                  <a:pt x="2271" y="630"/>
                  <a:pt x="2271" y="630"/>
                </a:cubicBezTo>
                <a:cubicBezTo>
                  <a:pt x="2271" y="632"/>
                  <a:pt x="2271" y="632"/>
                  <a:pt x="2271" y="632"/>
                </a:cubicBezTo>
                <a:cubicBezTo>
                  <a:pt x="2259" y="632"/>
                  <a:pt x="2259" y="632"/>
                  <a:pt x="2259" y="632"/>
                </a:cubicBezTo>
                <a:cubicBezTo>
                  <a:pt x="2241" y="632"/>
                  <a:pt x="2241" y="632"/>
                  <a:pt x="2241" y="632"/>
                </a:cubicBezTo>
                <a:cubicBezTo>
                  <a:pt x="2226" y="633"/>
                  <a:pt x="2226" y="633"/>
                  <a:pt x="2226" y="633"/>
                </a:cubicBezTo>
                <a:cubicBezTo>
                  <a:pt x="2210" y="633"/>
                  <a:pt x="2210" y="633"/>
                  <a:pt x="2210" y="633"/>
                </a:cubicBezTo>
                <a:cubicBezTo>
                  <a:pt x="2196" y="637"/>
                  <a:pt x="2196" y="637"/>
                  <a:pt x="2196" y="637"/>
                </a:cubicBezTo>
                <a:cubicBezTo>
                  <a:pt x="2181" y="637"/>
                  <a:pt x="2181" y="637"/>
                  <a:pt x="2181" y="637"/>
                </a:cubicBezTo>
                <a:cubicBezTo>
                  <a:pt x="2169" y="637"/>
                  <a:pt x="2169" y="637"/>
                  <a:pt x="2169" y="637"/>
                </a:cubicBezTo>
                <a:cubicBezTo>
                  <a:pt x="2169" y="642"/>
                  <a:pt x="2169" y="642"/>
                  <a:pt x="2169" y="642"/>
                </a:cubicBezTo>
                <a:cubicBezTo>
                  <a:pt x="2148" y="642"/>
                  <a:pt x="2148" y="642"/>
                  <a:pt x="2148" y="642"/>
                </a:cubicBezTo>
                <a:cubicBezTo>
                  <a:pt x="2134" y="642"/>
                  <a:pt x="2134" y="642"/>
                  <a:pt x="2134" y="642"/>
                </a:cubicBezTo>
                <a:cubicBezTo>
                  <a:pt x="2123" y="644"/>
                  <a:pt x="2123" y="644"/>
                  <a:pt x="2123" y="644"/>
                </a:cubicBezTo>
                <a:cubicBezTo>
                  <a:pt x="2100" y="644"/>
                  <a:pt x="2100" y="644"/>
                  <a:pt x="2100" y="644"/>
                </a:cubicBezTo>
                <a:cubicBezTo>
                  <a:pt x="2092" y="644"/>
                  <a:pt x="2092" y="644"/>
                  <a:pt x="2092" y="644"/>
                </a:cubicBezTo>
                <a:cubicBezTo>
                  <a:pt x="2092" y="644"/>
                  <a:pt x="2092" y="644"/>
                  <a:pt x="2092" y="644"/>
                </a:cubicBezTo>
                <a:cubicBezTo>
                  <a:pt x="2074" y="644"/>
                  <a:pt x="2074" y="644"/>
                  <a:pt x="2074" y="644"/>
                </a:cubicBezTo>
                <a:cubicBezTo>
                  <a:pt x="2057" y="644"/>
                  <a:pt x="2057" y="644"/>
                  <a:pt x="2057" y="644"/>
                </a:cubicBezTo>
                <a:cubicBezTo>
                  <a:pt x="2043" y="648"/>
                  <a:pt x="2043" y="648"/>
                  <a:pt x="2043" y="648"/>
                </a:cubicBezTo>
                <a:cubicBezTo>
                  <a:pt x="2027" y="648"/>
                  <a:pt x="2027" y="648"/>
                  <a:pt x="2027" y="648"/>
                </a:cubicBezTo>
                <a:cubicBezTo>
                  <a:pt x="2027" y="649"/>
                  <a:pt x="2027" y="649"/>
                  <a:pt x="2027" y="649"/>
                </a:cubicBezTo>
                <a:cubicBezTo>
                  <a:pt x="2013" y="649"/>
                  <a:pt x="2013" y="649"/>
                  <a:pt x="2013" y="649"/>
                </a:cubicBezTo>
                <a:cubicBezTo>
                  <a:pt x="1991" y="649"/>
                  <a:pt x="1991" y="649"/>
                  <a:pt x="1991" y="649"/>
                </a:cubicBezTo>
                <a:cubicBezTo>
                  <a:pt x="1991" y="652"/>
                  <a:pt x="1991" y="652"/>
                  <a:pt x="1991" y="652"/>
                </a:cubicBezTo>
                <a:cubicBezTo>
                  <a:pt x="1977" y="652"/>
                  <a:pt x="1977" y="652"/>
                  <a:pt x="1977" y="652"/>
                </a:cubicBezTo>
                <a:cubicBezTo>
                  <a:pt x="1967" y="652"/>
                  <a:pt x="1967" y="652"/>
                  <a:pt x="1967" y="652"/>
                </a:cubicBezTo>
                <a:cubicBezTo>
                  <a:pt x="1967" y="654"/>
                  <a:pt x="1967" y="654"/>
                  <a:pt x="1967" y="654"/>
                </a:cubicBezTo>
                <a:cubicBezTo>
                  <a:pt x="1950" y="654"/>
                  <a:pt x="1950" y="654"/>
                  <a:pt x="1950" y="654"/>
                </a:cubicBezTo>
                <a:cubicBezTo>
                  <a:pt x="1932" y="654"/>
                  <a:pt x="1932" y="654"/>
                  <a:pt x="1932" y="654"/>
                </a:cubicBezTo>
                <a:cubicBezTo>
                  <a:pt x="1912" y="654"/>
                  <a:pt x="1912" y="654"/>
                  <a:pt x="1912" y="654"/>
                </a:cubicBezTo>
                <a:cubicBezTo>
                  <a:pt x="1912" y="657"/>
                  <a:pt x="1912" y="657"/>
                  <a:pt x="1912" y="657"/>
                </a:cubicBezTo>
                <a:cubicBezTo>
                  <a:pt x="1896" y="657"/>
                  <a:pt x="1896" y="657"/>
                  <a:pt x="1896" y="657"/>
                </a:cubicBezTo>
                <a:cubicBezTo>
                  <a:pt x="1884" y="657"/>
                  <a:pt x="1884" y="657"/>
                  <a:pt x="1884" y="657"/>
                </a:cubicBezTo>
                <a:cubicBezTo>
                  <a:pt x="1872" y="661"/>
                  <a:pt x="1872" y="661"/>
                  <a:pt x="1872" y="661"/>
                </a:cubicBezTo>
                <a:cubicBezTo>
                  <a:pt x="1851" y="661"/>
                  <a:pt x="1851" y="661"/>
                  <a:pt x="1851" y="661"/>
                </a:cubicBezTo>
                <a:cubicBezTo>
                  <a:pt x="1851" y="662"/>
                  <a:pt x="1851" y="662"/>
                  <a:pt x="1851" y="662"/>
                </a:cubicBezTo>
                <a:cubicBezTo>
                  <a:pt x="1834" y="663"/>
                  <a:pt x="1834" y="663"/>
                  <a:pt x="1834" y="663"/>
                </a:cubicBezTo>
                <a:cubicBezTo>
                  <a:pt x="1834" y="666"/>
                  <a:pt x="1834" y="666"/>
                  <a:pt x="1834" y="666"/>
                </a:cubicBezTo>
                <a:cubicBezTo>
                  <a:pt x="1834" y="669"/>
                  <a:pt x="1834" y="669"/>
                  <a:pt x="1834" y="669"/>
                </a:cubicBezTo>
                <a:cubicBezTo>
                  <a:pt x="1824" y="670"/>
                  <a:pt x="1824" y="670"/>
                  <a:pt x="1824" y="670"/>
                </a:cubicBezTo>
                <a:cubicBezTo>
                  <a:pt x="1824" y="673"/>
                  <a:pt x="1824" y="673"/>
                  <a:pt x="1824" y="673"/>
                </a:cubicBezTo>
                <a:cubicBezTo>
                  <a:pt x="1810" y="676"/>
                  <a:pt x="1810" y="676"/>
                  <a:pt x="1810" y="676"/>
                </a:cubicBezTo>
                <a:cubicBezTo>
                  <a:pt x="1795" y="676"/>
                  <a:pt x="1795" y="676"/>
                  <a:pt x="1795" y="676"/>
                </a:cubicBezTo>
                <a:cubicBezTo>
                  <a:pt x="1774" y="676"/>
                  <a:pt x="1774" y="676"/>
                  <a:pt x="1774" y="676"/>
                </a:cubicBezTo>
                <a:cubicBezTo>
                  <a:pt x="1760" y="676"/>
                  <a:pt x="1760" y="676"/>
                  <a:pt x="1760" y="676"/>
                </a:cubicBezTo>
                <a:cubicBezTo>
                  <a:pt x="1748" y="676"/>
                  <a:pt x="1748" y="676"/>
                  <a:pt x="1748" y="676"/>
                </a:cubicBezTo>
                <a:cubicBezTo>
                  <a:pt x="1728" y="676"/>
                  <a:pt x="1728" y="676"/>
                  <a:pt x="1728" y="676"/>
                </a:cubicBezTo>
                <a:cubicBezTo>
                  <a:pt x="1711" y="676"/>
                  <a:pt x="1711" y="676"/>
                  <a:pt x="1711" y="676"/>
                </a:cubicBezTo>
                <a:cubicBezTo>
                  <a:pt x="1711" y="673"/>
                  <a:pt x="1711" y="673"/>
                  <a:pt x="1711" y="673"/>
                </a:cubicBezTo>
                <a:cubicBezTo>
                  <a:pt x="1698" y="673"/>
                  <a:pt x="1698" y="673"/>
                  <a:pt x="1698" y="673"/>
                </a:cubicBezTo>
                <a:cubicBezTo>
                  <a:pt x="1682" y="673"/>
                  <a:pt x="1682" y="673"/>
                  <a:pt x="1682" y="673"/>
                </a:cubicBezTo>
                <a:cubicBezTo>
                  <a:pt x="1665" y="673"/>
                  <a:pt x="1665" y="673"/>
                  <a:pt x="1665" y="673"/>
                </a:cubicBezTo>
                <a:cubicBezTo>
                  <a:pt x="1665" y="670"/>
                  <a:pt x="1665" y="670"/>
                  <a:pt x="1665" y="670"/>
                </a:cubicBezTo>
                <a:cubicBezTo>
                  <a:pt x="1650" y="670"/>
                  <a:pt x="1650" y="670"/>
                  <a:pt x="1650" y="670"/>
                </a:cubicBezTo>
                <a:cubicBezTo>
                  <a:pt x="1650" y="669"/>
                  <a:pt x="1650" y="669"/>
                  <a:pt x="1650" y="669"/>
                </a:cubicBezTo>
                <a:cubicBezTo>
                  <a:pt x="1630" y="669"/>
                  <a:pt x="1630" y="669"/>
                  <a:pt x="1630" y="669"/>
                </a:cubicBezTo>
                <a:cubicBezTo>
                  <a:pt x="1621" y="669"/>
                  <a:pt x="1621" y="669"/>
                  <a:pt x="1621" y="669"/>
                </a:cubicBezTo>
                <a:cubicBezTo>
                  <a:pt x="1621" y="666"/>
                  <a:pt x="1621" y="666"/>
                  <a:pt x="1621" y="666"/>
                </a:cubicBezTo>
                <a:cubicBezTo>
                  <a:pt x="1603" y="666"/>
                  <a:pt x="1603" y="666"/>
                  <a:pt x="1603" y="666"/>
                </a:cubicBezTo>
                <a:cubicBezTo>
                  <a:pt x="1589" y="666"/>
                  <a:pt x="1589" y="666"/>
                  <a:pt x="1589" y="666"/>
                </a:cubicBezTo>
                <a:cubicBezTo>
                  <a:pt x="1571" y="666"/>
                  <a:pt x="1571" y="666"/>
                  <a:pt x="1571" y="666"/>
                </a:cubicBezTo>
                <a:cubicBezTo>
                  <a:pt x="1554" y="666"/>
                  <a:pt x="1554" y="666"/>
                  <a:pt x="1554" y="666"/>
                </a:cubicBezTo>
                <a:cubicBezTo>
                  <a:pt x="1539" y="666"/>
                  <a:pt x="1539" y="666"/>
                  <a:pt x="1539" y="666"/>
                </a:cubicBezTo>
                <a:cubicBezTo>
                  <a:pt x="1529" y="666"/>
                  <a:pt x="1529" y="666"/>
                  <a:pt x="1529" y="666"/>
                </a:cubicBezTo>
                <a:cubicBezTo>
                  <a:pt x="1511" y="666"/>
                  <a:pt x="1511" y="666"/>
                  <a:pt x="1511" y="666"/>
                </a:cubicBezTo>
                <a:cubicBezTo>
                  <a:pt x="1494" y="666"/>
                  <a:pt x="1494" y="666"/>
                  <a:pt x="1494" y="666"/>
                </a:cubicBezTo>
                <a:cubicBezTo>
                  <a:pt x="1479" y="666"/>
                  <a:pt x="1479" y="666"/>
                  <a:pt x="1479" y="666"/>
                </a:cubicBezTo>
                <a:cubicBezTo>
                  <a:pt x="1464" y="666"/>
                  <a:pt x="1464" y="666"/>
                  <a:pt x="1464" y="666"/>
                </a:cubicBezTo>
                <a:cubicBezTo>
                  <a:pt x="1449" y="666"/>
                  <a:pt x="1449" y="666"/>
                  <a:pt x="1449" y="666"/>
                </a:cubicBezTo>
                <a:cubicBezTo>
                  <a:pt x="1433" y="666"/>
                  <a:pt x="1433" y="666"/>
                  <a:pt x="1433" y="666"/>
                </a:cubicBezTo>
                <a:cubicBezTo>
                  <a:pt x="1418" y="666"/>
                  <a:pt x="1418" y="666"/>
                  <a:pt x="1418" y="666"/>
                </a:cubicBezTo>
                <a:cubicBezTo>
                  <a:pt x="1399" y="666"/>
                  <a:pt x="1399" y="666"/>
                  <a:pt x="1399" y="666"/>
                </a:cubicBezTo>
                <a:cubicBezTo>
                  <a:pt x="1384" y="666"/>
                  <a:pt x="1384" y="666"/>
                  <a:pt x="1384" y="666"/>
                </a:cubicBezTo>
                <a:cubicBezTo>
                  <a:pt x="1370" y="666"/>
                  <a:pt x="1370" y="666"/>
                  <a:pt x="1370" y="666"/>
                </a:cubicBezTo>
                <a:cubicBezTo>
                  <a:pt x="1355" y="666"/>
                  <a:pt x="1355" y="666"/>
                  <a:pt x="1355" y="666"/>
                </a:cubicBezTo>
                <a:cubicBezTo>
                  <a:pt x="1355" y="663"/>
                  <a:pt x="1355" y="663"/>
                  <a:pt x="1355" y="663"/>
                </a:cubicBezTo>
                <a:cubicBezTo>
                  <a:pt x="1339" y="663"/>
                  <a:pt x="1339" y="663"/>
                  <a:pt x="1339" y="663"/>
                </a:cubicBezTo>
                <a:cubicBezTo>
                  <a:pt x="1327" y="663"/>
                  <a:pt x="1327" y="663"/>
                  <a:pt x="1327" y="663"/>
                </a:cubicBezTo>
                <a:cubicBezTo>
                  <a:pt x="1312" y="663"/>
                  <a:pt x="1312" y="663"/>
                  <a:pt x="1312" y="663"/>
                </a:cubicBezTo>
                <a:cubicBezTo>
                  <a:pt x="1292" y="662"/>
                  <a:pt x="1292" y="662"/>
                  <a:pt x="1292" y="662"/>
                </a:cubicBezTo>
                <a:cubicBezTo>
                  <a:pt x="1277" y="662"/>
                  <a:pt x="1277" y="662"/>
                  <a:pt x="1277" y="662"/>
                </a:cubicBezTo>
                <a:cubicBezTo>
                  <a:pt x="1260" y="662"/>
                  <a:pt x="1260" y="662"/>
                  <a:pt x="1260" y="662"/>
                </a:cubicBezTo>
                <a:cubicBezTo>
                  <a:pt x="1243" y="662"/>
                  <a:pt x="1243" y="662"/>
                  <a:pt x="1243" y="662"/>
                </a:cubicBezTo>
                <a:cubicBezTo>
                  <a:pt x="1243" y="661"/>
                  <a:pt x="1243" y="661"/>
                  <a:pt x="1243" y="661"/>
                </a:cubicBezTo>
                <a:cubicBezTo>
                  <a:pt x="1232" y="661"/>
                  <a:pt x="1232" y="661"/>
                  <a:pt x="1232" y="661"/>
                </a:cubicBezTo>
                <a:cubicBezTo>
                  <a:pt x="1218" y="661"/>
                  <a:pt x="1218" y="661"/>
                  <a:pt x="1218" y="661"/>
                </a:cubicBezTo>
                <a:cubicBezTo>
                  <a:pt x="1194" y="661"/>
                  <a:pt x="1194" y="661"/>
                  <a:pt x="1194" y="661"/>
                </a:cubicBezTo>
                <a:cubicBezTo>
                  <a:pt x="1194" y="657"/>
                  <a:pt x="1194" y="657"/>
                  <a:pt x="1194" y="657"/>
                </a:cubicBezTo>
                <a:cubicBezTo>
                  <a:pt x="1178" y="657"/>
                  <a:pt x="1178" y="657"/>
                  <a:pt x="1178" y="657"/>
                </a:cubicBezTo>
                <a:cubicBezTo>
                  <a:pt x="1169" y="657"/>
                  <a:pt x="1169" y="657"/>
                  <a:pt x="1169" y="657"/>
                </a:cubicBezTo>
                <a:cubicBezTo>
                  <a:pt x="1149" y="657"/>
                  <a:pt x="1149" y="657"/>
                  <a:pt x="1149" y="657"/>
                </a:cubicBezTo>
                <a:cubicBezTo>
                  <a:pt x="1140" y="657"/>
                  <a:pt x="1140" y="657"/>
                  <a:pt x="1140" y="657"/>
                </a:cubicBezTo>
                <a:cubicBezTo>
                  <a:pt x="1140" y="661"/>
                  <a:pt x="1140" y="661"/>
                  <a:pt x="1140" y="661"/>
                </a:cubicBezTo>
                <a:cubicBezTo>
                  <a:pt x="1122" y="662"/>
                  <a:pt x="1122" y="662"/>
                  <a:pt x="1122" y="662"/>
                </a:cubicBezTo>
                <a:cubicBezTo>
                  <a:pt x="1105" y="663"/>
                  <a:pt x="1105" y="663"/>
                  <a:pt x="1105" y="663"/>
                </a:cubicBezTo>
                <a:cubicBezTo>
                  <a:pt x="1105" y="666"/>
                  <a:pt x="1105" y="666"/>
                  <a:pt x="1105" y="666"/>
                </a:cubicBezTo>
                <a:cubicBezTo>
                  <a:pt x="1087" y="666"/>
                  <a:pt x="1087" y="666"/>
                  <a:pt x="1087" y="666"/>
                </a:cubicBezTo>
                <a:cubicBezTo>
                  <a:pt x="1087" y="669"/>
                  <a:pt x="1087" y="669"/>
                  <a:pt x="1087" y="669"/>
                </a:cubicBezTo>
                <a:cubicBezTo>
                  <a:pt x="1067" y="669"/>
                  <a:pt x="1067" y="669"/>
                  <a:pt x="1067" y="669"/>
                </a:cubicBezTo>
                <a:cubicBezTo>
                  <a:pt x="1067" y="670"/>
                  <a:pt x="1067" y="670"/>
                  <a:pt x="1067" y="670"/>
                </a:cubicBezTo>
                <a:cubicBezTo>
                  <a:pt x="1057" y="673"/>
                  <a:pt x="1057" y="673"/>
                  <a:pt x="1057" y="673"/>
                </a:cubicBezTo>
                <a:cubicBezTo>
                  <a:pt x="1043" y="676"/>
                  <a:pt x="1043" y="676"/>
                  <a:pt x="1043" y="676"/>
                </a:cubicBezTo>
                <a:cubicBezTo>
                  <a:pt x="1043" y="679"/>
                  <a:pt x="1043" y="679"/>
                  <a:pt x="1043" y="679"/>
                </a:cubicBezTo>
                <a:cubicBezTo>
                  <a:pt x="1027" y="679"/>
                  <a:pt x="1027" y="679"/>
                  <a:pt x="1027" y="679"/>
                </a:cubicBezTo>
                <a:cubicBezTo>
                  <a:pt x="1027" y="681"/>
                  <a:pt x="1027" y="681"/>
                  <a:pt x="1027" y="681"/>
                </a:cubicBezTo>
                <a:cubicBezTo>
                  <a:pt x="1013" y="681"/>
                  <a:pt x="1013" y="681"/>
                  <a:pt x="1013" y="681"/>
                </a:cubicBezTo>
                <a:cubicBezTo>
                  <a:pt x="1013" y="683"/>
                  <a:pt x="1013" y="683"/>
                  <a:pt x="1013" y="683"/>
                </a:cubicBezTo>
                <a:cubicBezTo>
                  <a:pt x="998" y="683"/>
                  <a:pt x="998" y="683"/>
                  <a:pt x="998" y="683"/>
                </a:cubicBezTo>
                <a:cubicBezTo>
                  <a:pt x="978" y="683"/>
                  <a:pt x="978" y="683"/>
                  <a:pt x="978" y="683"/>
                </a:cubicBezTo>
                <a:cubicBezTo>
                  <a:pt x="965" y="684"/>
                  <a:pt x="965" y="684"/>
                  <a:pt x="965" y="684"/>
                </a:cubicBezTo>
                <a:cubicBezTo>
                  <a:pt x="947" y="684"/>
                  <a:pt x="947" y="684"/>
                  <a:pt x="947" y="684"/>
                </a:cubicBezTo>
                <a:cubicBezTo>
                  <a:pt x="927" y="684"/>
                  <a:pt x="927" y="684"/>
                  <a:pt x="927" y="684"/>
                </a:cubicBezTo>
                <a:cubicBezTo>
                  <a:pt x="920" y="684"/>
                  <a:pt x="920" y="684"/>
                  <a:pt x="920" y="684"/>
                </a:cubicBezTo>
                <a:cubicBezTo>
                  <a:pt x="902" y="688"/>
                  <a:pt x="902" y="688"/>
                  <a:pt x="902" y="688"/>
                </a:cubicBezTo>
                <a:cubicBezTo>
                  <a:pt x="887" y="688"/>
                  <a:pt x="887" y="688"/>
                  <a:pt x="887" y="688"/>
                </a:cubicBezTo>
                <a:cubicBezTo>
                  <a:pt x="874" y="688"/>
                  <a:pt x="874" y="688"/>
                  <a:pt x="874" y="688"/>
                </a:cubicBezTo>
                <a:cubicBezTo>
                  <a:pt x="855" y="690"/>
                  <a:pt x="855" y="690"/>
                  <a:pt x="855" y="690"/>
                </a:cubicBezTo>
                <a:cubicBezTo>
                  <a:pt x="840" y="690"/>
                  <a:pt x="840" y="690"/>
                  <a:pt x="840" y="690"/>
                </a:cubicBezTo>
                <a:cubicBezTo>
                  <a:pt x="813" y="690"/>
                  <a:pt x="813" y="690"/>
                  <a:pt x="813" y="690"/>
                </a:cubicBezTo>
                <a:cubicBezTo>
                  <a:pt x="800" y="693"/>
                  <a:pt x="800" y="693"/>
                  <a:pt x="800" y="693"/>
                </a:cubicBezTo>
                <a:cubicBezTo>
                  <a:pt x="759" y="693"/>
                  <a:pt x="759" y="693"/>
                  <a:pt x="759" y="693"/>
                </a:cubicBezTo>
                <a:cubicBezTo>
                  <a:pt x="746" y="695"/>
                  <a:pt x="746" y="695"/>
                  <a:pt x="746" y="695"/>
                </a:cubicBezTo>
                <a:cubicBezTo>
                  <a:pt x="732" y="695"/>
                  <a:pt x="732" y="695"/>
                  <a:pt x="732" y="695"/>
                </a:cubicBezTo>
                <a:cubicBezTo>
                  <a:pt x="713" y="695"/>
                  <a:pt x="713" y="695"/>
                  <a:pt x="713" y="695"/>
                </a:cubicBezTo>
                <a:cubicBezTo>
                  <a:pt x="697" y="695"/>
                  <a:pt x="697" y="695"/>
                  <a:pt x="697" y="695"/>
                </a:cubicBezTo>
                <a:cubicBezTo>
                  <a:pt x="684" y="695"/>
                  <a:pt x="684" y="695"/>
                  <a:pt x="684" y="695"/>
                </a:cubicBezTo>
                <a:cubicBezTo>
                  <a:pt x="670" y="695"/>
                  <a:pt x="670" y="695"/>
                  <a:pt x="670" y="695"/>
                </a:cubicBezTo>
                <a:cubicBezTo>
                  <a:pt x="652" y="695"/>
                  <a:pt x="652" y="695"/>
                  <a:pt x="652" y="695"/>
                </a:cubicBezTo>
                <a:cubicBezTo>
                  <a:pt x="637" y="695"/>
                  <a:pt x="637" y="695"/>
                  <a:pt x="637" y="695"/>
                </a:cubicBezTo>
                <a:cubicBezTo>
                  <a:pt x="624" y="695"/>
                  <a:pt x="624" y="695"/>
                  <a:pt x="624" y="695"/>
                </a:cubicBezTo>
                <a:cubicBezTo>
                  <a:pt x="603" y="695"/>
                  <a:pt x="603" y="695"/>
                  <a:pt x="603" y="695"/>
                </a:cubicBezTo>
                <a:cubicBezTo>
                  <a:pt x="592" y="695"/>
                  <a:pt x="592" y="695"/>
                  <a:pt x="592" y="695"/>
                </a:cubicBezTo>
                <a:cubicBezTo>
                  <a:pt x="573" y="695"/>
                  <a:pt x="573" y="695"/>
                  <a:pt x="573" y="695"/>
                </a:cubicBezTo>
                <a:cubicBezTo>
                  <a:pt x="557" y="695"/>
                  <a:pt x="557" y="695"/>
                  <a:pt x="557" y="695"/>
                </a:cubicBezTo>
                <a:cubicBezTo>
                  <a:pt x="543" y="695"/>
                  <a:pt x="543" y="695"/>
                  <a:pt x="543" y="695"/>
                </a:cubicBezTo>
                <a:cubicBezTo>
                  <a:pt x="523" y="695"/>
                  <a:pt x="523" y="695"/>
                  <a:pt x="523" y="695"/>
                </a:cubicBezTo>
                <a:cubicBezTo>
                  <a:pt x="513" y="695"/>
                  <a:pt x="513" y="695"/>
                  <a:pt x="513" y="695"/>
                </a:cubicBezTo>
                <a:cubicBezTo>
                  <a:pt x="495" y="695"/>
                  <a:pt x="495" y="695"/>
                  <a:pt x="495" y="695"/>
                </a:cubicBezTo>
                <a:cubicBezTo>
                  <a:pt x="478" y="695"/>
                  <a:pt x="478" y="695"/>
                  <a:pt x="478" y="695"/>
                </a:cubicBezTo>
                <a:cubicBezTo>
                  <a:pt x="462" y="695"/>
                  <a:pt x="462" y="695"/>
                  <a:pt x="462" y="695"/>
                </a:cubicBezTo>
                <a:cubicBezTo>
                  <a:pt x="452" y="693"/>
                  <a:pt x="452" y="693"/>
                  <a:pt x="452" y="693"/>
                </a:cubicBezTo>
                <a:cubicBezTo>
                  <a:pt x="436" y="693"/>
                  <a:pt x="436" y="693"/>
                  <a:pt x="436" y="693"/>
                </a:cubicBezTo>
                <a:cubicBezTo>
                  <a:pt x="418" y="693"/>
                  <a:pt x="418" y="693"/>
                  <a:pt x="418" y="693"/>
                </a:cubicBezTo>
                <a:cubicBezTo>
                  <a:pt x="410" y="693"/>
                  <a:pt x="410" y="693"/>
                  <a:pt x="410" y="693"/>
                </a:cubicBezTo>
                <a:cubicBezTo>
                  <a:pt x="387" y="693"/>
                  <a:pt x="387" y="693"/>
                  <a:pt x="387" y="693"/>
                </a:cubicBezTo>
                <a:cubicBezTo>
                  <a:pt x="375" y="693"/>
                  <a:pt x="375" y="693"/>
                  <a:pt x="375" y="693"/>
                </a:cubicBezTo>
                <a:cubicBezTo>
                  <a:pt x="357" y="693"/>
                  <a:pt x="357" y="693"/>
                  <a:pt x="357" y="693"/>
                </a:cubicBezTo>
                <a:cubicBezTo>
                  <a:pt x="339" y="693"/>
                  <a:pt x="339" y="693"/>
                  <a:pt x="339" y="693"/>
                </a:cubicBezTo>
                <a:cubicBezTo>
                  <a:pt x="339" y="695"/>
                  <a:pt x="339" y="695"/>
                  <a:pt x="339" y="695"/>
                </a:cubicBezTo>
                <a:cubicBezTo>
                  <a:pt x="324" y="695"/>
                  <a:pt x="324" y="695"/>
                  <a:pt x="324" y="695"/>
                </a:cubicBezTo>
                <a:cubicBezTo>
                  <a:pt x="312" y="695"/>
                  <a:pt x="312" y="695"/>
                  <a:pt x="312" y="695"/>
                </a:cubicBezTo>
                <a:cubicBezTo>
                  <a:pt x="297" y="695"/>
                  <a:pt x="297" y="695"/>
                  <a:pt x="297" y="695"/>
                </a:cubicBezTo>
                <a:cubicBezTo>
                  <a:pt x="277" y="695"/>
                  <a:pt x="277" y="695"/>
                  <a:pt x="277" y="695"/>
                </a:cubicBezTo>
                <a:cubicBezTo>
                  <a:pt x="263" y="695"/>
                  <a:pt x="263" y="695"/>
                  <a:pt x="263" y="695"/>
                </a:cubicBezTo>
                <a:cubicBezTo>
                  <a:pt x="246" y="695"/>
                  <a:pt x="246" y="695"/>
                  <a:pt x="246" y="695"/>
                </a:cubicBezTo>
                <a:cubicBezTo>
                  <a:pt x="234" y="695"/>
                  <a:pt x="234" y="695"/>
                  <a:pt x="234" y="695"/>
                </a:cubicBezTo>
                <a:cubicBezTo>
                  <a:pt x="234" y="697"/>
                  <a:pt x="234" y="697"/>
                  <a:pt x="234" y="697"/>
                </a:cubicBezTo>
                <a:cubicBezTo>
                  <a:pt x="214" y="697"/>
                  <a:pt x="214" y="697"/>
                  <a:pt x="214" y="697"/>
                </a:cubicBezTo>
                <a:cubicBezTo>
                  <a:pt x="198" y="697"/>
                  <a:pt x="198" y="697"/>
                  <a:pt x="198" y="697"/>
                </a:cubicBezTo>
                <a:cubicBezTo>
                  <a:pt x="187" y="697"/>
                  <a:pt x="187" y="697"/>
                  <a:pt x="187" y="697"/>
                </a:cubicBezTo>
                <a:cubicBezTo>
                  <a:pt x="168" y="697"/>
                  <a:pt x="168" y="697"/>
                  <a:pt x="168" y="697"/>
                </a:cubicBezTo>
                <a:cubicBezTo>
                  <a:pt x="157" y="697"/>
                  <a:pt x="157" y="697"/>
                  <a:pt x="157" y="697"/>
                </a:cubicBezTo>
                <a:cubicBezTo>
                  <a:pt x="139" y="697"/>
                  <a:pt x="139" y="697"/>
                  <a:pt x="139" y="697"/>
                </a:cubicBezTo>
                <a:cubicBezTo>
                  <a:pt x="119" y="697"/>
                  <a:pt x="119" y="697"/>
                  <a:pt x="119" y="697"/>
                </a:cubicBezTo>
                <a:cubicBezTo>
                  <a:pt x="106" y="697"/>
                  <a:pt x="106" y="697"/>
                  <a:pt x="106" y="697"/>
                </a:cubicBezTo>
                <a:cubicBezTo>
                  <a:pt x="106" y="698"/>
                  <a:pt x="106" y="698"/>
                  <a:pt x="106" y="698"/>
                </a:cubicBezTo>
                <a:cubicBezTo>
                  <a:pt x="88" y="698"/>
                  <a:pt x="88" y="698"/>
                  <a:pt x="88" y="698"/>
                </a:cubicBezTo>
                <a:cubicBezTo>
                  <a:pt x="73" y="698"/>
                  <a:pt x="73" y="698"/>
                  <a:pt x="73" y="698"/>
                </a:cubicBezTo>
                <a:cubicBezTo>
                  <a:pt x="56" y="698"/>
                  <a:pt x="56" y="698"/>
                  <a:pt x="56" y="698"/>
                </a:cubicBezTo>
                <a:cubicBezTo>
                  <a:pt x="44" y="698"/>
                  <a:pt x="44" y="698"/>
                  <a:pt x="44" y="698"/>
                </a:cubicBezTo>
                <a:cubicBezTo>
                  <a:pt x="26" y="702"/>
                  <a:pt x="26" y="702"/>
                  <a:pt x="26" y="702"/>
                </a:cubicBezTo>
                <a:cubicBezTo>
                  <a:pt x="26" y="702"/>
                  <a:pt x="26" y="702"/>
                  <a:pt x="26" y="702"/>
                </a:cubicBezTo>
                <a:cubicBezTo>
                  <a:pt x="26" y="702"/>
                  <a:pt x="26" y="702"/>
                  <a:pt x="26" y="702"/>
                </a:cubicBezTo>
                <a:cubicBezTo>
                  <a:pt x="0" y="702"/>
                  <a:pt x="0" y="702"/>
                  <a:pt x="0" y="702"/>
                </a:cubicBezTo>
                <a:close/>
              </a:path>
            </a:pathLst>
          </a:custGeom>
          <a:solidFill>
            <a:srgbClr val="f0f0f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022400" y="1644480"/>
            <a:ext cx="8070840" cy="82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ccording to an analysis of the B2B market conducted by AMR and Gartner, channel partners will represent 70% of all B2B eCommerce by 2004 accounting for $3.9 and $4.2 trillion respectively. </a:t>
            </a:r>
            <a:endParaRPr b="0" lang="en-US" sz="1800" spc="-1" strike="noStrike">
              <a:solidFill>
                <a:srgbClr val="000000"/>
              </a:solidFill>
              <a:latin typeface="Times New Roman"/>
            </a:endParaRPr>
          </a:p>
        </p:txBody>
      </p:sp>
      <p:sp>
        <p:nvSpPr>
          <p:cNvPr id="112" name=""/>
          <p:cNvSpPr/>
          <p:nvPr/>
        </p:nvSpPr>
        <p:spPr>
          <a:xfrm>
            <a:off x="912960" y="2922480"/>
            <a:ext cx="8891280" cy="1535400"/>
          </a:xfrm>
          <a:custGeom>
            <a:avLst/>
            <a:gdLst/>
            <a:ahLst/>
            <a:rect l="l" t="t" r="r" b="b"/>
            <a:pathLst>
              <a:path w="5601" h="967">
                <a:moveTo>
                  <a:pt x="0" y="0"/>
                </a:moveTo>
                <a:cubicBezTo>
                  <a:pt x="0" y="0"/>
                  <a:pt x="0" y="0"/>
                  <a:pt x="0" y="0"/>
                </a:cubicBezTo>
                <a:cubicBezTo>
                  <a:pt x="5577" y="0"/>
                  <a:pt x="5577" y="0"/>
                  <a:pt x="5577" y="0"/>
                </a:cubicBezTo>
                <a:cubicBezTo>
                  <a:pt x="5577" y="667"/>
                  <a:pt x="5577" y="667"/>
                  <a:pt x="5577" y="667"/>
                </a:cubicBezTo>
                <a:cubicBezTo>
                  <a:pt x="5601" y="667"/>
                  <a:pt x="5601" y="667"/>
                  <a:pt x="5601" y="667"/>
                </a:cubicBezTo>
                <a:cubicBezTo>
                  <a:pt x="5601" y="667"/>
                  <a:pt x="5601" y="667"/>
                  <a:pt x="5601" y="667"/>
                </a:cubicBezTo>
                <a:cubicBezTo>
                  <a:pt x="5577" y="667"/>
                  <a:pt x="5577" y="667"/>
                  <a:pt x="5577" y="667"/>
                </a:cubicBezTo>
                <a:cubicBezTo>
                  <a:pt x="5577" y="666"/>
                  <a:pt x="5577" y="666"/>
                  <a:pt x="5577" y="666"/>
                </a:cubicBezTo>
                <a:cubicBezTo>
                  <a:pt x="5568" y="666"/>
                  <a:pt x="5568" y="666"/>
                  <a:pt x="5568" y="666"/>
                </a:cubicBezTo>
                <a:cubicBezTo>
                  <a:pt x="5546" y="666"/>
                  <a:pt x="5546" y="666"/>
                  <a:pt x="5546" y="666"/>
                </a:cubicBezTo>
                <a:cubicBezTo>
                  <a:pt x="5533" y="666"/>
                  <a:pt x="5533" y="666"/>
                  <a:pt x="5533" y="666"/>
                </a:cubicBezTo>
                <a:cubicBezTo>
                  <a:pt x="5519" y="662"/>
                  <a:pt x="5519" y="662"/>
                  <a:pt x="5519" y="662"/>
                </a:cubicBezTo>
                <a:cubicBezTo>
                  <a:pt x="5502" y="662"/>
                  <a:pt x="5502" y="662"/>
                  <a:pt x="5502" y="662"/>
                </a:cubicBezTo>
                <a:cubicBezTo>
                  <a:pt x="5485" y="662"/>
                  <a:pt x="5485" y="662"/>
                  <a:pt x="5485" y="662"/>
                </a:cubicBezTo>
                <a:cubicBezTo>
                  <a:pt x="5473" y="662"/>
                  <a:pt x="5473" y="662"/>
                  <a:pt x="5473" y="662"/>
                </a:cubicBezTo>
                <a:cubicBezTo>
                  <a:pt x="5456" y="662"/>
                  <a:pt x="5456" y="662"/>
                  <a:pt x="5456" y="662"/>
                </a:cubicBezTo>
                <a:cubicBezTo>
                  <a:pt x="5439" y="666"/>
                  <a:pt x="5439" y="666"/>
                  <a:pt x="5439" y="666"/>
                </a:cubicBezTo>
                <a:cubicBezTo>
                  <a:pt x="5426" y="666"/>
                  <a:pt x="5426" y="666"/>
                  <a:pt x="5426" y="666"/>
                </a:cubicBezTo>
                <a:cubicBezTo>
                  <a:pt x="5408" y="666"/>
                  <a:pt x="5408" y="666"/>
                  <a:pt x="5408" y="666"/>
                </a:cubicBezTo>
                <a:cubicBezTo>
                  <a:pt x="5394" y="667"/>
                  <a:pt x="5394" y="667"/>
                  <a:pt x="5394" y="667"/>
                </a:cubicBezTo>
                <a:cubicBezTo>
                  <a:pt x="5380" y="667"/>
                  <a:pt x="5380" y="667"/>
                  <a:pt x="5380" y="667"/>
                </a:cubicBezTo>
                <a:cubicBezTo>
                  <a:pt x="5380" y="672"/>
                  <a:pt x="5380" y="672"/>
                  <a:pt x="5380" y="672"/>
                </a:cubicBezTo>
                <a:cubicBezTo>
                  <a:pt x="5356" y="672"/>
                  <a:pt x="5356" y="672"/>
                  <a:pt x="5356" y="672"/>
                </a:cubicBezTo>
                <a:cubicBezTo>
                  <a:pt x="5356" y="673"/>
                  <a:pt x="5356" y="673"/>
                  <a:pt x="5356" y="673"/>
                </a:cubicBezTo>
                <a:cubicBezTo>
                  <a:pt x="5343" y="673"/>
                  <a:pt x="5343" y="673"/>
                  <a:pt x="5343" y="673"/>
                </a:cubicBezTo>
                <a:cubicBezTo>
                  <a:pt x="5343" y="676"/>
                  <a:pt x="5343" y="676"/>
                  <a:pt x="5343" y="676"/>
                </a:cubicBezTo>
                <a:cubicBezTo>
                  <a:pt x="5326" y="682"/>
                  <a:pt x="5326" y="682"/>
                  <a:pt x="5326" y="682"/>
                </a:cubicBezTo>
                <a:cubicBezTo>
                  <a:pt x="5311" y="684"/>
                  <a:pt x="5311" y="684"/>
                  <a:pt x="5311" y="684"/>
                </a:cubicBezTo>
                <a:cubicBezTo>
                  <a:pt x="5311" y="688"/>
                  <a:pt x="5311" y="688"/>
                  <a:pt x="5311" y="688"/>
                </a:cubicBezTo>
                <a:cubicBezTo>
                  <a:pt x="5303" y="688"/>
                  <a:pt x="5303" y="688"/>
                  <a:pt x="5303" y="688"/>
                </a:cubicBezTo>
                <a:cubicBezTo>
                  <a:pt x="5285" y="690"/>
                  <a:pt x="5285" y="690"/>
                  <a:pt x="5285" y="690"/>
                </a:cubicBezTo>
                <a:cubicBezTo>
                  <a:pt x="5270" y="694"/>
                  <a:pt x="5270" y="694"/>
                  <a:pt x="5270" y="694"/>
                </a:cubicBezTo>
                <a:cubicBezTo>
                  <a:pt x="5255" y="697"/>
                  <a:pt x="5255" y="697"/>
                  <a:pt x="5255" y="697"/>
                </a:cubicBezTo>
                <a:cubicBezTo>
                  <a:pt x="5239" y="701"/>
                  <a:pt x="5239" y="701"/>
                  <a:pt x="5239" y="701"/>
                </a:cubicBezTo>
                <a:cubicBezTo>
                  <a:pt x="5221" y="701"/>
                  <a:pt x="5221" y="701"/>
                  <a:pt x="5221" y="701"/>
                </a:cubicBezTo>
                <a:cubicBezTo>
                  <a:pt x="5221" y="706"/>
                  <a:pt x="5221" y="706"/>
                  <a:pt x="5221" y="706"/>
                </a:cubicBezTo>
                <a:cubicBezTo>
                  <a:pt x="5202" y="706"/>
                  <a:pt x="5202" y="706"/>
                  <a:pt x="5202" y="706"/>
                </a:cubicBezTo>
                <a:cubicBezTo>
                  <a:pt x="5196" y="708"/>
                  <a:pt x="5196" y="708"/>
                  <a:pt x="5196" y="708"/>
                </a:cubicBezTo>
                <a:cubicBezTo>
                  <a:pt x="5176" y="708"/>
                  <a:pt x="5176" y="708"/>
                  <a:pt x="5176" y="708"/>
                </a:cubicBezTo>
                <a:cubicBezTo>
                  <a:pt x="5176" y="713"/>
                  <a:pt x="5176" y="713"/>
                  <a:pt x="5176" y="713"/>
                </a:cubicBezTo>
                <a:cubicBezTo>
                  <a:pt x="5163" y="713"/>
                  <a:pt x="5163" y="713"/>
                  <a:pt x="5163" y="713"/>
                </a:cubicBezTo>
                <a:cubicBezTo>
                  <a:pt x="5163" y="713"/>
                  <a:pt x="5163" y="713"/>
                  <a:pt x="5163" y="713"/>
                </a:cubicBezTo>
                <a:cubicBezTo>
                  <a:pt x="5142" y="713"/>
                  <a:pt x="5142" y="713"/>
                  <a:pt x="5142" y="713"/>
                </a:cubicBezTo>
                <a:cubicBezTo>
                  <a:pt x="5142" y="716"/>
                  <a:pt x="5142" y="716"/>
                  <a:pt x="5142" y="716"/>
                </a:cubicBezTo>
                <a:cubicBezTo>
                  <a:pt x="5130" y="716"/>
                  <a:pt x="5130" y="716"/>
                  <a:pt x="5130" y="716"/>
                </a:cubicBezTo>
                <a:cubicBezTo>
                  <a:pt x="5130" y="721"/>
                  <a:pt x="5130" y="721"/>
                  <a:pt x="5130" y="721"/>
                </a:cubicBezTo>
                <a:cubicBezTo>
                  <a:pt x="5111" y="721"/>
                  <a:pt x="5111" y="721"/>
                  <a:pt x="5111" y="721"/>
                </a:cubicBezTo>
                <a:cubicBezTo>
                  <a:pt x="5100" y="724"/>
                  <a:pt x="5100" y="724"/>
                  <a:pt x="5100" y="724"/>
                </a:cubicBezTo>
                <a:cubicBezTo>
                  <a:pt x="5083" y="724"/>
                  <a:pt x="5083" y="724"/>
                  <a:pt x="5083" y="724"/>
                </a:cubicBezTo>
                <a:cubicBezTo>
                  <a:pt x="5066" y="724"/>
                  <a:pt x="5066" y="724"/>
                  <a:pt x="5066" y="724"/>
                </a:cubicBezTo>
                <a:cubicBezTo>
                  <a:pt x="5066" y="727"/>
                  <a:pt x="5066" y="727"/>
                  <a:pt x="5066" y="727"/>
                </a:cubicBezTo>
                <a:cubicBezTo>
                  <a:pt x="5052" y="727"/>
                  <a:pt x="5052" y="727"/>
                  <a:pt x="5052" y="727"/>
                </a:cubicBezTo>
                <a:cubicBezTo>
                  <a:pt x="5034" y="727"/>
                  <a:pt x="5034" y="727"/>
                  <a:pt x="5034" y="727"/>
                </a:cubicBezTo>
                <a:cubicBezTo>
                  <a:pt x="5024" y="727"/>
                  <a:pt x="5024" y="727"/>
                  <a:pt x="5024" y="727"/>
                </a:cubicBezTo>
                <a:cubicBezTo>
                  <a:pt x="5024" y="731"/>
                  <a:pt x="5024" y="731"/>
                  <a:pt x="5024" y="731"/>
                </a:cubicBezTo>
                <a:cubicBezTo>
                  <a:pt x="5004" y="731"/>
                  <a:pt x="5004" y="731"/>
                  <a:pt x="5004" y="731"/>
                </a:cubicBezTo>
                <a:cubicBezTo>
                  <a:pt x="4986" y="731"/>
                  <a:pt x="4986" y="731"/>
                  <a:pt x="4986" y="731"/>
                </a:cubicBezTo>
                <a:cubicBezTo>
                  <a:pt x="4986" y="733"/>
                  <a:pt x="4986" y="733"/>
                  <a:pt x="4986" y="733"/>
                </a:cubicBezTo>
                <a:cubicBezTo>
                  <a:pt x="4971" y="733"/>
                  <a:pt x="4971" y="733"/>
                  <a:pt x="4971" y="733"/>
                </a:cubicBezTo>
                <a:cubicBezTo>
                  <a:pt x="4956" y="733"/>
                  <a:pt x="4956" y="733"/>
                  <a:pt x="4956" y="733"/>
                </a:cubicBezTo>
                <a:cubicBezTo>
                  <a:pt x="4942" y="733"/>
                  <a:pt x="4942" y="733"/>
                  <a:pt x="4942" y="733"/>
                </a:cubicBezTo>
                <a:cubicBezTo>
                  <a:pt x="4927" y="733"/>
                  <a:pt x="4927" y="733"/>
                  <a:pt x="4927" y="733"/>
                </a:cubicBezTo>
                <a:cubicBezTo>
                  <a:pt x="4911" y="733"/>
                  <a:pt x="4911" y="733"/>
                  <a:pt x="4911" y="733"/>
                </a:cubicBezTo>
                <a:cubicBezTo>
                  <a:pt x="4893" y="737"/>
                  <a:pt x="4893" y="737"/>
                  <a:pt x="4893" y="737"/>
                </a:cubicBezTo>
                <a:cubicBezTo>
                  <a:pt x="4874" y="737"/>
                  <a:pt x="4874" y="737"/>
                  <a:pt x="4874" y="737"/>
                </a:cubicBezTo>
                <a:cubicBezTo>
                  <a:pt x="4861" y="737"/>
                  <a:pt x="4861" y="737"/>
                  <a:pt x="4861" y="737"/>
                </a:cubicBezTo>
                <a:cubicBezTo>
                  <a:pt x="4846" y="737"/>
                  <a:pt x="4846" y="737"/>
                  <a:pt x="4846" y="737"/>
                </a:cubicBezTo>
                <a:cubicBezTo>
                  <a:pt x="4832" y="737"/>
                  <a:pt x="4832" y="737"/>
                  <a:pt x="4832" y="737"/>
                </a:cubicBezTo>
                <a:cubicBezTo>
                  <a:pt x="4817" y="737"/>
                  <a:pt x="4817" y="737"/>
                  <a:pt x="4817" y="737"/>
                </a:cubicBezTo>
                <a:cubicBezTo>
                  <a:pt x="4802" y="741"/>
                  <a:pt x="4802" y="741"/>
                  <a:pt x="4802" y="741"/>
                </a:cubicBezTo>
                <a:cubicBezTo>
                  <a:pt x="4785" y="741"/>
                  <a:pt x="4785" y="741"/>
                  <a:pt x="4785" y="741"/>
                </a:cubicBezTo>
                <a:cubicBezTo>
                  <a:pt x="4766" y="741"/>
                  <a:pt x="4766" y="741"/>
                  <a:pt x="4766" y="741"/>
                </a:cubicBezTo>
                <a:cubicBezTo>
                  <a:pt x="4766" y="741"/>
                  <a:pt x="4766" y="741"/>
                  <a:pt x="4766" y="741"/>
                </a:cubicBezTo>
                <a:cubicBezTo>
                  <a:pt x="4753" y="741"/>
                  <a:pt x="4753" y="741"/>
                  <a:pt x="4753" y="741"/>
                </a:cubicBezTo>
                <a:cubicBezTo>
                  <a:pt x="4734" y="741"/>
                  <a:pt x="4734" y="741"/>
                  <a:pt x="4734" y="741"/>
                </a:cubicBezTo>
                <a:cubicBezTo>
                  <a:pt x="4734" y="746"/>
                  <a:pt x="4734" y="746"/>
                  <a:pt x="4734" y="746"/>
                </a:cubicBezTo>
                <a:cubicBezTo>
                  <a:pt x="4724" y="746"/>
                  <a:pt x="4724" y="746"/>
                  <a:pt x="4724" y="746"/>
                </a:cubicBezTo>
                <a:cubicBezTo>
                  <a:pt x="4699" y="746"/>
                  <a:pt x="4699" y="746"/>
                  <a:pt x="4699" y="746"/>
                </a:cubicBezTo>
                <a:cubicBezTo>
                  <a:pt x="4699" y="750"/>
                  <a:pt x="4699" y="750"/>
                  <a:pt x="4699" y="750"/>
                </a:cubicBezTo>
                <a:cubicBezTo>
                  <a:pt x="4693" y="750"/>
                  <a:pt x="4693" y="750"/>
                  <a:pt x="4693" y="750"/>
                </a:cubicBezTo>
                <a:cubicBezTo>
                  <a:pt x="4676" y="753"/>
                  <a:pt x="4676" y="753"/>
                  <a:pt x="4676" y="753"/>
                </a:cubicBezTo>
                <a:cubicBezTo>
                  <a:pt x="4660" y="753"/>
                  <a:pt x="4660" y="753"/>
                  <a:pt x="4660" y="753"/>
                </a:cubicBezTo>
                <a:cubicBezTo>
                  <a:pt x="4660" y="756"/>
                  <a:pt x="4660" y="756"/>
                  <a:pt x="4660" y="756"/>
                </a:cubicBezTo>
                <a:cubicBezTo>
                  <a:pt x="4644" y="756"/>
                  <a:pt x="4644" y="756"/>
                  <a:pt x="4644" y="756"/>
                </a:cubicBezTo>
                <a:cubicBezTo>
                  <a:pt x="4629" y="761"/>
                  <a:pt x="4629" y="761"/>
                  <a:pt x="4629" y="761"/>
                </a:cubicBezTo>
                <a:cubicBezTo>
                  <a:pt x="4609" y="761"/>
                  <a:pt x="4609" y="761"/>
                  <a:pt x="4609" y="761"/>
                </a:cubicBezTo>
                <a:cubicBezTo>
                  <a:pt x="4609" y="764"/>
                  <a:pt x="4609" y="764"/>
                  <a:pt x="4609" y="764"/>
                </a:cubicBezTo>
                <a:cubicBezTo>
                  <a:pt x="4598" y="764"/>
                  <a:pt x="4598" y="764"/>
                  <a:pt x="4598" y="764"/>
                </a:cubicBezTo>
                <a:cubicBezTo>
                  <a:pt x="4598" y="766"/>
                  <a:pt x="4598" y="766"/>
                  <a:pt x="4598" y="766"/>
                </a:cubicBezTo>
                <a:cubicBezTo>
                  <a:pt x="4582" y="766"/>
                  <a:pt x="4582" y="766"/>
                  <a:pt x="4582" y="766"/>
                </a:cubicBezTo>
                <a:cubicBezTo>
                  <a:pt x="4567" y="766"/>
                  <a:pt x="4567" y="766"/>
                  <a:pt x="4567" y="766"/>
                </a:cubicBezTo>
                <a:cubicBezTo>
                  <a:pt x="4567" y="768"/>
                  <a:pt x="4567" y="768"/>
                  <a:pt x="4567" y="768"/>
                </a:cubicBezTo>
                <a:cubicBezTo>
                  <a:pt x="4550" y="768"/>
                  <a:pt x="4550" y="768"/>
                  <a:pt x="4550" y="768"/>
                </a:cubicBezTo>
                <a:cubicBezTo>
                  <a:pt x="4534" y="768"/>
                  <a:pt x="4534" y="768"/>
                  <a:pt x="4534" y="768"/>
                </a:cubicBezTo>
                <a:cubicBezTo>
                  <a:pt x="4517" y="768"/>
                  <a:pt x="4517" y="768"/>
                  <a:pt x="4517" y="768"/>
                </a:cubicBezTo>
                <a:cubicBezTo>
                  <a:pt x="4507" y="768"/>
                  <a:pt x="4507" y="768"/>
                  <a:pt x="4507" y="768"/>
                </a:cubicBezTo>
                <a:cubicBezTo>
                  <a:pt x="4489" y="768"/>
                  <a:pt x="4489" y="768"/>
                  <a:pt x="4489" y="768"/>
                </a:cubicBezTo>
                <a:cubicBezTo>
                  <a:pt x="4473" y="768"/>
                  <a:pt x="4473" y="768"/>
                  <a:pt x="4473" y="768"/>
                </a:cubicBezTo>
                <a:cubicBezTo>
                  <a:pt x="4456" y="768"/>
                  <a:pt x="4456" y="768"/>
                  <a:pt x="4456" y="768"/>
                </a:cubicBezTo>
                <a:cubicBezTo>
                  <a:pt x="4439" y="768"/>
                  <a:pt x="4439" y="768"/>
                  <a:pt x="4439" y="768"/>
                </a:cubicBezTo>
                <a:cubicBezTo>
                  <a:pt x="4430" y="768"/>
                  <a:pt x="4430" y="768"/>
                  <a:pt x="4430" y="768"/>
                </a:cubicBezTo>
                <a:cubicBezTo>
                  <a:pt x="4408" y="766"/>
                  <a:pt x="4408" y="766"/>
                  <a:pt x="4408" y="766"/>
                </a:cubicBezTo>
                <a:cubicBezTo>
                  <a:pt x="4398" y="766"/>
                  <a:pt x="4398" y="766"/>
                  <a:pt x="4398" y="766"/>
                </a:cubicBezTo>
                <a:cubicBezTo>
                  <a:pt x="4381" y="766"/>
                  <a:pt x="4381" y="766"/>
                  <a:pt x="4381" y="766"/>
                </a:cubicBezTo>
                <a:cubicBezTo>
                  <a:pt x="4367" y="766"/>
                  <a:pt x="4367" y="766"/>
                  <a:pt x="4367" y="766"/>
                </a:cubicBezTo>
                <a:cubicBezTo>
                  <a:pt x="4347" y="764"/>
                  <a:pt x="4347" y="764"/>
                  <a:pt x="4347" y="764"/>
                </a:cubicBezTo>
                <a:cubicBezTo>
                  <a:pt x="4333" y="764"/>
                  <a:pt x="4333" y="764"/>
                  <a:pt x="4333" y="764"/>
                </a:cubicBezTo>
                <a:cubicBezTo>
                  <a:pt x="4333" y="761"/>
                  <a:pt x="4333" y="761"/>
                  <a:pt x="4333" y="761"/>
                </a:cubicBezTo>
                <a:cubicBezTo>
                  <a:pt x="4313" y="761"/>
                  <a:pt x="4313" y="761"/>
                  <a:pt x="4313" y="761"/>
                </a:cubicBezTo>
                <a:cubicBezTo>
                  <a:pt x="4313" y="756"/>
                  <a:pt x="4313" y="756"/>
                  <a:pt x="4313" y="756"/>
                </a:cubicBezTo>
                <a:cubicBezTo>
                  <a:pt x="4306" y="756"/>
                  <a:pt x="4306" y="756"/>
                  <a:pt x="4306" y="756"/>
                </a:cubicBezTo>
                <a:cubicBezTo>
                  <a:pt x="4287" y="756"/>
                  <a:pt x="4287" y="756"/>
                  <a:pt x="4287" y="756"/>
                </a:cubicBezTo>
                <a:cubicBezTo>
                  <a:pt x="4270" y="756"/>
                  <a:pt x="4270" y="756"/>
                  <a:pt x="4270" y="756"/>
                </a:cubicBezTo>
                <a:cubicBezTo>
                  <a:pt x="4249" y="756"/>
                  <a:pt x="4249" y="756"/>
                  <a:pt x="4249" y="756"/>
                </a:cubicBezTo>
                <a:cubicBezTo>
                  <a:pt x="4249" y="761"/>
                  <a:pt x="4249" y="761"/>
                  <a:pt x="4249" y="761"/>
                </a:cubicBezTo>
                <a:cubicBezTo>
                  <a:pt x="4237" y="761"/>
                  <a:pt x="4237" y="761"/>
                  <a:pt x="4237" y="761"/>
                </a:cubicBezTo>
                <a:cubicBezTo>
                  <a:pt x="4221" y="761"/>
                  <a:pt x="4221" y="761"/>
                  <a:pt x="4221" y="761"/>
                </a:cubicBezTo>
                <a:cubicBezTo>
                  <a:pt x="4221" y="764"/>
                  <a:pt x="4221" y="764"/>
                  <a:pt x="4221" y="764"/>
                </a:cubicBezTo>
                <a:cubicBezTo>
                  <a:pt x="4221" y="766"/>
                  <a:pt x="4221" y="766"/>
                  <a:pt x="4221" y="766"/>
                </a:cubicBezTo>
                <a:cubicBezTo>
                  <a:pt x="4208" y="766"/>
                  <a:pt x="4208" y="766"/>
                  <a:pt x="4208" y="766"/>
                </a:cubicBezTo>
                <a:cubicBezTo>
                  <a:pt x="4208" y="768"/>
                  <a:pt x="4208" y="768"/>
                  <a:pt x="4208" y="768"/>
                </a:cubicBezTo>
                <a:cubicBezTo>
                  <a:pt x="4194" y="768"/>
                  <a:pt x="4194" y="768"/>
                  <a:pt x="4194" y="768"/>
                </a:cubicBezTo>
                <a:cubicBezTo>
                  <a:pt x="4178" y="774"/>
                  <a:pt x="4178" y="774"/>
                  <a:pt x="4178" y="774"/>
                </a:cubicBezTo>
                <a:cubicBezTo>
                  <a:pt x="4155" y="774"/>
                  <a:pt x="4155" y="774"/>
                  <a:pt x="4155" y="774"/>
                </a:cubicBezTo>
                <a:cubicBezTo>
                  <a:pt x="4143" y="776"/>
                  <a:pt x="4143" y="776"/>
                  <a:pt x="4143" y="776"/>
                </a:cubicBezTo>
                <a:cubicBezTo>
                  <a:pt x="4130" y="776"/>
                  <a:pt x="4130" y="776"/>
                  <a:pt x="4130" y="776"/>
                </a:cubicBezTo>
                <a:cubicBezTo>
                  <a:pt x="4130" y="781"/>
                  <a:pt x="4130" y="781"/>
                  <a:pt x="4130" y="781"/>
                </a:cubicBezTo>
                <a:cubicBezTo>
                  <a:pt x="4116" y="781"/>
                  <a:pt x="4116" y="781"/>
                  <a:pt x="4116" y="781"/>
                </a:cubicBezTo>
                <a:cubicBezTo>
                  <a:pt x="4103" y="783"/>
                  <a:pt x="4103" y="783"/>
                  <a:pt x="4103" y="783"/>
                </a:cubicBezTo>
                <a:cubicBezTo>
                  <a:pt x="4087" y="786"/>
                  <a:pt x="4087" y="786"/>
                  <a:pt x="4087" y="786"/>
                </a:cubicBezTo>
                <a:cubicBezTo>
                  <a:pt x="4064" y="786"/>
                  <a:pt x="4064" y="786"/>
                  <a:pt x="4064" y="786"/>
                </a:cubicBezTo>
                <a:cubicBezTo>
                  <a:pt x="4053" y="790"/>
                  <a:pt x="4053" y="790"/>
                  <a:pt x="4053" y="790"/>
                </a:cubicBezTo>
                <a:cubicBezTo>
                  <a:pt x="4034" y="790"/>
                  <a:pt x="4034" y="790"/>
                  <a:pt x="4034" y="790"/>
                </a:cubicBezTo>
                <a:cubicBezTo>
                  <a:pt x="4034" y="793"/>
                  <a:pt x="4034" y="793"/>
                  <a:pt x="4034" y="793"/>
                </a:cubicBezTo>
                <a:cubicBezTo>
                  <a:pt x="4024" y="793"/>
                  <a:pt x="4024" y="793"/>
                  <a:pt x="4024" y="793"/>
                </a:cubicBezTo>
                <a:cubicBezTo>
                  <a:pt x="4007" y="793"/>
                  <a:pt x="4007" y="793"/>
                  <a:pt x="4007" y="793"/>
                </a:cubicBezTo>
                <a:cubicBezTo>
                  <a:pt x="4007" y="796"/>
                  <a:pt x="4007" y="796"/>
                  <a:pt x="4007" y="796"/>
                </a:cubicBezTo>
                <a:cubicBezTo>
                  <a:pt x="3987" y="796"/>
                  <a:pt x="3987" y="796"/>
                  <a:pt x="3987" y="796"/>
                </a:cubicBezTo>
                <a:cubicBezTo>
                  <a:pt x="3978" y="796"/>
                  <a:pt x="3978" y="796"/>
                  <a:pt x="3978" y="796"/>
                </a:cubicBezTo>
                <a:cubicBezTo>
                  <a:pt x="3954" y="796"/>
                  <a:pt x="3954" y="796"/>
                  <a:pt x="3954" y="796"/>
                </a:cubicBezTo>
                <a:cubicBezTo>
                  <a:pt x="3945" y="796"/>
                  <a:pt x="3945" y="796"/>
                  <a:pt x="3945" y="796"/>
                </a:cubicBezTo>
                <a:cubicBezTo>
                  <a:pt x="3928" y="796"/>
                  <a:pt x="3928" y="796"/>
                  <a:pt x="3928" y="796"/>
                </a:cubicBezTo>
                <a:cubicBezTo>
                  <a:pt x="3913" y="796"/>
                  <a:pt x="3913" y="796"/>
                  <a:pt x="3913" y="796"/>
                </a:cubicBezTo>
                <a:cubicBezTo>
                  <a:pt x="3895" y="793"/>
                  <a:pt x="3895" y="793"/>
                  <a:pt x="3895" y="793"/>
                </a:cubicBezTo>
                <a:cubicBezTo>
                  <a:pt x="3884" y="796"/>
                  <a:pt x="3884" y="796"/>
                  <a:pt x="3884" y="796"/>
                </a:cubicBezTo>
                <a:cubicBezTo>
                  <a:pt x="3867" y="796"/>
                  <a:pt x="3867" y="796"/>
                  <a:pt x="3867" y="796"/>
                </a:cubicBezTo>
                <a:cubicBezTo>
                  <a:pt x="3852" y="801"/>
                  <a:pt x="3852" y="801"/>
                  <a:pt x="3852" y="801"/>
                </a:cubicBezTo>
                <a:cubicBezTo>
                  <a:pt x="3834" y="805"/>
                  <a:pt x="3834" y="805"/>
                  <a:pt x="3834" y="805"/>
                </a:cubicBezTo>
                <a:cubicBezTo>
                  <a:pt x="3819" y="807"/>
                  <a:pt x="3819" y="807"/>
                  <a:pt x="3819" y="807"/>
                </a:cubicBezTo>
                <a:cubicBezTo>
                  <a:pt x="3801" y="807"/>
                  <a:pt x="3801" y="807"/>
                  <a:pt x="3801" y="807"/>
                </a:cubicBezTo>
                <a:cubicBezTo>
                  <a:pt x="3789" y="810"/>
                  <a:pt x="3789" y="810"/>
                  <a:pt x="3789" y="810"/>
                </a:cubicBezTo>
                <a:cubicBezTo>
                  <a:pt x="3772" y="813"/>
                  <a:pt x="3772" y="813"/>
                  <a:pt x="3772" y="813"/>
                </a:cubicBezTo>
                <a:cubicBezTo>
                  <a:pt x="3753" y="813"/>
                  <a:pt x="3753" y="813"/>
                  <a:pt x="3753" y="813"/>
                </a:cubicBezTo>
                <a:cubicBezTo>
                  <a:pt x="3739" y="818"/>
                  <a:pt x="3739" y="818"/>
                  <a:pt x="3739" y="818"/>
                </a:cubicBezTo>
                <a:cubicBezTo>
                  <a:pt x="3726" y="818"/>
                  <a:pt x="3726" y="818"/>
                  <a:pt x="3726" y="818"/>
                </a:cubicBezTo>
                <a:cubicBezTo>
                  <a:pt x="3706" y="818"/>
                  <a:pt x="3706" y="818"/>
                  <a:pt x="3706" y="818"/>
                </a:cubicBezTo>
                <a:cubicBezTo>
                  <a:pt x="3693" y="818"/>
                  <a:pt x="3693" y="818"/>
                  <a:pt x="3693" y="818"/>
                </a:cubicBezTo>
                <a:cubicBezTo>
                  <a:pt x="3674" y="824"/>
                  <a:pt x="3674" y="824"/>
                  <a:pt x="3674" y="824"/>
                </a:cubicBezTo>
                <a:cubicBezTo>
                  <a:pt x="3662" y="824"/>
                  <a:pt x="3662" y="824"/>
                  <a:pt x="3662" y="824"/>
                </a:cubicBezTo>
                <a:cubicBezTo>
                  <a:pt x="3662" y="824"/>
                  <a:pt x="3662" y="824"/>
                  <a:pt x="3662" y="824"/>
                </a:cubicBezTo>
                <a:cubicBezTo>
                  <a:pt x="3645" y="824"/>
                  <a:pt x="3645" y="824"/>
                  <a:pt x="3645" y="824"/>
                </a:cubicBezTo>
                <a:cubicBezTo>
                  <a:pt x="3631" y="827"/>
                  <a:pt x="3631" y="827"/>
                  <a:pt x="3631" y="827"/>
                </a:cubicBezTo>
                <a:cubicBezTo>
                  <a:pt x="3631" y="831"/>
                  <a:pt x="3631" y="831"/>
                  <a:pt x="3631" y="831"/>
                </a:cubicBezTo>
                <a:cubicBezTo>
                  <a:pt x="3613" y="831"/>
                  <a:pt x="3613" y="831"/>
                  <a:pt x="3613" y="831"/>
                </a:cubicBezTo>
                <a:cubicBezTo>
                  <a:pt x="3613" y="836"/>
                  <a:pt x="3613" y="836"/>
                  <a:pt x="3613" y="836"/>
                </a:cubicBezTo>
                <a:cubicBezTo>
                  <a:pt x="3601" y="839"/>
                  <a:pt x="3601" y="839"/>
                  <a:pt x="3601" y="839"/>
                </a:cubicBezTo>
                <a:cubicBezTo>
                  <a:pt x="3587" y="842"/>
                  <a:pt x="3587" y="842"/>
                  <a:pt x="3587" y="842"/>
                </a:cubicBezTo>
                <a:cubicBezTo>
                  <a:pt x="3575" y="844"/>
                  <a:pt x="3575" y="844"/>
                  <a:pt x="3575" y="844"/>
                </a:cubicBezTo>
                <a:cubicBezTo>
                  <a:pt x="3552" y="844"/>
                  <a:pt x="3552" y="844"/>
                  <a:pt x="3552" y="844"/>
                </a:cubicBezTo>
                <a:cubicBezTo>
                  <a:pt x="3537" y="844"/>
                  <a:pt x="3537" y="844"/>
                  <a:pt x="3537" y="844"/>
                </a:cubicBezTo>
                <a:cubicBezTo>
                  <a:pt x="3523" y="844"/>
                  <a:pt x="3523" y="844"/>
                  <a:pt x="3523" y="844"/>
                </a:cubicBezTo>
                <a:cubicBezTo>
                  <a:pt x="3507" y="844"/>
                  <a:pt x="3507" y="844"/>
                  <a:pt x="3507" y="844"/>
                </a:cubicBezTo>
                <a:cubicBezTo>
                  <a:pt x="3492" y="844"/>
                  <a:pt x="3492" y="844"/>
                  <a:pt x="3492" y="844"/>
                </a:cubicBezTo>
                <a:cubicBezTo>
                  <a:pt x="3480" y="844"/>
                  <a:pt x="3480" y="844"/>
                  <a:pt x="3480" y="844"/>
                </a:cubicBezTo>
                <a:cubicBezTo>
                  <a:pt x="3458" y="844"/>
                  <a:pt x="3458" y="844"/>
                  <a:pt x="3458" y="844"/>
                </a:cubicBezTo>
                <a:cubicBezTo>
                  <a:pt x="3446" y="844"/>
                  <a:pt x="3446" y="844"/>
                  <a:pt x="3446" y="844"/>
                </a:cubicBezTo>
                <a:cubicBezTo>
                  <a:pt x="3446" y="842"/>
                  <a:pt x="3446" y="842"/>
                  <a:pt x="3446" y="842"/>
                </a:cubicBezTo>
                <a:cubicBezTo>
                  <a:pt x="3431" y="842"/>
                  <a:pt x="3431" y="842"/>
                  <a:pt x="3431" y="842"/>
                </a:cubicBezTo>
                <a:cubicBezTo>
                  <a:pt x="3414" y="842"/>
                  <a:pt x="3414" y="842"/>
                  <a:pt x="3414" y="842"/>
                </a:cubicBezTo>
                <a:cubicBezTo>
                  <a:pt x="3414" y="839"/>
                  <a:pt x="3414" y="839"/>
                  <a:pt x="3414" y="839"/>
                </a:cubicBezTo>
                <a:cubicBezTo>
                  <a:pt x="3396" y="839"/>
                  <a:pt x="3396" y="839"/>
                  <a:pt x="3396" y="839"/>
                </a:cubicBezTo>
                <a:cubicBezTo>
                  <a:pt x="3384" y="839"/>
                  <a:pt x="3384" y="839"/>
                  <a:pt x="3384" y="839"/>
                </a:cubicBezTo>
                <a:cubicBezTo>
                  <a:pt x="3384" y="836"/>
                  <a:pt x="3384" y="836"/>
                  <a:pt x="3384" y="836"/>
                </a:cubicBezTo>
                <a:cubicBezTo>
                  <a:pt x="3365" y="836"/>
                  <a:pt x="3365" y="836"/>
                  <a:pt x="3365" y="836"/>
                </a:cubicBezTo>
                <a:cubicBezTo>
                  <a:pt x="3365" y="831"/>
                  <a:pt x="3365" y="831"/>
                  <a:pt x="3365" y="831"/>
                </a:cubicBezTo>
                <a:cubicBezTo>
                  <a:pt x="3347" y="831"/>
                  <a:pt x="3347" y="831"/>
                  <a:pt x="3347" y="831"/>
                </a:cubicBezTo>
                <a:cubicBezTo>
                  <a:pt x="3337" y="831"/>
                  <a:pt x="3337" y="831"/>
                  <a:pt x="3337" y="831"/>
                </a:cubicBezTo>
                <a:cubicBezTo>
                  <a:pt x="3318" y="827"/>
                  <a:pt x="3318" y="827"/>
                  <a:pt x="3318" y="827"/>
                </a:cubicBezTo>
                <a:cubicBezTo>
                  <a:pt x="3304" y="824"/>
                  <a:pt x="3304" y="824"/>
                  <a:pt x="3304" y="824"/>
                </a:cubicBezTo>
                <a:cubicBezTo>
                  <a:pt x="3287" y="827"/>
                  <a:pt x="3287" y="827"/>
                  <a:pt x="3287" y="827"/>
                </a:cubicBezTo>
                <a:cubicBezTo>
                  <a:pt x="3267" y="827"/>
                  <a:pt x="3267" y="827"/>
                  <a:pt x="3267" y="827"/>
                </a:cubicBezTo>
                <a:cubicBezTo>
                  <a:pt x="3253" y="831"/>
                  <a:pt x="3253" y="831"/>
                  <a:pt x="3253" y="831"/>
                </a:cubicBezTo>
                <a:cubicBezTo>
                  <a:pt x="3237" y="831"/>
                  <a:pt x="3237" y="831"/>
                  <a:pt x="3237" y="831"/>
                </a:cubicBezTo>
                <a:cubicBezTo>
                  <a:pt x="3237" y="836"/>
                  <a:pt x="3237" y="836"/>
                  <a:pt x="3237" y="836"/>
                </a:cubicBezTo>
                <a:cubicBezTo>
                  <a:pt x="3227" y="836"/>
                  <a:pt x="3227" y="836"/>
                  <a:pt x="3227" y="836"/>
                </a:cubicBezTo>
                <a:cubicBezTo>
                  <a:pt x="3214" y="836"/>
                  <a:pt x="3214" y="836"/>
                  <a:pt x="3214" y="836"/>
                </a:cubicBezTo>
                <a:cubicBezTo>
                  <a:pt x="3214" y="839"/>
                  <a:pt x="3214" y="839"/>
                  <a:pt x="3214" y="839"/>
                </a:cubicBezTo>
                <a:cubicBezTo>
                  <a:pt x="3193" y="839"/>
                  <a:pt x="3193" y="839"/>
                  <a:pt x="3193" y="839"/>
                </a:cubicBezTo>
                <a:cubicBezTo>
                  <a:pt x="3193" y="842"/>
                  <a:pt x="3193" y="842"/>
                  <a:pt x="3193" y="842"/>
                </a:cubicBezTo>
                <a:cubicBezTo>
                  <a:pt x="3178" y="842"/>
                  <a:pt x="3178" y="842"/>
                  <a:pt x="3178" y="842"/>
                </a:cubicBezTo>
                <a:cubicBezTo>
                  <a:pt x="3178" y="844"/>
                  <a:pt x="3178" y="844"/>
                  <a:pt x="3178" y="844"/>
                </a:cubicBezTo>
                <a:cubicBezTo>
                  <a:pt x="3161" y="844"/>
                  <a:pt x="3161" y="844"/>
                  <a:pt x="3161" y="844"/>
                </a:cubicBezTo>
                <a:cubicBezTo>
                  <a:pt x="3161" y="849"/>
                  <a:pt x="3161" y="849"/>
                  <a:pt x="3161" y="849"/>
                </a:cubicBezTo>
                <a:cubicBezTo>
                  <a:pt x="3145" y="849"/>
                  <a:pt x="3145" y="849"/>
                  <a:pt x="3145" y="849"/>
                </a:cubicBezTo>
                <a:cubicBezTo>
                  <a:pt x="3134" y="850"/>
                  <a:pt x="3134" y="850"/>
                  <a:pt x="3134" y="850"/>
                </a:cubicBezTo>
                <a:cubicBezTo>
                  <a:pt x="3115" y="850"/>
                  <a:pt x="3115" y="850"/>
                  <a:pt x="3115" y="850"/>
                </a:cubicBezTo>
                <a:cubicBezTo>
                  <a:pt x="3115" y="858"/>
                  <a:pt x="3115" y="858"/>
                  <a:pt x="3115" y="858"/>
                </a:cubicBezTo>
                <a:cubicBezTo>
                  <a:pt x="3096" y="858"/>
                  <a:pt x="3096" y="858"/>
                  <a:pt x="3096" y="858"/>
                </a:cubicBezTo>
                <a:cubicBezTo>
                  <a:pt x="3086" y="858"/>
                  <a:pt x="3086" y="858"/>
                  <a:pt x="3086" y="858"/>
                </a:cubicBezTo>
                <a:cubicBezTo>
                  <a:pt x="3086" y="858"/>
                  <a:pt x="3086" y="858"/>
                  <a:pt x="3086" y="858"/>
                </a:cubicBezTo>
                <a:cubicBezTo>
                  <a:pt x="3065" y="858"/>
                  <a:pt x="3065" y="858"/>
                  <a:pt x="3065" y="858"/>
                </a:cubicBezTo>
                <a:cubicBezTo>
                  <a:pt x="3055" y="861"/>
                  <a:pt x="3055" y="861"/>
                  <a:pt x="3055" y="861"/>
                </a:cubicBezTo>
                <a:cubicBezTo>
                  <a:pt x="3042" y="861"/>
                  <a:pt x="3042" y="861"/>
                  <a:pt x="3042" y="861"/>
                </a:cubicBezTo>
                <a:cubicBezTo>
                  <a:pt x="3042" y="866"/>
                  <a:pt x="3042" y="866"/>
                  <a:pt x="3042" y="866"/>
                </a:cubicBezTo>
                <a:cubicBezTo>
                  <a:pt x="3022" y="869"/>
                  <a:pt x="3022" y="869"/>
                  <a:pt x="3022" y="869"/>
                </a:cubicBezTo>
                <a:cubicBezTo>
                  <a:pt x="3022" y="869"/>
                  <a:pt x="3022" y="869"/>
                  <a:pt x="3022" y="869"/>
                </a:cubicBezTo>
                <a:cubicBezTo>
                  <a:pt x="3009" y="869"/>
                  <a:pt x="3009" y="869"/>
                  <a:pt x="3009" y="869"/>
                </a:cubicBezTo>
                <a:cubicBezTo>
                  <a:pt x="2990" y="873"/>
                  <a:pt x="2990" y="873"/>
                  <a:pt x="2990" y="873"/>
                </a:cubicBezTo>
                <a:cubicBezTo>
                  <a:pt x="2980" y="873"/>
                  <a:pt x="2980" y="873"/>
                  <a:pt x="2980" y="873"/>
                </a:cubicBezTo>
                <a:cubicBezTo>
                  <a:pt x="2958" y="873"/>
                  <a:pt x="2958" y="873"/>
                  <a:pt x="2958" y="873"/>
                </a:cubicBezTo>
                <a:cubicBezTo>
                  <a:pt x="2943" y="873"/>
                  <a:pt x="2943" y="873"/>
                  <a:pt x="2943" y="873"/>
                </a:cubicBezTo>
                <a:cubicBezTo>
                  <a:pt x="2932" y="873"/>
                  <a:pt x="2932" y="873"/>
                  <a:pt x="2932" y="873"/>
                </a:cubicBezTo>
                <a:cubicBezTo>
                  <a:pt x="2917" y="873"/>
                  <a:pt x="2917" y="873"/>
                  <a:pt x="2917" y="873"/>
                </a:cubicBezTo>
                <a:cubicBezTo>
                  <a:pt x="2917" y="869"/>
                  <a:pt x="2917" y="869"/>
                  <a:pt x="2917" y="869"/>
                </a:cubicBezTo>
                <a:cubicBezTo>
                  <a:pt x="2895" y="869"/>
                  <a:pt x="2895" y="869"/>
                  <a:pt x="2895" y="869"/>
                </a:cubicBezTo>
                <a:cubicBezTo>
                  <a:pt x="2881" y="869"/>
                  <a:pt x="2881" y="869"/>
                  <a:pt x="2881" y="869"/>
                </a:cubicBezTo>
                <a:cubicBezTo>
                  <a:pt x="2871" y="866"/>
                  <a:pt x="2871" y="866"/>
                  <a:pt x="2871" y="866"/>
                </a:cubicBezTo>
                <a:cubicBezTo>
                  <a:pt x="2847" y="866"/>
                  <a:pt x="2847" y="866"/>
                  <a:pt x="2847" y="866"/>
                </a:cubicBezTo>
                <a:cubicBezTo>
                  <a:pt x="2837" y="861"/>
                  <a:pt x="2837" y="861"/>
                  <a:pt x="2837" y="861"/>
                </a:cubicBezTo>
                <a:cubicBezTo>
                  <a:pt x="2822" y="858"/>
                  <a:pt x="2822" y="858"/>
                  <a:pt x="2822" y="858"/>
                </a:cubicBezTo>
                <a:cubicBezTo>
                  <a:pt x="2806" y="858"/>
                  <a:pt x="2806" y="858"/>
                  <a:pt x="2806" y="858"/>
                </a:cubicBezTo>
                <a:cubicBezTo>
                  <a:pt x="2792" y="858"/>
                  <a:pt x="2792" y="858"/>
                  <a:pt x="2792" y="858"/>
                </a:cubicBezTo>
                <a:cubicBezTo>
                  <a:pt x="2792" y="858"/>
                  <a:pt x="2792" y="858"/>
                  <a:pt x="2792" y="858"/>
                </a:cubicBezTo>
                <a:cubicBezTo>
                  <a:pt x="2772" y="858"/>
                  <a:pt x="2772" y="858"/>
                  <a:pt x="2772" y="858"/>
                </a:cubicBezTo>
                <a:cubicBezTo>
                  <a:pt x="2754" y="850"/>
                  <a:pt x="2754" y="850"/>
                  <a:pt x="2754" y="850"/>
                </a:cubicBezTo>
                <a:cubicBezTo>
                  <a:pt x="2739" y="850"/>
                  <a:pt x="2739" y="850"/>
                  <a:pt x="2739" y="850"/>
                </a:cubicBezTo>
                <a:cubicBezTo>
                  <a:pt x="2725" y="850"/>
                  <a:pt x="2725" y="850"/>
                  <a:pt x="2725" y="850"/>
                </a:cubicBezTo>
                <a:cubicBezTo>
                  <a:pt x="2709" y="850"/>
                  <a:pt x="2709" y="850"/>
                  <a:pt x="2709" y="850"/>
                </a:cubicBezTo>
                <a:cubicBezTo>
                  <a:pt x="2692" y="850"/>
                  <a:pt x="2692" y="850"/>
                  <a:pt x="2692" y="850"/>
                </a:cubicBezTo>
                <a:cubicBezTo>
                  <a:pt x="2676" y="850"/>
                  <a:pt x="2676" y="850"/>
                  <a:pt x="2676" y="850"/>
                </a:cubicBezTo>
                <a:cubicBezTo>
                  <a:pt x="2664" y="850"/>
                  <a:pt x="2664" y="850"/>
                  <a:pt x="2664" y="850"/>
                </a:cubicBezTo>
                <a:cubicBezTo>
                  <a:pt x="2650" y="850"/>
                  <a:pt x="2650" y="850"/>
                  <a:pt x="2650" y="850"/>
                </a:cubicBezTo>
                <a:cubicBezTo>
                  <a:pt x="2629" y="850"/>
                  <a:pt x="2629" y="850"/>
                  <a:pt x="2629" y="850"/>
                </a:cubicBezTo>
                <a:cubicBezTo>
                  <a:pt x="2619" y="850"/>
                  <a:pt x="2619" y="850"/>
                  <a:pt x="2619" y="850"/>
                </a:cubicBezTo>
                <a:cubicBezTo>
                  <a:pt x="2600" y="850"/>
                  <a:pt x="2600" y="850"/>
                  <a:pt x="2600" y="850"/>
                </a:cubicBezTo>
                <a:cubicBezTo>
                  <a:pt x="2590" y="850"/>
                  <a:pt x="2590" y="850"/>
                  <a:pt x="2590" y="850"/>
                </a:cubicBezTo>
                <a:cubicBezTo>
                  <a:pt x="2574" y="850"/>
                  <a:pt x="2574" y="850"/>
                  <a:pt x="2574" y="850"/>
                </a:cubicBezTo>
                <a:cubicBezTo>
                  <a:pt x="2554" y="858"/>
                  <a:pt x="2554" y="858"/>
                  <a:pt x="2554" y="858"/>
                </a:cubicBezTo>
                <a:cubicBezTo>
                  <a:pt x="2539" y="858"/>
                  <a:pt x="2539" y="858"/>
                  <a:pt x="2539" y="858"/>
                </a:cubicBezTo>
                <a:cubicBezTo>
                  <a:pt x="2526" y="858"/>
                  <a:pt x="2526" y="858"/>
                  <a:pt x="2526" y="858"/>
                </a:cubicBezTo>
                <a:cubicBezTo>
                  <a:pt x="2526" y="858"/>
                  <a:pt x="2526" y="858"/>
                  <a:pt x="2526" y="858"/>
                </a:cubicBezTo>
                <a:cubicBezTo>
                  <a:pt x="2507" y="858"/>
                  <a:pt x="2507" y="858"/>
                  <a:pt x="2507" y="858"/>
                </a:cubicBezTo>
                <a:cubicBezTo>
                  <a:pt x="2495" y="858"/>
                  <a:pt x="2495" y="858"/>
                  <a:pt x="2495" y="858"/>
                </a:cubicBezTo>
                <a:cubicBezTo>
                  <a:pt x="2495" y="861"/>
                  <a:pt x="2495" y="861"/>
                  <a:pt x="2495" y="861"/>
                </a:cubicBezTo>
                <a:cubicBezTo>
                  <a:pt x="2482" y="861"/>
                  <a:pt x="2482" y="861"/>
                  <a:pt x="2482" y="861"/>
                </a:cubicBezTo>
                <a:cubicBezTo>
                  <a:pt x="2458" y="861"/>
                  <a:pt x="2458" y="861"/>
                  <a:pt x="2458" y="861"/>
                </a:cubicBezTo>
                <a:cubicBezTo>
                  <a:pt x="2446" y="861"/>
                  <a:pt x="2446" y="861"/>
                  <a:pt x="2446" y="861"/>
                </a:cubicBezTo>
                <a:cubicBezTo>
                  <a:pt x="2427" y="861"/>
                  <a:pt x="2427" y="861"/>
                  <a:pt x="2427" y="861"/>
                </a:cubicBezTo>
                <a:cubicBezTo>
                  <a:pt x="2417" y="861"/>
                  <a:pt x="2417" y="861"/>
                  <a:pt x="2417" y="861"/>
                </a:cubicBezTo>
                <a:cubicBezTo>
                  <a:pt x="2402" y="861"/>
                  <a:pt x="2402" y="861"/>
                  <a:pt x="2402" y="861"/>
                </a:cubicBezTo>
                <a:cubicBezTo>
                  <a:pt x="2383" y="861"/>
                  <a:pt x="2383" y="861"/>
                  <a:pt x="2383" y="861"/>
                </a:cubicBezTo>
                <a:cubicBezTo>
                  <a:pt x="2371" y="861"/>
                  <a:pt x="2371" y="861"/>
                  <a:pt x="2371" y="861"/>
                </a:cubicBezTo>
                <a:cubicBezTo>
                  <a:pt x="2349" y="861"/>
                  <a:pt x="2349" y="861"/>
                  <a:pt x="2349" y="861"/>
                </a:cubicBezTo>
                <a:cubicBezTo>
                  <a:pt x="2349" y="866"/>
                  <a:pt x="2349" y="866"/>
                  <a:pt x="2349" y="866"/>
                </a:cubicBezTo>
                <a:cubicBezTo>
                  <a:pt x="2335" y="866"/>
                  <a:pt x="2335" y="866"/>
                  <a:pt x="2335" y="866"/>
                </a:cubicBezTo>
                <a:cubicBezTo>
                  <a:pt x="2319" y="866"/>
                  <a:pt x="2319" y="866"/>
                  <a:pt x="2319" y="866"/>
                </a:cubicBezTo>
                <a:cubicBezTo>
                  <a:pt x="2303" y="869"/>
                  <a:pt x="2303" y="869"/>
                  <a:pt x="2303" y="869"/>
                </a:cubicBezTo>
                <a:cubicBezTo>
                  <a:pt x="2289" y="869"/>
                  <a:pt x="2289" y="869"/>
                  <a:pt x="2289" y="869"/>
                </a:cubicBezTo>
                <a:cubicBezTo>
                  <a:pt x="2271" y="869"/>
                  <a:pt x="2271" y="869"/>
                  <a:pt x="2271" y="869"/>
                </a:cubicBezTo>
                <a:cubicBezTo>
                  <a:pt x="2271" y="869"/>
                  <a:pt x="2271" y="869"/>
                  <a:pt x="2271" y="869"/>
                </a:cubicBezTo>
                <a:cubicBezTo>
                  <a:pt x="2258" y="869"/>
                  <a:pt x="2258" y="869"/>
                  <a:pt x="2258" y="869"/>
                </a:cubicBezTo>
                <a:cubicBezTo>
                  <a:pt x="2241" y="869"/>
                  <a:pt x="2241" y="869"/>
                  <a:pt x="2241" y="869"/>
                </a:cubicBezTo>
                <a:cubicBezTo>
                  <a:pt x="2226" y="873"/>
                  <a:pt x="2226" y="873"/>
                  <a:pt x="2226" y="873"/>
                </a:cubicBezTo>
                <a:cubicBezTo>
                  <a:pt x="2210" y="873"/>
                  <a:pt x="2210" y="873"/>
                  <a:pt x="2210" y="873"/>
                </a:cubicBezTo>
                <a:cubicBezTo>
                  <a:pt x="2196" y="878"/>
                  <a:pt x="2196" y="878"/>
                  <a:pt x="2196" y="878"/>
                </a:cubicBezTo>
                <a:cubicBezTo>
                  <a:pt x="2181" y="878"/>
                  <a:pt x="2181" y="878"/>
                  <a:pt x="2181" y="878"/>
                </a:cubicBezTo>
                <a:cubicBezTo>
                  <a:pt x="2169" y="878"/>
                  <a:pt x="2169" y="878"/>
                  <a:pt x="2169" y="878"/>
                </a:cubicBezTo>
                <a:cubicBezTo>
                  <a:pt x="2169" y="885"/>
                  <a:pt x="2169" y="885"/>
                  <a:pt x="2169" y="885"/>
                </a:cubicBezTo>
                <a:cubicBezTo>
                  <a:pt x="2148" y="885"/>
                  <a:pt x="2148" y="885"/>
                  <a:pt x="2148" y="885"/>
                </a:cubicBezTo>
                <a:cubicBezTo>
                  <a:pt x="2134" y="885"/>
                  <a:pt x="2134" y="885"/>
                  <a:pt x="2134" y="885"/>
                </a:cubicBezTo>
                <a:cubicBezTo>
                  <a:pt x="2122" y="886"/>
                  <a:pt x="2122" y="886"/>
                  <a:pt x="2122" y="886"/>
                </a:cubicBezTo>
                <a:cubicBezTo>
                  <a:pt x="2100" y="886"/>
                  <a:pt x="2100" y="886"/>
                  <a:pt x="2100" y="886"/>
                </a:cubicBezTo>
                <a:cubicBezTo>
                  <a:pt x="2091" y="886"/>
                  <a:pt x="2091" y="886"/>
                  <a:pt x="2091" y="886"/>
                </a:cubicBezTo>
                <a:cubicBezTo>
                  <a:pt x="2091" y="888"/>
                  <a:pt x="2091" y="888"/>
                  <a:pt x="2091" y="888"/>
                </a:cubicBezTo>
                <a:cubicBezTo>
                  <a:pt x="2074" y="888"/>
                  <a:pt x="2074" y="888"/>
                  <a:pt x="2074" y="888"/>
                </a:cubicBezTo>
                <a:cubicBezTo>
                  <a:pt x="2057" y="888"/>
                  <a:pt x="2057" y="888"/>
                  <a:pt x="2057" y="888"/>
                </a:cubicBezTo>
                <a:cubicBezTo>
                  <a:pt x="2043" y="893"/>
                  <a:pt x="2043" y="893"/>
                  <a:pt x="2043" y="893"/>
                </a:cubicBezTo>
                <a:cubicBezTo>
                  <a:pt x="2027" y="893"/>
                  <a:pt x="2027" y="893"/>
                  <a:pt x="2027" y="893"/>
                </a:cubicBezTo>
                <a:cubicBezTo>
                  <a:pt x="2027" y="895"/>
                  <a:pt x="2027" y="895"/>
                  <a:pt x="2027" y="895"/>
                </a:cubicBezTo>
                <a:cubicBezTo>
                  <a:pt x="2013" y="895"/>
                  <a:pt x="2013" y="895"/>
                  <a:pt x="2013" y="895"/>
                </a:cubicBezTo>
                <a:cubicBezTo>
                  <a:pt x="1990" y="895"/>
                  <a:pt x="1990" y="895"/>
                  <a:pt x="1990" y="895"/>
                </a:cubicBezTo>
                <a:cubicBezTo>
                  <a:pt x="1990" y="900"/>
                  <a:pt x="1990" y="900"/>
                  <a:pt x="1990" y="900"/>
                </a:cubicBezTo>
                <a:cubicBezTo>
                  <a:pt x="1977" y="900"/>
                  <a:pt x="1977" y="900"/>
                  <a:pt x="1977" y="900"/>
                </a:cubicBezTo>
                <a:cubicBezTo>
                  <a:pt x="1967" y="900"/>
                  <a:pt x="1967" y="900"/>
                  <a:pt x="1967" y="900"/>
                </a:cubicBezTo>
                <a:cubicBezTo>
                  <a:pt x="1967" y="901"/>
                  <a:pt x="1967" y="901"/>
                  <a:pt x="1967" y="901"/>
                </a:cubicBezTo>
                <a:cubicBezTo>
                  <a:pt x="1950" y="901"/>
                  <a:pt x="1950" y="901"/>
                  <a:pt x="1950" y="901"/>
                </a:cubicBezTo>
                <a:cubicBezTo>
                  <a:pt x="1932" y="901"/>
                  <a:pt x="1932" y="901"/>
                  <a:pt x="1932" y="901"/>
                </a:cubicBezTo>
                <a:cubicBezTo>
                  <a:pt x="1912" y="901"/>
                  <a:pt x="1912" y="901"/>
                  <a:pt x="1912" y="901"/>
                </a:cubicBezTo>
                <a:cubicBezTo>
                  <a:pt x="1912" y="907"/>
                  <a:pt x="1912" y="907"/>
                  <a:pt x="1912" y="907"/>
                </a:cubicBezTo>
                <a:cubicBezTo>
                  <a:pt x="1895" y="907"/>
                  <a:pt x="1895" y="907"/>
                  <a:pt x="1895" y="907"/>
                </a:cubicBezTo>
                <a:cubicBezTo>
                  <a:pt x="1883" y="907"/>
                  <a:pt x="1883" y="907"/>
                  <a:pt x="1883" y="907"/>
                </a:cubicBezTo>
                <a:cubicBezTo>
                  <a:pt x="1871" y="910"/>
                  <a:pt x="1871" y="910"/>
                  <a:pt x="1871" y="910"/>
                </a:cubicBezTo>
                <a:cubicBezTo>
                  <a:pt x="1851" y="910"/>
                  <a:pt x="1851" y="910"/>
                  <a:pt x="1851" y="910"/>
                </a:cubicBezTo>
                <a:cubicBezTo>
                  <a:pt x="1851" y="912"/>
                  <a:pt x="1851" y="912"/>
                  <a:pt x="1851" y="912"/>
                </a:cubicBezTo>
                <a:cubicBezTo>
                  <a:pt x="1834" y="914"/>
                  <a:pt x="1834" y="914"/>
                  <a:pt x="1834" y="914"/>
                </a:cubicBezTo>
                <a:cubicBezTo>
                  <a:pt x="1834" y="918"/>
                  <a:pt x="1834" y="918"/>
                  <a:pt x="1834" y="918"/>
                </a:cubicBezTo>
                <a:cubicBezTo>
                  <a:pt x="1834" y="923"/>
                  <a:pt x="1834" y="923"/>
                  <a:pt x="1834" y="923"/>
                </a:cubicBezTo>
                <a:cubicBezTo>
                  <a:pt x="1823" y="924"/>
                  <a:pt x="1823" y="924"/>
                  <a:pt x="1823" y="924"/>
                </a:cubicBezTo>
                <a:cubicBezTo>
                  <a:pt x="1823" y="927"/>
                  <a:pt x="1823" y="927"/>
                  <a:pt x="1823" y="927"/>
                </a:cubicBezTo>
                <a:cubicBezTo>
                  <a:pt x="1810" y="931"/>
                  <a:pt x="1810" y="931"/>
                  <a:pt x="1810" y="931"/>
                </a:cubicBezTo>
                <a:cubicBezTo>
                  <a:pt x="1794" y="931"/>
                  <a:pt x="1794" y="931"/>
                  <a:pt x="1794" y="931"/>
                </a:cubicBezTo>
                <a:cubicBezTo>
                  <a:pt x="1774" y="931"/>
                  <a:pt x="1774" y="931"/>
                  <a:pt x="1774" y="931"/>
                </a:cubicBezTo>
                <a:cubicBezTo>
                  <a:pt x="1760" y="931"/>
                  <a:pt x="1760" y="931"/>
                  <a:pt x="1760" y="931"/>
                </a:cubicBezTo>
                <a:cubicBezTo>
                  <a:pt x="1748" y="931"/>
                  <a:pt x="1748" y="931"/>
                  <a:pt x="1748" y="931"/>
                </a:cubicBezTo>
                <a:cubicBezTo>
                  <a:pt x="1728" y="931"/>
                  <a:pt x="1728" y="931"/>
                  <a:pt x="1728" y="931"/>
                </a:cubicBezTo>
                <a:cubicBezTo>
                  <a:pt x="1711" y="931"/>
                  <a:pt x="1711" y="931"/>
                  <a:pt x="1711" y="931"/>
                </a:cubicBezTo>
                <a:cubicBezTo>
                  <a:pt x="1711" y="927"/>
                  <a:pt x="1711" y="927"/>
                  <a:pt x="1711" y="927"/>
                </a:cubicBezTo>
                <a:cubicBezTo>
                  <a:pt x="1697" y="927"/>
                  <a:pt x="1697" y="927"/>
                  <a:pt x="1697" y="927"/>
                </a:cubicBezTo>
                <a:cubicBezTo>
                  <a:pt x="1682" y="927"/>
                  <a:pt x="1682" y="927"/>
                  <a:pt x="1682" y="927"/>
                </a:cubicBezTo>
                <a:cubicBezTo>
                  <a:pt x="1665" y="927"/>
                  <a:pt x="1665" y="927"/>
                  <a:pt x="1665" y="927"/>
                </a:cubicBezTo>
                <a:cubicBezTo>
                  <a:pt x="1665" y="924"/>
                  <a:pt x="1665" y="924"/>
                  <a:pt x="1665" y="924"/>
                </a:cubicBezTo>
                <a:cubicBezTo>
                  <a:pt x="1650" y="924"/>
                  <a:pt x="1650" y="924"/>
                  <a:pt x="1650" y="924"/>
                </a:cubicBezTo>
                <a:cubicBezTo>
                  <a:pt x="1650" y="923"/>
                  <a:pt x="1650" y="923"/>
                  <a:pt x="1650" y="923"/>
                </a:cubicBezTo>
                <a:cubicBezTo>
                  <a:pt x="1630" y="923"/>
                  <a:pt x="1630" y="923"/>
                  <a:pt x="1630" y="923"/>
                </a:cubicBezTo>
                <a:cubicBezTo>
                  <a:pt x="1620" y="923"/>
                  <a:pt x="1620" y="923"/>
                  <a:pt x="1620" y="923"/>
                </a:cubicBezTo>
                <a:cubicBezTo>
                  <a:pt x="1620" y="918"/>
                  <a:pt x="1620" y="918"/>
                  <a:pt x="1620" y="918"/>
                </a:cubicBezTo>
                <a:cubicBezTo>
                  <a:pt x="1603" y="918"/>
                  <a:pt x="1603" y="918"/>
                  <a:pt x="1603" y="918"/>
                </a:cubicBezTo>
                <a:cubicBezTo>
                  <a:pt x="1588" y="918"/>
                  <a:pt x="1588" y="918"/>
                  <a:pt x="1588" y="918"/>
                </a:cubicBezTo>
                <a:cubicBezTo>
                  <a:pt x="1571" y="918"/>
                  <a:pt x="1571" y="918"/>
                  <a:pt x="1571" y="918"/>
                </a:cubicBezTo>
                <a:cubicBezTo>
                  <a:pt x="1554" y="918"/>
                  <a:pt x="1554" y="918"/>
                  <a:pt x="1554" y="918"/>
                </a:cubicBezTo>
                <a:cubicBezTo>
                  <a:pt x="1539" y="918"/>
                  <a:pt x="1539" y="918"/>
                  <a:pt x="1539" y="918"/>
                </a:cubicBezTo>
                <a:cubicBezTo>
                  <a:pt x="1529" y="918"/>
                  <a:pt x="1529" y="918"/>
                  <a:pt x="1529" y="918"/>
                </a:cubicBezTo>
                <a:cubicBezTo>
                  <a:pt x="1511" y="918"/>
                  <a:pt x="1511" y="918"/>
                  <a:pt x="1511" y="918"/>
                </a:cubicBezTo>
                <a:cubicBezTo>
                  <a:pt x="1494" y="918"/>
                  <a:pt x="1494" y="918"/>
                  <a:pt x="1494" y="918"/>
                </a:cubicBezTo>
                <a:cubicBezTo>
                  <a:pt x="1479" y="918"/>
                  <a:pt x="1479" y="918"/>
                  <a:pt x="1479" y="918"/>
                </a:cubicBezTo>
                <a:cubicBezTo>
                  <a:pt x="1463" y="918"/>
                  <a:pt x="1463" y="918"/>
                  <a:pt x="1463" y="918"/>
                </a:cubicBezTo>
                <a:cubicBezTo>
                  <a:pt x="1448" y="918"/>
                  <a:pt x="1448" y="918"/>
                  <a:pt x="1448" y="918"/>
                </a:cubicBezTo>
                <a:cubicBezTo>
                  <a:pt x="1433" y="918"/>
                  <a:pt x="1433" y="918"/>
                  <a:pt x="1433" y="918"/>
                </a:cubicBezTo>
                <a:cubicBezTo>
                  <a:pt x="1419" y="918"/>
                  <a:pt x="1419" y="918"/>
                  <a:pt x="1419" y="918"/>
                </a:cubicBezTo>
                <a:cubicBezTo>
                  <a:pt x="1399" y="918"/>
                  <a:pt x="1399" y="918"/>
                  <a:pt x="1399" y="918"/>
                </a:cubicBezTo>
                <a:cubicBezTo>
                  <a:pt x="1384" y="918"/>
                  <a:pt x="1384" y="918"/>
                  <a:pt x="1384" y="918"/>
                </a:cubicBezTo>
                <a:cubicBezTo>
                  <a:pt x="1369" y="918"/>
                  <a:pt x="1369" y="918"/>
                  <a:pt x="1369" y="918"/>
                </a:cubicBezTo>
                <a:cubicBezTo>
                  <a:pt x="1354" y="918"/>
                  <a:pt x="1354" y="918"/>
                  <a:pt x="1354" y="918"/>
                </a:cubicBezTo>
                <a:cubicBezTo>
                  <a:pt x="1354" y="914"/>
                  <a:pt x="1354" y="914"/>
                  <a:pt x="1354" y="914"/>
                </a:cubicBezTo>
                <a:cubicBezTo>
                  <a:pt x="1339" y="914"/>
                  <a:pt x="1339" y="914"/>
                  <a:pt x="1339" y="914"/>
                </a:cubicBezTo>
                <a:cubicBezTo>
                  <a:pt x="1327" y="914"/>
                  <a:pt x="1327" y="914"/>
                  <a:pt x="1327" y="914"/>
                </a:cubicBezTo>
                <a:cubicBezTo>
                  <a:pt x="1311" y="914"/>
                  <a:pt x="1311" y="914"/>
                  <a:pt x="1311" y="914"/>
                </a:cubicBezTo>
                <a:cubicBezTo>
                  <a:pt x="1292" y="912"/>
                  <a:pt x="1292" y="912"/>
                  <a:pt x="1292" y="912"/>
                </a:cubicBezTo>
                <a:cubicBezTo>
                  <a:pt x="1277" y="912"/>
                  <a:pt x="1277" y="912"/>
                  <a:pt x="1277" y="912"/>
                </a:cubicBezTo>
                <a:cubicBezTo>
                  <a:pt x="1260" y="912"/>
                  <a:pt x="1260" y="912"/>
                  <a:pt x="1260" y="912"/>
                </a:cubicBezTo>
                <a:cubicBezTo>
                  <a:pt x="1243" y="912"/>
                  <a:pt x="1243" y="912"/>
                  <a:pt x="1243" y="912"/>
                </a:cubicBezTo>
                <a:cubicBezTo>
                  <a:pt x="1243" y="910"/>
                  <a:pt x="1243" y="910"/>
                  <a:pt x="1243" y="910"/>
                </a:cubicBezTo>
                <a:cubicBezTo>
                  <a:pt x="1232" y="910"/>
                  <a:pt x="1232" y="910"/>
                  <a:pt x="1232" y="910"/>
                </a:cubicBezTo>
                <a:cubicBezTo>
                  <a:pt x="1218" y="910"/>
                  <a:pt x="1218" y="910"/>
                  <a:pt x="1218" y="910"/>
                </a:cubicBezTo>
                <a:cubicBezTo>
                  <a:pt x="1194" y="910"/>
                  <a:pt x="1194" y="910"/>
                  <a:pt x="1194" y="910"/>
                </a:cubicBezTo>
                <a:cubicBezTo>
                  <a:pt x="1194" y="907"/>
                  <a:pt x="1194" y="907"/>
                  <a:pt x="1194" y="907"/>
                </a:cubicBezTo>
                <a:cubicBezTo>
                  <a:pt x="1178" y="907"/>
                  <a:pt x="1178" y="907"/>
                  <a:pt x="1178" y="907"/>
                </a:cubicBezTo>
                <a:cubicBezTo>
                  <a:pt x="1169" y="907"/>
                  <a:pt x="1169" y="907"/>
                  <a:pt x="1169" y="907"/>
                </a:cubicBezTo>
                <a:cubicBezTo>
                  <a:pt x="1149" y="907"/>
                  <a:pt x="1149" y="907"/>
                  <a:pt x="1149" y="907"/>
                </a:cubicBezTo>
                <a:cubicBezTo>
                  <a:pt x="1140" y="907"/>
                  <a:pt x="1140" y="907"/>
                  <a:pt x="1140" y="907"/>
                </a:cubicBezTo>
                <a:cubicBezTo>
                  <a:pt x="1140" y="910"/>
                  <a:pt x="1140" y="910"/>
                  <a:pt x="1140" y="910"/>
                </a:cubicBezTo>
                <a:cubicBezTo>
                  <a:pt x="1122" y="912"/>
                  <a:pt x="1122" y="912"/>
                  <a:pt x="1122" y="912"/>
                </a:cubicBezTo>
                <a:cubicBezTo>
                  <a:pt x="1105" y="914"/>
                  <a:pt x="1105" y="914"/>
                  <a:pt x="1105" y="914"/>
                </a:cubicBezTo>
                <a:cubicBezTo>
                  <a:pt x="1105" y="918"/>
                  <a:pt x="1105" y="918"/>
                  <a:pt x="1105" y="918"/>
                </a:cubicBezTo>
                <a:cubicBezTo>
                  <a:pt x="1087" y="918"/>
                  <a:pt x="1087" y="918"/>
                  <a:pt x="1087" y="918"/>
                </a:cubicBezTo>
                <a:cubicBezTo>
                  <a:pt x="1087" y="923"/>
                  <a:pt x="1087" y="923"/>
                  <a:pt x="1087" y="923"/>
                </a:cubicBezTo>
                <a:cubicBezTo>
                  <a:pt x="1067" y="923"/>
                  <a:pt x="1067" y="923"/>
                  <a:pt x="1067" y="923"/>
                </a:cubicBezTo>
                <a:cubicBezTo>
                  <a:pt x="1067" y="924"/>
                  <a:pt x="1067" y="924"/>
                  <a:pt x="1067" y="924"/>
                </a:cubicBezTo>
                <a:cubicBezTo>
                  <a:pt x="1057" y="927"/>
                  <a:pt x="1057" y="927"/>
                  <a:pt x="1057" y="927"/>
                </a:cubicBezTo>
                <a:cubicBezTo>
                  <a:pt x="1043" y="931"/>
                  <a:pt x="1043" y="931"/>
                  <a:pt x="1043" y="931"/>
                </a:cubicBezTo>
                <a:cubicBezTo>
                  <a:pt x="1043" y="935"/>
                  <a:pt x="1043" y="935"/>
                  <a:pt x="1043" y="935"/>
                </a:cubicBezTo>
                <a:cubicBezTo>
                  <a:pt x="1027" y="935"/>
                  <a:pt x="1027" y="935"/>
                  <a:pt x="1027" y="935"/>
                </a:cubicBezTo>
                <a:cubicBezTo>
                  <a:pt x="1027" y="939"/>
                  <a:pt x="1027" y="939"/>
                  <a:pt x="1027" y="939"/>
                </a:cubicBezTo>
                <a:cubicBezTo>
                  <a:pt x="1013" y="939"/>
                  <a:pt x="1013" y="939"/>
                  <a:pt x="1013" y="939"/>
                </a:cubicBezTo>
                <a:cubicBezTo>
                  <a:pt x="1013" y="941"/>
                  <a:pt x="1013" y="941"/>
                  <a:pt x="1013" y="941"/>
                </a:cubicBezTo>
                <a:cubicBezTo>
                  <a:pt x="998" y="941"/>
                  <a:pt x="998" y="941"/>
                  <a:pt x="998" y="941"/>
                </a:cubicBezTo>
                <a:cubicBezTo>
                  <a:pt x="977" y="941"/>
                  <a:pt x="977" y="941"/>
                  <a:pt x="977" y="941"/>
                </a:cubicBezTo>
                <a:cubicBezTo>
                  <a:pt x="965" y="944"/>
                  <a:pt x="965" y="944"/>
                  <a:pt x="965" y="944"/>
                </a:cubicBezTo>
                <a:cubicBezTo>
                  <a:pt x="948" y="944"/>
                  <a:pt x="948" y="944"/>
                  <a:pt x="948" y="944"/>
                </a:cubicBezTo>
                <a:cubicBezTo>
                  <a:pt x="927" y="944"/>
                  <a:pt x="927" y="944"/>
                  <a:pt x="927" y="944"/>
                </a:cubicBezTo>
                <a:cubicBezTo>
                  <a:pt x="919" y="944"/>
                  <a:pt x="919" y="944"/>
                  <a:pt x="919" y="944"/>
                </a:cubicBezTo>
                <a:cubicBezTo>
                  <a:pt x="902" y="949"/>
                  <a:pt x="902" y="949"/>
                  <a:pt x="902" y="949"/>
                </a:cubicBezTo>
                <a:cubicBezTo>
                  <a:pt x="887" y="949"/>
                  <a:pt x="887" y="949"/>
                  <a:pt x="887" y="949"/>
                </a:cubicBezTo>
                <a:cubicBezTo>
                  <a:pt x="874" y="949"/>
                  <a:pt x="874" y="949"/>
                  <a:pt x="874" y="949"/>
                </a:cubicBezTo>
                <a:cubicBezTo>
                  <a:pt x="855" y="951"/>
                  <a:pt x="855" y="951"/>
                  <a:pt x="855" y="951"/>
                </a:cubicBezTo>
                <a:cubicBezTo>
                  <a:pt x="839" y="951"/>
                  <a:pt x="839" y="951"/>
                  <a:pt x="839" y="951"/>
                </a:cubicBezTo>
                <a:cubicBezTo>
                  <a:pt x="813" y="951"/>
                  <a:pt x="813" y="951"/>
                  <a:pt x="813" y="951"/>
                </a:cubicBezTo>
                <a:cubicBezTo>
                  <a:pt x="800" y="955"/>
                  <a:pt x="800" y="955"/>
                  <a:pt x="800" y="955"/>
                </a:cubicBezTo>
                <a:cubicBezTo>
                  <a:pt x="759" y="955"/>
                  <a:pt x="759" y="955"/>
                  <a:pt x="759" y="955"/>
                </a:cubicBezTo>
                <a:cubicBezTo>
                  <a:pt x="746" y="956"/>
                  <a:pt x="746" y="956"/>
                  <a:pt x="746" y="956"/>
                </a:cubicBezTo>
                <a:cubicBezTo>
                  <a:pt x="731" y="956"/>
                  <a:pt x="731" y="956"/>
                  <a:pt x="731" y="956"/>
                </a:cubicBezTo>
                <a:cubicBezTo>
                  <a:pt x="713" y="956"/>
                  <a:pt x="713" y="956"/>
                  <a:pt x="713" y="956"/>
                </a:cubicBezTo>
                <a:cubicBezTo>
                  <a:pt x="697" y="956"/>
                  <a:pt x="697" y="956"/>
                  <a:pt x="697" y="956"/>
                </a:cubicBezTo>
                <a:cubicBezTo>
                  <a:pt x="684" y="956"/>
                  <a:pt x="684" y="956"/>
                  <a:pt x="684" y="956"/>
                </a:cubicBezTo>
                <a:cubicBezTo>
                  <a:pt x="670" y="956"/>
                  <a:pt x="670" y="956"/>
                  <a:pt x="670" y="956"/>
                </a:cubicBezTo>
                <a:cubicBezTo>
                  <a:pt x="652" y="956"/>
                  <a:pt x="652" y="956"/>
                  <a:pt x="652" y="956"/>
                </a:cubicBezTo>
                <a:cubicBezTo>
                  <a:pt x="637" y="956"/>
                  <a:pt x="637" y="956"/>
                  <a:pt x="637" y="956"/>
                </a:cubicBezTo>
                <a:cubicBezTo>
                  <a:pt x="624" y="956"/>
                  <a:pt x="624" y="956"/>
                  <a:pt x="624" y="956"/>
                </a:cubicBezTo>
                <a:cubicBezTo>
                  <a:pt x="603" y="956"/>
                  <a:pt x="603" y="956"/>
                  <a:pt x="603" y="956"/>
                </a:cubicBezTo>
                <a:cubicBezTo>
                  <a:pt x="592" y="956"/>
                  <a:pt x="592" y="956"/>
                  <a:pt x="592" y="956"/>
                </a:cubicBezTo>
                <a:cubicBezTo>
                  <a:pt x="573" y="956"/>
                  <a:pt x="573" y="956"/>
                  <a:pt x="573" y="956"/>
                </a:cubicBezTo>
                <a:cubicBezTo>
                  <a:pt x="557" y="956"/>
                  <a:pt x="557" y="956"/>
                  <a:pt x="557" y="956"/>
                </a:cubicBezTo>
                <a:cubicBezTo>
                  <a:pt x="542" y="956"/>
                  <a:pt x="542" y="956"/>
                  <a:pt x="542" y="956"/>
                </a:cubicBezTo>
                <a:cubicBezTo>
                  <a:pt x="523" y="956"/>
                  <a:pt x="523" y="956"/>
                  <a:pt x="523" y="956"/>
                </a:cubicBezTo>
                <a:cubicBezTo>
                  <a:pt x="513" y="956"/>
                  <a:pt x="513" y="956"/>
                  <a:pt x="513" y="956"/>
                </a:cubicBezTo>
                <a:cubicBezTo>
                  <a:pt x="494" y="956"/>
                  <a:pt x="494" y="956"/>
                  <a:pt x="494" y="956"/>
                </a:cubicBezTo>
                <a:cubicBezTo>
                  <a:pt x="478" y="956"/>
                  <a:pt x="478" y="956"/>
                  <a:pt x="478" y="956"/>
                </a:cubicBezTo>
                <a:cubicBezTo>
                  <a:pt x="462" y="956"/>
                  <a:pt x="462" y="956"/>
                  <a:pt x="462" y="956"/>
                </a:cubicBezTo>
                <a:cubicBezTo>
                  <a:pt x="452" y="955"/>
                  <a:pt x="452" y="955"/>
                  <a:pt x="452" y="955"/>
                </a:cubicBezTo>
                <a:cubicBezTo>
                  <a:pt x="436" y="955"/>
                  <a:pt x="436" y="955"/>
                  <a:pt x="436" y="955"/>
                </a:cubicBezTo>
                <a:cubicBezTo>
                  <a:pt x="419" y="955"/>
                  <a:pt x="419" y="955"/>
                  <a:pt x="419" y="955"/>
                </a:cubicBezTo>
                <a:cubicBezTo>
                  <a:pt x="409" y="955"/>
                  <a:pt x="409" y="955"/>
                  <a:pt x="409" y="955"/>
                </a:cubicBezTo>
                <a:cubicBezTo>
                  <a:pt x="387" y="955"/>
                  <a:pt x="387" y="955"/>
                  <a:pt x="387" y="955"/>
                </a:cubicBezTo>
                <a:cubicBezTo>
                  <a:pt x="375" y="955"/>
                  <a:pt x="375" y="955"/>
                  <a:pt x="375" y="955"/>
                </a:cubicBezTo>
                <a:cubicBezTo>
                  <a:pt x="357" y="955"/>
                  <a:pt x="357" y="955"/>
                  <a:pt x="357" y="955"/>
                </a:cubicBezTo>
                <a:cubicBezTo>
                  <a:pt x="339" y="955"/>
                  <a:pt x="339" y="955"/>
                  <a:pt x="339" y="955"/>
                </a:cubicBezTo>
                <a:cubicBezTo>
                  <a:pt x="339" y="956"/>
                  <a:pt x="339" y="956"/>
                  <a:pt x="339" y="956"/>
                </a:cubicBezTo>
                <a:cubicBezTo>
                  <a:pt x="324" y="956"/>
                  <a:pt x="324" y="956"/>
                  <a:pt x="324" y="956"/>
                </a:cubicBezTo>
                <a:cubicBezTo>
                  <a:pt x="312" y="956"/>
                  <a:pt x="312" y="956"/>
                  <a:pt x="312" y="956"/>
                </a:cubicBezTo>
                <a:cubicBezTo>
                  <a:pt x="297" y="956"/>
                  <a:pt x="297" y="956"/>
                  <a:pt x="297" y="956"/>
                </a:cubicBezTo>
                <a:cubicBezTo>
                  <a:pt x="277" y="956"/>
                  <a:pt x="277" y="956"/>
                  <a:pt x="277" y="956"/>
                </a:cubicBezTo>
                <a:cubicBezTo>
                  <a:pt x="263" y="956"/>
                  <a:pt x="263" y="956"/>
                  <a:pt x="263" y="956"/>
                </a:cubicBezTo>
                <a:cubicBezTo>
                  <a:pt x="246" y="956"/>
                  <a:pt x="246" y="956"/>
                  <a:pt x="246" y="956"/>
                </a:cubicBezTo>
                <a:cubicBezTo>
                  <a:pt x="234" y="956"/>
                  <a:pt x="234" y="956"/>
                  <a:pt x="234" y="956"/>
                </a:cubicBezTo>
                <a:cubicBezTo>
                  <a:pt x="234" y="961"/>
                  <a:pt x="234" y="961"/>
                  <a:pt x="234" y="961"/>
                </a:cubicBezTo>
                <a:cubicBezTo>
                  <a:pt x="214" y="961"/>
                  <a:pt x="214" y="961"/>
                  <a:pt x="214" y="961"/>
                </a:cubicBezTo>
                <a:cubicBezTo>
                  <a:pt x="197" y="961"/>
                  <a:pt x="197" y="961"/>
                  <a:pt x="197" y="961"/>
                </a:cubicBezTo>
                <a:cubicBezTo>
                  <a:pt x="187" y="961"/>
                  <a:pt x="187" y="961"/>
                  <a:pt x="187" y="961"/>
                </a:cubicBezTo>
                <a:cubicBezTo>
                  <a:pt x="168" y="961"/>
                  <a:pt x="168" y="961"/>
                  <a:pt x="168" y="961"/>
                </a:cubicBezTo>
                <a:cubicBezTo>
                  <a:pt x="156" y="961"/>
                  <a:pt x="156" y="961"/>
                  <a:pt x="156" y="961"/>
                </a:cubicBezTo>
                <a:cubicBezTo>
                  <a:pt x="139" y="961"/>
                  <a:pt x="139" y="961"/>
                  <a:pt x="139" y="961"/>
                </a:cubicBezTo>
                <a:cubicBezTo>
                  <a:pt x="119" y="961"/>
                  <a:pt x="119" y="961"/>
                  <a:pt x="119" y="961"/>
                </a:cubicBezTo>
                <a:cubicBezTo>
                  <a:pt x="105" y="961"/>
                  <a:pt x="105" y="961"/>
                  <a:pt x="105" y="961"/>
                </a:cubicBezTo>
                <a:cubicBezTo>
                  <a:pt x="105" y="963"/>
                  <a:pt x="105" y="963"/>
                  <a:pt x="105" y="963"/>
                </a:cubicBezTo>
                <a:cubicBezTo>
                  <a:pt x="88" y="963"/>
                  <a:pt x="88" y="963"/>
                  <a:pt x="88" y="963"/>
                </a:cubicBezTo>
                <a:cubicBezTo>
                  <a:pt x="73" y="963"/>
                  <a:pt x="73" y="963"/>
                  <a:pt x="73" y="963"/>
                </a:cubicBezTo>
                <a:cubicBezTo>
                  <a:pt x="56" y="963"/>
                  <a:pt x="56" y="963"/>
                  <a:pt x="56" y="963"/>
                </a:cubicBezTo>
                <a:cubicBezTo>
                  <a:pt x="44" y="963"/>
                  <a:pt x="44" y="963"/>
                  <a:pt x="44" y="963"/>
                </a:cubicBezTo>
                <a:cubicBezTo>
                  <a:pt x="27" y="967"/>
                  <a:pt x="27" y="967"/>
                  <a:pt x="27" y="967"/>
                </a:cubicBezTo>
                <a:cubicBezTo>
                  <a:pt x="27" y="967"/>
                  <a:pt x="27" y="967"/>
                  <a:pt x="27" y="967"/>
                </a:cubicBezTo>
                <a:cubicBezTo>
                  <a:pt x="27" y="967"/>
                  <a:pt x="27" y="967"/>
                  <a:pt x="27" y="967"/>
                </a:cubicBezTo>
                <a:cubicBezTo>
                  <a:pt x="0" y="967"/>
                  <a:pt x="0" y="967"/>
                  <a:pt x="0" y="967"/>
                </a:cubicBezTo>
                <a:close/>
              </a:path>
            </a:pathLst>
          </a:custGeom>
          <a:solidFill>
            <a:srgbClr val="f0f0f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65240" y="3032280"/>
            <a:ext cx="8069400" cy="1399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ner relationship management (PRM) has finally arrived as a B2B CRM market segment. Through 2Q01, nearly 1,000 enterprises in such industries as high-technology, manufacturing, telecommunications and financial services have acquired packaged PRM applications</a:t>
            </a:r>
            <a:endParaRPr b="0" lang="en-US" sz="1800" spc="-1" strike="noStrike">
              <a:solidFill>
                <a:srgbClr val="000000"/>
              </a:solidFill>
              <a:latin typeface="Times New Roman"/>
            </a:endParaRPr>
          </a:p>
          <a:p>
            <a:pPr lvl="1" marL="114480" indent="187200">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t>
            </a:r>
            <a:r>
              <a:rPr b="0" lang="en-US" sz="1700" spc="-1" strike="noStrike">
                <a:solidFill>
                  <a:srgbClr val="000000"/>
                </a:solidFill>
                <a:latin typeface="Arial"/>
              </a:rPr>
              <a:t>Gartner</a:t>
            </a:r>
            <a:endParaRPr b="0" lang="en-US" sz="1700" spc="-1" strike="noStrike">
              <a:solidFill>
                <a:srgbClr val="000000"/>
              </a:solidFill>
              <a:latin typeface="Times New Roman"/>
            </a:endParaRPr>
          </a:p>
        </p:txBody>
      </p:sp>
      <p:sp>
        <p:nvSpPr>
          <p:cNvPr id="114" name=""/>
          <p:cNvSpPr/>
          <p:nvPr/>
        </p:nvSpPr>
        <p:spPr>
          <a:xfrm>
            <a:off x="914400" y="4772160"/>
            <a:ext cx="8891640" cy="823680"/>
          </a:xfrm>
          <a:custGeom>
            <a:avLst/>
            <a:gdLst/>
            <a:ahLst/>
            <a:rect l="l" t="t" r="r" b="b"/>
            <a:pathLst>
              <a:path w="5601" h="519">
                <a:moveTo>
                  <a:pt x="0" y="0"/>
                </a:moveTo>
                <a:cubicBezTo>
                  <a:pt x="0" y="0"/>
                  <a:pt x="0" y="0"/>
                  <a:pt x="0" y="0"/>
                </a:cubicBezTo>
                <a:cubicBezTo>
                  <a:pt x="5577" y="0"/>
                  <a:pt x="5577" y="0"/>
                  <a:pt x="5577" y="0"/>
                </a:cubicBezTo>
                <a:cubicBezTo>
                  <a:pt x="5577" y="357"/>
                  <a:pt x="5577" y="357"/>
                  <a:pt x="5577" y="357"/>
                </a:cubicBezTo>
                <a:cubicBezTo>
                  <a:pt x="5601" y="357"/>
                  <a:pt x="5601" y="357"/>
                  <a:pt x="5601" y="357"/>
                </a:cubicBezTo>
                <a:cubicBezTo>
                  <a:pt x="5601" y="357"/>
                  <a:pt x="5601" y="357"/>
                  <a:pt x="5601" y="357"/>
                </a:cubicBezTo>
                <a:cubicBezTo>
                  <a:pt x="5577" y="357"/>
                  <a:pt x="5577" y="357"/>
                  <a:pt x="5577" y="357"/>
                </a:cubicBezTo>
                <a:cubicBezTo>
                  <a:pt x="5577" y="357"/>
                  <a:pt x="5577" y="357"/>
                  <a:pt x="5577" y="357"/>
                </a:cubicBezTo>
                <a:cubicBezTo>
                  <a:pt x="5567" y="357"/>
                  <a:pt x="5567" y="357"/>
                  <a:pt x="5567" y="357"/>
                </a:cubicBezTo>
                <a:cubicBezTo>
                  <a:pt x="5546" y="357"/>
                  <a:pt x="5546" y="357"/>
                  <a:pt x="5546" y="357"/>
                </a:cubicBezTo>
                <a:cubicBezTo>
                  <a:pt x="5533" y="357"/>
                  <a:pt x="5533" y="357"/>
                  <a:pt x="5533" y="357"/>
                </a:cubicBezTo>
                <a:cubicBezTo>
                  <a:pt x="5519" y="355"/>
                  <a:pt x="5519" y="355"/>
                  <a:pt x="5519" y="355"/>
                </a:cubicBezTo>
                <a:cubicBezTo>
                  <a:pt x="5502" y="355"/>
                  <a:pt x="5502" y="355"/>
                  <a:pt x="5502" y="355"/>
                </a:cubicBezTo>
                <a:cubicBezTo>
                  <a:pt x="5485" y="355"/>
                  <a:pt x="5485" y="355"/>
                  <a:pt x="5485" y="355"/>
                </a:cubicBezTo>
                <a:cubicBezTo>
                  <a:pt x="5472" y="355"/>
                  <a:pt x="5472" y="355"/>
                  <a:pt x="5472" y="355"/>
                </a:cubicBezTo>
                <a:cubicBezTo>
                  <a:pt x="5456" y="355"/>
                  <a:pt x="5456" y="355"/>
                  <a:pt x="5456" y="355"/>
                </a:cubicBezTo>
                <a:cubicBezTo>
                  <a:pt x="5439" y="357"/>
                  <a:pt x="5439" y="357"/>
                  <a:pt x="5439" y="357"/>
                </a:cubicBezTo>
                <a:cubicBezTo>
                  <a:pt x="5426" y="357"/>
                  <a:pt x="5426" y="357"/>
                  <a:pt x="5426" y="357"/>
                </a:cubicBezTo>
                <a:cubicBezTo>
                  <a:pt x="5408" y="357"/>
                  <a:pt x="5408" y="357"/>
                  <a:pt x="5408" y="357"/>
                </a:cubicBezTo>
                <a:cubicBezTo>
                  <a:pt x="5394" y="357"/>
                  <a:pt x="5394" y="357"/>
                  <a:pt x="5394" y="357"/>
                </a:cubicBezTo>
                <a:cubicBezTo>
                  <a:pt x="5379" y="357"/>
                  <a:pt x="5379" y="357"/>
                  <a:pt x="5379" y="357"/>
                </a:cubicBezTo>
                <a:cubicBezTo>
                  <a:pt x="5379" y="360"/>
                  <a:pt x="5379" y="360"/>
                  <a:pt x="5379" y="360"/>
                </a:cubicBezTo>
                <a:cubicBezTo>
                  <a:pt x="5356" y="360"/>
                  <a:pt x="5356" y="360"/>
                  <a:pt x="5356" y="360"/>
                </a:cubicBezTo>
                <a:cubicBezTo>
                  <a:pt x="5356" y="360"/>
                  <a:pt x="5356" y="360"/>
                  <a:pt x="5356" y="360"/>
                </a:cubicBezTo>
                <a:cubicBezTo>
                  <a:pt x="5343" y="360"/>
                  <a:pt x="5343" y="360"/>
                  <a:pt x="5343" y="360"/>
                </a:cubicBezTo>
                <a:cubicBezTo>
                  <a:pt x="5343" y="362"/>
                  <a:pt x="5343" y="362"/>
                  <a:pt x="5343" y="362"/>
                </a:cubicBezTo>
                <a:cubicBezTo>
                  <a:pt x="5325" y="366"/>
                  <a:pt x="5325" y="366"/>
                  <a:pt x="5325" y="366"/>
                </a:cubicBezTo>
                <a:cubicBezTo>
                  <a:pt x="5311" y="367"/>
                  <a:pt x="5311" y="367"/>
                  <a:pt x="5311" y="367"/>
                </a:cubicBezTo>
                <a:cubicBezTo>
                  <a:pt x="5311" y="368"/>
                  <a:pt x="5311" y="368"/>
                  <a:pt x="5311" y="368"/>
                </a:cubicBezTo>
                <a:cubicBezTo>
                  <a:pt x="5303" y="368"/>
                  <a:pt x="5303" y="368"/>
                  <a:pt x="5303" y="368"/>
                </a:cubicBezTo>
                <a:cubicBezTo>
                  <a:pt x="5284" y="369"/>
                  <a:pt x="5284" y="369"/>
                  <a:pt x="5284" y="369"/>
                </a:cubicBezTo>
                <a:cubicBezTo>
                  <a:pt x="5269" y="372"/>
                  <a:pt x="5269" y="372"/>
                  <a:pt x="5269" y="372"/>
                </a:cubicBezTo>
                <a:cubicBezTo>
                  <a:pt x="5255" y="373"/>
                  <a:pt x="5255" y="373"/>
                  <a:pt x="5255" y="373"/>
                </a:cubicBezTo>
                <a:cubicBezTo>
                  <a:pt x="5238" y="376"/>
                  <a:pt x="5238" y="376"/>
                  <a:pt x="5238" y="376"/>
                </a:cubicBezTo>
                <a:cubicBezTo>
                  <a:pt x="5221" y="376"/>
                  <a:pt x="5221" y="376"/>
                  <a:pt x="5221" y="376"/>
                </a:cubicBezTo>
                <a:cubicBezTo>
                  <a:pt x="5221" y="378"/>
                  <a:pt x="5221" y="378"/>
                  <a:pt x="5221" y="378"/>
                </a:cubicBezTo>
                <a:cubicBezTo>
                  <a:pt x="5202" y="378"/>
                  <a:pt x="5202" y="378"/>
                  <a:pt x="5202" y="378"/>
                </a:cubicBezTo>
                <a:cubicBezTo>
                  <a:pt x="5196" y="379"/>
                  <a:pt x="5196" y="379"/>
                  <a:pt x="5196" y="379"/>
                </a:cubicBezTo>
                <a:cubicBezTo>
                  <a:pt x="5175" y="379"/>
                  <a:pt x="5175" y="379"/>
                  <a:pt x="5175" y="379"/>
                </a:cubicBezTo>
                <a:cubicBezTo>
                  <a:pt x="5175" y="383"/>
                  <a:pt x="5175" y="383"/>
                  <a:pt x="5175" y="383"/>
                </a:cubicBezTo>
                <a:cubicBezTo>
                  <a:pt x="5163" y="383"/>
                  <a:pt x="5163" y="383"/>
                  <a:pt x="5163" y="383"/>
                </a:cubicBezTo>
                <a:cubicBezTo>
                  <a:pt x="5163" y="383"/>
                  <a:pt x="5163" y="383"/>
                  <a:pt x="5163" y="383"/>
                </a:cubicBezTo>
                <a:cubicBezTo>
                  <a:pt x="5141" y="383"/>
                  <a:pt x="5141" y="383"/>
                  <a:pt x="5141" y="383"/>
                </a:cubicBezTo>
                <a:cubicBezTo>
                  <a:pt x="5141" y="384"/>
                  <a:pt x="5141" y="384"/>
                  <a:pt x="5141" y="384"/>
                </a:cubicBezTo>
                <a:cubicBezTo>
                  <a:pt x="5130" y="384"/>
                  <a:pt x="5130" y="384"/>
                  <a:pt x="5130" y="384"/>
                </a:cubicBezTo>
                <a:cubicBezTo>
                  <a:pt x="5130" y="386"/>
                  <a:pt x="5130" y="386"/>
                  <a:pt x="5130" y="386"/>
                </a:cubicBezTo>
                <a:cubicBezTo>
                  <a:pt x="5110" y="386"/>
                  <a:pt x="5110" y="386"/>
                  <a:pt x="5110" y="386"/>
                </a:cubicBezTo>
                <a:cubicBezTo>
                  <a:pt x="5100" y="388"/>
                  <a:pt x="5100" y="388"/>
                  <a:pt x="5100" y="388"/>
                </a:cubicBezTo>
                <a:cubicBezTo>
                  <a:pt x="5083" y="388"/>
                  <a:pt x="5083" y="388"/>
                  <a:pt x="5083" y="388"/>
                </a:cubicBezTo>
                <a:cubicBezTo>
                  <a:pt x="5066" y="388"/>
                  <a:pt x="5066" y="388"/>
                  <a:pt x="5066" y="388"/>
                </a:cubicBezTo>
                <a:cubicBezTo>
                  <a:pt x="5066" y="389"/>
                  <a:pt x="5066" y="389"/>
                  <a:pt x="5066" y="389"/>
                </a:cubicBezTo>
                <a:cubicBezTo>
                  <a:pt x="5052" y="389"/>
                  <a:pt x="5052" y="389"/>
                  <a:pt x="5052" y="389"/>
                </a:cubicBezTo>
                <a:cubicBezTo>
                  <a:pt x="5033" y="389"/>
                  <a:pt x="5033" y="389"/>
                  <a:pt x="5033" y="389"/>
                </a:cubicBezTo>
                <a:cubicBezTo>
                  <a:pt x="5023" y="389"/>
                  <a:pt x="5023" y="389"/>
                  <a:pt x="5023" y="389"/>
                </a:cubicBezTo>
                <a:cubicBezTo>
                  <a:pt x="5023" y="391"/>
                  <a:pt x="5023" y="391"/>
                  <a:pt x="5023" y="391"/>
                </a:cubicBezTo>
                <a:cubicBezTo>
                  <a:pt x="5004" y="391"/>
                  <a:pt x="5004" y="391"/>
                  <a:pt x="5004" y="391"/>
                </a:cubicBezTo>
                <a:cubicBezTo>
                  <a:pt x="4986" y="391"/>
                  <a:pt x="4986" y="391"/>
                  <a:pt x="4986" y="391"/>
                </a:cubicBezTo>
                <a:cubicBezTo>
                  <a:pt x="4986" y="393"/>
                  <a:pt x="4986" y="393"/>
                  <a:pt x="4986" y="393"/>
                </a:cubicBezTo>
                <a:cubicBezTo>
                  <a:pt x="4971" y="393"/>
                  <a:pt x="4971" y="393"/>
                  <a:pt x="4971" y="393"/>
                </a:cubicBezTo>
                <a:cubicBezTo>
                  <a:pt x="4956" y="393"/>
                  <a:pt x="4956" y="393"/>
                  <a:pt x="4956" y="393"/>
                </a:cubicBezTo>
                <a:cubicBezTo>
                  <a:pt x="4942" y="393"/>
                  <a:pt x="4942" y="393"/>
                  <a:pt x="4942" y="393"/>
                </a:cubicBezTo>
                <a:cubicBezTo>
                  <a:pt x="4926" y="393"/>
                  <a:pt x="4926" y="393"/>
                  <a:pt x="4926" y="393"/>
                </a:cubicBezTo>
                <a:cubicBezTo>
                  <a:pt x="4910" y="393"/>
                  <a:pt x="4910" y="393"/>
                  <a:pt x="4910" y="393"/>
                </a:cubicBezTo>
                <a:cubicBezTo>
                  <a:pt x="4892" y="395"/>
                  <a:pt x="4892" y="395"/>
                  <a:pt x="4892" y="395"/>
                </a:cubicBezTo>
                <a:cubicBezTo>
                  <a:pt x="4874" y="395"/>
                  <a:pt x="4874" y="395"/>
                  <a:pt x="4874" y="395"/>
                </a:cubicBezTo>
                <a:cubicBezTo>
                  <a:pt x="4861" y="395"/>
                  <a:pt x="4861" y="395"/>
                  <a:pt x="4861" y="395"/>
                </a:cubicBezTo>
                <a:cubicBezTo>
                  <a:pt x="4846" y="395"/>
                  <a:pt x="4846" y="395"/>
                  <a:pt x="4846" y="395"/>
                </a:cubicBezTo>
                <a:cubicBezTo>
                  <a:pt x="4832" y="395"/>
                  <a:pt x="4832" y="395"/>
                  <a:pt x="4832" y="395"/>
                </a:cubicBezTo>
                <a:cubicBezTo>
                  <a:pt x="4816" y="395"/>
                  <a:pt x="4816" y="395"/>
                  <a:pt x="4816" y="395"/>
                </a:cubicBezTo>
                <a:cubicBezTo>
                  <a:pt x="4802" y="398"/>
                  <a:pt x="4802" y="398"/>
                  <a:pt x="4802" y="398"/>
                </a:cubicBezTo>
                <a:cubicBezTo>
                  <a:pt x="4785" y="398"/>
                  <a:pt x="4785" y="398"/>
                  <a:pt x="4785" y="398"/>
                </a:cubicBezTo>
                <a:cubicBezTo>
                  <a:pt x="4765" y="398"/>
                  <a:pt x="4765" y="398"/>
                  <a:pt x="4765" y="398"/>
                </a:cubicBezTo>
                <a:cubicBezTo>
                  <a:pt x="4765" y="398"/>
                  <a:pt x="4765" y="398"/>
                  <a:pt x="4765" y="398"/>
                </a:cubicBezTo>
                <a:cubicBezTo>
                  <a:pt x="4752" y="398"/>
                  <a:pt x="4752" y="398"/>
                  <a:pt x="4752" y="398"/>
                </a:cubicBezTo>
                <a:cubicBezTo>
                  <a:pt x="4733" y="398"/>
                  <a:pt x="4733" y="398"/>
                  <a:pt x="4733" y="398"/>
                </a:cubicBezTo>
                <a:cubicBezTo>
                  <a:pt x="4733" y="400"/>
                  <a:pt x="4733" y="400"/>
                  <a:pt x="4733" y="400"/>
                </a:cubicBezTo>
                <a:cubicBezTo>
                  <a:pt x="4723" y="400"/>
                  <a:pt x="4723" y="400"/>
                  <a:pt x="4723" y="400"/>
                </a:cubicBezTo>
                <a:cubicBezTo>
                  <a:pt x="4699" y="400"/>
                  <a:pt x="4699" y="400"/>
                  <a:pt x="4699" y="400"/>
                </a:cubicBezTo>
                <a:cubicBezTo>
                  <a:pt x="4699" y="402"/>
                  <a:pt x="4699" y="402"/>
                  <a:pt x="4699" y="402"/>
                </a:cubicBezTo>
                <a:cubicBezTo>
                  <a:pt x="4693" y="402"/>
                  <a:pt x="4693" y="402"/>
                  <a:pt x="4693" y="402"/>
                </a:cubicBezTo>
                <a:cubicBezTo>
                  <a:pt x="4675" y="403"/>
                  <a:pt x="4675" y="403"/>
                  <a:pt x="4675" y="403"/>
                </a:cubicBezTo>
                <a:cubicBezTo>
                  <a:pt x="4659" y="403"/>
                  <a:pt x="4659" y="403"/>
                  <a:pt x="4659" y="403"/>
                </a:cubicBezTo>
                <a:cubicBezTo>
                  <a:pt x="4659" y="405"/>
                  <a:pt x="4659" y="405"/>
                  <a:pt x="4659" y="405"/>
                </a:cubicBezTo>
                <a:cubicBezTo>
                  <a:pt x="4644" y="405"/>
                  <a:pt x="4644" y="405"/>
                  <a:pt x="4644" y="405"/>
                </a:cubicBezTo>
                <a:cubicBezTo>
                  <a:pt x="4629" y="407"/>
                  <a:pt x="4629" y="407"/>
                  <a:pt x="4629" y="407"/>
                </a:cubicBezTo>
                <a:cubicBezTo>
                  <a:pt x="4609" y="407"/>
                  <a:pt x="4609" y="407"/>
                  <a:pt x="4609" y="407"/>
                </a:cubicBezTo>
                <a:cubicBezTo>
                  <a:pt x="4609" y="408"/>
                  <a:pt x="4609" y="408"/>
                  <a:pt x="4609" y="408"/>
                </a:cubicBezTo>
                <a:cubicBezTo>
                  <a:pt x="4598" y="408"/>
                  <a:pt x="4598" y="408"/>
                  <a:pt x="4598" y="408"/>
                </a:cubicBezTo>
                <a:cubicBezTo>
                  <a:pt x="4598" y="410"/>
                  <a:pt x="4598" y="410"/>
                  <a:pt x="4598" y="410"/>
                </a:cubicBezTo>
                <a:cubicBezTo>
                  <a:pt x="4582" y="410"/>
                  <a:pt x="4582" y="410"/>
                  <a:pt x="4582" y="410"/>
                </a:cubicBezTo>
                <a:cubicBezTo>
                  <a:pt x="4566" y="410"/>
                  <a:pt x="4566" y="410"/>
                  <a:pt x="4566" y="410"/>
                </a:cubicBezTo>
                <a:cubicBezTo>
                  <a:pt x="4566" y="412"/>
                  <a:pt x="4566" y="412"/>
                  <a:pt x="4566" y="412"/>
                </a:cubicBezTo>
                <a:cubicBezTo>
                  <a:pt x="4550" y="412"/>
                  <a:pt x="4550" y="412"/>
                  <a:pt x="4550" y="412"/>
                </a:cubicBezTo>
                <a:cubicBezTo>
                  <a:pt x="4534" y="412"/>
                  <a:pt x="4534" y="412"/>
                  <a:pt x="4534" y="412"/>
                </a:cubicBezTo>
                <a:cubicBezTo>
                  <a:pt x="4516" y="412"/>
                  <a:pt x="4516" y="412"/>
                  <a:pt x="4516" y="412"/>
                </a:cubicBezTo>
                <a:cubicBezTo>
                  <a:pt x="4506" y="412"/>
                  <a:pt x="4506" y="412"/>
                  <a:pt x="4506" y="412"/>
                </a:cubicBezTo>
                <a:cubicBezTo>
                  <a:pt x="4489" y="412"/>
                  <a:pt x="4489" y="412"/>
                  <a:pt x="4489" y="412"/>
                </a:cubicBezTo>
                <a:cubicBezTo>
                  <a:pt x="4472" y="412"/>
                  <a:pt x="4472" y="412"/>
                  <a:pt x="4472" y="412"/>
                </a:cubicBezTo>
                <a:cubicBezTo>
                  <a:pt x="4456" y="412"/>
                  <a:pt x="4456" y="412"/>
                  <a:pt x="4456" y="412"/>
                </a:cubicBezTo>
                <a:cubicBezTo>
                  <a:pt x="4438" y="412"/>
                  <a:pt x="4438" y="412"/>
                  <a:pt x="4438" y="412"/>
                </a:cubicBezTo>
                <a:cubicBezTo>
                  <a:pt x="4429" y="412"/>
                  <a:pt x="4429" y="412"/>
                  <a:pt x="4429" y="412"/>
                </a:cubicBezTo>
                <a:cubicBezTo>
                  <a:pt x="4408" y="410"/>
                  <a:pt x="4408" y="410"/>
                  <a:pt x="4408" y="410"/>
                </a:cubicBezTo>
                <a:cubicBezTo>
                  <a:pt x="4397" y="410"/>
                  <a:pt x="4397" y="410"/>
                  <a:pt x="4397" y="410"/>
                </a:cubicBezTo>
                <a:cubicBezTo>
                  <a:pt x="4381" y="410"/>
                  <a:pt x="4381" y="410"/>
                  <a:pt x="4381" y="410"/>
                </a:cubicBezTo>
                <a:cubicBezTo>
                  <a:pt x="4366" y="410"/>
                  <a:pt x="4366" y="410"/>
                  <a:pt x="4366" y="410"/>
                </a:cubicBezTo>
                <a:cubicBezTo>
                  <a:pt x="4347" y="408"/>
                  <a:pt x="4347" y="408"/>
                  <a:pt x="4347" y="408"/>
                </a:cubicBezTo>
                <a:cubicBezTo>
                  <a:pt x="4333" y="408"/>
                  <a:pt x="4333" y="408"/>
                  <a:pt x="4333" y="408"/>
                </a:cubicBezTo>
                <a:cubicBezTo>
                  <a:pt x="4333" y="407"/>
                  <a:pt x="4333" y="407"/>
                  <a:pt x="4333" y="407"/>
                </a:cubicBezTo>
                <a:cubicBezTo>
                  <a:pt x="4313" y="407"/>
                  <a:pt x="4313" y="407"/>
                  <a:pt x="4313" y="407"/>
                </a:cubicBezTo>
                <a:cubicBezTo>
                  <a:pt x="4313" y="405"/>
                  <a:pt x="4313" y="405"/>
                  <a:pt x="4313" y="405"/>
                </a:cubicBezTo>
                <a:cubicBezTo>
                  <a:pt x="4305" y="405"/>
                  <a:pt x="4305" y="405"/>
                  <a:pt x="4305" y="405"/>
                </a:cubicBezTo>
                <a:cubicBezTo>
                  <a:pt x="4287" y="405"/>
                  <a:pt x="4287" y="405"/>
                  <a:pt x="4287" y="405"/>
                </a:cubicBezTo>
                <a:cubicBezTo>
                  <a:pt x="4269" y="405"/>
                  <a:pt x="4269" y="405"/>
                  <a:pt x="4269" y="405"/>
                </a:cubicBezTo>
                <a:cubicBezTo>
                  <a:pt x="4249" y="405"/>
                  <a:pt x="4249" y="405"/>
                  <a:pt x="4249" y="405"/>
                </a:cubicBezTo>
                <a:cubicBezTo>
                  <a:pt x="4249" y="407"/>
                  <a:pt x="4249" y="407"/>
                  <a:pt x="4249" y="407"/>
                </a:cubicBezTo>
                <a:cubicBezTo>
                  <a:pt x="4236" y="407"/>
                  <a:pt x="4236" y="407"/>
                  <a:pt x="4236" y="407"/>
                </a:cubicBezTo>
                <a:cubicBezTo>
                  <a:pt x="4221" y="407"/>
                  <a:pt x="4221" y="407"/>
                  <a:pt x="4221" y="407"/>
                </a:cubicBezTo>
                <a:cubicBezTo>
                  <a:pt x="4221" y="408"/>
                  <a:pt x="4221" y="408"/>
                  <a:pt x="4221" y="408"/>
                </a:cubicBezTo>
                <a:cubicBezTo>
                  <a:pt x="4221" y="410"/>
                  <a:pt x="4221" y="410"/>
                  <a:pt x="4221" y="410"/>
                </a:cubicBezTo>
                <a:cubicBezTo>
                  <a:pt x="4207" y="410"/>
                  <a:pt x="4207" y="410"/>
                  <a:pt x="4207" y="410"/>
                </a:cubicBezTo>
                <a:cubicBezTo>
                  <a:pt x="4207" y="412"/>
                  <a:pt x="4207" y="412"/>
                  <a:pt x="4207" y="412"/>
                </a:cubicBezTo>
                <a:cubicBezTo>
                  <a:pt x="4194" y="412"/>
                  <a:pt x="4194" y="412"/>
                  <a:pt x="4194" y="412"/>
                </a:cubicBezTo>
                <a:cubicBezTo>
                  <a:pt x="4177" y="415"/>
                  <a:pt x="4177" y="415"/>
                  <a:pt x="4177" y="415"/>
                </a:cubicBezTo>
                <a:cubicBezTo>
                  <a:pt x="4155" y="415"/>
                  <a:pt x="4155" y="415"/>
                  <a:pt x="4155" y="415"/>
                </a:cubicBezTo>
                <a:cubicBezTo>
                  <a:pt x="4143" y="415"/>
                  <a:pt x="4143" y="415"/>
                  <a:pt x="4143" y="415"/>
                </a:cubicBezTo>
                <a:cubicBezTo>
                  <a:pt x="4129" y="415"/>
                  <a:pt x="4129" y="415"/>
                  <a:pt x="4129" y="415"/>
                </a:cubicBezTo>
                <a:cubicBezTo>
                  <a:pt x="4129" y="418"/>
                  <a:pt x="4129" y="418"/>
                  <a:pt x="4129" y="418"/>
                </a:cubicBezTo>
                <a:cubicBezTo>
                  <a:pt x="4115" y="418"/>
                  <a:pt x="4115" y="418"/>
                  <a:pt x="4115" y="418"/>
                </a:cubicBezTo>
                <a:cubicBezTo>
                  <a:pt x="4103" y="419"/>
                  <a:pt x="4103" y="419"/>
                  <a:pt x="4103" y="419"/>
                </a:cubicBezTo>
                <a:cubicBezTo>
                  <a:pt x="4086" y="420"/>
                  <a:pt x="4086" y="420"/>
                  <a:pt x="4086" y="420"/>
                </a:cubicBezTo>
                <a:cubicBezTo>
                  <a:pt x="4064" y="420"/>
                  <a:pt x="4064" y="420"/>
                  <a:pt x="4064" y="420"/>
                </a:cubicBezTo>
                <a:cubicBezTo>
                  <a:pt x="4052" y="423"/>
                  <a:pt x="4052" y="423"/>
                  <a:pt x="4052" y="423"/>
                </a:cubicBezTo>
                <a:cubicBezTo>
                  <a:pt x="4034" y="423"/>
                  <a:pt x="4034" y="423"/>
                  <a:pt x="4034" y="423"/>
                </a:cubicBezTo>
                <a:cubicBezTo>
                  <a:pt x="4034" y="425"/>
                  <a:pt x="4034" y="425"/>
                  <a:pt x="4034" y="425"/>
                </a:cubicBezTo>
                <a:cubicBezTo>
                  <a:pt x="4023" y="425"/>
                  <a:pt x="4023" y="425"/>
                  <a:pt x="4023" y="425"/>
                </a:cubicBezTo>
                <a:cubicBezTo>
                  <a:pt x="4007" y="425"/>
                  <a:pt x="4007" y="425"/>
                  <a:pt x="4007" y="425"/>
                </a:cubicBezTo>
                <a:cubicBezTo>
                  <a:pt x="4007" y="427"/>
                  <a:pt x="4007" y="427"/>
                  <a:pt x="4007" y="427"/>
                </a:cubicBezTo>
                <a:cubicBezTo>
                  <a:pt x="3987" y="427"/>
                  <a:pt x="3987" y="427"/>
                  <a:pt x="3987" y="427"/>
                </a:cubicBezTo>
                <a:cubicBezTo>
                  <a:pt x="3978" y="427"/>
                  <a:pt x="3978" y="427"/>
                  <a:pt x="3978" y="427"/>
                </a:cubicBezTo>
                <a:cubicBezTo>
                  <a:pt x="3954" y="427"/>
                  <a:pt x="3954" y="427"/>
                  <a:pt x="3954" y="427"/>
                </a:cubicBezTo>
                <a:cubicBezTo>
                  <a:pt x="3945" y="427"/>
                  <a:pt x="3945" y="427"/>
                  <a:pt x="3945" y="427"/>
                </a:cubicBezTo>
                <a:cubicBezTo>
                  <a:pt x="3928" y="427"/>
                  <a:pt x="3928" y="427"/>
                  <a:pt x="3928" y="427"/>
                </a:cubicBezTo>
                <a:cubicBezTo>
                  <a:pt x="3912" y="427"/>
                  <a:pt x="3912" y="427"/>
                  <a:pt x="3912" y="427"/>
                </a:cubicBezTo>
                <a:cubicBezTo>
                  <a:pt x="3895" y="425"/>
                  <a:pt x="3895" y="425"/>
                  <a:pt x="3895" y="425"/>
                </a:cubicBezTo>
                <a:cubicBezTo>
                  <a:pt x="3884" y="427"/>
                  <a:pt x="3884" y="427"/>
                  <a:pt x="3884" y="427"/>
                </a:cubicBezTo>
                <a:cubicBezTo>
                  <a:pt x="3866" y="427"/>
                  <a:pt x="3866" y="427"/>
                  <a:pt x="3866" y="427"/>
                </a:cubicBezTo>
                <a:cubicBezTo>
                  <a:pt x="3851" y="429"/>
                  <a:pt x="3851" y="429"/>
                  <a:pt x="3851" y="429"/>
                </a:cubicBezTo>
                <a:cubicBezTo>
                  <a:pt x="3834" y="430"/>
                  <a:pt x="3834" y="430"/>
                  <a:pt x="3834" y="430"/>
                </a:cubicBezTo>
                <a:cubicBezTo>
                  <a:pt x="3819" y="432"/>
                  <a:pt x="3819" y="432"/>
                  <a:pt x="3819" y="432"/>
                </a:cubicBezTo>
                <a:cubicBezTo>
                  <a:pt x="3800" y="432"/>
                  <a:pt x="3800" y="432"/>
                  <a:pt x="3800" y="432"/>
                </a:cubicBezTo>
                <a:cubicBezTo>
                  <a:pt x="3789" y="434"/>
                  <a:pt x="3789" y="434"/>
                  <a:pt x="3789" y="434"/>
                </a:cubicBezTo>
                <a:cubicBezTo>
                  <a:pt x="3771" y="436"/>
                  <a:pt x="3771" y="436"/>
                  <a:pt x="3771" y="436"/>
                </a:cubicBezTo>
                <a:cubicBezTo>
                  <a:pt x="3753" y="436"/>
                  <a:pt x="3753" y="436"/>
                  <a:pt x="3753" y="436"/>
                </a:cubicBezTo>
                <a:cubicBezTo>
                  <a:pt x="3738" y="438"/>
                  <a:pt x="3738" y="438"/>
                  <a:pt x="3738" y="438"/>
                </a:cubicBezTo>
                <a:cubicBezTo>
                  <a:pt x="3725" y="438"/>
                  <a:pt x="3725" y="438"/>
                  <a:pt x="3725" y="438"/>
                </a:cubicBezTo>
                <a:cubicBezTo>
                  <a:pt x="3706" y="438"/>
                  <a:pt x="3706" y="438"/>
                  <a:pt x="3706" y="438"/>
                </a:cubicBezTo>
                <a:cubicBezTo>
                  <a:pt x="3693" y="438"/>
                  <a:pt x="3693" y="438"/>
                  <a:pt x="3693" y="438"/>
                </a:cubicBezTo>
                <a:cubicBezTo>
                  <a:pt x="3673" y="441"/>
                  <a:pt x="3673" y="441"/>
                  <a:pt x="3673" y="441"/>
                </a:cubicBezTo>
                <a:cubicBezTo>
                  <a:pt x="3661" y="441"/>
                  <a:pt x="3661" y="441"/>
                  <a:pt x="3661" y="441"/>
                </a:cubicBezTo>
                <a:cubicBezTo>
                  <a:pt x="3661" y="441"/>
                  <a:pt x="3661" y="441"/>
                  <a:pt x="3661" y="441"/>
                </a:cubicBezTo>
                <a:cubicBezTo>
                  <a:pt x="3644" y="441"/>
                  <a:pt x="3644" y="441"/>
                  <a:pt x="3644" y="441"/>
                </a:cubicBezTo>
                <a:cubicBezTo>
                  <a:pt x="3631" y="443"/>
                  <a:pt x="3631" y="443"/>
                  <a:pt x="3631" y="443"/>
                </a:cubicBezTo>
                <a:cubicBezTo>
                  <a:pt x="3631" y="446"/>
                  <a:pt x="3631" y="446"/>
                  <a:pt x="3631" y="446"/>
                </a:cubicBezTo>
                <a:cubicBezTo>
                  <a:pt x="3613" y="446"/>
                  <a:pt x="3613" y="446"/>
                  <a:pt x="3613" y="446"/>
                </a:cubicBezTo>
                <a:cubicBezTo>
                  <a:pt x="3613" y="447"/>
                  <a:pt x="3613" y="447"/>
                  <a:pt x="3613" y="447"/>
                </a:cubicBezTo>
                <a:cubicBezTo>
                  <a:pt x="3600" y="449"/>
                  <a:pt x="3600" y="449"/>
                  <a:pt x="3600" y="449"/>
                </a:cubicBezTo>
                <a:cubicBezTo>
                  <a:pt x="3586" y="451"/>
                  <a:pt x="3586" y="451"/>
                  <a:pt x="3586" y="451"/>
                </a:cubicBezTo>
                <a:cubicBezTo>
                  <a:pt x="3575" y="452"/>
                  <a:pt x="3575" y="452"/>
                  <a:pt x="3575" y="452"/>
                </a:cubicBezTo>
                <a:cubicBezTo>
                  <a:pt x="3552" y="452"/>
                  <a:pt x="3552" y="452"/>
                  <a:pt x="3552" y="452"/>
                </a:cubicBezTo>
                <a:cubicBezTo>
                  <a:pt x="3537" y="452"/>
                  <a:pt x="3537" y="452"/>
                  <a:pt x="3537" y="452"/>
                </a:cubicBezTo>
                <a:cubicBezTo>
                  <a:pt x="3522" y="452"/>
                  <a:pt x="3522" y="452"/>
                  <a:pt x="3522" y="452"/>
                </a:cubicBezTo>
                <a:cubicBezTo>
                  <a:pt x="3506" y="452"/>
                  <a:pt x="3506" y="452"/>
                  <a:pt x="3506" y="452"/>
                </a:cubicBezTo>
                <a:cubicBezTo>
                  <a:pt x="3491" y="452"/>
                  <a:pt x="3491" y="452"/>
                  <a:pt x="3491" y="452"/>
                </a:cubicBezTo>
                <a:cubicBezTo>
                  <a:pt x="3479" y="452"/>
                  <a:pt x="3479" y="452"/>
                  <a:pt x="3479" y="452"/>
                </a:cubicBezTo>
                <a:cubicBezTo>
                  <a:pt x="3458" y="452"/>
                  <a:pt x="3458" y="452"/>
                  <a:pt x="3458" y="452"/>
                </a:cubicBezTo>
                <a:cubicBezTo>
                  <a:pt x="3445" y="452"/>
                  <a:pt x="3445" y="452"/>
                  <a:pt x="3445" y="452"/>
                </a:cubicBezTo>
                <a:cubicBezTo>
                  <a:pt x="3445" y="451"/>
                  <a:pt x="3445" y="451"/>
                  <a:pt x="3445" y="451"/>
                </a:cubicBezTo>
                <a:cubicBezTo>
                  <a:pt x="3431" y="451"/>
                  <a:pt x="3431" y="451"/>
                  <a:pt x="3431" y="451"/>
                </a:cubicBezTo>
                <a:cubicBezTo>
                  <a:pt x="3414" y="451"/>
                  <a:pt x="3414" y="451"/>
                  <a:pt x="3414" y="451"/>
                </a:cubicBezTo>
                <a:cubicBezTo>
                  <a:pt x="3414" y="449"/>
                  <a:pt x="3414" y="449"/>
                  <a:pt x="3414" y="449"/>
                </a:cubicBezTo>
                <a:cubicBezTo>
                  <a:pt x="3396" y="449"/>
                  <a:pt x="3396" y="449"/>
                  <a:pt x="3396" y="449"/>
                </a:cubicBezTo>
                <a:cubicBezTo>
                  <a:pt x="3383" y="449"/>
                  <a:pt x="3383" y="449"/>
                  <a:pt x="3383" y="449"/>
                </a:cubicBezTo>
                <a:cubicBezTo>
                  <a:pt x="3383" y="447"/>
                  <a:pt x="3383" y="447"/>
                  <a:pt x="3383" y="447"/>
                </a:cubicBezTo>
                <a:cubicBezTo>
                  <a:pt x="3365" y="447"/>
                  <a:pt x="3365" y="447"/>
                  <a:pt x="3365" y="447"/>
                </a:cubicBezTo>
                <a:cubicBezTo>
                  <a:pt x="3365" y="446"/>
                  <a:pt x="3365" y="446"/>
                  <a:pt x="3365" y="446"/>
                </a:cubicBezTo>
                <a:cubicBezTo>
                  <a:pt x="3346" y="446"/>
                  <a:pt x="3346" y="446"/>
                  <a:pt x="3346" y="446"/>
                </a:cubicBezTo>
                <a:cubicBezTo>
                  <a:pt x="3337" y="446"/>
                  <a:pt x="3337" y="446"/>
                  <a:pt x="3337" y="446"/>
                </a:cubicBezTo>
                <a:cubicBezTo>
                  <a:pt x="3318" y="443"/>
                  <a:pt x="3318" y="443"/>
                  <a:pt x="3318" y="443"/>
                </a:cubicBezTo>
                <a:cubicBezTo>
                  <a:pt x="3304" y="441"/>
                  <a:pt x="3304" y="441"/>
                  <a:pt x="3304" y="441"/>
                </a:cubicBezTo>
                <a:cubicBezTo>
                  <a:pt x="3286" y="443"/>
                  <a:pt x="3286" y="443"/>
                  <a:pt x="3286" y="443"/>
                </a:cubicBezTo>
                <a:cubicBezTo>
                  <a:pt x="3267" y="443"/>
                  <a:pt x="3267" y="443"/>
                  <a:pt x="3267" y="443"/>
                </a:cubicBezTo>
                <a:cubicBezTo>
                  <a:pt x="3253" y="446"/>
                  <a:pt x="3253" y="446"/>
                  <a:pt x="3253" y="446"/>
                </a:cubicBezTo>
                <a:cubicBezTo>
                  <a:pt x="3237" y="446"/>
                  <a:pt x="3237" y="446"/>
                  <a:pt x="3237" y="446"/>
                </a:cubicBezTo>
                <a:cubicBezTo>
                  <a:pt x="3237" y="447"/>
                  <a:pt x="3237" y="447"/>
                  <a:pt x="3237" y="447"/>
                </a:cubicBezTo>
                <a:cubicBezTo>
                  <a:pt x="3226" y="447"/>
                  <a:pt x="3226" y="447"/>
                  <a:pt x="3226" y="447"/>
                </a:cubicBezTo>
                <a:cubicBezTo>
                  <a:pt x="3213" y="447"/>
                  <a:pt x="3213" y="447"/>
                  <a:pt x="3213" y="447"/>
                </a:cubicBezTo>
                <a:cubicBezTo>
                  <a:pt x="3213" y="449"/>
                  <a:pt x="3213" y="449"/>
                  <a:pt x="3213" y="449"/>
                </a:cubicBezTo>
                <a:cubicBezTo>
                  <a:pt x="3193" y="449"/>
                  <a:pt x="3193" y="449"/>
                  <a:pt x="3193" y="449"/>
                </a:cubicBezTo>
                <a:cubicBezTo>
                  <a:pt x="3193" y="451"/>
                  <a:pt x="3193" y="451"/>
                  <a:pt x="3193" y="451"/>
                </a:cubicBezTo>
                <a:cubicBezTo>
                  <a:pt x="3177" y="451"/>
                  <a:pt x="3177" y="451"/>
                  <a:pt x="3177" y="451"/>
                </a:cubicBezTo>
                <a:cubicBezTo>
                  <a:pt x="3177" y="452"/>
                  <a:pt x="3177" y="452"/>
                  <a:pt x="3177" y="452"/>
                </a:cubicBezTo>
                <a:cubicBezTo>
                  <a:pt x="3161" y="452"/>
                  <a:pt x="3161" y="452"/>
                  <a:pt x="3161" y="452"/>
                </a:cubicBezTo>
                <a:cubicBezTo>
                  <a:pt x="3161" y="454"/>
                  <a:pt x="3161" y="454"/>
                  <a:pt x="3161" y="454"/>
                </a:cubicBezTo>
                <a:cubicBezTo>
                  <a:pt x="3144" y="454"/>
                  <a:pt x="3144" y="454"/>
                  <a:pt x="3144" y="454"/>
                </a:cubicBezTo>
                <a:cubicBezTo>
                  <a:pt x="3134" y="455"/>
                  <a:pt x="3134" y="455"/>
                  <a:pt x="3134" y="455"/>
                </a:cubicBezTo>
                <a:cubicBezTo>
                  <a:pt x="3115" y="455"/>
                  <a:pt x="3115" y="455"/>
                  <a:pt x="3115" y="455"/>
                </a:cubicBezTo>
                <a:cubicBezTo>
                  <a:pt x="3115" y="460"/>
                  <a:pt x="3115" y="460"/>
                  <a:pt x="3115" y="460"/>
                </a:cubicBezTo>
                <a:cubicBezTo>
                  <a:pt x="3095" y="460"/>
                  <a:pt x="3095" y="460"/>
                  <a:pt x="3095" y="460"/>
                </a:cubicBezTo>
                <a:cubicBezTo>
                  <a:pt x="3085" y="460"/>
                  <a:pt x="3085" y="460"/>
                  <a:pt x="3085" y="460"/>
                </a:cubicBezTo>
                <a:cubicBezTo>
                  <a:pt x="3085" y="460"/>
                  <a:pt x="3085" y="460"/>
                  <a:pt x="3085" y="460"/>
                </a:cubicBezTo>
                <a:cubicBezTo>
                  <a:pt x="3065" y="460"/>
                  <a:pt x="3065" y="460"/>
                  <a:pt x="3065" y="460"/>
                </a:cubicBezTo>
                <a:cubicBezTo>
                  <a:pt x="3054" y="462"/>
                  <a:pt x="3054" y="462"/>
                  <a:pt x="3054" y="462"/>
                </a:cubicBezTo>
                <a:cubicBezTo>
                  <a:pt x="3042" y="462"/>
                  <a:pt x="3042" y="462"/>
                  <a:pt x="3042" y="462"/>
                </a:cubicBezTo>
                <a:cubicBezTo>
                  <a:pt x="3042" y="464"/>
                  <a:pt x="3042" y="464"/>
                  <a:pt x="3042" y="464"/>
                </a:cubicBezTo>
                <a:cubicBezTo>
                  <a:pt x="3022" y="465"/>
                  <a:pt x="3022" y="465"/>
                  <a:pt x="3022" y="465"/>
                </a:cubicBezTo>
                <a:cubicBezTo>
                  <a:pt x="3022" y="466"/>
                  <a:pt x="3022" y="466"/>
                  <a:pt x="3022" y="466"/>
                </a:cubicBezTo>
                <a:cubicBezTo>
                  <a:pt x="3008" y="466"/>
                  <a:pt x="3008" y="466"/>
                  <a:pt x="3008" y="466"/>
                </a:cubicBezTo>
                <a:cubicBezTo>
                  <a:pt x="2990" y="468"/>
                  <a:pt x="2990" y="468"/>
                  <a:pt x="2990" y="468"/>
                </a:cubicBezTo>
                <a:cubicBezTo>
                  <a:pt x="2980" y="468"/>
                  <a:pt x="2980" y="468"/>
                  <a:pt x="2980" y="468"/>
                </a:cubicBezTo>
                <a:cubicBezTo>
                  <a:pt x="2958" y="468"/>
                  <a:pt x="2958" y="468"/>
                  <a:pt x="2958" y="468"/>
                </a:cubicBezTo>
                <a:cubicBezTo>
                  <a:pt x="2943" y="468"/>
                  <a:pt x="2943" y="468"/>
                  <a:pt x="2943" y="468"/>
                </a:cubicBezTo>
                <a:cubicBezTo>
                  <a:pt x="2931" y="468"/>
                  <a:pt x="2931" y="468"/>
                  <a:pt x="2931" y="468"/>
                </a:cubicBezTo>
                <a:cubicBezTo>
                  <a:pt x="2917" y="468"/>
                  <a:pt x="2917" y="468"/>
                  <a:pt x="2917" y="468"/>
                </a:cubicBezTo>
                <a:cubicBezTo>
                  <a:pt x="2917" y="466"/>
                  <a:pt x="2917" y="466"/>
                  <a:pt x="2917" y="466"/>
                </a:cubicBezTo>
                <a:cubicBezTo>
                  <a:pt x="2895" y="466"/>
                  <a:pt x="2895" y="466"/>
                  <a:pt x="2895" y="466"/>
                </a:cubicBezTo>
                <a:cubicBezTo>
                  <a:pt x="2880" y="465"/>
                  <a:pt x="2880" y="465"/>
                  <a:pt x="2880" y="465"/>
                </a:cubicBezTo>
                <a:cubicBezTo>
                  <a:pt x="2870" y="464"/>
                  <a:pt x="2870" y="464"/>
                  <a:pt x="2870" y="464"/>
                </a:cubicBezTo>
                <a:cubicBezTo>
                  <a:pt x="2846" y="464"/>
                  <a:pt x="2846" y="464"/>
                  <a:pt x="2846" y="464"/>
                </a:cubicBezTo>
                <a:cubicBezTo>
                  <a:pt x="2836" y="462"/>
                  <a:pt x="2836" y="462"/>
                  <a:pt x="2836" y="462"/>
                </a:cubicBezTo>
                <a:cubicBezTo>
                  <a:pt x="2822" y="460"/>
                  <a:pt x="2822" y="460"/>
                  <a:pt x="2822" y="460"/>
                </a:cubicBezTo>
                <a:cubicBezTo>
                  <a:pt x="2805" y="460"/>
                  <a:pt x="2805" y="460"/>
                  <a:pt x="2805" y="460"/>
                </a:cubicBezTo>
                <a:cubicBezTo>
                  <a:pt x="2791" y="460"/>
                  <a:pt x="2791" y="460"/>
                  <a:pt x="2791" y="460"/>
                </a:cubicBezTo>
                <a:cubicBezTo>
                  <a:pt x="2791" y="460"/>
                  <a:pt x="2791" y="460"/>
                  <a:pt x="2791" y="460"/>
                </a:cubicBezTo>
                <a:cubicBezTo>
                  <a:pt x="2772" y="460"/>
                  <a:pt x="2772" y="460"/>
                  <a:pt x="2772" y="460"/>
                </a:cubicBezTo>
                <a:cubicBezTo>
                  <a:pt x="2754" y="455"/>
                  <a:pt x="2754" y="455"/>
                  <a:pt x="2754" y="455"/>
                </a:cubicBezTo>
                <a:cubicBezTo>
                  <a:pt x="2739" y="455"/>
                  <a:pt x="2739" y="455"/>
                  <a:pt x="2739" y="455"/>
                </a:cubicBezTo>
                <a:cubicBezTo>
                  <a:pt x="2725" y="455"/>
                  <a:pt x="2725" y="455"/>
                  <a:pt x="2725" y="455"/>
                </a:cubicBezTo>
                <a:cubicBezTo>
                  <a:pt x="2709" y="455"/>
                  <a:pt x="2709" y="455"/>
                  <a:pt x="2709" y="455"/>
                </a:cubicBezTo>
                <a:cubicBezTo>
                  <a:pt x="2692" y="455"/>
                  <a:pt x="2692" y="455"/>
                  <a:pt x="2692" y="455"/>
                </a:cubicBezTo>
                <a:cubicBezTo>
                  <a:pt x="2676" y="455"/>
                  <a:pt x="2676" y="455"/>
                  <a:pt x="2676" y="455"/>
                </a:cubicBezTo>
                <a:cubicBezTo>
                  <a:pt x="2663" y="455"/>
                  <a:pt x="2663" y="455"/>
                  <a:pt x="2663" y="455"/>
                </a:cubicBezTo>
                <a:cubicBezTo>
                  <a:pt x="2650" y="455"/>
                  <a:pt x="2650" y="455"/>
                  <a:pt x="2650" y="455"/>
                </a:cubicBezTo>
                <a:cubicBezTo>
                  <a:pt x="2629" y="455"/>
                  <a:pt x="2629" y="455"/>
                  <a:pt x="2629" y="455"/>
                </a:cubicBezTo>
                <a:cubicBezTo>
                  <a:pt x="2619" y="455"/>
                  <a:pt x="2619" y="455"/>
                  <a:pt x="2619" y="455"/>
                </a:cubicBezTo>
                <a:cubicBezTo>
                  <a:pt x="2600" y="455"/>
                  <a:pt x="2600" y="455"/>
                  <a:pt x="2600" y="455"/>
                </a:cubicBezTo>
                <a:cubicBezTo>
                  <a:pt x="2590" y="455"/>
                  <a:pt x="2590" y="455"/>
                  <a:pt x="2590" y="455"/>
                </a:cubicBezTo>
                <a:cubicBezTo>
                  <a:pt x="2574" y="455"/>
                  <a:pt x="2574" y="455"/>
                  <a:pt x="2574" y="455"/>
                </a:cubicBezTo>
                <a:cubicBezTo>
                  <a:pt x="2554" y="460"/>
                  <a:pt x="2554" y="460"/>
                  <a:pt x="2554" y="460"/>
                </a:cubicBezTo>
                <a:cubicBezTo>
                  <a:pt x="2539" y="460"/>
                  <a:pt x="2539" y="460"/>
                  <a:pt x="2539" y="460"/>
                </a:cubicBezTo>
                <a:cubicBezTo>
                  <a:pt x="2526" y="460"/>
                  <a:pt x="2526" y="460"/>
                  <a:pt x="2526" y="460"/>
                </a:cubicBezTo>
                <a:cubicBezTo>
                  <a:pt x="2526" y="460"/>
                  <a:pt x="2526" y="460"/>
                  <a:pt x="2526" y="460"/>
                </a:cubicBezTo>
                <a:cubicBezTo>
                  <a:pt x="2506" y="460"/>
                  <a:pt x="2506" y="460"/>
                  <a:pt x="2506" y="460"/>
                </a:cubicBezTo>
                <a:cubicBezTo>
                  <a:pt x="2495" y="460"/>
                  <a:pt x="2495" y="460"/>
                  <a:pt x="2495" y="460"/>
                </a:cubicBezTo>
                <a:cubicBezTo>
                  <a:pt x="2495" y="462"/>
                  <a:pt x="2495" y="462"/>
                  <a:pt x="2495" y="462"/>
                </a:cubicBezTo>
                <a:cubicBezTo>
                  <a:pt x="2481" y="462"/>
                  <a:pt x="2481" y="462"/>
                  <a:pt x="2481" y="462"/>
                </a:cubicBezTo>
                <a:cubicBezTo>
                  <a:pt x="2457" y="462"/>
                  <a:pt x="2457" y="462"/>
                  <a:pt x="2457" y="462"/>
                </a:cubicBezTo>
                <a:cubicBezTo>
                  <a:pt x="2446" y="462"/>
                  <a:pt x="2446" y="462"/>
                  <a:pt x="2446" y="462"/>
                </a:cubicBezTo>
                <a:cubicBezTo>
                  <a:pt x="2427" y="462"/>
                  <a:pt x="2427" y="462"/>
                  <a:pt x="2427" y="462"/>
                </a:cubicBezTo>
                <a:cubicBezTo>
                  <a:pt x="2416" y="462"/>
                  <a:pt x="2416" y="462"/>
                  <a:pt x="2416" y="462"/>
                </a:cubicBezTo>
                <a:cubicBezTo>
                  <a:pt x="2402" y="462"/>
                  <a:pt x="2402" y="462"/>
                  <a:pt x="2402" y="462"/>
                </a:cubicBezTo>
                <a:cubicBezTo>
                  <a:pt x="2383" y="462"/>
                  <a:pt x="2383" y="462"/>
                  <a:pt x="2383" y="462"/>
                </a:cubicBezTo>
                <a:cubicBezTo>
                  <a:pt x="2371" y="462"/>
                  <a:pt x="2371" y="462"/>
                  <a:pt x="2371" y="462"/>
                </a:cubicBezTo>
                <a:cubicBezTo>
                  <a:pt x="2349" y="462"/>
                  <a:pt x="2349" y="462"/>
                  <a:pt x="2349" y="462"/>
                </a:cubicBezTo>
                <a:cubicBezTo>
                  <a:pt x="2349" y="464"/>
                  <a:pt x="2349" y="464"/>
                  <a:pt x="2349" y="464"/>
                </a:cubicBezTo>
                <a:cubicBezTo>
                  <a:pt x="2334" y="464"/>
                  <a:pt x="2334" y="464"/>
                  <a:pt x="2334" y="464"/>
                </a:cubicBezTo>
                <a:cubicBezTo>
                  <a:pt x="2319" y="464"/>
                  <a:pt x="2319" y="464"/>
                  <a:pt x="2319" y="464"/>
                </a:cubicBezTo>
                <a:cubicBezTo>
                  <a:pt x="2302" y="465"/>
                  <a:pt x="2302" y="465"/>
                  <a:pt x="2302" y="465"/>
                </a:cubicBezTo>
                <a:cubicBezTo>
                  <a:pt x="2289" y="465"/>
                  <a:pt x="2289" y="465"/>
                  <a:pt x="2289" y="465"/>
                </a:cubicBezTo>
                <a:cubicBezTo>
                  <a:pt x="2271" y="465"/>
                  <a:pt x="2271" y="465"/>
                  <a:pt x="2271" y="465"/>
                </a:cubicBezTo>
                <a:cubicBezTo>
                  <a:pt x="2271" y="466"/>
                  <a:pt x="2271" y="466"/>
                  <a:pt x="2271" y="466"/>
                </a:cubicBezTo>
                <a:cubicBezTo>
                  <a:pt x="2258" y="466"/>
                  <a:pt x="2258" y="466"/>
                  <a:pt x="2258" y="466"/>
                </a:cubicBezTo>
                <a:cubicBezTo>
                  <a:pt x="2240" y="466"/>
                  <a:pt x="2240" y="466"/>
                  <a:pt x="2240" y="466"/>
                </a:cubicBezTo>
                <a:cubicBezTo>
                  <a:pt x="2225" y="468"/>
                  <a:pt x="2225" y="468"/>
                  <a:pt x="2225" y="468"/>
                </a:cubicBezTo>
                <a:cubicBezTo>
                  <a:pt x="2210" y="468"/>
                  <a:pt x="2210" y="468"/>
                  <a:pt x="2210" y="468"/>
                </a:cubicBezTo>
                <a:cubicBezTo>
                  <a:pt x="2196" y="470"/>
                  <a:pt x="2196" y="470"/>
                  <a:pt x="2196" y="470"/>
                </a:cubicBezTo>
                <a:cubicBezTo>
                  <a:pt x="2181" y="470"/>
                  <a:pt x="2181" y="470"/>
                  <a:pt x="2181" y="470"/>
                </a:cubicBezTo>
                <a:cubicBezTo>
                  <a:pt x="2169" y="470"/>
                  <a:pt x="2169" y="470"/>
                  <a:pt x="2169" y="470"/>
                </a:cubicBezTo>
                <a:cubicBezTo>
                  <a:pt x="2169" y="474"/>
                  <a:pt x="2169" y="474"/>
                  <a:pt x="2169" y="474"/>
                </a:cubicBezTo>
                <a:cubicBezTo>
                  <a:pt x="2148" y="474"/>
                  <a:pt x="2148" y="474"/>
                  <a:pt x="2148" y="474"/>
                </a:cubicBezTo>
                <a:cubicBezTo>
                  <a:pt x="2133" y="474"/>
                  <a:pt x="2133" y="474"/>
                  <a:pt x="2133" y="474"/>
                </a:cubicBezTo>
                <a:cubicBezTo>
                  <a:pt x="2122" y="475"/>
                  <a:pt x="2122" y="475"/>
                  <a:pt x="2122" y="475"/>
                </a:cubicBezTo>
                <a:cubicBezTo>
                  <a:pt x="2100" y="475"/>
                  <a:pt x="2100" y="475"/>
                  <a:pt x="2100" y="475"/>
                </a:cubicBezTo>
                <a:cubicBezTo>
                  <a:pt x="2091" y="475"/>
                  <a:pt x="2091" y="475"/>
                  <a:pt x="2091" y="475"/>
                </a:cubicBezTo>
                <a:cubicBezTo>
                  <a:pt x="2091" y="475"/>
                  <a:pt x="2091" y="475"/>
                  <a:pt x="2091" y="475"/>
                </a:cubicBezTo>
                <a:cubicBezTo>
                  <a:pt x="2073" y="475"/>
                  <a:pt x="2073" y="475"/>
                  <a:pt x="2073" y="475"/>
                </a:cubicBezTo>
                <a:cubicBezTo>
                  <a:pt x="2056" y="475"/>
                  <a:pt x="2056" y="475"/>
                  <a:pt x="2056" y="475"/>
                </a:cubicBezTo>
                <a:cubicBezTo>
                  <a:pt x="2042" y="479"/>
                  <a:pt x="2042" y="479"/>
                  <a:pt x="2042" y="479"/>
                </a:cubicBezTo>
                <a:cubicBezTo>
                  <a:pt x="2027" y="479"/>
                  <a:pt x="2027" y="479"/>
                  <a:pt x="2027" y="479"/>
                </a:cubicBezTo>
                <a:cubicBezTo>
                  <a:pt x="2027" y="480"/>
                  <a:pt x="2027" y="480"/>
                  <a:pt x="2027" y="480"/>
                </a:cubicBezTo>
                <a:cubicBezTo>
                  <a:pt x="2013" y="480"/>
                  <a:pt x="2013" y="480"/>
                  <a:pt x="2013" y="480"/>
                </a:cubicBezTo>
                <a:cubicBezTo>
                  <a:pt x="1990" y="480"/>
                  <a:pt x="1990" y="480"/>
                  <a:pt x="1990" y="480"/>
                </a:cubicBezTo>
                <a:cubicBezTo>
                  <a:pt x="1990" y="482"/>
                  <a:pt x="1990" y="482"/>
                  <a:pt x="1990" y="482"/>
                </a:cubicBezTo>
                <a:cubicBezTo>
                  <a:pt x="1976" y="482"/>
                  <a:pt x="1976" y="482"/>
                  <a:pt x="1976" y="482"/>
                </a:cubicBezTo>
                <a:cubicBezTo>
                  <a:pt x="1966" y="482"/>
                  <a:pt x="1966" y="482"/>
                  <a:pt x="1966" y="482"/>
                </a:cubicBezTo>
                <a:cubicBezTo>
                  <a:pt x="1966" y="483"/>
                  <a:pt x="1966" y="483"/>
                  <a:pt x="1966" y="483"/>
                </a:cubicBezTo>
                <a:cubicBezTo>
                  <a:pt x="1949" y="483"/>
                  <a:pt x="1949" y="483"/>
                  <a:pt x="1949" y="483"/>
                </a:cubicBezTo>
                <a:cubicBezTo>
                  <a:pt x="1931" y="483"/>
                  <a:pt x="1931" y="483"/>
                  <a:pt x="1931" y="483"/>
                </a:cubicBezTo>
                <a:cubicBezTo>
                  <a:pt x="1911" y="483"/>
                  <a:pt x="1911" y="483"/>
                  <a:pt x="1911" y="483"/>
                </a:cubicBezTo>
                <a:cubicBezTo>
                  <a:pt x="1911" y="485"/>
                  <a:pt x="1911" y="485"/>
                  <a:pt x="1911" y="485"/>
                </a:cubicBezTo>
                <a:cubicBezTo>
                  <a:pt x="1895" y="485"/>
                  <a:pt x="1895" y="485"/>
                  <a:pt x="1895" y="485"/>
                </a:cubicBezTo>
                <a:cubicBezTo>
                  <a:pt x="1883" y="485"/>
                  <a:pt x="1883" y="485"/>
                  <a:pt x="1883" y="485"/>
                </a:cubicBezTo>
                <a:cubicBezTo>
                  <a:pt x="1871" y="487"/>
                  <a:pt x="1871" y="487"/>
                  <a:pt x="1871" y="487"/>
                </a:cubicBezTo>
                <a:cubicBezTo>
                  <a:pt x="1851" y="487"/>
                  <a:pt x="1851" y="487"/>
                  <a:pt x="1851" y="487"/>
                </a:cubicBezTo>
                <a:cubicBezTo>
                  <a:pt x="1851" y="488"/>
                  <a:pt x="1851" y="488"/>
                  <a:pt x="1851" y="488"/>
                </a:cubicBezTo>
                <a:cubicBezTo>
                  <a:pt x="1834" y="489"/>
                  <a:pt x="1834" y="489"/>
                  <a:pt x="1834" y="489"/>
                </a:cubicBezTo>
                <a:cubicBezTo>
                  <a:pt x="1834" y="492"/>
                  <a:pt x="1834" y="492"/>
                  <a:pt x="1834" y="492"/>
                </a:cubicBezTo>
                <a:cubicBezTo>
                  <a:pt x="1834" y="495"/>
                  <a:pt x="1834" y="495"/>
                  <a:pt x="1834" y="495"/>
                </a:cubicBezTo>
                <a:cubicBezTo>
                  <a:pt x="1823" y="495"/>
                  <a:pt x="1823" y="495"/>
                  <a:pt x="1823" y="495"/>
                </a:cubicBezTo>
                <a:cubicBezTo>
                  <a:pt x="1823" y="497"/>
                  <a:pt x="1823" y="497"/>
                  <a:pt x="1823" y="497"/>
                </a:cubicBezTo>
                <a:cubicBezTo>
                  <a:pt x="1809" y="499"/>
                  <a:pt x="1809" y="499"/>
                  <a:pt x="1809" y="499"/>
                </a:cubicBezTo>
                <a:cubicBezTo>
                  <a:pt x="1794" y="499"/>
                  <a:pt x="1794" y="499"/>
                  <a:pt x="1794" y="499"/>
                </a:cubicBezTo>
                <a:cubicBezTo>
                  <a:pt x="1774" y="499"/>
                  <a:pt x="1774" y="499"/>
                  <a:pt x="1774" y="499"/>
                </a:cubicBezTo>
                <a:cubicBezTo>
                  <a:pt x="1759" y="499"/>
                  <a:pt x="1759" y="499"/>
                  <a:pt x="1759" y="499"/>
                </a:cubicBezTo>
                <a:cubicBezTo>
                  <a:pt x="1747" y="499"/>
                  <a:pt x="1747" y="499"/>
                  <a:pt x="1747" y="499"/>
                </a:cubicBezTo>
                <a:cubicBezTo>
                  <a:pt x="1727" y="499"/>
                  <a:pt x="1727" y="499"/>
                  <a:pt x="1727" y="499"/>
                </a:cubicBezTo>
                <a:cubicBezTo>
                  <a:pt x="1710" y="499"/>
                  <a:pt x="1710" y="499"/>
                  <a:pt x="1710" y="499"/>
                </a:cubicBezTo>
                <a:cubicBezTo>
                  <a:pt x="1710" y="497"/>
                  <a:pt x="1710" y="497"/>
                  <a:pt x="1710" y="497"/>
                </a:cubicBezTo>
                <a:cubicBezTo>
                  <a:pt x="1697" y="497"/>
                  <a:pt x="1697" y="497"/>
                  <a:pt x="1697" y="497"/>
                </a:cubicBezTo>
                <a:cubicBezTo>
                  <a:pt x="1682" y="497"/>
                  <a:pt x="1682" y="497"/>
                  <a:pt x="1682" y="497"/>
                </a:cubicBezTo>
                <a:cubicBezTo>
                  <a:pt x="1664" y="497"/>
                  <a:pt x="1664" y="497"/>
                  <a:pt x="1664" y="497"/>
                </a:cubicBezTo>
                <a:cubicBezTo>
                  <a:pt x="1664" y="495"/>
                  <a:pt x="1664" y="495"/>
                  <a:pt x="1664" y="495"/>
                </a:cubicBezTo>
                <a:cubicBezTo>
                  <a:pt x="1650" y="495"/>
                  <a:pt x="1650" y="495"/>
                  <a:pt x="1650" y="495"/>
                </a:cubicBezTo>
                <a:cubicBezTo>
                  <a:pt x="1650" y="495"/>
                  <a:pt x="1650" y="495"/>
                  <a:pt x="1650" y="495"/>
                </a:cubicBezTo>
                <a:cubicBezTo>
                  <a:pt x="1629" y="495"/>
                  <a:pt x="1629" y="495"/>
                  <a:pt x="1629" y="495"/>
                </a:cubicBezTo>
                <a:cubicBezTo>
                  <a:pt x="1620" y="495"/>
                  <a:pt x="1620" y="495"/>
                  <a:pt x="1620" y="495"/>
                </a:cubicBezTo>
                <a:cubicBezTo>
                  <a:pt x="1620" y="492"/>
                  <a:pt x="1620" y="492"/>
                  <a:pt x="1620" y="492"/>
                </a:cubicBezTo>
                <a:cubicBezTo>
                  <a:pt x="1602" y="492"/>
                  <a:pt x="1602" y="492"/>
                  <a:pt x="1602" y="492"/>
                </a:cubicBezTo>
                <a:cubicBezTo>
                  <a:pt x="1588" y="492"/>
                  <a:pt x="1588" y="492"/>
                  <a:pt x="1588" y="492"/>
                </a:cubicBezTo>
                <a:cubicBezTo>
                  <a:pt x="1571" y="492"/>
                  <a:pt x="1571" y="492"/>
                  <a:pt x="1571" y="492"/>
                </a:cubicBezTo>
                <a:cubicBezTo>
                  <a:pt x="1554" y="492"/>
                  <a:pt x="1554" y="492"/>
                  <a:pt x="1554" y="492"/>
                </a:cubicBezTo>
                <a:cubicBezTo>
                  <a:pt x="1539" y="492"/>
                  <a:pt x="1539" y="492"/>
                  <a:pt x="1539" y="492"/>
                </a:cubicBezTo>
                <a:cubicBezTo>
                  <a:pt x="1529" y="492"/>
                  <a:pt x="1529" y="492"/>
                  <a:pt x="1529" y="492"/>
                </a:cubicBezTo>
                <a:cubicBezTo>
                  <a:pt x="1510" y="492"/>
                  <a:pt x="1510" y="492"/>
                  <a:pt x="1510" y="492"/>
                </a:cubicBezTo>
                <a:cubicBezTo>
                  <a:pt x="1493" y="492"/>
                  <a:pt x="1493" y="492"/>
                  <a:pt x="1493" y="492"/>
                </a:cubicBezTo>
                <a:cubicBezTo>
                  <a:pt x="1479" y="492"/>
                  <a:pt x="1479" y="492"/>
                  <a:pt x="1479" y="492"/>
                </a:cubicBezTo>
                <a:cubicBezTo>
                  <a:pt x="1463" y="492"/>
                  <a:pt x="1463" y="492"/>
                  <a:pt x="1463" y="492"/>
                </a:cubicBezTo>
                <a:cubicBezTo>
                  <a:pt x="1448" y="492"/>
                  <a:pt x="1448" y="492"/>
                  <a:pt x="1448" y="492"/>
                </a:cubicBezTo>
                <a:cubicBezTo>
                  <a:pt x="1433" y="492"/>
                  <a:pt x="1433" y="492"/>
                  <a:pt x="1433" y="492"/>
                </a:cubicBezTo>
                <a:cubicBezTo>
                  <a:pt x="1418" y="492"/>
                  <a:pt x="1418" y="492"/>
                  <a:pt x="1418" y="492"/>
                </a:cubicBezTo>
                <a:cubicBezTo>
                  <a:pt x="1399" y="492"/>
                  <a:pt x="1399" y="492"/>
                  <a:pt x="1399" y="492"/>
                </a:cubicBezTo>
                <a:cubicBezTo>
                  <a:pt x="1384" y="492"/>
                  <a:pt x="1384" y="492"/>
                  <a:pt x="1384" y="492"/>
                </a:cubicBezTo>
                <a:cubicBezTo>
                  <a:pt x="1369" y="492"/>
                  <a:pt x="1369" y="492"/>
                  <a:pt x="1369" y="492"/>
                </a:cubicBezTo>
                <a:cubicBezTo>
                  <a:pt x="1354" y="492"/>
                  <a:pt x="1354" y="492"/>
                  <a:pt x="1354" y="492"/>
                </a:cubicBezTo>
                <a:cubicBezTo>
                  <a:pt x="1354" y="489"/>
                  <a:pt x="1354" y="489"/>
                  <a:pt x="1354" y="489"/>
                </a:cubicBezTo>
                <a:cubicBezTo>
                  <a:pt x="1338" y="489"/>
                  <a:pt x="1338" y="489"/>
                  <a:pt x="1338" y="489"/>
                </a:cubicBezTo>
                <a:cubicBezTo>
                  <a:pt x="1326" y="489"/>
                  <a:pt x="1326" y="489"/>
                  <a:pt x="1326" y="489"/>
                </a:cubicBezTo>
                <a:cubicBezTo>
                  <a:pt x="1311" y="489"/>
                  <a:pt x="1311" y="489"/>
                  <a:pt x="1311" y="489"/>
                </a:cubicBezTo>
                <a:cubicBezTo>
                  <a:pt x="1292" y="488"/>
                  <a:pt x="1292" y="488"/>
                  <a:pt x="1292" y="488"/>
                </a:cubicBezTo>
                <a:cubicBezTo>
                  <a:pt x="1276" y="488"/>
                  <a:pt x="1276" y="488"/>
                  <a:pt x="1276" y="488"/>
                </a:cubicBezTo>
                <a:cubicBezTo>
                  <a:pt x="1259" y="488"/>
                  <a:pt x="1259" y="488"/>
                  <a:pt x="1259" y="488"/>
                </a:cubicBezTo>
                <a:cubicBezTo>
                  <a:pt x="1242" y="488"/>
                  <a:pt x="1242" y="488"/>
                  <a:pt x="1242" y="488"/>
                </a:cubicBezTo>
                <a:cubicBezTo>
                  <a:pt x="1242" y="487"/>
                  <a:pt x="1242" y="487"/>
                  <a:pt x="1242" y="487"/>
                </a:cubicBezTo>
                <a:cubicBezTo>
                  <a:pt x="1232" y="487"/>
                  <a:pt x="1232" y="487"/>
                  <a:pt x="1232" y="487"/>
                </a:cubicBezTo>
                <a:cubicBezTo>
                  <a:pt x="1218" y="487"/>
                  <a:pt x="1218" y="487"/>
                  <a:pt x="1218" y="487"/>
                </a:cubicBezTo>
                <a:cubicBezTo>
                  <a:pt x="1194" y="487"/>
                  <a:pt x="1194" y="487"/>
                  <a:pt x="1194" y="487"/>
                </a:cubicBezTo>
                <a:cubicBezTo>
                  <a:pt x="1194" y="485"/>
                  <a:pt x="1194" y="485"/>
                  <a:pt x="1194" y="485"/>
                </a:cubicBezTo>
                <a:cubicBezTo>
                  <a:pt x="1177" y="485"/>
                  <a:pt x="1177" y="485"/>
                  <a:pt x="1177" y="485"/>
                </a:cubicBezTo>
                <a:cubicBezTo>
                  <a:pt x="1169" y="485"/>
                  <a:pt x="1169" y="485"/>
                  <a:pt x="1169" y="485"/>
                </a:cubicBezTo>
                <a:cubicBezTo>
                  <a:pt x="1148" y="485"/>
                  <a:pt x="1148" y="485"/>
                  <a:pt x="1148" y="485"/>
                </a:cubicBezTo>
                <a:cubicBezTo>
                  <a:pt x="1140" y="485"/>
                  <a:pt x="1140" y="485"/>
                  <a:pt x="1140" y="485"/>
                </a:cubicBezTo>
                <a:cubicBezTo>
                  <a:pt x="1140" y="487"/>
                  <a:pt x="1140" y="487"/>
                  <a:pt x="1140" y="487"/>
                </a:cubicBezTo>
                <a:cubicBezTo>
                  <a:pt x="1121" y="488"/>
                  <a:pt x="1121" y="488"/>
                  <a:pt x="1121" y="488"/>
                </a:cubicBezTo>
                <a:cubicBezTo>
                  <a:pt x="1104" y="489"/>
                  <a:pt x="1104" y="489"/>
                  <a:pt x="1104" y="489"/>
                </a:cubicBezTo>
                <a:cubicBezTo>
                  <a:pt x="1104" y="492"/>
                  <a:pt x="1104" y="492"/>
                  <a:pt x="1104" y="492"/>
                </a:cubicBezTo>
                <a:cubicBezTo>
                  <a:pt x="1087" y="492"/>
                  <a:pt x="1087" y="492"/>
                  <a:pt x="1087" y="492"/>
                </a:cubicBezTo>
                <a:cubicBezTo>
                  <a:pt x="1087" y="495"/>
                  <a:pt x="1087" y="495"/>
                  <a:pt x="1087" y="495"/>
                </a:cubicBezTo>
                <a:cubicBezTo>
                  <a:pt x="1066" y="495"/>
                  <a:pt x="1066" y="495"/>
                  <a:pt x="1066" y="495"/>
                </a:cubicBezTo>
                <a:cubicBezTo>
                  <a:pt x="1066" y="495"/>
                  <a:pt x="1066" y="495"/>
                  <a:pt x="1066" y="495"/>
                </a:cubicBezTo>
                <a:cubicBezTo>
                  <a:pt x="1056" y="497"/>
                  <a:pt x="1056" y="497"/>
                  <a:pt x="1056" y="497"/>
                </a:cubicBezTo>
                <a:cubicBezTo>
                  <a:pt x="1043" y="499"/>
                  <a:pt x="1043" y="499"/>
                  <a:pt x="1043" y="499"/>
                </a:cubicBezTo>
                <a:cubicBezTo>
                  <a:pt x="1043" y="502"/>
                  <a:pt x="1043" y="502"/>
                  <a:pt x="1043" y="502"/>
                </a:cubicBezTo>
                <a:cubicBezTo>
                  <a:pt x="1027" y="502"/>
                  <a:pt x="1027" y="502"/>
                  <a:pt x="1027" y="502"/>
                </a:cubicBezTo>
                <a:cubicBezTo>
                  <a:pt x="1027" y="503"/>
                  <a:pt x="1027" y="503"/>
                  <a:pt x="1027" y="503"/>
                </a:cubicBezTo>
                <a:cubicBezTo>
                  <a:pt x="1012" y="503"/>
                  <a:pt x="1012" y="503"/>
                  <a:pt x="1012" y="503"/>
                </a:cubicBezTo>
                <a:cubicBezTo>
                  <a:pt x="1012" y="504"/>
                  <a:pt x="1012" y="504"/>
                  <a:pt x="1012" y="504"/>
                </a:cubicBezTo>
                <a:cubicBezTo>
                  <a:pt x="998" y="504"/>
                  <a:pt x="998" y="504"/>
                  <a:pt x="998" y="504"/>
                </a:cubicBezTo>
                <a:cubicBezTo>
                  <a:pt x="977" y="504"/>
                  <a:pt x="977" y="504"/>
                  <a:pt x="977" y="504"/>
                </a:cubicBezTo>
                <a:cubicBezTo>
                  <a:pt x="964" y="505"/>
                  <a:pt x="964" y="505"/>
                  <a:pt x="964" y="505"/>
                </a:cubicBezTo>
                <a:cubicBezTo>
                  <a:pt x="947" y="505"/>
                  <a:pt x="947" y="505"/>
                  <a:pt x="947" y="505"/>
                </a:cubicBezTo>
                <a:cubicBezTo>
                  <a:pt x="927" y="505"/>
                  <a:pt x="927" y="505"/>
                  <a:pt x="927" y="505"/>
                </a:cubicBezTo>
                <a:cubicBezTo>
                  <a:pt x="919" y="505"/>
                  <a:pt x="919" y="505"/>
                  <a:pt x="919" y="505"/>
                </a:cubicBezTo>
                <a:cubicBezTo>
                  <a:pt x="901" y="508"/>
                  <a:pt x="901" y="508"/>
                  <a:pt x="901" y="508"/>
                </a:cubicBezTo>
                <a:cubicBezTo>
                  <a:pt x="886" y="508"/>
                  <a:pt x="886" y="508"/>
                  <a:pt x="886" y="508"/>
                </a:cubicBezTo>
                <a:cubicBezTo>
                  <a:pt x="874" y="508"/>
                  <a:pt x="874" y="508"/>
                  <a:pt x="874" y="508"/>
                </a:cubicBezTo>
                <a:cubicBezTo>
                  <a:pt x="855" y="510"/>
                  <a:pt x="855" y="510"/>
                  <a:pt x="855" y="510"/>
                </a:cubicBezTo>
                <a:cubicBezTo>
                  <a:pt x="839" y="510"/>
                  <a:pt x="839" y="510"/>
                  <a:pt x="839" y="510"/>
                </a:cubicBezTo>
                <a:cubicBezTo>
                  <a:pt x="812" y="510"/>
                  <a:pt x="812" y="510"/>
                  <a:pt x="812" y="510"/>
                </a:cubicBezTo>
                <a:cubicBezTo>
                  <a:pt x="799" y="512"/>
                  <a:pt x="799" y="512"/>
                  <a:pt x="799" y="512"/>
                </a:cubicBezTo>
                <a:cubicBezTo>
                  <a:pt x="758" y="512"/>
                  <a:pt x="758" y="512"/>
                  <a:pt x="758" y="512"/>
                </a:cubicBezTo>
                <a:cubicBezTo>
                  <a:pt x="746" y="513"/>
                  <a:pt x="746" y="513"/>
                  <a:pt x="746" y="513"/>
                </a:cubicBezTo>
                <a:cubicBezTo>
                  <a:pt x="731" y="513"/>
                  <a:pt x="731" y="513"/>
                  <a:pt x="731" y="513"/>
                </a:cubicBezTo>
                <a:cubicBezTo>
                  <a:pt x="713" y="513"/>
                  <a:pt x="713" y="513"/>
                  <a:pt x="713" y="513"/>
                </a:cubicBezTo>
                <a:cubicBezTo>
                  <a:pt x="696" y="513"/>
                  <a:pt x="696" y="513"/>
                  <a:pt x="696" y="513"/>
                </a:cubicBezTo>
                <a:cubicBezTo>
                  <a:pt x="683" y="513"/>
                  <a:pt x="683" y="513"/>
                  <a:pt x="683" y="513"/>
                </a:cubicBezTo>
                <a:cubicBezTo>
                  <a:pt x="669" y="513"/>
                  <a:pt x="669" y="513"/>
                  <a:pt x="669" y="513"/>
                </a:cubicBezTo>
                <a:cubicBezTo>
                  <a:pt x="652" y="513"/>
                  <a:pt x="652" y="513"/>
                  <a:pt x="652" y="513"/>
                </a:cubicBezTo>
                <a:cubicBezTo>
                  <a:pt x="637" y="513"/>
                  <a:pt x="637" y="513"/>
                  <a:pt x="637" y="513"/>
                </a:cubicBezTo>
                <a:cubicBezTo>
                  <a:pt x="623" y="513"/>
                  <a:pt x="623" y="513"/>
                  <a:pt x="623" y="513"/>
                </a:cubicBezTo>
                <a:cubicBezTo>
                  <a:pt x="602" y="513"/>
                  <a:pt x="602" y="513"/>
                  <a:pt x="602" y="513"/>
                </a:cubicBezTo>
                <a:cubicBezTo>
                  <a:pt x="592" y="513"/>
                  <a:pt x="592" y="513"/>
                  <a:pt x="592" y="513"/>
                </a:cubicBezTo>
                <a:cubicBezTo>
                  <a:pt x="572" y="513"/>
                  <a:pt x="572" y="513"/>
                  <a:pt x="572" y="513"/>
                </a:cubicBezTo>
                <a:cubicBezTo>
                  <a:pt x="556" y="513"/>
                  <a:pt x="556" y="513"/>
                  <a:pt x="556" y="513"/>
                </a:cubicBezTo>
                <a:cubicBezTo>
                  <a:pt x="542" y="513"/>
                  <a:pt x="542" y="513"/>
                  <a:pt x="542" y="513"/>
                </a:cubicBezTo>
                <a:cubicBezTo>
                  <a:pt x="522" y="513"/>
                  <a:pt x="522" y="513"/>
                  <a:pt x="522" y="513"/>
                </a:cubicBezTo>
                <a:cubicBezTo>
                  <a:pt x="512" y="513"/>
                  <a:pt x="512" y="513"/>
                  <a:pt x="512" y="513"/>
                </a:cubicBezTo>
                <a:cubicBezTo>
                  <a:pt x="494" y="513"/>
                  <a:pt x="494" y="513"/>
                  <a:pt x="494" y="513"/>
                </a:cubicBezTo>
                <a:cubicBezTo>
                  <a:pt x="478" y="513"/>
                  <a:pt x="478" y="513"/>
                  <a:pt x="478" y="513"/>
                </a:cubicBezTo>
                <a:cubicBezTo>
                  <a:pt x="461" y="513"/>
                  <a:pt x="461" y="513"/>
                  <a:pt x="461" y="513"/>
                </a:cubicBezTo>
                <a:cubicBezTo>
                  <a:pt x="452" y="512"/>
                  <a:pt x="452" y="512"/>
                  <a:pt x="452" y="512"/>
                </a:cubicBezTo>
                <a:cubicBezTo>
                  <a:pt x="435" y="512"/>
                  <a:pt x="435" y="512"/>
                  <a:pt x="435" y="512"/>
                </a:cubicBezTo>
                <a:cubicBezTo>
                  <a:pt x="418" y="512"/>
                  <a:pt x="418" y="512"/>
                  <a:pt x="418" y="512"/>
                </a:cubicBezTo>
                <a:cubicBezTo>
                  <a:pt x="409" y="512"/>
                  <a:pt x="409" y="512"/>
                  <a:pt x="409" y="512"/>
                </a:cubicBezTo>
                <a:cubicBezTo>
                  <a:pt x="387" y="512"/>
                  <a:pt x="387" y="512"/>
                  <a:pt x="387" y="512"/>
                </a:cubicBezTo>
                <a:cubicBezTo>
                  <a:pt x="375" y="512"/>
                  <a:pt x="375" y="512"/>
                  <a:pt x="375" y="512"/>
                </a:cubicBezTo>
                <a:cubicBezTo>
                  <a:pt x="357" y="512"/>
                  <a:pt x="357" y="512"/>
                  <a:pt x="357" y="512"/>
                </a:cubicBezTo>
                <a:cubicBezTo>
                  <a:pt x="338" y="512"/>
                  <a:pt x="338" y="512"/>
                  <a:pt x="338" y="512"/>
                </a:cubicBezTo>
                <a:cubicBezTo>
                  <a:pt x="338" y="513"/>
                  <a:pt x="338" y="513"/>
                  <a:pt x="338" y="513"/>
                </a:cubicBezTo>
                <a:cubicBezTo>
                  <a:pt x="323" y="513"/>
                  <a:pt x="323" y="513"/>
                  <a:pt x="323" y="513"/>
                </a:cubicBezTo>
                <a:cubicBezTo>
                  <a:pt x="311" y="513"/>
                  <a:pt x="311" y="513"/>
                  <a:pt x="311" y="513"/>
                </a:cubicBezTo>
                <a:cubicBezTo>
                  <a:pt x="297" y="513"/>
                  <a:pt x="297" y="513"/>
                  <a:pt x="297" y="513"/>
                </a:cubicBezTo>
                <a:cubicBezTo>
                  <a:pt x="277" y="513"/>
                  <a:pt x="277" y="513"/>
                  <a:pt x="277" y="513"/>
                </a:cubicBezTo>
                <a:cubicBezTo>
                  <a:pt x="263" y="513"/>
                  <a:pt x="263" y="513"/>
                  <a:pt x="263" y="513"/>
                </a:cubicBezTo>
                <a:cubicBezTo>
                  <a:pt x="246" y="513"/>
                  <a:pt x="246" y="513"/>
                  <a:pt x="246" y="513"/>
                </a:cubicBezTo>
                <a:cubicBezTo>
                  <a:pt x="234" y="513"/>
                  <a:pt x="234" y="513"/>
                  <a:pt x="234" y="513"/>
                </a:cubicBezTo>
                <a:cubicBezTo>
                  <a:pt x="234" y="515"/>
                  <a:pt x="234" y="515"/>
                  <a:pt x="234" y="515"/>
                </a:cubicBezTo>
                <a:cubicBezTo>
                  <a:pt x="213" y="515"/>
                  <a:pt x="213" y="515"/>
                  <a:pt x="213" y="515"/>
                </a:cubicBezTo>
                <a:cubicBezTo>
                  <a:pt x="197" y="515"/>
                  <a:pt x="197" y="515"/>
                  <a:pt x="197" y="515"/>
                </a:cubicBezTo>
                <a:cubicBezTo>
                  <a:pt x="186" y="515"/>
                  <a:pt x="186" y="515"/>
                  <a:pt x="186" y="515"/>
                </a:cubicBezTo>
                <a:cubicBezTo>
                  <a:pt x="167" y="515"/>
                  <a:pt x="167" y="515"/>
                  <a:pt x="167" y="515"/>
                </a:cubicBezTo>
                <a:cubicBezTo>
                  <a:pt x="156" y="515"/>
                  <a:pt x="156" y="515"/>
                  <a:pt x="156" y="515"/>
                </a:cubicBezTo>
                <a:cubicBezTo>
                  <a:pt x="138" y="515"/>
                  <a:pt x="138" y="515"/>
                  <a:pt x="138" y="515"/>
                </a:cubicBezTo>
                <a:cubicBezTo>
                  <a:pt x="118" y="515"/>
                  <a:pt x="118" y="515"/>
                  <a:pt x="118" y="515"/>
                </a:cubicBezTo>
                <a:cubicBezTo>
                  <a:pt x="105" y="515"/>
                  <a:pt x="105" y="515"/>
                  <a:pt x="105" y="515"/>
                </a:cubicBezTo>
                <a:cubicBezTo>
                  <a:pt x="105" y="515"/>
                  <a:pt x="105" y="515"/>
                  <a:pt x="105" y="515"/>
                </a:cubicBezTo>
                <a:cubicBezTo>
                  <a:pt x="87" y="515"/>
                  <a:pt x="87" y="515"/>
                  <a:pt x="87" y="515"/>
                </a:cubicBezTo>
                <a:cubicBezTo>
                  <a:pt x="72" y="515"/>
                  <a:pt x="72" y="515"/>
                  <a:pt x="72" y="515"/>
                </a:cubicBezTo>
                <a:cubicBezTo>
                  <a:pt x="56" y="515"/>
                  <a:pt x="56" y="515"/>
                  <a:pt x="56" y="515"/>
                </a:cubicBezTo>
                <a:cubicBezTo>
                  <a:pt x="43" y="515"/>
                  <a:pt x="43" y="515"/>
                  <a:pt x="43" y="515"/>
                </a:cubicBezTo>
                <a:cubicBezTo>
                  <a:pt x="26" y="519"/>
                  <a:pt x="26" y="519"/>
                  <a:pt x="26" y="519"/>
                </a:cubicBezTo>
                <a:cubicBezTo>
                  <a:pt x="26" y="519"/>
                  <a:pt x="26" y="519"/>
                  <a:pt x="26" y="519"/>
                </a:cubicBezTo>
                <a:cubicBezTo>
                  <a:pt x="26" y="519"/>
                  <a:pt x="26" y="519"/>
                  <a:pt x="26" y="519"/>
                </a:cubicBezTo>
                <a:cubicBezTo>
                  <a:pt x="0" y="519"/>
                  <a:pt x="0" y="519"/>
                  <a:pt x="0" y="519"/>
                </a:cubicBezTo>
                <a:close/>
              </a:path>
            </a:pathLst>
          </a:custGeom>
          <a:solidFill>
            <a:srgbClr val="f0f0f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28880" y="4879800"/>
            <a:ext cx="8056440" cy="59184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ughly 65% of all goods move through channel partners. </a:t>
            </a:r>
            <a:endParaRPr b="0" lang="en-US" sz="18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SDW</a:t>
            </a:r>
            <a:endParaRPr b="0" lang="en-US" sz="1800" spc="-1" strike="noStrike">
              <a:solidFill>
                <a:srgbClr val="000000"/>
              </a:solidFill>
              <a:latin typeface="Times New Roman"/>
            </a:endParaRPr>
          </a:p>
        </p:txBody>
      </p:sp>
      <p:sp>
        <p:nvSpPr>
          <p:cNvPr id="116" name=""/>
          <p:cNvSpPr/>
          <p:nvPr/>
        </p:nvSpPr>
        <p:spPr>
          <a:xfrm>
            <a:off x="912960" y="5865840"/>
            <a:ext cx="8891280" cy="1257120"/>
          </a:xfrm>
          <a:custGeom>
            <a:avLst/>
            <a:gdLst/>
            <a:ahLst/>
            <a:rect l="l" t="t" r="r" b="b"/>
            <a:pathLst>
              <a:path w="5601" h="792">
                <a:moveTo>
                  <a:pt x="0" y="0"/>
                </a:moveTo>
                <a:cubicBezTo>
                  <a:pt x="0" y="0"/>
                  <a:pt x="0" y="0"/>
                  <a:pt x="0" y="0"/>
                </a:cubicBezTo>
                <a:cubicBezTo>
                  <a:pt x="5577" y="0"/>
                  <a:pt x="5577" y="0"/>
                  <a:pt x="5577" y="0"/>
                </a:cubicBezTo>
                <a:cubicBezTo>
                  <a:pt x="5577" y="546"/>
                  <a:pt x="5577" y="546"/>
                  <a:pt x="5577" y="546"/>
                </a:cubicBezTo>
                <a:cubicBezTo>
                  <a:pt x="5601" y="546"/>
                  <a:pt x="5601" y="546"/>
                  <a:pt x="5601" y="546"/>
                </a:cubicBezTo>
                <a:cubicBezTo>
                  <a:pt x="5601" y="546"/>
                  <a:pt x="5601" y="546"/>
                  <a:pt x="5601" y="546"/>
                </a:cubicBezTo>
                <a:cubicBezTo>
                  <a:pt x="5577" y="546"/>
                  <a:pt x="5577" y="546"/>
                  <a:pt x="5577" y="546"/>
                </a:cubicBezTo>
                <a:cubicBezTo>
                  <a:pt x="5577" y="545"/>
                  <a:pt x="5577" y="545"/>
                  <a:pt x="5577" y="545"/>
                </a:cubicBezTo>
                <a:cubicBezTo>
                  <a:pt x="5568" y="545"/>
                  <a:pt x="5568" y="545"/>
                  <a:pt x="5568" y="545"/>
                </a:cubicBezTo>
                <a:cubicBezTo>
                  <a:pt x="5546" y="545"/>
                  <a:pt x="5546" y="545"/>
                  <a:pt x="5546" y="545"/>
                </a:cubicBezTo>
                <a:cubicBezTo>
                  <a:pt x="5533" y="545"/>
                  <a:pt x="5533" y="545"/>
                  <a:pt x="5533" y="545"/>
                </a:cubicBezTo>
                <a:cubicBezTo>
                  <a:pt x="5519" y="542"/>
                  <a:pt x="5519" y="542"/>
                  <a:pt x="5519" y="542"/>
                </a:cubicBezTo>
                <a:cubicBezTo>
                  <a:pt x="5502" y="542"/>
                  <a:pt x="5502" y="542"/>
                  <a:pt x="5502" y="542"/>
                </a:cubicBezTo>
                <a:cubicBezTo>
                  <a:pt x="5485" y="542"/>
                  <a:pt x="5485" y="542"/>
                  <a:pt x="5485" y="542"/>
                </a:cubicBezTo>
                <a:cubicBezTo>
                  <a:pt x="5473" y="542"/>
                  <a:pt x="5473" y="542"/>
                  <a:pt x="5473" y="542"/>
                </a:cubicBezTo>
                <a:cubicBezTo>
                  <a:pt x="5456" y="542"/>
                  <a:pt x="5456" y="542"/>
                  <a:pt x="5456" y="542"/>
                </a:cubicBezTo>
                <a:cubicBezTo>
                  <a:pt x="5439" y="545"/>
                  <a:pt x="5439" y="545"/>
                  <a:pt x="5439" y="545"/>
                </a:cubicBezTo>
                <a:cubicBezTo>
                  <a:pt x="5426" y="545"/>
                  <a:pt x="5426" y="545"/>
                  <a:pt x="5426" y="545"/>
                </a:cubicBezTo>
                <a:cubicBezTo>
                  <a:pt x="5408" y="545"/>
                  <a:pt x="5408" y="545"/>
                  <a:pt x="5408" y="545"/>
                </a:cubicBezTo>
                <a:cubicBezTo>
                  <a:pt x="5394" y="546"/>
                  <a:pt x="5394" y="546"/>
                  <a:pt x="5394" y="546"/>
                </a:cubicBezTo>
                <a:cubicBezTo>
                  <a:pt x="5380" y="546"/>
                  <a:pt x="5380" y="546"/>
                  <a:pt x="5380" y="546"/>
                </a:cubicBezTo>
                <a:cubicBezTo>
                  <a:pt x="5380" y="550"/>
                  <a:pt x="5380" y="550"/>
                  <a:pt x="5380" y="550"/>
                </a:cubicBezTo>
                <a:cubicBezTo>
                  <a:pt x="5356" y="550"/>
                  <a:pt x="5356" y="550"/>
                  <a:pt x="5356" y="550"/>
                </a:cubicBezTo>
                <a:cubicBezTo>
                  <a:pt x="5356" y="551"/>
                  <a:pt x="5356" y="551"/>
                  <a:pt x="5356" y="551"/>
                </a:cubicBezTo>
                <a:cubicBezTo>
                  <a:pt x="5343" y="551"/>
                  <a:pt x="5343" y="551"/>
                  <a:pt x="5343" y="551"/>
                </a:cubicBezTo>
                <a:cubicBezTo>
                  <a:pt x="5343" y="554"/>
                  <a:pt x="5343" y="554"/>
                  <a:pt x="5343" y="554"/>
                </a:cubicBezTo>
                <a:cubicBezTo>
                  <a:pt x="5326" y="558"/>
                  <a:pt x="5326" y="558"/>
                  <a:pt x="5326" y="558"/>
                </a:cubicBezTo>
                <a:cubicBezTo>
                  <a:pt x="5311" y="560"/>
                  <a:pt x="5311" y="560"/>
                  <a:pt x="5311" y="560"/>
                </a:cubicBezTo>
                <a:cubicBezTo>
                  <a:pt x="5311" y="563"/>
                  <a:pt x="5311" y="563"/>
                  <a:pt x="5311" y="563"/>
                </a:cubicBezTo>
                <a:cubicBezTo>
                  <a:pt x="5303" y="563"/>
                  <a:pt x="5303" y="563"/>
                  <a:pt x="5303" y="563"/>
                </a:cubicBezTo>
                <a:cubicBezTo>
                  <a:pt x="5285" y="565"/>
                  <a:pt x="5285" y="565"/>
                  <a:pt x="5285" y="565"/>
                </a:cubicBezTo>
                <a:cubicBezTo>
                  <a:pt x="5270" y="569"/>
                  <a:pt x="5270" y="569"/>
                  <a:pt x="5270" y="569"/>
                </a:cubicBezTo>
                <a:cubicBezTo>
                  <a:pt x="5255" y="571"/>
                  <a:pt x="5255" y="571"/>
                  <a:pt x="5255" y="571"/>
                </a:cubicBezTo>
                <a:cubicBezTo>
                  <a:pt x="5239" y="574"/>
                  <a:pt x="5239" y="574"/>
                  <a:pt x="5239" y="574"/>
                </a:cubicBezTo>
                <a:cubicBezTo>
                  <a:pt x="5221" y="574"/>
                  <a:pt x="5221" y="574"/>
                  <a:pt x="5221" y="574"/>
                </a:cubicBezTo>
                <a:cubicBezTo>
                  <a:pt x="5221" y="578"/>
                  <a:pt x="5221" y="578"/>
                  <a:pt x="5221" y="578"/>
                </a:cubicBezTo>
                <a:cubicBezTo>
                  <a:pt x="5202" y="578"/>
                  <a:pt x="5202" y="578"/>
                  <a:pt x="5202" y="578"/>
                </a:cubicBezTo>
                <a:cubicBezTo>
                  <a:pt x="5196" y="579"/>
                  <a:pt x="5196" y="579"/>
                  <a:pt x="5196" y="579"/>
                </a:cubicBezTo>
                <a:cubicBezTo>
                  <a:pt x="5176" y="579"/>
                  <a:pt x="5176" y="579"/>
                  <a:pt x="5176" y="579"/>
                </a:cubicBezTo>
                <a:cubicBezTo>
                  <a:pt x="5176" y="585"/>
                  <a:pt x="5176" y="585"/>
                  <a:pt x="5176" y="585"/>
                </a:cubicBezTo>
                <a:cubicBezTo>
                  <a:pt x="5163" y="585"/>
                  <a:pt x="5163" y="585"/>
                  <a:pt x="5163" y="585"/>
                </a:cubicBezTo>
                <a:cubicBezTo>
                  <a:pt x="5163" y="585"/>
                  <a:pt x="5163" y="585"/>
                  <a:pt x="5163" y="585"/>
                </a:cubicBezTo>
                <a:cubicBezTo>
                  <a:pt x="5142" y="585"/>
                  <a:pt x="5142" y="585"/>
                  <a:pt x="5142" y="585"/>
                </a:cubicBezTo>
                <a:cubicBezTo>
                  <a:pt x="5142" y="587"/>
                  <a:pt x="5142" y="587"/>
                  <a:pt x="5142" y="587"/>
                </a:cubicBezTo>
                <a:cubicBezTo>
                  <a:pt x="5130" y="587"/>
                  <a:pt x="5130" y="587"/>
                  <a:pt x="5130" y="587"/>
                </a:cubicBezTo>
                <a:cubicBezTo>
                  <a:pt x="5130" y="591"/>
                  <a:pt x="5130" y="591"/>
                  <a:pt x="5130" y="591"/>
                </a:cubicBezTo>
                <a:cubicBezTo>
                  <a:pt x="5111" y="591"/>
                  <a:pt x="5111" y="591"/>
                  <a:pt x="5111" y="591"/>
                </a:cubicBezTo>
                <a:cubicBezTo>
                  <a:pt x="5100" y="593"/>
                  <a:pt x="5100" y="593"/>
                  <a:pt x="5100" y="593"/>
                </a:cubicBezTo>
                <a:cubicBezTo>
                  <a:pt x="5083" y="593"/>
                  <a:pt x="5083" y="593"/>
                  <a:pt x="5083" y="593"/>
                </a:cubicBezTo>
                <a:cubicBezTo>
                  <a:pt x="5066" y="593"/>
                  <a:pt x="5066" y="593"/>
                  <a:pt x="5066" y="593"/>
                </a:cubicBezTo>
                <a:cubicBezTo>
                  <a:pt x="5066" y="595"/>
                  <a:pt x="5066" y="595"/>
                  <a:pt x="5066" y="595"/>
                </a:cubicBezTo>
                <a:cubicBezTo>
                  <a:pt x="5052" y="595"/>
                  <a:pt x="5052" y="595"/>
                  <a:pt x="5052" y="595"/>
                </a:cubicBezTo>
                <a:cubicBezTo>
                  <a:pt x="5034" y="595"/>
                  <a:pt x="5034" y="595"/>
                  <a:pt x="5034" y="595"/>
                </a:cubicBezTo>
                <a:cubicBezTo>
                  <a:pt x="5024" y="595"/>
                  <a:pt x="5024" y="595"/>
                  <a:pt x="5024" y="595"/>
                </a:cubicBezTo>
                <a:cubicBezTo>
                  <a:pt x="5024" y="598"/>
                  <a:pt x="5024" y="598"/>
                  <a:pt x="5024" y="598"/>
                </a:cubicBezTo>
                <a:cubicBezTo>
                  <a:pt x="5004" y="598"/>
                  <a:pt x="5004" y="598"/>
                  <a:pt x="5004" y="598"/>
                </a:cubicBezTo>
                <a:cubicBezTo>
                  <a:pt x="4986" y="598"/>
                  <a:pt x="4986" y="598"/>
                  <a:pt x="4986" y="598"/>
                </a:cubicBezTo>
                <a:cubicBezTo>
                  <a:pt x="4986" y="600"/>
                  <a:pt x="4986" y="600"/>
                  <a:pt x="4986" y="600"/>
                </a:cubicBezTo>
                <a:cubicBezTo>
                  <a:pt x="4971" y="600"/>
                  <a:pt x="4971" y="600"/>
                  <a:pt x="4971" y="600"/>
                </a:cubicBezTo>
                <a:cubicBezTo>
                  <a:pt x="4956" y="600"/>
                  <a:pt x="4956" y="600"/>
                  <a:pt x="4956" y="600"/>
                </a:cubicBezTo>
                <a:cubicBezTo>
                  <a:pt x="4942" y="600"/>
                  <a:pt x="4942" y="600"/>
                  <a:pt x="4942" y="600"/>
                </a:cubicBezTo>
                <a:cubicBezTo>
                  <a:pt x="4927" y="600"/>
                  <a:pt x="4927" y="600"/>
                  <a:pt x="4927" y="600"/>
                </a:cubicBezTo>
                <a:cubicBezTo>
                  <a:pt x="4911" y="600"/>
                  <a:pt x="4911" y="600"/>
                  <a:pt x="4911" y="600"/>
                </a:cubicBezTo>
                <a:cubicBezTo>
                  <a:pt x="4893" y="604"/>
                  <a:pt x="4893" y="604"/>
                  <a:pt x="4893" y="604"/>
                </a:cubicBezTo>
                <a:cubicBezTo>
                  <a:pt x="4874" y="604"/>
                  <a:pt x="4874" y="604"/>
                  <a:pt x="4874" y="604"/>
                </a:cubicBezTo>
                <a:cubicBezTo>
                  <a:pt x="4861" y="604"/>
                  <a:pt x="4861" y="604"/>
                  <a:pt x="4861" y="604"/>
                </a:cubicBezTo>
                <a:cubicBezTo>
                  <a:pt x="4846" y="604"/>
                  <a:pt x="4846" y="604"/>
                  <a:pt x="4846" y="604"/>
                </a:cubicBezTo>
                <a:cubicBezTo>
                  <a:pt x="4832" y="604"/>
                  <a:pt x="4832" y="604"/>
                  <a:pt x="4832" y="604"/>
                </a:cubicBezTo>
                <a:cubicBezTo>
                  <a:pt x="4817" y="604"/>
                  <a:pt x="4817" y="604"/>
                  <a:pt x="4817" y="604"/>
                </a:cubicBezTo>
                <a:cubicBezTo>
                  <a:pt x="4802" y="607"/>
                  <a:pt x="4802" y="607"/>
                  <a:pt x="4802" y="607"/>
                </a:cubicBezTo>
                <a:cubicBezTo>
                  <a:pt x="4785" y="607"/>
                  <a:pt x="4785" y="607"/>
                  <a:pt x="4785" y="607"/>
                </a:cubicBezTo>
                <a:cubicBezTo>
                  <a:pt x="4766" y="607"/>
                  <a:pt x="4766" y="607"/>
                  <a:pt x="4766" y="607"/>
                </a:cubicBezTo>
                <a:cubicBezTo>
                  <a:pt x="4766" y="607"/>
                  <a:pt x="4766" y="607"/>
                  <a:pt x="4766" y="607"/>
                </a:cubicBezTo>
                <a:cubicBezTo>
                  <a:pt x="4753" y="607"/>
                  <a:pt x="4753" y="607"/>
                  <a:pt x="4753" y="607"/>
                </a:cubicBezTo>
                <a:cubicBezTo>
                  <a:pt x="4734" y="607"/>
                  <a:pt x="4734" y="607"/>
                  <a:pt x="4734" y="607"/>
                </a:cubicBezTo>
                <a:cubicBezTo>
                  <a:pt x="4734" y="611"/>
                  <a:pt x="4734" y="611"/>
                  <a:pt x="4734" y="611"/>
                </a:cubicBezTo>
                <a:cubicBezTo>
                  <a:pt x="4724" y="611"/>
                  <a:pt x="4724" y="611"/>
                  <a:pt x="4724" y="611"/>
                </a:cubicBezTo>
                <a:cubicBezTo>
                  <a:pt x="4699" y="611"/>
                  <a:pt x="4699" y="611"/>
                  <a:pt x="4699" y="611"/>
                </a:cubicBezTo>
                <a:cubicBezTo>
                  <a:pt x="4699" y="614"/>
                  <a:pt x="4699" y="614"/>
                  <a:pt x="4699" y="614"/>
                </a:cubicBezTo>
                <a:cubicBezTo>
                  <a:pt x="4693" y="614"/>
                  <a:pt x="4693" y="614"/>
                  <a:pt x="4693" y="614"/>
                </a:cubicBezTo>
                <a:cubicBezTo>
                  <a:pt x="4676" y="617"/>
                  <a:pt x="4676" y="617"/>
                  <a:pt x="4676" y="617"/>
                </a:cubicBezTo>
                <a:cubicBezTo>
                  <a:pt x="4660" y="617"/>
                  <a:pt x="4660" y="617"/>
                  <a:pt x="4660" y="617"/>
                </a:cubicBezTo>
                <a:cubicBezTo>
                  <a:pt x="4660" y="619"/>
                  <a:pt x="4660" y="619"/>
                  <a:pt x="4660" y="619"/>
                </a:cubicBezTo>
                <a:cubicBezTo>
                  <a:pt x="4644" y="619"/>
                  <a:pt x="4644" y="619"/>
                  <a:pt x="4644" y="619"/>
                </a:cubicBezTo>
                <a:cubicBezTo>
                  <a:pt x="4629" y="623"/>
                  <a:pt x="4629" y="623"/>
                  <a:pt x="4629" y="623"/>
                </a:cubicBezTo>
                <a:cubicBezTo>
                  <a:pt x="4609" y="623"/>
                  <a:pt x="4609" y="623"/>
                  <a:pt x="4609" y="623"/>
                </a:cubicBezTo>
                <a:cubicBezTo>
                  <a:pt x="4609" y="625"/>
                  <a:pt x="4609" y="625"/>
                  <a:pt x="4609" y="625"/>
                </a:cubicBezTo>
                <a:cubicBezTo>
                  <a:pt x="4598" y="625"/>
                  <a:pt x="4598" y="625"/>
                  <a:pt x="4598" y="625"/>
                </a:cubicBezTo>
                <a:cubicBezTo>
                  <a:pt x="4598" y="627"/>
                  <a:pt x="4598" y="627"/>
                  <a:pt x="4598" y="627"/>
                </a:cubicBezTo>
                <a:cubicBezTo>
                  <a:pt x="4582" y="627"/>
                  <a:pt x="4582" y="627"/>
                  <a:pt x="4582" y="627"/>
                </a:cubicBezTo>
                <a:cubicBezTo>
                  <a:pt x="4567" y="627"/>
                  <a:pt x="4567" y="627"/>
                  <a:pt x="4567" y="627"/>
                </a:cubicBezTo>
                <a:cubicBezTo>
                  <a:pt x="4567" y="629"/>
                  <a:pt x="4567" y="629"/>
                  <a:pt x="4567" y="629"/>
                </a:cubicBezTo>
                <a:cubicBezTo>
                  <a:pt x="4550" y="629"/>
                  <a:pt x="4550" y="629"/>
                  <a:pt x="4550" y="629"/>
                </a:cubicBezTo>
                <a:cubicBezTo>
                  <a:pt x="4534" y="629"/>
                  <a:pt x="4534" y="629"/>
                  <a:pt x="4534" y="629"/>
                </a:cubicBezTo>
                <a:cubicBezTo>
                  <a:pt x="4517" y="629"/>
                  <a:pt x="4517" y="629"/>
                  <a:pt x="4517" y="629"/>
                </a:cubicBezTo>
                <a:cubicBezTo>
                  <a:pt x="4507" y="629"/>
                  <a:pt x="4507" y="629"/>
                  <a:pt x="4507" y="629"/>
                </a:cubicBezTo>
                <a:cubicBezTo>
                  <a:pt x="4489" y="629"/>
                  <a:pt x="4489" y="629"/>
                  <a:pt x="4489" y="629"/>
                </a:cubicBezTo>
                <a:cubicBezTo>
                  <a:pt x="4473" y="629"/>
                  <a:pt x="4473" y="629"/>
                  <a:pt x="4473" y="629"/>
                </a:cubicBezTo>
                <a:cubicBezTo>
                  <a:pt x="4456" y="629"/>
                  <a:pt x="4456" y="629"/>
                  <a:pt x="4456" y="629"/>
                </a:cubicBezTo>
                <a:cubicBezTo>
                  <a:pt x="4439" y="629"/>
                  <a:pt x="4439" y="629"/>
                  <a:pt x="4439" y="629"/>
                </a:cubicBezTo>
                <a:cubicBezTo>
                  <a:pt x="4430" y="629"/>
                  <a:pt x="4430" y="629"/>
                  <a:pt x="4430" y="629"/>
                </a:cubicBezTo>
                <a:cubicBezTo>
                  <a:pt x="4408" y="627"/>
                  <a:pt x="4408" y="627"/>
                  <a:pt x="4408" y="627"/>
                </a:cubicBezTo>
                <a:cubicBezTo>
                  <a:pt x="4398" y="627"/>
                  <a:pt x="4398" y="627"/>
                  <a:pt x="4398" y="627"/>
                </a:cubicBezTo>
                <a:cubicBezTo>
                  <a:pt x="4381" y="627"/>
                  <a:pt x="4381" y="627"/>
                  <a:pt x="4381" y="627"/>
                </a:cubicBezTo>
                <a:cubicBezTo>
                  <a:pt x="4367" y="627"/>
                  <a:pt x="4367" y="627"/>
                  <a:pt x="4367" y="627"/>
                </a:cubicBezTo>
                <a:cubicBezTo>
                  <a:pt x="4347" y="625"/>
                  <a:pt x="4347" y="625"/>
                  <a:pt x="4347" y="625"/>
                </a:cubicBezTo>
                <a:cubicBezTo>
                  <a:pt x="4333" y="625"/>
                  <a:pt x="4333" y="625"/>
                  <a:pt x="4333" y="625"/>
                </a:cubicBezTo>
                <a:cubicBezTo>
                  <a:pt x="4333" y="623"/>
                  <a:pt x="4333" y="623"/>
                  <a:pt x="4333" y="623"/>
                </a:cubicBezTo>
                <a:cubicBezTo>
                  <a:pt x="4313" y="623"/>
                  <a:pt x="4313" y="623"/>
                  <a:pt x="4313" y="623"/>
                </a:cubicBezTo>
                <a:cubicBezTo>
                  <a:pt x="4313" y="619"/>
                  <a:pt x="4313" y="619"/>
                  <a:pt x="4313" y="619"/>
                </a:cubicBezTo>
                <a:cubicBezTo>
                  <a:pt x="4306" y="619"/>
                  <a:pt x="4306" y="619"/>
                  <a:pt x="4306" y="619"/>
                </a:cubicBezTo>
                <a:cubicBezTo>
                  <a:pt x="4287" y="619"/>
                  <a:pt x="4287" y="619"/>
                  <a:pt x="4287" y="619"/>
                </a:cubicBezTo>
                <a:cubicBezTo>
                  <a:pt x="4270" y="619"/>
                  <a:pt x="4270" y="619"/>
                  <a:pt x="4270" y="619"/>
                </a:cubicBezTo>
                <a:cubicBezTo>
                  <a:pt x="4249" y="619"/>
                  <a:pt x="4249" y="619"/>
                  <a:pt x="4249" y="619"/>
                </a:cubicBezTo>
                <a:cubicBezTo>
                  <a:pt x="4249" y="623"/>
                  <a:pt x="4249" y="623"/>
                  <a:pt x="4249" y="623"/>
                </a:cubicBezTo>
                <a:cubicBezTo>
                  <a:pt x="4237" y="623"/>
                  <a:pt x="4237" y="623"/>
                  <a:pt x="4237" y="623"/>
                </a:cubicBezTo>
                <a:cubicBezTo>
                  <a:pt x="4221" y="623"/>
                  <a:pt x="4221" y="623"/>
                  <a:pt x="4221" y="623"/>
                </a:cubicBezTo>
                <a:cubicBezTo>
                  <a:pt x="4221" y="625"/>
                  <a:pt x="4221" y="625"/>
                  <a:pt x="4221" y="625"/>
                </a:cubicBezTo>
                <a:cubicBezTo>
                  <a:pt x="4221" y="627"/>
                  <a:pt x="4221" y="627"/>
                  <a:pt x="4221" y="627"/>
                </a:cubicBezTo>
                <a:cubicBezTo>
                  <a:pt x="4208" y="627"/>
                  <a:pt x="4208" y="627"/>
                  <a:pt x="4208" y="627"/>
                </a:cubicBezTo>
                <a:cubicBezTo>
                  <a:pt x="4208" y="629"/>
                  <a:pt x="4208" y="629"/>
                  <a:pt x="4208" y="629"/>
                </a:cubicBezTo>
                <a:cubicBezTo>
                  <a:pt x="4194" y="629"/>
                  <a:pt x="4194" y="629"/>
                  <a:pt x="4194" y="629"/>
                </a:cubicBezTo>
                <a:cubicBezTo>
                  <a:pt x="4178" y="634"/>
                  <a:pt x="4178" y="634"/>
                  <a:pt x="4178" y="634"/>
                </a:cubicBezTo>
                <a:cubicBezTo>
                  <a:pt x="4155" y="634"/>
                  <a:pt x="4155" y="634"/>
                  <a:pt x="4155" y="634"/>
                </a:cubicBezTo>
                <a:cubicBezTo>
                  <a:pt x="4143" y="636"/>
                  <a:pt x="4143" y="636"/>
                  <a:pt x="4143" y="636"/>
                </a:cubicBezTo>
                <a:cubicBezTo>
                  <a:pt x="4130" y="636"/>
                  <a:pt x="4130" y="636"/>
                  <a:pt x="4130" y="636"/>
                </a:cubicBezTo>
                <a:cubicBezTo>
                  <a:pt x="4130" y="639"/>
                  <a:pt x="4130" y="639"/>
                  <a:pt x="4130" y="639"/>
                </a:cubicBezTo>
                <a:cubicBezTo>
                  <a:pt x="4116" y="639"/>
                  <a:pt x="4116" y="639"/>
                  <a:pt x="4116" y="639"/>
                </a:cubicBezTo>
                <a:cubicBezTo>
                  <a:pt x="4103" y="641"/>
                  <a:pt x="4103" y="641"/>
                  <a:pt x="4103" y="641"/>
                </a:cubicBezTo>
                <a:cubicBezTo>
                  <a:pt x="4087" y="643"/>
                  <a:pt x="4087" y="643"/>
                  <a:pt x="4087" y="643"/>
                </a:cubicBezTo>
                <a:cubicBezTo>
                  <a:pt x="4064" y="643"/>
                  <a:pt x="4064" y="643"/>
                  <a:pt x="4064" y="643"/>
                </a:cubicBezTo>
                <a:cubicBezTo>
                  <a:pt x="4053" y="646"/>
                  <a:pt x="4053" y="646"/>
                  <a:pt x="4053" y="646"/>
                </a:cubicBezTo>
                <a:cubicBezTo>
                  <a:pt x="4034" y="646"/>
                  <a:pt x="4034" y="646"/>
                  <a:pt x="4034" y="646"/>
                </a:cubicBezTo>
                <a:cubicBezTo>
                  <a:pt x="4034" y="650"/>
                  <a:pt x="4034" y="650"/>
                  <a:pt x="4034" y="650"/>
                </a:cubicBezTo>
                <a:cubicBezTo>
                  <a:pt x="4024" y="650"/>
                  <a:pt x="4024" y="650"/>
                  <a:pt x="4024" y="650"/>
                </a:cubicBezTo>
                <a:cubicBezTo>
                  <a:pt x="4007" y="650"/>
                  <a:pt x="4007" y="650"/>
                  <a:pt x="4007" y="650"/>
                </a:cubicBezTo>
                <a:cubicBezTo>
                  <a:pt x="4007" y="652"/>
                  <a:pt x="4007" y="652"/>
                  <a:pt x="4007" y="652"/>
                </a:cubicBezTo>
                <a:cubicBezTo>
                  <a:pt x="3987" y="652"/>
                  <a:pt x="3987" y="652"/>
                  <a:pt x="3987" y="652"/>
                </a:cubicBezTo>
                <a:cubicBezTo>
                  <a:pt x="3978" y="652"/>
                  <a:pt x="3978" y="652"/>
                  <a:pt x="3978" y="652"/>
                </a:cubicBezTo>
                <a:cubicBezTo>
                  <a:pt x="3954" y="652"/>
                  <a:pt x="3954" y="652"/>
                  <a:pt x="3954" y="652"/>
                </a:cubicBezTo>
                <a:cubicBezTo>
                  <a:pt x="3945" y="652"/>
                  <a:pt x="3945" y="652"/>
                  <a:pt x="3945" y="652"/>
                </a:cubicBezTo>
                <a:cubicBezTo>
                  <a:pt x="3928" y="652"/>
                  <a:pt x="3928" y="652"/>
                  <a:pt x="3928" y="652"/>
                </a:cubicBezTo>
                <a:cubicBezTo>
                  <a:pt x="3913" y="652"/>
                  <a:pt x="3913" y="652"/>
                  <a:pt x="3913" y="652"/>
                </a:cubicBezTo>
                <a:cubicBezTo>
                  <a:pt x="3895" y="650"/>
                  <a:pt x="3895" y="650"/>
                  <a:pt x="3895" y="650"/>
                </a:cubicBezTo>
                <a:cubicBezTo>
                  <a:pt x="3884" y="652"/>
                  <a:pt x="3884" y="652"/>
                  <a:pt x="3884" y="652"/>
                </a:cubicBezTo>
                <a:cubicBezTo>
                  <a:pt x="3867" y="652"/>
                  <a:pt x="3867" y="652"/>
                  <a:pt x="3867" y="652"/>
                </a:cubicBezTo>
                <a:cubicBezTo>
                  <a:pt x="3852" y="656"/>
                  <a:pt x="3852" y="656"/>
                  <a:pt x="3852" y="656"/>
                </a:cubicBezTo>
                <a:cubicBezTo>
                  <a:pt x="3834" y="659"/>
                  <a:pt x="3834" y="659"/>
                  <a:pt x="3834" y="659"/>
                </a:cubicBezTo>
                <a:cubicBezTo>
                  <a:pt x="3819" y="661"/>
                  <a:pt x="3819" y="661"/>
                  <a:pt x="3819" y="661"/>
                </a:cubicBezTo>
                <a:cubicBezTo>
                  <a:pt x="3801" y="661"/>
                  <a:pt x="3801" y="661"/>
                  <a:pt x="3801" y="661"/>
                </a:cubicBezTo>
                <a:cubicBezTo>
                  <a:pt x="3789" y="664"/>
                  <a:pt x="3789" y="664"/>
                  <a:pt x="3789" y="664"/>
                </a:cubicBezTo>
                <a:cubicBezTo>
                  <a:pt x="3772" y="666"/>
                  <a:pt x="3772" y="666"/>
                  <a:pt x="3772" y="666"/>
                </a:cubicBezTo>
                <a:cubicBezTo>
                  <a:pt x="3753" y="666"/>
                  <a:pt x="3753" y="666"/>
                  <a:pt x="3753" y="666"/>
                </a:cubicBezTo>
                <a:cubicBezTo>
                  <a:pt x="3739" y="670"/>
                  <a:pt x="3739" y="670"/>
                  <a:pt x="3739" y="670"/>
                </a:cubicBezTo>
                <a:cubicBezTo>
                  <a:pt x="3726" y="670"/>
                  <a:pt x="3726" y="670"/>
                  <a:pt x="3726" y="670"/>
                </a:cubicBezTo>
                <a:cubicBezTo>
                  <a:pt x="3706" y="670"/>
                  <a:pt x="3706" y="670"/>
                  <a:pt x="3706" y="670"/>
                </a:cubicBezTo>
                <a:cubicBezTo>
                  <a:pt x="3693" y="670"/>
                  <a:pt x="3693" y="670"/>
                  <a:pt x="3693" y="670"/>
                </a:cubicBezTo>
                <a:cubicBezTo>
                  <a:pt x="3674" y="674"/>
                  <a:pt x="3674" y="674"/>
                  <a:pt x="3674" y="674"/>
                </a:cubicBezTo>
                <a:cubicBezTo>
                  <a:pt x="3662" y="674"/>
                  <a:pt x="3662" y="674"/>
                  <a:pt x="3662" y="674"/>
                </a:cubicBezTo>
                <a:cubicBezTo>
                  <a:pt x="3662" y="674"/>
                  <a:pt x="3662" y="674"/>
                  <a:pt x="3662" y="674"/>
                </a:cubicBezTo>
                <a:cubicBezTo>
                  <a:pt x="3645" y="674"/>
                  <a:pt x="3645" y="674"/>
                  <a:pt x="3645" y="674"/>
                </a:cubicBezTo>
                <a:cubicBezTo>
                  <a:pt x="3631" y="677"/>
                  <a:pt x="3631" y="677"/>
                  <a:pt x="3631" y="677"/>
                </a:cubicBezTo>
                <a:cubicBezTo>
                  <a:pt x="3631" y="681"/>
                  <a:pt x="3631" y="681"/>
                  <a:pt x="3631" y="681"/>
                </a:cubicBezTo>
                <a:cubicBezTo>
                  <a:pt x="3613" y="681"/>
                  <a:pt x="3613" y="681"/>
                  <a:pt x="3613" y="681"/>
                </a:cubicBezTo>
                <a:cubicBezTo>
                  <a:pt x="3613" y="685"/>
                  <a:pt x="3613" y="685"/>
                  <a:pt x="3613" y="685"/>
                </a:cubicBezTo>
                <a:cubicBezTo>
                  <a:pt x="3601" y="687"/>
                  <a:pt x="3601" y="687"/>
                  <a:pt x="3601" y="687"/>
                </a:cubicBezTo>
                <a:cubicBezTo>
                  <a:pt x="3587" y="690"/>
                  <a:pt x="3587" y="690"/>
                  <a:pt x="3587" y="690"/>
                </a:cubicBezTo>
                <a:cubicBezTo>
                  <a:pt x="3575" y="692"/>
                  <a:pt x="3575" y="692"/>
                  <a:pt x="3575" y="692"/>
                </a:cubicBezTo>
                <a:cubicBezTo>
                  <a:pt x="3552" y="692"/>
                  <a:pt x="3552" y="692"/>
                  <a:pt x="3552" y="692"/>
                </a:cubicBezTo>
                <a:cubicBezTo>
                  <a:pt x="3537" y="692"/>
                  <a:pt x="3537" y="692"/>
                  <a:pt x="3537" y="692"/>
                </a:cubicBezTo>
                <a:cubicBezTo>
                  <a:pt x="3523" y="692"/>
                  <a:pt x="3523" y="692"/>
                  <a:pt x="3523" y="692"/>
                </a:cubicBezTo>
                <a:cubicBezTo>
                  <a:pt x="3507" y="692"/>
                  <a:pt x="3507" y="692"/>
                  <a:pt x="3507" y="692"/>
                </a:cubicBezTo>
                <a:cubicBezTo>
                  <a:pt x="3492" y="692"/>
                  <a:pt x="3492" y="692"/>
                  <a:pt x="3492" y="692"/>
                </a:cubicBezTo>
                <a:cubicBezTo>
                  <a:pt x="3480" y="692"/>
                  <a:pt x="3480" y="692"/>
                  <a:pt x="3480" y="692"/>
                </a:cubicBezTo>
                <a:cubicBezTo>
                  <a:pt x="3458" y="692"/>
                  <a:pt x="3458" y="692"/>
                  <a:pt x="3458" y="692"/>
                </a:cubicBezTo>
                <a:cubicBezTo>
                  <a:pt x="3446" y="692"/>
                  <a:pt x="3446" y="692"/>
                  <a:pt x="3446" y="692"/>
                </a:cubicBezTo>
                <a:cubicBezTo>
                  <a:pt x="3446" y="690"/>
                  <a:pt x="3446" y="690"/>
                  <a:pt x="3446" y="690"/>
                </a:cubicBezTo>
                <a:cubicBezTo>
                  <a:pt x="3431" y="690"/>
                  <a:pt x="3431" y="690"/>
                  <a:pt x="3431" y="690"/>
                </a:cubicBezTo>
                <a:cubicBezTo>
                  <a:pt x="3414" y="690"/>
                  <a:pt x="3414" y="690"/>
                  <a:pt x="3414" y="690"/>
                </a:cubicBezTo>
                <a:cubicBezTo>
                  <a:pt x="3414" y="687"/>
                  <a:pt x="3414" y="687"/>
                  <a:pt x="3414" y="687"/>
                </a:cubicBezTo>
                <a:cubicBezTo>
                  <a:pt x="3396" y="687"/>
                  <a:pt x="3396" y="687"/>
                  <a:pt x="3396" y="687"/>
                </a:cubicBezTo>
                <a:cubicBezTo>
                  <a:pt x="3384" y="687"/>
                  <a:pt x="3384" y="687"/>
                  <a:pt x="3384" y="687"/>
                </a:cubicBezTo>
                <a:cubicBezTo>
                  <a:pt x="3384" y="685"/>
                  <a:pt x="3384" y="685"/>
                  <a:pt x="3384" y="685"/>
                </a:cubicBezTo>
                <a:cubicBezTo>
                  <a:pt x="3365" y="685"/>
                  <a:pt x="3365" y="685"/>
                  <a:pt x="3365" y="685"/>
                </a:cubicBezTo>
                <a:cubicBezTo>
                  <a:pt x="3365" y="681"/>
                  <a:pt x="3365" y="681"/>
                  <a:pt x="3365" y="681"/>
                </a:cubicBezTo>
                <a:cubicBezTo>
                  <a:pt x="3347" y="681"/>
                  <a:pt x="3347" y="681"/>
                  <a:pt x="3347" y="681"/>
                </a:cubicBezTo>
                <a:cubicBezTo>
                  <a:pt x="3337" y="681"/>
                  <a:pt x="3337" y="681"/>
                  <a:pt x="3337" y="681"/>
                </a:cubicBezTo>
                <a:cubicBezTo>
                  <a:pt x="3318" y="677"/>
                  <a:pt x="3318" y="677"/>
                  <a:pt x="3318" y="677"/>
                </a:cubicBezTo>
                <a:cubicBezTo>
                  <a:pt x="3304" y="674"/>
                  <a:pt x="3304" y="674"/>
                  <a:pt x="3304" y="674"/>
                </a:cubicBezTo>
                <a:cubicBezTo>
                  <a:pt x="3287" y="677"/>
                  <a:pt x="3287" y="677"/>
                  <a:pt x="3287" y="677"/>
                </a:cubicBezTo>
                <a:cubicBezTo>
                  <a:pt x="3267" y="677"/>
                  <a:pt x="3267" y="677"/>
                  <a:pt x="3267" y="677"/>
                </a:cubicBezTo>
                <a:cubicBezTo>
                  <a:pt x="3253" y="681"/>
                  <a:pt x="3253" y="681"/>
                  <a:pt x="3253" y="681"/>
                </a:cubicBezTo>
                <a:cubicBezTo>
                  <a:pt x="3237" y="681"/>
                  <a:pt x="3237" y="681"/>
                  <a:pt x="3237" y="681"/>
                </a:cubicBezTo>
                <a:cubicBezTo>
                  <a:pt x="3237" y="685"/>
                  <a:pt x="3237" y="685"/>
                  <a:pt x="3237" y="685"/>
                </a:cubicBezTo>
                <a:cubicBezTo>
                  <a:pt x="3227" y="685"/>
                  <a:pt x="3227" y="685"/>
                  <a:pt x="3227" y="685"/>
                </a:cubicBezTo>
                <a:cubicBezTo>
                  <a:pt x="3214" y="685"/>
                  <a:pt x="3214" y="685"/>
                  <a:pt x="3214" y="685"/>
                </a:cubicBezTo>
                <a:cubicBezTo>
                  <a:pt x="3214" y="687"/>
                  <a:pt x="3214" y="687"/>
                  <a:pt x="3214" y="687"/>
                </a:cubicBezTo>
                <a:cubicBezTo>
                  <a:pt x="3193" y="687"/>
                  <a:pt x="3193" y="687"/>
                  <a:pt x="3193" y="687"/>
                </a:cubicBezTo>
                <a:cubicBezTo>
                  <a:pt x="3193" y="690"/>
                  <a:pt x="3193" y="690"/>
                  <a:pt x="3193" y="690"/>
                </a:cubicBezTo>
                <a:cubicBezTo>
                  <a:pt x="3178" y="690"/>
                  <a:pt x="3178" y="690"/>
                  <a:pt x="3178" y="690"/>
                </a:cubicBezTo>
                <a:cubicBezTo>
                  <a:pt x="3178" y="692"/>
                  <a:pt x="3178" y="692"/>
                  <a:pt x="3178" y="692"/>
                </a:cubicBezTo>
                <a:cubicBezTo>
                  <a:pt x="3161" y="692"/>
                  <a:pt x="3161" y="692"/>
                  <a:pt x="3161" y="692"/>
                </a:cubicBezTo>
                <a:cubicBezTo>
                  <a:pt x="3161" y="695"/>
                  <a:pt x="3161" y="695"/>
                  <a:pt x="3161" y="695"/>
                </a:cubicBezTo>
                <a:cubicBezTo>
                  <a:pt x="3145" y="695"/>
                  <a:pt x="3145" y="695"/>
                  <a:pt x="3145" y="695"/>
                </a:cubicBezTo>
                <a:cubicBezTo>
                  <a:pt x="3134" y="696"/>
                  <a:pt x="3134" y="696"/>
                  <a:pt x="3134" y="696"/>
                </a:cubicBezTo>
                <a:cubicBezTo>
                  <a:pt x="3115" y="696"/>
                  <a:pt x="3115" y="696"/>
                  <a:pt x="3115" y="696"/>
                </a:cubicBezTo>
                <a:cubicBezTo>
                  <a:pt x="3115" y="703"/>
                  <a:pt x="3115" y="703"/>
                  <a:pt x="3115" y="703"/>
                </a:cubicBezTo>
                <a:cubicBezTo>
                  <a:pt x="3096" y="703"/>
                  <a:pt x="3096" y="703"/>
                  <a:pt x="3096" y="703"/>
                </a:cubicBezTo>
                <a:cubicBezTo>
                  <a:pt x="3086" y="703"/>
                  <a:pt x="3086" y="703"/>
                  <a:pt x="3086" y="703"/>
                </a:cubicBezTo>
                <a:cubicBezTo>
                  <a:pt x="3086" y="703"/>
                  <a:pt x="3086" y="703"/>
                  <a:pt x="3086" y="703"/>
                </a:cubicBezTo>
                <a:cubicBezTo>
                  <a:pt x="3065" y="703"/>
                  <a:pt x="3065" y="703"/>
                  <a:pt x="3065" y="703"/>
                </a:cubicBezTo>
                <a:cubicBezTo>
                  <a:pt x="3055" y="705"/>
                  <a:pt x="3055" y="705"/>
                  <a:pt x="3055" y="705"/>
                </a:cubicBezTo>
                <a:cubicBezTo>
                  <a:pt x="3042" y="705"/>
                  <a:pt x="3042" y="705"/>
                  <a:pt x="3042" y="705"/>
                </a:cubicBezTo>
                <a:cubicBezTo>
                  <a:pt x="3042" y="709"/>
                  <a:pt x="3042" y="709"/>
                  <a:pt x="3042" y="709"/>
                </a:cubicBezTo>
                <a:cubicBezTo>
                  <a:pt x="3022" y="712"/>
                  <a:pt x="3022" y="712"/>
                  <a:pt x="3022" y="712"/>
                </a:cubicBezTo>
                <a:cubicBezTo>
                  <a:pt x="3022" y="712"/>
                  <a:pt x="3022" y="712"/>
                  <a:pt x="3022" y="712"/>
                </a:cubicBezTo>
                <a:cubicBezTo>
                  <a:pt x="3009" y="712"/>
                  <a:pt x="3009" y="712"/>
                  <a:pt x="3009" y="712"/>
                </a:cubicBezTo>
                <a:cubicBezTo>
                  <a:pt x="2990" y="714"/>
                  <a:pt x="2990" y="714"/>
                  <a:pt x="2990" y="714"/>
                </a:cubicBezTo>
                <a:cubicBezTo>
                  <a:pt x="2980" y="714"/>
                  <a:pt x="2980" y="714"/>
                  <a:pt x="2980" y="714"/>
                </a:cubicBezTo>
                <a:cubicBezTo>
                  <a:pt x="2958" y="714"/>
                  <a:pt x="2958" y="714"/>
                  <a:pt x="2958" y="714"/>
                </a:cubicBezTo>
                <a:cubicBezTo>
                  <a:pt x="2943" y="714"/>
                  <a:pt x="2943" y="714"/>
                  <a:pt x="2943" y="714"/>
                </a:cubicBezTo>
                <a:cubicBezTo>
                  <a:pt x="2932" y="714"/>
                  <a:pt x="2932" y="714"/>
                  <a:pt x="2932" y="714"/>
                </a:cubicBezTo>
                <a:cubicBezTo>
                  <a:pt x="2917" y="714"/>
                  <a:pt x="2917" y="714"/>
                  <a:pt x="2917" y="714"/>
                </a:cubicBezTo>
                <a:cubicBezTo>
                  <a:pt x="2917" y="712"/>
                  <a:pt x="2917" y="712"/>
                  <a:pt x="2917" y="712"/>
                </a:cubicBezTo>
                <a:cubicBezTo>
                  <a:pt x="2895" y="712"/>
                  <a:pt x="2895" y="712"/>
                  <a:pt x="2895" y="712"/>
                </a:cubicBezTo>
                <a:cubicBezTo>
                  <a:pt x="2881" y="712"/>
                  <a:pt x="2881" y="712"/>
                  <a:pt x="2881" y="712"/>
                </a:cubicBezTo>
                <a:cubicBezTo>
                  <a:pt x="2871" y="709"/>
                  <a:pt x="2871" y="709"/>
                  <a:pt x="2871" y="709"/>
                </a:cubicBezTo>
                <a:cubicBezTo>
                  <a:pt x="2847" y="709"/>
                  <a:pt x="2847" y="709"/>
                  <a:pt x="2847" y="709"/>
                </a:cubicBezTo>
                <a:cubicBezTo>
                  <a:pt x="2837" y="705"/>
                  <a:pt x="2837" y="705"/>
                  <a:pt x="2837" y="705"/>
                </a:cubicBezTo>
                <a:cubicBezTo>
                  <a:pt x="2822" y="703"/>
                  <a:pt x="2822" y="703"/>
                  <a:pt x="2822" y="703"/>
                </a:cubicBezTo>
                <a:cubicBezTo>
                  <a:pt x="2806" y="703"/>
                  <a:pt x="2806" y="703"/>
                  <a:pt x="2806" y="703"/>
                </a:cubicBezTo>
                <a:cubicBezTo>
                  <a:pt x="2792" y="703"/>
                  <a:pt x="2792" y="703"/>
                  <a:pt x="2792" y="703"/>
                </a:cubicBezTo>
                <a:cubicBezTo>
                  <a:pt x="2792" y="703"/>
                  <a:pt x="2792" y="703"/>
                  <a:pt x="2792" y="703"/>
                </a:cubicBezTo>
                <a:cubicBezTo>
                  <a:pt x="2772" y="703"/>
                  <a:pt x="2772" y="703"/>
                  <a:pt x="2772" y="703"/>
                </a:cubicBezTo>
                <a:cubicBezTo>
                  <a:pt x="2754" y="696"/>
                  <a:pt x="2754" y="696"/>
                  <a:pt x="2754" y="696"/>
                </a:cubicBezTo>
                <a:cubicBezTo>
                  <a:pt x="2739" y="696"/>
                  <a:pt x="2739" y="696"/>
                  <a:pt x="2739" y="696"/>
                </a:cubicBezTo>
                <a:cubicBezTo>
                  <a:pt x="2725" y="696"/>
                  <a:pt x="2725" y="696"/>
                  <a:pt x="2725" y="696"/>
                </a:cubicBezTo>
                <a:cubicBezTo>
                  <a:pt x="2709" y="696"/>
                  <a:pt x="2709" y="696"/>
                  <a:pt x="2709" y="696"/>
                </a:cubicBezTo>
                <a:cubicBezTo>
                  <a:pt x="2692" y="696"/>
                  <a:pt x="2692" y="696"/>
                  <a:pt x="2692" y="696"/>
                </a:cubicBezTo>
                <a:cubicBezTo>
                  <a:pt x="2676" y="696"/>
                  <a:pt x="2676" y="696"/>
                  <a:pt x="2676" y="696"/>
                </a:cubicBezTo>
                <a:cubicBezTo>
                  <a:pt x="2664" y="696"/>
                  <a:pt x="2664" y="696"/>
                  <a:pt x="2664" y="696"/>
                </a:cubicBezTo>
                <a:cubicBezTo>
                  <a:pt x="2650" y="696"/>
                  <a:pt x="2650" y="696"/>
                  <a:pt x="2650" y="696"/>
                </a:cubicBezTo>
                <a:cubicBezTo>
                  <a:pt x="2629" y="696"/>
                  <a:pt x="2629" y="696"/>
                  <a:pt x="2629" y="696"/>
                </a:cubicBezTo>
                <a:cubicBezTo>
                  <a:pt x="2619" y="696"/>
                  <a:pt x="2619" y="696"/>
                  <a:pt x="2619" y="696"/>
                </a:cubicBezTo>
                <a:cubicBezTo>
                  <a:pt x="2600" y="696"/>
                  <a:pt x="2600" y="696"/>
                  <a:pt x="2600" y="696"/>
                </a:cubicBezTo>
                <a:cubicBezTo>
                  <a:pt x="2590" y="696"/>
                  <a:pt x="2590" y="696"/>
                  <a:pt x="2590" y="696"/>
                </a:cubicBezTo>
                <a:cubicBezTo>
                  <a:pt x="2574" y="696"/>
                  <a:pt x="2574" y="696"/>
                  <a:pt x="2574" y="696"/>
                </a:cubicBezTo>
                <a:cubicBezTo>
                  <a:pt x="2554" y="703"/>
                  <a:pt x="2554" y="703"/>
                  <a:pt x="2554" y="703"/>
                </a:cubicBezTo>
                <a:cubicBezTo>
                  <a:pt x="2539" y="703"/>
                  <a:pt x="2539" y="703"/>
                  <a:pt x="2539" y="703"/>
                </a:cubicBezTo>
                <a:cubicBezTo>
                  <a:pt x="2526" y="703"/>
                  <a:pt x="2526" y="703"/>
                  <a:pt x="2526" y="703"/>
                </a:cubicBezTo>
                <a:cubicBezTo>
                  <a:pt x="2526" y="703"/>
                  <a:pt x="2526" y="703"/>
                  <a:pt x="2526" y="703"/>
                </a:cubicBezTo>
                <a:cubicBezTo>
                  <a:pt x="2507" y="703"/>
                  <a:pt x="2507" y="703"/>
                  <a:pt x="2507" y="703"/>
                </a:cubicBezTo>
                <a:cubicBezTo>
                  <a:pt x="2495" y="703"/>
                  <a:pt x="2495" y="703"/>
                  <a:pt x="2495" y="703"/>
                </a:cubicBezTo>
                <a:cubicBezTo>
                  <a:pt x="2495" y="705"/>
                  <a:pt x="2495" y="705"/>
                  <a:pt x="2495" y="705"/>
                </a:cubicBezTo>
                <a:cubicBezTo>
                  <a:pt x="2482" y="705"/>
                  <a:pt x="2482" y="705"/>
                  <a:pt x="2482" y="705"/>
                </a:cubicBezTo>
                <a:cubicBezTo>
                  <a:pt x="2458" y="705"/>
                  <a:pt x="2458" y="705"/>
                  <a:pt x="2458" y="705"/>
                </a:cubicBezTo>
                <a:cubicBezTo>
                  <a:pt x="2446" y="705"/>
                  <a:pt x="2446" y="705"/>
                  <a:pt x="2446" y="705"/>
                </a:cubicBezTo>
                <a:cubicBezTo>
                  <a:pt x="2427" y="705"/>
                  <a:pt x="2427" y="705"/>
                  <a:pt x="2427" y="705"/>
                </a:cubicBezTo>
                <a:cubicBezTo>
                  <a:pt x="2417" y="705"/>
                  <a:pt x="2417" y="705"/>
                  <a:pt x="2417" y="705"/>
                </a:cubicBezTo>
                <a:cubicBezTo>
                  <a:pt x="2402" y="705"/>
                  <a:pt x="2402" y="705"/>
                  <a:pt x="2402" y="705"/>
                </a:cubicBezTo>
                <a:cubicBezTo>
                  <a:pt x="2383" y="705"/>
                  <a:pt x="2383" y="705"/>
                  <a:pt x="2383" y="705"/>
                </a:cubicBezTo>
                <a:cubicBezTo>
                  <a:pt x="2371" y="705"/>
                  <a:pt x="2371" y="705"/>
                  <a:pt x="2371" y="705"/>
                </a:cubicBezTo>
                <a:cubicBezTo>
                  <a:pt x="2349" y="705"/>
                  <a:pt x="2349" y="705"/>
                  <a:pt x="2349" y="705"/>
                </a:cubicBezTo>
                <a:cubicBezTo>
                  <a:pt x="2349" y="709"/>
                  <a:pt x="2349" y="709"/>
                  <a:pt x="2349" y="709"/>
                </a:cubicBezTo>
                <a:cubicBezTo>
                  <a:pt x="2335" y="709"/>
                  <a:pt x="2335" y="709"/>
                  <a:pt x="2335" y="709"/>
                </a:cubicBezTo>
                <a:cubicBezTo>
                  <a:pt x="2319" y="709"/>
                  <a:pt x="2319" y="709"/>
                  <a:pt x="2319" y="709"/>
                </a:cubicBezTo>
                <a:cubicBezTo>
                  <a:pt x="2303" y="712"/>
                  <a:pt x="2303" y="712"/>
                  <a:pt x="2303" y="712"/>
                </a:cubicBezTo>
                <a:cubicBezTo>
                  <a:pt x="2289" y="712"/>
                  <a:pt x="2289" y="712"/>
                  <a:pt x="2289" y="712"/>
                </a:cubicBezTo>
                <a:cubicBezTo>
                  <a:pt x="2271" y="712"/>
                  <a:pt x="2271" y="712"/>
                  <a:pt x="2271" y="712"/>
                </a:cubicBezTo>
                <a:cubicBezTo>
                  <a:pt x="2271" y="712"/>
                  <a:pt x="2271" y="712"/>
                  <a:pt x="2271" y="712"/>
                </a:cubicBezTo>
                <a:cubicBezTo>
                  <a:pt x="2258" y="712"/>
                  <a:pt x="2258" y="712"/>
                  <a:pt x="2258" y="712"/>
                </a:cubicBezTo>
                <a:cubicBezTo>
                  <a:pt x="2241" y="712"/>
                  <a:pt x="2241" y="712"/>
                  <a:pt x="2241" y="712"/>
                </a:cubicBezTo>
                <a:cubicBezTo>
                  <a:pt x="2226" y="714"/>
                  <a:pt x="2226" y="714"/>
                  <a:pt x="2226" y="714"/>
                </a:cubicBezTo>
                <a:cubicBezTo>
                  <a:pt x="2210" y="714"/>
                  <a:pt x="2210" y="714"/>
                  <a:pt x="2210" y="714"/>
                </a:cubicBezTo>
                <a:cubicBezTo>
                  <a:pt x="2196" y="719"/>
                  <a:pt x="2196" y="719"/>
                  <a:pt x="2196" y="719"/>
                </a:cubicBezTo>
                <a:cubicBezTo>
                  <a:pt x="2181" y="719"/>
                  <a:pt x="2181" y="719"/>
                  <a:pt x="2181" y="719"/>
                </a:cubicBezTo>
                <a:cubicBezTo>
                  <a:pt x="2169" y="719"/>
                  <a:pt x="2169" y="719"/>
                  <a:pt x="2169" y="719"/>
                </a:cubicBezTo>
                <a:cubicBezTo>
                  <a:pt x="2169" y="724"/>
                  <a:pt x="2169" y="724"/>
                  <a:pt x="2169" y="724"/>
                </a:cubicBezTo>
                <a:cubicBezTo>
                  <a:pt x="2148" y="724"/>
                  <a:pt x="2148" y="724"/>
                  <a:pt x="2148" y="724"/>
                </a:cubicBezTo>
                <a:cubicBezTo>
                  <a:pt x="2134" y="724"/>
                  <a:pt x="2134" y="724"/>
                  <a:pt x="2134" y="724"/>
                </a:cubicBezTo>
                <a:cubicBezTo>
                  <a:pt x="2122" y="726"/>
                  <a:pt x="2122" y="726"/>
                  <a:pt x="2122" y="726"/>
                </a:cubicBezTo>
                <a:cubicBezTo>
                  <a:pt x="2100" y="726"/>
                  <a:pt x="2100" y="726"/>
                  <a:pt x="2100" y="726"/>
                </a:cubicBezTo>
                <a:cubicBezTo>
                  <a:pt x="2091" y="726"/>
                  <a:pt x="2091" y="726"/>
                  <a:pt x="2091" y="726"/>
                </a:cubicBezTo>
                <a:cubicBezTo>
                  <a:pt x="2091" y="727"/>
                  <a:pt x="2091" y="727"/>
                  <a:pt x="2091" y="727"/>
                </a:cubicBezTo>
                <a:cubicBezTo>
                  <a:pt x="2074" y="727"/>
                  <a:pt x="2074" y="727"/>
                  <a:pt x="2074" y="727"/>
                </a:cubicBezTo>
                <a:cubicBezTo>
                  <a:pt x="2057" y="727"/>
                  <a:pt x="2057" y="727"/>
                  <a:pt x="2057" y="727"/>
                </a:cubicBezTo>
                <a:cubicBezTo>
                  <a:pt x="2043" y="731"/>
                  <a:pt x="2043" y="731"/>
                  <a:pt x="2043" y="731"/>
                </a:cubicBezTo>
                <a:cubicBezTo>
                  <a:pt x="2027" y="731"/>
                  <a:pt x="2027" y="731"/>
                  <a:pt x="2027" y="731"/>
                </a:cubicBezTo>
                <a:cubicBezTo>
                  <a:pt x="2027" y="732"/>
                  <a:pt x="2027" y="732"/>
                  <a:pt x="2027" y="732"/>
                </a:cubicBezTo>
                <a:cubicBezTo>
                  <a:pt x="2013" y="732"/>
                  <a:pt x="2013" y="732"/>
                  <a:pt x="2013" y="732"/>
                </a:cubicBezTo>
                <a:cubicBezTo>
                  <a:pt x="1990" y="732"/>
                  <a:pt x="1990" y="732"/>
                  <a:pt x="1990" y="732"/>
                </a:cubicBezTo>
                <a:cubicBezTo>
                  <a:pt x="1990" y="736"/>
                  <a:pt x="1990" y="736"/>
                  <a:pt x="1990" y="736"/>
                </a:cubicBezTo>
                <a:cubicBezTo>
                  <a:pt x="1977" y="736"/>
                  <a:pt x="1977" y="736"/>
                  <a:pt x="1977" y="736"/>
                </a:cubicBezTo>
                <a:cubicBezTo>
                  <a:pt x="1967" y="736"/>
                  <a:pt x="1967" y="736"/>
                  <a:pt x="1967" y="736"/>
                </a:cubicBezTo>
                <a:cubicBezTo>
                  <a:pt x="1967" y="738"/>
                  <a:pt x="1967" y="738"/>
                  <a:pt x="1967" y="738"/>
                </a:cubicBezTo>
                <a:cubicBezTo>
                  <a:pt x="1950" y="738"/>
                  <a:pt x="1950" y="738"/>
                  <a:pt x="1950" y="738"/>
                </a:cubicBezTo>
                <a:cubicBezTo>
                  <a:pt x="1932" y="738"/>
                  <a:pt x="1932" y="738"/>
                  <a:pt x="1932" y="738"/>
                </a:cubicBezTo>
                <a:cubicBezTo>
                  <a:pt x="1912" y="738"/>
                  <a:pt x="1912" y="738"/>
                  <a:pt x="1912" y="738"/>
                </a:cubicBezTo>
                <a:cubicBezTo>
                  <a:pt x="1912" y="742"/>
                  <a:pt x="1912" y="742"/>
                  <a:pt x="1912" y="742"/>
                </a:cubicBezTo>
                <a:cubicBezTo>
                  <a:pt x="1895" y="742"/>
                  <a:pt x="1895" y="742"/>
                  <a:pt x="1895" y="742"/>
                </a:cubicBezTo>
                <a:cubicBezTo>
                  <a:pt x="1883" y="742"/>
                  <a:pt x="1883" y="742"/>
                  <a:pt x="1883" y="742"/>
                </a:cubicBezTo>
                <a:cubicBezTo>
                  <a:pt x="1871" y="745"/>
                  <a:pt x="1871" y="745"/>
                  <a:pt x="1871" y="745"/>
                </a:cubicBezTo>
                <a:cubicBezTo>
                  <a:pt x="1851" y="745"/>
                  <a:pt x="1851" y="745"/>
                  <a:pt x="1851" y="745"/>
                </a:cubicBezTo>
                <a:cubicBezTo>
                  <a:pt x="1851" y="748"/>
                  <a:pt x="1851" y="748"/>
                  <a:pt x="1851" y="748"/>
                </a:cubicBezTo>
                <a:cubicBezTo>
                  <a:pt x="1834" y="748"/>
                  <a:pt x="1834" y="748"/>
                  <a:pt x="1834" y="748"/>
                </a:cubicBezTo>
                <a:cubicBezTo>
                  <a:pt x="1834" y="751"/>
                  <a:pt x="1834" y="751"/>
                  <a:pt x="1834" y="751"/>
                </a:cubicBezTo>
                <a:cubicBezTo>
                  <a:pt x="1834" y="756"/>
                  <a:pt x="1834" y="756"/>
                  <a:pt x="1834" y="756"/>
                </a:cubicBezTo>
                <a:cubicBezTo>
                  <a:pt x="1823" y="756"/>
                  <a:pt x="1823" y="756"/>
                  <a:pt x="1823" y="756"/>
                </a:cubicBezTo>
                <a:cubicBezTo>
                  <a:pt x="1823" y="760"/>
                  <a:pt x="1823" y="760"/>
                  <a:pt x="1823" y="760"/>
                </a:cubicBezTo>
                <a:cubicBezTo>
                  <a:pt x="1810" y="762"/>
                  <a:pt x="1810" y="762"/>
                  <a:pt x="1810" y="762"/>
                </a:cubicBezTo>
                <a:cubicBezTo>
                  <a:pt x="1794" y="762"/>
                  <a:pt x="1794" y="762"/>
                  <a:pt x="1794" y="762"/>
                </a:cubicBezTo>
                <a:cubicBezTo>
                  <a:pt x="1774" y="762"/>
                  <a:pt x="1774" y="762"/>
                  <a:pt x="1774" y="762"/>
                </a:cubicBezTo>
                <a:cubicBezTo>
                  <a:pt x="1760" y="762"/>
                  <a:pt x="1760" y="762"/>
                  <a:pt x="1760" y="762"/>
                </a:cubicBezTo>
                <a:cubicBezTo>
                  <a:pt x="1748" y="762"/>
                  <a:pt x="1748" y="762"/>
                  <a:pt x="1748" y="762"/>
                </a:cubicBezTo>
                <a:cubicBezTo>
                  <a:pt x="1728" y="762"/>
                  <a:pt x="1728" y="762"/>
                  <a:pt x="1728" y="762"/>
                </a:cubicBezTo>
                <a:cubicBezTo>
                  <a:pt x="1711" y="762"/>
                  <a:pt x="1711" y="762"/>
                  <a:pt x="1711" y="762"/>
                </a:cubicBezTo>
                <a:cubicBezTo>
                  <a:pt x="1711" y="760"/>
                  <a:pt x="1711" y="760"/>
                  <a:pt x="1711" y="760"/>
                </a:cubicBezTo>
                <a:cubicBezTo>
                  <a:pt x="1697" y="760"/>
                  <a:pt x="1697" y="760"/>
                  <a:pt x="1697" y="760"/>
                </a:cubicBezTo>
                <a:cubicBezTo>
                  <a:pt x="1682" y="760"/>
                  <a:pt x="1682" y="760"/>
                  <a:pt x="1682" y="760"/>
                </a:cubicBezTo>
                <a:cubicBezTo>
                  <a:pt x="1665" y="760"/>
                  <a:pt x="1665" y="760"/>
                  <a:pt x="1665" y="760"/>
                </a:cubicBezTo>
                <a:cubicBezTo>
                  <a:pt x="1665" y="756"/>
                  <a:pt x="1665" y="756"/>
                  <a:pt x="1665" y="756"/>
                </a:cubicBezTo>
                <a:cubicBezTo>
                  <a:pt x="1650" y="756"/>
                  <a:pt x="1650" y="756"/>
                  <a:pt x="1650" y="756"/>
                </a:cubicBezTo>
                <a:cubicBezTo>
                  <a:pt x="1650" y="756"/>
                  <a:pt x="1650" y="756"/>
                  <a:pt x="1650" y="756"/>
                </a:cubicBezTo>
                <a:cubicBezTo>
                  <a:pt x="1630" y="756"/>
                  <a:pt x="1630" y="756"/>
                  <a:pt x="1630" y="756"/>
                </a:cubicBezTo>
                <a:cubicBezTo>
                  <a:pt x="1620" y="756"/>
                  <a:pt x="1620" y="756"/>
                  <a:pt x="1620" y="756"/>
                </a:cubicBezTo>
                <a:cubicBezTo>
                  <a:pt x="1620" y="751"/>
                  <a:pt x="1620" y="751"/>
                  <a:pt x="1620" y="751"/>
                </a:cubicBezTo>
                <a:cubicBezTo>
                  <a:pt x="1603" y="751"/>
                  <a:pt x="1603" y="751"/>
                  <a:pt x="1603" y="751"/>
                </a:cubicBezTo>
                <a:cubicBezTo>
                  <a:pt x="1588" y="751"/>
                  <a:pt x="1588" y="751"/>
                  <a:pt x="1588" y="751"/>
                </a:cubicBezTo>
                <a:cubicBezTo>
                  <a:pt x="1571" y="751"/>
                  <a:pt x="1571" y="751"/>
                  <a:pt x="1571" y="751"/>
                </a:cubicBezTo>
                <a:cubicBezTo>
                  <a:pt x="1554" y="751"/>
                  <a:pt x="1554" y="751"/>
                  <a:pt x="1554" y="751"/>
                </a:cubicBezTo>
                <a:cubicBezTo>
                  <a:pt x="1539" y="751"/>
                  <a:pt x="1539" y="751"/>
                  <a:pt x="1539" y="751"/>
                </a:cubicBezTo>
                <a:cubicBezTo>
                  <a:pt x="1529" y="751"/>
                  <a:pt x="1529" y="751"/>
                  <a:pt x="1529" y="751"/>
                </a:cubicBezTo>
                <a:cubicBezTo>
                  <a:pt x="1511" y="751"/>
                  <a:pt x="1511" y="751"/>
                  <a:pt x="1511" y="751"/>
                </a:cubicBezTo>
                <a:cubicBezTo>
                  <a:pt x="1494" y="751"/>
                  <a:pt x="1494" y="751"/>
                  <a:pt x="1494" y="751"/>
                </a:cubicBezTo>
                <a:cubicBezTo>
                  <a:pt x="1479" y="751"/>
                  <a:pt x="1479" y="751"/>
                  <a:pt x="1479" y="751"/>
                </a:cubicBezTo>
                <a:cubicBezTo>
                  <a:pt x="1463" y="751"/>
                  <a:pt x="1463" y="751"/>
                  <a:pt x="1463" y="751"/>
                </a:cubicBezTo>
                <a:cubicBezTo>
                  <a:pt x="1448" y="751"/>
                  <a:pt x="1448" y="751"/>
                  <a:pt x="1448" y="751"/>
                </a:cubicBezTo>
                <a:cubicBezTo>
                  <a:pt x="1433" y="751"/>
                  <a:pt x="1433" y="751"/>
                  <a:pt x="1433" y="751"/>
                </a:cubicBezTo>
                <a:cubicBezTo>
                  <a:pt x="1419" y="751"/>
                  <a:pt x="1419" y="751"/>
                  <a:pt x="1419" y="751"/>
                </a:cubicBezTo>
                <a:cubicBezTo>
                  <a:pt x="1399" y="751"/>
                  <a:pt x="1399" y="751"/>
                  <a:pt x="1399" y="751"/>
                </a:cubicBezTo>
                <a:cubicBezTo>
                  <a:pt x="1384" y="751"/>
                  <a:pt x="1384" y="751"/>
                  <a:pt x="1384" y="751"/>
                </a:cubicBezTo>
                <a:cubicBezTo>
                  <a:pt x="1369" y="751"/>
                  <a:pt x="1369" y="751"/>
                  <a:pt x="1369" y="751"/>
                </a:cubicBezTo>
                <a:cubicBezTo>
                  <a:pt x="1354" y="751"/>
                  <a:pt x="1354" y="751"/>
                  <a:pt x="1354" y="751"/>
                </a:cubicBezTo>
                <a:cubicBezTo>
                  <a:pt x="1354" y="748"/>
                  <a:pt x="1354" y="748"/>
                  <a:pt x="1354" y="748"/>
                </a:cubicBezTo>
                <a:cubicBezTo>
                  <a:pt x="1339" y="748"/>
                  <a:pt x="1339" y="748"/>
                  <a:pt x="1339" y="748"/>
                </a:cubicBezTo>
                <a:cubicBezTo>
                  <a:pt x="1327" y="748"/>
                  <a:pt x="1327" y="748"/>
                  <a:pt x="1327" y="748"/>
                </a:cubicBezTo>
                <a:cubicBezTo>
                  <a:pt x="1311" y="748"/>
                  <a:pt x="1311" y="748"/>
                  <a:pt x="1311" y="748"/>
                </a:cubicBezTo>
                <a:cubicBezTo>
                  <a:pt x="1292" y="748"/>
                  <a:pt x="1292" y="748"/>
                  <a:pt x="1292" y="748"/>
                </a:cubicBezTo>
                <a:cubicBezTo>
                  <a:pt x="1277" y="748"/>
                  <a:pt x="1277" y="748"/>
                  <a:pt x="1277" y="748"/>
                </a:cubicBezTo>
                <a:cubicBezTo>
                  <a:pt x="1260" y="748"/>
                  <a:pt x="1260" y="748"/>
                  <a:pt x="1260" y="748"/>
                </a:cubicBezTo>
                <a:cubicBezTo>
                  <a:pt x="1243" y="748"/>
                  <a:pt x="1243" y="748"/>
                  <a:pt x="1243" y="748"/>
                </a:cubicBezTo>
                <a:cubicBezTo>
                  <a:pt x="1243" y="745"/>
                  <a:pt x="1243" y="745"/>
                  <a:pt x="1243" y="745"/>
                </a:cubicBezTo>
                <a:cubicBezTo>
                  <a:pt x="1232" y="745"/>
                  <a:pt x="1232" y="745"/>
                  <a:pt x="1232" y="745"/>
                </a:cubicBezTo>
                <a:cubicBezTo>
                  <a:pt x="1218" y="745"/>
                  <a:pt x="1218" y="745"/>
                  <a:pt x="1218" y="745"/>
                </a:cubicBezTo>
                <a:cubicBezTo>
                  <a:pt x="1194" y="745"/>
                  <a:pt x="1194" y="745"/>
                  <a:pt x="1194" y="745"/>
                </a:cubicBezTo>
                <a:cubicBezTo>
                  <a:pt x="1194" y="742"/>
                  <a:pt x="1194" y="742"/>
                  <a:pt x="1194" y="742"/>
                </a:cubicBezTo>
                <a:cubicBezTo>
                  <a:pt x="1178" y="742"/>
                  <a:pt x="1178" y="742"/>
                  <a:pt x="1178" y="742"/>
                </a:cubicBezTo>
                <a:cubicBezTo>
                  <a:pt x="1169" y="742"/>
                  <a:pt x="1169" y="742"/>
                  <a:pt x="1169" y="742"/>
                </a:cubicBezTo>
                <a:cubicBezTo>
                  <a:pt x="1149" y="742"/>
                  <a:pt x="1149" y="742"/>
                  <a:pt x="1149" y="742"/>
                </a:cubicBezTo>
                <a:cubicBezTo>
                  <a:pt x="1140" y="742"/>
                  <a:pt x="1140" y="742"/>
                  <a:pt x="1140" y="742"/>
                </a:cubicBezTo>
                <a:cubicBezTo>
                  <a:pt x="1140" y="745"/>
                  <a:pt x="1140" y="745"/>
                  <a:pt x="1140" y="745"/>
                </a:cubicBezTo>
                <a:cubicBezTo>
                  <a:pt x="1122" y="748"/>
                  <a:pt x="1122" y="748"/>
                  <a:pt x="1122" y="748"/>
                </a:cubicBezTo>
                <a:cubicBezTo>
                  <a:pt x="1105" y="748"/>
                  <a:pt x="1105" y="748"/>
                  <a:pt x="1105" y="748"/>
                </a:cubicBezTo>
                <a:cubicBezTo>
                  <a:pt x="1105" y="751"/>
                  <a:pt x="1105" y="751"/>
                  <a:pt x="1105" y="751"/>
                </a:cubicBezTo>
                <a:cubicBezTo>
                  <a:pt x="1087" y="751"/>
                  <a:pt x="1087" y="751"/>
                  <a:pt x="1087" y="751"/>
                </a:cubicBezTo>
                <a:cubicBezTo>
                  <a:pt x="1087" y="756"/>
                  <a:pt x="1087" y="756"/>
                  <a:pt x="1087" y="756"/>
                </a:cubicBezTo>
                <a:cubicBezTo>
                  <a:pt x="1067" y="756"/>
                  <a:pt x="1067" y="756"/>
                  <a:pt x="1067" y="756"/>
                </a:cubicBezTo>
                <a:cubicBezTo>
                  <a:pt x="1067" y="756"/>
                  <a:pt x="1067" y="756"/>
                  <a:pt x="1067" y="756"/>
                </a:cubicBezTo>
                <a:cubicBezTo>
                  <a:pt x="1057" y="760"/>
                  <a:pt x="1057" y="760"/>
                  <a:pt x="1057" y="760"/>
                </a:cubicBezTo>
                <a:cubicBezTo>
                  <a:pt x="1043" y="762"/>
                  <a:pt x="1043" y="762"/>
                  <a:pt x="1043" y="762"/>
                </a:cubicBezTo>
                <a:cubicBezTo>
                  <a:pt x="1043" y="766"/>
                  <a:pt x="1043" y="766"/>
                  <a:pt x="1043" y="766"/>
                </a:cubicBezTo>
                <a:cubicBezTo>
                  <a:pt x="1027" y="766"/>
                  <a:pt x="1027" y="766"/>
                  <a:pt x="1027" y="766"/>
                </a:cubicBezTo>
                <a:cubicBezTo>
                  <a:pt x="1027" y="770"/>
                  <a:pt x="1027" y="770"/>
                  <a:pt x="1027" y="770"/>
                </a:cubicBezTo>
                <a:cubicBezTo>
                  <a:pt x="1013" y="770"/>
                  <a:pt x="1013" y="770"/>
                  <a:pt x="1013" y="770"/>
                </a:cubicBezTo>
                <a:cubicBezTo>
                  <a:pt x="1013" y="770"/>
                  <a:pt x="1013" y="770"/>
                  <a:pt x="1013" y="770"/>
                </a:cubicBezTo>
                <a:cubicBezTo>
                  <a:pt x="998" y="770"/>
                  <a:pt x="998" y="770"/>
                  <a:pt x="998" y="770"/>
                </a:cubicBezTo>
                <a:cubicBezTo>
                  <a:pt x="977" y="770"/>
                  <a:pt x="977" y="770"/>
                  <a:pt x="977" y="770"/>
                </a:cubicBezTo>
                <a:cubicBezTo>
                  <a:pt x="965" y="772"/>
                  <a:pt x="965" y="772"/>
                  <a:pt x="965" y="772"/>
                </a:cubicBezTo>
                <a:cubicBezTo>
                  <a:pt x="948" y="772"/>
                  <a:pt x="948" y="772"/>
                  <a:pt x="948" y="772"/>
                </a:cubicBezTo>
                <a:cubicBezTo>
                  <a:pt x="927" y="772"/>
                  <a:pt x="927" y="772"/>
                  <a:pt x="927" y="772"/>
                </a:cubicBezTo>
                <a:cubicBezTo>
                  <a:pt x="919" y="772"/>
                  <a:pt x="919" y="772"/>
                  <a:pt x="919" y="772"/>
                </a:cubicBezTo>
                <a:cubicBezTo>
                  <a:pt x="902" y="777"/>
                  <a:pt x="902" y="777"/>
                  <a:pt x="902" y="777"/>
                </a:cubicBezTo>
                <a:cubicBezTo>
                  <a:pt x="887" y="777"/>
                  <a:pt x="887" y="777"/>
                  <a:pt x="887" y="777"/>
                </a:cubicBezTo>
                <a:cubicBezTo>
                  <a:pt x="874" y="777"/>
                  <a:pt x="874" y="777"/>
                  <a:pt x="874" y="777"/>
                </a:cubicBezTo>
                <a:cubicBezTo>
                  <a:pt x="855" y="778"/>
                  <a:pt x="855" y="778"/>
                  <a:pt x="855" y="778"/>
                </a:cubicBezTo>
                <a:cubicBezTo>
                  <a:pt x="839" y="778"/>
                  <a:pt x="839" y="778"/>
                  <a:pt x="839" y="778"/>
                </a:cubicBezTo>
                <a:cubicBezTo>
                  <a:pt x="813" y="778"/>
                  <a:pt x="813" y="778"/>
                  <a:pt x="813" y="778"/>
                </a:cubicBezTo>
                <a:cubicBezTo>
                  <a:pt x="800" y="782"/>
                  <a:pt x="800" y="782"/>
                  <a:pt x="800" y="782"/>
                </a:cubicBezTo>
                <a:cubicBezTo>
                  <a:pt x="759" y="782"/>
                  <a:pt x="759" y="782"/>
                  <a:pt x="759" y="782"/>
                </a:cubicBezTo>
                <a:cubicBezTo>
                  <a:pt x="746" y="783"/>
                  <a:pt x="746" y="783"/>
                  <a:pt x="746" y="783"/>
                </a:cubicBezTo>
                <a:cubicBezTo>
                  <a:pt x="731" y="783"/>
                  <a:pt x="731" y="783"/>
                  <a:pt x="731" y="783"/>
                </a:cubicBezTo>
                <a:cubicBezTo>
                  <a:pt x="713" y="783"/>
                  <a:pt x="713" y="783"/>
                  <a:pt x="713" y="783"/>
                </a:cubicBezTo>
                <a:cubicBezTo>
                  <a:pt x="697" y="783"/>
                  <a:pt x="697" y="783"/>
                  <a:pt x="697" y="783"/>
                </a:cubicBezTo>
                <a:cubicBezTo>
                  <a:pt x="684" y="783"/>
                  <a:pt x="684" y="783"/>
                  <a:pt x="684" y="783"/>
                </a:cubicBezTo>
                <a:cubicBezTo>
                  <a:pt x="670" y="783"/>
                  <a:pt x="670" y="783"/>
                  <a:pt x="670" y="783"/>
                </a:cubicBezTo>
                <a:cubicBezTo>
                  <a:pt x="652" y="783"/>
                  <a:pt x="652" y="783"/>
                  <a:pt x="652" y="783"/>
                </a:cubicBezTo>
                <a:cubicBezTo>
                  <a:pt x="637" y="783"/>
                  <a:pt x="637" y="783"/>
                  <a:pt x="637" y="783"/>
                </a:cubicBezTo>
                <a:cubicBezTo>
                  <a:pt x="624" y="783"/>
                  <a:pt x="624" y="783"/>
                  <a:pt x="624" y="783"/>
                </a:cubicBezTo>
                <a:cubicBezTo>
                  <a:pt x="603" y="783"/>
                  <a:pt x="603" y="783"/>
                  <a:pt x="603" y="783"/>
                </a:cubicBezTo>
                <a:cubicBezTo>
                  <a:pt x="592" y="783"/>
                  <a:pt x="592" y="783"/>
                  <a:pt x="592" y="783"/>
                </a:cubicBezTo>
                <a:cubicBezTo>
                  <a:pt x="573" y="783"/>
                  <a:pt x="573" y="783"/>
                  <a:pt x="573" y="783"/>
                </a:cubicBezTo>
                <a:cubicBezTo>
                  <a:pt x="557" y="783"/>
                  <a:pt x="557" y="783"/>
                  <a:pt x="557" y="783"/>
                </a:cubicBezTo>
                <a:cubicBezTo>
                  <a:pt x="542" y="783"/>
                  <a:pt x="542" y="783"/>
                  <a:pt x="542" y="783"/>
                </a:cubicBezTo>
                <a:cubicBezTo>
                  <a:pt x="523" y="783"/>
                  <a:pt x="523" y="783"/>
                  <a:pt x="523" y="783"/>
                </a:cubicBezTo>
                <a:cubicBezTo>
                  <a:pt x="513" y="783"/>
                  <a:pt x="513" y="783"/>
                  <a:pt x="513" y="783"/>
                </a:cubicBezTo>
                <a:cubicBezTo>
                  <a:pt x="494" y="783"/>
                  <a:pt x="494" y="783"/>
                  <a:pt x="494" y="783"/>
                </a:cubicBezTo>
                <a:cubicBezTo>
                  <a:pt x="478" y="783"/>
                  <a:pt x="478" y="783"/>
                  <a:pt x="478" y="783"/>
                </a:cubicBezTo>
                <a:cubicBezTo>
                  <a:pt x="462" y="783"/>
                  <a:pt x="462" y="783"/>
                  <a:pt x="462" y="783"/>
                </a:cubicBezTo>
                <a:cubicBezTo>
                  <a:pt x="452" y="782"/>
                  <a:pt x="452" y="782"/>
                  <a:pt x="452" y="782"/>
                </a:cubicBezTo>
                <a:cubicBezTo>
                  <a:pt x="436" y="782"/>
                  <a:pt x="436" y="782"/>
                  <a:pt x="436" y="782"/>
                </a:cubicBezTo>
                <a:cubicBezTo>
                  <a:pt x="419" y="782"/>
                  <a:pt x="419" y="782"/>
                  <a:pt x="419" y="782"/>
                </a:cubicBezTo>
                <a:cubicBezTo>
                  <a:pt x="409" y="782"/>
                  <a:pt x="409" y="782"/>
                  <a:pt x="409" y="782"/>
                </a:cubicBezTo>
                <a:cubicBezTo>
                  <a:pt x="387" y="782"/>
                  <a:pt x="387" y="782"/>
                  <a:pt x="387" y="782"/>
                </a:cubicBezTo>
                <a:cubicBezTo>
                  <a:pt x="375" y="782"/>
                  <a:pt x="375" y="782"/>
                  <a:pt x="375" y="782"/>
                </a:cubicBezTo>
                <a:cubicBezTo>
                  <a:pt x="357" y="782"/>
                  <a:pt x="357" y="782"/>
                  <a:pt x="357" y="782"/>
                </a:cubicBezTo>
                <a:cubicBezTo>
                  <a:pt x="339" y="782"/>
                  <a:pt x="339" y="782"/>
                  <a:pt x="339" y="782"/>
                </a:cubicBezTo>
                <a:cubicBezTo>
                  <a:pt x="339" y="783"/>
                  <a:pt x="339" y="783"/>
                  <a:pt x="339" y="783"/>
                </a:cubicBezTo>
                <a:cubicBezTo>
                  <a:pt x="324" y="783"/>
                  <a:pt x="324" y="783"/>
                  <a:pt x="324" y="783"/>
                </a:cubicBezTo>
                <a:cubicBezTo>
                  <a:pt x="312" y="783"/>
                  <a:pt x="312" y="783"/>
                  <a:pt x="312" y="783"/>
                </a:cubicBezTo>
                <a:cubicBezTo>
                  <a:pt x="297" y="783"/>
                  <a:pt x="297" y="783"/>
                  <a:pt x="297" y="783"/>
                </a:cubicBezTo>
                <a:cubicBezTo>
                  <a:pt x="277" y="783"/>
                  <a:pt x="277" y="783"/>
                  <a:pt x="277" y="783"/>
                </a:cubicBezTo>
                <a:cubicBezTo>
                  <a:pt x="263" y="783"/>
                  <a:pt x="263" y="783"/>
                  <a:pt x="263" y="783"/>
                </a:cubicBezTo>
                <a:cubicBezTo>
                  <a:pt x="246" y="783"/>
                  <a:pt x="246" y="783"/>
                  <a:pt x="246" y="783"/>
                </a:cubicBezTo>
                <a:cubicBezTo>
                  <a:pt x="234" y="783"/>
                  <a:pt x="234" y="783"/>
                  <a:pt x="234" y="783"/>
                </a:cubicBezTo>
                <a:cubicBezTo>
                  <a:pt x="234" y="787"/>
                  <a:pt x="234" y="787"/>
                  <a:pt x="234" y="787"/>
                </a:cubicBezTo>
                <a:cubicBezTo>
                  <a:pt x="214" y="787"/>
                  <a:pt x="214" y="787"/>
                  <a:pt x="214" y="787"/>
                </a:cubicBezTo>
                <a:cubicBezTo>
                  <a:pt x="197" y="787"/>
                  <a:pt x="197" y="787"/>
                  <a:pt x="197" y="787"/>
                </a:cubicBezTo>
                <a:cubicBezTo>
                  <a:pt x="187" y="787"/>
                  <a:pt x="187" y="787"/>
                  <a:pt x="187" y="787"/>
                </a:cubicBezTo>
                <a:cubicBezTo>
                  <a:pt x="168" y="787"/>
                  <a:pt x="168" y="787"/>
                  <a:pt x="168" y="787"/>
                </a:cubicBezTo>
                <a:cubicBezTo>
                  <a:pt x="156" y="787"/>
                  <a:pt x="156" y="787"/>
                  <a:pt x="156" y="787"/>
                </a:cubicBezTo>
                <a:cubicBezTo>
                  <a:pt x="139" y="787"/>
                  <a:pt x="139" y="787"/>
                  <a:pt x="139" y="787"/>
                </a:cubicBezTo>
                <a:cubicBezTo>
                  <a:pt x="119" y="787"/>
                  <a:pt x="119" y="787"/>
                  <a:pt x="119" y="787"/>
                </a:cubicBezTo>
                <a:cubicBezTo>
                  <a:pt x="105" y="787"/>
                  <a:pt x="105" y="787"/>
                  <a:pt x="105" y="787"/>
                </a:cubicBezTo>
                <a:cubicBezTo>
                  <a:pt x="105" y="789"/>
                  <a:pt x="105" y="789"/>
                  <a:pt x="105" y="789"/>
                </a:cubicBezTo>
                <a:cubicBezTo>
                  <a:pt x="88" y="789"/>
                  <a:pt x="88" y="789"/>
                  <a:pt x="88" y="789"/>
                </a:cubicBezTo>
                <a:cubicBezTo>
                  <a:pt x="73" y="789"/>
                  <a:pt x="73" y="789"/>
                  <a:pt x="73" y="789"/>
                </a:cubicBezTo>
                <a:cubicBezTo>
                  <a:pt x="56" y="789"/>
                  <a:pt x="56" y="789"/>
                  <a:pt x="56" y="789"/>
                </a:cubicBezTo>
                <a:cubicBezTo>
                  <a:pt x="44" y="789"/>
                  <a:pt x="44" y="789"/>
                  <a:pt x="44" y="789"/>
                </a:cubicBezTo>
                <a:cubicBezTo>
                  <a:pt x="27" y="792"/>
                  <a:pt x="27" y="792"/>
                  <a:pt x="27" y="792"/>
                </a:cubicBezTo>
                <a:cubicBezTo>
                  <a:pt x="27" y="792"/>
                  <a:pt x="27" y="792"/>
                  <a:pt x="27" y="792"/>
                </a:cubicBezTo>
                <a:cubicBezTo>
                  <a:pt x="27" y="792"/>
                  <a:pt x="27" y="792"/>
                  <a:pt x="27" y="792"/>
                </a:cubicBezTo>
                <a:cubicBezTo>
                  <a:pt x="0" y="792"/>
                  <a:pt x="0" y="792"/>
                  <a:pt x="0" y="792"/>
                </a:cubicBezTo>
                <a:close/>
              </a:path>
            </a:pathLst>
          </a:custGeom>
          <a:solidFill>
            <a:srgbClr val="f0f0f0"/>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65240" y="5975280"/>
            <a:ext cx="8069400" cy="82332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MR Research estimates that 70 percent of companies today earn most of their revenues through indirect channels: dealers; agents; value-added resellers; wholesalers; and distributors. These are the matchmakers of business. </a:t>
            </a:r>
            <a:endParaRPr b="0" lang="en-US" sz="1800" spc="-1" strike="noStrike">
              <a:solidFill>
                <a:srgbClr val="000000"/>
              </a:solidFill>
              <a:latin typeface="Times New Roman"/>
            </a:endParaRPr>
          </a:p>
        </p:txBody>
      </p:sp>
      <p:sp>
        <p:nvSpPr>
          <p:cNvPr id="118" name=""/>
          <p:cNvSpPr/>
          <p:nvPr/>
        </p:nvSpPr>
        <p:spPr>
          <a:xfrm>
            <a:off x="1325520" y="731160"/>
            <a:ext cx="76312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What the Analysts are Saying...</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941400" y="1698480"/>
            <a:ext cx="8899560" cy="5027400"/>
          </a:xfrm>
          <a:prstGeom prst="rect">
            <a:avLst/>
          </a:prstGeom>
          <a:noFill/>
          <a:ln w="0">
            <a:noFill/>
          </a:ln>
        </p:spPr>
        <p:style>
          <a:lnRef idx="0"/>
          <a:fillRef idx="0"/>
          <a:effectRef idx="0"/>
          <a:fontRef idx="minor"/>
        </p:style>
        <p:txBody>
          <a:bodyPr lIns="0" rIns="0" tIns="0" bIns="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ing and optimizing sales and distribution channels has become  increasingly important in today's competitive business environment.  Manufacturers and distributors rely on channels and resellers to deliver a uniform brand experience to build meaningful customer relationships and increase tactical market reach.  </a:t>
            </a:r>
            <a:endParaRPr b="0" lang="en-US" sz="32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ever, numerous inefficiencies and tactical limitations significantly impact the potential of these extended Channel Networks.  </a:t>
            </a:r>
            <a:endParaRPr b="0" lang="en-US" sz="3200" spc="-1" strike="noStrike">
              <a:solidFill>
                <a:srgbClr val="000000"/>
              </a:solidFill>
              <a:latin typeface="Times New Roman"/>
            </a:endParaRPr>
          </a:p>
        </p:txBody>
      </p:sp>
      <p:sp>
        <p:nvSpPr>
          <p:cNvPr id="120" name=""/>
          <p:cNvSpPr/>
          <p:nvPr/>
        </p:nvSpPr>
        <p:spPr>
          <a:xfrm>
            <a:off x="1325520" y="731160"/>
            <a:ext cx="7631280" cy="442080"/>
          </a:xfrm>
          <a:prstGeom prst="rect">
            <a:avLst/>
          </a:prstGeom>
          <a:noFill/>
          <a:ln w="0">
            <a:noFill/>
          </a:ln>
        </p:spPr>
        <p:style>
          <a:lnRef idx="0"/>
          <a:fillRef idx="0"/>
          <a:effectRef idx="0"/>
          <a:fontRef idx="minor"/>
        </p:style>
        <p:txBody>
          <a:bodyPr lIns="0" rIns="0" tIns="0" bIns="0" anchor="b">
            <a:spAutoFit/>
          </a:bodyPr>
          <a:p>
            <a:pPr>
              <a:lnSpc>
                <a:spcPct val="100000"/>
              </a:lnSpc>
              <a:spcAft>
                <a:spcPts val="5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The Challenges of Leveraging Partner Network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_User</cp:lastModifiedBy>
  <dcterms:modified xsi:type="dcterms:W3CDTF">2003-02-10T17:47:52Z</dcterms:modified>
  <cp:revision>3</cp:revision>
  <dc:subject/>
  <dc:title>Slide 1</dc:title>
</cp:coreProperties>
</file>