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07600" cy="7704138"/>
  <p:notesSz cx="7704138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59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23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916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59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023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49160" y="684000"/>
            <a:ext cx="8507520" cy="59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59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23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916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59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023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49160" y="684000"/>
            <a:ext cx="8507520" cy="59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259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23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4916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259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023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9160" y="684000"/>
            <a:ext cx="8507520" cy="59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259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2320" y="222372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74916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259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02320" y="4638600"/>
            <a:ext cx="27392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9160" y="684000"/>
            <a:ext cx="8507520" cy="59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08760" y="463860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91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760" y="2223720"/>
            <a:ext cx="4151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9160" y="4638600"/>
            <a:ext cx="8507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5240" y="512280"/>
            <a:ext cx="8005680" cy="771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335240" y="1369800"/>
            <a:ext cx="8005680" cy="52196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22240" indent="-315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65400" indent="-25416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771560" indent="-25380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2276640" indent="-25272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2276640" indent="-25272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2276640" indent="-25272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07640" cy="76914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5240" y="3080880"/>
            <a:ext cx="6503760" cy="855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00400" y="1802520"/>
            <a:ext cx="9006840" cy="4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506520" indent="0" algn="ctr">
              <a:spcBef>
                <a:spcPts val="49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1124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51776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2023920" algn="ctr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202392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202392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9160" y="684000"/>
            <a:ext cx="85075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49160" y="2223720"/>
            <a:ext cx="8507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346040" y="422280"/>
          <a:ext cx="8305920" cy="59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422280"/>
                    <a:ext cx="830592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422360" y="433440"/>
          <a:ext cx="7924680" cy="63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2360" y="433440"/>
                    <a:ext cx="7924680" cy="63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422360" y="438120"/>
          <a:ext cx="7924680" cy="72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2360" y="438120"/>
                    <a:ext cx="792468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22360" y="422280"/>
          <a:ext cx="8229600" cy="58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2360" y="422280"/>
                    <a:ext cx="82296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270080" y="422280"/>
          <a:ext cx="7924680" cy="58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422280"/>
                    <a:ext cx="792468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270080" y="-49320"/>
          <a:ext cx="7848360" cy="679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-49320"/>
                    <a:ext cx="7848360" cy="67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193760" y="270000"/>
          <a:ext cx="8229600" cy="69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3760" y="270000"/>
                    <a:ext cx="822960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812880" y="344520"/>
          <a:ext cx="8458200" cy="64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344520"/>
                    <a:ext cx="845820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117440" y="-120600"/>
          <a:ext cx="8534520" cy="666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7440" y="-120600"/>
                    <a:ext cx="8534520" cy="66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5240" y="2631600"/>
            <a:ext cx="6503760" cy="855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 Narrow"/>
              </a:rPr>
              <a:t>IBM Business Partner Summary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4880" y="3630240"/>
            <a:ext cx="8164440" cy="3143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16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;Arial"/>
                <a:ea typeface="Arial Narrow;Arial"/>
              </a:rPr>
              <a:t>The IBM Business Partner adds presentation slides including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166680" indent="-166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;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;Arial"/>
                <a:ea typeface="Arial Narrow;Arial"/>
              </a:rPr>
              <a:t>Why the Business Partner chose IBM WebSphe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166680" indent="-166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;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;Arial"/>
                <a:ea typeface="Arial Narrow;Arial"/>
              </a:rPr>
              <a:t>The services  and solutions offered by the Business Partner to solve customer business need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166680" indent="-166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;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;Arial"/>
                <a:ea typeface="Arial Narrow;Arial"/>
              </a:rPr>
              <a:t>The Value of IBM and Business Partner to the custom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166680" indent="-166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;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;Arial"/>
                <a:ea typeface="Arial Narrow;Arial"/>
              </a:rPr>
              <a:t>Why the customer  should chose Business Partner and IB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16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422360" y="353880"/>
          <a:ext cx="7924680" cy="639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2360" y="353880"/>
                    <a:ext cx="7924680" cy="63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mye Childs</cp:lastModifiedBy>
  <dcterms:modified xsi:type="dcterms:W3CDTF">2002-12-12T17:38:20Z</dcterms:modified>
  <cp:revision>24</cp:revision>
  <dc:subject/>
  <dc:title>Slide 1</dc:title>
</cp:coreProperties>
</file>