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E775-AB9E-4950-8F71-55CC177DF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D33E-76BC-4B8E-B73E-44CF0897B1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11C9-76C7-4185-B210-085C9F2D17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C7E2-C995-463D-B6D8-7961A2EA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424512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A133-083C-467E-826B-4B100A25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424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3680" y="424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D0C8-41B0-4C9E-B4E3-3B948650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9520" y="190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400" y="190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424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9520" y="424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400" y="424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09AB-1372-4AED-80F6-3A67AA0C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280" y="190512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82520" y="593280"/>
            <a:ext cx="8686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280" y="424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90512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56F9-45FD-4F63-A9F3-54C33A21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03680" y="424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280" y="424512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52280" y="424512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2280" y="424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03680" y="424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89520" y="190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6400" y="190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52280" y="424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089520" y="424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6400" y="424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5DCC-C3C8-44CA-977E-8E0F9EC1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8BEF-2201-406D-8912-C07E99A9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12A2-5A1D-4718-9CDA-4774998E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520" y="593280"/>
            <a:ext cx="8686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6A47-00E8-4A49-BC37-E9EB729E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424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BAA6-4BD4-4565-8552-A3F38001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3680" y="424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F3AA-594B-4C25-9F35-9AD2FC42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424512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2407-DFBA-4CEE-BEC5-4BDD3D35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190512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3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3480" indent="-17316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39720" indent="-163440"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39720" indent="-1634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39720" indent="-1634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"/>
          <p:cNvSpPr/>
          <p:nvPr/>
        </p:nvSpPr>
        <p:spPr>
          <a:xfrm>
            <a:off x="274680" y="549360"/>
            <a:ext cx="859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182160" y="6537240"/>
            <a:ext cx="366840" cy="18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47E7-63D7-4BF8-A195-D93191F2D75A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554120" y="6537240"/>
            <a:ext cx="5943600" cy="18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BM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3"/>
          </p:nvPr>
        </p:nvSpPr>
        <p:spPr>
          <a:xfrm>
            <a:off x="549000" y="6537240"/>
            <a:ext cx="1004760" cy="18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8D8C-0606-4865-A4ED-B37C4F862BD3}" type="datetime3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R120_G137_B251-200"/>
          <p:cNvPicPr/>
          <p:nvPr/>
        </p:nvPicPr>
        <p:blipFill>
          <a:blip r:embed="rId2"/>
          <a:stretch/>
        </p:blipFill>
        <p:spPr>
          <a:xfrm>
            <a:off x="8280360" y="227160"/>
            <a:ext cx="588960" cy="236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wind turbines with blue sky and mountains in background"/>
          <p:cNvPicPr/>
          <p:nvPr/>
        </p:nvPicPr>
        <p:blipFill>
          <a:blip r:embed="rId2"/>
          <a:srcRect l="0" t="0" r="0" b="818"/>
          <a:stretch/>
        </p:blipFill>
        <p:spPr>
          <a:xfrm>
            <a:off x="274680" y="3665520"/>
            <a:ext cx="8593200" cy="2230560"/>
          </a:xfrm>
          <a:prstGeom prst="rect">
            <a:avLst/>
          </a:prstGeom>
          <a:ln w="0">
            <a:noFill/>
          </a:ln>
        </p:spPr>
      </p:pic>
      <p:sp>
        <p:nvSpPr>
          <p:cNvPr id="44" name="Line 4"/>
          <p:cNvSpPr/>
          <p:nvPr/>
        </p:nvSpPr>
        <p:spPr>
          <a:xfrm>
            <a:off x="274680" y="1050840"/>
            <a:ext cx="859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5" name="Picture 6" descr="R120_G137_B251-200"/>
          <p:cNvPicPr/>
          <p:nvPr/>
        </p:nvPicPr>
        <p:blipFill>
          <a:blip r:embed="rId3"/>
          <a:stretch/>
        </p:blipFill>
        <p:spPr>
          <a:xfrm>
            <a:off x="8280360" y="684360"/>
            <a:ext cx="588960" cy="23652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21"/>
          <p:cNvGrpSpPr/>
          <p:nvPr/>
        </p:nvGrpSpPr>
        <p:grpSpPr>
          <a:xfrm>
            <a:off x="274680" y="3665520"/>
            <a:ext cx="8594640" cy="2233440"/>
            <a:chOff x="274680" y="3665520"/>
            <a:chExt cx="8594640" cy="2233440"/>
          </a:xfrm>
        </p:grpSpPr>
        <p:sp>
          <p:nvSpPr>
            <p:cNvPr id="47" name="Rectangle 22"/>
            <p:cNvSpPr/>
            <p:nvPr/>
          </p:nvSpPr>
          <p:spPr>
            <a:xfrm>
              <a:off x="274680" y="3665520"/>
              <a:ext cx="1356120" cy="459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48" name="Rectangle 23"/>
            <p:cNvSpPr/>
            <p:nvPr/>
          </p:nvSpPr>
          <p:spPr>
            <a:xfrm>
              <a:off x="274680" y="4550040"/>
              <a:ext cx="1356120" cy="46116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49" name="Rectangle 24"/>
            <p:cNvSpPr/>
            <p:nvPr/>
          </p:nvSpPr>
          <p:spPr>
            <a:xfrm>
              <a:off x="274680" y="5439240"/>
              <a:ext cx="425160" cy="459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50" name="Rectangle 25"/>
            <p:cNvSpPr/>
            <p:nvPr/>
          </p:nvSpPr>
          <p:spPr>
            <a:xfrm>
              <a:off x="7512840" y="3665520"/>
              <a:ext cx="1356120" cy="459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51" name="Rectangle 26"/>
            <p:cNvSpPr/>
            <p:nvPr/>
          </p:nvSpPr>
          <p:spPr>
            <a:xfrm>
              <a:off x="7512840" y="4550040"/>
              <a:ext cx="1356120" cy="46116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52" name="Rectangle 27"/>
            <p:cNvSpPr/>
            <p:nvPr/>
          </p:nvSpPr>
          <p:spPr>
            <a:xfrm>
              <a:off x="8444160" y="5439240"/>
              <a:ext cx="425160" cy="459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53" name="Freeform 28"/>
            <p:cNvSpPr/>
            <p:nvPr/>
          </p:nvSpPr>
          <p:spPr>
            <a:xfrm>
              <a:off x="2084400" y="3665520"/>
              <a:ext cx="4523760" cy="459720"/>
            </a:xfrm>
            <a:custGeom>
              <a:avLst/>
              <a:gdLst/>
              <a:ahLst/>
              <a:rect l="l" t="t" r="r" b="b"/>
              <a:pathLst>
                <a:path w="2880" h="288">
                  <a:moveTo>
                    <a:pt x="0" y="0"/>
                  </a:moveTo>
                  <a:lnTo>
                    <a:pt x="0" y="288"/>
                  </a:lnTo>
                  <a:lnTo>
                    <a:pt x="2880" y="288"/>
                  </a:lnTo>
                  <a:lnTo>
                    <a:pt x="2838" y="256"/>
                  </a:lnTo>
                  <a:cubicBezTo>
                    <a:pt x="2838" y="256"/>
                    <a:pt x="2728" y="169"/>
                    <a:pt x="2660" y="134"/>
                  </a:cubicBezTo>
                  <a:cubicBezTo>
                    <a:pt x="2592" y="99"/>
                    <a:pt x="2502" y="67"/>
                    <a:pt x="2430" y="46"/>
                  </a:cubicBezTo>
                  <a:cubicBezTo>
                    <a:pt x="2358" y="25"/>
                    <a:pt x="2283" y="18"/>
                    <a:pt x="2230" y="10"/>
                  </a:cubicBez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54" name="Freeform 29"/>
            <p:cNvSpPr/>
            <p:nvPr/>
          </p:nvSpPr>
          <p:spPr>
            <a:xfrm>
              <a:off x="2084400" y="4550040"/>
              <a:ext cx="5017320" cy="464400"/>
            </a:xfrm>
            <a:custGeom>
              <a:avLst/>
              <a:gdLst/>
              <a:ahLst/>
              <a:rect l="l" t="t" r="r" b="b"/>
              <a:pathLst>
                <a:path w="3194" h="290">
                  <a:moveTo>
                    <a:pt x="0" y="0"/>
                  </a:moveTo>
                  <a:lnTo>
                    <a:pt x="0" y="288"/>
                  </a:lnTo>
                  <a:lnTo>
                    <a:pt x="3194" y="290"/>
                  </a:lnTo>
                  <a:lnTo>
                    <a:pt x="3188" y="256"/>
                  </a:lnTo>
                  <a:cubicBezTo>
                    <a:pt x="3182" y="232"/>
                    <a:pt x="3172" y="183"/>
                    <a:pt x="3160" y="146"/>
                  </a:cubicBezTo>
                  <a:cubicBezTo>
                    <a:pt x="3146" y="103"/>
                    <a:pt x="3128" y="58"/>
                    <a:pt x="3118" y="34"/>
                  </a:cubicBezTo>
                  <a:lnTo>
                    <a:pt x="310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55" name="Freeform 30"/>
            <p:cNvSpPr/>
            <p:nvPr/>
          </p:nvSpPr>
          <p:spPr>
            <a:xfrm>
              <a:off x="5704560" y="5436000"/>
              <a:ext cx="1447560" cy="462960"/>
            </a:xfrm>
            <a:custGeom>
              <a:avLst/>
              <a:gdLst/>
              <a:ahLst/>
              <a:rect l="l" t="t" r="r" b="b"/>
              <a:pathLst>
                <a:path w="3194" h="290">
                  <a:moveTo>
                    <a:pt x="0" y="290"/>
                  </a:moveTo>
                  <a:lnTo>
                    <a:pt x="0" y="2"/>
                  </a:lnTo>
                  <a:lnTo>
                    <a:pt x="3194" y="0"/>
                  </a:lnTo>
                  <a:lnTo>
                    <a:pt x="3176" y="156"/>
                  </a:lnTo>
                  <a:cubicBezTo>
                    <a:pt x="3169" y="198"/>
                    <a:pt x="3162" y="232"/>
                    <a:pt x="3150" y="254"/>
                  </a:cubicBezTo>
                  <a:lnTo>
                    <a:pt x="314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56" name="Rectangle 31"/>
            <p:cNvSpPr/>
            <p:nvPr/>
          </p:nvSpPr>
          <p:spPr>
            <a:xfrm>
              <a:off x="2988720" y="5439240"/>
              <a:ext cx="1356480" cy="459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52280" y="190512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3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3480" indent="-17316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39720" indent="-163440"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39720" indent="-1634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39720" indent="-1634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9640" cy="20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to Import a New RAVE Visualization</a:t>
            </a:r>
            <a:br>
              <a:rPr sz="3500"/>
            </a:br>
            <a:endParaRPr b="0" lang="en-US" sz="35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182520" y="6537240"/>
            <a:ext cx="3668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D22B-4F2B-4C94-8212-6E4518A2D5AA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IBM Cognos Connection, launch IBM Cognos Administration  (Launch &gt; IBM Cognos Admini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ab. Visualizations must be imported into the Library before they will be available to use in Report St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port Visualiz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bar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t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185840" y="2666880"/>
            <a:ext cx="6696000" cy="3962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434880" cy="414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7162920" y="3352680"/>
            <a:ext cx="38088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182520" y="6537240"/>
            <a:ext cx="3668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E149-829B-4466-B889-9D93689622C1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ow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and navigate to a saved RAVE zip file. Click Open.  Repeat to select multiple visualiz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all the visualizations are listed in the dialog, click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4332240" cy="267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2"/>
          <a:stretch/>
        </p:blipFill>
        <p:spPr>
          <a:xfrm>
            <a:off x="4476600" y="3894120"/>
            <a:ext cx="4343400" cy="26701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"/>
          <p:cNvSpPr/>
          <p:nvPr/>
        </p:nvSpPr>
        <p:spPr>
          <a:xfrm>
            <a:off x="838080" y="2819520"/>
            <a:ext cx="533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6324480" y="1447920"/>
            <a:ext cx="457200" cy="15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64360" y="5334120"/>
            <a:ext cx="5173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12:23:29Z</dcterms:created>
  <dc:creator>Kelly, Rob</dc:creator>
  <dc:description/>
  <dc:language>en-US</dc:language>
  <cp:lastModifiedBy>ADMINIBM</cp:lastModifiedBy>
  <cp:lastPrinted>2014-01-20T20:21:57Z</cp:lastPrinted>
  <dcterms:modified xsi:type="dcterms:W3CDTF">2015-04-29T19:47:19Z</dcterms:modified>
  <cp:revision>92</cp:revision>
  <dc:subject/>
  <dc:title>IBM Presentation Template  Full Version</dc:title>
</cp:coreProperties>
</file>