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E16A-24DB-40A9-8072-F0D0D1827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1247-92DB-4665-8F1E-921307E135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2A41-3EC9-453D-9ECC-5571E425F0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4C3B-84E2-4AB3-B060-31C6F2A4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424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24A5-D789-44F1-B5A1-D569587C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36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4EFF-8A85-44C2-B623-E77DB29A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952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40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952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40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1409-A83B-4BC7-AADE-9E1E51CA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82520" y="59328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B8BE-A5AE-40E3-A0D4-59FB954C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036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2280" y="424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036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8952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6400" y="190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228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08952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6400" y="4245120"/>
            <a:ext cx="2796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0FBF-B251-43EE-8729-E5540064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1787-1156-47C6-AC17-E264B34D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6D92-A689-4038-BEAB-D0D6A688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520" y="59328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5A84-4EDC-4B47-AA2D-9A9BB3B5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8D8E-DAE3-4E66-AB1A-7F19068B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3680" y="424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6D7C-3423-4B41-93E3-E4304D97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3680" y="1905120"/>
            <a:ext cx="42390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4245120"/>
            <a:ext cx="8686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5D1C-E4DD-45E9-B11C-547EB391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3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3480" indent="-17316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39720" indent="-16344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"/>
          <p:cNvSpPr/>
          <p:nvPr/>
        </p:nvSpPr>
        <p:spPr>
          <a:xfrm>
            <a:off x="274680" y="549360"/>
            <a:ext cx="859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182160" y="6537240"/>
            <a:ext cx="36684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ABD0-E5DA-44FD-B7F3-1F09947D6AF1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554120" y="6537240"/>
            <a:ext cx="594360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BM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3"/>
          </p:nvPr>
        </p:nvSpPr>
        <p:spPr>
          <a:xfrm>
            <a:off x="549000" y="6537240"/>
            <a:ext cx="100476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D88C-5CC2-4CF7-9659-07AE1BCD45A7}" type="datetime3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R120_G137_B251-200"/>
          <p:cNvPicPr/>
          <p:nvPr/>
        </p:nvPicPr>
        <p:blipFill>
          <a:blip r:embed="rId2"/>
          <a:stretch/>
        </p:blipFill>
        <p:spPr>
          <a:xfrm>
            <a:off x="8280360" y="227160"/>
            <a:ext cx="588960" cy="236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wind turbines with blue sky and mountains in background"/>
          <p:cNvPicPr/>
          <p:nvPr/>
        </p:nvPicPr>
        <p:blipFill>
          <a:blip r:embed="rId2"/>
          <a:srcRect l="0" t="0" r="0" b="818"/>
          <a:stretch/>
        </p:blipFill>
        <p:spPr>
          <a:xfrm>
            <a:off x="274680" y="3665520"/>
            <a:ext cx="8593200" cy="2230560"/>
          </a:xfrm>
          <a:prstGeom prst="rect">
            <a:avLst/>
          </a:prstGeom>
          <a:ln w="0">
            <a:noFill/>
          </a:ln>
        </p:spPr>
      </p:pic>
      <p:sp>
        <p:nvSpPr>
          <p:cNvPr id="44" name="Line 4"/>
          <p:cNvSpPr/>
          <p:nvPr/>
        </p:nvSpPr>
        <p:spPr>
          <a:xfrm>
            <a:off x="274680" y="1050840"/>
            <a:ext cx="859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5" name="Picture 6" descr="R120_G137_B251-200"/>
          <p:cNvPicPr/>
          <p:nvPr/>
        </p:nvPicPr>
        <p:blipFill>
          <a:blip r:embed="rId3"/>
          <a:stretch/>
        </p:blipFill>
        <p:spPr>
          <a:xfrm>
            <a:off x="8280360" y="684360"/>
            <a:ext cx="588960" cy="23652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21"/>
          <p:cNvGrpSpPr/>
          <p:nvPr/>
        </p:nvGrpSpPr>
        <p:grpSpPr>
          <a:xfrm>
            <a:off x="274680" y="3665520"/>
            <a:ext cx="8594640" cy="2233440"/>
            <a:chOff x="274680" y="3665520"/>
            <a:chExt cx="8594640" cy="2233440"/>
          </a:xfrm>
        </p:grpSpPr>
        <p:sp>
          <p:nvSpPr>
            <p:cNvPr id="47" name="Rectangle 22"/>
            <p:cNvSpPr/>
            <p:nvPr/>
          </p:nvSpPr>
          <p:spPr>
            <a:xfrm>
              <a:off x="274680" y="3665520"/>
              <a:ext cx="135612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48" name="Rectangle 23"/>
            <p:cNvSpPr/>
            <p:nvPr/>
          </p:nvSpPr>
          <p:spPr>
            <a:xfrm>
              <a:off x="274680" y="4550040"/>
              <a:ext cx="1356120" cy="46116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49" name="Rectangle 24"/>
            <p:cNvSpPr/>
            <p:nvPr/>
          </p:nvSpPr>
          <p:spPr>
            <a:xfrm>
              <a:off x="274680" y="5439240"/>
              <a:ext cx="42516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0" name="Rectangle 25"/>
            <p:cNvSpPr/>
            <p:nvPr/>
          </p:nvSpPr>
          <p:spPr>
            <a:xfrm>
              <a:off x="7512840" y="3665520"/>
              <a:ext cx="135612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1" name="Rectangle 26"/>
            <p:cNvSpPr/>
            <p:nvPr/>
          </p:nvSpPr>
          <p:spPr>
            <a:xfrm>
              <a:off x="7512840" y="4550040"/>
              <a:ext cx="1356120" cy="46116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2" name="Rectangle 27"/>
            <p:cNvSpPr/>
            <p:nvPr/>
          </p:nvSpPr>
          <p:spPr>
            <a:xfrm>
              <a:off x="8444160" y="5439240"/>
              <a:ext cx="42516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3" name="Freeform 28"/>
            <p:cNvSpPr/>
            <p:nvPr/>
          </p:nvSpPr>
          <p:spPr>
            <a:xfrm>
              <a:off x="2084400" y="3665520"/>
              <a:ext cx="4523760" cy="459720"/>
            </a:xfrm>
            <a:custGeom>
              <a:avLst/>
              <a:gdLst/>
              <a:ahLst/>
              <a:rect l="l" t="t" r="r" b="b"/>
              <a:pathLst>
                <a:path w="2880" h="288">
                  <a:moveTo>
                    <a:pt x="0" y="0"/>
                  </a:moveTo>
                  <a:lnTo>
                    <a:pt x="0" y="288"/>
                  </a:lnTo>
                  <a:lnTo>
                    <a:pt x="2880" y="288"/>
                  </a:lnTo>
                  <a:lnTo>
                    <a:pt x="2838" y="256"/>
                  </a:lnTo>
                  <a:cubicBezTo>
                    <a:pt x="2838" y="256"/>
                    <a:pt x="2728" y="169"/>
                    <a:pt x="2660" y="134"/>
                  </a:cubicBezTo>
                  <a:cubicBezTo>
                    <a:pt x="2592" y="99"/>
                    <a:pt x="2502" y="67"/>
                    <a:pt x="2430" y="46"/>
                  </a:cubicBezTo>
                  <a:cubicBezTo>
                    <a:pt x="2358" y="25"/>
                    <a:pt x="2283" y="18"/>
                    <a:pt x="2230" y="10"/>
                  </a:cubicBez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4" name="Freeform 29"/>
            <p:cNvSpPr/>
            <p:nvPr/>
          </p:nvSpPr>
          <p:spPr>
            <a:xfrm>
              <a:off x="2084400" y="4550040"/>
              <a:ext cx="5017320" cy="46440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0"/>
                  </a:moveTo>
                  <a:lnTo>
                    <a:pt x="0" y="288"/>
                  </a:lnTo>
                  <a:lnTo>
                    <a:pt x="3194" y="290"/>
                  </a:lnTo>
                  <a:lnTo>
                    <a:pt x="3188" y="256"/>
                  </a:lnTo>
                  <a:cubicBezTo>
                    <a:pt x="3182" y="232"/>
                    <a:pt x="3172" y="183"/>
                    <a:pt x="3160" y="146"/>
                  </a:cubicBezTo>
                  <a:cubicBezTo>
                    <a:pt x="3146" y="103"/>
                    <a:pt x="3128" y="58"/>
                    <a:pt x="3118" y="34"/>
                  </a:cubicBezTo>
                  <a:lnTo>
                    <a:pt x="310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5" name="Freeform 30"/>
            <p:cNvSpPr/>
            <p:nvPr/>
          </p:nvSpPr>
          <p:spPr>
            <a:xfrm>
              <a:off x="5704560" y="5436000"/>
              <a:ext cx="1447560" cy="46296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290"/>
                  </a:moveTo>
                  <a:lnTo>
                    <a:pt x="0" y="2"/>
                  </a:lnTo>
                  <a:lnTo>
                    <a:pt x="3194" y="0"/>
                  </a:lnTo>
                  <a:lnTo>
                    <a:pt x="3176" y="156"/>
                  </a:lnTo>
                  <a:cubicBezTo>
                    <a:pt x="3169" y="198"/>
                    <a:pt x="3162" y="232"/>
                    <a:pt x="3150" y="254"/>
                  </a:cubicBezTo>
                  <a:lnTo>
                    <a:pt x="314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  <p:sp>
          <p:nvSpPr>
            <p:cNvPr id="56" name="Rectangle 31"/>
            <p:cNvSpPr/>
            <p:nvPr/>
          </p:nvSpPr>
          <p:spPr>
            <a:xfrm>
              <a:off x="2988720" y="5439240"/>
              <a:ext cx="1356480" cy="459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7889fb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52280" y="1905120"/>
            <a:ext cx="8686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1638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3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3480" indent="-17316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39720" indent="-16344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964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to Import a New RAVE Visualization</a:t>
            </a:r>
            <a:br>
              <a:rPr sz="3500"/>
            </a:br>
            <a:endParaRPr b="0" lang="en-US" sz="35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182520" y="6537240"/>
            <a:ext cx="3668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FA06-E9DB-4EBC-9F38-1906E91984D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IBM Cognos Connection, launch IBM Cognos Administration  (Launch &gt; IBM Cognos Admini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ab. Visualizations must be imported into the Library before they will be available to use in Report 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port Visualiz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ba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t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185840" y="2666880"/>
            <a:ext cx="6696000" cy="3962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434880" cy="414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7162920" y="3352680"/>
            <a:ext cx="3808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182520" y="6537240"/>
            <a:ext cx="3668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0BCD-0D71-476D-859A-DD39CDAFD47D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ow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and navigate to a saved RAVE zip file. Click Open.  Repeat to select multiple visualiz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all the visualizations are listed in the dialog, click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4332240" cy="267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4476600" y="3894120"/>
            <a:ext cx="4343400" cy="26701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838080" y="2819520"/>
            <a:ext cx="533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6324480" y="1447920"/>
            <a:ext cx="457200" cy="15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64360" y="5334120"/>
            <a:ext cx="5173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2:23:29Z</dcterms:created>
  <dc:creator>Kelly, Rob</dc:creator>
  <dc:description/>
  <dc:language>en-US</dc:language>
  <cp:lastModifiedBy>ADMINIBM</cp:lastModifiedBy>
  <cp:lastPrinted>2014-01-20T20:21:57Z</cp:lastPrinted>
  <dcterms:modified xsi:type="dcterms:W3CDTF">2015-04-29T19:47:19Z</dcterms:modified>
  <cp:revision>92</cp:revision>
  <dc:subject/>
  <dc:title>IBM Presentation Template  Full Version</dc:title>
</cp:coreProperties>
</file>