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AEA-9D57-4CAD-9BC0-F5B44552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75B-F06B-42C3-8235-C60A9F04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773-436B-4F8A-B925-6FA51420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789-FE54-45FB-B9CD-6003FED6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4B4-2482-4514-AD04-BA1C40B2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68D-FEED-48CE-9C2B-A8910BF4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405D-BAD1-4F69-8032-0334C80C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4AF-5AB3-41C5-950B-80D9E1E5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E87E-2E80-4F44-B198-33365870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7582-38E5-4612-BA40-D5C97110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4F2-E93A-400A-BE5A-C6C2AD5C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B0F1-AFEA-48B5-BD74-9EA20730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FAD7-9879-4756-A6A8-FE880E82F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co App – Main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17704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5400" y="65160"/>
            <a:ext cx="4572000" cy="3144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14600" y="2273400"/>
            <a:ext cx="6559560" cy="4527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7440" y="837720"/>
            <a:ext cx="3048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ill-Down Scre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3:15:03Z</dcterms:created>
  <dc:creator>Steve Macko</dc:creator>
  <dc:description/>
  <dc:language>en-US</dc:language>
  <cp:lastModifiedBy>Steve Macko</cp:lastModifiedBy>
  <dcterms:modified xsi:type="dcterms:W3CDTF">2011-09-15T20:11:51Z</dcterms:modified>
  <cp:revision>3</cp:revision>
  <dc:subject/>
  <dc:title>Embedded Content Team Status Report</dc:title>
</cp:coreProperties>
</file>