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22ED5-3D4F-4E58-B545-43559CAB7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BE0C0-5A49-4BEE-A7AD-3466AC8F5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0769A-A745-42EF-9195-3F3AB74D5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2764D-C9AA-4BBE-9238-6D517DA74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0BD63-8BBB-418B-A2E2-E1E59FB42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C0643-2FFE-40DC-A9B4-E109A3536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06970-3425-4A4A-A10D-489043CA4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33E09-3D35-4DAC-90EB-B63C82F47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1EDC3-C09D-4A83-93F7-0EBEC4123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4C163-08DA-492E-9D7E-C1EA19CF0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81B68-F458-40EB-BD66-B5B3DDF52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B0C0B-79CD-4F9F-BDD2-92D6D7A2A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A5854-AAD8-492B-8B67-5BBB624098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lco App – Main Scre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533520" y="914400"/>
            <a:ext cx="8177040" cy="56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95400" y="65160"/>
            <a:ext cx="4572000" cy="3144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514600" y="2273400"/>
            <a:ext cx="6559560" cy="452736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257440" y="837720"/>
            <a:ext cx="3048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ill-Down Scree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4T13:15:03Z</dcterms:created>
  <dc:creator>Steve Macko</dc:creator>
  <dc:description/>
  <dc:language>en-US</dc:language>
  <cp:lastModifiedBy>Steve Macko</cp:lastModifiedBy>
  <dcterms:modified xsi:type="dcterms:W3CDTF">2011-09-15T20:11:51Z</dcterms:modified>
  <cp:revision>3</cp:revision>
  <dc:subject/>
  <dc:title>Embedded Content Team Status Report</dc:title>
</cp:coreProperties>
</file>