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9B8-787D-4115-803A-3D480D9C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25B-D7A0-4A87-99EA-5FF0AA97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D2A-E1EC-43CE-8867-3BE305BC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7EA-D1B2-4BD6-9391-092EFB55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436-D323-46AA-B93F-2B25E4AE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984-1EEB-4C02-B4A8-F3CDAA16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5AE-9607-41F1-A0BE-EC3DF789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4C8-27A6-4C4E-A62A-D9CA5199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633-82C3-4170-901D-292252A9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065-598F-4437-BCF3-D16871F7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7A6-E389-4A39-8FC0-1CC2DE51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CE3-6527-4608-887E-DE4FA03A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C4DB8-7487-4662-84E8-DE6FEDD234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2:54:00Z</dcterms:created>
  <dc:creator/>
  <dc:description/>
  <cp:keywords/>
  <dc:language>en-US</dc:language>
  <cp:lastModifiedBy>Steve Macko</cp:lastModifiedBy>
  <dcterms:modified xsi:type="dcterms:W3CDTF">2012-01-26T15:39:11Z</dcterms:modified>
  <cp:revision>723</cp:revision>
  <dc:subject/>
  <dc:title>IBM IOD 2010</dc:title>
</cp:coreProperties>
</file>