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D93D-B415-412B-B1A7-5044219B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F9C-425A-4336-9B61-B30D587A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F67-FD63-4FBF-AA1C-9741B687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D82-6998-4898-B0C4-D8589DAF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9AE-D608-4F0D-A3D7-4D2F12CA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002-8275-4D19-9D51-521F2FAB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708-DDB5-44AF-B532-F8339F98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398-8524-42DC-B2EB-60EAE215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F778-31A8-4A3B-AE6B-969C36A5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450A-FD72-448F-91AD-F1CE8DEA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846-2230-4374-804C-C8DA094F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97B-51BC-4C19-AD10-966CE9A2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F9C4B-71F7-45C3-96A8-1DD769B29A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2:54:00Z</dcterms:created>
  <dc:creator/>
  <dc:description/>
  <cp:keywords/>
  <dc:language>en-US</dc:language>
  <cp:lastModifiedBy>Steve Macko</cp:lastModifiedBy>
  <dcterms:modified xsi:type="dcterms:W3CDTF">2012-01-26T15:39:11Z</dcterms:modified>
  <cp:revision>723</cp:revision>
  <dc:subject/>
  <dc:title>IBM IOD 2010</dc:title>
</cp:coreProperties>
</file>