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338-71BF-468F-87CC-76DF78B8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57B-4FB7-4B64-B92C-1AC9FC16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0CF-D0F1-4DE3-AA08-49B08281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B71-F609-44BC-993D-048DEE2B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85A-423F-4CAE-B641-1DEE4B25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C44-B5D7-4434-B7A2-B1B1659E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EEE-0414-4AEB-BB41-5E6913F0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422-BF65-4B07-94FC-7CE73019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CC4-2450-4051-8E3E-CC9B9940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DFA-D4C0-45C9-BEB3-BF2745DC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BBC-4AA6-4605-AF4B-8CCA7DF3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DF5-5C41-4312-93C0-5239A399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CE66-FA06-4BD1-AD4D-A5FE1A2EE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9:35:31Z</dcterms:created>
  <dc:creator>Steve Macko</dc:creator>
  <dc:description/>
  <dc:language>en-US</dc:language>
  <cp:lastModifiedBy>Steve Macko</cp:lastModifiedBy>
  <dcterms:modified xsi:type="dcterms:W3CDTF">2012-01-24T15:17:37Z</dcterms:modified>
  <cp:revision>9</cp:revision>
  <dc:subject/>
  <dc:title>Slide 1</dc:title>
</cp:coreProperties>
</file>