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B2A8-7BAB-478A-9C80-2C0A88E9E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ABCF-67BA-4F54-BC1D-B4325461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EF05-7E98-44BB-8568-319AEF832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99BE-A810-4AB1-8983-6874CB4CA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391F-4297-4E78-B4AD-E22B3400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BDBA-97F8-4916-AB3D-5877C85F7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14CE-8F3F-476B-BE9E-5A8A7D20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CCA0-37C1-44F9-9DB8-C2347AFE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F492-5579-441A-A644-A3980DCB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713F-4C2A-4798-AA65-AA11B92C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C580-2869-4A64-AAA7-37A7D7A6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D4A2-2048-497A-BEC1-B3E1BA2C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C949-2061-47DE-9F5D-E765F8596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69960" y="503280"/>
            <a:ext cx="780408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69960" y="503280"/>
            <a:ext cx="780408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9960" y="503280"/>
            <a:ext cx="780408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69960" y="503280"/>
            <a:ext cx="780408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9:35:31Z</dcterms:created>
  <dc:creator>Steve Macko</dc:creator>
  <dc:description/>
  <dc:language>en-US</dc:language>
  <cp:lastModifiedBy>Steve Macko</cp:lastModifiedBy>
  <dcterms:modified xsi:type="dcterms:W3CDTF">2012-01-24T15:17:37Z</dcterms:modified>
  <cp:revision>9</cp:revision>
  <dc:subject/>
  <dc:title>Slide 1</dc:title>
</cp:coreProperties>
</file>