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191-343E-4E10-97E6-E997152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199-6851-4AB1-A0BF-589F376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998-6D07-4D36-A11A-0EB99160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52B-985D-4B43-9CFD-DF71AEB7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713-492A-44FD-B6A5-F3E3245D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8BF-F352-48AC-930D-EED6080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CF0-D3E2-44A9-A567-1E077761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0F2-A7AB-45A3-86EB-88985EE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17E-34CB-483B-BA87-07715177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981-0344-459A-8EAA-B427E6F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5EF-1127-4D49-958F-636537B8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067-B6A0-4CE8-97B1-9CBE25A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910-6FD2-4F70-B272-D817F118A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9:35:31Z</dcterms:created>
  <dc:creator>Steve Macko</dc:creator>
  <dc:description/>
  <dc:language>en-US</dc:language>
  <cp:lastModifiedBy>Angel, Reg (R.)</cp:lastModifiedBy>
  <dcterms:modified xsi:type="dcterms:W3CDTF">2012-11-04T20:42:23Z</dcterms:modified>
  <cp:revision>11</cp:revision>
  <dc:subject/>
  <dc:title>Slide 1</dc:title>
</cp:coreProperties>
</file>