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444-E70F-482D-A9D6-DCA5F3E9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D0D-4222-4913-A4C3-15E68816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B0D-98A9-49CE-8201-9AF77F2A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F27-DDD3-42F1-9451-A59263B8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736-0123-41C1-8801-58CB1816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242-5F46-415F-A22D-A0AE255F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6EB-A049-4F51-9DF3-A3B82AC1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E0C-AF3A-42E1-90E9-DD77E536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53C-F74A-44A1-AA6C-964171A0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E04-A97C-4821-8B56-D8257A9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0C3-532C-40E2-8D05-2C41B1F5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4EF-74B3-4A23-BF72-03C3B35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1C36-5138-4A9A-8D30-27EBC1A15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9:35:31Z</dcterms:created>
  <dc:creator>Steve Macko</dc:creator>
  <dc:description/>
  <dc:language>en-US</dc:language>
  <cp:lastModifiedBy>Angel, Reg (R.)</cp:lastModifiedBy>
  <dcterms:modified xsi:type="dcterms:W3CDTF">2012-11-04T20:42:23Z</dcterms:modified>
  <cp:revision>11</cp:revision>
  <dc:subject/>
  <dc:title>Slide 1</dc:title>
</cp:coreProperties>
</file>