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F80-E037-4DD9-9D15-D5BDDB69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3B6-053B-49E2-A6B4-34C41FA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C98-2261-4880-A23D-7A06BDC4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CAD-76A9-42E7-A76B-61324A00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383-AD40-417E-B1A4-5614D823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1F6-8D41-481D-8A3A-93A182A6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053-C9A7-4379-96E4-DDFD820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68E-8092-4D7F-A48C-1606D0B1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58F-4D40-4EC2-916D-7032118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4E4-1B2E-4952-BA7B-0F716F4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462-D095-4A27-8AA8-BC73E7B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68E-A4D3-46FB-AC3E-7216DAE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1DD-EE62-40EE-8C21-9C0C253E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080" y="73080"/>
            <a:ext cx="877572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49:12Z</dcterms:created>
  <dc:creator>Steve Macko</dc:creator>
  <dc:description/>
  <dc:language>en-US</dc:language>
  <cp:lastModifiedBy>Steve Macko</cp:lastModifiedBy>
  <dcterms:modified xsi:type="dcterms:W3CDTF">2012-05-09T15:51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