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74D-C757-4A97-8BF3-B49107C0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4BA-135C-4CAD-82C5-1704B88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AE6-01A9-4234-AD4D-5B273155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B70-907A-4B8A-8D08-4611B262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A8B-76EA-4EB7-AF1C-B79736C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A83-1B68-4FD4-9CCA-4EB430A0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9FF-64DE-4134-B1D3-43FA5E7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D4D-D622-4532-8E1D-11C64E58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E5E-A135-4A3E-ABD5-36B0442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29F-977E-4F34-B856-F3F431C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879-1546-4F49-9747-82F2291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6FD-B2A9-47DD-A2B4-B3C16DAE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47A-AC3E-4319-957C-C1BAF191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49:12Z</dcterms:created>
  <dc:creator>Steve Macko</dc:creator>
  <dc:description/>
  <dc:language>en-US</dc:language>
  <cp:lastModifiedBy>Steve Macko</cp:lastModifiedBy>
  <dcterms:modified xsi:type="dcterms:W3CDTF">2012-05-09T15:51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