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7D98-88C6-4EB2-87DD-429615A23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1815-84C0-4C1A-9D15-101EC4535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0518-33CB-4B52-8018-B129385DB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1433-715B-4188-AB81-8A392C5D3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8DC7-4004-4AB2-9836-BB5042325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58C7-A051-416B-B25E-8396938C9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F9EC-F429-412C-BF92-922A6ADBF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2F66-7BD8-45DA-B5F9-65060701A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7B65-72CE-4EFF-AC00-784156922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C4F2-3C29-43B2-A95B-B4460EA09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3B97-DF24-4E61-A731-155D7690E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1E68-53D8-4C53-BDD4-AB5C01E00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2CBC5-0BCD-435C-9DF4-A7B0FF4740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15:28:01Z</dcterms:created>
  <dc:creator>Steve Macko</dc:creator>
  <dc:description/>
  <dc:language>en-US</dc:language>
  <cp:lastModifiedBy>Angel, Reg (R.)</cp:lastModifiedBy>
  <dcterms:modified xsi:type="dcterms:W3CDTF">2012-09-27T21:19:07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