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72C-29A9-402C-9080-559F5510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6B0-89C5-4E61-89A7-4FC228BF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97C-7A7C-4BEC-9E84-59182619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875-2629-4C8A-B109-AEB486EF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84A-150B-4996-BC49-790D3533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910-241F-4E69-A650-93A8023A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D93-FFB8-4315-BA2D-87136D5C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609-C857-4775-97D6-3EA0958E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94C-E59C-422B-ACF0-7077A995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CA7-4113-410F-BE15-EE301561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7FF-F82F-46ED-9631-AFCC7B99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A36-D697-4313-A2FB-7F3B150A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F539-C7EE-4DF8-95D0-89C89C473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17:09:09Z</dcterms:created>
  <dc:creator>angelr</dc:creator>
  <dc:description/>
  <dc:language>en-US</dc:language>
  <cp:lastModifiedBy>Angel, Reg (R.)</cp:lastModifiedBy>
  <dcterms:modified xsi:type="dcterms:W3CDTF">2012-10-16T15:00:51Z</dcterms:modified>
  <cp:revision>9</cp:revision>
  <dc:subject/>
  <dc:title>Slide 1</dc:title>
</cp:coreProperties>
</file>