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AD8-A86F-464E-B9AF-9728AABD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0A4-4821-4A11-A613-D842ECA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C4F-7B24-4610-88B3-AC2892FE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A31-D371-4EF3-A044-608DF1F4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304-1D17-45BD-9D92-6B4A89EC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542-C930-4E6F-BC0B-E4708048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E7E-BF37-4946-9672-C8FB2EEA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EAA-383B-496E-9677-D9D7F253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40A-6C52-44BB-9F9C-1ABA4359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84D-4EA1-4996-A70C-8D69A9BC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8A8-26A9-4A96-8892-0409E9F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425-7964-4118-B685-B8B7A4E8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CF5C-B78E-4951-9B77-8E10D292C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7:09:09Z</dcterms:created>
  <dc:creator>angelr</dc:creator>
  <dc:description/>
  <dc:language>en-US</dc:language>
  <cp:lastModifiedBy>Angel, Reg (R.)</cp:lastModifiedBy>
  <dcterms:modified xsi:type="dcterms:W3CDTF">2012-10-16T15:00:51Z</dcterms:modified>
  <cp:revision>9</cp:revision>
  <dc:subject/>
  <dc:title>Slide 1</dc:title>
</cp:coreProperties>
</file>