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E49-1ED3-402E-8989-A470649D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BDA-4DF7-40EE-813B-379C26D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049-83B5-4250-82E7-1FA3783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3F1-1ED6-4754-B8F9-B5472518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7FF-1128-4001-B21B-9B01E8F7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504-7430-4105-AA69-72BAB9D6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2D4-5023-4494-909C-8391E3A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B46-B3AD-4DB6-B7AA-649DAB6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088-44B4-444C-A9BB-F2A9CCE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093-0C53-44DA-B588-CF481AA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CD6-B50E-4C2C-84B5-EB378C8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C71-CD36-4530-BE4E-BF68B81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BEF1-2174-46C0-883A-2815EE43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r</cp:lastModifiedBy>
  <dcterms:modified xsi:type="dcterms:W3CDTF">2012-08-21T17:39:58Z</dcterms:modified>
  <cp:revision>8</cp:revision>
  <dc:subject/>
  <dc:title>Slide 1</dc:title>
</cp:coreProperties>
</file>