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61B-3633-4F7C-9956-FD2E4559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BFD-F678-4399-B293-BDB6CC9F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1CA-1282-4CF7-9981-3998D106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8C8-7DAB-497C-B03C-454EEDBC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A3F-9929-4068-962B-DC7C4C85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582-924A-4804-89F6-A91782AD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F4D-3AE8-4D5D-B5C2-23FCC6CC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1D5-2B0E-4068-AB45-5F2A069A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33E-7726-465D-85C2-A22EE913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F74-8DC2-4598-A217-C885B99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42E-E868-479A-9852-A550ACEE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20F-E5C9-48B4-AAC0-D9ED39B6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A5BE-A13A-43F7-B527-CD7FD1FC9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7:09:09Z</dcterms:created>
  <dc:creator>angelr</dc:creator>
  <dc:description/>
  <dc:language>en-US</dc:language>
  <cp:lastModifiedBy>angelr</cp:lastModifiedBy>
  <dcterms:modified xsi:type="dcterms:W3CDTF">2012-08-21T17:39:58Z</dcterms:modified>
  <cp:revision>8</cp:revision>
  <dc:subject/>
  <dc:title>Slide 1</dc:title>
</cp:coreProperties>
</file>