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2AF-A3F7-4369-86C0-34858D0A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3D7-A36B-41E1-A22E-6EA9FA48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846-909B-4C30-B724-1BAA31BC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356-804F-466E-B53B-601570CA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9E7-9330-40A7-96E5-6E449B43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BA9-BE59-4AA6-B471-5569A28A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B1E-5C0B-43FF-AAEA-0313DE49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A2F-EE83-4F82-A10B-7D170ADF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9B5-6923-4C60-BF10-050B9BF0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A1E-0373-44B4-8593-01B6BFC2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E95-112F-4C0F-BBAC-DA5DE605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A2F-4F64-4293-A814-C80C139C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C1F9-65D7-44A7-B8EE-406B54108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07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3240" y="304920"/>
            <a:ext cx="91407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-9360" y="304920"/>
            <a:ext cx="91533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8:01Z</dcterms:created>
  <dc:creator>Steve Macko</dc:creator>
  <dc:description/>
  <dc:language>en-US</dc:language>
  <cp:lastModifiedBy>Angel, Reg (R.)</cp:lastModifiedBy>
  <dcterms:modified xsi:type="dcterms:W3CDTF">2012-09-28T15:24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