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A08-FF14-46DD-BB18-824734FA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41C-A4E2-4DEF-88C7-BF30C272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B9B-08A0-415A-BF3C-108AA441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6A9-F157-46CB-AA1D-C42458F8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826-D69A-4744-8F1E-A9A0785F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9EB-244C-4E04-A48A-E5ADA3DA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0BE-7532-488A-8DCC-2B8A4DA8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C7C-845D-46C5-B67C-6E4EBD54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45C-A9F5-4C32-AD67-EE86F0D9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D0D-EEC0-46C0-98FD-3FACDAE0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803-A6D1-4370-8EE7-5AC7351C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FF3-DF04-4037-897A-77D3A31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BC6D-B351-4F3E-A452-D9606B447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07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3240" y="304920"/>
            <a:ext cx="91407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-9360" y="304920"/>
            <a:ext cx="91533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8:01Z</dcterms:created>
  <dc:creator>Steve Macko</dc:creator>
  <dc:description/>
  <dc:language>en-US</dc:language>
  <cp:lastModifiedBy>Angel, Reg (R.)</cp:lastModifiedBy>
  <dcterms:modified xsi:type="dcterms:W3CDTF">2012-09-28T15:24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