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0ED-66FB-49F9-AD7B-B4F65DB6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54D-7FB9-41D9-84DB-DAB74A9A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B83-ADBF-4986-B9FF-36F55DCD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081-050D-456B-926C-CA4B2483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225-B652-4771-87D0-AABCBCB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43E-38A6-4CF3-8865-A60EED2D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C7F-0253-438B-B574-7FAF933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FD8-9AC7-4821-88AE-AECB99FE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039-6866-45C5-A08E-A9BB722A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C0C-C971-40E1-877E-31530C5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75A-4B27-4F08-A93F-7489801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219-5A04-477C-937E-6930583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81F-7389-40A2-8A9D-A7C7CB4FE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-4680" y="304920"/>
            <a:ext cx="914868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Angel, Reg (R.)</cp:lastModifiedBy>
  <dcterms:modified xsi:type="dcterms:W3CDTF">2012-09-28T15:52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