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4C4A-6270-4F18-962B-C242BB11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2404-B895-436A-A496-18C5D9F0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0373-2E83-4012-A89C-2C912C1F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E369-A201-4FEB-B9A5-3A476CDF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6B20-DB8E-446F-AB55-28B3C8D1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EC31-C134-45BF-8B3B-5F75FA4D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AB4F-26C6-4ABD-BC4F-D9A5F7D6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F6D1-B8CC-4595-9845-3A1841D4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755D-BB63-4A14-B56B-879C8B64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B636-39D4-4457-B904-18B9ECA5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5357-4221-41A7-A6BF-1EA24424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6BC0-86ED-4220-B7C6-99E71145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463B-2DC7-4669-8321-D096DF9CE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-4680" y="304920"/>
            <a:ext cx="9148680" cy="62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306360"/>
            <a:ext cx="91440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8:01Z</dcterms:created>
  <dc:creator>Steve Macko</dc:creator>
  <dc:description/>
  <dc:language>en-US</dc:language>
  <cp:lastModifiedBy>Angel, Reg (R.)</cp:lastModifiedBy>
  <dcterms:modified xsi:type="dcterms:W3CDTF">2012-09-28T15:52:4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