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BD5-7A42-4939-8A00-31E2826B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DC5-C9EC-4AA2-AB16-57A77B4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898-5712-4D79-BDDD-B354F466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835-30C2-4F73-A1BD-3EBE122F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CC7-F437-4322-A0C9-48DEF58E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EBC-EB3C-4E5E-B0FE-2C8DC733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672-2584-4B5E-89E3-B81F2FF7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286-B470-4040-9ED9-EC3D8C0C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975-1030-4239-9485-7CFEC187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79D-C548-4355-832E-ED037388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D5F-7503-4A1F-855A-D4F55BFE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2AD-7EAF-40FF-8618-141A0D70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7E36-6471-4D1B-9F24-D05AF4C8E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81208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627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30:59Z</dcterms:created>
  <dc:creator>Steve Macko</dc:creator>
  <dc:description/>
  <dc:language>en-US</dc:language>
  <cp:lastModifiedBy>Steve Macko</cp:lastModifiedBy>
  <dcterms:modified xsi:type="dcterms:W3CDTF">2012-05-09T15:47:2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