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C65A-7D19-42E6-B5EC-1FF2D7FE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7FCA-1E84-4EE0-AD02-854CA10E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58B8-A160-47DC-82B8-9B38B401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EF57-360E-432D-8DBF-2EC035F7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8DE-89CE-425C-9C8B-1EE14790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04E6-CA43-4C92-A22E-FCCD3ED5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B3A-9349-486B-80C7-FF36FF74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E895-9300-4947-A8FF-B1BA5C3A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0132-5A5B-4D60-8457-7C6D070E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2A1-A8F7-42B7-BFFF-13778490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BBE0-5623-46D0-87C3-1F1779F3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8EC8-F8A8-467D-9D33-3779A35D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0472-437A-4FFB-80F3-2EB602BCB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080" y="73080"/>
            <a:ext cx="881208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4080" y="73080"/>
            <a:ext cx="876276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30:59Z</dcterms:created>
  <dc:creator>Steve Macko</dc:creator>
  <dc:description/>
  <dc:language>en-US</dc:language>
  <cp:lastModifiedBy>Steve Macko</cp:lastModifiedBy>
  <dcterms:modified xsi:type="dcterms:W3CDTF">2012-05-09T15:47:2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