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8A0-5FE4-49D2-ABEB-E66DC70B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550-4B12-4773-BEEF-3BC97E19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384-CE2C-41E4-89B6-9F6CAFB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88B-6AF0-4D0E-96F7-7739DA63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1B2-0346-4C43-8C7F-45FA283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37B-DDC3-43A4-BE01-E6BFDEE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148-4914-462F-B52C-82A6FC95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CD9-FF13-4A94-8CE1-10E678B5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6A2-C454-43D1-B8EB-B6705C6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CC1-893E-4258-9054-35A6684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EA2-AFF6-495F-BA8E-5EC1BC1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A3C-F40F-4874-9B87-EBA3C20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9436-EC68-4009-8888-E3FEF665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8:01Z</dcterms:created>
  <dc:creator>Steve Macko</dc:creator>
  <dc:description/>
  <dc:language>en-US</dc:language>
  <cp:lastModifiedBy>Steve Macko</cp:lastModifiedBy>
  <dcterms:modified xsi:type="dcterms:W3CDTF">2012-05-09T15:47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