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361-6822-432A-81BD-50411722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FE7-3E63-436C-9317-24F2BC2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16B-FC6F-455C-BF57-05F866B8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D8D-0AC5-4764-A407-866EC1B0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529-1E04-4EE2-B0F8-5B2ED36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881-02C8-4D37-9BDF-448B4C7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DCF-B370-4B33-985C-66C3BF5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939-609C-4EEC-9A58-FB91047C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444-7BFC-41E2-BDB1-9A9A6449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2A6-1425-4D97-B9D7-FF0C487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FB0-A814-4807-8A9B-54CDEB5E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285-3170-411F-A76B-D0E30E6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B9E-4907-40B9-801E-729049DCD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1055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8:44:38Z</dcterms:created>
  <dc:creator>thorntom</dc:creator>
  <dc:description/>
  <dc:language>en-US</dc:language>
  <cp:lastModifiedBy>thorntom</cp:lastModifiedBy>
  <dcterms:modified xsi:type="dcterms:W3CDTF">2013-06-11T18:48:51Z</dcterms:modified>
  <cp:revision>1</cp:revision>
  <dc:subject/>
  <dc:title>Slide 1</dc:title>
</cp:coreProperties>
</file>