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B4F-F0F0-4F32-82BC-EF3BBC9E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073-8A70-4141-B788-3548BE6A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4D45-87E4-446C-A73A-CB1A3519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E97C-B4D7-452E-9064-A5818381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2BF-30FE-4B48-8A88-9320B83A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5B3B-9CB6-4447-8623-45D0C498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044D-C728-4CCC-8178-990D4A79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453-B68D-4AA9-96AC-B9BA4859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A062-7192-4227-9066-E2DB02CD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B4FC-A9CD-470D-8BDE-2EE09F42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3B45-6D54-4922-9B39-2994C855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816-2881-412A-9D8F-DBC1B31A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A563-4247-494D-BDC9-743070E9E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510552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1T18:44:38Z</dcterms:created>
  <dc:creator>thorntom</dc:creator>
  <dc:description/>
  <dc:language>en-US</dc:language>
  <cp:lastModifiedBy>thorntom</cp:lastModifiedBy>
  <dcterms:modified xsi:type="dcterms:W3CDTF">2013-06-11T18:48:51Z</dcterms:modified>
  <cp:revision>1</cp:revision>
  <dc:subject/>
  <dc:title>Slide 1</dc:title>
</cp:coreProperties>
</file>