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074-97A6-4C1E-9A21-0F183385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938-7ACD-4DCA-9D54-D89FA019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7F4-E316-43FB-AD22-0B1D123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69B-DAF5-4CB5-AE18-1E6CAC91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0BF-B08C-4607-889C-4103C34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011-81CE-436C-A81E-F7DC3460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46D-5A20-4236-9506-7F3726B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FF9-B530-49D5-9B1C-F389060B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B74-46A5-4671-BAB2-102C361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7B9-B938-4A08-8322-9077C09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08B-89EC-4B35-B24C-C76C574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5B4-90AA-4B27-A4BE-CED8D68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D988-164B-46EB-9426-663F0F45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, Reg (R.)</cp:lastModifiedBy>
  <dcterms:modified xsi:type="dcterms:W3CDTF">2012-10-16T14:59:06Z</dcterms:modified>
  <cp:revision>9</cp:revision>
  <dc:subject/>
  <dc:title>Slide 1</dc:title>
</cp:coreProperties>
</file>