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DC4-D591-4C4F-90B1-4195FEF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50E-CA55-43F7-8EEA-3BF476E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E9C-BA15-4808-BD3B-0C3DF9BE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81B-3216-441A-A26C-BFBD14FE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CE3-B4D6-401F-BBAD-8DB6B72C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E9F-188C-4B5F-9541-BD05AE21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867-9FA9-4201-8CCD-8D17C31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58D-4A0C-4D36-8341-B92DDC6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633-E0FB-4DC6-8E86-B0286F3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4AB-F350-4C76-A926-E181B66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2CE-BD4B-4C79-B0E0-529B894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B4C-B91D-42EC-BFB4-CE929F5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AE1A-770E-4C90-97E6-0973369A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89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09:09Z</dcterms:created>
  <dc:creator>angelr</dc:creator>
  <dc:description/>
  <dc:language>en-US</dc:language>
  <cp:lastModifiedBy>Angel, Reg (R.)</cp:lastModifiedBy>
  <dcterms:modified xsi:type="dcterms:W3CDTF">2012-10-16T14:59:06Z</dcterms:modified>
  <cp:revision>9</cp:revision>
  <dc:subject/>
  <dc:title>Slide 1</dc:title>
</cp:coreProperties>
</file>