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81C1-C8BC-48FF-A7D9-5806544C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1CE3-00F4-490F-82A7-253F157B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4C6-D477-4DE1-B0A4-0882B272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B23-044F-46A4-81A6-D417988F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2C9-58EC-472A-993D-3D0BEAC6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ED10-06FA-4DC9-9550-4FD1A410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E9E-B15E-4FA5-8D86-4CFB12A1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AF2A-57E2-4B66-85D9-3933B231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1AD-8BE1-4DB7-B60A-B8844AEF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A3DE-FDE5-4571-9724-6BF08886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8CD8-B324-478F-8234-C93AC08B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B62B-57F8-4D42-A6E1-C0569A59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2FD4-CE52-4E52-B0C6-12FCBF36F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4572000"/>
            <a:ext cx="990360" cy="1295280"/>
          </a:xfrm>
          <a:prstGeom prst="wedgeRoundRectCallout">
            <a:avLst>
              <a:gd name="adj1" fmla="val 17467"/>
              <a:gd name="adj2" fmla="val -72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3 main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76320"/>
            <a:ext cx="990720" cy="457200"/>
          </a:xfrm>
          <a:prstGeom prst="wedgeRoundRectCallout">
            <a:avLst>
              <a:gd name="adj1" fmla="val -31250"/>
              <a:gd name="adj2" fmla="val 143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52280"/>
            <a:ext cx="990720" cy="457200"/>
          </a:xfrm>
          <a:prstGeom prst="wedgeRoundRectCallout">
            <a:avLst>
              <a:gd name="adj1" fmla="val 38300"/>
              <a:gd name="adj2" fmla="val 166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66960" y="90360"/>
            <a:ext cx="15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urly”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67320" y="903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ily”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9:35:31Z</dcterms:created>
  <dc:creator>Steve Macko</dc:creator>
  <dc:description/>
  <dc:language>en-US</dc:language>
  <cp:lastModifiedBy>mackos</cp:lastModifiedBy>
  <dcterms:modified xsi:type="dcterms:W3CDTF">2012-08-03T17:36:24Z</dcterms:modified>
  <cp:revision>10</cp:revision>
  <dc:subject/>
  <dc:title>Slide 1</dc:title>
</cp:coreProperties>
</file>