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F8C-F454-455C-9700-46123ED6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935-925F-457E-874A-6E0A810A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976-DC07-4EBB-9CA8-E0F2B050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507-0936-4C63-B6DE-A8F000F1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324-CA2A-4835-AE3F-8349D364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9F7-EB0D-4B44-9A0E-BB11DDB8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D0D-D7B7-4C34-8A19-852FD1BF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E1C-3F77-43B2-BFCF-9B85F99C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3C3-CCF9-4C22-9354-7639B70E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629-9EAF-4010-8BE7-7C8249AD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5E4-33DB-46CF-8225-A837EE6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F09-3166-451A-B139-14EA1E67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3291-9E00-44E9-9A54-CA9F5AA82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4572000"/>
            <a:ext cx="990360" cy="1295280"/>
          </a:xfrm>
          <a:prstGeom prst="wedgeRoundRectCallout">
            <a:avLst>
              <a:gd name="adj1" fmla="val 17467"/>
              <a:gd name="adj2" fmla="val -72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3 main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76320"/>
            <a:ext cx="990720" cy="457200"/>
          </a:xfrm>
          <a:prstGeom prst="wedgeRoundRectCallout">
            <a:avLst>
              <a:gd name="adj1" fmla="val -31250"/>
              <a:gd name="adj2" fmla="val 143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52280"/>
            <a:ext cx="990720" cy="457200"/>
          </a:xfrm>
          <a:prstGeom prst="wedgeRoundRectCallout">
            <a:avLst>
              <a:gd name="adj1" fmla="val 38300"/>
              <a:gd name="adj2" fmla="val 166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66960" y="9036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urly”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67320" y="903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ily”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9:35:31Z</dcterms:created>
  <dc:creator>Steve Macko</dc:creator>
  <dc:description/>
  <dc:language>en-US</dc:language>
  <cp:lastModifiedBy>mackos</cp:lastModifiedBy>
  <dcterms:modified xsi:type="dcterms:W3CDTF">2012-08-03T17:36:24Z</dcterms:modified>
  <cp:revision>10</cp:revision>
  <dc:subject/>
  <dc:title>Slide 1</dc:title>
</cp:coreProperties>
</file>