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10.wmf" ContentType="image/x-wmf"/>
  <Override PartName="/ppt/media/image6.jpeg" ContentType="image/jpeg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980238" cy="92122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0"/>
            <a:ext cx="6980400" cy="921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243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dt" idx="4"/>
          </p:nvPr>
        </p:nvSpPr>
        <p:spPr>
          <a:xfrm>
            <a:off x="3954600" y="-360"/>
            <a:ext cx="302400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sldImg"/>
          </p:nvPr>
        </p:nvSpPr>
        <p:spPr>
          <a:xfrm>
            <a:off x="1189080" y="692280"/>
            <a:ext cx="4603680" cy="3450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body"/>
          </p:nvPr>
        </p:nvSpPr>
        <p:spPr>
          <a:xfrm>
            <a:off x="698040" y="4375080"/>
            <a:ext cx="5583240" cy="4143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ftr" idx="5"/>
          </p:nvPr>
        </p:nvSpPr>
        <p:spPr>
          <a:xfrm>
            <a:off x="-360" y="8748360"/>
            <a:ext cx="30243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 type="sldNum" idx="6"/>
          </p:nvPr>
        </p:nvSpPr>
        <p:spPr>
          <a:xfrm>
            <a:off x="3954600" y="8748360"/>
            <a:ext cx="302400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8025C77A-1954-45A7-B221-DAAB354441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90520" y="692280"/>
            <a:ext cx="4600800" cy="345096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98040" y="4375080"/>
            <a:ext cx="5583240" cy="4143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ider the following elements at work in the scheduled batch proces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At night, many batch jobs executing programs and utilities are processed. These jo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olidate the results of the online transactions executed during the d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The batch jobs generate reports of business statistic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Backups of critical files and databases are made before and after the batch windo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Reports with business statistics are sent to a specific area for analysis during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llowing d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 Reports with exceptions are sent to the branch off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 Monthly account balance reports are generated and sent to all bank custom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 Reports with processing summary are sent to the partner credit card compan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 A credit card transaction report is received from the partner compan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. In the production control department, the operations area is monitoring the mess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the system console and the execution of the job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 Jobs and transactions are reading or updating the database (the same database used b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line transactions) and many files are written to tap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90520" y="692280"/>
            <a:ext cx="4600800" cy="345096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98040" y="4375080"/>
            <a:ext cx="5583240" cy="4143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on online transactions using a mainfram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A customer uses an ATM, which presents a user-friendly interface for vario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s: Withdrawal, query account balance, deposit, transfer, or cash advance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redit card accou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Elsewhere in the same private network, a bank employee in a branch office perfo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erations such as consulting, fund applications, and money orde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At the bank’s central office, business analysts tune transactions for impro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formance. Other staff use specialized online systems for office automation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form customer relationship management, budget planning, and stock contro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All requests directed to the mainframe computer for process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 Programs running on the mainframe computer perform updates and inquires to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base management system (for example, DB2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 Specialized disk storage systems store the database fi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90520" y="692280"/>
            <a:ext cx="4600800" cy="345096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98040" y="4375080"/>
            <a:ext cx="5583240" cy="4143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ystem administrator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perform more of the day-to-day task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lated to maintaining the critical business data that resides on the mainframe, while th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ystem programmer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focuses on maintaining the system itself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amples of system administrators include database administrators 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ity administrator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hile system programmer expertise lies mainly in the mainframe hardware and softwa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eas, system administrators are more likely to have experience with the application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pplication designer and application programmer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(or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developer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 design, build, test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 deliver mainframe applications for the company’s end users and customers. Based 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irements gathered from business analysts and end users, the designer creates a desig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pecification from which the programmer constructs an application. The process inclu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ny iterations of code changes and compiles, application builds, and unit testing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ystem operator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monitors and controls the operation of the mainframe hardware 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ftware. The operator starts and stops system tasks, monitors the system consoles f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usual conditions, and works with the system programming and production control staf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o ensure the health and normal operation of the system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duction control analy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is responsible for ensuring that batch workloads run t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letion--without error or dela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89080" y="692280"/>
            <a:ext cx="4603680" cy="345096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98040" y="4375080"/>
            <a:ext cx="5583240" cy="4143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z/Virtual Machine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z/VM) has two basic components: A c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ontrol program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CP) and 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ingle-user operating system, CM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s a control program, z/VM is a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hypervisor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ecause it runs other operating systems in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irtual machines it creates. The control program artificially creates multiple virtu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chines from the real hardware resources. To the user it appears as if they hav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dicated use of the shared real resources. The shared real resources include printers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sk storage devices, and the CPU. The control program ensures data and applic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curity among the virtual machines, which are called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guest systems.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real hardwa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n be shared among the guests, or dedicated to a single guest for performance reason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second major component of z/VM is CMS or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Conversational Monitor System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 Th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ponent of z/VM runs in a virtual machine and provides both an interactive end-us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terface and the general z/VM application programming interfac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pared to z/OS, the VSE operating system provides a smaller, less complex base fo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tch processing and transaction processing. The design and management structure o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SE is excellent for running routine production workloads consisting of multiple batc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obs (running in parallel) and extensive, traditional transaction processing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veral Linux distributions can be used on a mainframe. These distributions are not fr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BM but their use is supported by IBM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z/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Transaction Processing Facility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z/TPF) operating system is a special purpo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ystem used by companies that require very high volume transactions, such as credit car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panies and airline reservation systems. z/TPF was once known as Airline 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gram and was used for airline reservation systems. It is still used for this purpose 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as been extended for other very large reservation systems and similar high-volum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ransaction processing requirement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90520" y="692280"/>
            <a:ext cx="4600800" cy="345096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98040" y="4375080"/>
            <a:ext cx="5583240" cy="4143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mainframe computer began its initial growth spurt in the 1960s. 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at time, mainframes were the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only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ype of computers, and few businesses could affor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m. Of the small number sold at the time, each mainframe was uniquely tailored t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tch a customer’s primary (and often only) business applicatio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 1964, however, things changed dramatically when mainframe manufacturers began t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ndardize the hardware and software they offered to customers. This change signal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start of the age of the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general purpose computer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 With standardized mainframes t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un their workloads, customers could, in turn, write business applications without n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specialized hardware or software. Moreover, customers were free to upgrade to new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 more powerful processors without concern for incompatibility problems with the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isting applications. The first wave of customer business applications were most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ritten in COBOL, FORTRAN, or PL/1, and many of these older programs or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lega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applications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e still in use toda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 the decades since the 1960s, mainframe computers have steadily grown to achie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ormous processing capabilities. Mainframes of today have an unrivaled ability to ser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d users by the tens of thousands, manage petabytes of data, and reconfigure hardwa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 software resources to match changes in workload--all from a single point of contro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90520" y="692280"/>
            <a:ext cx="4600800" cy="345096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98040" y="4375080"/>
            <a:ext cx="5583240" cy="4143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pite the predominance of mainframes in the business world, these machines 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rgely invisible to the general public, the academic community, and indeed ma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erienced IT professionals. Instead, other forms of computing attract more attention, 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st in terms of visibility and public awareness. That this is so is perhaps not surpris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ter all, who among us needs direct access to a mainframe? And, if we did, w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uld we find one to access? In truth, we are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all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frame users, whether we realize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no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89080" y="692280"/>
            <a:ext cx="4603680" cy="345096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98040" y="4375080"/>
            <a:ext cx="5583240" cy="4143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day, computer manufacturers don’t always use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mainfram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refer to mainframes. Instead, most have taken to calling a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ercial-use computer—large or small—a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serve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with the mainframe simply be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rgest type of server in use today. IBM, for example, now refers to its mainframes 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Series servers. We use the term mainframe in this textbook to refer to computers th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support dozens of applications and input/output devices to simultaneously ser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usands of us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esence of a mainframe often implies a centralized form of computing, rather than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tributed form of computing. Having data centralized in a single mainframe reposi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ves customers from having to manage updates to more than one copy of their busi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, and increases the likelihood that the data is curr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89080" y="692280"/>
            <a:ext cx="4603680" cy="345096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98040" y="4375080"/>
            <a:ext cx="5583240" cy="4143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eliability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volves the use of high-quality hardware and software components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nd extensive self-checking and self-recovery by hardwa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ponent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vailability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ability of hardware to detect and automatically replace fail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ardware elements, and for system software to detect, isolate, 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cover failing software component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erviceability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rough well-defined units of replacement, the hardware and softwa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n often be non-disruptively serviced or upgraded, with little or n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mpact to the operational system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ecur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computer system prevents users from accessing or changing any objects on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ystem, including user data, except through system-provided interfaces that enfor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uthority rules. Mainframe computers can provide a very secure system for process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arge numbers of heterogeneous applications that access critical data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y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calability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we mean the ability of the hardware, software, or a distributed system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tinue to function well as it is changed in size or volume; for example, the ability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tain performance levels when adding processors, memory, and storag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need to support applications of varying ages imposes a strict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ompatibility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dem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n mainframe hardware and software, which have been upgraded many times since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irst System/360 mainframe computer was shipped in 1964. Applications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must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tin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o work properly. Thus, much of the design work for new hardware and system softwa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volves around this compatibility requiremen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ach new generation of mainframes has added improvements in one or more of the follow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rea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re and faster processor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re physical memory and greater memory addressing capabili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ynamic capabilities for upgrading both hardware and softwa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re sophisticated automated hardware error checking and recove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nhanced devices for input/output (I/O) and more and faster paths (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channel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etween I/O devices and processor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phisticated I/O attachments, such as LAN adapters with extensive inboar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cess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reased ability to divide the resources of one machine into multiple, logicall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ependent and isolated systems, each running its own operating syste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nhanced clustering technologies, such as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Parallel Sysplex,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nd the ability to sha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ata among multiple system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89080" y="692280"/>
            <a:ext cx="4603680" cy="345096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98040" y="4375080"/>
            <a:ext cx="5583240" cy="4143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batch job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 submitted on the computer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ads and processes data in bulk, and produces output. A batch job can last for hour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hile batch processing is possible on distributed systems, it is not as commonplace as 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inframes because distributed systems often lack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ufficient data stor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vailable processor capacity or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cycl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plex-wide management of system resources and job scheduling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inframes serve a vast number of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online transaction processing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OLTP) system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se are often mission-critical applications that businesses depend on for their c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nctions. Some industry uses of online system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nks – ATMs, teller systems for customer servi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surance – Agent systems for policy management and claims process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ravel and transport – Airline reservation syste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nufacturing – Inventory control, production schedul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overnment – Tax processing, license issuance and managemen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6983B-14ED-40DF-87D0-F78139F31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65240" y="1014480"/>
            <a:ext cx="88264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63080" y="1523880"/>
            <a:ext cx="88282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63080" y="3992040"/>
            <a:ext cx="88282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9A22B-F924-4B4A-BB5D-50E6AAA22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65240" y="1014480"/>
            <a:ext cx="88264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63080" y="1523880"/>
            <a:ext cx="43081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86840" y="1523880"/>
            <a:ext cx="43081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63080" y="3992040"/>
            <a:ext cx="43081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86840" y="3992040"/>
            <a:ext cx="43081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21CFB-2E2B-494A-AFA9-EA48DA468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65240" y="1014480"/>
            <a:ext cx="88264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63080" y="1523880"/>
            <a:ext cx="2842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148200" y="1523880"/>
            <a:ext cx="2842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33320" y="1523880"/>
            <a:ext cx="2842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63080" y="3992040"/>
            <a:ext cx="2842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148200" y="3992040"/>
            <a:ext cx="2842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33320" y="3992040"/>
            <a:ext cx="2842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3E0E1-EDA2-4FF9-B95B-36B5C1B45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5240" y="1014480"/>
            <a:ext cx="88264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63080" y="1523880"/>
            <a:ext cx="882828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5240" y="1014480"/>
            <a:ext cx="88264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63080" y="1523880"/>
            <a:ext cx="88282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65240" y="1014480"/>
            <a:ext cx="88264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63080" y="1523880"/>
            <a:ext cx="43081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6840" y="1523880"/>
            <a:ext cx="43081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65240" y="1014480"/>
            <a:ext cx="88264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165240" y="1091880"/>
            <a:ext cx="8826480" cy="14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65240" y="1014480"/>
            <a:ext cx="88264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63080" y="1523880"/>
            <a:ext cx="43081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6840" y="1523880"/>
            <a:ext cx="43081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63080" y="3992040"/>
            <a:ext cx="43081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5240" y="1014480"/>
            <a:ext cx="88264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63080" y="1523880"/>
            <a:ext cx="882828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9863E-F4B3-48DA-8E44-D5A6C85AD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65240" y="1014480"/>
            <a:ext cx="88264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63080" y="1523880"/>
            <a:ext cx="43081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6840" y="1523880"/>
            <a:ext cx="43081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86840" y="3992040"/>
            <a:ext cx="43081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5240" y="1014480"/>
            <a:ext cx="88264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63080" y="1523880"/>
            <a:ext cx="43081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86840" y="1523880"/>
            <a:ext cx="43081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63080" y="3992040"/>
            <a:ext cx="88282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65240" y="1014480"/>
            <a:ext cx="88264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63080" y="1523880"/>
            <a:ext cx="88282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163080" y="3992040"/>
            <a:ext cx="88282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65240" y="1014480"/>
            <a:ext cx="88264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63080" y="1523880"/>
            <a:ext cx="43081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86840" y="1523880"/>
            <a:ext cx="43081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63080" y="3992040"/>
            <a:ext cx="43081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86840" y="3992040"/>
            <a:ext cx="43081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65240" y="1014480"/>
            <a:ext cx="88264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63080" y="1523880"/>
            <a:ext cx="2842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148200" y="1523880"/>
            <a:ext cx="2842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33320" y="1523880"/>
            <a:ext cx="2842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163080" y="3992040"/>
            <a:ext cx="2842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148200" y="3992040"/>
            <a:ext cx="2842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33320" y="3992040"/>
            <a:ext cx="2842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5240" y="1014480"/>
            <a:ext cx="88264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63080" y="1523880"/>
            <a:ext cx="88282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CCBED-544C-462F-99BB-616DAE040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65240" y="1014480"/>
            <a:ext cx="88264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63080" y="1523880"/>
            <a:ext cx="43081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6840" y="1523880"/>
            <a:ext cx="43081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B0C8D-5AC9-44FF-8E12-364C3A21A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5240" y="1014480"/>
            <a:ext cx="88264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0D9EB-F07D-46B3-A1AA-5177CAD18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65240" y="1091880"/>
            <a:ext cx="8826480" cy="14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75B5B-8703-41F2-998F-4B8C16FA8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65240" y="1014480"/>
            <a:ext cx="88264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63080" y="1523880"/>
            <a:ext cx="43081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6840" y="1523880"/>
            <a:ext cx="43081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63080" y="3992040"/>
            <a:ext cx="43081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3CB67-A015-410D-B53E-35C459961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5240" y="1014480"/>
            <a:ext cx="88264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63080" y="1523880"/>
            <a:ext cx="43081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6840" y="1523880"/>
            <a:ext cx="43081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86840" y="3992040"/>
            <a:ext cx="43081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727F9-8B43-45D6-B611-FC56026CC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5240" y="1014480"/>
            <a:ext cx="88264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63080" y="1523880"/>
            <a:ext cx="43081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6840" y="1523880"/>
            <a:ext cx="43081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63080" y="3992040"/>
            <a:ext cx="88282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A0A1B-A275-4EBE-9C9C-2927C995C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3720" y="6244920"/>
            <a:ext cx="1143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 flipV="1">
            <a:off x="708120" y="101520"/>
            <a:ext cx="0" cy="317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291960" y="6481800"/>
            <a:ext cx="8547120" cy="0"/>
          </a:xfrm>
          <a:prstGeom prst="line">
            <a:avLst/>
          </a:prstGeom>
          <a:ln w="9360">
            <a:solidFill>
              <a:srgbClr val="86d9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165240" y="1091880"/>
            <a:ext cx="8826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body"/>
          </p:nvPr>
        </p:nvSpPr>
        <p:spPr>
          <a:xfrm>
            <a:off x="163080" y="1523880"/>
            <a:ext cx="88282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66cc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292929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152280" y="6481800"/>
            <a:ext cx="883944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1117440"/>
            <a:ext cx="101520" cy="27180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152280" y="152280"/>
            <a:ext cx="8839440" cy="38124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186480" y="166680"/>
            <a:ext cx="344664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Introduction to the new mainfram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152280" y="952560"/>
            <a:ext cx="883944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" name="" descr=""/>
          <p:cNvPicPr/>
          <p:nvPr/>
        </p:nvPicPr>
        <p:blipFill>
          <a:blip r:embed="rId2"/>
          <a:stretch/>
        </p:blipFill>
        <p:spPr>
          <a:xfrm>
            <a:off x="8229600" y="168120"/>
            <a:ext cx="685800" cy="352440"/>
          </a:xfrm>
          <a:prstGeom prst="rect">
            <a:avLst/>
          </a:prstGeom>
          <a:ln w="0">
            <a:noFill/>
          </a:ln>
        </p:spPr>
      </p:pic>
      <p:sp>
        <p:nvSpPr>
          <p:cNvPr id="12" name=""/>
          <p:cNvSpPr/>
          <p:nvPr/>
        </p:nvSpPr>
        <p:spPr>
          <a:xfrm>
            <a:off x="4898880" y="6523200"/>
            <a:ext cx="3300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5f5f5f"/>
                </a:solidFill>
                <a:latin typeface="Arial"/>
                <a:ea typeface="Times New Roman"/>
              </a:rPr>
              <a:t>© Copyright IBM Corp., 2005. All rights reserved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"/>
          <p:cNvSpPr/>
          <p:nvPr/>
        </p:nvSpPr>
        <p:spPr>
          <a:xfrm>
            <a:off x="7661160" y="6480000"/>
            <a:ext cx="0" cy="22572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7391520" y="6479640"/>
            <a:ext cx="1690560" cy="4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0C37CD61-002D-49FD-A3EC-66E6237CA2A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of 2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739880" y="4432320"/>
            <a:ext cx="5702400" cy="469800"/>
          </a:xfrm>
          <a:prstGeom prst="rect">
            <a:avLst/>
          </a:prstGeom>
          <a:solidFill>
            <a:srgbClr val="ffffff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903240" y="888840"/>
            <a:ext cx="676440" cy="3254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907560" y="1905120"/>
            <a:ext cx="696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Introduction to the new mainframe: z/OS basics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1549440"/>
            <a:ext cx="101520" cy="101592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0" y="3857760"/>
            <a:ext cx="9144000" cy="15444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52280" y="6481800"/>
            <a:ext cx="883944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28800" y="5842080"/>
            <a:ext cx="3300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5f5f5f"/>
                </a:solidFill>
                <a:latin typeface="Arial"/>
                <a:ea typeface="Times New Roman"/>
              </a:rPr>
              <a:t>© Copyright IBM Corp., 2005. All rights reserved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292929"/>
              </a:solidFill>
              <a:latin typeface="Arial"/>
            </a:endParaRPr>
          </a:p>
          <a:p>
            <a:pPr lvl="2" marL="914400" algn="ctr">
              <a:spcBef>
                <a:spcPts val="349"/>
              </a:spcBef>
              <a:buClr>
                <a:srgbClr val="3333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3" marL="1371600" algn="ctr">
              <a:spcBef>
                <a:spcPts val="300"/>
              </a:spcBef>
              <a:buClr>
                <a:srgbClr val="3333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9292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29292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29292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wmf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933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Chapter 1:  The new mainframe </a:t>
            </a: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5240" y="1091880"/>
            <a:ext cx="8826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Typical batch use</a:t>
            </a: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1523880" y="1523880"/>
          <a:ext cx="5867640" cy="4886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523880"/>
                    <a:ext cx="5867640" cy="488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5240" y="1091880"/>
            <a:ext cx="8826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Typical online use</a:t>
            </a: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1219320" y="1600200"/>
          <a:ext cx="662940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600200"/>
                    <a:ext cx="662940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65240" y="1091880"/>
            <a:ext cx="8826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Roles in the mainframe world</a:t>
            </a: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1098720" y="1523880"/>
          <a:ext cx="6957720" cy="472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98720" y="1523880"/>
                    <a:ext cx="6957720" cy="47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65240" y="1091880"/>
            <a:ext cx="8826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Mainframe operating systems</a:t>
            </a: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63080" y="1523880"/>
            <a:ext cx="88282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z/OS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z/VM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VSE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Linux for zSeries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z/TPF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65240" y="1091880"/>
            <a:ext cx="8826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63080" y="1523880"/>
            <a:ext cx="88282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621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normAutofit/>
          </a:bodyPr>
          <a:p>
            <a:pPr marL="343080" indent="-3430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292929"/>
                </a:solidFill>
                <a:latin typeface="Arial"/>
              </a:rPr>
              <a:t>The New Mainframe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Plays a central role in the daily operations of the world’s largest organizations – and the daily lives of most people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Is known for its reliability, security, and enormous processing capabiliti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Is designed for processing large scale workloads and serving thousands of users and transactions concurrently.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Is managed by highly skilled technical support staff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Runs a variety of operating syste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65240" y="1091880"/>
            <a:ext cx="8826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Chapter 1 objectives</a:t>
            </a: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63080" y="1523520"/>
            <a:ext cx="6542280" cy="37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292929"/>
                </a:solidFill>
                <a:latin typeface="Arial"/>
              </a:rPr>
              <a:t>Be able to:</a:t>
            </a:r>
            <a:endParaRPr b="1" lang="en-US" sz="2300" spc="-1" strike="noStrike">
              <a:solidFill>
                <a:srgbClr val="292929"/>
              </a:solidFill>
              <a:latin typeface="Arial"/>
            </a:endParaRPr>
          </a:p>
          <a:p>
            <a:pPr lvl="1" marL="509760" indent="-220680">
              <a:lnSpc>
                <a:spcPct val="90000"/>
              </a:lnSpc>
              <a:spcBef>
                <a:spcPts val="400"/>
              </a:spcBef>
              <a:buClr>
                <a:srgbClr val="29292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92929"/>
                </a:solidFill>
                <a:latin typeface="Arial"/>
              </a:rPr>
              <a:t>List ways in which the mainframe of today challenges the traditional thinking on centralized computing versus distributed computing</a:t>
            </a:r>
            <a:endParaRPr b="1" lang="en-US" sz="1600" spc="-1" strike="noStrike">
              <a:solidFill>
                <a:srgbClr val="292929"/>
              </a:solidFill>
              <a:latin typeface="Arial"/>
            </a:endParaRPr>
          </a:p>
          <a:p>
            <a:pPr lvl="1" marL="509760" indent="-220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292929"/>
                </a:solidFill>
                <a:latin typeface="Arial"/>
              </a:rPr>
              <a:t>Explain how businesses make use of mainframe processing power, the typical uses of mainframes, and how mainframe computing differs from other forms of computing</a:t>
            </a:r>
            <a:endParaRPr b="1" lang="en-US" sz="1600" spc="-1" strike="noStrike">
              <a:solidFill>
                <a:srgbClr val="292929"/>
              </a:solidFill>
              <a:latin typeface="Arial"/>
            </a:endParaRPr>
          </a:p>
          <a:p>
            <a:pPr lvl="1" marL="509760" indent="-220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292929"/>
                </a:solidFill>
                <a:latin typeface="Arial"/>
              </a:rPr>
              <a:t>Outline the major types of workloads for which mainframes are best-suited</a:t>
            </a:r>
            <a:endParaRPr b="1" lang="en-US" sz="1600" spc="-1" strike="noStrike">
              <a:solidFill>
                <a:srgbClr val="292929"/>
              </a:solidFill>
              <a:latin typeface="Arial"/>
            </a:endParaRPr>
          </a:p>
          <a:p>
            <a:pPr lvl="1" marL="509760" indent="-220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292929"/>
                </a:solidFill>
                <a:latin typeface="Arial"/>
              </a:rPr>
              <a:t>Name five jobs or responsibilities related to mainframe computing</a:t>
            </a:r>
            <a:endParaRPr b="1" lang="en-US" sz="1600" spc="-1" strike="noStrike">
              <a:solidFill>
                <a:srgbClr val="292929"/>
              </a:solidFill>
              <a:latin typeface="Arial"/>
            </a:endParaRPr>
          </a:p>
          <a:p>
            <a:pPr lvl="1" marL="509760" indent="-220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292929"/>
                </a:solidFill>
                <a:latin typeface="Arial"/>
              </a:rPr>
              <a:t>List four mainframe operating systems.</a:t>
            </a:r>
            <a:endParaRPr b="1" lang="en-US" sz="16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06" name="" descr="z990"/>
          <p:cNvPicPr/>
          <p:nvPr/>
        </p:nvPicPr>
        <p:blipFill>
          <a:blip r:embed="rId1"/>
          <a:stretch/>
        </p:blipFill>
        <p:spPr>
          <a:xfrm>
            <a:off x="6858000" y="1828800"/>
            <a:ext cx="150012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5240" y="1091880"/>
            <a:ext cx="8826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Key terms in this chapter</a:t>
            </a: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3275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168120">
              <a:spcBef>
                <a:spcPts val="499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application programmer</a:t>
            </a:r>
            <a:endParaRPr b="1" lang="en-US" sz="2000" spc="-1" strike="noStrike">
              <a:solidFill>
                <a:srgbClr val="292929"/>
              </a:solidFill>
              <a:latin typeface="Arial"/>
            </a:endParaRPr>
          </a:p>
          <a:p>
            <a:pPr indent="168120">
              <a:spcBef>
                <a:spcPts val="499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architecture</a:t>
            </a:r>
            <a:endParaRPr b="1" lang="en-US" sz="2000" spc="-1" strike="noStrike">
              <a:solidFill>
                <a:srgbClr val="292929"/>
              </a:solidFill>
              <a:latin typeface="Arial"/>
            </a:endParaRPr>
          </a:p>
          <a:p>
            <a:pPr indent="168120">
              <a:spcBef>
                <a:spcPts val="499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batch processing</a:t>
            </a:r>
            <a:endParaRPr b="1" lang="en-US" sz="2000" spc="-1" strike="noStrike">
              <a:solidFill>
                <a:srgbClr val="292929"/>
              </a:solidFill>
              <a:latin typeface="Arial"/>
            </a:endParaRPr>
          </a:p>
          <a:p>
            <a:pPr indent="168120">
              <a:spcBef>
                <a:spcPts val="499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compatibility</a:t>
            </a:r>
            <a:endParaRPr b="1" lang="en-US" sz="2000" spc="-1" strike="noStrike">
              <a:solidFill>
                <a:srgbClr val="292929"/>
              </a:solidFill>
              <a:latin typeface="Arial"/>
            </a:endParaRPr>
          </a:p>
          <a:p>
            <a:pPr indent="168120">
              <a:spcBef>
                <a:spcPts val="499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e-Business</a:t>
            </a:r>
            <a:endParaRPr b="1" lang="en-US" sz="2000" spc="-1" strike="noStrike">
              <a:solidFill>
                <a:srgbClr val="292929"/>
              </a:solidFill>
              <a:latin typeface="Arial"/>
            </a:endParaRPr>
          </a:p>
          <a:p>
            <a:pPr indent="168120">
              <a:spcBef>
                <a:spcPts val="499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EBCDIC</a:t>
            </a:r>
            <a:endParaRPr b="1" lang="en-US" sz="2000" spc="-1" strike="noStrike">
              <a:solidFill>
                <a:srgbClr val="292929"/>
              </a:solidFill>
              <a:latin typeface="Arial"/>
            </a:endParaRPr>
          </a:p>
          <a:p>
            <a:pPr indent="168120">
              <a:spcBef>
                <a:spcPts val="499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high availability</a:t>
            </a:r>
            <a:endParaRPr b="1" lang="en-US" sz="2000" spc="-1" strike="noStrike">
              <a:solidFill>
                <a:srgbClr val="292929"/>
              </a:solidFill>
              <a:latin typeface="Arial"/>
            </a:endParaRPr>
          </a:p>
          <a:p>
            <a:pPr indent="168120">
              <a:spcBef>
                <a:spcPts val="499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infrastructure</a:t>
            </a:r>
            <a:endParaRPr b="1" lang="en-US" sz="2000" spc="-1" strike="noStrike">
              <a:solidFill>
                <a:srgbClr val="292929"/>
              </a:solidFill>
              <a:latin typeface="Arial"/>
            </a:endParaRPr>
          </a:p>
          <a:p>
            <a:pPr indent="168120">
              <a:spcBef>
                <a:spcPts val="499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mainframe</a:t>
            </a:r>
            <a:endParaRPr b="1" lang="en-US" sz="2000" spc="-1" strike="noStrike">
              <a:solidFill>
                <a:srgbClr val="292929"/>
              </a:solidFill>
              <a:latin typeface="Arial"/>
            </a:endParaRPr>
          </a:p>
          <a:p>
            <a:pPr indent="168120">
              <a:spcBef>
                <a:spcPts val="499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online processing</a:t>
            </a:r>
            <a:endParaRPr b="1" lang="en-US" sz="20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723920" y="1523880"/>
            <a:ext cx="43275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168120">
              <a:spcBef>
                <a:spcPts val="451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platform</a:t>
            </a:r>
            <a:endParaRPr b="1" lang="en-US" sz="1800" spc="-1" strike="noStrike">
              <a:solidFill>
                <a:srgbClr val="292929"/>
              </a:solidFill>
              <a:latin typeface="Arial"/>
            </a:endParaRPr>
          </a:p>
          <a:p>
            <a:pPr indent="168120">
              <a:spcBef>
                <a:spcPts val="451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production control</a:t>
            </a:r>
            <a:endParaRPr b="1" lang="en-US" sz="1800" spc="-1" strike="noStrike">
              <a:solidFill>
                <a:srgbClr val="292929"/>
              </a:solidFill>
              <a:latin typeface="Arial"/>
            </a:endParaRPr>
          </a:p>
          <a:p>
            <a:pPr indent="168120">
              <a:spcBef>
                <a:spcPts val="451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punched card</a:t>
            </a:r>
            <a:endParaRPr b="1" lang="en-US" sz="1800" spc="-1" strike="noStrike">
              <a:solidFill>
                <a:srgbClr val="292929"/>
              </a:solidFill>
              <a:latin typeface="Arial"/>
            </a:endParaRPr>
          </a:p>
          <a:p>
            <a:pPr indent="168120">
              <a:spcBef>
                <a:spcPts val="451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RAS</a:t>
            </a:r>
            <a:endParaRPr b="1" lang="en-US" sz="1800" spc="-1" strike="noStrike">
              <a:solidFill>
                <a:srgbClr val="292929"/>
              </a:solidFill>
              <a:latin typeface="Arial"/>
            </a:endParaRPr>
          </a:p>
          <a:p>
            <a:pPr indent="168120">
              <a:spcBef>
                <a:spcPts val="451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scalability</a:t>
            </a:r>
            <a:endParaRPr b="1" lang="en-US" sz="1800" spc="-1" strike="noStrike">
              <a:solidFill>
                <a:srgbClr val="292929"/>
              </a:solidFill>
              <a:latin typeface="Arial"/>
            </a:endParaRPr>
          </a:p>
          <a:p>
            <a:pPr indent="168120">
              <a:spcBef>
                <a:spcPts val="451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server farm</a:t>
            </a:r>
            <a:endParaRPr b="1" lang="en-US" sz="1800" spc="-1" strike="noStrike">
              <a:solidFill>
                <a:srgbClr val="292929"/>
              </a:solidFill>
              <a:latin typeface="Arial"/>
            </a:endParaRPr>
          </a:p>
          <a:p>
            <a:pPr indent="168120">
              <a:spcBef>
                <a:spcPts val="451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system administrator</a:t>
            </a:r>
            <a:endParaRPr b="1" lang="en-US" sz="1800" spc="-1" strike="noStrike">
              <a:solidFill>
                <a:srgbClr val="292929"/>
              </a:solidFill>
              <a:latin typeface="Arial"/>
            </a:endParaRPr>
          </a:p>
          <a:p>
            <a:pPr indent="168120">
              <a:spcBef>
                <a:spcPts val="451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system operator</a:t>
            </a:r>
            <a:endParaRPr b="1" lang="en-US" sz="1800" spc="-1" strike="noStrike">
              <a:solidFill>
                <a:srgbClr val="292929"/>
              </a:solidFill>
              <a:latin typeface="Arial"/>
            </a:endParaRPr>
          </a:p>
          <a:p>
            <a:pPr indent="168120">
              <a:spcBef>
                <a:spcPts val="451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system programmer</a:t>
            </a:r>
            <a:endParaRPr b="1" lang="en-US" sz="1800" spc="-1" strike="noStrike">
              <a:solidFill>
                <a:srgbClr val="292929"/>
              </a:solidFill>
              <a:latin typeface="Arial"/>
            </a:endParaRPr>
          </a:p>
          <a:p>
            <a:pPr indent="168120">
              <a:spcBef>
                <a:spcPts val="451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transaction processing </a:t>
            </a:r>
            <a:endParaRPr b="1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65240" y="1091880"/>
            <a:ext cx="8826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Evolving architecture</a:t>
            </a: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1" name="" descr="z990"/>
          <p:cNvPicPr/>
          <p:nvPr/>
        </p:nvPicPr>
        <p:blipFill>
          <a:blip r:embed="rId1"/>
          <a:stretch/>
        </p:blipFill>
        <p:spPr>
          <a:xfrm>
            <a:off x="7391520" y="2286000"/>
            <a:ext cx="1449360" cy="16765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rcRect l="0" t="31118" r="-1661" b="31118"/>
          <a:stretch/>
        </p:blipFill>
        <p:spPr>
          <a:xfrm>
            <a:off x="0" y="4038480"/>
            <a:ext cx="8915400" cy="24847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685800" y="1905120"/>
            <a:ext cx="2743200" cy="157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65240" y="1091880"/>
            <a:ext cx="8826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Mainframes in our midst</a:t>
            </a: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8279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292929"/>
                </a:solidFill>
                <a:latin typeface="Arial"/>
              </a:rPr>
              <a:t>Mainframes:</a:t>
            </a:r>
            <a:endParaRPr b="1" lang="en-US" sz="23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Are prevalent, yet hidden from public eye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Not often publicized – stable, reliable, dependable.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Contrast with other forms of computing, such as PCs.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Present opportunities for college graduates in a variety of technical fields.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    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5240" y="1091880"/>
            <a:ext cx="8826480" cy="30492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What is a mainframe?</a:t>
            </a: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A </a:t>
            </a:r>
            <a:r>
              <a:rPr b="0" i="1" lang="en-US" sz="2400" spc="-1" strike="noStrike">
                <a:solidFill>
                  <a:srgbClr val="292929"/>
                </a:solidFill>
                <a:latin typeface="Arial"/>
              </a:rPr>
              <a:t>mainframe</a:t>
            </a: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 is a computing system that businesses use to host the commercial databases, transaction servers, and applications that require a greater degree of security and availability than is commonly found on smaller-scale machines.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The power of a mainframe provides computing speed and capacity, enabling it to perform high volumes of processing.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The mainframe can process a mixed workload of jobs from different time zones and of different types.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65240" y="1091880"/>
            <a:ext cx="8826480" cy="30492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Mainframe facts</a:t>
            </a: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Who uses mainframes?</a:t>
            </a:r>
            <a:endParaRPr b="1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66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Most  Fortune 1000 companies use a mainframe environment </a:t>
            </a:r>
            <a:endParaRPr b="1" lang="en-US" sz="1800" spc="-1" strike="noStrike">
              <a:solidFill>
                <a:srgbClr val="29292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66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60% of all data available on the Internet is stored on mainframe computers</a:t>
            </a:r>
            <a:endParaRPr b="1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Why mainframes?</a:t>
            </a:r>
            <a:endParaRPr b="1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66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Large-scale transaction processing </a:t>
            </a:r>
            <a:endParaRPr b="1" lang="en-US" sz="1800" spc="-1" strike="noStrike">
              <a:solidFill>
                <a:srgbClr val="29292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3333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Arial"/>
              </a:rPr>
              <a:t>Thousands of transactions per second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66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Support thousands of users and application programs </a:t>
            </a:r>
            <a:endParaRPr b="1" lang="en-US" sz="1800" spc="-1" strike="noStrike">
              <a:solidFill>
                <a:srgbClr val="29292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66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Simultaneously accessing resources</a:t>
            </a:r>
            <a:endParaRPr b="1" lang="en-US" sz="1800" spc="-1" strike="noStrike">
              <a:solidFill>
                <a:srgbClr val="29292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66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Terabytes of information in databases</a:t>
            </a:r>
            <a:endParaRPr b="1" lang="en-US" sz="1800" spc="-1" strike="noStrike">
              <a:solidFill>
                <a:srgbClr val="29292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66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Large-bandwidth communications</a:t>
            </a:r>
            <a:endParaRPr b="1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There are more CICS transactions processed daily than Web pages served</a:t>
            </a:r>
            <a:endParaRPr b="1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240" y="533160"/>
            <a:ext cx="8534520" cy="6094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Factors contributing to mainframe use</a:t>
            </a: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RAS -- </a:t>
            </a:r>
            <a:r>
              <a:rPr b="1" i="1" lang="en-US" sz="2400" spc="-1" strike="noStrike">
                <a:solidFill>
                  <a:srgbClr val="292929"/>
                </a:solidFill>
                <a:latin typeface="Arial"/>
              </a:rPr>
              <a:t>reliability, availability, serviceability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Security 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Scalability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Centralized control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Workload management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Partitioning / virtualization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Continuing compatibility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Evolving architecture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Application enablement, complexity, variety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Potential for thousands of users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65240" y="1091880"/>
            <a:ext cx="8826480" cy="30492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Typical mainframe workloads </a:t>
            </a: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380880" y="1557360"/>
          <a:ext cx="7696440" cy="4889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557360"/>
                    <a:ext cx="7696440" cy="488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0T18:45:36Z</dcterms:created>
  <dc:creator>TOT184</dc:creator>
  <dc:description/>
  <dc:language>en-US</dc:language>
  <cp:lastModifiedBy>IBM_USER</cp:lastModifiedBy>
  <dcterms:modified xsi:type="dcterms:W3CDTF">2006-05-08T14:44:15Z</dcterms:modified>
  <cp:revision>98</cp:revision>
  <dc:subject/>
  <dc:title>Slide 1</dc:title>
</cp:coreProperties>
</file>