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F3A5-A7D4-4D5C-96A4-65C1B217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520" y="1437840"/>
            <a:ext cx="8686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520" y="4069800"/>
            <a:ext cx="8686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2D34-DDEB-47BC-88D1-D9AE8179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520" y="143784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3920" y="143784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520" y="406980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3920" y="406980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BFA5-F44B-4528-81A8-7206349F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520" y="1437840"/>
            <a:ext cx="2796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9760" y="1437840"/>
            <a:ext cx="2796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6640" y="1437840"/>
            <a:ext cx="2796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520" y="4069800"/>
            <a:ext cx="2796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9760" y="4069800"/>
            <a:ext cx="2796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6640" y="4069800"/>
            <a:ext cx="2796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6EF2-66E6-41D8-B995-A9E35B7E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82520" y="1437840"/>
            <a:ext cx="86868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520" y="1437840"/>
            <a:ext cx="8686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520" y="1437840"/>
            <a:ext cx="4239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3920" y="1437840"/>
            <a:ext cx="4239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82520" y="593280"/>
            <a:ext cx="8686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520" y="143784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3920" y="1437840"/>
            <a:ext cx="4239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82520" y="406980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520" y="1437840"/>
            <a:ext cx="86868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C42B-BE61-4876-B296-F4675957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520" y="1437840"/>
            <a:ext cx="4239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3920" y="143784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3920" y="406980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520" y="143784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3920" y="143784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520" y="4069800"/>
            <a:ext cx="8686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520" y="1437840"/>
            <a:ext cx="8686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2520" y="4069800"/>
            <a:ext cx="8686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520" y="143784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3920" y="143784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82520" y="406980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920" y="406980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520" y="1437840"/>
            <a:ext cx="2796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9760" y="1437840"/>
            <a:ext cx="2796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56640" y="1437840"/>
            <a:ext cx="2796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82520" y="4069800"/>
            <a:ext cx="2796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9760" y="4069800"/>
            <a:ext cx="2796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56640" y="4069800"/>
            <a:ext cx="2796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520" y="1437840"/>
            <a:ext cx="8686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D5B1-9324-4799-84F4-857AA834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520" y="1437840"/>
            <a:ext cx="4239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3920" y="1437840"/>
            <a:ext cx="4239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1BF8-E681-4673-B599-D5FF2C05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6FAB-5C0E-4FCF-9E55-CB24F16A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2520" y="593280"/>
            <a:ext cx="8686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74CB-7430-40BE-836C-4F3C3F16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143784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3920" y="1437840"/>
            <a:ext cx="4239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520" y="406980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031E-9680-429B-90CA-59531637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1437840"/>
            <a:ext cx="4239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3920" y="143784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3920" y="406980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DFE6-EFD3-4FB2-BABD-DFAEFB26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143784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3920" y="1437840"/>
            <a:ext cx="4239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520" y="4069800"/>
            <a:ext cx="8686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2156-9C92-445D-A33A-63A195D2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82520" y="1437840"/>
            <a:ext cx="8686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304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3480" indent="-17316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39720" indent="-163440"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39720" indent="-1634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39720" indent="-1634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"/>
          <p:cNvSpPr/>
          <p:nvPr/>
        </p:nvSpPr>
        <p:spPr>
          <a:xfrm>
            <a:off x="274680" y="549360"/>
            <a:ext cx="859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7589880" y="6537240"/>
            <a:ext cx="13716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3 IBM Corpor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182160" y="6537240"/>
            <a:ext cx="366840" cy="18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124A-3171-4B06-AAE8-6D61ACA7CCBE}" type="slidenum"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554120" y="6537240"/>
            <a:ext cx="5943600" cy="18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>
          <a:xfrm>
            <a:off x="549000" y="6537240"/>
            <a:ext cx="1004760" cy="18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9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/>
          <a:stretch/>
        </p:blipFill>
        <p:spPr>
          <a:xfrm>
            <a:off x="8047080" y="246240"/>
            <a:ext cx="822240" cy="218880"/>
          </a:xfrm>
          <a:prstGeom prst="rect">
            <a:avLst/>
          </a:prstGeom>
          <a:ln w="0">
            <a:noFill/>
          </a:ln>
        </p:spPr>
      </p:pic>
      <p:sp>
        <p:nvSpPr>
          <p:cNvPr id="8" name="Text Box 46"/>
          <p:cNvSpPr/>
          <p:nvPr/>
        </p:nvSpPr>
        <p:spPr>
          <a:xfrm>
            <a:off x="279360" y="352440"/>
            <a:ext cx="339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Advanced Top Gun: Winning with System z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Geneva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PPT_0003_Z_Primary.jpg"/>
          <p:cNvPicPr/>
          <p:nvPr/>
        </p:nvPicPr>
        <p:blipFill>
          <a:blip r:embed="rId2"/>
          <a:stretch/>
        </p:blipFill>
        <p:spPr>
          <a:xfrm>
            <a:off x="274680" y="3672000"/>
            <a:ext cx="8585280" cy="2233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7589880" y="6537240"/>
            <a:ext cx="13716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3 IBM Corporation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rights reserved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274680" y="1050840"/>
            <a:ext cx="859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3"/>
          <a:stretch/>
        </p:blipFill>
        <p:spPr>
          <a:xfrm>
            <a:off x="7589880" y="611280"/>
            <a:ext cx="1309680" cy="349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6"/>
          <p:cNvSpPr/>
          <p:nvPr/>
        </p:nvSpPr>
        <p:spPr>
          <a:xfrm>
            <a:off x="279360" y="828720"/>
            <a:ext cx="339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Advanced Top Gun: Winning with System z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Geneva"/>
              </a:rPr>
              <a:t>®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82520" y="1437840"/>
            <a:ext cx="8686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304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3480" indent="-17316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39720" indent="-163440"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39720" indent="-1634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39720" indent="-1634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9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182520" y="6537240"/>
            <a:ext cx="3668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0D72-0BD5-44E4-9FD1-F5C948BF06B1}" type="slidenum"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9"/>
                </a:solidFill>
                <a:latin typeface="Arial"/>
              </a:rPr>
              <a:t>Activity – Developing a one-page value statement</a:t>
            </a:r>
            <a:endParaRPr b="1" lang="en-US" sz="22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is activity, each table, with six students, is given a scenario for an industry or CAMS solution. Using the scenario, the students at each table will form a team to develop an effective one-page, four-part value statement that can be presented later to the instructor team. 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your team has completed the one-page value statement PowerPoint presentation, create a 60-90 second elevator pitch** that will gain the attention of the client, SCL or client executive so that he or she wants to hear the complete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ne member of your team will be selected to deliver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elevator pitch and another member to deliver the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sentation. The one-page, value statement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sentation should take no more than 5 - 7 minutes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deliver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ors will be on hand to answer any questions 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s that come up for the teams while develop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lue statemen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P900400090"/>
          <p:cNvPicPr/>
          <p:nvPr/>
        </p:nvPicPr>
        <p:blipFill>
          <a:blip r:embed="rId1"/>
          <a:stretch/>
        </p:blipFill>
        <p:spPr>
          <a:xfrm>
            <a:off x="5410080" y="3657600"/>
            <a:ext cx="3353040" cy="214308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457200" y="6070680"/>
            <a:ext cx="617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**  Elevator pitch = 1 – 2 sentence summary of your value statement presentation that can be delivered verbal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520" y="59328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f69"/>
                </a:solidFill>
                <a:latin typeface="Arial"/>
              </a:rPr>
              <a:t>Activity – Developing a one-page value statement </a:t>
            </a:r>
            <a:r>
              <a:rPr b="1" lang="en-US" sz="1800" spc="-1" strike="noStrike">
                <a:solidFill>
                  <a:srgbClr val="003f69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003f6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39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w your best (elevator) pitch! – Tailor your message using the 8 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22120" y="1600200"/>
            <a:ext cx="838836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approach should b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e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Use simple, “tell mom” language, avoiding acronyms and jarg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i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Use words that add to the meaning and urgency of your mess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inc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Gain the agreement to further the conversation, not close the de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sa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Talk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person, no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pers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message should b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stomiz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Tailor your message to address how you can help a person in a specific job role with a business pain or concern and then how you can help the company as a whole. For example, a CIO, an IT director, and a LOB leader have different views of the same pain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u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Offer a unique perspective of the customer’s business and use that context to create a sense of urgency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leng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Use insight to create constructive tens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re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Focus on tangible ways that your solution can bring value to the customer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4973760" y="803160"/>
          <a:ext cx="4017960" cy="29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3760" y="803160"/>
                    <a:ext cx="401796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6"/>
          <p:cNvSpPr/>
          <p:nvPr/>
        </p:nvSpPr>
        <p:spPr>
          <a:xfrm>
            <a:off x="7314480" y="368784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yback in 9 month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194560" y="0"/>
            <a:ext cx="4761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on Building Su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profits from better analy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52280" y="3657600"/>
            <a:ext cx="4572000" cy="2649600"/>
          </a:xfrm>
          <a:prstGeom prst="rect">
            <a:avLst/>
          </a:prstGeom>
          <a:solidFill>
            <a:srgbClr val="6ee38d">
              <a:alpha val="6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W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hy IBM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BM has assisted 32 of the top 100 Building Suppliers improve bottom lines by average of $6.2M / ye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Minimized Risk – leveraging templates and vast experi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ntegrated approach with IBM 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Dozens of options for IBM Systems Integration partn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ccelerates results versus “Build your own” solution by 18 month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876920" y="4038480"/>
            <a:ext cx="4114800" cy="2527560"/>
          </a:xfrm>
          <a:prstGeom prst="rect">
            <a:avLst/>
          </a:prstGeom>
          <a:solidFill>
            <a:srgbClr val="f01142">
              <a:alpha val="6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BM Retail Analytics applied  to Supply Ch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$6.6M Improved Same Period Sa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$2M Annual Profit Improv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9 month payb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5% savings in floor sp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0% improved customer satisfa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$300k cost reduction in FedEx ship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14920" y="838080"/>
            <a:ext cx="48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BM Retail Analytics applied Supply Chai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152280" y="1219320"/>
            <a:ext cx="41911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ive analysis allows f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ght stock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ght pl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ght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ustomer “walk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capitalizing on “cross-sell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s overstock condi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customer satisfa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7238880" y="2590920"/>
            <a:ext cx="144792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representation of quantified val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001000" y="5257800"/>
            <a:ext cx="10810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fied business val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295280" y="6095880"/>
            <a:ext cx="14479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que IBM differentia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276720" y="1371600"/>
            <a:ext cx="10666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business benefi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15:48:56Z</dcterms:created>
  <dc:creator>Debra Hamilton</dc:creator>
  <dc:description/>
  <dc:language>en-US</dc:language>
  <cp:lastModifiedBy>Richard Skoonberg</cp:lastModifiedBy>
  <dcterms:modified xsi:type="dcterms:W3CDTF">2015-05-06T19:11:54Z</dcterms:modified>
  <cp:revision>105</cp:revision>
  <dc:subject/>
  <dc:title>Slide 1</dc:title>
</cp:coreProperties>
</file>