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png" ContentType="image/png"/>
  <Override PartName="/ppt/media/image5.jpeg" ContentType="image/jpeg"/>
  <Override PartName="/ppt/media/image10.wmf" ContentType="image/x-wmf"/>
  <Override PartName="/ppt/media/image31.jpeg" ContentType="image/jpeg"/>
  <Override PartName="/ppt/media/image25.jpeg" ContentType="image/jpeg"/>
  <Override PartName="/ppt/media/image32.png" ContentType="image/png"/>
  <Override PartName="/ppt/media/image1.jpeg" ContentType="image/jpeg"/>
  <Override PartName="/ppt/media/image7.png" ContentType="image/png"/>
  <Override PartName="/ppt/media/image6.png" ContentType="image/png"/>
  <Override PartName="/ppt/media/image8.png" ContentType="image/png"/>
  <Override PartName="/ppt/media/image29.jpeg" ContentType="image/jpeg"/>
  <Override PartName="/ppt/media/image13.wmf" ContentType="image/x-wmf"/>
  <Override PartName="/ppt/media/image9.png" ContentType="image/png"/>
  <Override PartName="/ppt/media/image30.jpeg" ContentType="image/jpeg"/>
  <Override PartName="/ppt/media/image3.jpeg" ContentType="image/jpeg"/>
  <Override PartName="/ppt/media/image15.png" ContentType="image/png"/>
  <Override PartName="/ppt/media/image12.jpeg" ContentType="image/jpeg"/>
  <Override PartName="/ppt/media/image4.png" ContentType="image/png"/>
  <Override PartName="/ppt/media/image27.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8.jpeg" ContentType="image/jpe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6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move the slide</a:t>
            </a:r>
            <a:endParaRPr b="0" lang="en-US" sz="2200" spc="-1" strike="noStrike">
              <a:solidFill>
                <a:srgbClr val="000000"/>
              </a:solidFill>
              <a:latin typeface="Arial"/>
            </a:endParaRPr>
          </a:p>
        </p:txBody>
      </p:sp>
      <p:sp>
        <p:nvSpPr>
          <p:cNvPr id="6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6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EF9F-DEC4-4BCA-B2BF-CE2C50627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1269-6E0C-40A2-955A-42EF842E23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a:t>
            </a:r>
            <a:r>
              <a:rPr b="0" i="1" lang="en-US" sz="1000" spc="-1" strike="noStrike">
                <a:solidFill>
                  <a:srgbClr val="000000"/>
                </a:solidFill>
                <a:latin typeface="Arial"/>
              </a:rPr>
              <a:t>The Value of Cloud Computing on z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ud computing is the newest development in systems architecture that promises to deliver computing infrastructure at lower cost, improved flexibility, and higher levels of scalability than ever before. The benefits of cloud computing are primarily built on the notion that cloud environments allow you to achieve these results by virtualizing the different workloads that you run and deploying them within an environment that can automatically scale up or down as workload demands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4CF0-B6FB-4CE9-9F4D-272515BB84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1892-2179-4CB7-AF20-576DAC3F08B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3FE4-EAEA-47E0-A830-F258CCC92C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hardware perspective, you can start with a platform that has refined the characteristics of scale, utilization, performance, and reliability over the last 50 years, so why not get a head start on the competition by using that platform? If you can set aside pre-conceived notions about the role of the mainframe in the past and just look at the facts, like a consumer buying a new home appliance, it make sense to buy the highest-rated system, at the same time, saving energy costs, reducing floor space, and cutting administration costs. It is not the same mainframe of old. Did you know that today’s mainframe can fit in the back of a pick-up truck?</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E483-1222-4B8B-A513-151BD9C43BE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e are advantages to deploying clouds on larger, scale-up servers as opposed to a distributed cloud environment.</a:t>
            </a:r>
            <a:r>
              <a:rPr b="0" lang="en-US" sz="1000" spc="-1" strike="noStrike">
                <a:solidFill>
                  <a:srgbClr val="000000"/>
                </a:solidFill>
                <a:latin typeface="Arial"/>
              </a:rPr>
              <a:t> Let’s look at those advant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er utiliz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 to 100% CPU utiliz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Shared everything” architectu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host thousands of mixed worklo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efficient data cent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power and cooling requir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floor space require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er parts to man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productiv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icient, rapid provisio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erior workload manag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er parts to man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reliability and availabil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t-in hardware redundanc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ades of RAS innov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city and Backup on Deman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CDD6-D710-410E-936D-9EF6A4CFFC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discussed earlier in the presentation, the “cloud” is actually an online computer environment consisting of components such as hardware, networks, storage, services, and interfaces in a virtualized environment that can deliver online services (including data, infrastructure, storage, or processes), just in time or based on user demand. By this definition of cloud computing, z Systems has been an internalized cloud for decades and has all the features to make it a natural cloud platfor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supplies all components necessary to deliver the cloud toda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load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manages cloud infrastructure capacity requirements consistent with business poli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ction Proces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supports integration of the cloud with mission-critical OLTP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al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provides the ability to scale vertically with zOS and LPAR and horizontally with zLinux and zVM coupled with Workload Mana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ailability and Provis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provides automation for deploying virtual machines and recovery applications including disaster reco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and Compli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Security provides fine-grained controls with hardware encryption and iso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ing and Metr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provides workload-based accounting and metering to support capacity planning and chargeback to the line of busines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above displays the results of a three-year Total Cost of Ownership (TCO) study. The study compared z Systems mainframe consolidation with two cores running Linux to forty x86 server cores running Oracle. The overall TCO for a private cloud with zEnterprise was 76% less than the public cloud on Amazon as represented by the Public Cloud in the graphic above. By consolidating and virtualizing the workloads onto the mainframe, the result was a much smaller footprint, reducing hardware, infrastructure, and software costs. Further savings were realized by the standardization and automation, which resulted in reduced labor costs compared to Amazon’s public cloud offer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25F2-EC7D-4FE0-9895-5CDC6038AC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brid cloud </a:t>
            </a:r>
            <a:r>
              <a:rPr b="0" lang="en-US" sz="1000" spc="-1" strike="noStrike">
                <a:solidFill>
                  <a:srgbClr val="000000"/>
                </a:solidFill>
                <a:latin typeface="Arial"/>
              </a:rPr>
              <a:t>is a cloud deployment model using at least two </a:t>
            </a:r>
            <a:r>
              <a:rPr b="0" lang="en-US" sz="1000" spc="-1" strike="noStrike" u="sng">
                <a:solidFill>
                  <a:srgbClr val="000000"/>
                </a:solidFill>
                <a:uFillTx/>
                <a:latin typeface="Arial"/>
              </a:rPr>
              <a:t>different</a:t>
            </a:r>
            <a:r>
              <a:rPr b="0" lang="en-US" sz="1000" spc="-1" strike="noStrike">
                <a:solidFill>
                  <a:srgbClr val="000000"/>
                </a:solidFill>
                <a:latin typeface="Arial"/>
              </a:rPr>
              <a:t> cloud deployment models. The deployments involved remain unique entities but are bound together by appropriate technology that enables interoperability, data portability and application portability. A hybrid cloud may be owned, managed, and operated by the organization itself or a third party and may exist on premises or off premises. Hybrid clouds represent situations where interactions between two different deployments may be needed but remained linked via appropriate technologies. </a:t>
            </a:r>
            <a:endParaRPr b="0" lang="en-US" sz="1000" spc="-1" strike="noStrike">
              <a:solidFill>
                <a:srgbClr val="000000"/>
              </a:solidFill>
              <a:latin typeface="Arial"/>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2177-C62F-4DBF-9A12-3B5BD1F5D3F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we see the emergence of a multi-speed IT, which combines the merits of a fast-paced digital landscape for a mobile app, and the stability and resilience of a more moderately paced enterprise landsc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speed IT in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gital business requires a new approach. For digital business, it is not just about releasing a new mobile app. It is a fundamentally different way of doing business and demands a new approach to the technologies that enable and drive this business strategy. It requires a rethink of the way we manage data and integrate systems for the digital e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20B4-CF63-4297-B870-90D1DD8C1C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brid Cloud accelerates transformation into a Digital Enterprise through 3 entry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 IT as a Service by placing existing enterprise applications in a private clou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 existing solutions by making them cloud enabled through utilization of application program interfaces (API)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innovative native, cloud-based apps and solution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1481-D2B4-4546-9864-E093234547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The API Econom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companies expose their (internal) digital business assets or services in the form of (Web) APIs to third parties with the goal of unlocking additional business value through creation of </a:t>
            </a:r>
            <a:r>
              <a:rPr b="0" i="1" lang="en-US" sz="800" spc="-1" strike="noStrike">
                <a:solidFill>
                  <a:srgbClr val="000000"/>
                </a:solidFill>
                <a:latin typeface="Arial"/>
              </a:rPr>
              <a:t>new</a:t>
            </a:r>
            <a:r>
              <a:rPr b="0" lang="en-US" sz="800" spc="-1" strike="noStrike">
                <a:solidFill>
                  <a:srgbClr val="000000"/>
                </a:solidFill>
                <a:latin typeface="Arial"/>
              </a:rPr>
              <a:t> assets</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xample above, the Bank can extend it’s reach beyond customers just doing on-line ba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offering an API, that includes Mortgage Calculators, Lon Origination, On-line Payment, and Account Qu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nk can reach new mobile app providers link Cars.com (automotive sales), Zillow (on line real-estate), and Mint (financial data aggrega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IBM take advantage of APIs to connect to these other cloud applications?</a:t>
            </a:r>
            <a:endParaRPr b="0" lang="en-US" sz="1000" spc="-1" strike="noStrike">
              <a:solidFill>
                <a:srgbClr val="000000"/>
              </a:solidFill>
              <a:latin typeface="Arial"/>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569D-3038-4579-BD08-F58D1676C9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S Connect </a:t>
            </a:r>
            <a:r>
              <a:rPr b="0" lang="en-US" sz="1000" spc="-1" strike="noStrike">
                <a:solidFill>
                  <a:srgbClr val="000000"/>
                </a:solidFill>
                <a:latin typeface="Arial"/>
              </a:rPr>
              <a:t>is a software function written to run inside Liberty Profile for z/OS and serves as an enabler of connectivity between cloud and mobile environment and back-end z/OS systems. It is designed for z/OS and builds on z/OS qualities of service, auditing, and chargeback. z/OS Connect offers the following capabilit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fies connectors – A common solution for mobile, cloud, and web</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ified integration – Hide complexity of connecting to z/OS using RE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Discover z/OS assets – Enhance user experience by exposing z/OS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S subsystems have long supported many different access protoc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C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P and Web servi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CS Transaction Gatewa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 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Application Serv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 WebSphere MQ, W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B2</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DBC, OD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 variety of different protocols that creates the problem that z/OS Connect resol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I Economy demands a single unifying access point based on REST and JSON. Writing custom code to consume each of those disparate mainframe API styles is tedious and hard to maintain. By using z/OS Connect EE to provide a uniform REST-based access style and protocol your clients can easily access mainframe APIs for the valuable resources within the mainfr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S Connect both runs and secures APIs and with z/OS Connect tooling your customers can create new APIs on z/OS. z/OS Connect makes off- and on-premises access easy and sec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EB35-84C9-4BF1-A983-D6D002229A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AA56-6C26-4A96-BC04-9E1B80E644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919C-DD32-44FE-99B0-FC6450524E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overnance, provisioning, self-service, management, and automation are key requirements for a successful cloud implementation, and IBM has the right solutions to meet your needs.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B94C-47B5-4CA5-A400-0A2D712EC12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is single solution, IBM Infrastructure Suite for z/VM and Linux, they can simplify and automate z/VM administration and management with tools designed to drive productivity and reduce complexity. The IBM Infrastructure Suite for z/VM® and Linux® on z Systems® V1.1 offers management of z/VM environments and Linux on z Systems guests, as well as support for backup and recovery of the entire system in one solution. The suite provide comprehensive insight to efficiently control and support IBM z/VM and Linux on z Systems environment and is contained in a single Product ID (P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sz_m4t1_infrastructure_suite.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ming information: Following is the alt text for the ccsz_m4t1_infrastructure_suite.jpg graphic:</a:t>
            </a:r>
            <a:r>
              <a:rPr b="0" lang="en-US" sz="1000" spc="-1" strike="noStrike">
                <a:solidFill>
                  <a:srgbClr val="000000"/>
                </a:solidFill>
                <a:latin typeface="Arial"/>
              </a:rPr>
              <a:t> This image shows a group of gears floating in the sky in the shape of a clou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omponent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MEGAMON XE on z/VM and Linux:</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ance monitoring of z/VM and Linux g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 of the Tivoli Management Services (TMS), including Tivoli Enterprise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with OMEGAMON and TMS on other plat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ux agents gather performance data from Linux g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VM agent gathers performance data from z/V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z/VM view of Linux g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 IBM Performance Toolkit for VM as its data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tions Manager for z/V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es automated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 view and interact with consoles without logging on to service machines or guests (such as TCP/IP, Shared File System, Linux guest, DIRMAINT and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ction based on service machine or Linux guest console messages or Linux sysl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ction based on events in OMEGAMON XE on z/VM and Linu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events for immediate execution or on a regular sched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Wa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and manage virtual servers and resources from a single graphical inte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and manage virtual servers and resources from a single graphical inte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s with rapid cloning and provisioning of virtual Linux servers and resources on z/V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role-based management to control the management of IBM z/VM and also allow delegation of administrative responsi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ically reduces the learning curve to manage and control z/VM and virtual Linux ser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s administration time and facilitates repeatable management of resources, guests, user accounts, storage, networks and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a critical step to help traditional virtualization management organizations bridge gap to deploying a private cloud infrastructure. Helps identify, expose, and aggregate resources clearly, facilitating an easier transition to private clo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up and Restore Manager for z/V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 and restore file level data for CMS minidisks and Shared File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 and restore images of Linux g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ivoli Storage Manager for file level backup and restore of Linux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exible backup job definition to backup only the disks or DASD volumes you specif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and restore data through a full screen inte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ape Manager for z/VM if backing up to tap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Tivoli Storage Manager Extended Edi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Tivoli Storage Manager and IBM Tivoli Storage Manager Extended Edition V7.1 help reduce backup windows by helping optimize de-duplication, node replication, and reclamation processes. A single Tivoli Storage Manager server improves scalability with up to ten times improvement for daily ingest of de-duplicated and replicated data over previously published rates, and new reference architectures optimized for data de-du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BM Infrastructure Suite is the next logical evolution and succeeds the </a:t>
            </a:r>
            <a:r>
              <a:rPr b="0" i="1" lang="en-US" sz="1000" spc="-1" strike="noStrike">
                <a:solidFill>
                  <a:srgbClr val="000000"/>
                </a:solidFill>
                <a:latin typeface="Arial"/>
              </a:rPr>
              <a:t>Cloud Management Suite for z Systems</a:t>
            </a:r>
            <a:r>
              <a:rPr b="0" lang="en-US" sz="1000" spc="-1" strike="noStrike">
                <a:solidFill>
                  <a:srgbClr val="000000"/>
                </a:solidFill>
                <a:latin typeface="Arial"/>
              </a:rPr>
              <a:t>. It extends the value of focused management of virtual images on z Systems and can integrate with IBM Cloud Orchestrator managing to z/VM for complete cross-platform cloud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to-use, content rich interface that is simple and free of operational complex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productivity with rapid cloning and provisioning of Linux guests on IBM z/V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ified administration with flexible re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ier administration with detailed performance monitoring, including customized views and historical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management with discovery of z/VM resources and the relationships among them across multiple logical partitions (LPARs), single system image (SSI) clusters, and central electronic complex (CE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process of performing a function across multiple virtual machines and z/VM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al flexibility, allowing different constituencies (operations, systems programming, application development, project management and end-users) to manage appropriate aspects of the z/VM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er problem identification from alert generation and automatic reco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 backup and recovery for both the z/VM and Linux environments, including: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level backup and recovery of volumes or minidisks containing z/VM data</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level backup and recovery of volumes or minidisks containing Linux data</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e level backup and recovery of z/VM data</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e level backup and recovery of Linux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D59D-7480-4A8F-B142-88211380DB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nefits of z/OS Connect to clients include the follow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 fast “on-ramp” for z/OS clients to discover and reach z/OS assets simply and securely using RESTful services. Service references can be copied from z/OS Connect and stored in any repository – cloud-based or mobile-based (such as the IBM Mobile Platform) or any other web technolog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ightweight and modular, providing flexibility to run multiple copies on the same or different z/OS systems and assign higher/lower priority to specific Liberty serv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with z/OS management facilities makes the operations of the environment automated and consistent with the environments it is expos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provides the ability to standardize on security access for calling in to z/OS applications in all major environments: CICS, IMS, Batch, UNIX System Services, and ISV software. (In IBM’s Statement of Direction, it will also provide access to DB2 and MQ.) It supports SAF-based security integration, allowing for individual z/OS Connect services to have unique sets of authorized us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provides the ability to track requests from cloud, mobile, and web-based external requestors using standard z/OS mechanisms like z/OS SMF, which fulfills audit/chargeback needs for access to z/OS applica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provides the ability to prioritize requests within a single Liberty server – based on HTTP Uniform Resource Indicators (URI) and z/OS Connect service names – using z/OS WLM.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S Connect is designed to enable better and more manageable connectivity between mobile systems and the customer’s back-end z/OS programs, applications, and systems. It provides a consistent front-end interface for mobile systems using REST and JSON, and it shields back-end systems from having to understand those protocols and format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0CFE-2B0D-4141-84BF-5A9258A01C5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Cloud Orchestrator is a comprehensive open cloud management platform that automates the delivery of cloud services and provides customers with advanced cloud capabilities for automating the management of virtual environments and building dynamic service delivery models. The ability to support user-driven services requests and orchestrated resource deployment is pivotal to an optimized infrastructure and can provide tremendous cost sav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Cloud Orchestrator is a comprehensive service delivery platform for cloud environments that can help drive down costs and increase speed to deliver business services. As part of the IBM SmartCloud® Foundation products suite, IBM Cloud Orchestrator provides advanced cloud management capabilities for enterprises that need to integrate their business policies and systems together in a customized cloud service through workflow orches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y put, IBM Cloud Orchestrator provides end-to-end service deployment across infrastructure and platform layers. It supports integration with IT workflow capabilities for runbook automation and IT governance, resource monitoring and cost management. Those solutions are what customers are looking towards to provide agility, cost savings and a competitive advantag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877E-C2FE-4632-96C1-790B712E870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ave for z/VM helps dramatically simplify administration and management of z/VM and virtual Linux servers, freeing staff to focus on business-critical tasks. IBM Wave integrates seamlessly with z/VM and Linux environments to help administrators view, organize, and manage resources in an optimized and standardized man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and manage virtual servers and resources from a single graphical inte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s with rapid cloning and provisioning of virtual Linux servers and resources on z/V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role-based management to control the management of IBM® z/VM® and also allow delegation of administrative responsi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ically reduces the learning curve to manage and control z/VM and virtual Linux ser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s administration time and facilitates repeatable management of resources, guests, user accounts, storage, networks, and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a critical step to help traditional virtualization management organizations bridge gap to deploying a private cloud infrastructure. Helps identify, expose, and aggregate resources clearly, facilitating an easier transition to private clou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F627-176B-4612-AE61-587109FAD7C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IBM solutions are applicable in a mainframe cloud computing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Resource Access Control Facility </a:t>
            </a:r>
            <a:r>
              <a:rPr b="0" lang="en-US" sz="1000" spc="-1" strike="noStrike">
                <a:solidFill>
                  <a:srgbClr val="000000"/>
                </a:solidFill>
                <a:latin typeface="Arial"/>
              </a:rPr>
              <a:t>is a premier product for securing the most valuable corporate data. Working closely with the operating system, IBM’s industry-leading licensed program can improve data security by protecting vital system resources and controlling what users can do on the operating system. RACF grants access only to authorized users of the protected resources. After identifying and authenticating the user, it controls the interaction between the user, system resources, communications capabilities, programs, and applications. It also provides detailed audit and administrative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zSecure suite</a:t>
            </a:r>
            <a:r>
              <a:rPr b="0" lang="en-US" sz="1000" spc="-1" strike="noStrike">
                <a:solidFill>
                  <a:srgbClr val="000000"/>
                </a:solidFill>
                <a:latin typeface="Arial"/>
              </a:rPr>
              <a:t> provides cost-effective security administration, improves service by detecting threats, and reduces risk with automated audit and compliance reporting. </a:t>
            </a:r>
            <a:r>
              <a:rPr b="1" lang="en-US" sz="1000" spc="-1" strike="noStrike">
                <a:solidFill>
                  <a:srgbClr val="000000"/>
                </a:solidFill>
                <a:latin typeface="Arial"/>
              </a:rPr>
              <a:t>Security zSecure Manager for RACF z/VM</a:t>
            </a:r>
            <a:r>
              <a:rPr b="0" lang="en-US" sz="1000" spc="-1" strike="noStrike">
                <a:solidFill>
                  <a:srgbClr val="000000"/>
                </a:solidFill>
                <a:latin typeface="Arial"/>
              </a:rPr>
              <a:t> provides combined audit and administration for RACF in the virtual machine (VM) environment and enhances mainframe cloud enviro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Federated Identity Manager for Linux on z Systems</a:t>
            </a:r>
            <a:r>
              <a:rPr b="0" lang="en-US" sz="1000" spc="-1" strike="noStrike">
                <a:solidFill>
                  <a:srgbClr val="000000"/>
                </a:solidFill>
                <a:latin typeface="Arial"/>
              </a:rPr>
              <a:t> is a standards-based, access control solution for federated single sign-on and trust management in web services and SOA environments. It handles all of the configuration information for a federation, including the partner relationships, identity mapping, identity token management, and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Identity Manager for Linux on z Systems</a:t>
            </a:r>
            <a:r>
              <a:rPr b="0" lang="en-US" sz="1000" spc="-1" strike="noStrike">
                <a:solidFill>
                  <a:srgbClr val="000000"/>
                </a:solidFill>
                <a:latin typeface="Arial"/>
              </a:rPr>
              <a:t> is an automated and policy-based solution that manages user access across IT environments, whether in a closed enterprise environment or across a virtual or extended enterprise. Through the use of roles, accounts, and access permissions, it helps automate the creation, modification, and termination of user privileges throughout the entire user life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Access Manager for e-business (for Linux on z Systems)</a:t>
            </a:r>
            <a:r>
              <a:rPr b="0" lang="en-US" sz="1000" spc="-1" strike="noStrike">
                <a:solidFill>
                  <a:srgbClr val="000000"/>
                </a:solidFill>
                <a:latin typeface="Arial"/>
              </a:rPr>
              <a:t> is a highly scalable user authentication, authorization, and web single sign-on solution for enforcing security policies over a wide range of web and application resources. It centralizes user access management for online portal and business initi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Key Lifecycle Manager for z/OS</a:t>
            </a:r>
            <a:r>
              <a:rPr b="0" lang="en-US" sz="1000" spc="-1" strike="noStrike">
                <a:solidFill>
                  <a:srgbClr val="000000"/>
                </a:solidFill>
                <a:latin typeface="Arial"/>
              </a:rPr>
              <a:t> manages encryption keys for storage, simplifying deployment and maintaining availability to data at rest natively in z Systems mainframe environments. It also simplifies key management and compliance reporting to protect data privacy and comply with security reg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InfoSphere Guardium Database Activity Monitor</a:t>
            </a:r>
            <a:r>
              <a:rPr b="0" lang="en-US" sz="1000" spc="-1" strike="noStrike">
                <a:solidFill>
                  <a:srgbClr val="000000"/>
                </a:solidFill>
                <a:latin typeface="Arial"/>
              </a:rPr>
              <a:t> provides a simple, robust solution for monitoring access to databases continuously and automating compliance controls in heterogeneous enterprises. The solution prevents unauthorized activities by privileged insiders or hackers while monitoring end users to identify fraud without any changes to databases or applications and without impacting performance. Organizations use this solution to deploy centralized and standardized controls for real-time database security and monitoring, fine-grained database auditing, automated compliance reporting, data-level access control, database vulnerability management, and auto-discovery of sensitiv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Proventia® Server Intrusion Prevention System for Linux on z Systems</a:t>
            </a:r>
            <a:r>
              <a:rPr b="0" lang="en-US" sz="1000" spc="-1" strike="noStrike">
                <a:solidFill>
                  <a:srgbClr val="000000"/>
                </a:solidFill>
                <a:latin typeface="Arial"/>
              </a:rPr>
              <a:t> uses host firewalling and deep network packet inspection to identify and block thousands of known and emerging threats, targeting vulnerabilities across operating systems, client applications, and web applications—all while providing real-time situational awareness and intelligence to security administrators</a:t>
            </a:r>
            <a:endParaRPr b="0" lang="en-US" sz="1000" spc="-1" strike="noStrike">
              <a:solidFill>
                <a:srgbClr val="000000"/>
              </a:solidFill>
              <a:latin typeface="Arial"/>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2A1C-892D-48E5-9F99-2F8A492F5E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0078-0CE4-4168-88B1-4573A5CAA60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The IBM Linux on z Systems Cloud Test Drive video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See for yourself how effectively Linux is deploying an IaaS solution. You will see what it is like to be both a user and an administrator with a z Systems cloud. (You will need to be connected to the Internet to view this vid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offers a z Systems Cloud Portal—the IBM Linux on z Systems Cloud Test Drive—that enables you, as a client, to experience a cloud on z Systems from anywhere in the world via the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ccess to Linux servers selected from the system images IBM provides, as a user, you can see the power and efficiency of a cloud with Linux on z Systems. Once system images are selected, you have up to 90 days of access to the servers to customize them with your ow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SALES: Contact Ashley Freeth (ASHFREET@uk.ibm.com) </a:t>
            </a:r>
            <a:r>
              <a:rPr b="1" lang="en-US" sz="1000" spc="-1" strike="noStrike">
                <a:solidFill>
                  <a:srgbClr val="000000"/>
                </a:solidFill>
                <a:latin typeface="Arial"/>
              </a:rPr>
              <a:t>to nominate your customer for this 90-day free tria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7F92-8842-484D-812D-F710645D63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A36C-5FDB-4827-B69C-892E0684CB3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es today are under tremendous pressure, driven by shifts like an increasingly mobile workforce and the need for greater productivity.  Yet, companies are being asked to accommodate these increased demands without an increase in resources. This makes many companies excited by the prospect of moving to cloud computing.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3DB9-F7D0-4BB8-B4CB-2F0CB83612D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ud computing is a model for enabling convenient, on-demand network access to a shared pool of configurable computing resources (for example, networks, servers, storage, applications, and services) that can be rapidly be deployed.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ing has changed greatly over the last 20 years. We have moved from storing files, images, data, and even programs on the computer to the Internet. Our personal e-mail is likely to be accessible from the Web rather than on our hard drives. Instead of watching a video stored on a DVD, we can view thousands of videos and television programs directly over the Internet from providers such as YouTube, Netflix, and Hulu. If you do your taxes online, all your tax data is stored online, available when you need it to file your taxes next year.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riads of options are now available 24/7 on the Internet, from online bank accounts to airline reservations. These new options or services fall within the concept of cloud computing.</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ud” is actually an online computer environment consisting of components such as hardware, networks, storage, services, and interfaces in a virtualized environment that can deliver online services (including data, infrastructure, storage, or processes), just in time or based on user demand.</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ud” is actually the convergence of the following three trends:</a:t>
            </a:r>
            <a:endParaRPr b="0" lang="en-US" sz="1000" spc="-1" strike="noStrike">
              <a:solidFill>
                <a:srgbClr val="000000"/>
              </a:solidFill>
              <a:latin typeface="Arial"/>
            </a:endParaRPr>
          </a:p>
          <a:p>
            <a:pPr lvl="1" marL="6476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ization</a:t>
            </a:r>
            <a:r>
              <a:rPr b="0" lang="en-US" sz="1000" spc="-1" strike="noStrike">
                <a:solidFill>
                  <a:srgbClr val="000000"/>
                </a:solidFill>
                <a:latin typeface="Arial"/>
              </a:rPr>
              <a:t>: When applications are separated from infrastructure</a:t>
            </a:r>
            <a:endParaRPr b="0" lang="en-US" sz="1000" spc="-1" strike="noStrike">
              <a:solidFill>
                <a:srgbClr val="000000"/>
              </a:solidFill>
              <a:latin typeface="Arial"/>
            </a:endParaRPr>
          </a:p>
          <a:p>
            <a:pPr lvl="1" marL="6476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tility computing:</a:t>
            </a:r>
            <a:r>
              <a:rPr b="0" lang="en-US" sz="1000" spc="-1" strike="noStrike">
                <a:solidFill>
                  <a:srgbClr val="000000"/>
                </a:solidFill>
                <a:latin typeface="Arial"/>
              </a:rPr>
              <a:t> When server capacity is accessed across a grid as a variably priced shared service</a:t>
            </a:r>
            <a:endParaRPr b="0" lang="en-US" sz="1000" spc="-1" strike="noStrike">
              <a:solidFill>
                <a:srgbClr val="000000"/>
              </a:solidFill>
              <a:latin typeface="Arial"/>
            </a:endParaRPr>
          </a:p>
          <a:p>
            <a:pPr lvl="1" marL="6476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ftware as a Service (SaaS</a:t>
            </a:r>
            <a:r>
              <a:rPr b="0" lang="en-US" sz="1000" spc="-1" strike="noStrike">
                <a:solidFill>
                  <a:srgbClr val="000000"/>
                </a:solidFill>
                <a:latin typeface="Arial"/>
              </a:rPr>
              <a:t>): When applications are available on demand and on a subscription basis</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oud can be public, private, or a hybrid of both. Cloud computing is changing the way companies provide services to their clients and suppliers. Google and Amazon, two Web giants, have most of their IT resources in the clou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B880-9598-4E7B-8D08-C613DFC8FFC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and business are attracted to the cloud for different reas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 often, the cloud’s vast potential is unmet because the cloud is being used primarily to make IT easier, cheaper, and fas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is drawn to the cloud’s cost, efficiency, and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idation, data center efficiency, and lower costs are just the start. Leading companies are unlocking the deeper potential of the cloud as a way to manage not just their IT, but also their businesses. They’re discovering how the cloud can help them create new marketplaces, smarter business services, and profitable new revenue streams. Providing these services to innovators can profoundly change the way a company is experienced by customers, partners, and socie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iness is drawn to the cloud’s simplified, self-service experience and new service capabil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y percent of CIOs plan to use the cloud—up from 33% two years ago. Fifty-five percent of business executives believe the cloud enables business transformation and leaner, faster, more agile processes. The true promise of the cloud isn’t just about advancing IT; it’s about reinventing busi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loud is not just about rethinking IT; it is also about reinventing the busi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half of business executives believe the cloud enables business transformation and leaner, faster, more agile processes.  This is strategic thinking.  But organizations that approach the cloud in a tactical fashion risk </a:t>
            </a:r>
            <a:r>
              <a:rPr b="0" i="1" lang="en-US" sz="1000" spc="-1" strike="noStrike">
                <a:solidFill>
                  <a:srgbClr val="000000"/>
                </a:solidFill>
                <a:latin typeface="Arial"/>
              </a:rPr>
              <a:t>adding</a:t>
            </a:r>
            <a:r>
              <a:rPr b="0" lang="en-US" sz="1000" spc="-1" strike="noStrike">
                <a:solidFill>
                  <a:srgbClr val="000000"/>
                </a:solidFill>
                <a:latin typeface="Arial"/>
              </a:rPr>
              <a:t> complexity and inefficiency due to fragmentation, redundancy, and operating silos.  In contrast, organizations that embrace the cloud strategically—from a business as well as an IT perspective—can capture new business value through innovation, flexibility, and speed, with integrity and security—while reducing cost and complexit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how are real customers in real-life situations realizing benefits from the cloud?  We’ve compiled here a list of the ways that customers telling us they can see real, tangible results from their cloud-delivered implem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a cloud environment have this kind of effect? The key is that the cloud is based on three essential fundamentals: It’s standardized, it’s virtualized, and it’s automated. That’s how you can provide scalable services. That’s the way you’re going to see efficiency. And that’s the way you’re going to drive down costs and improve service. That’s really a pretty simple equation, and we see these clients achieve very real, measurable business resul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ization of IT resources</a:t>
            </a:r>
            <a:r>
              <a:rPr b="0" lang="en-US" sz="1000" spc="-1" strike="noStrike">
                <a:solidFill>
                  <a:srgbClr val="000000"/>
                </a:solidFill>
                <a:latin typeface="Arial"/>
              </a:rPr>
              <a:t>—servers, storage, networks, and applications—are pooled and virtualized to help provide an implementation-independent, efficient infrastructure with </a:t>
            </a:r>
            <a:r>
              <a:rPr b="1" lang="en-US" sz="1000" spc="-1" strike="noStrike">
                <a:solidFill>
                  <a:srgbClr val="000000"/>
                </a:solidFill>
                <a:latin typeface="Arial"/>
              </a:rPr>
              <a:t>elastic scaling</a:t>
            </a:r>
            <a:r>
              <a:rPr b="0" lang="en-US" sz="1000" spc="-1" strike="noStrike">
                <a:solidFill>
                  <a:srgbClr val="000000"/>
                </a:solidFill>
                <a:latin typeface="Arial"/>
              </a:rPr>
              <a:t>, meaning the environments can scale up and down by large factors as demand chan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omation through a self-service portal and automated provisio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ization of pricing, processes, and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ults shown here are indicative of typical results of IBM cloud clients, based on our client experiences and our own internal resul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CE12-6BDA-411D-A09D-68044F698E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7C74-B96D-46BC-8AA7-2FDE3DC9CB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talk for a moment about this concept of “the cloud” and just what kinds of clouds there a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e type is the public cloud, in which a provider makes services or storage available to the general public</a:t>
            </a:r>
            <a:r>
              <a:rPr b="1" lang="en-AU" sz="1000" spc="-1" strike="noStrike" u="sng">
                <a:solidFill>
                  <a:srgbClr val="009999"/>
                </a:solidFill>
                <a:uFillTx/>
                <a:latin typeface="Arial"/>
                <a:hlinkClick r:id="rId1" action="ppaction://hlinksldjump"/>
              </a:rPr>
              <a:t>[jkt1]</a:t>
            </a:r>
            <a:r>
              <a:rPr b="0" lang="en-AU" sz="1000" spc="-1" strike="noStrike">
                <a:solidFill>
                  <a:srgbClr val="000000"/>
                </a:solidFill>
                <a:latin typeface="Arial"/>
              </a:rPr>
              <a:t> </a:t>
            </a:r>
            <a:r>
              <a:rPr b="1" lang="en-US" sz="1000" spc="-1" strike="noStrike">
                <a:solidFill>
                  <a:srgbClr val="000000"/>
                </a:solidFill>
                <a:latin typeface="Arial"/>
              </a:rPr>
              <a:t>; examples a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azon, Salesforce.com, IBM Bluemix, and IBM Soft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other type is the private cloud.</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ind a firewall for internal and partner use, private clouds are suitable for many workloads, including core business workloads. </a:t>
            </a:r>
            <a:br>
              <a:rPr sz="1000"/>
            </a:br>
            <a:r>
              <a:rPr b="0" lang="en-US" sz="1000" spc="-1" strike="noStrike">
                <a:solidFill>
                  <a:srgbClr val="000000"/>
                </a:solidFill>
                <a:latin typeface="Arial"/>
              </a:rPr>
              <a:t>Variations include the managed private cloud and the hosted private clo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a third type is the hybrid cloud, which 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oud with both public and private characteristics; this can be an integrated public/private cloud or community clo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E6A0-72B4-430C-BC6F-18DF38E90C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re are three basic cloud computing models: Infrastructure as a Service (IaaS), Platform as a Service (PaaS), and Software as a Service (SaaS).  Let’s look at each one, starting at the bottom of the graphic shown and working our way up. First …</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rastructure as a Service (IaaS) – </a:t>
            </a:r>
            <a:r>
              <a:rPr b="0" lang="en-US" sz="1000" spc="-1" strike="noStrike">
                <a:solidFill>
                  <a:srgbClr val="000000"/>
                </a:solidFill>
                <a:latin typeface="Arial"/>
              </a:rPr>
              <a:t>The IaaS provides storage and compute resources that developers, IT organizations, and the public can use. A simple example is the availability of online storage and backups at low c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as a Service (PaaS) – </a:t>
            </a:r>
            <a:r>
              <a:rPr b="0" lang="en-US" sz="1000" spc="-1" strike="noStrike">
                <a:solidFill>
                  <a:srgbClr val="000000"/>
                </a:solidFill>
                <a:latin typeface="Arial"/>
              </a:rPr>
              <a:t>The PaaS provides tools for developers to configure new applications on top of the computing infrastructure. An example would be new web development tools now available online that allow developers to piece together fully functioning web storefronts quickly on top of an existing cloud infrastructure. Development and testing tools are on this layer.</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ftware as a Service (SaaS) – </a:t>
            </a:r>
            <a:r>
              <a:rPr b="0" lang="en-US" sz="1000" spc="-1" strike="noStrike">
                <a:solidFill>
                  <a:srgbClr val="000000"/>
                </a:solidFill>
                <a:latin typeface="Arial"/>
              </a:rPr>
              <a:t>With SaaS, the software is already hosted online, so there are no installation and maintenance costs.</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these different models is a foundation of cloud security, service catalog, service management, and cloud govern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loud clients are used to access the cloud, such as a web browser, mobile apps, thin client, terminal emulator, and other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2EAC-1A9B-4E2D-A3DA-160DC97578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3A7B14E-F851-45B1-91FD-C3F270F69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779ED7B-3B52-4EF0-A2DB-B6252A33B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9A31D5B-E630-4DE4-B33D-847ED75013A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B29B78E-2A5C-4878-A416-0DF6672094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AEB30C4-3EA4-4D87-A27B-3B71C29A08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AF04504-6948-42AB-9196-6515437250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D736C0E-1A24-49B5-92A1-2FADDCF960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B7B73F53-9CE3-4C1A-B491-476F9C5F18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E38A281-E486-4E79-A009-C538F7226DA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C062E817-23C4-4A28-BA25-7ED2679ED9A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A8A53126-75B8-4A7F-80F6-FF0DB172264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76FBAAD3-2489-4D08-B114-C6768C6D75A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759EF4B-97A0-4780-A8A8-54DBAFE90C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589E2A8D-20A1-4CB0-BFCA-2D2513C0FF0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2A3E3E31-966A-4ED5-8F13-0070EFCD38B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B0BF4CF9-8535-438E-AB2A-78E79C9FE4B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E47C1EAB-1BF5-4B7B-9CA5-275017301B8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03AA75C8-E25A-4214-9303-D56075AC772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A314A8BF-E24E-4DB8-8E7C-EF2AD63465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A662634-4C47-4BF4-8EF1-460062ECF9F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4F4C60E-DD9A-4435-B633-7C8C2EB7ADA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A9618428-F88B-4EBA-9F8C-FBC546B778F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C485A86D-A876-4322-9F36-5111B9B8646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40C5E14-460A-4A3E-A99F-004C1015D6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8DC866EE-BF32-4634-A2B6-FF79BB60B55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7B3E1E78-0B9B-4974-9115-C9B43DC6A1A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F6342D8E-F440-4C48-8884-FE13900AE5D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8D7CF015-4BD4-4769-916A-8A1C882A636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1C70AA02-903F-40E4-9529-0ECC4298E88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A48C9898-39E6-4130-ABF6-BB3C1F9211F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D905292B-14D3-4359-B9E6-CBA9E5D22C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3E535E9D-AF19-4D0A-A268-BBF42202DC9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D6C4EAA0-5B26-455D-8AB5-AD1BE19E2B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63DB655E-3541-4A3A-88D0-CCD673B1DB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D58C2CB1-5ED8-4C8D-96B4-09AEE87861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4F708260-21DB-4910-A2CC-27F28209AD8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4983C9F0-FAF0-4CF0-B28C-1B6E6222E7B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8AA52B50-08D8-4CEF-8800-5A3468BC3C9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3E51AFDA-CEF9-4BF2-B869-F1D59BDD1FE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9BD47639-C987-4F91-867A-444C463D070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26630ABC-8525-48B4-AA30-9729EEB413B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9B3A9913-30C3-4F8C-A252-2C8327FD838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86547234-0E35-4D9D-AC8D-AC24AA8F4B3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BFD135D3-E845-41DA-8509-8E1040DA0B9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59BEAE86-6AF3-449D-BE6F-A0D41C26C3F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D9544AF-674D-4086-A627-D7CD32C6730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E3C41F17-51C3-443F-950C-214303CF33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CC973BFD-0FB1-4A3D-BCC5-159CFD82673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B8ABE862-08E0-43EF-A802-26E076AC81F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FB632C28-3CF9-4DD5-ABFE-E4AAE739A50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050E1C9D-4E4D-4905-8384-4F9B40AF4AC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84731067-6C5E-4D9B-AA19-C36B4CB3C3C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756B69D6-4A26-46BF-AEC2-3FE0F64F440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FBF6862A-F01D-4980-B619-1E7B6061046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96F98364-BF3C-4EE1-8759-6107721A5F9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88849CD3-3CFE-4076-AD53-484E48E4D6C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4FC93A60-B0A3-403C-A273-662F6B5C58B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2E8DB85E-63D0-421A-AA7D-0B365D9740E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FE8C3E2B-BE9F-439F-8462-B8C3DA68D85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DF803DB6-6765-426D-837A-1C073211EFA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89F0A97B-E3E8-4216-BC00-E59A54D9688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4BE124B8-C721-465B-8B0C-48E8DBC1DDC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DF39FC61-993F-48AD-A989-016CB5E90EA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1604B391-9D9C-46E9-A7C0-8CC01622B29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6C8B6F7E-727C-4777-8503-00E4516BEB5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60C056CC-9E6D-41DE-B4F9-3F9655337C9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9F45FEC5-BA85-4353-92F6-4ECC4AE7897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16668255-1CD1-401E-A086-BB2DFFC0841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9C107C2E-D251-4999-8F94-5A2DDBD1334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DA0197EF-A4EF-4F90-AD30-C3B965386C1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EF9F4442-3D7B-4D5E-9F50-C2B11F58798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9254ED1F-5AD7-4A87-BFAC-087FA4070DA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3D4D7A44-20F8-4FC8-8D11-C4A07F6DDCB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36B16E2-41C9-4479-8B44-6F58D8360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AD3F3B-8319-43FE-B9DE-0BA16BB39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0DE411B-2613-44E7-8809-FDCAB71064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7687DC4-92B5-46FC-882C-D91584AD50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292B5AB-1470-4891-9587-D280771A94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E97ABD6-136D-4E64-BC79-58CAEAF18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D94A7D1-9A4C-4043-AB14-4E2FD9B90C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4BE3B33-E484-499E-B25E-CDE8042423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9D1A67B-4183-4492-9EE6-86E76A8AA2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ED03056-A5BE-43CE-85FC-215047DAD4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EAEC25A-C45D-409A-B8EB-A25E1E14E1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566B3F8-3070-4286-B515-E131F00F97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E3A8441-BCB3-403A-93F5-CEF235F6C2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0597711-A950-4054-AAD1-BC637036FFF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3982F50-0E13-44AD-B360-3E555C228EB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833A26A-06EC-4D61-9353-5E280B31FFA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A0B821A-5B88-4992-AE69-9429B4802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3502595-B75A-46F0-BA41-F41BF8B45E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2C0B09D-C7E4-42A7-A200-46F55AB264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57D1BA7-8207-4376-880D-9DA7C2146F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5FF3FF8-1914-46CB-B59D-F0A2274239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1753328-B653-4FBB-A93F-CED5C7F66A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758E79-D6E1-4261-94CF-AFC9767A04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5591D3C-FB0C-4A9A-960D-F28F7C1FF6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C8BDB9-DA11-4C98-9631-9CDA85A36D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D99F6EE-25B3-4F5F-B783-FB1E044835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2A77FF9-1E12-4922-84CF-46A674A6574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84CACCD-1AD7-440D-9B86-183EA39B2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3F4B44A-2CF2-476D-8C37-078D8430D0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56C6FE6-84CF-4AA7-A5AD-BADECEAD9FA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C595FAA-CBFD-42E7-91BB-C5E5C916A6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B4CA281-B66C-441D-95E3-8B7D9C98654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359AA0F-858E-4CB7-B30F-D09321B6734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5A981E3-5D68-410D-88AE-29CE07625B0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2D85D39-2E0E-42A5-A43F-6ED9A9C6F1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AC7C4CF-96FD-475B-9488-E49EA93E70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FE709EB-10DF-40EB-9D68-897DC76558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3424AB7-6DDD-48FC-B692-73B915D9F8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B22965-3E54-4C56-AA09-96448FB64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3AAEE9E-2FDD-4399-A913-E85A67F9632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8CC2BD18-14B7-4722-96D7-03958850F38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4F43D74-3603-47CC-8081-5B7B75C36B7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183DB89C-DF1B-41A9-B483-380CCFFE811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4177603C-B622-466A-877C-A19784598D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134D9A34-DE16-430B-8BC3-7DC16EF1FD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8556778-AEAE-4DBD-A47D-F625EE1354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63A9901-4DC4-4085-94EE-6D16C4408D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FFB2FC0D-2540-43DC-94E9-8E090A18424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EE61FDF-C51A-4855-B008-3BA73FFED33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8F1CCA-0714-493A-B52A-B11DCB3B8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78F2107-83B3-4F1F-BBB4-4C58FC256A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B6CAFDC4-E53E-40E8-BC05-EDE21083CC9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4B23D7D-07F0-4AC4-9BAE-50D96D8DD7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E0EF8244-5C6C-45CA-9D9A-7F08881FC9D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3DBE9BC2-04F4-43EF-AAE9-B1D69C31294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B412436B-3433-40CC-BEDE-3A604244649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AF28EAAB-3087-4E48-B520-A36DE5AF3FC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84016B12-639C-4BC9-B1B3-B3349613FED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7337DEBE-E578-449C-A9A3-24FA88EA477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AE2C2350-A03A-4B21-A827-59C5ADD39B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16B246-4160-43CA-886F-2E2C014B9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667E528-DDEE-41DE-A884-D464D94E1A6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4596808B-3753-4126-AECB-AF12E7039C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91797EAA-B2BF-4243-B449-52BD555F69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588F54A8-7FB9-4948-823D-406FDF252E8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28A5A513-3051-4716-AE77-076FB34D684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8A4B317B-D5BD-400C-891C-9E8B146D801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A3C8AB0E-116D-4DDA-AE10-4046030773B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6B0A7452-7CD7-426B-9D5E-A4E22289844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B8EA0932-ACA4-4124-9BCA-144AC1DB2B3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C35942D6-B278-4638-A557-3756F9236578}"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sp>
        <p:nvSpPr>
          <p:cNvPr id="4" name="PlaceHolder 3"/>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55C8-AF8D-4D11-AF69-148A272DBCD5}"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7" name="Picture 40" descr="5300_IBMpos_black_PPT_bkgd"/>
          <p:cNvPicPr/>
          <p:nvPr/>
        </p:nvPicPr>
        <p:blipFill>
          <a:blip r:embed="rId2"/>
          <a:stretch/>
        </p:blipFill>
        <p:spPr>
          <a:xfrm>
            <a:off x="8283600" y="228600"/>
            <a:ext cx="585720" cy="235080"/>
          </a:xfrm>
          <a:prstGeom prst="rect">
            <a:avLst/>
          </a:prstGeom>
          <a:ln w="0">
            <a:noFill/>
          </a:ln>
        </p:spPr>
      </p:pic>
      <p:sp>
        <p:nvSpPr>
          <p:cNvPr id="8"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4"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405" name="Picture 40" descr="5300_IBMpos_black_PPT_bkgd"/>
          <p:cNvPicPr/>
          <p:nvPr/>
        </p:nvPicPr>
        <p:blipFill>
          <a:blip r:embed="rId2"/>
          <a:stretch/>
        </p:blipFill>
        <p:spPr>
          <a:xfrm>
            <a:off x="8283600" y="228600"/>
            <a:ext cx="585720" cy="235080"/>
          </a:xfrm>
          <a:prstGeom prst="rect">
            <a:avLst/>
          </a:prstGeom>
          <a:ln w="0">
            <a:noFill/>
          </a:ln>
        </p:spPr>
      </p:pic>
      <p:sp>
        <p:nvSpPr>
          <p:cNvPr id="406"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40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40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9" name="PlaceHolder 3"/>
          <p:cNvSpPr>
            <a:spLocks noGrp="1"/>
          </p:cNvSpPr>
          <p:nvPr>
            <p:ph type="sldNum" idx="22"/>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B6C9-39A1-4E66-8869-EBAFF35DFB2E}"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410" name="PlaceHolder 4"/>
          <p:cNvSpPr>
            <a:spLocks noGrp="1"/>
          </p:cNvSpPr>
          <p:nvPr>
            <p:ph type="ftr" idx="23"/>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411" name="PlaceHolder 5"/>
          <p:cNvSpPr>
            <a:spLocks noGrp="1"/>
          </p:cNvSpPr>
          <p:nvPr>
            <p:ph type="dt" idx="24"/>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91EE-1201-4579-8976-77A43AF65139}"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49"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450" name="Picture 40" descr="5300_IBMpos_black_PPT_bkgd"/>
          <p:cNvPicPr/>
          <p:nvPr/>
        </p:nvPicPr>
        <p:blipFill>
          <a:blip r:embed="rId2"/>
          <a:stretch/>
        </p:blipFill>
        <p:spPr>
          <a:xfrm>
            <a:off x="8283600" y="228600"/>
            <a:ext cx="585720" cy="235080"/>
          </a:xfrm>
          <a:prstGeom prst="rect">
            <a:avLst/>
          </a:prstGeom>
          <a:ln w="0">
            <a:noFill/>
          </a:ln>
        </p:spPr>
      </p:pic>
      <p:sp>
        <p:nvSpPr>
          <p:cNvPr id="451"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45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45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54" name="PlaceHolder 3"/>
          <p:cNvSpPr>
            <a:spLocks noGrp="1"/>
          </p:cNvSpPr>
          <p:nvPr>
            <p:ph type="sldNum" idx="25"/>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F670-BFDF-45CC-AA8C-47F6B1B94FA2}"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455" name="PlaceHolder 4"/>
          <p:cNvSpPr>
            <a:spLocks noGrp="1"/>
          </p:cNvSpPr>
          <p:nvPr>
            <p:ph type="ftr" idx="26"/>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456" name="PlaceHolder 5"/>
          <p:cNvSpPr>
            <a:spLocks noGrp="1"/>
          </p:cNvSpPr>
          <p:nvPr>
            <p:ph type="dt" idx="27"/>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370E-D500-4D43-A799-4FF8E55530F9}"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94"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495" name="Picture 40" descr="5300_IBMpos_black_PPT_bkgd"/>
          <p:cNvPicPr/>
          <p:nvPr/>
        </p:nvPicPr>
        <p:blipFill>
          <a:blip r:embed="rId2"/>
          <a:stretch/>
        </p:blipFill>
        <p:spPr>
          <a:xfrm>
            <a:off x="8283600" y="228600"/>
            <a:ext cx="585720" cy="235080"/>
          </a:xfrm>
          <a:prstGeom prst="rect">
            <a:avLst/>
          </a:prstGeom>
          <a:ln w="0">
            <a:noFill/>
          </a:ln>
        </p:spPr>
      </p:pic>
      <p:sp>
        <p:nvSpPr>
          <p:cNvPr id="496"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49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49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9" name="PlaceHolder 3"/>
          <p:cNvSpPr>
            <a:spLocks noGrp="1"/>
          </p:cNvSpPr>
          <p:nvPr>
            <p:ph type="sldNum" idx="28"/>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8999-93FD-4353-92DA-B7FB7A91B147}"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500" name="PlaceHolder 4"/>
          <p:cNvSpPr>
            <a:spLocks noGrp="1"/>
          </p:cNvSpPr>
          <p:nvPr>
            <p:ph type="ftr" idx="29"/>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501" name="PlaceHolder 5"/>
          <p:cNvSpPr>
            <a:spLocks noGrp="1"/>
          </p:cNvSpPr>
          <p:nvPr>
            <p:ph type="dt" idx="30"/>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41C5-E66C-402C-86B5-AA02C9656BE1}"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9"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540" name="Picture 40" descr="5300_IBMpos_black_PPT_bkgd"/>
          <p:cNvPicPr/>
          <p:nvPr/>
        </p:nvPicPr>
        <p:blipFill>
          <a:blip r:embed="rId2"/>
          <a:stretch/>
        </p:blipFill>
        <p:spPr>
          <a:xfrm>
            <a:off x="8283600" y="228600"/>
            <a:ext cx="585720" cy="235080"/>
          </a:xfrm>
          <a:prstGeom prst="rect">
            <a:avLst/>
          </a:prstGeom>
          <a:ln w="0">
            <a:noFill/>
          </a:ln>
        </p:spPr>
      </p:pic>
      <p:sp>
        <p:nvSpPr>
          <p:cNvPr id="541"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54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54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44" name="PlaceHolder 3"/>
          <p:cNvSpPr>
            <a:spLocks noGrp="1"/>
          </p:cNvSpPr>
          <p:nvPr>
            <p:ph type="sldNum" idx="31"/>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7B43-53E0-471B-8479-AC66038B4F97}"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545" name="PlaceHolder 4"/>
          <p:cNvSpPr>
            <a:spLocks noGrp="1"/>
          </p:cNvSpPr>
          <p:nvPr>
            <p:ph type="ftr" idx="32"/>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546" name="PlaceHolder 5"/>
          <p:cNvSpPr>
            <a:spLocks noGrp="1"/>
          </p:cNvSpPr>
          <p:nvPr>
            <p:ph type="dt" idx="33"/>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D30A-6FC5-42B4-B8E5-1715E4E1B8D1}"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84"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585" name="Picture 40" descr="5300_IBMpos_black_PPT_bkgd"/>
          <p:cNvPicPr/>
          <p:nvPr/>
        </p:nvPicPr>
        <p:blipFill>
          <a:blip r:embed="rId2"/>
          <a:stretch/>
        </p:blipFill>
        <p:spPr>
          <a:xfrm>
            <a:off x="8283600" y="228600"/>
            <a:ext cx="585720" cy="235080"/>
          </a:xfrm>
          <a:prstGeom prst="rect">
            <a:avLst/>
          </a:prstGeom>
          <a:ln w="0">
            <a:noFill/>
          </a:ln>
        </p:spPr>
      </p:pic>
      <p:sp>
        <p:nvSpPr>
          <p:cNvPr id="586"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58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58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89" name="PlaceHolder 3"/>
          <p:cNvSpPr>
            <a:spLocks noGrp="1"/>
          </p:cNvSpPr>
          <p:nvPr>
            <p:ph type="sldNum" idx="34"/>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EAD3-4DB9-4655-953E-48608DB51FF4}"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590" name="PlaceHolder 4"/>
          <p:cNvSpPr>
            <a:spLocks noGrp="1"/>
          </p:cNvSpPr>
          <p:nvPr>
            <p:ph type="ftr" idx="35"/>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591" name="PlaceHolder 5"/>
          <p:cNvSpPr>
            <a:spLocks noGrp="1"/>
          </p:cNvSpPr>
          <p:nvPr>
            <p:ph type="dt" idx="36"/>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EE8F-0C64-4A45-B026-25AFE966B8B8}"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6" descr="Global_cover_0109.jpg"/>
          <p:cNvPicPr/>
          <p:nvPr/>
        </p:nvPicPr>
        <p:blipFill>
          <a:blip r:embed="rId2"/>
          <a:srcRect l="0" t="0" r="0" b="404"/>
          <a:stretch/>
        </p:blipFill>
        <p:spPr>
          <a:xfrm>
            <a:off x="272880" y="3666960"/>
            <a:ext cx="8593200" cy="2232360"/>
          </a:xfrm>
          <a:prstGeom prst="rect">
            <a:avLst/>
          </a:prstGeom>
          <a:ln w="0">
            <a:noFill/>
          </a:ln>
        </p:spPr>
      </p:pic>
      <p:sp>
        <p:nvSpPr>
          <p:cNvPr id="82" name="Line 90"/>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3" name="Group 112"/>
          <p:cNvGrpSpPr/>
          <p:nvPr/>
        </p:nvGrpSpPr>
        <p:grpSpPr>
          <a:xfrm>
            <a:off x="274680" y="3664080"/>
            <a:ext cx="8594640" cy="2233080"/>
            <a:chOff x="274680" y="3664080"/>
            <a:chExt cx="8594640" cy="2233080"/>
          </a:xfrm>
        </p:grpSpPr>
        <p:sp>
          <p:nvSpPr>
            <p:cNvPr id="84" name="Rectangle 113"/>
            <p:cNvSpPr/>
            <p:nvPr/>
          </p:nvSpPr>
          <p:spPr>
            <a:xfrm>
              <a:off x="274680" y="366408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 name="Rectangle 114"/>
            <p:cNvSpPr/>
            <p:nvPr/>
          </p:nvSpPr>
          <p:spPr>
            <a:xfrm>
              <a:off x="274680" y="45482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 name="Rectangle 115"/>
            <p:cNvSpPr/>
            <p:nvPr/>
          </p:nvSpPr>
          <p:spPr>
            <a:xfrm>
              <a:off x="274680" y="54374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Rectangle 116"/>
            <p:cNvSpPr/>
            <p:nvPr/>
          </p:nvSpPr>
          <p:spPr>
            <a:xfrm>
              <a:off x="7512840" y="366408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Rectangle 117"/>
            <p:cNvSpPr/>
            <p:nvPr/>
          </p:nvSpPr>
          <p:spPr>
            <a:xfrm>
              <a:off x="7512840" y="45482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Rectangle 118"/>
            <p:cNvSpPr/>
            <p:nvPr/>
          </p:nvSpPr>
          <p:spPr>
            <a:xfrm>
              <a:off x="8444160" y="54374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 name="Freeform 119"/>
            <p:cNvSpPr/>
            <p:nvPr/>
          </p:nvSpPr>
          <p:spPr>
            <a:xfrm>
              <a:off x="2084400" y="3664080"/>
              <a:ext cx="452376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91" name="Freeform 120"/>
            <p:cNvSpPr/>
            <p:nvPr/>
          </p:nvSpPr>
          <p:spPr>
            <a:xfrm>
              <a:off x="2084400" y="45482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92" name="Freeform 121"/>
            <p:cNvSpPr/>
            <p:nvPr/>
          </p:nvSpPr>
          <p:spPr>
            <a:xfrm>
              <a:off x="5704560" y="5434200"/>
              <a:ext cx="144936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93" name="Rectangle 122"/>
            <p:cNvSpPr/>
            <p:nvPr/>
          </p:nvSpPr>
          <p:spPr>
            <a:xfrm>
              <a:off x="2988720" y="54374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pic>
        <p:nvPicPr>
          <p:cNvPr id="94" name="Picture 129" descr="5300_IBMpos_black_PPT_bkgd"/>
          <p:cNvPicPr/>
          <p:nvPr/>
        </p:nvPicPr>
        <p:blipFill>
          <a:blip r:embed="rId3"/>
          <a:stretch/>
        </p:blipFill>
        <p:spPr>
          <a:xfrm>
            <a:off x="8280360" y="684360"/>
            <a:ext cx="585720" cy="234720"/>
          </a:xfrm>
          <a:prstGeom prst="rect">
            <a:avLst/>
          </a:prstGeom>
          <a:ln w="0">
            <a:noFill/>
          </a:ln>
        </p:spPr>
      </p:pic>
      <p:sp>
        <p:nvSpPr>
          <p:cNvPr id="9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96"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135" name="Picture 40" descr="5300_IBMpos_black_PPT_bkgd"/>
          <p:cNvPicPr/>
          <p:nvPr/>
        </p:nvPicPr>
        <p:blipFill>
          <a:blip r:embed="rId2"/>
          <a:stretch/>
        </p:blipFill>
        <p:spPr>
          <a:xfrm>
            <a:off x="8283600" y="228600"/>
            <a:ext cx="585720" cy="235080"/>
          </a:xfrm>
          <a:prstGeom prst="rect">
            <a:avLst/>
          </a:prstGeom>
          <a:ln w="0">
            <a:noFill/>
          </a:ln>
        </p:spPr>
      </p:pic>
      <p:sp>
        <p:nvSpPr>
          <p:cNvPr id="136"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13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3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9" name="PlaceHolder 3"/>
          <p:cNvSpPr>
            <a:spLocks noGrp="1"/>
          </p:cNvSpPr>
          <p:nvPr>
            <p:ph type="sldNum" idx="4"/>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32BD-10BC-406C-8D5B-76E039650F9D}"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140" name="PlaceHolder 4"/>
          <p:cNvSpPr>
            <a:spLocks noGrp="1"/>
          </p:cNvSpPr>
          <p:nvPr>
            <p:ph type="ftr" idx="5"/>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141" name="PlaceHolder 5"/>
          <p:cNvSpPr>
            <a:spLocks noGrp="1"/>
          </p:cNvSpPr>
          <p:nvPr>
            <p:ph type="dt" idx="6"/>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2EEA-7B35-4289-999F-EAEE64267656}"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9"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180" name="Picture 40" descr="5300_IBMpos_black_PPT_bkgd"/>
          <p:cNvPicPr/>
          <p:nvPr/>
        </p:nvPicPr>
        <p:blipFill>
          <a:blip r:embed="rId2"/>
          <a:stretch/>
        </p:blipFill>
        <p:spPr>
          <a:xfrm>
            <a:off x="8283600" y="228600"/>
            <a:ext cx="585720" cy="235080"/>
          </a:xfrm>
          <a:prstGeom prst="rect">
            <a:avLst/>
          </a:prstGeom>
          <a:ln w="0">
            <a:noFill/>
          </a:ln>
        </p:spPr>
      </p:pic>
      <p:sp>
        <p:nvSpPr>
          <p:cNvPr id="181"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18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8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4" name="PlaceHolder 3"/>
          <p:cNvSpPr>
            <a:spLocks noGrp="1"/>
          </p:cNvSpPr>
          <p:nvPr>
            <p:ph type="sldNum" idx="7"/>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A461-70D8-4F97-9308-E516A8376428}"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185" name="PlaceHolder 4"/>
          <p:cNvSpPr>
            <a:spLocks noGrp="1"/>
          </p:cNvSpPr>
          <p:nvPr>
            <p:ph type="ftr" idx="8"/>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186" name="PlaceHolder 5"/>
          <p:cNvSpPr>
            <a:spLocks noGrp="1"/>
          </p:cNvSpPr>
          <p:nvPr>
            <p:ph type="dt" idx="9"/>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F54A-1756-4531-82FE-2A95E29F8B16}"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225" name="Picture 40" descr="5300_IBMpos_black_PPT_bkgd"/>
          <p:cNvPicPr/>
          <p:nvPr/>
        </p:nvPicPr>
        <p:blipFill>
          <a:blip r:embed="rId2"/>
          <a:stretch/>
        </p:blipFill>
        <p:spPr>
          <a:xfrm>
            <a:off x="8283600" y="228600"/>
            <a:ext cx="585720" cy="235080"/>
          </a:xfrm>
          <a:prstGeom prst="rect">
            <a:avLst/>
          </a:prstGeom>
          <a:ln w="0">
            <a:noFill/>
          </a:ln>
        </p:spPr>
      </p:pic>
      <p:sp>
        <p:nvSpPr>
          <p:cNvPr id="226"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22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22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9" name="PlaceHolder 3"/>
          <p:cNvSpPr>
            <a:spLocks noGrp="1"/>
          </p:cNvSpPr>
          <p:nvPr>
            <p:ph type="sldNum" idx="10"/>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65DB-43D4-4770-BE9B-E8E78B7A66B8}"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230" name="PlaceHolder 4"/>
          <p:cNvSpPr>
            <a:spLocks noGrp="1"/>
          </p:cNvSpPr>
          <p:nvPr>
            <p:ph type="ftr" idx="11"/>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231" name="PlaceHolder 5"/>
          <p:cNvSpPr>
            <a:spLocks noGrp="1"/>
          </p:cNvSpPr>
          <p:nvPr>
            <p:ph type="dt" idx="12"/>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B589-DDCE-4409-BF2B-81925A619321}"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9"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270" name="Picture 40" descr="5300_IBMpos_black_PPT_bkgd"/>
          <p:cNvPicPr/>
          <p:nvPr/>
        </p:nvPicPr>
        <p:blipFill>
          <a:blip r:embed="rId2"/>
          <a:stretch/>
        </p:blipFill>
        <p:spPr>
          <a:xfrm>
            <a:off x="8283600" y="228600"/>
            <a:ext cx="585720" cy="235080"/>
          </a:xfrm>
          <a:prstGeom prst="rect">
            <a:avLst/>
          </a:prstGeom>
          <a:ln w="0">
            <a:noFill/>
          </a:ln>
        </p:spPr>
      </p:pic>
      <p:sp>
        <p:nvSpPr>
          <p:cNvPr id="271"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27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27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4" name="PlaceHolder 3"/>
          <p:cNvSpPr>
            <a:spLocks noGrp="1"/>
          </p:cNvSpPr>
          <p:nvPr>
            <p:ph type="sldNum" idx="13"/>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F553-1FC3-465F-9053-ED154A75E577}"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275" name="PlaceHolder 4"/>
          <p:cNvSpPr>
            <a:spLocks noGrp="1"/>
          </p:cNvSpPr>
          <p:nvPr>
            <p:ph type="ftr" idx="14"/>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276" name="PlaceHolder 5"/>
          <p:cNvSpPr>
            <a:spLocks noGrp="1"/>
          </p:cNvSpPr>
          <p:nvPr>
            <p:ph type="dt" idx="15"/>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8552-98ED-4858-A851-3C0C32EC4643}"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14"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315" name="Picture 40" descr="5300_IBMpos_black_PPT_bkgd"/>
          <p:cNvPicPr/>
          <p:nvPr/>
        </p:nvPicPr>
        <p:blipFill>
          <a:blip r:embed="rId2"/>
          <a:stretch/>
        </p:blipFill>
        <p:spPr>
          <a:xfrm>
            <a:off x="8283600" y="228600"/>
            <a:ext cx="585720" cy="235080"/>
          </a:xfrm>
          <a:prstGeom prst="rect">
            <a:avLst/>
          </a:prstGeom>
          <a:ln w="0">
            <a:noFill/>
          </a:ln>
        </p:spPr>
      </p:pic>
      <p:sp>
        <p:nvSpPr>
          <p:cNvPr id="316"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31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31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9" name="PlaceHolder 3"/>
          <p:cNvSpPr>
            <a:spLocks noGrp="1"/>
          </p:cNvSpPr>
          <p:nvPr>
            <p:ph type="sldNum" idx="16"/>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B6DC-5223-4579-A249-AE1582685CC6}"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320" name="PlaceHolder 4"/>
          <p:cNvSpPr>
            <a:spLocks noGrp="1"/>
          </p:cNvSpPr>
          <p:nvPr>
            <p:ph type="ftr" idx="17"/>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321" name="PlaceHolder 5"/>
          <p:cNvSpPr>
            <a:spLocks noGrp="1"/>
          </p:cNvSpPr>
          <p:nvPr>
            <p:ph type="dt" idx="18"/>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6730-CDB2-4A72-BBDD-59FF9B523C9F}"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59"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pic>
        <p:nvPicPr>
          <p:cNvPr id="360" name="Picture 40" descr="5300_IBMpos_black_PPT_bkgd"/>
          <p:cNvPicPr/>
          <p:nvPr/>
        </p:nvPicPr>
        <p:blipFill>
          <a:blip r:embed="rId2"/>
          <a:stretch/>
        </p:blipFill>
        <p:spPr>
          <a:xfrm>
            <a:off x="8283600" y="228600"/>
            <a:ext cx="585720" cy="235080"/>
          </a:xfrm>
          <a:prstGeom prst="rect">
            <a:avLst/>
          </a:prstGeom>
          <a:ln w="0">
            <a:noFill/>
          </a:ln>
        </p:spPr>
      </p:pic>
      <p:sp>
        <p:nvSpPr>
          <p:cNvPr id="361"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7 IBM Corporation</a:t>
            </a:r>
            <a:endParaRPr b="1" lang="en-US" sz="900" spc="-1" strike="noStrike">
              <a:solidFill>
                <a:srgbClr val="000000"/>
              </a:solidFill>
              <a:latin typeface="Arial"/>
            </a:endParaRPr>
          </a:p>
        </p:txBody>
      </p:sp>
      <p:sp>
        <p:nvSpPr>
          <p:cNvPr id="36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36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4" name="PlaceHolder 3"/>
          <p:cNvSpPr>
            <a:spLocks noGrp="1"/>
          </p:cNvSpPr>
          <p:nvPr>
            <p:ph type="sldNum" idx="19"/>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0B70-F687-46AA-864D-C10C437500D5}"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365" name="PlaceHolder 4"/>
          <p:cNvSpPr>
            <a:spLocks noGrp="1"/>
          </p:cNvSpPr>
          <p:nvPr>
            <p:ph type="ftr" idx="20"/>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366" name="PlaceHolder 5"/>
          <p:cNvSpPr>
            <a:spLocks noGrp="1"/>
          </p:cNvSpPr>
          <p:nvPr>
            <p:ph type="dt" idx="21"/>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6C7D-79B2-45A5-AFBB-5A160D7710BC}"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8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8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8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9X5JTz46rxA&amp;ytsession=iF4_fTFKee2CX7E6T6WavxpngsUQkgWt0h07QXAHJ0ck0QnC6iX1i9Y87xsnl6FAaDtJGeL360Puay6wQ_m4THf2-81igsT_PKMDfKrAb_471OeZw61chBc0L0twfUGpVa2Kivl8xmw-ScXchwOcOE_JcM4nbwtUmwZY9Vlf8oA3eX-BU51UrFiVk8D2D__WfYESe9Kk0Hg" TargetMode="External"/><Relationship Id="rId2" Type="http://schemas.openxmlformats.org/officeDocument/2006/relationships/image" Target="../media/image31.jpeg"/><Relationship Id="rId3" Type="http://schemas.openxmlformats.org/officeDocument/2006/relationships/slideLayout" Target="../slideLayouts/slideLayout3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82160" y="1417320"/>
            <a:ext cx="8729640" cy="2011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Value of Cloud Computing </a:t>
            </a:r>
            <a:br>
              <a:rPr sz="3500"/>
            </a:br>
            <a:r>
              <a:rPr b="0" lang="en-US" sz="3500" spc="-1" strike="noStrike">
                <a:solidFill>
                  <a:srgbClr val="000000"/>
                </a:solidFill>
                <a:latin typeface="Arial"/>
              </a:rPr>
              <a:t>on z Systems</a:t>
            </a:r>
            <a:r>
              <a:rPr b="1" lang="en-US" sz="2400" spc="-1" strike="noStrike" baseline="54000">
                <a:solidFill>
                  <a:srgbClr val="000000"/>
                </a:solidFill>
                <a:latin typeface="Arial"/>
              </a:rPr>
              <a:t>®</a:t>
            </a:r>
            <a:endParaRPr b="0" lang="en-US" sz="2400" spc="-1" strike="noStrike">
              <a:solidFill>
                <a:srgbClr val="000000"/>
              </a:solidFill>
              <a:latin typeface="Arial"/>
            </a:endParaRPr>
          </a:p>
        </p:txBody>
      </p:sp>
      <p:sp>
        <p:nvSpPr>
          <p:cNvPr id="636" name="Text Box 8"/>
          <p:cNvSpPr/>
          <p:nvPr/>
        </p:nvSpPr>
        <p:spPr>
          <a:xfrm>
            <a:off x="5832360" y="5989680"/>
            <a:ext cx="3156120" cy="398520"/>
          </a:xfrm>
          <a:prstGeom prst="rect">
            <a:avLst/>
          </a:prstGeom>
          <a:noFill/>
          <a:ln w="0">
            <a:noFill/>
          </a:ln>
        </p:spPr>
        <p:style>
          <a:lnRef idx="0"/>
          <a:fillRef idx="0"/>
          <a:effectRef idx="0"/>
          <a:fontRef idx="minor"/>
        </p:style>
        <p:txBody>
          <a:bodyPr lIns="90000" rIns="90000" tIns="46800" bIns="46800" anchor="t">
            <a:norm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International Business Machines Corporation 2017. All rights reserved.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47AC-EBC5-46D2-89D3-73F8B956A07B}"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75"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ing the Most Cost-Effective Option </a:t>
            </a:r>
            <a:br>
              <a:rPr sz="2200"/>
            </a:br>
            <a:endParaRPr b="0" lang="en-US" sz="2200" spc="-1" strike="noStrike">
              <a:solidFill>
                <a:srgbClr val="000000"/>
              </a:solidFill>
              <a:latin typeface="Arial"/>
            </a:endParaRPr>
          </a:p>
        </p:txBody>
      </p:sp>
      <p:sp>
        <p:nvSpPr>
          <p:cNvPr id="676" name="Text Box 5"/>
          <p:cNvSpPr/>
          <p:nvPr/>
        </p:nvSpPr>
        <p:spPr>
          <a:xfrm>
            <a:off x="274680" y="1600200"/>
            <a:ext cx="6218280" cy="47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 Cross Blue Shield of Minneso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dvantages of virtualization</a:t>
            </a:r>
            <a:r>
              <a:rPr b="0" lang="en-US" sz="1600" spc="-1" strike="noStrike">
                <a:solidFill>
                  <a:srgbClr val="009999"/>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lead time for server provisioning has been reduced by more than 99%. When the business requires a new test or development environment, the IT team can deploy a new Linux</a:t>
            </a:r>
            <a:r>
              <a:rPr b="0" lang="en-US" sz="1600" spc="-1" strike="noStrike" baseline="30000">
                <a:solidFill>
                  <a:srgbClr val="000000"/>
                </a:solidFill>
                <a:latin typeface="Arial"/>
              </a:rPr>
              <a: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server within 20 minutes. There is no longer any need to source a new physical server, wait for delivery, then install and configure it—a process which could take six to eight week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vailability and disaster recovery</a:t>
            </a:r>
            <a:r>
              <a:rPr b="0" lang="en-US" sz="1600" spc="-1" strike="noStrike">
                <a:solidFill>
                  <a:srgbClr val="009999"/>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since the new infrastructure went into production, BCBSM has not experienced a single incidence of unplanned downtime or underperformance. Equally, the company’s disaster recovery capability has been improved dramatically by the new solutio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Realizing the cost savings</a:t>
            </a:r>
            <a:r>
              <a:rPr b="0" lang="en-US" sz="1600" spc="-1" strike="noStrike">
                <a:solidFill>
                  <a:srgbClr val="479d83"/>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BCBSM expects the new infrastructure to deliver cost savings over and above the predicted TCO savings in the initial cost-benefit analysis.</a:t>
            </a: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677" name="Rectangle 11"/>
          <p:cNvSpPr/>
          <p:nvPr/>
        </p:nvSpPr>
        <p:spPr>
          <a:xfrm>
            <a:off x="6583320" y="1879560"/>
            <a:ext cx="201132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Even without factoring in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maintenance and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ort costs—which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be considerable for a large estate of physical servers—we found that running a virtualized Linux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vironment on z System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be somewhere between 30 and 50 percent less expensive than a distributed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chitecture,”  says Ted Mansk, Director of Infrastructure </a:t>
            </a:r>
            <a:br>
              <a:rPr sz="1200"/>
            </a:br>
            <a:r>
              <a:rPr b="0" i="1" lang="en-US" sz="1200" spc="-1" strike="noStrike">
                <a:solidFill>
                  <a:srgbClr val="000000"/>
                </a:solidFill>
                <a:latin typeface="Arial"/>
              </a:rPr>
              <a:t>Engineering and Databases at BCBSM</a:t>
            </a:r>
            <a:endParaRPr b="1" lang="en-US" sz="1200" spc="-1" strike="noStrike">
              <a:solidFill>
                <a:srgbClr val="000000"/>
              </a:solidFill>
              <a:latin typeface="Arial"/>
            </a:endParaRPr>
          </a:p>
        </p:txBody>
      </p:sp>
      <p:pic>
        <p:nvPicPr>
          <p:cNvPr id="678" name="Picture 12" descr="Blue Cross Blue Shield of Minnesota logo."/>
          <p:cNvPicPr/>
          <p:nvPr/>
        </p:nvPicPr>
        <p:blipFill>
          <a:blip r:embed="rId1"/>
          <a:stretch/>
        </p:blipFill>
        <p:spPr>
          <a:xfrm>
            <a:off x="6583320" y="5257800"/>
            <a:ext cx="200016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0F8C-550F-48F3-9C88-F0A14DD66E75}"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80" name="PlaceHolder 1"/>
          <p:cNvSpPr>
            <a:spLocks noGrp="1"/>
          </p:cNvSpPr>
          <p:nvPr>
            <p:ph type="title"/>
          </p:nvPr>
        </p:nvSpPr>
        <p:spPr>
          <a:xfrm>
            <a:off x="182520" y="593280"/>
            <a:ext cx="8686800" cy="118908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makes z Systems the ideal platform for cloud computing?</a:t>
            </a:r>
            <a:br>
              <a:rPr sz="2200"/>
            </a:br>
            <a:br>
              <a:rPr sz="2200"/>
            </a:br>
            <a:endParaRPr b="0" lang="en-US" sz="2200" spc="-1" strike="noStrike">
              <a:solidFill>
                <a:srgbClr val="000000"/>
              </a:solidFill>
              <a:latin typeface="Arial"/>
            </a:endParaRPr>
          </a:p>
        </p:txBody>
      </p:sp>
      <p:pic>
        <p:nvPicPr>
          <p:cNvPr id="681" name="Picture 4" descr=""/>
          <p:cNvPicPr/>
          <p:nvPr/>
        </p:nvPicPr>
        <p:blipFill>
          <a:blip r:embed="rId1"/>
          <a:stretch/>
        </p:blipFill>
        <p:spPr>
          <a:xfrm>
            <a:off x="2468520" y="1517760"/>
            <a:ext cx="4297320" cy="478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33D9-D469-4EE2-B8A7-4577B5BB64DD}"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83"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tages to Deploying Clouds on Larger, Scale-up Servers</a:t>
            </a:r>
            <a:endParaRPr b="0" lang="en-US" sz="2200" spc="-1" strike="noStrike">
              <a:solidFill>
                <a:srgbClr val="000000"/>
              </a:solidFill>
              <a:latin typeface="Arial"/>
            </a:endParaRPr>
          </a:p>
        </p:txBody>
      </p:sp>
      <p:pic>
        <p:nvPicPr>
          <p:cNvPr id="684" name="Picture 4" descr=""/>
          <p:cNvPicPr/>
          <p:nvPr/>
        </p:nvPicPr>
        <p:blipFill>
          <a:blip r:embed="rId1">
            <a:lum contrast="6000"/>
          </a:blip>
          <a:stretch/>
        </p:blipFill>
        <p:spPr>
          <a:xfrm>
            <a:off x="1554120" y="1687680"/>
            <a:ext cx="819360" cy="820440"/>
          </a:xfrm>
          <a:prstGeom prst="rect">
            <a:avLst/>
          </a:prstGeom>
          <a:ln w="0">
            <a:noFill/>
          </a:ln>
        </p:spPr>
      </p:pic>
      <p:pic>
        <p:nvPicPr>
          <p:cNvPr id="685" name="Picture 5" descr=""/>
          <p:cNvPicPr/>
          <p:nvPr/>
        </p:nvPicPr>
        <p:blipFill>
          <a:blip r:embed="rId2">
            <a:lum contrast="6000"/>
          </a:blip>
          <a:stretch/>
        </p:blipFill>
        <p:spPr>
          <a:xfrm>
            <a:off x="5486400" y="1692360"/>
            <a:ext cx="835200" cy="807840"/>
          </a:xfrm>
          <a:prstGeom prst="rect">
            <a:avLst/>
          </a:prstGeom>
          <a:ln w="0">
            <a:noFill/>
          </a:ln>
        </p:spPr>
      </p:pic>
      <p:pic>
        <p:nvPicPr>
          <p:cNvPr id="686" name="Picture 7" descr=""/>
          <p:cNvPicPr/>
          <p:nvPr/>
        </p:nvPicPr>
        <p:blipFill>
          <a:blip r:embed="rId3">
            <a:lum contrast="6000"/>
          </a:blip>
          <a:stretch/>
        </p:blipFill>
        <p:spPr>
          <a:xfrm>
            <a:off x="1463760" y="4068720"/>
            <a:ext cx="1025280" cy="992160"/>
          </a:xfrm>
          <a:prstGeom prst="rect">
            <a:avLst/>
          </a:prstGeom>
          <a:ln w="0">
            <a:noFill/>
          </a:ln>
        </p:spPr>
      </p:pic>
      <p:pic>
        <p:nvPicPr>
          <p:cNvPr id="687" name="Picture 10" descr=""/>
          <p:cNvPicPr/>
          <p:nvPr/>
        </p:nvPicPr>
        <p:blipFill>
          <a:blip r:embed="rId4">
            <a:lum contrast="6000"/>
          </a:blip>
          <a:stretch/>
        </p:blipFill>
        <p:spPr>
          <a:xfrm>
            <a:off x="5486400" y="4160880"/>
            <a:ext cx="825480" cy="798480"/>
          </a:xfrm>
          <a:prstGeom prst="rect">
            <a:avLst/>
          </a:prstGeom>
          <a:ln w="0">
            <a:noFill/>
          </a:ln>
        </p:spPr>
      </p:pic>
      <p:sp>
        <p:nvSpPr>
          <p:cNvPr id="688" name="Rectangle 3"/>
          <p:cNvSpPr/>
          <p:nvPr/>
        </p:nvSpPr>
        <p:spPr>
          <a:xfrm>
            <a:off x="914400" y="2584440"/>
            <a:ext cx="3657600" cy="1027080"/>
          </a:xfrm>
          <a:prstGeom prst="rect">
            <a:avLst/>
          </a:prstGeom>
          <a:noFill/>
          <a:ln w="0">
            <a:noFill/>
          </a:ln>
        </p:spPr>
        <p:style>
          <a:lnRef idx="0"/>
          <a:fillRef idx="0"/>
          <a:effectRef idx="0"/>
          <a:fontRef idx="minor"/>
        </p:style>
        <p:txBody>
          <a:bodyPr lIns="74160" rIns="74160" tIns="73800" bIns="37080" anchor="t">
            <a:normAutofit fontScale="84000"/>
          </a:bodyPr>
          <a:p>
            <a:pPr marL="195840" indent="-19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igher Utilization</a:t>
            </a:r>
            <a:endParaRPr b="1" lang="en-US" sz="18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p to 100% CPU utilization</a:t>
            </a:r>
            <a:endParaRPr b="1" lang="en-US" sz="16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Shared everything” architecture</a:t>
            </a:r>
            <a:endParaRPr b="1" lang="en-US" sz="16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st thousands of mixed workloads</a:t>
            </a:r>
            <a:endParaRPr b="1" lang="en-US" sz="1600" spc="-1" strike="noStrike">
              <a:solidFill>
                <a:srgbClr val="000000"/>
              </a:solidFill>
              <a:latin typeface="Arial"/>
            </a:endParaRPr>
          </a:p>
        </p:txBody>
      </p:sp>
      <p:sp>
        <p:nvSpPr>
          <p:cNvPr id="689" name="Rectangle 6"/>
          <p:cNvSpPr/>
          <p:nvPr/>
        </p:nvSpPr>
        <p:spPr>
          <a:xfrm>
            <a:off x="4851360" y="2589120"/>
            <a:ext cx="3487680" cy="1027080"/>
          </a:xfrm>
          <a:prstGeom prst="rect">
            <a:avLst/>
          </a:prstGeom>
          <a:noFill/>
          <a:ln w="0">
            <a:noFill/>
          </a:ln>
        </p:spPr>
        <p:style>
          <a:lnRef idx="0"/>
          <a:fillRef idx="0"/>
          <a:effectRef idx="0"/>
          <a:fontRef idx="minor"/>
        </p:style>
        <p:txBody>
          <a:bodyPr lIns="74160" rIns="74160" tIns="73800" bIns="37080" anchor="t">
            <a:normAutofit fontScale="84000"/>
          </a:bodyPr>
          <a:p>
            <a:pPr marL="195840" indent="-19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re Efficient Data Center</a:t>
            </a:r>
            <a:endParaRPr b="1" lang="en-US" sz="18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s power and cooling</a:t>
            </a:r>
            <a:endParaRPr b="1" lang="en-US" sz="16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s floor space</a:t>
            </a:r>
            <a:endParaRPr b="1" lang="en-US" sz="16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er parts to manage</a:t>
            </a:r>
            <a:endParaRPr b="1" lang="en-US" sz="1600" spc="-1" strike="noStrike">
              <a:solidFill>
                <a:srgbClr val="000000"/>
              </a:solidFill>
              <a:latin typeface="Arial"/>
            </a:endParaRPr>
          </a:p>
        </p:txBody>
      </p:sp>
      <p:sp>
        <p:nvSpPr>
          <p:cNvPr id="690" name="Rectangle 8"/>
          <p:cNvSpPr/>
          <p:nvPr/>
        </p:nvSpPr>
        <p:spPr>
          <a:xfrm>
            <a:off x="914400" y="5049720"/>
            <a:ext cx="3290760" cy="1027080"/>
          </a:xfrm>
          <a:prstGeom prst="rect">
            <a:avLst/>
          </a:prstGeom>
          <a:noFill/>
          <a:ln w="0">
            <a:noFill/>
          </a:ln>
        </p:spPr>
        <p:style>
          <a:lnRef idx="0"/>
          <a:fillRef idx="0"/>
          <a:effectRef idx="0"/>
          <a:fontRef idx="minor"/>
        </p:style>
        <p:txBody>
          <a:bodyPr lIns="74160" rIns="74160" tIns="73800" bIns="37080" anchor="t">
            <a:normAutofit fontScale="83000"/>
          </a:bodyPr>
          <a:p>
            <a:pPr marL="193320" indent="-193320">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ed Productivity</a:t>
            </a:r>
            <a:endParaRPr b="1" lang="en-US" sz="1800" spc="-1" strike="noStrike">
              <a:solidFill>
                <a:srgbClr val="000000"/>
              </a:solidFill>
              <a:latin typeface="Arial"/>
            </a:endParaRPr>
          </a:p>
          <a:p>
            <a:pPr marL="193320" indent="-19332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fficient, rapid provisioning</a:t>
            </a:r>
            <a:endParaRPr b="1" lang="en-US" sz="1600" spc="-1" strike="noStrike">
              <a:solidFill>
                <a:srgbClr val="000000"/>
              </a:solidFill>
              <a:latin typeface="Arial"/>
            </a:endParaRPr>
          </a:p>
          <a:p>
            <a:pPr marL="193320" indent="-19332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ior workload management </a:t>
            </a:r>
            <a:endParaRPr b="1" lang="en-US" sz="1600" spc="-1" strike="noStrike">
              <a:solidFill>
                <a:srgbClr val="000000"/>
              </a:solidFill>
              <a:latin typeface="Arial"/>
            </a:endParaRPr>
          </a:p>
          <a:p>
            <a:pPr marL="193320" indent="-19332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er parts to manage</a:t>
            </a:r>
            <a:endParaRPr b="1" lang="en-US" sz="1600" spc="-1" strike="noStrike">
              <a:solidFill>
                <a:srgbClr val="000000"/>
              </a:solidFill>
              <a:latin typeface="Arial"/>
            </a:endParaRPr>
          </a:p>
        </p:txBody>
      </p:sp>
      <p:sp>
        <p:nvSpPr>
          <p:cNvPr id="691" name="Rectangle 9"/>
          <p:cNvSpPr/>
          <p:nvPr/>
        </p:nvSpPr>
        <p:spPr>
          <a:xfrm>
            <a:off x="4851360" y="5049720"/>
            <a:ext cx="3560760" cy="1027080"/>
          </a:xfrm>
          <a:prstGeom prst="rect">
            <a:avLst/>
          </a:prstGeom>
          <a:noFill/>
          <a:ln w="0">
            <a:noFill/>
          </a:ln>
        </p:spPr>
        <p:style>
          <a:lnRef idx="0"/>
          <a:fillRef idx="0"/>
          <a:effectRef idx="0"/>
          <a:fontRef idx="minor"/>
        </p:style>
        <p:txBody>
          <a:bodyPr lIns="74160" rIns="74160" tIns="73800" bIns="37080" anchor="t">
            <a:normAutofit fontScale="83000"/>
          </a:bodyPr>
          <a:p>
            <a:pPr marL="193320" indent="-193320">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eater Reliability, Availability</a:t>
            </a:r>
            <a:endParaRPr b="1" lang="en-US" sz="1800" spc="-1" strike="noStrike">
              <a:solidFill>
                <a:srgbClr val="000000"/>
              </a:solidFill>
              <a:latin typeface="Arial"/>
            </a:endParaRPr>
          </a:p>
          <a:p>
            <a:pPr marL="193320" indent="-19332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ilt-in hardware redundancy</a:t>
            </a:r>
            <a:endParaRPr b="1" lang="en-US" sz="1600" spc="-1" strike="noStrike">
              <a:solidFill>
                <a:srgbClr val="000000"/>
              </a:solidFill>
              <a:latin typeface="Arial"/>
            </a:endParaRPr>
          </a:p>
          <a:p>
            <a:pPr marL="193320" indent="-19332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ades of RAS innovation</a:t>
            </a:r>
            <a:endParaRPr b="1" lang="en-US" sz="1600" spc="-1" strike="noStrike">
              <a:solidFill>
                <a:srgbClr val="000000"/>
              </a:solidFill>
              <a:latin typeface="Arial"/>
            </a:endParaRPr>
          </a:p>
          <a:p>
            <a:pPr marL="193320" indent="-19332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pacity and Backup on Demand</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6721-F6C3-43AF-B266-B5BAB30D5A3A}"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93"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 Systems has had cloud computing capability and has been supplying business flexibility for years.</a:t>
            </a:r>
            <a:endParaRPr b="0" lang="en-US" sz="2200" spc="-1" strike="noStrike">
              <a:solidFill>
                <a:srgbClr val="000000"/>
              </a:solidFill>
              <a:latin typeface="Arial"/>
            </a:endParaRPr>
          </a:p>
        </p:txBody>
      </p:sp>
      <p:sp>
        <p:nvSpPr>
          <p:cNvPr id="694" name="Rectangle 5"/>
          <p:cNvSpPr/>
          <p:nvPr/>
        </p:nvSpPr>
        <p:spPr>
          <a:xfrm>
            <a:off x="838080" y="1720800"/>
            <a:ext cx="7545600" cy="611280"/>
          </a:xfrm>
          <a:prstGeom prst="rect">
            <a:avLst/>
          </a:prstGeom>
          <a:noFill/>
          <a:ln w="0">
            <a:noFill/>
          </a:ln>
        </p:spPr>
        <p:style>
          <a:lnRef idx="0"/>
          <a:fillRef idx="0"/>
          <a:effectRef idx="0"/>
          <a:fontRef idx="minor"/>
        </p:style>
        <p:txBody>
          <a:bodyPr lIns="90000" rIns="90000" tIns="46800" bIns="46800" anchor="t">
            <a:normAutofit/>
          </a:bodyPr>
          <a:p>
            <a:pPr marL="173160" indent="-173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Systems supplies all components necessary to deliver the cloud today </a:t>
            </a:r>
            <a:endParaRPr b="1" lang="en-US" sz="1800" spc="-1" strike="noStrike">
              <a:solidFill>
                <a:srgbClr val="000000"/>
              </a:solidFill>
              <a:latin typeface="Arial"/>
            </a:endParaRPr>
          </a:p>
        </p:txBody>
      </p:sp>
      <p:sp>
        <p:nvSpPr>
          <p:cNvPr id="695" name="AutoShape 7"/>
          <p:cNvSpPr/>
          <p:nvPr/>
        </p:nvSpPr>
        <p:spPr>
          <a:xfrm>
            <a:off x="228600" y="2438280"/>
            <a:ext cx="2971800" cy="47808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6" name="Text Box 11"/>
          <p:cNvSpPr/>
          <p:nvPr/>
        </p:nvSpPr>
        <p:spPr>
          <a:xfrm>
            <a:off x="533520" y="2482920"/>
            <a:ext cx="246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orkload Management </a:t>
            </a:r>
            <a:endParaRPr b="1" lang="en-US" sz="1600" spc="-1" strike="noStrike">
              <a:solidFill>
                <a:srgbClr val="000000"/>
              </a:solidFill>
              <a:latin typeface="Arial"/>
            </a:endParaRPr>
          </a:p>
        </p:txBody>
      </p:sp>
      <p:sp>
        <p:nvSpPr>
          <p:cNvPr id="697" name="Rectangle 25"/>
          <p:cNvSpPr/>
          <p:nvPr/>
        </p:nvSpPr>
        <p:spPr>
          <a:xfrm>
            <a:off x="228600" y="2819520"/>
            <a:ext cx="2895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Manage cloud infrastructure capacity requirements consistent with business policies</a:t>
            </a:r>
            <a:endParaRPr b="1" lang="en-US" sz="1400" spc="-1" strike="noStrike">
              <a:solidFill>
                <a:srgbClr val="000000"/>
              </a:solidFill>
              <a:latin typeface="Arial"/>
            </a:endParaRPr>
          </a:p>
        </p:txBody>
      </p:sp>
      <p:sp>
        <p:nvSpPr>
          <p:cNvPr id="698" name="AutoShape 7"/>
          <p:cNvSpPr/>
          <p:nvPr/>
        </p:nvSpPr>
        <p:spPr>
          <a:xfrm>
            <a:off x="5334120" y="2362320"/>
            <a:ext cx="3566880" cy="47772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9" name="Text Box 14"/>
          <p:cNvSpPr/>
          <p:nvPr/>
        </p:nvSpPr>
        <p:spPr>
          <a:xfrm>
            <a:off x="5749200" y="2438280"/>
            <a:ext cx="30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vailability and Provisioning </a:t>
            </a:r>
            <a:endParaRPr b="1" lang="en-US" sz="1600" spc="-1" strike="noStrike">
              <a:solidFill>
                <a:srgbClr val="000000"/>
              </a:solidFill>
              <a:latin typeface="Arial"/>
            </a:endParaRPr>
          </a:p>
        </p:txBody>
      </p:sp>
      <p:sp>
        <p:nvSpPr>
          <p:cNvPr id="700" name="Rectangle 25"/>
          <p:cNvSpPr/>
          <p:nvPr/>
        </p:nvSpPr>
        <p:spPr>
          <a:xfrm>
            <a:off x="6019920" y="2743200"/>
            <a:ext cx="2681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Automation for deploying Virtual Machines and recovery applications including DR</a:t>
            </a:r>
            <a:endParaRPr b="1" lang="en-US" sz="1400" spc="-1" strike="noStrike">
              <a:solidFill>
                <a:srgbClr val="000000"/>
              </a:solidFill>
              <a:latin typeface="Arial"/>
            </a:endParaRPr>
          </a:p>
        </p:txBody>
      </p:sp>
      <p:sp>
        <p:nvSpPr>
          <p:cNvPr id="701" name="AutoShape 7"/>
          <p:cNvSpPr/>
          <p:nvPr/>
        </p:nvSpPr>
        <p:spPr>
          <a:xfrm>
            <a:off x="152280" y="3689280"/>
            <a:ext cx="2819520" cy="47808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2" name="Text Box 17"/>
          <p:cNvSpPr/>
          <p:nvPr/>
        </p:nvSpPr>
        <p:spPr>
          <a:xfrm>
            <a:off x="385560" y="3765600"/>
            <a:ext cx="253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ansaction Processing </a:t>
            </a:r>
            <a:endParaRPr b="1" lang="en-US" sz="1600" spc="-1" strike="noStrike">
              <a:solidFill>
                <a:srgbClr val="000000"/>
              </a:solidFill>
              <a:latin typeface="Arial"/>
            </a:endParaRPr>
          </a:p>
        </p:txBody>
      </p:sp>
      <p:sp>
        <p:nvSpPr>
          <p:cNvPr id="703" name="Rectangle 25"/>
          <p:cNvSpPr/>
          <p:nvPr/>
        </p:nvSpPr>
        <p:spPr>
          <a:xfrm>
            <a:off x="138240" y="4070520"/>
            <a:ext cx="2681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Support integration of cloud with mission-critical OLTP applications</a:t>
            </a:r>
            <a:endParaRPr b="1" lang="en-US" sz="1400" spc="-1" strike="noStrike">
              <a:solidFill>
                <a:srgbClr val="000000"/>
              </a:solidFill>
              <a:latin typeface="Arial"/>
            </a:endParaRPr>
          </a:p>
        </p:txBody>
      </p:sp>
      <p:sp>
        <p:nvSpPr>
          <p:cNvPr id="704" name="AutoShape 7"/>
          <p:cNvSpPr/>
          <p:nvPr/>
        </p:nvSpPr>
        <p:spPr>
          <a:xfrm>
            <a:off x="6019920" y="3505320"/>
            <a:ext cx="2871720" cy="47772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5" name="Text Box 20"/>
          <p:cNvSpPr/>
          <p:nvPr/>
        </p:nvSpPr>
        <p:spPr>
          <a:xfrm>
            <a:off x="6177960" y="3549600"/>
            <a:ext cx="265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ecurity and Compliance </a:t>
            </a:r>
            <a:endParaRPr b="1" lang="en-US" sz="1600" spc="-1" strike="noStrike">
              <a:solidFill>
                <a:srgbClr val="000000"/>
              </a:solidFill>
              <a:latin typeface="Arial"/>
            </a:endParaRPr>
          </a:p>
        </p:txBody>
      </p:sp>
      <p:sp>
        <p:nvSpPr>
          <p:cNvPr id="706" name="Rectangle 25"/>
          <p:cNvSpPr/>
          <p:nvPr/>
        </p:nvSpPr>
        <p:spPr>
          <a:xfrm>
            <a:off x="6248520" y="3886200"/>
            <a:ext cx="2681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z Systems Security provides fine-grained controls with hardware encryption and isolation</a:t>
            </a:r>
            <a:endParaRPr b="1" lang="en-US" sz="1400" spc="-1" strike="noStrike">
              <a:solidFill>
                <a:srgbClr val="000000"/>
              </a:solidFill>
              <a:latin typeface="Arial"/>
            </a:endParaRPr>
          </a:p>
        </p:txBody>
      </p:sp>
      <p:sp>
        <p:nvSpPr>
          <p:cNvPr id="707" name="AutoShape 7"/>
          <p:cNvSpPr/>
          <p:nvPr/>
        </p:nvSpPr>
        <p:spPr>
          <a:xfrm>
            <a:off x="404640" y="5105520"/>
            <a:ext cx="1805040" cy="47772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8" name="Text Box 23"/>
          <p:cNvSpPr/>
          <p:nvPr/>
        </p:nvSpPr>
        <p:spPr>
          <a:xfrm>
            <a:off x="766080" y="51814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alability </a:t>
            </a:r>
            <a:endParaRPr b="1" lang="en-US" sz="1600" spc="-1" strike="noStrike">
              <a:solidFill>
                <a:srgbClr val="000000"/>
              </a:solidFill>
              <a:latin typeface="Arial"/>
            </a:endParaRPr>
          </a:p>
        </p:txBody>
      </p:sp>
      <p:sp>
        <p:nvSpPr>
          <p:cNvPr id="709" name="Rectangle 25"/>
          <p:cNvSpPr/>
          <p:nvPr/>
        </p:nvSpPr>
        <p:spPr>
          <a:xfrm>
            <a:off x="61920" y="5562720"/>
            <a:ext cx="268128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Scale vertically with zOS</a:t>
            </a:r>
            <a:r>
              <a:rPr b="0" lang="en-US" sz="1600" spc="-1" strike="noStrike" baseline="30000">
                <a:solidFill>
                  <a:srgbClr val="000000"/>
                </a:solidFill>
                <a:latin typeface="Arial"/>
              </a:rPr>
              <a:t>®</a:t>
            </a:r>
            <a:r>
              <a:rPr b="0" lang="en-US" sz="1400" spc="-1" strike="noStrike">
                <a:solidFill>
                  <a:srgbClr val="333333"/>
                </a:solidFill>
                <a:latin typeface="Arial"/>
                <a:ea typeface="Arial"/>
              </a:rPr>
              <a:t> and LPAR and horizontally with zLinux and zVM</a:t>
            </a:r>
            <a:r>
              <a:rPr b="0" lang="en-US" sz="1600" spc="-1" strike="noStrike" baseline="30000">
                <a:solidFill>
                  <a:srgbClr val="000000"/>
                </a:solidFill>
                <a:latin typeface="Arial"/>
              </a:rPr>
              <a:t>®</a:t>
            </a:r>
            <a:r>
              <a:rPr b="0" lang="en-US" sz="1400" spc="-1" strike="noStrike">
                <a:solidFill>
                  <a:srgbClr val="333333"/>
                </a:solidFill>
                <a:latin typeface="Arial"/>
                <a:ea typeface="Arial"/>
              </a:rPr>
              <a:t> coupled with Workload Manager</a:t>
            </a:r>
            <a:endParaRPr b="1" lang="en-US" sz="1400" spc="-1" strike="noStrike">
              <a:solidFill>
                <a:srgbClr val="000000"/>
              </a:solidFill>
              <a:latin typeface="Arial"/>
            </a:endParaRPr>
          </a:p>
        </p:txBody>
      </p:sp>
      <p:sp>
        <p:nvSpPr>
          <p:cNvPr id="710" name="AutoShape 7"/>
          <p:cNvSpPr/>
          <p:nvPr/>
        </p:nvSpPr>
        <p:spPr>
          <a:xfrm>
            <a:off x="6632640" y="4876920"/>
            <a:ext cx="2203560" cy="47772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1" name="Text Box 26"/>
          <p:cNvSpPr/>
          <p:nvPr/>
        </p:nvSpPr>
        <p:spPr>
          <a:xfrm>
            <a:off x="6583320" y="487692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uditing and Metrics </a:t>
            </a:r>
            <a:endParaRPr b="1" lang="en-US" sz="1600" spc="-1" strike="noStrike">
              <a:solidFill>
                <a:srgbClr val="000000"/>
              </a:solidFill>
              <a:latin typeface="Arial"/>
            </a:endParaRPr>
          </a:p>
        </p:txBody>
      </p:sp>
      <p:sp>
        <p:nvSpPr>
          <p:cNvPr id="712" name="Rectangle 25"/>
          <p:cNvSpPr/>
          <p:nvPr/>
        </p:nvSpPr>
        <p:spPr>
          <a:xfrm>
            <a:off x="6248520" y="5257800"/>
            <a:ext cx="2819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Workload-based accounting and metering to support capacity planning and chargeback to LOB</a:t>
            </a:r>
            <a:endParaRPr b="1" lang="en-US" sz="1400" spc="-1" strike="noStrike">
              <a:solidFill>
                <a:srgbClr val="000000"/>
              </a:solidFill>
              <a:latin typeface="Arial"/>
            </a:endParaRPr>
          </a:p>
        </p:txBody>
      </p:sp>
      <p:grpSp>
        <p:nvGrpSpPr>
          <p:cNvPr id="713" name="Group 28"/>
          <p:cNvGrpSpPr/>
          <p:nvPr/>
        </p:nvGrpSpPr>
        <p:grpSpPr>
          <a:xfrm>
            <a:off x="2560680" y="2422440"/>
            <a:ext cx="3657240" cy="3352680"/>
            <a:chOff x="2560680" y="2422440"/>
            <a:chExt cx="3657240" cy="3352680"/>
          </a:xfrm>
        </p:grpSpPr>
        <p:pic>
          <p:nvPicPr>
            <p:cNvPr id="714" name="Picture 29" descr=""/>
            <p:cNvPicPr/>
            <p:nvPr/>
          </p:nvPicPr>
          <p:blipFill>
            <a:blip r:embed="rId1"/>
            <a:stretch/>
          </p:blipFill>
          <p:spPr>
            <a:xfrm>
              <a:off x="3358440" y="2422440"/>
              <a:ext cx="1994760" cy="2011680"/>
            </a:xfrm>
            <a:prstGeom prst="rect">
              <a:avLst/>
            </a:prstGeom>
            <a:ln w="0">
              <a:noFill/>
            </a:ln>
          </p:spPr>
        </p:pic>
        <p:pic>
          <p:nvPicPr>
            <p:cNvPr id="715" name="Picture 30" descr=""/>
            <p:cNvPicPr/>
            <p:nvPr/>
          </p:nvPicPr>
          <p:blipFill>
            <a:blip r:embed="rId2"/>
            <a:stretch/>
          </p:blipFill>
          <p:spPr>
            <a:xfrm>
              <a:off x="4223160" y="3763440"/>
              <a:ext cx="1994760" cy="2011680"/>
            </a:xfrm>
            <a:prstGeom prst="rect">
              <a:avLst/>
            </a:prstGeom>
            <a:ln w="0">
              <a:noFill/>
            </a:ln>
          </p:spPr>
        </p:pic>
        <p:pic>
          <p:nvPicPr>
            <p:cNvPr id="716" name="Picture 31" descr=""/>
            <p:cNvPicPr/>
            <p:nvPr/>
          </p:nvPicPr>
          <p:blipFill>
            <a:blip r:embed="rId3"/>
            <a:stretch/>
          </p:blipFill>
          <p:spPr>
            <a:xfrm>
              <a:off x="2560680" y="3751200"/>
              <a:ext cx="2007360" cy="20239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BF9C-4D4F-489B-B50B-6AF69799D9A8}"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18" name="PlaceHolder 1"/>
          <p:cNvSpPr>
            <a:spLocks noGrp="1"/>
          </p:cNvSpPr>
          <p:nvPr>
            <p:ph type="title"/>
          </p:nvPr>
        </p:nvSpPr>
        <p:spPr>
          <a:xfrm>
            <a:off x="182520" y="593640"/>
            <a:ext cx="868680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Cloud Advantage</a:t>
            </a:r>
            <a:endParaRPr b="0" lang="en-US" sz="2400" spc="-1" strike="noStrike">
              <a:solidFill>
                <a:srgbClr val="000000"/>
              </a:solidFill>
              <a:latin typeface="Arial"/>
            </a:endParaRPr>
          </a:p>
        </p:txBody>
      </p:sp>
      <p:pic>
        <p:nvPicPr>
          <p:cNvPr id="719" name="Picture 1" descr="The graph displays the results for a three-year TCO study. The study compared zEnterprise consolidation with two cores running Linux to forty x86 server cores running Oracle. Left of the x-axis is a label, three-year Cost per Workload/Image in US dollars The graph’s x-axis is demarcated in $50,000 increments from zero, starting at the bottom with zero, to $300,000, at the top.  The y-axis is divided into three categories from left to right: Light Intel Workloads, Heavy Unix® Workloads, and Workloads with Heavy I/O. Above each category are two bar graphs. The first bar represents the public cloud on Amazon. and next to it is a second bar, for a private cloud with zEnterprise. For Light Intel Workloads, the three-year cost per workload for the public cloud is $46K, while for a private cloud with zEnterprise, it is $12.1K. For heavy Unix workloads, the three-year cost per workload for the public cloud is $243.6K while for a private cloud with zEnterprise, it is $80.7K. For workloads with heavy I/O, the three-year cost per workload for the public cloud is $80.1K, while for a private cloud with zEnterprise,it is $16.0K.  A label at the upper left corner of the graph states “76% lower overall TCO.”"/>
          <p:cNvPicPr/>
          <p:nvPr/>
        </p:nvPicPr>
        <p:blipFill>
          <a:blip r:embed="rId1"/>
          <a:stretch/>
        </p:blipFill>
        <p:spPr>
          <a:xfrm>
            <a:off x="555480" y="1039680"/>
            <a:ext cx="8064720" cy="5029200"/>
          </a:xfrm>
          <a:prstGeom prst="rect">
            <a:avLst/>
          </a:prstGeom>
          <a:ln w="0">
            <a:noFill/>
          </a:ln>
        </p:spPr>
      </p:pic>
      <p:sp>
        <p:nvSpPr>
          <p:cNvPr id="720" name="Text Box 5"/>
          <p:cNvSpPr/>
          <p:nvPr/>
        </p:nvSpPr>
        <p:spPr>
          <a:xfrm>
            <a:off x="274680" y="6172200"/>
            <a:ext cx="8626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IBM internal study. zEnterprise configurations needed to support the three workload types were derived from IBM benchmarks. Public cloud sizing needed to support three workload types was calculated based on a compute capacity of public cloud services. Three-year TCO for public cloud was based on pricing information available by the service provider. Three-year TCO for zEnterprise included hardware acquisition, maintenance, software acquisition, Service and Support, and labor. US pricing varied by country. </a:t>
            </a:r>
            <a:r>
              <a:rPr b="1" lang="en-US" sz="800" spc="-1" strike="noStrike">
                <a:solidFill>
                  <a:srgbClr val="000000"/>
                </a:solidFill>
                <a:latin typeface="Arial"/>
                <a:ea typeface="Arial"/>
              </a:rPr>
              <a:t> </a:t>
            </a:r>
            <a:endParaRPr b="1"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B896-803B-4A9B-98AC-CCA924569138}"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22"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bout Hybrid cloud? </a:t>
            </a:r>
            <a:endParaRPr b="0" lang="en-US" sz="2200" spc="-1" strike="noStrike">
              <a:solidFill>
                <a:srgbClr val="000000"/>
              </a:solidFill>
              <a:latin typeface="Arial"/>
            </a:endParaRPr>
          </a:p>
        </p:txBody>
      </p:sp>
      <p:pic>
        <p:nvPicPr>
          <p:cNvPr id="723" name="Picture 6" descr="This graphic is titled, Cloud implementations can deliver smarter, more flexible infrastructure. Below the title, in a text box, is the following text, Cloud computing is a service delivery model that enables the automation of shared computing resources. Below this box are three more boxes that span graphic with the following information:&#13;&#10;&#13;&#10;Private cloud -- IT capabilities are provided “as a service” over an intranet, within the enterprise and behind the firewall.&#13;&#10;Hybrid – Internal, on-premise and external service delivery methods are integrated&#13;&#10;Public cloud – IT activities and functions are provided “as a service” over the Internet&#13;&#10;&#13;&#10;To the right of the three boxes is the following text: &#13;&#10;What are clients thinking?&#13;&#10;81% are moving to cloud with 62% of CIOs and business leaders citing it as the top priority&#13;&#10;70% are concerned about the ability to see and understand their cloud environments&#13;&#10;43% are focused on improving cloud efficiency, speed and control&#13;&#10;"/>
          <p:cNvPicPr/>
          <p:nvPr/>
        </p:nvPicPr>
        <p:blipFill>
          <a:blip r:embed="rId1"/>
          <a:srcRect l="1116" t="0" r="0" b="0"/>
          <a:stretch/>
        </p:blipFill>
        <p:spPr>
          <a:xfrm>
            <a:off x="0" y="1417680"/>
            <a:ext cx="9097920" cy="4754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4DB9-B2AD-422E-8B64-9BDA8476818A}"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25"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igital Enterprise Operates at Multiple Speeds. </a:t>
            </a:r>
            <a:endParaRPr b="0" lang="en-US" sz="2200" spc="-1" strike="noStrike">
              <a:solidFill>
                <a:srgbClr val="000000"/>
              </a:solidFill>
              <a:latin typeface="Arial"/>
            </a:endParaRPr>
          </a:p>
        </p:txBody>
      </p:sp>
      <p:pic>
        <p:nvPicPr>
          <p:cNvPr id="726" name="Picture 2" descr="This graphic is titled, The Digital Enterprise Operates at Multiple Speeds. The main image in the middle is of two mechanical gears, one large and one small. On the left side of the large gear is the label, Enterprise Applications, which this large gear represents. To the right of large gear is the label, Steady Speed. Above this is the text, Traditional Projects: The capabilities to capitalize on your institutional knowledge. &#13;&#10;&#13;&#10;On the right side of the small gear is the label. Digital Applications, which this smaller gear on the right represents. On the left side of the small gear is the label, Fast Speed. Below that is the following text, New Projects: The speed and agility to drive innovation and growth. &#13;&#10;&#13;&#10;At the bottom of the graphic is the label, Multi-Speed IT.&#13;&#10;"/>
          <p:cNvPicPr/>
          <p:nvPr/>
        </p:nvPicPr>
        <p:blipFill>
          <a:blip r:embed="rId1"/>
          <a:stretch/>
        </p:blipFill>
        <p:spPr>
          <a:xfrm>
            <a:off x="365040" y="1511280"/>
            <a:ext cx="834408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AE46-EFCC-419B-9126-30ABC8214CB4}"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28" name="PlaceHolder 1"/>
          <p:cNvSpPr>
            <a:spLocks noGrp="1"/>
          </p:cNvSpPr>
          <p:nvPr>
            <p:ph type="title"/>
          </p:nvPr>
        </p:nvSpPr>
        <p:spPr>
          <a:xfrm>
            <a:off x="137880" y="600120"/>
            <a:ext cx="8767800" cy="357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brid Cloud accelerates transformation into a Digital Enterprise through 3 entry points </a:t>
            </a:r>
            <a:endParaRPr b="0" lang="en-US" sz="2200" spc="-1" strike="noStrike">
              <a:solidFill>
                <a:srgbClr val="000000"/>
              </a:solidFill>
              <a:latin typeface="Arial"/>
            </a:endParaRPr>
          </a:p>
        </p:txBody>
      </p:sp>
      <p:pic>
        <p:nvPicPr>
          <p:cNvPr id="729" name="Picture 4" descr=""/>
          <p:cNvPicPr/>
          <p:nvPr/>
        </p:nvPicPr>
        <p:blipFill>
          <a:blip r:embed="rId1"/>
          <a:stretch/>
        </p:blipFill>
        <p:spPr>
          <a:xfrm>
            <a:off x="639720" y="1417680"/>
            <a:ext cx="7601040" cy="2962080"/>
          </a:xfrm>
          <a:prstGeom prst="rect">
            <a:avLst/>
          </a:prstGeom>
          <a:ln w="0">
            <a:noFill/>
          </a:ln>
        </p:spPr>
      </p:pic>
      <p:grpSp>
        <p:nvGrpSpPr>
          <p:cNvPr id="730" name="Rounded Rectangle 52"/>
          <p:cNvGrpSpPr/>
          <p:nvPr/>
        </p:nvGrpSpPr>
        <p:grpSpPr>
          <a:xfrm>
            <a:off x="549360" y="1652760"/>
            <a:ext cx="2913120" cy="626760"/>
            <a:chOff x="549360" y="1652760"/>
            <a:chExt cx="2913120" cy="626760"/>
          </a:xfrm>
        </p:grpSpPr>
        <p:pic>
          <p:nvPicPr>
            <p:cNvPr id="731" name="Rounded Rectangle 52" descr=""/>
            <p:cNvPicPr/>
            <p:nvPr/>
          </p:nvPicPr>
          <p:blipFill>
            <a:blip r:embed="rId2"/>
            <a:stretch/>
          </p:blipFill>
          <p:spPr>
            <a:xfrm>
              <a:off x="549360" y="1652760"/>
              <a:ext cx="2913120" cy="626760"/>
            </a:xfrm>
            <a:prstGeom prst="rect">
              <a:avLst/>
            </a:prstGeom>
            <a:ln w="0">
              <a:noFill/>
            </a:ln>
          </p:spPr>
        </p:pic>
        <p:sp>
          <p:nvSpPr>
            <p:cNvPr id="732" name=""/>
            <p:cNvSpPr/>
            <p:nvPr/>
          </p:nvSpPr>
          <p:spPr>
            <a:xfrm>
              <a:off x="627120" y="1708200"/>
              <a:ext cx="2757600" cy="46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mize Enterpris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T Outcomes</a:t>
              </a:r>
              <a:endParaRPr b="1" lang="en-US" sz="900" spc="-1" strike="noStrike">
                <a:solidFill>
                  <a:srgbClr val="000000"/>
                </a:solidFill>
                <a:latin typeface="Arial"/>
              </a:endParaRPr>
            </a:p>
          </p:txBody>
        </p:sp>
      </p:grpSp>
      <p:sp>
        <p:nvSpPr>
          <p:cNvPr id="733" name="Text Box 37"/>
          <p:cNvSpPr/>
          <p:nvPr/>
        </p:nvSpPr>
        <p:spPr>
          <a:xfrm>
            <a:off x="396000" y="2541600"/>
            <a:ext cx="849240" cy="43380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wrap="none" lIns="68400" rIns="68400" tIns="34200" bIns="3420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ea typeface="MS PGothic"/>
              </a:rPr>
              <a:t>Systems </a:t>
            </a:r>
            <a:endParaRPr b="1" lang="en-US" sz="12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ea typeface="MS PGothic"/>
              </a:rPr>
              <a:t>of Record</a:t>
            </a:r>
            <a:endParaRPr b="1" lang="en-US" sz="1200" spc="-1" strike="noStrike">
              <a:solidFill>
                <a:srgbClr val="000000"/>
              </a:solidFill>
              <a:latin typeface="Arial"/>
            </a:endParaRPr>
          </a:p>
        </p:txBody>
      </p:sp>
      <p:sp>
        <p:nvSpPr>
          <p:cNvPr id="734" name="Rounded Rectangle 43"/>
          <p:cNvSpPr/>
          <p:nvPr/>
        </p:nvSpPr>
        <p:spPr>
          <a:xfrm rot="10800000">
            <a:off x="569880" y="3457080"/>
            <a:ext cx="2765520" cy="2806920"/>
          </a:xfrm>
          <a:custGeom>
            <a:avLst/>
            <a:gdLst>
              <a:gd name="textAreaLeft" fmla="*/ 96120 w 2765520"/>
              <a:gd name="textAreaRight" fmla="*/ 2669400 w 2765520"/>
              <a:gd name="textAreaTop" fmla="*/ 96120 h 2806920"/>
              <a:gd name="textAreaBottom" fmla="*/ 2710800 h 2806920"/>
            </a:gdLst>
            <a:ahLst/>
            <a:rect l="textAreaLeft" t="textAreaTop" r="textAreaRight" b="textAreaBottom"/>
            <a:pathLst>
              <a:path w="21600" h="21923">
                <a:moveTo>
                  <a:pt x="2571" y="0"/>
                </a:moveTo>
                <a:arcTo wR="2571" hR="2571" stAng="16200000" swAng="-5400000"/>
                <a:lnTo>
                  <a:pt x="0" y="19352"/>
                </a:lnTo>
                <a:arcTo wR="2571" hR="2571" stAng="10800000" swAng="-5400000"/>
                <a:lnTo>
                  <a:pt x="19029" y="21923"/>
                </a:lnTo>
                <a:arcTo wR="2571" hR="2571" stAng="5400000" swAng="-5400000"/>
                <a:lnTo>
                  <a:pt x="21600" y="2571"/>
                </a:lnTo>
                <a:arcTo wR="2571" hR="2571" stAng="0" swAng="-5400000"/>
                <a:close/>
              </a:path>
            </a:pathLst>
          </a:custGeom>
          <a:solidFill>
            <a:srgbClr val="f0f7fc"/>
          </a:solidFill>
          <a:ln w="0">
            <a:noFill/>
          </a:ln>
        </p:spPr>
        <p:style>
          <a:lnRef idx="0"/>
          <a:fillRef idx="0"/>
          <a:effectRef idx="0"/>
          <a:fontRef idx="minor"/>
        </p:style>
        <p:txBody>
          <a:bodyPr lIns="68400" rIns="68400" tIns="34200" bIns="34200" anchor="t" rot="10800000">
            <a:noAutofit/>
          </a:bodyPr>
          <a:p>
            <a:pPr>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1" lang="en-US" sz="1600" spc="-1" strike="noStrike">
              <a:solidFill>
                <a:srgbClr val="000000"/>
              </a:solidFill>
              <a:latin typeface="Arial"/>
            </a:endParaRPr>
          </a:p>
        </p:txBody>
      </p:sp>
      <p:sp>
        <p:nvSpPr>
          <p:cNvPr id="735" name="Text Box 7"/>
          <p:cNvSpPr/>
          <p:nvPr/>
        </p:nvSpPr>
        <p:spPr>
          <a:xfrm>
            <a:off x="719280" y="3700440"/>
            <a:ext cx="2481120" cy="2034360"/>
          </a:xfrm>
          <a:prstGeom prst="rect">
            <a:avLst/>
          </a:prstGeom>
          <a:noFill/>
          <a:ln w="0">
            <a:noFill/>
          </a:ln>
        </p:spPr>
        <p:style>
          <a:lnRef idx="0"/>
          <a:fillRef idx="0"/>
          <a:effectRef idx="0"/>
          <a:fontRef idx="minor"/>
        </p:style>
        <p:txBody>
          <a:bodyPr lIns="67320" rIns="67320" tIns="34920" bIns="34920" anchor="t">
            <a:spAutoFit/>
          </a:bodyPr>
          <a:p>
            <a:pPr>
              <a:tabLst>
                <a:tab algn="l" pos="0"/>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         </a:t>
            </a:r>
            <a:r>
              <a:rPr b="1" lang="en-US" sz="1100" spc="-1" strike="noStrike">
                <a:solidFill>
                  <a:srgbClr val="000000"/>
                </a:solidFill>
                <a:latin typeface="Arial"/>
                <a:ea typeface="Helvetica Light"/>
              </a:rPr>
              <a:t>“</a:t>
            </a:r>
            <a:r>
              <a:rPr b="1" lang="en-US" sz="1100" spc="-1" strike="noStrike">
                <a:solidFill>
                  <a:srgbClr val="000000"/>
                </a:solidFill>
                <a:latin typeface="Arial"/>
                <a:ea typeface="Helvetica Light"/>
              </a:rPr>
              <a:t>Deliver IT-as-a-Service”</a:t>
            </a:r>
            <a:endParaRPr b="1" lang="en-US" sz="1100" spc="-1" strike="noStrike">
              <a:solidFill>
                <a:srgbClr val="000000"/>
              </a:solidFill>
              <a:latin typeface="Arial"/>
            </a:endParaRPr>
          </a:p>
          <a:p>
            <a:pPr algn="ctr">
              <a:tabLst>
                <a:tab algn="l" pos="0"/>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existing solutions)</a:t>
            </a:r>
            <a:endParaRPr b="1" lang="en-US" sz="1000" spc="-1" strike="noStrike">
              <a:solidFill>
                <a:srgbClr val="000000"/>
              </a:solidFill>
              <a:latin typeface="Arial"/>
            </a:endParaRPr>
          </a:p>
          <a:p>
            <a:pPr>
              <a:tabLst>
                <a:tab algn="l" pos="0"/>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endParaRPr b="1" lang="en-US" sz="800" spc="-1" strike="noStrike">
              <a:solidFill>
                <a:srgbClr val="000000"/>
              </a:solidFill>
              <a:latin typeface="Arial"/>
            </a:endParaRPr>
          </a:p>
          <a:p>
            <a:pPr>
              <a:buClr>
                <a:srgbClr val="000000"/>
              </a:buClr>
              <a:buFont typeface="Arial"/>
              <a:buChar char="•"/>
              <a:tabLst>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How to control and govern services and service providers across the Enterprise?</a:t>
            </a:r>
            <a:endParaRPr b="1" lang="en-US" sz="1000" spc="-1" strike="noStrike">
              <a:solidFill>
                <a:srgbClr val="000000"/>
              </a:solidFill>
              <a:latin typeface="Arial"/>
            </a:endParaRPr>
          </a:p>
          <a:p>
            <a:pPr>
              <a:buClr>
                <a:srgbClr val="000000"/>
              </a:buClr>
              <a:buFont typeface="Arial"/>
              <a:buChar char="•"/>
              <a:tabLst>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How to speed provisioning and and deliver usage-based costing?</a:t>
            </a:r>
            <a:endParaRPr b="1" lang="en-US" sz="1000" spc="-1" strike="noStrike">
              <a:solidFill>
                <a:srgbClr val="000000"/>
              </a:solidFill>
              <a:latin typeface="Arial"/>
            </a:endParaRPr>
          </a:p>
          <a:p>
            <a:pPr>
              <a:buClr>
                <a:srgbClr val="000000"/>
              </a:buClr>
              <a:buFont typeface="Arial"/>
              <a:buChar char="•"/>
              <a:tabLst>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How to ensure security and regulatory compliance across deployment models?</a:t>
            </a:r>
            <a:endParaRPr b="1" lang="en-US" sz="1000" spc="-1" strike="noStrike">
              <a:solidFill>
                <a:srgbClr val="000000"/>
              </a:solidFill>
              <a:latin typeface="Arial"/>
            </a:endParaRPr>
          </a:p>
          <a:p>
            <a:pPr>
              <a:buClr>
                <a:srgbClr val="000000"/>
              </a:buClr>
              <a:buFont typeface="Arial"/>
              <a:buChar char="•"/>
              <a:tabLst>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How to gain operational insights to optimize and streamline operations?</a:t>
            </a:r>
            <a:endParaRPr b="1" lang="en-US" sz="1000" spc="-1" strike="noStrike">
              <a:solidFill>
                <a:srgbClr val="000000"/>
              </a:solidFill>
              <a:latin typeface="Arial"/>
            </a:endParaRPr>
          </a:p>
        </p:txBody>
      </p:sp>
      <p:grpSp>
        <p:nvGrpSpPr>
          <p:cNvPr id="736" name="Rounded Rectangle 53"/>
          <p:cNvGrpSpPr/>
          <p:nvPr/>
        </p:nvGrpSpPr>
        <p:grpSpPr>
          <a:xfrm>
            <a:off x="5407200" y="1579680"/>
            <a:ext cx="3219120" cy="620640"/>
            <a:chOff x="5407200" y="1579680"/>
            <a:chExt cx="3219120" cy="620640"/>
          </a:xfrm>
        </p:grpSpPr>
        <p:pic>
          <p:nvPicPr>
            <p:cNvPr id="737" name="Rounded Rectangle 53" descr=""/>
            <p:cNvPicPr/>
            <p:nvPr/>
          </p:nvPicPr>
          <p:blipFill>
            <a:blip r:embed="rId3"/>
            <a:stretch/>
          </p:blipFill>
          <p:spPr>
            <a:xfrm>
              <a:off x="5407200" y="1579680"/>
              <a:ext cx="3219120" cy="620640"/>
            </a:xfrm>
            <a:prstGeom prst="rect">
              <a:avLst/>
            </a:prstGeom>
            <a:ln w="0">
              <a:noFill/>
            </a:ln>
          </p:spPr>
        </p:pic>
        <p:sp>
          <p:nvSpPr>
            <p:cNvPr id="738" name=""/>
            <p:cNvSpPr/>
            <p:nvPr/>
          </p:nvSpPr>
          <p:spPr>
            <a:xfrm>
              <a:off x="5486400" y="1633680"/>
              <a:ext cx="30574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e Busines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Outcomes</a:t>
              </a:r>
              <a:endParaRPr b="1" lang="en-US" sz="900" spc="-1" strike="noStrike">
                <a:solidFill>
                  <a:srgbClr val="000000"/>
                </a:solidFill>
                <a:latin typeface="Arial"/>
              </a:endParaRPr>
            </a:p>
          </p:txBody>
        </p:sp>
      </p:grpSp>
      <p:sp>
        <p:nvSpPr>
          <p:cNvPr id="739" name="Text Box 38"/>
          <p:cNvSpPr/>
          <p:nvPr/>
        </p:nvSpPr>
        <p:spPr>
          <a:xfrm>
            <a:off x="7596360" y="2481120"/>
            <a:ext cx="1290600" cy="43380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68400" rIns="68400" tIns="34200" bIns="3420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ea typeface="MS PGothic"/>
              </a:rPr>
              <a:t>Systems </a:t>
            </a:r>
            <a:endParaRPr b="1" lang="en-US" sz="12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ea typeface="MS PGothic"/>
              </a:rPr>
              <a:t>of Engagement</a:t>
            </a:r>
            <a:endParaRPr b="1" lang="en-US" sz="1200" spc="-1" strike="noStrike">
              <a:solidFill>
                <a:srgbClr val="000000"/>
              </a:solidFill>
              <a:latin typeface="Arial"/>
            </a:endParaRPr>
          </a:p>
        </p:txBody>
      </p:sp>
      <p:sp>
        <p:nvSpPr>
          <p:cNvPr id="740" name="Rounded Rectangle 43"/>
          <p:cNvSpPr/>
          <p:nvPr/>
        </p:nvSpPr>
        <p:spPr>
          <a:xfrm rot="10800000">
            <a:off x="5708520" y="3406680"/>
            <a:ext cx="2881440" cy="2857680"/>
          </a:xfrm>
          <a:prstGeom prst="roundRect">
            <a:avLst>
              <a:gd name="adj" fmla="val 11903"/>
            </a:avLst>
          </a:prstGeom>
          <a:solidFill>
            <a:srgbClr val="e1e2e3"/>
          </a:solidFill>
          <a:ln w="0">
            <a:noFill/>
          </a:ln>
        </p:spPr>
        <p:style>
          <a:lnRef idx="0"/>
          <a:fillRef idx="0"/>
          <a:effectRef idx="0"/>
          <a:fontRef idx="minor"/>
        </p:style>
        <p:txBody>
          <a:bodyPr lIns="68400" rIns="68400" tIns="34200" bIns="34200" anchor="t" rot="10800000">
            <a:noAutofit/>
          </a:bodyPr>
          <a:p>
            <a:pPr>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1" lang="en-US" sz="1600" spc="-1" strike="noStrike">
              <a:solidFill>
                <a:srgbClr val="000000"/>
              </a:solidFill>
              <a:latin typeface="Arial"/>
            </a:endParaRPr>
          </a:p>
        </p:txBody>
      </p:sp>
      <p:sp>
        <p:nvSpPr>
          <p:cNvPr id="741" name="Text Box 7"/>
          <p:cNvSpPr/>
          <p:nvPr/>
        </p:nvSpPr>
        <p:spPr>
          <a:xfrm>
            <a:off x="5807160" y="3552840"/>
            <a:ext cx="2708280" cy="2446200"/>
          </a:xfrm>
          <a:prstGeom prst="rect">
            <a:avLst/>
          </a:prstGeom>
          <a:noFill/>
          <a:ln w="0">
            <a:noFill/>
          </a:ln>
        </p:spPr>
        <p:style>
          <a:lnRef idx="0"/>
          <a:fillRef idx="0"/>
          <a:effectRef idx="0"/>
          <a:fontRef idx="minor"/>
        </p:style>
        <p:txBody>
          <a:bodyPr lIns="67320" rIns="67320" tIns="34920" bIns="34920" anchor="t">
            <a:spAutoFit/>
          </a:bodyPr>
          <a:p>
            <a:pPr>
              <a:spcBef>
                <a:spcPts val="300"/>
              </a:spcBef>
              <a:tabLst>
                <a:tab algn="l" pos="0"/>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             “</a:t>
            </a:r>
            <a:r>
              <a:rPr b="1" lang="en-US" sz="1100" spc="-1" strike="noStrike">
                <a:solidFill>
                  <a:srgbClr val="000000"/>
                </a:solidFill>
                <a:latin typeface="Arial"/>
                <a:ea typeface="Helvetica Light"/>
              </a:rPr>
              <a:t>Deliver Innovative Solutions”</a:t>
            </a:r>
            <a:endParaRPr b="1" lang="en-US" sz="1100" spc="-1" strike="noStrike">
              <a:solidFill>
                <a:srgbClr val="000000"/>
              </a:solidFill>
              <a:latin typeface="Arial"/>
            </a:endParaRPr>
          </a:p>
          <a:p>
            <a:pPr algn="ctr">
              <a:spcBef>
                <a:spcPts val="300"/>
              </a:spcBef>
              <a:tabLst>
                <a:tab algn="l" pos="0"/>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cloud-</a:t>
            </a:r>
            <a:r>
              <a:rPr b="1" lang="en-US" sz="1000" spc="-1" strike="noStrike" u="sng">
                <a:solidFill>
                  <a:srgbClr val="000000"/>
                </a:solidFill>
                <a:uFillTx/>
                <a:latin typeface="Arial"/>
                <a:ea typeface="Helvetica Light"/>
              </a:rPr>
              <a:t>native</a:t>
            </a:r>
            <a:r>
              <a:rPr b="1" lang="en-US" sz="1000" spc="-1" strike="noStrike">
                <a:solidFill>
                  <a:srgbClr val="000000"/>
                </a:solidFill>
                <a:latin typeface="Arial"/>
                <a:ea typeface="Helvetica Light"/>
              </a:rPr>
              <a:t> solutions)</a:t>
            </a:r>
            <a:endParaRPr b="1" lang="en-US" sz="1000" spc="-1" strike="noStrike">
              <a:solidFill>
                <a:srgbClr val="000000"/>
              </a:solidFill>
              <a:latin typeface="Arial"/>
            </a:endParaRPr>
          </a:p>
          <a:p>
            <a:pPr>
              <a:spcBef>
                <a:spcPts val="300"/>
              </a:spcBef>
              <a:tabLst>
                <a:tab algn="l" pos="0"/>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endParaRPr b="1" lang="en-US" sz="1000" spc="-1" strike="noStrike">
              <a:solidFill>
                <a:srgbClr val="000000"/>
              </a:solidFill>
              <a:latin typeface="Arial"/>
            </a:endParaRPr>
          </a:p>
          <a:p>
            <a:pPr>
              <a:spcBef>
                <a:spcPts val="300"/>
              </a:spcBef>
              <a:buClr>
                <a:srgbClr val="000000"/>
              </a:buClr>
              <a:buFont typeface="Arial"/>
              <a:buChar char="•"/>
              <a:tabLst>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How to rapidly deliver new, innovative business services with exceptional customer experiences?</a:t>
            </a:r>
            <a:endParaRPr b="1" lang="en-US" sz="1000" spc="-1" strike="noStrike">
              <a:solidFill>
                <a:srgbClr val="000000"/>
              </a:solidFill>
              <a:latin typeface="Arial"/>
            </a:endParaRPr>
          </a:p>
          <a:p>
            <a:pPr>
              <a:spcBef>
                <a:spcPts val="300"/>
              </a:spcBef>
              <a:buClr>
                <a:srgbClr val="000000"/>
              </a:buClr>
              <a:buFont typeface="Arial"/>
              <a:buChar char="•"/>
              <a:tabLst>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How to leverage data to gain insights for delivering differentiated value to customers?</a:t>
            </a:r>
            <a:endParaRPr b="1" lang="en-US" sz="1000" spc="-1" strike="noStrike">
              <a:solidFill>
                <a:srgbClr val="000000"/>
              </a:solidFill>
              <a:latin typeface="Arial"/>
            </a:endParaRPr>
          </a:p>
          <a:p>
            <a:pPr>
              <a:spcBef>
                <a:spcPts val="300"/>
              </a:spcBef>
              <a:buClr>
                <a:srgbClr val="000000"/>
              </a:buClr>
              <a:buFont typeface="Arial"/>
              <a:buChar char="•"/>
              <a:tabLst>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How to build applications by composing  services from within the Enterprise and from the services ecosystem?</a:t>
            </a:r>
            <a:endParaRPr b="1" lang="en-US" sz="1000" spc="-1" strike="noStrike">
              <a:solidFill>
                <a:srgbClr val="000000"/>
              </a:solidFill>
              <a:latin typeface="Arial"/>
            </a:endParaRPr>
          </a:p>
          <a:p>
            <a:pPr>
              <a:spcBef>
                <a:spcPts val="300"/>
              </a:spcBef>
              <a:buClr>
                <a:srgbClr val="000000"/>
              </a:buClr>
              <a:buFont typeface="Arial"/>
              <a:buChar char="•"/>
              <a:tabLst>
                <a:tab algn="l" pos="622440"/>
                <a:tab algn="l" pos="1079640"/>
                <a:tab algn="l" pos="1536840"/>
                <a:tab algn="l" pos="1994040"/>
                <a:tab algn="l" pos="2451240"/>
                <a:tab algn="l" pos="2908440"/>
                <a:tab algn="l" pos="3365640"/>
                <a:tab algn="l" pos="3822840"/>
                <a:tab algn="l" pos="4280040"/>
                <a:tab algn="l" pos="4737240"/>
                <a:tab algn="l" pos="5194440"/>
                <a:tab algn="l" pos="5651640"/>
                <a:tab algn="l" pos="6108840"/>
                <a:tab algn="l" pos="6566040"/>
                <a:tab algn="l" pos="7023240"/>
                <a:tab algn="l" pos="7480440"/>
                <a:tab algn="l" pos="7937640"/>
                <a:tab algn="l" pos="8394840"/>
                <a:tab algn="l" pos="8852040"/>
                <a:tab algn="l" pos="9309240"/>
                <a:tab algn="l" pos="10058400"/>
              </a:tabLst>
            </a:pPr>
            <a:r>
              <a:rPr b="1" lang="en-US" sz="1000" spc="-1" strike="noStrike">
                <a:solidFill>
                  <a:srgbClr val="000000"/>
                </a:solidFill>
                <a:latin typeface="Arial"/>
                <a:ea typeface="Helvetica Light"/>
              </a:rPr>
              <a:t>How to foster an innovation culture within the organization?</a:t>
            </a:r>
            <a:endParaRPr b="1" lang="en-US" sz="1000" spc="-1" strike="noStrike">
              <a:solidFill>
                <a:srgbClr val="000000"/>
              </a:solidFill>
              <a:latin typeface="Arial"/>
            </a:endParaRPr>
          </a:p>
        </p:txBody>
      </p:sp>
      <p:sp>
        <p:nvSpPr>
          <p:cNvPr id="742" name="Oval 31"/>
          <p:cNvSpPr/>
          <p:nvPr/>
        </p:nvSpPr>
        <p:spPr>
          <a:xfrm>
            <a:off x="3365640" y="3608280"/>
            <a:ext cx="2286000" cy="2014560"/>
          </a:xfrm>
          <a:prstGeom prst="ellipse">
            <a:avLst/>
          </a:prstGeom>
          <a:gradFill rotWithShape="0">
            <a:gsLst>
              <a:gs pos="0">
                <a:srgbClr val="e6e6e6"/>
              </a:gs>
              <a:gs pos="100000">
                <a:srgbClr val="4ebbeb"/>
              </a:gs>
            </a:gsLst>
            <a:lin ang="10800000"/>
          </a:gradFill>
          <a:ln w="9360">
            <a:solidFill>
              <a:srgbClr val="008abf"/>
            </a:solidFill>
            <a:prstDash val="dash"/>
            <a:miter/>
          </a:ln>
        </p:spPr>
        <p:style>
          <a:lnRef idx="0"/>
          <a:fillRef idx="0"/>
          <a:effectRef idx="0"/>
          <a:fontRef idx="minor"/>
        </p:style>
        <p:txBody>
          <a:bodyPr wrap="none" lIns="68400" rIns="68400" tIns="34200" bIns="34200" anchor="ctr">
            <a:no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1" lang="en-US" sz="1600" spc="-1" strike="noStrike">
              <a:solidFill>
                <a:srgbClr val="000000"/>
              </a:solidFill>
              <a:latin typeface="Arial"/>
            </a:endParaRPr>
          </a:p>
        </p:txBody>
      </p:sp>
      <p:sp>
        <p:nvSpPr>
          <p:cNvPr id="743" name="Rectangle 2"/>
          <p:cNvSpPr/>
          <p:nvPr/>
        </p:nvSpPr>
        <p:spPr>
          <a:xfrm>
            <a:off x="3511440" y="3686040"/>
            <a:ext cx="2021040" cy="16606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hanc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lu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ud-</a:t>
            </a:r>
            <a:r>
              <a:rPr b="1" lang="en-US" sz="1000" spc="-1" strike="noStrike" u="sng">
                <a:solidFill>
                  <a:srgbClr val="000000"/>
                </a:solidFill>
                <a:uFillTx/>
                <a:latin typeface="Arial"/>
                <a:ea typeface="Arial"/>
              </a:rPr>
              <a:t>enabled</a:t>
            </a:r>
            <a:r>
              <a:rPr b="1" lang="en-US" sz="1000" spc="-1" strike="noStrike">
                <a:solidFill>
                  <a:srgbClr val="000000"/>
                </a:solidFill>
                <a:latin typeface="Arial"/>
                <a:ea typeface="Arial"/>
              </a:rPr>
              <a:t> solutions) </a:t>
            </a:r>
            <a:endParaRPr b="1"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spcBef>
                <a:spcPts val="62"/>
              </a:spcBef>
              <a:spcAft>
                <a:spcPts val="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w to deliver software in the cloud enhanced with cloud services?</a:t>
            </a:r>
            <a:endParaRPr b="1" lang="en-US" sz="1000" spc="-1" strike="noStrike">
              <a:solidFill>
                <a:srgbClr val="000000"/>
              </a:solidFill>
              <a:latin typeface="Arial"/>
            </a:endParaRPr>
          </a:p>
          <a:p>
            <a:pPr algn="ctr">
              <a:spcBef>
                <a:spcPts val="62"/>
              </a:spcBef>
              <a:spcAft>
                <a:spcPts val="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w to extend the business value of existing solutions with cloud services ?</a:t>
            </a:r>
            <a:endParaRPr b="1"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2410-2CC4-48AE-B695-C80CC4BB3843}"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45" name="PlaceHolder 1"/>
          <p:cNvSpPr>
            <a:spLocks noGrp="1"/>
          </p:cNvSpPr>
          <p:nvPr>
            <p:ph type="title"/>
          </p:nvPr>
        </p:nvSpPr>
        <p:spPr>
          <a:xfrm>
            <a:off x="182520" y="593640"/>
            <a:ext cx="868680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I Economy </a:t>
            </a:r>
            <a:endParaRPr b="0" lang="en-US" sz="2200" spc="-1" strike="noStrike">
              <a:solidFill>
                <a:srgbClr val="000000"/>
              </a:solidFill>
              <a:latin typeface="Arial"/>
            </a:endParaRPr>
          </a:p>
        </p:txBody>
      </p:sp>
      <p:sp>
        <p:nvSpPr>
          <p:cNvPr id="746" name="Rectangle 3"/>
          <p:cNvSpPr/>
          <p:nvPr/>
        </p:nvSpPr>
        <p:spPr>
          <a:xfrm>
            <a:off x="182520" y="1173240"/>
            <a:ext cx="889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Programming Interface (APIs) </a:t>
            </a:r>
            <a:r>
              <a:rPr b="0" lang="en-US" sz="1600" spc="-1" strike="noStrike">
                <a:solidFill>
                  <a:srgbClr val="000000"/>
                </a:solidFill>
                <a:latin typeface="Arial"/>
              </a:rPr>
              <a:t>– Expresses a software component in terms of its operations, inputs, outputs; i. e., how the component is accessed and what it returns</a:t>
            </a:r>
            <a:endParaRPr b="1" lang="en-US" sz="1600" spc="-1" strike="noStrike">
              <a:solidFill>
                <a:srgbClr val="000000"/>
              </a:solidFill>
              <a:latin typeface="Arial"/>
            </a:endParaRPr>
          </a:p>
        </p:txBody>
      </p:sp>
      <p:sp>
        <p:nvSpPr>
          <p:cNvPr id="747" name="Cloud 4"/>
          <p:cNvSpPr/>
          <p:nvPr/>
        </p:nvSpPr>
        <p:spPr>
          <a:xfrm>
            <a:off x="162000" y="2544840"/>
            <a:ext cx="3324240" cy="24526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9360">
            <a:solidFill>
              <a:srgbClr val="bfbfbf"/>
            </a:solidFill>
            <a:round/>
          </a:ln>
        </p:spPr>
        <p:style>
          <a:lnRef idx="0"/>
          <a:fillRef idx="0"/>
          <a:effectRef idx="0"/>
          <a:fontRef idx="minor"/>
        </p:style>
        <p:txBody>
          <a:bodyPr lIns="0" rIns="0" tIns="0" bIns="0" anchor="ctr" anchorCtr="1">
            <a:noAutofit/>
          </a:bodyPr>
          <a:p>
            <a:endParaRPr b="1" lang="en-US" sz="1600" spc="-1" strike="noStrike">
              <a:solidFill>
                <a:srgbClr val="000000"/>
              </a:solidFill>
              <a:latin typeface="Arial"/>
            </a:endParaRPr>
          </a:p>
        </p:txBody>
      </p:sp>
      <p:sp>
        <p:nvSpPr>
          <p:cNvPr id="748" name="TextBox 5"/>
          <p:cNvSpPr/>
          <p:nvPr/>
        </p:nvSpPr>
        <p:spPr>
          <a:xfrm>
            <a:off x="133200" y="2068560"/>
            <a:ext cx="2206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Calibri Light"/>
                <a:ea typeface="Arial"/>
              </a:rPr>
              <a:t>Zillow </a:t>
            </a:r>
            <a:r>
              <a:rPr b="0" lang="en-US" sz="1600" spc="-1" strike="noStrike">
                <a:solidFill>
                  <a:srgbClr val="262626"/>
                </a:solidFill>
                <a:latin typeface="Calibri Light"/>
                <a:ea typeface="Arial"/>
              </a:rPr>
              <a:t>uses a mortgage rate information API as part of its real estate app</a:t>
            </a:r>
            <a:endParaRPr b="1" lang="en-US" sz="1600" spc="-1" strike="noStrike">
              <a:solidFill>
                <a:srgbClr val="000000"/>
              </a:solidFill>
              <a:latin typeface="Arial"/>
            </a:endParaRPr>
          </a:p>
        </p:txBody>
      </p:sp>
      <p:sp>
        <p:nvSpPr>
          <p:cNvPr id="749" name="TextBox 6"/>
          <p:cNvSpPr/>
          <p:nvPr/>
        </p:nvSpPr>
        <p:spPr>
          <a:xfrm>
            <a:off x="133200" y="3390840"/>
            <a:ext cx="220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Calibri Light"/>
                <a:ea typeface="Arial"/>
              </a:rPr>
              <a:t>cars.com </a:t>
            </a:r>
            <a:r>
              <a:rPr b="0" lang="en-US" sz="1600" spc="-1" strike="noStrike">
                <a:solidFill>
                  <a:srgbClr val="262626"/>
                </a:solidFill>
                <a:latin typeface="Calibri Light"/>
                <a:ea typeface="Arial"/>
              </a:rPr>
              <a:t>uses a car loan rate API as part of its car sale app</a:t>
            </a:r>
            <a:endParaRPr b="1" lang="en-US" sz="1600" spc="-1" strike="noStrike">
              <a:solidFill>
                <a:srgbClr val="000000"/>
              </a:solidFill>
              <a:latin typeface="Arial"/>
            </a:endParaRPr>
          </a:p>
        </p:txBody>
      </p:sp>
      <p:sp>
        <p:nvSpPr>
          <p:cNvPr id="750" name="TextBox 7"/>
          <p:cNvSpPr/>
          <p:nvPr/>
        </p:nvSpPr>
        <p:spPr>
          <a:xfrm>
            <a:off x="133200" y="4626000"/>
            <a:ext cx="2133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Calibri Light"/>
                <a:ea typeface="Arial"/>
              </a:rPr>
              <a:t>Mint </a:t>
            </a:r>
            <a:r>
              <a:rPr b="0" lang="en-US" sz="1600" spc="-1" strike="noStrike">
                <a:solidFill>
                  <a:srgbClr val="262626"/>
                </a:solidFill>
                <a:latin typeface="Calibri Light"/>
                <a:ea typeface="Arial"/>
              </a:rPr>
              <a:t>uses an account information API as part </a:t>
            </a:r>
            <a:br>
              <a:rPr sz="1600"/>
            </a:br>
            <a:r>
              <a:rPr b="0" lang="en-US" sz="1600" spc="-1" strike="noStrike">
                <a:solidFill>
                  <a:srgbClr val="262626"/>
                </a:solidFill>
                <a:latin typeface="Calibri Light"/>
                <a:ea typeface="Arial"/>
              </a:rPr>
              <a:t>of its personal finance management app</a:t>
            </a:r>
            <a:endParaRPr b="1" lang="en-US" sz="1600" spc="-1" strike="noStrike">
              <a:solidFill>
                <a:srgbClr val="000000"/>
              </a:solidFill>
              <a:latin typeface="Arial"/>
            </a:endParaRPr>
          </a:p>
        </p:txBody>
      </p:sp>
      <p:pic>
        <p:nvPicPr>
          <p:cNvPr id="751" name="Picture 8" descr="On the right side of this image are three boxes lined up vertically. Each box contains a screen shot of an app. &#13;&#10;They are Zillow.com, cars.com, and Mint.com.  To the right of the three boxes with screen shots is an image a bank with three label to the left side of it. The labels Mortgage, Loans, Account. Zillow has a connector to Mortgage, cars.com has a connector to loans, and Mint.com has a connector to account. "/>
          <p:cNvPicPr/>
          <p:nvPr/>
        </p:nvPicPr>
        <p:blipFill>
          <a:blip r:embed="rId1"/>
          <a:stretch/>
        </p:blipFill>
        <p:spPr>
          <a:xfrm>
            <a:off x="2363760" y="1770120"/>
            <a:ext cx="5124600" cy="4371840"/>
          </a:xfrm>
          <a:prstGeom prst="rect">
            <a:avLst/>
          </a:prstGeom>
          <a:ln w="0">
            <a:noFill/>
          </a:ln>
        </p:spPr>
      </p:pic>
      <p:sp>
        <p:nvSpPr>
          <p:cNvPr id="752" name="TextBox 9"/>
          <p:cNvSpPr/>
          <p:nvPr/>
        </p:nvSpPr>
        <p:spPr>
          <a:xfrm>
            <a:off x="7446960" y="3105000"/>
            <a:ext cx="15476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Calibri Light"/>
                <a:ea typeface="Arial"/>
              </a:rPr>
              <a:t>Bank</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Calibri Light"/>
                <a:ea typeface="Arial"/>
              </a:rPr>
              <a:t>The bank provides APIs </a:t>
            </a:r>
            <a:br>
              <a:rPr sz="1600"/>
            </a:br>
            <a:r>
              <a:rPr b="1" lang="en-US" sz="1600" spc="-1" strike="noStrike">
                <a:solidFill>
                  <a:srgbClr val="262626"/>
                </a:solidFill>
                <a:latin typeface="Calibri Light"/>
                <a:ea typeface="Arial"/>
              </a:rPr>
              <a:t>on mortgage rates, loan rates, and individual account informatio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FD3E-2EDD-4091-B252-97E3A90655B9}"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54" name="PlaceHolder 1"/>
          <p:cNvSpPr>
            <a:spLocks noGrp="1"/>
          </p:cNvSpPr>
          <p:nvPr>
            <p:ph type="title"/>
          </p:nvPr>
        </p:nvSpPr>
        <p:spPr>
          <a:xfrm>
            <a:off x="182520" y="593640"/>
            <a:ext cx="8686800" cy="549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OS Connect – What is it? And why should you care?</a:t>
            </a:r>
            <a:endParaRPr b="0" lang="en-US" sz="2200" spc="-1" strike="noStrike">
              <a:solidFill>
                <a:srgbClr val="000000"/>
              </a:solidFill>
              <a:latin typeface="Arial"/>
            </a:endParaRPr>
          </a:p>
        </p:txBody>
      </p:sp>
      <p:pic>
        <p:nvPicPr>
          <p:cNvPr id="755" name="Picture 4" descr="This image shows how different systems of engagement such as mobile, clients, programs, other mainframes and cloud systems connect through the network directly to z/OS Connect EE and then to backend systems, CICS and IMS on the mainframe. "/>
          <p:cNvPicPr/>
          <p:nvPr/>
        </p:nvPicPr>
        <p:blipFill>
          <a:blip r:embed="rId1"/>
          <a:stretch/>
        </p:blipFill>
        <p:spPr>
          <a:xfrm>
            <a:off x="306360" y="1150920"/>
            <a:ext cx="8439120" cy="5010120"/>
          </a:xfrm>
          <a:prstGeom prst="rect">
            <a:avLst/>
          </a:prstGeom>
          <a:ln w="0">
            <a:noFill/>
          </a:ln>
        </p:spPr>
      </p:pic>
      <p:sp>
        <p:nvSpPr>
          <p:cNvPr id="756" name="Rectangle 3"/>
          <p:cNvSpPr/>
          <p:nvPr/>
        </p:nvSpPr>
        <p:spPr>
          <a:xfrm>
            <a:off x="2851200" y="4721400"/>
            <a:ext cx="62928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S Connect </a:t>
            </a:r>
            <a:r>
              <a:rPr b="0" lang="en-US" sz="1600" spc="-1" strike="noStrike">
                <a:solidFill>
                  <a:srgbClr val="000000"/>
                </a:solidFill>
                <a:latin typeface="Arial"/>
              </a:rPr>
              <a:t>offers the following capabilities:</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s connectors – A common solution for mobile, cloud, and web</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d integration – Hide complexity of connecting to z/OS using REST</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cover z/OS assets – Enhance user experience by exposing z/OS dat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F39C-72EA-4E71-B92C-58A7D41C7C38}"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38"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ter Guidance: Contents, programs, target markets. </a:t>
            </a:r>
            <a:endParaRPr b="0" lang="en-US" sz="2200" spc="-1" strike="noStrike">
              <a:solidFill>
                <a:srgbClr val="000000"/>
              </a:solidFill>
              <a:latin typeface="Arial"/>
            </a:endParaRPr>
          </a:p>
        </p:txBody>
      </p:sp>
      <p:sp>
        <p:nvSpPr>
          <p:cNvPr id="639" name="PlaceHolder 2"/>
          <p:cNvSpPr>
            <a:spLocks noGrp="1"/>
          </p:cNvSpPr>
          <p:nvPr>
            <p:ph/>
          </p:nvPr>
        </p:nvSpPr>
        <p:spPr>
          <a:xfrm>
            <a:off x="182520" y="1874880"/>
            <a:ext cx="8686800" cy="4479840"/>
          </a:xfrm>
          <a:prstGeom prst="rect">
            <a:avLst/>
          </a:prstGeom>
          <a:noFill/>
          <a:ln w="0">
            <a:noFill/>
          </a:ln>
        </p:spPr>
        <p:txBody>
          <a:bodyPr anchor="t">
            <a:normAutofit/>
          </a:bodyPr>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ETE BEFORE PRESENTING</a:t>
            </a:r>
            <a:endParaRPr b="0" lang="en-US" sz="1600" spc="-1" strike="noStrike">
              <a:solidFill>
                <a:srgbClr val="000000"/>
              </a:solidFill>
              <a:latin typeface="Arial"/>
            </a:endParaRPr>
          </a:p>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esentation contains charts that apply to </a:t>
            </a:r>
            <a:r>
              <a:rPr b="0" i="1" lang="en-US" sz="1600" spc="-1" strike="noStrike">
                <a:solidFill>
                  <a:srgbClr val="000000"/>
                </a:solidFill>
                <a:latin typeface="Arial"/>
              </a:rPr>
              <a:t>The Value of</a:t>
            </a:r>
            <a:r>
              <a:rPr b="0" lang="en-US" sz="1600" spc="-1" strike="noStrike">
                <a:solidFill>
                  <a:srgbClr val="000000"/>
                </a:solidFill>
                <a:latin typeface="Arial"/>
              </a:rPr>
              <a:t> </a:t>
            </a:r>
            <a:r>
              <a:rPr b="0" i="1" lang="en-US" sz="1600" spc="-1" strike="noStrike">
                <a:solidFill>
                  <a:srgbClr val="000000"/>
                </a:solidFill>
                <a:latin typeface="Arial"/>
              </a:rPr>
              <a:t>Cloud Computing on z Systems</a:t>
            </a:r>
            <a:r>
              <a:rPr b="0" lang="en-US" sz="1600" spc="-1" strike="noStrike">
                <a:solidFill>
                  <a:srgbClr val="000000"/>
                </a:solidFill>
                <a:latin typeface="Arial"/>
              </a:rPr>
              <a:t> course and can be used to share information with IBM clients who are unfamiliar with the features and benefits of using z Systems as their platform for cloud computing.</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sure to tailor the presentation to your client’s situation; that is, if the client is using back-level versions of only three of the products covered in this presentation, then show the client only the introductory section about the value of staying current, followed by only the three back-level products that your client is using.</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a:t>
            </a:r>
            <a:r>
              <a:rPr b="1" lang="en-US" sz="1600" spc="-1" strike="noStrike">
                <a:solidFill>
                  <a:srgbClr val="000000"/>
                </a:solidFill>
                <a:latin typeface="Arial"/>
              </a:rPr>
              <a:t> Edit – Delete Slide </a:t>
            </a:r>
            <a:r>
              <a:rPr b="0" lang="en-US" sz="1600" spc="-1" strike="noStrike">
                <a:solidFill>
                  <a:srgbClr val="000000"/>
                </a:solidFill>
                <a:latin typeface="Arial"/>
              </a:rPr>
              <a:t>on the MS PowerPoint menu bar to remove this slide before presenting the slide show.</a:t>
            </a: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01A4-8E8A-45BF-B506-3A4376836F96}"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58" name="PlaceHolder 1"/>
          <p:cNvSpPr>
            <a:spLocks noGrp="1"/>
          </p:cNvSpPr>
          <p:nvPr>
            <p:ph type="title"/>
          </p:nvPr>
        </p:nvSpPr>
        <p:spPr>
          <a:xfrm>
            <a:off x="182520" y="593280"/>
            <a:ext cx="8686800" cy="118908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BM solutions support cloud computing on z Systems? </a:t>
            </a:r>
            <a:br>
              <a:rPr sz="2200"/>
            </a:br>
            <a:br>
              <a:rPr sz="2200"/>
            </a:br>
            <a:endParaRPr b="0" lang="en-US" sz="2200" spc="-1" strike="noStrike">
              <a:solidFill>
                <a:srgbClr val="000000"/>
              </a:solidFill>
              <a:latin typeface="Arial"/>
            </a:endParaRPr>
          </a:p>
        </p:txBody>
      </p:sp>
      <p:pic>
        <p:nvPicPr>
          <p:cNvPr id="759" name="Picture 4" descr=""/>
          <p:cNvPicPr/>
          <p:nvPr/>
        </p:nvPicPr>
        <p:blipFill>
          <a:blip r:embed="rId1"/>
          <a:stretch/>
        </p:blipFill>
        <p:spPr>
          <a:xfrm>
            <a:off x="2468520" y="1517760"/>
            <a:ext cx="4297320" cy="478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BC60-2BC0-44C9-9E7F-54003CA12C6C}"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61"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BM Infrastructure Suite for z/VM and Linux on z Systems</a:t>
            </a:r>
            <a:endParaRPr b="0" lang="en-US" sz="2200" spc="-1" strike="noStrike">
              <a:solidFill>
                <a:srgbClr val="000000"/>
              </a:solidFill>
              <a:latin typeface="Arial"/>
            </a:endParaRPr>
          </a:p>
        </p:txBody>
      </p:sp>
      <p:sp>
        <p:nvSpPr>
          <p:cNvPr id="762" name=""/>
          <p:cNvSpPr txBox="1"/>
          <p:nvPr/>
        </p:nvSpPr>
        <p:spPr>
          <a:xfrm>
            <a:off x="182520" y="1692360"/>
            <a:ext cx="8686800" cy="4479840"/>
          </a:xfrm>
          <a:prstGeom prst="rect">
            <a:avLst/>
          </a:prstGeom>
          <a:noFill/>
          <a:ln w="0">
            <a:noFill/>
          </a:ln>
        </p:spPr>
        <p:txBody>
          <a:bodyPr anchor="t">
            <a:normAutofit fontScale="93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s that have expanded their business using virtualization technology with Linux on z Systems now have one solution that provides them with multiple tools to monitor, operate, automate, and backup and recover their entire z/VM and Linux on z Systems environmen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components include:</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MEGAMON XE on z/VM and Linux</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r for z/VM </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Wave </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up and Restore Manager for z/VM </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ivoli Storage Manager Extended </a:t>
            </a:r>
            <a:br>
              <a:rPr sz="1600"/>
            </a:br>
            <a:r>
              <a:rPr b="0" lang="en-US" sz="1600" spc="-1" strike="noStrike">
                <a:solidFill>
                  <a:srgbClr val="000000"/>
                </a:solidFill>
                <a:latin typeface="Arial"/>
              </a:rPr>
              <a:t>Edi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include:</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to-use, content rich interface that </a:t>
            </a:r>
            <a:br>
              <a:rPr sz="1600"/>
            </a:br>
            <a:r>
              <a:rPr b="0" lang="en-US" sz="1600" spc="-1" strike="noStrike">
                <a:solidFill>
                  <a:srgbClr val="000000"/>
                </a:solidFill>
                <a:latin typeface="Arial"/>
              </a:rPr>
              <a:t>is simple and free of operational complexity.</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productivity with rapid cloning and provisioning of Linux guests on IBM z/VM.</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d administration with flexible reporting.</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er administration with detailed performance monitoring, including customized views and historical data</a:t>
            </a:r>
            <a:endParaRPr b="0" lang="en-US" sz="1600" spc="-1" strike="noStrike">
              <a:solidFill>
                <a:srgbClr val="000000"/>
              </a:solidFill>
              <a:latin typeface="Arial"/>
            </a:endParaRPr>
          </a:p>
        </p:txBody>
      </p:sp>
      <p:pic>
        <p:nvPicPr>
          <p:cNvPr id="763" name="Picture 2" descr=""/>
          <p:cNvPicPr/>
          <p:nvPr/>
        </p:nvPicPr>
        <p:blipFill>
          <a:blip r:embed="rId1"/>
          <a:stretch/>
        </p:blipFill>
        <p:spPr>
          <a:xfrm>
            <a:off x="4389480" y="2879640"/>
            <a:ext cx="4479840" cy="224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615E-F296-4EE0-AF62-2BFA536D2F21}"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65"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BM z/OS Connect</a:t>
            </a:r>
            <a:endParaRPr b="0" lang="en-US" sz="2200" spc="-1" strike="noStrike">
              <a:solidFill>
                <a:srgbClr val="000000"/>
              </a:solidFill>
              <a:latin typeface="Arial"/>
            </a:endParaRPr>
          </a:p>
        </p:txBody>
      </p:sp>
      <p:sp>
        <p:nvSpPr>
          <p:cNvPr id="766" name=""/>
          <p:cNvSpPr txBox="1"/>
          <p:nvPr/>
        </p:nvSpPr>
        <p:spPr>
          <a:xfrm>
            <a:off x="182520" y="1028880"/>
            <a:ext cx="8686800" cy="806400"/>
          </a:xfrm>
          <a:prstGeom prst="rect">
            <a:avLst/>
          </a:prstGeom>
          <a:noFill/>
          <a:ln w="0">
            <a:noFill/>
          </a:ln>
        </p:spPr>
        <p:txBody>
          <a:bodyPr anchor="t">
            <a:normAutofit fontScale="8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Connect is a Liberty-based gateway that provides a simple, secure, and scalable way to discover and call application assets/infrastructure on z/OS from Web/Cloud/Mobile applications using RESTful* servic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Connect consists of two primary componen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TextBox 4"/>
          <p:cNvSpPr/>
          <p:nvPr/>
        </p:nvSpPr>
        <p:spPr>
          <a:xfrm>
            <a:off x="214200" y="2289240"/>
            <a:ext cx="4024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untime server</a:t>
            </a:r>
            <a:r>
              <a:rPr b="1" lang="en-US" sz="1600" spc="-1" strike="noStrike">
                <a:solidFill>
                  <a:srgbClr val="000000"/>
                </a:solidFill>
                <a:latin typeface="Arial"/>
              </a:rPr>
              <a:t> – </a:t>
            </a:r>
            <a:r>
              <a:rPr b="0" lang="en-US" sz="1600" spc="-1" strike="noStrike">
                <a:solidFill>
                  <a:srgbClr val="000000"/>
                </a:solidFill>
                <a:latin typeface="Arial"/>
              </a:rPr>
              <a:t>This runs on Liberty z/OS, and is where the APIs are hosted.  This is the function that receives the REST request and communicates with the backend.</a:t>
            </a:r>
            <a:r>
              <a:rPr b="1" lang="en-US" sz="1600" spc="-1" strike="noStrike">
                <a:solidFill>
                  <a:srgbClr val="000000"/>
                </a:solidFill>
                <a:latin typeface="Arial"/>
              </a:rPr>
              <a:t> </a:t>
            </a:r>
            <a:endParaRPr b="1" lang="en-US" sz="1600" spc="-1" strike="noStrike">
              <a:solidFill>
                <a:srgbClr val="000000"/>
              </a:solidFill>
              <a:latin typeface="Arial"/>
            </a:endParaRPr>
          </a:p>
        </p:txBody>
      </p:sp>
      <p:pic>
        <p:nvPicPr>
          <p:cNvPr id="768" name="Picture 2" descr="This image simply shows how z/OS V2 server connects directly to CICS, IMS, WebSphere, and Batch on z Systems. "/>
          <p:cNvPicPr/>
          <p:nvPr/>
        </p:nvPicPr>
        <p:blipFill>
          <a:blip r:embed="rId1"/>
          <a:stretch/>
        </p:blipFill>
        <p:spPr>
          <a:xfrm>
            <a:off x="5029200" y="1725480"/>
            <a:ext cx="3344760" cy="2291040"/>
          </a:xfrm>
          <a:prstGeom prst="rect">
            <a:avLst/>
          </a:prstGeom>
          <a:ln w="0">
            <a:noFill/>
          </a:ln>
        </p:spPr>
      </p:pic>
      <p:sp>
        <p:nvSpPr>
          <p:cNvPr id="769" name="TextBox 5"/>
          <p:cNvSpPr/>
          <p:nvPr/>
        </p:nvSpPr>
        <p:spPr>
          <a:xfrm>
            <a:off x="3932280" y="4083120"/>
            <a:ext cx="49370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oling platform </a:t>
            </a:r>
            <a:r>
              <a:rPr b="1" lang="en-US" sz="1600" spc="-1" strike="noStrike">
                <a:solidFill>
                  <a:srgbClr val="000000"/>
                </a:solidFill>
                <a:latin typeface="Arial"/>
              </a:rPr>
              <a:t>– </a:t>
            </a:r>
            <a:r>
              <a:rPr b="0" lang="en-US" sz="1600" spc="-1" strike="noStrike">
                <a:solidFill>
                  <a:srgbClr val="000000"/>
                </a:solidFill>
                <a:latin typeface="Arial"/>
              </a:rPr>
              <a:t>This is an Eclipse-plugin that provides the tooling function in support of z/OS Connect EE V2.0.  This runs on a workstation platform and is where you define the APIs, define the data mapping, and from which you may deploy the service to the runtime platfor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770" name="Picture 3" descr="This is an image a laptop with following labels; &#13;&#10;Eclipse&#13;&#10;z/OS Connect EE V2.0 Tooling&#13;&#10;Windows or Linux"/>
          <p:cNvPicPr/>
          <p:nvPr/>
        </p:nvPicPr>
        <p:blipFill>
          <a:blip r:embed="rId2"/>
          <a:stretch/>
        </p:blipFill>
        <p:spPr>
          <a:xfrm>
            <a:off x="274680" y="3672000"/>
            <a:ext cx="3252600" cy="1974600"/>
          </a:xfrm>
          <a:prstGeom prst="rect">
            <a:avLst/>
          </a:prstGeom>
          <a:ln w="0">
            <a:noFill/>
          </a:ln>
        </p:spPr>
      </p:pic>
      <p:sp>
        <p:nvSpPr>
          <p:cNvPr id="771" name="TextBox 7"/>
          <p:cNvSpPr/>
          <p:nvPr/>
        </p:nvSpPr>
        <p:spPr>
          <a:xfrm>
            <a:off x="171360" y="5778360"/>
            <a:ext cx="869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Connect is a fast “on-ramp” for z/OS clients to discover and reach z/OS assets simply and securely using RESTful services.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8A94-D50E-44A3-9F40-653B92EA67D4}"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73"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BM Cloud Orchestrator</a:t>
            </a:r>
            <a:endParaRPr b="0" lang="en-US" sz="2200" spc="-1" strike="noStrike">
              <a:solidFill>
                <a:srgbClr val="000000"/>
              </a:solidFill>
              <a:latin typeface="Arial"/>
            </a:endParaRPr>
          </a:p>
        </p:txBody>
      </p:sp>
      <p:sp>
        <p:nvSpPr>
          <p:cNvPr id="774" name=""/>
          <p:cNvSpPr txBox="1"/>
          <p:nvPr/>
        </p:nvSpPr>
        <p:spPr>
          <a:xfrm>
            <a:off x="182520" y="1874880"/>
            <a:ext cx="8686800" cy="44798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ility to support user-driven services requests and orchestrated resource deployment is pivotal to an optimized infrastructure and can provide tremendous cost savings</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loud Orchestrator is a comprehensive open cloud management platform that automates the delivery of cloud services. Its advanced cloud capabilities include:</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ng the management of virtual </a:t>
            </a:r>
            <a:br>
              <a:rPr sz="1600"/>
            </a:br>
            <a:r>
              <a:rPr b="0" lang="en-US" sz="1600" spc="-1" strike="noStrike">
                <a:solidFill>
                  <a:srgbClr val="000000"/>
                </a:solidFill>
                <a:latin typeface="Arial"/>
              </a:rPr>
              <a:t>environment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dynamic service delivery model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ng business policies and systems in a </a:t>
            </a:r>
            <a:br>
              <a:rPr sz="1600"/>
            </a:br>
            <a:r>
              <a:rPr b="0" lang="en-US" sz="1600" spc="-1" strike="noStrike">
                <a:solidFill>
                  <a:srgbClr val="000000"/>
                </a:solidFill>
                <a:latin typeface="Arial"/>
              </a:rPr>
              <a:t>customized cloud service through workflow </a:t>
            </a:r>
            <a:br>
              <a:rPr sz="1600"/>
            </a:br>
            <a:r>
              <a:rPr b="0" lang="en-US" sz="1600" spc="-1" strike="noStrike">
                <a:solidFill>
                  <a:srgbClr val="000000"/>
                </a:solidFill>
                <a:latin typeface="Arial"/>
              </a:rPr>
              <a:t>integration</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loud Orchestrator is a comprehensive service </a:t>
            </a:r>
            <a:br>
              <a:rPr sz="1600"/>
            </a:br>
            <a:r>
              <a:rPr b="0" lang="en-US" sz="1600" spc="-1" strike="noStrike">
                <a:solidFill>
                  <a:srgbClr val="000000"/>
                </a:solidFill>
                <a:latin typeface="Arial"/>
              </a:rPr>
              <a:t>delivery platform that can help:</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 down cost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speed to deliver business services</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5" name="Picture 2" descr=""/>
          <p:cNvPicPr/>
          <p:nvPr/>
        </p:nvPicPr>
        <p:blipFill>
          <a:blip r:embed="rId1"/>
          <a:stretch/>
        </p:blipFill>
        <p:spPr>
          <a:xfrm>
            <a:off x="5303880" y="3154320"/>
            <a:ext cx="3478320" cy="311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327B-D29F-4F80-9C0E-528967E66419}"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77"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BM Wave</a:t>
            </a:r>
            <a:endParaRPr b="0" lang="en-US" sz="2200" spc="-1" strike="noStrike">
              <a:solidFill>
                <a:srgbClr val="000000"/>
              </a:solidFill>
              <a:latin typeface="Arial"/>
            </a:endParaRPr>
          </a:p>
        </p:txBody>
      </p:sp>
      <p:sp>
        <p:nvSpPr>
          <p:cNvPr id="778" name="Text Box 29"/>
          <p:cNvSpPr/>
          <p:nvPr/>
        </p:nvSpPr>
        <p:spPr>
          <a:xfrm>
            <a:off x="0" y="1235160"/>
            <a:ext cx="9144000" cy="8920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US" sz="1800" spc="-1" strike="noStrike">
                <a:solidFill>
                  <a:srgbClr val="ffffff"/>
                </a:solidFill>
                <a:latin typeface="Arial"/>
              </a:rPr>
              <a:t>IBM Wave for z/VM helps dramatically simplify administration and management of z/VM and virtual Linux servers, freeing staff to focus on other business-critical tasks.</a:t>
            </a:r>
            <a:endParaRPr b="1" lang="en-US" sz="1800" spc="-1" strike="noStrike">
              <a:solidFill>
                <a:srgbClr val="000000"/>
              </a:solidFill>
              <a:latin typeface="Arial"/>
            </a:endParaRPr>
          </a:p>
        </p:txBody>
      </p:sp>
      <p:sp>
        <p:nvSpPr>
          <p:cNvPr id="779" name=""/>
          <p:cNvSpPr txBox="1"/>
          <p:nvPr/>
        </p:nvSpPr>
        <p:spPr>
          <a:xfrm>
            <a:off x="182520" y="2315880"/>
            <a:ext cx="8686800" cy="3840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Wave for z/VM helps dramatically simplify administration and management of z/VM and virtual Linux servers, freeing staff to focus on other business-critical tasks: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s seamlessly with z/VM and Linux environments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s and manages virtual servers and resources from a single graphical interfac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with rapid cloning and provisioning of virtual Linux servers and resources on z/VM</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matically reduces the learning curve to manage and control z/VM and virtual Linux server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administration time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identify, expose, and aggregate resources clearly</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s an easier transition to private clou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4460-4EC7-401B-8D35-3EF7DF11C544}"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81"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reme Cloud Administrative Toolkit</a:t>
            </a:r>
            <a:endParaRPr b="0" lang="en-US" sz="2200" spc="-1" strike="noStrike">
              <a:solidFill>
                <a:srgbClr val="000000"/>
              </a:solidFill>
              <a:latin typeface="Arial"/>
            </a:endParaRPr>
          </a:p>
        </p:txBody>
      </p:sp>
      <p:sp>
        <p:nvSpPr>
          <p:cNvPr id="782" name=""/>
          <p:cNvSpPr txBox="1"/>
          <p:nvPr/>
        </p:nvSpPr>
        <p:spPr>
          <a:xfrm>
            <a:off x="182520" y="1874880"/>
            <a:ext cx="8686800" cy="44798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treme Cloud Administrator Toolkit (xCAT) is included as part of z/VM 6.3. It allows customers to set up and administer a rudimentary cloud environment on z/VM only, without purchasing any other cloud management software.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CAT provides the following features: </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to-use tool to manage, provision, and monitor physical and virtual machines on IBM z Systems</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 scalable, open source toolkit that include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ing and de-provisioning of virtual guest environment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physical and virtual resources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network, storage, and image management</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CAT has four different interface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 (</a:t>
            </a:r>
            <a:r>
              <a:rPr b="0" lang="en-US" sz="1600" spc="-1" strike="noStrike" u="sng">
                <a:solidFill>
                  <a:srgbClr val="000000"/>
                </a:solidFill>
                <a:uFillTx/>
                <a:latin typeface="Arial"/>
              </a:rPr>
              <a:t>Re</a:t>
            </a:r>
            <a:r>
              <a:rPr b="0" lang="en-US" sz="1600" spc="-1" strike="noStrike">
                <a:solidFill>
                  <a:srgbClr val="000000"/>
                </a:solidFill>
                <a:latin typeface="Arial"/>
              </a:rPr>
              <a:t>presentational </a:t>
            </a:r>
            <a:r>
              <a:rPr b="0" lang="en-US" sz="1600" spc="-1" strike="noStrike" u="sng">
                <a:solidFill>
                  <a:srgbClr val="000000"/>
                </a:solidFill>
                <a:uFillTx/>
                <a:latin typeface="Arial"/>
              </a:rPr>
              <a:t>S</a:t>
            </a:r>
            <a:r>
              <a:rPr b="0" lang="en-US" sz="1600" spc="-1" strike="noStrike">
                <a:solidFill>
                  <a:srgbClr val="000000"/>
                </a:solidFill>
                <a:latin typeface="Arial"/>
              </a:rPr>
              <a:t>tate </a:t>
            </a:r>
            <a:r>
              <a:rPr b="0" lang="en-US" sz="1600" spc="-1" strike="noStrike" u="sng">
                <a:solidFill>
                  <a:srgbClr val="000000"/>
                </a:solidFill>
                <a:uFillTx/>
                <a:latin typeface="Arial"/>
              </a:rPr>
              <a:t>T</a:t>
            </a:r>
            <a:r>
              <a:rPr b="0" lang="en-US" sz="1600" spc="-1" strike="noStrike">
                <a:solidFill>
                  <a:srgbClr val="000000"/>
                </a:solidFill>
                <a:latin typeface="Arial"/>
              </a:rPr>
              <a:t>ransfer) APIs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wser-based Graphical User Interface</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Line Interface (CLI)</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pic>
        <p:nvPicPr>
          <p:cNvPr id="783" name="Picture 9" descr=""/>
          <p:cNvPicPr/>
          <p:nvPr/>
        </p:nvPicPr>
        <p:blipFill>
          <a:blip r:embed="rId1"/>
          <a:stretch/>
        </p:blipFill>
        <p:spPr>
          <a:xfrm>
            <a:off x="6035760" y="4156200"/>
            <a:ext cx="2504880" cy="212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99BA-4181-41BB-8B4F-4510944F9363}"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85"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ud Security</a:t>
            </a:r>
            <a:endParaRPr b="0" lang="en-US" sz="2200" spc="-1" strike="noStrike">
              <a:solidFill>
                <a:srgbClr val="000000"/>
              </a:solidFill>
              <a:latin typeface="Arial"/>
            </a:endParaRPr>
          </a:p>
        </p:txBody>
      </p:sp>
      <p:sp>
        <p:nvSpPr>
          <p:cNvPr id="786" name=""/>
          <p:cNvSpPr txBox="1"/>
          <p:nvPr/>
        </p:nvSpPr>
        <p:spPr>
          <a:xfrm>
            <a:off x="158400" y="1754280"/>
            <a:ext cx="8745480" cy="44798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optimize enterprise security, there must be a high level of planning and assessment to identify risks across key business areas. This security framework includes people, processes, data, and technology throughout the entire business continuum. IBM Security solutions provide comprehensive, end-to-end, integrated security capabilities on mainframes, enabling enterprises to consolidate their security management and leverage the mainframe as their enterprise security hub.</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IBM solutions are applicable in a mainframe cloud computing environment: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esource Access Control Facility (RACF)</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zSecure suite</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Federated Identity Manager for Linux on z System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Identity Manager for Linux on z System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Access Manager for e-business (for Linux on z System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Key Lifecycle Manager for z/OS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InfoSphere Guardium Database Activity Monitor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roventia® Server Intrusion Prevention System for Linux on </a:t>
            </a:r>
            <a:br>
              <a:rPr sz="1600"/>
            </a:br>
            <a:r>
              <a:rPr b="0" lang="en-US" sz="1600" spc="-1" strike="noStrike">
                <a:solidFill>
                  <a:srgbClr val="000000"/>
                </a:solidFill>
                <a:latin typeface="Arial"/>
              </a:rPr>
              <a:t>z Systems</a:t>
            </a:r>
            <a:endParaRPr b="0" lang="en-US" sz="1600" spc="-1" strike="noStrike">
              <a:solidFill>
                <a:srgbClr val="000000"/>
              </a:solidFill>
              <a:latin typeface="Arial"/>
            </a:endParaRPr>
          </a:p>
        </p:txBody>
      </p:sp>
      <p:pic>
        <p:nvPicPr>
          <p:cNvPr id="787" name="Picture 1" descr=""/>
          <p:cNvPicPr/>
          <p:nvPr/>
        </p:nvPicPr>
        <p:blipFill>
          <a:blip r:embed="rId1"/>
          <a:stretch/>
        </p:blipFill>
        <p:spPr>
          <a:xfrm>
            <a:off x="7132680" y="3678120"/>
            <a:ext cx="1762200" cy="176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3292-54CD-4E0E-A0AE-092869D7232E}"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89"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ud Test Drive</a:t>
            </a:r>
            <a:endParaRPr b="0" lang="en-US" sz="2200" spc="-1" strike="noStrike">
              <a:solidFill>
                <a:srgbClr val="000000"/>
              </a:solidFill>
              <a:latin typeface="Arial"/>
            </a:endParaRPr>
          </a:p>
        </p:txBody>
      </p:sp>
      <p:sp>
        <p:nvSpPr>
          <p:cNvPr id="790" name="PlaceHolder 2"/>
          <p:cNvSpPr>
            <a:spLocks noGrp="1"/>
          </p:cNvSpPr>
          <p:nvPr>
            <p:ph/>
          </p:nvPr>
        </p:nvSpPr>
        <p:spPr>
          <a:xfrm>
            <a:off x="182520" y="1235160"/>
            <a:ext cx="8686800" cy="44798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BM offers a z Systems Cloud Portal—the IBM Linux on z Systems Cloud Test Drive—that enables clients to experience a cloud on z Systems from anywhere in the world via the 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d3af8"/>
                </a:solidFill>
                <a:uFillTx/>
                <a:latin typeface="Arial"/>
                <a:ea typeface="MS PGothic"/>
                <a:hlinkClick r:id="rId1"/>
              </a:rPr>
              <a:t>The IBM Linux on z Systems Cloud Test Drive vide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ee for yourself how effectively Linux is deploying an </a:t>
            </a:r>
            <a:br>
              <a:rPr sz="1600"/>
            </a:br>
            <a:r>
              <a:rPr b="0" lang="en-US" sz="1600" spc="-1" strike="noStrike">
                <a:solidFill>
                  <a:srgbClr val="000000"/>
                </a:solidFill>
                <a:latin typeface="Arial"/>
                <a:ea typeface="MS PGothic"/>
              </a:rPr>
              <a:t>IaaS solution. You will see what it is like to be both a </a:t>
            </a:r>
            <a:br>
              <a:rPr sz="1600"/>
            </a:br>
            <a:r>
              <a:rPr b="0" lang="en-US" sz="1600" spc="-1" strike="noStrike">
                <a:solidFill>
                  <a:srgbClr val="000000"/>
                </a:solidFill>
                <a:latin typeface="Arial"/>
                <a:ea typeface="MS PGothic"/>
              </a:rPr>
              <a:t>user and an administrator with a z Systems cloud. (You </a:t>
            </a:r>
            <a:br>
              <a:rPr sz="1600"/>
            </a:br>
            <a:r>
              <a:rPr b="0" lang="en-US" sz="1600" spc="-1" strike="noStrike">
                <a:solidFill>
                  <a:srgbClr val="000000"/>
                </a:solidFill>
                <a:latin typeface="Arial"/>
                <a:ea typeface="MS PGothic"/>
              </a:rPr>
              <a:t>will need to be connected to the internet to view this </a:t>
            </a:r>
            <a:br>
              <a:rPr sz="1600"/>
            </a:br>
            <a:r>
              <a:rPr b="0" lang="en-US" sz="1600" spc="-1" strike="noStrike">
                <a:solidFill>
                  <a:srgbClr val="000000"/>
                </a:solidFill>
                <a:latin typeface="Arial"/>
                <a:ea typeface="MS PGothic"/>
              </a:rPr>
              <a:t>video.)</a:t>
            </a:r>
            <a:endParaRPr b="0" lang="en-US" sz="1600" spc="-1" strike="noStrike">
              <a:solidFill>
                <a:srgbClr val="000000"/>
              </a:solidFill>
              <a:latin typeface="Arial"/>
            </a:endParaRPr>
          </a:p>
        </p:txBody>
      </p:sp>
      <p:pic>
        <p:nvPicPr>
          <p:cNvPr id="791" name="Picture 5" descr=""/>
          <p:cNvPicPr/>
          <p:nvPr/>
        </p:nvPicPr>
        <p:blipFill>
          <a:blip r:embed="rId2"/>
          <a:stretch/>
        </p:blipFill>
        <p:spPr>
          <a:xfrm>
            <a:off x="5486400" y="2149560"/>
            <a:ext cx="3247920" cy="2857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FD98-5CC0-4843-8601-06DF4348A2B8}"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93"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estions? </a:t>
            </a:r>
            <a:endParaRPr b="0" lang="en-US" sz="2200" spc="-1" strike="noStrike">
              <a:solidFill>
                <a:srgbClr val="000000"/>
              </a:solidFill>
              <a:latin typeface="Arial"/>
            </a:endParaRPr>
          </a:p>
        </p:txBody>
      </p:sp>
      <p:pic>
        <p:nvPicPr>
          <p:cNvPr id="794" name="Picture 3" descr="Thank you"/>
          <p:cNvPicPr/>
          <p:nvPr/>
        </p:nvPicPr>
        <p:blipFill>
          <a:blip r:embed="rId1"/>
          <a:stretch/>
        </p:blipFill>
        <p:spPr>
          <a:xfrm>
            <a:off x="2011320" y="2057400"/>
            <a:ext cx="5437080" cy="247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rademarks</a:t>
            </a:r>
            <a:endParaRPr b="0" lang="en-US" sz="2200" spc="-1" strike="noStrike">
              <a:solidFill>
                <a:srgbClr val="000000"/>
              </a:solidFill>
              <a:latin typeface="Arial"/>
            </a:endParaRPr>
          </a:p>
        </p:txBody>
      </p:sp>
      <p:sp>
        <p:nvSpPr>
          <p:cNvPr id="796" name="PlaceHolder 2"/>
          <p:cNvSpPr>
            <a:spLocks noGrp="1"/>
          </p:cNvSpPr>
          <p:nvPr>
            <p:ph/>
          </p:nvPr>
        </p:nvSpPr>
        <p:spPr>
          <a:xfrm>
            <a:off x="182520" y="1234800"/>
            <a:ext cx="8686800" cy="5119560"/>
          </a:xfrm>
          <a:prstGeom prst="rect">
            <a:avLst/>
          </a:prstGeom>
          <a:noFill/>
          <a:ln w="0">
            <a:noFill/>
          </a:ln>
        </p:spPr>
        <p:txBody>
          <a:bodyPr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and ibm.com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a:t>
            </a:r>
            <a:r>
              <a:rPr b="0" lang="en-US" sz="1600" spc="-1" strike="noStrike" u="sng">
                <a:solidFill>
                  <a:srgbClr val="1d3af8"/>
                </a:solidFill>
                <a:uFillTx/>
                <a:latin typeface="Arial"/>
                <a:hlinkClick r:id="rId1"/>
              </a:rPr>
              <a:t>Copyright and trademark information</a:t>
            </a:r>
            <a:r>
              <a:rPr b="0" lang="en-US" sz="1600" spc="-1" strike="noStrike">
                <a:solidFill>
                  <a:srgbClr val="000000"/>
                </a:solidFill>
                <a:latin typeface="Arial"/>
              </a:rPr>
              <a:t>" at www.ibm.com/legal/copytrade.shtml.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tel is a registered trademarks of Intel Corporation or its subsidiaries in the United States and other countrie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Java and all Java-based trademarks and logos are trademarks or registered trademarks of Oracle and/or its affiliate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inux is a registered trademark of Linus Torvalds in the United States, other countries, or both.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crosoft and PowerPoint are trademarks of Microsoft Corporation in the United States, other countries, or both.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IX is a registered trademark of The Open Group in the United States and other countrie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product and service names might be trademarks of IBM or other companies. </a:t>
            </a:r>
            <a:endParaRPr b="0" lang="en-US" sz="1600" spc="-1" strike="noStrike">
              <a:solidFill>
                <a:srgbClr val="000000"/>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1B72-E178-476E-9E24-01336DA8BA64}"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41" name="PlaceHolder 1"/>
          <p:cNvSpPr>
            <a:spLocks noGrp="1"/>
          </p:cNvSpPr>
          <p:nvPr>
            <p:ph type="title"/>
          </p:nvPr>
        </p:nvSpPr>
        <p:spPr>
          <a:xfrm>
            <a:off x="182520" y="593280"/>
            <a:ext cx="8686800" cy="118908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ll the excitement about cloud computing?</a:t>
            </a:r>
            <a:br>
              <a:rPr sz="2200"/>
            </a:br>
            <a:br>
              <a:rPr sz="2200"/>
            </a:br>
            <a:endParaRPr b="0" lang="en-US" sz="2200" spc="-1" strike="noStrike">
              <a:solidFill>
                <a:srgbClr val="000000"/>
              </a:solidFill>
              <a:latin typeface="Arial"/>
            </a:endParaRPr>
          </a:p>
        </p:txBody>
      </p:sp>
      <p:pic>
        <p:nvPicPr>
          <p:cNvPr id="642" name="Picture 4" descr=""/>
          <p:cNvPicPr/>
          <p:nvPr/>
        </p:nvPicPr>
        <p:blipFill>
          <a:blip r:embed="rId1"/>
          <a:stretch/>
        </p:blipFill>
        <p:spPr>
          <a:xfrm>
            <a:off x="2468520" y="1517760"/>
            <a:ext cx="4297320" cy="478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96EC-3691-4D9F-861B-E99373FCEB67}"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44"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ud Computing Basics</a:t>
            </a:r>
            <a:endParaRPr b="0" lang="en-US" sz="2200" spc="-1" strike="noStrike">
              <a:solidFill>
                <a:srgbClr val="000000"/>
              </a:solidFill>
              <a:latin typeface="Arial"/>
            </a:endParaRPr>
          </a:p>
        </p:txBody>
      </p:sp>
      <p:sp>
        <p:nvSpPr>
          <p:cNvPr id="645" name="PlaceHolder 2"/>
          <p:cNvSpPr>
            <a:spLocks noGrp="1"/>
          </p:cNvSpPr>
          <p:nvPr>
            <p:ph/>
          </p:nvPr>
        </p:nvSpPr>
        <p:spPr>
          <a:xfrm>
            <a:off x="182160" y="1189080"/>
            <a:ext cx="8961480" cy="484488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ing has changed greatly over the last 20 years. Today, we can: </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store files, images, data, and even programs on the Internet.</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personal e-mail can be accessed from the web.</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thousands of videos and television programs directly over the Internet from providers such as YouTube, Netflix, and Hulu. </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taxes online, and store tax data is online, available when we need it to file taxes next year. </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online banking, make airline reservations, shop, and engage social media</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new options or services fall within the concept of cloud computing.</a:t>
            </a:r>
            <a:endParaRPr b="0" lang="en-US" sz="1600" spc="-1" strike="noStrike">
              <a:solidFill>
                <a:srgbClr val="000000"/>
              </a:solidFill>
              <a:latin typeface="Arial"/>
            </a:endParaRPr>
          </a:p>
        </p:txBody>
      </p:sp>
      <p:pic>
        <p:nvPicPr>
          <p:cNvPr id="646" name="Picture 7" descr=""/>
          <p:cNvPicPr/>
          <p:nvPr/>
        </p:nvPicPr>
        <p:blipFill>
          <a:blip r:embed="rId1"/>
          <a:stretch/>
        </p:blipFill>
        <p:spPr>
          <a:xfrm>
            <a:off x="777960" y="3946680"/>
            <a:ext cx="777060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FE02-917E-4C8D-8FFB-700CA24A7383}"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48"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ud Appeal</a:t>
            </a:r>
            <a:endParaRPr b="0" lang="en-US" sz="2200" spc="-1" strike="noStrike">
              <a:solidFill>
                <a:srgbClr val="000000"/>
              </a:solidFill>
              <a:latin typeface="Arial"/>
            </a:endParaRPr>
          </a:p>
        </p:txBody>
      </p:sp>
      <p:sp>
        <p:nvSpPr>
          <p:cNvPr id="649" name="PlaceHolder 2"/>
          <p:cNvSpPr>
            <a:spLocks noGrp="1"/>
          </p:cNvSpPr>
          <p:nvPr>
            <p:ph/>
          </p:nvPr>
        </p:nvSpPr>
        <p:spPr>
          <a:xfrm>
            <a:off x="182160" y="1104840"/>
            <a:ext cx="5211720" cy="29368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and business are attracted to the cloud for different reasons.</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the cloud’s vast potential is unmet because cloud is being used primarily to make IT easier, cheaper and faster.  </a:t>
            </a:r>
            <a:endParaRPr b="0" lang="en-US" sz="16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drawn to the cloud’s cost, efficiency, and control.</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data center efficiency, and lower costs are just the start. </a:t>
            </a:r>
            <a:endParaRPr b="0" lang="en-US" sz="1600" spc="-1" strike="noStrike">
              <a:solidFill>
                <a:srgbClr val="000000"/>
              </a:solidFill>
              <a:latin typeface="Arial"/>
            </a:endParaRPr>
          </a:p>
        </p:txBody>
      </p:sp>
      <p:sp>
        <p:nvSpPr>
          <p:cNvPr id="650" name="Rectangle 3"/>
          <p:cNvSpPr/>
          <p:nvPr/>
        </p:nvSpPr>
        <p:spPr>
          <a:xfrm>
            <a:off x="182520" y="3886200"/>
            <a:ext cx="8540640" cy="1809720"/>
          </a:xfrm>
          <a:prstGeom prst="rect">
            <a:avLst/>
          </a:prstGeom>
          <a:noFill/>
          <a:ln w="0">
            <a:noFill/>
          </a:ln>
        </p:spPr>
        <p:style>
          <a:lnRef idx="0"/>
          <a:fillRef idx="0"/>
          <a:effectRef idx="0"/>
          <a:fontRef idx="minor"/>
        </p:style>
        <p:txBody>
          <a:bodyPr lIns="90000" rIns="90000" tIns="46800" bIns="46800" anchor="t">
            <a:normAutofit/>
          </a:bodyPr>
          <a:p>
            <a:pPr marL="173160" indent="-173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is drawn to the cloud’s self-service experience and new service capabilities. </a:t>
            </a:r>
            <a:endParaRPr b="1"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y percent of CIOs plan to use the cloud—up from 33% two years ago. Fifty-five percent of business executives believe the cloud enables business transformation and leaner, faster, more agile processes. </a:t>
            </a:r>
            <a:endParaRPr b="1" lang="en-US" sz="1600" spc="-1" strike="noStrike">
              <a:solidFill>
                <a:srgbClr val="000000"/>
              </a:solidFill>
              <a:latin typeface="Arial"/>
            </a:endParaRPr>
          </a:p>
          <a:p>
            <a:pPr marL="173160" indent="-173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3160" indent="-173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Arial"/>
              </a:rPr>
              <a:t>Cloud is not just about rethinking IT; it is also about reinventing the business.</a:t>
            </a:r>
            <a:endParaRPr b="1"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651" name="Picture 6" descr="85% of all new software is being delivered on the cloud. &#13;&#10;&#13;&#10;Source: IDC"/>
          <p:cNvPicPr/>
          <p:nvPr/>
        </p:nvPicPr>
        <p:blipFill>
          <a:blip r:embed="rId1"/>
          <a:srcRect l="0" t="0" r="0" b="15025"/>
          <a:stretch/>
        </p:blipFill>
        <p:spPr>
          <a:xfrm>
            <a:off x="5607000" y="1104840"/>
            <a:ext cx="3272040" cy="278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5797-0E52-4464-8060-0FED5A5F2F64}"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53"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ing the Benefits of Cloud</a:t>
            </a:r>
            <a:endParaRPr b="0" lang="en-US" sz="2400" spc="-1" strike="noStrike">
              <a:solidFill>
                <a:srgbClr val="000000"/>
              </a:solidFill>
              <a:latin typeface="Arial"/>
            </a:endParaRPr>
          </a:p>
        </p:txBody>
      </p:sp>
      <p:pic>
        <p:nvPicPr>
          <p:cNvPr id="654" name="Picture 57" descr="Benefit: Increased Speed and Flexibility&#13;&#10;&#13;&#10;Results for IBM cloud computing engagements&#13;&#10;&#13;&#10;Task: Test provisioning&#13;&#10;Before cloud deployment test provisioning could take weeks. After cloud deployment, test provisioning takes just minutes.&#13;&#10;&#13;&#10;Task: Change management&#13;&#10;Before cloud deployment change management could take months. After cloud deployment, change management takes just days or hours.&#13;&#10;&#13;&#10;Task: Release management&#13;&#10;Before cloud deployment release management could take weeks. After cloud deployment, release management takes just minutes.&#13;&#10;&#13;&#10;Task: Service access&#13;&#10;Before cloud deployment service access was administered. After cloud deployment, service access is self-service.&#13;&#10;&#13;&#10;Task: Standardization&#13;&#10;Before cloud deployment standardization was complex. After cloud deployment, standardization is reused or shared.&#13;&#10;&#13;&#10;Task: Metering/billing&#13;&#10;Before cloud deployment metering/billing had a fixed cost. After cloud deployment, metering/billing has variable cost.&#13;&#10;&#13;&#10;Task: Server/storage utilization&#13;&#10;Before cloud deployment server/storage utilization was about 10-20%. After cloud deployment, server/storage utilization rises to 70-90%.&#13;&#10;&#13;&#10;Benefit: Reduced Costs&#13;&#10;&#13;&#10;Task: Payback period&#13;&#10;Before cloud deployment the payback period took years. After cloud deployment, the payback is reduced to just months.&#13;&#10;"/>
          <p:cNvPicPr/>
          <p:nvPr/>
        </p:nvPicPr>
        <p:blipFill>
          <a:blip r:embed="rId1"/>
          <a:stretch/>
        </p:blipFill>
        <p:spPr>
          <a:xfrm>
            <a:off x="182520" y="1173240"/>
            <a:ext cx="8686800" cy="528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23FF-7859-43E1-889F-752F2B770357}"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56"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ud Types</a:t>
            </a:r>
            <a:endParaRPr b="0" lang="en-US" sz="2200" spc="-1" strike="noStrike">
              <a:solidFill>
                <a:srgbClr val="000000"/>
              </a:solidFill>
              <a:latin typeface="Arial"/>
            </a:endParaRPr>
          </a:p>
        </p:txBody>
      </p:sp>
      <p:sp>
        <p:nvSpPr>
          <p:cNvPr id="657" name="Text Box 5"/>
          <p:cNvSpPr/>
          <p:nvPr/>
        </p:nvSpPr>
        <p:spPr>
          <a:xfrm>
            <a:off x="235080" y="1932120"/>
            <a:ext cx="8359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Public Cloud</a:t>
            </a:r>
            <a:r>
              <a:rPr b="0" lang="en-US" sz="1600" spc="-1" strike="noStrike">
                <a:solidFill>
                  <a:srgbClr val="479d83"/>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zon, Salesforce.com, IBM Softlayer. IBM Bluemi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Private Cloud</a:t>
            </a:r>
            <a:r>
              <a:rPr b="0" lang="en-US" sz="1600" spc="-1" strike="noStrike">
                <a:solidFill>
                  <a:srgbClr val="009999"/>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ind the firewall for internal and partner use. Private clouds are suitable for many workloads including core business workloads. </a:t>
            </a:r>
            <a:br>
              <a:rPr sz="1600"/>
            </a:br>
            <a:r>
              <a:rPr b="0" lang="en-US" sz="1600" spc="-1" strike="noStrike">
                <a:solidFill>
                  <a:srgbClr val="000000"/>
                </a:solidFill>
                <a:latin typeface="Arial"/>
              </a:rPr>
              <a:t>Variations include: managed private cloud, hosted private clou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Hybrid Cloud</a:t>
            </a:r>
            <a:r>
              <a:rPr b="0" lang="en-US" sz="1600" spc="-1" strike="noStrike">
                <a:solidFill>
                  <a:srgbClr val="009999"/>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ud with both public and private characteristics, this can be an integrated public and private cloud or community clou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658" name="Picture 22" descr=""/>
          <p:cNvPicPr/>
          <p:nvPr/>
        </p:nvPicPr>
        <p:blipFill>
          <a:blip r:embed="rId1"/>
          <a:stretch/>
        </p:blipFill>
        <p:spPr>
          <a:xfrm>
            <a:off x="5121360" y="503280"/>
            <a:ext cx="3749760" cy="258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9E65-0471-44B0-AE3F-D6EF039F02BB}"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60"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ud Computing Models</a:t>
            </a:r>
            <a:endParaRPr b="0" lang="en-US" sz="2200" spc="-1" strike="noStrike">
              <a:solidFill>
                <a:srgbClr val="000000"/>
              </a:solidFill>
              <a:latin typeface="Arial"/>
            </a:endParaRPr>
          </a:p>
        </p:txBody>
      </p:sp>
      <p:pic>
        <p:nvPicPr>
          <p:cNvPr id="661" name="Picture 18" descr="This graphic shows how the different models of cloud computing fit together. It shows four boxes representing the different cloud deployment models stacked on top of each other. The first box at the bottom includes the following text: IaaS, virtual machines servers storage, load balancers and network, On the left side of the box is the label infrastructure. , The second box includes the following text: PaaS, execution runtime, database, web server, and development tools. On the left side of the box is the label platform. The third box from the bottom, includes the following text: SaaS, CRM, email, virtual desktop, communications, and games, database, web server, and development tools. On the left side of the box is the label, application. The top box is floating above the lower three and is connected by an arrow. This top box includes the following text: Cloud Clients, web browser, mobile app, thin client and terminal emulator. &#13;&#10;Surrounding the boxes are four cloud icons with the following labels: service management, cloud governance, service catalog, and cloud security.  "/>
          <p:cNvPicPr/>
          <p:nvPr/>
        </p:nvPicPr>
        <p:blipFill>
          <a:blip r:embed="rId1"/>
          <a:stretch/>
        </p:blipFill>
        <p:spPr>
          <a:xfrm>
            <a:off x="182520" y="1325520"/>
            <a:ext cx="8961480" cy="498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0FC0-43A6-44E3-B782-BA40BDE91FD2}"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63" name="PlaceHolder 1"/>
          <p:cNvSpPr>
            <a:spLocks noGrp="1"/>
          </p:cNvSpPr>
          <p:nvPr>
            <p:ph type="title"/>
          </p:nvPr>
        </p:nvSpPr>
        <p:spPr>
          <a:xfrm>
            <a:off x="182520" y="593640"/>
            <a:ext cx="868680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BM’s Real-World Experience with Cloud Computing</a:t>
            </a:r>
            <a:endParaRPr b="0" lang="en-US" sz="2200" spc="-1" strike="noStrike">
              <a:solidFill>
                <a:srgbClr val="000000"/>
              </a:solidFill>
              <a:latin typeface="Arial"/>
            </a:endParaRPr>
          </a:p>
        </p:txBody>
      </p:sp>
      <p:sp>
        <p:nvSpPr>
          <p:cNvPr id="664" name="Rectangle 8"/>
          <p:cNvSpPr/>
          <p:nvPr/>
        </p:nvSpPr>
        <p:spPr>
          <a:xfrm>
            <a:off x="1052640" y="1973160"/>
            <a:ext cx="223992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9d"/>
                </a:solidFill>
                <a:latin typeface="Arial"/>
                <a:ea typeface="MS PGothic"/>
              </a:rPr>
              <a:t>10,000</a:t>
            </a:r>
            <a:endParaRPr b="1" lang="en-US" sz="4800" spc="-1" strike="noStrike">
              <a:solidFill>
                <a:srgbClr val="000000"/>
              </a:solidFill>
              <a:latin typeface="Arial"/>
            </a:endParaRPr>
          </a:p>
        </p:txBody>
      </p:sp>
      <p:sp>
        <p:nvSpPr>
          <p:cNvPr id="665" name="Rectangle 7"/>
          <p:cNvSpPr/>
          <p:nvPr/>
        </p:nvSpPr>
        <p:spPr>
          <a:xfrm>
            <a:off x="1036800" y="2274840"/>
            <a:ext cx="228096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MS PGothic"/>
              </a:rPr>
              <a:t>successful private</a:t>
            </a:r>
            <a:br>
              <a:rPr sz="1800"/>
            </a:br>
            <a:r>
              <a:rPr b="0" lang="en-US" sz="1800" spc="-1" strike="noStrike">
                <a:solidFill>
                  <a:srgbClr val="333333"/>
                </a:solidFill>
                <a:latin typeface="Arial"/>
                <a:ea typeface="MS PGothic"/>
              </a:rPr>
              <a:t>cloud engagements</a:t>
            </a:r>
            <a:br>
              <a:rPr sz="1800"/>
            </a:br>
            <a:r>
              <a:rPr b="0" lang="en-US" sz="1800" spc="-1" strike="noStrike">
                <a:solidFill>
                  <a:srgbClr val="333333"/>
                </a:solidFill>
                <a:latin typeface="Arial"/>
                <a:ea typeface="MS PGothic"/>
              </a:rPr>
              <a:t>in 2010.</a:t>
            </a:r>
            <a:endParaRPr b="1" lang="en-US" sz="1800" spc="-1" strike="noStrike">
              <a:solidFill>
                <a:srgbClr val="000000"/>
              </a:solidFill>
              <a:latin typeface="Arial"/>
            </a:endParaRPr>
          </a:p>
        </p:txBody>
      </p:sp>
      <p:sp>
        <p:nvSpPr>
          <p:cNvPr id="666" name="Rectangle 8"/>
          <p:cNvSpPr/>
          <p:nvPr/>
        </p:nvSpPr>
        <p:spPr>
          <a:xfrm>
            <a:off x="3581280" y="1978200"/>
            <a:ext cx="154620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79d83"/>
                </a:solidFill>
                <a:latin typeface="Arial"/>
                <a:ea typeface="MS PGothic"/>
              </a:rPr>
              <a:t>5.5M</a:t>
            </a:r>
            <a:r>
              <a:rPr b="1" lang="en-US" sz="5400" spc="-1" strike="noStrike">
                <a:solidFill>
                  <a:srgbClr val="f04e37"/>
                </a:solidFill>
                <a:latin typeface="Arial"/>
                <a:ea typeface="MS PGothic"/>
              </a:rPr>
              <a:t> </a:t>
            </a:r>
            <a:endParaRPr b="1" lang="en-US" sz="5400" spc="-1" strike="noStrike">
              <a:solidFill>
                <a:srgbClr val="000000"/>
              </a:solidFill>
              <a:latin typeface="Arial"/>
            </a:endParaRPr>
          </a:p>
        </p:txBody>
      </p:sp>
      <p:sp>
        <p:nvSpPr>
          <p:cNvPr id="667" name="Rectangle 9"/>
          <p:cNvSpPr/>
          <p:nvPr/>
        </p:nvSpPr>
        <p:spPr>
          <a:xfrm>
            <a:off x="3608280" y="2317680"/>
            <a:ext cx="261000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aily transactions processed through</a:t>
            </a:r>
            <a:br>
              <a:rPr sz="1800"/>
            </a:br>
            <a:r>
              <a:rPr b="0" lang="en-US" sz="1800" spc="-1" strike="noStrike">
                <a:solidFill>
                  <a:srgbClr val="000000"/>
                </a:solidFill>
                <a:latin typeface="Arial"/>
                <a:ea typeface="MS PGothic"/>
              </a:rPr>
              <a:t>IBM Cloud.</a:t>
            </a:r>
            <a:endParaRPr b="1" lang="en-US" sz="1800" spc="-1" strike="noStrike">
              <a:solidFill>
                <a:srgbClr val="000000"/>
              </a:solidFill>
              <a:latin typeface="Arial"/>
            </a:endParaRPr>
          </a:p>
        </p:txBody>
      </p:sp>
      <p:sp>
        <p:nvSpPr>
          <p:cNvPr id="668" name="Rectangle 8"/>
          <p:cNvSpPr/>
          <p:nvPr/>
        </p:nvSpPr>
        <p:spPr>
          <a:xfrm>
            <a:off x="6108840" y="1973160"/>
            <a:ext cx="221292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MS PGothic"/>
              </a:rPr>
              <a:t>40,000</a:t>
            </a:r>
            <a:endParaRPr b="1" lang="en-US" sz="4800" spc="-1" strike="noStrike">
              <a:solidFill>
                <a:srgbClr val="000000"/>
              </a:solidFill>
              <a:latin typeface="Arial"/>
            </a:endParaRPr>
          </a:p>
        </p:txBody>
      </p:sp>
      <p:sp>
        <p:nvSpPr>
          <p:cNvPr id="669" name="Rectangle 11"/>
          <p:cNvSpPr/>
          <p:nvPr/>
        </p:nvSpPr>
        <p:spPr>
          <a:xfrm>
            <a:off x="6156360" y="2271600"/>
            <a:ext cx="2281320" cy="11595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MS PGothic"/>
              </a:rPr>
              <a:t>IBM cloud experts are helping clients transform with cloud and drive growth</a:t>
            </a:r>
            <a:endParaRPr b="1" lang="en-US" sz="1800" spc="-1" strike="noStrike">
              <a:solidFill>
                <a:srgbClr val="000000"/>
              </a:solidFill>
              <a:latin typeface="Arial"/>
            </a:endParaRPr>
          </a:p>
        </p:txBody>
      </p:sp>
      <p:sp>
        <p:nvSpPr>
          <p:cNvPr id="670" name="Text Box 12"/>
          <p:cNvSpPr/>
          <p:nvPr/>
        </p:nvSpPr>
        <p:spPr>
          <a:xfrm>
            <a:off x="6203880" y="3429000"/>
            <a:ext cx="1676520" cy="1008360"/>
          </a:xfrm>
          <a:prstGeom prst="rect">
            <a:avLst/>
          </a:prstGeom>
          <a:noFill/>
          <a:ln w="0">
            <a:noFill/>
          </a:ln>
          <a:effectLst>
            <a:outerShdw dist="17819" dir="2700000" blurRad="0" rotWithShape="0">
              <a:srgbClr val="005c5c"/>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ff"/>
                </a:solidFill>
                <a:latin typeface="Calibri"/>
                <a:ea typeface="MS PGothic"/>
              </a:rPr>
              <a:t>80%</a:t>
            </a:r>
            <a:endParaRPr b="1" lang="en-US" sz="6000" spc="-1" strike="noStrike">
              <a:solidFill>
                <a:srgbClr val="000000"/>
              </a:solidFill>
              <a:latin typeface="Arial"/>
            </a:endParaRPr>
          </a:p>
        </p:txBody>
      </p:sp>
      <p:sp>
        <p:nvSpPr>
          <p:cNvPr id="671" name="Rectangle 13"/>
          <p:cNvSpPr/>
          <p:nvPr/>
        </p:nvSpPr>
        <p:spPr>
          <a:xfrm>
            <a:off x="6221520" y="4253040"/>
            <a:ext cx="2282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MS PGothic"/>
              </a:rPr>
              <a:t>of Fortune 500</a:t>
            </a:r>
            <a:br>
              <a:rPr sz="1400"/>
            </a:br>
            <a:r>
              <a:rPr b="0" lang="en-US" sz="1400" spc="-1" strike="noStrike">
                <a:solidFill>
                  <a:srgbClr val="333333"/>
                </a:solidFill>
                <a:latin typeface="Arial"/>
                <a:ea typeface="MS PGothic"/>
              </a:rPr>
              <a:t>companies are using</a:t>
            </a:r>
            <a:br>
              <a:rPr sz="1400"/>
            </a:br>
            <a:r>
              <a:rPr b="0" lang="en-US" sz="1400" spc="-1" strike="noStrike">
                <a:solidFill>
                  <a:srgbClr val="333333"/>
                </a:solidFill>
                <a:latin typeface="Arial"/>
                <a:ea typeface="MS PGothic"/>
              </a:rPr>
              <a:t>IBM cloud capabilities.</a:t>
            </a:r>
            <a:endParaRPr b="1" lang="en-US" sz="1400" spc="-1" strike="noStrike">
              <a:solidFill>
                <a:srgbClr val="000000"/>
              </a:solidFill>
              <a:latin typeface="Arial"/>
            </a:endParaRPr>
          </a:p>
        </p:txBody>
      </p:sp>
      <p:sp>
        <p:nvSpPr>
          <p:cNvPr id="672" name="Rectangle 14"/>
          <p:cNvSpPr/>
          <p:nvPr/>
        </p:nvSpPr>
        <p:spPr>
          <a:xfrm>
            <a:off x="1082520" y="3332160"/>
            <a:ext cx="5029200" cy="1236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447e"/>
                </a:solidFill>
                <a:latin typeface="Arial"/>
                <a:ea typeface="MS PGothic"/>
              </a:rPr>
              <a:t>“</a:t>
            </a:r>
            <a:r>
              <a:rPr b="0" i="1" lang="en-US" sz="1400" spc="-1" strike="noStrike">
                <a:solidFill>
                  <a:srgbClr val="04447e"/>
                </a:solidFill>
                <a:latin typeface="Arial"/>
                <a:ea typeface="MS PGothic"/>
              </a:rPr>
              <a:t>IBM has one of the most comprehensive cloud portfolios, </a:t>
            </a:r>
            <a:br>
              <a:rPr sz="1400"/>
            </a:br>
            <a:r>
              <a:rPr b="0" i="1" lang="en-US" sz="1400" spc="-1" strike="noStrike">
                <a:solidFill>
                  <a:srgbClr val="04447e"/>
                </a:solidFill>
                <a:latin typeface="Arial"/>
                <a:ea typeface="MS PGothic"/>
              </a:rPr>
              <a:t>with the cloud integrated throughout its many lines of </a:t>
            </a:r>
            <a:br>
              <a:rPr sz="1400"/>
            </a:br>
            <a:r>
              <a:rPr b="0" i="1" lang="en-US" sz="1400" spc="-1" strike="noStrike">
                <a:solidFill>
                  <a:srgbClr val="04447e"/>
                </a:solidFill>
                <a:latin typeface="Arial"/>
                <a:ea typeface="MS PGothic"/>
              </a:rPr>
              <a:t>business. Moreover, IBM’s consulting arm has put them in </a:t>
            </a:r>
            <a:br>
              <a:rPr sz="1400"/>
            </a:br>
            <a:r>
              <a:rPr b="0" i="1" lang="en-US" sz="1400" spc="-1" strike="noStrike">
                <a:solidFill>
                  <a:srgbClr val="04447e"/>
                </a:solidFill>
                <a:latin typeface="Arial"/>
                <a:ea typeface="MS PGothic"/>
              </a:rPr>
              <a:t>touch with numerous early adopters and special use cases—</a:t>
            </a:r>
            <a:br>
              <a:rPr sz="1400"/>
            </a:br>
            <a:r>
              <a:rPr b="0" i="1" lang="en-US" sz="1400" spc="-1" strike="noStrike">
                <a:solidFill>
                  <a:srgbClr val="04447e"/>
                </a:solidFill>
                <a:latin typeface="Arial"/>
                <a:ea typeface="MS PGothic"/>
              </a:rPr>
              <a:t>all of which helps the company stay ahead of competitors. ”</a:t>
            </a:r>
            <a:endParaRPr b="1" lang="en-US" sz="1400" spc="-1" strike="noStrike">
              <a:solidFill>
                <a:srgbClr val="000000"/>
              </a:solidFill>
              <a:latin typeface="Arial"/>
            </a:endParaRPr>
          </a:p>
        </p:txBody>
      </p:sp>
      <p:sp>
        <p:nvSpPr>
          <p:cNvPr id="673" name="Rectangle 15"/>
          <p:cNvSpPr/>
          <p:nvPr/>
        </p:nvSpPr>
        <p:spPr>
          <a:xfrm>
            <a:off x="3382920" y="4618080"/>
            <a:ext cx="251640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MS PGothic"/>
              </a:rPr>
              <a:t>– </a:t>
            </a:r>
            <a:r>
              <a:rPr b="1" lang="en-US" sz="1200" spc="-1" strike="noStrike">
                <a:solidFill>
                  <a:srgbClr val="333333"/>
                </a:solidFill>
                <a:latin typeface="Arial"/>
                <a:ea typeface="MS PGothic"/>
              </a:rPr>
              <a:t>Jeff Vance, </a:t>
            </a:r>
            <a:r>
              <a:rPr b="0" lang="en-US" sz="1200" spc="-1" strike="noStrike">
                <a:solidFill>
                  <a:srgbClr val="333333"/>
                </a:solidFill>
                <a:latin typeface="Arial"/>
                <a:ea typeface="MS PGothic"/>
              </a:rPr>
              <a:t>Datamatio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20:28:13Z</dcterms:created>
  <dc:creator>Richard Skoonberg</dc:creator>
  <dc:description/>
  <dc:language>en-US</dc:language>
  <cp:lastModifiedBy>Richard Skoonberg</cp:lastModifiedBy>
  <dcterms:modified xsi:type="dcterms:W3CDTF">2017-03-28T13:45:41Z</dcterms:modified>
  <cp:revision>555</cp:revision>
  <dc:subject/>
  <dc:title>The Value of Cloud Computing on System z, V2</dc:title>
</cp:coreProperties>
</file>