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gif" ContentType="image/gif"/>
  <Override PartName="/ppt/media/image20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23.gif" ContentType="image/gif"/>
  <Override PartName="/ppt/media/image15.gif" ContentType="image/gif"/>
  <Override PartName="/ppt/media/image11.wmf" ContentType="image/x-wmf"/>
  <Override PartName="/ppt/media/image14.jpeg" ContentType="image/jpeg"/>
  <Override PartName="/ppt/media/image10.jpeg" ContentType="image/jpeg"/>
  <Override PartName="/ppt/media/image13.wmf" ContentType="image/x-wmf"/>
  <Override PartName="/ppt/media/image33.wmf" ContentType="image/x-wmf"/>
  <Override PartName="/ppt/media/image34.wmf" ContentType="image/x-wmf"/>
  <Override PartName="/ppt/media/image9.wmf" ContentType="image/x-wmf"/>
  <Override PartName="/ppt/media/image38.png" ContentType="image/png"/>
  <Override PartName="/ppt/media/image39.jpeg" ContentType="image/jpeg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E578-F085-4468-99BD-9E1BFB3B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itiat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n integral part of z/OS that reads, interprets, and executes the JCL. It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mally running in several address spaces (a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ultiple initiato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An initiator man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unning of batch jobs, one at a time, in the same address space. If ten initiators 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(in ten address spaces), then ten batch jobs can run at the same time. JES 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JCL processing, but the initiator does the key JCL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jobs shown on the slide represent JCL and perhaps data intermixed wit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CL. Source code input for a compiler is an example of data (the source statements) t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ht be intermixed with JCL. Another example is an accounting job that prepare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 payroll for different divisions of a firm (presumably, the payroll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 is the same for all divisions, but the input and master summary files may differ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iagram represents the jobs as punched cards (using the conventional symb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nched cards) although real punched card input is very rare n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 uses one or more disk data sets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oo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JES combines multiple spool 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present) into a single conceptual data set. The internal format is not in a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-method format and is not written or read directly by applications. Input job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output from many jobs are stored in the single (conceptual) spool data set.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z/OS system the spool data sets might be a few hundred cylinders of disk space;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installation they might be many complete volumes of disk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y means to queue and hold data in card-image format (for input) or pri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(for outpu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run multiple jobs asynchronously, the system must perform a number of fun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jobs from the input queues (JES does thi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that multiple jobs (including TSO users and other interactive applications)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conflict in data set us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sure that single-user devices, such as tape drives, are alloc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 the executable programs requested for the jo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 up after the job ends and then request the next jo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is work is done by the initiator, based on JCL information for each job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mplex function is to ensure there are no conflicts due to data set utilization.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, if two jobs try to write in the same data set at the same time (or one reads w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other writes), there is a conflict. This event would normally result in corrupted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imary purpose of JCL is to tell an initiator what is needed for the jo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job A and job B must both write to a particular data set, the system (through the initiator) does not per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jobs to run at the same time. Instead, whichever job starts first causes an init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empting to run the other job to wait until the first job comple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illustration we have a program that wants to open and read a data s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program is written, the name XYZ is coded to reference the data s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gram can be compiled and stored as an executable.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one wants to run the executable program, a JCL statement must be supplie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the name XYZ to an actual data set name. This JCL statement is a data definition (DD)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mbolic name used in the program is a DDNAME and the real name of the dat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S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yroll program for a large corporation is a good example. This can be an exceptionally complex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might use hundreds of data sets. The same program might be used for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s in the corporation by running it with different JCL. Likewise, it can be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pecial test data sets by using a different set of JC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m could use the same company-wide payroll application program for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s and only change a single parameter in the JCL card (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 DSN=DIV1.PAYROLL). The parameter value DIV1.PAYROLL would cau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to access the data set for Division 1. This example demonstrates the power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afforded by JCL and symbolic data set n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oling is the means by which the system manipulates its work, inclu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storage o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irect access storage devic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ASD) as buffer storage to re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ing delays when transferring data between peripheral equipment and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 to be ru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ing and writing input and output streams on an intermediate device for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ing or out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ing an operation such as printing while the computer is busy with other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two sorts of spooling: input and output. Both improve the performance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 reading the input and writing the out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lement input spooling in JCL, you declare // DD *, which defines one file wh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 records are in JCL between the // DD * statement and the /* statements. All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al records must have 80 characters. In this case this file is read and stored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ic JES2 spool area (a huge JES file on disk) as shown on this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, when the program is executed and asks to read this data, JES2 picks up the rec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pool and delivers them to the program (at disk spe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lement output spooling in JCL, you specify the keyword SYSOUT on the 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ment. SYSOUT defines an empty file in the spool, allocated with logical record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2 characters in a printed format (EBCDIC/ASCII/UNICODE). This file is allocat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 when interpreting a DD card with the SYSOUT keyword, and used later for the 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. Generally, after the end of the job, this file is printed by a JES fun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se now that you want to make a backup of one master file and then updat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file with records read-in from another file (th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). If so, you need a 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wo steps. In Step 1, your job reads the master file, and writes it to tape. In Step 2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ther program (which can be written in COBOL) is executed to read a record from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 file and searches for its match in the master file. The program updates the exi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 (if it finds a match) or adds a new record if nee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JCL must have two steps, the first one indicating the resources for the ba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, and the second for the update pro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ally, the second step will not be executed if the first one fails for any reas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step will have a // DD SYSOUT statement to indicate the need for output spoo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jobs are only allowed to start when there are enough resources available. In this wa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ystem is made more efficient: JES manages jobs before and after running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; the base control program manages jobs during proces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life of a job, JES2 and the base control program of z/OS control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the overall processing. The job queues contain jobs that are waiting to r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running, waiting for their output to be produced, having their output produc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ing to be purged from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accepts jobs, in the form of an input stream, from input devices, from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s through internal readers, and from other nodes in a job entry net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ternal reader is a program that other programs can use to submit jobs,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ments, and commands to JES2. Any job running in z/OS can use an inter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er to pass an input stream to JES2. JES2 can receive multiple jobs simultaneou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multiple internal rea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ystem programmer defines internal readers to be used to process all batch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an 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rted Task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TCs) and TSO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reads the input stream and assigns a job identifier to each JOB JCL stat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places the job’s JCL, optional JES2 control statements, and SYSIN data o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SD data sets called spool data sets. JES2 then selects jobs from the spool 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processing and subsequent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rsion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2 uses a converter program to analyze a job’s JCL statements. The converter 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ob’s JCL and merges it with JCL from a procedure library. The procedur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defined in the JCLLIB JCL statement, or system/user procedure libraries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efined in the PROCxx DD statement of the JES2 startup procedure. Then, JE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composite JCL into converter/interpreter text that both JES2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 can recognize. Next, JES2 stores the converter/interpreter text on the s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et. If JES2 detects any JCL errors, it issues messages, and the job is queued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processing rather than execution. If there are no errors, JES2 queues the job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ing or execution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processing phase, JES2 responds to requests for jobs from the initiators. JE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s jobs that are waiting to run from a job queue and sends them to initi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initiator is a system program belonging to z/OS, but controlled by JES or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kload manag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LM) that starts a job allocating the required resources to a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to compete with other jobs that are already running (WLM is described later in this modul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initiators are initiators that are started by the operator or by JES2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system initializes. They are defined to JES2 through JES2 initi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ments. The installation associates each initiator with one or more job classe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 to obtain an efficient use of available system resources. initiators select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se classes match the initiator-assigned class, obeying the priority of the queu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M initiators are started by the system automatically based on performance goa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ve importance of the batch workload, and the capacity of the system to do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. The initiators select jobs based on their service class and the order they w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available for execution. Jobs are routed to WLM initiators through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CLASS JES2 initialization stat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controls all SYSOUT processing. SYSOUT is system-produced output; that i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output produced by, or for, a job. This output includes system messages that m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 printed, as well as data sets requested by the user that must be printed or punch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a job finishes, JES2 analyzes the characteristics of the job’s output in term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output class and device setup requirements; then JES2 groups data set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characteristics. JES2 queues the output for print or punch proces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dcopy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selects output for processing from the output queues by output class, route cod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y, and other criteria. The output queue can have output that is to be 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ly or at a remote location. After processing all the output for a particular job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S2 puts the job on the purge queu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ge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processing for a job completes, JES2 releases the spool space assign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ob, making the space available for allocation to subsequent jobs. JES2 then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age to the operator indicating that the job has been purged from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fore the introduction of WLM, the only way to inform z/OS about the company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goals was for the system programmer to translate from high-level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what work needs to be done into the extremely technical terms that the system 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. This translation required highly skilled staff, and could be protrac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ror-prone, and eventually in conflict with the original business go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rther, it was often difficult to predict the effects of changing a system setting, wh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ht be required, for example, following a system capacity increase. This could result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balanced resource allocation, that is, feeding work one resource while starving it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ther. This way of operation, known as compatibility mode, was beco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manageable as new workloads were introduced, and as multiple systems were be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together in parallel sysplex processing and data sharing environ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in goal mode system operation, WLM provides fewer, simpler, and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stent system externals that reflect goals for work expressed in terms commonly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usiness objectives, and WLM and Service Request Manager (SRM) match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meet those goals by constantly monitoring and adapting the system. Work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 provides a solution for managing workload distribution, workload balanci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distributing resources to competing workloa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direct counterpart to z/OS batch processing in PC or UNIX systems.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is for those frequently used programs that can be executed with 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interaction. They are typically executed at a scheduled time or on an as-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s. Perhaps the closest comparison is with processes run by an AT or CRON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IX, although the differences are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running on z/OS is called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job control language or JCL is used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attributes of the job to z/OS. A z/OS batch job consists of programs that run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s described by JCL. After the JCL is submitted to the system, ther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ly no further human interaction with the job until it is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"Intelligent Resource Director (IRD)" further differentiates z/OS with its ability to manage resources across multiple partitions in a ser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/SM, IRD and WLM work together to ensure that the resources of the server are correctly balanced to enable work to complete within stated policy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atch jobs are us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n parallel and JCL is used to control the operation of each job. Correct use of J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 (especially the DISP parameter in DD statements) allows parall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nchronous execution of jobs that may need access to the same data 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itia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system program that processes JCL, sets up the necessar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ddress space, and runs a batch job in the same address space. Multiple initi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ch in an address space) permit the parallel execution of batch jo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al of an operating system is to process work while making the best use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. To achieve this goal, resource management is needed during key pha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job processing, reserve input and output resources for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job processing, manage spooled SYSIN and SYSOU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job processing, free all resources used by the completed jobs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available to other jo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/OS shares with JES the management of jobs and resources. JES receives jobs in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, schedules them for processing by z/OS, and controls their output processing. 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anager of the jobs waiting in a queue. It manages the priority of the jobs and 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d input data and output results. The initiator uses the statements in the J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s to specify the resources required of each individual job after it is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spatched) by J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life of a job, both JES and the z/OS base control program control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the overall processing. Jobs are managed in queues: Jobs that are waiting to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version queue), currently running (execution queue), waiting for their outpu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(output queue), having their output produced (hard-copy queue) and wait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urged from the system (purge que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 is the component of the operating system that provides supplementary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, data management, and task management functions such as schedul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job flow, and sp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/OS has two versions of job entry systems: JES2 and JES3. Of these, JES2 is 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by far and is used throughout this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0A2-4DF8-4CA5-B676-386C9BA3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7D4-CBA2-4082-8AE0-894DED8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3CC-AA5B-43AF-A6D0-7174D837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820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332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308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4820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332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127-FAE2-41B5-8048-69060B8F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5240" y="1091880"/>
            <a:ext cx="88264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0EC-0F01-4C9E-B3F0-2058E48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820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33320" y="152388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6308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820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33320" y="3992040"/>
            <a:ext cx="2842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96D-13B7-4611-9234-B973AB7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B42-5150-4F3C-91BE-2A169708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C85-109D-4B41-99AF-6D76FE9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65240" y="1091880"/>
            <a:ext cx="88264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4E8-DD1F-4ABB-A0E3-EEFF555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410-DE1B-4A1B-96F1-62EB319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6840" y="399204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293-1CB0-4754-9080-C058CDB9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" y="1014480"/>
            <a:ext cx="8826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6840" y="1523880"/>
            <a:ext cx="4308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3080" y="3992040"/>
            <a:ext cx="8828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AB7-5916-4921-B74D-F5BF3FF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708120" y="101520"/>
            <a:ext cx="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1960" y="6481800"/>
            <a:ext cx="8547120" cy="0"/>
          </a:xfrm>
          <a:prstGeom prst="line">
            <a:avLst/>
          </a:prstGeom>
          <a:ln w="9360">
            <a:solidFill>
              <a:srgbClr val="86d9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66cc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48180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17440"/>
            <a:ext cx="101520" cy="271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52280"/>
            <a:ext cx="8839440" cy="3812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86480" y="166680"/>
            <a:ext cx="344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troduction to the new main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95256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229600" y="168120"/>
            <a:ext cx="685800" cy="3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4898880" y="6523200"/>
            <a:ext cx="33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  <a:ea typeface="Times New Roman"/>
              </a:rPr>
              <a:t>© Copyright IBM Corp., 2008.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661160" y="6480000"/>
            <a:ext cx="0" cy="22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391520" y="6479640"/>
            <a:ext cx="16905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732514-0D0B-44CC-AB2B-AA84AB4735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f 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39880" y="4432320"/>
            <a:ext cx="5702400" cy="4698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3240" y="888840"/>
            <a:ext cx="676440" cy="32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9360" y="19051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roduction to the new mainfram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49440"/>
            <a:ext cx="101520" cy="101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857760"/>
            <a:ext cx="9144000" cy="154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481800"/>
            <a:ext cx="8839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5842080"/>
            <a:ext cx="33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  <a:ea typeface="Times New Roman"/>
              </a:rPr>
              <a:t>© Copyright IBM Corp., 2008.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jpeg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hapter 9:  Batch processing and the Job Entry Subsystem (JES)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29160" bIns="2916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92929"/>
                </a:solidFill>
                <a:latin typeface="Arial"/>
              </a:rPr>
              <a:t>Batch processing and JES</a:t>
            </a:r>
            <a:endParaRPr b="1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87520" y="606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kettner@us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y do we need JE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95280" y="1522440"/>
            <a:ext cx="66294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ES FUNCTION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90920" y="1523880"/>
            <a:ext cx="3770280" cy="4496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ATCH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9800" y="990720"/>
            <a:ext cx="193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b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# = ste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7360" y="1855800"/>
            <a:ext cx="2250360" cy="368280"/>
            <a:chOff x="27360" y="1855800"/>
            <a:chExt cx="2250360" cy="368280"/>
          </a:xfrm>
        </p:grpSpPr>
        <p:grpSp>
          <p:nvGrpSpPr>
            <p:cNvPr id="204" name=""/>
            <p:cNvGrpSpPr/>
            <p:nvPr/>
          </p:nvGrpSpPr>
          <p:grpSpPr>
            <a:xfrm>
              <a:off x="75960" y="1855800"/>
              <a:ext cx="2133360" cy="304920"/>
              <a:chOff x="75960" y="1855800"/>
              <a:chExt cx="2133360" cy="304920"/>
            </a:xfrm>
          </p:grpSpPr>
          <p:sp>
            <p:nvSpPr>
              <p:cNvPr id="205" name=""/>
              <p:cNvSpPr/>
              <p:nvPr/>
            </p:nvSpPr>
            <p:spPr>
              <a:xfrm>
                <a:off x="75960" y="1855800"/>
                <a:ext cx="30456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520" y="1855800"/>
                <a:ext cx="30492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5440" y="1855800"/>
                <a:ext cx="30492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90360" y="1855800"/>
                <a:ext cx="30456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4920" y="1855800"/>
                <a:ext cx="30492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99840" y="1855800"/>
                <a:ext cx="30492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4760" y="1855800"/>
                <a:ext cx="304560" cy="30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2736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192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684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4320" y="185580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4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632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5124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56160" y="1855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95880" y="1371600"/>
            <a:ext cx="1981080" cy="1295280"/>
            <a:chOff x="6095880" y="1371600"/>
            <a:chExt cx="1981080" cy="1295280"/>
          </a:xfrm>
        </p:grpSpPr>
        <p:grpSp>
          <p:nvGrpSpPr>
            <p:cNvPr id="220" name=""/>
            <p:cNvGrpSpPr/>
            <p:nvPr/>
          </p:nvGrpSpPr>
          <p:grpSpPr>
            <a:xfrm>
              <a:off x="7086600" y="1371600"/>
              <a:ext cx="990360" cy="1295280"/>
              <a:chOff x="7086600" y="1371600"/>
              <a:chExt cx="990360" cy="1295280"/>
            </a:xfrm>
          </p:grpSpPr>
          <p:sp>
            <p:nvSpPr>
              <p:cNvPr id="221" name="Documents"/>
              <p:cNvSpPr/>
              <p:nvPr/>
            </p:nvSpPr>
            <p:spPr>
              <a:xfrm>
                <a:off x="7086600" y="1371600"/>
                <a:ext cx="990360" cy="1295280"/>
              </a:xfrm>
              <a:prstGeom prst="pie">
                <a:avLst/>
              </a:prstGeom>
              <a:solidFill>
                <a:srgbClr val="66ccff">
                  <a:alpha val="45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7086600" y="1905120"/>
                <a:ext cx="847440" cy="28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Reports</a:t>
                </a:r>
                <a:endPara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95880" y="19051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37880" y="2590920"/>
            <a:ext cx="1424160" cy="368280"/>
            <a:chOff x="137880" y="2590920"/>
            <a:chExt cx="1424160" cy="368280"/>
          </a:xfrm>
        </p:grpSpPr>
        <p:grpSp>
          <p:nvGrpSpPr>
            <p:cNvPr id="225" name=""/>
            <p:cNvGrpSpPr/>
            <p:nvPr/>
          </p:nvGrpSpPr>
          <p:grpSpPr>
            <a:xfrm>
              <a:off x="343080" y="2590920"/>
              <a:ext cx="1218960" cy="304560"/>
              <a:chOff x="343080" y="2590920"/>
              <a:chExt cx="1218960" cy="304560"/>
            </a:xfrm>
          </p:grpSpPr>
          <p:sp>
            <p:nvSpPr>
              <p:cNvPr id="226" name=""/>
              <p:cNvSpPr/>
              <p:nvPr/>
            </p:nvSpPr>
            <p:spPr>
              <a:xfrm>
                <a:off x="343080" y="25909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640" y="25909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952560" y="25909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57480" y="25909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37880" y="2590920"/>
              <a:ext cx="138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1s2s3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086520" y="2819520"/>
            <a:ext cx="3057480" cy="533160"/>
            <a:chOff x="6086520" y="2819520"/>
            <a:chExt cx="3057480" cy="533160"/>
          </a:xfrm>
        </p:grpSpPr>
        <p:grpSp>
          <p:nvGrpSpPr>
            <p:cNvPr id="232" name=""/>
            <p:cNvGrpSpPr/>
            <p:nvPr/>
          </p:nvGrpSpPr>
          <p:grpSpPr>
            <a:xfrm>
              <a:off x="6848280" y="2819520"/>
              <a:ext cx="2295720" cy="533160"/>
              <a:chOff x="6848280" y="2819520"/>
              <a:chExt cx="2295720" cy="5331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6848280" y="2819520"/>
                <a:ext cx="609480" cy="380880"/>
                <a:chOff x="6848280" y="2819520"/>
                <a:chExt cx="609480" cy="3808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000560" y="2819520"/>
                  <a:ext cx="457200" cy="3808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848280" y="32004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000920" y="2971800"/>
                <a:ext cx="609480" cy="380880"/>
                <a:chOff x="7000920" y="2971800"/>
                <a:chExt cx="609480" cy="380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53200" y="2971800"/>
                  <a:ext cx="457200" cy="3808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000920" y="3352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610400" y="2819520"/>
                <a:ext cx="609480" cy="380880"/>
                <a:chOff x="7610400" y="2819520"/>
                <a:chExt cx="609480" cy="3808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762680" y="2819520"/>
                  <a:ext cx="457200" cy="3808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610400" y="320040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7762680" y="2971800"/>
                <a:ext cx="609480" cy="380880"/>
                <a:chOff x="7762680" y="2971800"/>
                <a:chExt cx="609480" cy="380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914960" y="2971800"/>
                  <a:ext cx="457200" cy="3808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762680" y="3352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 txBox="1"/>
              <p:nvPr/>
            </p:nvSpPr>
            <p:spPr>
              <a:xfrm>
                <a:off x="8524800" y="2971800"/>
                <a:ext cx="61920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ape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086520" y="28954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0" y="3276720"/>
            <a:ext cx="1667880" cy="368280"/>
            <a:chOff x="0" y="3276720"/>
            <a:chExt cx="1667880" cy="368280"/>
          </a:xfrm>
        </p:grpSpPr>
        <p:grpSp>
          <p:nvGrpSpPr>
            <p:cNvPr id="249" name=""/>
            <p:cNvGrpSpPr/>
            <p:nvPr/>
          </p:nvGrpSpPr>
          <p:grpSpPr>
            <a:xfrm>
              <a:off x="75960" y="3276720"/>
              <a:ext cx="1523880" cy="304560"/>
              <a:chOff x="75960" y="3276720"/>
              <a:chExt cx="1523880" cy="304560"/>
            </a:xfrm>
          </p:grpSpPr>
          <p:sp>
            <p:nvSpPr>
              <p:cNvPr id="250" name=""/>
              <p:cNvSpPr/>
              <p:nvPr/>
            </p:nvSpPr>
            <p:spPr>
              <a:xfrm>
                <a:off x="75960" y="3276720"/>
                <a:ext cx="304920" cy="3045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3276720"/>
                <a:ext cx="304560" cy="3045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5440" y="3276720"/>
                <a:ext cx="304920" cy="3045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90360" y="3276720"/>
                <a:ext cx="304920" cy="3045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5280" y="3276720"/>
                <a:ext cx="304560" cy="3045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0" y="3276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276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840" y="3276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1760" y="3276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46320" y="3276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86520" y="3429000"/>
            <a:ext cx="3057480" cy="762120"/>
            <a:chOff x="6086520" y="3429000"/>
            <a:chExt cx="3057480" cy="762120"/>
          </a:xfrm>
        </p:grpSpPr>
        <p:grpSp>
          <p:nvGrpSpPr>
            <p:cNvPr id="261" name=""/>
            <p:cNvGrpSpPr/>
            <p:nvPr/>
          </p:nvGrpSpPr>
          <p:grpSpPr>
            <a:xfrm>
              <a:off x="7153560" y="3429000"/>
              <a:ext cx="1990440" cy="762120"/>
              <a:chOff x="7153560" y="3429000"/>
              <a:chExt cx="1990440" cy="762120"/>
            </a:xfrm>
          </p:grpSpPr>
          <p:sp>
            <p:nvSpPr>
              <p:cNvPr id="262" name=""/>
              <p:cNvSpPr/>
              <p:nvPr/>
            </p:nvSpPr>
            <p:spPr>
              <a:xfrm>
                <a:off x="7153560" y="3733920"/>
                <a:ext cx="380880" cy="4572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10760" y="3429000"/>
                <a:ext cx="380880" cy="4572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15320" y="3657600"/>
                <a:ext cx="381240" cy="4572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525160" y="3657600"/>
                <a:ext cx="618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DISK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86520" y="365760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4114800"/>
            <a:ext cx="1523520" cy="368280"/>
            <a:chOff x="0" y="4114800"/>
            <a:chExt cx="1523520" cy="368280"/>
          </a:xfrm>
        </p:grpSpPr>
        <p:grpSp>
          <p:nvGrpSpPr>
            <p:cNvPr id="268" name=""/>
            <p:cNvGrpSpPr/>
            <p:nvPr/>
          </p:nvGrpSpPr>
          <p:grpSpPr>
            <a:xfrm>
              <a:off x="0" y="4114800"/>
              <a:ext cx="1523520" cy="304560"/>
              <a:chOff x="0" y="4114800"/>
              <a:chExt cx="1523520" cy="3045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114800"/>
                <a:ext cx="304560" cy="30456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4560" y="4114800"/>
                <a:ext cx="304560" cy="30456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9480" y="4114800"/>
                <a:ext cx="304200" cy="30456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14040" y="4114800"/>
                <a:ext cx="304560" cy="30456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18960" y="4114800"/>
                <a:ext cx="304560" cy="30456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29960" y="411480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1s2s3s4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781680" y="4648320"/>
            <a:ext cx="457200" cy="228600"/>
          </a:xfrm>
          <a:prstGeom prst="flowChartMagneticDrum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4876920"/>
            <a:ext cx="457200" cy="228600"/>
          </a:xfrm>
          <a:prstGeom prst="flowChartMagneticDrum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105520"/>
            <a:ext cx="457200" cy="228600"/>
          </a:xfrm>
          <a:prstGeom prst="flowChartMagneticDrum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5334120"/>
            <a:ext cx="457200" cy="228600"/>
          </a:xfrm>
          <a:prstGeom prst="flowChartMagneticDrum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4495680"/>
            <a:ext cx="838080" cy="12193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4572000"/>
            <a:ext cx="0" cy="1143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05720" y="4572000"/>
            <a:ext cx="0" cy="1143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20120" y="4724280"/>
            <a:ext cx="1123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tica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vic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5410080"/>
            <a:ext cx="2495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ser Action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38280" y="5257800"/>
            <a:ext cx="3495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ystem Acti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324480" y="4629240"/>
            <a:ext cx="243864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bin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ction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3515400" y="114300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uto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7.37523E-006 C 0.11615 7.37523E-006 0.23247 7.37523E-006 0.34862 7.37523E-006 E">
                                      <p:cBhvr>
                                        <p:cTn id="147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4325E-006 C 0.11529 -2.64325E-006 0.23074 -2.64325E-006 0.34602 -2.64325E-006 E">
                                      <p:cBhvr>
                                        <p:cTn id="166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4.80591E-007 C 0.01702 0.00115 0.0342 0.00069 0.05122 0.00369 C 0.05452 0.00439 0.05608 0.01062 0.05938 0.01085 C 0.14965 0.01432 0.41788 0.01432 0.32431 0.01432 E">
                                      <p:cBhvr>
                                        <p:cTn id="180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10721E-006 C 0.15399 0.00994 0.03611 0.00347 0.35416 0.00347 E">
                                      <p:cBhvr>
                                        <p:cTn id="19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50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atch flow (simplified)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9360" y="59832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13"/>
                </a:moveTo>
                <a:lnTo>
                  <a:pt x="0" y="13"/>
                </a:lnTo>
                <a:lnTo>
                  <a:pt x="13" y="0"/>
                </a:lnTo>
                <a:lnTo>
                  <a:pt x="13" y="0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9360" y="6024600"/>
            <a:ext cx="2088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13"/>
                </a:lnTo>
                <a:lnTo>
                  <a:pt x="0" y="0"/>
                </a:lnTo>
                <a:lnTo>
                  <a:pt x="0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662120"/>
          <a:ext cx="7162920" cy="48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62120"/>
                    <a:ext cx="71629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6768720" y="4587840"/>
            <a:ext cx="20991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.e –   10 initiators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0 batch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n run concurren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ES2 Queuing Mechanism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689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ES2 has many parts ….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343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ample JES2 Start Procedur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3605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57200" y="502920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C00  – default procedure library to be used for converting the J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Cxx  -  other user catalogue procedures lib associated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JOBCLASS initi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ASPPARM – Dataset containing intialization statements that wil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sed for JES2 initialization and conrolling all JE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3429000"/>
            <a:ext cx="380880" cy="1828800"/>
          </a:xfrm>
          <a:custGeom>
            <a:avLst/>
            <a:gdLst>
              <a:gd name="textAreaLeft" fmla="*/ 50760 w 380880"/>
              <a:gd name="textAreaRight" fmla="*/ 330120 w 3808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Arial"/>
              </a:rPr>
              <a:t>spool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g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080" y="2057400"/>
            <a:ext cx="8828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omic Sans MS"/>
              </a:rPr>
              <a:t>Spooling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is a method for queuing and holding data for input or output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JES uses one or more disk data sets for spooling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nput jobs and printed output from many jobs are stored in the single (conceptual) spool data set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158760" y="13446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Comic Sans MS"/>
              </a:rPr>
              <a:t>(Simultaneous Peripheral Operations On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ES2 Spool Datase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934320" cy="4668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41200" y="1592280"/>
            <a:ext cx="4751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-$DSPOOL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$HASP893 VOLUME(DMPSP1)  STATUS=ACTIVE,PERCENT=2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$HASP893 VOLUME(DMPSP2)  STATUS=ACTIVE,PERCENT=6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$HASP646 39.7666 PERCENT SPOOL UTILIZATION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******************************* BOTTOM OF DATA 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85720" y="136368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SF.U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94000" y="30481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irect Access De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aining the spool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23040" y="6064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715000" y="4807080"/>
            <a:ext cx="20574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an initiator doe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960" y="1523520"/>
            <a:ext cx="8980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To run multiple jobs asynchronously, z/OS  uses initiators to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14640" indent="-212760" algn="just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Clr>
                <a:srgbClr val="0066cc"/>
              </a:buClr>
              <a:buFont typeface="Verdana"/>
              <a:buChar char="•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nsure that jobs do not conflict in data set usag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14640" indent="-212760" algn="just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Clr>
                <a:srgbClr val="0066cc"/>
              </a:buClr>
              <a:buFont typeface="Verdana"/>
              <a:buChar char="•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nsure that single-user devices (tape drives) are allocated correctly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14640" indent="-212760" algn="just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Clr>
                <a:srgbClr val="0066cc"/>
              </a:buClr>
              <a:buFont typeface="Verdana"/>
              <a:buChar char="•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Find executable programs requested by job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14640" indent="-212760" algn="just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Clr>
                <a:srgbClr val="0066cc"/>
              </a:buClr>
              <a:buFont typeface="Verdana"/>
              <a:buChar char="•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lean up after the job ends and request the next job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1464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25280"/>
                <a:tab algn="l" pos="250920"/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70560" y="1263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629400" y="2830680"/>
            <a:ext cx="2438280" cy="2427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37240" y="5367240"/>
            <a:ext cx="839052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mic Sans MS"/>
              </a:rPr>
              <a:t>Preventing two users from accessing the same data at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mic Sans MS"/>
              </a:rPr>
              <a:t>time is critical to z/OS and the ability to do this is on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omic Sans MS"/>
              </a:rPr>
              <a:t>defining characteristics of the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3080" y="2057400"/>
            <a:ext cx="432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Be able to: </a:t>
            </a:r>
            <a:endParaRPr b="1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ive an overview of batch processing and how work is initiated and managed in the system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xplain how the job entry subsystem (JES) governs the flow of work through a z/OS system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orkload Manager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z990"/>
          <p:cNvPicPr/>
          <p:nvPr/>
        </p:nvPicPr>
        <p:blipFill>
          <a:blip r:embed="rId1"/>
          <a:stretch/>
        </p:blipFill>
        <p:spPr>
          <a:xfrm>
            <a:off x="5030640" y="1785960"/>
            <a:ext cx="2994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8686800" cy="67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          Filter         View       Print         Options           Help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 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DSF  INITIATOR DISPLAY  DEMOMVS                                                        LINE 1-17 (24)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 INPUT ===&gt;                                                                     SCROLL ===&gt; 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P   ID Status       Classes  JobName   StepName    ProcStep   JobID       C  ASID  ASI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1 ACTIVE          A        CAESTART   *OMVSEX                    JOB09317  A   233  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2 ACTIVE          BA       APPLY         ASNA81                       JOB00029  A   42 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3 INACTIVE      CBA                                                                                        43 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4 INACTIVE      DCBA                                                                                      44 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5 INACTIVE      DCBA                                                                                      45 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6 INACTIVE      DCBA                                                                                      46 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7 INACTIVE      DCBA                                                                                       47  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8 INACTIVE      DCBA                                                                                       48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9 INACTIVE      DCBA                                                                                       49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10 INACTIVE     DCBA                                                                                       50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11 ACTIVE         I          IMSAMSG1     DFSMPR     REGION   JOB02707   I    51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12 ACTIVE         I          IMSBMSG1                         REGION   JOB02743   I    52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13 ACTIVE         I          IMSBIFP1        DFSIVA4     IMS81      JOB02745    I   53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14 ACTIVE         I          IMSTMSG1      DFSMPR     REGION  JOB02799    I   54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15 INACTIVE     T                                                                                               55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16 INACTIVE     A                                                                                              56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dc407"/>
                </a:solidFill>
                <a:latin typeface="Arial"/>
              </a:rPr>
              <a:t>17 INACTIVE     A                                                                                              57  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1=HELP      F2=SPLIT      F3=END       F4=RETURN       F5=IFIND           F6=BOOK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7=UP          F8=DOWN      F9=SWAP   F10=LEFT           F11=RIGHT       F12=RETR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44480" y="2057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DSF.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470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438280" cy="2309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394760" y="579132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/D $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/D $S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DSF.ULOG   /$D  I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3080" y="1904760"/>
            <a:ext cx="8828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Display  Filter  View  Print  Options  Help                                 </a:t>
            </a:r>
            <a:endParaRPr b="1" lang="en-US" sz="9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------------------------------------------------------------------------------</a:t>
            </a:r>
            <a:endParaRPr b="1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SDSF ULOG  CONSOLE DNET855                        LINE 0       COLUMNS 42- 121</a:t>
            </a:r>
            <a:endParaRPr b="1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COMMAND INPUT ===&gt;                                                       SCROLL ===&gt; PAGE</a:t>
            </a:r>
            <a:endParaRPr b="1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********************************* TOP OF DATA *********************************</a:t>
            </a:r>
            <a:endParaRPr b="1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SF031I CONSOLE DNET855 ACTIVATED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$DI             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1)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1)   STATUS=ACTIVE,CLASS=A,NAME=1,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              ASID=00E9,JOBID=JOB09317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2)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2)   STATUS=ACTIVE,CLASS=BA,NAME=2,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              ASID=002A,JOBID=JOB00029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3)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3)   STATUS=INACTIVE,CLASS=CBA,NAME=3,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              ASID=002B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4)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4)   STATUS=INACTIVE,CLASS=DCBA,NAME=4,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               ASID=002C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5)                                     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INIT(5)   STATUS=INACTIVE,CLASS=DCBA,NAME=5,                      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HASP892               ASID=002D 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58880" y="2286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 Black"/>
              </a:rPr>
              <a:t>/$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ymbolic references to file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3080" y="2209320"/>
            <a:ext cx="8828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/OS normally uses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ymbolic reference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o files (data sets) rather than actual file names.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e use of symbolic references provides a naming redirection between a data set-related name used in a program and the actual data set used during execution of that program.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w a symbolic file system is use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54520" y="4829040"/>
            <a:ext cx="2052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8080" y="4829040"/>
            <a:ext cx="2052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37200" y="4848120"/>
            <a:ext cx="1800" cy="2088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2276640"/>
          <a:ext cx="8077320" cy="30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276640"/>
                    <a:ext cx="80773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ES, job management, and JCL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Job control language (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JCL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s the language used by a batch job to request resources and services from the operating system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rough JCL, you specify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ho you are (important for security reasons)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hich resources (programs, files, memory) and services are needed from the system to process your program.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e use of JCL is covered in detail in the next module.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pooling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1371600"/>
          <a:ext cx="739152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6248520" y="2209680"/>
            <a:ext cx="380880" cy="381240"/>
          </a:xfrm>
          <a:prstGeom prst="irregularSeal2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209680"/>
            <a:ext cx="457200" cy="381240"/>
          </a:xfrm>
          <a:prstGeom prst="irregularSeal2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352680"/>
            <a:ext cx="457200" cy="457200"/>
          </a:xfrm>
          <a:prstGeom prst="irregularSeal2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7.40741E-007 C -0.08212 -0.01366 -0.16424 -0.02708 -0.19445 -0.00486 C -0.22466 0.01736 -0.18369 0.11065 -0.1816 0.13333 E">
                                      <p:cBhvr>
                                        <p:cTn id="31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6 0.13334 C -0.26372 0.14584 -0.34566 0.15857 -0.37778 0.13588 C -0.4099 0.1132 -0.36059 0.01968 -0.37413 -0.00254 C -0.38767 -0.02477 -0.44427 0.00209 -0.45938 0.00255 E">
                                      <p:cBhvr>
                                        <p:cTn id="32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3.33333E-006 0.17777 E">
                                      <p:cBhvr>
                                        <p:cTn id="33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18519E-006 C 0.01701 5.18519E-006 0.03403 5.18519E-006 0.0408 5.18519E-006 E">
                                      <p:cBhvr>
                                        <p:cTn id="338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3.7037E-006 C 0.02396 0.05278 0.00712 0.10579 0.0408 0.12847 C 0.07448 0.15116 0.20903 0.13472 0.24271 0.13588 E">
                                      <p:cBhvr>
                                        <p:cTn id="341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271 0.13589 C 0.21354 0.0882 0.18438 0.04075 0.23715 0.02223 C 0.28993 0.00371 0.50625 -0.01064 0.55938 0.02477 C 0.6125 0.06019 0.55451 0.19862 0.55573 0.2345 C 0.55695 0.27038 0.56181 0.25487 0.56684 0.23959 E">
                                      <p:cBhvr>
                                        <p:cTn id="34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wo-step job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362320" y="1676520"/>
          <a:ext cx="512280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512280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ob flow through the system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uring execution, a job goes through the following phase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put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nversio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cess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int (to hardcopy or a console display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urg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hases of job flow: inpu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33520" y="1593720"/>
          <a:ext cx="822960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93720"/>
                    <a:ext cx="82296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500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al readers (R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hases of job flow: conversion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3520" y="1638360"/>
          <a:ext cx="815328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38360"/>
                    <a:ext cx="8153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5400" y="64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 w/ Proc L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Key terms in this chapter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5880" y="1676520"/>
            <a:ext cx="321948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atch process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job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job entry subsystem (JES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0240" y="1676520"/>
            <a:ext cx="38098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cedur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urg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queu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pool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ymbolic referenc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orkload manager (WLM)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hases of job flow: execution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200" y="1549440"/>
          <a:ext cx="830592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49440"/>
                    <a:ext cx="830592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22320" y="649116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 Initiators - w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 rot="20104800">
            <a:off x="3276720" y="3504960"/>
            <a:ext cx="1428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LM Initiator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0773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hases of job flow: output and hardcop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3520" y="1631880"/>
          <a:ext cx="815328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31880"/>
                    <a:ext cx="815328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0" y="64911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out dsn processing -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hases of job flow: purg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835280"/>
          <a:ext cx="75438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5280"/>
                    <a:ext cx="75438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95840" y="64882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ears s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Job flow through the system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42920" y="2152800"/>
          <a:ext cx="706752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52800"/>
                    <a:ext cx="70675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21680" y="6488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veral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524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atch and Job Submission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743280" cy="4267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96200" y="2595600"/>
            <a:ext cx="13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ES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/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workload manager?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3080" y="2057400"/>
            <a:ext cx="8828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kload manager (WLM):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The component of z/OS that manages the processing of workload in the system according to the company’s business goals, such as response time.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lso manages the use of system resources, such as processors and storage, to accomplish these goals.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orkload Management Policy for different classes of user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952880" cy="3492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4724280" cy="3579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1066680" y="1523880"/>
            <a:ext cx="1914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ice Lev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reem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0" name=""/>
          <p:cNvSpPr/>
          <p:nvPr/>
        </p:nvSpPr>
        <p:spPr>
          <a:xfrm rot="10664400">
            <a:off x="4952880" y="4800240"/>
            <a:ext cx="609840" cy="685800"/>
          </a:xfrm>
          <a:custGeom>
            <a:avLst/>
            <a:gdLst>
              <a:gd name="textAreaLeft" fmla="*/ 0 w 609840"/>
              <a:gd name="textAreaRight" fmla="*/ 610200 w 609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57913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gregate different classes of uses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04920" y="3429000"/>
            <a:ext cx="2014920" cy="2623680"/>
            <a:chOff x="304920" y="3429000"/>
            <a:chExt cx="2014920" cy="26236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04920" y="342900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48480" y="5410080"/>
              <a:ext cx="19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sual 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w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80080" y="1143000"/>
            <a:ext cx="1996560" cy="2090160"/>
            <a:chOff x="280080" y="1143000"/>
            <a:chExt cx="1996560" cy="209016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304920" y="1143000"/>
              <a:ext cx="1971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80080" y="2590560"/>
              <a:ext cx="17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old 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igh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24240" y="1066680"/>
            <a:ext cx="1982160" cy="2974320"/>
            <a:chOff x="6924240" y="1066680"/>
            <a:chExt cx="1982160" cy="2974320"/>
          </a:xfrm>
        </p:grpSpPr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7010280" y="1066680"/>
              <a:ext cx="178272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924240" y="3124080"/>
              <a:ext cx="198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ustomer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igh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Business Hou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629400" y="4724280"/>
            <a:ext cx="1832040" cy="1633320"/>
            <a:chOff x="6629400" y="4724280"/>
            <a:chExt cx="1832040" cy="1633320"/>
          </a:xfrm>
        </p:grpSpPr>
        <p:sp>
          <p:nvSpPr>
            <p:cNvPr id="393" name=""/>
            <p:cNvSpPr/>
            <p:nvPr/>
          </p:nvSpPr>
          <p:spPr>
            <a:xfrm>
              <a:off x="6705720" y="5715000"/>
              <a:ext cx="16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ta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Best can 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4"/>
            <a:stretch/>
          </p:blipFill>
          <p:spPr>
            <a:xfrm>
              <a:off x="6629400" y="4724280"/>
              <a:ext cx="1832040" cy="103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3487680" y="1066680"/>
            <a:ext cx="2000520" cy="2624040"/>
            <a:chOff x="3487680" y="1066680"/>
            <a:chExt cx="2000520" cy="2624040"/>
          </a:xfrm>
        </p:grpSpPr>
        <p:sp>
          <p:nvSpPr>
            <p:cNvPr id="396" name=""/>
            <p:cNvSpPr/>
            <p:nvPr/>
          </p:nvSpPr>
          <p:spPr>
            <a:xfrm>
              <a:off x="3487680" y="3048120"/>
              <a:ext cx="20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usiness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igh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5"/>
            <a:stretch/>
          </p:blipFill>
          <p:spPr>
            <a:xfrm>
              <a:off x="3733920" y="1066680"/>
              <a:ext cx="1368360" cy="182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2925360" y="3733920"/>
            <a:ext cx="3661920" cy="2743200"/>
            <a:chOff x="2925360" y="3733920"/>
            <a:chExt cx="3661920" cy="2743200"/>
          </a:xfrm>
        </p:grpSpPr>
        <p:sp>
          <p:nvSpPr>
            <p:cNvPr id="399" name=""/>
            <p:cNvSpPr/>
            <p:nvPr/>
          </p:nvSpPr>
          <p:spPr>
            <a:xfrm>
              <a:off x="3200400" y="3733920"/>
              <a:ext cx="2971800" cy="2743200"/>
            </a:xfrm>
            <a:prstGeom prst="foldedCorner">
              <a:avLst>
                <a:gd name="adj" fmla="val 125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76720" y="38098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D Insurance 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25360" y="4116240"/>
              <a:ext cx="36619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Arial"/>
                </a:rPr>
                <a:t>Highest (1)  = Gold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High (2) Customer C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Medium (3) Business Part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Low (4) Casual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Lowest (5) Data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4648320" y="3809880"/>
            <a:ext cx="1523880" cy="1828800"/>
            <a:chOff x="4648320" y="3809880"/>
            <a:chExt cx="1523880" cy="1828800"/>
          </a:xfrm>
        </p:grpSpPr>
        <p:grpSp>
          <p:nvGrpSpPr>
            <p:cNvPr id="403" name=""/>
            <p:cNvGrpSpPr/>
            <p:nvPr/>
          </p:nvGrpSpPr>
          <p:grpSpPr>
            <a:xfrm>
              <a:off x="5222880" y="4876920"/>
              <a:ext cx="949320" cy="761760"/>
              <a:chOff x="5222880" y="4876920"/>
              <a:chExt cx="949320" cy="761760"/>
            </a:xfrm>
          </p:grpSpPr>
          <p:sp>
            <p:nvSpPr>
              <p:cNvPr id="404" name=""/>
              <p:cNvSpPr/>
              <p:nvPr/>
            </p:nvSpPr>
            <p:spPr>
              <a:xfrm>
                <a:off x="5334120" y="4876920"/>
                <a:ext cx="838080" cy="761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22880" y="5029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648320" y="3809880"/>
              <a:ext cx="685800" cy="1219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M provides for scaling of Application Environment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2895480"/>
            <a:ext cx="1219320" cy="114300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8520" y="340200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8954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136920" y="2743200"/>
            <a:ext cx="949680" cy="762120"/>
            <a:chOff x="6136920" y="2743200"/>
            <a:chExt cx="949680" cy="762120"/>
          </a:xfrm>
        </p:grpSpPr>
        <p:sp>
          <p:nvSpPr>
            <p:cNvPr id="412" name=""/>
            <p:cNvSpPr/>
            <p:nvPr/>
          </p:nvSpPr>
          <p:spPr>
            <a:xfrm>
              <a:off x="6248520" y="274320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6920" y="2895840"/>
              <a:ext cx="91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77080" y="2971800"/>
            <a:ext cx="3276000" cy="1143000"/>
            <a:chOff x="3277080" y="2971800"/>
            <a:chExt cx="3276000" cy="1143000"/>
          </a:xfrm>
        </p:grpSpPr>
        <p:sp>
          <p:nvSpPr>
            <p:cNvPr id="415" name=""/>
            <p:cNvSpPr/>
            <p:nvPr/>
          </p:nvSpPr>
          <p:spPr>
            <a:xfrm>
              <a:off x="3277080" y="2971800"/>
              <a:ext cx="2589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603400" y="3352680"/>
              <a:ext cx="949680" cy="762120"/>
              <a:chOff x="5603400" y="3352680"/>
              <a:chExt cx="949680" cy="762120"/>
            </a:xfrm>
          </p:grpSpPr>
          <p:sp>
            <p:nvSpPr>
              <p:cNvPr id="417" name=""/>
              <p:cNvSpPr/>
              <p:nvPr/>
            </p:nvSpPr>
            <p:spPr>
              <a:xfrm>
                <a:off x="5715000" y="3352680"/>
                <a:ext cx="838080" cy="7621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03400" y="350532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648320" y="2133720"/>
            <a:ext cx="2971440" cy="761760"/>
            <a:chOff x="4648320" y="2133720"/>
            <a:chExt cx="2971440" cy="761760"/>
          </a:xfrm>
        </p:grpSpPr>
        <p:grpSp>
          <p:nvGrpSpPr>
            <p:cNvPr id="420" name=""/>
            <p:cNvGrpSpPr/>
            <p:nvPr/>
          </p:nvGrpSpPr>
          <p:grpSpPr>
            <a:xfrm>
              <a:off x="6670080" y="2133720"/>
              <a:ext cx="949680" cy="761760"/>
              <a:chOff x="6670080" y="2133720"/>
              <a:chExt cx="949680" cy="761760"/>
            </a:xfrm>
          </p:grpSpPr>
          <p:sp>
            <p:nvSpPr>
              <p:cNvPr id="421" name=""/>
              <p:cNvSpPr/>
              <p:nvPr/>
            </p:nvSpPr>
            <p:spPr>
              <a:xfrm>
                <a:off x="6781680" y="2133720"/>
                <a:ext cx="838080" cy="761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70080" y="22860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flipV="1">
              <a:off x="4648320" y="2285640"/>
              <a:ext cx="21333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04920" y="1676520"/>
            <a:ext cx="1971720" cy="2086920"/>
            <a:chOff x="304920" y="1676520"/>
            <a:chExt cx="1971720" cy="208692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1971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394200" y="312084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ld 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209680" y="2895480"/>
            <a:ext cx="121932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2438280"/>
            <a:ext cx="1219320" cy="6858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1981080"/>
            <a:ext cx="1447920" cy="83844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1120" y="10666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31280" y="3962520"/>
            <a:ext cx="1712520" cy="2446560"/>
            <a:chOff x="431280" y="3962520"/>
            <a:chExt cx="1712520" cy="2446560"/>
          </a:xfrm>
        </p:grpSpPr>
        <p:sp>
          <p:nvSpPr>
            <p:cNvPr id="432" name=""/>
            <p:cNvSpPr/>
            <p:nvPr/>
          </p:nvSpPr>
          <p:spPr>
            <a:xfrm>
              <a:off x="431280" y="5766480"/>
              <a:ext cx="171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iness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>
              <a:off x="621000" y="3962520"/>
              <a:ext cx="1209240" cy="166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"/>
          <p:cNvSpPr/>
          <p:nvPr/>
        </p:nvSpPr>
        <p:spPr>
          <a:xfrm flipV="1">
            <a:off x="1905120" y="3962160"/>
            <a:ext cx="1447560" cy="609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648320" y="3733920"/>
            <a:ext cx="1828440" cy="1295280"/>
            <a:chOff x="4648320" y="3733920"/>
            <a:chExt cx="1828440" cy="1295280"/>
          </a:xfrm>
        </p:grpSpPr>
        <p:sp>
          <p:nvSpPr>
            <p:cNvPr id="436" name=""/>
            <p:cNvSpPr/>
            <p:nvPr/>
          </p:nvSpPr>
          <p:spPr>
            <a:xfrm>
              <a:off x="4648320" y="3733920"/>
              <a:ext cx="990360" cy="685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527440" y="4267080"/>
              <a:ext cx="949320" cy="762120"/>
              <a:chOff x="5527440" y="4267080"/>
              <a:chExt cx="949320" cy="762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638680" y="4267080"/>
                <a:ext cx="838080" cy="7621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527440" y="441972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4952880" y="2286000"/>
            <a:ext cx="685800" cy="990720"/>
            <a:chOff x="4952880" y="2286000"/>
            <a:chExt cx="685800" cy="990720"/>
          </a:xfrm>
        </p:grpSpPr>
        <p:grpSp>
          <p:nvGrpSpPr>
            <p:cNvPr id="441" name=""/>
            <p:cNvGrpSpPr/>
            <p:nvPr/>
          </p:nvGrpSpPr>
          <p:grpSpPr>
            <a:xfrm>
              <a:off x="4952880" y="2590920"/>
              <a:ext cx="685800" cy="685800"/>
              <a:chOff x="4952880" y="2590920"/>
              <a:chExt cx="685800" cy="685800"/>
            </a:xfrm>
          </p:grpSpPr>
          <p:sp>
            <p:nvSpPr>
              <p:cNvPr id="442" name=""/>
              <p:cNvSpPr/>
              <p:nvPr/>
            </p:nvSpPr>
            <p:spPr>
              <a:xfrm>
                <a:off x="5181480" y="30481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81480" y="29718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4952880" y="2590920"/>
                <a:ext cx="685800" cy="685800"/>
                <a:chOff x="4952880" y="2590920"/>
                <a:chExt cx="685800" cy="68580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4952880" y="2590920"/>
                  <a:ext cx="685800" cy="685800"/>
                  <a:chOff x="4952880" y="2590920"/>
                  <a:chExt cx="685800" cy="68580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4952880" y="2590920"/>
                    <a:ext cx="6858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181480" y="289584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181480" y="31244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5410080" y="289548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410080" y="28958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952880" y="289584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>
                  <a:off x="5030640" y="266724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WL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"/>
            <p:cNvSpPr/>
            <p:nvPr/>
          </p:nvSpPr>
          <p:spPr>
            <a:xfrm>
              <a:off x="5046480" y="228600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Comic Sans MS"/>
                </a:rPr>
                <a:t>A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00600" y="3733920"/>
            <a:ext cx="685800" cy="990360"/>
            <a:chOff x="4800600" y="3733920"/>
            <a:chExt cx="685800" cy="990360"/>
          </a:xfrm>
        </p:grpSpPr>
        <p:grpSp>
          <p:nvGrpSpPr>
            <p:cNvPr id="455" name=""/>
            <p:cNvGrpSpPr/>
            <p:nvPr/>
          </p:nvGrpSpPr>
          <p:grpSpPr>
            <a:xfrm>
              <a:off x="4800600" y="4038480"/>
              <a:ext cx="685800" cy="685800"/>
              <a:chOff x="4800600" y="4038480"/>
              <a:chExt cx="685800" cy="68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5029200" y="44956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29200" y="44193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4800600" y="4038480"/>
                <a:ext cx="685800" cy="685800"/>
                <a:chOff x="4800600" y="4038480"/>
                <a:chExt cx="685800" cy="68580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800600" y="4038480"/>
                  <a:ext cx="685800" cy="685800"/>
                  <a:chOff x="4800600" y="4038480"/>
                  <a:chExt cx="685800" cy="6858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800600" y="4038480"/>
                    <a:ext cx="6858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29200" y="434340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029200" y="4572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5257800" y="434304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25780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80060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4878360" y="411480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WL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4894200" y="37339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A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V="1">
            <a:off x="1828800" y="4191120"/>
            <a:ext cx="1981080" cy="9144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0408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59760" y="23623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94200" y="1098720"/>
            <a:ext cx="5897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ahoma"/>
                <a:ea typeface="Tahoma"/>
              </a:rPr>
              <a:t>Helps meet the goals of transactions by dynamically changing the number of server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ahoma"/>
                <a:ea typeface="Tahoma"/>
              </a:rPr>
              <a:t>on-dem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71800" y="5807160"/>
            <a:ext cx="5943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ahoma"/>
                <a:ea typeface="Tahoma"/>
              </a:rPr>
              <a:t>Does this without harming other, more important workload on a syst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batch processing?</a:t>
            </a:r>
            <a:br>
              <a:rPr sz="2400"/>
            </a:b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uch of the work running on z/OS consists of programs called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tch jobs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tch processing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is used for programs that can be executed: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With minimal human interaction</a:t>
            </a:r>
            <a:endParaRPr b="1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At a scheduled time or on an as-needed basis.</a:t>
            </a:r>
            <a:endParaRPr b="1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fter a batch job is submitted to the system for execution, there is normally no further human interaction with the job until it is complete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1025640"/>
            <a:ext cx="845820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z/OS: Prioritizing work across images in a server - IR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080" y="5991120"/>
            <a:ext cx="8977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Processor resources, data bandwidth and I/O queueing decisions are perfectly balanced across the server to manage diverse workloads within the parameters of stated business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76920" y="3124080"/>
            <a:ext cx="403848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3124080"/>
            <a:ext cx="403848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09480" y="3200400"/>
            <a:ext cx="1904400" cy="1828080"/>
            <a:chOff x="609480" y="3200400"/>
            <a:chExt cx="1904400" cy="1828080"/>
          </a:xfrm>
        </p:grpSpPr>
        <p:sp>
          <p:nvSpPr>
            <p:cNvPr id="478" name=""/>
            <p:cNvSpPr/>
            <p:nvPr/>
          </p:nvSpPr>
          <p:spPr>
            <a:xfrm>
              <a:off x="879840" y="3200400"/>
              <a:ext cx="27972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0560" y="3200400"/>
              <a:ext cx="27972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16960" y="3200400"/>
              <a:ext cx="27972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6680" y="3200400"/>
              <a:ext cx="27468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67400" y="3200400"/>
              <a:ext cx="27576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38120" y="3200400"/>
              <a:ext cx="27576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3200400"/>
              <a:ext cx="279720" cy="18280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21932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  <a:ea typeface="Arial"/>
              </a:rPr>
              <a:t>z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  <a:ea typeface="Arial"/>
              </a:rPr>
              <a:t>z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029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/V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124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0" y="3124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/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/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/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657600" y="24379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198108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4724280" y="24379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343800" y="39992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581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3581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67480" y="37339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39120" y="2057400"/>
            <a:ext cx="1167480" cy="1064520"/>
            <a:chOff x="339120" y="2057400"/>
            <a:chExt cx="1167480" cy="1064520"/>
          </a:xfrm>
        </p:grpSpPr>
        <p:sp>
          <p:nvSpPr>
            <p:cNvPr id="501" name=""/>
            <p:cNvSpPr/>
            <p:nvPr/>
          </p:nvSpPr>
          <p:spPr>
            <a:xfrm>
              <a:off x="339120" y="205740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 Black"/>
                  <a:ea typeface="Arial"/>
                </a:rPr>
                <a:t>M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1"/>
            <a:stretch/>
          </p:blipFill>
          <p:spPr>
            <a:xfrm rot="7952400">
              <a:off x="743760" y="2304360"/>
              <a:ext cx="596880" cy="71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89017E-006 L 0.05 -2.89017E-006 E">
                                      <p:cBhvr>
                                        <p:cTn id="500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477"/>
                                        </p:tgtEl>
                                      </p:cBhvr>
                                      <p:to x="11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4162E-006 L 0.0375 3.64162E-006 E">
                                      <p:cBhvr>
                                        <p:cTn id="504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6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89017E-006 L 0.09167 -2.89017E-006 E">
                                      <p:cBhvr>
                                        <p:cTn id="509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9017E-006 L 0.06666 0.00671 E">
                                      <p:cBhvr>
                                        <p:cTn id="513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5240" y="990360"/>
            <a:ext cx="8826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ummary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169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Batch processing is a fundamental function of z/OS. 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z/OS shares with JES the management of jobs and resources. 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JES receives jobs into the system, schedules them for processing, and controls their output. 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JES manages jobs in queues.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An initiator sets up the necessary environment for running a batch job. Multiple initiators permit the parallel execution of batch jobs.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During the life of a job, both JES and the z/OS base control program control different phases of the overall processing. </a:t>
            </a: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38320" y="2189160"/>
            <a:ext cx="305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//S1 EXEC PGM=MVSPROG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06640" y="4637160"/>
            <a:ext cx="3160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//S3 EXEC PGM=MVSPROG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413160"/>
            <a:ext cx="37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cc"/>
                </a:solidFill>
                <a:latin typeface="Swiss"/>
              </a:rPr>
              <a:t>//S2 EXEC  PGM=BPXBATCH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5640" y="2085840"/>
            <a:ext cx="3259080" cy="102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5640" y="3309840"/>
            <a:ext cx="3259080" cy="102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25640" y="4564080"/>
            <a:ext cx="3259080" cy="103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5640" y="1379520"/>
            <a:ext cx="325908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6240" y="1440000"/>
            <a:ext cx="235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//OPENBATC  JOB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25640" y="5664240"/>
            <a:ext cx="32590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5722920"/>
            <a:ext cx="419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/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676520"/>
            <a:ext cx="144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36720" y="2871720"/>
            <a:ext cx="180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36720" y="4095720"/>
            <a:ext cx="1800" cy="4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38160" y="5181480"/>
            <a:ext cx="468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2520" y="3746520"/>
            <a:ext cx="324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cc"/>
                </a:solidFill>
                <a:latin typeface="Swiss"/>
              </a:rPr>
              <a:t>//   PARM='pgm cprog a1 a2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40560" y="2190600"/>
            <a:ext cx="180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MVS batch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6160" y="343224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cc"/>
                </a:solidFill>
                <a:latin typeface="Swiss"/>
              </a:rPr>
              <a:t>OpenMVS batch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72240" y="4638600"/>
            <a:ext cx="180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MVS batch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2760" y="5737320"/>
            <a:ext cx="90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End of jo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37320" y="1454040"/>
            <a:ext cx="981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ss"/>
              </a:rPr>
              <a:t>Start of jo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8390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VS Batch Job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44440" y="13716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LASS=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3146000">
            <a:off x="3581280" y="114264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960" y="2057400"/>
            <a:ext cx="96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IMPORT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-1752840" y="4648320"/>
            <a:ext cx="5410440" cy="1864800"/>
            <a:chOff x="-1752840" y="4648320"/>
            <a:chExt cx="5410440" cy="1864800"/>
          </a:xfrm>
        </p:grpSpPr>
        <p:grpSp>
          <p:nvGrpSpPr>
            <p:cNvPr id="139" name=""/>
            <p:cNvGrpSpPr/>
            <p:nvPr/>
          </p:nvGrpSpPr>
          <p:grpSpPr>
            <a:xfrm>
              <a:off x="0" y="4800600"/>
              <a:ext cx="1905120" cy="1600200"/>
              <a:chOff x="0" y="4800600"/>
              <a:chExt cx="1905120" cy="16002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0" y="4800600"/>
                <a:ext cx="1905120" cy="1600200"/>
                <a:chOff x="0" y="4800600"/>
                <a:chExt cx="1905120" cy="16002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"/>
                <a:stretch/>
              </p:blipFill>
              <p:spPr>
                <a:xfrm flipH="1">
                  <a:off x="0" y="4800600"/>
                  <a:ext cx="190512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972360" y="5486400"/>
                  <a:ext cx="7218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 Black"/>
                    </a:rPr>
                    <a:t>B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 Black"/>
                    </a:rPr>
                    <a:t>jo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rot="18289200">
                <a:off x="979920" y="4965840"/>
                <a:ext cx="753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676520" y="4648320"/>
              <a:ext cx="1981080" cy="1864800"/>
              <a:chOff x="1676520" y="4648320"/>
              <a:chExt cx="1981080" cy="18648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676520" y="4800600"/>
                <a:ext cx="1981080" cy="1712520"/>
                <a:chOff x="1676520" y="4800600"/>
                <a:chExt cx="1981080" cy="171252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76520" y="4800600"/>
                  <a:ext cx="1981080" cy="171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2489760" y="5638320"/>
                  <a:ext cx="656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Batc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jo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288520" y="4648320"/>
                <a:ext cx="1032480" cy="1279080"/>
                <a:chOff x="2288520" y="4648320"/>
                <a:chExt cx="1032480" cy="1279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124440" y="4648320"/>
                  <a:ext cx="1839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8289200">
                  <a:off x="2427480" y="5041800"/>
                  <a:ext cx="7538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-1752840" y="4876920"/>
              <a:ext cx="1904760" cy="1600200"/>
              <a:chOff x="-1752840" y="4876920"/>
              <a:chExt cx="1904760" cy="16002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-1752840" y="4876920"/>
                <a:ext cx="1904760" cy="1600200"/>
                <a:chOff x="-1752840" y="4876920"/>
                <a:chExt cx="1904760" cy="16002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-1752840" y="4876920"/>
                  <a:ext cx="190476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-780120" y="5562720"/>
                  <a:ext cx="7218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 Black"/>
                    </a:rPr>
                    <a:t>B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 Black"/>
                    </a:rPr>
                    <a:t>jo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 rot="18289200">
                <a:off x="-772200" y="5042160"/>
                <a:ext cx="753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EP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 flipH="1">
            <a:off x="5029200" y="5715000"/>
            <a:ext cx="1023840" cy="8319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ample of Batch Processing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 flipH="1">
            <a:off x="4952880" y="3886200"/>
            <a:ext cx="919440" cy="83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 flipH="1">
            <a:off x="5029200" y="3200400"/>
            <a:ext cx="1023840" cy="831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0" y="1384920"/>
            <a:ext cx="1796760" cy="1672560"/>
            <a:chOff x="0" y="1384920"/>
            <a:chExt cx="1796760" cy="1672560"/>
          </a:xfrm>
        </p:grpSpPr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 flipH="1">
              <a:off x="0" y="1447920"/>
              <a:ext cx="165888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96400" y="2057400"/>
              <a:ext cx="72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Ba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j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289200">
              <a:off x="903240" y="1536840"/>
              <a:ext cx="753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3429000" y="1295280"/>
            <a:ext cx="2286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press Check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971800"/>
            <a:ext cx="3429000" cy="1864800"/>
            <a:chOff x="0" y="2971800"/>
            <a:chExt cx="3429000" cy="1864800"/>
          </a:xfrm>
        </p:grpSpPr>
        <p:grpSp>
          <p:nvGrpSpPr>
            <p:cNvPr id="166" name=""/>
            <p:cNvGrpSpPr/>
            <p:nvPr/>
          </p:nvGrpSpPr>
          <p:grpSpPr>
            <a:xfrm>
              <a:off x="0" y="2971800"/>
              <a:ext cx="1981080" cy="1864800"/>
              <a:chOff x="0" y="2971800"/>
              <a:chExt cx="1981080" cy="1864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0" y="3124080"/>
                <a:ext cx="1981080" cy="1712520"/>
                <a:chOff x="0" y="3124080"/>
                <a:chExt cx="1981080" cy="1712520"/>
              </a:xfrm>
            </p:grpSpPr>
            <p:pic>
              <p:nvPicPr>
                <p:cNvPr id="1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3124080"/>
                  <a:ext cx="1981080" cy="171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813240" y="3961800"/>
                  <a:ext cx="656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Batc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jo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12000" y="2971800"/>
                <a:ext cx="1032480" cy="1279080"/>
                <a:chOff x="612000" y="2971800"/>
                <a:chExt cx="1032480" cy="1279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47920" y="2971800"/>
                  <a:ext cx="1839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289200">
                  <a:off x="750960" y="3365280"/>
                  <a:ext cx="7538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1447920" y="2971800"/>
              <a:ext cx="1981080" cy="1864800"/>
              <a:chOff x="1447920" y="2971800"/>
              <a:chExt cx="1981080" cy="18648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447920" y="3124080"/>
                <a:ext cx="1981080" cy="1712520"/>
                <a:chOff x="1447920" y="3124080"/>
                <a:chExt cx="1981080" cy="171252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447920" y="3124080"/>
                  <a:ext cx="1981080" cy="171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2261160" y="3961800"/>
                  <a:ext cx="6562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Batc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 Black"/>
                    </a:rPr>
                    <a:t>jo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059920" y="2971800"/>
                <a:ext cx="1032480" cy="1279080"/>
                <a:chOff x="2059920" y="2971800"/>
                <a:chExt cx="1032480" cy="1279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895840" y="2971800"/>
                  <a:ext cx="1839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289200">
                  <a:off x="2198880" y="3365280"/>
                  <a:ext cx="7538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EP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 flipH="1">
            <a:off x="4724280" y="2590920"/>
            <a:ext cx="1263600" cy="55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4724280" y="4952880"/>
            <a:ext cx="1797120" cy="1098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3733920" y="487692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 flipH="1">
            <a:off x="4800600" y="2133720"/>
            <a:ext cx="1263600" cy="556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 flipH="1">
            <a:off x="4876920" y="1676520"/>
            <a:ext cx="1263600" cy="55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3657600" y="1676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3657600" y="32767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990720" y="533520"/>
            <a:ext cx="10666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NP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352680" y="914400"/>
            <a:ext cx="2581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rocess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34320" y="533520"/>
            <a:ext cx="13716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utput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85516E-006 C 0.04983 -0.01552 0.12274 -0.00301 0.17604 -4.85516E-006 C 0.18316 0.0007 0.19045 0.0014 0.19757 0.00232 C 0.21007 0.00394 0.2349 0.00719 0.2349 0.00742 C 0.28646 0.0058 0.33854 0.00835 0.38993 0.00487 C 0.40955 0.00765 0.40052 0.00719 0.41649 0.00719 E">
                                      <p:cBhvr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13916E-006 C 0.03021 -0.0081 0.05643 -0.00301 0.08664 3.13916E-006 C 0.13803 -0.00232 0.18021 -0.00555 0.23108 -0.00301 C 0.24497 0.00161 0.26059 -0.00255 0.27344 0.00601 C 0.2816 0.01132 0.28455 0.01988 0.29341 0.02357 C 0.2948 0.02658 0.29584 0.03005 0.29775 0.03259 C 0.29966 0.03513 0.30278 0.03559 0.30452 0.03837 C 0.31719 0.05917 0.29428 0.03629 0.31337 0.05316 C 0.31858 0.07397 0.31094 0.04923 0.32448 0.07096 C 0.32605 0.0735 0.32535 0.07743 0.32674 0.07998 C 0.33629 0.09916 0.3533 0.1061 0.36893 0.10957 C 0.41789 0.10633 0.4 0.10656 0.42223 0.10656 E">
                                      <p:cBhvr>
                                        <p:cTn id="3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18724E-006 C 0.01511 -0.0067 0.00486 -0.00346 0.03334 5.18724E-006 C 0.05643 0.00278 0.07917 0.00648 0.10226 0.00879 C 0.1382 0.00602 0.17309 -0.00161 0.20886 -0.006 C 0.22396 -0.01016 0.23663 -0.02057 0.25122 -0.02658 C 0.26337 -0.03767 0.27448 -0.05085 0.28663 -0.06217 C 0.28889 -0.06426 0.29115 -0.0661 0.2934 -0.06818 C 0.29566 -0.07003 0.3 -0.07396 0.3 -0.07396 C 0.30538 -0.08483 0.30955 -0.09338 0.31788 -0.10055 C 0.32309 -0.12274 0.31545 -0.09685 0.32674 -0.11534 C 0.3283 -0.11788 0.32743 -0.12181 0.329 -0.12436 C 0.33507 -0.13453 0.34896 -0.13314 0.35781 -0.13615 C 0.3842 -0.1343 0.4059 -0.13199 0.43108 -0.12736 C 0.43472 -0.12829 0.44219 -0.13014 0.44219 -0.13014 E">
                                      <p:cBhvr>
                                        <p:cTn id="4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4637E-006 C 0.01181 -0.00231 0.02379 -0.00717 0.03559 -0.00902 C 0.07535 -0.01549 0.1158 -0.01618 0.15556 -0.0178 C 0.19097 -0.02127 0.2217 -0.02381 0.2533 -0.04438 C 0.25938 -0.05247 0.2658 -0.06195 0.27118 -0.07097 C 0.27448 -0.07652 0.28004 -0.08877 0.28004 -0.08877 C 0.29219 -0.13731 0.34896 -0.12598 0.37552 -0.12737 C 0.39323 -0.13176 0.40903 -0.12529 0.42674 -0.12437 C 0.43924 -0.12367 0.45191 -0.12437 0.46441 -0.12437 E">
                                      <p:cBhvr>
                                        <p:cTn id="5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03708E-006 C 0.02274 -0.00185 0.0434 -0.00509 0.06615 -0.00671 C 0.11059 -0.00532 0.12795 -0.00718 0.16268 0.00232 C 0.18056 0.01739 0.20365 0.01044 0.22379 0.01136 C 0.26337 0.01924 0.3059 0.02666 0.3441 0.00904 C 0.34636 0.00974 0.35087 0.01136 0.35087 0.01136 E">
                                      <p:cBhvr>
                                        <p:cTn id="6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6674E-007 C 0.14775 -0.00278 0.26754 -0.0058 0.42361 -0.00696 C 0.43195 -0.01066 0.42691 -0.00927 0.43889 -0.00927 E">
                                      <p:cBhvr>
                                        <p:cTn id="7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2086E-006 C 0.17344 -0.01252 -0.10053 -0.0051 0.42882 -0.00209 C 0.43959 -0.00348 0.45087 -0.00209 0.46112 -0.00672 C 0.46494 -0.00835 0.46685 -0.01437 0.46962 -0.01808 E">
                                      <p:cBhvr>
                                        <p:cTn id="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3175E-007 C 0.01389 0.00324 0.02847 0.00324 0.04236 0.00742 C 0.0493 0.01251 0.05972 0.01391 0.06805 0.01622 C 0.16302 0.0095 0.35295 0.01622 0.35295 0.01645 C 0.36423 0.0197 0.35156 0.01645 0.36979 0.01622 C 0.39514 0.01576 0.42031 0.01622 0.44566 0.01622 E">
                                      <p:cBhvr>
                                        <p:cTn id="9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0231 L 0.38733 -0.00231 E">
                                      <p:cBhvr>
                                        <p:cTn id="10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1877E-006 L 0.3941 0.00602 E">
                                      <p:cBhvr>
                                        <p:cTn id="11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JES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n the z/OS operating system,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ES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manages the input and output job queues and data.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JES handles the following aspects of batch processing for z/OS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ceives jobs into the operating system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chedules them for processing by z/OS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ntrols their output processing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hat is JES? (continued)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3080" y="1523880"/>
            <a:ext cx="882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/OS offers two types: JES2 and JES3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ome important differences, but both JES2 and JES3: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ccept and queue jobs submitted for execution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Queue jobs for a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itiator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-- a JES program that requests the next job in the queue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ccept output from a job while it is running and queue the output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an print the output, or save it o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ol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for an output manager to retrieve.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5240" y="109188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Job Managemen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33520" y="1685880"/>
            <a:ext cx="62881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8:45:36Z</dcterms:created>
  <dc:creator>TOT184</dc:creator>
  <dc:description/>
  <dc:language>en-US</dc:language>
  <cp:lastModifiedBy>Avard E Hart</cp:lastModifiedBy>
  <dcterms:modified xsi:type="dcterms:W3CDTF">2008-11-05T00:16:12Z</dcterms:modified>
  <cp:revision>215</cp:revision>
  <dc:subject/>
  <dc:title>Slide 1</dc:title>
</cp:coreProperties>
</file>