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29.wmf" ContentType="image/x-wmf"/>
  <Override PartName="/ppt/media/image47.wmf" ContentType="image/x-wmf"/>
  <Override PartName="/ppt/media/image1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26.wmf" ContentType="image/x-wmf"/>
  <Override PartName="/ppt/media/image14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.jpeg" ContentType="image/jpeg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2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296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6AAB212-C7D5-4862-8D6C-7EDFE601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022640" y="8915400"/>
            <a:ext cx="3078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350AD016-1D84-4747-9EE7-78A336D5188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06360" y="703440"/>
            <a:ext cx="4692960" cy="351936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332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B529ACE-07D2-4497-AAEC-ACC32C93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33615C-8BAE-4410-8FD0-9C85D7DF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E74030-8FCD-4E28-B6B6-84EE2935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4A6395-6B42-4E2E-BC4C-893361EC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315D78C-4EAB-4B2F-A8A4-6FE1D858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EDB6ABA-9FD9-4671-BE91-279EBDD0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94980DF-3646-42A2-910E-436BD415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B704056-4DBB-49D5-8B98-A07CEE4A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B73214-1FB8-4564-BB4A-FFC4A0D1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7067E9-0672-4BB9-92CA-1CEC90CF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861F0C-090B-4CE2-A21D-BD71AD3B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5707F9-4DA4-4B9E-8DE1-50241D7E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1D21C2-E50A-4624-ACE0-316C680B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60916B-79A8-497D-B08A-209000411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243080" y="671400"/>
            <a:ext cx="4692600" cy="351972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5A1-6337-4AAA-9B4B-D5970118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D0E-1C09-49BB-8F0B-68AABE1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F95-B4C1-4013-84C6-4EC85952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5E9-6E97-4952-941C-587A8AA7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5AB-9EA9-4BC0-B78C-AF0CA7BD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CC4-CB2A-4C4A-9B40-635F3FD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932-EAB5-4D81-ACC1-4B25557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5A4-FAAD-4AEF-8B97-8FCFD52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6F2-347C-4B01-9E70-C0F6C341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788-CA1F-4D00-A3AA-C4EED4B5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D64-63F5-4E9B-A3BC-1B04E0A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352-74DA-4F02-B097-7338473B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E92D-6B0F-4833-8DF6-33F61F84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whiteboard"/>
          <p:cNvPicPr/>
          <p:nvPr/>
        </p:nvPicPr>
        <p:blipFill>
          <a:blip r:embed="rId2"/>
          <a:srcRect l="0" t="0" r="482" b="0"/>
          <a:stretch/>
        </p:blipFill>
        <p:spPr>
          <a:xfrm>
            <a:off x="0" y="4680"/>
            <a:ext cx="913464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image" Target="../media/image26.wmf"/><Relationship Id="rId21" Type="http://schemas.openxmlformats.org/officeDocument/2006/relationships/image" Target="../media/image27.wmf"/><Relationship Id="rId22" Type="http://schemas.openxmlformats.org/officeDocument/2006/relationships/image" Target="../media/image28.wmf"/><Relationship Id="rId23" Type="http://schemas.openxmlformats.org/officeDocument/2006/relationships/image" Target="../media/image20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9.wmf"/><Relationship Id="rId19" Type="http://schemas.openxmlformats.org/officeDocument/2006/relationships/image" Target="../media/image30.wmf"/><Relationship Id="rId20" Type="http://schemas.openxmlformats.org/officeDocument/2006/relationships/image" Target="../media/image31.wmf"/><Relationship Id="rId21" Type="http://schemas.openxmlformats.org/officeDocument/2006/relationships/image" Target="../media/image32.wmf"/><Relationship Id="rId22" Type="http://schemas.openxmlformats.org/officeDocument/2006/relationships/image" Target="../media/image24.wmf"/><Relationship Id="rId23" Type="http://schemas.openxmlformats.org/officeDocument/2006/relationships/image" Target="../media/image33.wmf"/><Relationship Id="rId24" Type="http://schemas.openxmlformats.org/officeDocument/2006/relationships/image" Target="../media/image34.wmf"/><Relationship Id="rId25" Type="http://schemas.openxmlformats.org/officeDocument/2006/relationships/image" Target="../media/image35.wmf"/><Relationship Id="rId26" Type="http://schemas.openxmlformats.org/officeDocument/2006/relationships/image" Target="../media/image36.wmf"/><Relationship Id="rId27" Type="http://schemas.openxmlformats.org/officeDocument/2006/relationships/image" Target="../media/image37.wmf"/><Relationship Id="rId28" Type="http://schemas.openxmlformats.org/officeDocument/2006/relationships/image" Target="../media/image34.wmf"/><Relationship Id="rId29" Type="http://schemas.openxmlformats.org/officeDocument/2006/relationships/image" Target="../media/image35.wmf"/><Relationship Id="rId30" Type="http://schemas.openxmlformats.org/officeDocument/2006/relationships/image" Target="../media/image36.wmf"/><Relationship Id="rId31" Type="http://schemas.openxmlformats.org/officeDocument/2006/relationships/image" Target="../media/image20.wmf"/><Relationship Id="rId32" Type="http://schemas.openxmlformats.org/officeDocument/2006/relationships/image" Target="../media/image4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9.wmf"/><Relationship Id="rId19" Type="http://schemas.openxmlformats.org/officeDocument/2006/relationships/image" Target="../media/image30.wmf"/><Relationship Id="rId20" Type="http://schemas.openxmlformats.org/officeDocument/2006/relationships/image" Target="../media/image31.wmf"/><Relationship Id="rId21" Type="http://schemas.openxmlformats.org/officeDocument/2006/relationships/image" Target="../media/image32.wmf"/><Relationship Id="rId22" Type="http://schemas.openxmlformats.org/officeDocument/2006/relationships/image" Target="../media/image24.wmf"/><Relationship Id="rId23" Type="http://schemas.openxmlformats.org/officeDocument/2006/relationships/image" Target="../media/image20.wmf"/><Relationship Id="rId24" Type="http://schemas.openxmlformats.org/officeDocument/2006/relationships/image" Target="../media/image4.wmf"/><Relationship Id="rId25" Type="http://schemas.openxmlformats.org/officeDocument/2006/relationships/image" Target="../media/image33.wmf"/><Relationship Id="rId26" Type="http://schemas.openxmlformats.org/officeDocument/2006/relationships/image" Target="../media/image38.wmf"/><Relationship Id="rId27" Type="http://schemas.openxmlformats.org/officeDocument/2006/relationships/image" Target="../media/image35.wmf"/><Relationship Id="rId28" Type="http://schemas.openxmlformats.org/officeDocument/2006/relationships/image" Target="../media/image39.wmf"/><Relationship Id="rId29" Type="http://schemas.openxmlformats.org/officeDocument/2006/relationships/image" Target="../media/image37.wmf"/><Relationship Id="rId30" Type="http://schemas.openxmlformats.org/officeDocument/2006/relationships/image" Target="../media/image40.wmf"/><Relationship Id="rId31" Type="http://schemas.openxmlformats.org/officeDocument/2006/relationships/image" Target="../media/image35.wmf"/><Relationship Id="rId32" Type="http://schemas.openxmlformats.org/officeDocument/2006/relationships/image" Target="../media/image39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0.wmf"/><Relationship Id="rId20" Type="http://schemas.openxmlformats.org/officeDocument/2006/relationships/image" Target="../media/image41.wmf"/><Relationship Id="rId21" Type="http://schemas.openxmlformats.org/officeDocument/2006/relationships/image" Target="../media/image4.wmf"/><Relationship Id="rId22" Type="http://schemas.openxmlformats.org/officeDocument/2006/relationships/image" Target="../media/image29.wmf"/><Relationship Id="rId23" Type="http://schemas.openxmlformats.org/officeDocument/2006/relationships/image" Target="../media/image42.wmf"/><Relationship Id="rId24" Type="http://schemas.openxmlformats.org/officeDocument/2006/relationships/image" Target="../media/image31.wmf"/><Relationship Id="rId25" Type="http://schemas.openxmlformats.org/officeDocument/2006/relationships/image" Target="../media/image43.wmf"/><Relationship Id="rId26" Type="http://schemas.openxmlformats.org/officeDocument/2006/relationships/image" Target="../media/image33.wmf"/><Relationship Id="rId27" Type="http://schemas.openxmlformats.org/officeDocument/2006/relationships/image" Target="../media/image44.wmf"/><Relationship Id="rId28" Type="http://schemas.openxmlformats.org/officeDocument/2006/relationships/image" Target="../media/image35.wmf"/><Relationship Id="rId29" Type="http://schemas.openxmlformats.org/officeDocument/2006/relationships/image" Target="../media/image45.wmf"/><Relationship Id="rId30" Type="http://schemas.openxmlformats.org/officeDocument/2006/relationships/image" Target="../media/image37.wmf"/><Relationship Id="rId31" Type="http://schemas.openxmlformats.org/officeDocument/2006/relationships/image" Target="../media/image44.wmf"/><Relationship Id="rId32" Type="http://schemas.openxmlformats.org/officeDocument/2006/relationships/image" Target="../media/image35.wmf"/><Relationship Id="rId33" Type="http://schemas.openxmlformats.org/officeDocument/2006/relationships/image" Target="../media/image45.wm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46.wmf"/><Relationship Id="rId20" Type="http://schemas.openxmlformats.org/officeDocument/2006/relationships/image" Target="../media/image47.wmf"/><Relationship Id="rId21" Type="http://schemas.openxmlformats.org/officeDocument/2006/relationships/image" Target="../media/image48.wmf"/><Relationship Id="rId22" Type="http://schemas.openxmlformats.org/officeDocument/2006/relationships/image" Target="../media/image49.wmf"/><Relationship Id="rId23" Type="http://schemas.openxmlformats.org/officeDocument/2006/relationships/image" Target="../media/image50.wmf"/><Relationship Id="rId24" Type="http://schemas.openxmlformats.org/officeDocument/2006/relationships/image" Target="../media/image51.wmf"/><Relationship Id="rId25" Type="http://schemas.openxmlformats.org/officeDocument/2006/relationships/image" Target="../media/image52.wmf"/><Relationship Id="rId26" Type="http://schemas.openxmlformats.org/officeDocument/2006/relationships/image" Target="../media/image53.wmf"/><Relationship Id="rId27" Type="http://schemas.openxmlformats.org/officeDocument/2006/relationships/image" Target="../media/image29.wmf"/><Relationship Id="rId28" Type="http://schemas.openxmlformats.org/officeDocument/2006/relationships/image" Target="../media/image42.wmf"/><Relationship Id="rId29" Type="http://schemas.openxmlformats.org/officeDocument/2006/relationships/image" Target="../media/image31.wmf"/><Relationship Id="rId30" Type="http://schemas.openxmlformats.org/officeDocument/2006/relationships/image" Target="../media/image54.wmf"/><Relationship Id="rId31" Type="http://schemas.openxmlformats.org/officeDocument/2006/relationships/image" Target="../media/image20.wmf"/><Relationship Id="rId32" Type="http://schemas.openxmlformats.org/officeDocument/2006/relationships/image" Target="../media/image55.wmf"/><Relationship Id="rId33" Type="http://schemas.openxmlformats.org/officeDocument/2006/relationships/image" Target="../media/image56.wmf"/><Relationship Id="rId34" Type="http://schemas.openxmlformats.org/officeDocument/2006/relationships/image" Target="../media/image4.wmf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57.wmf"/><Relationship Id="rId19" Type="http://schemas.openxmlformats.org/officeDocument/2006/relationships/image" Target="../media/image58.wmf"/><Relationship Id="rId20" Type="http://schemas.openxmlformats.org/officeDocument/2006/relationships/image" Target="../media/image24.wmf"/><Relationship Id="rId21" Type="http://schemas.openxmlformats.org/officeDocument/2006/relationships/image" Target="../media/image46.wmf"/><Relationship Id="rId22" Type="http://schemas.openxmlformats.org/officeDocument/2006/relationships/image" Target="../media/image47.wmf"/><Relationship Id="rId23" Type="http://schemas.openxmlformats.org/officeDocument/2006/relationships/image" Target="../media/image48.wmf"/><Relationship Id="rId24" Type="http://schemas.openxmlformats.org/officeDocument/2006/relationships/image" Target="../media/image49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48.wmf"/><Relationship Id="rId28" Type="http://schemas.openxmlformats.org/officeDocument/2006/relationships/image" Target="../media/image59.wmf"/><Relationship Id="rId29" Type="http://schemas.openxmlformats.org/officeDocument/2006/relationships/image" Target="../media/image60.wmf"/><Relationship Id="rId30" Type="http://schemas.openxmlformats.org/officeDocument/2006/relationships/image" Target="../media/image29.wmf"/><Relationship Id="rId31" Type="http://schemas.openxmlformats.org/officeDocument/2006/relationships/image" Target="../media/image42.wmf"/><Relationship Id="rId32" Type="http://schemas.openxmlformats.org/officeDocument/2006/relationships/image" Target="../media/image31.wmf"/><Relationship Id="rId33" Type="http://schemas.openxmlformats.org/officeDocument/2006/relationships/image" Target="../media/image54.wmf"/><Relationship Id="rId34" Type="http://schemas.openxmlformats.org/officeDocument/2006/relationships/image" Target="../media/image20.wmf"/><Relationship Id="rId35" Type="http://schemas.openxmlformats.org/officeDocument/2006/relationships/image" Target="../media/image61.wmf"/><Relationship Id="rId36" Type="http://schemas.openxmlformats.org/officeDocument/2006/relationships/image" Target="../media/image56.wmf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4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0.wmf"/><Relationship Id="rId18" Type="http://schemas.openxmlformats.org/officeDocument/2006/relationships/image" Target="../media/image4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0.wmf"/><Relationship Id="rId19" Type="http://schemas.openxmlformats.org/officeDocument/2006/relationships/image" Target="../media/image4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0.wmf"/><Relationship Id="rId19" Type="http://schemas.openxmlformats.org/officeDocument/2006/relationships/image" Target="../media/image4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0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22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0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614520" y="0"/>
            <a:ext cx="8529480" cy="1125360"/>
          </a:xfrm>
          <a:prstGeom prst="rect">
            <a:avLst/>
          </a:prstGeom>
          <a:solidFill>
            <a:srgbClr val="031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614520" cy="1125360"/>
          </a:xfrm>
          <a:prstGeom prst="rect">
            <a:avLst/>
          </a:prstGeom>
          <a:solidFill>
            <a:srgbClr val="5f7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1125360"/>
            <a:ext cx="614520" cy="5732640"/>
          </a:xfrm>
          <a:prstGeom prst="rect">
            <a:avLst/>
          </a:prstGeom>
          <a:solidFill>
            <a:srgbClr val="b8d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 rot="16200000">
            <a:off x="-692640" y="5330520"/>
            <a:ext cx="2015640" cy="2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IBM and Business Partner Use Onl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9"/>
          <p:cNvSpPr/>
          <p:nvPr/>
        </p:nvSpPr>
        <p:spPr>
          <a:xfrm>
            <a:off x="762120" y="1309680"/>
            <a:ext cx="8143920" cy="5346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ointly Developed With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2108160" y="5735520"/>
            <a:ext cx="5453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rm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material is For IBM and Business Partner Use Onl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WhiteboardSelling, LLC. 2007-2010. All Rights Reserve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hiteboard name"/>
          <p:cNvSpPr/>
          <p:nvPr/>
        </p:nvSpPr>
        <p:spPr>
          <a:xfrm>
            <a:off x="654120" y="480960"/>
            <a:ext cx="8334360" cy="64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Value of IBM System Z1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ibm-logo"/>
          <p:cNvPicPr/>
          <p:nvPr/>
        </p:nvPicPr>
        <p:blipFill>
          <a:blip r:embed="rId1"/>
          <a:stretch/>
        </p:blipFill>
        <p:spPr>
          <a:xfrm>
            <a:off x="3525840" y="1585800"/>
            <a:ext cx="2765520" cy="178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wbs-logo-small"/>
          <p:cNvPicPr/>
          <p:nvPr/>
        </p:nvPicPr>
        <p:blipFill>
          <a:blip r:embed="rId2"/>
          <a:stretch/>
        </p:blipFill>
        <p:spPr>
          <a:xfrm>
            <a:off x="3003480" y="3983040"/>
            <a:ext cx="381168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Whiteboard version"/>
          <p:cNvSpPr/>
          <p:nvPr/>
        </p:nvSpPr>
        <p:spPr>
          <a:xfrm>
            <a:off x="1371600" y="3319560"/>
            <a:ext cx="71121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cember 08, 2017; 0930PM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596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597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599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01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602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3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604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5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606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607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08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609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0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1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2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3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4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615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16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622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630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633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634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7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638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639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640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644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659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9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9"/>
          <p:cNvSpPr/>
          <p:nvPr/>
        </p:nvSpPr>
        <p:spPr>
          <a:xfrm>
            <a:off x="4368240" y="5940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59"/>
          <p:cNvSpPr/>
          <p:nvPr/>
        </p:nvSpPr>
        <p:spPr>
          <a:xfrm>
            <a:off x="5610960" y="41148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99.9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10"/>
          <p:cNvSpPr/>
          <p:nvPr/>
        </p:nvSpPr>
        <p:spPr>
          <a:xfrm>
            <a:off x="3835440" y="213372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Ink 134" descr=""/>
          <p:cNvPicPr/>
          <p:nvPr/>
        </p:nvPicPr>
        <p:blipFill>
          <a:blip r:embed="rId18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75"/>
          <p:cNvSpPr/>
          <p:nvPr/>
        </p:nvSpPr>
        <p:spPr>
          <a:xfrm>
            <a:off x="4524120" y="31240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34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80"/>
          <p:cNvSpPr/>
          <p:nvPr/>
        </p:nvSpPr>
        <p:spPr>
          <a:xfrm>
            <a:off x="3503520" y="452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IBM 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677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159"/>
          <p:cNvSpPr/>
          <p:nvPr/>
        </p:nvSpPr>
        <p:spPr>
          <a:xfrm>
            <a:off x="5830560" y="4475160"/>
            <a:ext cx="156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00% encryp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0 Appl Chgs &amp; S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33"/>
          <p:cNvSpPr/>
          <p:nvPr/>
        </p:nvSpPr>
        <p:spPr>
          <a:xfrm>
            <a:off x="3016080" y="2265480"/>
            <a:ext cx="10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0"/>
          <p:cNvSpPr/>
          <p:nvPr/>
        </p:nvSpPr>
        <p:spPr>
          <a:xfrm>
            <a:off x="4414680" y="2211480"/>
            <a:ext cx="16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Pervasive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65"/>
          <p:cNvGrpSpPr/>
          <p:nvPr/>
        </p:nvGrpSpPr>
        <p:grpSpPr>
          <a:xfrm>
            <a:off x="2889360" y="2187720"/>
            <a:ext cx="3071520" cy="436320"/>
            <a:chOff x="2889360" y="2187720"/>
            <a:chExt cx="3071520" cy="436320"/>
          </a:xfrm>
        </p:grpSpPr>
        <p:pic>
          <p:nvPicPr>
            <p:cNvPr id="685" name="Ink 66" descr=""/>
            <p:cNvPicPr/>
            <p:nvPr/>
          </p:nvPicPr>
          <p:blipFill>
            <a:blip r:embed="rId19"/>
            <a:stretch/>
          </p:blipFill>
          <p:spPr>
            <a:xfrm>
              <a:off x="2889360" y="2206440"/>
              <a:ext cx="954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Ink 67" descr=""/>
            <p:cNvPicPr/>
            <p:nvPr/>
          </p:nvPicPr>
          <p:blipFill>
            <a:blip r:embed="rId20"/>
            <a:stretch/>
          </p:blipFill>
          <p:spPr>
            <a:xfrm>
              <a:off x="2966760" y="2187720"/>
              <a:ext cx="29714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Ink 68" descr=""/>
            <p:cNvPicPr/>
            <p:nvPr/>
          </p:nvPicPr>
          <p:blipFill>
            <a:blip r:embed="rId21"/>
            <a:stretch/>
          </p:blipFill>
          <p:spPr>
            <a:xfrm>
              <a:off x="5863320" y="2207520"/>
              <a:ext cx="709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Ink 69" descr=""/>
            <p:cNvPicPr/>
            <p:nvPr/>
          </p:nvPicPr>
          <p:blipFill>
            <a:blip r:embed="rId22"/>
            <a:stretch/>
          </p:blipFill>
          <p:spPr>
            <a:xfrm>
              <a:off x="3037680" y="2596680"/>
              <a:ext cx="2923200" cy="2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Ink 28" descr=""/>
          <p:cNvPicPr/>
          <p:nvPr/>
        </p:nvPicPr>
        <p:blipFill>
          <a:blip r:embed="rId23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5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06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111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694" name="Ink 28" descr=""/>
            <p:cNvPicPr/>
            <p:nvPr/>
          </p:nvPicPr>
          <p:blipFill>
            <a:blip r:embed="rId24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Rectangle 110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11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13"/>
          <p:cNvSpPr/>
          <p:nvPr/>
        </p:nvSpPr>
        <p:spPr>
          <a:xfrm>
            <a:off x="6781680" y="5105520"/>
            <a:ext cx="8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169"/>
          <p:cNvSpPr/>
          <p:nvPr/>
        </p:nvSpPr>
        <p:spPr>
          <a:xfrm>
            <a:off x="4368240" y="5940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704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706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8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709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0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711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2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713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714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715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716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717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718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719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720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721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722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723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729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737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740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741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4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745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746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747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751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766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Box 1"/>
          <p:cNvSpPr/>
          <p:nvPr/>
        </p:nvSpPr>
        <p:spPr>
          <a:xfrm>
            <a:off x="3067200" y="22654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9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59"/>
          <p:cNvSpPr/>
          <p:nvPr/>
        </p:nvSpPr>
        <p:spPr>
          <a:xfrm>
            <a:off x="5610960" y="41148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99.9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59"/>
          <p:cNvSpPr/>
          <p:nvPr/>
        </p:nvSpPr>
        <p:spPr>
          <a:xfrm>
            <a:off x="2375280" y="54864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70/1000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59"/>
          <p:cNvSpPr/>
          <p:nvPr/>
        </p:nvSpPr>
        <p:spPr>
          <a:xfrm>
            <a:off x="2919240" y="4383000"/>
            <a:ext cx="1089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Fastest S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5X – x86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 to 32TB Mem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15"/>
          <p:cNvSpPr/>
          <p:nvPr/>
        </p:nvSpPr>
        <p:spPr>
          <a:xfrm>
            <a:off x="3835440" y="213372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16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17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120"/>
          <p:cNvSpPr/>
          <p:nvPr/>
        </p:nvSpPr>
        <p:spPr>
          <a:xfrm>
            <a:off x="4433760" y="2211480"/>
            <a:ext cx="16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Pervasive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65"/>
          <p:cNvGrpSpPr/>
          <p:nvPr/>
        </p:nvGrpSpPr>
        <p:grpSpPr>
          <a:xfrm>
            <a:off x="2908440" y="2187720"/>
            <a:ext cx="3071160" cy="436320"/>
            <a:chOff x="2908440" y="2187720"/>
            <a:chExt cx="3071160" cy="436320"/>
          </a:xfrm>
        </p:grpSpPr>
        <p:pic>
          <p:nvPicPr>
            <p:cNvPr id="783" name="Ink 66" descr=""/>
            <p:cNvPicPr/>
            <p:nvPr/>
          </p:nvPicPr>
          <p:blipFill>
            <a:blip r:embed="rId18"/>
            <a:stretch/>
          </p:blipFill>
          <p:spPr>
            <a:xfrm>
              <a:off x="2908440" y="2206440"/>
              <a:ext cx="954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Ink 67" descr=""/>
            <p:cNvPicPr/>
            <p:nvPr/>
          </p:nvPicPr>
          <p:blipFill>
            <a:blip r:embed="rId19"/>
            <a:stretch/>
          </p:blipFill>
          <p:spPr>
            <a:xfrm>
              <a:off x="2985840" y="2187720"/>
              <a:ext cx="297108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Ink 68" descr=""/>
            <p:cNvPicPr/>
            <p:nvPr/>
          </p:nvPicPr>
          <p:blipFill>
            <a:blip r:embed="rId20"/>
            <a:stretch/>
          </p:blipFill>
          <p:spPr>
            <a:xfrm>
              <a:off x="5882040" y="2207520"/>
              <a:ext cx="709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Ink 69" descr=""/>
            <p:cNvPicPr/>
            <p:nvPr/>
          </p:nvPicPr>
          <p:blipFill>
            <a:blip r:embed="rId21"/>
            <a:stretch/>
          </p:blipFill>
          <p:spPr>
            <a:xfrm>
              <a:off x="3056760" y="2598120"/>
              <a:ext cx="2922840" cy="2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7" name="Ink 134" descr=""/>
          <p:cNvPicPr/>
          <p:nvPr/>
        </p:nvPicPr>
        <p:blipFill>
          <a:blip r:embed="rId22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75"/>
          <p:cNvSpPr/>
          <p:nvPr/>
        </p:nvSpPr>
        <p:spPr>
          <a:xfrm>
            <a:off x="4568760" y="311472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40"/>
          <p:cNvSpPr/>
          <p:nvPr/>
        </p:nvSpPr>
        <p:spPr>
          <a:xfrm>
            <a:off x="2963880" y="12412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65"/>
          <p:cNvGrpSpPr/>
          <p:nvPr/>
        </p:nvGrpSpPr>
        <p:grpSpPr>
          <a:xfrm>
            <a:off x="2971800" y="1676520"/>
            <a:ext cx="2943000" cy="436320"/>
            <a:chOff x="2971800" y="1676520"/>
            <a:chExt cx="2943000" cy="436320"/>
          </a:xfrm>
        </p:grpSpPr>
        <p:pic>
          <p:nvPicPr>
            <p:cNvPr id="793" name="Ink 66" descr=""/>
            <p:cNvPicPr/>
            <p:nvPr/>
          </p:nvPicPr>
          <p:blipFill>
            <a:blip r:embed="rId23"/>
            <a:stretch/>
          </p:blipFill>
          <p:spPr>
            <a:xfrm>
              <a:off x="2971800" y="1695240"/>
              <a:ext cx="936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Ink 67" descr=""/>
            <p:cNvPicPr/>
            <p:nvPr/>
          </p:nvPicPr>
          <p:blipFill>
            <a:blip r:embed="rId24"/>
            <a:stretch/>
          </p:blipFill>
          <p:spPr>
            <a:xfrm>
              <a:off x="3045960" y="167652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Ink 68" descr=""/>
            <p:cNvPicPr/>
            <p:nvPr/>
          </p:nvPicPr>
          <p:blipFill>
            <a:blip r:embed="rId25"/>
            <a:stretch/>
          </p:blipFill>
          <p:spPr>
            <a:xfrm>
              <a:off x="5821200" y="169632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Ink 69" descr=""/>
            <p:cNvPicPr/>
            <p:nvPr/>
          </p:nvPicPr>
          <p:blipFill>
            <a:blip r:embed="rId26"/>
            <a:stretch/>
          </p:blipFill>
          <p:spPr>
            <a:xfrm>
              <a:off x="3114000" y="2085480"/>
              <a:ext cx="2800800" cy="2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TextBox 147"/>
          <p:cNvSpPr/>
          <p:nvPr/>
        </p:nvSpPr>
        <p:spPr>
          <a:xfrm>
            <a:off x="4495680" y="167652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Deeper Ins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65"/>
          <p:cNvGrpSpPr/>
          <p:nvPr/>
        </p:nvGrpSpPr>
        <p:grpSpPr>
          <a:xfrm>
            <a:off x="2895480" y="1143000"/>
            <a:ext cx="2943000" cy="436320"/>
            <a:chOff x="2895480" y="1143000"/>
            <a:chExt cx="2943000" cy="436320"/>
          </a:xfrm>
        </p:grpSpPr>
        <p:pic>
          <p:nvPicPr>
            <p:cNvPr id="799" name="Ink 66" descr=""/>
            <p:cNvPicPr/>
            <p:nvPr/>
          </p:nvPicPr>
          <p:blipFill>
            <a:blip r:embed="rId27"/>
            <a:stretch/>
          </p:blipFill>
          <p:spPr>
            <a:xfrm>
              <a:off x="2895480" y="1161720"/>
              <a:ext cx="9360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Ink 67" descr=""/>
            <p:cNvPicPr/>
            <p:nvPr/>
          </p:nvPicPr>
          <p:blipFill>
            <a:blip r:embed="rId28"/>
            <a:stretch/>
          </p:blipFill>
          <p:spPr>
            <a:xfrm>
              <a:off x="2969640" y="114300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Ink 68" descr=""/>
            <p:cNvPicPr/>
            <p:nvPr/>
          </p:nvPicPr>
          <p:blipFill>
            <a:blip r:embed="rId29"/>
            <a:stretch/>
          </p:blipFill>
          <p:spPr>
            <a:xfrm>
              <a:off x="5744880" y="116280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Ink 69" descr=""/>
            <p:cNvPicPr/>
            <p:nvPr/>
          </p:nvPicPr>
          <p:blipFill>
            <a:blip r:embed="rId30"/>
            <a:stretch/>
          </p:blipFill>
          <p:spPr>
            <a:xfrm>
              <a:off x="3037680" y="1552320"/>
              <a:ext cx="2800800" cy="2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3" name="Text Box 180"/>
          <p:cNvSpPr/>
          <p:nvPr/>
        </p:nvSpPr>
        <p:spPr>
          <a:xfrm>
            <a:off x="3505320" y="441360"/>
            <a:ext cx="16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IBM 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805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 Box 159"/>
          <p:cNvSpPr/>
          <p:nvPr/>
        </p:nvSpPr>
        <p:spPr>
          <a:xfrm>
            <a:off x="5849640" y="4495680"/>
            <a:ext cx="156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00% encryp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0 Appl Chgs &amp; S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Ink 28" descr=""/>
          <p:cNvPicPr/>
          <p:nvPr/>
        </p:nvPicPr>
        <p:blipFill>
          <a:blip r:embed="rId31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811" name="TextBox 1"/>
          <p:cNvSpPr/>
          <p:nvPr/>
        </p:nvSpPr>
        <p:spPr>
          <a:xfrm>
            <a:off x="2895480" y="1066680"/>
            <a:ext cx="69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28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814" name="Ink 28" descr=""/>
            <p:cNvPicPr/>
            <p:nvPr/>
          </p:nvPicPr>
          <p:blipFill>
            <a:blip r:embed="rId32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Box 2"/>
          <p:cNvSpPr/>
          <p:nvPr/>
        </p:nvSpPr>
        <p:spPr>
          <a:xfrm>
            <a:off x="4800600" y="114300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Ag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30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31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32"/>
          <p:cNvSpPr/>
          <p:nvPr/>
        </p:nvSpPr>
        <p:spPr>
          <a:xfrm>
            <a:off x="6797520" y="5102280"/>
            <a:ext cx="8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169"/>
          <p:cNvSpPr/>
          <p:nvPr/>
        </p:nvSpPr>
        <p:spPr>
          <a:xfrm>
            <a:off x="4368240" y="5940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824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825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827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8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9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830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1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832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3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834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835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836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837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38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39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40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41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842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843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844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850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858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861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862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866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867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868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872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887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TextBox 1"/>
          <p:cNvSpPr/>
          <p:nvPr/>
        </p:nvSpPr>
        <p:spPr>
          <a:xfrm>
            <a:off x="3067200" y="22654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9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59"/>
          <p:cNvSpPr/>
          <p:nvPr/>
        </p:nvSpPr>
        <p:spPr>
          <a:xfrm>
            <a:off x="5610960" y="41148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99.9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59"/>
          <p:cNvSpPr/>
          <p:nvPr/>
        </p:nvSpPr>
        <p:spPr>
          <a:xfrm>
            <a:off x="2375280" y="54864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70/1000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59"/>
          <p:cNvSpPr/>
          <p:nvPr/>
        </p:nvSpPr>
        <p:spPr>
          <a:xfrm>
            <a:off x="2919240" y="4383000"/>
            <a:ext cx="1089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Fastest S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5X – x86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 to 32TB Mem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15"/>
          <p:cNvSpPr/>
          <p:nvPr/>
        </p:nvSpPr>
        <p:spPr>
          <a:xfrm>
            <a:off x="3835440" y="213372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16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17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20"/>
          <p:cNvSpPr/>
          <p:nvPr/>
        </p:nvSpPr>
        <p:spPr>
          <a:xfrm>
            <a:off x="4433760" y="2211480"/>
            <a:ext cx="16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Pervasive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65"/>
          <p:cNvGrpSpPr/>
          <p:nvPr/>
        </p:nvGrpSpPr>
        <p:grpSpPr>
          <a:xfrm>
            <a:off x="2908440" y="2187720"/>
            <a:ext cx="3071160" cy="436320"/>
            <a:chOff x="2908440" y="2187720"/>
            <a:chExt cx="3071160" cy="436320"/>
          </a:xfrm>
        </p:grpSpPr>
        <p:pic>
          <p:nvPicPr>
            <p:cNvPr id="904" name="Ink 66" descr=""/>
            <p:cNvPicPr/>
            <p:nvPr/>
          </p:nvPicPr>
          <p:blipFill>
            <a:blip r:embed="rId18"/>
            <a:stretch/>
          </p:blipFill>
          <p:spPr>
            <a:xfrm>
              <a:off x="2908440" y="2206440"/>
              <a:ext cx="954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Ink 67" descr=""/>
            <p:cNvPicPr/>
            <p:nvPr/>
          </p:nvPicPr>
          <p:blipFill>
            <a:blip r:embed="rId19"/>
            <a:stretch/>
          </p:blipFill>
          <p:spPr>
            <a:xfrm>
              <a:off x="2985840" y="2187720"/>
              <a:ext cx="297108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Ink 68" descr=""/>
            <p:cNvPicPr/>
            <p:nvPr/>
          </p:nvPicPr>
          <p:blipFill>
            <a:blip r:embed="rId20"/>
            <a:stretch/>
          </p:blipFill>
          <p:spPr>
            <a:xfrm>
              <a:off x="5882040" y="2207520"/>
              <a:ext cx="709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Ink 69" descr=""/>
            <p:cNvPicPr/>
            <p:nvPr/>
          </p:nvPicPr>
          <p:blipFill>
            <a:blip r:embed="rId21"/>
            <a:stretch/>
          </p:blipFill>
          <p:spPr>
            <a:xfrm>
              <a:off x="3056760" y="2598120"/>
              <a:ext cx="2922840" cy="2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8" name="Ink 134" descr=""/>
          <p:cNvPicPr/>
          <p:nvPr/>
        </p:nvPicPr>
        <p:blipFill>
          <a:blip r:embed="rId22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909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75"/>
          <p:cNvSpPr/>
          <p:nvPr/>
        </p:nvSpPr>
        <p:spPr>
          <a:xfrm>
            <a:off x="4524120" y="31240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40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0"/>
          <p:cNvSpPr/>
          <p:nvPr/>
        </p:nvSpPr>
        <p:spPr>
          <a:xfrm>
            <a:off x="3505320" y="441360"/>
            <a:ext cx="16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Felt Tip Roman"/>
              </a:rPr>
              <a:t>IBM </a:t>
            </a: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915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Text Box 159"/>
          <p:cNvSpPr/>
          <p:nvPr/>
        </p:nvSpPr>
        <p:spPr>
          <a:xfrm>
            <a:off x="5849640" y="4495680"/>
            <a:ext cx="156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00% encryp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0 Appl Chgs &amp; S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Ink 28" descr=""/>
          <p:cNvPicPr/>
          <p:nvPr/>
        </p:nvPicPr>
        <p:blipFill>
          <a:blip r:embed="rId23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921" name="TextBox 1"/>
          <p:cNvSpPr/>
          <p:nvPr/>
        </p:nvSpPr>
        <p:spPr>
          <a:xfrm>
            <a:off x="4557600" y="61642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Felt Tip Roman"/>
              </a:rPr>
              <a:t>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129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924" name="Ink 28" descr=""/>
            <p:cNvPicPr/>
            <p:nvPr/>
          </p:nvPicPr>
          <p:blipFill>
            <a:blip r:embed="rId24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28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9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31"/>
          <p:cNvSpPr/>
          <p:nvPr/>
        </p:nvSpPr>
        <p:spPr>
          <a:xfrm>
            <a:off x="6797520" y="5102280"/>
            <a:ext cx="8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65"/>
          <p:cNvGrpSpPr/>
          <p:nvPr/>
        </p:nvGrpSpPr>
        <p:grpSpPr>
          <a:xfrm>
            <a:off x="2971800" y="1676520"/>
            <a:ext cx="2943000" cy="436320"/>
            <a:chOff x="2971800" y="1676520"/>
            <a:chExt cx="2943000" cy="436320"/>
          </a:xfrm>
        </p:grpSpPr>
        <p:pic>
          <p:nvPicPr>
            <p:cNvPr id="930" name="Ink 66" descr=""/>
            <p:cNvPicPr/>
            <p:nvPr/>
          </p:nvPicPr>
          <p:blipFill>
            <a:blip r:embed="rId25"/>
            <a:stretch/>
          </p:blipFill>
          <p:spPr>
            <a:xfrm>
              <a:off x="2971800" y="1694880"/>
              <a:ext cx="9360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Ink 67" descr=""/>
            <p:cNvPicPr/>
            <p:nvPr/>
          </p:nvPicPr>
          <p:blipFill>
            <a:blip r:embed="rId26"/>
            <a:stretch/>
          </p:blipFill>
          <p:spPr>
            <a:xfrm>
              <a:off x="3045960" y="1676520"/>
              <a:ext cx="2847240" cy="3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Ink 68" descr=""/>
            <p:cNvPicPr/>
            <p:nvPr/>
          </p:nvPicPr>
          <p:blipFill>
            <a:blip r:embed="rId27"/>
            <a:stretch/>
          </p:blipFill>
          <p:spPr>
            <a:xfrm>
              <a:off x="5821200" y="1695960"/>
              <a:ext cx="68040" cy="4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Ink 69" descr=""/>
            <p:cNvPicPr/>
            <p:nvPr/>
          </p:nvPicPr>
          <p:blipFill>
            <a:blip r:embed="rId28"/>
            <a:stretch/>
          </p:blipFill>
          <p:spPr>
            <a:xfrm>
              <a:off x="3114000" y="2085480"/>
              <a:ext cx="2800800" cy="2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4" name="TextBox 140"/>
          <p:cNvSpPr/>
          <p:nvPr/>
        </p:nvSpPr>
        <p:spPr>
          <a:xfrm>
            <a:off x="4495680" y="167652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Deeper Ins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65"/>
          <p:cNvGrpSpPr/>
          <p:nvPr/>
        </p:nvGrpSpPr>
        <p:grpSpPr>
          <a:xfrm>
            <a:off x="2895480" y="1143000"/>
            <a:ext cx="2943000" cy="436320"/>
            <a:chOff x="2895480" y="1143000"/>
            <a:chExt cx="2943000" cy="436320"/>
          </a:xfrm>
        </p:grpSpPr>
        <p:pic>
          <p:nvPicPr>
            <p:cNvPr id="936" name="Ink 66" descr=""/>
            <p:cNvPicPr/>
            <p:nvPr/>
          </p:nvPicPr>
          <p:blipFill>
            <a:blip r:embed="rId29"/>
            <a:stretch/>
          </p:blipFill>
          <p:spPr>
            <a:xfrm>
              <a:off x="2895480" y="1161720"/>
              <a:ext cx="9360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Ink 67" descr=""/>
            <p:cNvPicPr/>
            <p:nvPr/>
          </p:nvPicPr>
          <p:blipFill>
            <a:blip r:embed="rId30"/>
            <a:stretch/>
          </p:blipFill>
          <p:spPr>
            <a:xfrm>
              <a:off x="2969640" y="114300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Ink 68" descr=""/>
            <p:cNvPicPr/>
            <p:nvPr/>
          </p:nvPicPr>
          <p:blipFill>
            <a:blip r:embed="rId31"/>
            <a:stretch/>
          </p:blipFill>
          <p:spPr>
            <a:xfrm>
              <a:off x="5744880" y="116280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Ink 69" descr=""/>
            <p:cNvPicPr/>
            <p:nvPr/>
          </p:nvPicPr>
          <p:blipFill>
            <a:blip r:embed="rId32"/>
            <a:stretch/>
          </p:blipFill>
          <p:spPr>
            <a:xfrm>
              <a:off x="3037680" y="1552320"/>
              <a:ext cx="2800800" cy="2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0" name="TextBox 154"/>
          <p:cNvSpPr/>
          <p:nvPr/>
        </p:nvSpPr>
        <p:spPr>
          <a:xfrm>
            <a:off x="2895480" y="1066680"/>
            <a:ext cx="69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55"/>
          <p:cNvSpPr/>
          <p:nvPr/>
        </p:nvSpPr>
        <p:spPr>
          <a:xfrm>
            <a:off x="4800600" y="114300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Ag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945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946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948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9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0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951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2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953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54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955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956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57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958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59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0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1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2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3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964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965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966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971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979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982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983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6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987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988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989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993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1008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TextBox 1"/>
          <p:cNvSpPr/>
          <p:nvPr/>
        </p:nvSpPr>
        <p:spPr>
          <a:xfrm>
            <a:off x="3067200" y="22654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9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1013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69"/>
          <p:cNvSpPr/>
          <p:nvPr/>
        </p:nvSpPr>
        <p:spPr>
          <a:xfrm>
            <a:off x="4368240" y="59436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59"/>
          <p:cNvSpPr/>
          <p:nvPr/>
        </p:nvSpPr>
        <p:spPr>
          <a:xfrm>
            <a:off x="5610960" y="41148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99.9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11"/>
          <p:cNvSpPr/>
          <p:nvPr/>
        </p:nvSpPr>
        <p:spPr>
          <a:xfrm>
            <a:off x="533520" y="5342040"/>
            <a:ext cx="24526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0070c0"/>
                </a:solidFill>
                <a:latin typeface="Felt Tip Roman"/>
              </a:rPr>
              <a:t>Fast &amp; Cost Effic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Centralize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Manage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Ink 134" descr=""/>
          <p:cNvPicPr/>
          <p:nvPr/>
        </p:nvPicPr>
        <p:blipFill>
          <a:blip r:embed="rId18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1020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75"/>
          <p:cNvSpPr/>
          <p:nvPr/>
        </p:nvSpPr>
        <p:spPr>
          <a:xfrm>
            <a:off x="4524120" y="308772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117"/>
          <p:cNvSpPr/>
          <p:nvPr/>
        </p:nvSpPr>
        <p:spPr>
          <a:xfrm>
            <a:off x="3835440" y="213372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118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119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140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48"/>
          <p:cNvSpPr/>
          <p:nvPr/>
        </p:nvSpPr>
        <p:spPr>
          <a:xfrm>
            <a:off x="660240" y="5079960"/>
            <a:ext cx="113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bank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80"/>
          <p:cNvSpPr/>
          <p:nvPr/>
        </p:nvSpPr>
        <p:spPr>
          <a:xfrm>
            <a:off x="3505320" y="441360"/>
            <a:ext cx="16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Felt Tip Roman"/>
              </a:rPr>
              <a:t>IBM </a:t>
            </a: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1031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Text Box 159"/>
          <p:cNvSpPr/>
          <p:nvPr/>
        </p:nvSpPr>
        <p:spPr>
          <a:xfrm>
            <a:off x="5849640" y="4495680"/>
            <a:ext cx="156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00% encryp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0 Appl Chgs &amp; S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59"/>
          <p:cNvSpPr/>
          <p:nvPr/>
        </p:nvSpPr>
        <p:spPr>
          <a:xfrm>
            <a:off x="2919240" y="4383000"/>
            <a:ext cx="1089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Fastest S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5X – x86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 to 32TB Mem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59"/>
          <p:cNvSpPr/>
          <p:nvPr/>
        </p:nvSpPr>
        <p:spPr>
          <a:xfrm>
            <a:off x="2375280" y="54864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70/1000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Ink 28" descr=""/>
          <p:cNvPicPr/>
          <p:nvPr/>
        </p:nvPicPr>
        <p:blipFill>
          <a:blip r:embed="rId19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pic>
        <p:nvPicPr>
          <p:cNvPr id="1039" name="Ink 28" descr=""/>
          <p:cNvPicPr/>
          <p:nvPr/>
        </p:nvPicPr>
        <p:blipFill>
          <a:blip r:embed="rId20"/>
          <a:stretch/>
        </p:blipFill>
        <p:spPr>
          <a:xfrm>
            <a:off x="606600" y="5329080"/>
            <a:ext cx="1035000" cy="5580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1"/>
          <p:cNvSpPr/>
          <p:nvPr/>
        </p:nvSpPr>
        <p:spPr>
          <a:xfrm>
            <a:off x="4557600" y="61642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Felt Tip Roman"/>
              </a:rPr>
              <a:t>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Ink 49"/>
          <p:cNvSpPr/>
          <p:nvPr/>
        </p:nvSpPr>
        <p:spPr>
          <a:xfrm>
            <a:off x="5105520" y="6213600"/>
            <a:ext cx="73080" cy="263520"/>
          </a:xfrm>
          <a:custGeom>
            <a:avLst/>
            <a:gdLst>
              <a:gd name="textAreaLeft" fmla="*/ 0 w 73080"/>
              <a:gd name="textAreaRight" fmla="*/ 73440 w 73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57" h="931">
                <a:moveTo>
                  <a:pt x="110" y="0"/>
                </a:moveTo>
                <a:cubicBezTo>
                  <a:pt x="96" y="33"/>
                  <a:pt x="98" y="59"/>
                  <a:pt x="97" y="95"/>
                </a:cubicBezTo>
                <a:cubicBezTo>
                  <a:pt x="95" y="162"/>
                  <a:pt x="89" y="230"/>
                  <a:pt x="88" y="297"/>
                </a:cubicBezTo>
                <a:cubicBezTo>
                  <a:pt x="86" y="393"/>
                  <a:pt x="86" y="490"/>
                  <a:pt x="84" y="586"/>
                </a:cubicBezTo>
                <a:cubicBezTo>
                  <a:pt x="82" y="673"/>
                  <a:pt x="59" y="794"/>
                  <a:pt x="84" y="880"/>
                </a:cubicBezTo>
                <a:cubicBezTo>
                  <a:pt x="87" y="886"/>
                  <a:pt x="91" y="892"/>
                  <a:pt x="94" y="898"/>
                </a:cubicBezTo>
              </a:path>
              <a:path w="257" h="931">
                <a:moveTo>
                  <a:pt x="0" y="713"/>
                </a:moveTo>
                <a:cubicBezTo>
                  <a:pt x="15" y="691"/>
                  <a:pt x="12" y="731"/>
                  <a:pt x="19" y="751"/>
                </a:cubicBezTo>
                <a:cubicBezTo>
                  <a:pt x="28" y="777"/>
                  <a:pt x="37" y="804"/>
                  <a:pt x="44" y="830"/>
                </a:cubicBezTo>
                <a:cubicBezTo>
                  <a:pt x="51" y="856"/>
                  <a:pt x="58" y="884"/>
                  <a:pt x="72" y="908"/>
                </a:cubicBezTo>
                <a:cubicBezTo>
                  <a:pt x="83" y="924"/>
                  <a:pt x="84" y="930"/>
                  <a:pt x="98" y="930"/>
                </a:cubicBezTo>
                <a:cubicBezTo>
                  <a:pt x="118" y="911"/>
                  <a:pt x="132" y="892"/>
                  <a:pt x="145" y="867"/>
                </a:cubicBezTo>
                <a:cubicBezTo>
                  <a:pt x="164" y="832"/>
                  <a:pt x="183" y="796"/>
                  <a:pt x="201" y="761"/>
                </a:cubicBezTo>
                <a:cubicBezTo>
                  <a:pt x="217" y="729"/>
                  <a:pt x="233" y="700"/>
                  <a:pt x="256" y="678"/>
                </a:cubicBezTo>
              </a:path>
            </a:pathLst>
          </a:custGeom>
          <a:solidFill>
            <a:srgbClr val="0070c0"/>
          </a:solidFill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129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1044" name="Ink 28" descr=""/>
            <p:cNvPicPr/>
            <p:nvPr/>
          </p:nvPicPr>
          <p:blipFill>
            <a:blip r:embed="rId21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Rectangle 129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31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38"/>
          <p:cNvSpPr/>
          <p:nvPr/>
        </p:nvSpPr>
        <p:spPr>
          <a:xfrm>
            <a:off x="6797520" y="5102280"/>
            <a:ext cx="8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120"/>
          <p:cNvSpPr/>
          <p:nvPr/>
        </p:nvSpPr>
        <p:spPr>
          <a:xfrm>
            <a:off x="4433760" y="2211480"/>
            <a:ext cx="16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Pervasive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65"/>
          <p:cNvGrpSpPr/>
          <p:nvPr/>
        </p:nvGrpSpPr>
        <p:grpSpPr>
          <a:xfrm>
            <a:off x="2908440" y="2187720"/>
            <a:ext cx="3071160" cy="436320"/>
            <a:chOff x="2908440" y="2187720"/>
            <a:chExt cx="3071160" cy="436320"/>
          </a:xfrm>
        </p:grpSpPr>
        <p:pic>
          <p:nvPicPr>
            <p:cNvPr id="1051" name="Ink 66" descr=""/>
            <p:cNvPicPr/>
            <p:nvPr/>
          </p:nvPicPr>
          <p:blipFill>
            <a:blip r:embed="rId22"/>
            <a:stretch/>
          </p:blipFill>
          <p:spPr>
            <a:xfrm>
              <a:off x="2908440" y="2206440"/>
              <a:ext cx="954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Ink 67" descr=""/>
            <p:cNvPicPr/>
            <p:nvPr/>
          </p:nvPicPr>
          <p:blipFill>
            <a:blip r:embed="rId23"/>
            <a:stretch/>
          </p:blipFill>
          <p:spPr>
            <a:xfrm>
              <a:off x="2985840" y="2187720"/>
              <a:ext cx="297108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Ink 68" descr=""/>
            <p:cNvPicPr/>
            <p:nvPr/>
          </p:nvPicPr>
          <p:blipFill>
            <a:blip r:embed="rId24"/>
            <a:stretch/>
          </p:blipFill>
          <p:spPr>
            <a:xfrm>
              <a:off x="5882040" y="2207520"/>
              <a:ext cx="709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Ink 69" descr=""/>
            <p:cNvPicPr/>
            <p:nvPr/>
          </p:nvPicPr>
          <p:blipFill>
            <a:blip r:embed="rId25"/>
            <a:stretch/>
          </p:blipFill>
          <p:spPr>
            <a:xfrm>
              <a:off x="3056760" y="2597040"/>
              <a:ext cx="2922840" cy="2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Group 65"/>
          <p:cNvGrpSpPr/>
          <p:nvPr/>
        </p:nvGrpSpPr>
        <p:grpSpPr>
          <a:xfrm>
            <a:off x="2971800" y="1676520"/>
            <a:ext cx="2943000" cy="436320"/>
            <a:chOff x="2971800" y="1676520"/>
            <a:chExt cx="2943000" cy="436320"/>
          </a:xfrm>
        </p:grpSpPr>
        <p:pic>
          <p:nvPicPr>
            <p:cNvPr id="1056" name="Ink 66" descr=""/>
            <p:cNvPicPr/>
            <p:nvPr/>
          </p:nvPicPr>
          <p:blipFill>
            <a:blip r:embed="rId26"/>
            <a:stretch/>
          </p:blipFill>
          <p:spPr>
            <a:xfrm>
              <a:off x="2971800" y="1695240"/>
              <a:ext cx="936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Ink 67" descr=""/>
            <p:cNvPicPr/>
            <p:nvPr/>
          </p:nvPicPr>
          <p:blipFill>
            <a:blip r:embed="rId27"/>
            <a:stretch/>
          </p:blipFill>
          <p:spPr>
            <a:xfrm>
              <a:off x="3045960" y="167652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Ink 68" descr=""/>
            <p:cNvPicPr/>
            <p:nvPr/>
          </p:nvPicPr>
          <p:blipFill>
            <a:blip r:embed="rId28"/>
            <a:stretch/>
          </p:blipFill>
          <p:spPr>
            <a:xfrm>
              <a:off x="5821200" y="169632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Ink 69" descr=""/>
            <p:cNvPicPr/>
            <p:nvPr/>
          </p:nvPicPr>
          <p:blipFill>
            <a:blip r:embed="rId29"/>
            <a:stretch/>
          </p:blipFill>
          <p:spPr>
            <a:xfrm>
              <a:off x="3114000" y="2086560"/>
              <a:ext cx="2800800" cy="2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0" name="TextBox 156"/>
          <p:cNvSpPr/>
          <p:nvPr/>
        </p:nvSpPr>
        <p:spPr>
          <a:xfrm>
            <a:off x="4495680" y="167652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Deeper Ins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65"/>
          <p:cNvGrpSpPr/>
          <p:nvPr/>
        </p:nvGrpSpPr>
        <p:grpSpPr>
          <a:xfrm>
            <a:off x="2895480" y="1143000"/>
            <a:ext cx="2943000" cy="436320"/>
            <a:chOff x="2895480" y="1143000"/>
            <a:chExt cx="2943000" cy="436320"/>
          </a:xfrm>
        </p:grpSpPr>
        <p:pic>
          <p:nvPicPr>
            <p:cNvPr id="1062" name="Ink 66" descr=""/>
            <p:cNvPicPr/>
            <p:nvPr/>
          </p:nvPicPr>
          <p:blipFill>
            <a:blip r:embed="rId30"/>
            <a:stretch/>
          </p:blipFill>
          <p:spPr>
            <a:xfrm>
              <a:off x="2895480" y="1161720"/>
              <a:ext cx="9360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Ink 67" descr=""/>
            <p:cNvPicPr/>
            <p:nvPr/>
          </p:nvPicPr>
          <p:blipFill>
            <a:blip r:embed="rId31"/>
            <a:stretch/>
          </p:blipFill>
          <p:spPr>
            <a:xfrm>
              <a:off x="2969640" y="114300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Ink 68" descr=""/>
            <p:cNvPicPr/>
            <p:nvPr/>
          </p:nvPicPr>
          <p:blipFill>
            <a:blip r:embed="rId32"/>
            <a:stretch/>
          </p:blipFill>
          <p:spPr>
            <a:xfrm>
              <a:off x="5744880" y="116280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Ink 69" descr=""/>
            <p:cNvPicPr/>
            <p:nvPr/>
          </p:nvPicPr>
          <p:blipFill>
            <a:blip r:embed="rId33"/>
            <a:stretch/>
          </p:blipFill>
          <p:spPr>
            <a:xfrm>
              <a:off x="3037680" y="1553400"/>
              <a:ext cx="2800800" cy="2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6" name="TextBox 162"/>
          <p:cNvSpPr/>
          <p:nvPr/>
        </p:nvSpPr>
        <p:spPr>
          <a:xfrm>
            <a:off x="2895480" y="1066680"/>
            <a:ext cx="69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63"/>
          <p:cNvSpPr/>
          <p:nvPr/>
        </p:nvSpPr>
        <p:spPr>
          <a:xfrm>
            <a:off x="4800600" y="114300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Ag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071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1072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1074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6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1077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8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1079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80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1081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1082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83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1084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85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86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87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88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089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090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091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1097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1105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1108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1109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2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1113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1114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1115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1119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1134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6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1137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9"/>
          <p:cNvSpPr/>
          <p:nvPr/>
        </p:nvSpPr>
        <p:spPr>
          <a:xfrm>
            <a:off x="4368240" y="59436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59"/>
          <p:cNvSpPr/>
          <p:nvPr/>
        </p:nvSpPr>
        <p:spPr>
          <a:xfrm>
            <a:off x="5610960" y="41148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99.9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5"/>
          <p:cNvSpPr/>
          <p:nvPr/>
        </p:nvSpPr>
        <p:spPr>
          <a:xfrm>
            <a:off x="7218360" y="3759120"/>
            <a:ext cx="184932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Open, Agile, Por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Enriches existing Apps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116"/>
          <p:cNvSpPr/>
          <p:nvPr/>
        </p:nvSpPr>
        <p:spPr>
          <a:xfrm>
            <a:off x="7523280" y="35812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70c0"/>
                </a:solidFill>
                <a:latin typeface="Felt Tip Roman"/>
              </a:rPr>
              <a:t>Fiducia G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Ink 134" descr=""/>
          <p:cNvPicPr/>
          <p:nvPr/>
        </p:nvPicPr>
        <p:blipFill>
          <a:blip r:embed="rId18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1145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75"/>
          <p:cNvSpPr/>
          <p:nvPr/>
        </p:nvSpPr>
        <p:spPr>
          <a:xfrm>
            <a:off x="4524120" y="31240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139"/>
          <p:cNvSpPr/>
          <p:nvPr/>
        </p:nvSpPr>
        <p:spPr>
          <a:xfrm>
            <a:off x="3067200" y="22654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40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41"/>
          <p:cNvSpPr/>
          <p:nvPr/>
        </p:nvSpPr>
        <p:spPr>
          <a:xfrm>
            <a:off x="3835440" y="213372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142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43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150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51"/>
          <p:cNvSpPr/>
          <p:nvPr/>
        </p:nvSpPr>
        <p:spPr>
          <a:xfrm>
            <a:off x="4497480" y="170028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Machine Lea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Group 65"/>
          <p:cNvGrpSpPr/>
          <p:nvPr/>
        </p:nvGrpSpPr>
        <p:grpSpPr>
          <a:xfrm>
            <a:off x="2971800" y="1676520"/>
            <a:ext cx="2943000" cy="436320"/>
            <a:chOff x="2971800" y="1676520"/>
            <a:chExt cx="2943000" cy="436320"/>
          </a:xfrm>
        </p:grpSpPr>
        <p:pic>
          <p:nvPicPr>
            <p:cNvPr id="1157" name="Ink 66" descr=""/>
            <p:cNvPicPr/>
            <p:nvPr/>
          </p:nvPicPr>
          <p:blipFill>
            <a:blip r:embed="rId19"/>
            <a:stretch/>
          </p:blipFill>
          <p:spPr>
            <a:xfrm>
              <a:off x="2971800" y="1695240"/>
              <a:ext cx="936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Ink 67" descr=""/>
            <p:cNvPicPr/>
            <p:nvPr/>
          </p:nvPicPr>
          <p:blipFill>
            <a:blip r:embed="rId20"/>
            <a:stretch/>
          </p:blipFill>
          <p:spPr>
            <a:xfrm>
              <a:off x="3045960" y="167652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Ink 68" descr=""/>
            <p:cNvPicPr/>
            <p:nvPr/>
          </p:nvPicPr>
          <p:blipFill>
            <a:blip r:embed="rId21"/>
            <a:stretch/>
          </p:blipFill>
          <p:spPr>
            <a:xfrm>
              <a:off x="5821200" y="169632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Ink 69" descr=""/>
            <p:cNvPicPr/>
            <p:nvPr/>
          </p:nvPicPr>
          <p:blipFill>
            <a:blip r:embed="rId22"/>
            <a:stretch/>
          </p:blipFill>
          <p:spPr>
            <a:xfrm>
              <a:off x="3114000" y="2086920"/>
              <a:ext cx="2800800" cy="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TextBox 157"/>
          <p:cNvSpPr/>
          <p:nvPr/>
        </p:nvSpPr>
        <p:spPr>
          <a:xfrm>
            <a:off x="4421160" y="116676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Deeper Ins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65"/>
          <p:cNvGrpSpPr/>
          <p:nvPr/>
        </p:nvGrpSpPr>
        <p:grpSpPr>
          <a:xfrm>
            <a:off x="2895480" y="1092240"/>
            <a:ext cx="2943000" cy="487440"/>
            <a:chOff x="2895480" y="1092240"/>
            <a:chExt cx="2943000" cy="487440"/>
          </a:xfrm>
        </p:grpSpPr>
        <p:pic>
          <p:nvPicPr>
            <p:cNvPr id="1163" name="Ink 66" descr=""/>
            <p:cNvPicPr/>
            <p:nvPr/>
          </p:nvPicPr>
          <p:blipFill>
            <a:blip r:embed="rId23"/>
            <a:stretch/>
          </p:blipFill>
          <p:spPr>
            <a:xfrm>
              <a:off x="2895480" y="1112760"/>
              <a:ext cx="9360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Ink 67" descr=""/>
            <p:cNvPicPr/>
            <p:nvPr/>
          </p:nvPicPr>
          <p:blipFill>
            <a:blip r:embed="rId24"/>
            <a:stretch/>
          </p:blipFill>
          <p:spPr>
            <a:xfrm>
              <a:off x="2969640" y="1092240"/>
              <a:ext cx="284724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Ink 68" descr=""/>
            <p:cNvPicPr/>
            <p:nvPr/>
          </p:nvPicPr>
          <p:blipFill>
            <a:blip r:embed="rId25"/>
            <a:stretch/>
          </p:blipFill>
          <p:spPr>
            <a:xfrm>
              <a:off x="5744880" y="1114200"/>
              <a:ext cx="6804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Ink 69" descr=""/>
            <p:cNvPicPr/>
            <p:nvPr/>
          </p:nvPicPr>
          <p:blipFill>
            <a:blip r:embed="rId26"/>
            <a:stretch/>
          </p:blipFill>
          <p:spPr>
            <a:xfrm>
              <a:off x="3037680" y="1550880"/>
              <a:ext cx="2800800" cy="2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Text Box 180"/>
          <p:cNvSpPr/>
          <p:nvPr/>
        </p:nvSpPr>
        <p:spPr>
          <a:xfrm>
            <a:off x="3505320" y="441360"/>
            <a:ext cx="16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IBM 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1169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Text Box 159"/>
          <p:cNvSpPr/>
          <p:nvPr/>
        </p:nvSpPr>
        <p:spPr>
          <a:xfrm>
            <a:off x="2919240" y="4383000"/>
            <a:ext cx="1089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Fastest S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5X – x86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 to 32TB Mem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48"/>
          <p:cNvSpPr/>
          <p:nvPr/>
        </p:nvSpPr>
        <p:spPr>
          <a:xfrm>
            <a:off x="660240" y="5079960"/>
            <a:ext cx="113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bank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120"/>
          <p:cNvSpPr/>
          <p:nvPr/>
        </p:nvSpPr>
        <p:spPr>
          <a:xfrm>
            <a:off x="4433760" y="2211480"/>
            <a:ext cx="16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Pervasive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65"/>
          <p:cNvGrpSpPr/>
          <p:nvPr/>
        </p:nvGrpSpPr>
        <p:grpSpPr>
          <a:xfrm>
            <a:off x="2908440" y="2187720"/>
            <a:ext cx="3071160" cy="436320"/>
            <a:chOff x="2908440" y="2187720"/>
            <a:chExt cx="3071160" cy="436320"/>
          </a:xfrm>
        </p:grpSpPr>
        <p:pic>
          <p:nvPicPr>
            <p:cNvPr id="1177" name="Ink 66" descr=""/>
            <p:cNvPicPr/>
            <p:nvPr/>
          </p:nvPicPr>
          <p:blipFill>
            <a:blip r:embed="rId27"/>
            <a:stretch/>
          </p:blipFill>
          <p:spPr>
            <a:xfrm>
              <a:off x="2908440" y="2206440"/>
              <a:ext cx="954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Ink 67" descr=""/>
            <p:cNvPicPr/>
            <p:nvPr/>
          </p:nvPicPr>
          <p:blipFill>
            <a:blip r:embed="rId28"/>
            <a:stretch/>
          </p:blipFill>
          <p:spPr>
            <a:xfrm>
              <a:off x="2985840" y="2187720"/>
              <a:ext cx="297108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Ink 68" descr=""/>
            <p:cNvPicPr/>
            <p:nvPr/>
          </p:nvPicPr>
          <p:blipFill>
            <a:blip r:embed="rId29"/>
            <a:stretch/>
          </p:blipFill>
          <p:spPr>
            <a:xfrm>
              <a:off x="5882040" y="2207520"/>
              <a:ext cx="709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Ink 69" descr=""/>
            <p:cNvPicPr/>
            <p:nvPr/>
          </p:nvPicPr>
          <p:blipFill>
            <a:blip r:embed="rId30"/>
            <a:stretch/>
          </p:blipFill>
          <p:spPr>
            <a:xfrm>
              <a:off x="3056760" y="2596680"/>
              <a:ext cx="2922840" cy="2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1" name="Text Box 159"/>
          <p:cNvSpPr/>
          <p:nvPr/>
        </p:nvSpPr>
        <p:spPr>
          <a:xfrm>
            <a:off x="2375280" y="54864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70/1000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Ink 28" descr=""/>
          <p:cNvPicPr/>
          <p:nvPr/>
        </p:nvPicPr>
        <p:blipFill>
          <a:blip r:embed="rId31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159"/>
          <p:cNvSpPr/>
          <p:nvPr/>
        </p:nvSpPr>
        <p:spPr>
          <a:xfrm>
            <a:off x="5849640" y="4495680"/>
            <a:ext cx="156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00% encryp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0 Appl Chgs &amp; S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Ink 28" descr=""/>
          <p:cNvPicPr/>
          <p:nvPr/>
        </p:nvPicPr>
        <p:blipFill>
          <a:blip r:embed="rId32"/>
          <a:stretch/>
        </p:blipFill>
        <p:spPr>
          <a:xfrm>
            <a:off x="7520040" y="3833640"/>
            <a:ext cx="1035000" cy="57240"/>
          </a:xfrm>
          <a:prstGeom prst="rect">
            <a:avLst/>
          </a:prstGeom>
          <a:ln w="0">
            <a:noFill/>
          </a:ln>
        </p:spPr>
      </p:pic>
      <p:pic>
        <p:nvPicPr>
          <p:cNvPr id="1185" name="Ink 28" descr=""/>
          <p:cNvPicPr/>
          <p:nvPr/>
        </p:nvPicPr>
        <p:blipFill>
          <a:blip r:embed="rId33"/>
          <a:stretch/>
        </p:blipFill>
        <p:spPr>
          <a:xfrm>
            <a:off x="606600" y="5329080"/>
            <a:ext cx="1035000" cy="55800"/>
          </a:xfrm>
          <a:prstGeom prst="rect">
            <a:avLst/>
          </a:prstGeom>
          <a:ln w="0">
            <a:noFill/>
          </a:ln>
        </p:spPr>
      </p:pic>
      <p:sp>
        <p:nvSpPr>
          <p:cNvPr id="1186" name="TextBox 1"/>
          <p:cNvSpPr/>
          <p:nvPr/>
        </p:nvSpPr>
        <p:spPr>
          <a:xfrm>
            <a:off x="4557600" y="61642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Felt Tip Roman"/>
              </a:rPr>
              <a:t>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Ink 49"/>
          <p:cNvSpPr/>
          <p:nvPr/>
        </p:nvSpPr>
        <p:spPr>
          <a:xfrm>
            <a:off x="5105520" y="6213600"/>
            <a:ext cx="73080" cy="263520"/>
          </a:xfrm>
          <a:custGeom>
            <a:avLst/>
            <a:gdLst>
              <a:gd name="textAreaLeft" fmla="*/ 0 w 73080"/>
              <a:gd name="textAreaRight" fmla="*/ 73440 w 73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57" h="931">
                <a:moveTo>
                  <a:pt x="110" y="0"/>
                </a:moveTo>
                <a:cubicBezTo>
                  <a:pt x="96" y="33"/>
                  <a:pt x="98" y="59"/>
                  <a:pt x="97" y="95"/>
                </a:cubicBezTo>
                <a:cubicBezTo>
                  <a:pt x="95" y="162"/>
                  <a:pt x="89" y="230"/>
                  <a:pt x="88" y="297"/>
                </a:cubicBezTo>
                <a:cubicBezTo>
                  <a:pt x="86" y="393"/>
                  <a:pt x="86" y="490"/>
                  <a:pt x="84" y="586"/>
                </a:cubicBezTo>
                <a:cubicBezTo>
                  <a:pt x="82" y="673"/>
                  <a:pt x="59" y="794"/>
                  <a:pt x="84" y="880"/>
                </a:cubicBezTo>
                <a:cubicBezTo>
                  <a:pt x="87" y="886"/>
                  <a:pt x="91" y="892"/>
                  <a:pt x="94" y="898"/>
                </a:cubicBezTo>
              </a:path>
              <a:path w="257" h="931">
                <a:moveTo>
                  <a:pt x="0" y="713"/>
                </a:moveTo>
                <a:cubicBezTo>
                  <a:pt x="15" y="691"/>
                  <a:pt x="12" y="731"/>
                  <a:pt x="19" y="751"/>
                </a:cubicBezTo>
                <a:cubicBezTo>
                  <a:pt x="28" y="777"/>
                  <a:pt x="37" y="804"/>
                  <a:pt x="44" y="830"/>
                </a:cubicBezTo>
                <a:cubicBezTo>
                  <a:pt x="51" y="856"/>
                  <a:pt x="58" y="884"/>
                  <a:pt x="72" y="908"/>
                </a:cubicBezTo>
                <a:cubicBezTo>
                  <a:pt x="83" y="924"/>
                  <a:pt x="84" y="930"/>
                  <a:pt x="98" y="930"/>
                </a:cubicBezTo>
                <a:cubicBezTo>
                  <a:pt x="118" y="911"/>
                  <a:pt x="132" y="892"/>
                  <a:pt x="145" y="867"/>
                </a:cubicBezTo>
                <a:cubicBezTo>
                  <a:pt x="164" y="832"/>
                  <a:pt x="183" y="796"/>
                  <a:pt x="201" y="761"/>
                </a:cubicBezTo>
                <a:cubicBezTo>
                  <a:pt x="217" y="729"/>
                  <a:pt x="233" y="700"/>
                  <a:pt x="256" y="678"/>
                </a:cubicBezTo>
              </a:path>
            </a:pathLst>
          </a:custGeom>
          <a:solidFill>
            <a:srgbClr val="0070c0"/>
          </a:solidFill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136"/>
          <p:cNvSpPr/>
          <p:nvPr/>
        </p:nvSpPr>
        <p:spPr>
          <a:xfrm>
            <a:off x="2895480" y="1066680"/>
            <a:ext cx="13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139"/>
          <p:cNvSpPr/>
          <p:nvPr/>
        </p:nvSpPr>
        <p:spPr>
          <a:xfrm>
            <a:off x="533520" y="5342040"/>
            <a:ext cx="24526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0070c0"/>
                </a:solidFill>
                <a:latin typeface="Felt Tip Roman"/>
              </a:rPr>
              <a:t>Fast &amp; Cost Effic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Centralize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Manage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133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1192" name="Ink 28" descr=""/>
            <p:cNvPicPr/>
            <p:nvPr/>
          </p:nvPicPr>
          <p:blipFill>
            <a:blip r:embed="rId34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TextBox 133"/>
          <p:cNvSpPr/>
          <p:nvPr/>
        </p:nvSpPr>
        <p:spPr>
          <a:xfrm>
            <a:off x="3835440" y="106668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Ag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33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37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38"/>
          <p:cNvSpPr/>
          <p:nvPr/>
        </p:nvSpPr>
        <p:spPr>
          <a:xfrm>
            <a:off x="6797520" y="5102280"/>
            <a:ext cx="8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201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1202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1204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6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1207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8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1209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0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1211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1212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3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1214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15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16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17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18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19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220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1" name="Ink 203" descr=""/>
          <p:cNvPicPr/>
          <p:nvPr/>
        </p:nvPicPr>
        <p:blipFill>
          <a:blip r:embed="rId13"/>
          <a:stretch/>
        </p:blipFill>
        <p:spPr>
          <a:xfrm>
            <a:off x="49860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36"/>
          <p:cNvSpPr/>
          <p:nvPr/>
        </p:nvSpPr>
        <p:spPr>
          <a:xfrm>
            <a:off x="50796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1227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1235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1238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1239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2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1243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1244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1245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1249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1264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1267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69"/>
          <p:cNvSpPr/>
          <p:nvPr/>
        </p:nvSpPr>
        <p:spPr>
          <a:xfrm>
            <a:off x="4368240" y="59436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59"/>
          <p:cNvSpPr/>
          <p:nvPr/>
        </p:nvSpPr>
        <p:spPr>
          <a:xfrm>
            <a:off x="5610960" y="41148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99.9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Ink 192" descr=""/>
          <p:cNvPicPr/>
          <p:nvPr/>
        </p:nvPicPr>
        <p:blipFill>
          <a:blip r:embed="rId18"/>
          <a:stretch/>
        </p:blipFill>
        <p:spPr>
          <a:xfrm>
            <a:off x="828720" y="1893960"/>
            <a:ext cx="768240" cy="377640"/>
          </a:xfrm>
          <a:prstGeom prst="rect">
            <a:avLst/>
          </a:prstGeom>
          <a:ln w="0">
            <a:noFill/>
          </a:ln>
        </p:spPr>
      </p:pic>
      <p:grpSp>
        <p:nvGrpSpPr>
          <p:cNvPr id="1273" name="Group 118"/>
          <p:cNvGrpSpPr/>
          <p:nvPr/>
        </p:nvGrpSpPr>
        <p:grpSpPr>
          <a:xfrm>
            <a:off x="914400" y="2292480"/>
            <a:ext cx="457200" cy="304560"/>
            <a:chOff x="914400" y="2292480"/>
            <a:chExt cx="457200" cy="304560"/>
          </a:xfrm>
        </p:grpSpPr>
        <p:sp>
          <p:nvSpPr>
            <p:cNvPr id="1274" name="Ink 33"/>
            <p:cNvSpPr/>
            <p:nvPr/>
          </p:nvSpPr>
          <p:spPr>
            <a:xfrm>
              <a:off x="914400" y="229248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5" name="Group 116"/>
            <p:cNvGrpSpPr/>
            <p:nvPr/>
          </p:nvGrpSpPr>
          <p:grpSpPr>
            <a:xfrm>
              <a:off x="1143000" y="2292480"/>
              <a:ext cx="228600" cy="304560"/>
              <a:chOff x="1143000" y="2292480"/>
              <a:chExt cx="228600" cy="304560"/>
            </a:xfrm>
          </p:grpSpPr>
          <p:grpSp>
            <p:nvGrpSpPr>
              <p:cNvPr id="1276" name="Group 12"/>
              <p:cNvGrpSpPr/>
              <p:nvPr/>
            </p:nvGrpSpPr>
            <p:grpSpPr>
              <a:xfrm>
                <a:off x="1159200" y="2313360"/>
                <a:ext cx="196200" cy="220680"/>
                <a:chOff x="1159200" y="2313360"/>
                <a:chExt cx="196200" cy="220680"/>
              </a:xfrm>
            </p:grpSpPr>
            <p:sp>
              <p:nvSpPr>
                <p:cNvPr id="1277" name="Ink 13"/>
                <p:cNvSpPr/>
                <p:nvPr/>
              </p:nvSpPr>
              <p:spPr>
                <a:xfrm>
                  <a:off x="1159200" y="2321280"/>
                  <a:ext cx="5400" cy="201960"/>
                </a:xfrm>
                <a:custGeom>
                  <a:avLst/>
                  <a:gdLst>
                    <a:gd name="textAreaLeft" fmla="*/ 0 w 5400"/>
                    <a:gd name="textAreaRight" fmla="*/ 5760 w 540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185" h="4243">
                      <a:moveTo>
                        <a:pt x="0" y="0"/>
                      </a:moveTo>
                      <a:cubicBezTo>
                        <a:pt x="2" y="87"/>
                        <a:pt x="4" y="175"/>
                        <a:pt x="6" y="263"/>
                      </a:cubicBezTo>
                      <a:cubicBezTo>
                        <a:pt x="28" y="1445"/>
                        <a:pt x="31" y="2630"/>
                        <a:pt x="128" y="3809"/>
                      </a:cubicBezTo>
                      <a:cubicBezTo>
                        <a:pt x="132" y="3861"/>
                        <a:pt x="183" y="4290"/>
                        <a:pt x="184" y="4197"/>
                      </a:cubicBezTo>
                      <a:cubicBezTo>
                        <a:pt x="184" y="4137"/>
                        <a:pt x="182" y="4076"/>
                        <a:pt x="181" y="4016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Ink 14"/>
                <p:cNvSpPr/>
                <p:nvPr/>
              </p:nvSpPr>
              <p:spPr>
                <a:xfrm>
                  <a:off x="1163880" y="2313360"/>
                  <a:ext cx="190080" cy="93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6418" h="203">
                      <a:moveTo>
                        <a:pt x="0" y="106"/>
                      </a:moveTo>
                      <a:cubicBezTo>
                        <a:pt x="141" y="82"/>
                        <a:pt x="280" y="57"/>
                        <a:pt x="423" y="39"/>
                      </a:cubicBezTo>
                      <a:cubicBezTo>
                        <a:pt x="620" y="14"/>
                        <a:pt x="817" y="1"/>
                        <a:pt x="1015" y="0"/>
                      </a:cubicBezTo>
                      <a:cubicBezTo>
                        <a:pt x="1963" y="-5"/>
                        <a:pt x="2916" y="43"/>
                        <a:pt x="3864" y="62"/>
                      </a:cubicBezTo>
                      <a:cubicBezTo>
                        <a:pt x="4225" y="69"/>
                        <a:pt x="6130" y="-133"/>
                        <a:pt x="6417" y="172"/>
                      </a:cubicBezTo>
                      <a:cubicBezTo>
                        <a:pt x="6442" y="199"/>
                        <a:pt x="6347" y="179"/>
                        <a:pt x="6317" y="200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Ink 15"/>
                <p:cNvSpPr/>
                <p:nvPr/>
              </p:nvSpPr>
              <p:spPr>
                <a:xfrm>
                  <a:off x="1350360" y="2321640"/>
                  <a:ext cx="3240" cy="212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115" h="4464">
                      <a:moveTo>
                        <a:pt x="110" y="0"/>
                      </a:moveTo>
                      <a:cubicBezTo>
                        <a:pt x="105" y="66"/>
                        <a:pt x="99" y="137"/>
                        <a:pt x="97" y="206"/>
                      </a:cubicBezTo>
                      <a:cubicBezTo>
                        <a:pt x="74" y="936"/>
                        <a:pt x="80" y="1667"/>
                        <a:pt x="66" y="2397"/>
                      </a:cubicBezTo>
                      <a:cubicBezTo>
                        <a:pt x="59" y="2743"/>
                        <a:pt x="50" y="3089"/>
                        <a:pt x="33" y="3435"/>
                      </a:cubicBezTo>
                      <a:cubicBezTo>
                        <a:pt x="24" y="3623"/>
                        <a:pt x="11" y="3810"/>
                        <a:pt x="4" y="3998"/>
                      </a:cubicBezTo>
                      <a:cubicBezTo>
                        <a:pt x="0" y="4104"/>
                        <a:pt x="-5" y="4213"/>
                        <a:pt x="10" y="4319"/>
                      </a:cubicBezTo>
                      <a:cubicBezTo>
                        <a:pt x="13" y="4341"/>
                        <a:pt x="29" y="4473"/>
                        <a:pt x="75" y="4463"/>
                      </a:cubicBezTo>
                      <a:cubicBezTo>
                        <a:pt x="150" y="4446"/>
                        <a:pt x="88" y="4398"/>
                        <a:pt x="83" y="4386"/>
                      </a:cubicBezTo>
                      <a:cubicBezTo>
                        <a:pt x="77" y="4380"/>
                        <a:pt x="70" y="4374"/>
                        <a:pt x="64" y="4368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Ink 16"/>
                <p:cNvSpPr/>
                <p:nvPr/>
              </p:nvSpPr>
              <p:spPr>
                <a:xfrm>
                  <a:off x="1168560" y="2527920"/>
                  <a:ext cx="186840" cy="540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313" h="117">
                      <a:moveTo>
                        <a:pt x="0" y="74"/>
                      </a:moveTo>
                      <a:cubicBezTo>
                        <a:pt x="54" y="79"/>
                        <a:pt x="105" y="91"/>
                        <a:pt x="160" y="90"/>
                      </a:cubicBezTo>
                      <a:cubicBezTo>
                        <a:pt x="728" y="84"/>
                        <a:pt x="1292" y="42"/>
                        <a:pt x="1862" y="53"/>
                      </a:cubicBezTo>
                      <a:cubicBezTo>
                        <a:pt x="2781" y="71"/>
                        <a:pt x="3702" y="60"/>
                        <a:pt x="4621" y="87"/>
                      </a:cubicBezTo>
                      <a:cubicBezTo>
                        <a:pt x="5064" y="100"/>
                        <a:pt x="5503" y="131"/>
                        <a:pt x="5946" y="93"/>
                      </a:cubicBezTo>
                      <a:cubicBezTo>
                        <a:pt x="5989" y="89"/>
                        <a:pt x="6358" y="55"/>
                        <a:pt x="6282" y="10"/>
                      </a:cubicBezTo>
                      <a:cubicBezTo>
                        <a:pt x="6251" y="-8"/>
                        <a:pt x="6170" y="2"/>
                        <a:pt x="6137" y="5"/>
                      </a:cubicBezTo>
                      <a:cubicBezTo>
                        <a:pt x="6134" y="10"/>
                        <a:pt x="6131" y="16"/>
                        <a:pt x="6128" y="21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Group 12"/>
              <p:cNvGrpSpPr/>
              <p:nvPr/>
            </p:nvGrpSpPr>
            <p:grpSpPr>
              <a:xfrm>
                <a:off x="1143000" y="2292480"/>
                <a:ext cx="228600" cy="304560"/>
                <a:chOff x="1143000" y="2292480"/>
                <a:chExt cx="228600" cy="304560"/>
              </a:xfrm>
            </p:grpSpPr>
            <p:sp>
              <p:nvSpPr>
                <p:cNvPr id="1282" name="Ink 13"/>
                <p:cNvSpPr/>
                <p:nvPr/>
              </p:nvSpPr>
              <p:spPr>
                <a:xfrm>
                  <a:off x="1143000" y="2303640"/>
                  <a:ext cx="6120" cy="2786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78640"/>
                    <a:gd name="textAreaBottom" fmla="*/ 279000 h 278640"/>
                  </a:gdLst>
                  <a:ahLst/>
                  <a:rect l="textAreaLeft" t="textAreaTop" r="textAreaRight" b="textAreaBottom"/>
                  <a:pathLst>
                    <a:path w="185" h="4243">
                      <a:moveTo>
                        <a:pt x="0" y="0"/>
                      </a:moveTo>
                      <a:cubicBezTo>
                        <a:pt x="2" y="87"/>
                        <a:pt x="4" y="175"/>
                        <a:pt x="6" y="263"/>
                      </a:cubicBezTo>
                      <a:cubicBezTo>
                        <a:pt x="28" y="1445"/>
                        <a:pt x="31" y="2630"/>
                        <a:pt x="128" y="3809"/>
                      </a:cubicBezTo>
                      <a:cubicBezTo>
                        <a:pt x="132" y="3861"/>
                        <a:pt x="183" y="4290"/>
                        <a:pt x="184" y="4197"/>
                      </a:cubicBezTo>
                      <a:cubicBezTo>
                        <a:pt x="184" y="4137"/>
                        <a:pt x="182" y="4076"/>
                        <a:pt x="181" y="4016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Ink 14"/>
                <p:cNvSpPr/>
                <p:nvPr/>
              </p:nvSpPr>
              <p:spPr>
                <a:xfrm>
                  <a:off x="1148400" y="2292480"/>
                  <a:ext cx="221400" cy="13320"/>
                </a:xfrm>
                <a:custGeom>
                  <a:avLst/>
                  <a:gdLst>
                    <a:gd name="textAreaLeft" fmla="*/ 0 w 221400"/>
                    <a:gd name="textAreaRight" fmla="*/ 221760 w 2214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6418" h="203">
                      <a:moveTo>
                        <a:pt x="0" y="106"/>
                      </a:moveTo>
                      <a:cubicBezTo>
                        <a:pt x="141" y="82"/>
                        <a:pt x="280" y="57"/>
                        <a:pt x="423" y="39"/>
                      </a:cubicBezTo>
                      <a:cubicBezTo>
                        <a:pt x="620" y="14"/>
                        <a:pt x="817" y="1"/>
                        <a:pt x="1015" y="0"/>
                      </a:cubicBezTo>
                      <a:cubicBezTo>
                        <a:pt x="1963" y="-5"/>
                        <a:pt x="2916" y="43"/>
                        <a:pt x="3864" y="62"/>
                      </a:cubicBezTo>
                      <a:cubicBezTo>
                        <a:pt x="4225" y="69"/>
                        <a:pt x="6130" y="-133"/>
                        <a:pt x="6417" y="172"/>
                      </a:cubicBezTo>
                      <a:cubicBezTo>
                        <a:pt x="6442" y="199"/>
                        <a:pt x="6347" y="179"/>
                        <a:pt x="6317" y="200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Ink 15"/>
                <p:cNvSpPr/>
                <p:nvPr/>
              </p:nvSpPr>
              <p:spPr>
                <a:xfrm>
                  <a:off x="1365480" y="2304000"/>
                  <a:ext cx="3960" cy="29304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293040"/>
                    <a:gd name="textAreaBottom" fmla="*/ 293400 h 293040"/>
                  </a:gdLst>
                  <a:ahLst/>
                  <a:rect l="textAreaLeft" t="textAreaTop" r="textAreaRight" b="textAreaBottom"/>
                  <a:pathLst>
                    <a:path w="115" h="4464">
                      <a:moveTo>
                        <a:pt x="110" y="0"/>
                      </a:moveTo>
                      <a:cubicBezTo>
                        <a:pt x="105" y="66"/>
                        <a:pt x="99" y="137"/>
                        <a:pt x="97" y="206"/>
                      </a:cubicBezTo>
                      <a:cubicBezTo>
                        <a:pt x="74" y="936"/>
                        <a:pt x="80" y="1667"/>
                        <a:pt x="66" y="2397"/>
                      </a:cubicBezTo>
                      <a:cubicBezTo>
                        <a:pt x="59" y="2743"/>
                        <a:pt x="50" y="3089"/>
                        <a:pt x="33" y="3435"/>
                      </a:cubicBezTo>
                      <a:cubicBezTo>
                        <a:pt x="24" y="3623"/>
                        <a:pt x="11" y="3810"/>
                        <a:pt x="4" y="3998"/>
                      </a:cubicBezTo>
                      <a:cubicBezTo>
                        <a:pt x="0" y="4104"/>
                        <a:pt x="-5" y="4213"/>
                        <a:pt x="10" y="4319"/>
                      </a:cubicBezTo>
                      <a:cubicBezTo>
                        <a:pt x="13" y="4341"/>
                        <a:pt x="29" y="4473"/>
                        <a:pt x="75" y="4463"/>
                      </a:cubicBezTo>
                      <a:cubicBezTo>
                        <a:pt x="150" y="4446"/>
                        <a:pt x="88" y="4398"/>
                        <a:pt x="83" y="4386"/>
                      </a:cubicBezTo>
                      <a:cubicBezTo>
                        <a:pt x="77" y="4380"/>
                        <a:pt x="70" y="4374"/>
                        <a:pt x="64" y="4368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Ink 16"/>
                <p:cNvSpPr/>
                <p:nvPr/>
              </p:nvSpPr>
              <p:spPr>
                <a:xfrm>
                  <a:off x="1153800" y="2588760"/>
                  <a:ext cx="217800" cy="756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6313" h="117">
                      <a:moveTo>
                        <a:pt x="0" y="74"/>
                      </a:moveTo>
                      <a:cubicBezTo>
                        <a:pt x="54" y="79"/>
                        <a:pt x="105" y="91"/>
                        <a:pt x="160" y="90"/>
                      </a:cubicBezTo>
                      <a:cubicBezTo>
                        <a:pt x="728" y="84"/>
                        <a:pt x="1292" y="42"/>
                        <a:pt x="1862" y="53"/>
                      </a:cubicBezTo>
                      <a:cubicBezTo>
                        <a:pt x="2781" y="71"/>
                        <a:pt x="3702" y="60"/>
                        <a:pt x="4621" y="87"/>
                      </a:cubicBezTo>
                      <a:cubicBezTo>
                        <a:pt x="5064" y="100"/>
                        <a:pt x="5503" y="131"/>
                        <a:pt x="5946" y="93"/>
                      </a:cubicBezTo>
                      <a:cubicBezTo>
                        <a:pt x="5989" y="89"/>
                        <a:pt x="6358" y="55"/>
                        <a:pt x="6282" y="10"/>
                      </a:cubicBezTo>
                      <a:cubicBezTo>
                        <a:pt x="6251" y="-8"/>
                        <a:pt x="6170" y="2"/>
                        <a:pt x="6137" y="5"/>
                      </a:cubicBezTo>
                      <a:cubicBezTo>
                        <a:pt x="6134" y="10"/>
                        <a:pt x="6131" y="16"/>
                        <a:pt x="6128" y="21"/>
                      </a:cubicBezTo>
                    </a:path>
                  </a:pathLst>
                </a:custGeom>
                <a:noFill/>
                <a:ln cap="rnd" w="190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Freeform 34"/>
              <p:cNvSpPr/>
              <p:nvPr/>
            </p:nvSpPr>
            <p:spPr>
              <a:xfrm>
                <a:off x="1251720" y="2534400"/>
                <a:ext cx="28080" cy="38520"/>
              </a:xfrm>
              <a:custGeom>
                <a:avLst/>
                <a:gdLst/>
                <a:ahLst/>
                <a:rect l="l" t="t" r="r" b="b"/>
                <a:pathLst>
                  <a:path w="66493" h="95358">
                    <a:moveTo>
                      <a:pt x="0" y="66965"/>
                    </a:moveTo>
                    <a:cubicBezTo>
                      <a:pt x="12700" y="75432"/>
                      <a:pt x="23133" y="95358"/>
                      <a:pt x="38100" y="92365"/>
                    </a:cubicBezTo>
                    <a:cubicBezTo>
                      <a:pt x="53067" y="89372"/>
                      <a:pt x="66493" y="69232"/>
                      <a:pt x="63500" y="54265"/>
                    </a:cubicBezTo>
                    <a:cubicBezTo>
                      <a:pt x="60507" y="39298"/>
                      <a:pt x="38100" y="37332"/>
                      <a:pt x="25400" y="28865"/>
                    </a:cubicBezTo>
                    <a:cubicBezTo>
                      <a:pt x="21167" y="41565"/>
                      <a:pt x="6713" y="54991"/>
                      <a:pt x="12700" y="66965"/>
                    </a:cubicBezTo>
                    <a:cubicBezTo>
                      <a:pt x="18687" y="78939"/>
                      <a:pt x="41334" y="89131"/>
                      <a:pt x="50800" y="79665"/>
                    </a:cubicBezTo>
                    <a:cubicBezTo>
                      <a:pt x="56031" y="74434"/>
                      <a:pt x="17317" y="0"/>
                      <a:pt x="50800" y="66965"/>
                    </a:cubicBezTo>
                  </a:path>
                </a:pathLst>
              </a:cu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Ink 5"/>
          <p:cNvSpPr/>
          <p:nvPr/>
        </p:nvSpPr>
        <p:spPr>
          <a:xfrm>
            <a:off x="990720" y="2819520"/>
            <a:ext cx="565200" cy="366480"/>
          </a:xfrm>
          <a:custGeom>
            <a:avLst/>
            <a:gdLst/>
            <a:ahLst/>
            <a:rect l="l" t="t" r="r" b="b"/>
            <a:pathLst>
              <a:path w="2206" h="1444">
                <a:moveTo>
                  <a:pt x="1129" y="232"/>
                </a:moveTo>
                <a:cubicBezTo>
                  <a:pt x="1126" y="263"/>
                  <a:pt x="1130" y="292"/>
                  <a:pt x="1129" y="323"/>
                </a:cubicBezTo>
                <a:cubicBezTo>
                  <a:pt x="1128" y="357"/>
                  <a:pt x="1126" y="387"/>
                  <a:pt x="1126" y="420"/>
                </a:cubicBezTo>
                <a:cubicBezTo>
                  <a:pt x="1126" y="453"/>
                  <a:pt x="1141" y="487"/>
                  <a:pt x="1140" y="517"/>
                </a:cubicBezTo>
                <a:cubicBezTo>
                  <a:pt x="1139" y="550"/>
                  <a:pt x="1149" y="577"/>
                  <a:pt x="1150" y="611"/>
                </a:cubicBezTo>
                <a:cubicBezTo>
                  <a:pt x="1151" y="645"/>
                  <a:pt x="1169" y="672"/>
                  <a:pt x="1168" y="705"/>
                </a:cubicBezTo>
                <a:cubicBezTo>
                  <a:pt x="1167" y="736"/>
                  <a:pt x="1173" y="760"/>
                  <a:pt x="1171" y="793"/>
                </a:cubicBezTo>
                <a:cubicBezTo>
                  <a:pt x="1169" y="820"/>
                  <a:pt x="1165" y="858"/>
                  <a:pt x="1168" y="884"/>
                </a:cubicBezTo>
                <a:cubicBezTo>
                  <a:pt x="1174" y="944"/>
                  <a:pt x="1185" y="987"/>
                  <a:pt x="1171" y="1046"/>
                </a:cubicBezTo>
                <a:cubicBezTo>
                  <a:pt x="1157" y="1108"/>
                  <a:pt x="1173" y="1112"/>
                  <a:pt x="1179" y="1161"/>
                </a:cubicBezTo>
                <a:cubicBezTo>
                  <a:pt x="1181" y="1180"/>
                  <a:pt x="1185" y="1237"/>
                  <a:pt x="1179" y="1258"/>
                </a:cubicBezTo>
                <a:cubicBezTo>
                  <a:pt x="1166" y="1304"/>
                  <a:pt x="1177" y="1310"/>
                  <a:pt x="1182" y="1352"/>
                </a:cubicBezTo>
                <a:cubicBezTo>
                  <a:pt x="1185" y="1379"/>
                  <a:pt x="1159" y="1414"/>
                  <a:pt x="1154" y="1443"/>
                </a:cubicBezTo>
              </a:path>
              <a:path w="2206" h="1444">
                <a:moveTo>
                  <a:pt x="1591" y="717"/>
                </a:moveTo>
                <a:cubicBezTo>
                  <a:pt x="1588" y="747"/>
                  <a:pt x="1587" y="734"/>
                  <a:pt x="1591" y="764"/>
                </a:cubicBezTo>
                <a:cubicBezTo>
                  <a:pt x="1595" y="793"/>
                  <a:pt x="1600" y="822"/>
                  <a:pt x="1602" y="852"/>
                </a:cubicBezTo>
                <a:cubicBezTo>
                  <a:pt x="1605" y="893"/>
                  <a:pt x="1608" y="933"/>
                  <a:pt x="1612" y="973"/>
                </a:cubicBezTo>
                <a:cubicBezTo>
                  <a:pt x="1616" y="1007"/>
                  <a:pt x="1616" y="1039"/>
                  <a:pt x="1616" y="1073"/>
                </a:cubicBezTo>
                <a:cubicBezTo>
                  <a:pt x="1616" y="1113"/>
                  <a:pt x="1624" y="1158"/>
                  <a:pt x="1623" y="1196"/>
                </a:cubicBezTo>
                <a:cubicBezTo>
                  <a:pt x="1622" y="1227"/>
                  <a:pt x="1614" y="1261"/>
                  <a:pt x="1616" y="1293"/>
                </a:cubicBezTo>
                <a:cubicBezTo>
                  <a:pt x="1618" y="1323"/>
                  <a:pt x="1622" y="1355"/>
                  <a:pt x="1620" y="1384"/>
                </a:cubicBezTo>
                <a:cubicBezTo>
                  <a:pt x="1619" y="1392"/>
                  <a:pt x="1617" y="1400"/>
                  <a:pt x="1616" y="1408"/>
                </a:cubicBezTo>
                <a:cubicBezTo>
                  <a:pt x="1604" y="1374"/>
                  <a:pt x="1588" y="1353"/>
                  <a:pt x="1591" y="1314"/>
                </a:cubicBezTo>
                <a:cubicBezTo>
                  <a:pt x="1594" y="1273"/>
                  <a:pt x="1598" y="1240"/>
                  <a:pt x="1602" y="1199"/>
                </a:cubicBezTo>
                <a:cubicBezTo>
                  <a:pt x="1606" y="1160"/>
                  <a:pt x="1600" y="1119"/>
                  <a:pt x="1595" y="1081"/>
                </a:cubicBezTo>
                <a:cubicBezTo>
                  <a:pt x="1590" y="1043"/>
                  <a:pt x="1581" y="1007"/>
                  <a:pt x="1581" y="970"/>
                </a:cubicBezTo>
                <a:cubicBezTo>
                  <a:pt x="1581" y="935"/>
                  <a:pt x="1582" y="902"/>
                  <a:pt x="1581" y="867"/>
                </a:cubicBezTo>
                <a:cubicBezTo>
                  <a:pt x="1580" y="831"/>
                  <a:pt x="1582" y="791"/>
                  <a:pt x="1588" y="755"/>
                </a:cubicBezTo>
                <a:cubicBezTo>
                  <a:pt x="1593" y="722"/>
                  <a:pt x="1607" y="690"/>
                  <a:pt x="1616" y="658"/>
                </a:cubicBezTo>
                <a:cubicBezTo>
                  <a:pt x="1626" y="624"/>
                  <a:pt x="1635" y="592"/>
                  <a:pt x="1644" y="558"/>
                </a:cubicBezTo>
                <a:cubicBezTo>
                  <a:pt x="1652" y="525"/>
                  <a:pt x="1669" y="497"/>
                  <a:pt x="1676" y="464"/>
                </a:cubicBezTo>
                <a:cubicBezTo>
                  <a:pt x="1692" y="394"/>
                  <a:pt x="1699" y="388"/>
                  <a:pt x="1754" y="346"/>
                </a:cubicBezTo>
                <a:cubicBezTo>
                  <a:pt x="1788" y="320"/>
                  <a:pt x="1811" y="291"/>
                  <a:pt x="1852" y="273"/>
                </a:cubicBezTo>
                <a:cubicBezTo>
                  <a:pt x="1887" y="257"/>
                  <a:pt x="1926" y="234"/>
                  <a:pt x="1965" y="229"/>
                </a:cubicBezTo>
                <a:cubicBezTo>
                  <a:pt x="2006" y="224"/>
                  <a:pt x="2050" y="221"/>
                  <a:pt x="2092" y="220"/>
                </a:cubicBezTo>
              </a:path>
              <a:path w="2206" h="1444">
                <a:moveTo>
                  <a:pt x="660" y="590"/>
                </a:moveTo>
                <a:cubicBezTo>
                  <a:pt x="666" y="619"/>
                  <a:pt x="669" y="647"/>
                  <a:pt x="674" y="676"/>
                </a:cubicBezTo>
                <a:cubicBezTo>
                  <a:pt x="679" y="705"/>
                  <a:pt x="688" y="737"/>
                  <a:pt x="695" y="767"/>
                </a:cubicBezTo>
                <a:cubicBezTo>
                  <a:pt x="702" y="798"/>
                  <a:pt x="717" y="827"/>
                  <a:pt x="723" y="858"/>
                </a:cubicBezTo>
                <a:cubicBezTo>
                  <a:pt x="729" y="889"/>
                  <a:pt x="730" y="921"/>
                  <a:pt x="731" y="952"/>
                </a:cubicBezTo>
                <a:cubicBezTo>
                  <a:pt x="732" y="984"/>
                  <a:pt x="736" y="1012"/>
                  <a:pt x="738" y="1043"/>
                </a:cubicBezTo>
                <a:cubicBezTo>
                  <a:pt x="740" y="1089"/>
                  <a:pt x="738" y="1134"/>
                  <a:pt x="731" y="1178"/>
                </a:cubicBezTo>
                <a:cubicBezTo>
                  <a:pt x="727" y="1205"/>
                  <a:pt x="717" y="1235"/>
                  <a:pt x="723" y="1264"/>
                </a:cubicBezTo>
                <a:cubicBezTo>
                  <a:pt x="729" y="1292"/>
                  <a:pt x="750" y="1319"/>
                  <a:pt x="748" y="1349"/>
                </a:cubicBezTo>
                <a:cubicBezTo>
                  <a:pt x="746" y="1375"/>
                  <a:pt x="740" y="1386"/>
                  <a:pt x="741" y="1414"/>
                </a:cubicBezTo>
                <a:cubicBezTo>
                  <a:pt x="750" y="1377"/>
                  <a:pt x="777" y="1326"/>
                  <a:pt x="780" y="1290"/>
                </a:cubicBezTo>
                <a:cubicBezTo>
                  <a:pt x="783" y="1254"/>
                  <a:pt x="763" y="1226"/>
                  <a:pt x="766" y="1190"/>
                </a:cubicBezTo>
                <a:cubicBezTo>
                  <a:pt x="769" y="1156"/>
                  <a:pt x="774" y="1131"/>
                  <a:pt x="769" y="1096"/>
                </a:cubicBezTo>
                <a:cubicBezTo>
                  <a:pt x="765" y="1064"/>
                  <a:pt x="758" y="1031"/>
                  <a:pt x="748" y="1002"/>
                </a:cubicBezTo>
                <a:cubicBezTo>
                  <a:pt x="736" y="969"/>
                  <a:pt x="737" y="940"/>
                  <a:pt x="727" y="905"/>
                </a:cubicBezTo>
                <a:cubicBezTo>
                  <a:pt x="719" y="876"/>
                  <a:pt x="703" y="845"/>
                  <a:pt x="695" y="814"/>
                </a:cubicBezTo>
                <a:cubicBezTo>
                  <a:pt x="686" y="780"/>
                  <a:pt x="697" y="761"/>
                  <a:pt x="699" y="729"/>
                </a:cubicBezTo>
                <a:cubicBezTo>
                  <a:pt x="700" y="704"/>
                  <a:pt x="702" y="652"/>
                  <a:pt x="692" y="632"/>
                </a:cubicBezTo>
                <a:cubicBezTo>
                  <a:pt x="676" y="598"/>
                  <a:pt x="648" y="567"/>
                  <a:pt x="628" y="535"/>
                </a:cubicBezTo>
                <a:cubicBezTo>
                  <a:pt x="608" y="501"/>
                  <a:pt x="591" y="466"/>
                  <a:pt x="572" y="432"/>
                </a:cubicBezTo>
                <a:cubicBezTo>
                  <a:pt x="558" y="408"/>
                  <a:pt x="539" y="362"/>
                  <a:pt x="515" y="346"/>
                </a:cubicBezTo>
                <a:cubicBezTo>
                  <a:pt x="488" y="327"/>
                  <a:pt x="441" y="310"/>
                  <a:pt x="409" y="299"/>
                </a:cubicBezTo>
                <a:cubicBezTo>
                  <a:pt x="356" y="281"/>
                  <a:pt x="295" y="273"/>
                  <a:pt x="240" y="276"/>
                </a:cubicBezTo>
                <a:cubicBezTo>
                  <a:pt x="205" y="278"/>
                  <a:pt x="167" y="280"/>
                  <a:pt x="131" y="285"/>
                </a:cubicBezTo>
                <a:cubicBezTo>
                  <a:pt x="96" y="290"/>
                  <a:pt x="66" y="303"/>
                  <a:pt x="32" y="314"/>
                </a:cubicBezTo>
              </a:path>
              <a:path w="2206" h="1444">
                <a:moveTo>
                  <a:pt x="2004" y="0"/>
                </a:moveTo>
                <a:cubicBezTo>
                  <a:pt x="2042" y="21"/>
                  <a:pt x="2079" y="43"/>
                  <a:pt x="2117" y="64"/>
                </a:cubicBezTo>
                <a:cubicBezTo>
                  <a:pt x="2154" y="85"/>
                  <a:pt x="2168" y="99"/>
                  <a:pt x="2187" y="135"/>
                </a:cubicBezTo>
                <a:cubicBezTo>
                  <a:pt x="2203" y="165"/>
                  <a:pt x="2207" y="188"/>
                  <a:pt x="2198" y="220"/>
                </a:cubicBezTo>
                <a:cubicBezTo>
                  <a:pt x="2185" y="266"/>
                  <a:pt x="2170" y="287"/>
                  <a:pt x="2145" y="326"/>
                </a:cubicBezTo>
                <a:cubicBezTo>
                  <a:pt x="2126" y="355"/>
                  <a:pt x="2114" y="391"/>
                  <a:pt x="2096" y="420"/>
                </a:cubicBezTo>
                <a:cubicBezTo>
                  <a:pt x="2081" y="444"/>
                  <a:pt x="2073" y="458"/>
                  <a:pt x="2064" y="485"/>
                </a:cubicBezTo>
              </a:path>
              <a:path w="2206" h="1444">
                <a:moveTo>
                  <a:pt x="205" y="47"/>
                </a:moveTo>
                <a:cubicBezTo>
                  <a:pt x="170" y="74"/>
                  <a:pt x="145" y="101"/>
                  <a:pt x="117" y="135"/>
                </a:cubicBezTo>
                <a:cubicBezTo>
                  <a:pt x="95" y="162"/>
                  <a:pt x="74" y="189"/>
                  <a:pt x="57" y="220"/>
                </a:cubicBezTo>
                <a:cubicBezTo>
                  <a:pt x="45" y="241"/>
                  <a:pt x="-1" y="301"/>
                  <a:pt x="0" y="323"/>
                </a:cubicBezTo>
                <a:cubicBezTo>
                  <a:pt x="2" y="370"/>
                  <a:pt x="78" y="387"/>
                  <a:pt x="103" y="414"/>
                </a:cubicBezTo>
                <a:cubicBezTo>
                  <a:pt x="131" y="444"/>
                  <a:pt x="150" y="464"/>
                  <a:pt x="187" y="485"/>
                </a:cubicBezTo>
                <a:cubicBezTo>
                  <a:pt x="213" y="499"/>
                  <a:pt x="231" y="518"/>
                  <a:pt x="254" y="535"/>
                </a:cubicBezTo>
              </a:path>
              <a:path w="2206" h="1444">
                <a:moveTo>
                  <a:pt x="1080" y="85"/>
                </a:moveTo>
                <a:cubicBezTo>
                  <a:pt x="1062" y="114"/>
                  <a:pt x="1039" y="140"/>
                  <a:pt x="1023" y="170"/>
                </a:cubicBezTo>
                <a:cubicBezTo>
                  <a:pt x="1007" y="200"/>
                  <a:pt x="990" y="230"/>
                  <a:pt x="970" y="258"/>
                </a:cubicBezTo>
                <a:cubicBezTo>
                  <a:pt x="945" y="294"/>
                  <a:pt x="903" y="292"/>
                  <a:pt x="875" y="326"/>
                </a:cubicBezTo>
                <a:cubicBezTo>
                  <a:pt x="860" y="345"/>
                  <a:pt x="850" y="367"/>
                  <a:pt x="840" y="388"/>
                </a:cubicBezTo>
              </a:path>
              <a:path w="2206" h="1444">
                <a:moveTo>
                  <a:pt x="1122" y="108"/>
                </a:moveTo>
                <a:cubicBezTo>
                  <a:pt x="1116" y="101"/>
                  <a:pt x="1110" y="95"/>
                  <a:pt x="1104" y="88"/>
                </a:cubicBezTo>
                <a:cubicBezTo>
                  <a:pt x="1141" y="108"/>
                  <a:pt x="1177" y="129"/>
                  <a:pt x="1210" y="155"/>
                </a:cubicBezTo>
                <a:cubicBezTo>
                  <a:pt x="1240" y="178"/>
                  <a:pt x="1269" y="207"/>
                  <a:pt x="1295" y="235"/>
                </a:cubicBezTo>
                <a:cubicBezTo>
                  <a:pt x="1319" y="261"/>
                  <a:pt x="1331" y="287"/>
                  <a:pt x="1348" y="317"/>
                </a:cubicBezTo>
                <a:cubicBezTo>
                  <a:pt x="1353" y="324"/>
                  <a:pt x="1357" y="331"/>
                  <a:pt x="1362" y="338"/>
                </a:cubicBezTo>
              </a:path>
            </a:pathLst>
          </a:custGeom>
          <a:noFill/>
          <a:ln cap="rnd"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Comment 294"/>
          <p:cNvSpPr/>
          <p:nvPr/>
        </p:nvSpPr>
        <p:spPr>
          <a:xfrm>
            <a:off x="1076400" y="1143000"/>
            <a:ext cx="295200" cy="460440"/>
          </a:xfrm>
          <a:custGeom>
            <a:avLst/>
            <a:gdLst>
              <a:gd name="textAreaLeft" fmla="*/ 0 w 295200"/>
              <a:gd name="textAreaRight" fmla="*/ 295560 w 29520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97" h="2028">
                <a:moveTo>
                  <a:pt x="486" y="1596"/>
                </a:moveTo>
                <a:cubicBezTo>
                  <a:pt x="486" y="1677"/>
                  <a:pt x="487" y="1756"/>
                  <a:pt x="493" y="1836"/>
                </a:cubicBezTo>
                <a:cubicBezTo>
                  <a:pt x="495" y="1866"/>
                  <a:pt x="497" y="1886"/>
                  <a:pt x="506" y="1915"/>
                </a:cubicBezTo>
              </a:path>
              <a:path w="1297" h="2028">
                <a:moveTo>
                  <a:pt x="559" y="1904"/>
                </a:moveTo>
                <a:cubicBezTo>
                  <a:pt x="600" y="1903"/>
                  <a:pt x="614" y="1916"/>
                  <a:pt x="649" y="1939"/>
                </a:cubicBezTo>
                <a:cubicBezTo>
                  <a:pt x="694" y="1968"/>
                  <a:pt x="738" y="1984"/>
                  <a:pt x="789" y="1998"/>
                </a:cubicBezTo>
              </a:path>
              <a:path w="1297" h="2028">
                <a:moveTo>
                  <a:pt x="917" y="1546"/>
                </a:moveTo>
                <a:cubicBezTo>
                  <a:pt x="926" y="1578"/>
                  <a:pt x="928" y="1608"/>
                  <a:pt x="932" y="1641"/>
                </a:cubicBezTo>
                <a:cubicBezTo>
                  <a:pt x="938" y="1695"/>
                  <a:pt x="933" y="1743"/>
                  <a:pt x="930" y="1797"/>
                </a:cubicBezTo>
                <a:cubicBezTo>
                  <a:pt x="928" y="1835"/>
                  <a:pt x="924" y="1866"/>
                  <a:pt x="911" y="1902"/>
                </a:cubicBezTo>
              </a:path>
              <a:path w="1297" h="2028">
                <a:moveTo>
                  <a:pt x="642" y="1918"/>
                </a:moveTo>
                <a:cubicBezTo>
                  <a:pt x="611" y="1925"/>
                  <a:pt x="600" y="1926"/>
                  <a:pt x="611" y="1962"/>
                </a:cubicBezTo>
                <a:cubicBezTo>
                  <a:pt x="618" y="1985"/>
                  <a:pt x="633" y="2032"/>
                  <a:pt x="665" y="2027"/>
                </a:cubicBezTo>
                <a:cubicBezTo>
                  <a:pt x="697" y="2022"/>
                  <a:pt x="733" y="2000"/>
                  <a:pt x="758" y="1980"/>
                </a:cubicBezTo>
                <a:cubicBezTo>
                  <a:pt x="779" y="1963"/>
                  <a:pt x="794" y="1955"/>
                  <a:pt x="818" y="1943"/>
                </a:cubicBezTo>
              </a:path>
              <a:path w="1297" h="2028">
                <a:moveTo>
                  <a:pt x="519" y="1357"/>
                </a:moveTo>
                <a:cubicBezTo>
                  <a:pt x="498" y="1348"/>
                  <a:pt x="489" y="1355"/>
                  <a:pt x="467" y="1314"/>
                </a:cubicBezTo>
                <a:cubicBezTo>
                  <a:pt x="423" y="1232"/>
                  <a:pt x="393" y="1131"/>
                  <a:pt x="371" y="1041"/>
                </a:cubicBezTo>
                <a:cubicBezTo>
                  <a:pt x="351" y="960"/>
                  <a:pt x="336" y="876"/>
                  <a:pt x="343" y="792"/>
                </a:cubicBezTo>
                <a:cubicBezTo>
                  <a:pt x="350" y="714"/>
                  <a:pt x="371" y="638"/>
                  <a:pt x="402" y="567"/>
                </a:cubicBezTo>
                <a:cubicBezTo>
                  <a:pt x="426" y="512"/>
                  <a:pt x="458" y="450"/>
                  <a:pt x="519" y="429"/>
                </a:cubicBezTo>
                <a:cubicBezTo>
                  <a:pt x="586" y="406"/>
                  <a:pt x="649" y="435"/>
                  <a:pt x="703" y="474"/>
                </a:cubicBezTo>
                <a:cubicBezTo>
                  <a:pt x="792" y="538"/>
                  <a:pt x="860" y="624"/>
                  <a:pt x="917" y="716"/>
                </a:cubicBezTo>
                <a:cubicBezTo>
                  <a:pt x="933" y="743"/>
                  <a:pt x="948" y="771"/>
                  <a:pt x="964" y="798"/>
                </a:cubicBezTo>
              </a:path>
              <a:path w="1297" h="2028">
                <a:moveTo>
                  <a:pt x="1036" y="965"/>
                </a:moveTo>
                <a:cubicBezTo>
                  <a:pt x="1031" y="1005"/>
                  <a:pt x="1029" y="1040"/>
                  <a:pt x="1029" y="1080"/>
                </a:cubicBezTo>
                <a:cubicBezTo>
                  <a:pt x="1029" y="1110"/>
                  <a:pt x="1024" y="1140"/>
                  <a:pt x="1016" y="1169"/>
                </a:cubicBezTo>
                <a:cubicBezTo>
                  <a:pt x="1008" y="1198"/>
                  <a:pt x="998" y="1220"/>
                  <a:pt x="977" y="1243"/>
                </a:cubicBezTo>
                <a:cubicBezTo>
                  <a:pt x="951" y="1270"/>
                  <a:pt x="917" y="1281"/>
                  <a:pt x="883" y="1290"/>
                </a:cubicBezTo>
              </a:path>
              <a:path w="1297" h="2028">
                <a:moveTo>
                  <a:pt x="686" y="1404"/>
                </a:moveTo>
                <a:cubicBezTo>
                  <a:pt x="697" y="1379"/>
                  <a:pt x="696" y="1360"/>
                  <a:pt x="696" y="1332"/>
                </a:cubicBezTo>
                <a:cubicBezTo>
                  <a:pt x="696" y="1294"/>
                  <a:pt x="682" y="1267"/>
                  <a:pt x="673" y="1232"/>
                </a:cubicBezTo>
                <a:cubicBezTo>
                  <a:pt x="672" y="1224"/>
                  <a:pt x="671" y="1217"/>
                  <a:pt x="670" y="1209"/>
                </a:cubicBezTo>
              </a:path>
              <a:path w="1297" h="2028">
                <a:moveTo>
                  <a:pt x="690" y="1030"/>
                </a:moveTo>
                <a:cubicBezTo>
                  <a:pt x="657" y="1041"/>
                  <a:pt x="642" y="1057"/>
                  <a:pt x="613" y="1036"/>
                </a:cubicBezTo>
                <a:cubicBezTo>
                  <a:pt x="585" y="1016"/>
                  <a:pt x="577" y="1002"/>
                  <a:pt x="542" y="1002"/>
                </a:cubicBezTo>
                <a:cubicBezTo>
                  <a:pt x="542" y="1028"/>
                  <a:pt x="552" y="1045"/>
                  <a:pt x="584" y="1052"/>
                </a:cubicBezTo>
                <a:cubicBezTo>
                  <a:pt x="615" y="1059"/>
                  <a:pt x="649" y="1056"/>
                  <a:pt x="677" y="1043"/>
                </a:cubicBezTo>
                <a:cubicBezTo>
                  <a:pt x="707" y="1029"/>
                  <a:pt x="725" y="1011"/>
                  <a:pt x="738" y="981"/>
                </a:cubicBezTo>
                <a:cubicBezTo>
                  <a:pt x="749" y="957"/>
                  <a:pt x="750" y="933"/>
                  <a:pt x="732" y="911"/>
                </a:cubicBezTo>
                <a:cubicBezTo>
                  <a:pt x="707" y="880"/>
                  <a:pt x="670" y="859"/>
                  <a:pt x="646" y="827"/>
                </a:cubicBezTo>
                <a:cubicBezTo>
                  <a:pt x="643" y="821"/>
                  <a:pt x="639" y="815"/>
                  <a:pt x="636" y="809"/>
                </a:cubicBezTo>
                <a:cubicBezTo>
                  <a:pt x="670" y="822"/>
                  <a:pt x="680" y="816"/>
                  <a:pt x="691" y="779"/>
                </a:cubicBezTo>
                <a:cubicBezTo>
                  <a:pt x="703" y="739"/>
                  <a:pt x="703" y="702"/>
                  <a:pt x="703" y="661"/>
                </a:cubicBezTo>
                <a:cubicBezTo>
                  <a:pt x="703" y="629"/>
                  <a:pt x="699" y="613"/>
                  <a:pt x="685" y="585"/>
                </a:cubicBezTo>
              </a:path>
              <a:path w="1297" h="2028">
                <a:moveTo>
                  <a:pt x="225" y="958"/>
                </a:moveTo>
                <a:cubicBezTo>
                  <a:pt x="205" y="991"/>
                  <a:pt x="188" y="1022"/>
                  <a:pt x="163" y="1052"/>
                </a:cubicBezTo>
                <a:cubicBezTo>
                  <a:pt x="137" y="1083"/>
                  <a:pt x="108" y="1109"/>
                  <a:pt x="75" y="1133"/>
                </a:cubicBezTo>
                <a:cubicBezTo>
                  <a:pt x="53" y="1148"/>
                  <a:pt x="47" y="1154"/>
                  <a:pt x="28" y="1149"/>
                </a:cubicBezTo>
              </a:path>
              <a:path w="1297" h="2028">
                <a:moveTo>
                  <a:pt x="203" y="698"/>
                </a:moveTo>
                <a:cubicBezTo>
                  <a:pt x="182" y="675"/>
                  <a:pt x="166" y="653"/>
                  <a:pt x="135" y="672"/>
                </a:cubicBezTo>
                <a:cubicBezTo>
                  <a:pt x="103" y="691"/>
                  <a:pt x="75" y="721"/>
                  <a:pt x="47" y="745"/>
                </a:cubicBezTo>
                <a:cubicBezTo>
                  <a:pt x="7" y="779"/>
                  <a:pt x="21" y="770"/>
                  <a:pt x="0" y="719"/>
                </a:cubicBezTo>
              </a:path>
              <a:path w="1297" h="2028">
                <a:moveTo>
                  <a:pt x="309" y="476"/>
                </a:moveTo>
                <a:cubicBezTo>
                  <a:pt x="283" y="473"/>
                  <a:pt x="257" y="470"/>
                  <a:pt x="239" y="450"/>
                </a:cubicBezTo>
                <a:cubicBezTo>
                  <a:pt x="207" y="415"/>
                  <a:pt x="188" y="376"/>
                  <a:pt x="168" y="334"/>
                </a:cubicBezTo>
                <a:cubicBezTo>
                  <a:pt x="142" y="279"/>
                  <a:pt x="131" y="232"/>
                  <a:pt x="120" y="173"/>
                </a:cubicBezTo>
              </a:path>
              <a:path w="1297" h="2028">
                <a:moveTo>
                  <a:pt x="452" y="212"/>
                </a:moveTo>
                <a:cubicBezTo>
                  <a:pt x="459" y="215"/>
                  <a:pt x="465" y="217"/>
                  <a:pt x="472" y="220"/>
                </a:cubicBezTo>
                <a:cubicBezTo>
                  <a:pt x="458" y="189"/>
                  <a:pt x="439" y="162"/>
                  <a:pt x="426" y="131"/>
                </a:cubicBezTo>
                <a:cubicBezTo>
                  <a:pt x="411" y="97"/>
                  <a:pt x="398" y="64"/>
                  <a:pt x="389" y="28"/>
                </a:cubicBezTo>
              </a:path>
              <a:path w="1297" h="2028">
                <a:moveTo>
                  <a:pt x="711" y="285"/>
                </a:moveTo>
                <a:cubicBezTo>
                  <a:pt x="717" y="262"/>
                  <a:pt x="716" y="238"/>
                  <a:pt x="722" y="215"/>
                </a:cubicBezTo>
                <a:cubicBezTo>
                  <a:pt x="731" y="180"/>
                  <a:pt x="736" y="145"/>
                  <a:pt x="745" y="110"/>
                </a:cubicBezTo>
                <a:cubicBezTo>
                  <a:pt x="754" y="73"/>
                  <a:pt x="765" y="37"/>
                  <a:pt x="776" y="0"/>
                </a:cubicBezTo>
              </a:path>
              <a:path w="1297" h="2028">
                <a:moveTo>
                  <a:pt x="917" y="337"/>
                </a:moveTo>
                <a:cubicBezTo>
                  <a:pt x="939" y="301"/>
                  <a:pt x="968" y="268"/>
                  <a:pt x="990" y="232"/>
                </a:cubicBezTo>
                <a:cubicBezTo>
                  <a:pt x="1006" y="205"/>
                  <a:pt x="1028" y="177"/>
                  <a:pt x="1050" y="167"/>
                </a:cubicBezTo>
              </a:path>
              <a:path w="1297" h="2028">
                <a:moveTo>
                  <a:pt x="1055" y="499"/>
                </a:moveTo>
                <a:cubicBezTo>
                  <a:pt x="1031" y="514"/>
                  <a:pt x="1034" y="527"/>
                  <a:pt x="1031" y="559"/>
                </a:cubicBezTo>
                <a:cubicBezTo>
                  <a:pt x="1068" y="564"/>
                  <a:pt x="1093" y="558"/>
                  <a:pt x="1129" y="546"/>
                </a:cubicBezTo>
                <a:cubicBezTo>
                  <a:pt x="1152" y="538"/>
                  <a:pt x="1184" y="523"/>
                  <a:pt x="1208" y="536"/>
                </a:cubicBezTo>
                <a:cubicBezTo>
                  <a:pt x="1215" y="542"/>
                  <a:pt x="1221" y="548"/>
                  <a:pt x="1228" y="554"/>
                </a:cubicBezTo>
              </a:path>
              <a:path w="1297" h="2028">
                <a:moveTo>
                  <a:pt x="1163" y="960"/>
                </a:moveTo>
                <a:cubicBezTo>
                  <a:pt x="1194" y="981"/>
                  <a:pt x="1193" y="963"/>
                  <a:pt x="1229" y="955"/>
                </a:cubicBezTo>
                <a:cubicBezTo>
                  <a:pt x="1252" y="950"/>
                  <a:pt x="1273" y="947"/>
                  <a:pt x="1296" y="945"/>
                </a:cubicBezTo>
              </a:path>
              <a:path w="1297" h="2028">
                <a:moveTo>
                  <a:pt x="1151" y="1285"/>
                </a:moveTo>
                <a:cubicBezTo>
                  <a:pt x="1151" y="1320"/>
                  <a:pt x="1159" y="1329"/>
                  <a:pt x="1181" y="1358"/>
                </a:cubicBezTo>
                <a:cubicBezTo>
                  <a:pt x="1198" y="1381"/>
                  <a:pt x="1207" y="1389"/>
                  <a:pt x="1231" y="1404"/>
                </a:cubicBezTo>
              </a:path>
              <a:path w="1297" h="2028">
                <a:moveTo>
                  <a:pt x="611" y="1561"/>
                </a:moveTo>
                <a:cubicBezTo>
                  <a:pt x="590" y="1523"/>
                  <a:pt x="591" y="1601"/>
                  <a:pt x="594" y="1604"/>
                </a:cubicBezTo>
                <a:cubicBezTo>
                  <a:pt x="621" y="1631"/>
                  <a:pt x="675" y="1603"/>
                  <a:pt x="704" y="1596"/>
                </a:cubicBezTo>
                <a:cubicBezTo>
                  <a:pt x="740" y="1587"/>
                  <a:pt x="778" y="1577"/>
                  <a:pt x="813" y="1565"/>
                </a:cubicBezTo>
                <a:cubicBezTo>
                  <a:pt x="831" y="1556"/>
                  <a:pt x="836" y="1553"/>
                  <a:pt x="850" y="1556"/>
                </a:cubicBezTo>
              </a:path>
              <a:path w="1297" h="2028">
                <a:moveTo>
                  <a:pt x="665" y="1758"/>
                </a:moveTo>
                <a:cubicBezTo>
                  <a:pt x="658" y="1778"/>
                  <a:pt x="654" y="1794"/>
                  <a:pt x="652" y="1815"/>
                </a:cubicBezTo>
                <a:cubicBezTo>
                  <a:pt x="675" y="1791"/>
                  <a:pt x="688" y="1770"/>
                  <a:pt x="725" y="1779"/>
                </a:cubicBezTo>
                <a:cubicBezTo>
                  <a:pt x="756" y="1786"/>
                  <a:pt x="777" y="1796"/>
                  <a:pt x="803" y="1768"/>
                </a:cubicBezTo>
                <a:cubicBezTo>
                  <a:pt x="835" y="1734"/>
                  <a:pt x="856" y="1682"/>
                  <a:pt x="873" y="1640"/>
                </a:cubicBezTo>
              </a:path>
            </a:pathLst>
          </a:custGeom>
          <a:noFill/>
          <a:ln cap="rnd"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Ink 207" descr=""/>
          <p:cNvPicPr/>
          <p:nvPr/>
        </p:nvPicPr>
        <p:blipFill>
          <a:blip r:embed="rId19"/>
          <a:stretch/>
        </p:blipFill>
        <p:spPr>
          <a:xfrm>
            <a:off x="334800" y="3865680"/>
            <a:ext cx="822600" cy="376200"/>
          </a:xfrm>
          <a:prstGeom prst="rect">
            <a:avLst/>
          </a:prstGeom>
          <a:ln w="0">
            <a:noFill/>
          </a:ln>
        </p:spPr>
      </p:pic>
      <p:pic>
        <p:nvPicPr>
          <p:cNvPr id="1290" name="Ink 134" descr=""/>
          <p:cNvPicPr/>
          <p:nvPr/>
        </p:nvPicPr>
        <p:blipFill>
          <a:blip r:embed="rId20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1291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75"/>
          <p:cNvSpPr/>
          <p:nvPr/>
        </p:nvSpPr>
        <p:spPr>
          <a:xfrm>
            <a:off x="4524120" y="31240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54"/>
          <p:cNvSpPr/>
          <p:nvPr/>
        </p:nvSpPr>
        <p:spPr>
          <a:xfrm>
            <a:off x="3067200" y="22654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15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56"/>
          <p:cNvSpPr/>
          <p:nvPr/>
        </p:nvSpPr>
        <p:spPr>
          <a:xfrm>
            <a:off x="3835440" y="213372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57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8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5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66"/>
          <p:cNvSpPr/>
          <p:nvPr/>
        </p:nvSpPr>
        <p:spPr>
          <a:xfrm>
            <a:off x="4497480" y="170028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Machine Lea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65"/>
          <p:cNvGrpSpPr/>
          <p:nvPr/>
        </p:nvGrpSpPr>
        <p:grpSpPr>
          <a:xfrm>
            <a:off x="2971800" y="1676520"/>
            <a:ext cx="2943000" cy="436320"/>
            <a:chOff x="2971800" y="1676520"/>
            <a:chExt cx="2943000" cy="436320"/>
          </a:xfrm>
        </p:grpSpPr>
        <p:pic>
          <p:nvPicPr>
            <p:cNvPr id="1303" name="Ink 66" descr=""/>
            <p:cNvPicPr/>
            <p:nvPr/>
          </p:nvPicPr>
          <p:blipFill>
            <a:blip r:embed="rId21"/>
            <a:stretch/>
          </p:blipFill>
          <p:spPr>
            <a:xfrm>
              <a:off x="2971800" y="1695240"/>
              <a:ext cx="936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Ink 67" descr=""/>
            <p:cNvPicPr/>
            <p:nvPr/>
          </p:nvPicPr>
          <p:blipFill>
            <a:blip r:embed="rId22"/>
            <a:stretch/>
          </p:blipFill>
          <p:spPr>
            <a:xfrm>
              <a:off x="3045960" y="167652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Ink 68" descr=""/>
            <p:cNvPicPr/>
            <p:nvPr/>
          </p:nvPicPr>
          <p:blipFill>
            <a:blip r:embed="rId23"/>
            <a:stretch/>
          </p:blipFill>
          <p:spPr>
            <a:xfrm>
              <a:off x="5821200" y="169632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Ink 69" descr=""/>
            <p:cNvPicPr/>
            <p:nvPr/>
          </p:nvPicPr>
          <p:blipFill>
            <a:blip r:embed="rId24"/>
            <a:stretch/>
          </p:blipFill>
          <p:spPr>
            <a:xfrm>
              <a:off x="3114000" y="2086920"/>
              <a:ext cx="2800800" cy="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172"/>
          <p:cNvSpPr/>
          <p:nvPr/>
        </p:nvSpPr>
        <p:spPr>
          <a:xfrm>
            <a:off x="4421160" y="1166760"/>
            <a:ext cx="14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Deeper Ins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5"/>
          <p:cNvGrpSpPr/>
          <p:nvPr/>
        </p:nvGrpSpPr>
        <p:grpSpPr>
          <a:xfrm>
            <a:off x="2895480" y="1143000"/>
            <a:ext cx="2943000" cy="436320"/>
            <a:chOff x="2895480" y="1143000"/>
            <a:chExt cx="2943000" cy="436320"/>
          </a:xfrm>
        </p:grpSpPr>
        <p:pic>
          <p:nvPicPr>
            <p:cNvPr id="1309" name="Ink 66" descr=""/>
            <p:cNvPicPr/>
            <p:nvPr/>
          </p:nvPicPr>
          <p:blipFill>
            <a:blip r:embed="rId25"/>
            <a:stretch/>
          </p:blipFill>
          <p:spPr>
            <a:xfrm>
              <a:off x="2895480" y="1161720"/>
              <a:ext cx="9360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Ink 67" descr=""/>
            <p:cNvPicPr/>
            <p:nvPr/>
          </p:nvPicPr>
          <p:blipFill>
            <a:blip r:embed="rId26"/>
            <a:stretch/>
          </p:blipFill>
          <p:spPr>
            <a:xfrm>
              <a:off x="2969640" y="1143000"/>
              <a:ext cx="284724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Ink 68" descr=""/>
            <p:cNvPicPr/>
            <p:nvPr/>
          </p:nvPicPr>
          <p:blipFill>
            <a:blip r:embed="rId27"/>
            <a:stretch/>
          </p:blipFill>
          <p:spPr>
            <a:xfrm>
              <a:off x="5744880" y="1162800"/>
              <a:ext cx="6804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Ink 69" descr=""/>
            <p:cNvPicPr/>
            <p:nvPr/>
          </p:nvPicPr>
          <p:blipFill>
            <a:blip r:embed="rId28"/>
            <a:stretch/>
          </p:blipFill>
          <p:spPr>
            <a:xfrm>
              <a:off x="3037680" y="1552320"/>
              <a:ext cx="2800800" cy="2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Rectangle 4"/>
          <p:cNvSpPr/>
          <p:nvPr/>
        </p:nvSpPr>
        <p:spPr>
          <a:xfrm>
            <a:off x="7716960" y="12952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elt Tip Roman"/>
              </a:rPr>
              <a:t>Next </a:t>
            </a: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Ste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Ink 28" descr=""/>
          <p:cNvPicPr/>
          <p:nvPr/>
        </p:nvPicPr>
        <p:blipFill>
          <a:blip r:embed="rId29"/>
          <a:stretch/>
        </p:blipFill>
        <p:spPr>
          <a:xfrm>
            <a:off x="7769160" y="1623960"/>
            <a:ext cx="1035000" cy="5544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180"/>
          <p:cNvSpPr/>
          <p:nvPr/>
        </p:nvSpPr>
        <p:spPr>
          <a:xfrm>
            <a:off x="3505320" y="441360"/>
            <a:ext cx="16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IBM 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1317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Text Box 159"/>
          <p:cNvSpPr/>
          <p:nvPr/>
        </p:nvSpPr>
        <p:spPr>
          <a:xfrm>
            <a:off x="5849640" y="4495680"/>
            <a:ext cx="156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00% encryp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0 Appl Chgs &amp; S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59"/>
          <p:cNvSpPr/>
          <p:nvPr/>
        </p:nvSpPr>
        <p:spPr>
          <a:xfrm>
            <a:off x="2919240" y="4383000"/>
            <a:ext cx="1089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Fastest S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5X – x86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 to 32TB Mem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166"/>
          <p:cNvSpPr/>
          <p:nvPr/>
        </p:nvSpPr>
        <p:spPr>
          <a:xfrm>
            <a:off x="7156440" y="3835440"/>
            <a:ext cx="16066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Open, Agile, Por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Enriches existing Apps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167"/>
          <p:cNvSpPr/>
          <p:nvPr/>
        </p:nvSpPr>
        <p:spPr>
          <a:xfrm>
            <a:off x="7391520" y="36576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70c0"/>
                </a:solidFill>
                <a:latin typeface="Felt Tip Roman"/>
              </a:rPr>
              <a:t>Fiducia G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8"/>
          <p:cNvSpPr/>
          <p:nvPr/>
        </p:nvSpPr>
        <p:spPr>
          <a:xfrm>
            <a:off x="660240" y="5079960"/>
            <a:ext cx="113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bank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20"/>
          <p:cNvSpPr/>
          <p:nvPr/>
        </p:nvSpPr>
        <p:spPr>
          <a:xfrm>
            <a:off x="4433760" y="2211480"/>
            <a:ext cx="16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Pervasive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65"/>
          <p:cNvGrpSpPr/>
          <p:nvPr/>
        </p:nvGrpSpPr>
        <p:grpSpPr>
          <a:xfrm>
            <a:off x="2908440" y="2187720"/>
            <a:ext cx="3071160" cy="436320"/>
            <a:chOff x="2908440" y="2187720"/>
            <a:chExt cx="3071160" cy="436320"/>
          </a:xfrm>
        </p:grpSpPr>
        <p:pic>
          <p:nvPicPr>
            <p:cNvPr id="1328" name="Ink 66" descr=""/>
            <p:cNvPicPr/>
            <p:nvPr/>
          </p:nvPicPr>
          <p:blipFill>
            <a:blip r:embed="rId30"/>
            <a:stretch/>
          </p:blipFill>
          <p:spPr>
            <a:xfrm>
              <a:off x="2908440" y="2206440"/>
              <a:ext cx="954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Ink 67" descr=""/>
            <p:cNvPicPr/>
            <p:nvPr/>
          </p:nvPicPr>
          <p:blipFill>
            <a:blip r:embed="rId31"/>
            <a:stretch/>
          </p:blipFill>
          <p:spPr>
            <a:xfrm>
              <a:off x="2985840" y="2187720"/>
              <a:ext cx="2971080" cy="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Ink 68" descr=""/>
            <p:cNvPicPr/>
            <p:nvPr/>
          </p:nvPicPr>
          <p:blipFill>
            <a:blip r:embed="rId32"/>
            <a:stretch/>
          </p:blipFill>
          <p:spPr>
            <a:xfrm>
              <a:off x="5882040" y="2207520"/>
              <a:ext cx="709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Ink 69" descr=""/>
            <p:cNvPicPr/>
            <p:nvPr/>
          </p:nvPicPr>
          <p:blipFill>
            <a:blip r:embed="rId33"/>
            <a:stretch/>
          </p:blipFill>
          <p:spPr>
            <a:xfrm>
              <a:off x="3056760" y="2596680"/>
              <a:ext cx="2922840" cy="2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2" name="Ink 28" descr=""/>
          <p:cNvPicPr/>
          <p:nvPr/>
        </p:nvPicPr>
        <p:blipFill>
          <a:blip r:embed="rId34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pic>
        <p:nvPicPr>
          <p:cNvPr id="1333" name="Ink 28" descr=""/>
          <p:cNvPicPr/>
          <p:nvPr/>
        </p:nvPicPr>
        <p:blipFill>
          <a:blip r:embed="rId35"/>
          <a:stretch/>
        </p:blipFill>
        <p:spPr>
          <a:xfrm>
            <a:off x="7388280" y="3909960"/>
            <a:ext cx="1035000" cy="55440"/>
          </a:xfrm>
          <a:prstGeom prst="rect">
            <a:avLst/>
          </a:prstGeom>
          <a:ln w="0">
            <a:noFill/>
          </a:ln>
        </p:spPr>
      </p:pic>
      <p:pic>
        <p:nvPicPr>
          <p:cNvPr id="1334" name="Ink 28" descr=""/>
          <p:cNvPicPr/>
          <p:nvPr/>
        </p:nvPicPr>
        <p:blipFill>
          <a:blip r:embed="rId36"/>
          <a:stretch/>
        </p:blipFill>
        <p:spPr>
          <a:xfrm>
            <a:off x="606600" y="5329080"/>
            <a:ext cx="1035000" cy="55800"/>
          </a:xfrm>
          <a:prstGeom prst="rect">
            <a:avLst/>
          </a:prstGeom>
          <a:ln w="0">
            <a:noFill/>
          </a:ln>
        </p:spPr>
      </p:pic>
      <p:sp>
        <p:nvSpPr>
          <p:cNvPr id="1335" name="TextBox 1"/>
          <p:cNvSpPr/>
          <p:nvPr/>
        </p:nvSpPr>
        <p:spPr>
          <a:xfrm>
            <a:off x="4557600" y="61642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Felt Tip Roman"/>
              </a:rPr>
              <a:t>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Ink 49"/>
          <p:cNvSpPr/>
          <p:nvPr/>
        </p:nvSpPr>
        <p:spPr>
          <a:xfrm>
            <a:off x="5105520" y="6213600"/>
            <a:ext cx="73080" cy="263520"/>
          </a:xfrm>
          <a:custGeom>
            <a:avLst/>
            <a:gdLst>
              <a:gd name="textAreaLeft" fmla="*/ 0 w 73080"/>
              <a:gd name="textAreaRight" fmla="*/ 73440 w 73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57" h="931">
                <a:moveTo>
                  <a:pt x="110" y="0"/>
                </a:moveTo>
                <a:cubicBezTo>
                  <a:pt x="96" y="33"/>
                  <a:pt x="98" y="59"/>
                  <a:pt x="97" y="95"/>
                </a:cubicBezTo>
                <a:cubicBezTo>
                  <a:pt x="95" y="162"/>
                  <a:pt x="89" y="230"/>
                  <a:pt x="88" y="297"/>
                </a:cubicBezTo>
                <a:cubicBezTo>
                  <a:pt x="86" y="393"/>
                  <a:pt x="86" y="490"/>
                  <a:pt x="84" y="586"/>
                </a:cubicBezTo>
                <a:cubicBezTo>
                  <a:pt x="82" y="673"/>
                  <a:pt x="59" y="794"/>
                  <a:pt x="84" y="880"/>
                </a:cubicBezTo>
                <a:cubicBezTo>
                  <a:pt x="87" y="886"/>
                  <a:pt x="91" y="892"/>
                  <a:pt x="94" y="898"/>
                </a:cubicBezTo>
              </a:path>
              <a:path w="257" h="931">
                <a:moveTo>
                  <a:pt x="0" y="713"/>
                </a:moveTo>
                <a:cubicBezTo>
                  <a:pt x="15" y="691"/>
                  <a:pt x="12" y="731"/>
                  <a:pt x="19" y="751"/>
                </a:cubicBezTo>
                <a:cubicBezTo>
                  <a:pt x="28" y="777"/>
                  <a:pt x="37" y="804"/>
                  <a:pt x="44" y="830"/>
                </a:cubicBezTo>
                <a:cubicBezTo>
                  <a:pt x="51" y="856"/>
                  <a:pt x="58" y="884"/>
                  <a:pt x="72" y="908"/>
                </a:cubicBezTo>
                <a:cubicBezTo>
                  <a:pt x="83" y="924"/>
                  <a:pt x="84" y="930"/>
                  <a:pt x="98" y="930"/>
                </a:cubicBezTo>
                <a:cubicBezTo>
                  <a:pt x="118" y="911"/>
                  <a:pt x="132" y="892"/>
                  <a:pt x="145" y="867"/>
                </a:cubicBezTo>
                <a:cubicBezTo>
                  <a:pt x="164" y="832"/>
                  <a:pt x="183" y="796"/>
                  <a:pt x="201" y="761"/>
                </a:cubicBezTo>
                <a:cubicBezTo>
                  <a:pt x="217" y="729"/>
                  <a:pt x="233" y="700"/>
                  <a:pt x="256" y="678"/>
                </a:cubicBezTo>
              </a:path>
            </a:pathLst>
          </a:custGeom>
          <a:solidFill>
            <a:srgbClr val="0070c0"/>
          </a:solidFill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151"/>
          <p:cNvSpPr/>
          <p:nvPr/>
        </p:nvSpPr>
        <p:spPr>
          <a:xfrm>
            <a:off x="2895480" y="1066680"/>
            <a:ext cx="13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39"/>
          <p:cNvSpPr/>
          <p:nvPr/>
        </p:nvSpPr>
        <p:spPr>
          <a:xfrm>
            <a:off x="533520" y="5342040"/>
            <a:ext cx="24526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0070c0"/>
                </a:solidFill>
                <a:latin typeface="Felt Tip Roman"/>
              </a:rPr>
              <a:t>Fast &amp; Cost Effic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Centralize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Manage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153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1341" name="Ink 28" descr=""/>
            <p:cNvPicPr/>
            <p:nvPr/>
          </p:nvPicPr>
          <p:blipFill>
            <a:blip r:embed="rId37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TextBox 153"/>
          <p:cNvSpPr/>
          <p:nvPr/>
        </p:nvSpPr>
        <p:spPr>
          <a:xfrm>
            <a:off x="3835440" y="1066680"/>
            <a:ext cx="507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70c0"/>
                </a:solidFill>
                <a:latin typeface="Felt Tip Roman"/>
              </a:rPr>
              <a:t>Ag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53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159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61"/>
          <p:cNvSpPr/>
          <p:nvPr/>
        </p:nvSpPr>
        <p:spPr>
          <a:xfrm>
            <a:off x="6797520" y="5102280"/>
            <a:ext cx="8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159"/>
          <p:cNvSpPr/>
          <p:nvPr/>
        </p:nvSpPr>
        <p:spPr>
          <a:xfrm>
            <a:off x="2375280" y="54864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Felt Tip Roman"/>
              </a:rPr>
              <a:t>170/1000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61" name="Ink 28" descr=""/>
            <p:cNvPicPr/>
            <p:nvPr/>
          </p:nvPicPr>
          <p:blipFill>
            <a:blip r:embed="rId1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nk 67" descr=""/>
          <p:cNvPicPr/>
          <p:nvPr/>
        </p:nvPicPr>
        <p:blipFill>
          <a:blip r:embed="rId1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Ink 65" descr=""/>
          <p:cNvPicPr/>
          <p:nvPr/>
        </p:nvPicPr>
        <p:blipFill>
          <a:blip r:embed="rId2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65" name="Ink 67" descr=""/>
          <p:cNvPicPr/>
          <p:nvPr/>
        </p:nvPicPr>
        <p:blipFill>
          <a:blip r:embed="rId3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66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70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85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1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89" name="Ink 28" descr=""/>
            <p:cNvPicPr/>
            <p:nvPr/>
          </p:nvPicPr>
          <p:blipFill>
            <a:blip r:embed="rId4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k 67" descr=""/>
          <p:cNvPicPr/>
          <p:nvPr/>
        </p:nvPicPr>
        <p:blipFill>
          <a:blip r:embed="rId1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92" name="Ink 65" descr=""/>
          <p:cNvPicPr/>
          <p:nvPr/>
        </p:nvPicPr>
        <p:blipFill>
          <a:blip r:embed="rId2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93" name="Ink 67" descr=""/>
          <p:cNvPicPr/>
          <p:nvPr/>
        </p:nvPicPr>
        <p:blipFill>
          <a:blip r:embed="rId3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94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98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113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7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117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119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Ink 18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Group 42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122" name="Ink 233" descr=""/>
            <p:cNvPicPr/>
            <p:nvPr/>
          </p:nvPicPr>
          <p:blipFill>
            <a:blip r:embed="rId5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124" name="Ink 22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127" name="Ink 2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8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129" name="Ink 6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0" name="Ink 22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1" name="Ink 22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2" name="Ink 23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3" name="Ink 2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4" name="Ink 234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35" name="Ink 23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36" name="Ink 203" descr=""/>
          <p:cNvPicPr/>
          <p:nvPr/>
        </p:nvPicPr>
        <p:blipFill>
          <a:blip r:embed="rId15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142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71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150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4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153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154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Ink 28" descr=""/>
          <p:cNvPicPr/>
          <p:nvPr/>
        </p:nvPicPr>
        <p:blipFill>
          <a:blip r:embed="rId16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3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160" name="Ink 28" descr=""/>
            <p:cNvPicPr/>
            <p:nvPr/>
          </p:nvPicPr>
          <p:blipFill>
            <a:blip r:embed="rId17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96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7"/>
          <p:cNvSpPr/>
          <p:nvPr/>
        </p:nvSpPr>
        <p:spPr>
          <a:xfrm>
            <a:off x="3016080" y="2265480"/>
            <a:ext cx="10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168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170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2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173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175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177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178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79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180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81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82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83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84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85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86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87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193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201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204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205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209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210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211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215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230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91"/>
          <p:cNvSpPr/>
          <p:nvPr/>
        </p:nvSpPr>
        <p:spPr>
          <a:xfrm>
            <a:off x="3835440" y="21337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2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3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nk 28" descr=""/>
          <p:cNvPicPr/>
          <p:nvPr/>
        </p:nvPicPr>
        <p:blipFill>
          <a:blip r:embed="rId17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0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238" name="Ink 28" descr=""/>
            <p:cNvPicPr/>
            <p:nvPr/>
          </p:nvPicPr>
          <p:blipFill>
            <a:blip r:embed="rId18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243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245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248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250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1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252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253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255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6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7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8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261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262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268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276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279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280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284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285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286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290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305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01"/>
          <p:cNvSpPr/>
          <p:nvPr/>
        </p:nvSpPr>
        <p:spPr>
          <a:xfrm>
            <a:off x="3835440" y="21337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02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3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04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5"/>
          <p:cNvSpPr/>
          <p:nvPr/>
        </p:nvSpPr>
        <p:spPr>
          <a:xfrm>
            <a:off x="3016080" y="2265480"/>
            <a:ext cx="10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6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nk 28" descr=""/>
          <p:cNvPicPr/>
          <p:nvPr/>
        </p:nvPicPr>
        <p:blipFill>
          <a:blip r:embed="rId18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3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319" name="Ink 28" descr=""/>
            <p:cNvPicPr/>
            <p:nvPr/>
          </p:nvPicPr>
          <p:blipFill>
            <a:blip r:embed="rId19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324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326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7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8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329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331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2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333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334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35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336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7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8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9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0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1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342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43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349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357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360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361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365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366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367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371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386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01"/>
          <p:cNvSpPr/>
          <p:nvPr/>
        </p:nvSpPr>
        <p:spPr>
          <a:xfrm>
            <a:off x="3835440" y="21337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2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03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04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5"/>
          <p:cNvSpPr/>
          <p:nvPr/>
        </p:nvSpPr>
        <p:spPr>
          <a:xfrm>
            <a:off x="3016080" y="2265480"/>
            <a:ext cx="10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06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Ink 28" descr=""/>
          <p:cNvPicPr/>
          <p:nvPr/>
        </p:nvPicPr>
        <p:blipFill>
          <a:blip r:embed="rId18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69"/>
          <p:cNvSpPr/>
          <p:nvPr/>
        </p:nvSpPr>
        <p:spPr>
          <a:xfrm>
            <a:off x="4368240" y="5940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1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403" name="Ink 28" descr=""/>
            <p:cNvPicPr/>
            <p:nvPr/>
          </p:nvPicPr>
          <p:blipFill>
            <a:blip r:embed="rId19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409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411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2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3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414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416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418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419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20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421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2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3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4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5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6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427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428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434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442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445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446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450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451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452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456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471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01"/>
          <p:cNvSpPr/>
          <p:nvPr/>
        </p:nvSpPr>
        <p:spPr>
          <a:xfrm>
            <a:off x="3835440" y="21337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2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03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04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5"/>
          <p:cNvSpPr/>
          <p:nvPr/>
        </p:nvSpPr>
        <p:spPr>
          <a:xfrm>
            <a:off x="3016080" y="2265480"/>
            <a:ext cx="10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06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Ink 134" descr=""/>
          <p:cNvPicPr/>
          <p:nvPr/>
        </p:nvPicPr>
        <p:blipFill>
          <a:blip r:embed="rId18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75"/>
          <p:cNvSpPr/>
          <p:nvPr/>
        </p:nvSpPr>
        <p:spPr>
          <a:xfrm>
            <a:off x="4524120" y="31240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1"/>
          <p:cNvSpPr/>
          <p:nvPr/>
        </p:nvSpPr>
        <p:spPr>
          <a:xfrm>
            <a:off x="5289480" y="46483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nk 28" descr=""/>
          <p:cNvPicPr/>
          <p:nvPr/>
        </p:nvPicPr>
        <p:blipFill>
          <a:blip r:embed="rId19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69"/>
          <p:cNvSpPr/>
          <p:nvPr/>
        </p:nvSpPr>
        <p:spPr>
          <a:xfrm>
            <a:off x="4368240" y="5940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91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492" name="Ink 28" descr=""/>
            <p:cNvPicPr/>
            <p:nvPr/>
          </p:nvPicPr>
          <p:blipFill>
            <a:blip r:embed="rId20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36"/>
          <p:cNvSpPr/>
          <p:nvPr/>
        </p:nvSpPr>
        <p:spPr>
          <a:xfrm>
            <a:off x="76320" y="5335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nk 184" descr=""/>
          <p:cNvPicPr/>
          <p:nvPr/>
        </p:nvPicPr>
        <p:blipFill>
          <a:blip r:embed="rId1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497" name="Group 8"/>
          <p:cNvGrpSpPr/>
          <p:nvPr/>
        </p:nvGrpSpPr>
        <p:grpSpPr>
          <a:xfrm>
            <a:off x="390600" y="1981080"/>
            <a:ext cx="660240" cy="533520"/>
            <a:chOff x="390600" y="1981080"/>
            <a:chExt cx="660240" cy="533520"/>
          </a:xfrm>
        </p:grpSpPr>
        <p:sp>
          <p:nvSpPr>
            <p:cNvPr id="498" name="Ink 17"/>
            <p:cNvSpPr/>
            <p:nvPr/>
          </p:nvSpPr>
          <p:spPr>
            <a:xfrm>
              <a:off x="393480" y="2022120"/>
              <a:ext cx="639720" cy="4827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188" h="1733">
                  <a:moveTo>
                    <a:pt x="54" y="34"/>
                  </a:moveTo>
                  <a:cubicBezTo>
                    <a:pt x="60" y="23"/>
                    <a:pt x="65" y="11"/>
                    <a:pt x="71" y="0"/>
                  </a:cubicBezTo>
                  <a:cubicBezTo>
                    <a:pt x="66" y="74"/>
                    <a:pt x="56" y="148"/>
                    <a:pt x="53" y="223"/>
                  </a:cubicBezTo>
                  <a:cubicBezTo>
                    <a:pt x="45" y="434"/>
                    <a:pt x="39" y="646"/>
                    <a:pt x="34" y="858"/>
                  </a:cubicBezTo>
                  <a:cubicBezTo>
                    <a:pt x="29" y="1049"/>
                    <a:pt x="21" y="1240"/>
                    <a:pt x="13" y="1431"/>
                  </a:cubicBezTo>
                  <a:cubicBezTo>
                    <a:pt x="9" y="1531"/>
                    <a:pt x="2" y="1633"/>
                    <a:pt x="4" y="1732"/>
                  </a:cubicBezTo>
                </a:path>
                <a:path w="2188" h="1733">
                  <a:moveTo>
                    <a:pt x="147" y="20"/>
                  </a:moveTo>
                  <a:cubicBezTo>
                    <a:pt x="171" y="36"/>
                    <a:pt x="175" y="45"/>
                    <a:pt x="215" y="50"/>
                  </a:cubicBezTo>
                  <a:cubicBezTo>
                    <a:pt x="310" y="61"/>
                    <a:pt x="417" y="43"/>
                    <a:pt x="513" y="43"/>
                  </a:cubicBezTo>
                  <a:cubicBezTo>
                    <a:pt x="696" y="44"/>
                    <a:pt x="879" y="46"/>
                    <a:pt x="1061" y="53"/>
                  </a:cubicBezTo>
                  <a:cubicBezTo>
                    <a:pt x="1394" y="66"/>
                    <a:pt x="1726" y="100"/>
                    <a:pt x="2058" y="116"/>
                  </a:cubicBezTo>
                  <a:cubicBezTo>
                    <a:pt x="2123" y="116"/>
                    <a:pt x="2142" y="116"/>
                    <a:pt x="2184" y="124"/>
                  </a:cubicBezTo>
                </a:path>
                <a:path w="2188" h="1733">
                  <a:moveTo>
                    <a:pt x="2187" y="129"/>
                  </a:moveTo>
                  <a:cubicBezTo>
                    <a:pt x="2181" y="172"/>
                    <a:pt x="2178" y="216"/>
                    <a:pt x="2171" y="258"/>
                  </a:cubicBezTo>
                  <a:cubicBezTo>
                    <a:pt x="2156" y="340"/>
                    <a:pt x="2136" y="422"/>
                    <a:pt x="2121" y="504"/>
                  </a:cubicBezTo>
                  <a:cubicBezTo>
                    <a:pt x="2109" y="569"/>
                    <a:pt x="2090" y="640"/>
                    <a:pt x="2090" y="707"/>
                  </a:cubicBezTo>
                  <a:cubicBezTo>
                    <a:pt x="2090" y="738"/>
                    <a:pt x="2093" y="745"/>
                    <a:pt x="2108" y="767"/>
                  </a:cubicBezTo>
                </a:path>
                <a:path w="2188" h="1733">
                  <a:moveTo>
                    <a:pt x="328" y="405"/>
                  </a:moveTo>
                  <a:cubicBezTo>
                    <a:pt x="349" y="396"/>
                    <a:pt x="361" y="389"/>
                    <a:pt x="385" y="385"/>
                  </a:cubicBezTo>
                  <a:cubicBezTo>
                    <a:pt x="412" y="381"/>
                    <a:pt x="437" y="385"/>
                    <a:pt x="464" y="385"/>
                  </a:cubicBezTo>
                  <a:cubicBezTo>
                    <a:pt x="790" y="389"/>
                    <a:pt x="1115" y="378"/>
                    <a:pt x="1441" y="384"/>
                  </a:cubicBezTo>
                  <a:cubicBezTo>
                    <a:pt x="1552" y="386"/>
                    <a:pt x="1668" y="395"/>
                    <a:pt x="1778" y="392"/>
                  </a:cubicBezTo>
                  <a:cubicBezTo>
                    <a:pt x="1789" y="390"/>
                    <a:pt x="1801" y="388"/>
                    <a:pt x="1812" y="386"/>
                  </a:cubicBezTo>
                </a:path>
                <a:path w="2188" h="1733">
                  <a:moveTo>
                    <a:pt x="390" y="734"/>
                  </a:moveTo>
                  <a:cubicBezTo>
                    <a:pt x="479" y="731"/>
                    <a:pt x="567" y="721"/>
                    <a:pt x="656" y="719"/>
                  </a:cubicBezTo>
                  <a:cubicBezTo>
                    <a:pt x="783" y="716"/>
                    <a:pt x="910" y="720"/>
                    <a:pt x="1037" y="722"/>
                  </a:cubicBezTo>
                  <a:cubicBezTo>
                    <a:pt x="1235" y="726"/>
                    <a:pt x="1434" y="728"/>
                    <a:pt x="1631" y="736"/>
                  </a:cubicBezTo>
                  <a:cubicBezTo>
                    <a:pt x="1734" y="740"/>
                    <a:pt x="1837" y="743"/>
                    <a:pt x="1940" y="748"/>
                  </a:cubicBezTo>
                </a:path>
                <a:path w="2188" h="1733">
                  <a:moveTo>
                    <a:pt x="329" y="1089"/>
                  </a:moveTo>
                  <a:cubicBezTo>
                    <a:pt x="399" y="1101"/>
                    <a:pt x="469" y="1098"/>
                    <a:pt x="540" y="1097"/>
                  </a:cubicBezTo>
                  <a:cubicBezTo>
                    <a:pt x="682" y="1096"/>
                    <a:pt x="822" y="1090"/>
                    <a:pt x="964" y="1086"/>
                  </a:cubicBezTo>
                  <a:cubicBezTo>
                    <a:pt x="1100" y="1083"/>
                    <a:pt x="1237" y="1086"/>
                    <a:pt x="1372" y="1077"/>
                  </a:cubicBezTo>
                  <a:cubicBezTo>
                    <a:pt x="1399" y="1074"/>
                    <a:pt x="1425" y="1070"/>
                    <a:pt x="1452" y="106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7"/>
            <p:cNvGrpSpPr/>
            <p:nvPr/>
          </p:nvGrpSpPr>
          <p:grpSpPr>
            <a:xfrm>
              <a:off x="390600" y="1981080"/>
              <a:ext cx="660240" cy="533520"/>
              <a:chOff x="390600" y="1981080"/>
              <a:chExt cx="660240" cy="533520"/>
            </a:xfrm>
          </p:grpSpPr>
          <p:sp>
            <p:nvSpPr>
              <p:cNvPr id="500" name="Ink 18"/>
              <p:cNvSpPr/>
              <p:nvPr/>
            </p:nvSpPr>
            <p:spPr>
              <a:xfrm>
                <a:off x="397440" y="1981080"/>
                <a:ext cx="653400" cy="387720"/>
              </a:xfrm>
              <a:custGeom>
                <a:avLst/>
                <a:gdLst>
                  <a:gd name="textAreaLeft" fmla="*/ 0 w 653400"/>
                  <a:gd name="textAreaRight" fmla="*/ 653760 w 65340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2256" h="1418">
                    <a:moveTo>
                      <a:pt x="0" y="1417"/>
                    </a:moveTo>
                    <a:cubicBezTo>
                      <a:pt x="32" y="1379"/>
                      <a:pt x="63" y="1340"/>
                      <a:pt x="99" y="1305"/>
                    </a:cubicBezTo>
                    <a:cubicBezTo>
                      <a:pt x="227" y="1181"/>
                      <a:pt x="389" y="1040"/>
                      <a:pt x="568" y="1003"/>
                    </a:cubicBezTo>
                    <a:cubicBezTo>
                      <a:pt x="616" y="993"/>
                      <a:pt x="642" y="1000"/>
                      <a:pt x="677" y="1033"/>
                    </a:cubicBezTo>
                    <a:cubicBezTo>
                      <a:pt x="731" y="1084"/>
                      <a:pt x="737" y="1169"/>
                      <a:pt x="827" y="1170"/>
                    </a:cubicBezTo>
                    <a:cubicBezTo>
                      <a:pt x="865" y="1170"/>
                      <a:pt x="889" y="1157"/>
                      <a:pt x="919" y="1134"/>
                    </a:cubicBezTo>
                    <a:cubicBezTo>
                      <a:pt x="957" y="1104"/>
                      <a:pt x="977" y="1037"/>
                      <a:pt x="998" y="994"/>
                    </a:cubicBezTo>
                    <a:cubicBezTo>
                      <a:pt x="1017" y="955"/>
                      <a:pt x="1031" y="914"/>
                      <a:pt x="1054" y="878"/>
                    </a:cubicBezTo>
                    <a:cubicBezTo>
                      <a:pt x="1082" y="835"/>
                      <a:pt x="1142" y="771"/>
                      <a:pt x="1198" y="774"/>
                    </a:cubicBezTo>
                    <a:cubicBezTo>
                      <a:pt x="1265" y="778"/>
                      <a:pt x="1259" y="835"/>
                      <a:pt x="1311" y="851"/>
                    </a:cubicBezTo>
                    <a:cubicBezTo>
                      <a:pt x="1360" y="866"/>
                      <a:pt x="1376" y="837"/>
                      <a:pt x="1406" y="799"/>
                    </a:cubicBezTo>
                    <a:cubicBezTo>
                      <a:pt x="1438" y="758"/>
                      <a:pt x="1465" y="703"/>
                      <a:pt x="1487" y="656"/>
                    </a:cubicBezTo>
                    <a:cubicBezTo>
                      <a:pt x="1516" y="595"/>
                      <a:pt x="1549" y="459"/>
                      <a:pt x="1626" y="445"/>
                    </a:cubicBezTo>
                    <a:cubicBezTo>
                      <a:pt x="1667" y="438"/>
                      <a:pt x="1707" y="487"/>
                      <a:pt x="1754" y="483"/>
                    </a:cubicBezTo>
                    <a:cubicBezTo>
                      <a:pt x="1807" y="478"/>
                      <a:pt x="1868" y="431"/>
                      <a:pt x="1907" y="398"/>
                    </a:cubicBezTo>
                    <a:cubicBezTo>
                      <a:pt x="2015" y="307"/>
                      <a:pt x="2072" y="173"/>
                      <a:pt x="2171" y="80"/>
                    </a:cubicBezTo>
                    <a:cubicBezTo>
                      <a:pt x="2188" y="62"/>
                      <a:pt x="2191" y="55"/>
                      <a:pt x="2209" y="63"/>
                    </a:cubicBezTo>
                  </a:path>
                  <a:path w="2256" h="1418">
                    <a:moveTo>
                      <a:pt x="2048" y="30"/>
                    </a:moveTo>
                    <a:cubicBezTo>
                      <a:pt x="2042" y="34"/>
                      <a:pt x="2036" y="38"/>
                      <a:pt x="2030" y="42"/>
                    </a:cubicBezTo>
                    <a:cubicBezTo>
                      <a:pt x="2057" y="45"/>
                      <a:pt x="2077" y="34"/>
                      <a:pt x="2105" y="26"/>
                    </a:cubicBezTo>
                    <a:cubicBezTo>
                      <a:pt x="2130" y="19"/>
                      <a:pt x="2156" y="15"/>
                      <a:pt x="2181" y="10"/>
                    </a:cubicBezTo>
                    <a:cubicBezTo>
                      <a:pt x="2211" y="4"/>
                      <a:pt x="2233" y="-13"/>
                      <a:pt x="2251" y="20"/>
                    </a:cubicBezTo>
                    <a:cubicBezTo>
                      <a:pt x="2261" y="38"/>
                      <a:pt x="2250" y="71"/>
                      <a:pt x="2243" y="89"/>
                    </a:cubicBezTo>
                    <a:cubicBezTo>
                      <a:pt x="2233" y="114"/>
                      <a:pt x="2226" y="140"/>
                      <a:pt x="2218" y="166"/>
                    </a:cubicBezTo>
                    <a:cubicBezTo>
                      <a:pt x="2208" y="196"/>
                      <a:pt x="2182" y="236"/>
                      <a:pt x="2176" y="263"/>
                    </a:cubicBezTo>
                    <a:cubicBezTo>
                      <a:pt x="2176" y="273"/>
                      <a:pt x="2176" y="284"/>
                      <a:pt x="2176" y="29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1" name="Ink 18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196720"/>
                <a:ext cx="625320" cy="31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02" name="Group 14"/>
          <p:cNvGrpSpPr/>
          <p:nvPr/>
        </p:nvGrpSpPr>
        <p:grpSpPr>
          <a:xfrm>
            <a:off x="457200" y="2924280"/>
            <a:ext cx="533520" cy="609480"/>
            <a:chOff x="457200" y="2924280"/>
            <a:chExt cx="533520" cy="609480"/>
          </a:xfrm>
        </p:grpSpPr>
        <p:pic>
          <p:nvPicPr>
            <p:cNvPr id="503" name="Ink 233" descr=""/>
            <p:cNvPicPr/>
            <p:nvPr/>
          </p:nvPicPr>
          <p:blipFill>
            <a:blip r:embed="rId3"/>
            <a:stretch/>
          </p:blipFill>
          <p:spPr>
            <a:xfrm>
              <a:off x="519840" y="2924280"/>
              <a:ext cx="73800" cy="4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4" name="Group 13"/>
            <p:cNvGrpSpPr/>
            <p:nvPr/>
          </p:nvGrpSpPr>
          <p:grpSpPr>
            <a:xfrm>
              <a:off x="457200" y="2942640"/>
              <a:ext cx="533520" cy="591120"/>
              <a:chOff x="457200" y="2942640"/>
              <a:chExt cx="533520" cy="591120"/>
            </a:xfrm>
          </p:grpSpPr>
          <p:pic>
            <p:nvPicPr>
              <p:cNvPr id="505" name="Ink 228" descr=""/>
              <p:cNvPicPr/>
              <p:nvPr/>
            </p:nvPicPr>
            <p:blipFill>
              <a:blip r:embed="rId4"/>
              <a:stretch/>
            </p:blipFill>
            <p:spPr>
              <a:xfrm>
                <a:off x="912960" y="2942640"/>
                <a:ext cx="77760" cy="7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6" name="Group 11"/>
              <p:cNvGrpSpPr/>
              <p:nvPr/>
            </p:nvGrpSpPr>
            <p:grpSpPr>
              <a:xfrm>
                <a:off x="457200" y="2946960"/>
                <a:ext cx="511920" cy="586800"/>
                <a:chOff x="457200" y="2946960"/>
                <a:chExt cx="511920" cy="586800"/>
              </a:xfrm>
            </p:grpSpPr>
            <p:grpSp>
              <p:nvGrpSpPr>
                <p:cNvPr id="507" name="Group 10"/>
                <p:cNvGrpSpPr/>
                <p:nvPr/>
              </p:nvGrpSpPr>
              <p:grpSpPr>
                <a:xfrm>
                  <a:off x="457200" y="2946960"/>
                  <a:ext cx="511920" cy="586800"/>
                  <a:chOff x="457200" y="2946960"/>
                  <a:chExt cx="511920" cy="586800"/>
                </a:xfrm>
              </p:grpSpPr>
              <p:pic>
                <p:nvPicPr>
                  <p:cNvPr id="508" name="Ink 2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000" y="2962440"/>
                    <a:ext cx="1314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09" name="Group 9"/>
                  <p:cNvGrpSpPr/>
                  <p:nvPr/>
                </p:nvGrpSpPr>
                <p:grpSpPr>
                  <a:xfrm>
                    <a:off x="457200" y="2946960"/>
                    <a:ext cx="511920" cy="586800"/>
                    <a:chOff x="457200" y="2946960"/>
                    <a:chExt cx="511920" cy="586800"/>
                  </a:xfrm>
                </p:grpSpPr>
                <p:pic>
                  <p:nvPicPr>
                    <p:cNvPr id="510" name="Ink 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680" y="3067560"/>
                      <a:ext cx="1890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1" name="Ink 2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9080" y="2982600"/>
                      <a:ext cx="140040" cy="12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2" name="Ink 2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720" y="3316680"/>
                      <a:ext cx="145440" cy="19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3" name="Ink 23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438720"/>
                      <a:ext cx="11448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4" name="Ink 2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5440" y="2946960"/>
                      <a:ext cx="67680" cy="1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5" name="Ink 23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880" y="3308400"/>
                      <a:ext cx="115560" cy="1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516" name="Ink 23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1280" y="3380760"/>
                  <a:ext cx="7380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517" name="Ink 203" descr=""/>
          <p:cNvPicPr/>
          <p:nvPr/>
        </p:nvPicPr>
        <p:blipFill>
          <a:blip r:embed="rId13"/>
          <a:stretch/>
        </p:blipFill>
        <p:spPr>
          <a:xfrm>
            <a:off x="533520" y="3906720"/>
            <a:ext cx="485640" cy="630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6"/>
          <p:cNvSpPr/>
          <p:nvPr/>
        </p:nvSpPr>
        <p:spPr>
          <a:xfrm>
            <a:off x="542880" y="160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6"/>
          <p:cNvSpPr/>
          <p:nvPr/>
        </p:nvSpPr>
        <p:spPr>
          <a:xfrm>
            <a:off x="314280" y="2514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0600" y="3533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effici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6"/>
          <p:cNvSpPr/>
          <p:nvPr/>
        </p:nvSpPr>
        <p:spPr>
          <a:xfrm>
            <a:off x="542880" y="4525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Felt Tip Roman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577800" y="1143000"/>
            <a:ext cx="412920" cy="426960"/>
            <a:chOff x="577800" y="1143000"/>
            <a:chExt cx="412920" cy="426960"/>
          </a:xfrm>
        </p:grpSpPr>
        <p:sp>
          <p:nvSpPr>
            <p:cNvPr id="523" name="Comment 94"/>
            <p:cNvSpPr/>
            <p:nvPr/>
          </p:nvSpPr>
          <p:spPr>
            <a:xfrm>
              <a:off x="609480" y="1536840"/>
              <a:ext cx="316080" cy="33120"/>
            </a:xfrm>
            <a:custGeom>
              <a:avLst/>
              <a:gdLst>
                <a:gd name="textAreaLeft" fmla="*/ 0 w 316080"/>
                <a:gd name="textAreaRight" fmla="*/ 316080 w 31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35" h="60">
                  <a:moveTo>
                    <a:pt x="0" y="59"/>
                  </a:moveTo>
                  <a:cubicBezTo>
                    <a:pt x="33" y="46"/>
                    <a:pt x="45" y="47"/>
                    <a:pt x="80" y="50"/>
                  </a:cubicBezTo>
                  <a:cubicBezTo>
                    <a:pt x="112" y="53"/>
                    <a:pt x="152" y="52"/>
                    <a:pt x="184" y="50"/>
                  </a:cubicBezTo>
                  <a:cubicBezTo>
                    <a:pt x="248" y="46"/>
                    <a:pt x="312" y="35"/>
                    <a:pt x="375" y="32"/>
                  </a:cubicBezTo>
                  <a:cubicBezTo>
                    <a:pt x="449" y="28"/>
                    <a:pt x="524" y="31"/>
                    <a:pt x="597" y="23"/>
                  </a:cubicBezTo>
                  <a:cubicBezTo>
                    <a:pt x="643" y="18"/>
                    <a:pt x="689" y="9"/>
                    <a:pt x="734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Comment 98"/>
            <p:cNvSpPr/>
            <p:nvPr/>
          </p:nvSpPr>
          <p:spPr>
            <a:xfrm>
              <a:off x="717480" y="148428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0" h="13">
                  <a:moveTo>
                    <a:pt x="0" y="11"/>
                  </a:moveTo>
                  <a:cubicBezTo>
                    <a:pt x="26" y="11"/>
                    <a:pt x="47" y="6"/>
                    <a:pt x="73" y="5"/>
                  </a:cubicBezTo>
                  <a:cubicBezTo>
                    <a:pt x="102" y="4"/>
                    <a:pt x="132" y="-5"/>
                    <a:pt x="161" y="0"/>
                  </a:cubicBezTo>
                  <a:cubicBezTo>
                    <a:pt x="185" y="5"/>
                    <a:pt x="205" y="10"/>
                    <a:pt x="229" y="1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Comment 92"/>
            <p:cNvSpPr/>
            <p:nvPr/>
          </p:nvSpPr>
          <p:spPr>
            <a:xfrm>
              <a:off x="599760" y="1143000"/>
              <a:ext cx="370080" cy="1047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59" h="199">
                  <a:moveTo>
                    <a:pt x="682" y="39"/>
                  </a:moveTo>
                  <a:cubicBezTo>
                    <a:pt x="686" y="39"/>
                    <a:pt x="691" y="38"/>
                    <a:pt x="695" y="38"/>
                  </a:cubicBezTo>
                  <a:cubicBezTo>
                    <a:pt x="690" y="9"/>
                    <a:pt x="712" y="14"/>
                    <a:pt x="670" y="12"/>
                  </a:cubicBezTo>
                  <a:cubicBezTo>
                    <a:pt x="646" y="11"/>
                    <a:pt x="624" y="10"/>
                    <a:pt x="600" y="7"/>
                  </a:cubicBezTo>
                  <a:cubicBezTo>
                    <a:pt x="560" y="1"/>
                    <a:pt x="518" y="1"/>
                    <a:pt x="477" y="0"/>
                  </a:cubicBezTo>
                  <a:cubicBezTo>
                    <a:pt x="425" y="-1"/>
                    <a:pt x="374" y="6"/>
                    <a:pt x="323" y="11"/>
                  </a:cubicBezTo>
                  <a:cubicBezTo>
                    <a:pt x="269" y="17"/>
                    <a:pt x="214" y="28"/>
                    <a:pt x="162" y="43"/>
                  </a:cubicBezTo>
                  <a:cubicBezTo>
                    <a:pt x="120" y="55"/>
                    <a:pt x="72" y="72"/>
                    <a:pt x="35" y="96"/>
                  </a:cubicBezTo>
                  <a:cubicBezTo>
                    <a:pt x="13" y="111"/>
                    <a:pt x="7" y="118"/>
                    <a:pt x="0" y="141"/>
                  </a:cubicBezTo>
                  <a:cubicBezTo>
                    <a:pt x="29" y="162"/>
                    <a:pt x="51" y="174"/>
                    <a:pt x="90" y="182"/>
                  </a:cubicBezTo>
                  <a:cubicBezTo>
                    <a:pt x="172" y="198"/>
                    <a:pt x="258" y="197"/>
                    <a:pt x="341" y="198"/>
                  </a:cubicBezTo>
                  <a:cubicBezTo>
                    <a:pt x="435" y="199"/>
                    <a:pt x="530" y="200"/>
                    <a:pt x="624" y="191"/>
                  </a:cubicBezTo>
                  <a:cubicBezTo>
                    <a:pt x="683" y="185"/>
                    <a:pt x="748" y="181"/>
                    <a:pt x="804" y="159"/>
                  </a:cubicBezTo>
                  <a:cubicBezTo>
                    <a:pt x="826" y="150"/>
                    <a:pt x="840" y="140"/>
                    <a:pt x="855" y="124"/>
                  </a:cubicBezTo>
                  <a:cubicBezTo>
                    <a:pt x="848" y="99"/>
                    <a:pt x="853" y="94"/>
                    <a:pt x="830" y="73"/>
                  </a:cubicBezTo>
                  <a:cubicBezTo>
                    <a:pt x="808" y="52"/>
                    <a:pt x="783" y="50"/>
                    <a:pt x="755" y="45"/>
                  </a:cubicBezTo>
                  <a:cubicBezTo>
                    <a:pt x="731" y="40"/>
                    <a:pt x="724" y="37"/>
                    <a:pt x="709" y="4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Comment 93"/>
            <p:cNvSpPr/>
            <p:nvPr/>
          </p:nvSpPr>
          <p:spPr>
            <a:xfrm>
              <a:off x="577800" y="1290600"/>
              <a:ext cx="50760" cy="245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18" h="479">
                  <a:moveTo>
                    <a:pt x="0" y="6"/>
                  </a:moveTo>
                  <a:cubicBezTo>
                    <a:pt x="27" y="-3"/>
                    <a:pt x="37" y="-2"/>
                    <a:pt x="39" y="29"/>
                  </a:cubicBezTo>
                  <a:cubicBezTo>
                    <a:pt x="41" y="58"/>
                    <a:pt x="48" y="85"/>
                    <a:pt x="54" y="113"/>
                  </a:cubicBezTo>
                  <a:cubicBezTo>
                    <a:pt x="64" y="159"/>
                    <a:pt x="73" y="205"/>
                    <a:pt x="83" y="251"/>
                  </a:cubicBezTo>
                  <a:cubicBezTo>
                    <a:pt x="92" y="290"/>
                    <a:pt x="94" y="332"/>
                    <a:pt x="103" y="371"/>
                  </a:cubicBezTo>
                  <a:cubicBezTo>
                    <a:pt x="110" y="402"/>
                    <a:pt x="114" y="422"/>
                    <a:pt x="112" y="453"/>
                  </a:cubicBezTo>
                  <a:cubicBezTo>
                    <a:pt x="112" y="466"/>
                    <a:pt x="112" y="470"/>
                    <a:pt x="107" y="47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Comment 95"/>
            <p:cNvSpPr/>
            <p:nvPr/>
          </p:nvSpPr>
          <p:spPr>
            <a:xfrm>
              <a:off x="970200" y="1253880"/>
              <a:ext cx="20520" cy="270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7" h="522">
                  <a:moveTo>
                    <a:pt x="0" y="11"/>
                  </a:moveTo>
                  <a:cubicBezTo>
                    <a:pt x="18" y="-4"/>
                    <a:pt x="14" y="17"/>
                    <a:pt x="18" y="37"/>
                  </a:cubicBezTo>
                  <a:cubicBezTo>
                    <a:pt x="24" y="71"/>
                    <a:pt x="27" y="106"/>
                    <a:pt x="28" y="141"/>
                  </a:cubicBezTo>
                  <a:cubicBezTo>
                    <a:pt x="29" y="188"/>
                    <a:pt x="32" y="235"/>
                    <a:pt x="35" y="282"/>
                  </a:cubicBezTo>
                  <a:cubicBezTo>
                    <a:pt x="37" y="321"/>
                    <a:pt x="42" y="359"/>
                    <a:pt x="45" y="398"/>
                  </a:cubicBezTo>
                  <a:cubicBezTo>
                    <a:pt x="47" y="427"/>
                    <a:pt x="51" y="463"/>
                    <a:pt x="40" y="490"/>
                  </a:cubicBezTo>
                  <a:cubicBezTo>
                    <a:pt x="31" y="512"/>
                    <a:pt x="20" y="513"/>
                    <a:pt x="0" y="5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Comment 96"/>
            <p:cNvSpPr/>
            <p:nvPr/>
          </p:nvSpPr>
          <p:spPr>
            <a:xfrm>
              <a:off x="725400" y="1341360"/>
              <a:ext cx="150840" cy="17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52" h="33">
                  <a:moveTo>
                    <a:pt x="0" y="32"/>
                  </a:moveTo>
                  <a:cubicBezTo>
                    <a:pt x="22" y="7"/>
                    <a:pt x="19" y="30"/>
                    <a:pt x="48" y="23"/>
                  </a:cubicBezTo>
                  <a:cubicBezTo>
                    <a:pt x="77" y="16"/>
                    <a:pt x="105" y="16"/>
                    <a:pt x="136" y="13"/>
                  </a:cubicBezTo>
                  <a:cubicBezTo>
                    <a:pt x="181" y="9"/>
                    <a:pt x="223" y="2"/>
                    <a:pt x="268" y="0"/>
                  </a:cubicBezTo>
                  <a:cubicBezTo>
                    <a:pt x="296" y="-1"/>
                    <a:pt x="323" y="0"/>
                    <a:pt x="351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Comment 97"/>
            <p:cNvSpPr/>
            <p:nvPr/>
          </p:nvSpPr>
          <p:spPr>
            <a:xfrm>
              <a:off x="722160" y="1414440"/>
              <a:ext cx="139680" cy="14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23" h="27">
                  <a:moveTo>
                    <a:pt x="16" y="18"/>
                  </a:moveTo>
                  <a:cubicBezTo>
                    <a:pt x="11" y="19"/>
                    <a:pt x="5" y="21"/>
                    <a:pt x="0" y="22"/>
                  </a:cubicBezTo>
                  <a:cubicBezTo>
                    <a:pt x="23" y="24"/>
                    <a:pt x="42" y="24"/>
                    <a:pt x="65" y="21"/>
                  </a:cubicBezTo>
                  <a:cubicBezTo>
                    <a:pt x="99" y="16"/>
                    <a:pt x="134" y="10"/>
                    <a:pt x="168" y="8"/>
                  </a:cubicBezTo>
                  <a:cubicBezTo>
                    <a:pt x="208" y="6"/>
                    <a:pt x="246" y="4"/>
                    <a:pt x="286" y="2"/>
                  </a:cubicBezTo>
                  <a:cubicBezTo>
                    <a:pt x="304" y="0"/>
                    <a:pt x="310" y="-1"/>
                    <a:pt x="3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6"/>
          <p:cNvGrpSpPr/>
          <p:nvPr/>
        </p:nvGrpSpPr>
        <p:grpSpPr>
          <a:xfrm>
            <a:off x="847800" y="1143000"/>
            <a:ext cx="523800" cy="460440"/>
            <a:chOff x="847800" y="1143000"/>
            <a:chExt cx="523800" cy="460440"/>
          </a:xfrm>
        </p:grpSpPr>
        <p:sp>
          <p:nvSpPr>
            <p:cNvPr id="531" name="Ink 31"/>
            <p:cNvSpPr/>
            <p:nvPr/>
          </p:nvSpPr>
          <p:spPr>
            <a:xfrm>
              <a:off x="847800" y="137160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6" h="210">
                  <a:moveTo>
                    <a:pt x="0" y="54"/>
                  </a:moveTo>
                  <a:cubicBezTo>
                    <a:pt x="30" y="46"/>
                    <a:pt x="57" y="55"/>
                    <a:pt x="90" y="60"/>
                  </a:cubicBezTo>
                  <a:cubicBezTo>
                    <a:pt x="142" y="68"/>
                    <a:pt x="194" y="71"/>
                    <a:pt x="246" y="74"/>
                  </a:cubicBezTo>
                  <a:cubicBezTo>
                    <a:pt x="295" y="77"/>
                    <a:pt x="346" y="83"/>
                    <a:pt x="395" y="81"/>
                  </a:cubicBezTo>
                  <a:cubicBezTo>
                    <a:pt x="424" y="80"/>
                    <a:pt x="451" y="80"/>
                    <a:pt x="480" y="81"/>
                  </a:cubicBezTo>
                </a:path>
                <a:path w="546" h="210">
                  <a:moveTo>
                    <a:pt x="384" y="0"/>
                  </a:moveTo>
                  <a:cubicBezTo>
                    <a:pt x="410" y="15"/>
                    <a:pt x="429" y="36"/>
                    <a:pt x="455" y="52"/>
                  </a:cubicBezTo>
                  <a:cubicBezTo>
                    <a:pt x="476" y="65"/>
                    <a:pt x="504" y="80"/>
                    <a:pt x="529" y="81"/>
                  </a:cubicBezTo>
                  <a:cubicBezTo>
                    <a:pt x="534" y="80"/>
                    <a:pt x="540" y="78"/>
                    <a:pt x="545" y="77"/>
                  </a:cubicBezTo>
                  <a:cubicBezTo>
                    <a:pt x="520" y="93"/>
                    <a:pt x="492" y="117"/>
                    <a:pt x="469" y="138"/>
                  </a:cubicBezTo>
                  <a:cubicBezTo>
                    <a:pt x="445" y="160"/>
                    <a:pt x="421" y="183"/>
                    <a:pt x="393" y="201"/>
                  </a:cubicBezTo>
                  <a:cubicBezTo>
                    <a:pt x="377" y="210"/>
                    <a:pt x="369" y="213"/>
                    <a:pt x="355" y="2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omment 294"/>
            <p:cNvSpPr/>
            <p:nvPr/>
          </p:nvSpPr>
          <p:spPr>
            <a:xfrm>
              <a:off x="1076400" y="1143000"/>
              <a:ext cx="295200" cy="46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297" h="2028">
                  <a:moveTo>
                    <a:pt x="486" y="1596"/>
                  </a:moveTo>
                  <a:cubicBezTo>
                    <a:pt x="486" y="1677"/>
                    <a:pt x="487" y="1756"/>
                    <a:pt x="493" y="1836"/>
                  </a:cubicBezTo>
                  <a:cubicBezTo>
                    <a:pt x="495" y="1866"/>
                    <a:pt x="497" y="1886"/>
                    <a:pt x="506" y="1915"/>
                  </a:cubicBezTo>
                </a:path>
                <a:path w="1297" h="2028">
                  <a:moveTo>
                    <a:pt x="559" y="1904"/>
                  </a:moveTo>
                  <a:cubicBezTo>
                    <a:pt x="600" y="1903"/>
                    <a:pt x="614" y="1916"/>
                    <a:pt x="649" y="1939"/>
                  </a:cubicBezTo>
                  <a:cubicBezTo>
                    <a:pt x="694" y="1968"/>
                    <a:pt x="738" y="1984"/>
                    <a:pt x="789" y="1998"/>
                  </a:cubicBezTo>
                </a:path>
                <a:path w="1297" h="2028">
                  <a:moveTo>
                    <a:pt x="917" y="1546"/>
                  </a:moveTo>
                  <a:cubicBezTo>
                    <a:pt x="926" y="1578"/>
                    <a:pt x="928" y="1608"/>
                    <a:pt x="932" y="1641"/>
                  </a:cubicBezTo>
                  <a:cubicBezTo>
                    <a:pt x="938" y="1695"/>
                    <a:pt x="933" y="1743"/>
                    <a:pt x="930" y="1797"/>
                  </a:cubicBezTo>
                  <a:cubicBezTo>
                    <a:pt x="928" y="1835"/>
                    <a:pt x="924" y="1866"/>
                    <a:pt x="911" y="1902"/>
                  </a:cubicBezTo>
                </a:path>
                <a:path w="1297" h="2028">
                  <a:moveTo>
                    <a:pt x="642" y="1918"/>
                  </a:moveTo>
                  <a:cubicBezTo>
                    <a:pt x="611" y="1925"/>
                    <a:pt x="600" y="1926"/>
                    <a:pt x="611" y="1962"/>
                  </a:cubicBezTo>
                  <a:cubicBezTo>
                    <a:pt x="618" y="1985"/>
                    <a:pt x="633" y="2032"/>
                    <a:pt x="665" y="2027"/>
                  </a:cubicBezTo>
                  <a:cubicBezTo>
                    <a:pt x="697" y="2022"/>
                    <a:pt x="733" y="2000"/>
                    <a:pt x="758" y="1980"/>
                  </a:cubicBezTo>
                  <a:cubicBezTo>
                    <a:pt x="779" y="1963"/>
                    <a:pt x="794" y="1955"/>
                    <a:pt x="818" y="1943"/>
                  </a:cubicBezTo>
                </a:path>
                <a:path w="1297" h="2028">
                  <a:moveTo>
                    <a:pt x="519" y="1357"/>
                  </a:moveTo>
                  <a:cubicBezTo>
                    <a:pt x="498" y="1348"/>
                    <a:pt x="489" y="1355"/>
                    <a:pt x="467" y="1314"/>
                  </a:cubicBezTo>
                  <a:cubicBezTo>
                    <a:pt x="423" y="1232"/>
                    <a:pt x="393" y="1131"/>
                    <a:pt x="371" y="1041"/>
                  </a:cubicBezTo>
                  <a:cubicBezTo>
                    <a:pt x="351" y="960"/>
                    <a:pt x="336" y="876"/>
                    <a:pt x="343" y="792"/>
                  </a:cubicBezTo>
                  <a:cubicBezTo>
                    <a:pt x="350" y="714"/>
                    <a:pt x="371" y="638"/>
                    <a:pt x="402" y="567"/>
                  </a:cubicBezTo>
                  <a:cubicBezTo>
                    <a:pt x="426" y="512"/>
                    <a:pt x="458" y="450"/>
                    <a:pt x="519" y="429"/>
                  </a:cubicBezTo>
                  <a:cubicBezTo>
                    <a:pt x="586" y="406"/>
                    <a:pt x="649" y="435"/>
                    <a:pt x="703" y="474"/>
                  </a:cubicBezTo>
                  <a:cubicBezTo>
                    <a:pt x="792" y="538"/>
                    <a:pt x="860" y="624"/>
                    <a:pt x="917" y="716"/>
                  </a:cubicBezTo>
                  <a:cubicBezTo>
                    <a:pt x="933" y="743"/>
                    <a:pt x="948" y="771"/>
                    <a:pt x="964" y="798"/>
                  </a:cubicBezTo>
                </a:path>
                <a:path w="1297" h="2028">
                  <a:moveTo>
                    <a:pt x="1036" y="965"/>
                  </a:moveTo>
                  <a:cubicBezTo>
                    <a:pt x="1031" y="1005"/>
                    <a:pt x="1029" y="1040"/>
                    <a:pt x="1029" y="1080"/>
                  </a:cubicBezTo>
                  <a:cubicBezTo>
                    <a:pt x="1029" y="1110"/>
                    <a:pt x="1024" y="1140"/>
                    <a:pt x="1016" y="1169"/>
                  </a:cubicBezTo>
                  <a:cubicBezTo>
                    <a:pt x="1008" y="1198"/>
                    <a:pt x="998" y="1220"/>
                    <a:pt x="977" y="1243"/>
                  </a:cubicBezTo>
                  <a:cubicBezTo>
                    <a:pt x="951" y="1270"/>
                    <a:pt x="917" y="1281"/>
                    <a:pt x="883" y="1290"/>
                  </a:cubicBezTo>
                </a:path>
                <a:path w="1297" h="2028">
                  <a:moveTo>
                    <a:pt x="686" y="1404"/>
                  </a:moveTo>
                  <a:cubicBezTo>
                    <a:pt x="697" y="1379"/>
                    <a:pt x="696" y="1360"/>
                    <a:pt x="696" y="1332"/>
                  </a:cubicBezTo>
                  <a:cubicBezTo>
                    <a:pt x="696" y="1294"/>
                    <a:pt x="682" y="1267"/>
                    <a:pt x="673" y="1232"/>
                  </a:cubicBezTo>
                  <a:cubicBezTo>
                    <a:pt x="672" y="1224"/>
                    <a:pt x="671" y="1217"/>
                    <a:pt x="670" y="1209"/>
                  </a:cubicBezTo>
                </a:path>
                <a:path w="1297" h="2028">
                  <a:moveTo>
                    <a:pt x="690" y="1030"/>
                  </a:moveTo>
                  <a:cubicBezTo>
                    <a:pt x="657" y="1041"/>
                    <a:pt x="642" y="1057"/>
                    <a:pt x="613" y="1036"/>
                  </a:cubicBezTo>
                  <a:cubicBezTo>
                    <a:pt x="585" y="1016"/>
                    <a:pt x="577" y="1002"/>
                    <a:pt x="542" y="1002"/>
                  </a:cubicBezTo>
                  <a:cubicBezTo>
                    <a:pt x="542" y="1028"/>
                    <a:pt x="552" y="1045"/>
                    <a:pt x="584" y="1052"/>
                  </a:cubicBezTo>
                  <a:cubicBezTo>
                    <a:pt x="615" y="1059"/>
                    <a:pt x="649" y="1056"/>
                    <a:pt x="677" y="1043"/>
                  </a:cubicBezTo>
                  <a:cubicBezTo>
                    <a:pt x="707" y="1029"/>
                    <a:pt x="725" y="1011"/>
                    <a:pt x="738" y="981"/>
                  </a:cubicBezTo>
                  <a:cubicBezTo>
                    <a:pt x="749" y="957"/>
                    <a:pt x="750" y="933"/>
                    <a:pt x="732" y="911"/>
                  </a:cubicBezTo>
                  <a:cubicBezTo>
                    <a:pt x="707" y="880"/>
                    <a:pt x="670" y="859"/>
                    <a:pt x="646" y="827"/>
                  </a:cubicBezTo>
                  <a:cubicBezTo>
                    <a:pt x="643" y="821"/>
                    <a:pt x="639" y="815"/>
                    <a:pt x="636" y="809"/>
                  </a:cubicBezTo>
                  <a:cubicBezTo>
                    <a:pt x="670" y="822"/>
                    <a:pt x="680" y="816"/>
                    <a:pt x="691" y="779"/>
                  </a:cubicBezTo>
                  <a:cubicBezTo>
                    <a:pt x="703" y="739"/>
                    <a:pt x="703" y="702"/>
                    <a:pt x="703" y="661"/>
                  </a:cubicBezTo>
                  <a:cubicBezTo>
                    <a:pt x="703" y="629"/>
                    <a:pt x="699" y="613"/>
                    <a:pt x="685" y="585"/>
                  </a:cubicBezTo>
                </a:path>
                <a:path w="1297" h="2028">
                  <a:moveTo>
                    <a:pt x="225" y="958"/>
                  </a:moveTo>
                  <a:cubicBezTo>
                    <a:pt x="205" y="991"/>
                    <a:pt x="188" y="1022"/>
                    <a:pt x="163" y="1052"/>
                  </a:cubicBezTo>
                  <a:cubicBezTo>
                    <a:pt x="137" y="1083"/>
                    <a:pt x="108" y="1109"/>
                    <a:pt x="75" y="1133"/>
                  </a:cubicBezTo>
                  <a:cubicBezTo>
                    <a:pt x="53" y="1148"/>
                    <a:pt x="47" y="1154"/>
                    <a:pt x="28" y="1149"/>
                  </a:cubicBezTo>
                </a:path>
                <a:path w="1297" h="2028">
                  <a:moveTo>
                    <a:pt x="203" y="698"/>
                  </a:moveTo>
                  <a:cubicBezTo>
                    <a:pt x="182" y="675"/>
                    <a:pt x="166" y="653"/>
                    <a:pt x="135" y="672"/>
                  </a:cubicBezTo>
                  <a:cubicBezTo>
                    <a:pt x="103" y="691"/>
                    <a:pt x="75" y="721"/>
                    <a:pt x="47" y="745"/>
                  </a:cubicBezTo>
                  <a:cubicBezTo>
                    <a:pt x="7" y="779"/>
                    <a:pt x="21" y="770"/>
                    <a:pt x="0" y="719"/>
                  </a:cubicBezTo>
                </a:path>
                <a:path w="1297" h="2028">
                  <a:moveTo>
                    <a:pt x="309" y="476"/>
                  </a:moveTo>
                  <a:cubicBezTo>
                    <a:pt x="283" y="473"/>
                    <a:pt x="257" y="470"/>
                    <a:pt x="239" y="450"/>
                  </a:cubicBezTo>
                  <a:cubicBezTo>
                    <a:pt x="207" y="415"/>
                    <a:pt x="188" y="376"/>
                    <a:pt x="168" y="334"/>
                  </a:cubicBezTo>
                  <a:cubicBezTo>
                    <a:pt x="142" y="279"/>
                    <a:pt x="131" y="232"/>
                    <a:pt x="120" y="173"/>
                  </a:cubicBezTo>
                </a:path>
                <a:path w="1297" h="2028">
                  <a:moveTo>
                    <a:pt x="452" y="212"/>
                  </a:moveTo>
                  <a:cubicBezTo>
                    <a:pt x="459" y="215"/>
                    <a:pt x="465" y="217"/>
                    <a:pt x="472" y="220"/>
                  </a:cubicBezTo>
                  <a:cubicBezTo>
                    <a:pt x="458" y="189"/>
                    <a:pt x="439" y="162"/>
                    <a:pt x="426" y="131"/>
                  </a:cubicBezTo>
                  <a:cubicBezTo>
                    <a:pt x="411" y="97"/>
                    <a:pt x="398" y="64"/>
                    <a:pt x="389" y="28"/>
                  </a:cubicBezTo>
                </a:path>
                <a:path w="1297" h="2028">
                  <a:moveTo>
                    <a:pt x="711" y="285"/>
                  </a:moveTo>
                  <a:cubicBezTo>
                    <a:pt x="717" y="262"/>
                    <a:pt x="716" y="238"/>
                    <a:pt x="722" y="215"/>
                  </a:cubicBezTo>
                  <a:cubicBezTo>
                    <a:pt x="731" y="180"/>
                    <a:pt x="736" y="145"/>
                    <a:pt x="745" y="110"/>
                  </a:cubicBezTo>
                  <a:cubicBezTo>
                    <a:pt x="754" y="73"/>
                    <a:pt x="765" y="37"/>
                    <a:pt x="776" y="0"/>
                  </a:cubicBezTo>
                </a:path>
                <a:path w="1297" h="2028">
                  <a:moveTo>
                    <a:pt x="917" y="337"/>
                  </a:moveTo>
                  <a:cubicBezTo>
                    <a:pt x="939" y="301"/>
                    <a:pt x="968" y="268"/>
                    <a:pt x="990" y="232"/>
                  </a:cubicBezTo>
                  <a:cubicBezTo>
                    <a:pt x="1006" y="205"/>
                    <a:pt x="1028" y="177"/>
                    <a:pt x="1050" y="167"/>
                  </a:cubicBezTo>
                </a:path>
                <a:path w="1297" h="2028">
                  <a:moveTo>
                    <a:pt x="1055" y="499"/>
                  </a:moveTo>
                  <a:cubicBezTo>
                    <a:pt x="1031" y="514"/>
                    <a:pt x="1034" y="527"/>
                    <a:pt x="1031" y="559"/>
                  </a:cubicBezTo>
                  <a:cubicBezTo>
                    <a:pt x="1068" y="564"/>
                    <a:pt x="1093" y="558"/>
                    <a:pt x="1129" y="546"/>
                  </a:cubicBezTo>
                  <a:cubicBezTo>
                    <a:pt x="1152" y="538"/>
                    <a:pt x="1184" y="523"/>
                    <a:pt x="1208" y="536"/>
                  </a:cubicBezTo>
                  <a:cubicBezTo>
                    <a:pt x="1215" y="542"/>
                    <a:pt x="1221" y="548"/>
                    <a:pt x="1228" y="554"/>
                  </a:cubicBezTo>
                </a:path>
                <a:path w="1297" h="2028">
                  <a:moveTo>
                    <a:pt x="1163" y="960"/>
                  </a:moveTo>
                  <a:cubicBezTo>
                    <a:pt x="1194" y="981"/>
                    <a:pt x="1193" y="963"/>
                    <a:pt x="1229" y="955"/>
                  </a:cubicBezTo>
                  <a:cubicBezTo>
                    <a:pt x="1252" y="950"/>
                    <a:pt x="1273" y="947"/>
                    <a:pt x="1296" y="945"/>
                  </a:cubicBezTo>
                </a:path>
                <a:path w="1297" h="2028">
                  <a:moveTo>
                    <a:pt x="1151" y="1285"/>
                  </a:moveTo>
                  <a:cubicBezTo>
                    <a:pt x="1151" y="1320"/>
                    <a:pt x="1159" y="1329"/>
                    <a:pt x="1181" y="1358"/>
                  </a:cubicBezTo>
                  <a:cubicBezTo>
                    <a:pt x="1198" y="1381"/>
                    <a:pt x="1207" y="1389"/>
                    <a:pt x="1231" y="1404"/>
                  </a:cubicBezTo>
                </a:path>
                <a:path w="1297" h="2028">
                  <a:moveTo>
                    <a:pt x="611" y="1561"/>
                  </a:moveTo>
                  <a:cubicBezTo>
                    <a:pt x="590" y="1523"/>
                    <a:pt x="591" y="1601"/>
                    <a:pt x="594" y="1604"/>
                  </a:cubicBezTo>
                  <a:cubicBezTo>
                    <a:pt x="621" y="1631"/>
                    <a:pt x="675" y="1603"/>
                    <a:pt x="704" y="1596"/>
                  </a:cubicBezTo>
                  <a:cubicBezTo>
                    <a:pt x="740" y="1587"/>
                    <a:pt x="778" y="1577"/>
                    <a:pt x="813" y="1565"/>
                  </a:cubicBezTo>
                  <a:cubicBezTo>
                    <a:pt x="831" y="1556"/>
                    <a:pt x="836" y="1553"/>
                    <a:pt x="850" y="1556"/>
                  </a:cubicBezTo>
                </a:path>
                <a:path w="1297" h="2028">
                  <a:moveTo>
                    <a:pt x="665" y="1758"/>
                  </a:moveTo>
                  <a:cubicBezTo>
                    <a:pt x="658" y="1778"/>
                    <a:pt x="654" y="1794"/>
                    <a:pt x="652" y="1815"/>
                  </a:cubicBezTo>
                  <a:cubicBezTo>
                    <a:pt x="675" y="1791"/>
                    <a:pt x="688" y="1770"/>
                    <a:pt x="725" y="1779"/>
                  </a:cubicBezTo>
                  <a:cubicBezTo>
                    <a:pt x="756" y="1786"/>
                    <a:pt x="777" y="1796"/>
                    <a:pt x="803" y="1768"/>
                  </a:cubicBezTo>
                  <a:cubicBezTo>
                    <a:pt x="835" y="1734"/>
                    <a:pt x="856" y="1682"/>
                    <a:pt x="873" y="164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5"/>
          <p:cNvGrpSpPr/>
          <p:nvPr/>
        </p:nvGrpSpPr>
        <p:grpSpPr>
          <a:xfrm>
            <a:off x="390600" y="1143000"/>
            <a:ext cx="226800" cy="501480"/>
            <a:chOff x="390600" y="1143000"/>
            <a:chExt cx="226800" cy="501480"/>
          </a:xfrm>
        </p:grpSpPr>
        <p:grpSp>
          <p:nvGrpSpPr>
            <p:cNvPr id="534" name="Group 4"/>
            <p:cNvGrpSpPr/>
            <p:nvPr/>
          </p:nvGrpSpPr>
          <p:grpSpPr>
            <a:xfrm>
              <a:off x="466560" y="1503360"/>
              <a:ext cx="150840" cy="141120"/>
              <a:chOff x="466560" y="1503360"/>
              <a:chExt cx="150840" cy="141120"/>
            </a:xfrm>
          </p:grpSpPr>
          <p:sp>
            <p:nvSpPr>
              <p:cNvPr id="535" name="Comment 100"/>
              <p:cNvSpPr/>
              <p:nvPr/>
            </p:nvSpPr>
            <p:spPr>
              <a:xfrm>
                <a:off x="537840" y="1503360"/>
                <a:ext cx="79560" cy="115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2" h="224">
                    <a:moveTo>
                      <a:pt x="17" y="0"/>
                    </a:moveTo>
                    <a:cubicBezTo>
                      <a:pt x="11" y="2"/>
                      <a:pt x="6" y="3"/>
                      <a:pt x="0" y="5"/>
                    </a:cubicBezTo>
                    <a:cubicBezTo>
                      <a:pt x="24" y="11"/>
                      <a:pt x="44" y="8"/>
                      <a:pt x="69" y="7"/>
                    </a:cubicBezTo>
                    <a:cubicBezTo>
                      <a:pt x="89" y="7"/>
                      <a:pt x="108" y="3"/>
                      <a:pt x="128" y="3"/>
                    </a:cubicBezTo>
                    <a:cubicBezTo>
                      <a:pt x="146" y="3"/>
                      <a:pt x="163" y="3"/>
                      <a:pt x="181" y="3"/>
                    </a:cubicBezTo>
                    <a:cubicBezTo>
                      <a:pt x="177" y="24"/>
                      <a:pt x="166" y="43"/>
                      <a:pt x="159" y="64"/>
                    </a:cubicBezTo>
                    <a:cubicBezTo>
                      <a:pt x="151" y="88"/>
                      <a:pt x="141" y="112"/>
                      <a:pt x="133" y="136"/>
                    </a:cubicBezTo>
                    <a:cubicBezTo>
                      <a:pt x="126" y="158"/>
                      <a:pt x="116" y="179"/>
                      <a:pt x="107" y="201"/>
                    </a:cubicBezTo>
                    <a:cubicBezTo>
                      <a:pt x="104" y="208"/>
                      <a:pt x="101" y="216"/>
                      <a:pt x="98" y="223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Comment 99"/>
              <p:cNvSpPr/>
              <p:nvPr/>
            </p:nvSpPr>
            <p:spPr>
              <a:xfrm>
                <a:off x="466560" y="1509480"/>
                <a:ext cx="135000" cy="13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314" h="258">
                    <a:moveTo>
                      <a:pt x="303" y="15"/>
                    </a:moveTo>
                    <a:cubicBezTo>
                      <a:pt x="306" y="10"/>
                      <a:pt x="310" y="5"/>
                      <a:pt x="313" y="0"/>
                    </a:cubicBezTo>
                    <a:cubicBezTo>
                      <a:pt x="287" y="16"/>
                      <a:pt x="270" y="40"/>
                      <a:pt x="246" y="60"/>
                    </a:cubicBezTo>
                    <a:cubicBezTo>
                      <a:pt x="212" y="89"/>
                      <a:pt x="177" y="116"/>
                      <a:pt x="142" y="144"/>
                    </a:cubicBezTo>
                    <a:cubicBezTo>
                      <a:pt x="111" y="169"/>
                      <a:pt x="80" y="198"/>
                      <a:pt x="47" y="219"/>
                    </a:cubicBezTo>
                    <a:cubicBezTo>
                      <a:pt x="23" y="234"/>
                      <a:pt x="7" y="237"/>
                      <a:pt x="0" y="257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Ink 33"/>
            <p:cNvSpPr/>
            <p:nvPr/>
          </p:nvSpPr>
          <p:spPr>
            <a:xfrm>
              <a:off x="390600" y="1143000"/>
              <a:ext cx="141120" cy="18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92" h="516">
                  <a:moveTo>
                    <a:pt x="0" y="0"/>
                  </a:moveTo>
                  <a:cubicBezTo>
                    <a:pt x="26" y="19"/>
                    <a:pt x="24" y="32"/>
                    <a:pt x="38" y="58"/>
                  </a:cubicBezTo>
                  <a:cubicBezTo>
                    <a:pt x="52" y="84"/>
                    <a:pt x="68" y="111"/>
                    <a:pt x="85" y="135"/>
                  </a:cubicBezTo>
                  <a:cubicBezTo>
                    <a:pt x="113" y="176"/>
                    <a:pt x="142" y="215"/>
                    <a:pt x="173" y="254"/>
                  </a:cubicBezTo>
                  <a:cubicBezTo>
                    <a:pt x="209" y="299"/>
                    <a:pt x="248" y="341"/>
                    <a:pt x="286" y="383"/>
                  </a:cubicBezTo>
                  <a:cubicBezTo>
                    <a:pt x="315" y="416"/>
                    <a:pt x="347" y="441"/>
                    <a:pt x="380" y="469"/>
                  </a:cubicBezTo>
                </a:path>
                <a:path w="392" h="516">
                  <a:moveTo>
                    <a:pt x="150" y="470"/>
                  </a:moveTo>
                  <a:cubicBezTo>
                    <a:pt x="175" y="469"/>
                    <a:pt x="192" y="470"/>
                    <a:pt x="216" y="477"/>
                  </a:cubicBezTo>
                  <a:cubicBezTo>
                    <a:pt x="244" y="485"/>
                    <a:pt x="271" y="489"/>
                    <a:pt x="298" y="500"/>
                  </a:cubicBezTo>
                  <a:cubicBezTo>
                    <a:pt x="317" y="508"/>
                    <a:pt x="350" y="521"/>
                    <a:pt x="372" y="515"/>
                  </a:cubicBezTo>
                  <a:cubicBezTo>
                    <a:pt x="400" y="507"/>
                    <a:pt x="392" y="469"/>
                    <a:pt x="388" y="448"/>
                  </a:cubicBezTo>
                  <a:cubicBezTo>
                    <a:pt x="381" y="411"/>
                    <a:pt x="361" y="374"/>
                    <a:pt x="349" y="339"/>
                  </a:cubicBezTo>
                  <a:cubicBezTo>
                    <a:pt x="337" y="306"/>
                    <a:pt x="321" y="263"/>
                    <a:pt x="322" y="227"/>
                  </a:cubicBezTo>
                  <a:cubicBezTo>
                    <a:pt x="323" y="199"/>
                    <a:pt x="325" y="171"/>
                    <a:pt x="330" y="14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Ink 67" descr=""/>
          <p:cNvPicPr/>
          <p:nvPr/>
        </p:nvPicPr>
        <p:blipFill>
          <a:blip r:embed="rId14"/>
          <a:stretch/>
        </p:blipFill>
        <p:spPr>
          <a:xfrm>
            <a:off x="6848640" y="1133640"/>
            <a:ext cx="326880" cy="407880"/>
          </a:xfrm>
          <a:prstGeom prst="rect">
            <a:avLst/>
          </a:prstGeom>
          <a:ln w="0">
            <a:noFill/>
          </a:ln>
        </p:spPr>
      </p:pic>
      <p:pic>
        <p:nvPicPr>
          <p:cNvPr id="539" name="Ink 65" descr=""/>
          <p:cNvPicPr/>
          <p:nvPr/>
        </p:nvPicPr>
        <p:blipFill>
          <a:blip r:embed="rId15"/>
          <a:stretch/>
        </p:blipFill>
        <p:spPr>
          <a:xfrm>
            <a:off x="1819440" y="1743120"/>
            <a:ext cx="336240" cy="420480"/>
          </a:xfrm>
          <a:prstGeom prst="rect">
            <a:avLst/>
          </a:prstGeom>
          <a:ln w="0">
            <a:noFill/>
          </a:ln>
        </p:spPr>
      </p:pic>
      <p:pic>
        <p:nvPicPr>
          <p:cNvPr id="540" name="Ink 67" descr=""/>
          <p:cNvPicPr/>
          <p:nvPr/>
        </p:nvPicPr>
        <p:blipFill>
          <a:blip r:embed="rId16"/>
          <a:stretch/>
        </p:blipFill>
        <p:spPr>
          <a:xfrm>
            <a:off x="6924600" y="2124000"/>
            <a:ext cx="327240" cy="408240"/>
          </a:xfrm>
          <a:prstGeom prst="rect">
            <a:avLst/>
          </a:prstGeom>
          <a:ln w="0">
            <a:noFill/>
          </a:ln>
        </p:spPr>
      </p:pic>
      <p:sp>
        <p:nvSpPr>
          <p:cNvPr id="541" name="Ink 25"/>
          <p:cNvSpPr/>
          <p:nvPr/>
        </p:nvSpPr>
        <p:spPr>
          <a:xfrm>
            <a:off x="2286000" y="1600200"/>
            <a:ext cx="328680" cy="665280"/>
          </a:xfrm>
          <a:custGeom>
            <a:avLst/>
            <a:gdLst>
              <a:gd name="textAreaLeft" fmla="*/ 0 w 328680"/>
              <a:gd name="textAreaRight" fmla="*/ 329040 w 328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26"/>
          <p:cNvSpPr/>
          <p:nvPr/>
        </p:nvSpPr>
        <p:spPr>
          <a:xfrm>
            <a:off x="6400800" y="2057400"/>
            <a:ext cx="239760" cy="484200"/>
          </a:xfrm>
          <a:custGeom>
            <a:avLst/>
            <a:gdLst>
              <a:gd name="textAreaLeft" fmla="*/ 0 w 239760"/>
              <a:gd name="textAreaRight" fmla="*/ 240120 w 239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27"/>
          <p:cNvSpPr/>
          <p:nvPr/>
        </p:nvSpPr>
        <p:spPr>
          <a:xfrm>
            <a:off x="6400800" y="1371600"/>
            <a:ext cx="195120" cy="393840"/>
          </a:xfrm>
          <a:custGeom>
            <a:avLst/>
            <a:gdLst>
              <a:gd name="textAreaLeft" fmla="*/ 0 w 195120"/>
              <a:gd name="textAreaRight" fmla="*/ 195480 w 195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805" h="1373">
                <a:moveTo>
                  <a:pt x="7" y="130"/>
                </a:moveTo>
                <a:cubicBezTo>
                  <a:pt x="0" y="174"/>
                  <a:pt x="0" y="221"/>
                  <a:pt x="0" y="266"/>
                </a:cubicBezTo>
                <a:cubicBezTo>
                  <a:pt x="-1" y="382"/>
                  <a:pt x="3" y="499"/>
                  <a:pt x="4" y="615"/>
                </a:cubicBezTo>
                <a:cubicBezTo>
                  <a:pt x="5" y="817"/>
                  <a:pt x="-6" y="1023"/>
                  <a:pt x="15" y="1224"/>
                </a:cubicBezTo>
                <a:cubicBezTo>
                  <a:pt x="22" y="1289"/>
                  <a:pt x="24" y="1269"/>
                  <a:pt x="59" y="1258"/>
                </a:cubicBezTo>
              </a:path>
              <a:path w="805" h="1373">
                <a:moveTo>
                  <a:pt x="40" y="51"/>
                </a:moveTo>
                <a:cubicBezTo>
                  <a:pt x="64" y="45"/>
                  <a:pt x="85" y="43"/>
                  <a:pt x="112" y="42"/>
                </a:cubicBezTo>
                <a:cubicBezTo>
                  <a:pt x="180" y="39"/>
                  <a:pt x="247" y="32"/>
                  <a:pt x="314" y="27"/>
                </a:cubicBezTo>
                <a:cubicBezTo>
                  <a:pt x="410" y="20"/>
                  <a:pt x="505" y="14"/>
                  <a:pt x="601" y="8"/>
                </a:cubicBezTo>
                <a:cubicBezTo>
                  <a:pt x="670" y="4"/>
                  <a:pt x="737" y="1"/>
                  <a:pt x="804" y="10"/>
                </a:cubicBezTo>
              </a:path>
              <a:path w="805" h="1373">
                <a:moveTo>
                  <a:pt x="774" y="18"/>
                </a:moveTo>
                <a:cubicBezTo>
                  <a:pt x="783" y="65"/>
                  <a:pt x="780" y="112"/>
                  <a:pt x="781" y="161"/>
                </a:cubicBezTo>
                <a:cubicBezTo>
                  <a:pt x="784" y="274"/>
                  <a:pt x="781" y="388"/>
                  <a:pt x="778" y="501"/>
                </a:cubicBezTo>
                <a:cubicBezTo>
                  <a:pt x="774" y="637"/>
                  <a:pt x="772" y="772"/>
                  <a:pt x="770" y="908"/>
                </a:cubicBezTo>
                <a:cubicBezTo>
                  <a:pt x="769" y="1010"/>
                  <a:pt x="770" y="1111"/>
                  <a:pt x="773" y="1213"/>
                </a:cubicBezTo>
                <a:cubicBezTo>
                  <a:pt x="775" y="1263"/>
                  <a:pt x="776" y="1304"/>
                  <a:pt x="789" y="1352"/>
                </a:cubicBezTo>
              </a:path>
              <a:path w="805" h="1373">
                <a:moveTo>
                  <a:pt x="129" y="1355"/>
                </a:moveTo>
                <a:cubicBezTo>
                  <a:pt x="148" y="1360"/>
                  <a:pt x="167" y="1364"/>
                  <a:pt x="187" y="1367"/>
                </a:cubicBezTo>
                <a:cubicBezTo>
                  <a:pt x="235" y="1375"/>
                  <a:pt x="282" y="1368"/>
                  <a:pt x="331" y="1367"/>
                </a:cubicBezTo>
                <a:cubicBezTo>
                  <a:pt x="395" y="1366"/>
                  <a:pt x="463" y="1364"/>
                  <a:pt x="527" y="1352"/>
                </a:cubicBezTo>
                <a:cubicBezTo>
                  <a:pt x="569" y="1344"/>
                  <a:pt x="607" y="1340"/>
                  <a:pt x="646" y="1328"/>
                </a:cubicBezTo>
              </a:path>
              <a:path w="805" h="1373">
                <a:moveTo>
                  <a:pt x="194" y="221"/>
                </a:moveTo>
                <a:cubicBezTo>
                  <a:pt x="216" y="235"/>
                  <a:pt x="230" y="230"/>
                  <a:pt x="257" y="231"/>
                </a:cubicBezTo>
                <a:cubicBezTo>
                  <a:pt x="299" y="232"/>
                  <a:pt x="340" y="229"/>
                  <a:pt x="382" y="234"/>
                </a:cubicBezTo>
                <a:cubicBezTo>
                  <a:pt x="430" y="240"/>
                  <a:pt x="486" y="244"/>
                  <a:pt x="531" y="254"/>
                </a:cubicBezTo>
                <a:cubicBezTo>
                  <a:pt x="565" y="266"/>
                  <a:pt x="571" y="272"/>
                  <a:pt x="592" y="262"/>
                </a:cubicBezTo>
              </a:path>
              <a:path w="805" h="1373">
                <a:moveTo>
                  <a:pt x="199" y="395"/>
                </a:moveTo>
                <a:cubicBezTo>
                  <a:pt x="206" y="419"/>
                  <a:pt x="223" y="411"/>
                  <a:pt x="252" y="410"/>
                </a:cubicBezTo>
                <a:cubicBezTo>
                  <a:pt x="298" y="409"/>
                  <a:pt x="345" y="412"/>
                  <a:pt x="391" y="410"/>
                </a:cubicBezTo>
                <a:cubicBezTo>
                  <a:pt x="443" y="407"/>
                  <a:pt x="491" y="408"/>
                  <a:pt x="542" y="414"/>
                </a:cubicBezTo>
              </a:path>
              <a:path w="805" h="1373">
                <a:moveTo>
                  <a:pt x="229" y="589"/>
                </a:moveTo>
                <a:cubicBezTo>
                  <a:pt x="225" y="587"/>
                  <a:pt x="222" y="585"/>
                  <a:pt x="218" y="583"/>
                </a:cubicBezTo>
                <a:cubicBezTo>
                  <a:pt x="233" y="598"/>
                  <a:pt x="254" y="603"/>
                  <a:pt x="278" y="603"/>
                </a:cubicBezTo>
                <a:cubicBezTo>
                  <a:pt x="309" y="602"/>
                  <a:pt x="341" y="598"/>
                  <a:pt x="373" y="600"/>
                </a:cubicBezTo>
                <a:cubicBezTo>
                  <a:pt x="408" y="602"/>
                  <a:pt x="447" y="611"/>
                  <a:pt x="482" y="610"/>
                </a:cubicBezTo>
                <a:cubicBezTo>
                  <a:pt x="504" y="610"/>
                  <a:pt x="523" y="613"/>
                  <a:pt x="544" y="613"/>
                </a:cubicBezTo>
              </a:path>
              <a:path w="805" h="1373">
                <a:moveTo>
                  <a:pt x="374" y="937"/>
                </a:moveTo>
                <a:cubicBezTo>
                  <a:pt x="373" y="915"/>
                  <a:pt x="370" y="901"/>
                  <a:pt x="358" y="883"/>
                </a:cubicBezTo>
                <a:cubicBezTo>
                  <a:pt x="341" y="887"/>
                  <a:pt x="318" y="897"/>
                  <a:pt x="315" y="918"/>
                </a:cubicBezTo>
                <a:cubicBezTo>
                  <a:pt x="312" y="939"/>
                  <a:pt x="336" y="943"/>
                  <a:pt x="351" y="941"/>
                </a:cubicBezTo>
                <a:cubicBezTo>
                  <a:pt x="373" y="938"/>
                  <a:pt x="378" y="937"/>
                  <a:pt x="384" y="920"/>
                </a:cubicBezTo>
                <a:cubicBezTo>
                  <a:pt x="368" y="912"/>
                  <a:pt x="356" y="908"/>
                  <a:pt x="338" y="910"/>
                </a:cubicBezTo>
                <a:cubicBezTo>
                  <a:pt x="322" y="911"/>
                  <a:pt x="303" y="906"/>
                  <a:pt x="300" y="922"/>
                </a:cubicBezTo>
                <a:cubicBezTo>
                  <a:pt x="302" y="927"/>
                  <a:pt x="303" y="932"/>
                  <a:pt x="305" y="9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31"/>
          <p:cNvGrpSpPr/>
          <p:nvPr/>
        </p:nvGrpSpPr>
        <p:grpSpPr>
          <a:xfrm>
            <a:off x="6629400" y="1523880"/>
            <a:ext cx="252000" cy="162000"/>
            <a:chOff x="6629400" y="1523880"/>
            <a:chExt cx="252000" cy="162000"/>
          </a:xfrm>
        </p:grpSpPr>
        <p:sp>
          <p:nvSpPr>
            <p:cNvPr id="545" name="Ink 32"/>
            <p:cNvSpPr/>
            <p:nvPr/>
          </p:nvSpPr>
          <p:spPr>
            <a:xfrm>
              <a:off x="6629400" y="152892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8" h="158">
                  <a:moveTo>
                    <a:pt x="9" y="0"/>
                  </a:moveTo>
                  <a:cubicBezTo>
                    <a:pt x="6" y="21"/>
                    <a:pt x="2" y="41"/>
                    <a:pt x="2" y="61"/>
                  </a:cubicBezTo>
                  <a:cubicBezTo>
                    <a:pt x="2" y="80"/>
                    <a:pt x="5" y="100"/>
                    <a:pt x="7" y="119"/>
                  </a:cubicBezTo>
                  <a:cubicBezTo>
                    <a:pt x="9" y="137"/>
                    <a:pt x="11" y="145"/>
                    <a:pt x="17" y="15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Ink 33"/>
            <p:cNvSpPr/>
            <p:nvPr/>
          </p:nvSpPr>
          <p:spPr>
            <a:xfrm>
              <a:off x="6632640" y="1581480"/>
              <a:ext cx="1800" cy="10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65">
                  <a:moveTo>
                    <a:pt x="1" y="0"/>
                  </a:moveTo>
                  <a:cubicBezTo>
                    <a:pt x="8" y="20"/>
                    <a:pt x="1" y="27"/>
                    <a:pt x="0" y="47"/>
                  </a:cubicBezTo>
                  <a:cubicBezTo>
                    <a:pt x="0" y="53"/>
                    <a:pt x="1" y="58"/>
                    <a:pt x="1" y="6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Ink 34"/>
            <p:cNvSpPr/>
            <p:nvPr/>
          </p:nvSpPr>
          <p:spPr>
            <a:xfrm>
              <a:off x="6631200" y="1615680"/>
              <a:ext cx="1800" cy="19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119">
                  <a:moveTo>
                    <a:pt x="3" y="0"/>
                  </a:moveTo>
                  <a:cubicBezTo>
                    <a:pt x="0" y="20"/>
                    <a:pt x="1" y="37"/>
                    <a:pt x="2" y="57"/>
                  </a:cubicBezTo>
                  <a:cubicBezTo>
                    <a:pt x="3" y="79"/>
                    <a:pt x="5" y="97"/>
                    <a:pt x="9" y="11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Ink 35"/>
            <p:cNvSpPr/>
            <p:nvPr/>
          </p:nvSpPr>
          <p:spPr>
            <a:xfrm>
              <a:off x="6631200" y="1659240"/>
              <a:ext cx="2880" cy="18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10">
                  <a:moveTo>
                    <a:pt x="0" y="0"/>
                  </a:moveTo>
                  <a:cubicBezTo>
                    <a:pt x="6" y="17"/>
                    <a:pt x="0" y="27"/>
                    <a:pt x="0" y="46"/>
                  </a:cubicBezTo>
                  <a:cubicBezTo>
                    <a:pt x="0" y="63"/>
                    <a:pt x="-1" y="83"/>
                    <a:pt x="6" y="99"/>
                  </a:cubicBezTo>
                  <a:cubicBezTo>
                    <a:pt x="8" y="102"/>
                    <a:pt x="10" y="106"/>
                    <a:pt x="12" y="10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Ink 36"/>
            <p:cNvSpPr/>
            <p:nvPr/>
          </p:nvSpPr>
          <p:spPr>
            <a:xfrm>
              <a:off x="6655680" y="1525320"/>
              <a:ext cx="46080" cy="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2" h="28">
                  <a:moveTo>
                    <a:pt x="0" y="25"/>
                  </a:moveTo>
                  <a:cubicBezTo>
                    <a:pt x="20" y="26"/>
                    <a:pt x="35" y="23"/>
                    <a:pt x="54" y="19"/>
                  </a:cubicBezTo>
                  <a:cubicBezTo>
                    <a:pt x="77" y="14"/>
                    <a:pt x="99" y="12"/>
                    <a:pt x="122" y="9"/>
                  </a:cubicBezTo>
                  <a:cubicBezTo>
                    <a:pt x="147" y="6"/>
                    <a:pt x="167" y="3"/>
                    <a:pt x="191" y="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Ink 37"/>
            <p:cNvSpPr/>
            <p:nvPr/>
          </p:nvSpPr>
          <p:spPr>
            <a:xfrm>
              <a:off x="6730200" y="1523880"/>
              <a:ext cx="35640" cy="2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8" h="12">
                  <a:moveTo>
                    <a:pt x="0" y="6"/>
                  </a:moveTo>
                  <a:cubicBezTo>
                    <a:pt x="19" y="-1"/>
                    <a:pt x="28" y="2"/>
                    <a:pt x="48" y="6"/>
                  </a:cubicBezTo>
                  <a:cubicBezTo>
                    <a:pt x="64" y="9"/>
                    <a:pt x="96" y="14"/>
                    <a:pt x="111" y="11"/>
                  </a:cubicBezTo>
                  <a:cubicBezTo>
                    <a:pt x="127" y="3"/>
                    <a:pt x="134" y="1"/>
                    <a:pt x="147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Ink 38"/>
            <p:cNvSpPr/>
            <p:nvPr/>
          </p:nvSpPr>
          <p:spPr>
            <a:xfrm>
              <a:off x="6796440" y="1523880"/>
              <a:ext cx="55440" cy="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31" h="29">
                  <a:moveTo>
                    <a:pt x="0" y="24"/>
                  </a:moveTo>
                  <a:cubicBezTo>
                    <a:pt x="28" y="28"/>
                    <a:pt x="50" y="25"/>
                    <a:pt x="78" y="21"/>
                  </a:cubicBezTo>
                  <a:cubicBezTo>
                    <a:pt x="115" y="15"/>
                    <a:pt x="157" y="14"/>
                    <a:pt x="193" y="7"/>
                  </a:cubicBezTo>
                  <a:cubicBezTo>
                    <a:pt x="210" y="-1"/>
                    <a:pt x="217" y="-3"/>
                    <a:pt x="230" y="4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Ink 39"/>
            <p:cNvSpPr/>
            <p:nvPr/>
          </p:nvSpPr>
          <p:spPr>
            <a:xfrm>
              <a:off x="6875280" y="1533960"/>
              <a:ext cx="6120" cy="28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4" h="170">
                  <a:moveTo>
                    <a:pt x="23" y="0"/>
                  </a:moveTo>
                  <a:cubicBezTo>
                    <a:pt x="16" y="14"/>
                    <a:pt x="16" y="26"/>
                    <a:pt x="15" y="43"/>
                  </a:cubicBezTo>
                  <a:cubicBezTo>
                    <a:pt x="14" y="60"/>
                    <a:pt x="10" y="79"/>
                    <a:pt x="7" y="96"/>
                  </a:cubicBezTo>
                  <a:cubicBezTo>
                    <a:pt x="3" y="121"/>
                    <a:pt x="1" y="144"/>
                    <a:pt x="0" y="16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Ink 40"/>
            <p:cNvSpPr/>
            <p:nvPr/>
          </p:nvSpPr>
          <p:spPr>
            <a:xfrm>
              <a:off x="6875280" y="1586880"/>
              <a:ext cx="3960" cy="259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5" h="159">
                  <a:moveTo>
                    <a:pt x="14" y="0"/>
                  </a:moveTo>
                  <a:cubicBezTo>
                    <a:pt x="1" y="19"/>
                    <a:pt x="7" y="24"/>
                    <a:pt x="7" y="47"/>
                  </a:cubicBezTo>
                  <a:cubicBezTo>
                    <a:pt x="7" y="65"/>
                    <a:pt x="3" y="84"/>
                    <a:pt x="3" y="102"/>
                  </a:cubicBezTo>
                  <a:cubicBezTo>
                    <a:pt x="3" y="122"/>
                    <a:pt x="2" y="138"/>
                    <a:pt x="4" y="15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Ink 41"/>
            <p:cNvSpPr/>
            <p:nvPr/>
          </p:nvSpPr>
          <p:spPr>
            <a:xfrm>
              <a:off x="6872040" y="1639440"/>
              <a:ext cx="3960" cy="19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118">
                  <a:moveTo>
                    <a:pt x="0" y="0"/>
                  </a:moveTo>
                  <a:cubicBezTo>
                    <a:pt x="0" y="19"/>
                    <a:pt x="7" y="31"/>
                    <a:pt x="11" y="49"/>
                  </a:cubicBezTo>
                  <a:cubicBezTo>
                    <a:pt x="15" y="66"/>
                    <a:pt x="20" y="89"/>
                    <a:pt x="17" y="106"/>
                  </a:cubicBezTo>
                  <a:cubicBezTo>
                    <a:pt x="16" y="110"/>
                    <a:pt x="14" y="113"/>
                    <a:pt x="13" y="117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Ink 42"/>
            <p:cNvSpPr/>
            <p:nvPr/>
          </p:nvSpPr>
          <p:spPr>
            <a:xfrm>
              <a:off x="6655680" y="1684440"/>
              <a:ext cx="25920" cy="1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0" h="8">
                  <a:moveTo>
                    <a:pt x="0" y="0"/>
                  </a:moveTo>
                  <a:cubicBezTo>
                    <a:pt x="19" y="7"/>
                    <a:pt x="36" y="7"/>
                    <a:pt x="57" y="5"/>
                  </a:cubicBezTo>
                  <a:cubicBezTo>
                    <a:pt x="74" y="3"/>
                    <a:pt x="91" y="5"/>
                    <a:pt x="109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Ink 43"/>
            <p:cNvSpPr/>
            <p:nvPr/>
          </p:nvSpPr>
          <p:spPr>
            <a:xfrm>
              <a:off x="6708960" y="1684440"/>
              <a:ext cx="47160" cy="14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01" h="8">
                  <a:moveTo>
                    <a:pt x="0" y="7"/>
                  </a:moveTo>
                  <a:cubicBezTo>
                    <a:pt x="23" y="2"/>
                    <a:pt x="43" y="0"/>
                    <a:pt x="67" y="0"/>
                  </a:cubicBezTo>
                  <a:cubicBezTo>
                    <a:pt x="88" y="0"/>
                    <a:pt x="108" y="6"/>
                    <a:pt x="129" y="6"/>
                  </a:cubicBezTo>
                  <a:cubicBezTo>
                    <a:pt x="154" y="6"/>
                    <a:pt x="176" y="3"/>
                    <a:pt x="200" y="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Ink 44"/>
            <p:cNvSpPr/>
            <p:nvPr/>
          </p:nvSpPr>
          <p:spPr>
            <a:xfrm>
              <a:off x="6783840" y="1679400"/>
              <a:ext cx="31320" cy="4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1" h="25">
                  <a:moveTo>
                    <a:pt x="0" y="16"/>
                  </a:moveTo>
                  <a:cubicBezTo>
                    <a:pt x="20" y="26"/>
                    <a:pt x="28" y="23"/>
                    <a:pt x="50" y="20"/>
                  </a:cubicBezTo>
                  <a:cubicBezTo>
                    <a:pt x="77" y="16"/>
                    <a:pt x="104" y="8"/>
                    <a:pt x="13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Ink 45"/>
            <p:cNvSpPr/>
            <p:nvPr/>
          </p:nvSpPr>
          <p:spPr>
            <a:xfrm>
              <a:off x="6850080" y="1680120"/>
              <a:ext cx="20880" cy="3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6" h="25">
                  <a:moveTo>
                    <a:pt x="0" y="24"/>
                  </a:moveTo>
                  <a:cubicBezTo>
                    <a:pt x="14" y="14"/>
                    <a:pt x="22" y="18"/>
                    <a:pt x="42" y="16"/>
                  </a:cubicBezTo>
                  <a:cubicBezTo>
                    <a:pt x="58" y="15"/>
                    <a:pt x="71" y="7"/>
                    <a:pt x="8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78"/>
          <p:cNvGrpSpPr/>
          <p:nvPr/>
        </p:nvGrpSpPr>
        <p:grpSpPr>
          <a:xfrm>
            <a:off x="1643040" y="719280"/>
            <a:ext cx="5824440" cy="2419200"/>
            <a:chOff x="1643040" y="719280"/>
            <a:chExt cx="5824440" cy="2419200"/>
          </a:xfrm>
        </p:grpSpPr>
        <p:sp>
          <p:nvSpPr>
            <p:cNvPr id="560" name="Freeform 162"/>
            <p:cNvSpPr/>
            <p:nvPr/>
          </p:nvSpPr>
          <p:spPr>
            <a:xfrm rot="16200000">
              <a:off x="4654080" y="232200"/>
              <a:ext cx="2326320" cy="330048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3300480"/>
                <a:gd name="textAreaBottom" fmla="*/ 3300840 h 330048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3"/>
            <p:cNvSpPr/>
            <p:nvPr/>
          </p:nvSpPr>
          <p:spPr>
            <a:xfrm rot="5400000">
              <a:off x="1887120" y="567360"/>
              <a:ext cx="2326320" cy="2815200"/>
            </a:xfrm>
            <a:custGeom>
              <a:avLst/>
              <a:gdLst>
                <a:gd name="textAreaLeft" fmla="*/ 0 w 2326320"/>
                <a:gd name="textAreaRight" fmla="*/ 2326680 w 2326320"/>
                <a:gd name="textAreaTop" fmla="*/ 0 h 2815200"/>
                <a:gd name="textAreaBottom" fmla="*/ 2815560 h 2815200"/>
              </a:gdLst>
              <a:ahLst/>
              <a:rect l="textAreaLeft" t="textAreaTop" r="textAreaRight" b="textAreaBottom"/>
              <a:pathLst>
                <a:path w="1288" h="1064">
                  <a:moveTo>
                    <a:pt x="0" y="88"/>
                  </a:moveTo>
                  <a:cubicBezTo>
                    <a:pt x="65" y="186"/>
                    <a:pt x="56" y="309"/>
                    <a:pt x="64" y="424"/>
                  </a:cubicBezTo>
                  <a:cubicBezTo>
                    <a:pt x="44" y="485"/>
                    <a:pt x="57" y="434"/>
                    <a:pt x="64" y="560"/>
                  </a:cubicBezTo>
                  <a:cubicBezTo>
                    <a:pt x="75" y="774"/>
                    <a:pt x="56" y="688"/>
                    <a:pt x="80" y="784"/>
                  </a:cubicBezTo>
                  <a:cubicBezTo>
                    <a:pt x="77" y="829"/>
                    <a:pt x="72" y="875"/>
                    <a:pt x="72" y="920"/>
                  </a:cubicBezTo>
                  <a:cubicBezTo>
                    <a:pt x="72" y="969"/>
                    <a:pt x="88" y="1016"/>
                    <a:pt x="88" y="1064"/>
                  </a:cubicBezTo>
                  <a:cubicBezTo>
                    <a:pt x="461" y="1061"/>
                    <a:pt x="835" y="1061"/>
                    <a:pt x="1208" y="1056"/>
                  </a:cubicBezTo>
                  <a:cubicBezTo>
                    <a:pt x="1266" y="1055"/>
                    <a:pt x="1272" y="1047"/>
                    <a:pt x="1288" y="1000"/>
                  </a:cubicBezTo>
                  <a:cubicBezTo>
                    <a:pt x="1265" y="931"/>
                    <a:pt x="1258" y="855"/>
                    <a:pt x="1240" y="784"/>
                  </a:cubicBezTo>
                  <a:cubicBezTo>
                    <a:pt x="1237" y="669"/>
                    <a:pt x="1232" y="555"/>
                    <a:pt x="1232" y="440"/>
                  </a:cubicBezTo>
                  <a:cubicBezTo>
                    <a:pt x="1232" y="376"/>
                    <a:pt x="1253" y="456"/>
                    <a:pt x="1232" y="392"/>
                  </a:cubicBezTo>
                  <a:cubicBezTo>
                    <a:pt x="1226" y="258"/>
                    <a:pt x="1224" y="132"/>
                    <a:pt x="12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Box 1"/>
          <p:cNvSpPr/>
          <p:nvPr/>
        </p:nvSpPr>
        <p:spPr>
          <a:xfrm>
            <a:off x="3003480" y="226548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95"/>
          <p:cNvSpPr/>
          <p:nvPr/>
        </p:nvSpPr>
        <p:spPr>
          <a:xfrm>
            <a:off x="2971800" y="16765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Analy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96"/>
          <p:cNvSpPr/>
          <p:nvPr/>
        </p:nvSpPr>
        <p:spPr>
          <a:xfrm>
            <a:off x="2895480" y="1219320"/>
            <a:ext cx="103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Clo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Ink 82" descr=""/>
          <p:cNvPicPr/>
          <p:nvPr/>
        </p:nvPicPr>
        <p:blipFill>
          <a:blip r:embed="rId17"/>
          <a:stretch/>
        </p:blipFill>
        <p:spPr>
          <a:xfrm>
            <a:off x="3200400" y="3505320"/>
            <a:ext cx="3762360" cy="24667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71"/>
          <p:cNvSpPr/>
          <p:nvPr/>
        </p:nvSpPr>
        <p:spPr>
          <a:xfrm>
            <a:off x="5297400" y="4635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67"/>
          <p:cNvSpPr/>
          <p:nvPr/>
        </p:nvSpPr>
        <p:spPr>
          <a:xfrm>
            <a:off x="4604760" y="41148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8"/>
          <p:cNvSpPr/>
          <p:nvPr/>
        </p:nvSpPr>
        <p:spPr>
          <a:xfrm>
            <a:off x="4026600" y="46483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04"/>
          <p:cNvSpPr/>
          <p:nvPr/>
        </p:nvSpPr>
        <p:spPr>
          <a:xfrm>
            <a:off x="3835440" y="21337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7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05"/>
          <p:cNvSpPr/>
          <p:nvPr/>
        </p:nvSpPr>
        <p:spPr>
          <a:xfrm>
            <a:off x="3835440" y="167652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8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06"/>
          <p:cNvSpPr/>
          <p:nvPr/>
        </p:nvSpPr>
        <p:spPr>
          <a:xfrm>
            <a:off x="3809880" y="124776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Felt Tip Roman"/>
              </a:rPr>
              <a:t>67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Felt Tip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74"/>
          <p:cNvSpPr/>
          <p:nvPr/>
        </p:nvSpPr>
        <p:spPr>
          <a:xfrm>
            <a:off x="3817080" y="5407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Sca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nk 134" descr=""/>
          <p:cNvPicPr/>
          <p:nvPr/>
        </p:nvPicPr>
        <p:blipFill>
          <a:blip r:embed="rId18"/>
          <a:stretch/>
        </p:blipFill>
        <p:spPr>
          <a:xfrm>
            <a:off x="3191040" y="3489480"/>
            <a:ext cx="3597120" cy="1155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58"/>
          <p:cNvSpPr/>
          <p:nvPr/>
        </p:nvSpPr>
        <p:spPr>
          <a:xfrm>
            <a:off x="3228480" y="32767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Affor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59"/>
          <p:cNvSpPr/>
          <p:nvPr/>
        </p:nvSpPr>
        <p:spPr>
          <a:xfrm>
            <a:off x="6444000" y="320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Q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75"/>
          <p:cNvSpPr/>
          <p:nvPr/>
        </p:nvSpPr>
        <p:spPr>
          <a:xfrm>
            <a:off x="4524120" y="31240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“</a:t>
            </a:r>
            <a:r>
              <a:rPr b="0" lang="en-US" sz="1400" spc="-1" strike="noStrike">
                <a:solidFill>
                  <a:srgbClr val="00b050"/>
                </a:solidFill>
                <a:latin typeface="Felt Tip Roman"/>
              </a:rPr>
              <a:t>Right Fit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80"/>
          <p:cNvSpPr/>
          <p:nvPr/>
        </p:nvSpPr>
        <p:spPr>
          <a:xfrm>
            <a:off x="3503520" y="44136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Felt Tip Roman"/>
              </a:rPr>
              <a:t>IBM z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79"/>
          <p:cNvGrpSpPr/>
          <p:nvPr/>
        </p:nvGrpSpPr>
        <p:grpSpPr>
          <a:xfrm>
            <a:off x="2097000" y="219240"/>
            <a:ext cx="4435200" cy="2986920"/>
            <a:chOff x="2097000" y="219240"/>
            <a:chExt cx="4435200" cy="2986920"/>
          </a:xfrm>
        </p:grpSpPr>
        <p:sp>
          <p:nvSpPr>
            <p:cNvPr id="579" name="Ink 80"/>
            <p:cNvSpPr/>
            <p:nvPr/>
          </p:nvSpPr>
          <p:spPr>
            <a:xfrm>
              <a:off x="2195640" y="231480"/>
              <a:ext cx="33480" cy="27676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767680"/>
                <a:gd name="textAreaBottom" fmla="*/ 2768040 h 2767680"/>
              </a:gdLst>
              <a:ahLst/>
              <a:rect l="textAreaLeft" t="textAreaTop" r="textAreaRight" b="textAreaBottom"/>
              <a:pathLst>
                <a:path w="89" h="4012">
                  <a:moveTo>
                    <a:pt x="46" y="0"/>
                  </a:moveTo>
                  <a:cubicBezTo>
                    <a:pt x="59" y="161"/>
                    <a:pt x="59" y="321"/>
                    <a:pt x="60" y="483"/>
                  </a:cubicBezTo>
                  <a:cubicBezTo>
                    <a:pt x="67" y="1470"/>
                    <a:pt x="116" y="2463"/>
                    <a:pt x="56" y="3449"/>
                  </a:cubicBezTo>
                  <a:cubicBezTo>
                    <a:pt x="54" y="3476"/>
                    <a:pt x="-22" y="3988"/>
                    <a:pt x="0" y="4001"/>
                  </a:cubicBezTo>
                  <a:cubicBezTo>
                    <a:pt x="25" y="4016"/>
                    <a:pt x="47" y="3985"/>
                    <a:pt x="65" y="3964"/>
                  </a:cubicBezTo>
                  <a:cubicBezTo>
                    <a:pt x="72" y="3935"/>
                    <a:pt x="74" y="3926"/>
                    <a:pt x="88" y="3911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Ink 81"/>
            <p:cNvSpPr/>
            <p:nvPr/>
          </p:nvSpPr>
          <p:spPr>
            <a:xfrm>
              <a:off x="2097000" y="219240"/>
              <a:ext cx="4428360" cy="155160"/>
            </a:xfrm>
            <a:custGeom>
              <a:avLst/>
              <a:gdLst>
                <a:gd name="textAreaLeft" fmla="*/ 0 w 4428360"/>
                <a:gd name="textAreaRight" fmla="*/ 4428720 w 4428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1655" h="223">
                  <a:moveTo>
                    <a:pt x="371" y="126"/>
                  </a:moveTo>
                  <a:cubicBezTo>
                    <a:pt x="246" y="150"/>
                    <a:pt x="126" y="169"/>
                    <a:pt x="0" y="184"/>
                  </a:cubicBezTo>
                  <a:cubicBezTo>
                    <a:pt x="81" y="175"/>
                    <a:pt x="168" y="157"/>
                    <a:pt x="253" y="151"/>
                  </a:cubicBezTo>
                  <a:cubicBezTo>
                    <a:pt x="2215" y="17"/>
                    <a:pt x="4174" y="137"/>
                    <a:pt x="6136" y="188"/>
                  </a:cubicBezTo>
                  <a:cubicBezTo>
                    <a:pt x="7566" y="225"/>
                    <a:pt x="8983" y="225"/>
                    <a:pt x="10410" y="119"/>
                  </a:cubicBezTo>
                  <a:cubicBezTo>
                    <a:pt x="10826" y="88"/>
                    <a:pt x="11240" y="50"/>
                    <a:pt x="11654" y="0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Ink 82"/>
            <p:cNvSpPr/>
            <p:nvPr/>
          </p:nvSpPr>
          <p:spPr>
            <a:xfrm>
              <a:off x="2229480" y="2971800"/>
              <a:ext cx="4212360" cy="152280"/>
            </a:xfrm>
            <a:custGeom>
              <a:avLst/>
              <a:gdLst>
                <a:gd name="textAreaLeft" fmla="*/ 0 w 4212360"/>
                <a:gd name="textAreaRight" fmla="*/ 4212720 w 4212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084" h="222">
                  <a:moveTo>
                    <a:pt x="0" y="169"/>
                  </a:moveTo>
                  <a:cubicBezTo>
                    <a:pt x="507" y="140"/>
                    <a:pt x="1016" y="121"/>
                    <a:pt x="1524" y="93"/>
                  </a:cubicBezTo>
                  <a:cubicBezTo>
                    <a:pt x="2534" y="37"/>
                    <a:pt x="3555" y="-10"/>
                    <a:pt x="4567" y="8"/>
                  </a:cubicBezTo>
                  <a:cubicBezTo>
                    <a:pt x="6037" y="34"/>
                    <a:pt x="7507" y="4"/>
                    <a:pt x="8977" y="28"/>
                  </a:cubicBezTo>
                  <a:cubicBezTo>
                    <a:pt x="9685" y="39"/>
                    <a:pt x="10388" y="112"/>
                    <a:pt x="11083" y="21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Ink 83"/>
            <p:cNvSpPr/>
            <p:nvPr/>
          </p:nvSpPr>
          <p:spPr>
            <a:xfrm>
              <a:off x="6480360" y="425880"/>
              <a:ext cx="51840" cy="27802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780280"/>
                <a:gd name="textAreaBottom" fmla="*/ 2780640 h 2780280"/>
              </a:gdLst>
              <a:ahLst/>
              <a:rect l="textAreaLeft" t="textAreaTop" r="textAreaRight" b="textAreaBottom"/>
              <a:pathLst>
                <a:path w="139" h="4032">
                  <a:moveTo>
                    <a:pt x="48" y="0"/>
                  </a:moveTo>
                  <a:cubicBezTo>
                    <a:pt x="39" y="18"/>
                    <a:pt x="17" y="7"/>
                    <a:pt x="10" y="37"/>
                  </a:cubicBezTo>
                  <a:cubicBezTo>
                    <a:pt x="0" y="81"/>
                    <a:pt x="5" y="140"/>
                    <a:pt x="5" y="184"/>
                  </a:cubicBezTo>
                  <a:cubicBezTo>
                    <a:pt x="4" y="331"/>
                    <a:pt x="11" y="478"/>
                    <a:pt x="14" y="625"/>
                  </a:cubicBezTo>
                  <a:cubicBezTo>
                    <a:pt x="24" y="1133"/>
                    <a:pt x="4" y="1641"/>
                    <a:pt x="0" y="2149"/>
                  </a:cubicBezTo>
                  <a:cubicBezTo>
                    <a:pt x="-2" y="2377"/>
                    <a:pt x="3" y="2600"/>
                    <a:pt x="35" y="2826"/>
                  </a:cubicBezTo>
                  <a:cubicBezTo>
                    <a:pt x="63" y="3028"/>
                    <a:pt x="117" y="3221"/>
                    <a:pt x="133" y="3425"/>
                  </a:cubicBezTo>
                  <a:cubicBezTo>
                    <a:pt x="146" y="3586"/>
                    <a:pt x="153" y="3841"/>
                    <a:pt x="70" y="3988"/>
                  </a:cubicBezTo>
                  <a:cubicBezTo>
                    <a:pt x="49" y="4024"/>
                    <a:pt x="48" y="4045"/>
                    <a:pt x="39" y="4000"/>
                  </a:cubicBezTo>
                  <a:cubicBezTo>
                    <a:pt x="39" y="3962"/>
                    <a:pt x="39" y="3949"/>
                    <a:pt x="53" y="3926"/>
                  </a:cubicBezTo>
                </a:path>
              </a:pathLst>
            </a:custGeom>
            <a:noFill/>
            <a:ln cap="rnd"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Ink 28" descr=""/>
          <p:cNvPicPr/>
          <p:nvPr/>
        </p:nvPicPr>
        <p:blipFill>
          <a:blip r:embed="rId19"/>
          <a:stretch/>
        </p:blipFill>
        <p:spPr>
          <a:xfrm>
            <a:off x="301680" y="785880"/>
            <a:ext cx="1035000" cy="572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69"/>
          <p:cNvSpPr/>
          <p:nvPr/>
        </p:nvSpPr>
        <p:spPr>
          <a:xfrm>
            <a:off x="4368240" y="5940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Manage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"/>
          <p:cNvSpPr/>
          <p:nvPr/>
        </p:nvSpPr>
        <p:spPr>
          <a:xfrm>
            <a:off x="6873840" y="6842160"/>
            <a:ext cx="8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Capac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6"/>
          <p:cNvSpPr/>
          <p:nvPr/>
        </p:nvSpPr>
        <p:spPr>
          <a:xfrm>
            <a:off x="7467480" y="457200"/>
            <a:ext cx="14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Challe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niti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Right F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elt Tip Roman"/>
              </a:rPr>
              <a:t>IBM Z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99"/>
          <p:cNvGrpSpPr/>
          <p:nvPr/>
        </p:nvGrpSpPr>
        <p:grpSpPr>
          <a:xfrm>
            <a:off x="7554960" y="228600"/>
            <a:ext cx="1284120" cy="276480"/>
            <a:chOff x="7554960" y="228600"/>
            <a:chExt cx="1284120" cy="276480"/>
          </a:xfrm>
        </p:grpSpPr>
        <p:pic>
          <p:nvPicPr>
            <p:cNvPr id="588" name="Ink 28" descr=""/>
            <p:cNvPicPr/>
            <p:nvPr/>
          </p:nvPicPr>
          <p:blipFill>
            <a:blip r:embed="rId20"/>
            <a:stretch/>
          </p:blipFill>
          <p:spPr>
            <a:xfrm>
              <a:off x="7844760" y="451080"/>
              <a:ext cx="851040" cy="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36"/>
            <p:cNvSpPr/>
            <p:nvPr/>
          </p:nvSpPr>
          <p:spPr>
            <a:xfrm>
              <a:off x="7554960" y="228600"/>
              <a:ext cx="12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elt Tip Roman"/>
                </a:rPr>
                <a:t>Objectiv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Rectangle 110"/>
          <p:cNvSpPr/>
          <p:nvPr/>
        </p:nvSpPr>
        <p:spPr>
          <a:xfrm>
            <a:off x="6781680" y="5254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1"/>
          <p:cNvSpPr/>
          <p:nvPr/>
        </p:nvSpPr>
        <p:spPr>
          <a:xfrm>
            <a:off x="6781680" y="54072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Dem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3"/>
          <p:cNvSpPr/>
          <p:nvPr/>
        </p:nvSpPr>
        <p:spPr>
          <a:xfrm>
            <a:off x="6781680" y="5114880"/>
            <a:ext cx="8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Felt Tip Roman"/>
              </a:rPr>
              <a:t>Capacity</a:t>
            </a:r>
            <a:r>
              <a:rPr b="0" lang="en-US" sz="1400" spc="-1" strike="noStrike">
                <a:solidFill>
                  <a:srgbClr val="0070c0"/>
                </a:solidFill>
                <a:latin typeface="Felt Tip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1"/>
          <p:cNvSpPr/>
          <p:nvPr/>
        </p:nvSpPr>
        <p:spPr>
          <a:xfrm>
            <a:off x="5485680" y="5407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lt Tip Roman"/>
              </a:rPr>
              <a:t>Expand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0:27:49Z</dcterms:created>
  <dc:creator>Corey Sommers</dc:creator>
  <dc:description/>
  <dc:language>en-US</dc:language>
  <cp:lastModifiedBy>J Gideon</cp:lastModifiedBy>
  <cp:lastPrinted>2017-11-03T16:36:09Z</cp:lastPrinted>
  <dcterms:modified xsi:type="dcterms:W3CDTF">2017-12-08T15:47:22Z</dcterms:modified>
  <cp:revision>503</cp:revision>
  <dc:subject/>
  <dc:title>Slide 1</dc:title>
</cp:coreProperties>
</file>