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FED5-5EDC-47F1-A7B9-2DE66667C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6" name="PlaceHolder 1"/>
          <p:cNvSpPr>
            <a:spLocks noGrp="1"/>
          </p:cNvSpPr>
          <p:nvPr>
            <p:ph type="sldImg"/>
          </p:nvPr>
        </p:nvSpPr>
        <p:spPr>
          <a:xfrm>
            <a:off x="1143000" y="685800"/>
            <a:ext cx="4572000" cy="3429000"/>
          </a:xfrm>
          <a:prstGeom prst="rect">
            <a:avLst/>
          </a:prstGeom>
          <a:ln w="0">
            <a:noFill/>
          </a:ln>
        </p:spPr>
      </p:sp>
      <p:sp>
        <p:nvSpPr>
          <p:cNvPr id="39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very much for taking the time to meet today.  When we set this meeting up you mentioned that you were starting a process to select a Systems.  Is that still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d like to do over the next 25-30 minutes is provide you with a overview of a methodology that IBM has used with 1000’s of customers who were in a similar situation to you and faced the ques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Systems Selection] Selecting a new Systems. Before I sketch out the process I have a few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What?] What specifically is the decision that is being made.  Are you replacing a server?  Upgrading an existing server? Looking for new storage capabilities?  Can you give me some perspective o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Why?]  What’s creating the need for change?  What are the key objectives you are trying to achieve? Are there any organizational factors which will influence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Who?] Who will be involved in making the final deter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 you should write on the “board” key elements from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4" name="PlaceHolder 1"/>
          <p:cNvSpPr>
            <a:spLocks noGrp="1"/>
          </p:cNvSpPr>
          <p:nvPr>
            <p:ph type="sldImg"/>
          </p:nvPr>
        </p:nvSpPr>
        <p:spPr>
          <a:xfrm>
            <a:off x="1143000" y="685800"/>
            <a:ext cx="4572000" cy="3429000"/>
          </a:xfrm>
          <a:prstGeom prst="rect">
            <a:avLst/>
          </a:prstGeom>
          <a:ln w="0">
            <a:noFill/>
          </a:ln>
        </p:spPr>
      </p:sp>
      <p:sp>
        <p:nvSpPr>
          <p:cNvPr id="39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give you a sense of the key factors that you might consider in making a decision and some of the questions the team should be as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I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urrent IT] What does your current Systems environment look like? X86 (Intel)? Power (Unix)? System z?  Where is most of the processing taking place?  What is the skill level of the organization with respect to these Systemss?  What is the technology preferenc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Software] What type of software needs to be supported or made available?  Is there a specific application (ISV)?  Middleware?  Databas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Deployment Preference] What is the deployment preference for this application or the preference for the IT organization? Centralized? Virtualized? Hosted/Cloud? Or De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6" name="PlaceHolder 1"/>
          <p:cNvSpPr>
            <a:spLocks noGrp="1"/>
          </p:cNvSpPr>
          <p:nvPr>
            <p:ph type="sldImg"/>
          </p:nvPr>
        </p:nvSpPr>
        <p:spPr>
          <a:xfrm>
            <a:off x="1143000" y="685800"/>
            <a:ext cx="4572000" cy="3429000"/>
          </a:xfrm>
          <a:prstGeom prst="rect">
            <a:avLst/>
          </a:prstGeom>
          <a:ln w="0">
            <a:noFill/>
          </a:ln>
        </p:spPr>
      </p:sp>
      <p:sp>
        <p:nvSpPr>
          <p:cNvPr id="39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give you a sense of the key factors that you might consider in making a decision and some of the questions the team should be as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I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urrent IT] What does your current Systems environment look like? X86 (Intel)? Power (Unix)? System z?  Where is most of the processing taking place?  What is the skill level of the organization with respect to these Systemss?  What is the technology preferenc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Software] What type of software needs to be supported or made available?  Is there a specific application (ISV)?  Middleware?  Databas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Deployment Preference] What is the deployment preference for this application or the preference for the IT organization? Centralized? Virtualized? Hosted/Cloud? Or De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8" name="PlaceHolder 1"/>
          <p:cNvSpPr>
            <a:spLocks noGrp="1"/>
          </p:cNvSpPr>
          <p:nvPr>
            <p:ph type="sldImg"/>
          </p:nvPr>
        </p:nvSpPr>
        <p:spPr>
          <a:xfrm>
            <a:off x="1143000" y="685800"/>
            <a:ext cx="4572000" cy="3429000"/>
          </a:xfrm>
          <a:prstGeom prst="rect">
            <a:avLst/>
          </a:prstGeom>
          <a:ln w="0">
            <a:noFill/>
          </a:ln>
        </p:spPr>
      </p:sp>
      <p:sp>
        <p:nvSpPr>
          <p:cNvPr id="39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give you a sense of the key factors that you might consider in making a decision and some of the questions the team should be as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I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urrent IT] What does your current Systems environment look like? X86 (Intel)? Power (Unix)? System z?  Where is most of the processing taking place?  What is the skill level of the organization with respect to these Systemss?  What is the technology preferenc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Software] What type of software needs to be supported or made available?  Is there a specific application (ISV)?  Middleware?  Databas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Deployment Preference] What is the deployment preference for this application or the preference for the IT organization? Centralized? Virtualized? Hosted/Cloud? Or De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0" name="PlaceHolder 1"/>
          <p:cNvSpPr>
            <a:spLocks noGrp="1"/>
          </p:cNvSpPr>
          <p:nvPr>
            <p:ph type="sldImg"/>
          </p:nvPr>
        </p:nvSpPr>
        <p:spPr>
          <a:xfrm>
            <a:off x="1143000" y="685800"/>
            <a:ext cx="4572000" cy="3429000"/>
          </a:xfrm>
          <a:prstGeom prst="rect">
            <a:avLst/>
          </a:prstGeom>
          <a:ln w="0">
            <a:noFill/>
          </a:ln>
        </p:spPr>
      </p:sp>
      <p:sp>
        <p:nvSpPr>
          <p:cNvPr id="39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give you a sense of the key factors that you might consider in making a decision and some of the questions the team should be as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I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urrent IT] What does your current Systems environment look like? X86 (Intel)? Power (Unix)? System z?  Where is most of the processing taking place?  What is the skill level of the organization with respect to these Systemss?  What is the technology preferenc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Software] What type of software needs to be supported or made available?  Is there a specific application (ISV)?  Middleware?  Databas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Deployment Preference] What is the deployment preference for this application or the preference for the IT organization? Centralized? Virtualized? Hosted/Cloud? Or De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2" name="PlaceHolder 1"/>
          <p:cNvSpPr>
            <a:spLocks noGrp="1"/>
          </p:cNvSpPr>
          <p:nvPr>
            <p:ph type="sldImg"/>
          </p:nvPr>
        </p:nvSpPr>
        <p:spPr>
          <a:xfrm>
            <a:off x="1143000" y="685800"/>
            <a:ext cx="4572000" cy="3429000"/>
          </a:xfrm>
          <a:prstGeom prst="rect">
            <a:avLst/>
          </a:prstGeom>
          <a:ln w="0">
            <a:noFill/>
          </a:ln>
        </p:spPr>
      </p:sp>
      <p:sp>
        <p:nvSpPr>
          <p:cNvPr id="3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give you a sense of the key factors that you might consider in making a decision and some of the questions the team should be as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I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urrent IT] What does your current Systems environment look like? X86 (Intel)? Power (Unix)? System z?  Where is most of the processing taking place?  What is the skill level of the organization with respect to these Systemss?  What is the technology preferenc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Software] What type of software needs to be supported or made available?  Is there a specific application (ISV)?  Middleware?  Databas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Deployment Preference] What is the deployment preference for this application or the preference for the IT organization? Centralized? Virtualized? Hosted/Cloud? Or De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4" name="PlaceHolder 1"/>
          <p:cNvSpPr>
            <a:spLocks noGrp="1"/>
          </p:cNvSpPr>
          <p:nvPr>
            <p:ph type="sldImg"/>
          </p:nvPr>
        </p:nvSpPr>
        <p:spPr>
          <a:xfrm>
            <a:off x="1143000" y="685800"/>
            <a:ext cx="4572000" cy="3429000"/>
          </a:xfrm>
          <a:prstGeom prst="rect">
            <a:avLst/>
          </a:prstGeom>
          <a:ln w="0">
            <a:noFill/>
          </a:ln>
        </p:spPr>
      </p:sp>
      <p:sp>
        <p:nvSpPr>
          <p:cNvPr id="3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give you a sense of the key factors that you might consider in making a decision and some of the questions the team should be as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I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urrent IT] What does your current Systems environment look like? X86 (Intel)? Power (Unix)? System z?  Where is most of the processing taking place?  What is the skill level of the organization with respect to these Systemss?  What is the technology preferenc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Software] What type of software needs to be supported or made available?  Is there a specific application (ISV)?  Middleware?  Databas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Deployment Preference] What is the deployment preference for this application or the preference for the IT organization? Centralized? Virtualized? Hosted/Cloud? Or De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6" name="PlaceHolder 1"/>
          <p:cNvSpPr>
            <a:spLocks noGrp="1"/>
          </p:cNvSpPr>
          <p:nvPr>
            <p:ph type="sldImg"/>
          </p:nvPr>
        </p:nvSpPr>
        <p:spPr>
          <a:xfrm>
            <a:off x="1143000" y="685800"/>
            <a:ext cx="4572000" cy="3429000"/>
          </a:xfrm>
          <a:prstGeom prst="rect">
            <a:avLst/>
          </a:prstGeom>
          <a:ln w="0">
            <a:noFill/>
          </a:ln>
        </p:spPr>
      </p:sp>
      <p:sp>
        <p:nvSpPr>
          <p:cNvPr id="39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give you a sense of the key factors that you might consider in making a decision and some of the questions the team should be as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I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urrent IT] What does your current Systems environment look like? X86 (Intel)? Power (Unix)? System z?  Where is most of the processing taking place?  What is the skill level of the organization with respect to these Systemss?  What is the technology preferenc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Software] What type of software needs to be supported or made available?  Is there a specific application (ISV)?  Middleware?  Databas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Deployment Preference] What is the deployment preference for this application or the preference for the IT organization? Centralized? Virtualized? Hosted/Cloud? Or De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8" name="PlaceHolder 1"/>
          <p:cNvSpPr>
            <a:spLocks noGrp="1"/>
          </p:cNvSpPr>
          <p:nvPr>
            <p:ph type="sldImg"/>
          </p:nvPr>
        </p:nvSpPr>
        <p:spPr>
          <a:xfrm>
            <a:off x="1143000" y="685800"/>
            <a:ext cx="4572000" cy="3429000"/>
          </a:xfrm>
          <a:prstGeom prst="rect">
            <a:avLst/>
          </a:prstGeom>
          <a:ln w="0">
            <a:noFill/>
          </a:ln>
        </p:spPr>
      </p:sp>
      <p:sp>
        <p:nvSpPr>
          <p:cNvPr id="39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give you a sense of the key factors that you might consider in making a decision and some of the questions the team should be as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I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urrent IT] What does your current Systems environment look like? X86 (Intel)? Power (Unix)? System z?  Where is most of the processing taking place?  What is the skill level of the organization with respect to these Systemss?  What is the technology preferenc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Software] What type of software needs to be supported or made available?  Is there a specific application (ISV)?  Middleware?  Databas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Deployment Preference] What is the deployment preference for this application or the preference for the IT organization? Centralized? Virtualized? Hosted/Cloud? Or De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0" name="PlaceHolder 1"/>
          <p:cNvSpPr>
            <a:spLocks noGrp="1"/>
          </p:cNvSpPr>
          <p:nvPr>
            <p:ph type="sldImg"/>
          </p:nvPr>
        </p:nvSpPr>
        <p:spPr>
          <a:xfrm>
            <a:off x="1143000" y="685800"/>
            <a:ext cx="4572000" cy="3429000"/>
          </a:xfrm>
          <a:prstGeom prst="rect">
            <a:avLst/>
          </a:prstGeom>
          <a:ln w="0">
            <a:noFill/>
          </a:ln>
        </p:spPr>
      </p:sp>
      <p:sp>
        <p:nvSpPr>
          <p:cNvPr id="39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give you a sense of the key factors that you might consider in making a decision and some of the questions the team should be as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I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urrent IT] What does your current Systems environment look like? X86 (Intel)? Power (Unix)? System z?  Where is most of the processing taking place?  What is the skill level of the organization with respect to these Systemss?  What is the technology preferenc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Software] What type of software needs to be supported or made available?  Is there a specific application (ISV)?  Middleware?  Databas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Deployment Preference] What is the deployment preference for this application or the preference for the IT organization? Centralized? Virtualized? Hosted/Cloud? Or De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2" name="PlaceHolder 1"/>
          <p:cNvSpPr>
            <a:spLocks noGrp="1"/>
          </p:cNvSpPr>
          <p:nvPr>
            <p:ph type="sldImg"/>
          </p:nvPr>
        </p:nvSpPr>
        <p:spPr>
          <a:xfrm>
            <a:off x="1143000" y="685800"/>
            <a:ext cx="4572000" cy="3429000"/>
          </a:xfrm>
          <a:prstGeom prst="rect">
            <a:avLst/>
          </a:prstGeom>
          <a:ln w="0">
            <a:noFill/>
          </a:ln>
        </p:spPr>
      </p:sp>
      <p:sp>
        <p:nvSpPr>
          <p:cNvPr id="3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give you a sense of the key factors that you might consider in making a decision and some of the questions the team should be as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I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urrent IT] What does your current Systems environment look like? X86 (Intel)? Power (Unix)? System z?  Where is most of the processing taking place?  What is the skill level of the organization with respect to these Systemss?  What is the technology preferenc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Software] What type of software needs to be supported or made available?  Is there a specific application (ISV)?  Middleware?  Databas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Deployment Preference] What is the deployment preference for this application or the preference for the IT organization? Centralized? Virtualized? Hosted/Cloud? Or De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8" name="PlaceHolder 1"/>
          <p:cNvSpPr>
            <a:spLocks noGrp="1"/>
          </p:cNvSpPr>
          <p:nvPr>
            <p:ph type="sldImg"/>
          </p:nvPr>
        </p:nvSpPr>
        <p:spPr>
          <a:xfrm>
            <a:off x="1143000" y="685800"/>
            <a:ext cx="4572000" cy="3429000"/>
          </a:xfrm>
          <a:prstGeom prst="rect">
            <a:avLst/>
          </a:prstGeom>
          <a:ln w="0">
            <a:noFill/>
          </a:ln>
        </p:spPr>
      </p:sp>
      <p:sp>
        <p:nvSpPr>
          <p:cNvPr id="39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very much for taking the time to meet today.  When we set this meeting up you mentioned that you were starting a process to select a Systems.  Is that still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d like to do over the next 25-30 minutes is provide you with a overview of a methodology that IBM has used with 1000’s of customers who were in a similar situation to you and faced the ques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Systems Selection] Selecting a new Systems. Before I sketch out the process I have a few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What?] What specifically is the decision that is being made.  Are you replacing a server?  Upgrading an existing server? Looking for new storage capabilities?  Can you give me some perspective o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Why?]  What’s creating the need for change?  What are the key objectives you are trying to achieve? Are there any organizational factors which will influence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Who?] Who will be involved in making the final deter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 you should write on the “board” key elements from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4" name="PlaceHolder 1"/>
          <p:cNvSpPr>
            <a:spLocks noGrp="1"/>
          </p:cNvSpPr>
          <p:nvPr>
            <p:ph type="sldImg"/>
          </p:nvPr>
        </p:nvSpPr>
        <p:spPr>
          <a:xfrm>
            <a:off x="1143000" y="685800"/>
            <a:ext cx="4572000" cy="3429000"/>
          </a:xfrm>
          <a:prstGeom prst="rect">
            <a:avLst/>
          </a:prstGeom>
          <a:ln w="0">
            <a:noFill/>
          </a:ln>
        </p:spPr>
      </p:sp>
      <p:sp>
        <p:nvSpPr>
          <p:cNvPr id="3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spect to Workl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ategories] There are four general types of workloads – those that are focused on Transaction processing or are database oriented; Collaboration of IT Environment; Business applications; Analytic or high performance computing. Each of these has specific processing and throughput requirements which are best served by a particular server and storage technology.  What type of workload is planned for the new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QOS Requirements] There are specific requirements with resepct to reliability? Availability?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Scalability] What level of scalability is required for performance? Capacity? Elasticity? Expansion without disru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6" name="PlaceHolder 1"/>
          <p:cNvSpPr>
            <a:spLocks noGrp="1"/>
          </p:cNvSpPr>
          <p:nvPr>
            <p:ph type="sldImg"/>
          </p:nvPr>
        </p:nvSpPr>
        <p:spPr>
          <a:xfrm>
            <a:off x="1143000" y="685800"/>
            <a:ext cx="4572000" cy="3429000"/>
          </a:xfrm>
          <a:prstGeom prst="rect">
            <a:avLst/>
          </a:prstGeom>
          <a:ln w="0">
            <a:noFill/>
          </a:ln>
        </p:spPr>
      </p:sp>
      <p:sp>
        <p:nvSpPr>
          <p:cNvPr id="39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spect to Workl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ategories] There are four general types of workloads – those that are focused on Transaction processing or are database oriented; Collaboration of IT Environment; Business applications; Analytic or high performance computing. Each of these has specific processing and throughput requirements which are best served by a particular server and storage technology.  What type of workload is planned for the new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QOS Requirements] There are specific requirements with resepct to reliability? Availability?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Scalability] What level of scalability is required for performance? Capacity? Elasticity? Expansion without disru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8" name="PlaceHolder 1"/>
          <p:cNvSpPr>
            <a:spLocks noGrp="1"/>
          </p:cNvSpPr>
          <p:nvPr>
            <p:ph type="sldImg"/>
          </p:nvPr>
        </p:nvSpPr>
        <p:spPr>
          <a:xfrm>
            <a:off x="1143000" y="685800"/>
            <a:ext cx="4572000" cy="3429000"/>
          </a:xfrm>
          <a:prstGeom prst="rect">
            <a:avLst/>
          </a:prstGeom>
          <a:ln w="0">
            <a:noFill/>
          </a:ln>
        </p:spPr>
      </p:sp>
      <p:sp>
        <p:nvSpPr>
          <p:cNvPr id="3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spect to Workl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ategories] There are four general types of workloads – those that are focused on Transaction processing or are database oriented; Collaboration of IT Environment; Business applications; Analytic or high performance computing. Each of these has specific processing and throughput requirements which are best served by a particular server and storage technology.  What type of workload is planned for the new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QOS Requirements] There are specific requirements with resepct to reliability? Availability?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Scalability] What level of scalability is required for performance? Capacity? Elasticity? Expansion without disru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0" name="PlaceHolder 1"/>
          <p:cNvSpPr>
            <a:spLocks noGrp="1"/>
          </p:cNvSpPr>
          <p:nvPr>
            <p:ph type="sldImg"/>
          </p:nvPr>
        </p:nvSpPr>
        <p:spPr>
          <a:xfrm>
            <a:off x="1143000" y="685800"/>
            <a:ext cx="4572000" cy="3429000"/>
          </a:xfrm>
          <a:prstGeom prst="rect">
            <a:avLst/>
          </a:prstGeom>
          <a:ln w="0">
            <a:noFill/>
          </a:ln>
        </p:spPr>
      </p:sp>
      <p:sp>
        <p:nvSpPr>
          <p:cNvPr id="39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spect to Workl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ategories] There are four general types of workloads – those that are focused on Transaction processing or are database oriented; Collaboration of IT Environment; Business applications; Analytic or high performance computing. Each of these has specific processing and throughput requirements which are best served by a particular server and storage technology.  What type of workload is planned for the new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QOS Requirements] There are specific requirements with resepct to reliability? Availability?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Scalability] What level of scalability is required for performance? Capacity? Elasticity? Expansion without disru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2" name="PlaceHolder 1"/>
          <p:cNvSpPr>
            <a:spLocks noGrp="1"/>
          </p:cNvSpPr>
          <p:nvPr>
            <p:ph type="sldImg"/>
          </p:nvPr>
        </p:nvSpPr>
        <p:spPr>
          <a:xfrm>
            <a:off x="1143000" y="685800"/>
            <a:ext cx="4572000" cy="3429000"/>
          </a:xfrm>
          <a:prstGeom prst="rect">
            <a:avLst/>
          </a:prstGeom>
          <a:ln w="0">
            <a:noFill/>
          </a:ln>
        </p:spPr>
      </p:sp>
      <p:sp>
        <p:nvSpPr>
          <p:cNvPr id="39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spect to Workl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ategories] There are four general types of workloads – those that are focused on Transaction processing or are database oriented; Collaboration of IT Environment; Business applications; Analytic or high performance computing. Each of these has specific processing and throughput requirements which are best served by a particular server and storage technology.  What type of workload is planned for the new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QOS Requirements] There are specific requirements with resepct to reliability? Availability?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Scalability] What level of scalability is required for performance? Capacity? Elasticity? Expansion without disru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4" name="PlaceHolder 1"/>
          <p:cNvSpPr>
            <a:spLocks noGrp="1"/>
          </p:cNvSpPr>
          <p:nvPr>
            <p:ph type="sldImg"/>
          </p:nvPr>
        </p:nvSpPr>
        <p:spPr>
          <a:xfrm>
            <a:off x="1143000" y="685800"/>
            <a:ext cx="4572000" cy="3429000"/>
          </a:xfrm>
          <a:prstGeom prst="rect">
            <a:avLst/>
          </a:prstGeom>
          <a:ln w="0">
            <a:noFill/>
          </a:ln>
        </p:spPr>
      </p:sp>
      <p:sp>
        <p:nvSpPr>
          <p:cNvPr id="39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spect to Workl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ategories] There are four general types of workloads – those that are focused on Transaction processing or are database oriented; Collaboration of IT Environment; Business applications; Analytic or high performance computing. Each of these has specific processing and throughput requirements which are best served by a particular server and storage technology.  What type of workload is planned for the new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QOS Requirements] There are specific requirements with resepct to reliability? Availability?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Scalability] What level of scalability is required for performance? Capacity? Elasticity? Expansion without disru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6" name="PlaceHolder 1"/>
          <p:cNvSpPr>
            <a:spLocks noGrp="1"/>
          </p:cNvSpPr>
          <p:nvPr>
            <p:ph type="sldImg"/>
          </p:nvPr>
        </p:nvSpPr>
        <p:spPr>
          <a:xfrm>
            <a:off x="1143000" y="685800"/>
            <a:ext cx="4572000" cy="3429000"/>
          </a:xfrm>
          <a:prstGeom prst="rect">
            <a:avLst/>
          </a:prstGeom>
          <a:ln w="0">
            <a:noFill/>
          </a:ln>
        </p:spPr>
      </p:sp>
      <p:sp>
        <p:nvSpPr>
          <p:cNvPr id="39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spect to Workl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ategories] There are four general types of workloads – those that are focused on Transaction processing or are database oriented; Collaboration of IT Environment; Business applications; Analytic or high performance computing. Each of these has specific processing and throughput requirements which are best served by a particular server and storage technology.  What type of workload is planned for the new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QOS Requirements] There are specific requirements with resepct to reliability? Availability?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Scalability] What level of scalability is required for performance? Capacity? Elasticity? Expansion without disru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8" name="PlaceHolder 1"/>
          <p:cNvSpPr>
            <a:spLocks noGrp="1"/>
          </p:cNvSpPr>
          <p:nvPr>
            <p:ph type="sldImg"/>
          </p:nvPr>
        </p:nvSpPr>
        <p:spPr>
          <a:xfrm>
            <a:off x="1143000" y="685800"/>
            <a:ext cx="4572000" cy="3429000"/>
          </a:xfrm>
          <a:prstGeom prst="rect">
            <a:avLst/>
          </a:prstGeom>
          <a:ln w="0">
            <a:noFill/>
          </a:ln>
        </p:spPr>
      </p:sp>
      <p:sp>
        <p:nvSpPr>
          <p:cNvPr id="39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spect to Workl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ategories] There are four general types of workloads – those that are focused on Transaction processing or are database oriented; Collaboration of IT Environment; Business applications; Analytic or high performance computing. Each of these has specific processing and throughput requirements which are best served by a particular server and storage technology.  What type of workload is planned for the new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QOS Requirements] There are specific requirements with resepct to reliability? Availability?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Scalability] What level of scalability is required for performance? Capacity? Elasticity? Expansion without disru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0" name="PlaceHolder 1"/>
          <p:cNvSpPr>
            <a:spLocks noGrp="1"/>
          </p:cNvSpPr>
          <p:nvPr>
            <p:ph type="sldImg"/>
          </p:nvPr>
        </p:nvSpPr>
        <p:spPr>
          <a:xfrm>
            <a:off x="1143000" y="685800"/>
            <a:ext cx="4572000" cy="3429000"/>
          </a:xfrm>
          <a:prstGeom prst="rect">
            <a:avLst/>
          </a:prstGeom>
          <a:ln w="0">
            <a:noFill/>
          </a:ln>
        </p:spPr>
      </p:sp>
      <p:sp>
        <p:nvSpPr>
          <p:cNvPr id="39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spect to Workl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ategories] There are four general types of workloads – those that are focused on Transaction processing or are database oriented; Collaboration of IT Environment; Business applications; Analytic or high performance computing. Each of these has specific processing and throughput requirements which are best served by a particular server and storage technology.  What type of workload is planned for the new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QOS Requirements] There are specific requirements with resepct to reliability? Availability?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Scalability] What level of scalability is required for performance? Capacity? Elasticity? Expansion without disru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2" name="PlaceHolder 1"/>
          <p:cNvSpPr>
            <a:spLocks noGrp="1"/>
          </p:cNvSpPr>
          <p:nvPr>
            <p:ph type="sldImg"/>
          </p:nvPr>
        </p:nvSpPr>
        <p:spPr>
          <a:xfrm>
            <a:off x="1143000" y="685800"/>
            <a:ext cx="4572000" cy="3429000"/>
          </a:xfrm>
          <a:prstGeom prst="rect">
            <a:avLst/>
          </a:prstGeom>
          <a:ln w="0">
            <a:noFill/>
          </a:ln>
        </p:spPr>
      </p:sp>
      <p:sp>
        <p:nvSpPr>
          <p:cNvPr id="39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spect to Workl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ategories] There are four general types of workloads – those that are focused on Transaction processing or are database oriented; Collaboration of IT Environment; Business applications; Analytic or high performance computing. Each of these has specific processing and throughput requirements which are best served by a particular server and storage technology.  What type of workload is planned for the new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QOS Requirements] There are specific requirements with resepct to reliability? Availability?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Scalability] What level of scalability is required for performance? Capacity? Elasticity? Expansion without disru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0" name="PlaceHolder 1"/>
          <p:cNvSpPr>
            <a:spLocks noGrp="1"/>
          </p:cNvSpPr>
          <p:nvPr>
            <p:ph type="sldImg"/>
          </p:nvPr>
        </p:nvSpPr>
        <p:spPr>
          <a:xfrm>
            <a:off x="1143000" y="685800"/>
            <a:ext cx="4572000" cy="3429000"/>
          </a:xfrm>
          <a:prstGeom prst="rect">
            <a:avLst/>
          </a:prstGeom>
          <a:ln w="0">
            <a:noFill/>
          </a:ln>
        </p:spPr>
      </p:sp>
      <p:sp>
        <p:nvSpPr>
          <p:cNvPr id="39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very much for taking the time to meet today.  When we set this meeting up you mentioned that you were starting a process to select a Systems.  Is that still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d like to do over the next 25-30 minutes is provide you with a overview of a methodology that IBM has used with 1000’s of customers who were in a similar situation to you and faced the ques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Systems Selection] Selecting a new Systems. Before I sketch out the process I have a few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What?] What specifically is the decision that is being made.  Are you replacing a server?  Upgrading an existing server? Looking for new storage capabilities?  Can you give me some perspective o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Why?]  What’s creating the need for change?  What are the key objectives you are trying to achieve? Are there any organizational factors which will influence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Who?] Who will be involved in making the final deter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 you should write on the “board” key elements from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4" name="PlaceHolder 1"/>
          <p:cNvSpPr>
            <a:spLocks noGrp="1"/>
          </p:cNvSpPr>
          <p:nvPr>
            <p:ph type="sldImg"/>
          </p:nvPr>
        </p:nvSpPr>
        <p:spPr>
          <a:xfrm>
            <a:off x="1143000" y="685800"/>
            <a:ext cx="4572000" cy="3429000"/>
          </a:xfrm>
          <a:prstGeom prst="rect">
            <a:avLst/>
          </a:prstGeom>
          <a:ln w="0">
            <a:noFill/>
          </a:ln>
        </p:spPr>
      </p:sp>
      <p:sp>
        <p:nvSpPr>
          <p:cNvPr id="39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spect to cost, what factors are most important to this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TCA-TCO-Funding] Acquisition cost? Recurring costs or operational costs?  Or is how you will fund or finance the Systems the key considera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6" name="PlaceHolder 1"/>
          <p:cNvSpPr>
            <a:spLocks noGrp="1"/>
          </p:cNvSpPr>
          <p:nvPr>
            <p:ph type="sldImg"/>
          </p:nvPr>
        </p:nvSpPr>
        <p:spPr>
          <a:xfrm>
            <a:off x="1143000" y="685800"/>
            <a:ext cx="4572000" cy="3429000"/>
          </a:xfrm>
          <a:prstGeom prst="rect">
            <a:avLst/>
          </a:prstGeom>
          <a:ln w="0">
            <a:noFill/>
          </a:ln>
        </p:spPr>
      </p:sp>
      <p:sp>
        <p:nvSpPr>
          <p:cNvPr id="39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spect to cost, what factors are most important to this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TCA-TCO-Funding] Acquisition cost? Recurring costs or operational costs?  Or is how you will fund or finance the Systems the key considera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8" name="PlaceHolder 1"/>
          <p:cNvSpPr>
            <a:spLocks noGrp="1"/>
          </p:cNvSpPr>
          <p:nvPr>
            <p:ph type="sldImg"/>
          </p:nvPr>
        </p:nvSpPr>
        <p:spPr>
          <a:xfrm>
            <a:off x="1143000" y="685800"/>
            <a:ext cx="4572000" cy="3429000"/>
          </a:xfrm>
          <a:prstGeom prst="rect">
            <a:avLst/>
          </a:prstGeom>
          <a:ln w="0">
            <a:noFill/>
          </a:ln>
        </p:spPr>
      </p:sp>
      <p:sp>
        <p:nvSpPr>
          <p:cNvPr id="3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spect to cost, what factors are most important to this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TCA-TCO-Funding] Acquisition cost? Recurring costs or operational costs?  Or is how you will fund or finance the Systems the key considera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0" name="PlaceHolder 1"/>
          <p:cNvSpPr>
            <a:spLocks noGrp="1"/>
          </p:cNvSpPr>
          <p:nvPr>
            <p:ph type="sldImg"/>
          </p:nvPr>
        </p:nvSpPr>
        <p:spPr>
          <a:xfrm>
            <a:off x="1143000" y="685800"/>
            <a:ext cx="4572000" cy="3429000"/>
          </a:xfrm>
          <a:prstGeom prst="rect">
            <a:avLst/>
          </a:prstGeom>
          <a:ln w="0">
            <a:noFill/>
          </a:ln>
        </p:spPr>
      </p:sp>
      <p:sp>
        <p:nvSpPr>
          <p:cNvPr id="4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spect to cost, what factors are most important to this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TCA-TCO-Funding] Acquisition cost? Recurring costs or operational costs?  Or is how you will fund or finance the Systems the key considera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2" name="PlaceHolder 1"/>
          <p:cNvSpPr>
            <a:spLocks noGrp="1"/>
          </p:cNvSpPr>
          <p:nvPr>
            <p:ph type="sldImg"/>
          </p:nvPr>
        </p:nvSpPr>
        <p:spPr>
          <a:xfrm>
            <a:off x="1143000" y="685800"/>
            <a:ext cx="4572000" cy="3429000"/>
          </a:xfrm>
          <a:prstGeom prst="rect">
            <a:avLst/>
          </a:prstGeom>
          <a:ln w="0">
            <a:noFill/>
          </a:ln>
        </p:spPr>
      </p:sp>
      <p:sp>
        <p:nvSpPr>
          <p:cNvPr id="4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  These decisions are not easy and they raise lots of questions (as we have just looke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IBM] As I mentioned, IBM has worked with 1000’s of organizations in dealing with these types of decisions.  The key to approach that IBM has fo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Arrows from 7 Factors] Is to take into account the three criteria of IT Environment, Workloads and Costs by looking at each of the factors and how they relate to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Green Circle] We call this approach Fit for Purpose.  The key for this approach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X” through “?”] Take some of the guess work and some of the related risk out of making the decision and grounding it in what is really important to the organization now and for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4" name="PlaceHolder 1"/>
          <p:cNvSpPr>
            <a:spLocks noGrp="1"/>
          </p:cNvSpPr>
          <p:nvPr>
            <p:ph type="sldImg"/>
          </p:nvPr>
        </p:nvSpPr>
        <p:spPr>
          <a:xfrm>
            <a:off x="1143000" y="685800"/>
            <a:ext cx="4572000" cy="3429000"/>
          </a:xfrm>
          <a:prstGeom prst="rect">
            <a:avLst/>
          </a:prstGeom>
          <a:ln w="0">
            <a:noFill/>
          </a:ln>
        </p:spPr>
      </p:sp>
      <p:sp>
        <p:nvSpPr>
          <p:cNvPr id="4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  These decisions are not easy and they raise lots of questions (as we have just looke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IBM] As I mentioned, IBM has worked with 1000’s of organizations in dealing with these types of decisions.  The key to approach that IBM has fo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Arrows from 7 Factors] Is to take into account the three criteria of IT Environment, Workloads and Costs by looking at each of the factors and how they relate to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Green Circle] We call this approach Fit for Purpose.  The key for this approach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X” through “?”] Take some of the guess work and some of the related risk out of making the decision and grounding it in what is really important to the organization now and for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6" name="PlaceHolder 1"/>
          <p:cNvSpPr>
            <a:spLocks noGrp="1"/>
          </p:cNvSpPr>
          <p:nvPr>
            <p:ph type="sldImg"/>
          </p:nvPr>
        </p:nvSpPr>
        <p:spPr>
          <a:xfrm>
            <a:off x="1143000" y="685800"/>
            <a:ext cx="4572000" cy="3429000"/>
          </a:xfrm>
          <a:prstGeom prst="rect">
            <a:avLst/>
          </a:prstGeom>
          <a:ln w="0">
            <a:noFill/>
          </a:ln>
        </p:spPr>
      </p:sp>
      <p:sp>
        <p:nvSpPr>
          <p:cNvPr id="4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  These decisions are not easy and they raise lots of questions (as we have just looke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IBM] As I mentioned, IBM has worked with 1000’s of organizations in dealing with these types of decisions.  The key to approach that IBM has fo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Arrows from 7 Factors] Is to take into account the three criteria of IT Environment, Workloads and Costs by looking at each of the factors and how they relate to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Green Circle] We call this approach Fit for Purpose.  The key for this approach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X” through “?”] Take some of the guess work and some of the related risk out of making the decision and grounding it in what is really important to the organization now and for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8" name="PlaceHolder 1"/>
          <p:cNvSpPr>
            <a:spLocks noGrp="1"/>
          </p:cNvSpPr>
          <p:nvPr>
            <p:ph type="sldImg"/>
          </p:nvPr>
        </p:nvSpPr>
        <p:spPr>
          <a:xfrm>
            <a:off x="1143000" y="685800"/>
            <a:ext cx="4572000" cy="3429000"/>
          </a:xfrm>
          <a:prstGeom prst="rect">
            <a:avLst/>
          </a:prstGeom>
          <a:ln w="0">
            <a:noFill/>
          </a:ln>
        </p:spPr>
      </p:sp>
      <p:sp>
        <p:nvSpPr>
          <p:cNvPr id="4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  These decisions are not easy and they raise lots of questions (as we have just looke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IBM] As I mentioned, IBM has worked with 1000’s of organizations in dealing with these types of decisions.  The key to approach that IBM has fo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Arrows from 7 Factors] Is to take into account the three criteria of IT Environment, Workloads and Costs by looking at each of the factors and how they relate to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Green Circle] We call this approach Fit for Purpose.  The key for this approach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X” through “?”] Take some of the guess work and some of the related risk out of making the decision and grounding it in what is really important to the organization now and for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0" name="PlaceHolder 1"/>
          <p:cNvSpPr>
            <a:spLocks noGrp="1"/>
          </p:cNvSpPr>
          <p:nvPr>
            <p:ph type="sldImg"/>
          </p:nvPr>
        </p:nvSpPr>
        <p:spPr>
          <a:xfrm>
            <a:off x="1143000" y="685800"/>
            <a:ext cx="4572000" cy="3429000"/>
          </a:xfrm>
          <a:prstGeom prst="rect">
            <a:avLst/>
          </a:prstGeom>
          <a:ln w="0">
            <a:noFill/>
          </a:ln>
        </p:spPr>
      </p:sp>
      <p:sp>
        <p:nvSpPr>
          <p:cNvPr id="4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  These decisions are not easy and they raise lots of questions (as we have just looke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IBM] As I mentioned, IBM has worked with 1000’s of organizations in dealing with these types of decisions.  The key to approach that IBM has fo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Arrows from 7 Factors] Is to take into account the three criteria of IT Environment, Workloads and Costs by looking at each of the factors and how they relate to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Green Circle] We call this approach Fit for Purpose.  The key for this approach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X” through “?”] Take some of the guess work and some of the related risk out of making the decision and grounding it in what is really important to the organization now and for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2" name="PlaceHolder 1"/>
          <p:cNvSpPr>
            <a:spLocks noGrp="1"/>
          </p:cNvSpPr>
          <p:nvPr>
            <p:ph type="sldImg"/>
          </p:nvPr>
        </p:nvSpPr>
        <p:spPr>
          <a:xfrm>
            <a:off x="1143000" y="685800"/>
            <a:ext cx="4572000" cy="3429000"/>
          </a:xfrm>
          <a:prstGeom prst="rect">
            <a:avLst/>
          </a:prstGeom>
          <a:ln w="0">
            <a:noFill/>
          </a:ln>
        </p:spPr>
      </p:sp>
      <p:sp>
        <p:nvSpPr>
          <p:cNvPr id="4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  These decisions are not easy and they raise lots of questions (as we have just looke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IBM] As I mentioned, IBM has worked with 1000’s of organizations in dealing with these types of decisions.  The key to approach that IBM has fo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Arrows from 7 Factors] Is to take into account the three criteria of IT Environment, Workloads and Costs by looking at each of the factors and how they relate to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Green Circle] We call this approach Fit for Purpose.  The key for this approach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X” through “?”] Take some of the guess work and some of the related risk out of making the decision and grounding it in what is really important to the organization now and for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2" name="PlaceHolder 1"/>
          <p:cNvSpPr>
            <a:spLocks noGrp="1"/>
          </p:cNvSpPr>
          <p:nvPr>
            <p:ph type="sldImg"/>
          </p:nvPr>
        </p:nvSpPr>
        <p:spPr>
          <a:xfrm>
            <a:off x="1143000" y="685800"/>
            <a:ext cx="4572000" cy="3429000"/>
          </a:xfrm>
          <a:prstGeom prst="rect">
            <a:avLst/>
          </a:prstGeom>
          <a:ln w="0">
            <a:noFill/>
          </a:ln>
        </p:spPr>
      </p:sp>
      <p:sp>
        <p:nvSpPr>
          <p:cNvPr id="39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very much for taking the time to meet today.  When we set this meeting up you mentioned that you were starting a process to select a Systems.  Is that still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d like to do over the next 25-30 minutes is provide you with a overview of a methodology that IBM has used with 1000’s of customers who were in a similar situation to you and faced the ques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Systems Selection] Selecting a new Systems. Before I sketch out the process I have a few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What?] What specifically is the decision that is being made.  Are you replacing a server?  Upgrading an existing server? Looking for new storage capabilities?  Can you give me some perspective o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Why?]  What’s creating the need for change?  What are the key objectives you are trying to achieve? Are there any organizational factors which will influence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Who?] Who will be involved in making the final deter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 you should write on the “board” key elements from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4" name="PlaceHolder 1"/>
          <p:cNvSpPr>
            <a:spLocks noGrp="1"/>
          </p:cNvSpPr>
          <p:nvPr>
            <p:ph type="sldImg"/>
          </p:nvPr>
        </p:nvSpPr>
        <p:spPr>
          <a:xfrm>
            <a:off x="1143000" y="685800"/>
            <a:ext cx="4572000" cy="3429000"/>
          </a:xfrm>
          <a:prstGeom prst="rect">
            <a:avLst/>
          </a:prstGeom>
          <a:ln w="0">
            <a:noFill/>
          </a:ln>
        </p:spPr>
      </p:sp>
      <p:sp>
        <p:nvSpPr>
          <p:cNvPr id="4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  These decisions are not easy and they raise lots of questions (as we have just looke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IBM] As I mentioned, IBM has worked with 1000’s of organizations in dealing with these types of decisions.  The key to approach that IBM has fo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Arrows from 7 Factors] Is to take into account the three criteria of IT Environment, Workloads and Costs by looking at each of the factors and how they relate to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Green Circle] We call this approach Fit for Purpose.  The key for this approach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X” through “?”] Take some of the guess work and some of the related risk out of making the decision and grounding it in what is really important to the organization now and for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6" name="PlaceHolder 1"/>
          <p:cNvSpPr>
            <a:spLocks noGrp="1"/>
          </p:cNvSpPr>
          <p:nvPr>
            <p:ph type="sldImg"/>
          </p:nvPr>
        </p:nvSpPr>
        <p:spPr>
          <a:xfrm>
            <a:off x="1143000" y="685800"/>
            <a:ext cx="4572000" cy="3429000"/>
          </a:xfrm>
          <a:prstGeom prst="rect">
            <a:avLst/>
          </a:prstGeom>
          <a:ln w="0">
            <a:noFill/>
          </a:ln>
        </p:spPr>
      </p:sp>
      <p:sp>
        <p:nvSpPr>
          <p:cNvPr id="4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  These decisions are not easy and they raise lots of questions (as we have just looke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IBM] As I mentioned, IBM has worked with 1000’s of organizations in dealing with these types of decisions.  The key to approach that IBM has fo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Arrows from 7 Factors] Is to take into account the three criteria of IT Environment, Workloads and Costs by looking at each of the factors and how they relate to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Green Circle] We call this approach Fit for Purpose.  The key for this approach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X” through “?”] Take some of the guess work and some of the related risk out of making the decision and grounding it in what is really important to the organization now and for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8" name="PlaceHolder 1"/>
          <p:cNvSpPr>
            <a:spLocks noGrp="1"/>
          </p:cNvSpPr>
          <p:nvPr>
            <p:ph type="sldImg"/>
          </p:nvPr>
        </p:nvSpPr>
        <p:spPr>
          <a:xfrm>
            <a:off x="1143000" y="685800"/>
            <a:ext cx="4572000" cy="3429000"/>
          </a:xfrm>
          <a:prstGeom prst="rect">
            <a:avLst/>
          </a:prstGeom>
          <a:ln w="0">
            <a:noFill/>
          </a:ln>
        </p:spPr>
      </p:sp>
      <p:sp>
        <p:nvSpPr>
          <p:cNvPr id="4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  These decisions are not easy and they raise lots of questions (as we have just looke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IBM] As I mentioned, IBM has worked with 1000’s of organizations in dealing with these types of decisions.  The key to approach that IBM has fo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Arrows from 7 Factors] Is to take into account the three criteria of IT Environment, Workloads and Costs by looking at each of the factors and how they relate to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Green Circle] We call this approach Fit for Purpose.  The key for this approach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X” through “?”] Take some of the guess work and some of the related risk out of making the decision and grounding it in what is really important to the organization now and for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0" name="PlaceHolder 1"/>
          <p:cNvSpPr>
            <a:spLocks noGrp="1"/>
          </p:cNvSpPr>
          <p:nvPr>
            <p:ph type="sldImg"/>
          </p:nvPr>
        </p:nvSpPr>
        <p:spPr>
          <a:xfrm>
            <a:off x="1143000" y="685800"/>
            <a:ext cx="4572000" cy="3429000"/>
          </a:xfrm>
          <a:prstGeom prst="rect">
            <a:avLst/>
          </a:prstGeom>
          <a:ln w="0">
            <a:noFill/>
          </a:ln>
        </p:spPr>
      </p:sp>
      <p:sp>
        <p:nvSpPr>
          <p:cNvPr id="4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  These decisions are not easy and they raise lots of questions (as we have just looke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IBM] As I mentioned, IBM has worked with 1000’s of organizations in dealing with these types of decisions.  The key to approach that IBM has fo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Arrows from 7 Factors] Is to take into account the three criteria of IT Environment, Workloads and Costs by looking at each of the factors and how they relate to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Green Circle] We call this approach Fit for Purpose.  The key for this approach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X” through “?”] Take some of the guess work and some of the related risk out of making the decision and grounding it in what is really important to the organization now and for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2" name="PlaceHolder 1"/>
          <p:cNvSpPr>
            <a:spLocks noGrp="1"/>
          </p:cNvSpPr>
          <p:nvPr>
            <p:ph type="sldImg"/>
          </p:nvPr>
        </p:nvSpPr>
        <p:spPr>
          <a:xfrm>
            <a:off x="1143000" y="685800"/>
            <a:ext cx="4572000" cy="3429000"/>
          </a:xfrm>
          <a:prstGeom prst="rect">
            <a:avLst/>
          </a:prstGeom>
          <a:ln w="0">
            <a:noFill/>
          </a:ln>
        </p:spPr>
      </p:sp>
      <p:sp>
        <p:nvSpPr>
          <p:cNvPr id="40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  These decisions are not easy and they raise lots of questions (as we have just looke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IBM] As I mentioned, IBM has worked with 1000’s of organizations in dealing with these types of decisions.  The key to approach that IBM has fo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Arrows from 7 Factors] Is to take into account the three criteria of IT Environment, Workloads and Costs by looking at each of the factors and how they relate to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Green Circle] We call this approach Fit for Purpose.  The key for this approach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X” through “?”] Take some of the guess work and some of the related risk out of making the decision and grounding it in what is really important to the organization now and for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4" name="PlaceHolder 1"/>
          <p:cNvSpPr>
            <a:spLocks noGrp="1"/>
          </p:cNvSpPr>
          <p:nvPr>
            <p:ph type="sldImg"/>
          </p:nvPr>
        </p:nvSpPr>
        <p:spPr>
          <a:xfrm>
            <a:off x="1143000" y="685800"/>
            <a:ext cx="4572000" cy="3429000"/>
          </a:xfrm>
          <a:prstGeom prst="rect">
            <a:avLst/>
          </a:prstGeom>
          <a:ln w="0">
            <a:noFill/>
          </a:ln>
        </p:spPr>
      </p:sp>
      <p:sp>
        <p:nvSpPr>
          <p:cNvPr id="40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take this approach to looking at the wide range of IBM Systems options, I think you’ll get a sense of how it could be applied here at (Name of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Triangle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Triangle ‘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Triangle “Z”]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6" name="PlaceHolder 1"/>
          <p:cNvSpPr>
            <a:spLocks noGrp="1"/>
          </p:cNvSpPr>
          <p:nvPr>
            <p:ph type="sldImg"/>
          </p:nvPr>
        </p:nvSpPr>
        <p:spPr>
          <a:xfrm>
            <a:off x="1143000" y="685800"/>
            <a:ext cx="4572000" cy="3429000"/>
          </a:xfrm>
          <a:prstGeom prst="rect">
            <a:avLst/>
          </a:prstGeom>
          <a:ln w="0">
            <a:noFill/>
          </a:ln>
        </p:spPr>
      </p:sp>
      <p:sp>
        <p:nvSpPr>
          <p:cNvPr id="40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take this approach to looking at the wide range of IBM Systems options, I think you’ll get a sense of how it could be applied here at (Name of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Triangle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Triangle ‘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Triangle “Z”]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8" name="PlaceHolder 1"/>
          <p:cNvSpPr>
            <a:spLocks noGrp="1"/>
          </p:cNvSpPr>
          <p:nvPr>
            <p:ph type="sldImg"/>
          </p:nvPr>
        </p:nvSpPr>
        <p:spPr>
          <a:xfrm>
            <a:off x="1143000" y="685800"/>
            <a:ext cx="4572000" cy="3429000"/>
          </a:xfrm>
          <a:prstGeom prst="rect">
            <a:avLst/>
          </a:prstGeom>
          <a:ln w="0">
            <a:noFill/>
          </a:ln>
        </p:spPr>
      </p:sp>
      <p:sp>
        <p:nvSpPr>
          <p:cNvPr id="40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take this approach to looking at the wide range of IBM Systems options, I think you’ll get a sense of how it could be applied here at (Name of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Triangle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Triangle ‘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Triangle “Z”]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0" name="PlaceHolder 1"/>
          <p:cNvSpPr>
            <a:spLocks noGrp="1"/>
          </p:cNvSpPr>
          <p:nvPr>
            <p:ph type="sldImg"/>
          </p:nvPr>
        </p:nvSpPr>
        <p:spPr>
          <a:xfrm>
            <a:off x="1143000" y="685800"/>
            <a:ext cx="4572000" cy="3429000"/>
          </a:xfrm>
          <a:prstGeom prst="rect">
            <a:avLst/>
          </a:prstGeom>
          <a:ln w="0">
            <a:noFill/>
          </a:ln>
        </p:spPr>
      </p:sp>
      <p:sp>
        <p:nvSpPr>
          <p:cNvPr id="40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take this approach to looking at the wide range of IBM Systems options, I think you’ll get a sense of how it could be applied here at (Name of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Triangle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Triangle ‘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Triangle “Z”]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2" name="PlaceHolder 1"/>
          <p:cNvSpPr>
            <a:spLocks noGrp="1"/>
          </p:cNvSpPr>
          <p:nvPr>
            <p:ph type="sldImg"/>
          </p:nvPr>
        </p:nvSpPr>
        <p:spPr>
          <a:xfrm>
            <a:off x="1143000" y="685800"/>
            <a:ext cx="4572000" cy="3429000"/>
          </a:xfrm>
          <a:prstGeom prst="rect">
            <a:avLst/>
          </a:prstGeom>
          <a:ln w="0">
            <a:noFill/>
          </a:ln>
        </p:spPr>
      </p:sp>
      <p:sp>
        <p:nvSpPr>
          <p:cNvPr id="40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take this approach to looking at the wide range of IBM Systems options, I think you’ll get a sense of how it could be applied here at (Name of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Triangle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Triangle ‘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Triangle “Z”]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4" name="PlaceHolder 1"/>
          <p:cNvSpPr>
            <a:spLocks noGrp="1"/>
          </p:cNvSpPr>
          <p:nvPr>
            <p:ph type="sldImg"/>
          </p:nvPr>
        </p:nvSpPr>
        <p:spPr>
          <a:xfrm>
            <a:off x="1143000" y="685800"/>
            <a:ext cx="4572000" cy="3429000"/>
          </a:xfrm>
          <a:prstGeom prst="rect">
            <a:avLst/>
          </a:prstGeom>
          <a:ln w="0">
            <a:noFill/>
          </a:ln>
        </p:spPr>
      </p:sp>
      <p:sp>
        <p:nvSpPr>
          <p:cNvPr id="39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s I mentioned IBM has worked with 1000’s of customers in these types of decisions.  Based on our experience we’ve found that the organizations who make the most informed decisions generally take into account three interconnected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Draw three connected ar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I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Workloads]  Some people might refer to this as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criteria are important to a Systems decision and each has a number of key factors which should be taken into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4" name="PlaceHolder 1"/>
          <p:cNvSpPr>
            <a:spLocks noGrp="1"/>
          </p:cNvSpPr>
          <p:nvPr>
            <p:ph type="sldImg"/>
          </p:nvPr>
        </p:nvSpPr>
        <p:spPr>
          <a:xfrm>
            <a:off x="1143000" y="685800"/>
            <a:ext cx="4572000" cy="3429000"/>
          </a:xfrm>
          <a:prstGeom prst="rect">
            <a:avLst/>
          </a:prstGeom>
          <a:ln w="0">
            <a:noFill/>
          </a:ln>
        </p:spPr>
      </p:sp>
      <p:sp>
        <p:nvSpPr>
          <p:cNvPr id="40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look at each of the factors what one would do is determine which of the Systemss best meets the requirements that you have.  And as you go through that process you begin to see that may be one or more servers that best fit the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Expand Triangle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Expand Triangle ‘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Expand Triangle “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6" name="PlaceHolder 1"/>
          <p:cNvSpPr>
            <a:spLocks noGrp="1"/>
          </p:cNvSpPr>
          <p:nvPr>
            <p:ph type="sldImg"/>
          </p:nvPr>
        </p:nvSpPr>
        <p:spPr>
          <a:xfrm>
            <a:off x="1143000" y="685800"/>
            <a:ext cx="4572000" cy="3429000"/>
          </a:xfrm>
          <a:prstGeom prst="rect">
            <a:avLst/>
          </a:prstGeom>
          <a:ln w="0">
            <a:noFill/>
          </a:ln>
        </p:spPr>
      </p:sp>
      <p:sp>
        <p:nvSpPr>
          <p:cNvPr id="40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look at each of the factors what one would do is determine which of the Systemss best meets the requirements that you have.  And as you go through that process you begin to see that may be one or more servers that best fit the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Expand Triangle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Expand Triangle ‘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Expand Triangle “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8" name="PlaceHolder 1"/>
          <p:cNvSpPr>
            <a:spLocks noGrp="1"/>
          </p:cNvSpPr>
          <p:nvPr>
            <p:ph type="sldImg"/>
          </p:nvPr>
        </p:nvSpPr>
        <p:spPr>
          <a:xfrm>
            <a:off x="1143000" y="685800"/>
            <a:ext cx="4572000" cy="3429000"/>
          </a:xfrm>
          <a:prstGeom prst="rect">
            <a:avLst/>
          </a:prstGeom>
          <a:ln w="0">
            <a:noFill/>
          </a:ln>
        </p:spPr>
      </p:sp>
      <p:sp>
        <p:nvSpPr>
          <p:cNvPr id="40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look at each of the factors what one would do is determine which of the Systemss best meets the requirements that you have.  And as you go through that process you begin to see that may be one or more servers that best fit the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Expand Triangle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Expand Triangle ‘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Expand Triangle “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0" name="PlaceHolder 1"/>
          <p:cNvSpPr>
            <a:spLocks noGrp="1"/>
          </p:cNvSpPr>
          <p:nvPr>
            <p:ph type="sldImg"/>
          </p:nvPr>
        </p:nvSpPr>
        <p:spPr>
          <a:xfrm>
            <a:off x="1143000" y="685800"/>
            <a:ext cx="4572000" cy="3429000"/>
          </a:xfrm>
          <a:prstGeom prst="rect">
            <a:avLst/>
          </a:prstGeom>
          <a:ln w="0">
            <a:noFill/>
          </a:ln>
        </p:spPr>
      </p:sp>
      <p:sp>
        <p:nvSpPr>
          <p:cNvPr id="40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look at each of the factors what one would do is determine which of the Systemss best meets the requirements that you have.  And as you go through that process you begin to see that may be one or more servers that best fit the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Expand Triangle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Expand Triangle ‘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Expand Triangle “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2" name="PlaceHolder 1"/>
          <p:cNvSpPr>
            <a:spLocks noGrp="1"/>
          </p:cNvSpPr>
          <p:nvPr>
            <p:ph type="sldImg"/>
          </p:nvPr>
        </p:nvSpPr>
        <p:spPr>
          <a:xfrm>
            <a:off x="1143000" y="685800"/>
            <a:ext cx="4572000" cy="3429000"/>
          </a:xfrm>
          <a:prstGeom prst="rect">
            <a:avLst/>
          </a:prstGeom>
          <a:ln w="0">
            <a:noFill/>
          </a:ln>
        </p:spPr>
      </p:sp>
      <p:sp>
        <p:nvSpPr>
          <p:cNvPr id="40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heck mark] The Fit for Purpose approach has helped 1000’s of companies to make less risky more successful Systems decisions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aving take into consideration the key criteria that is really important to the organization and to this particular application (or workload) by looking carefully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Circle around IT Environment] And the key factors – Current IT, Software and Deployment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Circle around Workloads] What type of workload is it, what are the quality of service requirements and what scalability requirements are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Circle around Costs] And finally costs.  The key here is focus on what is really critical for the longer term and this often means not merely looking at the acquisition costs but the long term recurring and operational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Next Step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4" name="PlaceHolder 1"/>
          <p:cNvSpPr>
            <a:spLocks noGrp="1"/>
          </p:cNvSpPr>
          <p:nvPr>
            <p:ph type="sldImg"/>
          </p:nvPr>
        </p:nvSpPr>
        <p:spPr>
          <a:xfrm>
            <a:off x="1143000" y="685800"/>
            <a:ext cx="4572000" cy="3429000"/>
          </a:xfrm>
          <a:prstGeom prst="rect">
            <a:avLst/>
          </a:prstGeom>
          <a:ln w="0">
            <a:noFill/>
          </a:ln>
        </p:spPr>
      </p:sp>
      <p:sp>
        <p:nvSpPr>
          <p:cNvPr id="40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heck mark] The Fit for Purpose approach has helped 1000’s of companies to make less risky more successful Systems decisions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aving take into consideration the key criteria that is really important to the organization and to this particular application (or workload) by looking carefully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Circle around IT Environment] And the key factors – Current IT, Software and Deployment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Circle around Workloads] What type of workload is it, what are the quality of service requirements and what scalability requirements are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Circle around Costs] And finally costs.  The key here is focus on what is really critical for the longer term and this often means not merely looking at the acquisition costs but the long term recurring and operational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Next Step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6" name="PlaceHolder 1"/>
          <p:cNvSpPr>
            <a:spLocks noGrp="1"/>
          </p:cNvSpPr>
          <p:nvPr>
            <p:ph type="sldImg"/>
          </p:nvPr>
        </p:nvSpPr>
        <p:spPr>
          <a:xfrm>
            <a:off x="1143000" y="685800"/>
            <a:ext cx="4572000" cy="3429000"/>
          </a:xfrm>
          <a:prstGeom prst="rect">
            <a:avLst/>
          </a:prstGeom>
          <a:ln w="0">
            <a:noFill/>
          </a:ln>
        </p:spPr>
      </p:sp>
      <p:sp>
        <p:nvSpPr>
          <p:cNvPr id="40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heck mark] The Fit for Purpose approach has helped 1000’s of companies to make less risky more successful Systems decisions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aving take into consideration the key criteria that is really important to the organization and to this particular application (or workload) by looking carefully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Circle around IT Environment] And the key factors – Current IT, Software and Deployment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Circle around Workloads] What type of workload is it, what are the quality of service requirements and what scalability requirements are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Circle around Costs] And finally costs.  The key here is focus on what is really critical for the longer term and this often means not merely looking at the acquisition costs but the long term recurring and operational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Next Step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8" name="PlaceHolder 1"/>
          <p:cNvSpPr>
            <a:spLocks noGrp="1"/>
          </p:cNvSpPr>
          <p:nvPr>
            <p:ph type="sldImg"/>
          </p:nvPr>
        </p:nvSpPr>
        <p:spPr>
          <a:xfrm>
            <a:off x="1143000" y="685800"/>
            <a:ext cx="4572000" cy="3429000"/>
          </a:xfrm>
          <a:prstGeom prst="rect">
            <a:avLst/>
          </a:prstGeom>
          <a:ln w="0">
            <a:noFill/>
          </a:ln>
        </p:spPr>
      </p:sp>
      <p:sp>
        <p:nvSpPr>
          <p:cNvPr id="40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heck mark] The Fit for Purpose approach has helped 1000’s of companies to make less risky more successful Systems decisions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aving take into consideration the key criteria that is really important to the organization and to this particular application (or workload) by looking carefully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Circle around IT Environment] And the key factors – Current IT, Software and Deployment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Circle around Workloads] What type of workload is it, what are the quality of service requirements and what scalability requirements are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Circle around Costs] And finally costs.  The key here is focus on what is really critical for the longer term and this often means not merely looking at the acquisition costs but the long term recurring and operational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Next Step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0" name="PlaceHolder 1"/>
          <p:cNvSpPr>
            <a:spLocks noGrp="1"/>
          </p:cNvSpPr>
          <p:nvPr>
            <p:ph type="sldImg"/>
          </p:nvPr>
        </p:nvSpPr>
        <p:spPr>
          <a:xfrm>
            <a:off x="1143000" y="685800"/>
            <a:ext cx="4572000" cy="3429000"/>
          </a:xfrm>
          <a:prstGeom prst="rect">
            <a:avLst/>
          </a:prstGeom>
          <a:ln w="0">
            <a:noFill/>
          </a:ln>
        </p:spPr>
      </p:sp>
      <p:sp>
        <p:nvSpPr>
          <p:cNvPr id="40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heck mark] The Fit for Purpose approach has helped 1000’s of companies to make less risky more successful Systems decisions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aving take into consideration the key criteria that is really important to the organization and to this particular application (or workload) by looking carefully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Circle around IT Environment] And the key factors – Current IT, Software and Deployment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Circle around Workloads] What type of workload is it, what are the quality of service requirements and what scalability requirements are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Circle around Costs] And finally costs.  The key here is focus on what is really critical for the longer term and this often means not merely looking at the acquisition costs but the long term recurring and operational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Next Step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2" name="PlaceHolder 1"/>
          <p:cNvSpPr>
            <a:spLocks noGrp="1"/>
          </p:cNvSpPr>
          <p:nvPr>
            <p:ph type="sldImg"/>
          </p:nvPr>
        </p:nvSpPr>
        <p:spPr>
          <a:xfrm>
            <a:off x="1143000" y="685800"/>
            <a:ext cx="4572000" cy="3429000"/>
          </a:xfrm>
          <a:prstGeom prst="rect">
            <a:avLst/>
          </a:prstGeom>
          <a:ln w="0">
            <a:noFill/>
          </a:ln>
        </p:spPr>
      </p:sp>
      <p:sp>
        <p:nvSpPr>
          <p:cNvPr id="40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heck mark] The Fit for Purpose approach has helped 1000’s of companies to make less risky more successful Systems decisions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aving take into consideration the key criteria that is really important to the organization and to this particular application (or workload) by looking carefully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Circle around IT Environment] And the key factors – Current IT, Software and Deployment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Circle around Workloads] What type of workload is it, what are the quality of service requirements and what scalability requirements are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Circle around Costs] And finally costs.  The key here is focus on what is really critical for the longer term and this often means not merely looking at the acquisition costs but the long term recurring and operational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Next Step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6" name="PlaceHolder 1"/>
          <p:cNvSpPr>
            <a:spLocks noGrp="1"/>
          </p:cNvSpPr>
          <p:nvPr>
            <p:ph type="sldImg"/>
          </p:nvPr>
        </p:nvSpPr>
        <p:spPr>
          <a:xfrm>
            <a:off x="1143000" y="685800"/>
            <a:ext cx="4572000" cy="3429000"/>
          </a:xfrm>
          <a:prstGeom prst="rect">
            <a:avLst/>
          </a:prstGeom>
          <a:ln w="0">
            <a:noFill/>
          </a:ln>
        </p:spPr>
      </p:sp>
      <p:sp>
        <p:nvSpPr>
          <p:cNvPr id="39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s I mentioned IBM has worked with 1000’s of customers in these types of decisions.  Based on our experience we’ve found that the organizations who make the most informed decisions generally take into account three interconnected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Draw three connected ar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I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Workloads]  Some people might refer to this as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criteria are important to a Systems decision and each has a number of key factors which should be taken into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4" name="PlaceHolder 1"/>
          <p:cNvSpPr>
            <a:spLocks noGrp="1"/>
          </p:cNvSpPr>
          <p:nvPr>
            <p:ph type="sldImg"/>
          </p:nvPr>
        </p:nvSpPr>
        <p:spPr>
          <a:xfrm>
            <a:off x="1143000" y="685800"/>
            <a:ext cx="4572000" cy="3429000"/>
          </a:xfrm>
          <a:prstGeom prst="rect">
            <a:avLst/>
          </a:prstGeom>
          <a:ln w="0">
            <a:noFill/>
          </a:ln>
        </p:spPr>
      </p:sp>
      <p:sp>
        <p:nvSpPr>
          <p:cNvPr id="40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heck mark] The Fit for Purpose approach has helped 1000’s of companies to make less risky more successful Systems decisions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aving take into consideration the key criteria that is really important to the organization and to this particular application (or workload) by looking carefully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Circle around IT Environment] And the key factors – Current IT, Software and Deployment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Circle around Workloads] What type of workload is it, what are the quality of service requirements and what scalability requirements are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Circle around Costs] And finally costs.  The key here is focus on what is really critical for the longer term and this often means not merely looking at the acquisition costs but the long term recurring and operational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Next Step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6" name="PlaceHolder 1"/>
          <p:cNvSpPr>
            <a:spLocks noGrp="1"/>
          </p:cNvSpPr>
          <p:nvPr>
            <p:ph type="sldImg"/>
          </p:nvPr>
        </p:nvSpPr>
        <p:spPr>
          <a:xfrm>
            <a:off x="1143000" y="685800"/>
            <a:ext cx="4572000" cy="3429000"/>
          </a:xfrm>
          <a:prstGeom prst="rect">
            <a:avLst/>
          </a:prstGeom>
          <a:ln w="0">
            <a:noFill/>
          </a:ln>
        </p:spPr>
      </p:sp>
      <p:sp>
        <p:nvSpPr>
          <p:cNvPr id="40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heck mark] The Fit for Purpose approach has helped 1000’s of companies to make less risky more successful Systems decisions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aving take into consideration the key criteria that is really important to the organization and to this particular application (or workload) by looking carefully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Circle around IT Environment] And the key factors – Current IT, Software and Deployment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Circle around Workloads] What type of workload is it, what are the quality of service requirements and what scalability requirements are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Circle around Costs] And finally costs.  The key here is focus on what is really critical for the longer term and this often means not merely looking at the acquisition costs but the long term recurring and operational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Next Step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8" name="PlaceHolder 1"/>
          <p:cNvSpPr>
            <a:spLocks noGrp="1"/>
          </p:cNvSpPr>
          <p:nvPr>
            <p:ph type="sldImg"/>
          </p:nvPr>
        </p:nvSpPr>
        <p:spPr>
          <a:xfrm>
            <a:off x="1143000" y="685800"/>
            <a:ext cx="4572000" cy="3429000"/>
          </a:xfrm>
          <a:prstGeom prst="rect">
            <a:avLst/>
          </a:prstGeom>
          <a:ln w="0">
            <a:noFill/>
          </a:ln>
        </p:spPr>
      </p:sp>
      <p:sp>
        <p:nvSpPr>
          <p:cNvPr id="40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heck mark] The Fit for Purpose approach has helped 1000’s of companies to make less risky more successful Systems decisions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aving take into consideration the key criteria that is really important to the organization and to this particular application (or workload) by looking carefully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Circle around IT Environment] And the key factors – Current IT, Software and Deployment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Circle around Workloads] What type of workload is it, what are the quality of service requirements and what scalability requirements are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Circle around Costs] And finally costs.  The key here is focus on what is really critical for the longer term and this often means not merely looking at the acquisition costs but the long term recurring and operational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Next Step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8" name="PlaceHolder 1"/>
          <p:cNvSpPr>
            <a:spLocks noGrp="1"/>
          </p:cNvSpPr>
          <p:nvPr>
            <p:ph type="sldImg"/>
          </p:nvPr>
        </p:nvSpPr>
        <p:spPr>
          <a:xfrm>
            <a:off x="1143000" y="685800"/>
            <a:ext cx="4572000" cy="3429000"/>
          </a:xfrm>
          <a:prstGeom prst="rect">
            <a:avLst/>
          </a:prstGeom>
          <a:ln w="0">
            <a:noFill/>
          </a:ln>
        </p:spPr>
      </p:sp>
      <p:sp>
        <p:nvSpPr>
          <p:cNvPr id="39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s I mentioned IBM has worked with 1000’s of customers in these types of decisions.  Based on our experience we’ve found that the organizations who make the most informed decisions generally take into account three interconnected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Draw three connected ar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I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Workloads]  Some people might refer to this as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criteria are important to a Systems decision and each has a number of key factors which should be taken into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0" name="PlaceHolder 1"/>
          <p:cNvSpPr>
            <a:spLocks noGrp="1"/>
          </p:cNvSpPr>
          <p:nvPr>
            <p:ph type="sldImg"/>
          </p:nvPr>
        </p:nvSpPr>
        <p:spPr>
          <a:xfrm>
            <a:off x="1143000" y="685800"/>
            <a:ext cx="4572000" cy="3429000"/>
          </a:xfrm>
          <a:prstGeom prst="rect">
            <a:avLst/>
          </a:prstGeom>
          <a:ln w="0">
            <a:noFill/>
          </a:ln>
        </p:spPr>
      </p:sp>
      <p:sp>
        <p:nvSpPr>
          <p:cNvPr id="39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s I mentioned IBM has worked with 1000’s of customers in these types of decisions.  Based on our experience we’ve found that the organizations who make the most informed decisions generally take into account three interconnected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Draw three connected ar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I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Workloads]  Some people might refer to this as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criteria are important to a Systems decision and each has a number of key factors which should be taken into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2" name="PlaceHolder 1"/>
          <p:cNvSpPr>
            <a:spLocks noGrp="1"/>
          </p:cNvSpPr>
          <p:nvPr>
            <p:ph type="sldImg"/>
          </p:nvPr>
        </p:nvSpPr>
        <p:spPr>
          <a:xfrm>
            <a:off x="1143000" y="685800"/>
            <a:ext cx="4572000" cy="3429000"/>
          </a:xfrm>
          <a:prstGeom prst="rect">
            <a:avLst/>
          </a:prstGeom>
          <a:ln w="0">
            <a:noFill/>
          </a:ln>
        </p:spPr>
      </p:sp>
      <p:sp>
        <p:nvSpPr>
          <p:cNvPr id="39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give you a sense of the key factors that you might consider in making a decision and some of the questions the team should be as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I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Current IT] What does your current Systems environment look like? X86 (Intel)? Power (Unix)? System z?  Where is most of the processing taking place?  What is the skill level of the organization with respect to these Systemss?  What is the technology preferenc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Software] What type of software needs to be supported or made available?  Is there a specific application (ISV)?  Middleware?  Databas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Deployment Preference] What is the deployment preference for this application or the preference for the IT organization? Centralized? Virtualized? Hosted/Cloud? Or De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0C4EF-CB80-4E34-BE7B-07C7A96B7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B2745-0DAB-4881-9AAB-FC9A07501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FAECF-237A-45E6-92C5-4293316DD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B9859-3C74-4DCD-8E04-7A5A81329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40DCB-B918-4AE5-BC26-E40674AD6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79D65-B326-481E-9F9D-4424B7DB4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CC586-184B-4A6A-9C29-EC2F4EFA3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2B978-6DB9-4E39-9F73-A637186D5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36498-9ABE-4BB9-9666-B2F2029A3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19B9A-F076-4150-9C60-5700B36B2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C5E06-C1E3-48E4-9033-D371B1BC4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92E2F-C1D2-4DEB-8165-5AA4AD7FE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4C1B-C2E6-46E8-852E-9B72E71FB7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rcRect l="0" t="0" r="482" b="0"/>
          <a:stretch/>
        </p:blipFill>
        <p:spPr>
          <a:xfrm>
            <a:off x="0" y="4680"/>
            <a:ext cx="9134640" cy="685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Whiteboard"/>
              </a:rPr>
              <a:t>Systems Selection</a:t>
            </a:r>
            <a:endParaRPr b="0" lang="en-US" sz="1400" spc="-1" strike="noStrike">
              <a:solidFill>
                <a:srgbClr val="000000"/>
              </a:solidFill>
              <a:latin typeface="Arial"/>
            </a:endParaRPr>
          </a:p>
        </p:txBody>
      </p:sp>
      <p:sp>
        <p:nvSpPr>
          <p:cNvPr id="50"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333399"/>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07"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09"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10"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11"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12" name=""/>
          <p:cNvGrpSpPr/>
          <p:nvPr/>
        </p:nvGrpSpPr>
        <p:grpSpPr>
          <a:xfrm>
            <a:off x="1676520" y="990720"/>
            <a:ext cx="5052960" cy="4521240"/>
            <a:chOff x="1676520" y="990720"/>
            <a:chExt cx="5052960" cy="4521240"/>
          </a:xfrm>
        </p:grpSpPr>
        <p:sp>
          <p:nvSpPr>
            <p:cNvPr id="113" name=""/>
            <p:cNvSpPr/>
            <p:nvPr/>
          </p:nvSpPr>
          <p:spPr>
            <a:xfrm>
              <a:off x="1676520" y="990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179800" y="4702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915000" y="1087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urrent IT</a:t>
            </a:r>
            <a:endParaRPr b="0" lang="en-US" sz="1400" spc="-1" strike="noStrike">
              <a:solidFill>
                <a:srgbClr val="000000"/>
              </a:solidFill>
              <a:latin typeface="Arial"/>
            </a:endParaRPr>
          </a:p>
        </p:txBody>
      </p:sp>
      <p:sp>
        <p:nvSpPr>
          <p:cNvPr id="117"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39800" y="5003640"/>
            <a:ext cx="4680" cy="11160"/>
          </a:xfrm>
          <a:custGeom>
            <a:avLst/>
            <a:gdLst/>
            <a:ahLst/>
            <a:rect l="l" t="t" r="r" b="b"/>
            <a:pathLst>
              <a:path w="10" h="28">
                <a:moveTo>
                  <a:pt x="2066" y="13928"/>
                </a:moveTo>
                <a:cubicBezTo>
                  <a:pt x="2063" y="13919"/>
                  <a:pt x="2060" y="13910"/>
                  <a:pt x="2057" y="13901"/>
                </a:cubicBezTo>
              </a:path>
            </a:pathLst>
          </a:custGeom>
          <a:noFill/>
          <a:ln cap="rnd" w="28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20"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22"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23"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24"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25" name=""/>
          <p:cNvGrpSpPr/>
          <p:nvPr/>
        </p:nvGrpSpPr>
        <p:grpSpPr>
          <a:xfrm>
            <a:off x="1676520" y="990720"/>
            <a:ext cx="5052960" cy="4521240"/>
            <a:chOff x="1676520" y="990720"/>
            <a:chExt cx="5052960" cy="4521240"/>
          </a:xfrm>
        </p:grpSpPr>
        <p:sp>
          <p:nvSpPr>
            <p:cNvPr id="126" name=""/>
            <p:cNvSpPr/>
            <p:nvPr/>
          </p:nvSpPr>
          <p:spPr>
            <a:xfrm>
              <a:off x="1676520" y="990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179800" y="4702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915000" y="1087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urrent IT</a:t>
            </a:r>
            <a:endParaRPr b="0" lang="en-US" sz="1400" spc="-1" strike="noStrike">
              <a:solidFill>
                <a:srgbClr val="000000"/>
              </a:solidFill>
              <a:latin typeface="Arial"/>
            </a:endParaRPr>
          </a:p>
        </p:txBody>
      </p:sp>
      <p:grpSp>
        <p:nvGrpSpPr>
          <p:cNvPr id="130" name="Group 14"/>
          <p:cNvGrpSpPr/>
          <p:nvPr/>
        </p:nvGrpSpPr>
        <p:grpSpPr>
          <a:xfrm>
            <a:off x="1219320" y="4038480"/>
            <a:ext cx="380520" cy="381240"/>
            <a:chOff x="1219320" y="4038480"/>
            <a:chExt cx="380520" cy="381240"/>
          </a:xfrm>
        </p:grpSpPr>
        <p:sp>
          <p:nvSpPr>
            <p:cNvPr id="131"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9800" y="5003640"/>
            <a:ext cx="4680" cy="11160"/>
          </a:xfrm>
          <a:custGeom>
            <a:avLst/>
            <a:gdLst/>
            <a:ahLst/>
            <a:rect l="l" t="t" r="r" b="b"/>
            <a:pathLst>
              <a:path w="10" h="28">
                <a:moveTo>
                  <a:pt x="2066" y="13928"/>
                </a:moveTo>
                <a:cubicBezTo>
                  <a:pt x="2063" y="13919"/>
                  <a:pt x="2060" y="13910"/>
                  <a:pt x="2057" y="13901"/>
                </a:cubicBezTo>
              </a:path>
            </a:pathLst>
          </a:custGeom>
          <a:noFill/>
          <a:ln cap="rnd" w="28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36"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7"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38"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39"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40"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41" name=""/>
          <p:cNvGrpSpPr/>
          <p:nvPr/>
        </p:nvGrpSpPr>
        <p:grpSpPr>
          <a:xfrm>
            <a:off x="1676520" y="990720"/>
            <a:ext cx="5052960" cy="4521240"/>
            <a:chOff x="1676520" y="990720"/>
            <a:chExt cx="5052960" cy="4521240"/>
          </a:xfrm>
        </p:grpSpPr>
        <p:sp>
          <p:nvSpPr>
            <p:cNvPr id="142" name=""/>
            <p:cNvSpPr/>
            <p:nvPr/>
          </p:nvSpPr>
          <p:spPr>
            <a:xfrm>
              <a:off x="1676520" y="990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179800" y="4702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915000" y="1087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urrent IT</a:t>
            </a:r>
            <a:endParaRPr b="0" lang="en-US" sz="1400" spc="-1" strike="noStrike">
              <a:solidFill>
                <a:srgbClr val="000000"/>
              </a:solidFill>
              <a:latin typeface="Arial"/>
            </a:endParaRPr>
          </a:p>
        </p:txBody>
      </p:sp>
      <p:sp>
        <p:nvSpPr>
          <p:cNvPr id="146"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Group 14"/>
          <p:cNvGrpSpPr/>
          <p:nvPr/>
        </p:nvGrpSpPr>
        <p:grpSpPr>
          <a:xfrm>
            <a:off x="1219320" y="4038480"/>
            <a:ext cx="380520" cy="381240"/>
            <a:chOff x="1219320" y="4038480"/>
            <a:chExt cx="380520" cy="381240"/>
          </a:xfrm>
        </p:grpSpPr>
        <p:sp>
          <p:nvSpPr>
            <p:cNvPr id="148"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39800" y="5003640"/>
            <a:ext cx="4680" cy="11160"/>
          </a:xfrm>
          <a:custGeom>
            <a:avLst/>
            <a:gdLst/>
            <a:ahLst/>
            <a:rect l="l" t="t" r="r" b="b"/>
            <a:pathLst>
              <a:path w="10" h="28">
                <a:moveTo>
                  <a:pt x="2066" y="13928"/>
                </a:moveTo>
                <a:cubicBezTo>
                  <a:pt x="2063" y="13919"/>
                  <a:pt x="2060" y="13910"/>
                  <a:pt x="2057" y="13901"/>
                </a:cubicBezTo>
              </a:path>
            </a:pathLst>
          </a:custGeom>
          <a:noFill/>
          <a:ln cap="rnd" w="28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53"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4"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55"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56"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57"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58" name=""/>
          <p:cNvGrpSpPr/>
          <p:nvPr/>
        </p:nvGrpSpPr>
        <p:grpSpPr>
          <a:xfrm>
            <a:off x="1676520" y="990720"/>
            <a:ext cx="5052960" cy="4521240"/>
            <a:chOff x="1676520" y="990720"/>
            <a:chExt cx="5052960" cy="4521240"/>
          </a:xfrm>
        </p:grpSpPr>
        <p:sp>
          <p:nvSpPr>
            <p:cNvPr id="159" name=""/>
            <p:cNvSpPr/>
            <p:nvPr/>
          </p:nvSpPr>
          <p:spPr>
            <a:xfrm>
              <a:off x="1676520" y="990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179800" y="4702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15000" y="1087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urrent IT</a:t>
            </a:r>
            <a:endParaRPr b="0" lang="en-US" sz="1400" spc="-1" strike="noStrike">
              <a:solidFill>
                <a:srgbClr val="000000"/>
              </a:solidFill>
              <a:latin typeface="Arial"/>
            </a:endParaRPr>
          </a:p>
        </p:txBody>
      </p:sp>
      <p:sp>
        <p:nvSpPr>
          <p:cNvPr id="163"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Group 14"/>
          <p:cNvGrpSpPr/>
          <p:nvPr/>
        </p:nvGrpSpPr>
        <p:grpSpPr>
          <a:xfrm>
            <a:off x="1219320" y="4038480"/>
            <a:ext cx="380520" cy="381240"/>
            <a:chOff x="1219320" y="4038480"/>
            <a:chExt cx="380520" cy="381240"/>
          </a:xfrm>
        </p:grpSpPr>
        <p:sp>
          <p:nvSpPr>
            <p:cNvPr id="165"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Software</a:t>
            </a:r>
            <a:endParaRPr b="0" lang="en-US" sz="1400" spc="-1" strike="noStrike">
              <a:solidFill>
                <a:srgbClr val="000000"/>
              </a:solidFill>
              <a:latin typeface="Arial"/>
            </a:endParaRPr>
          </a:p>
        </p:txBody>
      </p:sp>
      <p:sp>
        <p:nvSpPr>
          <p:cNvPr id="169" name=""/>
          <p:cNvSpPr/>
          <p:nvPr/>
        </p:nvSpPr>
        <p:spPr>
          <a:xfrm>
            <a:off x="739800" y="5003640"/>
            <a:ext cx="4680" cy="11160"/>
          </a:xfrm>
          <a:custGeom>
            <a:avLst/>
            <a:gdLst/>
            <a:ahLst/>
            <a:rect l="l" t="t" r="r" b="b"/>
            <a:pathLst>
              <a:path w="10" h="28">
                <a:moveTo>
                  <a:pt x="2066" y="13928"/>
                </a:moveTo>
                <a:cubicBezTo>
                  <a:pt x="2063" y="13919"/>
                  <a:pt x="2060" y="13910"/>
                  <a:pt x="2057" y="13901"/>
                </a:cubicBezTo>
              </a:path>
            </a:pathLst>
          </a:custGeom>
          <a:noFill/>
          <a:ln cap="rnd" w="28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71"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2"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73"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74"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75"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76" name=""/>
          <p:cNvGrpSpPr/>
          <p:nvPr/>
        </p:nvGrpSpPr>
        <p:grpSpPr>
          <a:xfrm>
            <a:off x="1676520" y="990720"/>
            <a:ext cx="5052960" cy="4521240"/>
            <a:chOff x="1676520" y="990720"/>
            <a:chExt cx="5052960" cy="4521240"/>
          </a:xfrm>
        </p:grpSpPr>
        <p:sp>
          <p:nvSpPr>
            <p:cNvPr id="177" name=""/>
            <p:cNvSpPr/>
            <p:nvPr/>
          </p:nvSpPr>
          <p:spPr>
            <a:xfrm>
              <a:off x="1676520" y="990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179800" y="4702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15000" y="1087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urrent IT</a:t>
            </a:r>
            <a:endParaRPr b="0" lang="en-US" sz="1400" spc="-1" strike="noStrike">
              <a:solidFill>
                <a:srgbClr val="000000"/>
              </a:solidFill>
              <a:latin typeface="Arial"/>
            </a:endParaRPr>
          </a:p>
        </p:txBody>
      </p:sp>
      <p:sp>
        <p:nvSpPr>
          <p:cNvPr id="181"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 name="Group 14"/>
          <p:cNvGrpSpPr/>
          <p:nvPr/>
        </p:nvGrpSpPr>
        <p:grpSpPr>
          <a:xfrm>
            <a:off x="1219320" y="4038480"/>
            <a:ext cx="380520" cy="381240"/>
            <a:chOff x="1219320" y="4038480"/>
            <a:chExt cx="380520" cy="381240"/>
          </a:xfrm>
        </p:grpSpPr>
        <p:sp>
          <p:nvSpPr>
            <p:cNvPr id="183"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Software</a:t>
            </a:r>
            <a:endParaRPr b="0" lang="en-US" sz="1400" spc="-1" strike="noStrike">
              <a:solidFill>
                <a:srgbClr val="000000"/>
              </a:solidFill>
              <a:latin typeface="Arial"/>
            </a:endParaRPr>
          </a:p>
        </p:txBody>
      </p:sp>
      <p:sp>
        <p:nvSpPr>
          <p:cNvPr id="187"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9800" y="5003640"/>
            <a:ext cx="4680" cy="11160"/>
          </a:xfrm>
          <a:custGeom>
            <a:avLst/>
            <a:gdLst/>
            <a:ahLst/>
            <a:rect l="l" t="t" r="r" b="b"/>
            <a:pathLst>
              <a:path w="10" h="28">
                <a:moveTo>
                  <a:pt x="2066" y="13928"/>
                </a:moveTo>
                <a:cubicBezTo>
                  <a:pt x="2063" y="13919"/>
                  <a:pt x="2060" y="13910"/>
                  <a:pt x="2057" y="13901"/>
                </a:cubicBezTo>
              </a:path>
            </a:pathLst>
          </a:custGeom>
          <a:noFill/>
          <a:ln cap="rnd" w="28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90"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1"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92"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93"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94"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95" name=""/>
          <p:cNvGrpSpPr/>
          <p:nvPr/>
        </p:nvGrpSpPr>
        <p:grpSpPr>
          <a:xfrm>
            <a:off x="1676520" y="990720"/>
            <a:ext cx="5052960" cy="4521240"/>
            <a:chOff x="1676520" y="990720"/>
            <a:chExt cx="5052960" cy="4521240"/>
          </a:xfrm>
        </p:grpSpPr>
        <p:sp>
          <p:nvSpPr>
            <p:cNvPr id="196" name=""/>
            <p:cNvSpPr/>
            <p:nvPr/>
          </p:nvSpPr>
          <p:spPr>
            <a:xfrm>
              <a:off x="1676520" y="990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179800" y="4702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915000" y="1087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urrent IT</a:t>
            </a:r>
            <a:endParaRPr b="0" lang="en-US" sz="1400" spc="-1" strike="noStrike">
              <a:solidFill>
                <a:srgbClr val="000000"/>
              </a:solidFill>
              <a:latin typeface="Arial"/>
            </a:endParaRPr>
          </a:p>
        </p:txBody>
      </p:sp>
      <p:sp>
        <p:nvSpPr>
          <p:cNvPr id="200"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14"/>
          <p:cNvGrpSpPr/>
          <p:nvPr/>
        </p:nvGrpSpPr>
        <p:grpSpPr>
          <a:xfrm>
            <a:off x="1219320" y="4038480"/>
            <a:ext cx="380520" cy="381240"/>
            <a:chOff x="1219320" y="4038480"/>
            <a:chExt cx="380520" cy="381240"/>
          </a:xfrm>
        </p:grpSpPr>
        <p:sp>
          <p:nvSpPr>
            <p:cNvPr id="202"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Software</a:t>
            </a:r>
            <a:endParaRPr b="0" lang="en-US" sz="1400" spc="-1" strike="noStrike">
              <a:solidFill>
                <a:srgbClr val="000000"/>
              </a:solidFill>
              <a:latin typeface="Arial"/>
            </a:endParaRPr>
          </a:p>
        </p:txBody>
      </p:sp>
      <p:sp>
        <p:nvSpPr>
          <p:cNvPr id="206"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Deployment Preference</a:t>
            </a:r>
            <a:endParaRPr b="0" lang="en-US" sz="1400" spc="-1" strike="noStrike">
              <a:solidFill>
                <a:srgbClr val="000000"/>
              </a:solidFill>
              <a:latin typeface="Arial"/>
            </a:endParaRPr>
          </a:p>
        </p:txBody>
      </p:sp>
      <p:sp>
        <p:nvSpPr>
          <p:cNvPr id="208" name=""/>
          <p:cNvSpPr/>
          <p:nvPr/>
        </p:nvSpPr>
        <p:spPr>
          <a:xfrm>
            <a:off x="739800" y="5003640"/>
            <a:ext cx="4680" cy="11160"/>
          </a:xfrm>
          <a:custGeom>
            <a:avLst/>
            <a:gdLst/>
            <a:ahLst/>
            <a:rect l="l" t="t" r="r" b="b"/>
            <a:pathLst>
              <a:path w="10" h="28">
                <a:moveTo>
                  <a:pt x="2066" y="13928"/>
                </a:moveTo>
                <a:cubicBezTo>
                  <a:pt x="2063" y="13919"/>
                  <a:pt x="2060" y="13910"/>
                  <a:pt x="2057" y="13901"/>
                </a:cubicBezTo>
              </a:path>
            </a:pathLst>
          </a:custGeom>
          <a:noFill/>
          <a:ln cap="rnd" w="28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210"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1"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212"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213"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214"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215" name=""/>
          <p:cNvGrpSpPr/>
          <p:nvPr/>
        </p:nvGrpSpPr>
        <p:grpSpPr>
          <a:xfrm>
            <a:off x="1676520" y="990720"/>
            <a:ext cx="5052960" cy="4521240"/>
            <a:chOff x="1676520" y="990720"/>
            <a:chExt cx="5052960" cy="4521240"/>
          </a:xfrm>
        </p:grpSpPr>
        <p:sp>
          <p:nvSpPr>
            <p:cNvPr id="216" name=""/>
            <p:cNvSpPr/>
            <p:nvPr/>
          </p:nvSpPr>
          <p:spPr>
            <a:xfrm>
              <a:off x="1676520" y="990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179800" y="4702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915000" y="1087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urrent IT</a:t>
            </a:r>
            <a:endParaRPr b="0" lang="en-US" sz="1400" spc="-1" strike="noStrike">
              <a:solidFill>
                <a:srgbClr val="000000"/>
              </a:solidFill>
              <a:latin typeface="Arial"/>
            </a:endParaRPr>
          </a:p>
        </p:txBody>
      </p:sp>
      <p:sp>
        <p:nvSpPr>
          <p:cNvPr id="220"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1" name="Group 14"/>
          <p:cNvGrpSpPr/>
          <p:nvPr/>
        </p:nvGrpSpPr>
        <p:grpSpPr>
          <a:xfrm>
            <a:off x="1219320" y="4038480"/>
            <a:ext cx="380520" cy="381240"/>
            <a:chOff x="1219320" y="4038480"/>
            <a:chExt cx="380520" cy="381240"/>
          </a:xfrm>
        </p:grpSpPr>
        <p:sp>
          <p:nvSpPr>
            <p:cNvPr id="222"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4"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Software</a:t>
            </a:r>
            <a:endParaRPr b="0" lang="en-US" sz="1400" spc="-1" strike="noStrike">
              <a:solidFill>
                <a:srgbClr val="000000"/>
              </a:solidFill>
              <a:latin typeface="Arial"/>
            </a:endParaRPr>
          </a:p>
        </p:txBody>
      </p:sp>
      <p:sp>
        <p:nvSpPr>
          <p:cNvPr id="226"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Deployment Preference</a:t>
            </a:r>
            <a:endParaRPr b="0" lang="en-US" sz="1400" spc="-1" strike="noStrike">
              <a:solidFill>
                <a:srgbClr val="000000"/>
              </a:solidFill>
              <a:latin typeface="Arial"/>
            </a:endParaRPr>
          </a:p>
        </p:txBody>
      </p:sp>
      <p:grpSp>
        <p:nvGrpSpPr>
          <p:cNvPr id="228" name=""/>
          <p:cNvGrpSpPr/>
          <p:nvPr/>
        </p:nvGrpSpPr>
        <p:grpSpPr>
          <a:xfrm>
            <a:off x="1219320" y="1752480"/>
            <a:ext cx="532800" cy="457200"/>
            <a:chOff x="1219320" y="1752480"/>
            <a:chExt cx="532800" cy="457200"/>
          </a:xfrm>
        </p:grpSpPr>
        <p:sp>
          <p:nvSpPr>
            <p:cNvPr id="229"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Group 12"/>
            <p:cNvGrpSpPr/>
            <p:nvPr/>
          </p:nvGrpSpPr>
          <p:grpSpPr>
            <a:xfrm>
              <a:off x="1219320" y="1752480"/>
              <a:ext cx="532800" cy="457200"/>
              <a:chOff x="1219320" y="1752480"/>
              <a:chExt cx="532800" cy="457200"/>
            </a:xfrm>
          </p:grpSpPr>
          <p:sp>
            <p:nvSpPr>
              <p:cNvPr id="231"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33"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235"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
          <p:cNvSpPr/>
          <p:nvPr/>
        </p:nvSpPr>
        <p:spPr>
          <a:xfrm>
            <a:off x="739800" y="5003640"/>
            <a:ext cx="4680" cy="11160"/>
          </a:xfrm>
          <a:custGeom>
            <a:avLst/>
            <a:gdLst/>
            <a:ahLst/>
            <a:rect l="l" t="t" r="r" b="b"/>
            <a:pathLst>
              <a:path w="10" h="28">
                <a:moveTo>
                  <a:pt x="2066" y="13928"/>
                </a:moveTo>
                <a:cubicBezTo>
                  <a:pt x="2063" y="13919"/>
                  <a:pt x="2060" y="13910"/>
                  <a:pt x="2057" y="13901"/>
                </a:cubicBezTo>
              </a:path>
            </a:pathLst>
          </a:custGeom>
          <a:noFill/>
          <a:ln cap="rnd" w="28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239"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0"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241"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242"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243"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244" name=""/>
          <p:cNvGrpSpPr/>
          <p:nvPr/>
        </p:nvGrpSpPr>
        <p:grpSpPr>
          <a:xfrm>
            <a:off x="1676520" y="990720"/>
            <a:ext cx="5052960" cy="4521240"/>
            <a:chOff x="1676520" y="990720"/>
            <a:chExt cx="5052960" cy="4521240"/>
          </a:xfrm>
        </p:grpSpPr>
        <p:sp>
          <p:nvSpPr>
            <p:cNvPr id="245" name=""/>
            <p:cNvSpPr/>
            <p:nvPr/>
          </p:nvSpPr>
          <p:spPr>
            <a:xfrm>
              <a:off x="1676520" y="990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179800" y="4702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915000" y="1087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urrent IT</a:t>
            </a:r>
            <a:endParaRPr b="0" lang="en-US" sz="1400" spc="-1" strike="noStrike">
              <a:solidFill>
                <a:srgbClr val="000000"/>
              </a:solidFill>
              <a:latin typeface="Arial"/>
            </a:endParaRPr>
          </a:p>
        </p:txBody>
      </p:sp>
      <p:sp>
        <p:nvSpPr>
          <p:cNvPr id="249"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Group 14"/>
          <p:cNvGrpSpPr/>
          <p:nvPr/>
        </p:nvGrpSpPr>
        <p:grpSpPr>
          <a:xfrm>
            <a:off x="1219320" y="4038480"/>
            <a:ext cx="380520" cy="381240"/>
            <a:chOff x="1219320" y="4038480"/>
            <a:chExt cx="380520" cy="381240"/>
          </a:xfrm>
        </p:grpSpPr>
        <p:sp>
          <p:nvSpPr>
            <p:cNvPr id="251"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Software</a:t>
            </a:r>
            <a:endParaRPr b="0" lang="en-US" sz="1400" spc="-1" strike="noStrike">
              <a:solidFill>
                <a:srgbClr val="000000"/>
              </a:solidFill>
              <a:latin typeface="Arial"/>
            </a:endParaRPr>
          </a:p>
        </p:txBody>
      </p:sp>
      <p:sp>
        <p:nvSpPr>
          <p:cNvPr id="255"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Deployment Preference</a:t>
            </a:r>
            <a:endParaRPr b="0" lang="en-US" sz="1400" spc="-1" strike="noStrike">
              <a:solidFill>
                <a:srgbClr val="000000"/>
              </a:solidFill>
              <a:latin typeface="Arial"/>
            </a:endParaRPr>
          </a:p>
        </p:txBody>
      </p:sp>
      <p:grpSp>
        <p:nvGrpSpPr>
          <p:cNvPr id="257" name=""/>
          <p:cNvGrpSpPr/>
          <p:nvPr/>
        </p:nvGrpSpPr>
        <p:grpSpPr>
          <a:xfrm>
            <a:off x="1219320" y="1752480"/>
            <a:ext cx="532800" cy="457200"/>
            <a:chOff x="1219320" y="1752480"/>
            <a:chExt cx="532800" cy="457200"/>
          </a:xfrm>
        </p:grpSpPr>
        <p:sp>
          <p:nvSpPr>
            <p:cNvPr id="258"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Group 12"/>
            <p:cNvGrpSpPr/>
            <p:nvPr/>
          </p:nvGrpSpPr>
          <p:grpSpPr>
            <a:xfrm>
              <a:off x="1219320" y="1752480"/>
              <a:ext cx="532800" cy="457200"/>
              <a:chOff x="1219320" y="1752480"/>
              <a:chExt cx="532800" cy="457200"/>
            </a:xfrm>
          </p:grpSpPr>
          <p:sp>
            <p:nvSpPr>
              <p:cNvPr id="260"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62"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264"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
          <p:cNvGrpSpPr/>
          <p:nvPr/>
        </p:nvGrpSpPr>
        <p:grpSpPr>
          <a:xfrm>
            <a:off x="1600200" y="1371600"/>
            <a:ext cx="501120" cy="304920"/>
            <a:chOff x="1600200" y="1371600"/>
            <a:chExt cx="501120" cy="304920"/>
          </a:xfrm>
        </p:grpSpPr>
        <p:sp>
          <p:nvSpPr>
            <p:cNvPr id="267"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
          <p:cNvSpPr/>
          <p:nvPr/>
        </p:nvSpPr>
        <p:spPr>
          <a:xfrm>
            <a:off x="739800" y="5003640"/>
            <a:ext cx="4680" cy="11160"/>
          </a:xfrm>
          <a:custGeom>
            <a:avLst/>
            <a:gdLst/>
            <a:ahLst/>
            <a:rect l="l" t="t" r="r" b="b"/>
            <a:pathLst>
              <a:path w="10" h="28">
                <a:moveTo>
                  <a:pt x="2066" y="13928"/>
                </a:moveTo>
                <a:cubicBezTo>
                  <a:pt x="2063" y="13919"/>
                  <a:pt x="2060" y="13910"/>
                  <a:pt x="2057" y="13901"/>
                </a:cubicBezTo>
              </a:path>
            </a:pathLst>
          </a:custGeom>
          <a:noFill/>
          <a:ln cap="rnd" w="28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272"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3"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274"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275"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276"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277" name=""/>
          <p:cNvGrpSpPr/>
          <p:nvPr/>
        </p:nvGrpSpPr>
        <p:grpSpPr>
          <a:xfrm>
            <a:off x="1676520" y="990720"/>
            <a:ext cx="5052960" cy="4521240"/>
            <a:chOff x="1676520" y="990720"/>
            <a:chExt cx="5052960" cy="4521240"/>
          </a:xfrm>
        </p:grpSpPr>
        <p:sp>
          <p:nvSpPr>
            <p:cNvPr id="278" name=""/>
            <p:cNvSpPr/>
            <p:nvPr/>
          </p:nvSpPr>
          <p:spPr>
            <a:xfrm>
              <a:off x="1676520" y="990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179800" y="4702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915000" y="1087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urrent IT</a:t>
            </a:r>
            <a:endParaRPr b="0" lang="en-US" sz="1400" spc="-1" strike="noStrike">
              <a:solidFill>
                <a:srgbClr val="000000"/>
              </a:solidFill>
              <a:latin typeface="Arial"/>
            </a:endParaRPr>
          </a:p>
        </p:txBody>
      </p:sp>
      <p:sp>
        <p:nvSpPr>
          <p:cNvPr id="282"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 name="Group 14"/>
          <p:cNvGrpSpPr/>
          <p:nvPr/>
        </p:nvGrpSpPr>
        <p:grpSpPr>
          <a:xfrm>
            <a:off x="1219320" y="4038480"/>
            <a:ext cx="380520" cy="381240"/>
            <a:chOff x="1219320" y="4038480"/>
            <a:chExt cx="380520" cy="381240"/>
          </a:xfrm>
        </p:grpSpPr>
        <p:sp>
          <p:nvSpPr>
            <p:cNvPr id="284"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6"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Software</a:t>
            </a:r>
            <a:endParaRPr b="0" lang="en-US" sz="1400" spc="-1" strike="noStrike">
              <a:solidFill>
                <a:srgbClr val="000000"/>
              </a:solidFill>
              <a:latin typeface="Arial"/>
            </a:endParaRPr>
          </a:p>
        </p:txBody>
      </p:sp>
      <p:sp>
        <p:nvSpPr>
          <p:cNvPr id="288"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Deployment Preference</a:t>
            </a:r>
            <a:endParaRPr b="0" lang="en-US" sz="1400" spc="-1" strike="noStrike">
              <a:solidFill>
                <a:srgbClr val="000000"/>
              </a:solidFill>
              <a:latin typeface="Arial"/>
            </a:endParaRPr>
          </a:p>
        </p:txBody>
      </p:sp>
      <p:grpSp>
        <p:nvGrpSpPr>
          <p:cNvPr id="290" name=""/>
          <p:cNvGrpSpPr/>
          <p:nvPr/>
        </p:nvGrpSpPr>
        <p:grpSpPr>
          <a:xfrm>
            <a:off x="1219320" y="1752480"/>
            <a:ext cx="532800" cy="457200"/>
            <a:chOff x="1219320" y="1752480"/>
            <a:chExt cx="532800" cy="457200"/>
          </a:xfrm>
        </p:grpSpPr>
        <p:sp>
          <p:nvSpPr>
            <p:cNvPr id="291"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 name="Group 12"/>
            <p:cNvGrpSpPr/>
            <p:nvPr/>
          </p:nvGrpSpPr>
          <p:grpSpPr>
            <a:xfrm>
              <a:off x="1219320" y="1752480"/>
              <a:ext cx="532800" cy="457200"/>
              <a:chOff x="1219320" y="1752480"/>
              <a:chExt cx="532800" cy="457200"/>
            </a:xfrm>
          </p:grpSpPr>
          <p:sp>
            <p:nvSpPr>
              <p:cNvPr id="293"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5"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297"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
          <p:cNvGrpSpPr/>
          <p:nvPr/>
        </p:nvGrpSpPr>
        <p:grpSpPr>
          <a:xfrm>
            <a:off x="1600200" y="1371600"/>
            <a:ext cx="501120" cy="304920"/>
            <a:chOff x="1600200" y="1371600"/>
            <a:chExt cx="501120" cy="304920"/>
          </a:xfrm>
        </p:grpSpPr>
        <p:sp>
          <p:nvSpPr>
            <p:cNvPr id="300"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2209680" y="1219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39800" y="5003640"/>
            <a:ext cx="4680" cy="11160"/>
          </a:xfrm>
          <a:custGeom>
            <a:avLst/>
            <a:gdLst/>
            <a:ahLst/>
            <a:rect l="l" t="t" r="r" b="b"/>
            <a:pathLst>
              <a:path w="10" h="28">
                <a:moveTo>
                  <a:pt x="2066" y="13928"/>
                </a:moveTo>
                <a:cubicBezTo>
                  <a:pt x="2063" y="13919"/>
                  <a:pt x="2060" y="13910"/>
                  <a:pt x="2057" y="13901"/>
                </a:cubicBezTo>
              </a:path>
            </a:pathLst>
          </a:custGeom>
          <a:noFill/>
          <a:ln cap="rnd" w="28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306"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7"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308"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309"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310"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311" name=""/>
          <p:cNvGrpSpPr/>
          <p:nvPr/>
        </p:nvGrpSpPr>
        <p:grpSpPr>
          <a:xfrm>
            <a:off x="1676520" y="990720"/>
            <a:ext cx="5052960" cy="4521240"/>
            <a:chOff x="1676520" y="990720"/>
            <a:chExt cx="5052960" cy="4521240"/>
          </a:xfrm>
        </p:grpSpPr>
        <p:sp>
          <p:nvSpPr>
            <p:cNvPr id="312" name=""/>
            <p:cNvSpPr/>
            <p:nvPr/>
          </p:nvSpPr>
          <p:spPr>
            <a:xfrm>
              <a:off x="1676520" y="990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179800" y="4702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915000" y="1087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5"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urrent IT</a:t>
            </a:r>
            <a:endParaRPr b="0" lang="en-US" sz="1400" spc="-1" strike="noStrike">
              <a:solidFill>
                <a:srgbClr val="000000"/>
              </a:solidFill>
              <a:latin typeface="Arial"/>
            </a:endParaRPr>
          </a:p>
        </p:txBody>
      </p:sp>
      <p:sp>
        <p:nvSpPr>
          <p:cNvPr id="316"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Group 14"/>
          <p:cNvGrpSpPr/>
          <p:nvPr/>
        </p:nvGrpSpPr>
        <p:grpSpPr>
          <a:xfrm>
            <a:off x="1219320" y="4038480"/>
            <a:ext cx="380520" cy="381240"/>
            <a:chOff x="1219320" y="4038480"/>
            <a:chExt cx="380520" cy="381240"/>
          </a:xfrm>
        </p:grpSpPr>
        <p:sp>
          <p:nvSpPr>
            <p:cNvPr id="318"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Software</a:t>
            </a:r>
            <a:endParaRPr b="0" lang="en-US" sz="1400" spc="-1" strike="noStrike">
              <a:solidFill>
                <a:srgbClr val="000000"/>
              </a:solidFill>
              <a:latin typeface="Arial"/>
            </a:endParaRPr>
          </a:p>
        </p:txBody>
      </p:sp>
      <p:sp>
        <p:nvSpPr>
          <p:cNvPr id="322"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Deployment Preference</a:t>
            </a:r>
            <a:endParaRPr b="0" lang="en-US" sz="1400" spc="-1" strike="noStrike">
              <a:solidFill>
                <a:srgbClr val="000000"/>
              </a:solidFill>
              <a:latin typeface="Arial"/>
            </a:endParaRPr>
          </a:p>
        </p:txBody>
      </p:sp>
      <p:grpSp>
        <p:nvGrpSpPr>
          <p:cNvPr id="324" name=""/>
          <p:cNvGrpSpPr/>
          <p:nvPr/>
        </p:nvGrpSpPr>
        <p:grpSpPr>
          <a:xfrm>
            <a:off x="1219320" y="1752480"/>
            <a:ext cx="532800" cy="457200"/>
            <a:chOff x="1219320" y="1752480"/>
            <a:chExt cx="532800" cy="457200"/>
          </a:xfrm>
        </p:grpSpPr>
        <p:sp>
          <p:nvSpPr>
            <p:cNvPr id="325"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12"/>
            <p:cNvGrpSpPr/>
            <p:nvPr/>
          </p:nvGrpSpPr>
          <p:grpSpPr>
            <a:xfrm>
              <a:off x="1219320" y="1752480"/>
              <a:ext cx="532800" cy="457200"/>
              <a:chOff x="1219320" y="1752480"/>
              <a:chExt cx="532800" cy="457200"/>
            </a:xfrm>
          </p:grpSpPr>
          <p:sp>
            <p:nvSpPr>
              <p:cNvPr id="327"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9"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31"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3" name=""/>
          <p:cNvGrpSpPr/>
          <p:nvPr/>
        </p:nvGrpSpPr>
        <p:grpSpPr>
          <a:xfrm>
            <a:off x="1600200" y="1371600"/>
            <a:ext cx="501120" cy="304920"/>
            <a:chOff x="1600200" y="1371600"/>
            <a:chExt cx="501120" cy="304920"/>
          </a:xfrm>
        </p:grpSpPr>
        <p:sp>
          <p:nvSpPr>
            <p:cNvPr id="334"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09680" y="1219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39800" y="5003640"/>
            <a:ext cx="4680" cy="11160"/>
          </a:xfrm>
          <a:custGeom>
            <a:avLst/>
            <a:gdLst/>
            <a:ahLst/>
            <a:rect l="l" t="t" r="r" b="b"/>
            <a:pathLst>
              <a:path w="10" h="28">
                <a:moveTo>
                  <a:pt x="2066" y="13928"/>
                </a:moveTo>
                <a:cubicBezTo>
                  <a:pt x="2063" y="13919"/>
                  <a:pt x="2060" y="13910"/>
                  <a:pt x="2057" y="13901"/>
                </a:cubicBezTo>
              </a:path>
            </a:pathLst>
          </a:custGeom>
          <a:noFill/>
          <a:ln cap="rnd" w="28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Whiteboard"/>
              </a:rPr>
              <a:t>Systems Selection</a:t>
            </a:r>
            <a:endParaRPr b="0" lang="en-US" sz="1400" spc="-1" strike="noStrike">
              <a:solidFill>
                <a:srgbClr val="000000"/>
              </a:solidFill>
              <a:latin typeface="Arial"/>
            </a:endParaRPr>
          </a:p>
        </p:txBody>
      </p:sp>
      <p:sp>
        <p:nvSpPr>
          <p:cNvPr id="52"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333399"/>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 name=""/>
          <p:cNvSpPr/>
          <p:nvPr/>
        </p:nvSpPr>
        <p:spPr>
          <a:xfrm>
            <a:off x="7959600" y="380880"/>
            <a:ext cx="69876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341"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42"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343"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344"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345"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346" name=""/>
          <p:cNvGrpSpPr/>
          <p:nvPr/>
        </p:nvGrpSpPr>
        <p:grpSpPr>
          <a:xfrm>
            <a:off x="1554120" y="1012680"/>
            <a:ext cx="5052960" cy="4521240"/>
            <a:chOff x="1554120" y="1012680"/>
            <a:chExt cx="5052960" cy="4521240"/>
          </a:xfrm>
        </p:grpSpPr>
        <p:sp>
          <p:nvSpPr>
            <p:cNvPr id="347"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0"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351"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 name="Group 14"/>
          <p:cNvGrpSpPr/>
          <p:nvPr/>
        </p:nvGrpSpPr>
        <p:grpSpPr>
          <a:xfrm>
            <a:off x="1219320" y="4038480"/>
            <a:ext cx="380520" cy="381240"/>
            <a:chOff x="1219320" y="4038480"/>
            <a:chExt cx="380520" cy="381240"/>
          </a:xfrm>
        </p:grpSpPr>
        <p:sp>
          <p:nvSpPr>
            <p:cNvPr id="353"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357"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359" name=""/>
          <p:cNvGrpSpPr/>
          <p:nvPr/>
        </p:nvGrpSpPr>
        <p:grpSpPr>
          <a:xfrm>
            <a:off x="1219320" y="1752480"/>
            <a:ext cx="532800" cy="457200"/>
            <a:chOff x="1219320" y="1752480"/>
            <a:chExt cx="532800" cy="457200"/>
          </a:xfrm>
        </p:grpSpPr>
        <p:sp>
          <p:nvSpPr>
            <p:cNvPr id="360"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Group 12"/>
            <p:cNvGrpSpPr/>
            <p:nvPr/>
          </p:nvGrpSpPr>
          <p:grpSpPr>
            <a:xfrm>
              <a:off x="1219320" y="1752480"/>
              <a:ext cx="532800" cy="457200"/>
              <a:chOff x="1219320" y="1752480"/>
              <a:chExt cx="532800" cy="457200"/>
            </a:xfrm>
          </p:grpSpPr>
          <p:sp>
            <p:nvSpPr>
              <p:cNvPr id="362"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64"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66"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 name=""/>
          <p:cNvGrpSpPr/>
          <p:nvPr/>
        </p:nvGrpSpPr>
        <p:grpSpPr>
          <a:xfrm>
            <a:off x="1600200" y="1371600"/>
            <a:ext cx="501120" cy="304920"/>
            <a:chOff x="1600200" y="1371600"/>
            <a:chExt cx="501120" cy="304920"/>
          </a:xfrm>
        </p:grpSpPr>
        <p:sp>
          <p:nvSpPr>
            <p:cNvPr id="369"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
          <p:cNvSpPr/>
          <p:nvPr/>
        </p:nvSpPr>
        <p:spPr>
          <a:xfrm>
            <a:off x="2209680" y="1219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ategor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376"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7"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378"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379"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380"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381" name=""/>
          <p:cNvGrpSpPr/>
          <p:nvPr/>
        </p:nvGrpSpPr>
        <p:grpSpPr>
          <a:xfrm>
            <a:off x="1554120" y="1012680"/>
            <a:ext cx="5052960" cy="4521240"/>
            <a:chOff x="1554120" y="1012680"/>
            <a:chExt cx="5052960" cy="4521240"/>
          </a:xfrm>
        </p:grpSpPr>
        <p:sp>
          <p:nvSpPr>
            <p:cNvPr id="382"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386"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 name="Group 14"/>
          <p:cNvGrpSpPr/>
          <p:nvPr/>
        </p:nvGrpSpPr>
        <p:grpSpPr>
          <a:xfrm>
            <a:off x="1219320" y="4038480"/>
            <a:ext cx="380520" cy="381240"/>
            <a:chOff x="1219320" y="4038480"/>
            <a:chExt cx="380520" cy="381240"/>
          </a:xfrm>
        </p:grpSpPr>
        <p:sp>
          <p:nvSpPr>
            <p:cNvPr id="388"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392"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394" name=""/>
          <p:cNvGrpSpPr/>
          <p:nvPr/>
        </p:nvGrpSpPr>
        <p:grpSpPr>
          <a:xfrm>
            <a:off x="1219320" y="1752480"/>
            <a:ext cx="532800" cy="457200"/>
            <a:chOff x="1219320" y="1752480"/>
            <a:chExt cx="532800" cy="457200"/>
          </a:xfrm>
        </p:grpSpPr>
        <p:sp>
          <p:nvSpPr>
            <p:cNvPr id="395"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6" name="Group 12"/>
            <p:cNvGrpSpPr/>
            <p:nvPr/>
          </p:nvGrpSpPr>
          <p:grpSpPr>
            <a:xfrm>
              <a:off x="1219320" y="1752480"/>
              <a:ext cx="532800" cy="457200"/>
              <a:chOff x="1219320" y="1752480"/>
              <a:chExt cx="532800" cy="457200"/>
            </a:xfrm>
          </p:grpSpPr>
          <p:sp>
            <p:nvSpPr>
              <p:cNvPr id="397"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99"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01"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1600200" y="1371600"/>
            <a:ext cx="501120" cy="304920"/>
            <a:chOff x="1600200" y="1371600"/>
            <a:chExt cx="501120" cy="304920"/>
          </a:xfrm>
        </p:grpSpPr>
        <p:sp>
          <p:nvSpPr>
            <p:cNvPr id="404"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7" name=""/>
          <p:cNvSpPr/>
          <p:nvPr/>
        </p:nvSpPr>
        <p:spPr>
          <a:xfrm>
            <a:off x="2209680" y="1219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9" name=""/>
          <p:cNvGrpSpPr/>
          <p:nvPr/>
        </p:nvGrpSpPr>
        <p:grpSpPr>
          <a:xfrm>
            <a:off x="4952880" y="380880"/>
            <a:ext cx="884160" cy="745920"/>
            <a:chOff x="4952880" y="380880"/>
            <a:chExt cx="884160" cy="745920"/>
          </a:xfrm>
        </p:grpSpPr>
        <p:sp>
          <p:nvSpPr>
            <p:cNvPr id="410" name=""/>
            <p:cNvSpPr/>
            <p:nvPr/>
          </p:nvSpPr>
          <p:spPr>
            <a:xfrm>
              <a:off x="4952880" y="380880"/>
              <a:ext cx="873000" cy="69984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tP</a:t>
              </a:r>
              <a:endParaRPr b="0" lang="en-US" sz="1600" spc="-1" strike="noStrike">
                <a:solidFill>
                  <a:srgbClr val="000000"/>
                </a:solidFill>
                <a:latin typeface="Arial"/>
              </a:endParaRPr>
            </a:p>
          </p:txBody>
        </p:sp>
        <p:sp>
          <p:nvSpPr>
            <p:cNvPr id="412" name=""/>
            <p:cNvSpPr/>
            <p:nvPr/>
          </p:nvSpPr>
          <p:spPr>
            <a:xfrm>
              <a:off x="4988520" y="74628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An</a:t>
              </a:r>
              <a:endParaRPr b="0" lang="en-US" sz="1600" spc="-1" strike="noStrike">
                <a:solidFill>
                  <a:srgbClr val="000000"/>
                </a:solidFill>
                <a:latin typeface="Arial"/>
              </a:endParaRPr>
            </a:p>
          </p:txBody>
        </p:sp>
        <p:sp>
          <p:nvSpPr>
            <p:cNvPr id="413" name=""/>
            <p:cNvSpPr/>
            <p:nvPr/>
          </p:nvSpPr>
          <p:spPr>
            <a:xfrm>
              <a:off x="5395680" y="7894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BA</a:t>
              </a:r>
              <a:endParaRPr b="0" lang="en-US" sz="1600" spc="-1" strike="noStrike">
                <a:solidFill>
                  <a:srgbClr val="000000"/>
                </a:solidFill>
                <a:latin typeface="Arial"/>
              </a:endParaRPr>
            </a:p>
          </p:txBody>
        </p:sp>
        <p:sp>
          <p:nvSpPr>
            <p:cNvPr id="414"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co</a:t>
              </a:r>
              <a:endParaRPr b="0" lang="en-US" sz="1600" spc="-1" strike="noStrike">
                <a:solidFill>
                  <a:srgbClr val="000000"/>
                </a:solidFill>
                <a:latin typeface="Arial"/>
              </a:endParaRPr>
            </a:p>
          </p:txBody>
        </p:sp>
      </p:grpSp>
      <p:sp>
        <p:nvSpPr>
          <p:cNvPr id="415"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ategor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417"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18"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419"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420"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421"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422" name=""/>
          <p:cNvGrpSpPr/>
          <p:nvPr/>
        </p:nvGrpSpPr>
        <p:grpSpPr>
          <a:xfrm>
            <a:off x="1554120" y="1012680"/>
            <a:ext cx="5052960" cy="4521240"/>
            <a:chOff x="1554120" y="1012680"/>
            <a:chExt cx="5052960" cy="4521240"/>
          </a:xfrm>
        </p:grpSpPr>
        <p:sp>
          <p:nvSpPr>
            <p:cNvPr id="423"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427"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8" name="Group 14"/>
          <p:cNvGrpSpPr/>
          <p:nvPr/>
        </p:nvGrpSpPr>
        <p:grpSpPr>
          <a:xfrm>
            <a:off x="1219320" y="4038480"/>
            <a:ext cx="380520" cy="381240"/>
            <a:chOff x="1219320" y="4038480"/>
            <a:chExt cx="380520" cy="381240"/>
          </a:xfrm>
        </p:grpSpPr>
        <p:sp>
          <p:nvSpPr>
            <p:cNvPr id="429"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1"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433"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435" name=""/>
          <p:cNvGrpSpPr/>
          <p:nvPr/>
        </p:nvGrpSpPr>
        <p:grpSpPr>
          <a:xfrm>
            <a:off x="1219320" y="1752480"/>
            <a:ext cx="532800" cy="457200"/>
            <a:chOff x="1219320" y="1752480"/>
            <a:chExt cx="532800" cy="457200"/>
          </a:xfrm>
        </p:grpSpPr>
        <p:sp>
          <p:nvSpPr>
            <p:cNvPr id="436"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7" name="Group 12"/>
            <p:cNvGrpSpPr/>
            <p:nvPr/>
          </p:nvGrpSpPr>
          <p:grpSpPr>
            <a:xfrm>
              <a:off x="1219320" y="1752480"/>
              <a:ext cx="532800" cy="457200"/>
              <a:chOff x="1219320" y="1752480"/>
              <a:chExt cx="532800" cy="457200"/>
            </a:xfrm>
          </p:grpSpPr>
          <p:sp>
            <p:nvSpPr>
              <p:cNvPr id="438"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40"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42"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1600200" y="1371600"/>
            <a:ext cx="501120" cy="304920"/>
            <a:chOff x="1600200" y="1371600"/>
            <a:chExt cx="501120" cy="304920"/>
          </a:xfrm>
        </p:grpSpPr>
        <p:sp>
          <p:nvSpPr>
            <p:cNvPr id="445"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
          <p:cNvSpPr/>
          <p:nvPr/>
        </p:nvSpPr>
        <p:spPr>
          <a:xfrm>
            <a:off x="2209680" y="1219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0" name=""/>
          <p:cNvGrpSpPr/>
          <p:nvPr/>
        </p:nvGrpSpPr>
        <p:grpSpPr>
          <a:xfrm>
            <a:off x="4952880" y="380880"/>
            <a:ext cx="884160" cy="745920"/>
            <a:chOff x="4952880" y="380880"/>
            <a:chExt cx="884160" cy="745920"/>
          </a:xfrm>
        </p:grpSpPr>
        <p:sp>
          <p:nvSpPr>
            <p:cNvPr id="451" name=""/>
            <p:cNvSpPr/>
            <p:nvPr/>
          </p:nvSpPr>
          <p:spPr>
            <a:xfrm>
              <a:off x="4952880" y="380880"/>
              <a:ext cx="873000" cy="69984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tP</a:t>
              </a:r>
              <a:endParaRPr b="0" lang="en-US" sz="1600" spc="-1" strike="noStrike">
                <a:solidFill>
                  <a:srgbClr val="000000"/>
                </a:solidFill>
                <a:latin typeface="Arial"/>
              </a:endParaRPr>
            </a:p>
          </p:txBody>
        </p:sp>
        <p:sp>
          <p:nvSpPr>
            <p:cNvPr id="453" name=""/>
            <p:cNvSpPr/>
            <p:nvPr/>
          </p:nvSpPr>
          <p:spPr>
            <a:xfrm>
              <a:off x="4988520" y="74628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An</a:t>
              </a:r>
              <a:endParaRPr b="0" lang="en-US" sz="1600" spc="-1" strike="noStrike">
                <a:solidFill>
                  <a:srgbClr val="000000"/>
                </a:solidFill>
                <a:latin typeface="Arial"/>
              </a:endParaRPr>
            </a:p>
          </p:txBody>
        </p:sp>
        <p:sp>
          <p:nvSpPr>
            <p:cNvPr id="454" name=""/>
            <p:cNvSpPr/>
            <p:nvPr/>
          </p:nvSpPr>
          <p:spPr>
            <a:xfrm>
              <a:off x="5395680" y="7894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BA</a:t>
              </a:r>
              <a:endParaRPr b="0" lang="en-US" sz="1600" spc="-1" strike="noStrike">
                <a:solidFill>
                  <a:srgbClr val="000000"/>
                </a:solidFill>
                <a:latin typeface="Arial"/>
              </a:endParaRPr>
            </a:p>
          </p:txBody>
        </p:sp>
        <p:sp>
          <p:nvSpPr>
            <p:cNvPr id="455"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co</a:t>
              </a:r>
              <a:endParaRPr b="0" lang="en-US" sz="1600" spc="-1" strike="noStrike">
                <a:solidFill>
                  <a:srgbClr val="000000"/>
                </a:solidFill>
                <a:latin typeface="Arial"/>
              </a:endParaRPr>
            </a:p>
          </p:txBody>
        </p:sp>
      </p:grpSp>
      <p:sp>
        <p:nvSpPr>
          <p:cNvPr id="456"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ategories</a:t>
            </a:r>
            <a:endParaRPr b="0" lang="en-US" sz="1400" spc="-1" strike="noStrike">
              <a:solidFill>
                <a:srgbClr val="000000"/>
              </a:solidFill>
              <a:latin typeface="Arial"/>
            </a:endParaRPr>
          </a:p>
        </p:txBody>
      </p:sp>
      <p:sp>
        <p:nvSpPr>
          <p:cNvPr id="457"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QoS Req’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459"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60"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461"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462"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463"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464" name=""/>
          <p:cNvGrpSpPr/>
          <p:nvPr/>
        </p:nvGrpSpPr>
        <p:grpSpPr>
          <a:xfrm>
            <a:off x="1554120" y="1012680"/>
            <a:ext cx="5052960" cy="4521240"/>
            <a:chOff x="1554120" y="1012680"/>
            <a:chExt cx="5052960" cy="4521240"/>
          </a:xfrm>
        </p:grpSpPr>
        <p:sp>
          <p:nvSpPr>
            <p:cNvPr id="465"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469"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0" name="Group 14"/>
          <p:cNvGrpSpPr/>
          <p:nvPr/>
        </p:nvGrpSpPr>
        <p:grpSpPr>
          <a:xfrm>
            <a:off x="1219320" y="4038480"/>
            <a:ext cx="380520" cy="381240"/>
            <a:chOff x="1219320" y="4038480"/>
            <a:chExt cx="380520" cy="381240"/>
          </a:xfrm>
        </p:grpSpPr>
        <p:sp>
          <p:nvSpPr>
            <p:cNvPr id="471"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475"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477" name=""/>
          <p:cNvGrpSpPr/>
          <p:nvPr/>
        </p:nvGrpSpPr>
        <p:grpSpPr>
          <a:xfrm>
            <a:off x="1219320" y="1752480"/>
            <a:ext cx="532800" cy="457200"/>
            <a:chOff x="1219320" y="1752480"/>
            <a:chExt cx="532800" cy="457200"/>
          </a:xfrm>
        </p:grpSpPr>
        <p:sp>
          <p:nvSpPr>
            <p:cNvPr id="478"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Group 12"/>
            <p:cNvGrpSpPr/>
            <p:nvPr/>
          </p:nvGrpSpPr>
          <p:grpSpPr>
            <a:xfrm>
              <a:off x="1219320" y="1752480"/>
              <a:ext cx="532800" cy="457200"/>
              <a:chOff x="1219320" y="1752480"/>
              <a:chExt cx="532800" cy="457200"/>
            </a:xfrm>
          </p:grpSpPr>
          <p:sp>
            <p:nvSpPr>
              <p:cNvPr id="480"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82"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84"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1600200" y="1371600"/>
            <a:ext cx="501120" cy="304920"/>
            <a:chOff x="1600200" y="1371600"/>
            <a:chExt cx="501120" cy="304920"/>
          </a:xfrm>
        </p:grpSpPr>
        <p:sp>
          <p:nvSpPr>
            <p:cNvPr id="487"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2209680" y="1219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2" name=""/>
          <p:cNvGrpSpPr/>
          <p:nvPr/>
        </p:nvGrpSpPr>
        <p:grpSpPr>
          <a:xfrm>
            <a:off x="4952880" y="380880"/>
            <a:ext cx="884160" cy="745920"/>
            <a:chOff x="4952880" y="380880"/>
            <a:chExt cx="884160" cy="745920"/>
          </a:xfrm>
        </p:grpSpPr>
        <p:sp>
          <p:nvSpPr>
            <p:cNvPr id="493" name=""/>
            <p:cNvSpPr/>
            <p:nvPr/>
          </p:nvSpPr>
          <p:spPr>
            <a:xfrm>
              <a:off x="4952880" y="380880"/>
              <a:ext cx="873000" cy="69984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tP</a:t>
              </a:r>
              <a:endParaRPr b="0" lang="en-US" sz="1600" spc="-1" strike="noStrike">
                <a:solidFill>
                  <a:srgbClr val="000000"/>
                </a:solidFill>
                <a:latin typeface="Arial"/>
              </a:endParaRPr>
            </a:p>
          </p:txBody>
        </p:sp>
        <p:sp>
          <p:nvSpPr>
            <p:cNvPr id="495" name=""/>
            <p:cNvSpPr/>
            <p:nvPr/>
          </p:nvSpPr>
          <p:spPr>
            <a:xfrm>
              <a:off x="4988520" y="74628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An</a:t>
              </a:r>
              <a:endParaRPr b="0" lang="en-US" sz="1600" spc="-1" strike="noStrike">
                <a:solidFill>
                  <a:srgbClr val="000000"/>
                </a:solidFill>
                <a:latin typeface="Arial"/>
              </a:endParaRPr>
            </a:p>
          </p:txBody>
        </p:sp>
        <p:sp>
          <p:nvSpPr>
            <p:cNvPr id="496" name=""/>
            <p:cNvSpPr/>
            <p:nvPr/>
          </p:nvSpPr>
          <p:spPr>
            <a:xfrm>
              <a:off x="5395680" y="7894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BA</a:t>
              </a:r>
              <a:endParaRPr b="0" lang="en-US" sz="1600" spc="-1" strike="noStrike">
                <a:solidFill>
                  <a:srgbClr val="000000"/>
                </a:solidFill>
                <a:latin typeface="Arial"/>
              </a:endParaRPr>
            </a:p>
          </p:txBody>
        </p:sp>
        <p:sp>
          <p:nvSpPr>
            <p:cNvPr id="497"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co</a:t>
              </a:r>
              <a:endParaRPr b="0" lang="en-US" sz="1600" spc="-1" strike="noStrike">
                <a:solidFill>
                  <a:srgbClr val="000000"/>
                </a:solidFill>
                <a:latin typeface="Arial"/>
              </a:endParaRPr>
            </a:p>
          </p:txBody>
        </p:sp>
      </p:grpSp>
      <p:sp>
        <p:nvSpPr>
          <p:cNvPr id="498"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ategories</a:t>
            </a:r>
            <a:endParaRPr b="0" lang="en-US" sz="1400" spc="-1" strike="noStrike">
              <a:solidFill>
                <a:srgbClr val="000000"/>
              </a:solidFill>
              <a:latin typeface="Arial"/>
            </a:endParaRPr>
          </a:p>
        </p:txBody>
      </p:sp>
      <p:sp>
        <p:nvSpPr>
          <p:cNvPr id="499"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QoS Req’s</a:t>
            </a:r>
            <a:endParaRPr b="0" lang="en-US" sz="1400" spc="-1" strike="noStrike">
              <a:solidFill>
                <a:srgbClr val="000000"/>
              </a:solidFill>
              <a:latin typeface="Arial"/>
            </a:endParaRPr>
          </a:p>
        </p:txBody>
      </p:sp>
      <p:sp>
        <p:nvSpPr>
          <p:cNvPr id="500"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502"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3"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504"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505"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506"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507" name=""/>
          <p:cNvGrpSpPr/>
          <p:nvPr/>
        </p:nvGrpSpPr>
        <p:grpSpPr>
          <a:xfrm>
            <a:off x="1554120" y="1012680"/>
            <a:ext cx="5052960" cy="4521240"/>
            <a:chOff x="1554120" y="1012680"/>
            <a:chExt cx="5052960" cy="4521240"/>
          </a:xfrm>
        </p:grpSpPr>
        <p:sp>
          <p:nvSpPr>
            <p:cNvPr id="508"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1"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512"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3" name="Group 14"/>
          <p:cNvGrpSpPr/>
          <p:nvPr/>
        </p:nvGrpSpPr>
        <p:grpSpPr>
          <a:xfrm>
            <a:off x="1219320" y="4038480"/>
            <a:ext cx="380520" cy="381240"/>
            <a:chOff x="1219320" y="4038480"/>
            <a:chExt cx="380520" cy="381240"/>
          </a:xfrm>
        </p:grpSpPr>
        <p:sp>
          <p:nvSpPr>
            <p:cNvPr id="514"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6"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518"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520" name=""/>
          <p:cNvGrpSpPr/>
          <p:nvPr/>
        </p:nvGrpSpPr>
        <p:grpSpPr>
          <a:xfrm>
            <a:off x="1219320" y="1752480"/>
            <a:ext cx="532800" cy="457200"/>
            <a:chOff x="1219320" y="1752480"/>
            <a:chExt cx="532800" cy="457200"/>
          </a:xfrm>
        </p:grpSpPr>
        <p:sp>
          <p:nvSpPr>
            <p:cNvPr id="521"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2" name="Group 12"/>
            <p:cNvGrpSpPr/>
            <p:nvPr/>
          </p:nvGrpSpPr>
          <p:grpSpPr>
            <a:xfrm>
              <a:off x="1219320" y="1752480"/>
              <a:ext cx="532800" cy="457200"/>
              <a:chOff x="1219320" y="1752480"/>
              <a:chExt cx="532800" cy="457200"/>
            </a:xfrm>
          </p:grpSpPr>
          <p:sp>
            <p:nvSpPr>
              <p:cNvPr id="523"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25"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527"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9" name=""/>
          <p:cNvGrpSpPr/>
          <p:nvPr/>
        </p:nvGrpSpPr>
        <p:grpSpPr>
          <a:xfrm>
            <a:off x="1600200" y="1371600"/>
            <a:ext cx="501120" cy="304920"/>
            <a:chOff x="1600200" y="1371600"/>
            <a:chExt cx="501120" cy="304920"/>
          </a:xfrm>
        </p:grpSpPr>
        <p:sp>
          <p:nvSpPr>
            <p:cNvPr id="530"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3" name=""/>
          <p:cNvSpPr/>
          <p:nvPr/>
        </p:nvSpPr>
        <p:spPr>
          <a:xfrm>
            <a:off x="2209680" y="1219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5" name=""/>
          <p:cNvGrpSpPr/>
          <p:nvPr/>
        </p:nvGrpSpPr>
        <p:grpSpPr>
          <a:xfrm>
            <a:off x="4952880" y="380880"/>
            <a:ext cx="884160" cy="745920"/>
            <a:chOff x="4952880" y="380880"/>
            <a:chExt cx="884160" cy="745920"/>
          </a:xfrm>
        </p:grpSpPr>
        <p:sp>
          <p:nvSpPr>
            <p:cNvPr id="536" name=""/>
            <p:cNvSpPr/>
            <p:nvPr/>
          </p:nvSpPr>
          <p:spPr>
            <a:xfrm>
              <a:off x="4952880" y="380880"/>
              <a:ext cx="873000" cy="69984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tP</a:t>
              </a:r>
              <a:endParaRPr b="0" lang="en-US" sz="1600" spc="-1" strike="noStrike">
                <a:solidFill>
                  <a:srgbClr val="000000"/>
                </a:solidFill>
                <a:latin typeface="Arial"/>
              </a:endParaRPr>
            </a:p>
          </p:txBody>
        </p:sp>
        <p:sp>
          <p:nvSpPr>
            <p:cNvPr id="538" name=""/>
            <p:cNvSpPr/>
            <p:nvPr/>
          </p:nvSpPr>
          <p:spPr>
            <a:xfrm>
              <a:off x="4988520" y="74628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An</a:t>
              </a:r>
              <a:endParaRPr b="0" lang="en-US" sz="1600" spc="-1" strike="noStrike">
                <a:solidFill>
                  <a:srgbClr val="000000"/>
                </a:solidFill>
                <a:latin typeface="Arial"/>
              </a:endParaRPr>
            </a:p>
          </p:txBody>
        </p:sp>
        <p:sp>
          <p:nvSpPr>
            <p:cNvPr id="539" name=""/>
            <p:cNvSpPr/>
            <p:nvPr/>
          </p:nvSpPr>
          <p:spPr>
            <a:xfrm>
              <a:off x="5395680" y="7894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BA</a:t>
              </a:r>
              <a:endParaRPr b="0" lang="en-US" sz="1600" spc="-1" strike="noStrike">
                <a:solidFill>
                  <a:srgbClr val="000000"/>
                </a:solidFill>
                <a:latin typeface="Arial"/>
              </a:endParaRPr>
            </a:p>
          </p:txBody>
        </p:sp>
        <p:sp>
          <p:nvSpPr>
            <p:cNvPr id="540"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co</a:t>
              </a:r>
              <a:endParaRPr b="0" lang="en-US" sz="1600" spc="-1" strike="noStrike">
                <a:solidFill>
                  <a:srgbClr val="000000"/>
                </a:solidFill>
                <a:latin typeface="Arial"/>
              </a:endParaRPr>
            </a:p>
          </p:txBody>
        </p:sp>
      </p:grpSp>
      <p:sp>
        <p:nvSpPr>
          <p:cNvPr id="541"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ategories</a:t>
            </a:r>
            <a:endParaRPr b="0" lang="en-US" sz="1400" spc="-1" strike="noStrike">
              <a:solidFill>
                <a:srgbClr val="000000"/>
              </a:solidFill>
              <a:latin typeface="Arial"/>
            </a:endParaRPr>
          </a:p>
        </p:txBody>
      </p:sp>
      <p:sp>
        <p:nvSpPr>
          <p:cNvPr id="542"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QoS Req’s</a:t>
            </a:r>
            <a:endParaRPr b="0" lang="en-US" sz="1400" spc="-1" strike="noStrike">
              <a:solidFill>
                <a:srgbClr val="000000"/>
              </a:solidFill>
              <a:latin typeface="Arial"/>
            </a:endParaRPr>
          </a:p>
        </p:txBody>
      </p:sp>
      <p:sp>
        <p:nvSpPr>
          <p:cNvPr id="543"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546"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47"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548"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549"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550"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551" name=""/>
          <p:cNvGrpSpPr/>
          <p:nvPr/>
        </p:nvGrpSpPr>
        <p:grpSpPr>
          <a:xfrm>
            <a:off x="1554120" y="1012680"/>
            <a:ext cx="5052960" cy="4521240"/>
            <a:chOff x="1554120" y="1012680"/>
            <a:chExt cx="5052960" cy="4521240"/>
          </a:xfrm>
        </p:grpSpPr>
        <p:sp>
          <p:nvSpPr>
            <p:cNvPr id="552"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5"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556"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7" name="Group 14"/>
          <p:cNvGrpSpPr/>
          <p:nvPr/>
        </p:nvGrpSpPr>
        <p:grpSpPr>
          <a:xfrm>
            <a:off x="1219320" y="4038480"/>
            <a:ext cx="380520" cy="381240"/>
            <a:chOff x="1219320" y="4038480"/>
            <a:chExt cx="380520" cy="381240"/>
          </a:xfrm>
        </p:grpSpPr>
        <p:sp>
          <p:nvSpPr>
            <p:cNvPr id="558"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0"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562"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564" name=""/>
          <p:cNvGrpSpPr/>
          <p:nvPr/>
        </p:nvGrpSpPr>
        <p:grpSpPr>
          <a:xfrm>
            <a:off x="1219320" y="1752480"/>
            <a:ext cx="532800" cy="457200"/>
            <a:chOff x="1219320" y="1752480"/>
            <a:chExt cx="532800" cy="457200"/>
          </a:xfrm>
        </p:grpSpPr>
        <p:sp>
          <p:nvSpPr>
            <p:cNvPr id="565"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12"/>
            <p:cNvGrpSpPr/>
            <p:nvPr/>
          </p:nvGrpSpPr>
          <p:grpSpPr>
            <a:xfrm>
              <a:off x="1219320" y="1752480"/>
              <a:ext cx="532800" cy="457200"/>
              <a:chOff x="1219320" y="1752480"/>
              <a:chExt cx="532800" cy="457200"/>
            </a:xfrm>
          </p:grpSpPr>
          <p:sp>
            <p:nvSpPr>
              <p:cNvPr id="567"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69"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571"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
          <p:cNvGrpSpPr/>
          <p:nvPr/>
        </p:nvGrpSpPr>
        <p:grpSpPr>
          <a:xfrm>
            <a:off x="1600200" y="1371600"/>
            <a:ext cx="501120" cy="304920"/>
            <a:chOff x="1600200" y="1371600"/>
            <a:chExt cx="501120" cy="304920"/>
          </a:xfrm>
        </p:grpSpPr>
        <p:sp>
          <p:nvSpPr>
            <p:cNvPr id="574"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
          <p:cNvSpPr/>
          <p:nvPr/>
        </p:nvSpPr>
        <p:spPr>
          <a:xfrm>
            <a:off x="2209680" y="1219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9" name=""/>
          <p:cNvGrpSpPr/>
          <p:nvPr/>
        </p:nvGrpSpPr>
        <p:grpSpPr>
          <a:xfrm>
            <a:off x="4952880" y="380880"/>
            <a:ext cx="884160" cy="745920"/>
            <a:chOff x="4952880" y="380880"/>
            <a:chExt cx="884160" cy="745920"/>
          </a:xfrm>
        </p:grpSpPr>
        <p:sp>
          <p:nvSpPr>
            <p:cNvPr id="580" name=""/>
            <p:cNvSpPr/>
            <p:nvPr/>
          </p:nvSpPr>
          <p:spPr>
            <a:xfrm>
              <a:off x="4952880" y="380880"/>
              <a:ext cx="873000" cy="69984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tP</a:t>
              </a:r>
              <a:endParaRPr b="0" lang="en-US" sz="1600" spc="-1" strike="noStrike">
                <a:solidFill>
                  <a:srgbClr val="000000"/>
                </a:solidFill>
                <a:latin typeface="Arial"/>
              </a:endParaRPr>
            </a:p>
          </p:txBody>
        </p:sp>
        <p:sp>
          <p:nvSpPr>
            <p:cNvPr id="582" name=""/>
            <p:cNvSpPr/>
            <p:nvPr/>
          </p:nvSpPr>
          <p:spPr>
            <a:xfrm>
              <a:off x="4988520" y="74628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An</a:t>
              </a:r>
              <a:endParaRPr b="0" lang="en-US" sz="1600" spc="-1" strike="noStrike">
                <a:solidFill>
                  <a:srgbClr val="000000"/>
                </a:solidFill>
                <a:latin typeface="Arial"/>
              </a:endParaRPr>
            </a:p>
          </p:txBody>
        </p:sp>
        <p:sp>
          <p:nvSpPr>
            <p:cNvPr id="583" name=""/>
            <p:cNvSpPr/>
            <p:nvPr/>
          </p:nvSpPr>
          <p:spPr>
            <a:xfrm>
              <a:off x="5395680" y="7894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BA</a:t>
              </a:r>
              <a:endParaRPr b="0" lang="en-US" sz="1600" spc="-1" strike="noStrike">
                <a:solidFill>
                  <a:srgbClr val="000000"/>
                </a:solidFill>
                <a:latin typeface="Arial"/>
              </a:endParaRPr>
            </a:p>
          </p:txBody>
        </p:sp>
        <p:sp>
          <p:nvSpPr>
            <p:cNvPr id="584"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co</a:t>
              </a:r>
              <a:endParaRPr b="0" lang="en-US" sz="1600" spc="-1" strike="noStrike">
                <a:solidFill>
                  <a:srgbClr val="000000"/>
                </a:solidFill>
                <a:latin typeface="Arial"/>
              </a:endParaRPr>
            </a:p>
          </p:txBody>
        </p:sp>
      </p:grpSp>
      <p:sp>
        <p:nvSpPr>
          <p:cNvPr id="585"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ategories</a:t>
            </a:r>
            <a:endParaRPr b="0" lang="en-US" sz="1400" spc="-1" strike="noStrike">
              <a:solidFill>
                <a:srgbClr val="000000"/>
              </a:solidFill>
              <a:latin typeface="Arial"/>
            </a:endParaRPr>
          </a:p>
        </p:txBody>
      </p:sp>
      <p:sp>
        <p:nvSpPr>
          <p:cNvPr id="586"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QoS Req’s</a:t>
            </a:r>
            <a:endParaRPr b="0" lang="en-US" sz="1400" spc="-1" strike="noStrike">
              <a:solidFill>
                <a:srgbClr val="000000"/>
              </a:solidFill>
              <a:latin typeface="Arial"/>
            </a:endParaRPr>
          </a:p>
        </p:txBody>
      </p:sp>
      <p:sp>
        <p:nvSpPr>
          <p:cNvPr id="587"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9" name="Group 101"/>
          <p:cNvGrpSpPr/>
          <p:nvPr/>
        </p:nvGrpSpPr>
        <p:grpSpPr>
          <a:xfrm>
            <a:off x="6553080" y="2362320"/>
            <a:ext cx="304560" cy="518400"/>
            <a:chOff x="6553080" y="2362320"/>
            <a:chExt cx="304560" cy="518400"/>
          </a:xfrm>
        </p:grpSpPr>
        <p:grpSp>
          <p:nvGrpSpPr>
            <p:cNvPr id="590" name="Group 79"/>
            <p:cNvGrpSpPr/>
            <p:nvPr/>
          </p:nvGrpSpPr>
          <p:grpSpPr>
            <a:xfrm>
              <a:off x="6553080" y="2362320"/>
              <a:ext cx="304560" cy="518400"/>
              <a:chOff x="6553080" y="2362320"/>
              <a:chExt cx="304560" cy="518400"/>
            </a:xfrm>
          </p:grpSpPr>
          <p:sp>
            <p:nvSpPr>
              <p:cNvPr id="591"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93"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95"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97"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02"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3"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4"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5"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607"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8"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609"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610"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611"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612" name=""/>
          <p:cNvGrpSpPr/>
          <p:nvPr/>
        </p:nvGrpSpPr>
        <p:grpSpPr>
          <a:xfrm>
            <a:off x="1554120" y="1012680"/>
            <a:ext cx="5052960" cy="4521240"/>
            <a:chOff x="1554120" y="1012680"/>
            <a:chExt cx="5052960" cy="4521240"/>
          </a:xfrm>
        </p:grpSpPr>
        <p:sp>
          <p:nvSpPr>
            <p:cNvPr id="613"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6"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617"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8" name="Group 14"/>
          <p:cNvGrpSpPr/>
          <p:nvPr/>
        </p:nvGrpSpPr>
        <p:grpSpPr>
          <a:xfrm>
            <a:off x="1219320" y="4038480"/>
            <a:ext cx="380520" cy="381240"/>
            <a:chOff x="1219320" y="4038480"/>
            <a:chExt cx="380520" cy="381240"/>
          </a:xfrm>
        </p:grpSpPr>
        <p:sp>
          <p:nvSpPr>
            <p:cNvPr id="619"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1"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623"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625" name=""/>
          <p:cNvGrpSpPr/>
          <p:nvPr/>
        </p:nvGrpSpPr>
        <p:grpSpPr>
          <a:xfrm>
            <a:off x="1219320" y="1752480"/>
            <a:ext cx="532800" cy="457200"/>
            <a:chOff x="1219320" y="1752480"/>
            <a:chExt cx="532800" cy="457200"/>
          </a:xfrm>
        </p:grpSpPr>
        <p:sp>
          <p:nvSpPr>
            <p:cNvPr id="626"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7" name="Group 12"/>
            <p:cNvGrpSpPr/>
            <p:nvPr/>
          </p:nvGrpSpPr>
          <p:grpSpPr>
            <a:xfrm>
              <a:off x="1219320" y="1752480"/>
              <a:ext cx="532800" cy="457200"/>
              <a:chOff x="1219320" y="1752480"/>
              <a:chExt cx="532800" cy="457200"/>
            </a:xfrm>
          </p:grpSpPr>
          <p:sp>
            <p:nvSpPr>
              <p:cNvPr id="628"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30"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632"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4" name=""/>
          <p:cNvGrpSpPr/>
          <p:nvPr/>
        </p:nvGrpSpPr>
        <p:grpSpPr>
          <a:xfrm>
            <a:off x="1600200" y="1371600"/>
            <a:ext cx="501120" cy="304920"/>
            <a:chOff x="1600200" y="1371600"/>
            <a:chExt cx="501120" cy="304920"/>
          </a:xfrm>
        </p:grpSpPr>
        <p:sp>
          <p:nvSpPr>
            <p:cNvPr id="635"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
          <p:cNvSpPr/>
          <p:nvPr/>
        </p:nvSpPr>
        <p:spPr>
          <a:xfrm>
            <a:off x="2209680" y="1219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0" name=""/>
          <p:cNvGrpSpPr/>
          <p:nvPr/>
        </p:nvGrpSpPr>
        <p:grpSpPr>
          <a:xfrm>
            <a:off x="4952880" y="380880"/>
            <a:ext cx="884160" cy="745920"/>
            <a:chOff x="4952880" y="380880"/>
            <a:chExt cx="884160" cy="745920"/>
          </a:xfrm>
        </p:grpSpPr>
        <p:sp>
          <p:nvSpPr>
            <p:cNvPr id="641" name=""/>
            <p:cNvSpPr/>
            <p:nvPr/>
          </p:nvSpPr>
          <p:spPr>
            <a:xfrm>
              <a:off x="4952880" y="380880"/>
              <a:ext cx="873000" cy="69984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tP</a:t>
              </a:r>
              <a:endParaRPr b="0" lang="en-US" sz="1600" spc="-1" strike="noStrike">
                <a:solidFill>
                  <a:srgbClr val="000000"/>
                </a:solidFill>
                <a:latin typeface="Arial"/>
              </a:endParaRPr>
            </a:p>
          </p:txBody>
        </p:sp>
        <p:sp>
          <p:nvSpPr>
            <p:cNvPr id="643" name=""/>
            <p:cNvSpPr/>
            <p:nvPr/>
          </p:nvSpPr>
          <p:spPr>
            <a:xfrm>
              <a:off x="4988520" y="74628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An</a:t>
              </a:r>
              <a:endParaRPr b="0" lang="en-US" sz="1600" spc="-1" strike="noStrike">
                <a:solidFill>
                  <a:srgbClr val="000000"/>
                </a:solidFill>
                <a:latin typeface="Arial"/>
              </a:endParaRPr>
            </a:p>
          </p:txBody>
        </p:sp>
        <p:sp>
          <p:nvSpPr>
            <p:cNvPr id="644" name=""/>
            <p:cNvSpPr/>
            <p:nvPr/>
          </p:nvSpPr>
          <p:spPr>
            <a:xfrm>
              <a:off x="5395680" y="7894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BA</a:t>
              </a:r>
              <a:endParaRPr b="0" lang="en-US" sz="1600" spc="-1" strike="noStrike">
                <a:solidFill>
                  <a:srgbClr val="000000"/>
                </a:solidFill>
                <a:latin typeface="Arial"/>
              </a:endParaRPr>
            </a:p>
          </p:txBody>
        </p:sp>
        <p:sp>
          <p:nvSpPr>
            <p:cNvPr id="645"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co</a:t>
              </a:r>
              <a:endParaRPr b="0" lang="en-US" sz="1600" spc="-1" strike="noStrike">
                <a:solidFill>
                  <a:srgbClr val="000000"/>
                </a:solidFill>
                <a:latin typeface="Arial"/>
              </a:endParaRPr>
            </a:p>
          </p:txBody>
        </p:sp>
      </p:grpSp>
      <p:sp>
        <p:nvSpPr>
          <p:cNvPr id="646"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ategories</a:t>
            </a:r>
            <a:endParaRPr b="0" lang="en-US" sz="1400" spc="-1" strike="noStrike">
              <a:solidFill>
                <a:srgbClr val="000000"/>
              </a:solidFill>
              <a:latin typeface="Arial"/>
            </a:endParaRPr>
          </a:p>
        </p:txBody>
      </p:sp>
      <p:sp>
        <p:nvSpPr>
          <p:cNvPr id="647"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QoS Req’s</a:t>
            </a:r>
            <a:endParaRPr b="0" lang="en-US" sz="1400" spc="-1" strike="noStrike">
              <a:solidFill>
                <a:srgbClr val="000000"/>
              </a:solidFill>
              <a:latin typeface="Arial"/>
            </a:endParaRPr>
          </a:p>
        </p:txBody>
      </p:sp>
      <p:sp>
        <p:nvSpPr>
          <p:cNvPr id="648"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0" name="Group 101"/>
          <p:cNvGrpSpPr/>
          <p:nvPr/>
        </p:nvGrpSpPr>
        <p:grpSpPr>
          <a:xfrm>
            <a:off x="6553080" y="2362320"/>
            <a:ext cx="304560" cy="518400"/>
            <a:chOff x="6553080" y="2362320"/>
            <a:chExt cx="304560" cy="518400"/>
          </a:xfrm>
        </p:grpSpPr>
        <p:grpSp>
          <p:nvGrpSpPr>
            <p:cNvPr id="651" name="Group 79"/>
            <p:cNvGrpSpPr/>
            <p:nvPr/>
          </p:nvGrpSpPr>
          <p:grpSpPr>
            <a:xfrm>
              <a:off x="6553080" y="2362320"/>
              <a:ext cx="304560" cy="518400"/>
              <a:chOff x="6553080" y="2362320"/>
              <a:chExt cx="304560" cy="518400"/>
            </a:xfrm>
          </p:grpSpPr>
          <p:sp>
            <p:nvSpPr>
              <p:cNvPr id="652"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54"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56"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58"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63"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64"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65"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6"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7"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Scal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669"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0"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671"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672"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673"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674" name=""/>
          <p:cNvGrpSpPr/>
          <p:nvPr/>
        </p:nvGrpSpPr>
        <p:grpSpPr>
          <a:xfrm>
            <a:off x="1554120" y="1012680"/>
            <a:ext cx="5052960" cy="4521240"/>
            <a:chOff x="1554120" y="1012680"/>
            <a:chExt cx="5052960" cy="4521240"/>
          </a:xfrm>
        </p:grpSpPr>
        <p:sp>
          <p:nvSpPr>
            <p:cNvPr id="675"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8"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679"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0" name="Group 14"/>
          <p:cNvGrpSpPr/>
          <p:nvPr/>
        </p:nvGrpSpPr>
        <p:grpSpPr>
          <a:xfrm>
            <a:off x="1219320" y="4038480"/>
            <a:ext cx="380520" cy="381240"/>
            <a:chOff x="1219320" y="4038480"/>
            <a:chExt cx="380520" cy="381240"/>
          </a:xfrm>
        </p:grpSpPr>
        <p:sp>
          <p:nvSpPr>
            <p:cNvPr id="681"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3"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685"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687" name=""/>
          <p:cNvGrpSpPr/>
          <p:nvPr/>
        </p:nvGrpSpPr>
        <p:grpSpPr>
          <a:xfrm>
            <a:off x="1219320" y="1752480"/>
            <a:ext cx="532800" cy="457200"/>
            <a:chOff x="1219320" y="1752480"/>
            <a:chExt cx="532800" cy="457200"/>
          </a:xfrm>
        </p:grpSpPr>
        <p:sp>
          <p:nvSpPr>
            <p:cNvPr id="688"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9" name="Group 12"/>
            <p:cNvGrpSpPr/>
            <p:nvPr/>
          </p:nvGrpSpPr>
          <p:grpSpPr>
            <a:xfrm>
              <a:off x="1219320" y="1752480"/>
              <a:ext cx="532800" cy="457200"/>
              <a:chOff x="1219320" y="1752480"/>
              <a:chExt cx="532800" cy="457200"/>
            </a:xfrm>
          </p:grpSpPr>
          <p:sp>
            <p:nvSpPr>
              <p:cNvPr id="690"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92"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694"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6" name=""/>
          <p:cNvGrpSpPr/>
          <p:nvPr/>
        </p:nvGrpSpPr>
        <p:grpSpPr>
          <a:xfrm>
            <a:off x="1600200" y="1371600"/>
            <a:ext cx="501120" cy="304920"/>
            <a:chOff x="1600200" y="1371600"/>
            <a:chExt cx="501120" cy="304920"/>
          </a:xfrm>
        </p:grpSpPr>
        <p:sp>
          <p:nvSpPr>
            <p:cNvPr id="697"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0" name=""/>
          <p:cNvSpPr/>
          <p:nvPr/>
        </p:nvSpPr>
        <p:spPr>
          <a:xfrm>
            <a:off x="2209680" y="1219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
          <p:cNvGrpSpPr/>
          <p:nvPr/>
        </p:nvGrpSpPr>
        <p:grpSpPr>
          <a:xfrm>
            <a:off x="4952880" y="380880"/>
            <a:ext cx="884160" cy="745920"/>
            <a:chOff x="4952880" y="380880"/>
            <a:chExt cx="884160" cy="745920"/>
          </a:xfrm>
        </p:grpSpPr>
        <p:sp>
          <p:nvSpPr>
            <p:cNvPr id="703" name=""/>
            <p:cNvSpPr/>
            <p:nvPr/>
          </p:nvSpPr>
          <p:spPr>
            <a:xfrm>
              <a:off x="4952880" y="380880"/>
              <a:ext cx="873000" cy="69984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tP</a:t>
              </a:r>
              <a:endParaRPr b="0" lang="en-US" sz="1600" spc="-1" strike="noStrike">
                <a:solidFill>
                  <a:srgbClr val="000000"/>
                </a:solidFill>
                <a:latin typeface="Arial"/>
              </a:endParaRPr>
            </a:p>
          </p:txBody>
        </p:sp>
        <p:sp>
          <p:nvSpPr>
            <p:cNvPr id="705" name=""/>
            <p:cNvSpPr/>
            <p:nvPr/>
          </p:nvSpPr>
          <p:spPr>
            <a:xfrm>
              <a:off x="4988520" y="74628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An</a:t>
              </a:r>
              <a:endParaRPr b="0" lang="en-US" sz="1600" spc="-1" strike="noStrike">
                <a:solidFill>
                  <a:srgbClr val="000000"/>
                </a:solidFill>
                <a:latin typeface="Arial"/>
              </a:endParaRPr>
            </a:p>
          </p:txBody>
        </p:sp>
        <p:sp>
          <p:nvSpPr>
            <p:cNvPr id="706" name=""/>
            <p:cNvSpPr/>
            <p:nvPr/>
          </p:nvSpPr>
          <p:spPr>
            <a:xfrm>
              <a:off x="5395680" y="7894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BA</a:t>
              </a:r>
              <a:endParaRPr b="0" lang="en-US" sz="1600" spc="-1" strike="noStrike">
                <a:solidFill>
                  <a:srgbClr val="000000"/>
                </a:solidFill>
                <a:latin typeface="Arial"/>
              </a:endParaRPr>
            </a:p>
          </p:txBody>
        </p:sp>
        <p:sp>
          <p:nvSpPr>
            <p:cNvPr id="707"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co</a:t>
              </a:r>
              <a:endParaRPr b="0" lang="en-US" sz="1600" spc="-1" strike="noStrike">
                <a:solidFill>
                  <a:srgbClr val="000000"/>
                </a:solidFill>
                <a:latin typeface="Arial"/>
              </a:endParaRPr>
            </a:p>
          </p:txBody>
        </p:sp>
      </p:grpSp>
      <p:sp>
        <p:nvSpPr>
          <p:cNvPr id="708"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ategories</a:t>
            </a:r>
            <a:endParaRPr b="0" lang="en-US" sz="1400" spc="-1" strike="noStrike">
              <a:solidFill>
                <a:srgbClr val="000000"/>
              </a:solidFill>
              <a:latin typeface="Arial"/>
            </a:endParaRPr>
          </a:p>
        </p:txBody>
      </p:sp>
      <p:sp>
        <p:nvSpPr>
          <p:cNvPr id="709"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QoS Req’s</a:t>
            </a:r>
            <a:endParaRPr b="0" lang="en-US" sz="1400" spc="-1" strike="noStrike">
              <a:solidFill>
                <a:srgbClr val="000000"/>
              </a:solidFill>
              <a:latin typeface="Arial"/>
            </a:endParaRPr>
          </a:p>
        </p:txBody>
      </p:sp>
      <p:sp>
        <p:nvSpPr>
          <p:cNvPr id="710"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2" name="Group 101"/>
          <p:cNvGrpSpPr/>
          <p:nvPr/>
        </p:nvGrpSpPr>
        <p:grpSpPr>
          <a:xfrm>
            <a:off x="6553080" y="2362320"/>
            <a:ext cx="304560" cy="518400"/>
            <a:chOff x="6553080" y="2362320"/>
            <a:chExt cx="304560" cy="518400"/>
          </a:xfrm>
        </p:grpSpPr>
        <p:grpSp>
          <p:nvGrpSpPr>
            <p:cNvPr id="713" name="Group 79"/>
            <p:cNvGrpSpPr/>
            <p:nvPr/>
          </p:nvGrpSpPr>
          <p:grpSpPr>
            <a:xfrm>
              <a:off x="6553080" y="2362320"/>
              <a:ext cx="304560" cy="518400"/>
              <a:chOff x="6553080" y="2362320"/>
              <a:chExt cx="304560" cy="518400"/>
            </a:xfrm>
          </p:grpSpPr>
          <p:sp>
            <p:nvSpPr>
              <p:cNvPr id="714"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16"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718"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20"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725"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26"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27"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8"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9"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Scalability</a:t>
            </a:r>
            <a:endParaRPr b="0" lang="en-US" sz="1400" spc="-1" strike="noStrike">
              <a:solidFill>
                <a:srgbClr val="000000"/>
              </a:solidFill>
              <a:latin typeface="Arial"/>
            </a:endParaRPr>
          </a:p>
        </p:txBody>
      </p:sp>
      <p:sp>
        <p:nvSpPr>
          <p:cNvPr id="730"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732"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33"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734"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735"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736"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737" name=""/>
          <p:cNvGrpSpPr/>
          <p:nvPr/>
        </p:nvGrpSpPr>
        <p:grpSpPr>
          <a:xfrm>
            <a:off x="1554120" y="1012680"/>
            <a:ext cx="5052960" cy="4521240"/>
            <a:chOff x="1554120" y="1012680"/>
            <a:chExt cx="5052960" cy="4521240"/>
          </a:xfrm>
        </p:grpSpPr>
        <p:sp>
          <p:nvSpPr>
            <p:cNvPr id="738"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1"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742"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3" name="Group 14"/>
          <p:cNvGrpSpPr/>
          <p:nvPr/>
        </p:nvGrpSpPr>
        <p:grpSpPr>
          <a:xfrm>
            <a:off x="1219320" y="4038480"/>
            <a:ext cx="380520" cy="381240"/>
            <a:chOff x="1219320" y="4038480"/>
            <a:chExt cx="380520" cy="381240"/>
          </a:xfrm>
        </p:grpSpPr>
        <p:sp>
          <p:nvSpPr>
            <p:cNvPr id="744"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6"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748"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750" name=""/>
          <p:cNvGrpSpPr/>
          <p:nvPr/>
        </p:nvGrpSpPr>
        <p:grpSpPr>
          <a:xfrm>
            <a:off x="1219320" y="1752480"/>
            <a:ext cx="532800" cy="457200"/>
            <a:chOff x="1219320" y="1752480"/>
            <a:chExt cx="532800" cy="457200"/>
          </a:xfrm>
        </p:grpSpPr>
        <p:sp>
          <p:nvSpPr>
            <p:cNvPr id="751"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2" name="Group 12"/>
            <p:cNvGrpSpPr/>
            <p:nvPr/>
          </p:nvGrpSpPr>
          <p:grpSpPr>
            <a:xfrm>
              <a:off x="1219320" y="1752480"/>
              <a:ext cx="532800" cy="457200"/>
              <a:chOff x="1219320" y="1752480"/>
              <a:chExt cx="532800" cy="457200"/>
            </a:xfrm>
          </p:grpSpPr>
          <p:sp>
            <p:nvSpPr>
              <p:cNvPr id="753"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55"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757"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9" name=""/>
          <p:cNvGrpSpPr/>
          <p:nvPr/>
        </p:nvGrpSpPr>
        <p:grpSpPr>
          <a:xfrm>
            <a:off x="1600200" y="1371600"/>
            <a:ext cx="501120" cy="304920"/>
            <a:chOff x="1600200" y="1371600"/>
            <a:chExt cx="501120" cy="304920"/>
          </a:xfrm>
        </p:grpSpPr>
        <p:sp>
          <p:nvSpPr>
            <p:cNvPr id="760"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3" name=""/>
          <p:cNvSpPr/>
          <p:nvPr/>
        </p:nvSpPr>
        <p:spPr>
          <a:xfrm>
            <a:off x="2209680" y="1219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5" name=""/>
          <p:cNvGrpSpPr/>
          <p:nvPr/>
        </p:nvGrpSpPr>
        <p:grpSpPr>
          <a:xfrm>
            <a:off x="4952880" y="380880"/>
            <a:ext cx="884160" cy="745920"/>
            <a:chOff x="4952880" y="380880"/>
            <a:chExt cx="884160" cy="745920"/>
          </a:xfrm>
        </p:grpSpPr>
        <p:sp>
          <p:nvSpPr>
            <p:cNvPr id="766" name=""/>
            <p:cNvSpPr/>
            <p:nvPr/>
          </p:nvSpPr>
          <p:spPr>
            <a:xfrm>
              <a:off x="4952880" y="380880"/>
              <a:ext cx="873000" cy="69984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tP</a:t>
              </a:r>
              <a:endParaRPr b="0" lang="en-US" sz="1600" spc="-1" strike="noStrike">
                <a:solidFill>
                  <a:srgbClr val="000000"/>
                </a:solidFill>
                <a:latin typeface="Arial"/>
              </a:endParaRPr>
            </a:p>
          </p:txBody>
        </p:sp>
        <p:sp>
          <p:nvSpPr>
            <p:cNvPr id="768" name=""/>
            <p:cNvSpPr/>
            <p:nvPr/>
          </p:nvSpPr>
          <p:spPr>
            <a:xfrm>
              <a:off x="4988520" y="74628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An</a:t>
              </a:r>
              <a:endParaRPr b="0" lang="en-US" sz="1600" spc="-1" strike="noStrike">
                <a:solidFill>
                  <a:srgbClr val="000000"/>
                </a:solidFill>
                <a:latin typeface="Arial"/>
              </a:endParaRPr>
            </a:p>
          </p:txBody>
        </p:sp>
        <p:sp>
          <p:nvSpPr>
            <p:cNvPr id="769" name=""/>
            <p:cNvSpPr/>
            <p:nvPr/>
          </p:nvSpPr>
          <p:spPr>
            <a:xfrm>
              <a:off x="5395680" y="7894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BA</a:t>
              </a:r>
              <a:endParaRPr b="0" lang="en-US" sz="1600" spc="-1" strike="noStrike">
                <a:solidFill>
                  <a:srgbClr val="000000"/>
                </a:solidFill>
                <a:latin typeface="Arial"/>
              </a:endParaRPr>
            </a:p>
          </p:txBody>
        </p:sp>
        <p:sp>
          <p:nvSpPr>
            <p:cNvPr id="770"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co</a:t>
              </a:r>
              <a:endParaRPr b="0" lang="en-US" sz="1600" spc="-1" strike="noStrike">
                <a:solidFill>
                  <a:srgbClr val="000000"/>
                </a:solidFill>
                <a:latin typeface="Arial"/>
              </a:endParaRPr>
            </a:p>
          </p:txBody>
        </p:sp>
      </p:grpSp>
      <p:sp>
        <p:nvSpPr>
          <p:cNvPr id="771"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ategories</a:t>
            </a:r>
            <a:endParaRPr b="0" lang="en-US" sz="1400" spc="-1" strike="noStrike">
              <a:solidFill>
                <a:srgbClr val="000000"/>
              </a:solidFill>
              <a:latin typeface="Arial"/>
            </a:endParaRPr>
          </a:p>
        </p:txBody>
      </p:sp>
      <p:sp>
        <p:nvSpPr>
          <p:cNvPr id="772"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QoS Req’s</a:t>
            </a:r>
            <a:endParaRPr b="0" lang="en-US" sz="1400" spc="-1" strike="noStrike">
              <a:solidFill>
                <a:srgbClr val="000000"/>
              </a:solidFill>
              <a:latin typeface="Arial"/>
            </a:endParaRPr>
          </a:p>
        </p:txBody>
      </p:sp>
      <p:sp>
        <p:nvSpPr>
          <p:cNvPr id="773"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Group 101"/>
          <p:cNvGrpSpPr/>
          <p:nvPr/>
        </p:nvGrpSpPr>
        <p:grpSpPr>
          <a:xfrm>
            <a:off x="6553080" y="2362320"/>
            <a:ext cx="304560" cy="518400"/>
            <a:chOff x="6553080" y="2362320"/>
            <a:chExt cx="304560" cy="518400"/>
          </a:xfrm>
        </p:grpSpPr>
        <p:grpSp>
          <p:nvGrpSpPr>
            <p:cNvPr id="776" name="Group 79"/>
            <p:cNvGrpSpPr/>
            <p:nvPr/>
          </p:nvGrpSpPr>
          <p:grpSpPr>
            <a:xfrm>
              <a:off x="6553080" y="2362320"/>
              <a:ext cx="304560" cy="518400"/>
              <a:chOff x="6553080" y="2362320"/>
              <a:chExt cx="304560" cy="518400"/>
            </a:xfrm>
          </p:grpSpPr>
          <p:sp>
            <p:nvSpPr>
              <p:cNvPr id="777"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79"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781"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83"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788"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89"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90"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1"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2"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Scalability</a:t>
            </a:r>
            <a:endParaRPr b="0" lang="en-US" sz="1400" spc="-1" strike="noStrike">
              <a:solidFill>
                <a:srgbClr val="000000"/>
              </a:solidFill>
              <a:latin typeface="Arial"/>
            </a:endParaRPr>
          </a:p>
        </p:txBody>
      </p:sp>
      <p:sp>
        <p:nvSpPr>
          <p:cNvPr id="793"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4" name="Group 14"/>
          <p:cNvGrpSpPr/>
          <p:nvPr/>
        </p:nvGrpSpPr>
        <p:grpSpPr>
          <a:xfrm>
            <a:off x="6629400" y="3962520"/>
            <a:ext cx="380520" cy="380880"/>
            <a:chOff x="6629400" y="3962520"/>
            <a:chExt cx="380520" cy="380880"/>
          </a:xfrm>
        </p:grpSpPr>
        <p:sp>
          <p:nvSpPr>
            <p:cNvPr id="795"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7"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799"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0"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801"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802"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803"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804" name=""/>
          <p:cNvGrpSpPr/>
          <p:nvPr/>
        </p:nvGrpSpPr>
        <p:grpSpPr>
          <a:xfrm>
            <a:off x="1554120" y="1012680"/>
            <a:ext cx="5052960" cy="4521240"/>
            <a:chOff x="1554120" y="1012680"/>
            <a:chExt cx="5052960" cy="4521240"/>
          </a:xfrm>
        </p:grpSpPr>
        <p:sp>
          <p:nvSpPr>
            <p:cNvPr id="805"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8"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809"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0" name="Group 14"/>
          <p:cNvGrpSpPr/>
          <p:nvPr/>
        </p:nvGrpSpPr>
        <p:grpSpPr>
          <a:xfrm>
            <a:off x="1219320" y="4038480"/>
            <a:ext cx="380520" cy="381240"/>
            <a:chOff x="1219320" y="4038480"/>
            <a:chExt cx="380520" cy="381240"/>
          </a:xfrm>
        </p:grpSpPr>
        <p:sp>
          <p:nvSpPr>
            <p:cNvPr id="811"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3"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815"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817" name=""/>
          <p:cNvGrpSpPr/>
          <p:nvPr/>
        </p:nvGrpSpPr>
        <p:grpSpPr>
          <a:xfrm>
            <a:off x="1219320" y="1752480"/>
            <a:ext cx="532800" cy="457200"/>
            <a:chOff x="1219320" y="1752480"/>
            <a:chExt cx="532800" cy="457200"/>
          </a:xfrm>
        </p:grpSpPr>
        <p:sp>
          <p:nvSpPr>
            <p:cNvPr id="818"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9" name="Group 12"/>
            <p:cNvGrpSpPr/>
            <p:nvPr/>
          </p:nvGrpSpPr>
          <p:grpSpPr>
            <a:xfrm>
              <a:off x="1219320" y="1752480"/>
              <a:ext cx="532800" cy="457200"/>
              <a:chOff x="1219320" y="1752480"/>
              <a:chExt cx="532800" cy="457200"/>
            </a:xfrm>
          </p:grpSpPr>
          <p:sp>
            <p:nvSpPr>
              <p:cNvPr id="820"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22"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824"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1600200" y="1371600"/>
            <a:ext cx="501120" cy="304920"/>
            <a:chOff x="1600200" y="1371600"/>
            <a:chExt cx="501120" cy="304920"/>
          </a:xfrm>
        </p:grpSpPr>
        <p:sp>
          <p:nvSpPr>
            <p:cNvPr id="827"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p:cNvSpPr/>
          <p:nvPr/>
        </p:nvSpPr>
        <p:spPr>
          <a:xfrm>
            <a:off x="2209680" y="1219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2" name=""/>
          <p:cNvGrpSpPr/>
          <p:nvPr/>
        </p:nvGrpSpPr>
        <p:grpSpPr>
          <a:xfrm>
            <a:off x="4952880" y="380880"/>
            <a:ext cx="884160" cy="745920"/>
            <a:chOff x="4952880" y="380880"/>
            <a:chExt cx="884160" cy="745920"/>
          </a:xfrm>
        </p:grpSpPr>
        <p:sp>
          <p:nvSpPr>
            <p:cNvPr id="833" name=""/>
            <p:cNvSpPr/>
            <p:nvPr/>
          </p:nvSpPr>
          <p:spPr>
            <a:xfrm>
              <a:off x="4952880" y="380880"/>
              <a:ext cx="873000" cy="69984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tP</a:t>
              </a:r>
              <a:endParaRPr b="0" lang="en-US" sz="1600" spc="-1" strike="noStrike">
                <a:solidFill>
                  <a:srgbClr val="000000"/>
                </a:solidFill>
                <a:latin typeface="Arial"/>
              </a:endParaRPr>
            </a:p>
          </p:txBody>
        </p:sp>
        <p:sp>
          <p:nvSpPr>
            <p:cNvPr id="835" name=""/>
            <p:cNvSpPr/>
            <p:nvPr/>
          </p:nvSpPr>
          <p:spPr>
            <a:xfrm>
              <a:off x="4988520" y="74628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An</a:t>
              </a:r>
              <a:endParaRPr b="0" lang="en-US" sz="1600" spc="-1" strike="noStrike">
                <a:solidFill>
                  <a:srgbClr val="000000"/>
                </a:solidFill>
                <a:latin typeface="Arial"/>
              </a:endParaRPr>
            </a:p>
          </p:txBody>
        </p:sp>
        <p:sp>
          <p:nvSpPr>
            <p:cNvPr id="836" name=""/>
            <p:cNvSpPr/>
            <p:nvPr/>
          </p:nvSpPr>
          <p:spPr>
            <a:xfrm>
              <a:off x="5395680" y="7894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BA</a:t>
              </a:r>
              <a:endParaRPr b="0" lang="en-US" sz="1600" spc="-1" strike="noStrike">
                <a:solidFill>
                  <a:srgbClr val="000000"/>
                </a:solidFill>
                <a:latin typeface="Arial"/>
              </a:endParaRPr>
            </a:p>
          </p:txBody>
        </p:sp>
        <p:sp>
          <p:nvSpPr>
            <p:cNvPr id="837"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hiteboard"/>
                </a:rPr>
                <a:t>co</a:t>
              </a:r>
              <a:endParaRPr b="0" lang="en-US" sz="1600" spc="-1" strike="noStrike">
                <a:solidFill>
                  <a:srgbClr val="000000"/>
                </a:solidFill>
                <a:latin typeface="Arial"/>
              </a:endParaRPr>
            </a:p>
          </p:txBody>
        </p:sp>
      </p:grpSp>
      <p:sp>
        <p:nvSpPr>
          <p:cNvPr id="838"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ategories</a:t>
            </a:r>
            <a:endParaRPr b="0" lang="en-US" sz="1400" spc="-1" strike="noStrike">
              <a:solidFill>
                <a:srgbClr val="000000"/>
              </a:solidFill>
              <a:latin typeface="Arial"/>
            </a:endParaRPr>
          </a:p>
        </p:txBody>
      </p:sp>
      <p:sp>
        <p:nvSpPr>
          <p:cNvPr id="839"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QoS Req’s</a:t>
            </a:r>
            <a:endParaRPr b="0" lang="en-US" sz="1400" spc="-1" strike="noStrike">
              <a:solidFill>
                <a:srgbClr val="000000"/>
              </a:solidFill>
              <a:latin typeface="Arial"/>
            </a:endParaRPr>
          </a:p>
        </p:txBody>
      </p:sp>
      <p:sp>
        <p:nvSpPr>
          <p:cNvPr id="840"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2" name="Group 101"/>
          <p:cNvGrpSpPr/>
          <p:nvPr/>
        </p:nvGrpSpPr>
        <p:grpSpPr>
          <a:xfrm>
            <a:off x="6553080" y="2362320"/>
            <a:ext cx="304560" cy="518400"/>
            <a:chOff x="6553080" y="2362320"/>
            <a:chExt cx="304560" cy="518400"/>
          </a:xfrm>
        </p:grpSpPr>
        <p:grpSp>
          <p:nvGrpSpPr>
            <p:cNvPr id="843" name="Group 79"/>
            <p:cNvGrpSpPr/>
            <p:nvPr/>
          </p:nvGrpSpPr>
          <p:grpSpPr>
            <a:xfrm>
              <a:off x="6553080" y="2362320"/>
              <a:ext cx="304560" cy="518400"/>
              <a:chOff x="6553080" y="2362320"/>
              <a:chExt cx="304560" cy="518400"/>
            </a:xfrm>
          </p:grpSpPr>
          <p:sp>
            <p:nvSpPr>
              <p:cNvPr id="844"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46"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48"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50"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55"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56"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57"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8"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9"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Scalability</a:t>
            </a:r>
            <a:endParaRPr b="0" lang="en-US" sz="1400" spc="-1" strike="noStrike">
              <a:solidFill>
                <a:srgbClr val="000000"/>
              </a:solidFill>
              <a:latin typeface="Arial"/>
            </a:endParaRPr>
          </a:p>
        </p:txBody>
      </p:sp>
      <p:sp>
        <p:nvSpPr>
          <p:cNvPr id="860"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1" name="Group 14"/>
          <p:cNvGrpSpPr/>
          <p:nvPr/>
        </p:nvGrpSpPr>
        <p:grpSpPr>
          <a:xfrm>
            <a:off x="6629400" y="3962520"/>
            <a:ext cx="380520" cy="380880"/>
            <a:chOff x="6629400" y="3962520"/>
            <a:chExt cx="380520" cy="380880"/>
          </a:xfrm>
        </p:grpSpPr>
        <p:sp>
          <p:nvSpPr>
            <p:cNvPr id="862"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4"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Whiteboard"/>
              </a:rPr>
              <a:t>Systems Selection</a:t>
            </a:r>
            <a:endParaRPr b="0" lang="en-US" sz="1400" spc="-1" strike="noStrike">
              <a:solidFill>
                <a:srgbClr val="000000"/>
              </a:solidFill>
              <a:latin typeface="Arial"/>
            </a:endParaRPr>
          </a:p>
        </p:txBody>
      </p:sp>
      <p:sp>
        <p:nvSpPr>
          <p:cNvPr id="55"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333399"/>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867"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8"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869"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870"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871"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hiteboard"/>
              </a:rPr>
              <a:t>Costs</a:t>
            </a:r>
            <a:endParaRPr b="0" lang="en-US" sz="1400" spc="-1" strike="noStrike">
              <a:solidFill>
                <a:srgbClr val="000000"/>
              </a:solidFill>
              <a:latin typeface="Arial"/>
            </a:endParaRPr>
          </a:p>
        </p:txBody>
      </p:sp>
      <p:grpSp>
        <p:nvGrpSpPr>
          <p:cNvPr id="872" name=""/>
          <p:cNvGrpSpPr/>
          <p:nvPr/>
        </p:nvGrpSpPr>
        <p:grpSpPr>
          <a:xfrm>
            <a:off x="1523880" y="990720"/>
            <a:ext cx="5052960" cy="4521240"/>
            <a:chOff x="1523880" y="990720"/>
            <a:chExt cx="5052960" cy="4521240"/>
          </a:xfrm>
        </p:grpSpPr>
        <p:sp>
          <p:nvSpPr>
            <p:cNvPr id="873" name=""/>
            <p:cNvSpPr/>
            <p:nvPr/>
          </p:nvSpPr>
          <p:spPr>
            <a:xfrm>
              <a:off x="1523880" y="990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2027160" y="4702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62360" y="1087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6"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877"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8" name="Group 14"/>
          <p:cNvGrpSpPr/>
          <p:nvPr/>
        </p:nvGrpSpPr>
        <p:grpSpPr>
          <a:xfrm>
            <a:off x="1219320" y="4038480"/>
            <a:ext cx="380520" cy="381240"/>
            <a:chOff x="1219320" y="4038480"/>
            <a:chExt cx="380520" cy="381240"/>
          </a:xfrm>
        </p:grpSpPr>
        <p:sp>
          <p:nvSpPr>
            <p:cNvPr id="879"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1"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883"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885" name=""/>
          <p:cNvGrpSpPr/>
          <p:nvPr/>
        </p:nvGrpSpPr>
        <p:grpSpPr>
          <a:xfrm>
            <a:off x="1219320" y="1752480"/>
            <a:ext cx="532800" cy="457200"/>
            <a:chOff x="1219320" y="1752480"/>
            <a:chExt cx="532800" cy="457200"/>
          </a:xfrm>
        </p:grpSpPr>
        <p:sp>
          <p:nvSpPr>
            <p:cNvPr id="886"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7" name="Group 12"/>
            <p:cNvGrpSpPr/>
            <p:nvPr/>
          </p:nvGrpSpPr>
          <p:grpSpPr>
            <a:xfrm>
              <a:off x="1219320" y="1752480"/>
              <a:ext cx="532800" cy="457200"/>
              <a:chOff x="1219320" y="1752480"/>
              <a:chExt cx="532800" cy="457200"/>
            </a:xfrm>
          </p:grpSpPr>
          <p:sp>
            <p:nvSpPr>
              <p:cNvPr id="888"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90"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892"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4" name=""/>
          <p:cNvGrpSpPr/>
          <p:nvPr/>
        </p:nvGrpSpPr>
        <p:grpSpPr>
          <a:xfrm>
            <a:off x="1600200" y="1371600"/>
            <a:ext cx="501120" cy="304920"/>
            <a:chOff x="1600200" y="1371600"/>
            <a:chExt cx="501120" cy="304920"/>
          </a:xfrm>
        </p:grpSpPr>
        <p:sp>
          <p:nvSpPr>
            <p:cNvPr id="895"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8" name=""/>
          <p:cNvSpPr/>
          <p:nvPr/>
        </p:nvSpPr>
        <p:spPr>
          <a:xfrm>
            <a:off x="2209680" y="1219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0" name=""/>
          <p:cNvGrpSpPr/>
          <p:nvPr/>
        </p:nvGrpSpPr>
        <p:grpSpPr>
          <a:xfrm>
            <a:off x="4952880" y="380880"/>
            <a:ext cx="888840" cy="747000"/>
            <a:chOff x="4952880" y="380880"/>
            <a:chExt cx="888840" cy="747000"/>
          </a:xfrm>
        </p:grpSpPr>
        <p:sp>
          <p:nvSpPr>
            <p:cNvPr id="901"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903"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904"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905"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906"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907"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908"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0" name="Group 101"/>
          <p:cNvGrpSpPr/>
          <p:nvPr/>
        </p:nvGrpSpPr>
        <p:grpSpPr>
          <a:xfrm>
            <a:off x="6553080" y="2362320"/>
            <a:ext cx="304560" cy="518400"/>
            <a:chOff x="6553080" y="2362320"/>
            <a:chExt cx="304560" cy="518400"/>
          </a:xfrm>
        </p:grpSpPr>
        <p:grpSp>
          <p:nvGrpSpPr>
            <p:cNvPr id="911" name="Group 79"/>
            <p:cNvGrpSpPr/>
            <p:nvPr/>
          </p:nvGrpSpPr>
          <p:grpSpPr>
            <a:xfrm>
              <a:off x="6553080" y="2362320"/>
              <a:ext cx="304560" cy="518400"/>
              <a:chOff x="6553080" y="2362320"/>
              <a:chExt cx="304560" cy="518400"/>
            </a:xfrm>
          </p:grpSpPr>
          <p:sp>
            <p:nvSpPr>
              <p:cNvPr id="912"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14"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16"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18"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23"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924"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25"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6"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7"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928"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9" name="Group 14"/>
          <p:cNvGrpSpPr/>
          <p:nvPr/>
        </p:nvGrpSpPr>
        <p:grpSpPr>
          <a:xfrm>
            <a:off x="6629400" y="3962520"/>
            <a:ext cx="380520" cy="380880"/>
            <a:chOff x="6629400" y="3962520"/>
            <a:chExt cx="380520" cy="380880"/>
          </a:xfrm>
        </p:grpSpPr>
        <p:sp>
          <p:nvSpPr>
            <p:cNvPr id="930"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2"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3520080" y="4724280"/>
            <a:ext cx="506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936"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37"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938"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939"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940"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hiteboard"/>
              </a:rPr>
              <a:t>Costs</a:t>
            </a:r>
            <a:endParaRPr b="0" lang="en-US" sz="1400" spc="-1" strike="noStrike">
              <a:solidFill>
                <a:srgbClr val="000000"/>
              </a:solidFill>
              <a:latin typeface="Arial"/>
            </a:endParaRPr>
          </a:p>
        </p:txBody>
      </p:sp>
      <p:grpSp>
        <p:nvGrpSpPr>
          <p:cNvPr id="941" name=""/>
          <p:cNvGrpSpPr/>
          <p:nvPr/>
        </p:nvGrpSpPr>
        <p:grpSpPr>
          <a:xfrm>
            <a:off x="1523880" y="990720"/>
            <a:ext cx="5052960" cy="4521240"/>
            <a:chOff x="1523880" y="990720"/>
            <a:chExt cx="5052960" cy="4521240"/>
          </a:xfrm>
        </p:grpSpPr>
        <p:sp>
          <p:nvSpPr>
            <p:cNvPr id="942" name=""/>
            <p:cNvSpPr/>
            <p:nvPr/>
          </p:nvSpPr>
          <p:spPr>
            <a:xfrm>
              <a:off x="1523880" y="990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2027160" y="4702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3762360" y="1087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5"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946"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7" name="Group 14"/>
          <p:cNvGrpSpPr/>
          <p:nvPr/>
        </p:nvGrpSpPr>
        <p:grpSpPr>
          <a:xfrm>
            <a:off x="1219320" y="4038480"/>
            <a:ext cx="380520" cy="381240"/>
            <a:chOff x="1219320" y="4038480"/>
            <a:chExt cx="380520" cy="381240"/>
          </a:xfrm>
        </p:grpSpPr>
        <p:sp>
          <p:nvSpPr>
            <p:cNvPr id="948"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0"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952"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954" name=""/>
          <p:cNvGrpSpPr/>
          <p:nvPr/>
        </p:nvGrpSpPr>
        <p:grpSpPr>
          <a:xfrm>
            <a:off x="1219320" y="1752480"/>
            <a:ext cx="532800" cy="457200"/>
            <a:chOff x="1219320" y="1752480"/>
            <a:chExt cx="532800" cy="457200"/>
          </a:xfrm>
        </p:grpSpPr>
        <p:sp>
          <p:nvSpPr>
            <p:cNvPr id="955"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6" name="Group 12"/>
            <p:cNvGrpSpPr/>
            <p:nvPr/>
          </p:nvGrpSpPr>
          <p:grpSpPr>
            <a:xfrm>
              <a:off x="1219320" y="1752480"/>
              <a:ext cx="532800" cy="457200"/>
              <a:chOff x="1219320" y="1752480"/>
              <a:chExt cx="532800" cy="457200"/>
            </a:xfrm>
          </p:grpSpPr>
          <p:sp>
            <p:nvSpPr>
              <p:cNvPr id="957"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959"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961"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3" name=""/>
          <p:cNvGrpSpPr/>
          <p:nvPr/>
        </p:nvGrpSpPr>
        <p:grpSpPr>
          <a:xfrm>
            <a:off x="1600200" y="1371600"/>
            <a:ext cx="501120" cy="304920"/>
            <a:chOff x="1600200" y="1371600"/>
            <a:chExt cx="501120" cy="304920"/>
          </a:xfrm>
        </p:grpSpPr>
        <p:sp>
          <p:nvSpPr>
            <p:cNvPr id="964"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7" name=""/>
          <p:cNvSpPr/>
          <p:nvPr/>
        </p:nvSpPr>
        <p:spPr>
          <a:xfrm>
            <a:off x="2209680" y="1219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9" name=""/>
          <p:cNvGrpSpPr/>
          <p:nvPr/>
        </p:nvGrpSpPr>
        <p:grpSpPr>
          <a:xfrm>
            <a:off x="4952880" y="380880"/>
            <a:ext cx="888840" cy="747000"/>
            <a:chOff x="4952880" y="380880"/>
            <a:chExt cx="888840" cy="747000"/>
          </a:xfrm>
        </p:grpSpPr>
        <p:sp>
          <p:nvSpPr>
            <p:cNvPr id="970"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972"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973"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974"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975"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976"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977"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9" name="Group 101"/>
          <p:cNvGrpSpPr/>
          <p:nvPr/>
        </p:nvGrpSpPr>
        <p:grpSpPr>
          <a:xfrm>
            <a:off x="6553080" y="2362320"/>
            <a:ext cx="304560" cy="518400"/>
            <a:chOff x="6553080" y="2362320"/>
            <a:chExt cx="304560" cy="518400"/>
          </a:xfrm>
        </p:grpSpPr>
        <p:grpSp>
          <p:nvGrpSpPr>
            <p:cNvPr id="980" name="Group 79"/>
            <p:cNvGrpSpPr/>
            <p:nvPr/>
          </p:nvGrpSpPr>
          <p:grpSpPr>
            <a:xfrm>
              <a:off x="6553080" y="2362320"/>
              <a:ext cx="304560" cy="518400"/>
              <a:chOff x="6553080" y="2362320"/>
              <a:chExt cx="304560" cy="518400"/>
            </a:xfrm>
          </p:grpSpPr>
          <p:sp>
            <p:nvSpPr>
              <p:cNvPr id="981"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83"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85"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87"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92"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993"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94"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5"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6"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997"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8" name="Group 14"/>
          <p:cNvGrpSpPr/>
          <p:nvPr/>
        </p:nvGrpSpPr>
        <p:grpSpPr>
          <a:xfrm>
            <a:off x="6629400" y="3962520"/>
            <a:ext cx="380520" cy="380880"/>
            <a:chOff x="6629400" y="3962520"/>
            <a:chExt cx="380520" cy="380880"/>
          </a:xfrm>
        </p:grpSpPr>
        <p:sp>
          <p:nvSpPr>
            <p:cNvPr id="999"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1"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3507840" y="4724280"/>
            <a:ext cx="5313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005"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06"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007"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008"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009"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hiteboard"/>
              </a:rPr>
              <a:t>Costs</a:t>
            </a:r>
            <a:endParaRPr b="0" lang="en-US" sz="1400" spc="-1" strike="noStrike">
              <a:solidFill>
                <a:srgbClr val="000000"/>
              </a:solidFill>
              <a:latin typeface="Arial"/>
            </a:endParaRPr>
          </a:p>
        </p:txBody>
      </p:sp>
      <p:grpSp>
        <p:nvGrpSpPr>
          <p:cNvPr id="1010" name=""/>
          <p:cNvGrpSpPr/>
          <p:nvPr/>
        </p:nvGrpSpPr>
        <p:grpSpPr>
          <a:xfrm>
            <a:off x="1523880" y="990720"/>
            <a:ext cx="5052960" cy="4521240"/>
            <a:chOff x="1523880" y="990720"/>
            <a:chExt cx="5052960" cy="4521240"/>
          </a:xfrm>
        </p:grpSpPr>
        <p:sp>
          <p:nvSpPr>
            <p:cNvPr id="1011" name=""/>
            <p:cNvSpPr/>
            <p:nvPr/>
          </p:nvSpPr>
          <p:spPr>
            <a:xfrm>
              <a:off x="1523880" y="990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2027160" y="4702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3762360" y="1087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4"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1015"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6" name="Group 14"/>
          <p:cNvGrpSpPr/>
          <p:nvPr/>
        </p:nvGrpSpPr>
        <p:grpSpPr>
          <a:xfrm>
            <a:off x="1219320" y="4038480"/>
            <a:ext cx="380520" cy="381240"/>
            <a:chOff x="1219320" y="4038480"/>
            <a:chExt cx="380520" cy="381240"/>
          </a:xfrm>
        </p:grpSpPr>
        <p:sp>
          <p:nvSpPr>
            <p:cNvPr id="1017"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9"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1021"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1023" name=""/>
          <p:cNvGrpSpPr/>
          <p:nvPr/>
        </p:nvGrpSpPr>
        <p:grpSpPr>
          <a:xfrm>
            <a:off x="1219320" y="1752480"/>
            <a:ext cx="532800" cy="457200"/>
            <a:chOff x="1219320" y="1752480"/>
            <a:chExt cx="532800" cy="457200"/>
          </a:xfrm>
        </p:grpSpPr>
        <p:sp>
          <p:nvSpPr>
            <p:cNvPr id="1024"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5" name="Group 12"/>
            <p:cNvGrpSpPr/>
            <p:nvPr/>
          </p:nvGrpSpPr>
          <p:grpSpPr>
            <a:xfrm>
              <a:off x="1219320" y="1752480"/>
              <a:ext cx="532800" cy="457200"/>
              <a:chOff x="1219320" y="1752480"/>
              <a:chExt cx="532800" cy="457200"/>
            </a:xfrm>
          </p:grpSpPr>
          <p:sp>
            <p:nvSpPr>
              <p:cNvPr id="1026"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28"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1030"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2" name=""/>
          <p:cNvGrpSpPr/>
          <p:nvPr/>
        </p:nvGrpSpPr>
        <p:grpSpPr>
          <a:xfrm>
            <a:off x="1600200" y="1371600"/>
            <a:ext cx="501120" cy="304920"/>
            <a:chOff x="1600200" y="1371600"/>
            <a:chExt cx="501120" cy="304920"/>
          </a:xfrm>
        </p:grpSpPr>
        <p:sp>
          <p:nvSpPr>
            <p:cNvPr id="1033"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6" name=""/>
          <p:cNvSpPr/>
          <p:nvPr/>
        </p:nvSpPr>
        <p:spPr>
          <a:xfrm>
            <a:off x="2209680" y="1219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8" name=""/>
          <p:cNvGrpSpPr/>
          <p:nvPr/>
        </p:nvGrpSpPr>
        <p:grpSpPr>
          <a:xfrm>
            <a:off x="4952880" y="380880"/>
            <a:ext cx="888840" cy="747000"/>
            <a:chOff x="4952880" y="380880"/>
            <a:chExt cx="888840" cy="747000"/>
          </a:xfrm>
        </p:grpSpPr>
        <p:sp>
          <p:nvSpPr>
            <p:cNvPr id="1039"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1041"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1042"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1043"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1044"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1045"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1046"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8" name="Group 101"/>
          <p:cNvGrpSpPr/>
          <p:nvPr/>
        </p:nvGrpSpPr>
        <p:grpSpPr>
          <a:xfrm>
            <a:off x="6553080" y="2362320"/>
            <a:ext cx="304560" cy="518400"/>
            <a:chOff x="6553080" y="2362320"/>
            <a:chExt cx="304560" cy="518400"/>
          </a:xfrm>
        </p:grpSpPr>
        <p:grpSp>
          <p:nvGrpSpPr>
            <p:cNvPr id="1049" name="Group 79"/>
            <p:cNvGrpSpPr/>
            <p:nvPr/>
          </p:nvGrpSpPr>
          <p:grpSpPr>
            <a:xfrm>
              <a:off x="6553080" y="2362320"/>
              <a:ext cx="304560" cy="518400"/>
              <a:chOff x="6553080" y="2362320"/>
              <a:chExt cx="304560" cy="518400"/>
            </a:xfrm>
          </p:grpSpPr>
          <p:sp>
            <p:nvSpPr>
              <p:cNvPr id="1050"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52"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54"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56"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61"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062"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3"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4"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5"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1066"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7" name="Group 14"/>
          <p:cNvGrpSpPr/>
          <p:nvPr/>
        </p:nvGrpSpPr>
        <p:grpSpPr>
          <a:xfrm>
            <a:off x="6629400" y="3962520"/>
            <a:ext cx="380520" cy="380880"/>
            <a:chOff x="6629400" y="3962520"/>
            <a:chExt cx="380520" cy="380880"/>
          </a:xfrm>
        </p:grpSpPr>
        <p:sp>
          <p:nvSpPr>
            <p:cNvPr id="1068"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0"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Fund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074"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5"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076"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077"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078"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hiteboard"/>
              </a:rPr>
              <a:t>Costs</a:t>
            </a:r>
            <a:endParaRPr b="0" lang="en-US" sz="1400" spc="-1" strike="noStrike">
              <a:solidFill>
                <a:srgbClr val="000000"/>
              </a:solidFill>
              <a:latin typeface="Arial"/>
            </a:endParaRPr>
          </a:p>
        </p:txBody>
      </p:sp>
      <p:grpSp>
        <p:nvGrpSpPr>
          <p:cNvPr id="1079" name=""/>
          <p:cNvGrpSpPr/>
          <p:nvPr/>
        </p:nvGrpSpPr>
        <p:grpSpPr>
          <a:xfrm>
            <a:off x="1523880" y="990720"/>
            <a:ext cx="5052960" cy="4521240"/>
            <a:chOff x="1523880" y="990720"/>
            <a:chExt cx="5052960" cy="4521240"/>
          </a:xfrm>
        </p:grpSpPr>
        <p:sp>
          <p:nvSpPr>
            <p:cNvPr id="1080" name=""/>
            <p:cNvSpPr/>
            <p:nvPr/>
          </p:nvSpPr>
          <p:spPr>
            <a:xfrm>
              <a:off x="1523880" y="990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27160" y="4702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3762360" y="1087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3"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1084" name="Ink 5"/>
          <p:cNvSpPr/>
          <p:nvPr/>
        </p:nvSpPr>
        <p:spPr>
          <a:xfrm>
            <a:off x="1295280" y="3581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5" name="Group 14"/>
          <p:cNvGrpSpPr/>
          <p:nvPr/>
        </p:nvGrpSpPr>
        <p:grpSpPr>
          <a:xfrm>
            <a:off x="1219320" y="4038480"/>
            <a:ext cx="380520" cy="381240"/>
            <a:chOff x="1219320" y="4038480"/>
            <a:chExt cx="380520" cy="381240"/>
          </a:xfrm>
        </p:grpSpPr>
        <p:sp>
          <p:nvSpPr>
            <p:cNvPr id="1086" name="Ink 15"/>
            <p:cNvSpPr/>
            <p:nvPr/>
          </p:nvSpPr>
          <p:spPr>
            <a:xfrm>
              <a:off x="1219320" y="4038480"/>
              <a:ext cx="37008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Ink 16"/>
            <p:cNvSpPr/>
            <p:nvPr/>
          </p:nvSpPr>
          <p:spPr>
            <a:xfrm>
              <a:off x="1271160" y="41770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8" name=""/>
          <p:cNvSpPr/>
          <p:nvPr/>
        </p:nvSpPr>
        <p:spPr>
          <a:xfrm>
            <a:off x="1295280" y="4495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1090" name="Ink 61"/>
          <p:cNvSpPr/>
          <p:nvPr/>
        </p:nvSpPr>
        <p:spPr>
          <a:xfrm>
            <a:off x="838080" y="2819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1092" name=""/>
          <p:cNvGrpSpPr/>
          <p:nvPr/>
        </p:nvGrpSpPr>
        <p:grpSpPr>
          <a:xfrm>
            <a:off x="1219320" y="1752480"/>
            <a:ext cx="532800" cy="457200"/>
            <a:chOff x="1219320" y="1752480"/>
            <a:chExt cx="532800" cy="457200"/>
          </a:xfrm>
        </p:grpSpPr>
        <p:sp>
          <p:nvSpPr>
            <p:cNvPr id="1093" name=""/>
            <p:cNvSpPr/>
            <p:nvPr/>
          </p:nvSpPr>
          <p:spPr>
            <a:xfrm>
              <a:off x="143244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4" name="Group 12"/>
            <p:cNvGrpSpPr/>
            <p:nvPr/>
          </p:nvGrpSpPr>
          <p:grpSpPr>
            <a:xfrm>
              <a:off x="1219320" y="1752480"/>
              <a:ext cx="532800" cy="457200"/>
              <a:chOff x="1219320" y="1752480"/>
              <a:chExt cx="532800" cy="457200"/>
            </a:xfrm>
          </p:grpSpPr>
          <p:sp>
            <p:nvSpPr>
              <p:cNvPr id="1095" name="Ink 13"/>
              <p:cNvSpPr/>
              <p:nvPr/>
            </p:nvSpPr>
            <p:spPr>
              <a:xfrm>
                <a:off x="1219320" y="1769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Ink 14"/>
              <p:cNvSpPr/>
              <p:nvPr/>
            </p:nvSpPr>
            <p:spPr>
              <a:xfrm>
                <a:off x="1232280" y="17524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97" name="Ink 15"/>
              <p:cNvSpPr/>
              <p:nvPr/>
            </p:nvSpPr>
            <p:spPr>
              <a:xfrm>
                <a:off x="1738440" y="1769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Ink 16"/>
              <p:cNvSpPr/>
              <p:nvPr/>
            </p:nvSpPr>
            <p:spPr>
              <a:xfrm>
                <a:off x="1244880" y="21970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1099" name=""/>
            <p:cNvSpPr/>
            <p:nvPr/>
          </p:nvSpPr>
          <p:spPr>
            <a:xfrm>
              <a:off x="159228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1272600" y="1866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1" name=""/>
          <p:cNvGrpSpPr/>
          <p:nvPr/>
        </p:nvGrpSpPr>
        <p:grpSpPr>
          <a:xfrm>
            <a:off x="1600200" y="1371600"/>
            <a:ext cx="501120" cy="304920"/>
            <a:chOff x="1600200" y="1371600"/>
            <a:chExt cx="501120" cy="304920"/>
          </a:xfrm>
        </p:grpSpPr>
        <p:sp>
          <p:nvSpPr>
            <p:cNvPr id="1102" name=""/>
            <p:cNvSpPr/>
            <p:nvPr/>
          </p:nvSpPr>
          <p:spPr>
            <a:xfrm>
              <a:off x="177516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195048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1600200" y="1371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5" name=""/>
          <p:cNvSpPr/>
          <p:nvPr/>
        </p:nvSpPr>
        <p:spPr>
          <a:xfrm>
            <a:off x="2209680" y="1219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7" name=""/>
          <p:cNvGrpSpPr/>
          <p:nvPr/>
        </p:nvGrpSpPr>
        <p:grpSpPr>
          <a:xfrm>
            <a:off x="4952880" y="380880"/>
            <a:ext cx="888840" cy="747000"/>
            <a:chOff x="4952880" y="380880"/>
            <a:chExt cx="888840" cy="747000"/>
          </a:xfrm>
        </p:grpSpPr>
        <p:sp>
          <p:nvSpPr>
            <p:cNvPr id="1108"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1110"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1111"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1112"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1113"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1114"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1115"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7" name="Group 101"/>
          <p:cNvGrpSpPr/>
          <p:nvPr/>
        </p:nvGrpSpPr>
        <p:grpSpPr>
          <a:xfrm>
            <a:off x="6553080" y="2362320"/>
            <a:ext cx="304560" cy="518400"/>
            <a:chOff x="6553080" y="2362320"/>
            <a:chExt cx="304560" cy="518400"/>
          </a:xfrm>
        </p:grpSpPr>
        <p:grpSp>
          <p:nvGrpSpPr>
            <p:cNvPr id="1118" name="Group 79"/>
            <p:cNvGrpSpPr/>
            <p:nvPr/>
          </p:nvGrpSpPr>
          <p:grpSpPr>
            <a:xfrm>
              <a:off x="6553080" y="2362320"/>
              <a:ext cx="304560" cy="518400"/>
              <a:chOff x="6553080" y="2362320"/>
              <a:chExt cx="304560" cy="518400"/>
            </a:xfrm>
          </p:grpSpPr>
          <p:sp>
            <p:nvSpPr>
              <p:cNvPr id="1119"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21"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23"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25"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30"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31"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2"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3"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4"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1135"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6" name="Group 14"/>
          <p:cNvGrpSpPr/>
          <p:nvPr/>
        </p:nvGrpSpPr>
        <p:grpSpPr>
          <a:xfrm>
            <a:off x="6629400" y="3962520"/>
            <a:ext cx="380520" cy="380880"/>
            <a:chOff x="6629400" y="3962520"/>
            <a:chExt cx="380520" cy="380880"/>
          </a:xfrm>
        </p:grpSpPr>
        <p:sp>
          <p:nvSpPr>
            <p:cNvPr id="1137"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9"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Funding</a:t>
            </a:r>
            <a:endParaRPr b="0" lang="en-US" sz="1400" spc="-1" strike="noStrike">
              <a:solidFill>
                <a:srgbClr val="000000"/>
              </a:solidFill>
              <a:latin typeface="Arial"/>
            </a:endParaRPr>
          </a:p>
        </p:txBody>
      </p:sp>
      <p:sp>
        <p:nvSpPr>
          <p:cNvPr id="1142"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144" name=""/>
          <p:cNvSpPr/>
          <p:nvPr/>
        </p:nvSpPr>
        <p:spPr>
          <a:xfrm>
            <a:off x="411120" y="609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45"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146"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147"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148"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149" name=""/>
          <p:cNvGrpSpPr/>
          <p:nvPr/>
        </p:nvGrpSpPr>
        <p:grpSpPr>
          <a:xfrm>
            <a:off x="1576440" y="963720"/>
            <a:ext cx="5052960" cy="4521240"/>
            <a:chOff x="1576440" y="963720"/>
            <a:chExt cx="5052960" cy="4521240"/>
          </a:xfrm>
        </p:grpSpPr>
        <p:sp>
          <p:nvSpPr>
            <p:cNvPr id="1150" name=""/>
            <p:cNvSpPr/>
            <p:nvPr/>
          </p:nvSpPr>
          <p:spPr>
            <a:xfrm>
              <a:off x="1576440" y="963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2079720" y="4675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3814920" y="1060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3"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1154" name="Ink 5"/>
          <p:cNvSpPr/>
          <p:nvPr/>
        </p:nvSpPr>
        <p:spPr>
          <a:xfrm>
            <a:off x="1325520" y="3554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5" name="Group 14"/>
          <p:cNvGrpSpPr/>
          <p:nvPr/>
        </p:nvGrpSpPr>
        <p:grpSpPr>
          <a:xfrm>
            <a:off x="1249200" y="4011480"/>
            <a:ext cx="381240" cy="381240"/>
            <a:chOff x="1249200" y="4011480"/>
            <a:chExt cx="381240" cy="381240"/>
          </a:xfrm>
        </p:grpSpPr>
        <p:sp>
          <p:nvSpPr>
            <p:cNvPr id="1156" name="Ink 15"/>
            <p:cNvSpPr/>
            <p:nvPr/>
          </p:nvSpPr>
          <p:spPr>
            <a:xfrm>
              <a:off x="1249200" y="4011480"/>
              <a:ext cx="37044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Ink 16"/>
            <p:cNvSpPr/>
            <p:nvPr/>
          </p:nvSpPr>
          <p:spPr>
            <a:xfrm>
              <a:off x="1301400" y="4150080"/>
              <a:ext cx="32904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8" name=""/>
          <p:cNvSpPr/>
          <p:nvPr/>
        </p:nvSpPr>
        <p:spPr>
          <a:xfrm>
            <a:off x="1325520" y="4468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1160" name="Ink 61"/>
          <p:cNvSpPr/>
          <p:nvPr/>
        </p:nvSpPr>
        <p:spPr>
          <a:xfrm>
            <a:off x="868320" y="2792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1162" name=""/>
          <p:cNvGrpSpPr/>
          <p:nvPr/>
        </p:nvGrpSpPr>
        <p:grpSpPr>
          <a:xfrm>
            <a:off x="1249200" y="1725480"/>
            <a:ext cx="533160" cy="457200"/>
            <a:chOff x="1249200" y="1725480"/>
            <a:chExt cx="533160" cy="457200"/>
          </a:xfrm>
        </p:grpSpPr>
        <p:sp>
          <p:nvSpPr>
            <p:cNvPr id="1163" name=""/>
            <p:cNvSpPr/>
            <p:nvPr/>
          </p:nvSpPr>
          <p:spPr>
            <a:xfrm>
              <a:off x="14626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4" name="Group 12"/>
            <p:cNvGrpSpPr/>
            <p:nvPr/>
          </p:nvGrpSpPr>
          <p:grpSpPr>
            <a:xfrm>
              <a:off x="1249200" y="1725480"/>
              <a:ext cx="533160" cy="457200"/>
              <a:chOff x="1249200" y="1725480"/>
              <a:chExt cx="533160" cy="457200"/>
            </a:xfrm>
          </p:grpSpPr>
          <p:sp>
            <p:nvSpPr>
              <p:cNvPr id="1165" name="Ink 13"/>
              <p:cNvSpPr/>
              <p:nvPr/>
            </p:nvSpPr>
            <p:spPr>
              <a:xfrm>
                <a:off x="1249200" y="1742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Ink 14"/>
              <p:cNvSpPr/>
              <p:nvPr/>
            </p:nvSpPr>
            <p:spPr>
              <a:xfrm>
                <a:off x="1262160" y="1725480"/>
                <a:ext cx="51624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67" name="Ink 15"/>
              <p:cNvSpPr/>
              <p:nvPr/>
            </p:nvSpPr>
            <p:spPr>
              <a:xfrm>
                <a:off x="1768680" y="1742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Ink 16"/>
              <p:cNvSpPr/>
              <p:nvPr/>
            </p:nvSpPr>
            <p:spPr>
              <a:xfrm>
                <a:off x="1274760" y="2170080"/>
                <a:ext cx="50760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1169" name=""/>
            <p:cNvSpPr/>
            <p:nvPr/>
          </p:nvSpPr>
          <p:spPr>
            <a:xfrm>
              <a:off x="162252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3024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1" name=""/>
          <p:cNvGrpSpPr/>
          <p:nvPr/>
        </p:nvGrpSpPr>
        <p:grpSpPr>
          <a:xfrm>
            <a:off x="1630440" y="1344600"/>
            <a:ext cx="501120" cy="304920"/>
            <a:chOff x="1630440" y="1344600"/>
            <a:chExt cx="501120" cy="304920"/>
          </a:xfrm>
        </p:grpSpPr>
        <p:sp>
          <p:nvSpPr>
            <p:cNvPr id="1172" name=""/>
            <p:cNvSpPr/>
            <p:nvPr/>
          </p:nvSpPr>
          <p:spPr>
            <a:xfrm>
              <a:off x="180540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198072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163044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2239920" y="1192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7" name=""/>
          <p:cNvGrpSpPr/>
          <p:nvPr/>
        </p:nvGrpSpPr>
        <p:grpSpPr>
          <a:xfrm>
            <a:off x="4952880" y="380880"/>
            <a:ext cx="888840" cy="747000"/>
            <a:chOff x="4952880" y="380880"/>
            <a:chExt cx="888840" cy="747000"/>
          </a:xfrm>
        </p:grpSpPr>
        <p:sp>
          <p:nvSpPr>
            <p:cNvPr id="1178"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1180"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1181"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1182"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1183"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1184"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1185"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7" name="Group 101"/>
          <p:cNvGrpSpPr/>
          <p:nvPr/>
        </p:nvGrpSpPr>
        <p:grpSpPr>
          <a:xfrm>
            <a:off x="6553080" y="2362320"/>
            <a:ext cx="304560" cy="518400"/>
            <a:chOff x="6553080" y="2362320"/>
            <a:chExt cx="304560" cy="518400"/>
          </a:xfrm>
        </p:grpSpPr>
        <p:grpSp>
          <p:nvGrpSpPr>
            <p:cNvPr id="1188" name="Group 79"/>
            <p:cNvGrpSpPr/>
            <p:nvPr/>
          </p:nvGrpSpPr>
          <p:grpSpPr>
            <a:xfrm>
              <a:off x="6553080" y="2362320"/>
              <a:ext cx="304560" cy="518400"/>
              <a:chOff x="6553080" y="2362320"/>
              <a:chExt cx="304560" cy="518400"/>
            </a:xfrm>
          </p:grpSpPr>
          <p:sp>
            <p:nvSpPr>
              <p:cNvPr id="1189"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91"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93"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95"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00"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201"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2"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4"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1205"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6" name="Group 14"/>
          <p:cNvGrpSpPr/>
          <p:nvPr/>
        </p:nvGrpSpPr>
        <p:grpSpPr>
          <a:xfrm>
            <a:off x="6629400" y="3962520"/>
            <a:ext cx="380520" cy="380880"/>
            <a:chOff x="6629400" y="3962520"/>
            <a:chExt cx="380520" cy="380880"/>
          </a:xfrm>
        </p:grpSpPr>
        <p:sp>
          <p:nvSpPr>
            <p:cNvPr id="1207"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9"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1212"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3505320" y="1371600"/>
            <a:ext cx="307800" cy="45720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215" name=""/>
          <p:cNvSpPr/>
          <p:nvPr/>
        </p:nvSpPr>
        <p:spPr>
          <a:xfrm>
            <a:off x="411120" y="609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6"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217"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218"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219"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220" name=""/>
          <p:cNvGrpSpPr/>
          <p:nvPr/>
        </p:nvGrpSpPr>
        <p:grpSpPr>
          <a:xfrm>
            <a:off x="1576440" y="963720"/>
            <a:ext cx="5052960" cy="4521240"/>
            <a:chOff x="1576440" y="963720"/>
            <a:chExt cx="5052960" cy="4521240"/>
          </a:xfrm>
        </p:grpSpPr>
        <p:sp>
          <p:nvSpPr>
            <p:cNvPr id="1221" name=""/>
            <p:cNvSpPr/>
            <p:nvPr/>
          </p:nvSpPr>
          <p:spPr>
            <a:xfrm>
              <a:off x="1576440" y="963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2079720" y="4675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3814920" y="1060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4"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1225" name="Ink 5"/>
          <p:cNvSpPr/>
          <p:nvPr/>
        </p:nvSpPr>
        <p:spPr>
          <a:xfrm>
            <a:off x="1325520" y="3554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6" name="Group 14"/>
          <p:cNvGrpSpPr/>
          <p:nvPr/>
        </p:nvGrpSpPr>
        <p:grpSpPr>
          <a:xfrm>
            <a:off x="1249200" y="4011480"/>
            <a:ext cx="381240" cy="381240"/>
            <a:chOff x="1249200" y="4011480"/>
            <a:chExt cx="381240" cy="381240"/>
          </a:xfrm>
        </p:grpSpPr>
        <p:sp>
          <p:nvSpPr>
            <p:cNvPr id="1227" name="Ink 15"/>
            <p:cNvSpPr/>
            <p:nvPr/>
          </p:nvSpPr>
          <p:spPr>
            <a:xfrm>
              <a:off x="1249200" y="4011480"/>
              <a:ext cx="37044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Ink 16"/>
            <p:cNvSpPr/>
            <p:nvPr/>
          </p:nvSpPr>
          <p:spPr>
            <a:xfrm>
              <a:off x="1301400" y="4150080"/>
              <a:ext cx="32904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1325520" y="4468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1231" name="Ink 61"/>
          <p:cNvSpPr/>
          <p:nvPr/>
        </p:nvSpPr>
        <p:spPr>
          <a:xfrm>
            <a:off x="868320" y="2792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1233" name=""/>
          <p:cNvGrpSpPr/>
          <p:nvPr/>
        </p:nvGrpSpPr>
        <p:grpSpPr>
          <a:xfrm>
            <a:off x="1249200" y="1725480"/>
            <a:ext cx="533160" cy="457200"/>
            <a:chOff x="1249200" y="1725480"/>
            <a:chExt cx="533160" cy="457200"/>
          </a:xfrm>
        </p:grpSpPr>
        <p:sp>
          <p:nvSpPr>
            <p:cNvPr id="1234" name=""/>
            <p:cNvSpPr/>
            <p:nvPr/>
          </p:nvSpPr>
          <p:spPr>
            <a:xfrm>
              <a:off x="14626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5" name="Group 12"/>
            <p:cNvGrpSpPr/>
            <p:nvPr/>
          </p:nvGrpSpPr>
          <p:grpSpPr>
            <a:xfrm>
              <a:off x="1249200" y="1725480"/>
              <a:ext cx="533160" cy="457200"/>
              <a:chOff x="1249200" y="1725480"/>
              <a:chExt cx="533160" cy="457200"/>
            </a:xfrm>
          </p:grpSpPr>
          <p:sp>
            <p:nvSpPr>
              <p:cNvPr id="1236" name="Ink 13"/>
              <p:cNvSpPr/>
              <p:nvPr/>
            </p:nvSpPr>
            <p:spPr>
              <a:xfrm>
                <a:off x="1249200" y="1742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Ink 14"/>
              <p:cNvSpPr/>
              <p:nvPr/>
            </p:nvSpPr>
            <p:spPr>
              <a:xfrm>
                <a:off x="1262160" y="1725480"/>
                <a:ext cx="51624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238" name="Ink 15"/>
              <p:cNvSpPr/>
              <p:nvPr/>
            </p:nvSpPr>
            <p:spPr>
              <a:xfrm>
                <a:off x="1768680" y="1742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Ink 16"/>
              <p:cNvSpPr/>
              <p:nvPr/>
            </p:nvSpPr>
            <p:spPr>
              <a:xfrm>
                <a:off x="1274760" y="2170080"/>
                <a:ext cx="50760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1240" name=""/>
            <p:cNvSpPr/>
            <p:nvPr/>
          </p:nvSpPr>
          <p:spPr>
            <a:xfrm>
              <a:off x="162252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13024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2" name=""/>
          <p:cNvGrpSpPr/>
          <p:nvPr/>
        </p:nvGrpSpPr>
        <p:grpSpPr>
          <a:xfrm>
            <a:off x="1630440" y="1344600"/>
            <a:ext cx="501120" cy="304920"/>
            <a:chOff x="1630440" y="1344600"/>
            <a:chExt cx="501120" cy="304920"/>
          </a:xfrm>
        </p:grpSpPr>
        <p:sp>
          <p:nvSpPr>
            <p:cNvPr id="1243" name=""/>
            <p:cNvSpPr/>
            <p:nvPr/>
          </p:nvSpPr>
          <p:spPr>
            <a:xfrm>
              <a:off x="180540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198072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163044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6" name=""/>
          <p:cNvSpPr/>
          <p:nvPr/>
        </p:nvSpPr>
        <p:spPr>
          <a:xfrm>
            <a:off x="2239920" y="1192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8" name=""/>
          <p:cNvGrpSpPr/>
          <p:nvPr/>
        </p:nvGrpSpPr>
        <p:grpSpPr>
          <a:xfrm>
            <a:off x="4952880" y="380880"/>
            <a:ext cx="888840" cy="747000"/>
            <a:chOff x="4952880" y="380880"/>
            <a:chExt cx="888840" cy="747000"/>
          </a:xfrm>
        </p:grpSpPr>
        <p:sp>
          <p:nvSpPr>
            <p:cNvPr id="1249"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1251"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1252"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1253"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1254"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1255"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1256"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8" name="Group 101"/>
          <p:cNvGrpSpPr/>
          <p:nvPr/>
        </p:nvGrpSpPr>
        <p:grpSpPr>
          <a:xfrm>
            <a:off x="6553080" y="2362320"/>
            <a:ext cx="304560" cy="518400"/>
            <a:chOff x="6553080" y="2362320"/>
            <a:chExt cx="304560" cy="518400"/>
          </a:xfrm>
        </p:grpSpPr>
        <p:grpSp>
          <p:nvGrpSpPr>
            <p:cNvPr id="1259" name="Group 79"/>
            <p:cNvGrpSpPr/>
            <p:nvPr/>
          </p:nvGrpSpPr>
          <p:grpSpPr>
            <a:xfrm>
              <a:off x="6553080" y="2362320"/>
              <a:ext cx="304560" cy="518400"/>
              <a:chOff x="6553080" y="2362320"/>
              <a:chExt cx="304560" cy="518400"/>
            </a:xfrm>
          </p:grpSpPr>
          <p:sp>
            <p:nvSpPr>
              <p:cNvPr id="1260"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262"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64"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66"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71"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272"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73"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4"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5"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1276"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7" name="Group 14"/>
          <p:cNvGrpSpPr/>
          <p:nvPr/>
        </p:nvGrpSpPr>
        <p:grpSpPr>
          <a:xfrm>
            <a:off x="6629400" y="3962520"/>
            <a:ext cx="380520" cy="380880"/>
            <a:chOff x="6629400" y="3962520"/>
            <a:chExt cx="380520" cy="380880"/>
          </a:xfrm>
        </p:grpSpPr>
        <p:sp>
          <p:nvSpPr>
            <p:cNvPr id="1278"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0"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1283"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4662360" y="1703520"/>
            <a:ext cx="230400" cy="32364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3505320" y="1371600"/>
            <a:ext cx="307800" cy="45720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287" name=""/>
          <p:cNvSpPr/>
          <p:nvPr/>
        </p:nvSpPr>
        <p:spPr>
          <a:xfrm>
            <a:off x="411120" y="609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8"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289"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290"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291"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292" name=""/>
          <p:cNvGrpSpPr/>
          <p:nvPr/>
        </p:nvGrpSpPr>
        <p:grpSpPr>
          <a:xfrm>
            <a:off x="1576440" y="963720"/>
            <a:ext cx="5052960" cy="4521240"/>
            <a:chOff x="1576440" y="963720"/>
            <a:chExt cx="5052960" cy="4521240"/>
          </a:xfrm>
        </p:grpSpPr>
        <p:sp>
          <p:nvSpPr>
            <p:cNvPr id="1293" name=""/>
            <p:cNvSpPr/>
            <p:nvPr/>
          </p:nvSpPr>
          <p:spPr>
            <a:xfrm>
              <a:off x="1576440" y="963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2079720" y="4675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814920" y="1060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6"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1297" name="Ink 5"/>
          <p:cNvSpPr/>
          <p:nvPr/>
        </p:nvSpPr>
        <p:spPr>
          <a:xfrm>
            <a:off x="1325520" y="3554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8" name="Group 14"/>
          <p:cNvGrpSpPr/>
          <p:nvPr/>
        </p:nvGrpSpPr>
        <p:grpSpPr>
          <a:xfrm>
            <a:off x="1249200" y="4011480"/>
            <a:ext cx="381240" cy="381240"/>
            <a:chOff x="1249200" y="4011480"/>
            <a:chExt cx="381240" cy="381240"/>
          </a:xfrm>
        </p:grpSpPr>
        <p:sp>
          <p:nvSpPr>
            <p:cNvPr id="1299" name="Ink 15"/>
            <p:cNvSpPr/>
            <p:nvPr/>
          </p:nvSpPr>
          <p:spPr>
            <a:xfrm>
              <a:off x="1249200" y="4011480"/>
              <a:ext cx="37044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Ink 16"/>
            <p:cNvSpPr/>
            <p:nvPr/>
          </p:nvSpPr>
          <p:spPr>
            <a:xfrm>
              <a:off x="1301400" y="4150080"/>
              <a:ext cx="32904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1" name=""/>
          <p:cNvSpPr/>
          <p:nvPr/>
        </p:nvSpPr>
        <p:spPr>
          <a:xfrm>
            <a:off x="1325520" y="4468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1303" name="Ink 61"/>
          <p:cNvSpPr/>
          <p:nvPr/>
        </p:nvSpPr>
        <p:spPr>
          <a:xfrm>
            <a:off x="868320" y="2792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1305" name=""/>
          <p:cNvGrpSpPr/>
          <p:nvPr/>
        </p:nvGrpSpPr>
        <p:grpSpPr>
          <a:xfrm>
            <a:off x="1249200" y="1725480"/>
            <a:ext cx="533160" cy="457200"/>
            <a:chOff x="1249200" y="1725480"/>
            <a:chExt cx="533160" cy="457200"/>
          </a:xfrm>
        </p:grpSpPr>
        <p:sp>
          <p:nvSpPr>
            <p:cNvPr id="1306" name=""/>
            <p:cNvSpPr/>
            <p:nvPr/>
          </p:nvSpPr>
          <p:spPr>
            <a:xfrm>
              <a:off x="14626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7" name="Group 12"/>
            <p:cNvGrpSpPr/>
            <p:nvPr/>
          </p:nvGrpSpPr>
          <p:grpSpPr>
            <a:xfrm>
              <a:off x="1249200" y="1725480"/>
              <a:ext cx="533160" cy="457200"/>
              <a:chOff x="1249200" y="1725480"/>
              <a:chExt cx="533160" cy="457200"/>
            </a:xfrm>
          </p:grpSpPr>
          <p:sp>
            <p:nvSpPr>
              <p:cNvPr id="1308" name="Ink 13"/>
              <p:cNvSpPr/>
              <p:nvPr/>
            </p:nvSpPr>
            <p:spPr>
              <a:xfrm>
                <a:off x="1249200" y="1742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Ink 14"/>
              <p:cNvSpPr/>
              <p:nvPr/>
            </p:nvSpPr>
            <p:spPr>
              <a:xfrm>
                <a:off x="1262160" y="1725480"/>
                <a:ext cx="51624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310" name="Ink 15"/>
              <p:cNvSpPr/>
              <p:nvPr/>
            </p:nvSpPr>
            <p:spPr>
              <a:xfrm>
                <a:off x="1768680" y="1742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Ink 16"/>
              <p:cNvSpPr/>
              <p:nvPr/>
            </p:nvSpPr>
            <p:spPr>
              <a:xfrm>
                <a:off x="1274760" y="2170080"/>
                <a:ext cx="50760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1312" name=""/>
            <p:cNvSpPr/>
            <p:nvPr/>
          </p:nvSpPr>
          <p:spPr>
            <a:xfrm>
              <a:off x="162252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13024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4" name=""/>
          <p:cNvGrpSpPr/>
          <p:nvPr/>
        </p:nvGrpSpPr>
        <p:grpSpPr>
          <a:xfrm>
            <a:off x="1630440" y="1344600"/>
            <a:ext cx="501120" cy="304920"/>
            <a:chOff x="1630440" y="1344600"/>
            <a:chExt cx="501120" cy="304920"/>
          </a:xfrm>
        </p:grpSpPr>
        <p:sp>
          <p:nvSpPr>
            <p:cNvPr id="1315" name=""/>
            <p:cNvSpPr/>
            <p:nvPr/>
          </p:nvSpPr>
          <p:spPr>
            <a:xfrm>
              <a:off x="180540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198072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163044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8" name=""/>
          <p:cNvSpPr/>
          <p:nvPr/>
        </p:nvSpPr>
        <p:spPr>
          <a:xfrm>
            <a:off x="2239920" y="1192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0" name=""/>
          <p:cNvGrpSpPr/>
          <p:nvPr/>
        </p:nvGrpSpPr>
        <p:grpSpPr>
          <a:xfrm>
            <a:off x="4952880" y="380880"/>
            <a:ext cx="888840" cy="747000"/>
            <a:chOff x="4952880" y="380880"/>
            <a:chExt cx="888840" cy="747000"/>
          </a:xfrm>
        </p:grpSpPr>
        <p:sp>
          <p:nvSpPr>
            <p:cNvPr id="1321"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1323"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1324"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1325"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1326"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1327"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1328"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0" name="Group 101"/>
          <p:cNvGrpSpPr/>
          <p:nvPr/>
        </p:nvGrpSpPr>
        <p:grpSpPr>
          <a:xfrm>
            <a:off x="6553080" y="2362320"/>
            <a:ext cx="304560" cy="518400"/>
            <a:chOff x="6553080" y="2362320"/>
            <a:chExt cx="304560" cy="518400"/>
          </a:xfrm>
        </p:grpSpPr>
        <p:grpSp>
          <p:nvGrpSpPr>
            <p:cNvPr id="1331" name="Group 79"/>
            <p:cNvGrpSpPr/>
            <p:nvPr/>
          </p:nvGrpSpPr>
          <p:grpSpPr>
            <a:xfrm>
              <a:off x="6553080" y="2362320"/>
              <a:ext cx="304560" cy="518400"/>
              <a:chOff x="6553080" y="2362320"/>
              <a:chExt cx="304560" cy="518400"/>
            </a:xfrm>
          </p:grpSpPr>
          <p:sp>
            <p:nvSpPr>
              <p:cNvPr id="1332"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34"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36"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38"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43"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44"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45"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6"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7"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1348"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9" name="Group 14"/>
          <p:cNvGrpSpPr/>
          <p:nvPr/>
        </p:nvGrpSpPr>
        <p:grpSpPr>
          <a:xfrm>
            <a:off x="6629400" y="3962520"/>
            <a:ext cx="380520" cy="380880"/>
            <a:chOff x="6629400" y="3962520"/>
            <a:chExt cx="380520" cy="380880"/>
          </a:xfrm>
        </p:grpSpPr>
        <p:sp>
          <p:nvSpPr>
            <p:cNvPr id="1350"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2"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1355"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4662360" y="1703520"/>
            <a:ext cx="230400" cy="32364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5184720" y="242100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3505320" y="1371600"/>
            <a:ext cx="307800" cy="45720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360" name=""/>
          <p:cNvSpPr/>
          <p:nvPr/>
        </p:nvSpPr>
        <p:spPr>
          <a:xfrm>
            <a:off x="411120" y="609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61"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362"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363"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364"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365" name=""/>
          <p:cNvGrpSpPr/>
          <p:nvPr/>
        </p:nvGrpSpPr>
        <p:grpSpPr>
          <a:xfrm>
            <a:off x="1576440" y="963720"/>
            <a:ext cx="5052960" cy="4521240"/>
            <a:chOff x="1576440" y="963720"/>
            <a:chExt cx="5052960" cy="4521240"/>
          </a:xfrm>
        </p:grpSpPr>
        <p:sp>
          <p:nvSpPr>
            <p:cNvPr id="1366" name=""/>
            <p:cNvSpPr/>
            <p:nvPr/>
          </p:nvSpPr>
          <p:spPr>
            <a:xfrm>
              <a:off x="1576440" y="963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2079720" y="4675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3814920" y="1060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9"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1370" name="Ink 5"/>
          <p:cNvSpPr/>
          <p:nvPr/>
        </p:nvSpPr>
        <p:spPr>
          <a:xfrm>
            <a:off x="1325520" y="3554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1" name="Group 14"/>
          <p:cNvGrpSpPr/>
          <p:nvPr/>
        </p:nvGrpSpPr>
        <p:grpSpPr>
          <a:xfrm>
            <a:off x="1249200" y="4011480"/>
            <a:ext cx="381240" cy="381240"/>
            <a:chOff x="1249200" y="4011480"/>
            <a:chExt cx="381240" cy="381240"/>
          </a:xfrm>
        </p:grpSpPr>
        <p:sp>
          <p:nvSpPr>
            <p:cNvPr id="1372" name="Ink 15"/>
            <p:cNvSpPr/>
            <p:nvPr/>
          </p:nvSpPr>
          <p:spPr>
            <a:xfrm>
              <a:off x="1249200" y="4011480"/>
              <a:ext cx="37044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Ink 16"/>
            <p:cNvSpPr/>
            <p:nvPr/>
          </p:nvSpPr>
          <p:spPr>
            <a:xfrm>
              <a:off x="1301400" y="4150080"/>
              <a:ext cx="32904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4" name=""/>
          <p:cNvSpPr/>
          <p:nvPr/>
        </p:nvSpPr>
        <p:spPr>
          <a:xfrm>
            <a:off x="1325520" y="4468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1376" name="Ink 61"/>
          <p:cNvSpPr/>
          <p:nvPr/>
        </p:nvSpPr>
        <p:spPr>
          <a:xfrm>
            <a:off x="868320" y="2792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1378" name=""/>
          <p:cNvGrpSpPr/>
          <p:nvPr/>
        </p:nvGrpSpPr>
        <p:grpSpPr>
          <a:xfrm>
            <a:off x="1249200" y="1725480"/>
            <a:ext cx="533160" cy="457200"/>
            <a:chOff x="1249200" y="1725480"/>
            <a:chExt cx="533160" cy="457200"/>
          </a:xfrm>
        </p:grpSpPr>
        <p:sp>
          <p:nvSpPr>
            <p:cNvPr id="1379" name=""/>
            <p:cNvSpPr/>
            <p:nvPr/>
          </p:nvSpPr>
          <p:spPr>
            <a:xfrm>
              <a:off x="14626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0" name="Group 12"/>
            <p:cNvGrpSpPr/>
            <p:nvPr/>
          </p:nvGrpSpPr>
          <p:grpSpPr>
            <a:xfrm>
              <a:off x="1249200" y="1725480"/>
              <a:ext cx="533160" cy="457200"/>
              <a:chOff x="1249200" y="1725480"/>
              <a:chExt cx="533160" cy="457200"/>
            </a:xfrm>
          </p:grpSpPr>
          <p:sp>
            <p:nvSpPr>
              <p:cNvPr id="1381" name="Ink 13"/>
              <p:cNvSpPr/>
              <p:nvPr/>
            </p:nvSpPr>
            <p:spPr>
              <a:xfrm>
                <a:off x="1249200" y="1742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Ink 14"/>
              <p:cNvSpPr/>
              <p:nvPr/>
            </p:nvSpPr>
            <p:spPr>
              <a:xfrm>
                <a:off x="1262160" y="1725480"/>
                <a:ext cx="51624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383" name="Ink 15"/>
              <p:cNvSpPr/>
              <p:nvPr/>
            </p:nvSpPr>
            <p:spPr>
              <a:xfrm>
                <a:off x="1768680" y="1742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Ink 16"/>
              <p:cNvSpPr/>
              <p:nvPr/>
            </p:nvSpPr>
            <p:spPr>
              <a:xfrm>
                <a:off x="1274760" y="2170080"/>
                <a:ext cx="50760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1385" name=""/>
            <p:cNvSpPr/>
            <p:nvPr/>
          </p:nvSpPr>
          <p:spPr>
            <a:xfrm>
              <a:off x="162252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13024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7" name=""/>
          <p:cNvGrpSpPr/>
          <p:nvPr/>
        </p:nvGrpSpPr>
        <p:grpSpPr>
          <a:xfrm>
            <a:off x="1630440" y="1344600"/>
            <a:ext cx="501120" cy="304920"/>
            <a:chOff x="1630440" y="1344600"/>
            <a:chExt cx="501120" cy="304920"/>
          </a:xfrm>
        </p:grpSpPr>
        <p:sp>
          <p:nvSpPr>
            <p:cNvPr id="1388" name=""/>
            <p:cNvSpPr/>
            <p:nvPr/>
          </p:nvSpPr>
          <p:spPr>
            <a:xfrm>
              <a:off x="180540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198072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163044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1" name=""/>
          <p:cNvSpPr/>
          <p:nvPr/>
        </p:nvSpPr>
        <p:spPr>
          <a:xfrm>
            <a:off x="2239920" y="1192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3" name=""/>
          <p:cNvGrpSpPr/>
          <p:nvPr/>
        </p:nvGrpSpPr>
        <p:grpSpPr>
          <a:xfrm>
            <a:off x="4952880" y="380880"/>
            <a:ext cx="888840" cy="747000"/>
            <a:chOff x="4952880" y="380880"/>
            <a:chExt cx="888840" cy="747000"/>
          </a:xfrm>
        </p:grpSpPr>
        <p:sp>
          <p:nvSpPr>
            <p:cNvPr id="1394"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1396"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1397"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1398"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1399"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1400"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1401"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3" name="Group 101"/>
          <p:cNvGrpSpPr/>
          <p:nvPr/>
        </p:nvGrpSpPr>
        <p:grpSpPr>
          <a:xfrm>
            <a:off x="6553080" y="2362320"/>
            <a:ext cx="304560" cy="518400"/>
            <a:chOff x="6553080" y="2362320"/>
            <a:chExt cx="304560" cy="518400"/>
          </a:xfrm>
        </p:grpSpPr>
        <p:grpSp>
          <p:nvGrpSpPr>
            <p:cNvPr id="1404" name="Group 79"/>
            <p:cNvGrpSpPr/>
            <p:nvPr/>
          </p:nvGrpSpPr>
          <p:grpSpPr>
            <a:xfrm>
              <a:off x="6553080" y="2362320"/>
              <a:ext cx="304560" cy="518400"/>
              <a:chOff x="6553080" y="2362320"/>
              <a:chExt cx="304560" cy="518400"/>
            </a:xfrm>
          </p:grpSpPr>
          <p:sp>
            <p:nvSpPr>
              <p:cNvPr id="1405"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07"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09"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11"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16"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17"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18"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9"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0"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1421"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4"/>
          <p:cNvGrpSpPr/>
          <p:nvPr/>
        </p:nvGrpSpPr>
        <p:grpSpPr>
          <a:xfrm>
            <a:off x="6629400" y="3962520"/>
            <a:ext cx="380520" cy="380880"/>
            <a:chOff x="6629400" y="3962520"/>
            <a:chExt cx="380520" cy="380880"/>
          </a:xfrm>
        </p:grpSpPr>
        <p:sp>
          <p:nvSpPr>
            <p:cNvPr id="1423"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5"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1428"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4662360" y="1703520"/>
            <a:ext cx="230400" cy="32364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5184720" y="242100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5106960" y="3765600"/>
            <a:ext cx="21924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3505320" y="1371600"/>
            <a:ext cx="307800" cy="45720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434" name=""/>
          <p:cNvSpPr/>
          <p:nvPr/>
        </p:nvSpPr>
        <p:spPr>
          <a:xfrm>
            <a:off x="411120" y="609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35"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436"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437"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438"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439" name=""/>
          <p:cNvGrpSpPr/>
          <p:nvPr/>
        </p:nvGrpSpPr>
        <p:grpSpPr>
          <a:xfrm>
            <a:off x="1576440" y="963720"/>
            <a:ext cx="5052960" cy="4521240"/>
            <a:chOff x="1576440" y="963720"/>
            <a:chExt cx="5052960" cy="4521240"/>
          </a:xfrm>
        </p:grpSpPr>
        <p:sp>
          <p:nvSpPr>
            <p:cNvPr id="1440" name=""/>
            <p:cNvSpPr/>
            <p:nvPr/>
          </p:nvSpPr>
          <p:spPr>
            <a:xfrm>
              <a:off x="1576440" y="963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2079720" y="4675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3814920" y="1060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3"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1444" name="Ink 5"/>
          <p:cNvSpPr/>
          <p:nvPr/>
        </p:nvSpPr>
        <p:spPr>
          <a:xfrm>
            <a:off x="1325520" y="3554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5" name="Group 14"/>
          <p:cNvGrpSpPr/>
          <p:nvPr/>
        </p:nvGrpSpPr>
        <p:grpSpPr>
          <a:xfrm>
            <a:off x="1249200" y="4011480"/>
            <a:ext cx="381240" cy="381240"/>
            <a:chOff x="1249200" y="4011480"/>
            <a:chExt cx="381240" cy="381240"/>
          </a:xfrm>
        </p:grpSpPr>
        <p:sp>
          <p:nvSpPr>
            <p:cNvPr id="1446" name="Ink 15"/>
            <p:cNvSpPr/>
            <p:nvPr/>
          </p:nvSpPr>
          <p:spPr>
            <a:xfrm>
              <a:off x="1249200" y="4011480"/>
              <a:ext cx="37044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Ink 16"/>
            <p:cNvSpPr/>
            <p:nvPr/>
          </p:nvSpPr>
          <p:spPr>
            <a:xfrm>
              <a:off x="1301400" y="4150080"/>
              <a:ext cx="32904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8" name=""/>
          <p:cNvSpPr/>
          <p:nvPr/>
        </p:nvSpPr>
        <p:spPr>
          <a:xfrm>
            <a:off x="1325520" y="4468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1450" name="Ink 61"/>
          <p:cNvSpPr/>
          <p:nvPr/>
        </p:nvSpPr>
        <p:spPr>
          <a:xfrm>
            <a:off x="868320" y="2792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1452" name=""/>
          <p:cNvGrpSpPr/>
          <p:nvPr/>
        </p:nvGrpSpPr>
        <p:grpSpPr>
          <a:xfrm>
            <a:off x="1249200" y="1725480"/>
            <a:ext cx="533160" cy="457200"/>
            <a:chOff x="1249200" y="1725480"/>
            <a:chExt cx="533160" cy="457200"/>
          </a:xfrm>
        </p:grpSpPr>
        <p:sp>
          <p:nvSpPr>
            <p:cNvPr id="1453" name=""/>
            <p:cNvSpPr/>
            <p:nvPr/>
          </p:nvSpPr>
          <p:spPr>
            <a:xfrm>
              <a:off x="14626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4" name="Group 12"/>
            <p:cNvGrpSpPr/>
            <p:nvPr/>
          </p:nvGrpSpPr>
          <p:grpSpPr>
            <a:xfrm>
              <a:off x="1249200" y="1725480"/>
              <a:ext cx="533160" cy="457200"/>
              <a:chOff x="1249200" y="1725480"/>
              <a:chExt cx="533160" cy="457200"/>
            </a:xfrm>
          </p:grpSpPr>
          <p:sp>
            <p:nvSpPr>
              <p:cNvPr id="1455" name="Ink 13"/>
              <p:cNvSpPr/>
              <p:nvPr/>
            </p:nvSpPr>
            <p:spPr>
              <a:xfrm>
                <a:off x="1249200" y="1742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Ink 14"/>
              <p:cNvSpPr/>
              <p:nvPr/>
            </p:nvSpPr>
            <p:spPr>
              <a:xfrm>
                <a:off x="1262160" y="1725480"/>
                <a:ext cx="51624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57" name="Ink 15"/>
              <p:cNvSpPr/>
              <p:nvPr/>
            </p:nvSpPr>
            <p:spPr>
              <a:xfrm>
                <a:off x="1768680" y="1742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Ink 16"/>
              <p:cNvSpPr/>
              <p:nvPr/>
            </p:nvSpPr>
            <p:spPr>
              <a:xfrm>
                <a:off x="1274760" y="2170080"/>
                <a:ext cx="50760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1459" name=""/>
            <p:cNvSpPr/>
            <p:nvPr/>
          </p:nvSpPr>
          <p:spPr>
            <a:xfrm>
              <a:off x="162252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13024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1" name=""/>
          <p:cNvGrpSpPr/>
          <p:nvPr/>
        </p:nvGrpSpPr>
        <p:grpSpPr>
          <a:xfrm>
            <a:off x="1630440" y="1344600"/>
            <a:ext cx="501120" cy="304920"/>
            <a:chOff x="1630440" y="1344600"/>
            <a:chExt cx="501120" cy="304920"/>
          </a:xfrm>
        </p:grpSpPr>
        <p:sp>
          <p:nvSpPr>
            <p:cNvPr id="1462" name=""/>
            <p:cNvSpPr/>
            <p:nvPr/>
          </p:nvSpPr>
          <p:spPr>
            <a:xfrm>
              <a:off x="180540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a:off x="198072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163044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5" name=""/>
          <p:cNvSpPr/>
          <p:nvPr/>
        </p:nvSpPr>
        <p:spPr>
          <a:xfrm>
            <a:off x="2239920" y="1192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7" name=""/>
          <p:cNvGrpSpPr/>
          <p:nvPr/>
        </p:nvGrpSpPr>
        <p:grpSpPr>
          <a:xfrm>
            <a:off x="4952880" y="380880"/>
            <a:ext cx="888840" cy="747000"/>
            <a:chOff x="4952880" y="380880"/>
            <a:chExt cx="888840" cy="747000"/>
          </a:xfrm>
        </p:grpSpPr>
        <p:sp>
          <p:nvSpPr>
            <p:cNvPr id="1468"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1470"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1471"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1472"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1473"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1474"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1475"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7" name="Group 101"/>
          <p:cNvGrpSpPr/>
          <p:nvPr/>
        </p:nvGrpSpPr>
        <p:grpSpPr>
          <a:xfrm>
            <a:off x="6553080" y="2362320"/>
            <a:ext cx="304560" cy="518400"/>
            <a:chOff x="6553080" y="2362320"/>
            <a:chExt cx="304560" cy="518400"/>
          </a:xfrm>
        </p:grpSpPr>
        <p:grpSp>
          <p:nvGrpSpPr>
            <p:cNvPr id="1478" name="Group 79"/>
            <p:cNvGrpSpPr/>
            <p:nvPr/>
          </p:nvGrpSpPr>
          <p:grpSpPr>
            <a:xfrm>
              <a:off x="6553080" y="2362320"/>
              <a:ext cx="304560" cy="518400"/>
              <a:chOff x="6553080" y="2362320"/>
              <a:chExt cx="304560" cy="518400"/>
            </a:xfrm>
          </p:grpSpPr>
          <p:sp>
            <p:nvSpPr>
              <p:cNvPr id="1479"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1"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83"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85"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90"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91"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92"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3"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4"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1495"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6" name="Group 14"/>
          <p:cNvGrpSpPr/>
          <p:nvPr/>
        </p:nvGrpSpPr>
        <p:grpSpPr>
          <a:xfrm>
            <a:off x="6629400" y="3962520"/>
            <a:ext cx="380520" cy="380880"/>
            <a:chOff x="6629400" y="3962520"/>
            <a:chExt cx="380520" cy="380880"/>
          </a:xfrm>
        </p:grpSpPr>
        <p:sp>
          <p:nvSpPr>
            <p:cNvPr id="1497"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9"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1502"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4662360" y="1703520"/>
            <a:ext cx="230400" cy="32364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5184720" y="242100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5106960" y="3765600"/>
            <a:ext cx="21924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3924360" y="436248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3505320" y="1371600"/>
            <a:ext cx="307800" cy="45720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509" name=""/>
          <p:cNvSpPr/>
          <p:nvPr/>
        </p:nvSpPr>
        <p:spPr>
          <a:xfrm>
            <a:off x="411120" y="609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10"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511"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512"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513"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514" name=""/>
          <p:cNvGrpSpPr/>
          <p:nvPr/>
        </p:nvGrpSpPr>
        <p:grpSpPr>
          <a:xfrm>
            <a:off x="1576440" y="963720"/>
            <a:ext cx="5052960" cy="4521240"/>
            <a:chOff x="1576440" y="963720"/>
            <a:chExt cx="5052960" cy="4521240"/>
          </a:xfrm>
        </p:grpSpPr>
        <p:sp>
          <p:nvSpPr>
            <p:cNvPr id="1515" name=""/>
            <p:cNvSpPr/>
            <p:nvPr/>
          </p:nvSpPr>
          <p:spPr>
            <a:xfrm>
              <a:off x="1576440" y="963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2079720" y="4675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3814920" y="1060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8"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1519" name="Ink 5"/>
          <p:cNvSpPr/>
          <p:nvPr/>
        </p:nvSpPr>
        <p:spPr>
          <a:xfrm>
            <a:off x="1325520" y="3554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0" name="Group 14"/>
          <p:cNvGrpSpPr/>
          <p:nvPr/>
        </p:nvGrpSpPr>
        <p:grpSpPr>
          <a:xfrm>
            <a:off x="1249200" y="4011480"/>
            <a:ext cx="381240" cy="381240"/>
            <a:chOff x="1249200" y="4011480"/>
            <a:chExt cx="381240" cy="381240"/>
          </a:xfrm>
        </p:grpSpPr>
        <p:sp>
          <p:nvSpPr>
            <p:cNvPr id="1521" name="Ink 15"/>
            <p:cNvSpPr/>
            <p:nvPr/>
          </p:nvSpPr>
          <p:spPr>
            <a:xfrm>
              <a:off x="1249200" y="4011480"/>
              <a:ext cx="37044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Ink 16"/>
            <p:cNvSpPr/>
            <p:nvPr/>
          </p:nvSpPr>
          <p:spPr>
            <a:xfrm>
              <a:off x="1301400" y="4150080"/>
              <a:ext cx="32904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3" name=""/>
          <p:cNvSpPr/>
          <p:nvPr/>
        </p:nvSpPr>
        <p:spPr>
          <a:xfrm>
            <a:off x="1325520" y="4468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1525" name="Ink 61"/>
          <p:cNvSpPr/>
          <p:nvPr/>
        </p:nvSpPr>
        <p:spPr>
          <a:xfrm>
            <a:off x="868320" y="2792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1527" name=""/>
          <p:cNvGrpSpPr/>
          <p:nvPr/>
        </p:nvGrpSpPr>
        <p:grpSpPr>
          <a:xfrm>
            <a:off x="1249200" y="1725480"/>
            <a:ext cx="533160" cy="457200"/>
            <a:chOff x="1249200" y="1725480"/>
            <a:chExt cx="533160" cy="457200"/>
          </a:xfrm>
        </p:grpSpPr>
        <p:sp>
          <p:nvSpPr>
            <p:cNvPr id="1528" name=""/>
            <p:cNvSpPr/>
            <p:nvPr/>
          </p:nvSpPr>
          <p:spPr>
            <a:xfrm>
              <a:off x="14626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9" name="Group 12"/>
            <p:cNvGrpSpPr/>
            <p:nvPr/>
          </p:nvGrpSpPr>
          <p:grpSpPr>
            <a:xfrm>
              <a:off x="1249200" y="1725480"/>
              <a:ext cx="533160" cy="457200"/>
              <a:chOff x="1249200" y="1725480"/>
              <a:chExt cx="533160" cy="457200"/>
            </a:xfrm>
          </p:grpSpPr>
          <p:sp>
            <p:nvSpPr>
              <p:cNvPr id="1530" name="Ink 13"/>
              <p:cNvSpPr/>
              <p:nvPr/>
            </p:nvSpPr>
            <p:spPr>
              <a:xfrm>
                <a:off x="1249200" y="1742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Ink 14"/>
              <p:cNvSpPr/>
              <p:nvPr/>
            </p:nvSpPr>
            <p:spPr>
              <a:xfrm>
                <a:off x="1262160" y="1725480"/>
                <a:ext cx="51624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532" name="Ink 15"/>
              <p:cNvSpPr/>
              <p:nvPr/>
            </p:nvSpPr>
            <p:spPr>
              <a:xfrm>
                <a:off x="1768680" y="1742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Ink 16"/>
              <p:cNvSpPr/>
              <p:nvPr/>
            </p:nvSpPr>
            <p:spPr>
              <a:xfrm>
                <a:off x="1274760" y="2170080"/>
                <a:ext cx="50760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1534" name=""/>
            <p:cNvSpPr/>
            <p:nvPr/>
          </p:nvSpPr>
          <p:spPr>
            <a:xfrm>
              <a:off x="162252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13024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6" name=""/>
          <p:cNvGrpSpPr/>
          <p:nvPr/>
        </p:nvGrpSpPr>
        <p:grpSpPr>
          <a:xfrm>
            <a:off x="1630440" y="1344600"/>
            <a:ext cx="501120" cy="304920"/>
            <a:chOff x="1630440" y="1344600"/>
            <a:chExt cx="501120" cy="304920"/>
          </a:xfrm>
        </p:grpSpPr>
        <p:sp>
          <p:nvSpPr>
            <p:cNvPr id="1537" name=""/>
            <p:cNvSpPr/>
            <p:nvPr/>
          </p:nvSpPr>
          <p:spPr>
            <a:xfrm>
              <a:off x="180540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198072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163044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0" name=""/>
          <p:cNvSpPr/>
          <p:nvPr/>
        </p:nvSpPr>
        <p:spPr>
          <a:xfrm>
            <a:off x="2239920" y="1192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2" name=""/>
          <p:cNvGrpSpPr/>
          <p:nvPr/>
        </p:nvGrpSpPr>
        <p:grpSpPr>
          <a:xfrm>
            <a:off x="4952880" y="380880"/>
            <a:ext cx="888840" cy="747000"/>
            <a:chOff x="4952880" y="380880"/>
            <a:chExt cx="888840" cy="747000"/>
          </a:xfrm>
        </p:grpSpPr>
        <p:sp>
          <p:nvSpPr>
            <p:cNvPr id="1543"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1545"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1546"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1547"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1548"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1549"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1550"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2" name="Group 101"/>
          <p:cNvGrpSpPr/>
          <p:nvPr/>
        </p:nvGrpSpPr>
        <p:grpSpPr>
          <a:xfrm>
            <a:off x="6553080" y="2362320"/>
            <a:ext cx="304560" cy="518400"/>
            <a:chOff x="6553080" y="2362320"/>
            <a:chExt cx="304560" cy="518400"/>
          </a:xfrm>
        </p:grpSpPr>
        <p:grpSp>
          <p:nvGrpSpPr>
            <p:cNvPr id="1553" name="Group 79"/>
            <p:cNvGrpSpPr/>
            <p:nvPr/>
          </p:nvGrpSpPr>
          <p:grpSpPr>
            <a:xfrm>
              <a:off x="6553080" y="2362320"/>
              <a:ext cx="304560" cy="518400"/>
              <a:chOff x="6553080" y="2362320"/>
              <a:chExt cx="304560" cy="518400"/>
            </a:xfrm>
          </p:grpSpPr>
          <p:sp>
            <p:nvSpPr>
              <p:cNvPr id="1554"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56"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58"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560"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65"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566"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7"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8"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9"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1570"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1" name="Group 14"/>
          <p:cNvGrpSpPr/>
          <p:nvPr/>
        </p:nvGrpSpPr>
        <p:grpSpPr>
          <a:xfrm>
            <a:off x="6629400" y="3962520"/>
            <a:ext cx="380520" cy="380880"/>
            <a:chOff x="6629400" y="3962520"/>
            <a:chExt cx="380520" cy="380880"/>
          </a:xfrm>
        </p:grpSpPr>
        <p:sp>
          <p:nvSpPr>
            <p:cNvPr id="1572"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4"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1577"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4662360" y="1703520"/>
            <a:ext cx="230400" cy="32364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5184720" y="242100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5106960" y="3765600"/>
            <a:ext cx="21924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3924360" y="436248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2968560" y="3903840"/>
            <a:ext cx="20016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
          <p:cNvSpPr/>
          <p:nvPr/>
        </p:nvSpPr>
        <p:spPr>
          <a:xfrm>
            <a:off x="3505320" y="1371600"/>
            <a:ext cx="307800" cy="45720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Whiteboard"/>
              </a:rPr>
              <a:t>Systems Selection</a:t>
            </a:r>
            <a:endParaRPr b="0" lang="en-US" sz="1400" spc="-1" strike="noStrike">
              <a:solidFill>
                <a:srgbClr val="000000"/>
              </a:solidFill>
              <a:latin typeface="Arial"/>
            </a:endParaRPr>
          </a:p>
        </p:txBody>
      </p:sp>
      <p:sp>
        <p:nvSpPr>
          <p:cNvPr id="58"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333399"/>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hiteboard"/>
              </a:rPr>
              <a:t>Wh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585" name=""/>
          <p:cNvSpPr/>
          <p:nvPr/>
        </p:nvSpPr>
        <p:spPr>
          <a:xfrm>
            <a:off x="411120" y="609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86"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587"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588"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589"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590" name=""/>
          <p:cNvGrpSpPr/>
          <p:nvPr/>
        </p:nvGrpSpPr>
        <p:grpSpPr>
          <a:xfrm>
            <a:off x="1576440" y="963720"/>
            <a:ext cx="5052960" cy="4521240"/>
            <a:chOff x="1576440" y="963720"/>
            <a:chExt cx="5052960" cy="4521240"/>
          </a:xfrm>
        </p:grpSpPr>
        <p:sp>
          <p:nvSpPr>
            <p:cNvPr id="1591" name=""/>
            <p:cNvSpPr/>
            <p:nvPr/>
          </p:nvSpPr>
          <p:spPr>
            <a:xfrm>
              <a:off x="1576440" y="963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2079720" y="4675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3814920" y="1060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4"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1595" name="Ink 5"/>
          <p:cNvSpPr/>
          <p:nvPr/>
        </p:nvSpPr>
        <p:spPr>
          <a:xfrm>
            <a:off x="1325520" y="3554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6" name="Group 14"/>
          <p:cNvGrpSpPr/>
          <p:nvPr/>
        </p:nvGrpSpPr>
        <p:grpSpPr>
          <a:xfrm>
            <a:off x="1249200" y="4011480"/>
            <a:ext cx="381240" cy="381240"/>
            <a:chOff x="1249200" y="4011480"/>
            <a:chExt cx="381240" cy="381240"/>
          </a:xfrm>
        </p:grpSpPr>
        <p:sp>
          <p:nvSpPr>
            <p:cNvPr id="1597" name="Ink 15"/>
            <p:cNvSpPr/>
            <p:nvPr/>
          </p:nvSpPr>
          <p:spPr>
            <a:xfrm>
              <a:off x="1249200" y="4011480"/>
              <a:ext cx="37044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Ink 16"/>
            <p:cNvSpPr/>
            <p:nvPr/>
          </p:nvSpPr>
          <p:spPr>
            <a:xfrm>
              <a:off x="1301400" y="4150080"/>
              <a:ext cx="32904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9" name=""/>
          <p:cNvSpPr/>
          <p:nvPr/>
        </p:nvSpPr>
        <p:spPr>
          <a:xfrm>
            <a:off x="1325520" y="4468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1601" name="Ink 61"/>
          <p:cNvSpPr/>
          <p:nvPr/>
        </p:nvSpPr>
        <p:spPr>
          <a:xfrm>
            <a:off x="868320" y="2792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1603" name=""/>
          <p:cNvGrpSpPr/>
          <p:nvPr/>
        </p:nvGrpSpPr>
        <p:grpSpPr>
          <a:xfrm>
            <a:off x="1249200" y="1725480"/>
            <a:ext cx="533160" cy="457200"/>
            <a:chOff x="1249200" y="1725480"/>
            <a:chExt cx="533160" cy="457200"/>
          </a:xfrm>
        </p:grpSpPr>
        <p:sp>
          <p:nvSpPr>
            <p:cNvPr id="1604" name=""/>
            <p:cNvSpPr/>
            <p:nvPr/>
          </p:nvSpPr>
          <p:spPr>
            <a:xfrm>
              <a:off x="14626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5" name="Group 12"/>
            <p:cNvGrpSpPr/>
            <p:nvPr/>
          </p:nvGrpSpPr>
          <p:grpSpPr>
            <a:xfrm>
              <a:off x="1249200" y="1725480"/>
              <a:ext cx="533160" cy="457200"/>
              <a:chOff x="1249200" y="1725480"/>
              <a:chExt cx="533160" cy="457200"/>
            </a:xfrm>
          </p:grpSpPr>
          <p:sp>
            <p:nvSpPr>
              <p:cNvPr id="1606" name="Ink 13"/>
              <p:cNvSpPr/>
              <p:nvPr/>
            </p:nvSpPr>
            <p:spPr>
              <a:xfrm>
                <a:off x="1249200" y="1742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Ink 14"/>
              <p:cNvSpPr/>
              <p:nvPr/>
            </p:nvSpPr>
            <p:spPr>
              <a:xfrm>
                <a:off x="1262160" y="1725480"/>
                <a:ext cx="51624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608" name="Ink 15"/>
              <p:cNvSpPr/>
              <p:nvPr/>
            </p:nvSpPr>
            <p:spPr>
              <a:xfrm>
                <a:off x="1768680" y="1742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Ink 16"/>
              <p:cNvSpPr/>
              <p:nvPr/>
            </p:nvSpPr>
            <p:spPr>
              <a:xfrm>
                <a:off x="1274760" y="2170080"/>
                <a:ext cx="50760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1610" name=""/>
            <p:cNvSpPr/>
            <p:nvPr/>
          </p:nvSpPr>
          <p:spPr>
            <a:xfrm>
              <a:off x="162252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13024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2" name=""/>
          <p:cNvGrpSpPr/>
          <p:nvPr/>
        </p:nvGrpSpPr>
        <p:grpSpPr>
          <a:xfrm>
            <a:off x="1630440" y="1344600"/>
            <a:ext cx="501120" cy="304920"/>
            <a:chOff x="1630440" y="1344600"/>
            <a:chExt cx="501120" cy="304920"/>
          </a:xfrm>
        </p:grpSpPr>
        <p:sp>
          <p:nvSpPr>
            <p:cNvPr id="1613" name=""/>
            <p:cNvSpPr/>
            <p:nvPr/>
          </p:nvSpPr>
          <p:spPr>
            <a:xfrm>
              <a:off x="180540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198072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163044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6" name=""/>
          <p:cNvSpPr/>
          <p:nvPr/>
        </p:nvSpPr>
        <p:spPr>
          <a:xfrm>
            <a:off x="2239920" y="1192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8" name=""/>
          <p:cNvGrpSpPr/>
          <p:nvPr/>
        </p:nvGrpSpPr>
        <p:grpSpPr>
          <a:xfrm>
            <a:off x="4952880" y="380880"/>
            <a:ext cx="888840" cy="747000"/>
            <a:chOff x="4952880" y="380880"/>
            <a:chExt cx="888840" cy="747000"/>
          </a:xfrm>
        </p:grpSpPr>
        <p:sp>
          <p:nvSpPr>
            <p:cNvPr id="1619"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1621"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1622"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1623"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1624"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1625"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1626"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8" name="Group 101"/>
          <p:cNvGrpSpPr/>
          <p:nvPr/>
        </p:nvGrpSpPr>
        <p:grpSpPr>
          <a:xfrm>
            <a:off x="6553080" y="2362320"/>
            <a:ext cx="304560" cy="518400"/>
            <a:chOff x="6553080" y="2362320"/>
            <a:chExt cx="304560" cy="518400"/>
          </a:xfrm>
        </p:grpSpPr>
        <p:grpSp>
          <p:nvGrpSpPr>
            <p:cNvPr id="1629" name="Group 79"/>
            <p:cNvGrpSpPr/>
            <p:nvPr/>
          </p:nvGrpSpPr>
          <p:grpSpPr>
            <a:xfrm>
              <a:off x="6553080" y="2362320"/>
              <a:ext cx="304560" cy="518400"/>
              <a:chOff x="6553080" y="2362320"/>
              <a:chExt cx="304560" cy="518400"/>
            </a:xfrm>
          </p:grpSpPr>
          <p:sp>
            <p:nvSpPr>
              <p:cNvPr id="1630"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32"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34"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636"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41"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642"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43"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4"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5"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1646"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7" name="Group 14"/>
          <p:cNvGrpSpPr/>
          <p:nvPr/>
        </p:nvGrpSpPr>
        <p:grpSpPr>
          <a:xfrm>
            <a:off x="6629400" y="3962520"/>
            <a:ext cx="380520" cy="380880"/>
            <a:chOff x="6629400" y="3962520"/>
            <a:chExt cx="380520" cy="380880"/>
          </a:xfrm>
        </p:grpSpPr>
        <p:sp>
          <p:nvSpPr>
            <p:cNvPr id="1648"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0"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1653"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4662360" y="1703520"/>
            <a:ext cx="230400" cy="32364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5184720" y="242100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5106960" y="3765600"/>
            <a:ext cx="21924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3924360" y="436248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2968560" y="3903840"/>
            <a:ext cx="20016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2754360" y="3059280"/>
            <a:ext cx="258840" cy="9972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3505320" y="1371600"/>
            <a:ext cx="307800" cy="45720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662" name=""/>
          <p:cNvSpPr/>
          <p:nvPr/>
        </p:nvSpPr>
        <p:spPr>
          <a:xfrm>
            <a:off x="411120" y="609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63"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664"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665"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666"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667" name=""/>
          <p:cNvGrpSpPr/>
          <p:nvPr/>
        </p:nvGrpSpPr>
        <p:grpSpPr>
          <a:xfrm>
            <a:off x="1576440" y="963720"/>
            <a:ext cx="5052960" cy="4521240"/>
            <a:chOff x="1576440" y="963720"/>
            <a:chExt cx="5052960" cy="4521240"/>
          </a:xfrm>
        </p:grpSpPr>
        <p:sp>
          <p:nvSpPr>
            <p:cNvPr id="1668" name=""/>
            <p:cNvSpPr/>
            <p:nvPr/>
          </p:nvSpPr>
          <p:spPr>
            <a:xfrm>
              <a:off x="1576440" y="963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2079720" y="4675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3814920" y="1060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1"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1672" name="Ink 5"/>
          <p:cNvSpPr/>
          <p:nvPr/>
        </p:nvSpPr>
        <p:spPr>
          <a:xfrm>
            <a:off x="1325520" y="3554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3" name="Group 14"/>
          <p:cNvGrpSpPr/>
          <p:nvPr/>
        </p:nvGrpSpPr>
        <p:grpSpPr>
          <a:xfrm>
            <a:off x="1249200" y="4011480"/>
            <a:ext cx="381240" cy="381240"/>
            <a:chOff x="1249200" y="4011480"/>
            <a:chExt cx="381240" cy="381240"/>
          </a:xfrm>
        </p:grpSpPr>
        <p:sp>
          <p:nvSpPr>
            <p:cNvPr id="1674" name="Ink 15"/>
            <p:cNvSpPr/>
            <p:nvPr/>
          </p:nvSpPr>
          <p:spPr>
            <a:xfrm>
              <a:off x="1249200" y="4011480"/>
              <a:ext cx="37044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Ink 16"/>
            <p:cNvSpPr/>
            <p:nvPr/>
          </p:nvSpPr>
          <p:spPr>
            <a:xfrm>
              <a:off x="1301400" y="4150080"/>
              <a:ext cx="32904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6" name=""/>
          <p:cNvSpPr/>
          <p:nvPr/>
        </p:nvSpPr>
        <p:spPr>
          <a:xfrm>
            <a:off x="1325520" y="4468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1678" name="Ink 61"/>
          <p:cNvSpPr/>
          <p:nvPr/>
        </p:nvSpPr>
        <p:spPr>
          <a:xfrm>
            <a:off x="868320" y="2792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1680" name=""/>
          <p:cNvGrpSpPr/>
          <p:nvPr/>
        </p:nvGrpSpPr>
        <p:grpSpPr>
          <a:xfrm>
            <a:off x="1249200" y="1725480"/>
            <a:ext cx="533160" cy="457200"/>
            <a:chOff x="1249200" y="1725480"/>
            <a:chExt cx="533160" cy="457200"/>
          </a:xfrm>
        </p:grpSpPr>
        <p:sp>
          <p:nvSpPr>
            <p:cNvPr id="1681" name=""/>
            <p:cNvSpPr/>
            <p:nvPr/>
          </p:nvSpPr>
          <p:spPr>
            <a:xfrm>
              <a:off x="14626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2" name="Group 12"/>
            <p:cNvGrpSpPr/>
            <p:nvPr/>
          </p:nvGrpSpPr>
          <p:grpSpPr>
            <a:xfrm>
              <a:off x="1249200" y="1725480"/>
              <a:ext cx="533160" cy="457200"/>
              <a:chOff x="1249200" y="1725480"/>
              <a:chExt cx="533160" cy="457200"/>
            </a:xfrm>
          </p:grpSpPr>
          <p:sp>
            <p:nvSpPr>
              <p:cNvPr id="1683" name="Ink 13"/>
              <p:cNvSpPr/>
              <p:nvPr/>
            </p:nvSpPr>
            <p:spPr>
              <a:xfrm>
                <a:off x="1249200" y="1742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Ink 14"/>
              <p:cNvSpPr/>
              <p:nvPr/>
            </p:nvSpPr>
            <p:spPr>
              <a:xfrm>
                <a:off x="1262160" y="1725480"/>
                <a:ext cx="51624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685" name="Ink 15"/>
              <p:cNvSpPr/>
              <p:nvPr/>
            </p:nvSpPr>
            <p:spPr>
              <a:xfrm>
                <a:off x="1768680" y="1742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Ink 16"/>
              <p:cNvSpPr/>
              <p:nvPr/>
            </p:nvSpPr>
            <p:spPr>
              <a:xfrm>
                <a:off x="1274760" y="2170080"/>
                <a:ext cx="50760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1687" name=""/>
            <p:cNvSpPr/>
            <p:nvPr/>
          </p:nvSpPr>
          <p:spPr>
            <a:xfrm>
              <a:off x="162252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a:off x="13024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9" name=""/>
          <p:cNvGrpSpPr/>
          <p:nvPr/>
        </p:nvGrpSpPr>
        <p:grpSpPr>
          <a:xfrm>
            <a:off x="1630440" y="1344600"/>
            <a:ext cx="501120" cy="304920"/>
            <a:chOff x="1630440" y="1344600"/>
            <a:chExt cx="501120" cy="304920"/>
          </a:xfrm>
        </p:grpSpPr>
        <p:sp>
          <p:nvSpPr>
            <p:cNvPr id="1690" name=""/>
            <p:cNvSpPr/>
            <p:nvPr/>
          </p:nvSpPr>
          <p:spPr>
            <a:xfrm>
              <a:off x="180540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198072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163044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3" name=""/>
          <p:cNvSpPr/>
          <p:nvPr/>
        </p:nvSpPr>
        <p:spPr>
          <a:xfrm>
            <a:off x="2239920" y="1192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5" name=""/>
          <p:cNvGrpSpPr/>
          <p:nvPr/>
        </p:nvGrpSpPr>
        <p:grpSpPr>
          <a:xfrm>
            <a:off x="4952880" y="380880"/>
            <a:ext cx="888840" cy="747000"/>
            <a:chOff x="4952880" y="380880"/>
            <a:chExt cx="888840" cy="747000"/>
          </a:xfrm>
        </p:grpSpPr>
        <p:sp>
          <p:nvSpPr>
            <p:cNvPr id="1696"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1698"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1699"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1700"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1701"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1702"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1703"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5" name="Group 101"/>
          <p:cNvGrpSpPr/>
          <p:nvPr/>
        </p:nvGrpSpPr>
        <p:grpSpPr>
          <a:xfrm>
            <a:off x="6553080" y="2362320"/>
            <a:ext cx="304560" cy="518400"/>
            <a:chOff x="6553080" y="2362320"/>
            <a:chExt cx="304560" cy="518400"/>
          </a:xfrm>
        </p:grpSpPr>
        <p:grpSp>
          <p:nvGrpSpPr>
            <p:cNvPr id="1706" name="Group 79"/>
            <p:cNvGrpSpPr/>
            <p:nvPr/>
          </p:nvGrpSpPr>
          <p:grpSpPr>
            <a:xfrm>
              <a:off x="6553080" y="2362320"/>
              <a:ext cx="304560" cy="518400"/>
              <a:chOff x="6553080" y="2362320"/>
              <a:chExt cx="304560" cy="518400"/>
            </a:xfrm>
          </p:grpSpPr>
          <p:sp>
            <p:nvSpPr>
              <p:cNvPr id="1707"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709"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11"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13"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18"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719"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20"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1"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2"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1723"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4" name="Group 14"/>
          <p:cNvGrpSpPr/>
          <p:nvPr/>
        </p:nvGrpSpPr>
        <p:grpSpPr>
          <a:xfrm>
            <a:off x="6629400" y="3962520"/>
            <a:ext cx="380520" cy="380880"/>
            <a:chOff x="6629400" y="3962520"/>
            <a:chExt cx="380520" cy="380880"/>
          </a:xfrm>
        </p:grpSpPr>
        <p:sp>
          <p:nvSpPr>
            <p:cNvPr id="1725"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7"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1730"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4662360" y="1703520"/>
            <a:ext cx="230400" cy="32364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5184720" y="242100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5106960" y="3765600"/>
            <a:ext cx="21924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3924360" y="436248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2968560" y="3903840"/>
            <a:ext cx="20016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2754360" y="3059280"/>
            <a:ext cx="258840" cy="9972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192480" y="2292480"/>
            <a:ext cx="290520" cy="16020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3505320" y="1371600"/>
            <a:ext cx="307800" cy="45720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740" name=""/>
          <p:cNvSpPr/>
          <p:nvPr/>
        </p:nvSpPr>
        <p:spPr>
          <a:xfrm>
            <a:off x="411120" y="609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1"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742"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743"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744"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745" name=""/>
          <p:cNvGrpSpPr/>
          <p:nvPr/>
        </p:nvGrpSpPr>
        <p:grpSpPr>
          <a:xfrm>
            <a:off x="1576440" y="963720"/>
            <a:ext cx="5052960" cy="4521240"/>
            <a:chOff x="1576440" y="963720"/>
            <a:chExt cx="5052960" cy="4521240"/>
          </a:xfrm>
        </p:grpSpPr>
        <p:sp>
          <p:nvSpPr>
            <p:cNvPr id="1746" name=""/>
            <p:cNvSpPr/>
            <p:nvPr/>
          </p:nvSpPr>
          <p:spPr>
            <a:xfrm>
              <a:off x="1576440" y="963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2079720" y="4675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3814920" y="1060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9"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1750" name="Ink 5"/>
          <p:cNvSpPr/>
          <p:nvPr/>
        </p:nvSpPr>
        <p:spPr>
          <a:xfrm>
            <a:off x="1325520" y="3554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1" name="Group 14"/>
          <p:cNvGrpSpPr/>
          <p:nvPr/>
        </p:nvGrpSpPr>
        <p:grpSpPr>
          <a:xfrm>
            <a:off x="1249200" y="4011480"/>
            <a:ext cx="381240" cy="381240"/>
            <a:chOff x="1249200" y="4011480"/>
            <a:chExt cx="381240" cy="381240"/>
          </a:xfrm>
        </p:grpSpPr>
        <p:sp>
          <p:nvSpPr>
            <p:cNvPr id="1752" name="Ink 15"/>
            <p:cNvSpPr/>
            <p:nvPr/>
          </p:nvSpPr>
          <p:spPr>
            <a:xfrm>
              <a:off x="1249200" y="4011480"/>
              <a:ext cx="37044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Ink 16"/>
            <p:cNvSpPr/>
            <p:nvPr/>
          </p:nvSpPr>
          <p:spPr>
            <a:xfrm>
              <a:off x="1301400" y="4150080"/>
              <a:ext cx="32904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4" name=""/>
          <p:cNvSpPr/>
          <p:nvPr/>
        </p:nvSpPr>
        <p:spPr>
          <a:xfrm>
            <a:off x="1325520" y="4468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1756" name="Ink 61"/>
          <p:cNvSpPr/>
          <p:nvPr/>
        </p:nvSpPr>
        <p:spPr>
          <a:xfrm>
            <a:off x="868320" y="2792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1758" name=""/>
          <p:cNvGrpSpPr/>
          <p:nvPr/>
        </p:nvGrpSpPr>
        <p:grpSpPr>
          <a:xfrm>
            <a:off x="1249200" y="1725480"/>
            <a:ext cx="533160" cy="457200"/>
            <a:chOff x="1249200" y="1725480"/>
            <a:chExt cx="533160" cy="457200"/>
          </a:xfrm>
        </p:grpSpPr>
        <p:sp>
          <p:nvSpPr>
            <p:cNvPr id="1759" name=""/>
            <p:cNvSpPr/>
            <p:nvPr/>
          </p:nvSpPr>
          <p:spPr>
            <a:xfrm>
              <a:off x="14626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0" name="Group 12"/>
            <p:cNvGrpSpPr/>
            <p:nvPr/>
          </p:nvGrpSpPr>
          <p:grpSpPr>
            <a:xfrm>
              <a:off x="1249200" y="1725480"/>
              <a:ext cx="533160" cy="457200"/>
              <a:chOff x="1249200" y="1725480"/>
              <a:chExt cx="533160" cy="457200"/>
            </a:xfrm>
          </p:grpSpPr>
          <p:sp>
            <p:nvSpPr>
              <p:cNvPr id="1761" name="Ink 13"/>
              <p:cNvSpPr/>
              <p:nvPr/>
            </p:nvSpPr>
            <p:spPr>
              <a:xfrm>
                <a:off x="1249200" y="1742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Ink 14"/>
              <p:cNvSpPr/>
              <p:nvPr/>
            </p:nvSpPr>
            <p:spPr>
              <a:xfrm>
                <a:off x="1262160" y="1725480"/>
                <a:ext cx="51624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763" name="Ink 15"/>
              <p:cNvSpPr/>
              <p:nvPr/>
            </p:nvSpPr>
            <p:spPr>
              <a:xfrm>
                <a:off x="1768680" y="1742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Ink 16"/>
              <p:cNvSpPr/>
              <p:nvPr/>
            </p:nvSpPr>
            <p:spPr>
              <a:xfrm>
                <a:off x="1274760" y="2170080"/>
                <a:ext cx="50760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1765" name=""/>
            <p:cNvSpPr/>
            <p:nvPr/>
          </p:nvSpPr>
          <p:spPr>
            <a:xfrm>
              <a:off x="162252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13024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7" name=""/>
          <p:cNvGrpSpPr/>
          <p:nvPr/>
        </p:nvGrpSpPr>
        <p:grpSpPr>
          <a:xfrm>
            <a:off x="1630440" y="1344600"/>
            <a:ext cx="501120" cy="304920"/>
            <a:chOff x="1630440" y="1344600"/>
            <a:chExt cx="501120" cy="304920"/>
          </a:xfrm>
        </p:grpSpPr>
        <p:sp>
          <p:nvSpPr>
            <p:cNvPr id="1768" name=""/>
            <p:cNvSpPr/>
            <p:nvPr/>
          </p:nvSpPr>
          <p:spPr>
            <a:xfrm>
              <a:off x="180540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198072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163044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1" name=""/>
          <p:cNvSpPr/>
          <p:nvPr/>
        </p:nvSpPr>
        <p:spPr>
          <a:xfrm>
            <a:off x="2239920" y="1192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3" name=""/>
          <p:cNvGrpSpPr/>
          <p:nvPr/>
        </p:nvGrpSpPr>
        <p:grpSpPr>
          <a:xfrm>
            <a:off x="4952880" y="380880"/>
            <a:ext cx="888840" cy="747000"/>
            <a:chOff x="4952880" y="380880"/>
            <a:chExt cx="888840" cy="747000"/>
          </a:xfrm>
        </p:grpSpPr>
        <p:sp>
          <p:nvSpPr>
            <p:cNvPr id="1774"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1776"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1777"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1778"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1779"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1780"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1781"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3" name="Group 101"/>
          <p:cNvGrpSpPr/>
          <p:nvPr/>
        </p:nvGrpSpPr>
        <p:grpSpPr>
          <a:xfrm>
            <a:off x="6553080" y="2362320"/>
            <a:ext cx="304560" cy="518400"/>
            <a:chOff x="6553080" y="2362320"/>
            <a:chExt cx="304560" cy="518400"/>
          </a:xfrm>
        </p:grpSpPr>
        <p:grpSp>
          <p:nvGrpSpPr>
            <p:cNvPr id="1784" name="Group 79"/>
            <p:cNvGrpSpPr/>
            <p:nvPr/>
          </p:nvGrpSpPr>
          <p:grpSpPr>
            <a:xfrm>
              <a:off x="6553080" y="2362320"/>
              <a:ext cx="304560" cy="518400"/>
              <a:chOff x="6553080" y="2362320"/>
              <a:chExt cx="304560" cy="518400"/>
            </a:xfrm>
          </p:grpSpPr>
          <p:sp>
            <p:nvSpPr>
              <p:cNvPr id="1785"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787"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89"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91"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96"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797"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98"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9"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0"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1801"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2" name="Group 14"/>
          <p:cNvGrpSpPr/>
          <p:nvPr/>
        </p:nvGrpSpPr>
        <p:grpSpPr>
          <a:xfrm>
            <a:off x="6629400" y="3962520"/>
            <a:ext cx="380520" cy="380880"/>
            <a:chOff x="6629400" y="3962520"/>
            <a:chExt cx="380520" cy="380880"/>
          </a:xfrm>
        </p:grpSpPr>
        <p:sp>
          <p:nvSpPr>
            <p:cNvPr id="1803"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5"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1808"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
          <p:cNvSpPr/>
          <p:nvPr/>
        </p:nvSpPr>
        <p:spPr>
          <a:xfrm>
            <a:off x="4662360" y="1703520"/>
            <a:ext cx="230400" cy="32364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5184720" y="242100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5106960" y="3765600"/>
            <a:ext cx="21924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3924360" y="436248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2968560" y="3903840"/>
            <a:ext cx="20016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a:off x="2754360" y="3059280"/>
            <a:ext cx="258840" cy="9972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3192480" y="2292480"/>
            <a:ext cx="290520" cy="16020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29552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Whiteboard"/>
              </a:rPr>
              <a:t>ibm</a:t>
            </a:r>
            <a:endParaRPr b="0" lang="en-US" sz="2400" spc="-1" strike="noStrike">
              <a:solidFill>
                <a:srgbClr val="000000"/>
              </a:solidFill>
              <a:latin typeface="Arial"/>
            </a:endParaRPr>
          </a:p>
        </p:txBody>
      </p:sp>
      <p:sp>
        <p:nvSpPr>
          <p:cNvPr id="1817" name=""/>
          <p:cNvSpPr/>
          <p:nvPr/>
        </p:nvSpPr>
        <p:spPr>
          <a:xfrm>
            <a:off x="3505320" y="1371600"/>
            <a:ext cx="307800" cy="45720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8"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819" name=""/>
          <p:cNvSpPr/>
          <p:nvPr/>
        </p:nvSpPr>
        <p:spPr>
          <a:xfrm>
            <a:off x="411120" y="609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0"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821"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822"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823"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824" name=""/>
          <p:cNvGrpSpPr/>
          <p:nvPr/>
        </p:nvGrpSpPr>
        <p:grpSpPr>
          <a:xfrm>
            <a:off x="1576440" y="963720"/>
            <a:ext cx="5052960" cy="4521240"/>
            <a:chOff x="1576440" y="963720"/>
            <a:chExt cx="5052960" cy="4521240"/>
          </a:xfrm>
        </p:grpSpPr>
        <p:sp>
          <p:nvSpPr>
            <p:cNvPr id="1825" name=""/>
            <p:cNvSpPr/>
            <p:nvPr/>
          </p:nvSpPr>
          <p:spPr>
            <a:xfrm>
              <a:off x="1576440" y="963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2079720" y="4675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3814920" y="1060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8"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1829" name="Ink 5"/>
          <p:cNvSpPr/>
          <p:nvPr/>
        </p:nvSpPr>
        <p:spPr>
          <a:xfrm>
            <a:off x="1325520" y="3554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0" name="Group 14"/>
          <p:cNvGrpSpPr/>
          <p:nvPr/>
        </p:nvGrpSpPr>
        <p:grpSpPr>
          <a:xfrm>
            <a:off x="1249200" y="4011480"/>
            <a:ext cx="381240" cy="381240"/>
            <a:chOff x="1249200" y="4011480"/>
            <a:chExt cx="381240" cy="381240"/>
          </a:xfrm>
        </p:grpSpPr>
        <p:sp>
          <p:nvSpPr>
            <p:cNvPr id="1831" name="Ink 15"/>
            <p:cNvSpPr/>
            <p:nvPr/>
          </p:nvSpPr>
          <p:spPr>
            <a:xfrm>
              <a:off x="1249200" y="4011480"/>
              <a:ext cx="37044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Ink 16"/>
            <p:cNvSpPr/>
            <p:nvPr/>
          </p:nvSpPr>
          <p:spPr>
            <a:xfrm>
              <a:off x="1301400" y="4150080"/>
              <a:ext cx="32904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3" name=""/>
          <p:cNvSpPr/>
          <p:nvPr/>
        </p:nvSpPr>
        <p:spPr>
          <a:xfrm>
            <a:off x="1325520" y="4468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1835" name="Ink 61"/>
          <p:cNvSpPr/>
          <p:nvPr/>
        </p:nvSpPr>
        <p:spPr>
          <a:xfrm>
            <a:off x="868320" y="2792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1837" name=""/>
          <p:cNvGrpSpPr/>
          <p:nvPr/>
        </p:nvGrpSpPr>
        <p:grpSpPr>
          <a:xfrm>
            <a:off x="1249200" y="1725480"/>
            <a:ext cx="533160" cy="457200"/>
            <a:chOff x="1249200" y="1725480"/>
            <a:chExt cx="533160" cy="457200"/>
          </a:xfrm>
        </p:grpSpPr>
        <p:sp>
          <p:nvSpPr>
            <p:cNvPr id="1838" name=""/>
            <p:cNvSpPr/>
            <p:nvPr/>
          </p:nvSpPr>
          <p:spPr>
            <a:xfrm>
              <a:off x="14626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9" name="Group 12"/>
            <p:cNvGrpSpPr/>
            <p:nvPr/>
          </p:nvGrpSpPr>
          <p:grpSpPr>
            <a:xfrm>
              <a:off x="1249200" y="1725480"/>
              <a:ext cx="533160" cy="457200"/>
              <a:chOff x="1249200" y="1725480"/>
              <a:chExt cx="533160" cy="457200"/>
            </a:xfrm>
          </p:grpSpPr>
          <p:sp>
            <p:nvSpPr>
              <p:cNvPr id="1840" name="Ink 13"/>
              <p:cNvSpPr/>
              <p:nvPr/>
            </p:nvSpPr>
            <p:spPr>
              <a:xfrm>
                <a:off x="1249200" y="1742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Ink 14"/>
              <p:cNvSpPr/>
              <p:nvPr/>
            </p:nvSpPr>
            <p:spPr>
              <a:xfrm>
                <a:off x="1262160" y="1725480"/>
                <a:ext cx="51624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842" name="Ink 15"/>
              <p:cNvSpPr/>
              <p:nvPr/>
            </p:nvSpPr>
            <p:spPr>
              <a:xfrm>
                <a:off x="1768680" y="1742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Ink 16"/>
              <p:cNvSpPr/>
              <p:nvPr/>
            </p:nvSpPr>
            <p:spPr>
              <a:xfrm>
                <a:off x="1274760" y="2170080"/>
                <a:ext cx="50760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1844" name=""/>
            <p:cNvSpPr/>
            <p:nvPr/>
          </p:nvSpPr>
          <p:spPr>
            <a:xfrm>
              <a:off x="162252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13024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6" name=""/>
          <p:cNvGrpSpPr/>
          <p:nvPr/>
        </p:nvGrpSpPr>
        <p:grpSpPr>
          <a:xfrm>
            <a:off x="1630440" y="1344600"/>
            <a:ext cx="501120" cy="304920"/>
            <a:chOff x="1630440" y="1344600"/>
            <a:chExt cx="501120" cy="304920"/>
          </a:xfrm>
        </p:grpSpPr>
        <p:sp>
          <p:nvSpPr>
            <p:cNvPr id="1847" name=""/>
            <p:cNvSpPr/>
            <p:nvPr/>
          </p:nvSpPr>
          <p:spPr>
            <a:xfrm>
              <a:off x="180540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198072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163044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0" name=""/>
          <p:cNvSpPr/>
          <p:nvPr/>
        </p:nvSpPr>
        <p:spPr>
          <a:xfrm>
            <a:off x="2239920" y="1192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2" name=""/>
          <p:cNvGrpSpPr/>
          <p:nvPr/>
        </p:nvGrpSpPr>
        <p:grpSpPr>
          <a:xfrm>
            <a:off x="4952880" y="380880"/>
            <a:ext cx="888840" cy="747000"/>
            <a:chOff x="4952880" y="380880"/>
            <a:chExt cx="888840" cy="747000"/>
          </a:xfrm>
        </p:grpSpPr>
        <p:sp>
          <p:nvSpPr>
            <p:cNvPr id="1853"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1855"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1856"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1857"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1858"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1859"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1860"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2" name="Group 101"/>
          <p:cNvGrpSpPr/>
          <p:nvPr/>
        </p:nvGrpSpPr>
        <p:grpSpPr>
          <a:xfrm>
            <a:off x="6553080" y="2362320"/>
            <a:ext cx="304560" cy="518400"/>
            <a:chOff x="6553080" y="2362320"/>
            <a:chExt cx="304560" cy="518400"/>
          </a:xfrm>
        </p:grpSpPr>
        <p:grpSp>
          <p:nvGrpSpPr>
            <p:cNvPr id="1863" name="Group 79"/>
            <p:cNvGrpSpPr/>
            <p:nvPr/>
          </p:nvGrpSpPr>
          <p:grpSpPr>
            <a:xfrm>
              <a:off x="6553080" y="2362320"/>
              <a:ext cx="304560" cy="518400"/>
              <a:chOff x="6553080" y="2362320"/>
              <a:chExt cx="304560" cy="518400"/>
            </a:xfrm>
          </p:grpSpPr>
          <p:sp>
            <p:nvSpPr>
              <p:cNvPr id="1864"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66"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68"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70"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75"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876"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77"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8"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9"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1880"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1" name="Group 14"/>
          <p:cNvGrpSpPr/>
          <p:nvPr/>
        </p:nvGrpSpPr>
        <p:grpSpPr>
          <a:xfrm>
            <a:off x="6629400" y="3962520"/>
            <a:ext cx="380520" cy="380880"/>
            <a:chOff x="6629400" y="3962520"/>
            <a:chExt cx="380520" cy="380880"/>
          </a:xfrm>
        </p:grpSpPr>
        <p:sp>
          <p:nvSpPr>
            <p:cNvPr id="1882"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4"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1887"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4662360" y="1703520"/>
            <a:ext cx="230400" cy="32364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5184720" y="242100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5106960" y="3765600"/>
            <a:ext cx="21924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3924360" y="436248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2968560" y="3903840"/>
            <a:ext cx="20016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2754360" y="3059280"/>
            <a:ext cx="258840" cy="9972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3192480" y="2292480"/>
            <a:ext cx="290520" cy="16020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3048120" y="2133720"/>
            <a:ext cx="260496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29552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Whiteboard"/>
              </a:rPr>
              <a:t>ibm</a:t>
            </a:r>
            <a:endParaRPr b="0" lang="en-US" sz="2400" spc="-1" strike="noStrike">
              <a:solidFill>
                <a:srgbClr val="000000"/>
              </a:solidFill>
              <a:latin typeface="Arial"/>
            </a:endParaRPr>
          </a:p>
        </p:txBody>
      </p:sp>
      <p:sp>
        <p:nvSpPr>
          <p:cNvPr id="1897" name=""/>
          <p:cNvSpPr/>
          <p:nvPr/>
        </p:nvSpPr>
        <p:spPr>
          <a:xfrm>
            <a:off x="3505320" y="1371600"/>
            <a:ext cx="307800" cy="45720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899" name=""/>
          <p:cNvSpPr/>
          <p:nvPr/>
        </p:nvSpPr>
        <p:spPr>
          <a:xfrm>
            <a:off x="411120" y="609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0"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901"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902"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903"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904" name=""/>
          <p:cNvGrpSpPr/>
          <p:nvPr/>
        </p:nvGrpSpPr>
        <p:grpSpPr>
          <a:xfrm>
            <a:off x="1576440" y="963720"/>
            <a:ext cx="5052960" cy="4521240"/>
            <a:chOff x="1576440" y="963720"/>
            <a:chExt cx="5052960" cy="4521240"/>
          </a:xfrm>
        </p:grpSpPr>
        <p:sp>
          <p:nvSpPr>
            <p:cNvPr id="1905" name=""/>
            <p:cNvSpPr/>
            <p:nvPr/>
          </p:nvSpPr>
          <p:spPr>
            <a:xfrm>
              <a:off x="1576440" y="963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a:off x="2079720" y="4675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3814920" y="1060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8"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1909" name="Ink 5"/>
          <p:cNvSpPr/>
          <p:nvPr/>
        </p:nvSpPr>
        <p:spPr>
          <a:xfrm>
            <a:off x="1325520" y="3554280"/>
            <a:ext cx="239760" cy="40824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0" name="Group 14"/>
          <p:cNvGrpSpPr/>
          <p:nvPr/>
        </p:nvGrpSpPr>
        <p:grpSpPr>
          <a:xfrm>
            <a:off x="1249200" y="4011480"/>
            <a:ext cx="381240" cy="381240"/>
            <a:chOff x="1249200" y="4011480"/>
            <a:chExt cx="381240" cy="381240"/>
          </a:xfrm>
        </p:grpSpPr>
        <p:sp>
          <p:nvSpPr>
            <p:cNvPr id="1911" name="Ink 15"/>
            <p:cNvSpPr/>
            <p:nvPr/>
          </p:nvSpPr>
          <p:spPr>
            <a:xfrm>
              <a:off x="1249200" y="4011480"/>
              <a:ext cx="370440" cy="38124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Ink 16"/>
            <p:cNvSpPr/>
            <p:nvPr/>
          </p:nvSpPr>
          <p:spPr>
            <a:xfrm>
              <a:off x="1301400" y="4150080"/>
              <a:ext cx="32904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3" name=""/>
          <p:cNvSpPr/>
          <p:nvPr/>
        </p:nvSpPr>
        <p:spPr>
          <a:xfrm>
            <a:off x="1325520" y="4468680"/>
            <a:ext cx="277920" cy="32724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1915" name="Ink 61"/>
          <p:cNvSpPr/>
          <p:nvPr/>
        </p:nvSpPr>
        <p:spPr>
          <a:xfrm>
            <a:off x="868320" y="279252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1917" name=""/>
          <p:cNvGrpSpPr/>
          <p:nvPr/>
        </p:nvGrpSpPr>
        <p:grpSpPr>
          <a:xfrm>
            <a:off x="1249200" y="1725480"/>
            <a:ext cx="533160" cy="457200"/>
            <a:chOff x="1249200" y="1725480"/>
            <a:chExt cx="533160" cy="457200"/>
          </a:xfrm>
        </p:grpSpPr>
        <p:sp>
          <p:nvSpPr>
            <p:cNvPr id="1918" name=""/>
            <p:cNvSpPr/>
            <p:nvPr/>
          </p:nvSpPr>
          <p:spPr>
            <a:xfrm>
              <a:off x="14626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9" name="Group 12"/>
            <p:cNvGrpSpPr/>
            <p:nvPr/>
          </p:nvGrpSpPr>
          <p:grpSpPr>
            <a:xfrm>
              <a:off x="1249200" y="1725480"/>
              <a:ext cx="533160" cy="457200"/>
              <a:chOff x="1249200" y="1725480"/>
              <a:chExt cx="533160" cy="457200"/>
            </a:xfrm>
          </p:grpSpPr>
          <p:sp>
            <p:nvSpPr>
              <p:cNvPr id="1920" name="Ink 13"/>
              <p:cNvSpPr/>
              <p:nvPr/>
            </p:nvSpPr>
            <p:spPr>
              <a:xfrm>
                <a:off x="1249200" y="17424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Ink 14"/>
              <p:cNvSpPr/>
              <p:nvPr/>
            </p:nvSpPr>
            <p:spPr>
              <a:xfrm>
                <a:off x="1262160" y="1725480"/>
                <a:ext cx="51624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922" name="Ink 15"/>
              <p:cNvSpPr/>
              <p:nvPr/>
            </p:nvSpPr>
            <p:spPr>
              <a:xfrm>
                <a:off x="1768680" y="17427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Ink 16"/>
              <p:cNvSpPr/>
              <p:nvPr/>
            </p:nvSpPr>
            <p:spPr>
              <a:xfrm>
                <a:off x="1274760" y="2170080"/>
                <a:ext cx="50760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1924" name=""/>
            <p:cNvSpPr/>
            <p:nvPr/>
          </p:nvSpPr>
          <p:spPr>
            <a:xfrm>
              <a:off x="162252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1302480" y="18396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6" name=""/>
          <p:cNvGrpSpPr/>
          <p:nvPr/>
        </p:nvGrpSpPr>
        <p:grpSpPr>
          <a:xfrm>
            <a:off x="1630440" y="1344600"/>
            <a:ext cx="501120" cy="304920"/>
            <a:chOff x="1630440" y="1344600"/>
            <a:chExt cx="501120" cy="304920"/>
          </a:xfrm>
        </p:grpSpPr>
        <p:sp>
          <p:nvSpPr>
            <p:cNvPr id="1927" name=""/>
            <p:cNvSpPr/>
            <p:nvPr/>
          </p:nvSpPr>
          <p:spPr>
            <a:xfrm>
              <a:off x="180540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198072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1630440" y="134460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0" name=""/>
          <p:cNvSpPr/>
          <p:nvPr/>
        </p:nvSpPr>
        <p:spPr>
          <a:xfrm>
            <a:off x="2239920" y="119232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2" name=""/>
          <p:cNvGrpSpPr/>
          <p:nvPr/>
        </p:nvGrpSpPr>
        <p:grpSpPr>
          <a:xfrm>
            <a:off x="4952880" y="380880"/>
            <a:ext cx="888840" cy="747000"/>
            <a:chOff x="4952880" y="380880"/>
            <a:chExt cx="888840" cy="747000"/>
          </a:xfrm>
        </p:grpSpPr>
        <p:sp>
          <p:nvSpPr>
            <p:cNvPr id="1933"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1935"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1936"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1937"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1938"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1939"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1940"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2" name="Group 101"/>
          <p:cNvGrpSpPr/>
          <p:nvPr/>
        </p:nvGrpSpPr>
        <p:grpSpPr>
          <a:xfrm>
            <a:off x="6553080" y="2362320"/>
            <a:ext cx="304560" cy="518400"/>
            <a:chOff x="6553080" y="2362320"/>
            <a:chExt cx="304560" cy="518400"/>
          </a:xfrm>
        </p:grpSpPr>
        <p:grpSp>
          <p:nvGrpSpPr>
            <p:cNvPr id="1943" name="Group 79"/>
            <p:cNvGrpSpPr/>
            <p:nvPr/>
          </p:nvGrpSpPr>
          <p:grpSpPr>
            <a:xfrm>
              <a:off x="6553080" y="2362320"/>
              <a:ext cx="304560" cy="518400"/>
              <a:chOff x="6553080" y="2362320"/>
              <a:chExt cx="304560" cy="518400"/>
            </a:xfrm>
          </p:grpSpPr>
          <p:sp>
            <p:nvSpPr>
              <p:cNvPr id="1944"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946"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48"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950"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55"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56"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7"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8"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9"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1960"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1" name="Group 14"/>
          <p:cNvGrpSpPr/>
          <p:nvPr/>
        </p:nvGrpSpPr>
        <p:grpSpPr>
          <a:xfrm>
            <a:off x="6629400" y="3962520"/>
            <a:ext cx="380520" cy="380880"/>
            <a:chOff x="6629400" y="3962520"/>
            <a:chExt cx="380520" cy="380880"/>
          </a:xfrm>
        </p:grpSpPr>
        <p:sp>
          <p:nvSpPr>
            <p:cNvPr id="1962"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4" name=""/>
          <p:cNvSpPr/>
          <p:nvPr/>
        </p:nvSpPr>
        <p:spPr>
          <a:xfrm>
            <a:off x="6856560" y="386568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1967"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
          <p:cNvSpPr/>
          <p:nvPr/>
        </p:nvSpPr>
        <p:spPr>
          <a:xfrm>
            <a:off x="4662360" y="1703520"/>
            <a:ext cx="230400" cy="32364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
          <p:cNvSpPr/>
          <p:nvPr/>
        </p:nvSpPr>
        <p:spPr>
          <a:xfrm>
            <a:off x="5184720" y="242100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a:off x="5106960" y="3765600"/>
            <a:ext cx="21924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
          <p:cNvSpPr/>
          <p:nvPr/>
        </p:nvSpPr>
        <p:spPr>
          <a:xfrm>
            <a:off x="3924360" y="436248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2968560" y="3903840"/>
            <a:ext cx="20016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2754360" y="3059280"/>
            <a:ext cx="258840" cy="9972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3192480" y="2292480"/>
            <a:ext cx="290520" cy="16020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
          <p:cNvSpPr/>
          <p:nvPr/>
        </p:nvSpPr>
        <p:spPr>
          <a:xfrm>
            <a:off x="3048120" y="2133720"/>
            <a:ext cx="260496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6" name=""/>
          <p:cNvSpPr/>
          <p:nvPr/>
        </p:nvSpPr>
        <p:spPr>
          <a:xfrm>
            <a:off x="29552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Whiteboard"/>
              </a:rPr>
              <a:t>ibm</a:t>
            </a:r>
            <a:endParaRPr b="0" lang="en-US" sz="2400" spc="-1" strike="noStrike">
              <a:solidFill>
                <a:srgbClr val="000000"/>
              </a:solidFill>
              <a:latin typeface="Arial"/>
            </a:endParaRPr>
          </a:p>
        </p:txBody>
      </p:sp>
      <p:sp>
        <p:nvSpPr>
          <p:cNvPr id="1977" name=""/>
          <p:cNvSpPr/>
          <p:nvPr/>
        </p:nvSpPr>
        <p:spPr>
          <a:xfrm>
            <a:off x="3505320" y="1371600"/>
            <a:ext cx="307800" cy="45720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
          <p:cNvSpPr/>
          <p:nvPr/>
        </p:nvSpPr>
        <p:spPr>
          <a:xfrm>
            <a:off x="3429000" y="1371600"/>
            <a:ext cx="544680" cy="53352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1980"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81"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1982"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1983"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1984"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985" name=""/>
          <p:cNvGrpSpPr/>
          <p:nvPr/>
        </p:nvGrpSpPr>
        <p:grpSpPr>
          <a:xfrm>
            <a:off x="1600200" y="974880"/>
            <a:ext cx="5052960" cy="4520520"/>
            <a:chOff x="1600200" y="974880"/>
            <a:chExt cx="5052960" cy="4520520"/>
          </a:xfrm>
        </p:grpSpPr>
        <p:sp>
          <p:nvSpPr>
            <p:cNvPr id="1986" name=""/>
            <p:cNvSpPr/>
            <p:nvPr/>
          </p:nvSpPr>
          <p:spPr>
            <a:xfrm>
              <a:off x="1600200" y="974880"/>
              <a:ext cx="5052960" cy="425592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2103480" y="4686120"/>
              <a:ext cx="3417840" cy="80928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3838680" y="1071360"/>
              <a:ext cx="239760" cy="23616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9"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1990" name="Ink 5"/>
          <p:cNvSpPr/>
          <p:nvPr/>
        </p:nvSpPr>
        <p:spPr>
          <a:xfrm>
            <a:off x="134136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91" name="Group 14"/>
          <p:cNvGrpSpPr/>
          <p:nvPr/>
        </p:nvGrpSpPr>
        <p:grpSpPr>
          <a:xfrm>
            <a:off x="1265400" y="4000680"/>
            <a:ext cx="380520" cy="380880"/>
            <a:chOff x="1265400" y="4000680"/>
            <a:chExt cx="380520" cy="380880"/>
          </a:xfrm>
        </p:grpSpPr>
        <p:sp>
          <p:nvSpPr>
            <p:cNvPr id="1992" name="Ink 15"/>
            <p:cNvSpPr/>
            <p:nvPr/>
          </p:nvSpPr>
          <p:spPr>
            <a:xfrm>
              <a:off x="126540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Ink 16"/>
            <p:cNvSpPr/>
            <p:nvPr/>
          </p:nvSpPr>
          <p:spPr>
            <a:xfrm>
              <a:off x="131724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4" name=""/>
          <p:cNvSpPr/>
          <p:nvPr/>
        </p:nvSpPr>
        <p:spPr>
          <a:xfrm>
            <a:off x="134136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1996" name="Ink 61"/>
          <p:cNvSpPr/>
          <p:nvPr/>
        </p:nvSpPr>
        <p:spPr>
          <a:xfrm>
            <a:off x="88416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1998" name=""/>
          <p:cNvGrpSpPr/>
          <p:nvPr/>
        </p:nvGrpSpPr>
        <p:grpSpPr>
          <a:xfrm>
            <a:off x="1265400" y="1714680"/>
            <a:ext cx="532800" cy="457200"/>
            <a:chOff x="1265400" y="1714680"/>
            <a:chExt cx="532800" cy="457200"/>
          </a:xfrm>
        </p:grpSpPr>
        <p:sp>
          <p:nvSpPr>
            <p:cNvPr id="1999" name=""/>
            <p:cNvSpPr/>
            <p:nvPr/>
          </p:nvSpPr>
          <p:spPr>
            <a:xfrm>
              <a:off x="1478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0" name="Group 12"/>
            <p:cNvGrpSpPr/>
            <p:nvPr/>
          </p:nvGrpSpPr>
          <p:grpSpPr>
            <a:xfrm>
              <a:off x="1265400" y="1714680"/>
              <a:ext cx="532800" cy="457200"/>
              <a:chOff x="1265400" y="1714680"/>
              <a:chExt cx="532800" cy="457200"/>
            </a:xfrm>
          </p:grpSpPr>
          <p:sp>
            <p:nvSpPr>
              <p:cNvPr id="2001" name="Ink 13"/>
              <p:cNvSpPr/>
              <p:nvPr/>
            </p:nvSpPr>
            <p:spPr>
              <a:xfrm>
                <a:off x="126540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Ink 14"/>
              <p:cNvSpPr/>
              <p:nvPr/>
            </p:nvSpPr>
            <p:spPr>
              <a:xfrm>
                <a:off x="127836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003" name="Ink 15"/>
              <p:cNvSpPr/>
              <p:nvPr/>
            </p:nvSpPr>
            <p:spPr>
              <a:xfrm>
                <a:off x="178452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Ink 16"/>
              <p:cNvSpPr/>
              <p:nvPr/>
            </p:nvSpPr>
            <p:spPr>
              <a:xfrm>
                <a:off x="129096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2005" name=""/>
            <p:cNvSpPr/>
            <p:nvPr/>
          </p:nvSpPr>
          <p:spPr>
            <a:xfrm>
              <a:off x="1638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131868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7" name=""/>
          <p:cNvGrpSpPr/>
          <p:nvPr/>
        </p:nvGrpSpPr>
        <p:grpSpPr>
          <a:xfrm>
            <a:off x="1646280" y="1333440"/>
            <a:ext cx="501120" cy="304920"/>
            <a:chOff x="1646280" y="1333440"/>
            <a:chExt cx="501120" cy="304920"/>
          </a:xfrm>
        </p:grpSpPr>
        <p:sp>
          <p:nvSpPr>
            <p:cNvPr id="2008" name=""/>
            <p:cNvSpPr/>
            <p:nvPr/>
          </p:nvSpPr>
          <p:spPr>
            <a:xfrm>
              <a:off x="182124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199656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16462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1" name=""/>
          <p:cNvSpPr/>
          <p:nvPr/>
        </p:nvSpPr>
        <p:spPr>
          <a:xfrm>
            <a:off x="225576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3" name=""/>
          <p:cNvGrpSpPr/>
          <p:nvPr/>
        </p:nvGrpSpPr>
        <p:grpSpPr>
          <a:xfrm>
            <a:off x="4952880" y="380880"/>
            <a:ext cx="884160" cy="747720"/>
            <a:chOff x="4952880" y="380880"/>
            <a:chExt cx="884160" cy="747720"/>
          </a:xfrm>
        </p:grpSpPr>
        <p:sp>
          <p:nvSpPr>
            <p:cNvPr id="2014" name=""/>
            <p:cNvSpPr/>
            <p:nvPr/>
          </p:nvSpPr>
          <p:spPr>
            <a:xfrm>
              <a:off x="4952880" y="380880"/>
              <a:ext cx="873000" cy="70020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2016" name=""/>
            <p:cNvSpPr/>
            <p:nvPr/>
          </p:nvSpPr>
          <p:spPr>
            <a:xfrm>
              <a:off x="4988520" y="74520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2017" name=""/>
            <p:cNvSpPr/>
            <p:nvPr/>
          </p:nvSpPr>
          <p:spPr>
            <a:xfrm>
              <a:off x="5395680" y="7912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2018"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2019"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2020"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2021"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3" name="Group 101"/>
          <p:cNvGrpSpPr/>
          <p:nvPr/>
        </p:nvGrpSpPr>
        <p:grpSpPr>
          <a:xfrm>
            <a:off x="6553080" y="2362320"/>
            <a:ext cx="304560" cy="518400"/>
            <a:chOff x="6553080" y="2362320"/>
            <a:chExt cx="304560" cy="518400"/>
          </a:xfrm>
        </p:grpSpPr>
        <p:grpSp>
          <p:nvGrpSpPr>
            <p:cNvPr id="2024" name="Group 79"/>
            <p:cNvGrpSpPr/>
            <p:nvPr/>
          </p:nvGrpSpPr>
          <p:grpSpPr>
            <a:xfrm>
              <a:off x="6553080" y="2362320"/>
              <a:ext cx="304560" cy="518400"/>
              <a:chOff x="6553080" y="2362320"/>
              <a:chExt cx="304560" cy="518400"/>
            </a:xfrm>
          </p:grpSpPr>
          <p:sp>
            <p:nvSpPr>
              <p:cNvPr id="2025"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027"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29"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031"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36"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37"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38"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9"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0"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2041"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2" name="Group 14"/>
          <p:cNvGrpSpPr/>
          <p:nvPr/>
        </p:nvGrpSpPr>
        <p:grpSpPr>
          <a:xfrm>
            <a:off x="6629400" y="3962520"/>
            <a:ext cx="380520" cy="380880"/>
            <a:chOff x="6629400" y="3962520"/>
            <a:chExt cx="380520" cy="380880"/>
          </a:xfrm>
        </p:grpSpPr>
        <p:sp>
          <p:nvSpPr>
            <p:cNvPr id="2043"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5"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2048" name=""/>
          <p:cNvSpPr/>
          <p:nvPr/>
        </p:nvSpPr>
        <p:spPr>
          <a:xfrm>
            <a:off x="3657600" y="558324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a:off x="4686480" y="1665360"/>
            <a:ext cx="230040" cy="32364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5219640" y="240984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3962520" y="434664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2971800" y="3906720"/>
            <a:ext cx="200160" cy="16524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2743200" y="3048120"/>
            <a:ext cx="258840" cy="9972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5181480" y="3809880"/>
            <a:ext cx="21924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a:off x="3200400" y="2286000"/>
            <a:ext cx="290520" cy="23652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4389480" y="2514600"/>
            <a:ext cx="639720" cy="60480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hiteboard"/>
              </a:rPr>
              <a:t>p</a:t>
            </a:r>
            <a:endParaRPr b="0" lang="en-US" sz="1600" spc="-1" strike="noStrike">
              <a:solidFill>
                <a:srgbClr val="000000"/>
              </a:solidFill>
              <a:latin typeface="Arial"/>
            </a:endParaRPr>
          </a:p>
        </p:txBody>
      </p:sp>
      <p:sp>
        <p:nvSpPr>
          <p:cNvPr id="2058"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sp>
        <p:nvSpPr>
          <p:cNvPr id="2059" name=""/>
          <p:cNvSpPr/>
          <p:nvPr/>
        </p:nvSpPr>
        <p:spPr>
          <a:xfrm>
            <a:off x="3124080" y="2133720"/>
            <a:ext cx="260532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3505320" y="1371600"/>
            <a:ext cx="307800" cy="45720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
          <p:cNvSpPr/>
          <p:nvPr/>
        </p:nvSpPr>
        <p:spPr>
          <a:xfrm>
            <a:off x="3429000" y="1371600"/>
            <a:ext cx="544680" cy="53352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2"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2063"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64"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2065"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2066"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2067"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2068" name=""/>
          <p:cNvGrpSpPr/>
          <p:nvPr/>
        </p:nvGrpSpPr>
        <p:grpSpPr>
          <a:xfrm>
            <a:off x="1600200" y="974880"/>
            <a:ext cx="5052960" cy="4520520"/>
            <a:chOff x="1600200" y="974880"/>
            <a:chExt cx="5052960" cy="4520520"/>
          </a:xfrm>
        </p:grpSpPr>
        <p:sp>
          <p:nvSpPr>
            <p:cNvPr id="2069" name=""/>
            <p:cNvSpPr/>
            <p:nvPr/>
          </p:nvSpPr>
          <p:spPr>
            <a:xfrm>
              <a:off x="1600200" y="974880"/>
              <a:ext cx="5052960" cy="425592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
            <p:cNvSpPr/>
            <p:nvPr/>
          </p:nvSpPr>
          <p:spPr>
            <a:xfrm>
              <a:off x="2103480" y="4686120"/>
              <a:ext cx="3417840" cy="80928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
            <p:cNvSpPr/>
            <p:nvPr/>
          </p:nvSpPr>
          <p:spPr>
            <a:xfrm>
              <a:off x="3838680" y="1071360"/>
              <a:ext cx="239760" cy="23616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2"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2073" name="Ink 5"/>
          <p:cNvSpPr/>
          <p:nvPr/>
        </p:nvSpPr>
        <p:spPr>
          <a:xfrm>
            <a:off x="134136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74" name="Group 14"/>
          <p:cNvGrpSpPr/>
          <p:nvPr/>
        </p:nvGrpSpPr>
        <p:grpSpPr>
          <a:xfrm>
            <a:off x="1265400" y="4000680"/>
            <a:ext cx="380520" cy="380880"/>
            <a:chOff x="1265400" y="4000680"/>
            <a:chExt cx="380520" cy="380880"/>
          </a:xfrm>
        </p:grpSpPr>
        <p:sp>
          <p:nvSpPr>
            <p:cNvPr id="2075" name="Ink 15"/>
            <p:cNvSpPr/>
            <p:nvPr/>
          </p:nvSpPr>
          <p:spPr>
            <a:xfrm>
              <a:off x="126540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Ink 16"/>
            <p:cNvSpPr/>
            <p:nvPr/>
          </p:nvSpPr>
          <p:spPr>
            <a:xfrm>
              <a:off x="131724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7" name=""/>
          <p:cNvSpPr/>
          <p:nvPr/>
        </p:nvSpPr>
        <p:spPr>
          <a:xfrm>
            <a:off x="134136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2079" name="Ink 61"/>
          <p:cNvSpPr/>
          <p:nvPr/>
        </p:nvSpPr>
        <p:spPr>
          <a:xfrm>
            <a:off x="88416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2081" name=""/>
          <p:cNvGrpSpPr/>
          <p:nvPr/>
        </p:nvGrpSpPr>
        <p:grpSpPr>
          <a:xfrm>
            <a:off x="1265400" y="1714680"/>
            <a:ext cx="532800" cy="457200"/>
            <a:chOff x="1265400" y="1714680"/>
            <a:chExt cx="532800" cy="457200"/>
          </a:xfrm>
        </p:grpSpPr>
        <p:sp>
          <p:nvSpPr>
            <p:cNvPr id="2082" name=""/>
            <p:cNvSpPr/>
            <p:nvPr/>
          </p:nvSpPr>
          <p:spPr>
            <a:xfrm>
              <a:off x="1478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3" name="Group 12"/>
            <p:cNvGrpSpPr/>
            <p:nvPr/>
          </p:nvGrpSpPr>
          <p:grpSpPr>
            <a:xfrm>
              <a:off x="1265400" y="1714680"/>
              <a:ext cx="532800" cy="457200"/>
              <a:chOff x="1265400" y="1714680"/>
              <a:chExt cx="532800" cy="457200"/>
            </a:xfrm>
          </p:grpSpPr>
          <p:sp>
            <p:nvSpPr>
              <p:cNvPr id="2084" name="Ink 13"/>
              <p:cNvSpPr/>
              <p:nvPr/>
            </p:nvSpPr>
            <p:spPr>
              <a:xfrm>
                <a:off x="126540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Ink 14"/>
              <p:cNvSpPr/>
              <p:nvPr/>
            </p:nvSpPr>
            <p:spPr>
              <a:xfrm>
                <a:off x="127836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086" name="Ink 15"/>
              <p:cNvSpPr/>
              <p:nvPr/>
            </p:nvSpPr>
            <p:spPr>
              <a:xfrm>
                <a:off x="178452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Ink 16"/>
              <p:cNvSpPr/>
              <p:nvPr/>
            </p:nvSpPr>
            <p:spPr>
              <a:xfrm>
                <a:off x="129096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2088" name=""/>
            <p:cNvSpPr/>
            <p:nvPr/>
          </p:nvSpPr>
          <p:spPr>
            <a:xfrm>
              <a:off x="1638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a:off x="131868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0" name=""/>
          <p:cNvGrpSpPr/>
          <p:nvPr/>
        </p:nvGrpSpPr>
        <p:grpSpPr>
          <a:xfrm>
            <a:off x="1646280" y="1333440"/>
            <a:ext cx="501120" cy="304920"/>
            <a:chOff x="1646280" y="1333440"/>
            <a:chExt cx="501120" cy="304920"/>
          </a:xfrm>
        </p:grpSpPr>
        <p:sp>
          <p:nvSpPr>
            <p:cNvPr id="2091" name=""/>
            <p:cNvSpPr/>
            <p:nvPr/>
          </p:nvSpPr>
          <p:spPr>
            <a:xfrm>
              <a:off x="182124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a:off x="199656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
            <p:cNvSpPr/>
            <p:nvPr/>
          </p:nvSpPr>
          <p:spPr>
            <a:xfrm>
              <a:off x="16462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4" name=""/>
          <p:cNvSpPr/>
          <p:nvPr/>
        </p:nvSpPr>
        <p:spPr>
          <a:xfrm>
            <a:off x="225576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96" name=""/>
          <p:cNvGrpSpPr/>
          <p:nvPr/>
        </p:nvGrpSpPr>
        <p:grpSpPr>
          <a:xfrm>
            <a:off x="4952880" y="380880"/>
            <a:ext cx="884160" cy="747720"/>
            <a:chOff x="4952880" y="380880"/>
            <a:chExt cx="884160" cy="747720"/>
          </a:xfrm>
        </p:grpSpPr>
        <p:sp>
          <p:nvSpPr>
            <p:cNvPr id="2097" name=""/>
            <p:cNvSpPr/>
            <p:nvPr/>
          </p:nvSpPr>
          <p:spPr>
            <a:xfrm>
              <a:off x="4952880" y="380880"/>
              <a:ext cx="873000" cy="70020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2099" name=""/>
            <p:cNvSpPr/>
            <p:nvPr/>
          </p:nvSpPr>
          <p:spPr>
            <a:xfrm>
              <a:off x="4988520" y="74520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2100" name=""/>
            <p:cNvSpPr/>
            <p:nvPr/>
          </p:nvSpPr>
          <p:spPr>
            <a:xfrm>
              <a:off x="5395680" y="7912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2101"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2102"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2103"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2104"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6" name="Group 101"/>
          <p:cNvGrpSpPr/>
          <p:nvPr/>
        </p:nvGrpSpPr>
        <p:grpSpPr>
          <a:xfrm>
            <a:off x="6553080" y="2362320"/>
            <a:ext cx="304560" cy="518400"/>
            <a:chOff x="6553080" y="2362320"/>
            <a:chExt cx="304560" cy="518400"/>
          </a:xfrm>
        </p:grpSpPr>
        <p:grpSp>
          <p:nvGrpSpPr>
            <p:cNvPr id="2107" name="Group 79"/>
            <p:cNvGrpSpPr/>
            <p:nvPr/>
          </p:nvGrpSpPr>
          <p:grpSpPr>
            <a:xfrm>
              <a:off x="6553080" y="2362320"/>
              <a:ext cx="304560" cy="518400"/>
              <a:chOff x="6553080" y="2362320"/>
              <a:chExt cx="304560" cy="518400"/>
            </a:xfrm>
          </p:grpSpPr>
          <p:sp>
            <p:nvSpPr>
              <p:cNvPr id="2108"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110"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12"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14"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19"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120"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21"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2"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3"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2124"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5" name="Group 14"/>
          <p:cNvGrpSpPr/>
          <p:nvPr/>
        </p:nvGrpSpPr>
        <p:grpSpPr>
          <a:xfrm>
            <a:off x="6629400" y="3962520"/>
            <a:ext cx="380520" cy="380880"/>
            <a:chOff x="6629400" y="3962520"/>
            <a:chExt cx="380520" cy="380880"/>
          </a:xfrm>
        </p:grpSpPr>
        <p:sp>
          <p:nvSpPr>
            <p:cNvPr id="2126"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8"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2131" name=""/>
          <p:cNvSpPr/>
          <p:nvPr/>
        </p:nvSpPr>
        <p:spPr>
          <a:xfrm>
            <a:off x="3657600" y="558324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a:off x="4686480" y="1665360"/>
            <a:ext cx="230040" cy="32364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
          <p:cNvSpPr/>
          <p:nvPr/>
        </p:nvSpPr>
        <p:spPr>
          <a:xfrm>
            <a:off x="5219640" y="240984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
          <p:cNvSpPr/>
          <p:nvPr/>
        </p:nvSpPr>
        <p:spPr>
          <a:xfrm>
            <a:off x="3962520" y="434664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
          <p:cNvSpPr/>
          <p:nvPr/>
        </p:nvSpPr>
        <p:spPr>
          <a:xfrm>
            <a:off x="2971800" y="3906720"/>
            <a:ext cx="200160" cy="16524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a:off x="2743200" y="3048120"/>
            <a:ext cx="258840" cy="9972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
          <p:cNvSpPr/>
          <p:nvPr/>
        </p:nvSpPr>
        <p:spPr>
          <a:xfrm>
            <a:off x="5181480" y="3809880"/>
            <a:ext cx="21924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a:off x="3200400" y="2286000"/>
            <a:ext cx="290520" cy="23652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3668760" y="3162240"/>
            <a:ext cx="880920" cy="64764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a:off x="4389480" y="2514600"/>
            <a:ext cx="639720" cy="60480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hiteboard"/>
              </a:rPr>
              <a:t>p</a:t>
            </a:r>
            <a:endParaRPr b="0" lang="en-US" sz="1600" spc="-1" strike="noStrike">
              <a:solidFill>
                <a:srgbClr val="000000"/>
              </a:solidFill>
              <a:latin typeface="Arial"/>
            </a:endParaRPr>
          </a:p>
        </p:txBody>
      </p:sp>
      <p:sp>
        <p:nvSpPr>
          <p:cNvPr id="2142"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hiteboard"/>
              </a:rPr>
              <a:t>Z</a:t>
            </a:r>
            <a:endParaRPr b="0" lang="en-US" sz="1600" spc="-1" strike="noStrike">
              <a:solidFill>
                <a:srgbClr val="000000"/>
              </a:solidFill>
              <a:latin typeface="Arial"/>
            </a:endParaRPr>
          </a:p>
        </p:txBody>
      </p:sp>
      <p:sp>
        <p:nvSpPr>
          <p:cNvPr id="2143"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sp>
        <p:nvSpPr>
          <p:cNvPr id="2144" name=""/>
          <p:cNvSpPr/>
          <p:nvPr/>
        </p:nvSpPr>
        <p:spPr>
          <a:xfrm>
            <a:off x="3124080" y="2133720"/>
            <a:ext cx="260532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
          <p:cNvSpPr/>
          <p:nvPr/>
        </p:nvSpPr>
        <p:spPr>
          <a:xfrm>
            <a:off x="3505320" y="1371600"/>
            <a:ext cx="307800" cy="45720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
          <p:cNvSpPr/>
          <p:nvPr/>
        </p:nvSpPr>
        <p:spPr>
          <a:xfrm>
            <a:off x="3429000" y="1371600"/>
            <a:ext cx="544680" cy="53352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7"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2148"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49"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2150"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2151"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2152"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2153" name=""/>
          <p:cNvGrpSpPr/>
          <p:nvPr/>
        </p:nvGrpSpPr>
        <p:grpSpPr>
          <a:xfrm>
            <a:off x="1600200" y="974880"/>
            <a:ext cx="5052960" cy="4520520"/>
            <a:chOff x="1600200" y="974880"/>
            <a:chExt cx="5052960" cy="4520520"/>
          </a:xfrm>
        </p:grpSpPr>
        <p:sp>
          <p:nvSpPr>
            <p:cNvPr id="2154" name=""/>
            <p:cNvSpPr/>
            <p:nvPr/>
          </p:nvSpPr>
          <p:spPr>
            <a:xfrm>
              <a:off x="1600200" y="974880"/>
              <a:ext cx="5052960" cy="425592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5" name=""/>
            <p:cNvSpPr/>
            <p:nvPr/>
          </p:nvSpPr>
          <p:spPr>
            <a:xfrm>
              <a:off x="2103480" y="4686120"/>
              <a:ext cx="3417840" cy="80928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
            <p:cNvSpPr/>
            <p:nvPr/>
          </p:nvSpPr>
          <p:spPr>
            <a:xfrm>
              <a:off x="3838680" y="1071360"/>
              <a:ext cx="239760" cy="23616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7"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2158" name="Ink 5"/>
          <p:cNvSpPr/>
          <p:nvPr/>
        </p:nvSpPr>
        <p:spPr>
          <a:xfrm>
            <a:off x="134136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59" name="Group 14"/>
          <p:cNvGrpSpPr/>
          <p:nvPr/>
        </p:nvGrpSpPr>
        <p:grpSpPr>
          <a:xfrm>
            <a:off x="1265400" y="4000680"/>
            <a:ext cx="380520" cy="380880"/>
            <a:chOff x="1265400" y="4000680"/>
            <a:chExt cx="380520" cy="380880"/>
          </a:xfrm>
        </p:grpSpPr>
        <p:sp>
          <p:nvSpPr>
            <p:cNvPr id="2160" name="Ink 15"/>
            <p:cNvSpPr/>
            <p:nvPr/>
          </p:nvSpPr>
          <p:spPr>
            <a:xfrm>
              <a:off x="126540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Ink 16"/>
            <p:cNvSpPr/>
            <p:nvPr/>
          </p:nvSpPr>
          <p:spPr>
            <a:xfrm>
              <a:off x="131724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2" name=""/>
          <p:cNvSpPr/>
          <p:nvPr/>
        </p:nvSpPr>
        <p:spPr>
          <a:xfrm>
            <a:off x="134136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2164" name="Ink 61"/>
          <p:cNvSpPr/>
          <p:nvPr/>
        </p:nvSpPr>
        <p:spPr>
          <a:xfrm>
            <a:off x="88416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2166" name=""/>
          <p:cNvGrpSpPr/>
          <p:nvPr/>
        </p:nvGrpSpPr>
        <p:grpSpPr>
          <a:xfrm>
            <a:off x="1265400" y="1714680"/>
            <a:ext cx="532800" cy="457200"/>
            <a:chOff x="1265400" y="1714680"/>
            <a:chExt cx="532800" cy="457200"/>
          </a:xfrm>
        </p:grpSpPr>
        <p:sp>
          <p:nvSpPr>
            <p:cNvPr id="2167" name=""/>
            <p:cNvSpPr/>
            <p:nvPr/>
          </p:nvSpPr>
          <p:spPr>
            <a:xfrm>
              <a:off x="1478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8" name="Group 12"/>
            <p:cNvGrpSpPr/>
            <p:nvPr/>
          </p:nvGrpSpPr>
          <p:grpSpPr>
            <a:xfrm>
              <a:off x="1265400" y="1714680"/>
              <a:ext cx="532800" cy="457200"/>
              <a:chOff x="1265400" y="1714680"/>
              <a:chExt cx="532800" cy="457200"/>
            </a:xfrm>
          </p:grpSpPr>
          <p:sp>
            <p:nvSpPr>
              <p:cNvPr id="2169" name="Ink 13"/>
              <p:cNvSpPr/>
              <p:nvPr/>
            </p:nvSpPr>
            <p:spPr>
              <a:xfrm>
                <a:off x="126540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Ink 14"/>
              <p:cNvSpPr/>
              <p:nvPr/>
            </p:nvSpPr>
            <p:spPr>
              <a:xfrm>
                <a:off x="127836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171" name="Ink 15"/>
              <p:cNvSpPr/>
              <p:nvPr/>
            </p:nvSpPr>
            <p:spPr>
              <a:xfrm>
                <a:off x="178452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Ink 16"/>
              <p:cNvSpPr/>
              <p:nvPr/>
            </p:nvSpPr>
            <p:spPr>
              <a:xfrm>
                <a:off x="129096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2173" name=""/>
            <p:cNvSpPr/>
            <p:nvPr/>
          </p:nvSpPr>
          <p:spPr>
            <a:xfrm>
              <a:off x="1638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
            <p:cNvSpPr/>
            <p:nvPr/>
          </p:nvSpPr>
          <p:spPr>
            <a:xfrm>
              <a:off x="131868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5" name=""/>
          <p:cNvGrpSpPr/>
          <p:nvPr/>
        </p:nvGrpSpPr>
        <p:grpSpPr>
          <a:xfrm>
            <a:off x="1646280" y="1333440"/>
            <a:ext cx="501120" cy="304920"/>
            <a:chOff x="1646280" y="1333440"/>
            <a:chExt cx="501120" cy="304920"/>
          </a:xfrm>
        </p:grpSpPr>
        <p:sp>
          <p:nvSpPr>
            <p:cNvPr id="2176" name=""/>
            <p:cNvSpPr/>
            <p:nvPr/>
          </p:nvSpPr>
          <p:spPr>
            <a:xfrm>
              <a:off x="182124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
            <p:cNvSpPr/>
            <p:nvPr/>
          </p:nvSpPr>
          <p:spPr>
            <a:xfrm>
              <a:off x="199656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
            <p:cNvSpPr/>
            <p:nvPr/>
          </p:nvSpPr>
          <p:spPr>
            <a:xfrm>
              <a:off x="16462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9" name=""/>
          <p:cNvSpPr/>
          <p:nvPr/>
        </p:nvSpPr>
        <p:spPr>
          <a:xfrm>
            <a:off x="225576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1" name=""/>
          <p:cNvGrpSpPr/>
          <p:nvPr/>
        </p:nvGrpSpPr>
        <p:grpSpPr>
          <a:xfrm>
            <a:off x="4952880" y="380880"/>
            <a:ext cx="884160" cy="747720"/>
            <a:chOff x="4952880" y="380880"/>
            <a:chExt cx="884160" cy="747720"/>
          </a:xfrm>
        </p:grpSpPr>
        <p:sp>
          <p:nvSpPr>
            <p:cNvPr id="2182" name=""/>
            <p:cNvSpPr/>
            <p:nvPr/>
          </p:nvSpPr>
          <p:spPr>
            <a:xfrm>
              <a:off x="4952880" y="380880"/>
              <a:ext cx="873000" cy="70020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2184" name=""/>
            <p:cNvSpPr/>
            <p:nvPr/>
          </p:nvSpPr>
          <p:spPr>
            <a:xfrm>
              <a:off x="4988520" y="74520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2185" name=""/>
            <p:cNvSpPr/>
            <p:nvPr/>
          </p:nvSpPr>
          <p:spPr>
            <a:xfrm>
              <a:off x="5395680" y="7912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2186"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2187"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2188"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2189"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91" name="Group 101"/>
          <p:cNvGrpSpPr/>
          <p:nvPr/>
        </p:nvGrpSpPr>
        <p:grpSpPr>
          <a:xfrm>
            <a:off x="6553080" y="2362320"/>
            <a:ext cx="304560" cy="518400"/>
            <a:chOff x="6553080" y="2362320"/>
            <a:chExt cx="304560" cy="518400"/>
          </a:xfrm>
        </p:grpSpPr>
        <p:grpSp>
          <p:nvGrpSpPr>
            <p:cNvPr id="2192" name="Group 79"/>
            <p:cNvGrpSpPr/>
            <p:nvPr/>
          </p:nvGrpSpPr>
          <p:grpSpPr>
            <a:xfrm>
              <a:off x="6553080" y="2362320"/>
              <a:ext cx="304560" cy="518400"/>
              <a:chOff x="6553080" y="2362320"/>
              <a:chExt cx="304560" cy="518400"/>
            </a:xfrm>
          </p:grpSpPr>
          <p:sp>
            <p:nvSpPr>
              <p:cNvPr id="2193"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195"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97"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99"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1"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04"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205"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06"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7"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8"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2209"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10" name="Group 14"/>
          <p:cNvGrpSpPr/>
          <p:nvPr/>
        </p:nvGrpSpPr>
        <p:grpSpPr>
          <a:xfrm>
            <a:off x="6629400" y="3962520"/>
            <a:ext cx="380520" cy="380880"/>
            <a:chOff x="6629400" y="3962520"/>
            <a:chExt cx="380520" cy="380880"/>
          </a:xfrm>
        </p:grpSpPr>
        <p:sp>
          <p:nvSpPr>
            <p:cNvPr id="2211"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3"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2216" name=""/>
          <p:cNvSpPr/>
          <p:nvPr/>
        </p:nvSpPr>
        <p:spPr>
          <a:xfrm>
            <a:off x="3657600" y="558324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
          <p:cNvSpPr/>
          <p:nvPr/>
        </p:nvSpPr>
        <p:spPr>
          <a:xfrm>
            <a:off x="4686480" y="1665360"/>
            <a:ext cx="230040" cy="32364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
          <p:cNvSpPr/>
          <p:nvPr/>
        </p:nvSpPr>
        <p:spPr>
          <a:xfrm>
            <a:off x="5219640" y="240984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
          <p:cNvSpPr/>
          <p:nvPr/>
        </p:nvSpPr>
        <p:spPr>
          <a:xfrm>
            <a:off x="3962520" y="434664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
          <p:cNvSpPr/>
          <p:nvPr/>
        </p:nvSpPr>
        <p:spPr>
          <a:xfrm>
            <a:off x="2971800" y="3906720"/>
            <a:ext cx="200160" cy="16524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
          <p:cNvSpPr/>
          <p:nvPr/>
        </p:nvSpPr>
        <p:spPr>
          <a:xfrm>
            <a:off x="2743200" y="3048120"/>
            <a:ext cx="258840" cy="9972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
          <p:cNvSpPr/>
          <p:nvPr/>
        </p:nvSpPr>
        <p:spPr>
          <a:xfrm>
            <a:off x="5181480" y="3809880"/>
            <a:ext cx="21924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
          <p:cNvSpPr/>
          <p:nvPr/>
        </p:nvSpPr>
        <p:spPr>
          <a:xfrm>
            <a:off x="3200400" y="2286000"/>
            <a:ext cx="290520" cy="23652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
          <p:cNvSpPr/>
          <p:nvPr/>
        </p:nvSpPr>
        <p:spPr>
          <a:xfrm>
            <a:off x="3429000" y="2606760"/>
            <a:ext cx="479520" cy="45540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
          <p:cNvSpPr/>
          <p:nvPr/>
        </p:nvSpPr>
        <p:spPr>
          <a:xfrm>
            <a:off x="3668760" y="3162240"/>
            <a:ext cx="880920" cy="64764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
          <p:cNvSpPr/>
          <p:nvPr/>
        </p:nvSpPr>
        <p:spPr>
          <a:xfrm>
            <a:off x="4389480" y="2514600"/>
            <a:ext cx="639720" cy="60480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
          <p:cNvSpPr/>
          <p:nvPr/>
        </p:nvSpPr>
        <p:spPr>
          <a:xfrm>
            <a:off x="3507120" y="2743200"/>
            <a:ext cx="2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hiteboard"/>
              </a:rPr>
              <a:t>X</a:t>
            </a:r>
            <a:endParaRPr b="0" lang="en-US" sz="1600" spc="-1" strike="noStrike">
              <a:solidFill>
                <a:srgbClr val="000000"/>
              </a:solidFill>
              <a:latin typeface="Arial"/>
            </a:endParaRPr>
          </a:p>
        </p:txBody>
      </p:sp>
      <p:sp>
        <p:nvSpPr>
          <p:cNvPr id="2228"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hiteboard"/>
              </a:rPr>
              <a:t>p</a:t>
            </a:r>
            <a:endParaRPr b="0" lang="en-US" sz="1600" spc="-1" strike="noStrike">
              <a:solidFill>
                <a:srgbClr val="000000"/>
              </a:solidFill>
              <a:latin typeface="Arial"/>
            </a:endParaRPr>
          </a:p>
        </p:txBody>
      </p:sp>
      <p:sp>
        <p:nvSpPr>
          <p:cNvPr id="2229"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hiteboard"/>
              </a:rPr>
              <a:t>Z</a:t>
            </a:r>
            <a:endParaRPr b="0" lang="en-US" sz="1600" spc="-1" strike="noStrike">
              <a:solidFill>
                <a:srgbClr val="000000"/>
              </a:solidFill>
              <a:latin typeface="Arial"/>
            </a:endParaRPr>
          </a:p>
        </p:txBody>
      </p:sp>
      <p:sp>
        <p:nvSpPr>
          <p:cNvPr id="2230"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sp>
        <p:nvSpPr>
          <p:cNvPr id="2231" name=""/>
          <p:cNvSpPr/>
          <p:nvPr/>
        </p:nvSpPr>
        <p:spPr>
          <a:xfrm>
            <a:off x="3124080" y="2133720"/>
            <a:ext cx="260532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a:off x="3505320" y="1371600"/>
            <a:ext cx="307800" cy="45720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
          <p:cNvSpPr/>
          <p:nvPr/>
        </p:nvSpPr>
        <p:spPr>
          <a:xfrm>
            <a:off x="3429000" y="1371600"/>
            <a:ext cx="544680" cy="53352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4"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2235"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36"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2237"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2238"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2239"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2240" name=""/>
          <p:cNvGrpSpPr/>
          <p:nvPr/>
        </p:nvGrpSpPr>
        <p:grpSpPr>
          <a:xfrm>
            <a:off x="1600200" y="974880"/>
            <a:ext cx="5052960" cy="4520520"/>
            <a:chOff x="1600200" y="974880"/>
            <a:chExt cx="5052960" cy="4520520"/>
          </a:xfrm>
        </p:grpSpPr>
        <p:sp>
          <p:nvSpPr>
            <p:cNvPr id="2241" name=""/>
            <p:cNvSpPr/>
            <p:nvPr/>
          </p:nvSpPr>
          <p:spPr>
            <a:xfrm>
              <a:off x="1600200" y="974880"/>
              <a:ext cx="5052960" cy="425592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2" name=""/>
            <p:cNvSpPr/>
            <p:nvPr/>
          </p:nvSpPr>
          <p:spPr>
            <a:xfrm>
              <a:off x="2103480" y="4686120"/>
              <a:ext cx="3417840" cy="80928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
            <p:cNvSpPr/>
            <p:nvPr/>
          </p:nvSpPr>
          <p:spPr>
            <a:xfrm>
              <a:off x="3838680" y="1071360"/>
              <a:ext cx="239760" cy="23616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44"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2245" name="Ink 5"/>
          <p:cNvSpPr/>
          <p:nvPr/>
        </p:nvSpPr>
        <p:spPr>
          <a:xfrm>
            <a:off x="134136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6" name="Group 14"/>
          <p:cNvGrpSpPr/>
          <p:nvPr/>
        </p:nvGrpSpPr>
        <p:grpSpPr>
          <a:xfrm>
            <a:off x="1265400" y="4000680"/>
            <a:ext cx="380520" cy="380880"/>
            <a:chOff x="1265400" y="4000680"/>
            <a:chExt cx="380520" cy="380880"/>
          </a:xfrm>
        </p:grpSpPr>
        <p:sp>
          <p:nvSpPr>
            <p:cNvPr id="2247" name="Ink 15"/>
            <p:cNvSpPr/>
            <p:nvPr/>
          </p:nvSpPr>
          <p:spPr>
            <a:xfrm>
              <a:off x="126540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Ink 16"/>
            <p:cNvSpPr/>
            <p:nvPr/>
          </p:nvSpPr>
          <p:spPr>
            <a:xfrm>
              <a:off x="131724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49" name=""/>
          <p:cNvSpPr/>
          <p:nvPr/>
        </p:nvSpPr>
        <p:spPr>
          <a:xfrm>
            <a:off x="134136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2251" name="Ink 61"/>
          <p:cNvSpPr/>
          <p:nvPr/>
        </p:nvSpPr>
        <p:spPr>
          <a:xfrm>
            <a:off x="88416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2253" name=""/>
          <p:cNvGrpSpPr/>
          <p:nvPr/>
        </p:nvGrpSpPr>
        <p:grpSpPr>
          <a:xfrm>
            <a:off x="1265400" y="1714680"/>
            <a:ext cx="532800" cy="457200"/>
            <a:chOff x="1265400" y="1714680"/>
            <a:chExt cx="532800" cy="457200"/>
          </a:xfrm>
        </p:grpSpPr>
        <p:sp>
          <p:nvSpPr>
            <p:cNvPr id="2254" name=""/>
            <p:cNvSpPr/>
            <p:nvPr/>
          </p:nvSpPr>
          <p:spPr>
            <a:xfrm>
              <a:off x="1478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5" name="Group 12"/>
            <p:cNvGrpSpPr/>
            <p:nvPr/>
          </p:nvGrpSpPr>
          <p:grpSpPr>
            <a:xfrm>
              <a:off x="1265400" y="1714680"/>
              <a:ext cx="532800" cy="457200"/>
              <a:chOff x="1265400" y="1714680"/>
              <a:chExt cx="532800" cy="457200"/>
            </a:xfrm>
          </p:grpSpPr>
          <p:sp>
            <p:nvSpPr>
              <p:cNvPr id="2256" name="Ink 13"/>
              <p:cNvSpPr/>
              <p:nvPr/>
            </p:nvSpPr>
            <p:spPr>
              <a:xfrm>
                <a:off x="126540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Ink 14"/>
              <p:cNvSpPr/>
              <p:nvPr/>
            </p:nvSpPr>
            <p:spPr>
              <a:xfrm>
                <a:off x="127836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258" name="Ink 15"/>
              <p:cNvSpPr/>
              <p:nvPr/>
            </p:nvSpPr>
            <p:spPr>
              <a:xfrm>
                <a:off x="178452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Ink 16"/>
              <p:cNvSpPr/>
              <p:nvPr/>
            </p:nvSpPr>
            <p:spPr>
              <a:xfrm>
                <a:off x="129096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2260" name=""/>
            <p:cNvSpPr/>
            <p:nvPr/>
          </p:nvSpPr>
          <p:spPr>
            <a:xfrm>
              <a:off x="1638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
            <p:cNvSpPr/>
            <p:nvPr/>
          </p:nvSpPr>
          <p:spPr>
            <a:xfrm>
              <a:off x="131868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2" name=""/>
          <p:cNvGrpSpPr/>
          <p:nvPr/>
        </p:nvGrpSpPr>
        <p:grpSpPr>
          <a:xfrm>
            <a:off x="1646280" y="1333440"/>
            <a:ext cx="501120" cy="304920"/>
            <a:chOff x="1646280" y="1333440"/>
            <a:chExt cx="501120" cy="304920"/>
          </a:xfrm>
        </p:grpSpPr>
        <p:sp>
          <p:nvSpPr>
            <p:cNvPr id="2263" name=""/>
            <p:cNvSpPr/>
            <p:nvPr/>
          </p:nvSpPr>
          <p:spPr>
            <a:xfrm>
              <a:off x="182124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
            <p:cNvSpPr/>
            <p:nvPr/>
          </p:nvSpPr>
          <p:spPr>
            <a:xfrm>
              <a:off x="199656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a:off x="16462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6" name=""/>
          <p:cNvSpPr/>
          <p:nvPr/>
        </p:nvSpPr>
        <p:spPr>
          <a:xfrm>
            <a:off x="225576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68" name=""/>
          <p:cNvGrpSpPr/>
          <p:nvPr/>
        </p:nvGrpSpPr>
        <p:grpSpPr>
          <a:xfrm>
            <a:off x="4952880" y="380880"/>
            <a:ext cx="884160" cy="747720"/>
            <a:chOff x="4952880" y="380880"/>
            <a:chExt cx="884160" cy="747720"/>
          </a:xfrm>
        </p:grpSpPr>
        <p:sp>
          <p:nvSpPr>
            <p:cNvPr id="2269" name=""/>
            <p:cNvSpPr/>
            <p:nvPr/>
          </p:nvSpPr>
          <p:spPr>
            <a:xfrm>
              <a:off x="4952880" y="380880"/>
              <a:ext cx="873000" cy="70020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2271" name=""/>
            <p:cNvSpPr/>
            <p:nvPr/>
          </p:nvSpPr>
          <p:spPr>
            <a:xfrm>
              <a:off x="4988520" y="74520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2272" name=""/>
            <p:cNvSpPr/>
            <p:nvPr/>
          </p:nvSpPr>
          <p:spPr>
            <a:xfrm>
              <a:off x="5395680" y="7912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2273"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2274"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2275"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2276"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8" name="Group 101"/>
          <p:cNvGrpSpPr/>
          <p:nvPr/>
        </p:nvGrpSpPr>
        <p:grpSpPr>
          <a:xfrm>
            <a:off x="6553080" y="2362320"/>
            <a:ext cx="304560" cy="518400"/>
            <a:chOff x="6553080" y="2362320"/>
            <a:chExt cx="304560" cy="518400"/>
          </a:xfrm>
        </p:grpSpPr>
        <p:grpSp>
          <p:nvGrpSpPr>
            <p:cNvPr id="2279" name="Group 79"/>
            <p:cNvGrpSpPr/>
            <p:nvPr/>
          </p:nvGrpSpPr>
          <p:grpSpPr>
            <a:xfrm>
              <a:off x="6553080" y="2362320"/>
              <a:ext cx="304560" cy="518400"/>
              <a:chOff x="6553080" y="2362320"/>
              <a:chExt cx="304560" cy="518400"/>
            </a:xfrm>
          </p:grpSpPr>
          <p:sp>
            <p:nvSpPr>
              <p:cNvPr id="2280"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282"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84"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286"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9"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0"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91"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292"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93"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4"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5"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2296"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7" name="Group 14"/>
          <p:cNvGrpSpPr/>
          <p:nvPr/>
        </p:nvGrpSpPr>
        <p:grpSpPr>
          <a:xfrm>
            <a:off x="6629400" y="3962520"/>
            <a:ext cx="380520" cy="380880"/>
            <a:chOff x="6629400" y="3962520"/>
            <a:chExt cx="380520" cy="380880"/>
          </a:xfrm>
        </p:grpSpPr>
        <p:sp>
          <p:nvSpPr>
            <p:cNvPr id="2298"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0"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2303" name=""/>
          <p:cNvSpPr/>
          <p:nvPr/>
        </p:nvSpPr>
        <p:spPr>
          <a:xfrm>
            <a:off x="3657600" y="558324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
          <p:cNvSpPr/>
          <p:nvPr/>
        </p:nvSpPr>
        <p:spPr>
          <a:xfrm>
            <a:off x="4686480" y="1665360"/>
            <a:ext cx="230040" cy="32364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
          <p:cNvSpPr/>
          <p:nvPr/>
        </p:nvSpPr>
        <p:spPr>
          <a:xfrm>
            <a:off x="5219640" y="240984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a:off x="3962520" y="434664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a:off x="2971800" y="3906720"/>
            <a:ext cx="200160" cy="16524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2743200" y="3048120"/>
            <a:ext cx="258840" cy="9972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9" name=""/>
          <p:cNvSpPr/>
          <p:nvPr/>
        </p:nvSpPr>
        <p:spPr>
          <a:xfrm>
            <a:off x="5181480" y="3809880"/>
            <a:ext cx="21924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
          <p:cNvSpPr/>
          <p:nvPr/>
        </p:nvSpPr>
        <p:spPr>
          <a:xfrm>
            <a:off x="3200400" y="2286000"/>
            <a:ext cx="290520" cy="23652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
          <p:cNvSpPr/>
          <p:nvPr/>
        </p:nvSpPr>
        <p:spPr>
          <a:xfrm>
            <a:off x="3429000" y="2606760"/>
            <a:ext cx="479520" cy="45540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
          <p:cNvSpPr/>
          <p:nvPr/>
        </p:nvSpPr>
        <p:spPr>
          <a:xfrm>
            <a:off x="3668760" y="3162240"/>
            <a:ext cx="880920" cy="64764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
          <p:cNvSpPr/>
          <p:nvPr/>
        </p:nvSpPr>
        <p:spPr>
          <a:xfrm>
            <a:off x="4389480" y="2514600"/>
            <a:ext cx="639720" cy="60480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
          <p:cNvSpPr/>
          <p:nvPr/>
        </p:nvSpPr>
        <p:spPr>
          <a:xfrm>
            <a:off x="3507120" y="2743200"/>
            <a:ext cx="2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hiteboard"/>
              </a:rPr>
              <a:t>X</a:t>
            </a:r>
            <a:endParaRPr b="0" lang="en-US" sz="1600" spc="-1" strike="noStrike">
              <a:solidFill>
                <a:srgbClr val="000000"/>
              </a:solidFill>
              <a:latin typeface="Arial"/>
            </a:endParaRPr>
          </a:p>
        </p:txBody>
      </p:sp>
      <p:sp>
        <p:nvSpPr>
          <p:cNvPr id="2315"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hiteboard"/>
              </a:rPr>
              <a:t>p</a:t>
            </a:r>
            <a:endParaRPr b="0" lang="en-US" sz="1600" spc="-1" strike="noStrike">
              <a:solidFill>
                <a:srgbClr val="000000"/>
              </a:solidFill>
              <a:latin typeface="Arial"/>
            </a:endParaRPr>
          </a:p>
        </p:txBody>
      </p:sp>
      <p:sp>
        <p:nvSpPr>
          <p:cNvPr id="2316"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hiteboard"/>
              </a:rPr>
              <a:t>Z</a:t>
            </a:r>
            <a:endParaRPr b="0" lang="en-US" sz="1600" spc="-1" strike="noStrike">
              <a:solidFill>
                <a:srgbClr val="000000"/>
              </a:solidFill>
              <a:latin typeface="Arial"/>
            </a:endParaRPr>
          </a:p>
        </p:txBody>
      </p:sp>
      <p:sp>
        <p:nvSpPr>
          <p:cNvPr id="2317"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sp>
        <p:nvSpPr>
          <p:cNvPr id="2318" name=""/>
          <p:cNvSpPr/>
          <p:nvPr/>
        </p:nvSpPr>
        <p:spPr>
          <a:xfrm>
            <a:off x="3124080" y="2133720"/>
            <a:ext cx="260532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9" name=""/>
          <p:cNvSpPr/>
          <p:nvPr/>
        </p:nvSpPr>
        <p:spPr>
          <a:xfrm>
            <a:off x="3505320" y="1371600"/>
            <a:ext cx="307800" cy="45720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0" name=""/>
          <p:cNvSpPr/>
          <p:nvPr/>
        </p:nvSpPr>
        <p:spPr>
          <a:xfrm>
            <a:off x="3429000" y="1371600"/>
            <a:ext cx="544680" cy="53352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
          <p:cNvSpPr/>
          <p:nvPr/>
        </p:nvSpPr>
        <p:spPr>
          <a:xfrm>
            <a:off x="3957120" y="236232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hiteboard"/>
              </a:rPr>
              <a:t>eis</a:t>
            </a:r>
            <a:endParaRPr b="0" lang="en-US" sz="1600" spc="-1" strike="noStrike">
              <a:solidFill>
                <a:srgbClr val="000000"/>
              </a:solidFill>
              <a:latin typeface="Arial"/>
            </a:endParaRPr>
          </a:p>
        </p:txBody>
      </p:sp>
      <p:sp>
        <p:nvSpPr>
          <p:cNvPr id="2322" name=""/>
          <p:cNvSpPr/>
          <p:nvPr/>
        </p:nvSpPr>
        <p:spPr>
          <a:xfrm>
            <a:off x="3809880" y="2286000"/>
            <a:ext cx="693720" cy="533520"/>
          </a:xfrm>
          <a:custGeom>
            <a:avLst/>
            <a:gdLst/>
            <a:ahLst/>
            <a:rect l="l" t="t" r="r" b="b"/>
            <a:pathLst>
              <a:path w="2632" h="1676">
                <a:moveTo>
                  <a:pt x="21207" y="9609"/>
                </a:moveTo>
                <a:cubicBezTo>
                  <a:pt x="21196" y="9614"/>
                  <a:pt x="21129" y="9628"/>
                  <a:pt x="21119" y="9638"/>
                </a:cubicBezTo>
                <a:cubicBezTo>
                  <a:pt x="21094" y="9665"/>
                  <a:pt x="21088" y="9676"/>
                  <a:pt x="21058" y="9699"/>
                </a:cubicBezTo>
                <a:cubicBezTo>
                  <a:pt x="21033" y="9719"/>
                  <a:pt x="20949" y="9774"/>
                  <a:pt x="20938" y="9787"/>
                </a:cubicBezTo>
                <a:cubicBezTo>
                  <a:pt x="20918" y="9810"/>
                  <a:pt x="20897" y="9828"/>
                  <a:pt x="20879" y="9849"/>
                </a:cubicBezTo>
                <a:cubicBezTo>
                  <a:pt x="20864" y="9866"/>
                  <a:pt x="20797" y="9925"/>
                  <a:pt x="20788" y="9936"/>
                </a:cubicBezTo>
                <a:cubicBezTo>
                  <a:pt x="20764" y="9966"/>
                  <a:pt x="20787" y="10004"/>
                  <a:pt x="20759" y="10027"/>
                </a:cubicBezTo>
                <a:cubicBezTo>
                  <a:pt x="20738" y="10045"/>
                  <a:pt x="20718" y="10074"/>
                  <a:pt x="20700" y="10088"/>
                </a:cubicBezTo>
                <a:cubicBezTo>
                  <a:pt x="20677" y="10106"/>
                  <a:pt x="20659" y="10131"/>
                  <a:pt x="20639" y="10147"/>
                </a:cubicBezTo>
                <a:cubicBezTo>
                  <a:pt x="20609" y="10170"/>
                  <a:pt x="20593" y="10172"/>
                  <a:pt x="20551" y="10208"/>
                </a:cubicBezTo>
                <a:cubicBezTo>
                  <a:pt x="20519" y="10235"/>
                  <a:pt x="20490" y="10267"/>
                  <a:pt x="20460" y="10296"/>
                </a:cubicBezTo>
                <a:cubicBezTo>
                  <a:pt x="20493" y="10324"/>
                  <a:pt x="20535" y="10375"/>
                  <a:pt x="20551" y="10386"/>
                </a:cubicBezTo>
                <a:cubicBezTo>
                  <a:pt x="20580" y="10407"/>
                  <a:pt x="20620" y="10427"/>
                  <a:pt x="20639" y="10445"/>
                </a:cubicBezTo>
                <a:cubicBezTo>
                  <a:pt x="20679" y="10483"/>
                  <a:pt x="20710" y="10509"/>
                  <a:pt x="20730" y="10536"/>
                </a:cubicBezTo>
                <a:cubicBezTo>
                  <a:pt x="20758" y="10573"/>
                  <a:pt x="20767" y="10607"/>
                  <a:pt x="20788" y="10626"/>
                </a:cubicBezTo>
                <a:cubicBezTo>
                  <a:pt x="20805" y="10642"/>
                  <a:pt x="20864" y="10638"/>
                  <a:pt x="20879" y="10655"/>
                </a:cubicBezTo>
                <a:cubicBezTo>
                  <a:pt x="20905" y="10684"/>
                  <a:pt x="20906" y="10692"/>
                  <a:pt x="20938" y="10717"/>
                </a:cubicBezTo>
                <a:cubicBezTo>
                  <a:pt x="20950" y="10726"/>
                  <a:pt x="20984" y="10793"/>
                  <a:pt x="20999" y="10805"/>
                </a:cubicBezTo>
                <a:cubicBezTo>
                  <a:pt x="21025" y="10826"/>
                  <a:pt x="21036" y="10847"/>
                  <a:pt x="21058" y="10866"/>
                </a:cubicBezTo>
                <a:cubicBezTo>
                  <a:pt x="21078" y="10883"/>
                  <a:pt x="21101" y="10910"/>
                  <a:pt x="21119" y="10924"/>
                </a:cubicBezTo>
                <a:cubicBezTo>
                  <a:pt x="21144" y="10944"/>
                  <a:pt x="21157" y="10969"/>
                  <a:pt x="21178" y="10986"/>
                </a:cubicBezTo>
                <a:cubicBezTo>
                  <a:pt x="21200" y="11004"/>
                  <a:pt x="21253" y="11061"/>
                  <a:pt x="21269" y="11074"/>
                </a:cubicBezTo>
                <a:cubicBezTo>
                  <a:pt x="21301" y="11100"/>
                  <a:pt x="21305" y="11096"/>
                  <a:pt x="21327" y="11135"/>
                </a:cubicBezTo>
                <a:cubicBezTo>
                  <a:pt x="21342" y="11161"/>
                  <a:pt x="21346" y="11193"/>
                  <a:pt x="21386" y="11193"/>
                </a:cubicBezTo>
                <a:cubicBezTo>
                  <a:pt x="21432" y="11193"/>
                  <a:pt x="21456" y="11168"/>
                  <a:pt x="21506" y="11164"/>
                </a:cubicBezTo>
                <a:cubicBezTo>
                  <a:pt x="21556" y="11160"/>
                  <a:pt x="21577" y="11141"/>
                  <a:pt x="21626" y="11135"/>
                </a:cubicBezTo>
                <a:cubicBezTo>
                  <a:pt x="21676" y="11129"/>
                  <a:pt x="21738" y="11111"/>
                  <a:pt x="21776" y="11106"/>
                </a:cubicBezTo>
                <a:cubicBezTo>
                  <a:pt x="21874" y="11094"/>
                  <a:pt x="21992" y="11085"/>
                  <a:pt x="22074" y="11074"/>
                </a:cubicBezTo>
                <a:cubicBezTo>
                  <a:pt x="22246" y="11051"/>
                  <a:pt x="22523" y="11063"/>
                  <a:pt x="22643" y="11106"/>
                </a:cubicBezTo>
                <a:cubicBezTo>
                  <a:pt x="22678" y="11081"/>
                  <a:pt x="22683" y="11083"/>
                  <a:pt x="22705" y="11044"/>
                </a:cubicBezTo>
                <a:cubicBezTo>
                  <a:pt x="22725" y="11009"/>
                  <a:pt x="22712" y="10998"/>
                  <a:pt x="22734" y="10954"/>
                </a:cubicBezTo>
                <a:cubicBezTo>
                  <a:pt x="22739" y="10944"/>
                  <a:pt x="22777" y="10897"/>
                  <a:pt x="22792" y="10866"/>
                </a:cubicBezTo>
                <a:cubicBezTo>
                  <a:pt x="22812" y="10825"/>
                  <a:pt x="22808" y="10809"/>
                  <a:pt x="22822" y="10775"/>
                </a:cubicBezTo>
                <a:cubicBezTo>
                  <a:pt x="22838" y="10736"/>
                  <a:pt x="22838" y="10693"/>
                  <a:pt x="22854" y="10655"/>
                </a:cubicBezTo>
                <a:cubicBezTo>
                  <a:pt x="22869" y="10621"/>
                  <a:pt x="22863" y="10607"/>
                  <a:pt x="22883" y="10565"/>
                </a:cubicBezTo>
                <a:cubicBezTo>
                  <a:pt x="22906" y="10517"/>
                  <a:pt x="22919" y="10465"/>
                  <a:pt x="22942" y="10416"/>
                </a:cubicBezTo>
                <a:cubicBezTo>
                  <a:pt x="22958" y="10381"/>
                  <a:pt x="22950" y="10367"/>
                  <a:pt x="22971" y="10325"/>
                </a:cubicBezTo>
                <a:cubicBezTo>
                  <a:pt x="22990" y="10287"/>
                  <a:pt x="22982" y="10285"/>
                  <a:pt x="23003" y="10237"/>
                </a:cubicBezTo>
                <a:cubicBezTo>
                  <a:pt x="23017" y="10205"/>
                  <a:pt x="23057" y="10157"/>
                  <a:pt x="23062" y="10147"/>
                </a:cubicBezTo>
                <a:cubicBezTo>
                  <a:pt x="23083" y="10104"/>
                  <a:pt x="23074" y="10092"/>
                  <a:pt x="23091" y="10056"/>
                </a:cubicBezTo>
                <a:cubicBezTo>
                  <a:pt x="23036" y="10051"/>
                  <a:pt x="23025" y="10037"/>
                  <a:pt x="23003" y="10027"/>
                </a:cubicBezTo>
                <a:cubicBezTo>
                  <a:pt x="22958" y="10006"/>
                  <a:pt x="22949" y="10016"/>
                  <a:pt x="22913" y="9998"/>
                </a:cubicBezTo>
                <a:cubicBezTo>
                  <a:pt x="22879" y="9981"/>
                  <a:pt x="22864" y="9990"/>
                  <a:pt x="22822" y="9968"/>
                </a:cubicBezTo>
                <a:cubicBezTo>
                  <a:pt x="22785" y="9949"/>
                  <a:pt x="22785" y="9931"/>
                  <a:pt x="22734" y="9907"/>
                </a:cubicBezTo>
                <a:cubicBezTo>
                  <a:pt x="22696" y="9889"/>
                  <a:pt x="22660" y="9860"/>
                  <a:pt x="22643" y="9849"/>
                </a:cubicBezTo>
                <a:cubicBezTo>
                  <a:pt x="22611" y="9828"/>
                  <a:pt x="22600" y="9815"/>
                  <a:pt x="22552" y="9787"/>
                </a:cubicBezTo>
                <a:cubicBezTo>
                  <a:pt x="22539" y="9779"/>
                  <a:pt x="22475" y="9770"/>
                  <a:pt x="22464" y="9758"/>
                </a:cubicBezTo>
                <a:cubicBezTo>
                  <a:pt x="22444" y="9737"/>
                  <a:pt x="22422" y="9719"/>
                  <a:pt x="22403" y="9699"/>
                </a:cubicBezTo>
                <a:cubicBezTo>
                  <a:pt x="22387" y="9681"/>
                  <a:pt x="22357" y="9655"/>
                  <a:pt x="22344" y="9638"/>
                </a:cubicBezTo>
                <a:cubicBezTo>
                  <a:pt x="22317" y="9605"/>
                  <a:pt x="22324" y="9603"/>
                  <a:pt x="22286" y="9580"/>
                </a:cubicBezTo>
                <a:cubicBezTo>
                  <a:pt x="22245" y="9556"/>
                  <a:pt x="22230" y="9516"/>
                  <a:pt x="22195" y="9518"/>
                </a:cubicBezTo>
                <a:cubicBezTo>
                  <a:pt x="22129" y="9521"/>
                  <a:pt x="22154" y="9543"/>
                  <a:pt x="22104" y="9547"/>
                </a:cubicBezTo>
                <a:cubicBezTo>
                  <a:pt x="22036" y="9553"/>
                  <a:pt x="21917" y="9577"/>
                  <a:pt x="21896" y="9580"/>
                </a:cubicBezTo>
                <a:cubicBezTo>
                  <a:pt x="21809" y="9592"/>
                  <a:pt x="21700" y="9600"/>
                  <a:pt x="21626" y="9609"/>
                </a:cubicBezTo>
                <a:cubicBezTo>
                  <a:pt x="21509" y="9623"/>
                  <a:pt x="21229" y="9609"/>
                  <a:pt x="21207" y="9609"/>
                </a:cubicBezTo>
                <a:cubicBezTo>
                  <a:pt x="21217" y="9609"/>
                  <a:pt x="21226" y="9609"/>
                  <a:pt x="21236" y="9609"/>
                </a:cubicBezTo>
              </a:path>
            </a:pathLst>
          </a:custGeom>
          <a:noFill/>
          <a:ln cap="rnd"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3"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2324"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25"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2326"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2327"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2328"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2329" name=""/>
          <p:cNvGrpSpPr/>
          <p:nvPr/>
        </p:nvGrpSpPr>
        <p:grpSpPr>
          <a:xfrm>
            <a:off x="1600200" y="974880"/>
            <a:ext cx="5052960" cy="4520520"/>
            <a:chOff x="1600200" y="974880"/>
            <a:chExt cx="5052960" cy="4520520"/>
          </a:xfrm>
        </p:grpSpPr>
        <p:sp>
          <p:nvSpPr>
            <p:cNvPr id="2330" name=""/>
            <p:cNvSpPr/>
            <p:nvPr/>
          </p:nvSpPr>
          <p:spPr>
            <a:xfrm>
              <a:off x="1600200" y="974880"/>
              <a:ext cx="5052960" cy="425592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1" name=""/>
            <p:cNvSpPr/>
            <p:nvPr/>
          </p:nvSpPr>
          <p:spPr>
            <a:xfrm>
              <a:off x="2103480" y="4686120"/>
              <a:ext cx="3417840" cy="80928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a:off x="3838680" y="1071360"/>
              <a:ext cx="239760" cy="23616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33"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2334" name="Ink 5"/>
          <p:cNvSpPr/>
          <p:nvPr/>
        </p:nvSpPr>
        <p:spPr>
          <a:xfrm>
            <a:off x="134136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5" name="Group 14"/>
          <p:cNvGrpSpPr/>
          <p:nvPr/>
        </p:nvGrpSpPr>
        <p:grpSpPr>
          <a:xfrm>
            <a:off x="1265400" y="4000680"/>
            <a:ext cx="380520" cy="380880"/>
            <a:chOff x="1265400" y="4000680"/>
            <a:chExt cx="380520" cy="380880"/>
          </a:xfrm>
        </p:grpSpPr>
        <p:sp>
          <p:nvSpPr>
            <p:cNvPr id="2336" name="Ink 15"/>
            <p:cNvSpPr/>
            <p:nvPr/>
          </p:nvSpPr>
          <p:spPr>
            <a:xfrm>
              <a:off x="126540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7" name="Ink 16"/>
            <p:cNvSpPr/>
            <p:nvPr/>
          </p:nvSpPr>
          <p:spPr>
            <a:xfrm>
              <a:off x="131724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38" name=""/>
          <p:cNvSpPr/>
          <p:nvPr/>
        </p:nvSpPr>
        <p:spPr>
          <a:xfrm>
            <a:off x="134136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2340" name="Ink 61"/>
          <p:cNvSpPr/>
          <p:nvPr/>
        </p:nvSpPr>
        <p:spPr>
          <a:xfrm>
            <a:off x="88416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1"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2342" name=""/>
          <p:cNvGrpSpPr/>
          <p:nvPr/>
        </p:nvGrpSpPr>
        <p:grpSpPr>
          <a:xfrm>
            <a:off x="1265400" y="1714680"/>
            <a:ext cx="532800" cy="457200"/>
            <a:chOff x="1265400" y="1714680"/>
            <a:chExt cx="532800" cy="457200"/>
          </a:xfrm>
        </p:grpSpPr>
        <p:sp>
          <p:nvSpPr>
            <p:cNvPr id="2343" name=""/>
            <p:cNvSpPr/>
            <p:nvPr/>
          </p:nvSpPr>
          <p:spPr>
            <a:xfrm>
              <a:off x="1478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4" name="Group 12"/>
            <p:cNvGrpSpPr/>
            <p:nvPr/>
          </p:nvGrpSpPr>
          <p:grpSpPr>
            <a:xfrm>
              <a:off x="1265400" y="1714680"/>
              <a:ext cx="532800" cy="457200"/>
              <a:chOff x="1265400" y="1714680"/>
              <a:chExt cx="532800" cy="457200"/>
            </a:xfrm>
          </p:grpSpPr>
          <p:sp>
            <p:nvSpPr>
              <p:cNvPr id="2345" name="Ink 13"/>
              <p:cNvSpPr/>
              <p:nvPr/>
            </p:nvSpPr>
            <p:spPr>
              <a:xfrm>
                <a:off x="126540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6" name="Ink 14"/>
              <p:cNvSpPr/>
              <p:nvPr/>
            </p:nvSpPr>
            <p:spPr>
              <a:xfrm>
                <a:off x="127836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347" name="Ink 15"/>
              <p:cNvSpPr/>
              <p:nvPr/>
            </p:nvSpPr>
            <p:spPr>
              <a:xfrm>
                <a:off x="178452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Ink 16"/>
              <p:cNvSpPr/>
              <p:nvPr/>
            </p:nvSpPr>
            <p:spPr>
              <a:xfrm>
                <a:off x="129096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2349" name=""/>
            <p:cNvSpPr/>
            <p:nvPr/>
          </p:nvSpPr>
          <p:spPr>
            <a:xfrm>
              <a:off x="1638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0" name=""/>
            <p:cNvSpPr/>
            <p:nvPr/>
          </p:nvSpPr>
          <p:spPr>
            <a:xfrm>
              <a:off x="131868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1" name=""/>
          <p:cNvGrpSpPr/>
          <p:nvPr/>
        </p:nvGrpSpPr>
        <p:grpSpPr>
          <a:xfrm>
            <a:off x="1646280" y="1333440"/>
            <a:ext cx="501120" cy="304920"/>
            <a:chOff x="1646280" y="1333440"/>
            <a:chExt cx="501120" cy="304920"/>
          </a:xfrm>
        </p:grpSpPr>
        <p:sp>
          <p:nvSpPr>
            <p:cNvPr id="2352" name=""/>
            <p:cNvSpPr/>
            <p:nvPr/>
          </p:nvSpPr>
          <p:spPr>
            <a:xfrm>
              <a:off x="182124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
            <p:cNvSpPr/>
            <p:nvPr/>
          </p:nvSpPr>
          <p:spPr>
            <a:xfrm>
              <a:off x="199656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a:off x="16462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5" name=""/>
          <p:cNvSpPr/>
          <p:nvPr/>
        </p:nvSpPr>
        <p:spPr>
          <a:xfrm>
            <a:off x="225576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a:off x="380880" y="19810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7" name=""/>
          <p:cNvGrpSpPr/>
          <p:nvPr/>
        </p:nvGrpSpPr>
        <p:grpSpPr>
          <a:xfrm>
            <a:off x="4952880" y="380880"/>
            <a:ext cx="884160" cy="747720"/>
            <a:chOff x="4952880" y="380880"/>
            <a:chExt cx="884160" cy="747720"/>
          </a:xfrm>
        </p:grpSpPr>
        <p:sp>
          <p:nvSpPr>
            <p:cNvPr id="2358" name=""/>
            <p:cNvSpPr/>
            <p:nvPr/>
          </p:nvSpPr>
          <p:spPr>
            <a:xfrm>
              <a:off x="4952880" y="380880"/>
              <a:ext cx="873000" cy="70020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2360" name=""/>
            <p:cNvSpPr/>
            <p:nvPr/>
          </p:nvSpPr>
          <p:spPr>
            <a:xfrm>
              <a:off x="4988520" y="74520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2361" name=""/>
            <p:cNvSpPr/>
            <p:nvPr/>
          </p:nvSpPr>
          <p:spPr>
            <a:xfrm>
              <a:off x="5395680" y="7912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2362"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2363"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2364"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2365"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67" name="Group 101"/>
          <p:cNvGrpSpPr/>
          <p:nvPr/>
        </p:nvGrpSpPr>
        <p:grpSpPr>
          <a:xfrm>
            <a:off x="6553080" y="2362320"/>
            <a:ext cx="304560" cy="518400"/>
            <a:chOff x="6553080" y="2362320"/>
            <a:chExt cx="304560" cy="518400"/>
          </a:xfrm>
        </p:grpSpPr>
        <p:grpSp>
          <p:nvGrpSpPr>
            <p:cNvPr id="2368" name="Group 79"/>
            <p:cNvGrpSpPr/>
            <p:nvPr/>
          </p:nvGrpSpPr>
          <p:grpSpPr>
            <a:xfrm>
              <a:off x="6553080" y="2362320"/>
              <a:ext cx="304560" cy="518400"/>
              <a:chOff x="6553080" y="2362320"/>
              <a:chExt cx="304560" cy="518400"/>
            </a:xfrm>
          </p:grpSpPr>
          <p:sp>
            <p:nvSpPr>
              <p:cNvPr id="2369"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371"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2"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73"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375"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80"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381"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82"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3"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4"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2385"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6" name="Group 14"/>
          <p:cNvGrpSpPr/>
          <p:nvPr/>
        </p:nvGrpSpPr>
        <p:grpSpPr>
          <a:xfrm>
            <a:off x="6629400" y="3962520"/>
            <a:ext cx="380520" cy="380880"/>
            <a:chOff x="6629400" y="3962520"/>
            <a:chExt cx="380520" cy="380880"/>
          </a:xfrm>
        </p:grpSpPr>
        <p:sp>
          <p:nvSpPr>
            <p:cNvPr id="2387"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9"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2392" name=""/>
          <p:cNvSpPr/>
          <p:nvPr/>
        </p:nvSpPr>
        <p:spPr>
          <a:xfrm>
            <a:off x="3657600" y="558324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
          <p:cNvSpPr/>
          <p:nvPr/>
        </p:nvSpPr>
        <p:spPr>
          <a:xfrm>
            <a:off x="4686480" y="1665360"/>
            <a:ext cx="230040" cy="32364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
          <p:cNvSpPr/>
          <p:nvPr/>
        </p:nvSpPr>
        <p:spPr>
          <a:xfrm>
            <a:off x="5219640" y="240984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5" name=""/>
          <p:cNvSpPr/>
          <p:nvPr/>
        </p:nvSpPr>
        <p:spPr>
          <a:xfrm>
            <a:off x="3962520" y="434664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
          <p:cNvSpPr/>
          <p:nvPr/>
        </p:nvSpPr>
        <p:spPr>
          <a:xfrm>
            <a:off x="2971800" y="3906720"/>
            <a:ext cx="200160" cy="16524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7" name=""/>
          <p:cNvSpPr/>
          <p:nvPr/>
        </p:nvSpPr>
        <p:spPr>
          <a:xfrm>
            <a:off x="2743200" y="3048120"/>
            <a:ext cx="258840" cy="9972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8" name=""/>
          <p:cNvSpPr/>
          <p:nvPr/>
        </p:nvSpPr>
        <p:spPr>
          <a:xfrm>
            <a:off x="5181480" y="3809880"/>
            <a:ext cx="21924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9" name=""/>
          <p:cNvSpPr/>
          <p:nvPr/>
        </p:nvSpPr>
        <p:spPr>
          <a:xfrm>
            <a:off x="3200400" y="2286000"/>
            <a:ext cx="290520" cy="23652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
          <p:cNvSpPr/>
          <p:nvPr/>
        </p:nvSpPr>
        <p:spPr>
          <a:xfrm>
            <a:off x="3429000" y="2606760"/>
            <a:ext cx="479520" cy="45540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1" name=""/>
          <p:cNvSpPr/>
          <p:nvPr/>
        </p:nvSpPr>
        <p:spPr>
          <a:xfrm>
            <a:off x="3668760" y="3162240"/>
            <a:ext cx="880920" cy="64764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
          <p:cNvSpPr/>
          <p:nvPr/>
        </p:nvSpPr>
        <p:spPr>
          <a:xfrm>
            <a:off x="4389480" y="2514600"/>
            <a:ext cx="639720" cy="60480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
          <p:cNvSpPr/>
          <p:nvPr/>
        </p:nvSpPr>
        <p:spPr>
          <a:xfrm>
            <a:off x="3828960" y="2792520"/>
            <a:ext cx="622440" cy="476280"/>
          </a:xfrm>
          <a:custGeom>
            <a:avLst/>
            <a:gdLst/>
            <a:ahLst/>
            <a:rect l="l" t="t" r="r" b="b"/>
            <a:pathLst>
              <a:path w="2278" h="1508">
                <a:moveTo>
                  <a:pt x="15042" y="3209"/>
                </a:moveTo>
                <a:cubicBezTo>
                  <a:pt x="15018" y="3199"/>
                  <a:pt x="14996" y="3188"/>
                  <a:pt x="14971" y="3180"/>
                </a:cubicBezTo>
                <a:cubicBezTo>
                  <a:pt x="14931" y="3167"/>
                  <a:pt x="14890" y="3157"/>
                  <a:pt x="14849" y="3149"/>
                </a:cubicBezTo>
                <a:cubicBezTo>
                  <a:pt x="14626" y="3103"/>
                  <a:pt x="14373" y="3117"/>
                  <a:pt x="14149" y="3144"/>
                </a:cubicBezTo>
                <a:cubicBezTo>
                  <a:pt x="14036" y="3158"/>
                  <a:pt x="13917" y="3175"/>
                  <a:pt x="13810" y="3217"/>
                </a:cubicBezTo>
                <a:cubicBezTo>
                  <a:pt x="13749" y="3241"/>
                  <a:pt x="13654" y="3288"/>
                  <a:pt x="13667" y="3369"/>
                </a:cubicBezTo>
                <a:cubicBezTo>
                  <a:pt x="13678" y="3441"/>
                  <a:pt x="13763" y="3478"/>
                  <a:pt x="13820" y="3506"/>
                </a:cubicBezTo>
                <a:cubicBezTo>
                  <a:pt x="13995" y="3590"/>
                  <a:pt x="14195" y="3623"/>
                  <a:pt x="14386" y="3645"/>
                </a:cubicBezTo>
                <a:cubicBezTo>
                  <a:pt x="14648" y="3675"/>
                  <a:pt x="14911" y="3683"/>
                  <a:pt x="15173" y="3656"/>
                </a:cubicBezTo>
                <a:cubicBezTo>
                  <a:pt x="15330" y="3639"/>
                  <a:pt x="15493" y="3612"/>
                  <a:pt x="15635" y="3538"/>
                </a:cubicBezTo>
                <a:cubicBezTo>
                  <a:pt x="15691" y="3509"/>
                  <a:pt x="15784" y="3440"/>
                  <a:pt x="15744" y="3364"/>
                </a:cubicBezTo>
                <a:cubicBezTo>
                  <a:pt x="15699" y="3280"/>
                  <a:pt x="15551" y="3264"/>
                  <a:pt x="15472" y="3249"/>
                </a:cubicBezTo>
                <a:cubicBezTo>
                  <a:pt x="15355" y="3230"/>
                  <a:pt x="15316" y="3224"/>
                  <a:pt x="15236" y="3224"/>
                </a:cubicBezTo>
              </a:path>
              <a:path w="2278" h="1508">
                <a:moveTo>
                  <a:pt x="13558" y="3514"/>
                </a:moveTo>
                <a:cubicBezTo>
                  <a:pt x="13552" y="3544"/>
                  <a:pt x="13555" y="3575"/>
                  <a:pt x="13549" y="3605"/>
                </a:cubicBezTo>
                <a:cubicBezTo>
                  <a:pt x="13537" y="3666"/>
                  <a:pt x="13525" y="3726"/>
                  <a:pt x="13515" y="3788"/>
                </a:cubicBezTo>
                <a:cubicBezTo>
                  <a:pt x="13502" y="3868"/>
                  <a:pt x="13494" y="3944"/>
                  <a:pt x="13494" y="4025"/>
                </a:cubicBezTo>
                <a:cubicBezTo>
                  <a:pt x="13494" y="4092"/>
                  <a:pt x="13501" y="4158"/>
                  <a:pt x="13523" y="4221"/>
                </a:cubicBezTo>
                <a:cubicBezTo>
                  <a:pt x="13533" y="4248"/>
                  <a:pt x="13554" y="4310"/>
                  <a:pt x="13578" y="4329"/>
                </a:cubicBezTo>
                <a:cubicBezTo>
                  <a:pt x="13585" y="4332"/>
                  <a:pt x="13593" y="4335"/>
                  <a:pt x="13600" y="4338"/>
                </a:cubicBezTo>
              </a:path>
              <a:path w="2278" h="1508">
                <a:moveTo>
                  <a:pt x="13820" y="4480"/>
                </a:moveTo>
                <a:cubicBezTo>
                  <a:pt x="13853" y="4483"/>
                  <a:pt x="13872" y="4485"/>
                  <a:pt x="13904" y="4496"/>
                </a:cubicBezTo>
                <a:cubicBezTo>
                  <a:pt x="14081" y="4554"/>
                  <a:pt x="14250" y="4605"/>
                  <a:pt x="14437" y="4624"/>
                </a:cubicBezTo>
                <a:cubicBezTo>
                  <a:pt x="14604" y="4641"/>
                  <a:pt x="14770" y="4631"/>
                  <a:pt x="14936" y="4617"/>
                </a:cubicBezTo>
                <a:cubicBezTo>
                  <a:pt x="15157" y="4599"/>
                  <a:pt x="15393" y="4569"/>
                  <a:pt x="15603" y="4494"/>
                </a:cubicBezTo>
                <a:cubicBezTo>
                  <a:pt x="15664" y="4472"/>
                  <a:pt x="15733" y="4444"/>
                  <a:pt x="15771" y="4391"/>
                </a:cubicBezTo>
                <a:cubicBezTo>
                  <a:pt x="15771" y="4384"/>
                  <a:pt x="15771" y="4376"/>
                  <a:pt x="15771" y="4369"/>
                </a:cubicBezTo>
              </a:path>
              <a:path w="2278" h="1508">
                <a:moveTo>
                  <a:pt x="15750" y="3638"/>
                </a:moveTo>
                <a:cubicBezTo>
                  <a:pt x="15741" y="3656"/>
                  <a:pt x="15736" y="3685"/>
                  <a:pt x="15733" y="3706"/>
                </a:cubicBezTo>
                <a:cubicBezTo>
                  <a:pt x="15727" y="3756"/>
                  <a:pt x="15718" y="3805"/>
                  <a:pt x="15713" y="3856"/>
                </a:cubicBezTo>
                <a:cubicBezTo>
                  <a:pt x="15706" y="3931"/>
                  <a:pt x="15707" y="4008"/>
                  <a:pt x="15706" y="4084"/>
                </a:cubicBezTo>
                <a:cubicBezTo>
                  <a:pt x="15705" y="4158"/>
                  <a:pt x="15717" y="4231"/>
                  <a:pt x="15720" y="4305"/>
                </a:cubicBezTo>
                <a:cubicBezTo>
                  <a:pt x="15722" y="4348"/>
                  <a:pt x="15723" y="4387"/>
                  <a:pt x="15729" y="4429"/>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
          <p:cNvSpPr/>
          <p:nvPr/>
        </p:nvSpPr>
        <p:spPr>
          <a:xfrm>
            <a:off x="3507120" y="2743200"/>
            <a:ext cx="2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hiteboard"/>
              </a:rPr>
              <a:t>X</a:t>
            </a:r>
            <a:endParaRPr b="0" lang="en-US" sz="1600" spc="-1" strike="noStrike">
              <a:solidFill>
                <a:srgbClr val="000000"/>
              </a:solidFill>
              <a:latin typeface="Arial"/>
            </a:endParaRPr>
          </a:p>
        </p:txBody>
      </p:sp>
      <p:sp>
        <p:nvSpPr>
          <p:cNvPr id="2405"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hiteboard"/>
              </a:rPr>
              <a:t>p</a:t>
            </a:r>
            <a:endParaRPr b="0" lang="en-US" sz="1600" spc="-1" strike="noStrike">
              <a:solidFill>
                <a:srgbClr val="000000"/>
              </a:solidFill>
              <a:latin typeface="Arial"/>
            </a:endParaRPr>
          </a:p>
        </p:txBody>
      </p:sp>
      <p:sp>
        <p:nvSpPr>
          <p:cNvPr id="2406"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hiteboard"/>
              </a:rPr>
              <a:t>Z</a:t>
            </a:r>
            <a:endParaRPr b="0" lang="en-US" sz="1600" spc="-1" strike="noStrike">
              <a:solidFill>
                <a:srgbClr val="000000"/>
              </a:solidFill>
              <a:latin typeface="Arial"/>
            </a:endParaRPr>
          </a:p>
        </p:txBody>
      </p:sp>
      <p:sp>
        <p:nvSpPr>
          <p:cNvPr id="2407" name=""/>
          <p:cNvSpPr/>
          <p:nvPr/>
        </p:nvSpPr>
        <p:spPr>
          <a:xfrm>
            <a:off x="3980520" y="2895480"/>
            <a:ext cx="3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hiteboard"/>
              </a:rPr>
              <a:t>St</a:t>
            </a:r>
            <a:endParaRPr b="0" lang="en-US" sz="1600" spc="-1" strike="noStrike">
              <a:solidFill>
                <a:srgbClr val="000000"/>
              </a:solidFill>
              <a:latin typeface="Arial"/>
            </a:endParaRPr>
          </a:p>
        </p:txBody>
      </p:sp>
      <p:sp>
        <p:nvSpPr>
          <p:cNvPr id="2408"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sp>
        <p:nvSpPr>
          <p:cNvPr id="2409" name=""/>
          <p:cNvSpPr/>
          <p:nvPr/>
        </p:nvSpPr>
        <p:spPr>
          <a:xfrm>
            <a:off x="3124080" y="2133720"/>
            <a:ext cx="260532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
          <p:cNvSpPr/>
          <p:nvPr/>
        </p:nvSpPr>
        <p:spPr>
          <a:xfrm>
            <a:off x="3505320" y="1371600"/>
            <a:ext cx="307800" cy="45720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
          <p:cNvSpPr/>
          <p:nvPr/>
        </p:nvSpPr>
        <p:spPr>
          <a:xfrm>
            <a:off x="3429000" y="1371600"/>
            <a:ext cx="544680" cy="53352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
          <p:cNvSpPr/>
          <p:nvPr/>
        </p:nvSpPr>
        <p:spPr>
          <a:xfrm>
            <a:off x="3957120" y="236232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hiteboard"/>
              </a:rPr>
              <a:t>eis</a:t>
            </a:r>
            <a:endParaRPr b="0" lang="en-US" sz="1600" spc="-1" strike="noStrike">
              <a:solidFill>
                <a:srgbClr val="000000"/>
              </a:solidFill>
              <a:latin typeface="Arial"/>
            </a:endParaRPr>
          </a:p>
        </p:txBody>
      </p:sp>
      <p:sp>
        <p:nvSpPr>
          <p:cNvPr id="2413" name=""/>
          <p:cNvSpPr/>
          <p:nvPr/>
        </p:nvSpPr>
        <p:spPr>
          <a:xfrm>
            <a:off x="3809880" y="2286000"/>
            <a:ext cx="693720" cy="533520"/>
          </a:xfrm>
          <a:custGeom>
            <a:avLst/>
            <a:gdLst/>
            <a:ahLst/>
            <a:rect l="l" t="t" r="r" b="b"/>
            <a:pathLst>
              <a:path w="2632" h="1676">
                <a:moveTo>
                  <a:pt x="21207" y="9609"/>
                </a:moveTo>
                <a:cubicBezTo>
                  <a:pt x="21196" y="9614"/>
                  <a:pt x="21129" y="9628"/>
                  <a:pt x="21119" y="9638"/>
                </a:cubicBezTo>
                <a:cubicBezTo>
                  <a:pt x="21094" y="9665"/>
                  <a:pt x="21088" y="9676"/>
                  <a:pt x="21058" y="9699"/>
                </a:cubicBezTo>
                <a:cubicBezTo>
                  <a:pt x="21033" y="9719"/>
                  <a:pt x="20949" y="9774"/>
                  <a:pt x="20938" y="9787"/>
                </a:cubicBezTo>
                <a:cubicBezTo>
                  <a:pt x="20918" y="9810"/>
                  <a:pt x="20897" y="9828"/>
                  <a:pt x="20879" y="9849"/>
                </a:cubicBezTo>
                <a:cubicBezTo>
                  <a:pt x="20864" y="9866"/>
                  <a:pt x="20797" y="9925"/>
                  <a:pt x="20788" y="9936"/>
                </a:cubicBezTo>
                <a:cubicBezTo>
                  <a:pt x="20764" y="9966"/>
                  <a:pt x="20787" y="10004"/>
                  <a:pt x="20759" y="10027"/>
                </a:cubicBezTo>
                <a:cubicBezTo>
                  <a:pt x="20738" y="10045"/>
                  <a:pt x="20718" y="10074"/>
                  <a:pt x="20700" y="10088"/>
                </a:cubicBezTo>
                <a:cubicBezTo>
                  <a:pt x="20677" y="10106"/>
                  <a:pt x="20659" y="10131"/>
                  <a:pt x="20639" y="10147"/>
                </a:cubicBezTo>
                <a:cubicBezTo>
                  <a:pt x="20609" y="10170"/>
                  <a:pt x="20593" y="10172"/>
                  <a:pt x="20551" y="10208"/>
                </a:cubicBezTo>
                <a:cubicBezTo>
                  <a:pt x="20519" y="10235"/>
                  <a:pt x="20490" y="10267"/>
                  <a:pt x="20460" y="10296"/>
                </a:cubicBezTo>
                <a:cubicBezTo>
                  <a:pt x="20493" y="10324"/>
                  <a:pt x="20535" y="10375"/>
                  <a:pt x="20551" y="10386"/>
                </a:cubicBezTo>
                <a:cubicBezTo>
                  <a:pt x="20580" y="10407"/>
                  <a:pt x="20620" y="10427"/>
                  <a:pt x="20639" y="10445"/>
                </a:cubicBezTo>
                <a:cubicBezTo>
                  <a:pt x="20679" y="10483"/>
                  <a:pt x="20710" y="10509"/>
                  <a:pt x="20730" y="10536"/>
                </a:cubicBezTo>
                <a:cubicBezTo>
                  <a:pt x="20758" y="10573"/>
                  <a:pt x="20767" y="10607"/>
                  <a:pt x="20788" y="10626"/>
                </a:cubicBezTo>
                <a:cubicBezTo>
                  <a:pt x="20805" y="10642"/>
                  <a:pt x="20864" y="10638"/>
                  <a:pt x="20879" y="10655"/>
                </a:cubicBezTo>
                <a:cubicBezTo>
                  <a:pt x="20905" y="10684"/>
                  <a:pt x="20906" y="10692"/>
                  <a:pt x="20938" y="10717"/>
                </a:cubicBezTo>
                <a:cubicBezTo>
                  <a:pt x="20950" y="10726"/>
                  <a:pt x="20984" y="10793"/>
                  <a:pt x="20999" y="10805"/>
                </a:cubicBezTo>
                <a:cubicBezTo>
                  <a:pt x="21025" y="10826"/>
                  <a:pt x="21036" y="10847"/>
                  <a:pt x="21058" y="10866"/>
                </a:cubicBezTo>
                <a:cubicBezTo>
                  <a:pt x="21078" y="10883"/>
                  <a:pt x="21101" y="10910"/>
                  <a:pt x="21119" y="10924"/>
                </a:cubicBezTo>
                <a:cubicBezTo>
                  <a:pt x="21144" y="10944"/>
                  <a:pt x="21157" y="10969"/>
                  <a:pt x="21178" y="10986"/>
                </a:cubicBezTo>
                <a:cubicBezTo>
                  <a:pt x="21200" y="11004"/>
                  <a:pt x="21253" y="11061"/>
                  <a:pt x="21269" y="11074"/>
                </a:cubicBezTo>
                <a:cubicBezTo>
                  <a:pt x="21301" y="11100"/>
                  <a:pt x="21305" y="11096"/>
                  <a:pt x="21327" y="11135"/>
                </a:cubicBezTo>
                <a:cubicBezTo>
                  <a:pt x="21342" y="11161"/>
                  <a:pt x="21346" y="11193"/>
                  <a:pt x="21386" y="11193"/>
                </a:cubicBezTo>
                <a:cubicBezTo>
                  <a:pt x="21432" y="11193"/>
                  <a:pt x="21456" y="11168"/>
                  <a:pt x="21506" y="11164"/>
                </a:cubicBezTo>
                <a:cubicBezTo>
                  <a:pt x="21556" y="11160"/>
                  <a:pt x="21577" y="11141"/>
                  <a:pt x="21626" y="11135"/>
                </a:cubicBezTo>
                <a:cubicBezTo>
                  <a:pt x="21676" y="11129"/>
                  <a:pt x="21738" y="11111"/>
                  <a:pt x="21776" y="11106"/>
                </a:cubicBezTo>
                <a:cubicBezTo>
                  <a:pt x="21874" y="11094"/>
                  <a:pt x="21992" y="11085"/>
                  <a:pt x="22074" y="11074"/>
                </a:cubicBezTo>
                <a:cubicBezTo>
                  <a:pt x="22246" y="11051"/>
                  <a:pt x="22523" y="11063"/>
                  <a:pt x="22643" y="11106"/>
                </a:cubicBezTo>
                <a:cubicBezTo>
                  <a:pt x="22678" y="11081"/>
                  <a:pt x="22683" y="11083"/>
                  <a:pt x="22705" y="11044"/>
                </a:cubicBezTo>
                <a:cubicBezTo>
                  <a:pt x="22725" y="11009"/>
                  <a:pt x="22712" y="10998"/>
                  <a:pt x="22734" y="10954"/>
                </a:cubicBezTo>
                <a:cubicBezTo>
                  <a:pt x="22739" y="10944"/>
                  <a:pt x="22777" y="10897"/>
                  <a:pt x="22792" y="10866"/>
                </a:cubicBezTo>
                <a:cubicBezTo>
                  <a:pt x="22812" y="10825"/>
                  <a:pt x="22808" y="10809"/>
                  <a:pt x="22822" y="10775"/>
                </a:cubicBezTo>
                <a:cubicBezTo>
                  <a:pt x="22838" y="10736"/>
                  <a:pt x="22838" y="10693"/>
                  <a:pt x="22854" y="10655"/>
                </a:cubicBezTo>
                <a:cubicBezTo>
                  <a:pt x="22869" y="10621"/>
                  <a:pt x="22863" y="10607"/>
                  <a:pt x="22883" y="10565"/>
                </a:cubicBezTo>
                <a:cubicBezTo>
                  <a:pt x="22906" y="10517"/>
                  <a:pt x="22919" y="10465"/>
                  <a:pt x="22942" y="10416"/>
                </a:cubicBezTo>
                <a:cubicBezTo>
                  <a:pt x="22958" y="10381"/>
                  <a:pt x="22950" y="10367"/>
                  <a:pt x="22971" y="10325"/>
                </a:cubicBezTo>
                <a:cubicBezTo>
                  <a:pt x="22990" y="10287"/>
                  <a:pt x="22982" y="10285"/>
                  <a:pt x="23003" y="10237"/>
                </a:cubicBezTo>
                <a:cubicBezTo>
                  <a:pt x="23017" y="10205"/>
                  <a:pt x="23057" y="10157"/>
                  <a:pt x="23062" y="10147"/>
                </a:cubicBezTo>
                <a:cubicBezTo>
                  <a:pt x="23083" y="10104"/>
                  <a:pt x="23074" y="10092"/>
                  <a:pt x="23091" y="10056"/>
                </a:cubicBezTo>
                <a:cubicBezTo>
                  <a:pt x="23036" y="10051"/>
                  <a:pt x="23025" y="10037"/>
                  <a:pt x="23003" y="10027"/>
                </a:cubicBezTo>
                <a:cubicBezTo>
                  <a:pt x="22958" y="10006"/>
                  <a:pt x="22949" y="10016"/>
                  <a:pt x="22913" y="9998"/>
                </a:cubicBezTo>
                <a:cubicBezTo>
                  <a:pt x="22879" y="9981"/>
                  <a:pt x="22864" y="9990"/>
                  <a:pt x="22822" y="9968"/>
                </a:cubicBezTo>
                <a:cubicBezTo>
                  <a:pt x="22785" y="9949"/>
                  <a:pt x="22785" y="9931"/>
                  <a:pt x="22734" y="9907"/>
                </a:cubicBezTo>
                <a:cubicBezTo>
                  <a:pt x="22696" y="9889"/>
                  <a:pt x="22660" y="9860"/>
                  <a:pt x="22643" y="9849"/>
                </a:cubicBezTo>
                <a:cubicBezTo>
                  <a:pt x="22611" y="9828"/>
                  <a:pt x="22600" y="9815"/>
                  <a:pt x="22552" y="9787"/>
                </a:cubicBezTo>
                <a:cubicBezTo>
                  <a:pt x="22539" y="9779"/>
                  <a:pt x="22475" y="9770"/>
                  <a:pt x="22464" y="9758"/>
                </a:cubicBezTo>
                <a:cubicBezTo>
                  <a:pt x="22444" y="9737"/>
                  <a:pt x="22422" y="9719"/>
                  <a:pt x="22403" y="9699"/>
                </a:cubicBezTo>
                <a:cubicBezTo>
                  <a:pt x="22387" y="9681"/>
                  <a:pt x="22357" y="9655"/>
                  <a:pt x="22344" y="9638"/>
                </a:cubicBezTo>
                <a:cubicBezTo>
                  <a:pt x="22317" y="9605"/>
                  <a:pt x="22324" y="9603"/>
                  <a:pt x="22286" y="9580"/>
                </a:cubicBezTo>
                <a:cubicBezTo>
                  <a:pt x="22245" y="9556"/>
                  <a:pt x="22230" y="9516"/>
                  <a:pt x="22195" y="9518"/>
                </a:cubicBezTo>
                <a:cubicBezTo>
                  <a:pt x="22129" y="9521"/>
                  <a:pt x="22154" y="9543"/>
                  <a:pt x="22104" y="9547"/>
                </a:cubicBezTo>
                <a:cubicBezTo>
                  <a:pt x="22036" y="9553"/>
                  <a:pt x="21917" y="9577"/>
                  <a:pt x="21896" y="9580"/>
                </a:cubicBezTo>
                <a:cubicBezTo>
                  <a:pt x="21809" y="9592"/>
                  <a:pt x="21700" y="9600"/>
                  <a:pt x="21626" y="9609"/>
                </a:cubicBezTo>
                <a:cubicBezTo>
                  <a:pt x="21509" y="9623"/>
                  <a:pt x="21229" y="9609"/>
                  <a:pt x="21207" y="9609"/>
                </a:cubicBezTo>
                <a:cubicBezTo>
                  <a:pt x="21217" y="9609"/>
                  <a:pt x="21226" y="9609"/>
                  <a:pt x="21236" y="9609"/>
                </a:cubicBezTo>
              </a:path>
            </a:pathLst>
          </a:custGeom>
          <a:noFill/>
          <a:ln cap="rnd"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61"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2"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grpSp>
        <p:nvGrpSpPr>
          <p:cNvPr id="63" name=""/>
          <p:cNvGrpSpPr/>
          <p:nvPr/>
        </p:nvGrpSpPr>
        <p:grpSpPr>
          <a:xfrm>
            <a:off x="1554120" y="1012680"/>
            <a:ext cx="5052960" cy="4521240"/>
            <a:chOff x="1554120" y="1012680"/>
            <a:chExt cx="5052960" cy="4521240"/>
          </a:xfrm>
        </p:grpSpPr>
        <p:sp>
          <p:nvSpPr>
            <p:cNvPr id="64"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4"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2415" name=""/>
          <p:cNvSpPr/>
          <p:nvPr/>
        </p:nvSpPr>
        <p:spPr>
          <a:xfrm>
            <a:off x="415800" y="64764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16"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2417"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2418"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2419"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2420" name=""/>
          <p:cNvGrpSpPr/>
          <p:nvPr/>
        </p:nvGrpSpPr>
        <p:grpSpPr>
          <a:xfrm>
            <a:off x="1554120" y="1012680"/>
            <a:ext cx="5052960" cy="4521240"/>
            <a:chOff x="1554120" y="1012680"/>
            <a:chExt cx="5052960" cy="4521240"/>
          </a:xfrm>
        </p:grpSpPr>
        <p:sp>
          <p:nvSpPr>
            <p:cNvPr id="2421"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2"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4"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2425" name="Ink 5"/>
          <p:cNvSpPr/>
          <p:nvPr/>
        </p:nvSpPr>
        <p:spPr>
          <a:xfrm>
            <a:off x="133020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26" name="Group 14"/>
          <p:cNvGrpSpPr/>
          <p:nvPr/>
        </p:nvGrpSpPr>
        <p:grpSpPr>
          <a:xfrm>
            <a:off x="1254240" y="4000680"/>
            <a:ext cx="380520" cy="380880"/>
            <a:chOff x="1254240" y="4000680"/>
            <a:chExt cx="380520" cy="380880"/>
          </a:xfrm>
        </p:grpSpPr>
        <p:sp>
          <p:nvSpPr>
            <p:cNvPr id="2427" name="Ink 15"/>
            <p:cNvSpPr/>
            <p:nvPr/>
          </p:nvSpPr>
          <p:spPr>
            <a:xfrm>
              <a:off x="125424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Ink 16"/>
            <p:cNvSpPr/>
            <p:nvPr/>
          </p:nvSpPr>
          <p:spPr>
            <a:xfrm>
              <a:off x="130608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9" name=""/>
          <p:cNvSpPr/>
          <p:nvPr/>
        </p:nvSpPr>
        <p:spPr>
          <a:xfrm>
            <a:off x="133020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2431" name="Ink 61"/>
          <p:cNvSpPr/>
          <p:nvPr/>
        </p:nvSpPr>
        <p:spPr>
          <a:xfrm>
            <a:off x="87300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2433" name=""/>
          <p:cNvGrpSpPr/>
          <p:nvPr/>
        </p:nvGrpSpPr>
        <p:grpSpPr>
          <a:xfrm>
            <a:off x="1254240" y="1714680"/>
            <a:ext cx="532800" cy="457200"/>
            <a:chOff x="1254240" y="1714680"/>
            <a:chExt cx="532800" cy="457200"/>
          </a:xfrm>
        </p:grpSpPr>
        <p:sp>
          <p:nvSpPr>
            <p:cNvPr id="2434" name=""/>
            <p:cNvSpPr/>
            <p:nvPr/>
          </p:nvSpPr>
          <p:spPr>
            <a:xfrm>
              <a:off x="1467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35" name="Group 12"/>
            <p:cNvGrpSpPr/>
            <p:nvPr/>
          </p:nvGrpSpPr>
          <p:grpSpPr>
            <a:xfrm>
              <a:off x="1254240" y="1714680"/>
              <a:ext cx="532800" cy="457200"/>
              <a:chOff x="1254240" y="1714680"/>
              <a:chExt cx="532800" cy="457200"/>
            </a:xfrm>
          </p:grpSpPr>
          <p:sp>
            <p:nvSpPr>
              <p:cNvPr id="2436" name="Ink 13"/>
              <p:cNvSpPr/>
              <p:nvPr/>
            </p:nvSpPr>
            <p:spPr>
              <a:xfrm>
                <a:off x="125424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Ink 14"/>
              <p:cNvSpPr/>
              <p:nvPr/>
            </p:nvSpPr>
            <p:spPr>
              <a:xfrm>
                <a:off x="126720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438" name="Ink 15"/>
              <p:cNvSpPr/>
              <p:nvPr/>
            </p:nvSpPr>
            <p:spPr>
              <a:xfrm>
                <a:off x="177336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Ink 16"/>
              <p:cNvSpPr/>
              <p:nvPr/>
            </p:nvSpPr>
            <p:spPr>
              <a:xfrm>
                <a:off x="127980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2440" name=""/>
            <p:cNvSpPr/>
            <p:nvPr/>
          </p:nvSpPr>
          <p:spPr>
            <a:xfrm>
              <a:off x="162720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
            <p:cNvSpPr/>
            <p:nvPr/>
          </p:nvSpPr>
          <p:spPr>
            <a:xfrm>
              <a:off x="1307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2" name=""/>
          <p:cNvGrpSpPr/>
          <p:nvPr/>
        </p:nvGrpSpPr>
        <p:grpSpPr>
          <a:xfrm>
            <a:off x="1635120" y="1333440"/>
            <a:ext cx="501120" cy="304920"/>
            <a:chOff x="1635120" y="1333440"/>
            <a:chExt cx="501120" cy="304920"/>
          </a:xfrm>
        </p:grpSpPr>
        <p:sp>
          <p:nvSpPr>
            <p:cNvPr id="2443" name=""/>
            <p:cNvSpPr/>
            <p:nvPr/>
          </p:nvSpPr>
          <p:spPr>
            <a:xfrm>
              <a:off x="18100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198540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a:off x="163512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6" name=""/>
          <p:cNvSpPr/>
          <p:nvPr/>
        </p:nvSpPr>
        <p:spPr>
          <a:xfrm>
            <a:off x="224460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
          <p:cNvSpPr/>
          <p:nvPr/>
        </p:nvSpPr>
        <p:spPr>
          <a:xfrm>
            <a:off x="415800" y="194328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48" name=""/>
          <p:cNvGrpSpPr/>
          <p:nvPr/>
        </p:nvGrpSpPr>
        <p:grpSpPr>
          <a:xfrm>
            <a:off x="4952880" y="380880"/>
            <a:ext cx="888840" cy="747000"/>
            <a:chOff x="4952880" y="380880"/>
            <a:chExt cx="888840" cy="747000"/>
          </a:xfrm>
        </p:grpSpPr>
        <p:sp>
          <p:nvSpPr>
            <p:cNvPr id="2449"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2451"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2452"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2453"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2454"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2455"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2456"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8" name="Group 101"/>
          <p:cNvGrpSpPr/>
          <p:nvPr/>
        </p:nvGrpSpPr>
        <p:grpSpPr>
          <a:xfrm>
            <a:off x="6553080" y="2362320"/>
            <a:ext cx="304560" cy="518400"/>
            <a:chOff x="6553080" y="2362320"/>
            <a:chExt cx="304560" cy="518400"/>
          </a:xfrm>
        </p:grpSpPr>
        <p:grpSp>
          <p:nvGrpSpPr>
            <p:cNvPr id="2459" name="Group 79"/>
            <p:cNvGrpSpPr/>
            <p:nvPr/>
          </p:nvGrpSpPr>
          <p:grpSpPr>
            <a:xfrm>
              <a:off x="6553080" y="2362320"/>
              <a:ext cx="304560" cy="518400"/>
              <a:chOff x="6553080" y="2362320"/>
              <a:chExt cx="304560" cy="518400"/>
            </a:xfrm>
          </p:grpSpPr>
          <p:sp>
            <p:nvSpPr>
              <p:cNvPr id="2460"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462"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64"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466"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71"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472"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73"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4"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5"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2476"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7" name="Group 14"/>
          <p:cNvGrpSpPr/>
          <p:nvPr/>
        </p:nvGrpSpPr>
        <p:grpSpPr>
          <a:xfrm>
            <a:off x="6629400" y="3962520"/>
            <a:ext cx="380520" cy="380880"/>
            <a:chOff x="6629400" y="3962520"/>
            <a:chExt cx="380520" cy="380880"/>
          </a:xfrm>
        </p:grpSpPr>
        <p:sp>
          <p:nvSpPr>
            <p:cNvPr id="2478"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9"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0"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1"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2"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2483" name=""/>
          <p:cNvSpPr/>
          <p:nvPr/>
        </p:nvSpPr>
        <p:spPr>
          <a:xfrm>
            <a:off x="3692520" y="552456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4" name=""/>
          <p:cNvSpPr/>
          <p:nvPr/>
        </p:nvSpPr>
        <p:spPr>
          <a:xfrm>
            <a:off x="3429000" y="1351080"/>
            <a:ext cx="266760" cy="39672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5" name=""/>
          <p:cNvSpPr/>
          <p:nvPr/>
        </p:nvSpPr>
        <p:spPr>
          <a:xfrm>
            <a:off x="4648320" y="1682640"/>
            <a:ext cx="230040" cy="32400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6" name=""/>
          <p:cNvSpPr/>
          <p:nvPr/>
        </p:nvSpPr>
        <p:spPr>
          <a:xfrm>
            <a:off x="5181480" y="2427120"/>
            <a:ext cx="433440" cy="30024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
          <p:cNvSpPr/>
          <p:nvPr/>
        </p:nvSpPr>
        <p:spPr>
          <a:xfrm>
            <a:off x="5105520" y="3754440"/>
            <a:ext cx="21888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
          <p:cNvSpPr/>
          <p:nvPr/>
        </p:nvSpPr>
        <p:spPr>
          <a:xfrm>
            <a:off x="3959280" y="430524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
          <p:cNvSpPr/>
          <p:nvPr/>
        </p:nvSpPr>
        <p:spPr>
          <a:xfrm>
            <a:off x="2968560" y="3865680"/>
            <a:ext cx="20016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0" name=""/>
          <p:cNvSpPr/>
          <p:nvPr/>
        </p:nvSpPr>
        <p:spPr>
          <a:xfrm>
            <a:off x="2751120" y="3027240"/>
            <a:ext cx="258840" cy="10008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
          <p:cNvSpPr/>
          <p:nvPr/>
        </p:nvSpPr>
        <p:spPr>
          <a:xfrm>
            <a:off x="3200400" y="2265480"/>
            <a:ext cx="290520" cy="16020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92" name=""/>
          <p:cNvGrpSpPr/>
          <p:nvPr/>
        </p:nvGrpSpPr>
        <p:grpSpPr>
          <a:xfrm>
            <a:off x="3429000" y="2514600"/>
            <a:ext cx="1599840" cy="1294920"/>
            <a:chOff x="3429000" y="2514600"/>
            <a:chExt cx="1599840" cy="1294920"/>
          </a:xfrm>
        </p:grpSpPr>
        <p:grpSp>
          <p:nvGrpSpPr>
            <p:cNvPr id="2493" name=""/>
            <p:cNvGrpSpPr/>
            <p:nvPr/>
          </p:nvGrpSpPr>
          <p:grpSpPr>
            <a:xfrm>
              <a:off x="3429000" y="2514600"/>
              <a:ext cx="1599840" cy="1294920"/>
              <a:chOff x="3429000" y="2514600"/>
              <a:chExt cx="1599840" cy="1294920"/>
            </a:xfrm>
          </p:grpSpPr>
          <p:sp>
            <p:nvSpPr>
              <p:cNvPr id="2494" name=""/>
              <p:cNvSpPr/>
              <p:nvPr/>
            </p:nvSpPr>
            <p:spPr>
              <a:xfrm>
                <a:off x="3429000" y="2607120"/>
                <a:ext cx="479880" cy="45432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
              <p:cNvSpPr/>
              <p:nvPr/>
            </p:nvSpPr>
            <p:spPr>
              <a:xfrm>
                <a:off x="3668760" y="3162240"/>
                <a:ext cx="880200" cy="64728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6" name=""/>
              <p:cNvSpPr/>
              <p:nvPr/>
            </p:nvSpPr>
            <p:spPr>
              <a:xfrm>
                <a:off x="4388760" y="2514600"/>
                <a:ext cx="640080" cy="60516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
              <p:cNvSpPr/>
              <p:nvPr/>
            </p:nvSpPr>
            <p:spPr>
              <a:xfrm>
                <a:off x="3828960" y="2792160"/>
                <a:ext cx="621000" cy="475920"/>
              </a:xfrm>
              <a:custGeom>
                <a:avLst/>
                <a:gdLst/>
                <a:ahLst/>
                <a:rect l="l" t="t" r="r" b="b"/>
                <a:pathLst>
                  <a:path w="2278" h="1508">
                    <a:moveTo>
                      <a:pt x="15042" y="3209"/>
                    </a:moveTo>
                    <a:cubicBezTo>
                      <a:pt x="15018" y="3199"/>
                      <a:pt x="14996" y="3188"/>
                      <a:pt x="14971" y="3180"/>
                    </a:cubicBezTo>
                    <a:cubicBezTo>
                      <a:pt x="14931" y="3167"/>
                      <a:pt x="14890" y="3157"/>
                      <a:pt x="14849" y="3149"/>
                    </a:cubicBezTo>
                    <a:cubicBezTo>
                      <a:pt x="14626" y="3103"/>
                      <a:pt x="14373" y="3117"/>
                      <a:pt x="14149" y="3144"/>
                    </a:cubicBezTo>
                    <a:cubicBezTo>
                      <a:pt x="14036" y="3158"/>
                      <a:pt x="13917" y="3175"/>
                      <a:pt x="13810" y="3217"/>
                    </a:cubicBezTo>
                    <a:cubicBezTo>
                      <a:pt x="13749" y="3241"/>
                      <a:pt x="13654" y="3288"/>
                      <a:pt x="13667" y="3369"/>
                    </a:cubicBezTo>
                    <a:cubicBezTo>
                      <a:pt x="13678" y="3441"/>
                      <a:pt x="13763" y="3478"/>
                      <a:pt x="13820" y="3506"/>
                    </a:cubicBezTo>
                    <a:cubicBezTo>
                      <a:pt x="13995" y="3590"/>
                      <a:pt x="14195" y="3623"/>
                      <a:pt x="14386" y="3645"/>
                    </a:cubicBezTo>
                    <a:cubicBezTo>
                      <a:pt x="14648" y="3675"/>
                      <a:pt x="14911" y="3683"/>
                      <a:pt x="15173" y="3656"/>
                    </a:cubicBezTo>
                    <a:cubicBezTo>
                      <a:pt x="15330" y="3639"/>
                      <a:pt x="15493" y="3612"/>
                      <a:pt x="15635" y="3538"/>
                    </a:cubicBezTo>
                    <a:cubicBezTo>
                      <a:pt x="15691" y="3509"/>
                      <a:pt x="15784" y="3440"/>
                      <a:pt x="15744" y="3364"/>
                    </a:cubicBezTo>
                    <a:cubicBezTo>
                      <a:pt x="15699" y="3280"/>
                      <a:pt x="15551" y="3264"/>
                      <a:pt x="15472" y="3249"/>
                    </a:cubicBezTo>
                    <a:cubicBezTo>
                      <a:pt x="15355" y="3230"/>
                      <a:pt x="15316" y="3224"/>
                      <a:pt x="15236" y="3224"/>
                    </a:cubicBezTo>
                  </a:path>
                  <a:path w="2278" h="1508">
                    <a:moveTo>
                      <a:pt x="13558" y="3514"/>
                    </a:moveTo>
                    <a:cubicBezTo>
                      <a:pt x="13552" y="3544"/>
                      <a:pt x="13555" y="3575"/>
                      <a:pt x="13549" y="3605"/>
                    </a:cubicBezTo>
                    <a:cubicBezTo>
                      <a:pt x="13537" y="3666"/>
                      <a:pt x="13525" y="3726"/>
                      <a:pt x="13515" y="3788"/>
                    </a:cubicBezTo>
                    <a:cubicBezTo>
                      <a:pt x="13502" y="3868"/>
                      <a:pt x="13494" y="3944"/>
                      <a:pt x="13494" y="4025"/>
                    </a:cubicBezTo>
                    <a:cubicBezTo>
                      <a:pt x="13494" y="4092"/>
                      <a:pt x="13501" y="4158"/>
                      <a:pt x="13523" y="4221"/>
                    </a:cubicBezTo>
                    <a:cubicBezTo>
                      <a:pt x="13533" y="4248"/>
                      <a:pt x="13554" y="4310"/>
                      <a:pt x="13578" y="4329"/>
                    </a:cubicBezTo>
                    <a:cubicBezTo>
                      <a:pt x="13585" y="4332"/>
                      <a:pt x="13593" y="4335"/>
                      <a:pt x="13600" y="4338"/>
                    </a:cubicBezTo>
                  </a:path>
                  <a:path w="2278" h="1508">
                    <a:moveTo>
                      <a:pt x="13820" y="4480"/>
                    </a:moveTo>
                    <a:cubicBezTo>
                      <a:pt x="13853" y="4483"/>
                      <a:pt x="13872" y="4485"/>
                      <a:pt x="13904" y="4496"/>
                    </a:cubicBezTo>
                    <a:cubicBezTo>
                      <a:pt x="14081" y="4554"/>
                      <a:pt x="14250" y="4605"/>
                      <a:pt x="14437" y="4624"/>
                    </a:cubicBezTo>
                    <a:cubicBezTo>
                      <a:pt x="14604" y="4641"/>
                      <a:pt x="14770" y="4631"/>
                      <a:pt x="14936" y="4617"/>
                    </a:cubicBezTo>
                    <a:cubicBezTo>
                      <a:pt x="15157" y="4599"/>
                      <a:pt x="15393" y="4569"/>
                      <a:pt x="15603" y="4494"/>
                    </a:cubicBezTo>
                    <a:cubicBezTo>
                      <a:pt x="15664" y="4472"/>
                      <a:pt x="15733" y="4444"/>
                      <a:pt x="15771" y="4391"/>
                    </a:cubicBezTo>
                    <a:cubicBezTo>
                      <a:pt x="15771" y="4384"/>
                      <a:pt x="15771" y="4376"/>
                      <a:pt x="15771" y="4369"/>
                    </a:cubicBezTo>
                  </a:path>
                  <a:path w="2278" h="1508">
                    <a:moveTo>
                      <a:pt x="15750" y="3638"/>
                    </a:moveTo>
                    <a:cubicBezTo>
                      <a:pt x="15741" y="3656"/>
                      <a:pt x="15736" y="3685"/>
                      <a:pt x="15733" y="3706"/>
                    </a:cubicBezTo>
                    <a:cubicBezTo>
                      <a:pt x="15727" y="3756"/>
                      <a:pt x="15718" y="3805"/>
                      <a:pt x="15713" y="3856"/>
                    </a:cubicBezTo>
                    <a:cubicBezTo>
                      <a:pt x="15706" y="3931"/>
                      <a:pt x="15707" y="4008"/>
                      <a:pt x="15706" y="4084"/>
                    </a:cubicBezTo>
                    <a:cubicBezTo>
                      <a:pt x="15705" y="4158"/>
                      <a:pt x="15717" y="4231"/>
                      <a:pt x="15720" y="4305"/>
                    </a:cubicBezTo>
                    <a:cubicBezTo>
                      <a:pt x="15722" y="4348"/>
                      <a:pt x="15723" y="4387"/>
                      <a:pt x="15729" y="442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8" name=""/>
            <p:cNvSpPr/>
            <p:nvPr/>
          </p:nvSpPr>
          <p:spPr>
            <a:xfrm>
              <a:off x="3506760" y="2743200"/>
              <a:ext cx="2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X</a:t>
              </a:r>
              <a:endParaRPr b="0" lang="en-US" sz="1600" spc="-1" strike="noStrike">
                <a:solidFill>
                  <a:srgbClr val="000000"/>
                </a:solidFill>
                <a:latin typeface="Arial"/>
              </a:endParaRPr>
            </a:p>
          </p:txBody>
        </p:sp>
        <p:sp>
          <p:nvSpPr>
            <p:cNvPr id="2499"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p</a:t>
              </a:r>
              <a:endParaRPr b="0" lang="en-US" sz="1600" spc="-1" strike="noStrike">
                <a:solidFill>
                  <a:srgbClr val="000000"/>
                </a:solidFill>
                <a:latin typeface="Arial"/>
              </a:endParaRPr>
            </a:p>
          </p:txBody>
        </p:sp>
        <p:sp>
          <p:nvSpPr>
            <p:cNvPr id="2500"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Z</a:t>
              </a:r>
              <a:endParaRPr b="0" lang="en-US" sz="1600" spc="-1" strike="noStrike">
                <a:solidFill>
                  <a:srgbClr val="000000"/>
                </a:solidFill>
                <a:latin typeface="Arial"/>
              </a:endParaRPr>
            </a:p>
          </p:txBody>
        </p:sp>
        <p:sp>
          <p:nvSpPr>
            <p:cNvPr id="2501" name=""/>
            <p:cNvSpPr/>
            <p:nvPr/>
          </p:nvSpPr>
          <p:spPr>
            <a:xfrm>
              <a:off x="3980520" y="2895480"/>
              <a:ext cx="3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St</a:t>
              </a:r>
              <a:endParaRPr b="0" lang="en-US" sz="1600" spc="-1" strike="noStrike">
                <a:solidFill>
                  <a:srgbClr val="000000"/>
                </a:solidFill>
                <a:latin typeface="Arial"/>
              </a:endParaRPr>
            </a:p>
          </p:txBody>
        </p:sp>
      </p:grpSp>
      <p:sp>
        <p:nvSpPr>
          <p:cNvPr id="2502"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sp>
        <p:nvSpPr>
          <p:cNvPr id="2503" name=""/>
          <p:cNvSpPr/>
          <p:nvPr/>
        </p:nvSpPr>
        <p:spPr>
          <a:xfrm>
            <a:off x="4805280" y="2209680"/>
            <a:ext cx="265320" cy="184320"/>
          </a:xfrm>
          <a:custGeom>
            <a:avLst/>
            <a:gdLst/>
            <a:ahLst/>
            <a:rect l="l" t="t" r="r" b="b"/>
            <a:pathLst>
              <a:path w="737" h="512">
                <a:moveTo>
                  <a:pt x="21534" y="12356"/>
                </a:moveTo>
                <a:cubicBezTo>
                  <a:pt x="21564" y="12313"/>
                  <a:pt x="21582" y="12275"/>
                  <a:pt x="21603" y="12228"/>
                </a:cubicBezTo>
                <a:cubicBezTo>
                  <a:pt x="21608" y="12216"/>
                  <a:pt x="21614" y="12205"/>
                  <a:pt x="21619" y="12193"/>
                </a:cubicBezTo>
              </a:path>
              <a:path w="737" h="512">
                <a:moveTo>
                  <a:pt x="21788" y="12087"/>
                </a:moveTo>
                <a:cubicBezTo>
                  <a:pt x="21783" y="12044"/>
                  <a:pt x="21783" y="12010"/>
                  <a:pt x="21794" y="11968"/>
                </a:cubicBezTo>
                <a:cubicBezTo>
                  <a:pt x="21806" y="11922"/>
                  <a:pt x="21831" y="11884"/>
                  <a:pt x="21857" y="11845"/>
                </a:cubicBezTo>
              </a:path>
              <a:path w="737" h="512">
                <a:moveTo>
                  <a:pt x="22095" y="11972"/>
                </a:moveTo>
                <a:cubicBezTo>
                  <a:pt x="22104" y="12036"/>
                  <a:pt x="22139" y="12042"/>
                  <a:pt x="22180" y="12091"/>
                </a:cubicBezTo>
                <a:cubicBezTo>
                  <a:pt x="22213" y="12130"/>
                  <a:pt x="22244" y="12171"/>
                  <a:pt x="22270" y="12215"/>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a:off x="5110200" y="2416320"/>
            <a:ext cx="17280" cy="88920"/>
          </a:xfrm>
          <a:custGeom>
            <a:avLst/>
            <a:gdLst/>
            <a:ahLst/>
            <a:rect l="l" t="t" r="r" b="b"/>
            <a:pathLst>
              <a:path w="49" h="248">
                <a:moveTo>
                  <a:pt x="22423" y="12418"/>
                </a:moveTo>
                <a:cubicBezTo>
                  <a:pt x="22393" y="12459"/>
                  <a:pt x="22377" y="12488"/>
                  <a:pt x="22381" y="12541"/>
                </a:cubicBezTo>
                <a:cubicBezTo>
                  <a:pt x="22384" y="12589"/>
                  <a:pt x="22406" y="12625"/>
                  <a:pt x="22429" y="12665"/>
                </a:cubicBezTo>
              </a:path>
            </a:pathLst>
          </a:custGeom>
          <a:noFill/>
          <a:ln cap="rnd" w="38160">
            <a:solidFill>
              <a:srgbClr val="008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05" name=""/>
          <p:cNvSpPr/>
          <p:nvPr/>
        </p:nvSpPr>
        <p:spPr>
          <a:xfrm>
            <a:off x="5191200" y="2581200"/>
            <a:ext cx="44280" cy="90720"/>
          </a:xfrm>
          <a:custGeom>
            <a:avLst/>
            <a:gdLst/>
            <a:ahLst/>
            <a:rect l="l" t="t" r="r" b="b"/>
            <a:pathLst>
              <a:path w="123" h="253">
                <a:moveTo>
                  <a:pt x="22619" y="12876"/>
                </a:moveTo>
                <a:cubicBezTo>
                  <a:pt x="22600" y="12926"/>
                  <a:pt x="22600" y="12952"/>
                  <a:pt x="22630" y="13000"/>
                </a:cubicBezTo>
                <a:cubicBezTo>
                  <a:pt x="22659" y="13046"/>
                  <a:pt x="22690" y="13087"/>
                  <a:pt x="22725" y="13128"/>
                </a:cubicBezTo>
              </a:path>
            </a:pathLst>
          </a:custGeom>
          <a:noFill/>
          <a:ln cap="rnd" w="38160">
            <a:solidFill>
              <a:srgbClr val="008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06" name=""/>
          <p:cNvSpPr/>
          <p:nvPr/>
        </p:nvSpPr>
        <p:spPr>
          <a:xfrm>
            <a:off x="5299200" y="2751120"/>
            <a:ext cx="79200" cy="82440"/>
          </a:xfrm>
          <a:custGeom>
            <a:avLst/>
            <a:gdLst/>
            <a:ahLst/>
            <a:rect l="l" t="t" r="r" b="b"/>
            <a:pathLst>
              <a:path w="218" h="231">
                <a:moveTo>
                  <a:pt x="22905" y="13348"/>
                </a:moveTo>
                <a:cubicBezTo>
                  <a:pt x="22964" y="13374"/>
                  <a:pt x="22995" y="13401"/>
                  <a:pt x="23032" y="13454"/>
                </a:cubicBezTo>
                <a:cubicBezTo>
                  <a:pt x="23062" y="13496"/>
                  <a:pt x="23089" y="13538"/>
                  <a:pt x="23122" y="13578"/>
                </a:cubicBezTo>
              </a:path>
            </a:pathLst>
          </a:custGeom>
          <a:noFill/>
          <a:ln cap="rnd" w="38160">
            <a:solidFill>
              <a:srgbClr val="008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7" name=""/>
          <p:cNvSpPr/>
          <p:nvPr/>
        </p:nvSpPr>
        <p:spPr>
          <a:xfrm>
            <a:off x="5318280" y="2932200"/>
            <a:ext cx="107640" cy="112680"/>
          </a:xfrm>
          <a:custGeom>
            <a:avLst/>
            <a:gdLst/>
            <a:ahLst/>
            <a:rect l="l" t="t" r="r" b="b"/>
            <a:pathLst>
              <a:path w="297" h="314">
                <a:moveTo>
                  <a:pt x="23191" y="13851"/>
                </a:moveTo>
                <a:cubicBezTo>
                  <a:pt x="23210" y="13894"/>
                  <a:pt x="23229" y="13935"/>
                  <a:pt x="23244" y="13979"/>
                </a:cubicBezTo>
                <a:cubicBezTo>
                  <a:pt x="23247" y="13989"/>
                  <a:pt x="23251" y="14000"/>
                  <a:pt x="23254" y="14010"/>
                </a:cubicBezTo>
              </a:path>
              <a:path w="297" h="314">
                <a:moveTo>
                  <a:pt x="22958" y="14164"/>
                </a:moveTo>
                <a:cubicBezTo>
                  <a:pt x="23006" y="14164"/>
                  <a:pt x="23053" y="14161"/>
                  <a:pt x="23101" y="14164"/>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a:off x="3429000" y="1351080"/>
            <a:ext cx="544680" cy="53316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3048120" y="2133720"/>
            <a:ext cx="260496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
          <p:cNvSpPr/>
          <p:nvPr/>
        </p:nvSpPr>
        <p:spPr>
          <a:xfrm>
            <a:off x="3957120" y="236232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eis</a:t>
            </a:r>
            <a:endParaRPr b="0" lang="en-US" sz="1600" spc="-1" strike="noStrike">
              <a:solidFill>
                <a:srgbClr val="000000"/>
              </a:solidFill>
              <a:latin typeface="Arial"/>
            </a:endParaRPr>
          </a:p>
        </p:txBody>
      </p:sp>
      <p:sp>
        <p:nvSpPr>
          <p:cNvPr id="2511" name=""/>
          <p:cNvSpPr/>
          <p:nvPr/>
        </p:nvSpPr>
        <p:spPr>
          <a:xfrm>
            <a:off x="3809880" y="2286000"/>
            <a:ext cx="693720" cy="533520"/>
          </a:xfrm>
          <a:custGeom>
            <a:avLst/>
            <a:gdLst/>
            <a:ahLst/>
            <a:rect l="l" t="t" r="r" b="b"/>
            <a:pathLst>
              <a:path w="2632" h="1676">
                <a:moveTo>
                  <a:pt x="21207" y="9609"/>
                </a:moveTo>
                <a:cubicBezTo>
                  <a:pt x="21196" y="9614"/>
                  <a:pt x="21129" y="9628"/>
                  <a:pt x="21119" y="9638"/>
                </a:cubicBezTo>
                <a:cubicBezTo>
                  <a:pt x="21094" y="9665"/>
                  <a:pt x="21088" y="9676"/>
                  <a:pt x="21058" y="9699"/>
                </a:cubicBezTo>
                <a:cubicBezTo>
                  <a:pt x="21033" y="9719"/>
                  <a:pt x="20949" y="9774"/>
                  <a:pt x="20938" y="9787"/>
                </a:cubicBezTo>
                <a:cubicBezTo>
                  <a:pt x="20918" y="9810"/>
                  <a:pt x="20897" y="9828"/>
                  <a:pt x="20879" y="9849"/>
                </a:cubicBezTo>
                <a:cubicBezTo>
                  <a:pt x="20864" y="9866"/>
                  <a:pt x="20797" y="9925"/>
                  <a:pt x="20788" y="9936"/>
                </a:cubicBezTo>
                <a:cubicBezTo>
                  <a:pt x="20764" y="9966"/>
                  <a:pt x="20787" y="10004"/>
                  <a:pt x="20759" y="10027"/>
                </a:cubicBezTo>
                <a:cubicBezTo>
                  <a:pt x="20738" y="10045"/>
                  <a:pt x="20718" y="10074"/>
                  <a:pt x="20700" y="10088"/>
                </a:cubicBezTo>
                <a:cubicBezTo>
                  <a:pt x="20677" y="10106"/>
                  <a:pt x="20659" y="10131"/>
                  <a:pt x="20639" y="10147"/>
                </a:cubicBezTo>
                <a:cubicBezTo>
                  <a:pt x="20609" y="10170"/>
                  <a:pt x="20593" y="10172"/>
                  <a:pt x="20551" y="10208"/>
                </a:cubicBezTo>
                <a:cubicBezTo>
                  <a:pt x="20519" y="10235"/>
                  <a:pt x="20490" y="10267"/>
                  <a:pt x="20460" y="10296"/>
                </a:cubicBezTo>
                <a:cubicBezTo>
                  <a:pt x="20493" y="10324"/>
                  <a:pt x="20535" y="10375"/>
                  <a:pt x="20551" y="10386"/>
                </a:cubicBezTo>
                <a:cubicBezTo>
                  <a:pt x="20580" y="10407"/>
                  <a:pt x="20620" y="10427"/>
                  <a:pt x="20639" y="10445"/>
                </a:cubicBezTo>
                <a:cubicBezTo>
                  <a:pt x="20679" y="10483"/>
                  <a:pt x="20710" y="10509"/>
                  <a:pt x="20730" y="10536"/>
                </a:cubicBezTo>
                <a:cubicBezTo>
                  <a:pt x="20758" y="10573"/>
                  <a:pt x="20767" y="10607"/>
                  <a:pt x="20788" y="10626"/>
                </a:cubicBezTo>
                <a:cubicBezTo>
                  <a:pt x="20805" y="10642"/>
                  <a:pt x="20864" y="10638"/>
                  <a:pt x="20879" y="10655"/>
                </a:cubicBezTo>
                <a:cubicBezTo>
                  <a:pt x="20905" y="10684"/>
                  <a:pt x="20906" y="10692"/>
                  <a:pt x="20938" y="10717"/>
                </a:cubicBezTo>
                <a:cubicBezTo>
                  <a:pt x="20950" y="10726"/>
                  <a:pt x="20984" y="10793"/>
                  <a:pt x="20999" y="10805"/>
                </a:cubicBezTo>
                <a:cubicBezTo>
                  <a:pt x="21025" y="10826"/>
                  <a:pt x="21036" y="10847"/>
                  <a:pt x="21058" y="10866"/>
                </a:cubicBezTo>
                <a:cubicBezTo>
                  <a:pt x="21078" y="10883"/>
                  <a:pt x="21101" y="10910"/>
                  <a:pt x="21119" y="10924"/>
                </a:cubicBezTo>
                <a:cubicBezTo>
                  <a:pt x="21144" y="10944"/>
                  <a:pt x="21157" y="10969"/>
                  <a:pt x="21178" y="10986"/>
                </a:cubicBezTo>
                <a:cubicBezTo>
                  <a:pt x="21200" y="11004"/>
                  <a:pt x="21253" y="11061"/>
                  <a:pt x="21269" y="11074"/>
                </a:cubicBezTo>
                <a:cubicBezTo>
                  <a:pt x="21301" y="11100"/>
                  <a:pt x="21305" y="11096"/>
                  <a:pt x="21327" y="11135"/>
                </a:cubicBezTo>
                <a:cubicBezTo>
                  <a:pt x="21342" y="11161"/>
                  <a:pt x="21346" y="11193"/>
                  <a:pt x="21386" y="11193"/>
                </a:cubicBezTo>
                <a:cubicBezTo>
                  <a:pt x="21432" y="11193"/>
                  <a:pt x="21456" y="11168"/>
                  <a:pt x="21506" y="11164"/>
                </a:cubicBezTo>
                <a:cubicBezTo>
                  <a:pt x="21556" y="11160"/>
                  <a:pt x="21577" y="11141"/>
                  <a:pt x="21626" y="11135"/>
                </a:cubicBezTo>
                <a:cubicBezTo>
                  <a:pt x="21676" y="11129"/>
                  <a:pt x="21738" y="11111"/>
                  <a:pt x="21776" y="11106"/>
                </a:cubicBezTo>
                <a:cubicBezTo>
                  <a:pt x="21874" y="11094"/>
                  <a:pt x="21992" y="11085"/>
                  <a:pt x="22074" y="11074"/>
                </a:cubicBezTo>
                <a:cubicBezTo>
                  <a:pt x="22246" y="11051"/>
                  <a:pt x="22523" y="11063"/>
                  <a:pt x="22643" y="11106"/>
                </a:cubicBezTo>
                <a:cubicBezTo>
                  <a:pt x="22678" y="11081"/>
                  <a:pt x="22683" y="11083"/>
                  <a:pt x="22705" y="11044"/>
                </a:cubicBezTo>
                <a:cubicBezTo>
                  <a:pt x="22725" y="11009"/>
                  <a:pt x="22712" y="10998"/>
                  <a:pt x="22734" y="10954"/>
                </a:cubicBezTo>
                <a:cubicBezTo>
                  <a:pt x="22739" y="10944"/>
                  <a:pt x="22777" y="10897"/>
                  <a:pt x="22792" y="10866"/>
                </a:cubicBezTo>
                <a:cubicBezTo>
                  <a:pt x="22812" y="10825"/>
                  <a:pt x="22808" y="10809"/>
                  <a:pt x="22822" y="10775"/>
                </a:cubicBezTo>
                <a:cubicBezTo>
                  <a:pt x="22838" y="10736"/>
                  <a:pt x="22838" y="10693"/>
                  <a:pt x="22854" y="10655"/>
                </a:cubicBezTo>
                <a:cubicBezTo>
                  <a:pt x="22869" y="10621"/>
                  <a:pt x="22863" y="10607"/>
                  <a:pt x="22883" y="10565"/>
                </a:cubicBezTo>
                <a:cubicBezTo>
                  <a:pt x="22906" y="10517"/>
                  <a:pt x="22919" y="10465"/>
                  <a:pt x="22942" y="10416"/>
                </a:cubicBezTo>
                <a:cubicBezTo>
                  <a:pt x="22958" y="10381"/>
                  <a:pt x="22950" y="10367"/>
                  <a:pt x="22971" y="10325"/>
                </a:cubicBezTo>
                <a:cubicBezTo>
                  <a:pt x="22990" y="10287"/>
                  <a:pt x="22982" y="10285"/>
                  <a:pt x="23003" y="10237"/>
                </a:cubicBezTo>
                <a:cubicBezTo>
                  <a:pt x="23017" y="10205"/>
                  <a:pt x="23057" y="10157"/>
                  <a:pt x="23062" y="10147"/>
                </a:cubicBezTo>
                <a:cubicBezTo>
                  <a:pt x="23083" y="10104"/>
                  <a:pt x="23074" y="10092"/>
                  <a:pt x="23091" y="10056"/>
                </a:cubicBezTo>
                <a:cubicBezTo>
                  <a:pt x="23036" y="10051"/>
                  <a:pt x="23025" y="10037"/>
                  <a:pt x="23003" y="10027"/>
                </a:cubicBezTo>
                <a:cubicBezTo>
                  <a:pt x="22958" y="10006"/>
                  <a:pt x="22949" y="10016"/>
                  <a:pt x="22913" y="9998"/>
                </a:cubicBezTo>
                <a:cubicBezTo>
                  <a:pt x="22879" y="9981"/>
                  <a:pt x="22864" y="9990"/>
                  <a:pt x="22822" y="9968"/>
                </a:cubicBezTo>
                <a:cubicBezTo>
                  <a:pt x="22785" y="9949"/>
                  <a:pt x="22785" y="9931"/>
                  <a:pt x="22734" y="9907"/>
                </a:cubicBezTo>
                <a:cubicBezTo>
                  <a:pt x="22696" y="9889"/>
                  <a:pt x="22660" y="9860"/>
                  <a:pt x="22643" y="9849"/>
                </a:cubicBezTo>
                <a:cubicBezTo>
                  <a:pt x="22611" y="9828"/>
                  <a:pt x="22600" y="9815"/>
                  <a:pt x="22552" y="9787"/>
                </a:cubicBezTo>
                <a:cubicBezTo>
                  <a:pt x="22539" y="9779"/>
                  <a:pt x="22475" y="9770"/>
                  <a:pt x="22464" y="9758"/>
                </a:cubicBezTo>
                <a:cubicBezTo>
                  <a:pt x="22444" y="9737"/>
                  <a:pt x="22422" y="9719"/>
                  <a:pt x="22403" y="9699"/>
                </a:cubicBezTo>
                <a:cubicBezTo>
                  <a:pt x="22387" y="9681"/>
                  <a:pt x="22357" y="9655"/>
                  <a:pt x="22344" y="9638"/>
                </a:cubicBezTo>
                <a:cubicBezTo>
                  <a:pt x="22317" y="9605"/>
                  <a:pt x="22324" y="9603"/>
                  <a:pt x="22286" y="9580"/>
                </a:cubicBezTo>
                <a:cubicBezTo>
                  <a:pt x="22245" y="9556"/>
                  <a:pt x="22230" y="9516"/>
                  <a:pt x="22195" y="9518"/>
                </a:cubicBezTo>
                <a:cubicBezTo>
                  <a:pt x="22129" y="9521"/>
                  <a:pt x="22154" y="9543"/>
                  <a:pt x="22104" y="9547"/>
                </a:cubicBezTo>
                <a:cubicBezTo>
                  <a:pt x="22036" y="9553"/>
                  <a:pt x="21917" y="9577"/>
                  <a:pt x="21896" y="9580"/>
                </a:cubicBezTo>
                <a:cubicBezTo>
                  <a:pt x="21809" y="9592"/>
                  <a:pt x="21700" y="9600"/>
                  <a:pt x="21626" y="9609"/>
                </a:cubicBezTo>
                <a:cubicBezTo>
                  <a:pt x="21509" y="9623"/>
                  <a:pt x="21229" y="9609"/>
                  <a:pt x="21207" y="9609"/>
                </a:cubicBezTo>
                <a:cubicBezTo>
                  <a:pt x="21217" y="9609"/>
                  <a:pt x="21226" y="9609"/>
                  <a:pt x="21236" y="960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2"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2513" name=""/>
          <p:cNvSpPr/>
          <p:nvPr/>
        </p:nvSpPr>
        <p:spPr>
          <a:xfrm>
            <a:off x="415800" y="64764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14"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2515"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2516"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2517"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2518" name=""/>
          <p:cNvGrpSpPr/>
          <p:nvPr/>
        </p:nvGrpSpPr>
        <p:grpSpPr>
          <a:xfrm>
            <a:off x="1554120" y="1012680"/>
            <a:ext cx="5052960" cy="4521240"/>
            <a:chOff x="1554120" y="1012680"/>
            <a:chExt cx="5052960" cy="4521240"/>
          </a:xfrm>
        </p:grpSpPr>
        <p:sp>
          <p:nvSpPr>
            <p:cNvPr id="2519"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2"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2523" name="Ink 5"/>
          <p:cNvSpPr/>
          <p:nvPr/>
        </p:nvSpPr>
        <p:spPr>
          <a:xfrm>
            <a:off x="133020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4" name="Group 14"/>
          <p:cNvGrpSpPr/>
          <p:nvPr/>
        </p:nvGrpSpPr>
        <p:grpSpPr>
          <a:xfrm>
            <a:off x="1254240" y="4000680"/>
            <a:ext cx="380520" cy="380880"/>
            <a:chOff x="1254240" y="4000680"/>
            <a:chExt cx="380520" cy="380880"/>
          </a:xfrm>
        </p:grpSpPr>
        <p:sp>
          <p:nvSpPr>
            <p:cNvPr id="2525" name="Ink 15"/>
            <p:cNvSpPr/>
            <p:nvPr/>
          </p:nvSpPr>
          <p:spPr>
            <a:xfrm>
              <a:off x="125424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6" name="Ink 16"/>
            <p:cNvSpPr/>
            <p:nvPr/>
          </p:nvSpPr>
          <p:spPr>
            <a:xfrm>
              <a:off x="130608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7" name=""/>
          <p:cNvSpPr/>
          <p:nvPr/>
        </p:nvSpPr>
        <p:spPr>
          <a:xfrm>
            <a:off x="133020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8"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2529" name="Ink 61"/>
          <p:cNvSpPr/>
          <p:nvPr/>
        </p:nvSpPr>
        <p:spPr>
          <a:xfrm>
            <a:off x="87300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2531" name=""/>
          <p:cNvGrpSpPr/>
          <p:nvPr/>
        </p:nvGrpSpPr>
        <p:grpSpPr>
          <a:xfrm>
            <a:off x="1254240" y="1714680"/>
            <a:ext cx="532800" cy="457200"/>
            <a:chOff x="1254240" y="1714680"/>
            <a:chExt cx="532800" cy="457200"/>
          </a:xfrm>
        </p:grpSpPr>
        <p:sp>
          <p:nvSpPr>
            <p:cNvPr id="2532" name=""/>
            <p:cNvSpPr/>
            <p:nvPr/>
          </p:nvSpPr>
          <p:spPr>
            <a:xfrm>
              <a:off x="1467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3" name="Group 12"/>
            <p:cNvGrpSpPr/>
            <p:nvPr/>
          </p:nvGrpSpPr>
          <p:grpSpPr>
            <a:xfrm>
              <a:off x="1254240" y="1714680"/>
              <a:ext cx="532800" cy="457200"/>
              <a:chOff x="1254240" y="1714680"/>
              <a:chExt cx="532800" cy="457200"/>
            </a:xfrm>
          </p:grpSpPr>
          <p:sp>
            <p:nvSpPr>
              <p:cNvPr id="2534" name="Ink 13"/>
              <p:cNvSpPr/>
              <p:nvPr/>
            </p:nvSpPr>
            <p:spPr>
              <a:xfrm>
                <a:off x="125424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Ink 14"/>
              <p:cNvSpPr/>
              <p:nvPr/>
            </p:nvSpPr>
            <p:spPr>
              <a:xfrm>
                <a:off x="126720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36" name="Ink 15"/>
              <p:cNvSpPr/>
              <p:nvPr/>
            </p:nvSpPr>
            <p:spPr>
              <a:xfrm>
                <a:off x="177336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7" name="Ink 16"/>
              <p:cNvSpPr/>
              <p:nvPr/>
            </p:nvSpPr>
            <p:spPr>
              <a:xfrm>
                <a:off x="127980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2538" name=""/>
            <p:cNvSpPr/>
            <p:nvPr/>
          </p:nvSpPr>
          <p:spPr>
            <a:xfrm>
              <a:off x="162720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9" name=""/>
            <p:cNvSpPr/>
            <p:nvPr/>
          </p:nvSpPr>
          <p:spPr>
            <a:xfrm>
              <a:off x="1307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40" name=""/>
          <p:cNvGrpSpPr/>
          <p:nvPr/>
        </p:nvGrpSpPr>
        <p:grpSpPr>
          <a:xfrm>
            <a:off x="1635120" y="1333440"/>
            <a:ext cx="501120" cy="304920"/>
            <a:chOff x="1635120" y="1333440"/>
            <a:chExt cx="501120" cy="304920"/>
          </a:xfrm>
        </p:grpSpPr>
        <p:sp>
          <p:nvSpPr>
            <p:cNvPr id="2541" name=""/>
            <p:cNvSpPr/>
            <p:nvPr/>
          </p:nvSpPr>
          <p:spPr>
            <a:xfrm>
              <a:off x="18100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
            <p:cNvSpPr/>
            <p:nvPr/>
          </p:nvSpPr>
          <p:spPr>
            <a:xfrm>
              <a:off x="198540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
            <p:cNvSpPr/>
            <p:nvPr/>
          </p:nvSpPr>
          <p:spPr>
            <a:xfrm>
              <a:off x="163512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44" name=""/>
          <p:cNvSpPr/>
          <p:nvPr/>
        </p:nvSpPr>
        <p:spPr>
          <a:xfrm>
            <a:off x="224460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
          <p:cNvSpPr/>
          <p:nvPr/>
        </p:nvSpPr>
        <p:spPr>
          <a:xfrm>
            <a:off x="415800" y="194328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6" name=""/>
          <p:cNvGrpSpPr/>
          <p:nvPr/>
        </p:nvGrpSpPr>
        <p:grpSpPr>
          <a:xfrm>
            <a:off x="4952880" y="380880"/>
            <a:ext cx="888840" cy="747000"/>
            <a:chOff x="4952880" y="380880"/>
            <a:chExt cx="888840" cy="747000"/>
          </a:xfrm>
        </p:grpSpPr>
        <p:sp>
          <p:nvSpPr>
            <p:cNvPr id="2547"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2549"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2550"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2551"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2552"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2553"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2554"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6" name="Group 101"/>
          <p:cNvGrpSpPr/>
          <p:nvPr/>
        </p:nvGrpSpPr>
        <p:grpSpPr>
          <a:xfrm>
            <a:off x="6553080" y="2362320"/>
            <a:ext cx="304560" cy="518400"/>
            <a:chOff x="6553080" y="2362320"/>
            <a:chExt cx="304560" cy="518400"/>
          </a:xfrm>
        </p:grpSpPr>
        <p:grpSp>
          <p:nvGrpSpPr>
            <p:cNvPr id="2557" name="Group 79"/>
            <p:cNvGrpSpPr/>
            <p:nvPr/>
          </p:nvGrpSpPr>
          <p:grpSpPr>
            <a:xfrm>
              <a:off x="6553080" y="2362320"/>
              <a:ext cx="304560" cy="518400"/>
              <a:chOff x="6553080" y="2362320"/>
              <a:chExt cx="304560" cy="518400"/>
            </a:xfrm>
          </p:grpSpPr>
          <p:sp>
            <p:nvSpPr>
              <p:cNvPr id="2558"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9"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560"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1"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62"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564"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5"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6"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7"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8"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69"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570"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71"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2"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3"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2574"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75" name="Group 14"/>
          <p:cNvGrpSpPr/>
          <p:nvPr/>
        </p:nvGrpSpPr>
        <p:grpSpPr>
          <a:xfrm>
            <a:off x="6629400" y="3962520"/>
            <a:ext cx="380520" cy="380880"/>
            <a:chOff x="6629400" y="3962520"/>
            <a:chExt cx="380520" cy="380880"/>
          </a:xfrm>
        </p:grpSpPr>
        <p:sp>
          <p:nvSpPr>
            <p:cNvPr id="2576"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8"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9"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0"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2581" name=""/>
          <p:cNvSpPr/>
          <p:nvPr/>
        </p:nvSpPr>
        <p:spPr>
          <a:xfrm>
            <a:off x="3692520" y="552456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
          <p:cNvSpPr/>
          <p:nvPr/>
        </p:nvSpPr>
        <p:spPr>
          <a:xfrm>
            <a:off x="3429000" y="1351080"/>
            <a:ext cx="266760" cy="39672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
          <p:cNvSpPr/>
          <p:nvPr/>
        </p:nvSpPr>
        <p:spPr>
          <a:xfrm>
            <a:off x="4648320" y="1682640"/>
            <a:ext cx="230040" cy="32400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
          <p:cNvSpPr/>
          <p:nvPr/>
        </p:nvSpPr>
        <p:spPr>
          <a:xfrm>
            <a:off x="5181480" y="2427120"/>
            <a:ext cx="433440" cy="30024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
          <p:cNvSpPr/>
          <p:nvPr/>
        </p:nvSpPr>
        <p:spPr>
          <a:xfrm>
            <a:off x="5105520" y="3754440"/>
            <a:ext cx="21888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6" name=""/>
          <p:cNvSpPr/>
          <p:nvPr/>
        </p:nvSpPr>
        <p:spPr>
          <a:xfrm>
            <a:off x="3959280" y="430524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
          <p:cNvSpPr/>
          <p:nvPr/>
        </p:nvSpPr>
        <p:spPr>
          <a:xfrm>
            <a:off x="2968560" y="3865680"/>
            <a:ext cx="20016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
          <p:cNvSpPr/>
          <p:nvPr/>
        </p:nvSpPr>
        <p:spPr>
          <a:xfrm>
            <a:off x="2751120" y="3027240"/>
            <a:ext cx="258840" cy="10008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
          <p:cNvSpPr/>
          <p:nvPr/>
        </p:nvSpPr>
        <p:spPr>
          <a:xfrm>
            <a:off x="3200400" y="2265480"/>
            <a:ext cx="290520" cy="16020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0" name=""/>
          <p:cNvGrpSpPr/>
          <p:nvPr/>
        </p:nvGrpSpPr>
        <p:grpSpPr>
          <a:xfrm>
            <a:off x="3429000" y="2514600"/>
            <a:ext cx="1599840" cy="1294920"/>
            <a:chOff x="3429000" y="2514600"/>
            <a:chExt cx="1599840" cy="1294920"/>
          </a:xfrm>
        </p:grpSpPr>
        <p:grpSp>
          <p:nvGrpSpPr>
            <p:cNvPr id="2591" name=""/>
            <p:cNvGrpSpPr/>
            <p:nvPr/>
          </p:nvGrpSpPr>
          <p:grpSpPr>
            <a:xfrm>
              <a:off x="3429000" y="2514600"/>
              <a:ext cx="1599840" cy="1294920"/>
              <a:chOff x="3429000" y="2514600"/>
              <a:chExt cx="1599840" cy="1294920"/>
            </a:xfrm>
          </p:grpSpPr>
          <p:sp>
            <p:nvSpPr>
              <p:cNvPr id="2592" name=""/>
              <p:cNvSpPr/>
              <p:nvPr/>
            </p:nvSpPr>
            <p:spPr>
              <a:xfrm>
                <a:off x="3429000" y="2607120"/>
                <a:ext cx="479880" cy="45432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3" name=""/>
              <p:cNvSpPr/>
              <p:nvPr/>
            </p:nvSpPr>
            <p:spPr>
              <a:xfrm>
                <a:off x="3668760" y="3162240"/>
                <a:ext cx="880200" cy="64728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4" name=""/>
              <p:cNvSpPr/>
              <p:nvPr/>
            </p:nvSpPr>
            <p:spPr>
              <a:xfrm>
                <a:off x="4388760" y="2514600"/>
                <a:ext cx="640080" cy="60516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3828960" y="2792160"/>
                <a:ext cx="621000" cy="475920"/>
              </a:xfrm>
              <a:custGeom>
                <a:avLst/>
                <a:gdLst/>
                <a:ahLst/>
                <a:rect l="l" t="t" r="r" b="b"/>
                <a:pathLst>
                  <a:path w="2278" h="1508">
                    <a:moveTo>
                      <a:pt x="15042" y="3209"/>
                    </a:moveTo>
                    <a:cubicBezTo>
                      <a:pt x="15018" y="3199"/>
                      <a:pt x="14996" y="3188"/>
                      <a:pt x="14971" y="3180"/>
                    </a:cubicBezTo>
                    <a:cubicBezTo>
                      <a:pt x="14931" y="3167"/>
                      <a:pt x="14890" y="3157"/>
                      <a:pt x="14849" y="3149"/>
                    </a:cubicBezTo>
                    <a:cubicBezTo>
                      <a:pt x="14626" y="3103"/>
                      <a:pt x="14373" y="3117"/>
                      <a:pt x="14149" y="3144"/>
                    </a:cubicBezTo>
                    <a:cubicBezTo>
                      <a:pt x="14036" y="3158"/>
                      <a:pt x="13917" y="3175"/>
                      <a:pt x="13810" y="3217"/>
                    </a:cubicBezTo>
                    <a:cubicBezTo>
                      <a:pt x="13749" y="3241"/>
                      <a:pt x="13654" y="3288"/>
                      <a:pt x="13667" y="3369"/>
                    </a:cubicBezTo>
                    <a:cubicBezTo>
                      <a:pt x="13678" y="3441"/>
                      <a:pt x="13763" y="3478"/>
                      <a:pt x="13820" y="3506"/>
                    </a:cubicBezTo>
                    <a:cubicBezTo>
                      <a:pt x="13995" y="3590"/>
                      <a:pt x="14195" y="3623"/>
                      <a:pt x="14386" y="3645"/>
                    </a:cubicBezTo>
                    <a:cubicBezTo>
                      <a:pt x="14648" y="3675"/>
                      <a:pt x="14911" y="3683"/>
                      <a:pt x="15173" y="3656"/>
                    </a:cubicBezTo>
                    <a:cubicBezTo>
                      <a:pt x="15330" y="3639"/>
                      <a:pt x="15493" y="3612"/>
                      <a:pt x="15635" y="3538"/>
                    </a:cubicBezTo>
                    <a:cubicBezTo>
                      <a:pt x="15691" y="3509"/>
                      <a:pt x="15784" y="3440"/>
                      <a:pt x="15744" y="3364"/>
                    </a:cubicBezTo>
                    <a:cubicBezTo>
                      <a:pt x="15699" y="3280"/>
                      <a:pt x="15551" y="3264"/>
                      <a:pt x="15472" y="3249"/>
                    </a:cubicBezTo>
                    <a:cubicBezTo>
                      <a:pt x="15355" y="3230"/>
                      <a:pt x="15316" y="3224"/>
                      <a:pt x="15236" y="3224"/>
                    </a:cubicBezTo>
                  </a:path>
                  <a:path w="2278" h="1508">
                    <a:moveTo>
                      <a:pt x="13558" y="3514"/>
                    </a:moveTo>
                    <a:cubicBezTo>
                      <a:pt x="13552" y="3544"/>
                      <a:pt x="13555" y="3575"/>
                      <a:pt x="13549" y="3605"/>
                    </a:cubicBezTo>
                    <a:cubicBezTo>
                      <a:pt x="13537" y="3666"/>
                      <a:pt x="13525" y="3726"/>
                      <a:pt x="13515" y="3788"/>
                    </a:cubicBezTo>
                    <a:cubicBezTo>
                      <a:pt x="13502" y="3868"/>
                      <a:pt x="13494" y="3944"/>
                      <a:pt x="13494" y="4025"/>
                    </a:cubicBezTo>
                    <a:cubicBezTo>
                      <a:pt x="13494" y="4092"/>
                      <a:pt x="13501" y="4158"/>
                      <a:pt x="13523" y="4221"/>
                    </a:cubicBezTo>
                    <a:cubicBezTo>
                      <a:pt x="13533" y="4248"/>
                      <a:pt x="13554" y="4310"/>
                      <a:pt x="13578" y="4329"/>
                    </a:cubicBezTo>
                    <a:cubicBezTo>
                      <a:pt x="13585" y="4332"/>
                      <a:pt x="13593" y="4335"/>
                      <a:pt x="13600" y="4338"/>
                    </a:cubicBezTo>
                  </a:path>
                  <a:path w="2278" h="1508">
                    <a:moveTo>
                      <a:pt x="13820" y="4480"/>
                    </a:moveTo>
                    <a:cubicBezTo>
                      <a:pt x="13853" y="4483"/>
                      <a:pt x="13872" y="4485"/>
                      <a:pt x="13904" y="4496"/>
                    </a:cubicBezTo>
                    <a:cubicBezTo>
                      <a:pt x="14081" y="4554"/>
                      <a:pt x="14250" y="4605"/>
                      <a:pt x="14437" y="4624"/>
                    </a:cubicBezTo>
                    <a:cubicBezTo>
                      <a:pt x="14604" y="4641"/>
                      <a:pt x="14770" y="4631"/>
                      <a:pt x="14936" y="4617"/>
                    </a:cubicBezTo>
                    <a:cubicBezTo>
                      <a:pt x="15157" y="4599"/>
                      <a:pt x="15393" y="4569"/>
                      <a:pt x="15603" y="4494"/>
                    </a:cubicBezTo>
                    <a:cubicBezTo>
                      <a:pt x="15664" y="4472"/>
                      <a:pt x="15733" y="4444"/>
                      <a:pt x="15771" y="4391"/>
                    </a:cubicBezTo>
                    <a:cubicBezTo>
                      <a:pt x="15771" y="4384"/>
                      <a:pt x="15771" y="4376"/>
                      <a:pt x="15771" y="4369"/>
                    </a:cubicBezTo>
                  </a:path>
                  <a:path w="2278" h="1508">
                    <a:moveTo>
                      <a:pt x="15750" y="3638"/>
                    </a:moveTo>
                    <a:cubicBezTo>
                      <a:pt x="15741" y="3656"/>
                      <a:pt x="15736" y="3685"/>
                      <a:pt x="15733" y="3706"/>
                    </a:cubicBezTo>
                    <a:cubicBezTo>
                      <a:pt x="15727" y="3756"/>
                      <a:pt x="15718" y="3805"/>
                      <a:pt x="15713" y="3856"/>
                    </a:cubicBezTo>
                    <a:cubicBezTo>
                      <a:pt x="15706" y="3931"/>
                      <a:pt x="15707" y="4008"/>
                      <a:pt x="15706" y="4084"/>
                    </a:cubicBezTo>
                    <a:cubicBezTo>
                      <a:pt x="15705" y="4158"/>
                      <a:pt x="15717" y="4231"/>
                      <a:pt x="15720" y="4305"/>
                    </a:cubicBezTo>
                    <a:cubicBezTo>
                      <a:pt x="15722" y="4348"/>
                      <a:pt x="15723" y="4387"/>
                      <a:pt x="15729" y="442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96" name=""/>
            <p:cNvSpPr/>
            <p:nvPr/>
          </p:nvSpPr>
          <p:spPr>
            <a:xfrm>
              <a:off x="3506760" y="2743200"/>
              <a:ext cx="2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X</a:t>
              </a:r>
              <a:endParaRPr b="0" lang="en-US" sz="1600" spc="-1" strike="noStrike">
                <a:solidFill>
                  <a:srgbClr val="000000"/>
                </a:solidFill>
                <a:latin typeface="Arial"/>
              </a:endParaRPr>
            </a:p>
          </p:txBody>
        </p:sp>
        <p:sp>
          <p:nvSpPr>
            <p:cNvPr id="2597"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p</a:t>
              </a:r>
              <a:endParaRPr b="0" lang="en-US" sz="1600" spc="-1" strike="noStrike">
                <a:solidFill>
                  <a:srgbClr val="000000"/>
                </a:solidFill>
                <a:latin typeface="Arial"/>
              </a:endParaRPr>
            </a:p>
          </p:txBody>
        </p:sp>
        <p:sp>
          <p:nvSpPr>
            <p:cNvPr id="2598"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Z</a:t>
              </a:r>
              <a:endParaRPr b="0" lang="en-US" sz="1600" spc="-1" strike="noStrike">
                <a:solidFill>
                  <a:srgbClr val="000000"/>
                </a:solidFill>
                <a:latin typeface="Arial"/>
              </a:endParaRPr>
            </a:p>
          </p:txBody>
        </p:sp>
        <p:sp>
          <p:nvSpPr>
            <p:cNvPr id="2599" name=""/>
            <p:cNvSpPr/>
            <p:nvPr/>
          </p:nvSpPr>
          <p:spPr>
            <a:xfrm>
              <a:off x="3980520" y="2895480"/>
              <a:ext cx="3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St</a:t>
              </a:r>
              <a:endParaRPr b="0" lang="en-US" sz="1600" spc="-1" strike="noStrike">
                <a:solidFill>
                  <a:srgbClr val="000000"/>
                </a:solidFill>
                <a:latin typeface="Arial"/>
              </a:endParaRPr>
            </a:p>
          </p:txBody>
        </p:sp>
      </p:grpSp>
      <p:sp>
        <p:nvSpPr>
          <p:cNvPr id="2600"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sp>
        <p:nvSpPr>
          <p:cNvPr id="2601" name=""/>
          <p:cNvSpPr/>
          <p:nvPr/>
        </p:nvSpPr>
        <p:spPr>
          <a:xfrm>
            <a:off x="4805280" y="2209680"/>
            <a:ext cx="265320" cy="184320"/>
          </a:xfrm>
          <a:custGeom>
            <a:avLst/>
            <a:gdLst/>
            <a:ahLst/>
            <a:rect l="l" t="t" r="r" b="b"/>
            <a:pathLst>
              <a:path w="737" h="512">
                <a:moveTo>
                  <a:pt x="21534" y="12356"/>
                </a:moveTo>
                <a:cubicBezTo>
                  <a:pt x="21564" y="12313"/>
                  <a:pt x="21582" y="12275"/>
                  <a:pt x="21603" y="12228"/>
                </a:cubicBezTo>
                <a:cubicBezTo>
                  <a:pt x="21608" y="12216"/>
                  <a:pt x="21614" y="12205"/>
                  <a:pt x="21619" y="12193"/>
                </a:cubicBezTo>
              </a:path>
              <a:path w="737" h="512">
                <a:moveTo>
                  <a:pt x="21788" y="12087"/>
                </a:moveTo>
                <a:cubicBezTo>
                  <a:pt x="21783" y="12044"/>
                  <a:pt x="21783" y="12010"/>
                  <a:pt x="21794" y="11968"/>
                </a:cubicBezTo>
                <a:cubicBezTo>
                  <a:pt x="21806" y="11922"/>
                  <a:pt x="21831" y="11884"/>
                  <a:pt x="21857" y="11845"/>
                </a:cubicBezTo>
              </a:path>
              <a:path w="737" h="512">
                <a:moveTo>
                  <a:pt x="22095" y="11972"/>
                </a:moveTo>
                <a:cubicBezTo>
                  <a:pt x="22104" y="12036"/>
                  <a:pt x="22139" y="12042"/>
                  <a:pt x="22180" y="12091"/>
                </a:cubicBezTo>
                <a:cubicBezTo>
                  <a:pt x="22213" y="12130"/>
                  <a:pt x="22244" y="12171"/>
                  <a:pt x="22270" y="12215"/>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
          <p:cNvSpPr/>
          <p:nvPr/>
        </p:nvSpPr>
        <p:spPr>
          <a:xfrm>
            <a:off x="5110200" y="2416320"/>
            <a:ext cx="17280" cy="88920"/>
          </a:xfrm>
          <a:custGeom>
            <a:avLst/>
            <a:gdLst/>
            <a:ahLst/>
            <a:rect l="l" t="t" r="r" b="b"/>
            <a:pathLst>
              <a:path w="49" h="248">
                <a:moveTo>
                  <a:pt x="22423" y="12418"/>
                </a:moveTo>
                <a:cubicBezTo>
                  <a:pt x="22393" y="12459"/>
                  <a:pt x="22377" y="12488"/>
                  <a:pt x="22381" y="12541"/>
                </a:cubicBezTo>
                <a:cubicBezTo>
                  <a:pt x="22384" y="12589"/>
                  <a:pt x="22406" y="12625"/>
                  <a:pt x="22429" y="12665"/>
                </a:cubicBezTo>
              </a:path>
            </a:pathLst>
          </a:custGeom>
          <a:noFill/>
          <a:ln cap="rnd" w="38160">
            <a:solidFill>
              <a:srgbClr val="008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03" name=""/>
          <p:cNvSpPr/>
          <p:nvPr/>
        </p:nvSpPr>
        <p:spPr>
          <a:xfrm>
            <a:off x="5191200" y="2581200"/>
            <a:ext cx="44280" cy="90720"/>
          </a:xfrm>
          <a:custGeom>
            <a:avLst/>
            <a:gdLst/>
            <a:ahLst/>
            <a:rect l="l" t="t" r="r" b="b"/>
            <a:pathLst>
              <a:path w="123" h="253">
                <a:moveTo>
                  <a:pt x="22619" y="12876"/>
                </a:moveTo>
                <a:cubicBezTo>
                  <a:pt x="22600" y="12926"/>
                  <a:pt x="22600" y="12952"/>
                  <a:pt x="22630" y="13000"/>
                </a:cubicBezTo>
                <a:cubicBezTo>
                  <a:pt x="22659" y="13046"/>
                  <a:pt x="22690" y="13087"/>
                  <a:pt x="22725" y="13128"/>
                </a:cubicBezTo>
              </a:path>
            </a:pathLst>
          </a:custGeom>
          <a:noFill/>
          <a:ln cap="rnd" w="38160">
            <a:solidFill>
              <a:srgbClr val="008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04" name=""/>
          <p:cNvSpPr/>
          <p:nvPr/>
        </p:nvSpPr>
        <p:spPr>
          <a:xfrm>
            <a:off x="5299200" y="2751120"/>
            <a:ext cx="79200" cy="82440"/>
          </a:xfrm>
          <a:custGeom>
            <a:avLst/>
            <a:gdLst/>
            <a:ahLst/>
            <a:rect l="l" t="t" r="r" b="b"/>
            <a:pathLst>
              <a:path w="218" h="231">
                <a:moveTo>
                  <a:pt x="22905" y="13348"/>
                </a:moveTo>
                <a:cubicBezTo>
                  <a:pt x="22964" y="13374"/>
                  <a:pt x="22995" y="13401"/>
                  <a:pt x="23032" y="13454"/>
                </a:cubicBezTo>
                <a:cubicBezTo>
                  <a:pt x="23062" y="13496"/>
                  <a:pt x="23089" y="13538"/>
                  <a:pt x="23122" y="13578"/>
                </a:cubicBezTo>
              </a:path>
            </a:pathLst>
          </a:custGeom>
          <a:noFill/>
          <a:ln cap="rnd" w="38160">
            <a:solidFill>
              <a:srgbClr val="008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05" name=""/>
          <p:cNvSpPr/>
          <p:nvPr/>
        </p:nvSpPr>
        <p:spPr>
          <a:xfrm>
            <a:off x="5318280" y="2932200"/>
            <a:ext cx="107640" cy="112680"/>
          </a:xfrm>
          <a:custGeom>
            <a:avLst/>
            <a:gdLst/>
            <a:ahLst/>
            <a:rect l="l" t="t" r="r" b="b"/>
            <a:pathLst>
              <a:path w="297" h="314">
                <a:moveTo>
                  <a:pt x="23191" y="13851"/>
                </a:moveTo>
                <a:cubicBezTo>
                  <a:pt x="23210" y="13894"/>
                  <a:pt x="23229" y="13935"/>
                  <a:pt x="23244" y="13979"/>
                </a:cubicBezTo>
                <a:cubicBezTo>
                  <a:pt x="23247" y="13989"/>
                  <a:pt x="23251" y="14000"/>
                  <a:pt x="23254" y="14010"/>
                </a:cubicBezTo>
              </a:path>
              <a:path w="297" h="314">
                <a:moveTo>
                  <a:pt x="22958" y="14164"/>
                </a:moveTo>
                <a:cubicBezTo>
                  <a:pt x="23006" y="14164"/>
                  <a:pt x="23053" y="14161"/>
                  <a:pt x="23101" y="14164"/>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
          <p:cNvSpPr/>
          <p:nvPr/>
        </p:nvSpPr>
        <p:spPr>
          <a:xfrm>
            <a:off x="3490920" y="3894120"/>
            <a:ext cx="1360440" cy="241200"/>
          </a:xfrm>
          <a:custGeom>
            <a:avLst/>
            <a:gdLst/>
            <a:ahLst/>
            <a:rect l="l" t="t" r="r" b="b"/>
            <a:pathLst>
              <a:path w="3779" h="672">
                <a:moveTo>
                  <a:pt x="18063" y="16523"/>
                </a:moveTo>
                <a:cubicBezTo>
                  <a:pt x="18056" y="16556"/>
                  <a:pt x="18047" y="16587"/>
                  <a:pt x="18037" y="16620"/>
                </a:cubicBezTo>
              </a:path>
              <a:path w="3779" h="672">
                <a:moveTo>
                  <a:pt x="17957" y="16828"/>
                </a:moveTo>
                <a:cubicBezTo>
                  <a:pt x="17933" y="16863"/>
                  <a:pt x="17909" y="16896"/>
                  <a:pt x="17883" y="16929"/>
                </a:cubicBezTo>
              </a:path>
              <a:path w="3779" h="672">
                <a:moveTo>
                  <a:pt x="21513" y="17154"/>
                </a:moveTo>
                <a:cubicBezTo>
                  <a:pt x="21565" y="17177"/>
                  <a:pt x="21605" y="17191"/>
                  <a:pt x="21661" y="17194"/>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
          <p:cNvSpPr/>
          <p:nvPr/>
        </p:nvSpPr>
        <p:spPr>
          <a:xfrm>
            <a:off x="3527280" y="3765600"/>
            <a:ext cx="136800" cy="403200"/>
          </a:xfrm>
          <a:custGeom>
            <a:avLst/>
            <a:gdLst/>
            <a:ahLst/>
            <a:rect l="l" t="t" r="r" b="b"/>
            <a:pathLst>
              <a:path w="376" h="1121">
                <a:moveTo>
                  <a:pt x="18359" y="16166"/>
                </a:moveTo>
                <a:cubicBezTo>
                  <a:pt x="18343" y="16209"/>
                  <a:pt x="18322" y="16249"/>
                  <a:pt x="18301" y="16290"/>
                </a:cubicBezTo>
              </a:path>
              <a:path w="376" h="1121">
                <a:moveTo>
                  <a:pt x="17984" y="17286"/>
                </a:moveTo>
                <a:cubicBezTo>
                  <a:pt x="18033" y="17264"/>
                  <a:pt x="18083" y="17243"/>
                  <a:pt x="18137" y="17233"/>
                </a:cubicBezTo>
                <a:cubicBezTo>
                  <a:pt x="18175" y="17229"/>
                  <a:pt x="18189" y="17227"/>
                  <a:pt x="18211" y="17211"/>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
          <p:cNvSpPr/>
          <p:nvPr/>
        </p:nvSpPr>
        <p:spPr>
          <a:xfrm>
            <a:off x="3732120" y="4148280"/>
            <a:ext cx="314280" cy="31680"/>
          </a:xfrm>
          <a:custGeom>
            <a:avLst/>
            <a:gdLst/>
            <a:ahLst/>
            <a:rect l="l" t="t" r="r" b="b"/>
            <a:pathLst>
              <a:path w="874" h="89">
                <a:moveTo>
                  <a:pt x="18550" y="17246"/>
                </a:moveTo>
                <a:cubicBezTo>
                  <a:pt x="18600" y="17263"/>
                  <a:pt x="18647" y="17280"/>
                  <a:pt x="18698" y="17291"/>
                </a:cubicBezTo>
                <a:cubicBezTo>
                  <a:pt x="18747" y="17302"/>
                  <a:pt x="18796" y="17299"/>
                  <a:pt x="18846" y="17299"/>
                </a:cubicBezTo>
              </a:path>
              <a:path w="874" h="89">
                <a:moveTo>
                  <a:pt x="19090" y="17229"/>
                </a:moveTo>
                <a:cubicBezTo>
                  <a:pt x="19138" y="17255"/>
                  <a:pt x="19181" y="17266"/>
                  <a:pt x="19233" y="17282"/>
                </a:cubicBezTo>
                <a:cubicBezTo>
                  <a:pt x="19284" y="17298"/>
                  <a:pt x="19333" y="17307"/>
                  <a:pt x="19386" y="17313"/>
                </a:cubicBezTo>
                <a:cubicBezTo>
                  <a:pt x="19398" y="17314"/>
                  <a:pt x="19411" y="17316"/>
                  <a:pt x="19423" y="17317"/>
                </a:cubicBezTo>
              </a:path>
            </a:pathLst>
          </a:custGeom>
          <a:noFill/>
          <a:ln cap="rnd" w="38160">
            <a:solidFill>
              <a:srgbClr val="008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09" name=""/>
          <p:cNvSpPr/>
          <p:nvPr/>
        </p:nvSpPr>
        <p:spPr>
          <a:xfrm>
            <a:off x="4183200" y="4176720"/>
            <a:ext cx="109440" cy="19080"/>
          </a:xfrm>
          <a:custGeom>
            <a:avLst/>
            <a:gdLst/>
            <a:ahLst/>
            <a:rect l="l" t="t" r="r" b="b"/>
            <a:pathLst>
              <a:path w="303" h="54">
                <a:moveTo>
                  <a:pt x="19804" y="17308"/>
                </a:moveTo>
                <a:cubicBezTo>
                  <a:pt x="19864" y="17340"/>
                  <a:pt x="19890" y="17329"/>
                  <a:pt x="19952" y="17339"/>
                </a:cubicBezTo>
                <a:cubicBezTo>
                  <a:pt x="20005" y="17347"/>
                  <a:pt x="20051" y="17360"/>
                  <a:pt x="20106" y="17361"/>
                </a:cubicBezTo>
              </a:path>
            </a:pathLst>
          </a:custGeom>
          <a:noFill/>
          <a:ln cap="rnd" w="38160">
            <a:solidFill>
              <a:srgbClr val="008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10" name=""/>
          <p:cNvSpPr/>
          <p:nvPr/>
        </p:nvSpPr>
        <p:spPr>
          <a:xfrm>
            <a:off x="4406760" y="4140360"/>
            <a:ext cx="338400" cy="33120"/>
          </a:xfrm>
          <a:custGeom>
            <a:avLst/>
            <a:gdLst/>
            <a:ahLst/>
            <a:rect l="l" t="t" r="r" b="b"/>
            <a:pathLst>
              <a:path w="938" h="93">
                <a:moveTo>
                  <a:pt x="20428" y="17233"/>
                </a:moveTo>
                <a:cubicBezTo>
                  <a:pt x="20481" y="17267"/>
                  <a:pt x="20523" y="17290"/>
                  <a:pt x="20587" y="17295"/>
                </a:cubicBezTo>
                <a:cubicBezTo>
                  <a:pt x="20637" y="17299"/>
                  <a:pt x="20685" y="17293"/>
                  <a:pt x="20735" y="17295"/>
                </a:cubicBezTo>
                <a:cubicBezTo>
                  <a:pt x="20747" y="17296"/>
                  <a:pt x="20760" y="17298"/>
                  <a:pt x="20772" y="17299"/>
                </a:cubicBezTo>
              </a:path>
              <a:path w="938" h="93">
                <a:moveTo>
                  <a:pt x="21063" y="17207"/>
                </a:moveTo>
                <a:cubicBezTo>
                  <a:pt x="21117" y="17234"/>
                  <a:pt x="21156" y="17253"/>
                  <a:pt x="21217" y="17255"/>
                </a:cubicBezTo>
                <a:cubicBezTo>
                  <a:pt x="21268" y="17256"/>
                  <a:pt x="21316" y="17256"/>
                  <a:pt x="21365" y="17264"/>
                </a:cubicBezTo>
              </a:path>
            </a:pathLst>
          </a:custGeom>
          <a:noFill/>
          <a:ln cap="rnd" w="38160">
            <a:solidFill>
              <a:srgbClr val="008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11" name=""/>
          <p:cNvSpPr/>
          <p:nvPr/>
        </p:nvSpPr>
        <p:spPr>
          <a:xfrm>
            <a:off x="4716360" y="3916440"/>
            <a:ext cx="65160" cy="75960"/>
          </a:xfrm>
          <a:custGeom>
            <a:avLst/>
            <a:gdLst/>
            <a:ahLst/>
            <a:rect l="l" t="t" r="r" b="b"/>
            <a:pathLst>
              <a:path w="181" h="213">
                <a:moveTo>
                  <a:pt x="21286" y="16585"/>
                </a:moveTo>
                <a:cubicBezTo>
                  <a:pt x="21335" y="16621"/>
                  <a:pt x="21379" y="16656"/>
                  <a:pt x="21413" y="16708"/>
                </a:cubicBezTo>
                <a:cubicBezTo>
                  <a:pt x="21431" y="16737"/>
                  <a:pt x="21448" y="16768"/>
                  <a:pt x="21466" y="16797"/>
                </a:cubicBezTo>
              </a:path>
            </a:pathLst>
          </a:custGeom>
          <a:noFill/>
          <a:ln cap="rnd" w="38160">
            <a:solidFill>
              <a:srgbClr val="008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12" name=""/>
          <p:cNvSpPr/>
          <p:nvPr/>
        </p:nvSpPr>
        <p:spPr>
          <a:xfrm>
            <a:off x="3429000" y="1351080"/>
            <a:ext cx="544680" cy="53316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
          <p:cNvSpPr/>
          <p:nvPr/>
        </p:nvSpPr>
        <p:spPr>
          <a:xfrm>
            <a:off x="3048120" y="2133720"/>
            <a:ext cx="260496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
          <p:cNvSpPr/>
          <p:nvPr/>
        </p:nvSpPr>
        <p:spPr>
          <a:xfrm>
            <a:off x="3957120" y="236232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eis</a:t>
            </a:r>
            <a:endParaRPr b="0" lang="en-US" sz="1600" spc="-1" strike="noStrike">
              <a:solidFill>
                <a:srgbClr val="000000"/>
              </a:solidFill>
              <a:latin typeface="Arial"/>
            </a:endParaRPr>
          </a:p>
        </p:txBody>
      </p:sp>
      <p:sp>
        <p:nvSpPr>
          <p:cNvPr id="2615" name=""/>
          <p:cNvSpPr/>
          <p:nvPr/>
        </p:nvSpPr>
        <p:spPr>
          <a:xfrm>
            <a:off x="3809880" y="2286000"/>
            <a:ext cx="693720" cy="533520"/>
          </a:xfrm>
          <a:custGeom>
            <a:avLst/>
            <a:gdLst/>
            <a:ahLst/>
            <a:rect l="l" t="t" r="r" b="b"/>
            <a:pathLst>
              <a:path w="2632" h="1676">
                <a:moveTo>
                  <a:pt x="21207" y="9609"/>
                </a:moveTo>
                <a:cubicBezTo>
                  <a:pt x="21196" y="9614"/>
                  <a:pt x="21129" y="9628"/>
                  <a:pt x="21119" y="9638"/>
                </a:cubicBezTo>
                <a:cubicBezTo>
                  <a:pt x="21094" y="9665"/>
                  <a:pt x="21088" y="9676"/>
                  <a:pt x="21058" y="9699"/>
                </a:cubicBezTo>
                <a:cubicBezTo>
                  <a:pt x="21033" y="9719"/>
                  <a:pt x="20949" y="9774"/>
                  <a:pt x="20938" y="9787"/>
                </a:cubicBezTo>
                <a:cubicBezTo>
                  <a:pt x="20918" y="9810"/>
                  <a:pt x="20897" y="9828"/>
                  <a:pt x="20879" y="9849"/>
                </a:cubicBezTo>
                <a:cubicBezTo>
                  <a:pt x="20864" y="9866"/>
                  <a:pt x="20797" y="9925"/>
                  <a:pt x="20788" y="9936"/>
                </a:cubicBezTo>
                <a:cubicBezTo>
                  <a:pt x="20764" y="9966"/>
                  <a:pt x="20787" y="10004"/>
                  <a:pt x="20759" y="10027"/>
                </a:cubicBezTo>
                <a:cubicBezTo>
                  <a:pt x="20738" y="10045"/>
                  <a:pt x="20718" y="10074"/>
                  <a:pt x="20700" y="10088"/>
                </a:cubicBezTo>
                <a:cubicBezTo>
                  <a:pt x="20677" y="10106"/>
                  <a:pt x="20659" y="10131"/>
                  <a:pt x="20639" y="10147"/>
                </a:cubicBezTo>
                <a:cubicBezTo>
                  <a:pt x="20609" y="10170"/>
                  <a:pt x="20593" y="10172"/>
                  <a:pt x="20551" y="10208"/>
                </a:cubicBezTo>
                <a:cubicBezTo>
                  <a:pt x="20519" y="10235"/>
                  <a:pt x="20490" y="10267"/>
                  <a:pt x="20460" y="10296"/>
                </a:cubicBezTo>
                <a:cubicBezTo>
                  <a:pt x="20493" y="10324"/>
                  <a:pt x="20535" y="10375"/>
                  <a:pt x="20551" y="10386"/>
                </a:cubicBezTo>
                <a:cubicBezTo>
                  <a:pt x="20580" y="10407"/>
                  <a:pt x="20620" y="10427"/>
                  <a:pt x="20639" y="10445"/>
                </a:cubicBezTo>
                <a:cubicBezTo>
                  <a:pt x="20679" y="10483"/>
                  <a:pt x="20710" y="10509"/>
                  <a:pt x="20730" y="10536"/>
                </a:cubicBezTo>
                <a:cubicBezTo>
                  <a:pt x="20758" y="10573"/>
                  <a:pt x="20767" y="10607"/>
                  <a:pt x="20788" y="10626"/>
                </a:cubicBezTo>
                <a:cubicBezTo>
                  <a:pt x="20805" y="10642"/>
                  <a:pt x="20864" y="10638"/>
                  <a:pt x="20879" y="10655"/>
                </a:cubicBezTo>
                <a:cubicBezTo>
                  <a:pt x="20905" y="10684"/>
                  <a:pt x="20906" y="10692"/>
                  <a:pt x="20938" y="10717"/>
                </a:cubicBezTo>
                <a:cubicBezTo>
                  <a:pt x="20950" y="10726"/>
                  <a:pt x="20984" y="10793"/>
                  <a:pt x="20999" y="10805"/>
                </a:cubicBezTo>
                <a:cubicBezTo>
                  <a:pt x="21025" y="10826"/>
                  <a:pt x="21036" y="10847"/>
                  <a:pt x="21058" y="10866"/>
                </a:cubicBezTo>
                <a:cubicBezTo>
                  <a:pt x="21078" y="10883"/>
                  <a:pt x="21101" y="10910"/>
                  <a:pt x="21119" y="10924"/>
                </a:cubicBezTo>
                <a:cubicBezTo>
                  <a:pt x="21144" y="10944"/>
                  <a:pt x="21157" y="10969"/>
                  <a:pt x="21178" y="10986"/>
                </a:cubicBezTo>
                <a:cubicBezTo>
                  <a:pt x="21200" y="11004"/>
                  <a:pt x="21253" y="11061"/>
                  <a:pt x="21269" y="11074"/>
                </a:cubicBezTo>
                <a:cubicBezTo>
                  <a:pt x="21301" y="11100"/>
                  <a:pt x="21305" y="11096"/>
                  <a:pt x="21327" y="11135"/>
                </a:cubicBezTo>
                <a:cubicBezTo>
                  <a:pt x="21342" y="11161"/>
                  <a:pt x="21346" y="11193"/>
                  <a:pt x="21386" y="11193"/>
                </a:cubicBezTo>
                <a:cubicBezTo>
                  <a:pt x="21432" y="11193"/>
                  <a:pt x="21456" y="11168"/>
                  <a:pt x="21506" y="11164"/>
                </a:cubicBezTo>
                <a:cubicBezTo>
                  <a:pt x="21556" y="11160"/>
                  <a:pt x="21577" y="11141"/>
                  <a:pt x="21626" y="11135"/>
                </a:cubicBezTo>
                <a:cubicBezTo>
                  <a:pt x="21676" y="11129"/>
                  <a:pt x="21738" y="11111"/>
                  <a:pt x="21776" y="11106"/>
                </a:cubicBezTo>
                <a:cubicBezTo>
                  <a:pt x="21874" y="11094"/>
                  <a:pt x="21992" y="11085"/>
                  <a:pt x="22074" y="11074"/>
                </a:cubicBezTo>
                <a:cubicBezTo>
                  <a:pt x="22246" y="11051"/>
                  <a:pt x="22523" y="11063"/>
                  <a:pt x="22643" y="11106"/>
                </a:cubicBezTo>
                <a:cubicBezTo>
                  <a:pt x="22678" y="11081"/>
                  <a:pt x="22683" y="11083"/>
                  <a:pt x="22705" y="11044"/>
                </a:cubicBezTo>
                <a:cubicBezTo>
                  <a:pt x="22725" y="11009"/>
                  <a:pt x="22712" y="10998"/>
                  <a:pt x="22734" y="10954"/>
                </a:cubicBezTo>
                <a:cubicBezTo>
                  <a:pt x="22739" y="10944"/>
                  <a:pt x="22777" y="10897"/>
                  <a:pt x="22792" y="10866"/>
                </a:cubicBezTo>
                <a:cubicBezTo>
                  <a:pt x="22812" y="10825"/>
                  <a:pt x="22808" y="10809"/>
                  <a:pt x="22822" y="10775"/>
                </a:cubicBezTo>
                <a:cubicBezTo>
                  <a:pt x="22838" y="10736"/>
                  <a:pt x="22838" y="10693"/>
                  <a:pt x="22854" y="10655"/>
                </a:cubicBezTo>
                <a:cubicBezTo>
                  <a:pt x="22869" y="10621"/>
                  <a:pt x="22863" y="10607"/>
                  <a:pt x="22883" y="10565"/>
                </a:cubicBezTo>
                <a:cubicBezTo>
                  <a:pt x="22906" y="10517"/>
                  <a:pt x="22919" y="10465"/>
                  <a:pt x="22942" y="10416"/>
                </a:cubicBezTo>
                <a:cubicBezTo>
                  <a:pt x="22958" y="10381"/>
                  <a:pt x="22950" y="10367"/>
                  <a:pt x="22971" y="10325"/>
                </a:cubicBezTo>
                <a:cubicBezTo>
                  <a:pt x="22990" y="10287"/>
                  <a:pt x="22982" y="10285"/>
                  <a:pt x="23003" y="10237"/>
                </a:cubicBezTo>
                <a:cubicBezTo>
                  <a:pt x="23017" y="10205"/>
                  <a:pt x="23057" y="10157"/>
                  <a:pt x="23062" y="10147"/>
                </a:cubicBezTo>
                <a:cubicBezTo>
                  <a:pt x="23083" y="10104"/>
                  <a:pt x="23074" y="10092"/>
                  <a:pt x="23091" y="10056"/>
                </a:cubicBezTo>
                <a:cubicBezTo>
                  <a:pt x="23036" y="10051"/>
                  <a:pt x="23025" y="10037"/>
                  <a:pt x="23003" y="10027"/>
                </a:cubicBezTo>
                <a:cubicBezTo>
                  <a:pt x="22958" y="10006"/>
                  <a:pt x="22949" y="10016"/>
                  <a:pt x="22913" y="9998"/>
                </a:cubicBezTo>
                <a:cubicBezTo>
                  <a:pt x="22879" y="9981"/>
                  <a:pt x="22864" y="9990"/>
                  <a:pt x="22822" y="9968"/>
                </a:cubicBezTo>
                <a:cubicBezTo>
                  <a:pt x="22785" y="9949"/>
                  <a:pt x="22785" y="9931"/>
                  <a:pt x="22734" y="9907"/>
                </a:cubicBezTo>
                <a:cubicBezTo>
                  <a:pt x="22696" y="9889"/>
                  <a:pt x="22660" y="9860"/>
                  <a:pt x="22643" y="9849"/>
                </a:cubicBezTo>
                <a:cubicBezTo>
                  <a:pt x="22611" y="9828"/>
                  <a:pt x="22600" y="9815"/>
                  <a:pt x="22552" y="9787"/>
                </a:cubicBezTo>
                <a:cubicBezTo>
                  <a:pt x="22539" y="9779"/>
                  <a:pt x="22475" y="9770"/>
                  <a:pt x="22464" y="9758"/>
                </a:cubicBezTo>
                <a:cubicBezTo>
                  <a:pt x="22444" y="9737"/>
                  <a:pt x="22422" y="9719"/>
                  <a:pt x="22403" y="9699"/>
                </a:cubicBezTo>
                <a:cubicBezTo>
                  <a:pt x="22387" y="9681"/>
                  <a:pt x="22357" y="9655"/>
                  <a:pt x="22344" y="9638"/>
                </a:cubicBezTo>
                <a:cubicBezTo>
                  <a:pt x="22317" y="9605"/>
                  <a:pt x="22324" y="9603"/>
                  <a:pt x="22286" y="9580"/>
                </a:cubicBezTo>
                <a:cubicBezTo>
                  <a:pt x="22245" y="9556"/>
                  <a:pt x="22230" y="9516"/>
                  <a:pt x="22195" y="9518"/>
                </a:cubicBezTo>
                <a:cubicBezTo>
                  <a:pt x="22129" y="9521"/>
                  <a:pt x="22154" y="9543"/>
                  <a:pt x="22104" y="9547"/>
                </a:cubicBezTo>
                <a:cubicBezTo>
                  <a:pt x="22036" y="9553"/>
                  <a:pt x="21917" y="9577"/>
                  <a:pt x="21896" y="9580"/>
                </a:cubicBezTo>
                <a:cubicBezTo>
                  <a:pt x="21809" y="9592"/>
                  <a:pt x="21700" y="9600"/>
                  <a:pt x="21626" y="9609"/>
                </a:cubicBezTo>
                <a:cubicBezTo>
                  <a:pt x="21509" y="9623"/>
                  <a:pt x="21229" y="9609"/>
                  <a:pt x="21207" y="9609"/>
                </a:cubicBezTo>
                <a:cubicBezTo>
                  <a:pt x="21217" y="9609"/>
                  <a:pt x="21226" y="9609"/>
                  <a:pt x="21236" y="960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6"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2617" name=""/>
          <p:cNvSpPr/>
          <p:nvPr/>
        </p:nvSpPr>
        <p:spPr>
          <a:xfrm>
            <a:off x="415800" y="64764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18"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2619"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2620"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2621"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2622" name=""/>
          <p:cNvGrpSpPr/>
          <p:nvPr/>
        </p:nvGrpSpPr>
        <p:grpSpPr>
          <a:xfrm>
            <a:off x="1554120" y="1012680"/>
            <a:ext cx="5052960" cy="4521240"/>
            <a:chOff x="1554120" y="1012680"/>
            <a:chExt cx="5052960" cy="4521240"/>
          </a:xfrm>
        </p:grpSpPr>
        <p:sp>
          <p:nvSpPr>
            <p:cNvPr id="2623"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4"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6"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2627" name="Ink 5"/>
          <p:cNvSpPr/>
          <p:nvPr/>
        </p:nvSpPr>
        <p:spPr>
          <a:xfrm>
            <a:off x="133020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28" name="Group 14"/>
          <p:cNvGrpSpPr/>
          <p:nvPr/>
        </p:nvGrpSpPr>
        <p:grpSpPr>
          <a:xfrm>
            <a:off x="1254240" y="4000680"/>
            <a:ext cx="380520" cy="380880"/>
            <a:chOff x="1254240" y="4000680"/>
            <a:chExt cx="380520" cy="380880"/>
          </a:xfrm>
        </p:grpSpPr>
        <p:sp>
          <p:nvSpPr>
            <p:cNvPr id="2629" name="Ink 15"/>
            <p:cNvSpPr/>
            <p:nvPr/>
          </p:nvSpPr>
          <p:spPr>
            <a:xfrm>
              <a:off x="125424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Ink 16"/>
            <p:cNvSpPr/>
            <p:nvPr/>
          </p:nvSpPr>
          <p:spPr>
            <a:xfrm>
              <a:off x="130608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1" name=""/>
          <p:cNvSpPr/>
          <p:nvPr/>
        </p:nvSpPr>
        <p:spPr>
          <a:xfrm>
            <a:off x="133020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2"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2633" name="Ink 61"/>
          <p:cNvSpPr/>
          <p:nvPr/>
        </p:nvSpPr>
        <p:spPr>
          <a:xfrm>
            <a:off x="87300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4"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2635" name=""/>
          <p:cNvGrpSpPr/>
          <p:nvPr/>
        </p:nvGrpSpPr>
        <p:grpSpPr>
          <a:xfrm>
            <a:off x="1254240" y="1714680"/>
            <a:ext cx="532800" cy="457200"/>
            <a:chOff x="1254240" y="1714680"/>
            <a:chExt cx="532800" cy="457200"/>
          </a:xfrm>
        </p:grpSpPr>
        <p:sp>
          <p:nvSpPr>
            <p:cNvPr id="2636" name=""/>
            <p:cNvSpPr/>
            <p:nvPr/>
          </p:nvSpPr>
          <p:spPr>
            <a:xfrm>
              <a:off x="1467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7" name="Group 12"/>
            <p:cNvGrpSpPr/>
            <p:nvPr/>
          </p:nvGrpSpPr>
          <p:grpSpPr>
            <a:xfrm>
              <a:off x="1254240" y="1714680"/>
              <a:ext cx="532800" cy="457200"/>
              <a:chOff x="1254240" y="1714680"/>
              <a:chExt cx="532800" cy="457200"/>
            </a:xfrm>
          </p:grpSpPr>
          <p:sp>
            <p:nvSpPr>
              <p:cNvPr id="2638" name="Ink 13"/>
              <p:cNvSpPr/>
              <p:nvPr/>
            </p:nvSpPr>
            <p:spPr>
              <a:xfrm>
                <a:off x="125424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Ink 14"/>
              <p:cNvSpPr/>
              <p:nvPr/>
            </p:nvSpPr>
            <p:spPr>
              <a:xfrm>
                <a:off x="126720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640" name="Ink 15"/>
              <p:cNvSpPr/>
              <p:nvPr/>
            </p:nvSpPr>
            <p:spPr>
              <a:xfrm>
                <a:off x="177336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Ink 16"/>
              <p:cNvSpPr/>
              <p:nvPr/>
            </p:nvSpPr>
            <p:spPr>
              <a:xfrm>
                <a:off x="127980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2642" name=""/>
            <p:cNvSpPr/>
            <p:nvPr/>
          </p:nvSpPr>
          <p:spPr>
            <a:xfrm>
              <a:off x="162720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3" name=""/>
            <p:cNvSpPr/>
            <p:nvPr/>
          </p:nvSpPr>
          <p:spPr>
            <a:xfrm>
              <a:off x="1307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4" name=""/>
          <p:cNvGrpSpPr/>
          <p:nvPr/>
        </p:nvGrpSpPr>
        <p:grpSpPr>
          <a:xfrm>
            <a:off x="1635120" y="1333440"/>
            <a:ext cx="501120" cy="304920"/>
            <a:chOff x="1635120" y="1333440"/>
            <a:chExt cx="501120" cy="304920"/>
          </a:xfrm>
        </p:grpSpPr>
        <p:sp>
          <p:nvSpPr>
            <p:cNvPr id="2645" name=""/>
            <p:cNvSpPr/>
            <p:nvPr/>
          </p:nvSpPr>
          <p:spPr>
            <a:xfrm>
              <a:off x="18100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
            <p:cNvSpPr/>
            <p:nvPr/>
          </p:nvSpPr>
          <p:spPr>
            <a:xfrm>
              <a:off x="198540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
            <p:cNvSpPr/>
            <p:nvPr/>
          </p:nvSpPr>
          <p:spPr>
            <a:xfrm>
              <a:off x="163512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8" name=""/>
          <p:cNvSpPr/>
          <p:nvPr/>
        </p:nvSpPr>
        <p:spPr>
          <a:xfrm>
            <a:off x="224460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
          <p:cNvSpPr/>
          <p:nvPr/>
        </p:nvSpPr>
        <p:spPr>
          <a:xfrm>
            <a:off x="415800" y="194328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0" name=""/>
          <p:cNvGrpSpPr/>
          <p:nvPr/>
        </p:nvGrpSpPr>
        <p:grpSpPr>
          <a:xfrm>
            <a:off x="4952880" y="380880"/>
            <a:ext cx="888840" cy="747000"/>
            <a:chOff x="4952880" y="380880"/>
            <a:chExt cx="888840" cy="747000"/>
          </a:xfrm>
        </p:grpSpPr>
        <p:sp>
          <p:nvSpPr>
            <p:cNvPr id="2651"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2653"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2654"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2655"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2656"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2657"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2658"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9"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0" name="Group 101"/>
          <p:cNvGrpSpPr/>
          <p:nvPr/>
        </p:nvGrpSpPr>
        <p:grpSpPr>
          <a:xfrm>
            <a:off x="6553080" y="2362320"/>
            <a:ext cx="304560" cy="518400"/>
            <a:chOff x="6553080" y="2362320"/>
            <a:chExt cx="304560" cy="518400"/>
          </a:xfrm>
        </p:grpSpPr>
        <p:grpSp>
          <p:nvGrpSpPr>
            <p:cNvPr id="2661" name="Group 79"/>
            <p:cNvGrpSpPr/>
            <p:nvPr/>
          </p:nvGrpSpPr>
          <p:grpSpPr>
            <a:xfrm>
              <a:off x="6553080" y="2362320"/>
              <a:ext cx="304560" cy="518400"/>
              <a:chOff x="6553080" y="2362320"/>
              <a:chExt cx="304560" cy="518400"/>
            </a:xfrm>
          </p:grpSpPr>
          <p:sp>
            <p:nvSpPr>
              <p:cNvPr id="2662"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664"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66"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668"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9"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2"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73"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674"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75"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6"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7"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2678"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9" name="Group 14"/>
          <p:cNvGrpSpPr/>
          <p:nvPr/>
        </p:nvGrpSpPr>
        <p:grpSpPr>
          <a:xfrm>
            <a:off x="6629400" y="3962520"/>
            <a:ext cx="380520" cy="380880"/>
            <a:chOff x="6629400" y="3962520"/>
            <a:chExt cx="380520" cy="380880"/>
          </a:xfrm>
        </p:grpSpPr>
        <p:sp>
          <p:nvSpPr>
            <p:cNvPr id="2680"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1"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2"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3"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4"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2685" name=""/>
          <p:cNvSpPr/>
          <p:nvPr/>
        </p:nvSpPr>
        <p:spPr>
          <a:xfrm>
            <a:off x="3692520" y="552456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
          <p:cNvSpPr/>
          <p:nvPr/>
        </p:nvSpPr>
        <p:spPr>
          <a:xfrm>
            <a:off x="3429000" y="1351080"/>
            <a:ext cx="266760" cy="39672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7" name=""/>
          <p:cNvSpPr/>
          <p:nvPr/>
        </p:nvSpPr>
        <p:spPr>
          <a:xfrm>
            <a:off x="4648320" y="1682640"/>
            <a:ext cx="230040" cy="32400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
          <p:cNvSpPr/>
          <p:nvPr/>
        </p:nvSpPr>
        <p:spPr>
          <a:xfrm>
            <a:off x="5181480" y="2427120"/>
            <a:ext cx="433440" cy="30024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
          <p:cNvSpPr/>
          <p:nvPr/>
        </p:nvSpPr>
        <p:spPr>
          <a:xfrm>
            <a:off x="5105520" y="3754440"/>
            <a:ext cx="21888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
          <p:cNvSpPr/>
          <p:nvPr/>
        </p:nvSpPr>
        <p:spPr>
          <a:xfrm>
            <a:off x="3959280" y="430524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
          <p:cNvSpPr/>
          <p:nvPr/>
        </p:nvSpPr>
        <p:spPr>
          <a:xfrm>
            <a:off x="2968560" y="3865680"/>
            <a:ext cx="20016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
          <p:cNvSpPr/>
          <p:nvPr/>
        </p:nvSpPr>
        <p:spPr>
          <a:xfrm>
            <a:off x="2751120" y="3027240"/>
            <a:ext cx="258840" cy="10008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
          <p:cNvSpPr/>
          <p:nvPr/>
        </p:nvSpPr>
        <p:spPr>
          <a:xfrm>
            <a:off x="3200400" y="2265480"/>
            <a:ext cx="290520" cy="16020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4" name=""/>
          <p:cNvGrpSpPr/>
          <p:nvPr/>
        </p:nvGrpSpPr>
        <p:grpSpPr>
          <a:xfrm>
            <a:off x="3429000" y="2514600"/>
            <a:ext cx="1599840" cy="1294920"/>
            <a:chOff x="3429000" y="2514600"/>
            <a:chExt cx="1599840" cy="1294920"/>
          </a:xfrm>
        </p:grpSpPr>
        <p:grpSp>
          <p:nvGrpSpPr>
            <p:cNvPr id="2695" name=""/>
            <p:cNvGrpSpPr/>
            <p:nvPr/>
          </p:nvGrpSpPr>
          <p:grpSpPr>
            <a:xfrm>
              <a:off x="3429000" y="2514600"/>
              <a:ext cx="1599840" cy="1294920"/>
              <a:chOff x="3429000" y="2514600"/>
              <a:chExt cx="1599840" cy="1294920"/>
            </a:xfrm>
          </p:grpSpPr>
          <p:sp>
            <p:nvSpPr>
              <p:cNvPr id="2696" name=""/>
              <p:cNvSpPr/>
              <p:nvPr/>
            </p:nvSpPr>
            <p:spPr>
              <a:xfrm>
                <a:off x="3429000" y="2607120"/>
                <a:ext cx="479880" cy="45432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
              <p:cNvSpPr/>
              <p:nvPr/>
            </p:nvSpPr>
            <p:spPr>
              <a:xfrm>
                <a:off x="3668760" y="3162240"/>
                <a:ext cx="880200" cy="64728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8" name=""/>
              <p:cNvSpPr/>
              <p:nvPr/>
            </p:nvSpPr>
            <p:spPr>
              <a:xfrm>
                <a:off x="4388760" y="2514600"/>
                <a:ext cx="640080" cy="60516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9" name=""/>
              <p:cNvSpPr/>
              <p:nvPr/>
            </p:nvSpPr>
            <p:spPr>
              <a:xfrm>
                <a:off x="3828960" y="2792160"/>
                <a:ext cx="621000" cy="475920"/>
              </a:xfrm>
              <a:custGeom>
                <a:avLst/>
                <a:gdLst/>
                <a:ahLst/>
                <a:rect l="l" t="t" r="r" b="b"/>
                <a:pathLst>
                  <a:path w="2278" h="1508">
                    <a:moveTo>
                      <a:pt x="15042" y="3209"/>
                    </a:moveTo>
                    <a:cubicBezTo>
                      <a:pt x="15018" y="3199"/>
                      <a:pt x="14996" y="3188"/>
                      <a:pt x="14971" y="3180"/>
                    </a:cubicBezTo>
                    <a:cubicBezTo>
                      <a:pt x="14931" y="3167"/>
                      <a:pt x="14890" y="3157"/>
                      <a:pt x="14849" y="3149"/>
                    </a:cubicBezTo>
                    <a:cubicBezTo>
                      <a:pt x="14626" y="3103"/>
                      <a:pt x="14373" y="3117"/>
                      <a:pt x="14149" y="3144"/>
                    </a:cubicBezTo>
                    <a:cubicBezTo>
                      <a:pt x="14036" y="3158"/>
                      <a:pt x="13917" y="3175"/>
                      <a:pt x="13810" y="3217"/>
                    </a:cubicBezTo>
                    <a:cubicBezTo>
                      <a:pt x="13749" y="3241"/>
                      <a:pt x="13654" y="3288"/>
                      <a:pt x="13667" y="3369"/>
                    </a:cubicBezTo>
                    <a:cubicBezTo>
                      <a:pt x="13678" y="3441"/>
                      <a:pt x="13763" y="3478"/>
                      <a:pt x="13820" y="3506"/>
                    </a:cubicBezTo>
                    <a:cubicBezTo>
                      <a:pt x="13995" y="3590"/>
                      <a:pt x="14195" y="3623"/>
                      <a:pt x="14386" y="3645"/>
                    </a:cubicBezTo>
                    <a:cubicBezTo>
                      <a:pt x="14648" y="3675"/>
                      <a:pt x="14911" y="3683"/>
                      <a:pt x="15173" y="3656"/>
                    </a:cubicBezTo>
                    <a:cubicBezTo>
                      <a:pt x="15330" y="3639"/>
                      <a:pt x="15493" y="3612"/>
                      <a:pt x="15635" y="3538"/>
                    </a:cubicBezTo>
                    <a:cubicBezTo>
                      <a:pt x="15691" y="3509"/>
                      <a:pt x="15784" y="3440"/>
                      <a:pt x="15744" y="3364"/>
                    </a:cubicBezTo>
                    <a:cubicBezTo>
                      <a:pt x="15699" y="3280"/>
                      <a:pt x="15551" y="3264"/>
                      <a:pt x="15472" y="3249"/>
                    </a:cubicBezTo>
                    <a:cubicBezTo>
                      <a:pt x="15355" y="3230"/>
                      <a:pt x="15316" y="3224"/>
                      <a:pt x="15236" y="3224"/>
                    </a:cubicBezTo>
                  </a:path>
                  <a:path w="2278" h="1508">
                    <a:moveTo>
                      <a:pt x="13558" y="3514"/>
                    </a:moveTo>
                    <a:cubicBezTo>
                      <a:pt x="13552" y="3544"/>
                      <a:pt x="13555" y="3575"/>
                      <a:pt x="13549" y="3605"/>
                    </a:cubicBezTo>
                    <a:cubicBezTo>
                      <a:pt x="13537" y="3666"/>
                      <a:pt x="13525" y="3726"/>
                      <a:pt x="13515" y="3788"/>
                    </a:cubicBezTo>
                    <a:cubicBezTo>
                      <a:pt x="13502" y="3868"/>
                      <a:pt x="13494" y="3944"/>
                      <a:pt x="13494" y="4025"/>
                    </a:cubicBezTo>
                    <a:cubicBezTo>
                      <a:pt x="13494" y="4092"/>
                      <a:pt x="13501" y="4158"/>
                      <a:pt x="13523" y="4221"/>
                    </a:cubicBezTo>
                    <a:cubicBezTo>
                      <a:pt x="13533" y="4248"/>
                      <a:pt x="13554" y="4310"/>
                      <a:pt x="13578" y="4329"/>
                    </a:cubicBezTo>
                    <a:cubicBezTo>
                      <a:pt x="13585" y="4332"/>
                      <a:pt x="13593" y="4335"/>
                      <a:pt x="13600" y="4338"/>
                    </a:cubicBezTo>
                  </a:path>
                  <a:path w="2278" h="1508">
                    <a:moveTo>
                      <a:pt x="13820" y="4480"/>
                    </a:moveTo>
                    <a:cubicBezTo>
                      <a:pt x="13853" y="4483"/>
                      <a:pt x="13872" y="4485"/>
                      <a:pt x="13904" y="4496"/>
                    </a:cubicBezTo>
                    <a:cubicBezTo>
                      <a:pt x="14081" y="4554"/>
                      <a:pt x="14250" y="4605"/>
                      <a:pt x="14437" y="4624"/>
                    </a:cubicBezTo>
                    <a:cubicBezTo>
                      <a:pt x="14604" y="4641"/>
                      <a:pt x="14770" y="4631"/>
                      <a:pt x="14936" y="4617"/>
                    </a:cubicBezTo>
                    <a:cubicBezTo>
                      <a:pt x="15157" y="4599"/>
                      <a:pt x="15393" y="4569"/>
                      <a:pt x="15603" y="4494"/>
                    </a:cubicBezTo>
                    <a:cubicBezTo>
                      <a:pt x="15664" y="4472"/>
                      <a:pt x="15733" y="4444"/>
                      <a:pt x="15771" y="4391"/>
                    </a:cubicBezTo>
                    <a:cubicBezTo>
                      <a:pt x="15771" y="4384"/>
                      <a:pt x="15771" y="4376"/>
                      <a:pt x="15771" y="4369"/>
                    </a:cubicBezTo>
                  </a:path>
                  <a:path w="2278" h="1508">
                    <a:moveTo>
                      <a:pt x="15750" y="3638"/>
                    </a:moveTo>
                    <a:cubicBezTo>
                      <a:pt x="15741" y="3656"/>
                      <a:pt x="15736" y="3685"/>
                      <a:pt x="15733" y="3706"/>
                    </a:cubicBezTo>
                    <a:cubicBezTo>
                      <a:pt x="15727" y="3756"/>
                      <a:pt x="15718" y="3805"/>
                      <a:pt x="15713" y="3856"/>
                    </a:cubicBezTo>
                    <a:cubicBezTo>
                      <a:pt x="15706" y="3931"/>
                      <a:pt x="15707" y="4008"/>
                      <a:pt x="15706" y="4084"/>
                    </a:cubicBezTo>
                    <a:cubicBezTo>
                      <a:pt x="15705" y="4158"/>
                      <a:pt x="15717" y="4231"/>
                      <a:pt x="15720" y="4305"/>
                    </a:cubicBezTo>
                    <a:cubicBezTo>
                      <a:pt x="15722" y="4348"/>
                      <a:pt x="15723" y="4387"/>
                      <a:pt x="15729" y="442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0" name=""/>
            <p:cNvSpPr/>
            <p:nvPr/>
          </p:nvSpPr>
          <p:spPr>
            <a:xfrm>
              <a:off x="3506760" y="2743200"/>
              <a:ext cx="2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X</a:t>
              </a:r>
              <a:endParaRPr b="0" lang="en-US" sz="1600" spc="-1" strike="noStrike">
                <a:solidFill>
                  <a:srgbClr val="000000"/>
                </a:solidFill>
                <a:latin typeface="Arial"/>
              </a:endParaRPr>
            </a:p>
          </p:txBody>
        </p:sp>
        <p:sp>
          <p:nvSpPr>
            <p:cNvPr id="2701"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p</a:t>
              </a:r>
              <a:endParaRPr b="0" lang="en-US" sz="1600" spc="-1" strike="noStrike">
                <a:solidFill>
                  <a:srgbClr val="000000"/>
                </a:solidFill>
                <a:latin typeface="Arial"/>
              </a:endParaRPr>
            </a:p>
          </p:txBody>
        </p:sp>
        <p:sp>
          <p:nvSpPr>
            <p:cNvPr id="2702"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Z</a:t>
              </a:r>
              <a:endParaRPr b="0" lang="en-US" sz="1600" spc="-1" strike="noStrike">
                <a:solidFill>
                  <a:srgbClr val="000000"/>
                </a:solidFill>
                <a:latin typeface="Arial"/>
              </a:endParaRPr>
            </a:p>
          </p:txBody>
        </p:sp>
        <p:sp>
          <p:nvSpPr>
            <p:cNvPr id="2703" name=""/>
            <p:cNvSpPr/>
            <p:nvPr/>
          </p:nvSpPr>
          <p:spPr>
            <a:xfrm>
              <a:off x="3980520" y="2895480"/>
              <a:ext cx="3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St</a:t>
              </a:r>
              <a:endParaRPr b="0" lang="en-US" sz="1600" spc="-1" strike="noStrike">
                <a:solidFill>
                  <a:srgbClr val="000000"/>
                </a:solidFill>
                <a:latin typeface="Arial"/>
              </a:endParaRPr>
            </a:p>
          </p:txBody>
        </p:sp>
      </p:grpSp>
      <p:sp>
        <p:nvSpPr>
          <p:cNvPr id="2704"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grpSp>
        <p:nvGrpSpPr>
          <p:cNvPr id="2705" name=""/>
          <p:cNvGrpSpPr/>
          <p:nvPr/>
        </p:nvGrpSpPr>
        <p:grpSpPr>
          <a:xfrm>
            <a:off x="3200400" y="2209680"/>
            <a:ext cx="2225160" cy="1985760"/>
            <a:chOff x="3200400" y="2209680"/>
            <a:chExt cx="2225160" cy="1985760"/>
          </a:xfrm>
        </p:grpSpPr>
        <p:sp>
          <p:nvSpPr>
            <p:cNvPr id="2706" name=""/>
            <p:cNvSpPr/>
            <p:nvPr/>
          </p:nvSpPr>
          <p:spPr>
            <a:xfrm>
              <a:off x="4805280" y="2209680"/>
              <a:ext cx="264600" cy="183960"/>
            </a:xfrm>
            <a:custGeom>
              <a:avLst/>
              <a:gdLst/>
              <a:ahLst/>
              <a:rect l="l" t="t" r="r" b="b"/>
              <a:pathLst>
                <a:path w="737" h="512">
                  <a:moveTo>
                    <a:pt x="21534" y="12356"/>
                  </a:moveTo>
                  <a:cubicBezTo>
                    <a:pt x="21564" y="12313"/>
                    <a:pt x="21582" y="12275"/>
                    <a:pt x="21603" y="12228"/>
                  </a:cubicBezTo>
                  <a:cubicBezTo>
                    <a:pt x="21608" y="12216"/>
                    <a:pt x="21614" y="12205"/>
                    <a:pt x="21619" y="12193"/>
                  </a:cubicBezTo>
                </a:path>
                <a:path w="737" h="512">
                  <a:moveTo>
                    <a:pt x="21788" y="12087"/>
                  </a:moveTo>
                  <a:cubicBezTo>
                    <a:pt x="21783" y="12044"/>
                    <a:pt x="21783" y="12010"/>
                    <a:pt x="21794" y="11968"/>
                  </a:cubicBezTo>
                  <a:cubicBezTo>
                    <a:pt x="21806" y="11922"/>
                    <a:pt x="21831" y="11884"/>
                    <a:pt x="21857" y="11845"/>
                  </a:cubicBezTo>
                </a:path>
                <a:path w="737" h="512">
                  <a:moveTo>
                    <a:pt x="22095" y="11972"/>
                  </a:moveTo>
                  <a:cubicBezTo>
                    <a:pt x="22104" y="12036"/>
                    <a:pt x="22139" y="12042"/>
                    <a:pt x="22180" y="12091"/>
                  </a:cubicBezTo>
                  <a:cubicBezTo>
                    <a:pt x="22213" y="12130"/>
                    <a:pt x="22244" y="12171"/>
                    <a:pt x="22270" y="12215"/>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
            <p:cNvSpPr/>
            <p:nvPr/>
          </p:nvSpPr>
          <p:spPr>
            <a:xfrm>
              <a:off x="5109840" y="2415960"/>
              <a:ext cx="17280" cy="88920"/>
            </a:xfrm>
            <a:custGeom>
              <a:avLst/>
              <a:gdLst/>
              <a:ahLst/>
              <a:rect l="l" t="t" r="r" b="b"/>
              <a:pathLst>
                <a:path w="49" h="248">
                  <a:moveTo>
                    <a:pt x="22423" y="12418"/>
                  </a:moveTo>
                  <a:cubicBezTo>
                    <a:pt x="22393" y="12459"/>
                    <a:pt x="22377" y="12488"/>
                    <a:pt x="22381" y="12541"/>
                  </a:cubicBezTo>
                  <a:cubicBezTo>
                    <a:pt x="22384" y="12589"/>
                    <a:pt x="22406" y="12625"/>
                    <a:pt x="22429" y="12665"/>
                  </a:cubicBezTo>
                </a:path>
              </a:pathLst>
            </a:custGeom>
            <a:noFill/>
            <a:ln cap="rnd" w="38160">
              <a:solidFill>
                <a:srgbClr val="008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08" name=""/>
            <p:cNvSpPr/>
            <p:nvPr/>
          </p:nvSpPr>
          <p:spPr>
            <a:xfrm>
              <a:off x="5190840" y="2580840"/>
              <a:ext cx="44280" cy="90720"/>
            </a:xfrm>
            <a:custGeom>
              <a:avLst/>
              <a:gdLst/>
              <a:ahLst/>
              <a:rect l="l" t="t" r="r" b="b"/>
              <a:pathLst>
                <a:path w="123" h="253">
                  <a:moveTo>
                    <a:pt x="22619" y="12876"/>
                  </a:moveTo>
                  <a:cubicBezTo>
                    <a:pt x="22600" y="12926"/>
                    <a:pt x="22600" y="12952"/>
                    <a:pt x="22630" y="13000"/>
                  </a:cubicBezTo>
                  <a:cubicBezTo>
                    <a:pt x="22659" y="13046"/>
                    <a:pt x="22690" y="13087"/>
                    <a:pt x="22725" y="13128"/>
                  </a:cubicBezTo>
                </a:path>
              </a:pathLst>
            </a:custGeom>
            <a:noFill/>
            <a:ln cap="rnd" w="38160">
              <a:solidFill>
                <a:srgbClr val="008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09" name=""/>
            <p:cNvSpPr/>
            <p:nvPr/>
          </p:nvSpPr>
          <p:spPr>
            <a:xfrm>
              <a:off x="5298840" y="2750760"/>
              <a:ext cx="79200" cy="82800"/>
            </a:xfrm>
            <a:custGeom>
              <a:avLst/>
              <a:gdLst/>
              <a:ahLst/>
              <a:rect l="l" t="t" r="r" b="b"/>
              <a:pathLst>
                <a:path w="218" h="231">
                  <a:moveTo>
                    <a:pt x="22905" y="13348"/>
                  </a:moveTo>
                  <a:cubicBezTo>
                    <a:pt x="22964" y="13374"/>
                    <a:pt x="22995" y="13401"/>
                    <a:pt x="23032" y="13454"/>
                  </a:cubicBezTo>
                  <a:cubicBezTo>
                    <a:pt x="23062" y="13496"/>
                    <a:pt x="23089" y="13538"/>
                    <a:pt x="23122" y="13578"/>
                  </a:cubicBezTo>
                </a:path>
              </a:pathLst>
            </a:custGeom>
            <a:noFill/>
            <a:ln cap="rnd" w="38160">
              <a:solidFill>
                <a:srgbClr val="008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0" name=""/>
            <p:cNvSpPr/>
            <p:nvPr/>
          </p:nvSpPr>
          <p:spPr>
            <a:xfrm>
              <a:off x="5317920" y="2931840"/>
              <a:ext cx="107640" cy="112680"/>
            </a:xfrm>
            <a:custGeom>
              <a:avLst/>
              <a:gdLst/>
              <a:ahLst/>
              <a:rect l="l" t="t" r="r" b="b"/>
              <a:pathLst>
                <a:path w="297" h="314">
                  <a:moveTo>
                    <a:pt x="23191" y="13851"/>
                  </a:moveTo>
                  <a:cubicBezTo>
                    <a:pt x="23210" y="13894"/>
                    <a:pt x="23229" y="13935"/>
                    <a:pt x="23244" y="13979"/>
                  </a:cubicBezTo>
                  <a:cubicBezTo>
                    <a:pt x="23247" y="13989"/>
                    <a:pt x="23251" y="14000"/>
                    <a:pt x="23254" y="14010"/>
                  </a:cubicBezTo>
                </a:path>
                <a:path w="297" h="314">
                  <a:moveTo>
                    <a:pt x="22958" y="14164"/>
                  </a:moveTo>
                  <a:cubicBezTo>
                    <a:pt x="23006" y="14164"/>
                    <a:pt x="23053" y="14161"/>
                    <a:pt x="23101" y="14164"/>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
            <p:cNvSpPr/>
            <p:nvPr/>
          </p:nvSpPr>
          <p:spPr>
            <a:xfrm>
              <a:off x="3441600" y="2423880"/>
              <a:ext cx="1758600" cy="1730160"/>
            </a:xfrm>
            <a:custGeom>
              <a:avLst/>
              <a:gdLst/>
              <a:ahLst/>
              <a:rect l="l" t="t" r="r" b="b"/>
              <a:pathLst>
                <a:path w="4885" h="4807">
                  <a:moveTo>
                    <a:pt x="22556" y="14173"/>
                  </a:moveTo>
                  <a:cubicBezTo>
                    <a:pt x="22593" y="14177"/>
                    <a:pt x="22605" y="14178"/>
                    <a:pt x="22630" y="14177"/>
                  </a:cubicBezTo>
                </a:path>
                <a:path w="4885" h="4807">
                  <a:moveTo>
                    <a:pt x="21053" y="16281"/>
                  </a:moveTo>
                  <a:cubicBezTo>
                    <a:pt x="21075" y="16323"/>
                    <a:pt x="21099" y="16366"/>
                    <a:pt x="21127" y="16404"/>
                  </a:cubicBezTo>
                  <a:cubicBezTo>
                    <a:pt x="21136" y="16414"/>
                    <a:pt x="21144" y="16425"/>
                    <a:pt x="21153" y="16435"/>
                  </a:cubicBezTo>
                </a:path>
                <a:path w="4885" h="4807">
                  <a:moveTo>
                    <a:pt x="21513" y="16902"/>
                  </a:moveTo>
                  <a:cubicBezTo>
                    <a:pt x="21522" y="16915"/>
                    <a:pt x="21531" y="16929"/>
                    <a:pt x="21540" y="16942"/>
                  </a:cubicBezTo>
                </a:path>
                <a:path w="4885" h="4807">
                  <a:moveTo>
                    <a:pt x="17746" y="17149"/>
                  </a:moveTo>
                  <a:cubicBezTo>
                    <a:pt x="17760" y="17185"/>
                    <a:pt x="17765" y="17207"/>
                    <a:pt x="17767" y="17246"/>
                  </a:cubicBezTo>
                </a:path>
                <a:path w="4885" h="4807">
                  <a:moveTo>
                    <a:pt x="18190" y="12440"/>
                  </a:moveTo>
                  <a:cubicBezTo>
                    <a:pt x="18210" y="12472"/>
                    <a:pt x="18229" y="12504"/>
                    <a:pt x="18248" y="12537"/>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
            <p:cNvSpPr/>
            <p:nvPr/>
          </p:nvSpPr>
          <p:spPr>
            <a:xfrm>
              <a:off x="3490560" y="3893760"/>
              <a:ext cx="1360440" cy="241560"/>
            </a:xfrm>
            <a:custGeom>
              <a:avLst/>
              <a:gdLst/>
              <a:ahLst/>
              <a:rect l="l" t="t" r="r" b="b"/>
              <a:pathLst>
                <a:path w="3779" h="672">
                  <a:moveTo>
                    <a:pt x="18063" y="16523"/>
                  </a:moveTo>
                  <a:cubicBezTo>
                    <a:pt x="18056" y="16556"/>
                    <a:pt x="18047" y="16587"/>
                    <a:pt x="18037" y="16620"/>
                  </a:cubicBezTo>
                </a:path>
                <a:path w="3779" h="672">
                  <a:moveTo>
                    <a:pt x="17957" y="16828"/>
                  </a:moveTo>
                  <a:cubicBezTo>
                    <a:pt x="17933" y="16863"/>
                    <a:pt x="17909" y="16896"/>
                    <a:pt x="17883" y="16929"/>
                  </a:cubicBezTo>
                </a:path>
                <a:path w="3779" h="672">
                  <a:moveTo>
                    <a:pt x="21513" y="17154"/>
                  </a:moveTo>
                  <a:cubicBezTo>
                    <a:pt x="21565" y="17177"/>
                    <a:pt x="21605" y="17191"/>
                    <a:pt x="21661" y="17194"/>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3" name=""/>
            <p:cNvSpPr/>
            <p:nvPr/>
          </p:nvSpPr>
          <p:spPr>
            <a:xfrm>
              <a:off x="3527280" y="3765240"/>
              <a:ext cx="136080" cy="403200"/>
            </a:xfrm>
            <a:custGeom>
              <a:avLst/>
              <a:gdLst/>
              <a:ahLst/>
              <a:rect l="l" t="t" r="r" b="b"/>
              <a:pathLst>
                <a:path w="376" h="1121">
                  <a:moveTo>
                    <a:pt x="18359" y="16166"/>
                  </a:moveTo>
                  <a:cubicBezTo>
                    <a:pt x="18343" y="16209"/>
                    <a:pt x="18322" y="16249"/>
                    <a:pt x="18301" y="16290"/>
                  </a:cubicBezTo>
                </a:path>
                <a:path w="376" h="1121">
                  <a:moveTo>
                    <a:pt x="17984" y="17286"/>
                  </a:moveTo>
                  <a:cubicBezTo>
                    <a:pt x="18033" y="17264"/>
                    <a:pt x="18083" y="17243"/>
                    <a:pt x="18137" y="17233"/>
                  </a:cubicBezTo>
                  <a:cubicBezTo>
                    <a:pt x="18175" y="17229"/>
                    <a:pt x="18189" y="17227"/>
                    <a:pt x="18211" y="17211"/>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
            <p:cNvSpPr/>
            <p:nvPr/>
          </p:nvSpPr>
          <p:spPr>
            <a:xfrm>
              <a:off x="3732120" y="4147920"/>
              <a:ext cx="313920" cy="31680"/>
            </a:xfrm>
            <a:custGeom>
              <a:avLst/>
              <a:gdLst/>
              <a:ahLst/>
              <a:rect l="l" t="t" r="r" b="b"/>
              <a:pathLst>
                <a:path w="874" h="89">
                  <a:moveTo>
                    <a:pt x="18550" y="17246"/>
                  </a:moveTo>
                  <a:cubicBezTo>
                    <a:pt x="18600" y="17263"/>
                    <a:pt x="18647" y="17280"/>
                    <a:pt x="18698" y="17291"/>
                  </a:cubicBezTo>
                  <a:cubicBezTo>
                    <a:pt x="18747" y="17302"/>
                    <a:pt x="18796" y="17299"/>
                    <a:pt x="18846" y="17299"/>
                  </a:cubicBezTo>
                </a:path>
                <a:path w="874" h="89">
                  <a:moveTo>
                    <a:pt x="19090" y="17229"/>
                  </a:moveTo>
                  <a:cubicBezTo>
                    <a:pt x="19138" y="17255"/>
                    <a:pt x="19181" y="17266"/>
                    <a:pt x="19233" y="17282"/>
                  </a:cubicBezTo>
                  <a:cubicBezTo>
                    <a:pt x="19284" y="17298"/>
                    <a:pt x="19333" y="17307"/>
                    <a:pt x="19386" y="17313"/>
                  </a:cubicBezTo>
                  <a:cubicBezTo>
                    <a:pt x="19398" y="17314"/>
                    <a:pt x="19411" y="17316"/>
                    <a:pt x="19423" y="17317"/>
                  </a:cubicBezTo>
                </a:path>
              </a:pathLst>
            </a:custGeom>
            <a:noFill/>
            <a:ln cap="rnd" w="38160">
              <a:solidFill>
                <a:srgbClr val="008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15" name=""/>
            <p:cNvSpPr/>
            <p:nvPr/>
          </p:nvSpPr>
          <p:spPr>
            <a:xfrm>
              <a:off x="4182840" y="4176360"/>
              <a:ext cx="109080" cy="19080"/>
            </a:xfrm>
            <a:custGeom>
              <a:avLst/>
              <a:gdLst/>
              <a:ahLst/>
              <a:rect l="l" t="t" r="r" b="b"/>
              <a:pathLst>
                <a:path w="303" h="54">
                  <a:moveTo>
                    <a:pt x="19804" y="17308"/>
                  </a:moveTo>
                  <a:cubicBezTo>
                    <a:pt x="19864" y="17340"/>
                    <a:pt x="19890" y="17329"/>
                    <a:pt x="19952" y="17339"/>
                  </a:cubicBezTo>
                  <a:cubicBezTo>
                    <a:pt x="20005" y="17347"/>
                    <a:pt x="20051" y="17360"/>
                    <a:pt x="20106" y="17361"/>
                  </a:cubicBezTo>
                </a:path>
              </a:pathLst>
            </a:custGeom>
            <a:noFill/>
            <a:ln cap="rnd" w="38160">
              <a:solidFill>
                <a:srgbClr val="008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16" name=""/>
            <p:cNvSpPr/>
            <p:nvPr/>
          </p:nvSpPr>
          <p:spPr>
            <a:xfrm>
              <a:off x="4406760" y="4140000"/>
              <a:ext cx="337680" cy="33120"/>
            </a:xfrm>
            <a:custGeom>
              <a:avLst/>
              <a:gdLst/>
              <a:ahLst/>
              <a:rect l="l" t="t" r="r" b="b"/>
              <a:pathLst>
                <a:path w="938" h="93">
                  <a:moveTo>
                    <a:pt x="20428" y="17233"/>
                  </a:moveTo>
                  <a:cubicBezTo>
                    <a:pt x="20481" y="17267"/>
                    <a:pt x="20523" y="17290"/>
                    <a:pt x="20587" y="17295"/>
                  </a:cubicBezTo>
                  <a:cubicBezTo>
                    <a:pt x="20637" y="17299"/>
                    <a:pt x="20685" y="17293"/>
                    <a:pt x="20735" y="17295"/>
                  </a:cubicBezTo>
                  <a:cubicBezTo>
                    <a:pt x="20747" y="17296"/>
                    <a:pt x="20760" y="17298"/>
                    <a:pt x="20772" y="17299"/>
                  </a:cubicBezTo>
                </a:path>
                <a:path w="938" h="93">
                  <a:moveTo>
                    <a:pt x="21063" y="17207"/>
                  </a:moveTo>
                  <a:cubicBezTo>
                    <a:pt x="21117" y="17234"/>
                    <a:pt x="21156" y="17253"/>
                    <a:pt x="21217" y="17255"/>
                  </a:cubicBezTo>
                  <a:cubicBezTo>
                    <a:pt x="21268" y="17256"/>
                    <a:pt x="21316" y="17256"/>
                    <a:pt x="21365" y="17264"/>
                  </a:cubicBezTo>
                </a:path>
              </a:pathLst>
            </a:custGeom>
            <a:noFill/>
            <a:ln cap="rnd" w="38160">
              <a:solidFill>
                <a:srgbClr val="008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17" name=""/>
            <p:cNvSpPr/>
            <p:nvPr/>
          </p:nvSpPr>
          <p:spPr>
            <a:xfrm>
              <a:off x="4716360" y="3916080"/>
              <a:ext cx="64800" cy="76320"/>
            </a:xfrm>
            <a:custGeom>
              <a:avLst/>
              <a:gdLst/>
              <a:ahLst/>
              <a:rect l="l" t="t" r="r" b="b"/>
              <a:pathLst>
                <a:path w="181" h="213">
                  <a:moveTo>
                    <a:pt x="21286" y="16585"/>
                  </a:moveTo>
                  <a:cubicBezTo>
                    <a:pt x="21335" y="16621"/>
                    <a:pt x="21379" y="16656"/>
                    <a:pt x="21413" y="16708"/>
                  </a:cubicBezTo>
                  <a:cubicBezTo>
                    <a:pt x="21431" y="16737"/>
                    <a:pt x="21448" y="16768"/>
                    <a:pt x="21466" y="16797"/>
                  </a:cubicBezTo>
                </a:path>
              </a:pathLst>
            </a:custGeom>
            <a:noFill/>
            <a:ln cap="rnd" w="38160">
              <a:solidFill>
                <a:srgbClr val="008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18" name=""/>
            <p:cNvSpPr/>
            <p:nvPr/>
          </p:nvSpPr>
          <p:spPr>
            <a:xfrm>
              <a:off x="3528720" y="2328480"/>
              <a:ext cx="39600" cy="23760"/>
            </a:xfrm>
            <a:custGeom>
              <a:avLst/>
              <a:gdLst/>
              <a:ahLst/>
              <a:rect l="l" t="t" r="r" b="b"/>
              <a:pathLst>
                <a:path w="107" h="67">
                  <a:moveTo>
                    <a:pt x="17989" y="12175"/>
                  </a:moveTo>
                  <a:cubicBezTo>
                    <a:pt x="18033" y="12194"/>
                    <a:pt x="18060" y="12210"/>
                    <a:pt x="18095" y="12241"/>
                  </a:cubicBezTo>
                </a:path>
              </a:pathLst>
            </a:custGeom>
            <a:noFill/>
            <a:ln cap="rnd" w="38160">
              <a:solidFill>
                <a:srgbClr val="008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19" name=""/>
            <p:cNvSpPr/>
            <p:nvPr/>
          </p:nvSpPr>
          <p:spPr>
            <a:xfrm>
              <a:off x="3354120" y="2349360"/>
              <a:ext cx="320400" cy="293400"/>
            </a:xfrm>
            <a:custGeom>
              <a:avLst/>
              <a:gdLst/>
              <a:ahLst/>
              <a:rect l="l" t="t" r="r" b="b"/>
              <a:pathLst>
                <a:path w="890" h="816">
                  <a:moveTo>
                    <a:pt x="18391" y="12599"/>
                  </a:moveTo>
                  <a:cubicBezTo>
                    <a:pt x="18371" y="12646"/>
                    <a:pt x="18374" y="12680"/>
                    <a:pt x="18381" y="12731"/>
                  </a:cubicBezTo>
                </a:path>
                <a:path w="890" h="816">
                  <a:moveTo>
                    <a:pt x="17936" y="12233"/>
                  </a:moveTo>
                  <a:cubicBezTo>
                    <a:pt x="17927" y="12275"/>
                    <a:pt x="17916" y="12312"/>
                    <a:pt x="17915" y="12356"/>
                  </a:cubicBezTo>
                  <a:cubicBezTo>
                    <a:pt x="17915" y="12368"/>
                    <a:pt x="17915" y="12379"/>
                    <a:pt x="17915" y="12391"/>
                  </a:cubicBezTo>
                </a:path>
                <a:path w="890" h="816">
                  <a:moveTo>
                    <a:pt x="17836" y="12431"/>
                  </a:moveTo>
                  <a:cubicBezTo>
                    <a:pt x="17803" y="12470"/>
                    <a:pt x="17774" y="12508"/>
                    <a:pt x="17746" y="12550"/>
                  </a:cubicBezTo>
                  <a:cubicBezTo>
                    <a:pt x="17726" y="12581"/>
                    <a:pt x="17710" y="12610"/>
                    <a:pt x="17693" y="12643"/>
                  </a:cubicBezTo>
                </a:path>
                <a:path w="890" h="816">
                  <a:moveTo>
                    <a:pt x="17634" y="12837"/>
                  </a:moveTo>
                  <a:cubicBezTo>
                    <a:pt x="17589" y="12870"/>
                    <a:pt x="17558" y="12903"/>
                    <a:pt x="17534" y="12956"/>
                  </a:cubicBezTo>
                  <a:cubicBezTo>
                    <a:pt x="17521" y="12986"/>
                    <a:pt x="17513" y="13018"/>
                    <a:pt x="17502" y="13048"/>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
            <p:cNvSpPr/>
            <p:nvPr/>
          </p:nvSpPr>
          <p:spPr>
            <a:xfrm>
              <a:off x="3295440" y="2734920"/>
              <a:ext cx="31320" cy="44640"/>
            </a:xfrm>
            <a:custGeom>
              <a:avLst/>
              <a:gdLst/>
              <a:ahLst/>
              <a:rect l="l" t="t" r="r" b="b"/>
              <a:pathLst>
                <a:path w="91" h="125">
                  <a:moveTo>
                    <a:pt x="17428" y="13304"/>
                  </a:moveTo>
                  <a:cubicBezTo>
                    <a:pt x="17399" y="13347"/>
                    <a:pt x="17368" y="13387"/>
                    <a:pt x="17338" y="13428"/>
                  </a:cubicBezTo>
                </a:path>
              </a:pathLst>
            </a:custGeom>
            <a:noFill/>
            <a:ln cap="rnd" w="38160">
              <a:solidFill>
                <a:srgbClr val="008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21" name=""/>
            <p:cNvSpPr/>
            <p:nvPr/>
          </p:nvSpPr>
          <p:spPr>
            <a:xfrm>
              <a:off x="3200400" y="2895480"/>
              <a:ext cx="236160" cy="152280"/>
            </a:xfrm>
            <a:custGeom>
              <a:avLst/>
              <a:gdLst/>
              <a:ahLst/>
              <a:rect l="l" t="t" r="r" b="b"/>
              <a:pathLst>
                <a:path w="657" h="424">
                  <a:moveTo>
                    <a:pt x="17174" y="13750"/>
                  </a:moveTo>
                  <a:cubicBezTo>
                    <a:pt x="17137" y="13790"/>
                    <a:pt x="17119" y="13822"/>
                    <a:pt x="17100" y="13873"/>
                  </a:cubicBezTo>
                  <a:cubicBezTo>
                    <a:pt x="17089" y="13904"/>
                    <a:pt x="17085" y="13915"/>
                    <a:pt x="17074" y="13935"/>
                  </a:cubicBezTo>
                </a:path>
                <a:path w="657" h="424">
                  <a:moveTo>
                    <a:pt x="17074" y="14173"/>
                  </a:moveTo>
                  <a:cubicBezTo>
                    <a:pt x="17122" y="14145"/>
                    <a:pt x="17174" y="14122"/>
                    <a:pt x="17232" y="14116"/>
                  </a:cubicBezTo>
                  <a:cubicBezTo>
                    <a:pt x="17268" y="14112"/>
                    <a:pt x="17307" y="14116"/>
                    <a:pt x="17343" y="14116"/>
                  </a:cubicBezTo>
                </a:path>
                <a:path w="657" h="424">
                  <a:moveTo>
                    <a:pt x="17470" y="14111"/>
                  </a:moveTo>
                  <a:cubicBezTo>
                    <a:pt x="17518" y="14113"/>
                    <a:pt x="17571" y="14113"/>
                    <a:pt x="17619" y="14120"/>
                  </a:cubicBezTo>
                  <a:cubicBezTo>
                    <a:pt x="17658" y="14126"/>
                    <a:pt x="17691" y="14136"/>
                    <a:pt x="17730" y="14138"/>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2" name=""/>
          <p:cNvSpPr/>
          <p:nvPr/>
        </p:nvSpPr>
        <p:spPr>
          <a:xfrm>
            <a:off x="3429000" y="1351080"/>
            <a:ext cx="544680" cy="53316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3048120" y="2133720"/>
            <a:ext cx="260496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4" name=""/>
          <p:cNvSpPr/>
          <p:nvPr/>
        </p:nvSpPr>
        <p:spPr>
          <a:xfrm>
            <a:off x="3957120" y="236232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eis</a:t>
            </a:r>
            <a:endParaRPr b="0" lang="en-US" sz="1600" spc="-1" strike="noStrike">
              <a:solidFill>
                <a:srgbClr val="000000"/>
              </a:solidFill>
              <a:latin typeface="Arial"/>
            </a:endParaRPr>
          </a:p>
        </p:txBody>
      </p:sp>
      <p:sp>
        <p:nvSpPr>
          <p:cNvPr id="2725" name=""/>
          <p:cNvSpPr/>
          <p:nvPr/>
        </p:nvSpPr>
        <p:spPr>
          <a:xfrm>
            <a:off x="3809880" y="2286000"/>
            <a:ext cx="693720" cy="533520"/>
          </a:xfrm>
          <a:custGeom>
            <a:avLst/>
            <a:gdLst/>
            <a:ahLst/>
            <a:rect l="l" t="t" r="r" b="b"/>
            <a:pathLst>
              <a:path w="2632" h="1676">
                <a:moveTo>
                  <a:pt x="21207" y="9609"/>
                </a:moveTo>
                <a:cubicBezTo>
                  <a:pt x="21196" y="9614"/>
                  <a:pt x="21129" y="9628"/>
                  <a:pt x="21119" y="9638"/>
                </a:cubicBezTo>
                <a:cubicBezTo>
                  <a:pt x="21094" y="9665"/>
                  <a:pt x="21088" y="9676"/>
                  <a:pt x="21058" y="9699"/>
                </a:cubicBezTo>
                <a:cubicBezTo>
                  <a:pt x="21033" y="9719"/>
                  <a:pt x="20949" y="9774"/>
                  <a:pt x="20938" y="9787"/>
                </a:cubicBezTo>
                <a:cubicBezTo>
                  <a:pt x="20918" y="9810"/>
                  <a:pt x="20897" y="9828"/>
                  <a:pt x="20879" y="9849"/>
                </a:cubicBezTo>
                <a:cubicBezTo>
                  <a:pt x="20864" y="9866"/>
                  <a:pt x="20797" y="9925"/>
                  <a:pt x="20788" y="9936"/>
                </a:cubicBezTo>
                <a:cubicBezTo>
                  <a:pt x="20764" y="9966"/>
                  <a:pt x="20787" y="10004"/>
                  <a:pt x="20759" y="10027"/>
                </a:cubicBezTo>
                <a:cubicBezTo>
                  <a:pt x="20738" y="10045"/>
                  <a:pt x="20718" y="10074"/>
                  <a:pt x="20700" y="10088"/>
                </a:cubicBezTo>
                <a:cubicBezTo>
                  <a:pt x="20677" y="10106"/>
                  <a:pt x="20659" y="10131"/>
                  <a:pt x="20639" y="10147"/>
                </a:cubicBezTo>
                <a:cubicBezTo>
                  <a:pt x="20609" y="10170"/>
                  <a:pt x="20593" y="10172"/>
                  <a:pt x="20551" y="10208"/>
                </a:cubicBezTo>
                <a:cubicBezTo>
                  <a:pt x="20519" y="10235"/>
                  <a:pt x="20490" y="10267"/>
                  <a:pt x="20460" y="10296"/>
                </a:cubicBezTo>
                <a:cubicBezTo>
                  <a:pt x="20493" y="10324"/>
                  <a:pt x="20535" y="10375"/>
                  <a:pt x="20551" y="10386"/>
                </a:cubicBezTo>
                <a:cubicBezTo>
                  <a:pt x="20580" y="10407"/>
                  <a:pt x="20620" y="10427"/>
                  <a:pt x="20639" y="10445"/>
                </a:cubicBezTo>
                <a:cubicBezTo>
                  <a:pt x="20679" y="10483"/>
                  <a:pt x="20710" y="10509"/>
                  <a:pt x="20730" y="10536"/>
                </a:cubicBezTo>
                <a:cubicBezTo>
                  <a:pt x="20758" y="10573"/>
                  <a:pt x="20767" y="10607"/>
                  <a:pt x="20788" y="10626"/>
                </a:cubicBezTo>
                <a:cubicBezTo>
                  <a:pt x="20805" y="10642"/>
                  <a:pt x="20864" y="10638"/>
                  <a:pt x="20879" y="10655"/>
                </a:cubicBezTo>
                <a:cubicBezTo>
                  <a:pt x="20905" y="10684"/>
                  <a:pt x="20906" y="10692"/>
                  <a:pt x="20938" y="10717"/>
                </a:cubicBezTo>
                <a:cubicBezTo>
                  <a:pt x="20950" y="10726"/>
                  <a:pt x="20984" y="10793"/>
                  <a:pt x="20999" y="10805"/>
                </a:cubicBezTo>
                <a:cubicBezTo>
                  <a:pt x="21025" y="10826"/>
                  <a:pt x="21036" y="10847"/>
                  <a:pt x="21058" y="10866"/>
                </a:cubicBezTo>
                <a:cubicBezTo>
                  <a:pt x="21078" y="10883"/>
                  <a:pt x="21101" y="10910"/>
                  <a:pt x="21119" y="10924"/>
                </a:cubicBezTo>
                <a:cubicBezTo>
                  <a:pt x="21144" y="10944"/>
                  <a:pt x="21157" y="10969"/>
                  <a:pt x="21178" y="10986"/>
                </a:cubicBezTo>
                <a:cubicBezTo>
                  <a:pt x="21200" y="11004"/>
                  <a:pt x="21253" y="11061"/>
                  <a:pt x="21269" y="11074"/>
                </a:cubicBezTo>
                <a:cubicBezTo>
                  <a:pt x="21301" y="11100"/>
                  <a:pt x="21305" y="11096"/>
                  <a:pt x="21327" y="11135"/>
                </a:cubicBezTo>
                <a:cubicBezTo>
                  <a:pt x="21342" y="11161"/>
                  <a:pt x="21346" y="11193"/>
                  <a:pt x="21386" y="11193"/>
                </a:cubicBezTo>
                <a:cubicBezTo>
                  <a:pt x="21432" y="11193"/>
                  <a:pt x="21456" y="11168"/>
                  <a:pt x="21506" y="11164"/>
                </a:cubicBezTo>
                <a:cubicBezTo>
                  <a:pt x="21556" y="11160"/>
                  <a:pt x="21577" y="11141"/>
                  <a:pt x="21626" y="11135"/>
                </a:cubicBezTo>
                <a:cubicBezTo>
                  <a:pt x="21676" y="11129"/>
                  <a:pt x="21738" y="11111"/>
                  <a:pt x="21776" y="11106"/>
                </a:cubicBezTo>
                <a:cubicBezTo>
                  <a:pt x="21874" y="11094"/>
                  <a:pt x="21992" y="11085"/>
                  <a:pt x="22074" y="11074"/>
                </a:cubicBezTo>
                <a:cubicBezTo>
                  <a:pt x="22246" y="11051"/>
                  <a:pt x="22523" y="11063"/>
                  <a:pt x="22643" y="11106"/>
                </a:cubicBezTo>
                <a:cubicBezTo>
                  <a:pt x="22678" y="11081"/>
                  <a:pt x="22683" y="11083"/>
                  <a:pt x="22705" y="11044"/>
                </a:cubicBezTo>
                <a:cubicBezTo>
                  <a:pt x="22725" y="11009"/>
                  <a:pt x="22712" y="10998"/>
                  <a:pt x="22734" y="10954"/>
                </a:cubicBezTo>
                <a:cubicBezTo>
                  <a:pt x="22739" y="10944"/>
                  <a:pt x="22777" y="10897"/>
                  <a:pt x="22792" y="10866"/>
                </a:cubicBezTo>
                <a:cubicBezTo>
                  <a:pt x="22812" y="10825"/>
                  <a:pt x="22808" y="10809"/>
                  <a:pt x="22822" y="10775"/>
                </a:cubicBezTo>
                <a:cubicBezTo>
                  <a:pt x="22838" y="10736"/>
                  <a:pt x="22838" y="10693"/>
                  <a:pt x="22854" y="10655"/>
                </a:cubicBezTo>
                <a:cubicBezTo>
                  <a:pt x="22869" y="10621"/>
                  <a:pt x="22863" y="10607"/>
                  <a:pt x="22883" y="10565"/>
                </a:cubicBezTo>
                <a:cubicBezTo>
                  <a:pt x="22906" y="10517"/>
                  <a:pt x="22919" y="10465"/>
                  <a:pt x="22942" y="10416"/>
                </a:cubicBezTo>
                <a:cubicBezTo>
                  <a:pt x="22958" y="10381"/>
                  <a:pt x="22950" y="10367"/>
                  <a:pt x="22971" y="10325"/>
                </a:cubicBezTo>
                <a:cubicBezTo>
                  <a:pt x="22990" y="10287"/>
                  <a:pt x="22982" y="10285"/>
                  <a:pt x="23003" y="10237"/>
                </a:cubicBezTo>
                <a:cubicBezTo>
                  <a:pt x="23017" y="10205"/>
                  <a:pt x="23057" y="10157"/>
                  <a:pt x="23062" y="10147"/>
                </a:cubicBezTo>
                <a:cubicBezTo>
                  <a:pt x="23083" y="10104"/>
                  <a:pt x="23074" y="10092"/>
                  <a:pt x="23091" y="10056"/>
                </a:cubicBezTo>
                <a:cubicBezTo>
                  <a:pt x="23036" y="10051"/>
                  <a:pt x="23025" y="10037"/>
                  <a:pt x="23003" y="10027"/>
                </a:cubicBezTo>
                <a:cubicBezTo>
                  <a:pt x="22958" y="10006"/>
                  <a:pt x="22949" y="10016"/>
                  <a:pt x="22913" y="9998"/>
                </a:cubicBezTo>
                <a:cubicBezTo>
                  <a:pt x="22879" y="9981"/>
                  <a:pt x="22864" y="9990"/>
                  <a:pt x="22822" y="9968"/>
                </a:cubicBezTo>
                <a:cubicBezTo>
                  <a:pt x="22785" y="9949"/>
                  <a:pt x="22785" y="9931"/>
                  <a:pt x="22734" y="9907"/>
                </a:cubicBezTo>
                <a:cubicBezTo>
                  <a:pt x="22696" y="9889"/>
                  <a:pt x="22660" y="9860"/>
                  <a:pt x="22643" y="9849"/>
                </a:cubicBezTo>
                <a:cubicBezTo>
                  <a:pt x="22611" y="9828"/>
                  <a:pt x="22600" y="9815"/>
                  <a:pt x="22552" y="9787"/>
                </a:cubicBezTo>
                <a:cubicBezTo>
                  <a:pt x="22539" y="9779"/>
                  <a:pt x="22475" y="9770"/>
                  <a:pt x="22464" y="9758"/>
                </a:cubicBezTo>
                <a:cubicBezTo>
                  <a:pt x="22444" y="9737"/>
                  <a:pt x="22422" y="9719"/>
                  <a:pt x="22403" y="9699"/>
                </a:cubicBezTo>
                <a:cubicBezTo>
                  <a:pt x="22387" y="9681"/>
                  <a:pt x="22357" y="9655"/>
                  <a:pt x="22344" y="9638"/>
                </a:cubicBezTo>
                <a:cubicBezTo>
                  <a:pt x="22317" y="9605"/>
                  <a:pt x="22324" y="9603"/>
                  <a:pt x="22286" y="9580"/>
                </a:cubicBezTo>
                <a:cubicBezTo>
                  <a:pt x="22245" y="9556"/>
                  <a:pt x="22230" y="9516"/>
                  <a:pt x="22195" y="9518"/>
                </a:cubicBezTo>
                <a:cubicBezTo>
                  <a:pt x="22129" y="9521"/>
                  <a:pt x="22154" y="9543"/>
                  <a:pt x="22104" y="9547"/>
                </a:cubicBezTo>
                <a:cubicBezTo>
                  <a:pt x="22036" y="9553"/>
                  <a:pt x="21917" y="9577"/>
                  <a:pt x="21896" y="9580"/>
                </a:cubicBezTo>
                <a:cubicBezTo>
                  <a:pt x="21809" y="9592"/>
                  <a:pt x="21700" y="9600"/>
                  <a:pt x="21626" y="9609"/>
                </a:cubicBezTo>
                <a:cubicBezTo>
                  <a:pt x="21509" y="9623"/>
                  <a:pt x="21229" y="9609"/>
                  <a:pt x="21207" y="9609"/>
                </a:cubicBezTo>
                <a:cubicBezTo>
                  <a:pt x="21217" y="9609"/>
                  <a:pt x="21226" y="9609"/>
                  <a:pt x="21236" y="960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6"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2727" name=""/>
          <p:cNvSpPr/>
          <p:nvPr/>
        </p:nvSpPr>
        <p:spPr>
          <a:xfrm>
            <a:off x="415800" y="64764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28"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2729"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2730"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2731"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2732" name=""/>
          <p:cNvGrpSpPr/>
          <p:nvPr/>
        </p:nvGrpSpPr>
        <p:grpSpPr>
          <a:xfrm>
            <a:off x="1554120" y="1012680"/>
            <a:ext cx="5052960" cy="4521240"/>
            <a:chOff x="1554120" y="1012680"/>
            <a:chExt cx="5052960" cy="4521240"/>
          </a:xfrm>
        </p:grpSpPr>
        <p:sp>
          <p:nvSpPr>
            <p:cNvPr id="2733"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5"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6"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2737" name="Ink 5"/>
          <p:cNvSpPr/>
          <p:nvPr/>
        </p:nvSpPr>
        <p:spPr>
          <a:xfrm>
            <a:off x="133020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8" name="Group 14"/>
          <p:cNvGrpSpPr/>
          <p:nvPr/>
        </p:nvGrpSpPr>
        <p:grpSpPr>
          <a:xfrm>
            <a:off x="1254240" y="4000680"/>
            <a:ext cx="380520" cy="380880"/>
            <a:chOff x="1254240" y="4000680"/>
            <a:chExt cx="380520" cy="380880"/>
          </a:xfrm>
        </p:grpSpPr>
        <p:sp>
          <p:nvSpPr>
            <p:cNvPr id="2739" name="Ink 15"/>
            <p:cNvSpPr/>
            <p:nvPr/>
          </p:nvSpPr>
          <p:spPr>
            <a:xfrm>
              <a:off x="125424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Ink 16"/>
            <p:cNvSpPr/>
            <p:nvPr/>
          </p:nvSpPr>
          <p:spPr>
            <a:xfrm>
              <a:off x="130608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1" name=""/>
          <p:cNvSpPr/>
          <p:nvPr/>
        </p:nvSpPr>
        <p:spPr>
          <a:xfrm>
            <a:off x="133020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2"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2743" name="Ink 61"/>
          <p:cNvSpPr/>
          <p:nvPr/>
        </p:nvSpPr>
        <p:spPr>
          <a:xfrm>
            <a:off x="87300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4"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2745" name=""/>
          <p:cNvGrpSpPr/>
          <p:nvPr/>
        </p:nvGrpSpPr>
        <p:grpSpPr>
          <a:xfrm>
            <a:off x="1254240" y="1714680"/>
            <a:ext cx="532800" cy="457200"/>
            <a:chOff x="1254240" y="1714680"/>
            <a:chExt cx="532800" cy="457200"/>
          </a:xfrm>
        </p:grpSpPr>
        <p:sp>
          <p:nvSpPr>
            <p:cNvPr id="2746" name=""/>
            <p:cNvSpPr/>
            <p:nvPr/>
          </p:nvSpPr>
          <p:spPr>
            <a:xfrm>
              <a:off x="1467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47" name="Group 12"/>
            <p:cNvGrpSpPr/>
            <p:nvPr/>
          </p:nvGrpSpPr>
          <p:grpSpPr>
            <a:xfrm>
              <a:off x="1254240" y="1714680"/>
              <a:ext cx="532800" cy="457200"/>
              <a:chOff x="1254240" y="1714680"/>
              <a:chExt cx="532800" cy="457200"/>
            </a:xfrm>
          </p:grpSpPr>
          <p:sp>
            <p:nvSpPr>
              <p:cNvPr id="2748" name="Ink 13"/>
              <p:cNvSpPr/>
              <p:nvPr/>
            </p:nvSpPr>
            <p:spPr>
              <a:xfrm>
                <a:off x="125424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9" name="Ink 14"/>
              <p:cNvSpPr/>
              <p:nvPr/>
            </p:nvSpPr>
            <p:spPr>
              <a:xfrm>
                <a:off x="126720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50" name="Ink 15"/>
              <p:cNvSpPr/>
              <p:nvPr/>
            </p:nvSpPr>
            <p:spPr>
              <a:xfrm>
                <a:off x="177336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1" name="Ink 16"/>
              <p:cNvSpPr/>
              <p:nvPr/>
            </p:nvSpPr>
            <p:spPr>
              <a:xfrm>
                <a:off x="127980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2752" name=""/>
            <p:cNvSpPr/>
            <p:nvPr/>
          </p:nvSpPr>
          <p:spPr>
            <a:xfrm>
              <a:off x="162720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3" name=""/>
            <p:cNvSpPr/>
            <p:nvPr/>
          </p:nvSpPr>
          <p:spPr>
            <a:xfrm>
              <a:off x="1307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4" name=""/>
          <p:cNvGrpSpPr/>
          <p:nvPr/>
        </p:nvGrpSpPr>
        <p:grpSpPr>
          <a:xfrm>
            <a:off x="1635120" y="1333440"/>
            <a:ext cx="501120" cy="304920"/>
            <a:chOff x="1635120" y="1333440"/>
            <a:chExt cx="501120" cy="304920"/>
          </a:xfrm>
        </p:grpSpPr>
        <p:sp>
          <p:nvSpPr>
            <p:cNvPr id="2755" name=""/>
            <p:cNvSpPr/>
            <p:nvPr/>
          </p:nvSpPr>
          <p:spPr>
            <a:xfrm>
              <a:off x="18100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6" name=""/>
            <p:cNvSpPr/>
            <p:nvPr/>
          </p:nvSpPr>
          <p:spPr>
            <a:xfrm>
              <a:off x="198540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7" name=""/>
            <p:cNvSpPr/>
            <p:nvPr/>
          </p:nvSpPr>
          <p:spPr>
            <a:xfrm>
              <a:off x="163512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8" name=""/>
          <p:cNvSpPr/>
          <p:nvPr/>
        </p:nvSpPr>
        <p:spPr>
          <a:xfrm>
            <a:off x="224460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a:off x="415800" y="194328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0" name=""/>
          <p:cNvGrpSpPr/>
          <p:nvPr/>
        </p:nvGrpSpPr>
        <p:grpSpPr>
          <a:xfrm>
            <a:off x="4952880" y="380880"/>
            <a:ext cx="888840" cy="747000"/>
            <a:chOff x="4952880" y="380880"/>
            <a:chExt cx="888840" cy="747000"/>
          </a:xfrm>
        </p:grpSpPr>
        <p:sp>
          <p:nvSpPr>
            <p:cNvPr id="2761" name=""/>
            <p:cNvSpPr/>
            <p:nvPr/>
          </p:nvSpPr>
          <p:spPr>
            <a:xfrm>
              <a:off x="4952880" y="380880"/>
              <a:ext cx="873000" cy="69948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
            <p:cNvSpPr/>
            <p:nvPr/>
          </p:nvSpPr>
          <p:spPr>
            <a:xfrm>
              <a:off x="5005080" y="443880"/>
              <a:ext cx="3758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2763" name=""/>
            <p:cNvSpPr/>
            <p:nvPr/>
          </p:nvSpPr>
          <p:spPr>
            <a:xfrm>
              <a:off x="4993200" y="746280"/>
              <a:ext cx="43524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2764" name=""/>
            <p:cNvSpPr/>
            <p:nvPr/>
          </p:nvSpPr>
          <p:spPr>
            <a:xfrm>
              <a:off x="5400360" y="790560"/>
              <a:ext cx="44136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2765" name=""/>
            <p:cNvSpPr/>
            <p:nvPr/>
          </p:nvSpPr>
          <p:spPr>
            <a:xfrm>
              <a:off x="5410800" y="443880"/>
              <a:ext cx="400320" cy="3373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2766"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2767"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2768" name=""/>
          <p:cNvSpPr/>
          <p:nvPr/>
        </p:nvSpPr>
        <p:spPr>
          <a:xfrm>
            <a:off x="6095880" y="1447920"/>
            <a:ext cx="560520" cy="36648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9" name=""/>
          <p:cNvSpPr/>
          <p:nvPr/>
        </p:nvSpPr>
        <p:spPr>
          <a:xfrm>
            <a:off x="6477120" y="182880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70" name="Group 101"/>
          <p:cNvGrpSpPr/>
          <p:nvPr/>
        </p:nvGrpSpPr>
        <p:grpSpPr>
          <a:xfrm>
            <a:off x="6553080" y="2362320"/>
            <a:ext cx="304560" cy="518400"/>
            <a:chOff x="6553080" y="2362320"/>
            <a:chExt cx="304560" cy="518400"/>
          </a:xfrm>
        </p:grpSpPr>
        <p:grpSp>
          <p:nvGrpSpPr>
            <p:cNvPr id="2771" name="Group 79"/>
            <p:cNvGrpSpPr/>
            <p:nvPr/>
          </p:nvGrpSpPr>
          <p:grpSpPr>
            <a:xfrm>
              <a:off x="6553080" y="2362320"/>
              <a:ext cx="304560" cy="518400"/>
              <a:chOff x="6553080" y="2362320"/>
              <a:chExt cx="304560" cy="518400"/>
            </a:xfrm>
          </p:grpSpPr>
          <p:sp>
            <p:nvSpPr>
              <p:cNvPr id="2772" name="Ink 80"/>
              <p:cNvSpPr/>
              <p:nvPr/>
            </p:nvSpPr>
            <p:spPr>
              <a:xfrm>
                <a:off x="6558480" y="266400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3" name="Ink 81"/>
              <p:cNvSpPr/>
              <p:nvPr/>
            </p:nvSpPr>
            <p:spPr>
              <a:xfrm>
                <a:off x="6553080" y="256500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774" name="Ink 82"/>
              <p:cNvSpPr/>
              <p:nvPr/>
            </p:nvSpPr>
            <p:spPr>
              <a:xfrm>
                <a:off x="6741000" y="257904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5" name="Ink 83"/>
              <p:cNvSpPr/>
              <p:nvPr/>
            </p:nvSpPr>
            <p:spPr>
              <a:xfrm>
                <a:off x="6609240" y="282636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76" name="Ink 84"/>
              <p:cNvSpPr/>
              <p:nvPr/>
            </p:nvSpPr>
            <p:spPr>
              <a:xfrm>
                <a:off x="6757560" y="257976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7" name="Ink 85"/>
              <p:cNvSpPr/>
              <p:nvPr/>
            </p:nvSpPr>
            <p:spPr>
              <a:xfrm>
                <a:off x="6795360" y="257112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778" name="Ink 86"/>
              <p:cNvSpPr/>
              <p:nvPr/>
            </p:nvSpPr>
            <p:spPr>
              <a:xfrm>
                <a:off x="6772320" y="257616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9" name="Ink 87"/>
              <p:cNvSpPr/>
              <p:nvPr/>
            </p:nvSpPr>
            <p:spPr>
              <a:xfrm>
                <a:off x="6593760" y="236232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0" name="Ink 88"/>
              <p:cNvSpPr/>
              <p:nvPr/>
            </p:nvSpPr>
            <p:spPr>
              <a:xfrm>
                <a:off x="6615000" y="241164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1" name="Ink 89"/>
              <p:cNvSpPr/>
              <p:nvPr/>
            </p:nvSpPr>
            <p:spPr>
              <a:xfrm>
                <a:off x="6607440" y="264924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2" name="Ink 90"/>
              <p:cNvSpPr/>
              <p:nvPr/>
            </p:nvSpPr>
            <p:spPr>
              <a:xfrm>
                <a:off x="6590880" y="282564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83" name="Ink 91"/>
              <p:cNvSpPr/>
              <p:nvPr/>
            </p:nvSpPr>
            <p:spPr>
              <a:xfrm>
                <a:off x="6627960" y="284112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784" name="Ink 92"/>
              <p:cNvSpPr/>
              <p:nvPr/>
            </p:nvSpPr>
            <p:spPr>
              <a:xfrm>
                <a:off x="6753960" y="279288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85" name="Ink 93"/>
              <p:cNvSpPr/>
              <p:nvPr/>
            </p:nvSpPr>
            <p:spPr>
              <a:xfrm>
                <a:off x="6760440" y="258120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6" name="Ink 175"/>
            <p:cNvSpPr/>
            <p:nvPr/>
          </p:nvSpPr>
          <p:spPr>
            <a:xfrm>
              <a:off x="6607800" y="237564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7"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2788" name="Ink 28"/>
          <p:cNvSpPr/>
          <p:nvPr/>
        </p:nvSpPr>
        <p:spPr>
          <a:xfrm>
            <a:off x="6781680" y="350532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9" name="Group 14"/>
          <p:cNvGrpSpPr/>
          <p:nvPr/>
        </p:nvGrpSpPr>
        <p:grpSpPr>
          <a:xfrm>
            <a:off x="6629400" y="3962520"/>
            <a:ext cx="380520" cy="380880"/>
            <a:chOff x="6629400" y="3962520"/>
            <a:chExt cx="380520" cy="380880"/>
          </a:xfrm>
        </p:grpSpPr>
        <p:sp>
          <p:nvSpPr>
            <p:cNvPr id="2790"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1"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2"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3" name=""/>
          <p:cNvSpPr/>
          <p:nvPr/>
        </p:nvSpPr>
        <p:spPr>
          <a:xfrm>
            <a:off x="6172200" y="60948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4"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2795" name=""/>
          <p:cNvSpPr/>
          <p:nvPr/>
        </p:nvSpPr>
        <p:spPr>
          <a:xfrm>
            <a:off x="3692520" y="5524560"/>
            <a:ext cx="262080" cy="32076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6" name=""/>
          <p:cNvSpPr/>
          <p:nvPr/>
        </p:nvSpPr>
        <p:spPr>
          <a:xfrm>
            <a:off x="3429000" y="1351080"/>
            <a:ext cx="266760" cy="39672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7" name=""/>
          <p:cNvSpPr/>
          <p:nvPr/>
        </p:nvSpPr>
        <p:spPr>
          <a:xfrm>
            <a:off x="4648320" y="1682640"/>
            <a:ext cx="230040" cy="32400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8" name=""/>
          <p:cNvSpPr/>
          <p:nvPr/>
        </p:nvSpPr>
        <p:spPr>
          <a:xfrm>
            <a:off x="5181480" y="2427120"/>
            <a:ext cx="433440" cy="30024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9" name=""/>
          <p:cNvSpPr/>
          <p:nvPr/>
        </p:nvSpPr>
        <p:spPr>
          <a:xfrm>
            <a:off x="5105520" y="3754440"/>
            <a:ext cx="21888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0" name=""/>
          <p:cNvSpPr/>
          <p:nvPr/>
        </p:nvSpPr>
        <p:spPr>
          <a:xfrm>
            <a:off x="3959280" y="430524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1" name=""/>
          <p:cNvSpPr/>
          <p:nvPr/>
        </p:nvSpPr>
        <p:spPr>
          <a:xfrm>
            <a:off x="2968560" y="3865680"/>
            <a:ext cx="20016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2" name=""/>
          <p:cNvSpPr/>
          <p:nvPr/>
        </p:nvSpPr>
        <p:spPr>
          <a:xfrm>
            <a:off x="2751120" y="3027240"/>
            <a:ext cx="258840" cy="10008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3" name=""/>
          <p:cNvSpPr/>
          <p:nvPr/>
        </p:nvSpPr>
        <p:spPr>
          <a:xfrm>
            <a:off x="3200400" y="2265480"/>
            <a:ext cx="290520" cy="16020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04" name=""/>
          <p:cNvGrpSpPr/>
          <p:nvPr/>
        </p:nvGrpSpPr>
        <p:grpSpPr>
          <a:xfrm>
            <a:off x="3429000" y="2514600"/>
            <a:ext cx="1599840" cy="1294920"/>
            <a:chOff x="3429000" y="2514600"/>
            <a:chExt cx="1599840" cy="1294920"/>
          </a:xfrm>
        </p:grpSpPr>
        <p:grpSp>
          <p:nvGrpSpPr>
            <p:cNvPr id="2805" name=""/>
            <p:cNvGrpSpPr/>
            <p:nvPr/>
          </p:nvGrpSpPr>
          <p:grpSpPr>
            <a:xfrm>
              <a:off x="3429000" y="2514600"/>
              <a:ext cx="1599840" cy="1294920"/>
              <a:chOff x="3429000" y="2514600"/>
              <a:chExt cx="1599840" cy="1294920"/>
            </a:xfrm>
          </p:grpSpPr>
          <p:sp>
            <p:nvSpPr>
              <p:cNvPr id="2806" name=""/>
              <p:cNvSpPr/>
              <p:nvPr/>
            </p:nvSpPr>
            <p:spPr>
              <a:xfrm>
                <a:off x="3429000" y="2607120"/>
                <a:ext cx="479880" cy="45432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7" name=""/>
              <p:cNvSpPr/>
              <p:nvPr/>
            </p:nvSpPr>
            <p:spPr>
              <a:xfrm>
                <a:off x="3668760" y="3162240"/>
                <a:ext cx="880200" cy="64728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8" name=""/>
              <p:cNvSpPr/>
              <p:nvPr/>
            </p:nvSpPr>
            <p:spPr>
              <a:xfrm>
                <a:off x="4388760" y="2514600"/>
                <a:ext cx="640080" cy="60516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9" name=""/>
              <p:cNvSpPr/>
              <p:nvPr/>
            </p:nvSpPr>
            <p:spPr>
              <a:xfrm>
                <a:off x="3828960" y="2792160"/>
                <a:ext cx="621000" cy="475920"/>
              </a:xfrm>
              <a:custGeom>
                <a:avLst/>
                <a:gdLst/>
                <a:ahLst/>
                <a:rect l="l" t="t" r="r" b="b"/>
                <a:pathLst>
                  <a:path w="2278" h="1508">
                    <a:moveTo>
                      <a:pt x="15042" y="3209"/>
                    </a:moveTo>
                    <a:cubicBezTo>
                      <a:pt x="15018" y="3199"/>
                      <a:pt x="14996" y="3188"/>
                      <a:pt x="14971" y="3180"/>
                    </a:cubicBezTo>
                    <a:cubicBezTo>
                      <a:pt x="14931" y="3167"/>
                      <a:pt x="14890" y="3157"/>
                      <a:pt x="14849" y="3149"/>
                    </a:cubicBezTo>
                    <a:cubicBezTo>
                      <a:pt x="14626" y="3103"/>
                      <a:pt x="14373" y="3117"/>
                      <a:pt x="14149" y="3144"/>
                    </a:cubicBezTo>
                    <a:cubicBezTo>
                      <a:pt x="14036" y="3158"/>
                      <a:pt x="13917" y="3175"/>
                      <a:pt x="13810" y="3217"/>
                    </a:cubicBezTo>
                    <a:cubicBezTo>
                      <a:pt x="13749" y="3241"/>
                      <a:pt x="13654" y="3288"/>
                      <a:pt x="13667" y="3369"/>
                    </a:cubicBezTo>
                    <a:cubicBezTo>
                      <a:pt x="13678" y="3441"/>
                      <a:pt x="13763" y="3478"/>
                      <a:pt x="13820" y="3506"/>
                    </a:cubicBezTo>
                    <a:cubicBezTo>
                      <a:pt x="13995" y="3590"/>
                      <a:pt x="14195" y="3623"/>
                      <a:pt x="14386" y="3645"/>
                    </a:cubicBezTo>
                    <a:cubicBezTo>
                      <a:pt x="14648" y="3675"/>
                      <a:pt x="14911" y="3683"/>
                      <a:pt x="15173" y="3656"/>
                    </a:cubicBezTo>
                    <a:cubicBezTo>
                      <a:pt x="15330" y="3639"/>
                      <a:pt x="15493" y="3612"/>
                      <a:pt x="15635" y="3538"/>
                    </a:cubicBezTo>
                    <a:cubicBezTo>
                      <a:pt x="15691" y="3509"/>
                      <a:pt x="15784" y="3440"/>
                      <a:pt x="15744" y="3364"/>
                    </a:cubicBezTo>
                    <a:cubicBezTo>
                      <a:pt x="15699" y="3280"/>
                      <a:pt x="15551" y="3264"/>
                      <a:pt x="15472" y="3249"/>
                    </a:cubicBezTo>
                    <a:cubicBezTo>
                      <a:pt x="15355" y="3230"/>
                      <a:pt x="15316" y="3224"/>
                      <a:pt x="15236" y="3224"/>
                    </a:cubicBezTo>
                  </a:path>
                  <a:path w="2278" h="1508">
                    <a:moveTo>
                      <a:pt x="13558" y="3514"/>
                    </a:moveTo>
                    <a:cubicBezTo>
                      <a:pt x="13552" y="3544"/>
                      <a:pt x="13555" y="3575"/>
                      <a:pt x="13549" y="3605"/>
                    </a:cubicBezTo>
                    <a:cubicBezTo>
                      <a:pt x="13537" y="3666"/>
                      <a:pt x="13525" y="3726"/>
                      <a:pt x="13515" y="3788"/>
                    </a:cubicBezTo>
                    <a:cubicBezTo>
                      <a:pt x="13502" y="3868"/>
                      <a:pt x="13494" y="3944"/>
                      <a:pt x="13494" y="4025"/>
                    </a:cubicBezTo>
                    <a:cubicBezTo>
                      <a:pt x="13494" y="4092"/>
                      <a:pt x="13501" y="4158"/>
                      <a:pt x="13523" y="4221"/>
                    </a:cubicBezTo>
                    <a:cubicBezTo>
                      <a:pt x="13533" y="4248"/>
                      <a:pt x="13554" y="4310"/>
                      <a:pt x="13578" y="4329"/>
                    </a:cubicBezTo>
                    <a:cubicBezTo>
                      <a:pt x="13585" y="4332"/>
                      <a:pt x="13593" y="4335"/>
                      <a:pt x="13600" y="4338"/>
                    </a:cubicBezTo>
                  </a:path>
                  <a:path w="2278" h="1508">
                    <a:moveTo>
                      <a:pt x="13820" y="4480"/>
                    </a:moveTo>
                    <a:cubicBezTo>
                      <a:pt x="13853" y="4483"/>
                      <a:pt x="13872" y="4485"/>
                      <a:pt x="13904" y="4496"/>
                    </a:cubicBezTo>
                    <a:cubicBezTo>
                      <a:pt x="14081" y="4554"/>
                      <a:pt x="14250" y="4605"/>
                      <a:pt x="14437" y="4624"/>
                    </a:cubicBezTo>
                    <a:cubicBezTo>
                      <a:pt x="14604" y="4641"/>
                      <a:pt x="14770" y="4631"/>
                      <a:pt x="14936" y="4617"/>
                    </a:cubicBezTo>
                    <a:cubicBezTo>
                      <a:pt x="15157" y="4599"/>
                      <a:pt x="15393" y="4569"/>
                      <a:pt x="15603" y="4494"/>
                    </a:cubicBezTo>
                    <a:cubicBezTo>
                      <a:pt x="15664" y="4472"/>
                      <a:pt x="15733" y="4444"/>
                      <a:pt x="15771" y="4391"/>
                    </a:cubicBezTo>
                    <a:cubicBezTo>
                      <a:pt x="15771" y="4384"/>
                      <a:pt x="15771" y="4376"/>
                      <a:pt x="15771" y="4369"/>
                    </a:cubicBezTo>
                  </a:path>
                  <a:path w="2278" h="1508">
                    <a:moveTo>
                      <a:pt x="15750" y="3638"/>
                    </a:moveTo>
                    <a:cubicBezTo>
                      <a:pt x="15741" y="3656"/>
                      <a:pt x="15736" y="3685"/>
                      <a:pt x="15733" y="3706"/>
                    </a:cubicBezTo>
                    <a:cubicBezTo>
                      <a:pt x="15727" y="3756"/>
                      <a:pt x="15718" y="3805"/>
                      <a:pt x="15713" y="3856"/>
                    </a:cubicBezTo>
                    <a:cubicBezTo>
                      <a:pt x="15706" y="3931"/>
                      <a:pt x="15707" y="4008"/>
                      <a:pt x="15706" y="4084"/>
                    </a:cubicBezTo>
                    <a:cubicBezTo>
                      <a:pt x="15705" y="4158"/>
                      <a:pt x="15717" y="4231"/>
                      <a:pt x="15720" y="4305"/>
                    </a:cubicBezTo>
                    <a:cubicBezTo>
                      <a:pt x="15722" y="4348"/>
                      <a:pt x="15723" y="4387"/>
                      <a:pt x="15729" y="442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0" name=""/>
            <p:cNvSpPr/>
            <p:nvPr/>
          </p:nvSpPr>
          <p:spPr>
            <a:xfrm>
              <a:off x="3506760" y="2743200"/>
              <a:ext cx="2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X</a:t>
              </a:r>
              <a:endParaRPr b="0" lang="en-US" sz="1600" spc="-1" strike="noStrike">
                <a:solidFill>
                  <a:srgbClr val="000000"/>
                </a:solidFill>
                <a:latin typeface="Arial"/>
              </a:endParaRPr>
            </a:p>
          </p:txBody>
        </p:sp>
        <p:sp>
          <p:nvSpPr>
            <p:cNvPr id="2811"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p</a:t>
              </a:r>
              <a:endParaRPr b="0" lang="en-US" sz="1600" spc="-1" strike="noStrike">
                <a:solidFill>
                  <a:srgbClr val="000000"/>
                </a:solidFill>
                <a:latin typeface="Arial"/>
              </a:endParaRPr>
            </a:p>
          </p:txBody>
        </p:sp>
        <p:sp>
          <p:nvSpPr>
            <p:cNvPr id="2812"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Z</a:t>
              </a:r>
              <a:endParaRPr b="0" lang="en-US" sz="1600" spc="-1" strike="noStrike">
                <a:solidFill>
                  <a:srgbClr val="000000"/>
                </a:solidFill>
                <a:latin typeface="Arial"/>
              </a:endParaRPr>
            </a:p>
          </p:txBody>
        </p:sp>
        <p:sp>
          <p:nvSpPr>
            <p:cNvPr id="2813" name=""/>
            <p:cNvSpPr/>
            <p:nvPr/>
          </p:nvSpPr>
          <p:spPr>
            <a:xfrm>
              <a:off x="3980520" y="2895480"/>
              <a:ext cx="3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St</a:t>
              </a:r>
              <a:endParaRPr b="0" lang="en-US" sz="1600" spc="-1" strike="noStrike">
                <a:solidFill>
                  <a:srgbClr val="000000"/>
                </a:solidFill>
                <a:latin typeface="Arial"/>
              </a:endParaRPr>
            </a:p>
          </p:txBody>
        </p:sp>
      </p:grpSp>
      <p:sp>
        <p:nvSpPr>
          <p:cNvPr id="2814"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grpSp>
        <p:nvGrpSpPr>
          <p:cNvPr id="2815" name=""/>
          <p:cNvGrpSpPr/>
          <p:nvPr/>
        </p:nvGrpSpPr>
        <p:grpSpPr>
          <a:xfrm>
            <a:off x="3200400" y="2209680"/>
            <a:ext cx="2225160" cy="1985760"/>
            <a:chOff x="3200400" y="2209680"/>
            <a:chExt cx="2225160" cy="1985760"/>
          </a:xfrm>
        </p:grpSpPr>
        <p:sp>
          <p:nvSpPr>
            <p:cNvPr id="2816" name=""/>
            <p:cNvSpPr/>
            <p:nvPr/>
          </p:nvSpPr>
          <p:spPr>
            <a:xfrm>
              <a:off x="4805280" y="2209680"/>
              <a:ext cx="264600" cy="183960"/>
            </a:xfrm>
            <a:custGeom>
              <a:avLst/>
              <a:gdLst/>
              <a:ahLst/>
              <a:rect l="l" t="t" r="r" b="b"/>
              <a:pathLst>
                <a:path w="737" h="512">
                  <a:moveTo>
                    <a:pt x="21534" y="12356"/>
                  </a:moveTo>
                  <a:cubicBezTo>
                    <a:pt x="21564" y="12313"/>
                    <a:pt x="21582" y="12275"/>
                    <a:pt x="21603" y="12228"/>
                  </a:cubicBezTo>
                  <a:cubicBezTo>
                    <a:pt x="21608" y="12216"/>
                    <a:pt x="21614" y="12205"/>
                    <a:pt x="21619" y="12193"/>
                  </a:cubicBezTo>
                </a:path>
                <a:path w="737" h="512">
                  <a:moveTo>
                    <a:pt x="21788" y="12087"/>
                  </a:moveTo>
                  <a:cubicBezTo>
                    <a:pt x="21783" y="12044"/>
                    <a:pt x="21783" y="12010"/>
                    <a:pt x="21794" y="11968"/>
                  </a:cubicBezTo>
                  <a:cubicBezTo>
                    <a:pt x="21806" y="11922"/>
                    <a:pt x="21831" y="11884"/>
                    <a:pt x="21857" y="11845"/>
                  </a:cubicBezTo>
                </a:path>
                <a:path w="737" h="512">
                  <a:moveTo>
                    <a:pt x="22095" y="11972"/>
                  </a:moveTo>
                  <a:cubicBezTo>
                    <a:pt x="22104" y="12036"/>
                    <a:pt x="22139" y="12042"/>
                    <a:pt x="22180" y="12091"/>
                  </a:cubicBezTo>
                  <a:cubicBezTo>
                    <a:pt x="22213" y="12130"/>
                    <a:pt x="22244" y="12171"/>
                    <a:pt x="22270" y="12215"/>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
            <p:cNvSpPr/>
            <p:nvPr/>
          </p:nvSpPr>
          <p:spPr>
            <a:xfrm>
              <a:off x="5109840" y="2415960"/>
              <a:ext cx="17280" cy="88920"/>
            </a:xfrm>
            <a:custGeom>
              <a:avLst/>
              <a:gdLst/>
              <a:ahLst/>
              <a:rect l="l" t="t" r="r" b="b"/>
              <a:pathLst>
                <a:path w="49" h="248">
                  <a:moveTo>
                    <a:pt x="22423" y="12418"/>
                  </a:moveTo>
                  <a:cubicBezTo>
                    <a:pt x="22393" y="12459"/>
                    <a:pt x="22377" y="12488"/>
                    <a:pt x="22381" y="12541"/>
                  </a:cubicBezTo>
                  <a:cubicBezTo>
                    <a:pt x="22384" y="12589"/>
                    <a:pt x="22406" y="12625"/>
                    <a:pt x="22429" y="12665"/>
                  </a:cubicBezTo>
                </a:path>
              </a:pathLst>
            </a:custGeom>
            <a:noFill/>
            <a:ln cap="rnd" w="38160">
              <a:solidFill>
                <a:srgbClr val="008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18" name=""/>
            <p:cNvSpPr/>
            <p:nvPr/>
          </p:nvSpPr>
          <p:spPr>
            <a:xfrm>
              <a:off x="5190840" y="2580840"/>
              <a:ext cx="44280" cy="90720"/>
            </a:xfrm>
            <a:custGeom>
              <a:avLst/>
              <a:gdLst/>
              <a:ahLst/>
              <a:rect l="l" t="t" r="r" b="b"/>
              <a:pathLst>
                <a:path w="123" h="253">
                  <a:moveTo>
                    <a:pt x="22619" y="12876"/>
                  </a:moveTo>
                  <a:cubicBezTo>
                    <a:pt x="22600" y="12926"/>
                    <a:pt x="22600" y="12952"/>
                    <a:pt x="22630" y="13000"/>
                  </a:cubicBezTo>
                  <a:cubicBezTo>
                    <a:pt x="22659" y="13046"/>
                    <a:pt x="22690" y="13087"/>
                    <a:pt x="22725" y="13128"/>
                  </a:cubicBezTo>
                </a:path>
              </a:pathLst>
            </a:custGeom>
            <a:noFill/>
            <a:ln cap="rnd" w="38160">
              <a:solidFill>
                <a:srgbClr val="008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819" name=""/>
            <p:cNvSpPr/>
            <p:nvPr/>
          </p:nvSpPr>
          <p:spPr>
            <a:xfrm>
              <a:off x="5298840" y="2750760"/>
              <a:ext cx="79200" cy="82800"/>
            </a:xfrm>
            <a:custGeom>
              <a:avLst/>
              <a:gdLst/>
              <a:ahLst/>
              <a:rect l="l" t="t" r="r" b="b"/>
              <a:pathLst>
                <a:path w="218" h="231">
                  <a:moveTo>
                    <a:pt x="22905" y="13348"/>
                  </a:moveTo>
                  <a:cubicBezTo>
                    <a:pt x="22964" y="13374"/>
                    <a:pt x="22995" y="13401"/>
                    <a:pt x="23032" y="13454"/>
                  </a:cubicBezTo>
                  <a:cubicBezTo>
                    <a:pt x="23062" y="13496"/>
                    <a:pt x="23089" y="13538"/>
                    <a:pt x="23122" y="13578"/>
                  </a:cubicBezTo>
                </a:path>
              </a:pathLst>
            </a:custGeom>
            <a:noFill/>
            <a:ln cap="rnd" w="38160">
              <a:solidFill>
                <a:srgbClr val="008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20" name=""/>
            <p:cNvSpPr/>
            <p:nvPr/>
          </p:nvSpPr>
          <p:spPr>
            <a:xfrm>
              <a:off x="5317920" y="2931840"/>
              <a:ext cx="107640" cy="112680"/>
            </a:xfrm>
            <a:custGeom>
              <a:avLst/>
              <a:gdLst/>
              <a:ahLst/>
              <a:rect l="l" t="t" r="r" b="b"/>
              <a:pathLst>
                <a:path w="297" h="314">
                  <a:moveTo>
                    <a:pt x="23191" y="13851"/>
                  </a:moveTo>
                  <a:cubicBezTo>
                    <a:pt x="23210" y="13894"/>
                    <a:pt x="23229" y="13935"/>
                    <a:pt x="23244" y="13979"/>
                  </a:cubicBezTo>
                  <a:cubicBezTo>
                    <a:pt x="23247" y="13989"/>
                    <a:pt x="23251" y="14000"/>
                    <a:pt x="23254" y="14010"/>
                  </a:cubicBezTo>
                </a:path>
                <a:path w="297" h="314">
                  <a:moveTo>
                    <a:pt x="22958" y="14164"/>
                  </a:moveTo>
                  <a:cubicBezTo>
                    <a:pt x="23006" y="14164"/>
                    <a:pt x="23053" y="14161"/>
                    <a:pt x="23101" y="14164"/>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1" name=""/>
            <p:cNvSpPr/>
            <p:nvPr/>
          </p:nvSpPr>
          <p:spPr>
            <a:xfrm>
              <a:off x="3441600" y="2423880"/>
              <a:ext cx="1758600" cy="1730160"/>
            </a:xfrm>
            <a:custGeom>
              <a:avLst/>
              <a:gdLst/>
              <a:ahLst/>
              <a:rect l="l" t="t" r="r" b="b"/>
              <a:pathLst>
                <a:path w="4885" h="4807">
                  <a:moveTo>
                    <a:pt x="22556" y="14173"/>
                  </a:moveTo>
                  <a:cubicBezTo>
                    <a:pt x="22593" y="14177"/>
                    <a:pt x="22605" y="14178"/>
                    <a:pt x="22630" y="14177"/>
                  </a:cubicBezTo>
                </a:path>
                <a:path w="4885" h="4807">
                  <a:moveTo>
                    <a:pt x="21053" y="16281"/>
                  </a:moveTo>
                  <a:cubicBezTo>
                    <a:pt x="21075" y="16323"/>
                    <a:pt x="21099" y="16366"/>
                    <a:pt x="21127" y="16404"/>
                  </a:cubicBezTo>
                  <a:cubicBezTo>
                    <a:pt x="21136" y="16414"/>
                    <a:pt x="21144" y="16425"/>
                    <a:pt x="21153" y="16435"/>
                  </a:cubicBezTo>
                </a:path>
                <a:path w="4885" h="4807">
                  <a:moveTo>
                    <a:pt x="21513" y="16902"/>
                  </a:moveTo>
                  <a:cubicBezTo>
                    <a:pt x="21522" y="16915"/>
                    <a:pt x="21531" y="16929"/>
                    <a:pt x="21540" y="16942"/>
                  </a:cubicBezTo>
                </a:path>
                <a:path w="4885" h="4807">
                  <a:moveTo>
                    <a:pt x="17746" y="17149"/>
                  </a:moveTo>
                  <a:cubicBezTo>
                    <a:pt x="17760" y="17185"/>
                    <a:pt x="17765" y="17207"/>
                    <a:pt x="17767" y="17246"/>
                  </a:cubicBezTo>
                </a:path>
                <a:path w="4885" h="4807">
                  <a:moveTo>
                    <a:pt x="18190" y="12440"/>
                  </a:moveTo>
                  <a:cubicBezTo>
                    <a:pt x="18210" y="12472"/>
                    <a:pt x="18229" y="12504"/>
                    <a:pt x="18248" y="12537"/>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
            <p:cNvSpPr/>
            <p:nvPr/>
          </p:nvSpPr>
          <p:spPr>
            <a:xfrm>
              <a:off x="3490560" y="3893760"/>
              <a:ext cx="1360440" cy="241560"/>
            </a:xfrm>
            <a:custGeom>
              <a:avLst/>
              <a:gdLst/>
              <a:ahLst/>
              <a:rect l="l" t="t" r="r" b="b"/>
              <a:pathLst>
                <a:path w="3779" h="672">
                  <a:moveTo>
                    <a:pt x="18063" y="16523"/>
                  </a:moveTo>
                  <a:cubicBezTo>
                    <a:pt x="18056" y="16556"/>
                    <a:pt x="18047" y="16587"/>
                    <a:pt x="18037" y="16620"/>
                  </a:cubicBezTo>
                </a:path>
                <a:path w="3779" h="672">
                  <a:moveTo>
                    <a:pt x="17957" y="16828"/>
                  </a:moveTo>
                  <a:cubicBezTo>
                    <a:pt x="17933" y="16863"/>
                    <a:pt x="17909" y="16896"/>
                    <a:pt x="17883" y="16929"/>
                  </a:cubicBezTo>
                </a:path>
                <a:path w="3779" h="672">
                  <a:moveTo>
                    <a:pt x="21513" y="17154"/>
                  </a:moveTo>
                  <a:cubicBezTo>
                    <a:pt x="21565" y="17177"/>
                    <a:pt x="21605" y="17191"/>
                    <a:pt x="21661" y="17194"/>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
            <p:cNvSpPr/>
            <p:nvPr/>
          </p:nvSpPr>
          <p:spPr>
            <a:xfrm>
              <a:off x="3527280" y="3765240"/>
              <a:ext cx="136080" cy="403200"/>
            </a:xfrm>
            <a:custGeom>
              <a:avLst/>
              <a:gdLst/>
              <a:ahLst/>
              <a:rect l="l" t="t" r="r" b="b"/>
              <a:pathLst>
                <a:path w="376" h="1121">
                  <a:moveTo>
                    <a:pt x="18359" y="16166"/>
                  </a:moveTo>
                  <a:cubicBezTo>
                    <a:pt x="18343" y="16209"/>
                    <a:pt x="18322" y="16249"/>
                    <a:pt x="18301" y="16290"/>
                  </a:cubicBezTo>
                </a:path>
                <a:path w="376" h="1121">
                  <a:moveTo>
                    <a:pt x="17984" y="17286"/>
                  </a:moveTo>
                  <a:cubicBezTo>
                    <a:pt x="18033" y="17264"/>
                    <a:pt x="18083" y="17243"/>
                    <a:pt x="18137" y="17233"/>
                  </a:cubicBezTo>
                  <a:cubicBezTo>
                    <a:pt x="18175" y="17229"/>
                    <a:pt x="18189" y="17227"/>
                    <a:pt x="18211" y="17211"/>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
            <p:cNvSpPr/>
            <p:nvPr/>
          </p:nvSpPr>
          <p:spPr>
            <a:xfrm>
              <a:off x="3732120" y="4147920"/>
              <a:ext cx="313920" cy="31680"/>
            </a:xfrm>
            <a:custGeom>
              <a:avLst/>
              <a:gdLst/>
              <a:ahLst/>
              <a:rect l="l" t="t" r="r" b="b"/>
              <a:pathLst>
                <a:path w="874" h="89">
                  <a:moveTo>
                    <a:pt x="18550" y="17246"/>
                  </a:moveTo>
                  <a:cubicBezTo>
                    <a:pt x="18600" y="17263"/>
                    <a:pt x="18647" y="17280"/>
                    <a:pt x="18698" y="17291"/>
                  </a:cubicBezTo>
                  <a:cubicBezTo>
                    <a:pt x="18747" y="17302"/>
                    <a:pt x="18796" y="17299"/>
                    <a:pt x="18846" y="17299"/>
                  </a:cubicBezTo>
                </a:path>
                <a:path w="874" h="89">
                  <a:moveTo>
                    <a:pt x="19090" y="17229"/>
                  </a:moveTo>
                  <a:cubicBezTo>
                    <a:pt x="19138" y="17255"/>
                    <a:pt x="19181" y="17266"/>
                    <a:pt x="19233" y="17282"/>
                  </a:cubicBezTo>
                  <a:cubicBezTo>
                    <a:pt x="19284" y="17298"/>
                    <a:pt x="19333" y="17307"/>
                    <a:pt x="19386" y="17313"/>
                  </a:cubicBezTo>
                  <a:cubicBezTo>
                    <a:pt x="19398" y="17314"/>
                    <a:pt x="19411" y="17316"/>
                    <a:pt x="19423" y="17317"/>
                  </a:cubicBezTo>
                </a:path>
              </a:pathLst>
            </a:custGeom>
            <a:noFill/>
            <a:ln cap="rnd" w="38160">
              <a:solidFill>
                <a:srgbClr val="008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25" name=""/>
            <p:cNvSpPr/>
            <p:nvPr/>
          </p:nvSpPr>
          <p:spPr>
            <a:xfrm>
              <a:off x="4182840" y="4176360"/>
              <a:ext cx="109080" cy="19080"/>
            </a:xfrm>
            <a:custGeom>
              <a:avLst/>
              <a:gdLst/>
              <a:ahLst/>
              <a:rect l="l" t="t" r="r" b="b"/>
              <a:pathLst>
                <a:path w="303" h="54">
                  <a:moveTo>
                    <a:pt x="19804" y="17308"/>
                  </a:moveTo>
                  <a:cubicBezTo>
                    <a:pt x="19864" y="17340"/>
                    <a:pt x="19890" y="17329"/>
                    <a:pt x="19952" y="17339"/>
                  </a:cubicBezTo>
                  <a:cubicBezTo>
                    <a:pt x="20005" y="17347"/>
                    <a:pt x="20051" y="17360"/>
                    <a:pt x="20106" y="17361"/>
                  </a:cubicBezTo>
                </a:path>
              </a:pathLst>
            </a:custGeom>
            <a:noFill/>
            <a:ln cap="rnd" w="38160">
              <a:solidFill>
                <a:srgbClr val="008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6" name=""/>
            <p:cNvSpPr/>
            <p:nvPr/>
          </p:nvSpPr>
          <p:spPr>
            <a:xfrm>
              <a:off x="4406760" y="4140000"/>
              <a:ext cx="337680" cy="33120"/>
            </a:xfrm>
            <a:custGeom>
              <a:avLst/>
              <a:gdLst/>
              <a:ahLst/>
              <a:rect l="l" t="t" r="r" b="b"/>
              <a:pathLst>
                <a:path w="938" h="93">
                  <a:moveTo>
                    <a:pt x="20428" y="17233"/>
                  </a:moveTo>
                  <a:cubicBezTo>
                    <a:pt x="20481" y="17267"/>
                    <a:pt x="20523" y="17290"/>
                    <a:pt x="20587" y="17295"/>
                  </a:cubicBezTo>
                  <a:cubicBezTo>
                    <a:pt x="20637" y="17299"/>
                    <a:pt x="20685" y="17293"/>
                    <a:pt x="20735" y="17295"/>
                  </a:cubicBezTo>
                  <a:cubicBezTo>
                    <a:pt x="20747" y="17296"/>
                    <a:pt x="20760" y="17298"/>
                    <a:pt x="20772" y="17299"/>
                  </a:cubicBezTo>
                </a:path>
                <a:path w="938" h="93">
                  <a:moveTo>
                    <a:pt x="21063" y="17207"/>
                  </a:moveTo>
                  <a:cubicBezTo>
                    <a:pt x="21117" y="17234"/>
                    <a:pt x="21156" y="17253"/>
                    <a:pt x="21217" y="17255"/>
                  </a:cubicBezTo>
                  <a:cubicBezTo>
                    <a:pt x="21268" y="17256"/>
                    <a:pt x="21316" y="17256"/>
                    <a:pt x="21365" y="17264"/>
                  </a:cubicBezTo>
                </a:path>
              </a:pathLst>
            </a:custGeom>
            <a:noFill/>
            <a:ln cap="rnd" w="38160">
              <a:solidFill>
                <a:srgbClr val="008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27" name=""/>
            <p:cNvSpPr/>
            <p:nvPr/>
          </p:nvSpPr>
          <p:spPr>
            <a:xfrm>
              <a:off x="4716360" y="3916080"/>
              <a:ext cx="64800" cy="76320"/>
            </a:xfrm>
            <a:custGeom>
              <a:avLst/>
              <a:gdLst/>
              <a:ahLst/>
              <a:rect l="l" t="t" r="r" b="b"/>
              <a:pathLst>
                <a:path w="181" h="213">
                  <a:moveTo>
                    <a:pt x="21286" y="16585"/>
                  </a:moveTo>
                  <a:cubicBezTo>
                    <a:pt x="21335" y="16621"/>
                    <a:pt x="21379" y="16656"/>
                    <a:pt x="21413" y="16708"/>
                  </a:cubicBezTo>
                  <a:cubicBezTo>
                    <a:pt x="21431" y="16737"/>
                    <a:pt x="21448" y="16768"/>
                    <a:pt x="21466" y="16797"/>
                  </a:cubicBezTo>
                </a:path>
              </a:pathLst>
            </a:custGeom>
            <a:noFill/>
            <a:ln cap="rnd" w="38160">
              <a:solidFill>
                <a:srgbClr val="008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28" name=""/>
            <p:cNvSpPr/>
            <p:nvPr/>
          </p:nvSpPr>
          <p:spPr>
            <a:xfrm>
              <a:off x="3528720" y="2328480"/>
              <a:ext cx="39600" cy="23760"/>
            </a:xfrm>
            <a:custGeom>
              <a:avLst/>
              <a:gdLst/>
              <a:ahLst/>
              <a:rect l="l" t="t" r="r" b="b"/>
              <a:pathLst>
                <a:path w="107" h="67">
                  <a:moveTo>
                    <a:pt x="17989" y="12175"/>
                  </a:moveTo>
                  <a:cubicBezTo>
                    <a:pt x="18033" y="12194"/>
                    <a:pt x="18060" y="12210"/>
                    <a:pt x="18095" y="12241"/>
                  </a:cubicBezTo>
                </a:path>
              </a:pathLst>
            </a:custGeom>
            <a:noFill/>
            <a:ln cap="rnd" w="38160">
              <a:solidFill>
                <a:srgbClr val="008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29" name=""/>
            <p:cNvSpPr/>
            <p:nvPr/>
          </p:nvSpPr>
          <p:spPr>
            <a:xfrm>
              <a:off x="3354120" y="2349360"/>
              <a:ext cx="320400" cy="293400"/>
            </a:xfrm>
            <a:custGeom>
              <a:avLst/>
              <a:gdLst/>
              <a:ahLst/>
              <a:rect l="l" t="t" r="r" b="b"/>
              <a:pathLst>
                <a:path w="890" h="816">
                  <a:moveTo>
                    <a:pt x="18391" y="12599"/>
                  </a:moveTo>
                  <a:cubicBezTo>
                    <a:pt x="18371" y="12646"/>
                    <a:pt x="18374" y="12680"/>
                    <a:pt x="18381" y="12731"/>
                  </a:cubicBezTo>
                </a:path>
                <a:path w="890" h="816">
                  <a:moveTo>
                    <a:pt x="17936" y="12233"/>
                  </a:moveTo>
                  <a:cubicBezTo>
                    <a:pt x="17927" y="12275"/>
                    <a:pt x="17916" y="12312"/>
                    <a:pt x="17915" y="12356"/>
                  </a:cubicBezTo>
                  <a:cubicBezTo>
                    <a:pt x="17915" y="12368"/>
                    <a:pt x="17915" y="12379"/>
                    <a:pt x="17915" y="12391"/>
                  </a:cubicBezTo>
                </a:path>
                <a:path w="890" h="816">
                  <a:moveTo>
                    <a:pt x="17836" y="12431"/>
                  </a:moveTo>
                  <a:cubicBezTo>
                    <a:pt x="17803" y="12470"/>
                    <a:pt x="17774" y="12508"/>
                    <a:pt x="17746" y="12550"/>
                  </a:cubicBezTo>
                  <a:cubicBezTo>
                    <a:pt x="17726" y="12581"/>
                    <a:pt x="17710" y="12610"/>
                    <a:pt x="17693" y="12643"/>
                  </a:cubicBezTo>
                </a:path>
                <a:path w="890" h="816">
                  <a:moveTo>
                    <a:pt x="17634" y="12837"/>
                  </a:moveTo>
                  <a:cubicBezTo>
                    <a:pt x="17589" y="12870"/>
                    <a:pt x="17558" y="12903"/>
                    <a:pt x="17534" y="12956"/>
                  </a:cubicBezTo>
                  <a:cubicBezTo>
                    <a:pt x="17521" y="12986"/>
                    <a:pt x="17513" y="13018"/>
                    <a:pt x="17502" y="13048"/>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0" name=""/>
            <p:cNvSpPr/>
            <p:nvPr/>
          </p:nvSpPr>
          <p:spPr>
            <a:xfrm>
              <a:off x="3295440" y="2734920"/>
              <a:ext cx="31320" cy="44640"/>
            </a:xfrm>
            <a:custGeom>
              <a:avLst/>
              <a:gdLst/>
              <a:ahLst/>
              <a:rect l="l" t="t" r="r" b="b"/>
              <a:pathLst>
                <a:path w="91" h="125">
                  <a:moveTo>
                    <a:pt x="17428" y="13304"/>
                  </a:moveTo>
                  <a:cubicBezTo>
                    <a:pt x="17399" y="13347"/>
                    <a:pt x="17368" y="13387"/>
                    <a:pt x="17338" y="13428"/>
                  </a:cubicBezTo>
                </a:path>
              </a:pathLst>
            </a:custGeom>
            <a:noFill/>
            <a:ln cap="rnd" w="38160">
              <a:solidFill>
                <a:srgbClr val="008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831" name=""/>
            <p:cNvSpPr/>
            <p:nvPr/>
          </p:nvSpPr>
          <p:spPr>
            <a:xfrm>
              <a:off x="3200400" y="2895480"/>
              <a:ext cx="236160" cy="152280"/>
            </a:xfrm>
            <a:custGeom>
              <a:avLst/>
              <a:gdLst/>
              <a:ahLst/>
              <a:rect l="l" t="t" r="r" b="b"/>
              <a:pathLst>
                <a:path w="657" h="424">
                  <a:moveTo>
                    <a:pt x="17174" y="13750"/>
                  </a:moveTo>
                  <a:cubicBezTo>
                    <a:pt x="17137" y="13790"/>
                    <a:pt x="17119" y="13822"/>
                    <a:pt x="17100" y="13873"/>
                  </a:cubicBezTo>
                  <a:cubicBezTo>
                    <a:pt x="17089" y="13904"/>
                    <a:pt x="17085" y="13915"/>
                    <a:pt x="17074" y="13935"/>
                  </a:cubicBezTo>
                </a:path>
                <a:path w="657" h="424">
                  <a:moveTo>
                    <a:pt x="17074" y="14173"/>
                  </a:moveTo>
                  <a:cubicBezTo>
                    <a:pt x="17122" y="14145"/>
                    <a:pt x="17174" y="14122"/>
                    <a:pt x="17232" y="14116"/>
                  </a:cubicBezTo>
                  <a:cubicBezTo>
                    <a:pt x="17268" y="14112"/>
                    <a:pt x="17307" y="14116"/>
                    <a:pt x="17343" y="14116"/>
                  </a:cubicBezTo>
                </a:path>
                <a:path w="657" h="424">
                  <a:moveTo>
                    <a:pt x="17470" y="14111"/>
                  </a:moveTo>
                  <a:cubicBezTo>
                    <a:pt x="17518" y="14113"/>
                    <a:pt x="17571" y="14113"/>
                    <a:pt x="17619" y="14120"/>
                  </a:cubicBezTo>
                  <a:cubicBezTo>
                    <a:pt x="17658" y="14126"/>
                    <a:pt x="17691" y="14136"/>
                    <a:pt x="17730" y="14138"/>
                  </a:cubicBezTo>
                </a:path>
              </a:pathLst>
            </a:custGeom>
            <a:noFill/>
            <a:ln cap="rnd"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2" name=""/>
          <p:cNvSpPr/>
          <p:nvPr/>
        </p:nvSpPr>
        <p:spPr>
          <a:xfrm>
            <a:off x="3429000" y="1351080"/>
            <a:ext cx="544680" cy="53316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
          <p:cNvSpPr/>
          <p:nvPr/>
        </p:nvSpPr>
        <p:spPr>
          <a:xfrm>
            <a:off x="3048120" y="2133720"/>
            <a:ext cx="260496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4" name=""/>
          <p:cNvSpPr/>
          <p:nvPr/>
        </p:nvSpPr>
        <p:spPr>
          <a:xfrm>
            <a:off x="3957120" y="236232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eis</a:t>
            </a:r>
            <a:endParaRPr b="0" lang="en-US" sz="1600" spc="-1" strike="noStrike">
              <a:solidFill>
                <a:srgbClr val="000000"/>
              </a:solidFill>
              <a:latin typeface="Arial"/>
            </a:endParaRPr>
          </a:p>
        </p:txBody>
      </p:sp>
      <p:sp>
        <p:nvSpPr>
          <p:cNvPr id="2835" name=""/>
          <p:cNvSpPr/>
          <p:nvPr/>
        </p:nvSpPr>
        <p:spPr>
          <a:xfrm>
            <a:off x="3809880" y="2286000"/>
            <a:ext cx="693720" cy="533520"/>
          </a:xfrm>
          <a:custGeom>
            <a:avLst/>
            <a:gdLst/>
            <a:ahLst/>
            <a:rect l="l" t="t" r="r" b="b"/>
            <a:pathLst>
              <a:path w="2632" h="1676">
                <a:moveTo>
                  <a:pt x="21207" y="9609"/>
                </a:moveTo>
                <a:cubicBezTo>
                  <a:pt x="21196" y="9614"/>
                  <a:pt x="21129" y="9628"/>
                  <a:pt x="21119" y="9638"/>
                </a:cubicBezTo>
                <a:cubicBezTo>
                  <a:pt x="21094" y="9665"/>
                  <a:pt x="21088" y="9676"/>
                  <a:pt x="21058" y="9699"/>
                </a:cubicBezTo>
                <a:cubicBezTo>
                  <a:pt x="21033" y="9719"/>
                  <a:pt x="20949" y="9774"/>
                  <a:pt x="20938" y="9787"/>
                </a:cubicBezTo>
                <a:cubicBezTo>
                  <a:pt x="20918" y="9810"/>
                  <a:pt x="20897" y="9828"/>
                  <a:pt x="20879" y="9849"/>
                </a:cubicBezTo>
                <a:cubicBezTo>
                  <a:pt x="20864" y="9866"/>
                  <a:pt x="20797" y="9925"/>
                  <a:pt x="20788" y="9936"/>
                </a:cubicBezTo>
                <a:cubicBezTo>
                  <a:pt x="20764" y="9966"/>
                  <a:pt x="20787" y="10004"/>
                  <a:pt x="20759" y="10027"/>
                </a:cubicBezTo>
                <a:cubicBezTo>
                  <a:pt x="20738" y="10045"/>
                  <a:pt x="20718" y="10074"/>
                  <a:pt x="20700" y="10088"/>
                </a:cubicBezTo>
                <a:cubicBezTo>
                  <a:pt x="20677" y="10106"/>
                  <a:pt x="20659" y="10131"/>
                  <a:pt x="20639" y="10147"/>
                </a:cubicBezTo>
                <a:cubicBezTo>
                  <a:pt x="20609" y="10170"/>
                  <a:pt x="20593" y="10172"/>
                  <a:pt x="20551" y="10208"/>
                </a:cubicBezTo>
                <a:cubicBezTo>
                  <a:pt x="20519" y="10235"/>
                  <a:pt x="20490" y="10267"/>
                  <a:pt x="20460" y="10296"/>
                </a:cubicBezTo>
                <a:cubicBezTo>
                  <a:pt x="20493" y="10324"/>
                  <a:pt x="20535" y="10375"/>
                  <a:pt x="20551" y="10386"/>
                </a:cubicBezTo>
                <a:cubicBezTo>
                  <a:pt x="20580" y="10407"/>
                  <a:pt x="20620" y="10427"/>
                  <a:pt x="20639" y="10445"/>
                </a:cubicBezTo>
                <a:cubicBezTo>
                  <a:pt x="20679" y="10483"/>
                  <a:pt x="20710" y="10509"/>
                  <a:pt x="20730" y="10536"/>
                </a:cubicBezTo>
                <a:cubicBezTo>
                  <a:pt x="20758" y="10573"/>
                  <a:pt x="20767" y="10607"/>
                  <a:pt x="20788" y="10626"/>
                </a:cubicBezTo>
                <a:cubicBezTo>
                  <a:pt x="20805" y="10642"/>
                  <a:pt x="20864" y="10638"/>
                  <a:pt x="20879" y="10655"/>
                </a:cubicBezTo>
                <a:cubicBezTo>
                  <a:pt x="20905" y="10684"/>
                  <a:pt x="20906" y="10692"/>
                  <a:pt x="20938" y="10717"/>
                </a:cubicBezTo>
                <a:cubicBezTo>
                  <a:pt x="20950" y="10726"/>
                  <a:pt x="20984" y="10793"/>
                  <a:pt x="20999" y="10805"/>
                </a:cubicBezTo>
                <a:cubicBezTo>
                  <a:pt x="21025" y="10826"/>
                  <a:pt x="21036" y="10847"/>
                  <a:pt x="21058" y="10866"/>
                </a:cubicBezTo>
                <a:cubicBezTo>
                  <a:pt x="21078" y="10883"/>
                  <a:pt x="21101" y="10910"/>
                  <a:pt x="21119" y="10924"/>
                </a:cubicBezTo>
                <a:cubicBezTo>
                  <a:pt x="21144" y="10944"/>
                  <a:pt x="21157" y="10969"/>
                  <a:pt x="21178" y="10986"/>
                </a:cubicBezTo>
                <a:cubicBezTo>
                  <a:pt x="21200" y="11004"/>
                  <a:pt x="21253" y="11061"/>
                  <a:pt x="21269" y="11074"/>
                </a:cubicBezTo>
                <a:cubicBezTo>
                  <a:pt x="21301" y="11100"/>
                  <a:pt x="21305" y="11096"/>
                  <a:pt x="21327" y="11135"/>
                </a:cubicBezTo>
                <a:cubicBezTo>
                  <a:pt x="21342" y="11161"/>
                  <a:pt x="21346" y="11193"/>
                  <a:pt x="21386" y="11193"/>
                </a:cubicBezTo>
                <a:cubicBezTo>
                  <a:pt x="21432" y="11193"/>
                  <a:pt x="21456" y="11168"/>
                  <a:pt x="21506" y="11164"/>
                </a:cubicBezTo>
                <a:cubicBezTo>
                  <a:pt x="21556" y="11160"/>
                  <a:pt x="21577" y="11141"/>
                  <a:pt x="21626" y="11135"/>
                </a:cubicBezTo>
                <a:cubicBezTo>
                  <a:pt x="21676" y="11129"/>
                  <a:pt x="21738" y="11111"/>
                  <a:pt x="21776" y="11106"/>
                </a:cubicBezTo>
                <a:cubicBezTo>
                  <a:pt x="21874" y="11094"/>
                  <a:pt x="21992" y="11085"/>
                  <a:pt x="22074" y="11074"/>
                </a:cubicBezTo>
                <a:cubicBezTo>
                  <a:pt x="22246" y="11051"/>
                  <a:pt x="22523" y="11063"/>
                  <a:pt x="22643" y="11106"/>
                </a:cubicBezTo>
                <a:cubicBezTo>
                  <a:pt x="22678" y="11081"/>
                  <a:pt x="22683" y="11083"/>
                  <a:pt x="22705" y="11044"/>
                </a:cubicBezTo>
                <a:cubicBezTo>
                  <a:pt x="22725" y="11009"/>
                  <a:pt x="22712" y="10998"/>
                  <a:pt x="22734" y="10954"/>
                </a:cubicBezTo>
                <a:cubicBezTo>
                  <a:pt x="22739" y="10944"/>
                  <a:pt x="22777" y="10897"/>
                  <a:pt x="22792" y="10866"/>
                </a:cubicBezTo>
                <a:cubicBezTo>
                  <a:pt x="22812" y="10825"/>
                  <a:pt x="22808" y="10809"/>
                  <a:pt x="22822" y="10775"/>
                </a:cubicBezTo>
                <a:cubicBezTo>
                  <a:pt x="22838" y="10736"/>
                  <a:pt x="22838" y="10693"/>
                  <a:pt x="22854" y="10655"/>
                </a:cubicBezTo>
                <a:cubicBezTo>
                  <a:pt x="22869" y="10621"/>
                  <a:pt x="22863" y="10607"/>
                  <a:pt x="22883" y="10565"/>
                </a:cubicBezTo>
                <a:cubicBezTo>
                  <a:pt x="22906" y="10517"/>
                  <a:pt x="22919" y="10465"/>
                  <a:pt x="22942" y="10416"/>
                </a:cubicBezTo>
                <a:cubicBezTo>
                  <a:pt x="22958" y="10381"/>
                  <a:pt x="22950" y="10367"/>
                  <a:pt x="22971" y="10325"/>
                </a:cubicBezTo>
                <a:cubicBezTo>
                  <a:pt x="22990" y="10287"/>
                  <a:pt x="22982" y="10285"/>
                  <a:pt x="23003" y="10237"/>
                </a:cubicBezTo>
                <a:cubicBezTo>
                  <a:pt x="23017" y="10205"/>
                  <a:pt x="23057" y="10157"/>
                  <a:pt x="23062" y="10147"/>
                </a:cubicBezTo>
                <a:cubicBezTo>
                  <a:pt x="23083" y="10104"/>
                  <a:pt x="23074" y="10092"/>
                  <a:pt x="23091" y="10056"/>
                </a:cubicBezTo>
                <a:cubicBezTo>
                  <a:pt x="23036" y="10051"/>
                  <a:pt x="23025" y="10037"/>
                  <a:pt x="23003" y="10027"/>
                </a:cubicBezTo>
                <a:cubicBezTo>
                  <a:pt x="22958" y="10006"/>
                  <a:pt x="22949" y="10016"/>
                  <a:pt x="22913" y="9998"/>
                </a:cubicBezTo>
                <a:cubicBezTo>
                  <a:pt x="22879" y="9981"/>
                  <a:pt x="22864" y="9990"/>
                  <a:pt x="22822" y="9968"/>
                </a:cubicBezTo>
                <a:cubicBezTo>
                  <a:pt x="22785" y="9949"/>
                  <a:pt x="22785" y="9931"/>
                  <a:pt x="22734" y="9907"/>
                </a:cubicBezTo>
                <a:cubicBezTo>
                  <a:pt x="22696" y="9889"/>
                  <a:pt x="22660" y="9860"/>
                  <a:pt x="22643" y="9849"/>
                </a:cubicBezTo>
                <a:cubicBezTo>
                  <a:pt x="22611" y="9828"/>
                  <a:pt x="22600" y="9815"/>
                  <a:pt x="22552" y="9787"/>
                </a:cubicBezTo>
                <a:cubicBezTo>
                  <a:pt x="22539" y="9779"/>
                  <a:pt x="22475" y="9770"/>
                  <a:pt x="22464" y="9758"/>
                </a:cubicBezTo>
                <a:cubicBezTo>
                  <a:pt x="22444" y="9737"/>
                  <a:pt x="22422" y="9719"/>
                  <a:pt x="22403" y="9699"/>
                </a:cubicBezTo>
                <a:cubicBezTo>
                  <a:pt x="22387" y="9681"/>
                  <a:pt x="22357" y="9655"/>
                  <a:pt x="22344" y="9638"/>
                </a:cubicBezTo>
                <a:cubicBezTo>
                  <a:pt x="22317" y="9605"/>
                  <a:pt x="22324" y="9603"/>
                  <a:pt x="22286" y="9580"/>
                </a:cubicBezTo>
                <a:cubicBezTo>
                  <a:pt x="22245" y="9556"/>
                  <a:pt x="22230" y="9516"/>
                  <a:pt x="22195" y="9518"/>
                </a:cubicBezTo>
                <a:cubicBezTo>
                  <a:pt x="22129" y="9521"/>
                  <a:pt x="22154" y="9543"/>
                  <a:pt x="22104" y="9547"/>
                </a:cubicBezTo>
                <a:cubicBezTo>
                  <a:pt x="22036" y="9553"/>
                  <a:pt x="21917" y="9577"/>
                  <a:pt x="21896" y="9580"/>
                </a:cubicBezTo>
                <a:cubicBezTo>
                  <a:pt x="21809" y="9592"/>
                  <a:pt x="21700" y="9600"/>
                  <a:pt x="21626" y="9609"/>
                </a:cubicBezTo>
                <a:cubicBezTo>
                  <a:pt x="21509" y="9623"/>
                  <a:pt x="21229" y="9609"/>
                  <a:pt x="21207" y="9609"/>
                </a:cubicBezTo>
                <a:cubicBezTo>
                  <a:pt x="21217" y="9609"/>
                  <a:pt x="21226" y="9609"/>
                  <a:pt x="21236" y="960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6" name=""/>
          <p:cNvGrpSpPr/>
          <p:nvPr/>
        </p:nvGrpSpPr>
        <p:grpSpPr>
          <a:xfrm>
            <a:off x="3657600" y="2209680"/>
            <a:ext cx="968400" cy="301680"/>
            <a:chOff x="3657600" y="2209680"/>
            <a:chExt cx="968400" cy="301680"/>
          </a:xfrm>
        </p:grpSpPr>
        <p:sp>
          <p:nvSpPr>
            <p:cNvPr id="2837" name=""/>
            <p:cNvSpPr/>
            <p:nvPr/>
          </p:nvSpPr>
          <p:spPr>
            <a:xfrm>
              <a:off x="3657600" y="2282760"/>
              <a:ext cx="203040" cy="228600"/>
            </a:xfrm>
            <a:custGeom>
              <a:avLst/>
              <a:gdLst/>
              <a:ahLst/>
              <a:rect l="l" t="t" r="r" b="b"/>
              <a:pathLst>
                <a:path w="566" h="571">
                  <a:moveTo>
                    <a:pt x="10592" y="6858"/>
                  </a:moveTo>
                  <a:cubicBezTo>
                    <a:pt x="10536" y="6858"/>
                    <a:pt x="10524" y="6832"/>
                    <a:pt x="10475" y="6826"/>
                  </a:cubicBezTo>
                  <a:cubicBezTo>
                    <a:pt x="10434" y="6821"/>
                    <a:pt x="10424" y="6801"/>
                    <a:pt x="10413" y="6767"/>
                  </a:cubicBezTo>
                </a:path>
                <a:path w="566" h="571">
                  <a:moveTo>
                    <a:pt x="10293" y="6676"/>
                  </a:moveTo>
                  <a:cubicBezTo>
                    <a:pt x="10293" y="6666"/>
                    <a:pt x="10293" y="6657"/>
                    <a:pt x="10293" y="6647"/>
                  </a:cubicBezTo>
                  <a:cubicBezTo>
                    <a:pt x="10258" y="6638"/>
                    <a:pt x="10240" y="6627"/>
                    <a:pt x="10205" y="6618"/>
                  </a:cubicBezTo>
                  <a:cubicBezTo>
                    <a:pt x="10190" y="6567"/>
                    <a:pt x="10192" y="6605"/>
                    <a:pt x="10176" y="6557"/>
                  </a:cubicBezTo>
                </a:path>
                <a:path w="566" h="571">
                  <a:moveTo>
                    <a:pt x="10355" y="6466"/>
                  </a:moveTo>
                  <a:cubicBezTo>
                    <a:pt x="10384" y="6466"/>
                    <a:pt x="10394" y="6466"/>
                    <a:pt x="10413" y="6466"/>
                  </a:cubicBezTo>
                  <a:cubicBezTo>
                    <a:pt x="10426" y="6427"/>
                    <a:pt x="10434" y="6420"/>
                    <a:pt x="10475" y="6408"/>
                  </a:cubicBezTo>
                </a:path>
                <a:path w="566" h="571">
                  <a:moveTo>
                    <a:pt x="10654" y="6349"/>
                  </a:moveTo>
                  <a:cubicBezTo>
                    <a:pt x="10691" y="6296"/>
                    <a:pt x="10675" y="6288"/>
                    <a:pt x="10741" y="6288"/>
                  </a:cubicBezTo>
                </a:path>
              </a:pathLst>
            </a:custGeom>
            <a:noFill/>
            <a:ln cap="rnd"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8" name=""/>
            <p:cNvSpPr/>
            <p:nvPr/>
          </p:nvSpPr>
          <p:spPr>
            <a:xfrm>
              <a:off x="3946680" y="2244600"/>
              <a:ext cx="64800" cy="3240"/>
            </a:xfrm>
            <a:custGeom>
              <a:avLst/>
              <a:gdLst/>
              <a:ahLst/>
              <a:rect l="l" t="t" r="r" b="b"/>
              <a:pathLst>
                <a:path w="179" h="1">
                  <a:moveTo>
                    <a:pt x="10982" y="6197"/>
                  </a:moveTo>
                  <a:cubicBezTo>
                    <a:pt x="11041" y="6197"/>
                    <a:pt x="11101" y="6197"/>
                    <a:pt x="11160" y="6197"/>
                  </a:cubicBezTo>
                </a:path>
              </a:pathLst>
            </a:custGeom>
            <a:noFill/>
            <a:ln cap="rnd" w="28440">
              <a:solidFill>
                <a:srgbClr val="008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39" name=""/>
            <p:cNvSpPr/>
            <p:nvPr/>
          </p:nvSpPr>
          <p:spPr>
            <a:xfrm>
              <a:off x="4108320" y="2209680"/>
              <a:ext cx="65160" cy="12600"/>
            </a:xfrm>
            <a:custGeom>
              <a:avLst/>
              <a:gdLst/>
              <a:ahLst/>
              <a:rect l="l" t="t" r="r" b="b"/>
              <a:pathLst>
                <a:path w="180" h="31">
                  <a:moveTo>
                    <a:pt x="11430" y="6109"/>
                  </a:moveTo>
                  <a:cubicBezTo>
                    <a:pt x="11430" y="6119"/>
                    <a:pt x="11430" y="6129"/>
                    <a:pt x="11430" y="6139"/>
                  </a:cubicBezTo>
                  <a:cubicBezTo>
                    <a:pt x="11490" y="6139"/>
                    <a:pt x="11549" y="6139"/>
                    <a:pt x="11609" y="6139"/>
                  </a:cubicBezTo>
                </a:path>
              </a:pathLst>
            </a:custGeom>
            <a:noFill/>
            <a:ln cap="rnd" w="2844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0" name=""/>
            <p:cNvSpPr/>
            <p:nvPr/>
          </p:nvSpPr>
          <p:spPr>
            <a:xfrm>
              <a:off x="4270320" y="2209680"/>
              <a:ext cx="54000" cy="12600"/>
            </a:xfrm>
            <a:custGeom>
              <a:avLst/>
              <a:gdLst/>
              <a:ahLst/>
              <a:rect l="l" t="t" r="r" b="b"/>
              <a:pathLst>
                <a:path w="151" h="31">
                  <a:moveTo>
                    <a:pt x="11878" y="6109"/>
                  </a:moveTo>
                  <a:cubicBezTo>
                    <a:pt x="11918" y="6109"/>
                    <a:pt x="11958" y="6109"/>
                    <a:pt x="11998" y="6109"/>
                  </a:cubicBezTo>
                  <a:cubicBezTo>
                    <a:pt x="11998" y="6139"/>
                    <a:pt x="11998" y="6149"/>
                    <a:pt x="12028" y="6139"/>
                  </a:cubicBezTo>
                </a:path>
              </a:pathLst>
            </a:custGeom>
            <a:noFill/>
            <a:ln cap="rnd" w="2844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1" name=""/>
            <p:cNvSpPr/>
            <p:nvPr/>
          </p:nvSpPr>
          <p:spPr>
            <a:xfrm>
              <a:off x="4410000" y="2222280"/>
              <a:ext cx="216000" cy="241200"/>
            </a:xfrm>
            <a:custGeom>
              <a:avLst/>
              <a:gdLst/>
              <a:ahLst/>
              <a:rect l="l" t="t" r="r" b="b"/>
              <a:pathLst>
                <a:path w="599" h="600">
                  <a:moveTo>
                    <a:pt x="12268" y="6139"/>
                  </a:moveTo>
                  <a:cubicBezTo>
                    <a:pt x="12268" y="6149"/>
                    <a:pt x="12268" y="6158"/>
                    <a:pt x="12268" y="6168"/>
                  </a:cubicBezTo>
                  <a:cubicBezTo>
                    <a:pt x="12314" y="6183"/>
                    <a:pt x="12280" y="6182"/>
                    <a:pt x="12326" y="6197"/>
                  </a:cubicBezTo>
                  <a:cubicBezTo>
                    <a:pt x="12343" y="6246"/>
                    <a:pt x="12341" y="6212"/>
                    <a:pt x="12359" y="6258"/>
                  </a:cubicBezTo>
                  <a:cubicBezTo>
                    <a:pt x="12409" y="6258"/>
                    <a:pt x="12403" y="6246"/>
                    <a:pt x="12417" y="6288"/>
                  </a:cubicBezTo>
                  <a:cubicBezTo>
                    <a:pt x="12417" y="6258"/>
                    <a:pt x="12417" y="6249"/>
                    <a:pt x="12417" y="6229"/>
                  </a:cubicBezTo>
                </a:path>
                <a:path w="599" h="600">
                  <a:moveTo>
                    <a:pt x="12625" y="6408"/>
                  </a:moveTo>
                  <a:cubicBezTo>
                    <a:pt x="12636" y="6408"/>
                    <a:pt x="12647" y="6408"/>
                    <a:pt x="12658" y="6408"/>
                  </a:cubicBezTo>
                  <a:cubicBezTo>
                    <a:pt x="12672" y="6449"/>
                    <a:pt x="12666" y="6437"/>
                    <a:pt x="12716" y="6437"/>
                  </a:cubicBezTo>
                  <a:cubicBezTo>
                    <a:pt x="12716" y="6466"/>
                    <a:pt x="12716" y="6476"/>
                    <a:pt x="12745" y="6466"/>
                  </a:cubicBezTo>
                </a:path>
                <a:path w="599" h="600">
                  <a:moveTo>
                    <a:pt x="12866" y="6618"/>
                  </a:moveTo>
                  <a:cubicBezTo>
                    <a:pt x="12806" y="6618"/>
                    <a:pt x="12791" y="6618"/>
                    <a:pt x="12775" y="6676"/>
                  </a:cubicBezTo>
                  <a:cubicBezTo>
                    <a:pt x="12719" y="6695"/>
                    <a:pt x="12770" y="6718"/>
                    <a:pt x="12716" y="6738"/>
                  </a:cubicBezTo>
                </a:path>
              </a:pathLst>
            </a:custGeom>
            <a:noFill/>
            <a:ln cap="rnd"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2"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2843" name=""/>
          <p:cNvSpPr/>
          <p:nvPr/>
        </p:nvSpPr>
        <p:spPr>
          <a:xfrm>
            <a:off x="415800" y="59832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844"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2845"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2846"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2847"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2848" name=""/>
          <p:cNvGrpSpPr/>
          <p:nvPr/>
        </p:nvGrpSpPr>
        <p:grpSpPr>
          <a:xfrm>
            <a:off x="1554120" y="1012680"/>
            <a:ext cx="5052960" cy="4521240"/>
            <a:chOff x="1554120" y="1012680"/>
            <a:chExt cx="5052960" cy="4521240"/>
          </a:xfrm>
        </p:grpSpPr>
        <p:sp>
          <p:nvSpPr>
            <p:cNvPr id="2849"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2"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2853" name="Ink 5"/>
          <p:cNvSpPr/>
          <p:nvPr/>
        </p:nvSpPr>
        <p:spPr>
          <a:xfrm>
            <a:off x="133020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4" name="Group 14"/>
          <p:cNvGrpSpPr/>
          <p:nvPr/>
        </p:nvGrpSpPr>
        <p:grpSpPr>
          <a:xfrm>
            <a:off x="1254240" y="4000680"/>
            <a:ext cx="380520" cy="380880"/>
            <a:chOff x="1254240" y="4000680"/>
            <a:chExt cx="380520" cy="380880"/>
          </a:xfrm>
        </p:grpSpPr>
        <p:sp>
          <p:nvSpPr>
            <p:cNvPr id="2855" name="Ink 15"/>
            <p:cNvSpPr/>
            <p:nvPr/>
          </p:nvSpPr>
          <p:spPr>
            <a:xfrm>
              <a:off x="125424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6" name="Ink 16"/>
            <p:cNvSpPr/>
            <p:nvPr/>
          </p:nvSpPr>
          <p:spPr>
            <a:xfrm>
              <a:off x="130608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7" name=""/>
          <p:cNvSpPr/>
          <p:nvPr/>
        </p:nvSpPr>
        <p:spPr>
          <a:xfrm>
            <a:off x="133020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8"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2859" name="Ink 61"/>
          <p:cNvSpPr/>
          <p:nvPr/>
        </p:nvSpPr>
        <p:spPr>
          <a:xfrm>
            <a:off x="87300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0"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2861" name=""/>
          <p:cNvGrpSpPr/>
          <p:nvPr/>
        </p:nvGrpSpPr>
        <p:grpSpPr>
          <a:xfrm>
            <a:off x="1254240" y="1714680"/>
            <a:ext cx="532800" cy="457200"/>
            <a:chOff x="1254240" y="1714680"/>
            <a:chExt cx="532800" cy="457200"/>
          </a:xfrm>
        </p:grpSpPr>
        <p:sp>
          <p:nvSpPr>
            <p:cNvPr id="2862" name=""/>
            <p:cNvSpPr/>
            <p:nvPr/>
          </p:nvSpPr>
          <p:spPr>
            <a:xfrm>
              <a:off x="1467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3" name="Group 12"/>
            <p:cNvGrpSpPr/>
            <p:nvPr/>
          </p:nvGrpSpPr>
          <p:grpSpPr>
            <a:xfrm>
              <a:off x="1254240" y="1714680"/>
              <a:ext cx="532800" cy="457200"/>
              <a:chOff x="1254240" y="1714680"/>
              <a:chExt cx="532800" cy="457200"/>
            </a:xfrm>
          </p:grpSpPr>
          <p:sp>
            <p:nvSpPr>
              <p:cNvPr id="2864" name="Ink 13"/>
              <p:cNvSpPr/>
              <p:nvPr/>
            </p:nvSpPr>
            <p:spPr>
              <a:xfrm>
                <a:off x="125424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5" name="Ink 14"/>
              <p:cNvSpPr/>
              <p:nvPr/>
            </p:nvSpPr>
            <p:spPr>
              <a:xfrm>
                <a:off x="126720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66" name="Ink 15"/>
              <p:cNvSpPr/>
              <p:nvPr/>
            </p:nvSpPr>
            <p:spPr>
              <a:xfrm>
                <a:off x="177336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7" name="Ink 16"/>
              <p:cNvSpPr/>
              <p:nvPr/>
            </p:nvSpPr>
            <p:spPr>
              <a:xfrm>
                <a:off x="127980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2868" name=""/>
            <p:cNvSpPr/>
            <p:nvPr/>
          </p:nvSpPr>
          <p:spPr>
            <a:xfrm>
              <a:off x="162720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9" name=""/>
            <p:cNvSpPr/>
            <p:nvPr/>
          </p:nvSpPr>
          <p:spPr>
            <a:xfrm>
              <a:off x="1307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0" name=""/>
          <p:cNvGrpSpPr/>
          <p:nvPr/>
        </p:nvGrpSpPr>
        <p:grpSpPr>
          <a:xfrm>
            <a:off x="1635120" y="1333440"/>
            <a:ext cx="501120" cy="304920"/>
            <a:chOff x="1635120" y="1333440"/>
            <a:chExt cx="501120" cy="304920"/>
          </a:xfrm>
        </p:grpSpPr>
        <p:sp>
          <p:nvSpPr>
            <p:cNvPr id="2871" name=""/>
            <p:cNvSpPr/>
            <p:nvPr/>
          </p:nvSpPr>
          <p:spPr>
            <a:xfrm>
              <a:off x="18100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
            <p:cNvSpPr/>
            <p:nvPr/>
          </p:nvSpPr>
          <p:spPr>
            <a:xfrm>
              <a:off x="198540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3" name=""/>
            <p:cNvSpPr/>
            <p:nvPr/>
          </p:nvSpPr>
          <p:spPr>
            <a:xfrm>
              <a:off x="163512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4" name=""/>
          <p:cNvSpPr/>
          <p:nvPr/>
        </p:nvSpPr>
        <p:spPr>
          <a:xfrm>
            <a:off x="224460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
          <p:cNvSpPr/>
          <p:nvPr/>
        </p:nvSpPr>
        <p:spPr>
          <a:xfrm>
            <a:off x="415800" y="194328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76" name=""/>
          <p:cNvGrpSpPr/>
          <p:nvPr/>
        </p:nvGrpSpPr>
        <p:grpSpPr>
          <a:xfrm>
            <a:off x="4952880" y="380880"/>
            <a:ext cx="884160" cy="747720"/>
            <a:chOff x="4952880" y="380880"/>
            <a:chExt cx="884160" cy="747720"/>
          </a:xfrm>
        </p:grpSpPr>
        <p:sp>
          <p:nvSpPr>
            <p:cNvPr id="2877" name=""/>
            <p:cNvSpPr/>
            <p:nvPr/>
          </p:nvSpPr>
          <p:spPr>
            <a:xfrm>
              <a:off x="4952880" y="380880"/>
              <a:ext cx="873000" cy="70020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2879" name=""/>
            <p:cNvSpPr/>
            <p:nvPr/>
          </p:nvSpPr>
          <p:spPr>
            <a:xfrm>
              <a:off x="4988520" y="74520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2880" name=""/>
            <p:cNvSpPr/>
            <p:nvPr/>
          </p:nvSpPr>
          <p:spPr>
            <a:xfrm>
              <a:off x="5395680" y="7912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2881"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2882"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2883"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2884" name=""/>
          <p:cNvSpPr/>
          <p:nvPr/>
        </p:nvSpPr>
        <p:spPr>
          <a:xfrm>
            <a:off x="6095880" y="1468440"/>
            <a:ext cx="560520" cy="36684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5" name=""/>
          <p:cNvSpPr/>
          <p:nvPr/>
        </p:nvSpPr>
        <p:spPr>
          <a:xfrm>
            <a:off x="6477120" y="184932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6" name="Group 101"/>
          <p:cNvGrpSpPr/>
          <p:nvPr/>
        </p:nvGrpSpPr>
        <p:grpSpPr>
          <a:xfrm>
            <a:off x="6553080" y="2382840"/>
            <a:ext cx="304560" cy="518400"/>
            <a:chOff x="6553080" y="2382840"/>
            <a:chExt cx="304560" cy="518400"/>
          </a:xfrm>
        </p:grpSpPr>
        <p:grpSp>
          <p:nvGrpSpPr>
            <p:cNvPr id="2887" name="Group 79"/>
            <p:cNvGrpSpPr/>
            <p:nvPr/>
          </p:nvGrpSpPr>
          <p:grpSpPr>
            <a:xfrm>
              <a:off x="6553080" y="2382840"/>
              <a:ext cx="304560" cy="518400"/>
              <a:chOff x="6553080" y="2382840"/>
              <a:chExt cx="304560" cy="518400"/>
            </a:xfrm>
          </p:grpSpPr>
          <p:sp>
            <p:nvSpPr>
              <p:cNvPr id="2888" name="Ink 80"/>
              <p:cNvSpPr/>
              <p:nvPr/>
            </p:nvSpPr>
            <p:spPr>
              <a:xfrm>
                <a:off x="6558480" y="268452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Ink 81"/>
              <p:cNvSpPr/>
              <p:nvPr/>
            </p:nvSpPr>
            <p:spPr>
              <a:xfrm>
                <a:off x="6553080" y="258552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890" name="Ink 82"/>
              <p:cNvSpPr/>
              <p:nvPr/>
            </p:nvSpPr>
            <p:spPr>
              <a:xfrm>
                <a:off x="6741000" y="259956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1" name="Ink 83"/>
              <p:cNvSpPr/>
              <p:nvPr/>
            </p:nvSpPr>
            <p:spPr>
              <a:xfrm>
                <a:off x="6609240" y="284688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92" name="Ink 84"/>
              <p:cNvSpPr/>
              <p:nvPr/>
            </p:nvSpPr>
            <p:spPr>
              <a:xfrm>
                <a:off x="6757560" y="260028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Ink 85"/>
              <p:cNvSpPr/>
              <p:nvPr/>
            </p:nvSpPr>
            <p:spPr>
              <a:xfrm>
                <a:off x="6795360" y="259164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894" name="Ink 86"/>
              <p:cNvSpPr/>
              <p:nvPr/>
            </p:nvSpPr>
            <p:spPr>
              <a:xfrm>
                <a:off x="6772320" y="259668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5" name="Ink 87"/>
              <p:cNvSpPr/>
              <p:nvPr/>
            </p:nvSpPr>
            <p:spPr>
              <a:xfrm>
                <a:off x="6593760" y="238284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6" name="Ink 88"/>
              <p:cNvSpPr/>
              <p:nvPr/>
            </p:nvSpPr>
            <p:spPr>
              <a:xfrm>
                <a:off x="6615000" y="243216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7" name="Ink 89"/>
              <p:cNvSpPr/>
              <p:nvPr/>
            </p:nvSpPr>
            <p:spPr>
              <a:xfrm>
                <a:off x="6607440" y="266976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Ink 90"/>
              <p:cNvSpPr/>
              <p:nvPr/>
            </p:nvSpPr>
            <p:spPr>
              <a:xfrm>
                <a:off x="6590880" y="284616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99" name="Ink 91"/>
              <p:cNvSpPr/>
              <p:nvPr/>
            </p:nvSpPr>
            <p:spPr>
              <a:xfrm>
                <a:off x="6627960" y="286164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00" name="Ink 92"/>
              <p:cNvSpPr/>
              <p:nvPr/>
            </p:nvSpPr>
            <p:spPr>
              <a:xfrm>
                <a:off x="6753960" y="281340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01" name="Ink 93"/>
              <p:cNvSpPr/>
              <p:nvPr/>
            </p:nvSpPr>
            <p:spPr>
              <a:xfrm>
                <a:off x="6760440" y="260172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2" name="Ink 175"/>
            <p:cNvSpPr/>
            <p:nvPr/>
          </p:nvSpPr>
          <p:spPr>
            <a:xfrm>
              <a:off x="6607800" y="239616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3"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2904" name="Ink 28"/>
          <p:cNvSpPr/>
          <p:nvPr/>
        </p:nvSpPr>
        <p:spPr>
          <a:xfrm>
            <a:off x="6781680" y="352584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5" name="Group 14"/>
          <p:cNvGrpSpPr/>
          <p:nvPr/>
        </p:nvGrpSpPr>
        <p:grpSpPr>
          <a:xfrm>
            <a:off x="6629400" y="3962520"/>
            <a:ext cx="380520" cy="380880"/>
            <a:chOff x="6629400" y="3962520"/>
            <a:chExt cx="380520" cy="380880"/>
          </a:xfrm>
        </p:grpSpPr>
        <p:sp>
          <p:nvSpPr>
            <p:cNvPr id="2906"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8"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9" name=""/>
          <p:cNvSpPr/>
          <p:nvPr/>
        </p:nvSpPr>
        <p:spPr>
          <a:xfrm>
            <a:off x="6172200" y="63036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0"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2911"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2" name=""/>
          <p:cNvSpPr/>
          <p:nvPr/>
        </p:nvSpPr>
        <p:spPr>
          <a:xfrm>
            <a:off x="3429000" y="1371600"/>
            <a:ext cx="266760" cy="39672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3" name=""/>
          <p:cNvSpPr/>
          <p:nvPr/>
        </p:nvSpPr>
        <p:spPr>
          <a:xfrm>
            <a:off x="4648320" y="1697040"/>
            <a:ext cx="230040" cy="32400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4" name=""/>
          <p:cNvSpPr/>
          <p:nvPr/>
        </p:nvSpPr>
        <p:spPr>
          <a:xfrm>
            <a:off x="5181480" y="243216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5" name=""/>
          <p:cNvSpPr/>
          <p:nvPr/>
        </p:nvSpPr>
        <p:spPr>
          <a:xfrm>
            <a:off x="5105520" y="3745080"/>
            <a:ext cx="21888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6" name=""/>
          <p:cNvSpPr/>
          <p:nvPr/>
        </p:nvSpPr>
        <p:spPr>
          <a:xfrm>
            <a:off x="3962520" y="432288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7" name=""/>
          <p:cNvSpPr/>
          <p:nvPr/>
        </p:nvSpPr>
        <p:spPr>
          <a:xfrm>
            <a:off x="3009960" y="3865680"/>
            <a:ext cx="19980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8" name=""/>
          <p:cNvSpPr/>
          <p:nvPr/>
        </p:nvSpPr>
        <p:spPr>
          <a:xfrm>
            <a:off x="2781360" y="3009960"/>
            <a:ext cx="258840" cy="10008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
          <p:cNvSpPr/>
          <p:nvPr/>
        </p:nvSpPr>
        <p:spPr>
          <a:xfrm>
            <a:off x="3227400" y="2247840"/>
            <a:ext cx="290520" cy="16056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0" name=""/>
          <p:cNvGrpSpPr/>
          <p:nvPr/>
        </p:nvGrpSpPr>
        <p:grpSpPr>
          <a:xfrm>
            <a:off x="3429000" y="2514600"/>
            <a:ext cx="1599840" cy="1294920"/>
            <a:chOff x="3429000" y="2514600"/>
            <a:chExt cx="1599840" cy="1294920"/>
          </a:xfrm>
        </p:grpSpPr>
        <p:grpSp>
          <p:nvGrpSpPr>
            <p:cNvPr id="2921" name=""/>
            <p:cNvGrpSpPr/>
            <p:nvPr/>
          </p:nvGrpSpPr>
          <p:grpSpPr>
            <a:xfrm>
              <a:off x="3429000" y="2514600"/>
              <a:ext cx="1599840" cy="1294920"/>
              <a:chOff x="3429000" y="2514600"/>
              <a:chExt cx="1599840" cy="1294920"/>
            </a:xfrm>
          </p:grpSpPr>
          <p:sp>
            <p:nvSpPr>
              <p:cNvPr id="2922" name=""/>
              <p:cNvSpPr/>
              <p:nvPr/>
            </p:nvSpPr>
            <p:spPr>
              <a:xfrm>
                <a:off x="3429000" y="2607120"/>
                <a:ext cx="479880" cy="45432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3" name=""/>
              <p:cNvSpPr/>
              <p:nvPr/>
            </p:nvSpPr>
            <p:spPr>
              <a:xfrm>
                <a:off x="3668760" y="3162240"/>
                <a:ext cx="880200" cy="64728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4" name=""/>
              <p:cNvSpPr/>
              <p:nvPr/>
            </p:nvSpPr>
            <p:spPr>
              <a:xfrm>
                <a:off x="4388760" y="2514600"/>
                <a:ext cx="640080" cy="60516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
              <p:cNvSpPr/>
              <p:nvPr/>
            </p:nvSpPr>
            <p:spPr>
              <a:xfrm>
                <a:off x="3828960" y="2792160"/>
                <a:ext cx="621000" cy="475920"/>
              </a:xfrm>
              <a:custGeom>
                <a:avLst/>
                <a:gdLst/>
                <a:ahLst/>
                <a:rect l="l" t="t" r="r" b="b"/>
                <a:pathLst>
                  <a:path w="2278" h="1508">
                    <a:moveTo>
                      <a:pt x="15042" y="3209"/>
                    </a:moveTo>
                    <a:cubicBezTo>
                      <a:pt x="15018" y="3199"/>
                      <a:pt x="14996" y="3188"/>
                      <a:pt x="14971" y="3180"/>
                    </a:cubicBezTo>
                    <a:cubicBezTo>
                      <a:pt x="14931" y="3167"/>
                      <a:pt x="14890" y="3157"/>
                      <a:pt x="14849" y="3149"/>
                    </a:cubicBezTo>
                    <a:cubicBezTo>
                      <a:pt x="14626" y="3103"/>
                      <a:pt x="14373" y="3117"/>
                      <a:pt x="14149" y="3144"/>
                    </a:cubicBezTo>
                    <a:cubicBezTo>
                      <a:pt x="14036" y="3158"/>
                      <a:pt x="13917" y="3175"/>
                      <a:pt x="13810" y="3217"/>
                    </a:cubicBezTo>
                    <a:cubicBezTo>
                      <a:pt x="13749" y="3241"/>
                      <a:pt x="13654" y="3288"/>
                      <a:pt x="13667" y="3369"/>
                    </a:cubicBezTo>
                    <a:cubicBezTo>
                      <a:pt x="13678" y="3441"/>
                      <a:pt x="13763" y="3478"/>
                      <a:pt x="13820" y="3506"/>
                    </a:cubicBezTo>
                    <a:cubicBezTo>
                      <a:pt x="13995" y="3590"/>
                      <a:pt x="14195" y="3623"/>
                      <a:pt x="14386" y="3645"/>
                    </a:cubicBezTo>
                    <a:cubicBezTo>
                      <a:pt x="14648" y="3675"/>
                      <a:pt x="14911" y="3683"/>
                      <a:pt x="15173" y="3656"/>
                    </a:cubicBezTo>
                    <a:cubicBezTo>
                      <a:pt x="15330" y="3639"/>
                      <a:pt x="15493" y="3612"/>
                      <a:pt x="15635" y="3538"/>
                    </a:cubicBezTo>
                    <a:cubicBezTo>
                      <a:pt x="15691" y="3509"/>
                      <a:pt x="15784" y="3440"/>
                      <a:pt x="15744" y="3364"/>
                    </a:cubicBezTo>
                    <a:cubicBezTo>
                      <a:pt x="15699" y="3280"/>
                      <a:pt x="15551" y="3264"/>
                      <a:pt x="15472" y="3249"/>
                    </a:cubicBezTo>
                    <a:cubicBezTo>
                      <a:pt x="15355" y="3230"/>
                      <a:pt x="15316" y="3224"/>
                      <a:pt x="15236" y="3224"/>
                    </a:cubicBezTo>
                  </a:path>
                  <a:path w="2278" h="1508">
                    <a:moveTo>
                      <a:pt x="13558" y="3514"/>
                    </a:moveTo>
                    <a:cubicBezTo>
                      <a:pt x="13552" y="3544"/>
                      <a:pt x="13555" y="3575"/>
                      <a:pt x="13549" y="3605"/>
                    </a:cubicBezTo>
                    <a:cubicBezTo>
                      <a:pt x="13537" y="3666"/>
                      <a:pt x="13525" y="3726"/>
                      <a:pt x="13515" y="3788"/>
                    </a:cubicBezTo>
                    <a:cubicBezTo>
                      <a:pt x="13502" y="3868"/>
                      <a:pt x="13494" y="3944"/>
                      <a:pt x="13494" y="4025"/>
                    </a:cubicBezTo>
                    <a:cubicBezTo>
                      <a:pt x="13494" y="4092"/>
                      <a:pt x="13501" y="4158"/>
                      <a:pt x="13523" y="4221"/>
                    </a:cubicBezTo>
                    <a:cubicBezTo>
                      <a:pt x="13533" y="4248"/>
                      <a:pt x="13554" y="4310"/>
                      <a:pt x="13578" y="4329"/>
                    </a:cubicBezTo>
                    <a:cubicBezTo>
                      <a:pt x="13585" y="4332"/>
                      <a:pt x="13593" y="4335"/>
                      <a:pt x="13600" y="4338"/>
                    </a:cubicBezTo>
                  </a:path>
                  <a:path w="2278" h="1508">
                    <a:moveTo>
                      <a:pt x="13820" y="4480"/>
                    </a:moveTo>
                    <a:cubicBezTo>
                      <a:pt x="13853" y="4483"/>
                      <a:pt x="13872" y="4485"/>
                      <a:pt x="13904" y="4496"/>
                    </a:cubicBezTo>
                    <a:cubicBezTo>
                      <a:pt x="14081" y="4554"/>
                      <a:pt x="14250" y="4605"/>
                      <a:pt x="14437" y="4624"/>
                    </a:cubicBezTo>
                    <a:cubicBezTo>
                      <a:pt x="14604" y="4641"/>
                      <a:pt x="14770" y="4631"/>
                      <a:pt x="14936" y="4617"/>
                    </a:cubicBezTo>
                    <a:cubicBezTo>
                      <a:pt x="15157" y="4599"/>
                      <a:pt x="15393" y="4569"/>
                      <a:pt x="15603" y="4494"/>
                    </a:cubicBezTo>
                    <a:cubicBezTo>
                      <a:pt x="15664" y="4472"/>
                      <a:pt x="15733" y="4444"/>
                      <a:pt x="15771" y="4391"/>
                    </a:cubicBezTo>
                    <a:cubicBezTo>
                      <a:pt x="15771" y="4384"/>
                      <a:pt x="15771" y="4376"/>
                      <a:pt x="15771" y="4369"/>
                    </a:cubicBezTo>
                  </a:path>
                  <a:path w="2278" h="1508">
                    <a:moveTo>
                      <a:pt x="15750" y="3638"/>
                    </a:moveTo>
                    <a:cubicBezTo>
                      <a:pt x="15741" y="3656"/>
                      <a:pt x="15736" y="3685"/>
                      <a:pt x="15733" y="3706"/>
                    </a:cubicBezTo>
                    <a:cubicBezTo>
                      <a:pt x="15727" y="3756"/>
                      <a:pt x="15718" y="3805"/>
                      <a:pt x="15713" y="3856"/>
                    </a:cubicBezTo>
                    <a:cubicBezTo>
                      <a:pt x="15706" y="3931"/>
                      <a:pt x="15707" y="4008"/>
                      <a:pt x="15706" y="4084"/>
                    </a:cubicBezTo>
                    <a:cubicBezTo>
                      <a:pt x="15705" y="4158"/>
                      <a:pt x="15717" y="4231"/>
                      <a:pt x="15720" y="4305"/>
                    </a:cubicBezTo>
                    <a:cubicBezTo>
                      <a:pt x="15722" y="4348"/>
                      <a:pt x="15723" y="4387"/>
                      <a:pt x="15729" y="442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6" name=""/>
            <p:cNvSpPr/>
            <p:nvPr/>
          </p:nvSpPr>
          <p:spPr>
            <a:xfrm>
              <a:off x="3506760" y="2743200"/>
              <a:ext cx="2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X</a:t>
              </a:r>
              <a:endParaRPr b="0" lang="en-US" sz="1600" spc="-1" strike="noStrike">
                <a:solidFill>
                  <a:srgbClr val="000000"/>
                </a:solidFill>
                <a:latin typeface="Arial"/>
              </a:endParaRPr>
            </a:p>
          </p:txBody>
        </p:sp>
        <p:sp>
          <p:nvSpPr>
            <p:cNvPr id="2927"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p</a:t>
              </a:r>
              <a:endParaRPr b="0" lang="en-US" sz="1600" spc="-1" strike="noStrike">
                <a:solidFill>
                  <a:srgbClr val="000000"/>
                </a:solidFill>
                <a:latin typeface="Arial"/>
              </a:endParaRPr>
            </a:p>
          </p:txBody>
        </p:sp>
        <p:sp>
          <p:nvSpPr>
            <p:cNvPr id="2928"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Z</a:t>
              </a:r>
              <a:endParaRPr b="0" lang="en-US" sz="1600" spc="-1" strike="noStrike">
                <a:solidFill>
                  <a:srgbClr val="000000"/>
                </a:solidFill>
                <a:latin typeface="Arial"/>
              </a:endParaRPr>
            </a:p>
          </p:txBody>
        </p:sp>
        <p:sp>
          <p:nvSpPr>
            <p:cNvPr id="2929" name=""/>
            <p:cNvSpPr/>
            <p:nvPr/>
          </p:nvSpPr>
          <p:spPr>
            <a:xfrm>
              <a:off x="3980520" y="2895480"/>
              <a:ext cx="3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St</a:t>
              </a:r>
              <a:endParaRPr b="0" lang="en-US" sz="1600" spc="-1" strike="noStrike">
                <a:solidFill>
                  <a:srgbClr val="000000"/>
                </a:solidFill>
                <a:latin typeface="Arial"/>
              </a:endParaRPr>
            </a:p>
          </p:txBody>
        </p:sp>
      </p:grpSp>
      <p:sp>
        <p:nvSpPr>
          <p:cNvPr id="2930"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grpSp>
        <p:nvGrpSpPr>
          <p:cNvPr id="2931" name=""/>
          <p:cNvGrpSpPr/>
          <p:nvPr/>
        </p:nvGrpSpPr>
        <p:grpSpPr>
          <a:xfrm>
            <a:off x="3200400" y="2220840"/>
            <a:ext cx="2225160" cy="1985760"/>
            <a:chOff x="3200400" y="2220840"/>
            <a:chExt cx="2225160" cy="1985760"/>
          </a:xfrm>
        </p:grpSpPr>
        <p:sp>
          <p:nvSpPr>
            <p:cNvPr id="2932" name=""/>
            <p:cNvSpPr/>
            <p:nvPr/>
          </p:nvSpPr>
          <p:spPr>
            <a:xfrm>
              <a:off x="4805280" y="2220840"/>
              <a:ext cx="264600" cy="183960"/>
            </a:xfrm>
            <a:custGeom>
              <a:avLst/>
              <a:gdLst/>
              <a:ahLst/>
              <a:rect l="l" t="t" r="r" b="b"/>
              <a:pathLst>
                <a:path w="737" h="512">
                  <a:moveTo>
                    <a:pt x="21534" y="12356"/>
                  </a:moveTo>
                  <a:cubicBezTo>
                    <a:pt x="21564" y="12313"/>
                    <a:pt x="21582" y="12275"/>
                    <a:pt x="21603" y="12228"/>
                  </a:cubicBezTo>
                  <a:cubicBezTo>
                    <a:pt x="21608" y="12216"/>
                    <a:pt x="21614" y="12205"/>
                    <a:pt x="21619" y="12193"/>
                  </a:cubicBezTo>
                </a:path>
                <a:path w="737" h="512">
                  <a:moveTo>
                    <a:pt x="21788" y="12087"/>
                  </a:moveTo>
                  <a:cubicBezTo>
                    <a:pt x="21783" y="12044"/>
                    <a:pt x="21783" y="12010"/>
                    <a:pt x="21794" y="11968"/>
                  </a:cubicBezTo>
                  <a:cubicBezTo>
                    <a:pt x="21806" y="11922"/>
                    <a:pt x="21831" y="11884"/>
                    <a:pt x="21857" y="11845"/>
                  </a:cubicBezTo>
                </a:path>
                <a:path w="737" h="512">
                  <a:moveTo>
                    <a:pt x="22095" y="11972"/>
                  </a:moveTo>
                  <a:cubicBezTo>
                    <a:pt x="22104" y="12036"/>
                    <a:pt x="22139" y="12042"/>
                    <a:pt x="22180" y="12091"/>
                  </a:cubicBezTo>
                  <a:cubicBezTo>
                    <a:pt x="22213" y="12130"/>
                    <a:pt x="22244" y="12171"/>
                    <a:pt x="22270" y="1221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
            <p:cNvSpPr/>
            <p:nvPr/>
          </p:nvSpPr>
          <p:spPr>
            <a:xfrm>
              <a:off x="5109840" y="2427120"/>
              <a:ext cx="17280" cy="88920"/>
            </a:xfrm>
            <a:custGeom>
              <a:avLst/>
              <a:gdLst/>
              <a:ahLst/>
              <a:rect l="l" t="t" r="r" b="b"/>
              <a:pathLst>
                <a:path w="49" h="248">
                  <a:moveTo>
                    <a:pt x="22423" y="12418"/>
                  </a:moveTo>
                  <a:cubicBezTo>
                    <a:pt x="22393" y="12459"/>
                    <a:pt x="22377" y="12488"/>
                    <a:pt x="22381" y="12541"/>
                  </a:cubicBezTo>
                  <a:cubicBezTo>
                    <a:pt x="22384" y="12589"/>
                    <a:pt x="22406" y="12625"/>
                    <a:pt x="22429" y="12665"/>
                  </a:cubicBezTo>
                </a:path>
              </a:pathLst>
            </a:custGeom>
            <a:noFill/>
            <a:ln cap="rnd" w="38160">
              <a:solidFill>
                <a:srgbClr val="808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34" name=""/>
            <p:cNvSpPr/>
            <p:nvPr/>
          </p:nvSpPr>
          <p:spPr>
            <a:xfrm>
              <a:off x="5190840" y="2592000"/>
              <a:ext cx="44280" cy="90720"/>
            </a:xfrm>
            <a:custGeom>
              <a:avLst/>
              <a:gdLst/>
              <a:ahLst/>
              <a:rect l="l" t="t" r="r" b="b"/>
              <a:pathLst>
                <a:path w="123" h="253">
                  <a:moveTo>
                    <a:pt x="22619" y="12876"/>
                  </a:moveTo>
                  <a:cubicBezTo>
                    <a:pt x="22600" y="12926"/>
                    <a:pt x="22600" y="12952"/>
                    <a:pt x="22630" y="13000"/>
                  </a:cubicBezTo>
                  <a:cubicBezTo>
                    <a:pt x="22659" y="13046"/>
                    <a:pt x="22690" y="13087"/>
                    <a:pt x="22725" y="13128"/>
                  </a:cubicBezTo>
                </a:path>
              </a:pathLst>
            </a:custGeom>
            <a:noFill/>
            <a:ln cap="rnd" w="38160">
              <a:solidFill>
                <a:srgbClr val="808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935" name=""/>
            <p:cNvSpPr/>
            <p:nvPr/>
          </p:nvSpPr>
          <p:spPr>
            <a:xfrm>
              <a:off x="5298840" y="2761920"/>
              <a:ext cx="79200" cy="82800"/>
            </a:xfrm>
            <a:custGeom>
              <a:avLst/>
              <a:gdLst/>
              <a:ahLst/>
              <a:rect l="l" t="t" r="r" b="b"/>
              <a:pathLst>
                <a:path w="218" h="231">
                  <a:moveTo>
                    <a:pt x="22905" y="13348"/>
                  </a:moveTo>
                  <a:cubicBezTo>
                    <a:pt x="22964" y="13374"/>
                    <a:pt x="22995" y="13401"/>
                    <a:pt x="23032" y="13454"/>
                  </a:cubicBezTo>
                  <a:cubicBezTo>
                    <a:pt x="23062" y="13496"/>
                    <a:pt x="23089" y="13538"/>
                    <a:pt x="23122" y="13578"/>
                  </a:cubicBezTo>
                </a:path>
              </a:pathLst>
            </a:custGeom>
            <a:noFill/>
            <a:ln cap="rnd" w="3816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936" name=""/>
            <p:cNvSpPr/>
            <p:nvPr/>
          </p:nvSpPr>
          <p:spPr>
            <a:xfrm>
              <a:off x="5317920" y="2943000"/>
              <a:ext cx="107640" cy="112680"/>
            </a:xfrm>
            <a:custGeom>
              <a:avLst/>
              <a:gdLst/>
              <a:ahLst/>
              <a:rect l="l" t="t" r="r" b="b"/>
              <a:pathLst>
                <a:path w="297" h="314">
                  <a:moveTo>
                    <a:pt x="23191" y="13851"/>
                  </a:moveTo>
                  <a:cubicBezTo>
                    <a:pt x="23210" y="13894"/>
                    <a:pt x="23229" y="13935"/>
                    <a:pt x="23244" y="13979"/>
                  </a:cubicBezTo>
                  <a:cubicBezTo>
                    <a:pt x="23247" y="13989"/>
                    <a:pt x="23251" y="14000"/>
                    <a:pt x="23254" y="14010"/>
                  </a:cubicBezTo>
                </a:path>
                <a:path w="297" h="314">
                  <a:moveTo>
                    <a:pt x="22958" y="14164"/>
                  </a:moveTo>
                  <a:cubicBezTo>
                    <a:pt x="23006" y="14164"/>
                    <a:pt x="23053" y="14161"/>
                    <a:pt x="23101" y="1416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7" name=""/>
            <p:cNvSpPr/>
            <p:nvPr/>
          </p:nvSpPr>
          <p:spPr>
            <a:xfrm>
              <a:off x="3441600" y="2435040"/>
              <a:ext cx="1758600" cy="1730160"/>
            </a:xfrm>
            <a:custGeom>
              <a:avLst/>
              <a:gdLst/>
              <a:ahLst/>
              <a:rect l="l" t="t" r="r" b="b"/>
              <a:pathLst>
                <a:path w="4885" h="4807">
                  <a:moveTo>
                    <a:pt x="22556" y="14173"/>
                  </a:moveTo>
                  <a:cubicBezTo>
                    <a:pt x="22593" y="14177"/>
                    <a:pt x="22605" y="14178"/>
                    <a:pt x="22630" y="14177"/>
                  </a:cubicBezTo>
                </a:path>
                <a:path w="4885" h="4807">
                  <a:moveTo>
                    <a:pt x="21053" y="16281"/>
                  </a:moveTo>
                  <a:cubicBezTo>
                    <a:pt x="21075" y="16323"/>
                    <a:pt x="21099" y="16366"/>
                    <a:pt x="21127" y="16404"/>
                  </a:cubicBezTo>
                  <a:cubicBezTo>
                    <a:pt x="21136" y="16414"/>
                    <a:pt x="21144" y="16425"/>
                    <a:pt x="21153" y="16435"/>
                  </a:cubicBezTo>
                </a:path>
                <a:path w="4885" h="4807">
                  <a:moveTo>
                    <a:pt x="21513" y="16902"/>
                  </a:moveTo>
                  <a:cubicBezTo>
                    <a:pt x="21522" y="16915"/>
                    <a:pt x="21531" y="16929"/>
                    <a:pt x="21540" y="16942"/>
                  </a:cubicBezTo>
                </a:path>
                <a:path w="4885" h="4807">
                  <a:moveTo>
                    <a:pt x="17746" y="17149"/>
                  </a:moveTo>
                  <a:cubicBezTo>
                    <a:pt x="17760" y="17185"/>
                    <a:pt x="17765" y="17207"/>
                    <a:pt x="17767" y="17246"/>
                  </a:cubicBezTo>
                </a:path>
                <a:path w="4885" h="4807">
                  <a:moveTo>
                    <a:pt x="18190" y="12440"/>
                  </a:moveTo>
                  <a:cubicBezTo>
                    <a:pt x="18210" y="12472"/>
                    <a:pt x="18229" y="12504"/>
                    <a:pt x="18248" y="12537"/>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8" name=""/>
            <p:cNvSpPr/>
            <p:nvPr/>
          </p:nvSpPr>
          <p:spPr>
            <a:xfrm>
              <a:off x="3490560" y="3904920"/>
              <a:ext cx="1360440" cy="241560"/>
            </a:xfrm>
            <a:custGeom>
              <a:avLst/>
              <a:gdLst/>
              <a:ahLst/>
              <a:rect l="l" t="t" r="r" b="b"/>
              <a:pathLst>
                <a:path w="3779" h="672">
                  <a:moveTo>
                    <a:pt x="18063" y="16523"/>
                  </a:moveTo>
                  <a:cubicBezTo>
                    <a:pt x="18056" y="16556"/>
                    <a:pt x="18047" y="16587"/>
                    <a:pt x="18037" y="16620"/>
                  </a:cubicBezTo>
                </a:path>
                <a:path w="3779" h="672">
                  <a:moveTo>
                    <a:pt x="17957" y="16828"/>
                  </a:moveTo>
                  <a:cubicBezTo>
                    <a:pt x="17933" y="16863"/>
                    <a:pt x="17909" y="16896"/>
                    <a:pt x="17883" y="16929"/>
                  </a:cubicBezTo>
                </a:path>
                <a:path w="3779" h="672">
                  <a:moveTo>
                    <a:pt x="21513" y="17154"/>
                  </a:moveTo>
                  <a:cubicBezTo>
                    <a:pt x="21565" y="17177"/>
                    <a:pt x="21605" y="17191"/>
                    <a:pt x="21661" y="1719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9" name=""/>
            <p:cNvSpPr/>
            <p:nvPr/>
          </p:nvSpPr>
          <p:spPr>
            <a:xfrm>
              <a:off x="3527280" y="3776400"/>
              <a:ext cx="136080" cy="403200"/>
            </a:xfrm>
            <a:custGeom>
              <a:avLst/>
              <a:gdLst/>
              <a:ahLst/>
              <a:rect l="l" t="t" r="r" b="b"/>
              <a:pathLst>
                <a:path w="376" h="1121">
                  <a:moveTo>
                    <a:pt x="18359" y="16166"/>
                  </a:moveTo>
                  <a:cubicBezTo>
                    <a:pt x="18343" y="16209"/>
                    <a:pt x="18322" y="16249"/>
                    <a:pt x="18301" y="16290"/>
                  </a:cubicBezTo>
                </a:path>
                <a:path w="376" h="1121">
                  <a:moveTo>
                    <a:pt x="17984" y="17286"/>
                  </a:moveTo>
                  <a:cubicBezTo>
                    <a:pt x="18033" y="17264"/>
                    <a:pt x="18083" y="17243"/>
                    <a:pt x="18137" y="17233"/>
                  </a:cubicBezTo>
                  <a:cubicBezTo>
                    <a:pt x="18175" y="17229"/>
                    <a:pt x="18189" y="17227"/>
                    <a:pt x="18211" y="17211"/>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0" name=""/>
            <p:cNvSpPr/>
            <p:nvPr/>
          </p:nvSpPr>
          <p:spPr>
            <a:xfrm>
              <a:off x="3732120" y="4159080"/>
              <a:ext cx="313920" cy="31680"/>
            </a:xfrm>
            <a:custGeom>
              <a:avLst/>
              <a:gdLst/>
              <a:ahLst/>
              <a:rect l="l" t="t" r="r" b="b"/>
              <a:pathLst>
                <a:path w="874" h="89">
                  <a:moveTo>
                    <a:pt x="18550" y="17246"/>
                  </a:moveTo>
                  <a:cubicBezTo>
                    <a:pt x="18600" y="17263"/>
                    <a:pt x="18647" y="17280"/>
                    <a:pt x="18698" y="17291"/>
                  </a:cubicBezTo>
                  <a:cubicBezTo>
                    <a:pt x="18747" y="17302"/>
                    <a:pt x="18796" y="17299"/>
                    <a:pt x="18846" y="17299"/>
                  </a:cubicBezTo>
                </a:path>
                <a:path w="874" h="89">
                  <a:moveTo>
                    <a:pt x="19090" y="17229"/>
                  </a:moveTo>
                  <a:cubicBezTo>
                    <a:pt x="19138" y="17255"/>
                    <a:pt x="19181" y="17266"/>
                    <a:pt x="19233" y="17282"/>
                  </a:cubicBezTo>
                  <a:cubicBezTo>
                    <a:pt x="19284" y="17298"/>
                    <a:pt x="19333" y="17307"/>
                    <a:pt x="19386" y="17313"/>
                  </a:cubicBezTo>
                  <a:cubicBezTo>
                    <a:pt x="19398" y="17314"/>
                    <a:pt x="19411" y="17316"/>
                    <a:pt x="19423" y="17317"/>
                  </a:cubicBezTo>
                </a:path>
              </a:pathLst>
            </a:custGeom>
            <a:noFill/>
            <a:ln cap="rnd" w="38160">
              <a:solidFill>
                <a:srgbClr val="808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41" name=""/>
            <p:cNvSpPr/>
            <p:nvPr/>
          </p:nvSpPr>
          <p:spPr>
            <a:xfrm>
              <a:off x="4182840" y="4187520"/>
              <a:ext cx="109080" cy="19080"/>
            </a:xfrm>
            <a:custGeom>
              <a:avLst/>
              <a:gdLst/>
              <a:ahLst/>
              <a:rect l="l" t="t" r="r" b="b"/>
              <a:pathLst>
                <a:path w="303" h="54">
                  <a:moveTo>
                    <a:pt x="19804" y="17308"/>
                  </a:moveTo>
                  <a:cubicBezTo>
                    <a:pt x="19864" y="17340"/>
                    <a:pt x="19890" y="17329"/>
                    <a:pt x="19952" y="17339"/>
                  </a:cubicBezTo>
                  <a:cubicBezTo>
                    <a:pt x="20005" y="17347"/>
                    <a:pt x="20051" y="17360"/>
                    <a:pt x="20106" y="17361"/>
                  </a:cubicBezTo>
                </a:path>
              </a:pathLst>
            </a:custGeom>
            <a:noFill/>
            <a:ln cap="rnd" w="38160">
              <a:solidFill>
                <a:srgbClr val="808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42" name=""/>
            <p:cNvSpPr/>
            <p:nvPr/>
          </p:nvSpPr>
          <p:spPr>
            <a:xfrm>
              <a:off x="4406760" y="4151160"/>
              <a:ext cx="337680" cy="33120"/>
            </a:xfrm>
            <a:custGeom>
              <a:avLst/>
              <a:gdLst/>
              <a:ahLst/>
              <a:rect l="l" t="t" r="r" b="b"/>
              <a:pathLst>
                <a:path w="938" h="93">
                  <a:moveTo>
                    <a:pt x="20428" y="17233"/>
                  </a:moveTo>
                  <a:cubicBezTo>
                    <a:pt x="20481" y="17267"/>
                    <a:pt x="20523" y="17290"/>
                    <a:pt x="20587" y="17295"/>
                  </a:cubicBezTo>
                  <a:cubicBezTo>
                    <a:pt x="20637" y="17299"/>
                    <a:pt x="20685" y="17293"/>
                    <a:pt x="20735" y="17295"/>
                  </a:cubicBezTo>
                  <a:cubicBezTo>
                    <a:pt x="20747" y="17296"/>
                    <a:pt x="20760" y="17298"/>
                    <a:pt x="20772" y="17299"/>
                  </a:cubicBezTo>
                </a:path>
                <a:path w="938" h="93">
                  <a:moveTo>
                    <a:pt x="21063" y="17207"/>
                  </a:moveTo>
                  <a:cubicBezTo>
                    <a:pt x="21117" y="17234"/>
                    <a:pt x="21156" y="17253"/>
                    <a:pt x="21217" y="17255"/>
                  </a:cubicBezTo>
                  <a:cubicBezTo>
                    <a:pt x="21268" y="17256"/>
                    <a:pt x="21316" y="17256"/>
                    <a:pt x="21365" y="17264"/>
                  </a:cubicBezTo>
                </a:path>
              </a:pathLst>
            </a:custGeom>
            <a:noFill/>
            <a:ln cap="rnd" w="38160">
              <a:solidFill>
                <a:srgbClr val="808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43" name=""/>
            <p:cNvSpPr/>
            <p:nvPr/>
          </p:nvSpPr>
          <p:spPr>
            <a:xfrm>
              <a:off x="4716360" y="3927240"/>
              <a:ext cx="64800" cy="76320"/>
            </a:xfrm>
            <a:custGeom>
              <a:avLst/>
              <a:gdLst/>
              <a:ahLst/>
              <a:rect l="l" t="t" r="r" b="b"/>
              <a:pathLst>
                <a:path w="181" h="213">
                  <a:moveTo>
                    <a:pt x="21286" y="16585"/>
                  </a:moveTo>
                  <a:cubicBezTo>
                    <a:pt x="21335" y="16621"/>
                    <a:pt x="21379" y="16656"/>
                    <a:pt x="21413" y="16708"/>
                  </a:cubicBezTo>
                  <a:cubicBezTo>
                    <a:pt x="21431" y="16737"/>
                    <a:pt x="21448" y="16768"/>
                    <a:pt x="21466" y="16797"/>
                  </a:cubicBezTo>
                </a:path>
              </a:pathLst>
            </a:custGeom>
            <a:noFill/>
            <a:ln cap="rnd" w="38160">
              <a:solidFill>
                <a:srgbClr val="80808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944" name=""/>
            <p:cNvSpPr/>
            <p:nvPr/>
          </p:nvSpPr>
          <p:spPr>
            <a:xfrm>
              <a:off x="3528720" y="2339640"/>
              <a:ext cx="39600" cy="23760"/>
            </a:xfrm>
            <a:custGeom>
              <a:avLst/>
              <a:gdLst/>
              <a:ahLst/>
              <a:rect l="l" t="t" r="r" b="b"/>
              <a:pathLst>
                <a:path w="107" h="67">
                  <a:moveTo>
                    <a:pt x="17989" y="12175"/>
                  </a:moveTo>
                  <a:cubicBezTo>
                    <a:pt x="18033" y="12194"/>
                    <a:pt x="18060" y="12210"/>
                    <a:pt x="18095" y="12241"/>
                  </a:cubicBezTo>
                </a:path>
              </a:pathLst>
            </a:custGeom>
            <a:noFill/>
            <a:ln cap="rnd" w="38160">
              <a:solidFill>
                <a:srgbClr val="808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45" name=""/>
            <p:cNvSpPr/>
            <p:nvPr/>
          </p:nvSpPr>
          <p:spPr>
            <a:xfrm>
              <a:off x="3354120" y="2360520"/>
              <a:ext cx="320400" cy="293400"/>
            </a:xfrm>
            <a:custGeom>
              <a:avLst/>
              <a:gdLst/>
              <a:ahLst/>
              <a:rect l="l" t="t" r="r" b="b"/>
              <a:pathLst>
                <a:path w="890" h="816">
                  <a:moveTo>
                    <a:pt x="18391" y="12599"/>
                  </a:moveTo>
                  <a:cubicBezTo>
                    <a:pt x="18371" y="12646"/>
                    <a:pt x="18374" y="12680"/>
                    <a:pt x="18381" y="12731"/>
                  </a:cubicBezTo>
                </a:path>
                <a:path w="890" h="816">
                  <a:moveTo>
                    <a:pt x="17936" y="12233"/>
                  </a:moveTo>
                  <a:cubicBezTo>
                    <a:pt x="17927" y="12275"/>
                    <a:pt x="17916" y="12312"/>
                    <a:pt x="17915" y="12356"/>
                  </a:cubicBezTo>
                  <a:cubicBezTo>
                    <a:pt x="17915" y="12368"/>
                    <a:pt x="17915" y="12379"/>
                    <a:pt x="17915" y="12391"/>
                  </a:cubicBezTo>
                </a:path>
                <a:path w="890" h="816">
                  <a:moveTo>
                    <a:pt x="17836" y="12431"/>
                  </a:moveTo>
                  <a:cubicBezTo>
                    <a:pt x="17803" y="12470"/>
                    <a:pt x="17774" y="12508"/>
                    <a:pt x="17746" y="12550"/>
                  </a:cubicBezTo>
                  <a:cubicBezTo>
                    <a:pt x="17726" y="12581"/>
                    <a:pt x="17710" y="12610"/>
                    <a:pt x="17693" y="12643"/>
                  </a:cubicBezTo>
                </a:path>
                <a:path w="890" h="816">
                  <a:moveTo>
                    <a:pt x="17634" y="12837"/>
                  </a:moveTo>
                  <a:cubicBezTo>
                    <a:pt x="17589" y="12870"/>
                    <a:pt x="17558" y="12903"/>
                    <a:pt x="17534" y="12956"/>
                  </a:cubicBezTo>
                  <a:cubicBezTo>
                    <a:pt x="17521" y="12986"/>
                    <a:pt x="17513" y="13018"/>
                    <a:pt x="17502" y="1304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6" name=""/>
            <p:cNvSpPr/>
            <p:nvPr/>
          </p:nvSpPr>
          <p:spPr>
            <a:xfrm>
              <a:off x="3295440" y="2746080"/>
              <a:ext cx="31320" cy="44640"/>
            </a:xfrm>
            <a:custGeom>
              <a:avLst/>
              <a:gdLst/>
              <a:ahLst/>
              <a:rect l="l" t="t" r="r" b="b"/>
              <a:pathLst>
                <a:path w="91" h="125">
                  <a:moveTo>
                    <a:pt x="17428" y="13304"/>
                  </a:moveTo>
                  <a:cubicBezTo>
                    <a:pt x="17399" y="13347"/>
                    <a:pt x="17368" y="13387"/>
                    <a:pt x="17338" y="13428"/>
                  </a:cubicBezTo>
                </a:path>
              </a:pathLst>
            </a:custGeom>
            <a:noFill/>
            <a:ln cap="rnd" w="38160">
              <a:solidFill>
                <a:srgbClr val="80808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47" name=""/>
            <p:cNvSpPr/>
            <p:nvPr/>
          </p:nvSpPr>
          <p:spPr>
            <a:xfrm>
              <a:off x="3200400" y="2906640"/>
              <a:ext cx="236160" cy="152280"/>
            </a:xfrm>
            <a:custGeom>
              <a:avLst/>
              <a:gdLst/>
              <a:ahLst/>
              <a:rect l="l" t="t" r="r" b="b"/>
              <a:pathLst>
                <a:path w="657" h="424">
                  <a:moveTo>
                    <a:pt x="17174" y="13750"/>
                  </a:moveTo>
                  <a:cubicBezTo>
                    <a:pt x="17137" y="13790"/>
                    <a:pt x="17119" y="13822"/>
                    <a:pt x="17100" y="13873"/>
                  </a:cubicBezTo>
                  <a:cubicBezTo>
                    <a:pt x="17089" y="13904"/>
                    <a:pt x="17085" y="13915"/>
                    <a:pt x="17074" y="13935"/>
                  </a:cubicBezTo>
                </a:path>
                <a:path w="657" h="424">
                  <a:moveTo>
                    <a:pt x="17074" y="14173"/>
                  </a:moveTo>
                  <a:cubicBezTo>
                    <a:pt x="17122" y="14145"/>
                    <a:pt x="17174" y="14122"/>
                    <a:pt x="17232" y="14116"/>
                  </a:cubicBezTo>
                  <a:cubicBezTo>
                    <a:pt x="17268" y="14112"/>
                    <a:pt x="17307" y="14116"/>
                    <a:pt x="17343" y="14116"/>
                  </a:cubicBezTo>
                </a:path>
                <a:path w="657" h="424">
                  <a:moveTo>
                    <a:pt x="17470" y="14111"/>
                  </a:moveTo>
                  <a:cubicBezTo>
                    <a:pt x="17518" y="14113"/>
                    <a:pt x="17571" y="14113"/>
                    <a:pt x="17619" y="14120"/>
                  </a:cubicBezTo>
                  <a:cubicBezTo>
                    <a:pt x="17658" y="14126"/>
                    <a:pt x="17691" y="14136"/>
                    <a:pt x="17730" y="1413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8" name=""/>
          <p:cNvSpPr/>
          <p:nvPr/>
        </p:nvSpPr>
        <p:spPr>
          <a:xfrm>
            <a:off x="3048120" y="2144880"/>
            <a:ext cx="260496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9" name=""/>
          <p:cNvSpPr/>
          <p:nvPr/>
        </p:nvSpPr>
        <p:spPr>
          <a:xfrm>
            <a:off x="3429000" y="1371600"/>
            <a:ext cx="544680" cy="53352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0" name=""/>
          <p:cNvSpPr/>
          <p:nvPr/>
        </p:nvSpPr>
        <p:spPr>
          <a:xfrm>
            <a:off x="5029200" y="3048120"/>
            <a:ext cx="511200" cy="62532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1" name=""/>
          <p:cNvSpPr/>
          <p:nvPr/>
        </p:nvSpPr>
        <p:spPr>
          <a:xfrm>
            <a:off x="3957120" y="236232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eis</a:t>
            </a:r>
            <a:endParaRPr b="0" lang="en-US" sz="1600" spc="-1" strike="noStrike">
              <a:solidFill>
                <a:srgbClr val="000000"/>
              </a:solidFill>
              <a:latin typeface="Arial"/>
            </a:endParaRPr>
          </a:p>
        </p:txBody>
      </p:sp>
      <p:sp>
        <p:nvSpPr>
          <p:cNvPr id="2952" name=""/>
          <p:cNvSpPr/>
          <p:nvPr/>
        </p:nvSpPr>
        <p:spPr>
          <a:xfrm>
            <a:off x="3809880" y="2286000"/>
            <a:ext cx="693720" cy="533520"/>
          </a:xfrm>
          <a:custGeom>
            <a:avLst/>
            <a:gdLst/>
            <a:ahLst/>
            <a:rect l="l" t="t" r="r" b="b"/>
            <a:pathLst>
              <a:path w="2632" h="1676">
                <a:moveTo>
                  <a:pt x="21207" y="9609"/>
                </a:moveTo>
                <a:cubicBezTo>
                  <a:pt x="21196" y="9614"/>
                  <a:pt x="21129" y="9628"/>
                  <a:pt x="21119" y="9638"/>
                </a:cubicBezTo>
                <a:cubicBezTo>
                  <a:pt x="21094" y="9665"/>
                  <a:pt x="21088" y="9676"/>
                  <a:pt x="21058" y="9699"/>
                </a:cubicBezTo>
                <a:cubicBezTo>
                  <a:pt x="21033" y="9719"/>
                  <a:pt x="20949" y="9774"/>
                  <a:pt x="20938" y="9787"/>
                </a:cubicBezTo>
                <a:cubicBezTo>
                  <a:pt x="20918" y="9810"/>
                  <a:pt x="20897" y="9828"/>
                  <a:pt x="20879" y="9849"/>
                </a:cubicBezTo>
                <a:cubicBezTo>
                  <a:pt x="20864" y="9866"/>
                  <a:pt x="20797" y="9925"/>
                  <a:pt x="20788" y="9936"/>
                </a:cubicBezTo>
                <a:cubicBezTo>
                  <a:pt x="20764" y="9966"/>
                  <a:pt x="20787" y="10004"/>
                  <a:pt x="20759" y="10027"/>
                </a:cubicBezTo>
                <a:cubicBezTo>
                  <a:pt x="20738" y="10045"/>
                  <a:pt x="20718" y="10074"/>
                  <a:pt x="20700" y="10088"/>
                </a:cubicBezTo>
                <a:cubicBezTo>
                  <a:pt x="20677" y="10106"/>
                  <a:pt x="20659" y="10131"/>
                  <a:pt x="20639" y="10147"/>
                </a:cubicBezTo>
                <a:cubicBezTo>
                  <a:pt x="20609" y="10170"/>
                  <a:pt x="20593" y="10172"/>
                  <a:pt x="20551" y="10208"/>
                </a:cubicBezTo>
                <a:cubicBezTo>
                  <a:pt x="20519" y="10235"/>
                  <a:pt x="20490" y="10267"/>
                  <a:pt x="20460" y="10296"/>
                </a:cubicBezTo>
                <a:cubicBezTo>
                  <a:pt x="20493" y="10324"/>
                  <a:pt x="20535" y="10375"/>
                  <a:pt x="20551" y="10386"/>
                </a:cubicBezTo>
                <a:cubicBezTo>
                  <a:pt x="20580" y="10407"/>
                  <a:pt x="20620" y="10427"/>
                  <a:pt x="20639" y="10445"/>
                </a:cubicBezTo>
                <a:cubicBezTo>
                  <a:pt x="20679" y="10483"/>
                  <a:pt x="20710" y="10509"/>
                  <a:pt x="20730" y="10536"/>
                </a:cubicBezTo>
                <a:cubicBezTo>
                  <a:pt x="20758" y="10573"/>
                  <a:pt x="20767" y="10607"/>
                  <a:pt x="20788" y="10626"/>
                </a:cubicBezTo>
                <a:cubicBezTo>
                  <a:pt x="20805" y="10642"/>
                  <a:pt x="20864" y="10638"/>
                  <a:pt x="20879" y="10655"/>
                </a:cubicBezTo>
                <a:cubicBezTo>
                  <a:pt x="20905" y="10684"/>
                  <a:pt x="20906" y="10692"/>
                  <a:pt x="20938" y="10717"/>
                </a:cubicBezTo>
                <a:cubicBezTo>
                  <a:pt x="20950" y="10726"/>
                  <a:pt x="20984" y="10793"/>
                  <a:pt x="20999" y="10805"/>
                </a:cubicBezTo>
                <a:cubicBezTo>
                  <a:pt x="21025" y="10826"/>
                  <a:pt x="21036" y="10847"/>
                  <a:pt x="21058" y="10866"/>
                </a:cubicBezTo>
                <a:cubicBezTo>
                  <a:pt x="21078" y="10883"/>
                  <a:pt x="21101" y="10910"/>
                  <a:pt x="21119" y="10924"/>
                </a:cubicBezTo>
                <a:cubicBezTo>
                  <a:pt x="21144" y="10944"/>
                  <a:pt x="21157" y="10969"/>
                  <a:pt x="21178" y="10986"/>
                </a:cubicBezTo>
                <a:cubicBezTo>
                  <a:pt x="21200" y="11004"/>
                  <a:pt x="21253" y="11061"/>
                  <a:pt x="21269" y="11074"/>
                </a:cubicBezTo>
                <a:cubicBezTo>
                  <a:pt x="21301" y="11100"/>
                  <a:pt x="21305" y="11096"/>
                  <a:pt x="21327" y="11135"/>
                </a:cubicBezTo>
                <a:cubicBezTo>
                  <a:pt x="21342" y="11161"/>
                  <a:pt x="21346" y="11193"/>
                  <a:pt x="21386" y="11193"/>
                </a:cubicBezTo>
                <a:cubicBezTo>
                  <a:pt x="21432" y="11193"/>
                  <a:pt x="21456" y="11168"/>
                  <a:pt x="21506" y="11164"/>
                </a:cubicBezTo>
                <a:cubicBezTo>
                  <a:pt x="21556" y="11160"/>
                  <a:pt x="21577" y="11141"/>
                  <a:pt x="21626" y="11135"/>
                </a:cubicBezTo>
                <a:cubicBezTo>
                  <a:pt x="21676" y="11129"/>
                  <a:pt x="21738" y="11111"/>
                  <a:pt x="21776" y="11106"/>
                </a:cubicBezTo>
                <a:cubicBezTo>
                  <a:pt x="21874" y="11094"/>
                  <a:pt x="21992" y="11085"/>
                  <a:pt x="22074" y="11074"/>
                </a:cubicBezTo>
                <a:cubicBezTo>
                  <a:pt x="22246" y="11051"/>
                  <a:pt x="22523" y="11063"/>
                  <a:pt x="22643" y="11106"/>
                </a:cubicBezTo>
                <a:cubicBezTo>
                  <a:pt x="22678" y="11081"/>
                  <a:pt x="22683" y="11083"/>
                  <a:pt x="22705" y="11044"/>
                </a:cubicBezTo>
                <a:cubicBezTo>
                  <a:pt x="22725" y="11009"/>
                  <a:pt x="22712" y="10998"/>
                  <a:pt x="22734" y="10954"/>
                </a:cubicBezTo>
                <a:cubicBezTo>
                  <a:pt x="22739" y="10944"/>
                  <a:pt x="22777" y="10897"/>
                  <a:pt x="22792" y="10866"/>
                </a:cubicBezTo>
                <a:cubicBezTo>
                  <a:pt x="22812" y="10825"/>
                  <a:pt x="22808" y="10809"/>
                  <a:pt x="22822" y="10775"/>
                </a:cubicBezTo>
                <a:cubicBezTo>
                  <a:pt x="22838" y="10736"/>
                  <a:pt x="22838" y="10693"/>
                  <a:pt x="22854" y="10655"/>
                </a:cubicBezTo>
                <a:cubicBezTo>
                  <a:pt x="22869" y="10621"/>
                  <a:pt x="22863" y="10607"/>
                  <a:pt x="22883" y="10565"/>
                </a:cubicBezTo>
                <a:cubicBezTo>
                  <a:pt x="22906" y="10517"/>
                  <a:pt x="22919" y="10465"/>
                  <a:pt x="22942" y="10416"/>
                </a:cubicBezTo>
                <a:cubicBezTo>
                  <a:pt x="22958" y="10381"/>
                  <a:pt x="22950" y="10367"/>
                  <a:pt x="22971" y="10325"/>
                </a:cubicBezTo>
                <a:cubicBezTo>
                  <a:pt x="22990" y="10287"/>
                  <a:pt x="22982" y="10285"/>
                  <a:pt x="23003" y="10237"/>
                </a:cubicBezTo>
                <a:cubicBezTo>
                  <a:pt x="23017" y="10205"/>
                  <a:pt x="23057" y="10157"/>
                  <a:pt x="23062" y="10147"/>
                </a:cubicBezTo>
                <a:cubicBezTo>
                  <a:pt x="23083" y="10104"/>
                  <a:pt x="23074" y="10092"/>
                  <a:pt x="23091" y="10056"/>
                </a:cubicBezTo>
                <a:cubicBezTo>
                  <a:pt x="23036" y="10051"/>
                  <a:pt x="23025" y="10037"/>
                  <a:pt x="23003" y="10027"/>
                </a:cubicBezTo>
                <a:cubicBezTo>
                  <a:pt x="22958" y="10006"/>
                  <a:pt x="22949" y="10016"/>
                  <a:pt x="22913" y="9998"/>
                </a:cubicBezTo>
                <a:cubicBezTo>
                  <a:pt x="22879" y="9981"/>
                  <a:pt x="22864" y="9990"/>
                  <a:pt x="22822" y="9968"/>
                </a:cubicBezTo>
                <a:cubicBezTo>
                  <a:pt x="22785" y="9949"/>
                  <a:pt x="22785" y="9931"/>
                  <a:pt x="22734" y="9907"/>
                </a:cubicBezTo>
                <a:cubicBezTo>
                  <a:pt x="22696" y="9889"/>
                  <a:pt x="22660" y="9860"/>
                  <a:pt x="22643" y="9849"/>
                </a:cubicBezTo>
                <a:cubicBezTo>
                  <a:pt x="22611" y="9828"/>
                  <a:pt x="22600" y="9815"/>
                  <a:pt x="22552" y="9787"/>
                </a:cubicBezTo>
                <a:cubicBezTo>
                  <a:pt x="22539" y="9779"/>
                  <a:pt x="22475" y="9770"/>
                  <a:pt x="22464" y="9758"/>
                </a:cubicBezTo>
                <a:cubicBezTo>
                  <a:pt x="22444" y="9737"/>
                  <a:pt x="22422" y="9719"/>
                  <a:pt x="22403" y="9699"/>
                </a:cubicBezTo>
                <a:cubicBezTo>
                  <a:pt x="22387" y="9681"/>
                  <a:pt x="22357" y="9655"/>
                  <a:pt x="22344" y="9638"/>
                </a:cubicBezTo>
                <a:cubicBezTo>
                  <a:pt x="22317" y="9605"/>
                  <a:pt x="22324" y="9603"/>
                  <a:pt x="22286" y="9580"/>
                </a:cubicBezTo>
                <a:cubicBezTo>
                  <a:pt x="22245" y="9556"/>
                  <a:pt x="22230" y="9516"/>
                  <a:pt x="22195" y="9518"/>
                </a:cubicBezTo>
                <a:cubicBezTo>
                  <a:pt x="22129" y="9521"/>
                  <a:pt x="22154" y="9543"/>
                  <a:pt x="22104" y="9547"/>
                </a:cubicBezTo>
                <a:cubicBezTo>
                  <a:pt x="22036" y="9553"/>
                  <a:pt x="21917" y="9577"/>
                  <a:pt x="21896" y="9580"/>
                </a:cubicBezTo>
                <a:cubicBezTo>
                  <a:pt x="21809" y="9592"/>
                  <a:pt x="21700" y="9600"/>
                  <a:pt x="21626" y="9609"/>
                </a:cubicBezTo>
                <a:cubicBezTo>
                  <a:pt x="21509" y="9623"/>
                  <a:pt x="21229" y="9609"/>
                  <a:pt x="21207" y="9609"/>
                </a:cubicBezTo>
                <a:cubicBezTo>
                  <a:pt x="21217" y="9609"/>
                  <a:pt x="21226" y="9609"/>
                  <a:pt x="21236" y="960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3" name=""/>
          <p:cNvGrpSpPr/>
          <p:nvPr/>
        </p:nvGrpSpPr>
        <p:grpSpPr>
          <a:xfrm>
            <a:off x="3657600" y="2209680"/>
            <a:ext cx="968400" cy="301680"/>
            <a:chOff x="3657600" y="2209680"/>
            <a:chExt cx="968400" cy="301680"/>
          </a:xfrm>
        </p:grpSpPr>
        <p:sp>
          <p:nvSpPr>
            <p:cNvPr id="2954" name=""/>
            <p:cNvSpPr/>
            <p:nvPr/>
          </p:nvSpPr>
          <p:spPr>
            <a:xfrm>
              <a:off x="3657600" y="2282760"/>
              <a:ext cx="203040" cy="228600"/>
            </a:xfrm>
            <a:custGeom>
              <a:avLst/>
              <a:gdLst/>
              <a:ahLst/>
              <a:rect l="l" t="t" r="r" b="b"/>
              <a:pathLst>
                <a:path w="566" h="571">
                  <a:moveTo>
                    <a:pt x="10592" y="6858"/>
                  </a:moveTo>
                  <a:cubicBezTo>
                    <a:pt x="10536" y="6858"/>
                    <a:pt x="10524" y="6832"/>
                    <a:pt x="10475" y="6826"/>
                  </a:cubicBezTo>
                  <a:cubicBezTo>
                    <a:pt x="10434" y="6821"/>
                    <a:pt x="10424" y="6801"/>
                    <a:pt x="10413" y="6767"/>
                  </a:cubicBezTo>
                </a:path>
                <a:path w="566" h="571">
                  <a:moveTo>
                    <a:pt x="10293" y="6676"/>
                  </a:moveTo>
                  <a:cubicBezTo>
                    <a:pt x="10293" y="6666"/>
                    <a:pt x="10293" y="6657"/>
                    <a:pt x="10293" y="6647"/>
                  </a:cubicBezTo>
                  <a:cubicBezTo>
                    <a:pt x="10258" y="6638"/>
                    <a:pt x="10240" y="6627"/>
                    <a:pt x="10205" y="6618"/>
                  </a:cubicBezTo>
                  <a:cubicBezTo>
                    <a:pt x="10190" y="6567"/>
                    <a:pt x="10192" y="6605"/>
                    <a:pt x="10176" y="6557"/>
                  </a:cubicBezTo>
                </a:path>
                <a:path w="566" h="571">
                  <a:moveTo>
                    <a:pt x="10355" y="6466"/>
                  </a:moveTo>
                  <a:cubicBezTo>
                    <a:pt x="10384" y="6466"/>
                    <a:pt x="10394" y="6466"/>
                    <a:pt x="10413" y="6466"/>
                  </a:cubicBezTo>
                  <a:cubicBezTo>
                    <a:pt x="10426" y="6427"/>
                    <a:pt x="10434" y="6420"/>
                    <a:pt x="10475" y="6408"/>
                  </a:cubicBezTo>
                </a:path>
                <a:path w="566" h="571">
                  <a:moveTo>
                    <a:pt x="10654" y="6349"/>
                  </a:moveTo>
                  <a:cubicBezTo>
                    <a:pt x="10691" y="6296"/>
                    <a:pt x="10675" y="6288"/>
                    <a:pt x="10741" y="62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5" name=""/>
            <p:cNvSpPr/>
            <p:nvPr/>
          </p:nvSpPr>
          <p:spPr>
            <a:xfrm>
              <a:off x="3946680" y="2244600"/>
              <a:ext cx="64800" cy="3240"/>
            </a:xfrm>
            <a:custGeom>
              <a:avLst/>
              <a:gdLst/>
              <a:ahLst/>
              <a:rect l="l" t="t" r="r" b="b"/>
              <a:pathLst>
                <a:path w="179" h="1">
                  <a:moveTo>
                    <a:pt x="10982" y="6197"/>
                  </a:moveTo>
                  <a:cubicBezTo>
                    <a:pt x="11041" y="6197"/>
                    <a:pt x="11101" y="6197"/>
                    <a:pt x="11160" y="6197"/>
                  </a:cubicBezTo>
                </a:path>
              </a:pathLst>
            </a:custGeom>
            <a:noFill/>
            <a:ln cap="rnd" w="28440">
              <a:solidFill>
                <a:srgbClr val="808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56" name=""/>
            <p:cNvSpPr/>
            <p:nvPr/>
          </p:nvSpPr>
          <p:spPr>
            <a:xfrm>
              <a:off x="4108320" y="2209680"/>
              <a:ext cx="65160" cy="12600"/>
            </a:xfrm>
            <a:custGeom>
              <a:avLst/>
              <a:gdLst/>
              <a:ahLst/>
              <a:rect l="l" t="t" r="r" b="b"/>
              <a:pathLst>
                <a:path w="180" h="31">
                  <a:moveTo>
                    <a:pt x="11430" y="6109"/>
                  </a:moveTo>
                  <a:cubicBezTo>
                    <a:pt x="11430" y="6119"/>
                    <a:pt x="11430" y="6129"/>
                    <a:pt x="11430" y="6139"/>
                  </a:cubicBezTo>
                  <a:cubicBezTo>
                    <a:pt x="11490" y="6139"/>
                    <a:pt x="11549" y="6139"/>
                    <a:pt x="11609"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57" name=""/>
            <p:cNvSpPr/>
            <p:nvPr/>
          </p:nvSpPr>
          <p:spPr>
            <a:xfrm>
              <a:off x="4270320" y="2209680"/>
              <a:ext cx="54000" cy="12600"/>
            </a:xfrm>
            <a:custGeom>
              <a:avLst/>
              <a:gdLst/>
              <a:ahLst/>
              <a:rect l="l" t="t" r="r" b="b"/>
              <a:pathLst>
                <a:path w="151" h="31">
                  <a:moveTo>
                    <a:pt x="11878" y="6109"/>
                  </a:moveTo>
                  <a:cubicBezTo>
                    <a:pt x="11918" y="6109"/>
                    <a:pt x="11958" y="6109"/>
                    <a:pt x="11998" y="6109"/>
                  </a:cubicBezTo>
                  <a:cubicBezTo>
                    <a:pt x="11998" y="6139"/>
                    <a:pt x="11998" y="6149"/>
                    <a:pt x="12028"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58" name=""/>
            <p:cNvSpPr/>
            <p:nvPr/>
          </p:nvSpPr>
          <p:spPr>
            <a:xfrm>
              <a:off x="4410000" y="2222280"/>
              <a:ext cx="216000" cy="241200"/>
            </a:xfrm>
            <a:custGeom>
              <a:avLst/>
              <a:gdLst/>
              <a:ahLst/>
              <a:rect l="l" t="t" r="r" b="b"/>
              <a:pathLst>
                <a:path w="599" h="600">
                  <a:moveTo>
                    <a:pt x="12268" y="6139"/>
                  </a:moveTo>
                  <a:cubicBezTo>
                    <a:pt x="12268" y="6149"/>
                    <a:pt x="12268" y="6158"/>
                    <a:pt x="12268" y="6168"/>
                  </a:cubicBezTo>
                  <a:cubicBezTo>
                    <a:pt x="12314" y="6183"/>
                    <a:pt x="12280" y="6182"/>
                    <a:pt x="12326" y="6197"/>
                  </a:cubicBezTo>
                  <a:cubicBezTo>
                    <a:pt x="12343" y="6246"/>
                    <a:pt x="12341" y="6212"/>
                    <a:pt x="12359" y="6258"/>
                  </a:cubicBezTo>
                  <a:cubicBezTo>
                    <a:pt x="12409" y="6258"/>
                    <a:pt x="12403" y="6246"/>
                    <a:pt x="12417" y="6288"/>
                  </a:cubicBezTo>
                  <a:cubicBezTo>
                    <a:pt x="12417" y="6258"/>
                    <a:pt x="12417" y="6249"/>
                    <a:pt x="12417" y="6229"/>
                  </a:cubicBezTo>
                </a:path>
                <a:path w="599" h="600">
                  <a:moveTo>
                    <a:pt x="12625" y="6408"/>
                  </a:moveTo>
                  <a:cubicBezTo>
                    <a:pt x="12636" y="6408"/>
                    <a:pt x="12647" y="6408"/>
                    <a:pt x="12658" y="6408"/>
                  </a:cubicBezTo>
                  <a:cubicBezTo>
                    <a:pt x="12672" y="6449"/>
                    <a:pt x="12666" y="6437"/>
                    <a:pt x="12716" y="6437"/>
                  </a:cubicBezTo>
                  <a:cubicBezTo>
                    <a:pt x="12716" y="6466"/>
                    <a:pt x="12716" y="6476"/>
                    <a:pt x="12745" y="6466"/>
                  </a:cubicBezTo>
                </a:path>
                <a:path w="599" h="600">
                  <a:moveTo>
                    <a:pt x="12866" y="6618"/>
                  </a:moveTo>
                  <a:cubicBezTo>
                    <a:pt x="12806" y="6618"/>
                    <a:pt x="12791" y="6618"/>
                    <a:pt x="12775" y="6676"/>
                  </a:cubicBezTo>
                  <a:cubicBezTo>
                    <a:pt x="12719" y="6695"/>
                    <a:pt x="12770" y="6718"/>
                    <a:pt x="12716" y="6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9"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2960" name=""/>
          <p:cNvSpPr/>
          <p:nvPr/>
        </p:nvSpPr>
        <p:spPr>
          <a:xfrm>
            <a:off x="415800" y="59832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61"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2962"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2963"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2964"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2965" name=""/>
          <p:cNvGrpSpPr/>
          <p:nvPr/>
        </p:nvGrpSpPr>
        <p:grpSpPr>
          <a:xfrm>
            <a:off x="1554120" y="1012680"/>
            <a:ext cx="5052960" cy="4521240"/>
            <a:chOff x="1554120" y="1012680"/>
            <a:chExt cx="5052960" cy="4521240"/>
          </a:xfrm>
        </p:grpSpPr>
        <p:sp>
          <p:nvSpPr>
            <p:cNvPr id="2966"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7"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8"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69"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2970" name="Ink 5"/>
          <p:cNvSpPr/>
          <p:nvPr/>
        </p:nvSpPr>
        <p:spPr>
          <a:xfrm>
            <a:off x="133020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1" name="Group 14"/>
          <p:cNvGrpSpPr/>
          <p:nvPr/>
        </p:nvGrpSpPr>
        <p:grpSpPr>
          <a:xfrm>
            <a:off x="1254240" y="4000680"/>
            <a:ext cx="380520" cy="380880"/>
            <a:chOff x="1254240" y="4000680"/>
            <a:chExt cx="380520" cy="380880"/>
          </a:xfrm>
        </p:grpSpPr>
        <p:sp>
          <p:nvSpPr>
            <p:cNvPr id="2972" name="Ink 15"/>
            <p:cNvSpPr/>
            <p:nvPr/>
          </p:nvSpPr>
          <p:spPr>
            <a:xfrm>
              <a:off x="125424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3" name="Ink 16"/>
            <p:cNvSpPr/>
            <p:nvPr/>
          </p:nvSpPr>
          <p:spPr>
            <a:xfrm>
              <a:off x="130608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4" name=""/>
          <p:cNvSpPr/>
          <p:nvPr/>
        </p:nvSpPr>
        <p:spPr>
          <a:xfrm>
            <a:off x="133020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5"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2976" name="Ink 61"/>
          <p:cNvSpPr/>
          <p:nvPr/>
        </p:nvSpPr>
        <p:spPr>
          <a:xfrm>
            <a:off x="87300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7"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2978" name=""/>
          <p:cNvGrpSpPr/>
          <p:nvPr/>
        </p:nvGrpSpPr>
        <p:grpSpPr>
          <a:xfrm>
            <a:off x="1254240" y="1714680"/>
            <a:ext cx="532800" cy="457200"/>
            <a:chOff x="1254240" y="1714680"/>
            <a:chExt cx="532800" cy="457200"/>
          </a:xfrm>
        </p:grpSpPr>
        <p:sp>
          <p:nvSpPr>
            <p:cNvPr id="2979" name=""/>
            <p:cNvSpPr/>
            <p:nvPr/>
          </p:nvSpPr>
          <p:spPr>
            <a:xfrm>
              <a:off x="1467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0" name="Group 12"/>
            <p:cNvGrpSpPr/>
            <p:nvPr/>
          </p:nvGrpSpPr>
          <p:grpSpPr>
            <a:xfrm>
              <a:off x="1254240" y="1714680"/>
              <a:ext cx="532800" cy="457200"/>
              <a:chOff x="1254240" y="1714680"/>
              <a:chExt cx="532800" cy="457200"/>
            </a:xfrm>
          </p:grpSpPr>
          <p:sp>
            <p:nvSpPr>
              <p:cNvPr id="2981" name="Ink 13"/>
              <p:cNvSpPr/>
              <p:nvPr/>
            </p:nvSpPr>
            <p:spPr>
              <a:xfrm>
                <a:off x="125424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2" name="Ink 14"/>
              <p:cNvSpPr/>
              <p:nvPr/>
            </p:nvSpPr>
            <p:spPr>
              <a:xfrm>
                <a:off x="126720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83" name="Ink 15"/>
              <p:cNvSpPr/>
              <p:nvPr/>
            </p:nvSpPr>
            <p:spPr>
              <a:xfrm>
                <a:off x="177336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4" name="Ink 16"/>
              <p:cNvSpPr/>
              <p:nvPr/>
            </p:nvSpPr>
            <p:spPr>
              <a:xfrm>
                <a:off x="127980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2985" name=""/>
            <p:cNvSpPr/>
            <p:nvPr/>
          </p:nvSpPr>
          <p:spPr>
            <a:xfrm>
              <a:off x="162720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6" name=""/>
            <p:cNvSpPr/>
            <p:nvPr/>
          </p:nvSpPr>
          <p:spPr>
            <a:xfrm>
              <a:off x="1307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87" name=""/>
          <p:cNvGrpSpPr/>
          <p:nvPr/>
        </p:nvGrpSpPr>
        <p:grpSpPr>
          <a:xfrm>
            <a:off x="1635120" y="1333440"/>
            <a:ext cx="501120" cy="304920"/>
            <a:chOff x="1635120" y="1333440"/>
            <a:chExt cx="501120" cy="304920"/>
          </a:xfrm>
        </p:grpSpPr>
        <p:sp>
          <p:nvSpPr>
            <p:cNvPr id="2988" name=""/>
            <p:cNvSpPr/>
            <p:nvPr/>
          </p:nvSpPr>
          <p:spPr>
            <a:xfrm>
              <a:off x="18100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9" name=""/>
            <p:cNvSpPr/>
            <p:nvPr/>
          </p:nvSpPr>
          <p:spPr>
            <a:xfrm>
              <a:off x="198540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0" name=""/>
            <p:cNvSpPr/>
            <p:nvPr/>
          </p:nvSpPr>
          <p:spPr>
            <a:xfrm>
              <a:off x="163512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1" name=""/>
          <p:cNvSpPr/>
          <p:nvPr/>
        </p:nvSpPr>
        <p:spPr>
          <a:xfrm>
            <a:off x="224460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2" name=""/>
          <p:cNvSpPr/>
          <p:nvPr/>
        </p:nvSpPr>
        <p:spPr>
          <a:xfrm>
            <a:off x="415800" y="194328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3" name=""/>
          <p:cNvGrpSpPr/>
          <p:nvPr/>
        </p:nvGrpSpPr>
        <p:grpSpPr>
          <a:xfrm>
            <a:off x="4952880" y="380880"/>
            <a:ext cx="884160" cy="747720"/>
            <a:chOff x="4952880" y="380880"/>
            <a:chExt cx="884160" cy="747720"/>
          </a:xfrm>
        </p:grpSpPr>
        <p:sp>
          <p:nvSpPr>
            <p:cNvPr id="2994" name=""/>
            <p:cNvSpPr/>
            <p:nvPr/>
          </p:nvSpPr>
          <p:spPr>
            <a:xfrm>
              <a:off x="4952880" y="380880"/>
              <a:ext cx="873000" cy="70020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5"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2996" name=""/>
            <p:cNvSpPr/>
            <p:nvPr/>
          </p:nvSpPr>
          <p:spPr>
            <a:xfrm>
              <a:off x="4988520" y="74520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2997" name=""/>
            <p:cNvSpPr/>
            <p:nvPr/>
          </p:nvSpPr>
          <p:spPr>
            <a:xfrm>
              <a:off x="5395680" y="7912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2998"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2999"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3000"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3001" name=""/>
          <p:cNvSpPr/>
          <p:nvPr/>
        </p:nvSpPr>
        <p:spPr>
          <a:xfrm>
            <a:off x="6095880" y="1468440"/>
            <a:ext cx="560520" cy="36684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2" name=""/>
          <p:cNvSpPr/>
          <p:nvPr/>
        </p:nvSpPr>
        <p:spPr>
          <a:xfrm>
            <a:off x="6477120" y="184932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03" name="Group 101"/>
          <p:cNvGrpSpPr/>
          <p:nvPr/>
        </p:nvGrpSpPr>
        <p:grpSpPr>
          <a:xfrm>
            <a:off x="6553080" y="2382840"/>
            <a:ext cx="304560" cy="518400"/>
            <a:chOff x="6553080" y="2382840"/>
            <a:chExt cx="304560" cy="518400"/>
          </a:xfrm>
        </p:grpSpPr>
        <p:grpSp>
          <p:nvGrpSpPr>
            <p:cNvPr id="3004" name="Group 79"/>
            <p:cNvGrpSpPr/>
            <p:nvPr/>
          </p:nvGrpSpPr>
          <p:grpSpPr>
            <a:xfrm>
              <a:off x="6553080" y="2382840"/>
              <a:ext cx="304560" cy="518400"/>
              <a:chOff x="6553080" y="2382840"/>
              <a:chExt cx="304560" cy="518400"/>
            </a:xfrm>
          </p:grpSpPr>
          <p:sp>
            <p:nvSpPr>
              <p:cNvPr id="3005" name="Ink 80"/>
              <p:cNvSpPr/>
              <p:nvPr/>
            </p:nvSpPr>
            <p:spPr>
              <a:xfrm>
                <a:off x="6558480" y="268452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6" name="Ink 81"/>
              <p:cNvSpPr/>
              <p:nvPr/>
            </p:nvSpPr>
            <p:spPr>
              <a:xfrm>
                <a:off x="6553080" y="258552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007" name="Ink 82"/>
              <p:cNvSpPr/>
              <p:nvPr/>
            </p:nvSpPr>
            <p:spPr>
              <a:xfrm>
                <a:off x="6741000" y="259956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8" name="Ink 83"/>
              <p:cNvSpPr/>
              <p:nvPr/>
            </p:nvSpPr>
            <p:spPr>
              <a:xfrm>
                <a:off x="6609240" y="284688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09" name="Ink 84"/>
              <p:cNvSpPr/>
              <p:nvPr/>
            </p:nvSpPr>
            <p:spPr>
              <a:xfrm>
                <a:off x="6757560" y="260028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0" name="Ink 85"/>
              <p:cNvSpPr/>
              <p:nvPr/>
            </p:nvSpPr>
            <p:spPr>
              <a:xfrm>
                <a:off x="6795360" y="259164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011" name="Ink 86"/>
              <p:cNvSpPr/>
              <p:nvPr/>
            </p:nvSpPr>
            <p:spPr>
              <a:xfrm>
                <a:off x="6772320" y="259668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2" name="Ink 87"/>
              <p:cNvSpPr/>
              <p:nvPr/>
            </p:nvSpPr>
            <p:spPr>
              <a:xfrm>
                <a:off x="6593760" y="238284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3" name="Ink 88"/>
              <p:cNvSpPr/>
              <p:nvPr/>
            </p:nvSpPr>
            <p:spPr>
              <a:xfrm>
                <a:off x="6615000" y="243216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4" name="Ink 89"/>
              <p:cNvSpPr/>
              <p:nvPr/>
            </p:nvSpPr>
            <p:spPr>
              <a:xfrm>
                <a:off x="6607440" y="266976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5" name="Ink 90"/>
              <p:cNvSpPr/>
              <p:nvPr/>
            </p:nvSpPr>
            <p:spPr>
              <a:xfrm>
                <a:off x="6590880" y="284616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16" name="Ink 91"/>
              <p:cNvSpPr/>
              <p:nvPr/>
            </p:nvSpPr>
            <p:spPr>
              <a:xfrm>
                <a:off x="6627960" y="286164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017" name="Ink 92"/>
              <p:cNvSpPr/>
              <p:nvPr/>
            </p:nvSpPr>
            <p:spPr>
              <a:xfrm>
                <a:off x="6753960" y="281340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18" name="Ink 93"/>
              <p:cNvSpPr/>
              <p:nvPr/>
            </p:nvSpPr>
            <p:spPr>
              <a:xfrm>
                <a:off x="6760440" y="260172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9" name="Ink 175"/>
            <p:cNvSpPr/>
            <p:nvPr/>
          </p:nvSpPr>
          <p:spPr>
            <a:xfrm>
              <a:off x="6607800" y="239616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0"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3021" name="Ink 28"/>
          <p:cNvSpPr/>
          <p:nvPr/>
        </p:nvSpPr>
        <p:spPr>
          <a:xfrm>
            <a:off x="6781680" y="352584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2" name="Group 14"/>
          <p:cNvGrpSpPr/>
          <p:nvPr/>
        </p:nvGrpSpPr>
        <p:grpSpPr>
          <a:xfrm>
            <a:off x="6629400" y="3962520"/>
            <a:ext cx="380520" cy="380880"/>
            <a:chOff x="6629400" y="3962520"/>
            <a:chExt cx="380520" cy="380880"/>
          </a:xfrm>
        </p:grpSpPr>
        <p:sp>
          <p:nvSpPr>
            <p:cNvPr id="3023"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4"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5"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6" name=""/>
          <p:cNvSpPr/>
          <p:nvPr/>
        </p:nvSpPr>
        <p:spPr>
          <a:xfrm>
            <a:off x="6172200" y="63036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7"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3028"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9" name=""/>
          <p:cNvSpPr/>
          <p:nvPr/>
        </p:nvSpPr>
        <p:spPr>
          <a:xfrm>
            <a:off x="3429000" y="1371600"/>
            <a:ext cx="266760" cy="39672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
          <p:cNvSpPr/>
          <p:nvPr/>
        </p:nvSpPr>
        <p:spPr>
          <a:xfrm>
            <a:off x="4648320" y="1697040"/>
            <a:ext cx="230040" cy="32400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1" name=""/>
          <p:cNvSpPr/>
          <p:nvPr/>
        </p:nvSpPr>
        <p:spPr>
          <a:xfrm>
            <a:off x="5181480" y="243216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
          <p:cNvSpPr/>
          <p:nvPr/>
        </p:nvSpPr>
        <p:spPr>
          <a:xfrm>
            <a:off x="5105520" y="3745080"/>
            <a:ext cx="21888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3" name=""/>
          <p:cNvSpPr/>
          <p:nvPr/>
        </p:nvSpPr>
        <p:spPr>
          <a:xfrm>
            <a:off x="3962520" y="432288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4" name=""/>
          <p:cNvSpPr/>
          <p:nvPr/>
        </p:nvSpPr>
        <p:spPr>
          <a:xfrm>
            <a:off x="3009960" y="3865680"/>
            <a:ext cx="19980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5" name=""/>
          <p:cNvSpPr/>
          <p:nvPr/>
        </p:nvSpPr>
        <p:spPr>
          <a:xfrm>
            <a:off x="2781360" y="3009960"/>
            <a:ext cx="258840" cy="10008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6" name=""/>
          <p:cNvSpPr/>
          <p:nvPr/>
        </p:nvSpPr>
        <p:spPr>
          <a:xfrm>
            <a:off x="3227400" y="2247840"/>
            <a:ext cx="290520" cy="16056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7" name=""/>
          <p:cNvGrpSpPr/>
          <p:nvPr/>
        </p:nvGrpSpPr>
        <p:grpSpPr>
          <a:xfrm>
            <a:off x="3429000" y="2514600"/>
            <a:ext cx="1599840" cy="1294920"/>
            <a:chOff x="3429000" y="2514600"/>
            <a:chExt cx="1599840" cy="1294920"/>
          </a:xfrm>
        </p:grpSpPr>
        <p:grpSp>
          <p:nvGrpSpPr>
            <p:cNvPr id="3038" name=""/>
            <p:cNvGrpSpPr/>
            <p:nvPr/>
          </p:nvGrpSpPr>
          <p:grpSpPr>
            <a:xfrm>
              <a:off x="3429000" y="2514600"/>
              <a:ext cx="1599840" cy="1294920"/>
              <a:chOff x="3429000" y="2514600"/>
              <a:chExt cx="1599840" cy="1294920"/>
            </a:xfrm>
          </p:grpSpPr>
          <p:sp>
            <p:nvSpPr>
              <p:cNvPr id="3039" name=""/>
              <p:cNvSpPr/>
              <p:nvPr/>
            </p:nvSpPr>
            <p:spPr>
              <a:xfrm>
                <a:off x="3429000" y="2607120"/>
                <a:ext cx="479880" cy="45432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0" name=""/>
              <p:cNvSpPr/>
              <p:nvPr/>
            </p:nvSpPr>
            <p:spPr>
              <a:xfrm>
                <a:off x="3668760" y="3162240"/>
                <a:ext cx="880200" cy="64728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1" name=""/>
              <p:cNvSpPr/>
              <p:nvPr/>
            </p:nvSpPr>
            <p:spPr>
              <a:xfrm>
                <a:off x="4388760" y="2514600"/>
                <a:ext cx="640080" cy="60516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2" name=""/>
              <p:cNvSpPr/>
              <p:nvPr/>
            </p:nvSpPr>
            <p:spPr>
              <a:xfrm>
                <a:off x="3828960" y="2792160"/>
                <a:ext cx="621000" cy="475920"/>
              </a:xfrm>
              <a:custGeom>
                <a:avLst/>
                <a:gdLst/>
                <a:ahLst/>
                <a:rect l="l" t="t" r="r" b="b"/>
                <a:pathLst>
                  <a:path w="2278" h="1508">
                    <a:moveTo>
                      <a:pt x="15042" y="3209"/>
                    </a:moveTo>
                    <a:cubicBezTo>
                      <a:pt x="15018" y="3199"/>
                      <a:pt x="14996" y="3188"/>
                      <a:pt x="14971" y="3180"/>
                    </a:cubicBezTo>
                    <a:cubicBezTo>
                      <a:pt x="14931" y="3167"/>
                      <a:pt x="14890" y="3157"/>
                      <a:pt x="14849" y="3149"/>
                    </a:cubicBezTo>
                    <a:cubicBezTo>
                      <a:pt x="14626" y="3103"/>
                      <a:pt x="14373" y="3117"/>
                      <a:pt x="14149" y="3144"/>
                    </a:cubicBezTo>
                    <a:cubicBezTo>
                      <a:pt x="14036" y="3158"/>
                      <a:pt x="13917" y="3175"/>
                      <a:pt x="13810" y="3217"/>
                    </a:cubicBezTo>
                    <a:cubicBezTo>
                      <a:pt x="13749" y="3241"/>
                      <a:pt x="13654" y="3288"/>
                      <a:pt x="13667" y="3369"/>
                    </a:cubicBezTo>
                    <a:cubicBezTo>
                      <a:pt x="13678" y="3441"/>
                      <a:pt x="13763" y="3478"/>
                      <a:pt x="13820" y="3506"/>
                    </a:cubicBezTo>
                    <a:cubicBezTo>
                      <a:pt x="13995" y="3590"/>
                      <a:pt x="14195" y="3623"/>
                      <a:pt x="14386" y="3645"/>
                    </a:cubicBezTo>
                    <a:cubicBezTo>
                      <a:pt x="14648" y="3675"/>
                      <a:pt x="14911" y="3683"/>
                      <a:pt x="15173" y="3656"/>
                    </a:cubicBezTo>
                    <a:cubicBezTo>
                      <a:pt x="15330" y="3639"/>
                      <a:pt x="15493" y="3612"/>
                      <a:pt x="15635" y="3538"/>
                    </a:cubicBezTo>
                    <a:cubicBezTo>
                      <a:pt x="15691" y="3509"/>
                      <a:pt x="15784" y="3440"/>
                      <a:pt x="15744" y="3364"/>
                    </a:cubicBezTo>
                    <a:cubicBezTo>
                      <a:pt x="15699" y="3280"/>
                      <a:pt x="15551" y="3264"/>
                      <a:pt x="15472" y="3249"/>
                    </a:cubicBezTo>
                    <a:cubicBezTo>
                      <a:pt x="15355" y="3230"/>
                      <a:pt x="15316" y="3224"/>
                      <a:pt x="15236" y="3224"/>
                    </a:cubicBezTo>
                  </a:path>
                  <a:path w="2278" h="1508">
                    <a:moveTo>
                      <a:pt x="13558" y="3514"/>
                    </a:moveTo>
                    <a:cubicBezTo>
                      <a:pt x="13552" y="3544"/>
                      <a:pt x="13555" y="3575"/>
                      <a:pt x="13549" y="3605"/>
                    </a:cubicBezTo>
                    <a:cubicBezTo>
                      <a:pt x="13537" y="3666"/>
                      <a:pt x="13525" y="3726"/>
                      <a:pt x="13515" y="3788"/>
                    </a:cubicBezTo>
                    <a:cubicBezTo>
                      <a:pt x="13502" y="3868"/>
                      <a:pt x="13494" y="3944"/>
                      <a:pt x="13494" y="4025"/>
                    </a:cubicBezTo>
                    <a:cubicBezTo>
                      <a:pt x="13494" y="4092"/>
                      <a:pt x="13501" y="4158"/>
                      <a:pt x="13523" y="4221"/>
                    </a:cubicBezTo>
                    <a:cubicBezTo>
                      <a:pt x="13533" y="4248"/>
                      <a:pt x="13554" y="4310"/>
                      <a:pt x="13578" y="4329"/>
                    </a:cubicBezTo>
                    <a:cubicBezTo>
                      <a:pt x="13585" y="4332"/>
                      <a:pt x="13593" y="4335"/>
                      <a:pt x="13600" y="4338"/>
                    </a:cubicBezTo>
                  </a:path>
                  <a:path w="2278" h="1508">
                    <a:moveTo>
                      <a:pt x="13820" y="4480"/>
                    </a:moveTo>
                    <a:cubicBezTo>
                      <a:pt x="13853" y="4483"/>
                      <a:pt x="13872" y="4485"/>
                      <a:pt x="13904" y="4496"/>
                    </a:cubicBezTo>
                    <a:cubicBezTo>
                      <a:pt x="14081" y="4554"/>
                      <a:pt x="14250" y="4605"/>
                      <a:pt x="14437" y="4624"/>
                    </a:cubicBezTo>
                    <a:cubicBezTo>
                      <a:pt x="14604" y="4641"/>
                      <a:pt x="14770" y="4631"/>
                      <a:pt x="14936" y="4617"/>
                    </a:cubicBezTo>
                    <a:cubicBezTo>
                      <a:pt x="15157" y="4599"/>
                      <a:pt x="15393" y="4569"/>
                      <a:pt x="15603" y="4494"/>
                    </a:cubicBezTo>
                    <a:cubicBezTo>
                      <a:pt x="15664" y="4472"/>
                      <a:pt x="15733" y="4444"/>
                      <a:pt x="15771" y="4391"/>
                    </a:cubicBezTo>
                    <a:cubicBezTo>
                      <a:pt x="15771" y="4384"/>
                      <a:pt x="15771" y="4376"/>
                      <a:pt x="15771" y="4369"/>
                    </a:cubicBezTo>
                  </a:path>
                  <a:path w="2278" h="1508">
                    <a:moveTo>
                      <a:pt x="15750" y="3638"/>
                    </a:moveTo>
                    <a:cubicBezTo>
                      <a:pt x="15741" y="3656"/>
                      <a:pt x="15736" y="3685"/>
                      <a:pt x="15733" y="3706"/>
                    </a:cubicBezTo>
                    <a:cubicBezTo>
                      <a:pt x="15727" y="3756"/>
                      <a:pt x="15718" y="3805"/>
                      <a:pt x="15713" y="3856"/>
                    </a:cubicBezTo>
                    <a:cubicBezTo>
                      <a:pt x="15706" y="3931"/>
                      <a:pt x="15707" y="4008"/>
                      <a:pt x="15706" y="4084"/>
                    </a:cubicBezTo>
                    <a:cubicBezTo>
                      <a:pt x="15705" y="4158"/>
                      <a:pt x="15717" y="4231"/>
                      <a:pt x="15720" y="4305"/>
                    </a:cubicBezTo>
                    <a:cubicBezTo>
                      <a:pt x="15722" y="4348"/>
                      <a:pt x="15723" y="4387"/>
                      <a:pt x="15729" y="442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43" name=""/>
            <p:cNvSpPr/>
            <p:nvPr/>
          </p:nvSpPr>
          <p:spPr>
            <a:xfrm>
              <a:off x="3506760" y="2743200"/>
              <a:ext cx="2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X</a:t>
              </a:r>
              <a:endParaRPr b="0" lang="en-US" sz="1600" spc="-1" strike="noStrike">
                <a:solidFill>
                  <a:srgbClr val="000000"/>
                </a:solidFill>
                <a:latin typeface="Arial"/>
              </a:endParaRPr>
            </a:p>
          </p:txBody>
        </p:sp>
        <p:sp>
          <p:nvSpPr>
            <p:cNvPr id="3044"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p</a:t>
              </a:r>
              <a:endParaRPr b="0" lang="en-US" sz="1600" spc="-1" strike="noStrike">
                <a:solidFill>
                  <a:srgbClr val="000000"/>
                </a:solidFill>
                <a:latin typeface="Arial"/>
              </a:endParaRPr>
            </a:p>
          </p:txBody>
        </p:sp>
        <p:sp>
          <p:nvSpPr>
            <p:cNvPr id="3045"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Z</a:t>
              </a:r>
              <a:endParaRPr b="0" lang="en-US" sz="1600" spc="-1" strike="noStrike">
                <a:solidFill>
                  <a:srgbClr val="000000"/>
                </a:solidFill>
                <a:latin typeface="Arial"/>
              </a:endParaRPr>
            </a:p>
          </p:txBody>
        </p:sp>
        <p:sp>
          <p:nvSpPr>
            <p:cNvPr id="3046" name=""/>
            <p:cNvSpPr/>
            <p:nvPr/>
          </p:nvSpPr>
          <p:spPr>
            <a:xfrm>
              <a:off x="3980520" y="2895480"/>
              <a:ext cx="3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St</a:t>
              </a:r>
              <a:endParaRPr b="0" lang="en-US" sz="1600" spc="-1" strike="noStrike">
                <a:solidFill>
                  <a:srgbClr val="000000"/>
                </a:solidFill>
                <a:latin typeface="Arial"/>
              </a:endParaRPr>
            </a:p>
          </p:txBody>
        </p:sp>
      </p:grpSp>
      <p:sp>
        <p:nvSpPr>
          <p:cNvPr id="3047"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grpSp>
        <p:nvGrpSpPr>
          <p:cNvPr id="3048" name=""/>
          <p:cNvGrpSpPr/>
          <p:nvPr/>
        </p:nvGrpSpPr>
        <p:grpSpPr>
          <a:xfrm>
            <a:off x="3200400" y="2220840"/>
            <a:ext cx="2225160" cy="1985760"/>
            <a:chOff x="3200400" y="2220840"/>
            <a:chExt cx="2225160" cy="1985760"/>
          </a:xfrm>
        </p:grpSpPr>
        <p:sp>
          <p:nvSpPr>
            <p:cNvPr id="3049" name=""/>
            <p:cNvSpPr/>
            <p:nvPr/>
          </p:nvSpPr>
          <p:spPr>
            <a:xfrm>
              <a:off x="4805280" y="2220840"/>
              <a:ext cx="264600" cy="183960"/>
            </a:xfrm>
            <a:custGeom>
              <a:avLst/>
              <a:gdLst/>
              <a:ahLst/>
              <a:rect l="l" t="t" r="r" b="b"/>
              <a:pathLst>
                <a:path w="737" h="512">
                  <a:moveTo>
                    <a:pt x="21534" y="12356"/>
                  </a:moveTo>
                  <a:cubicBezTo>
                    <a:pt x="21564" y="12313"/>
                    <a:pt x="21582" y="12275"/>
                    <a:pt x="21603" y="12228"/>
                  </a:cubicBezTo>
                  <a:cubicBezTo>
                    <a:pt x="21608" y="12216"/>
                    <a:pt x="21614" y="12205"/>
                    <a:pt x="21619" y="12193"/>
                  </a:cubicBezTo>
                </a:path>
                <a:path w="737" h="512">
                  <a:moveTo>
                    <a:pt x="21788" y="12087"/>
                  </a:moveTo>
                  <a:cubicBezTo>
                    <a:pt x="21783" y="12044"/>
                    <a:pt x="21783" y="12010"/>
                    <a:pt x="21794" y="11968"/>
                  </a:cubicBezTo>
                  <a:cubicBezTo>
                    <a:pt x="21806" y="11922"/>
                    <a:pt x="21831" y="11884"/>
                    <a:pt x="21857" y="11845"/>
                  </a:cubicBezTo>
                </a:path>
                <a:path w="737" h="512">
                  <a:moveTo>
                    <a:pt x="22095" y="11972"/>
                  </a:moveTo>
                  <a:cubicBezTo>
                    <a:pt x="22104" y="12036"/>
                    <a:pt x="22139" y="12042"/>
                    <a:pt x="22180" y="12091"/>
                  </a:cubicBezTo>
                  <a:cubicBezTo>
                    <a:pt x="22213" y="12130"/>
                    <a:pt x="22244" y="12171"/>
                    <a:pt x="22270" y="1221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0" name=""/>
            <p:cNvSpPr/>
            <p:nvPr/>
          </p:nvSpPr>
          <p:spPr>
            <a:xfrm>
              <a:off x="5109840" y="2427120"/>
              <a:ext cx="17280" cy="88920"/>
            </a:xfrm>
            <a:custGeom>
              <a:avLst/>
              <a:gdLst/>
              <a:ahLst/>
              <a:rect l="l" t="t" r="r" b="b"/>
              <a:pathLst>
                <a:path w="49" h="248">
                  <a:moveTo>
                    <a:pt x="22423" y="12418"/>
                  </a:moveTo>
                  <a:cubicBezTo>
                    <a:pt x="22393" y="12459"/>
                    <a:pt x="22377" y="12488"/>
                    <a:pt x="22381" y="12541"/>
                  </a:cubicBezTo>
                  <a:cubicBezTo>
                    <a:pt x="22384" y="12589"/>
                    <a:pt x="22406" y="12625"/>
                    <a:pt x="22429" y="12665"/>
                  </a:cubicBezTo>
                </a:path>
              </a:pathLst>
            </a:custGeom>
            <a:noFill/>
            <a:ln cap="rnd" w="38160">
              <a:solidFill>
                <a:srgbClr val="808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51" name=""/>
            <p:cNvSpPr/>
            <p:nvPr/>
          </p:nvSpPr>
          <p:spPr>
            <a:xfrm>
              <a:off x="5190840" y="2592000"/>
              <a:ext cx="44280" cy="90720"/>
            </a:xfrm>
            <a:custGeom>
              <a:avLst/>
              <a:gdLst/>
              <a:ahLst/>
              <a:rect l="l" t="t" r="r" b="b"/>
              <a:pathLst>
                <a:path w="123" h="253">
                  <a:moveTo>
                    <a:pt x="22619" y="12876"/>
                  </a:moveTo>
                  <a:cubicBezTo>
                    <a:pt x="22600" y="12926"/>
                    <a:pt x="22600" y="12952"/>
                    <a:pt x="22630" y="13000"/>
                  </a:cubicBezTo>
                  <a:cubicBezTo>
                    <a:pt x="22659" y="13046"/>
                    <a:pt x="22690" y="13087"/>
                    <a:pt x="22725" y="13128"/>
                  </a:cubicBezTo>
                </a:path>
              </a:pathLst>
            </a:custGeom>
            <a:noFill/>
            <a:ln cap="rnd" w="38160">
              <a:solidFill>
                <a:srgbClr val="808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52" name=""/>
            <p:cNvSpPr/>
            <p:nvPr/>
          </p:nvSpPr>
          <p:spPr>
            <a:xfrm>
              <a:off x="5298840" y="2761920"/>
              <a:ext cx="79200" cy="82800"/>
            </a:xfrm>
            <a:custGeom>
              <a:avLst/>
              <a:gdLst/>
              <a:ahLst/>
              <a:rect l="l" t="t" r="r" b="b"/>
              <a:pathLst>
                <a:path w="218" h="231">
                  <a:moveTo>
                    <a:pt x="22905" y="13348"/>
                  </a:moveTo>
                  <a:cubicBezTo>
                    <a:pt x="22964" y="13374"/>
                    <a:pt x="22995" y="13401"/>
                    <a:pt x="23032" y="13454"/>
                  </a:cubicBezTo>
                  <a:cubicBezTo>
                    <a:pt x="23062" y="13496"/>
                    <a:pt x="23089" y="13538"/>
                    <a:pt x="23122" y="13578"/>
                  </a:cubicBezTo>
                </a:path>
              </a:pathLst>
            </a:custGeom>
            <a:noFill/>
            <a:ln cap="rnd" w="3816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53" name=""/>
            <p:cNvSpPr/>
            <p:nvPr/>
          </p:nvSpPr>
          <p:spPr>
            <a:xfrm>
              <a:off x="5317920" y="2943000"/>
              <a:ext cx="107640" cy="112680"/>
            </a:xfrm>
            <a:custGeom>
              <a:avLst/>
              <a:gdLst/>
              <a:ahLst/>
              <a:rect l="l" t="t" r="r" b="b"/>
              <a:pathLst>
                <a:path w="297" h="314">
                  <a:moveTo>
                    <a:pt x="23191" y="13851"/>
                  </a:moveTo>
                  <a:cubicBezTo>
                    <a:pt x="23210" y="13894"/>
                    <a:pt x="23229" y="13935"/>
                    <a:pt x="23244" y="13979"/>
                  </a:cubicBezTo>
                  <a:cubicBezTo>
                    <a:pt x="23247" y="13989"/>
                    <a:pt x="23251" y="14000"/>
                    <a:pt x="23254" y="14010"/>
                  </a:cubicBezTo>
                </a:path>
                <a:path w="297" h="314">
                  <a:moveTo>
                    <a:pt x="22958" y="14164"/>
                  </a:moveTo>
                  <a:cubicBezTo>
                    <a:pt x="23006" y="14164"/>
                    <a:pt x="23053" y="14161"/>
                    <a:pt x="23101" y="1416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4" name=""/>
            <p:cNvSpPr/>
            <p:nvPr/>
          </p:nvSpPr>
          <p:spPr>
            <a:xfrm>
              <a:off x="3441600" y="2435040"/>
              <a:ext cx="1758600" cy="1730160"/>
            </a:xfrm>
            <a:custGeom>
              <a:avLst/>
              <a:gdLst/>
              <a:ahLst/>
              <a:rect l="l" t="t" r="r" b="b"/>
              <a:pathLst>
                <a:path w="4885" h="4807">
                  <a:moveTo>
                    <a:pt x="22556" y="14173"/>
                  </a:moveTo>
                  <a:cubicBezTo>
                    <a:pt x="22593" y="14177"/>
                    <a:pt x="22605" y="14178"/>
                    <a:pt x="22630" y="14177"/>
                  </a:cubicBezTo>
                </a:path>
                <a:path w="4885" h="4807">
                  <a:moveTo>
                    <a:pt x="21053" y="16281"/>
                  </a:moveTo>
                  <a:cubicBezTo>
                    <a:pt x="21075" y="16323"/>
                    <a:pt x="21099" y="16366"/>
                    <a:pt x="21127" y="16404"/>
                  </a:cubicBezTo>
                  <a:cubicBezTo>
                    <a:pt x="21136" y="16414"/>
                    <a:pt x="21144" y="16425"/>
                    <a:pt x="21153" y="16435"/>
                  </a:cubicBezTo>
                </a:path>
                <a:path w="4885" h="4807">
                  <a:moveTo>
                    <a:pt x="21513" y="16902"/>
                  </a:moveTo>
                  <a:cubicBezTo>
                    <a:pt x="21522" y="16915"/>
                    <a:pt x="21531" y="16929"/>
                    <a:pt x="21540" y="16942"/>
                  </a:cubicBezTo>
                </a:path>
                <a:path w="4885" h="4807">
                  <a:moveTo>
                    <a:pt x="17746" y="17149"/>
                  </a:moveTo>
                  <a:cubicBezTo>
                    <a:pt x="17760" y="17185"/>
                    <a:pt x="17765" y="17207"/>
                    <a:pt x="17767" y="17246"/>
                  </a:cubicBezTo>
                </a:path>
                <a:path w="4885" h="4807">
                  <a:moveTo>
                    <a:pt x="18190" y="12440"/>
                  </a:moveTo>
                  <a:cubicBezTo>
                    <a:pt x="18210" y="12472"/>
                    <a:pt x="18229" y="12504"/>
                    <a:pt x="18248" y="12537"/>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5" name=""/>
            <p:cNvSpPr/>
            <p:nvPr/>
          </p:nvSpPr>
          <p:spPr>
            <a:xfrm>
              <a:off x="3490560" y="3904920"/>
              <a:ext cx="1360440" cy="241560"/>
            </a:xfrm>
            <a:custGeom>
              <a:avLst/>
              <a:gdLst/>
              <a:ahLst/>
              <a:rect l="l" t="t" r="r" b="b"/>
              <a:pathLst>
                <a:path w="3779" h="672">
                  <a:moveTo>
                    <a:pt x="18063" y="16523"/>
                  </a:moveTo>
                  <a:cubicBezTo>
                    <a:pt x="18056" y="16556"/>
                    <a:pt x="18047" y="16587"/>
                    <a:pt x="18037" y="16620"/>
                  </a:cubicBezTo>
                </a:path>
                <a:path w="3779" h="672">
                  <a:moveTo>
                    <a:pt x="17957" y="16828"/>
                  </a:moveTo>
                  <a:cubicBezTo>
                    <a:pt x="17933" y="16863"/>
                    <a:pt x="17909" y="16896"/>
                    <a:pt x="17883" y="16929"/>
                  </a:cubicBezTo>
                </a:path>
                <a:path w="3779" h="672">
                  <a:moveTo>
                    <a:pt x="21513" y="17154"/>
                  </a:moveTo>
                  <a:cubicBezTo>
                    <a:pt x="21565" y="17177"/>
                    <a:pt x="21605" y="17191"/>
                    <a:pt x="21661" y="1719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6" name=""/>
            <p:cNvSpPr/>
            <p:nvPr/>
          </p:nvSpPr>
          <p:spPr>
            <a:xfrm>
              <a:off x="3527280" y="3776400"/>
              <a:ext cx="136080" cy="403200"/>
            </a:xfrm>
            <a:custGeom>
              <a:avLst/>
              <a:gdLst/>
              <a:ahLst/>
              <a:rect l="l" t="t" r="r" b="b"/>
              <a:pathLst>
                <a:path w="376" h="1121">
                  <a:moveTo>
                    <a:pt x="18359" y="16166"/>
                  </a:moveTo>
                  <a:cubicBezTo>
                    <a:pt x="18343" y="16209"/>
                    <a:pt x="18322" y="16249"/>
                    <a:pt x="18301" y="16290"/>
                  </a:cubicBezTo>
                </a:path>
                <a:path w="376" h="1121">
                  <a:moveTo>
                    <a:pt x="17984" y="17286"/>
                  </a:moveTo>
                  <a:cubicBezTo>
                    <a:pt x="18033" y="17264"/>
                    <a:pt x="18083" y="17243"/>
                    <a:pt x="18137" y="17233"/>
                  </a:cubicBezTo>
                  <a:cubicBezTo>
                    <a:pt x="18175" y="17229"/>
                    <a:pt x="18189" y="17227"/>
                    <a:pt x="18211" y="17211"/>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7" name=""/>
            <p:cNvSpPr/>
            <p:nvPr/>
          </p:nvSpPr>
          <p:spPr>
            <a:xfrm>
              <a:off x="3732120" y="4159080"/>
              <a:ext cx="313920" cy="31680"/>
            </a:xfrm>
            <a:custGeom>
              <a:avLst/>
              <a:gdLst/>
              <a:ahLst/>
              <a:rect l="l" t="t" r="r" b="b"/>
              <a:pathLst>
                <a:path w="874" h="89">
                  <a:moveTo>
                    <a:pt x="18550" y="17246"/>
                  </a:moveTo>
                  <a:cubicBezTo>
                    <a:pt x="18600" y="17263"/>
                    <a:pt x="18647" y="17280"/>
                    <a:pt x="18698" y="17291"/>
                  </a:cubicBezTo>
                  <a:cubicBezTo>
                    <a:pt x="18747" y="17302"/>
                    <a:pt x="18796" y="17299"/>
                    <a:pt x="18846" y="17299"/>
                  </a:cubicBezTo>
                </a:path>
                <a:path w="874" h="89">
                  <a:moveTo>
                    <a:pt x="19090" y="17229"/>
                  </a:moveTo>
                  <a:cubicBezTo>
                    <a:pt x="19138" y="17255"/>
                    <a:pt x="19181" y="17266"/>
                    <a:pt x="19233" y="17282"/>
                  </a:cubicBezTo>
                  <a:cubicBezTo>
                    <a:pt x="19284" y="17298"/>
                    <a:pt x="19333" y="17307"/>
                    <a:pt x="19386" y="17313"/>
                  </a:cubicBezTo>
                  <a:cubicBezTo>
                    <a:pt x="19398" y="17314"/>
                    <a:pt x="19411" y="17316"/>
                    <a:pt x="19423" y="17317"/>
                  </a:cubicBezTo>
                </a:path>
              </a:pathLst>
            </a:custGeom>
            <a:noFill/>
            <a:ln cap="rnd" w="38160">
              <a:solidFill>
                <a:srgbClr val="808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58" name=""/>
            <p:cNvSpPr/>
            <p:nvPr/>
          </p:nvSpPr>
          <p:spPr>
            <a:xfrm>
              <a:off x="4182840" y="4187520"/>
              <a:ext cx="109080" cy="19080"/>
            </a:xfrm>
            <a:custGeom>
              <a:avLst/>
              <a:gdLst/>
              <a:ahLst/>
              <a:rect l="l" t="t" r="r" b="b"/>
              <a:pathLst>
                <a:path w="303" h="54">
                  <a:moveTo>
                    <a:pt x="19804" y="17308"/>
                  </a:moveTo>
                  <a:cubicBezTo>
                    <a:pt x="19864" y="17340"/>
                    <a:pt x="19890" y="17329"/>
                    <a:pt x="19952" y="17339"/>
                  </a:cubicBezTo>
                  <a:cubicBezTo>
                    <a:pt x="20005" y="17347"/>
                    <a:pt x="20051" y="17360"/>
                    <a:pt x="20106" y="17361"/>
                  </a:cubicBezTo>
                </a:path>
              </a:pathLst>
            </a:custGeom>
            <a:noFill/>
            <a:ln cap="rnd" w="38160">
              <a:solidFill>
                <a:srgbClr val="808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59" name=""/>
            <p:cNvSpPr/>
            <p:nvPr/>
          </p:nvSpPr>
          <p:spPr>
            <a:xfrm>
              <a:off x="4406760" y="4151160"/>
              <a:ext cx="337680" cy="33120"/>
            </a:xfrm>
            <a:custGeom>
              <a:avLst/>
              <a:gdLst/>
              <a:ahLst/>
              <a:rect l="l" t="t" r="r" b="b"/>
              <a:pathLst>
                <a:path w="938" h="93">
                  <a:moveTo>
                    <a:pt x="20428" y="17233"/>
                  </a:moveTo>
                  <a:cubicBezTo>
                    <a:pt x="20481" y="17267"/>
                    <a:pt x="20523" y="17290"/>
                    <a:pt x="20587" y="17295"/>
                  </a:cubicBezTo>
                  <a:cubicBezTo>
                    <a:pt x="20637" y="17299"/>
                    <a:pt x="20685" y="17293"/>
                    <a:pt x="20735" y="17295"/>
                  </a:cubicBezTo>
                  <a:cubicBezTo>
                    <a:pt x="20747" y="17296"/>
                    <a:pt x="20760" y="17298"/>
                    <a:pt x="20772" y="17299"/>
                  </a:cubicBezTo>
                </a:path>
                <a:path w="938" h="93">
                  <a:moveTo>
                    <a:pt x="21063" y="17207"/>
                  </a:moveTo>
                  <a:cubicBezTo>
                    <a:pt x="21117" y="17234"/>
                    <a:pt x="21156" y="17253"/>
                    <a:pt x="21217" y="17255"/>
                  </a:cubicBezTo>
                  <a:cubicBezTo>
                    <a:pt x="21268" y="17256"/>
                    <a:pt x="21316" y="17256"/>
                    <a:pt x="21365" y="17264"/>
                  </a:cubicBezTo>
                </a:path>
              </a:pathLst>
            </a:custGeom>
            <a:noFill/>
            <a:ln cap="rnd" w="38160">
              <a:solidFill>
                <a:srgbClr val="808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60" name=""/>
            <p:cNvSpPr/>
            <p:nvPr/>
          </p:nvSpPr>
          <p:spPr>
            <a:xfrm>
              <a:off x="4716360" y="3927240"/>
              <a:ext cx="64800" cy="76320"/>
            </a:xfrm>
            <a:custGeom>
              <a:avLst/>
              <a:gdLst/>
              <a:ahLst/>
              <a:rect l="l" t="t" r="r" b="b"/>
              <a:pathLst>
                <a:path w="181" h="213">
                  <a:moveTo>
                    <a:pt x="21286" y="16585"/>
                  </a:moveTo>
                  <a:cubicBezTo>
                    <a:pt x="21335" y="16621"/>
                    <a:pt x="21379" y="16656"/>
                    <a:pt x="21413" y="16708"/>
                  </a:cubicBezTo>
                  <a:cubicBezTo>
                    <a:pt x="21431" y="16737"/>
                    <a:pt x="21448" y="16768"/>
                    <a:pt x="21466" y="16797"/>
                  </a:cubicBezTo>
                </a:path>
              </a:pathLst>
            </a:custGeom>
            <a:noFill/>
            <a:ln cap="rnd" w="38160">
              <a:solidFill>
                <a:srgbClr val="80808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61" name=""/>
            <p:cNvSpPr/>
            <p:nvPr/>
          </p:nvSpPr>
          <p:spPr>
            <a:xfrm>
              <a:off x="3528720" y="2339640"/>
              <a:ext cx="39600" cy="23760"/>
            </a:xfrm>
            <a:custGeom>
              <a:avLst/>
              <a:gdLst/>
              <a:ahLst/>
              <a:rect l="l" t="t" r="r" b="b"/>
              <a:pathLst>
                <a:path w="107" h="67">
                  <a:moveTo>
                    <a:pt x="17989" y="12175"/>
                  </a:moveTo>
                  <a:cubicBezTo>
                    <a:pt x="18033" y="12194"/>
                    <a:pt x="18060" y="12210"/>
                    <a:pt x="18095" y="12241"/>
                  </a:cubicBezTo>
                </a:path>
              </a:pathLst>
            </a:custGeom>
            <a:noFill/>
            <a:ln cap="rnd" w="38160">
              <a:solidFill>
                <a:srgbClr val="808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62" name=""/>
            <p:cNvSpPr/>
            <p:nvPr/>
          </p:nvSpPr>
          <p:spPr>
            <a:xfrm>
              <a:off x="3354120" y="2360520"/>
              <a:ext cx="320400" cy="293400"/>
            </a:xfrm>
            <a:custGeom>
              <a:avLst/>
              <a:gdLst/>
              <a:ahLst/>
              <a:rect l="l" t="t" r="r" b="b"/>
              <a:pathLst>
                <a:path w="890" h="816">
                  <a:moveTo>
                    <a:pt x="18391" y="12599"/>
                  </a:moveTo>
                  <a:cubicBezTo>
                    <a:pt x="18371" y="12646"/>
                    <a:pt x="18374" y="12680"/>
                    <a:pt x="18381" y="12731"/>
                  </a:cubicBezTo>
                </a:path>
                <a:path w="890" h="816">
                  <a:moveTo>
                    <a:pt x="17936" y="12233"/>
                  </a:moveTo>
                  <a:cubicBezTo>
                    <a:pt x="17927" y="12275"/>
                    <a:pt x="17916" y="12312"/>
                    <a:pt x="17915" y="12356"/>
                  </a:cubicBezTo>
                  <a:cubicBezTo>
                    <a:pt x="17915" y="12368"/>
                    <a:pt x="17915" y="12379"/>
                    <a:pt x="17915" y="12391"/>
                  </a:cubicBezTo>
                </a:path>
                <a:path w="890" h="816">
                  <a:moveTo>
                    <a:pt x="17836" y="12431"/>
                  </a:moveTo>
                  <a:cubicBezTo>
                    <a:pt x="17803" y="12470"/>
                    <a:pt x="17774" y="12508"/>
                    <a:pt x="17746" y="12550"/>
                  </a:cubicBezTo>
                  <a:cubicBezTo>
                    <a:pt x="17726" y="12581"/>
                    <a:pt x="17710" y="12610"/>
                    <a:pt x="17693" y="12643"/>
                  </a:cubicBezTo>
                </a:path>
                <a:path w="890" h="816">
                  <a:moveTo>
                    <a:pt x="17634" y="12837"/>
                  </a:moveTo>
                  <a:cubicBezTo>
                    <a:pt x="17589" y="12870"/>
                    <a:pt x="17558" y="12903"/>
                    <a:pt x="17534" y="12956"/>
                  </a:cubicBezTo>
                  <a:cubicBezTo>
                    <a:pt x="17521" y="12986"/>
                    <a:pt x="17513" y="13018"/>
                    <a:pt x="17502" y="1304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3" name=""/>
            <p:cNvSpPr/>
            <p:nvPr/>
          </p:nvSpPr>
          <p:spPr>
            <a:xfrm>
              <a:off x="3295440" y="2746080"/>
              <a:ext cx="31320" cy="44640"/>
            </a:xfrm>
            <a:custGeom>
              <a:avLst/>
              <a:gdLst/>
              <a:ahLst/>
              <a:rect l="l" t="t" r="r" b="b"/>
              <a:pathLst>
                <a:path w="91" h="125">
                  <a:moveTo>
                    <a:pt x="17428" y="13304"/>
                  </a:moveTo>
                  <a:cubicBezTo>
                    <a:pt x="17399" y="13347"/>
                    <a:pt x="17368" y="13387"/>
                    <a:pt x="17338" y="13428"/>
                  </a:cubicBezTo>
                </a:path>
              </a:pathLst>
            </a:custGeom>
            <a:noFill/>
            <a:ln cap="rnd" w="38160">
              <a:solidFill>
                <a:srgbClr val="80808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064" name=""/>
            <p:cNvSpPr/>
            <p:nvPr/>
          </p:nvSpPr>
          <p:spPr>
            <a:xfrm>
              <a:off x="3200400" y="2906640"/>
              <a:ext cx="236160" cy="152280"/>
            </a:xfrm>
            <a:custGeom>
              <a:avLst/>
              <a:gdLst/>
              <a:ahLst/>
              <a:rect l="l" t="t" r="r" b="b"/>
              <a:pathLst>
                <a:path w="657" h="424">
                  <a:moveTo>
                    <a:pt x="17174" y="13750"/>
                  </a:moveTo>
                  <a:cubicBezTo>
                    <a:pt x="17137" y="13790"/>
                    <a:pt x="17119" y="13822"/>
                    <a:pt x="17100" y="13873"/>
                  </a:cubicBezTo>
                  <a:cubicBezTo>
                    <a:pt x="17089" y="13904"/>
                    <a:pt x="17085" y="13915"/>
                    <a:pt x="17074" y="13935"/>
                  </a:cubicBezTo>
                </a:path>
                <a:path w="657" h="424">
                  <a:moveTo>
                    <a:pt x="17074" y="14173"/>
                  </a:moveTo>
                  <a:cubicBezTo>
                    <a:pt x="17122" y="14145"/>
                    <a:pt x="17174" y="14122"/>
                    <a:pt x="17232" y="14116"/>
                  </a:cubicBezTo>
                  <a:cubicBezTo>
                    <a:pt x="17268" y="14112"/>
                    <a:pt x="17307" y="14116"/>
                    <a:pt x="17343" y="14116"/>
                  </a:cubicBezTo>
                </a:path>
                <a:path w="657" h="424">
                  <a:moveTo>
                    <a:pt x="17470" y="14111"/>
                  </a:moveTo>
                  <a:cubicBezTo>
                    <a:pt x="17518" y="14113"/>
                    <a:pt x="17571" y="14113"/>
                    <a:pt x="17619" y="14120"/>
                  </a:cubicBezTo>
                  <a:cubicBezTo>
                    <a:pt x="17658" y="14126"/>
                    <a:pt x="17691" y="14136"/>
                    <a:pt x="17730" y="1413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65" name=""/>
          <p:cNvSpPr/>
          <p:nvPr/>
        </p:nvSpPr>
        <p:spPr>
          <a:xfrm>
            <a:off x="3048120" y="2144880"/>
            <a:ext cx="260496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6" name=""/>
          <p:cNvSpPr/>
          <p:nvPr/>
        </p:nvSpPr>
        <p:spPr>
          <a:xfrm>
            <a:off x="3429000" y="1371600"/>
            <a:ext cx="544680" cy="53352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7" name=""/>
          <p:cNvSpPr/>
          <p:nvPr/>
        </p:nvSpPr>
        <p:spPr>
          <a:xfrm>
            <a:off x="3649680" y="3060720"/>
            <a:ext cx="225360" cy="431640"/>
          </a:xfrm>
          <a:custGeom>
            <a:avLst/>
            <a:gdLst/>
            <a:ahLst/>
            <a:rect l="l" t="t" r="r" b="b"/>
            <a:pathLst>
              <a:path w="628" h="1202">
                <a:moveTo>
                  <a:pt x="10230" y="8501"/>
                </a:moveTo>
                <a:cubicBezTo>
                  <a:pt x="10223" y="8543"/>
                  <a:pt x="10221" y="8581"/>
                  <a:pt x="10221" y="8623"/>
                </a:cubicBezTo>
                <a:cubicBezTo>
                  <a:pt x="10221" y="8662"/>
                  <a:pt x="10224" y="8696"/>
                  <a:pt x="10230" y="8734"/>
                </a:cubicBezTo>
                <a:cubicBezTo>
                  <a:pt x="10240" y="8792"/>
                  <a:pt x="10247" y="8850"/>
                  <a:pt x="10253" y="8909"/>
                </a:cubicBezTo>
                <a:cubicBezTo>
                  <a:pt x="10258" y="8966"/>
                  <a:pt x="10288" y="8998"/>
                  <a:pt x="10312" y="9046"/>
                </a:cubicBezTo>
                <a:cubicBezTo>
                  <a:pt x="10332" y="9085"/>
                  <a:pt x="10340" y="9125"/>
                  <a:pt x="10367" y="9161"/>
                </a:cubicBezTo>
                <a:cubicBezTo>
                  <a:pt x="10394" y="9198"/>
                  <a:pt x="10421" y="9232"/>
                  <a:pt x="10450" y="9268"/>
                </a:cubicBezTo>
                <a:cubicBezTo>
                  <a:pt x="10481" y="9306"/>
                  <a:pt x="10516" y="9339"/>
                  <a:pt x="10546" y="9378"/>
                </a:cubicBezTo>
                <a:cubicBezTo>
                  <a:pt x="10574" y="9414"/>
                  <a:pt x="10595" y="9453"/>
                  <a:pt x="10623" y="9489"/>
                </a:cubicBezTo>
                <a:cubicBezTo>
                  <a:pt x="10657" y="9533"/>
                  <a:pt x="10691" y="9556"/>
                  <a:pt x="10738" y="9584"/>
                </a:cubicBezTo>
              </a:path>
              <a:path w="628" h="1202">
                <a:moveTo>
                  <a:pt x="10221" y="8547"/>
                </a:moveTo>
                <a:cubicBezTo>
                  <a:pt x="10198" y="8590"/>
                  <a:pt x="10191" y="8619"/>
                  <a:pt x="10180" y="8665"/>
                </a:cubicBezTo>
                <a:cubicBezTo>
                  <a:pt x="10171" y="8703"/>
                  <a:pt x="10163" y="8742"/>
                  <a:pt x="10152" y="8779"/>
                </a:cubicBezTo>
                <a:cubicBezTo>
                  <a:pt x="10144" y="8806"/>
                  <a:pt x="10142" y="8829"/>
                  <a:pt x="10138" y="8856"/>
                </a:cubicBezTo>
                <a:cubicBezTo>
                  <a:pt x="10138" y="8816"/>
                  <a:pt x="10142" y="8783"/>
                  <a:pt x="10152" y="8745"/>
                </a:cubicBezTo>
                <a:cubicBezTo>
                  <a:pt x="10164" y="8699"/>
                  <a:pt x="10170" y="8653"/>
                  <a:pt x="10184" y="8608"/>
                </a:cubicBezTo>
                <a:cubicBezTo>
                  <a:pt x="10229" y="8652"/>
                  <a:pt x="10270" y="8699"/>
                  <a:pt x="10312" y="8745"/>
                </a:cubicBezTo>
              </a:path>
              <a:path w="628" h="1202">
                <a:moveTo>
                  <a:pt x="10651" y="9653"/>
                </a:moveTo>
                <a:cubicBezTo>
                  <a:pt x="10640" y="9649"/>
                  <a:pt x="10630" y="9645"/>
                  <a:pt x="10619" y="9641"/>
                </a:cubicBezTo>
                <a:cubicBezTo>
                  <a:pt x="10662" y="9666"/>
                  <a:pt x="10700" y="9686"/>
                  <a:pt x="10747" y="9702"/>
                </a:cubicBezTo>
                <a:cubicBezTo>
                  <a:pt x="10757" y="9665"/>
                  <a:pt x="10768" y="9627"/>
                  <a:pt x="10765" y="9588"/>
                </a:cubicBezTo>
                <a:cubicBezTo>
                  <a:pt x="10763" y="9552"/>
                  <a:pt x="10765" y="9517"/>
                  <a:pt x="10761" y="9481"/>
                </a:cubicBezTo>
                <a:cubicBezTo>
                  <a:pt x="10756" y="9454"/>
                  <a:pt x="10754" y="9446"/>
                  <a:pt x="10756" y="9428"/>
                </a:cubicBezTo>
              </a:path>
            </a:pathLst>
          </a:custGeom>
          <a:noFill/>
          <a:ln cap="rnd"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8" name=""/>
          <p:cNvSpPr/>
          <p:nvPr/>
        </p:nvSpPr>
        <p:spPr>
          <a:xfrm>
            <a:off x="4876920" y="3048120"/>
            <a:ext cx="511200" cy="62532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9" name=""/>
          <p:cNvSpPr/>
          <p:nvPr/>
        </p:nvSpPr>
        <p:spPr>
          <a:xfrm>
            <a:off x="3957120" y="236232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eis</a:t>
            </a:r>
            <a:endParaRPr b="0" lang="en-US" sz="1600" spc="-1" strike="noStrike">
              <a:solidFill>
                <a:srgbClr val="000000"/>
              </a:solidFill>
              <a:latin typeface="Arial"/>
            </a:endParaRPr>
          </a:p>
        </p:txBody>
      </p:sp>
      <p:sp>
        <p:nvSpPr>
          <p:cNvPr id="3070" name=""/>
          <p:cNvSpPr/>
          <p:nvPr/>
        </p:nvSpPr>
        <p:spPr>
          <a:xfrm>
            <a:off x="3809880" y="2286000"/>
            <a:ext cx="693720" cy="533520"/>
          </a:xfrm>
          <a:custGeom>
            <a:avLst/>
            <a:gdLst/>
            <a:ahLst/>
            <a:rect l="l" t="t" r="r" b="b"/>
            <a:pathLst>
              <a:path w="2632" h="1676">
                <a:moveTo>
                  <a:pt x="21207" y="9609"/>
                </a:moveTo>
                <a:cubicBezTo>
                  <a:pt x="21196" y="9614"/>
                  <a:pt x="21129" y="9628"/>
                  <a:pt x="21119" y="9638"/>
                </a:cubicBezTo>
                <a:cubicBezTo>
                  <a:pt x="21094" y="9665"/>
                  <a:pt x="21088" y="9676"/>
                  <a:pt x="21058" y="9699"/>
                </a:cubicBezTo>
                <a:cubicBezTo>
                  <a:pt x="21033" y="9719"/>
                  <a:pt x="20949" y="9774"/>
                  <a:pt x="20938" y="9787"/>
                </a:cubicBezTo>
                <a:cubicBezTo>
                  <a:pt x="20918" y="9810"/>
                  <a:pt x="20897" y="9828"/>
                  <a:pt x="20879" y="9849"/>
                </a:cubicBezTo>
                <a:cubicBezTo>
                  <a:pt x="20864" y="9866"/>
                  <a:pt x="20797" y="9925"/>
                  <a:pt x="20788" y="9936"/>
                </a:cubicBezTo>
                <a:cubicBezTo>
                  <a:pt x="20764" y="9966"/>
                  <a:pt x="20787" y="10004"/>
                  <a:pt x="20759" y="10027"/>
                </a:cubicBezTo>
                <a:cubicBezTo>
                  <a:pt x="20738" y="10045"/>
                  <a:pt x="20718" y="10074"/>
                  <a:pt x="20700" y="10088"/>
                </a:cubicBezTo>
                <a:cubicBezTo>
                  <a:pt x="20677" y="10106"/>
                  <a:pt x="20659" y="10131"/>
                  <a:pt x="20639" y="10147"/>
                </a:cubicBezTo>
                <a:cubicBezTo>
                  <a:pt x="20609" y="10170"/>
                  <a:pt x="20593" y="10172"/>
                  <a:pt x="20551" y="10208"/>
                </a:cubicBezTo>
                <a:cubicBezTo>
                  <a:pt x="20519" y="10235"/>
                  <a:pt x="20490" y="10267"/>
                  <a:pt x="20460" y="10296"/>
                </a:cubicBezTo>
                <a:cubicBezTo>
                  <a:pt x="20493" y="10324"/>
                  <a:pt x="20535" y="10375"/>
                  <a:pt x="20551" y="10386"/>
                </a:cubicBezTo>
                <a:cubicBezTo>
                  <a:pt x="20580" y="10407"/>
                  <a:pt x="20620" y="10427"/>
                  <a:pt x="20639" y="10445"/>
                </a:cubicBezTo>
                <a:cubicBezTo>
                  <a:pt x="20679" y="10483"/>
                  <a:pt x="20710" y="10509"/>
                  <a:pt x="20730" y="10536"/>
                </a:cubicBezTo>
                <a:cubicBezTo>
                  <a:pt x="20758" y="10573"/>
                  <a:pt x="20767" y="10607"/>
                  <a:pt x="20788" y="10626"/>
                </a:cubicBezTo>
                <a:cubicBezTo>
                  <a:pt x="20805" y="10642"/>
                  <a:pt x="20864" y="10638"/>
                  <a:pt x="20879" y="10655"/>
                </a:cubicBezTo>
                <a:cubicBezTo>
                  <a:pt x="20905" y="10684"/>
                  <a:pt x="20906" y="10692"/>
                  <a:pt x="20938" y="10717"/>
                </a:cubicBezTo>
                <a:cubicBezTo>
                  <a:pt x="20950" y="10726"/>
                  <a:pt x="20984" y="10793"/>
                  <a:pt x="20999" y="10805"/>
                </a:cubicBezTo>
                <a:cubicBezTo>
                  <a:pt x="21025" y="10826"/>
                  <a:pt x="21036" y="10847"/>
                  <a:pt x="21058" y="10866"/>
                </a:cubicBezTo>
                <a:cubicBezTo>
                  <a:pt x="21078" y="10883"/>
                  <a:pt x="21101" y="10910"/>
                  <a:pt x="21119" y="10924"/>
                </a:cubicBezTo>
                <a:cubicBezTo>
                  <a:pt x="21144" y="10944"/>
                  <a:pt x="21157" y="10969"/>
                  <a:pt x="21178" y="10986"/>
                </a:cubicBezTo>
                <a:cubicBezTo>
                  <a:pt x="21200" y="11004"/>
                  <a:pt x="21253" y="11061"/>
                  <a:pt x="21269" y="11074"/>
                </a:cubicBezTo>
                <a:cubicBezTo>
                  <a:pt x="21301" y="11100"/>
                  <a:pt x="21305" y="11096"/>
                  <a:pt x="21327" y="11135"/>
                </a:cubicBezTo>
                <a:cubicBezTo>
                  <a:pt x="21342" y="11161"/>
                  <a:pt x="21346" y="11193"/>
                  <a:pt x="21386" y="11193"/>
                </a:cubicBezTo>
                <a:cubicBezTo>
                  <a:pt x="21432" y="11193"/>
                  <a:pt x="21456" y="11168"/>
                  <a:pt x="21506" y="11164"/>
                </a:cubicBezTo>
                <a:cubicBezTo>
                  <a:pt x="21556" y="11160"/>
                  <a:pt x="21577" y="11141"/>
                  <a:pt x="21626" y="11135"/>
                </a:cubicBezTo>
                <a:cubicBezTo>
                  <a:pt x="21676" y="11129"/>
                  <a:pt x="21738" y="11111"/>
                  <a:pt x="21776" y="11106"/>
                </a:cubicBezTo>
                <a:cubicBezTo>
                  <a:pt x="21874" y="11094"/>
                  <a:pt x="21992" y="11085"/>
                  <a:pt x="22074" y="11074"/>
                </a:cubicBezTo>
                <a:cubicBezTo>
                  <a:pt x="22246" y="11051"/>
                  <a:pt x="22523" y="11063"/>
                  <a:pt x="22643" y="11106"/>
                </a:cubicBezTo>
                <a:cubicBezTo>
                  <a:pt x="22678" y="11081"/>
                  <a:pt x="22683" y="11083"/>
                  <a:pt x="22705" y="11044"/>
                </a:cubicBezTo>
                <a:cubicBezTo>
                  <a:pt x="22725" y="11009"/>
                  <a:pt x="22712" y="10998"/>
                  <a:pt x="22734" y="10954"/>
                </a:cubicBezTo>
                <a:cubicBezTo>
                  <a:pt x="22739" y="10944"/>
                  <a:pt x="22777" y="10897"/>
                  <a:pt x="22792" y="10866"/>
                </a:cubicBezTo>
                <a:cubicBezTo>
                  <a:pt x="22812" y="10825"/>
                  <a:pt x="22808" y="10809"/>
                  <a:pt x="22822" y="10775"/>
                </a:cubicBezTo>
                <a:cubicBezTo>
                  <a:pt x="22838" y="10736"/>
                  <a:pt x="22838" y="10693"/>
                  <a:pt x="22854" y="10655"/>
                </a:cubicBezTo>
                <a:cubicBezTo>
                  <a:pt x="22869" y="10621"/>
                  <a:pt x="22863" y="10607"/>
                  <a:pt x="22883" y="10565"/>
                </a:cubicBezTo>
                <a:cubicBezTo>
                  <a:pt x="22906" y="10517"/>
                  <a:pt x="22919" y="10465"/>
                  <a:pt x="22942" y="10416"/>
                </a:cubicBezTo>
                <a:cubicBezTo>
                  <a:pt x="22958" y="10381"/>
                  <a:pt x="22950" y="10367"/>
                  <a:pt x="22971" y="10325"/>
                </a:cubicBezTo>
                <a:cubicBezTo>
                  <a:pt x="22990" y="10287"/>
                  <a:pt x="22982" y="10285"/>
                  <a:pt x="23003" y="10237"/>
                </a:cubicBezTo>
                <a:cubicBezTo>
                  <a:pt x="23017" y="10205"/>
                  <a:pt x="23057" y="10157"/>
                  <a:pt x="23062" y="10147"/>
                </a:cubicBezTo>
                <a:cubicBezTo>
                  <a:pt x="23083" y="10104"/>
                  <a:pt x="23074" y="10092"/>
                  <a:pt x="23091" y="10056"/>
                </a:cubicBezTo>
                <a:cubicBezTo>
                  <a:pt x="23036" y="10051"/>
                  <a:pt x="23025" y="10037"/>
                  <a:pt x="23003" y="10027"/>
                </a:cubicBezTo>
                <a:cubicBezTo>
                  <a:pt x="22958" y="10006"/>
                  <a:pt x="22949" y="10016"/>
                  <a:pt x="22913" y="9998"/>
                </a:cubicBezTo>
                <a:cubicBezTo>
                  <a:pt x="22879" y="9981"/>
                  <a:pt x="22864" y="9990"/>
                  <a:pt x="22822" y="9968"/>
                </a:cubicBezTo>
                <a:cubicBezTo>
                  <a:pt x="22785" y="9949"/>
                  <a:pt x="22785" y="9931"/>
                  <a:pt x="22734" y="9907"/>
                </a:cubicBezTo>
                <a:cubicBezTo>
                  <a:pt x="22696" y="9889"/>
                  <a:pt x="22660" y="9860"/>
                  <a:pt x="22643" y="9849"/>
                </a:cubicBezTo>
                <a:cubicBezTo>
                  <a:pt x="22611" y="9828"/>
                  <a:pt x="22600" y="9815"/>
                  <a:pt x="22552" y="9787"/>
                </a:cubicBezTo>
                <a:cubicBezTo>
                  <a:pt x="22539" y="9779"/>
                  <a:pt x="22475" y="9770"/>
                  <a:pt x="22464" y="9758"/>
                </a:cubicBezTo>
                <a:cubicBezTo>
                  <a:pt x="22444" y="9737"/>
                  <a:pt x="22422" y="9719"/>
                  <a:pt x="22403" y="9699"/>
                </a:cubicBezTo>
                <a:cubicBezTo>
                  <a:pt x="22387" y="9681"/>
                  <a:pt x="22357" y="9655"/>
                  <a:pt x="22344" y="9638"/>
                </a:cubicBezTo>
                <a:cubicBezTo>
                  <a:pt x="22317" y="9605"/>
                  <a:pt x="22324" y="9603"/>
                  <a:pt x="22286" y="9580"/>
                </a:cubicBezTo>
                <a:cubicBezTo>
                  <a:pt x="22245" y="9556"/>
                  <a:pt x="22230" y="9516"/>
                  <a:pt x="22195" y="9518"/>
                </a:cubicBezTo>
                <a:cubicBezTo>
                  <a:pt x="22129" y="9521"/>
                  <a:pt x="22154" y="9543"/>
                  <a:pt x="22104" y="9547"/>
                </a:cubicBezTo>
                <a:cubicBezTo>
                  <a:pt x="22036" y="9553"/>
                  <a:pt x="21917" y="9577"/>
                  <a:pt x="21896" y="9580"/>
                </a:cubicBezTo>
                <a:cubicBezTo>
                  <a:pt x="21809" y="9592"/>
                  <a:pt x="21700" y="9600"/>
                  <a:pt x="21626" y="9609"/>
                </a:cubicBezTo>
                <a:cubicBezTo>
                  <a:pt x="21509" y="9623"/>
                  <a:pt x="21229" y="9609"/>
                  <a:pt x="21207" y="9609"/>
                </a:cubicBezTo>
                <a:cubicBezTo>
                  <a:pt x="21217" y="9609"/>
                  <a:pt x="21226" y="9609"/>
                  <a:pt x="21236" y="960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1" name=""/>
          <p:cNvGrpSpPr/>
          <p:nvPr/>
        </p:nvGrpSpPr>
        <p:grpSpPr>
          <a:xfrm>
            <a:off x="3657600" y="2209680"/>
            <a:ext cx="968400" cy="301680"/>
            <a:chOff x="3657600" y="2209680"/>
            <a:chExt cx="968400" cy="301680"/>
          </a:xfrm>
        </p:grpSpPr>
        <p:sp>
          <p:nvSpPr>
            <p:cNvPr id="3072" name=""/>
            <p:cNvSpPr/>
            <p:nvPr/>
          </p:nvSpPr>
          <p:spPr>
            <a:xfrm>
              <a:off x="3657600" y="2282760"/>
              <a:ext cx="203040" cy="228600"/>
            </a:xfrm>
            <a:custGeom>
              <a:avLst/>
              <a:gdLst/>
              <a:ahLst/>
              <a:rect l="l" t="t" r="r" b="b"/>
              <a:pathLst>
                <a:path w="566" h="571">
                  <a:moveTo>
                    <a:pt x="10592" y="6858"/>
                  </a:moveTo>
                  <a:cubicBezTo>
                    <a:pt x="10536" y="6858"/>
                    <a:pt x="10524" y="6832"/>
                    <a:pt x="10475" y="6826"/>
                  </a:cubicBezTo>
                  <a:cubicBezTo>
                    <a:pt x="10434" y="6821"/>
                    <a:pt x="10424" y="6801"/>
                    <a:pt x="10413" y="6767"/>
                  </a:cubicBezTo>
                </a:path>
                <a:path w="566" h="571">
                  <a:moveTo>
                    <a:pt x="10293" y="6676"/>
                  </a:moveTo>
                  <a:cubicBezTo>
                    <a:pt x="10293" y="6666"/>
                    <a:pt x="10293" y="6657"/>
                    <a:pt x="10293" y="6647"/>
                  </a:cubicBezTo>
                  <a:cubicBezTo>
                    <a:pt x="10258" y="6638"/>
                    <a:pt x="10240" y="6627"/>
                    <a:pt x="10205" y="6618"/>
                  </a:cubicBezTo>
                  <a:cubicBezTo>
                    <a:pt x="10190" y="6567"/>
                    <a:pt x="10192" y="6605"/>
                    <a:pt x="10176" y="6557"/>
                  </a:cubicBezTo>
                </a:path>
                <a:path w="566" h="571">
                  <a:moveTo>
                    <a:pt x="10355" y="6466"/>
                  </a:moveTo>
                  <a:cubicBezTo>
                    <a:pt x="10384" y="6466"/>
                    <a:pt x="10394" y="6466"/>
                    <a:pt x="10413" y="6466"/>
                  </a:cubicBezTo>
                  <a:cubicBezTo>
                    <a:pt x="10426" y="6427"/>
                    <a:pt x="10434" y="6420"/>
                    <a:pt x="10475" y="6408"/>
                  </a:cubicBezTo>
                </a:path>
                <a:path w="566" h="571">
                  <a:moveTo>
                    <a:pt x="10654" y="6349"/>
                  </a:moveTo>
                  <a:cubicBezTo>
                    <a:pt x="10691" y="6296"/>
                    <a:pt x="10675" y="6288"/>
                    <a:pt x="10741" y="62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3" name=""/>
            <p:cNvSpPr/>
            <p:nvPr/>
          </p:nvSpPr>
          <p:spPr>
            <a:xfrm>
              <a:off x="3946680" y="2244600"/>
              <a:ext cx="64800" cy="3240"/>
            </a:xfrm>
            <a:custGeom>
              <a:avLst/>
              <a:gdLst/>
              <a:ahLst/>
              <a:rect l="l" t="t" r="r" b="b"/>
              <a:pathLst>
                <a:path w="179" h="1">
                  <a:moveTo>
                    <a:pt x="10982" y="6197"/>
                  </a:moveTo>
                  <a:cubicBezTo>
                    <a:pt x="11041" y="6197"/>
                    <a:pt x="11101" y="6197"/>
                    <a:pt x="11160" y="6197"/>
                  </a:cubicBezTo>
                </a:path>
              </a:pathLst>
            </a:custGeom>
            <a:noFill/>
            <a:ln cap="rnd" w="28440">
              <a:solidFill>
                <a:srgbClr val="808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74" name=""/>
            <p:cNvSpPr/>
            <p:nvPr/>
          </p:nvSpPr>
          <p:spPr>
            <a:xfrm>
              <a:off x="4108320" y="2209680"/>
              <a:ext cx="65160" cy="12600"/>
            </a:xfrm>
            <a:custGeom>
              <a:avLst/>
              <a:gdLst/>
              <a:ahLst/>
              <a:rect l="l" t="t" r="r" b="b"/>
              <a:pathLst>
                <a:path w="180" h="31">
                  <a:moveTo>
                    <a:pt x="11430" y="6109"/>
                  </a:moveTo>
                  <a:cubicBezTo>
                    <a:pt x="11430" y="6119"/>
                    <a:pt x="11430" y="6129"/>
                    <a:pt x="11430" y="6139"/>
                  </a:cubicBezTo>
                  <a:cubicBezTo>
                    <a:pt x="11490" y="6139"/>
                    <a:pt x="11549" y="6139"/>
                    <a:pt x="11609"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75" name=""/>
            <p:cNvSpPr/>
            <p:nvPr/>
          </p:nvSpPr>
          <p:spPr>
            <a:xfrm>
              <a:off x="4270320" y="2209680"/>
              <a:ext cx="54000" cy="12600"/>
            </a:xfrm>
            <a:custGeom>
              <a:avLst/>
              <a:gdLst/>
              <a:ahLst/>
              <a:rect l="l" t="t" r="r" b="b"/>
              <a:pathLst>
                <a:path w="151" h="31">
                  <a:moveTo>
                    <a:pt x="11878" y="6109"/>
                  </a:moveTo>
                  <a:cubicBezTo>
                    <a:pt x="11918" y="6109"/>
                    <a:pt x="11958" y="6109"/>
                    <a:pt x="11998" y="6109"/>
                  </a:cubicBezTo>
                  <a:cubicBezTo>
                    <a:pt x="11998" y="6139"/>
                    <a:pt x="11998" y="6149"/>
                    <a:pt x="12028"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76" name=""/>
            <p:cNvSpPr/>
            <p:nvPr/>
          </p:nvSpPr>
          <p:spPr>
            <a:xfrm>
              <a:off x="4410000" y="2222280"/>
              <a:ext cx="216000" cy="241200"/>
            </a:xfrm>
            <a:custGeom>
              <a:avLst/>
              <a:gdLst/>
              <a:ahLst/>
              <a:rect l="l" t="t" r="r" b="b"/>
              <a:pathLst>
                <a:path w="599" h="600">
                  <a:moveTo>
                    <a:pt x="12268" y="6139"/>
                  </a:moveTo>
                  <a:cubicBezTo>
                    <a:pt x="12268" y="6149"/>
                    <a:pt x="12268" y="6158"/>
                    <a:pt x="12268" y="6168"/>
                  </a:cubicBezTo>
                  <a:cubicBezTo>
                    <a:pt x="12314" y="6183"/>
                    <a:pt x="12280" y="6182"/>
                    <a:pt x="12326" y="6197"/>
                  </a:cubicBezTo>
                  <a:cubicBezTo>
                    <a:pt x="12343" y="6246"/>
                    <a:pt x="12341" y="6212"/>
                    <a:pt x="12359" y="6258"/>
                  </a:cubicBezTo>
                  <a:cubicBezTo>
                    <a:pt x="12409" y="6258"/>
                    <a:pt x="12403" y="6246"/>
                    <a:pt x="12417" y="6288"/>
                  </a:cubicBezTo>
                  <a:cubicBezTo>
                    <a:pt x="12417" y="6258"/>
                    <a:pt x="12417" y="6249"/>
                    <a:pt x="12417" y="6229"/>
                  </a:cubicBezTo>
                </a:path>
                <a:path w="599" h="600">
                  <a:moveTo>
                    <a:pt x="12625" y="6408"/>
                  </a:moveTo>
                  <a:cubicBezTo>
                    <a:pt x="12636" y="6408"/>
                    <a:pt x="12647" y="6408"/>
                    <a:pt x="12658" y="6408"/>
                  </a:cubicBezTo>
                  <a:cubicBezTo>
                    <a:pt x="12672" y="6449"/>
                    <a:pt x="12666" y="6437"/>
                    <a:pt x="12716" y="6437"/>
                  </a:cubicBezTo>
                  <a:cubicBezTo>
                    <a:pt x="12716" y="6466"/>
                    <a:pt x="12716" y="6476"/>
                    <a:pt x="12745" y="6466"/>
                  </a:cubicBezTo>
                </a:path>
                <a:path w="599" h="600">
                  <a:moveTo>
                    <a:pt x="12866" y="6618"/>
                  </a:moveTo>
                  <a:cubicBezTo>
                    <a:pt x="12806" y="6618"/>
                    <a:pt x="12791" y="6618"/>
                    <a:pt x="12775" y="6676"/>
                  </a:cubicBezTo>
                  <a:cubicBezTo>
                    <a:pt x="12719" y="6695"/>
                    <a:pt x="12770" y="6718"/>
                    <a:pt x="12716" y="6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7"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3078" name=""/>
          <p:cNvSpPr/>
          <p:nvPr/>
        </p:nvSpPr>
        <p:spPr>
          <a:xfrm>
            <a:off x="415800" y="59832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79"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3080"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3081"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3082"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3083" name=""/>
          <p:cNvGrpSpPr/>
          <p:nvPr/>
        </p:nvGrpSpPr>
        <p:grpSpPr>
          <a:xfrm>
            <a:off x="1554120" y="1012680"/>
            <a:ext cx="5052960" cy="4521240"/>
            <a:chOff x="1554120" y="1012680"/>
            <a:chExt cx="5052960" cy="4521240"/>
          </a:xfrm>
        </p:grpSpPr>
        <p:sp>
          <p:nvSpPr>
            <p:cNvPr id="3084"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5"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6"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7"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3088" name="Ink 5"/>
          <p:cNvSpPr/>
          <p:nvPr/>
        </p:nvSpPr>
        <p:spPr>
          <a:xfrm>
            <a:off x="133020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89" name="Group 14"/>
          <p:cNvGrpSpPr/>
          <p:nvPr/>
        </p:nvGrpSpPr>
        <p:grpSpPr>
          <a:xfrm>
            <a:off x="1254240" y="4000680"/>
            <a:ext cx="380520" cy="380880"/>
            <a:chOff x="1254240" y="4000680"/>
            <a:chExt cx="380520" cy="380880"/>
          </a:xfrm>
        </p:grpSpPr>
        <p:sp>
          <p:nvSpPr>
            <p:cNvPr id="3090" name="Ink 15"/>
            <p:cNvSpPr/>
            <p:nvPr/>
          </p:nvSpPr>
          <p:spPr>
            <a:xfrm>
              <a:off x="125424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1" name="Ink 16"/>
            <p:cNvSpPr/>
            <p:nvPr/>
          </p:nvSpPr>
          <p:spPr>
            <a:xfrm>
              <a:off x="130608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2" name=""/>
          <p:cNvSpPr/>
          <p:nvPr/>
        </p:nvSpPr>
        <p:spPr>
          <a:xfrm>
            <a:off x="133020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3"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3094" name="Ink 61"/>
          <p:cNvSpPr/>
          <p:nvPr/>
        </p:nvSpPr>
        <p:spPr>
          <a:xfrm>
            <a:off x="87300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5"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3096" name=""/>
          <p:cNvGrpSpPr/>
          <p:nvPr/>
        </p:nvGrpSpPr>
        <p:grpSpPr>
          <a:xfrm>
            <a:off x="1254240" y="1714680"/>
            <a:ext cx="532800" cy="457200"/>
            <a:chOff x="1254240" y="1714680"/>
            <a:chExt cx="532800" cy="457200"/>
          </a:xfrm>
        </p:grpSpPr>
        <p:sp>
          <p:nvSpPr>
            <p:cNvPr id="3097" name=""/>
            <p:cNvSpPr/>
            <p:nvPr/>
          </p:nvSpPr>
          <p:spPr>
            <a:xfrm>
              <a:off x="1467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98" name="Group 12"/>
            <p:cNvGrpSpPr/>
            <p:nvPr/>
          </p:nvGrpSpPr>
          <p:grpSpPr>
            <a:xfrm>
              <a:off x="1254240" y="1714680"/>
              <a:ext cx="532800" cy="457200"/>
              <a:chOff x="1254240" y="1714680"/>
              <a:chExt cx="532800" cy="457200"/>
            </a:xfrm>
          </p:grpSpPr>
          <p:sp>
            <p:nvSpPr>
              <p:cNvPr id="3099" name="Ink 13"/>
              <p:cNvSpPr/>
              <p:nvPr/>
            </p:nvSpPr>
            <p:spPr>
              <a:xfrm>
                <a:off x="125424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0" name="Ink 14"/>
              <p:cNvSpPr/>
              <p:nvPr/>
            </p:nvSpPr>
            <p:spPr>
              <a:xfrm>
                <a:off x="126720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101" name="Ink 15"/>
              <p:cNvSpPr/>
              <p:nvPr/>
            </p:nvSpPr>
            <p:spPr>
              <a:xfrm>
                <a:off x="177336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2" name="Ink 16"/>
              <p:cNvSpPr/>
              <p:nvPr/>
            </p:nvSpPr>
            <p:spPr>
              <a:xfrm>
                <a:off x="127980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103" name=""/>
            <p:cNvSpPr/>
            <p:nvPr/>
          </p:nvSpPr>
          <p:spPr>
            <a:xfrm>
              <a:off x="162720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4" name=""/>
            <p:cNvSpPr/>
            <p:nvPr/>
          </p:nvSpPr>
          <p:spPr>
            <a:xfrm>
              <a:off x="1307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5" name=""/>
          <p:cNvGrpSpPr/>
          <p:nvPr/>
        </p:nvGrpSpPr>
        <p:grpSpPr>
          <a:xfrm>
            <a:off x="1635120" y="1333440"/>
            <a:ext cx="501120" cy="304920"/>
            <a:chOff x="1635120" y="1333440"/>
            <a:chExt cx="501120" cy="304920"/>
          </a:xfrm>
        </p:grpSpPr>
        <p:sp>
          <p:nvSpPr>
            <p:cNvPr id="3106" name=""/>
            <p:cNvSpPr/>
            <p:nvPr/>
          </p:nvSpPr>
          <p:spPr>
            <a:xfrm>
              <a:off x="18100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7" name=""/>
            <p:cNvSpPr/>
            <p:nvPr/>
          </p:nvSpPr>
          <p:spPr>
            <a:xfrm>
              <a:off x="198540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8" name=""/>
            <p:cNvSpPr/>
            <p:nvPr/>
          </p:nvSpPr>
          <p:spPr>
            <a:xfrm>
              <a:off x="163512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09" name=""/>
          <p:cNvSpPr/>
          <p:nvPr/>
        </p:nvSpPr>
        <p:spPr>
          <a:xfrm>
            <a:off x="224460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0" name=""/>
          <p:cNvSpPr/>
          <p:nvPr/>
        </p:nvSpPr>
        <p:spPr>
          <a:xfrm>
            <a:off x="415800" y="194328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1" name=""/>
          <p:cNvGrpSpPr/>
          <p:nvPr/>
        </p:nvGrpSpPr>
        <p:grpSpPr>
          <a:xfrm>
            <a:off x="4952880" y="380880"/>
            <a:ext cx="884160" cy="747720"/>
            <a:chOff x="4952880" y="380880"/>
            <a:chExt cx="884160" cy="747720"/>
          </a:xfrm>
        </p:grpSpPr>
        <p:sp>
          <p:nvSpPr>
            <p:cNvPr id="3112" name=""/>
            <p:cNvSpPr/>
            <p:nvPr/>
          </p:nvSpPr>
          <p:spPr>
            <a:xfrm>
              <a:off x="4952880" y="380880"/>
              <a:ext cx="873000" cy="70020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3"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3114" name=""/>
            <p:cNvSpPr/>
            <p:nvPr/>
          </p:nvSpPr>
          <p:spPr>
            <a:xfrm>
              <a:off x="4988520" y="74520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3115" name=""/>
            <p:cNvSpPr/>
            <p:nvPr/>
          </p:nvSpPr>
          <p:spPr>
            <a:xfrm>
              <a:off x="5395680" y="7912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3116"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3117"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3118"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3119" name=""/>
          <p:cNvSpPr/>
          <p:nvPr/>
        </p:nvSpPr>
        <p:spPr>
          <a:xfrm>
            <a:off x="6095880" y="1468440"/>
            <a:ext cx="560520" cy="36684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0" name=""/>
          <p:cNvSpPr/>
          <p:nvPr/>
        </p:nvSpPr>
        <p:spPr>
          <a:xfrm>
            <a:off x="6477120" y="184932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21" name="Group 101"/>
          <p:cNvGrpSpPr/>
          <p:nvPr/>
        </p:nvGrpSpPr>
        <p:grpSpPr>
          <a:xfrm>
            <a:off x="6553080" y="2382840"/>
            <a:ext cx="304560" cy="518400"/>
            <a:chOff x="6553080" y="2382840"/>
            <a:chExt cx="304560" cy="518400"/>
          </a:xfrm>
        </p:grpSpPr>
        <p:grpSp>
          <p:nvGrpSpPr>
            <p:cNvPr id="3122" name="Group 79"/>
            <p:cNvGrpSpPr/>
            <p:nvPr/>
          </p:nvGrpSpPr>
          <p:grpSpPr>
            <a:xfrm>
              <a:off x="6553080" y="2382840"/>
              <a:ext cx="304560" cy="518400"/>
              <a:chOff x="6553080" y="2382840"/>
              <a:chExt cx="304560" cy="518400"/>
            </a:xfrm>
          </p:grpSpPr>
          <p:sp>
            <p:nvSpPr>
              <p:cNvPr id="3123" name="Ink 80"/>
              <p:cNvSpPr/>
              <p:nvPr/>
            </p:nvSpPr>
            <p:spPr>
              <a:xfrm>
                <a:off x="6558480" y="268452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4" name="Ink 81"/>
              <p:cNvSpPr/>
              <p:nvPr/>
            </p:nvSpPr>
            <p:spPr>
              <a:xfrm>
                <a:off x="6553080" y="258552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125" name="Ink 82"/>
              <p:cNvSpPr/>
              <p:nvPr/>
            </p:nvSpPr>
            <p:spPr>
              <a:xfrm>
                <a:off x="6741000" y="259956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6" name="Ink 83"/>
              <p:cNvSpPr/>
              <p:nvPr/>
            </p:nvSpPr>
            <p:spPr>
              <a:xfrm>
                <a:off x="6609240" y="284688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127" name="Ink 84"/>
              <p:cNvSpPr/>
              <p:nvPr/>
            </p:nvSpPr>
            <p:spPr>
              <a:xfrm>
                <a:off x="6757560" y="260028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8" name="Ink 85"/>
              <p:cNvSpPr/>
              <p:nvPr/>
            </p:nvSpPr>
            <p:spPr>
              <a:xfrm>
                <a:off x="6795360" y="259164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129" name="Ink 86"/>
              <p:cNvSpPr/>
              <p:nvPr/>
            </p:nvSpPr>
            <p:spPr>
              <a:xfrm>
                <a:off x="6772320" y="259668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0" name="Ink 87"/>
              <p:cNvSpPr/>
              <p:nvPr/>
            </p:nvSpPr>
            <p:spPr>
              <a:xfrm>
                <a:off x="6593760" y="238284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1" name="Ink 88"/>
              <p:cNvSpPr/>
              <p:nvPr/>
            </p:nvSpPr>
            <p:spPr>
              <a:xfrm>
                <a:off x="6615000" y="243216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2" name="Ink 89"/>
              <p:cNvSpPr/>
              <p:nvPr/>
            </p:nvSpPr>
            <p:spPr>
              <a:xfrm>
                <a:off x="6607440" y="266976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3" name="Ink 90"/>
              <p:cNvSpPr/>
              <p:nvPr/>
            </p:nvSpPr>
            <p:spPr>
              <a:xfrm>
                <a:off x="6590880" y="284616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134" name="Ink 91"/>
              <p:cNvSpPr/>
              <p:nvPr/>
            </p:nvSpPr>
            <p:spPr>
              <a:xfrm>
                <a:off x="6627960" y="286164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135" name="Ink 92"/>
              <p:cNvSpPr/>
              <p:nvPr/>
            </p:nvSpPr>
            <p:spPr>
              <a:xfrm>
                <a:off x="6753960" y="281340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136" name="Ink 93"/>
              <p:cNvSpPr/>
              <p:nvPr/>
            </p:nvSpPr>
            <p:spPr>
              <a:xfrm>
                <a:off x="6760440" y="260172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7" name="Ink 175"/>
            <p:cNvSpPr/>
            <p:nvPr/>
          </p:nvSpPr>
          <p:spPr>
            <a:xfrm>
              <a:off x="6607800" y="239616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8"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3139" name="Ink 28"/>
          <p:cNvSpPr/>
          <p:nvPr/>
        </p:nvSpPr>
        <p:spPr>
          <a:xfrm>
            <a:off x="6781680" y="352584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0" name="Group 14"/>
          <p:cNvGrpSpPr/>
          <p:nvPr/>
        </p:nvGrpSpPr>
        <p:grpSpPr>
          <a:xfrm>
            <a:off x="6629400" y="3962520"/>
            <a:ext cx="380520" cy="380880"/>
            <a:chOff x="6629400" y="3962520"/>
            <a:chExt cx="380520" cy="380880"/>
          </a:xfrm>
        </p:grpSpPr>
        <p:sp>
          <p:nvSpPr>
            <p:cNvPr id="3141"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2"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3"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4" name=""/>
          <p:cNvSpPr/>
          <p:nvPr/>
        </p:nvSpPr>
        <p:spPr>
          <a:xfrm>
            <a:off x="6172200" y="63036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5"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3146"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7" name=""/>
          <p:cNvSpPr/>
          <p:nvPr/>
        </p:nvSpPr>
        <p:spPr>
          <a:xfrm>
            <a:off x="3429000" y="1371600"/>
            <a:ext cx="266760" cy="39672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8" name=""/>
          <p:cNvSpPr/>
          <p:nvPr/>
        </p:nvSpPr>
        <p:spPr>
          <a:xfrm>
            <a:off x="4648320" y="1697040"/>
            <a:ext cx="230040" cy="32400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9" name=""/>
          <p:cNvSpPr/>
          <p:nvPr/>
        </p:nvSpPr>
        <p:spPr>
          <a:xfrm>
            <a:off x="5181480" y="243216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0" name=""/>
          <p:cNvSpPr/>
          <p:nvPr/>
        </p:nvSpPr>
        <p:spPr>
          <a:xfrm>
            <a:off x="5105520" y="3745080"/>
            <a:ext cx="21888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1" name=""/>
          <p:cNvSpPr/>
          <p:nvPr/>
        </p:nvSpPr>
        <p:spPr>
          <a:xfrm>
            <a:off x="3962520" y="432288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2" name=""/>
          <p:cNvSpPr/>
          <p:nvPr/>
        </p:nvSpPr>
        <p:spPr>
          <a:xfrm>
            <a:off x="3009960" y="3865680"/>
            <a:ext cx="19980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3" name=""/>
          <p:cNvSpPr/>
          <p:nvPr/>
        </p:nvSpPr>
        <p:spPr>
          <a:xfrm>
            <a:off x="2781360" y="3009960"/>
            <a:ext cx="258840" cy="10008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
          <p:cNvSpPr/>
          <p:nvPr/>
        </p:nvSpPr>
        <p:spPr>
          <a:xfrm>
            <a:off x="3227400" y="2247840"/>
            <a:ext cx="290520" cy="16056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55" name=""/>
          <p:cNvGrpSpPr/>
          <p:nvPr/>
        </p:nvGrpSpPr>
        <p:grpSpPr>
          <a:xfrm>
            <a:off x="3429000" y="2514600"/>
            <a:ext cx="1599840" cy="1294920"/>
            <a:chOff x="3429000" y="2514600"/>
            <a:chExt cx="1599840" cy="1294920"/>
          </a:xfrm>
        </p:grpSpPr>
        <p:grpSp>
          <p:nvGrpSpPr>
            <p:cNvPr id="3156" name=""/>
            <p:cNvGrpSpPr/>
            <p:nvPr/>
          </p:nvGrpSpPr>
          <p:grpSpPr>
            <a:xfrm>
              <a:off x="3429000" y="2514600"/>
              <a:ext cx="1599840" cy="1294920"/>
              <a:chOff x="3429000" y="2514600"/>
              <a:chExt cx="1599840" cy="1294920"/>
            </a:xfrm>
          </p:grpSpPr>
          <p:sp>
            <p:nvSpPr>
              <p:cNvPr id="3157" name=""/>
              <p:cNvSpPr/>
              <p:nvPr/>
            </p:nvSpPr>
            <p:spPr>
              <a:xfrm>
                <a:off x="3429000" y="2607120"/>
                <a:ext cx="479880" cy="45432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
              <p:cNvSpPr/>
              <p:nvPr/>
            </p:nvSpPr>
            <p:spPr>
              <a:xfrm>
                <a:off x="3668760" y="3162240"/>
                <a:ext cx="880200" cy="64728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
              <p:cNvSpPr/>
              <p:nvPr/>
            </p:nvSpPr>
            <p:spPr>
              <a:xfrm>
                <a:off x="4388760" y="2514600"/>
                <a:ext cx="640080" cy="60516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0" name=""/>
              <p:cNvSpPr/>
              <p:nvPr/>
            </p:nvSpPr>
            <p:spPr>
              <a:xfrm>
                <a:off x="3828960" y="2792160"/>
                <a:ext cx="621000" cy="475920"/>
              </a:xfrm>
              <a:custGeom>
                <a:avLst/>
                <a:gdLst/>
                <a:ahLst/>
                <a:rect l="l" t="t" r="r" b="b"/>
                <a:pathLst>
                  <a:path w="2278" h="1508">
                    <a:moveTo>
                      <a:pt x="15042" y="3209"/>
                    </a:moveTo>
                    <a:cubicBezTo>
                      <a:pt x="15018" y="3199"/>
                      <a:pt x="14996" y="3188"/>
                      <a:pt x="14971" y="3180"/>
                    </a:cubicBezTo>
                    <a:cubicBezTo>
                      <a:pt x="14931" y="3167"/>
                      <a:pt x="14890" y="3157"/>
                      <a:pt x="14849" y="3149"/>
                    </a:cubicBezTo>
                    <a:cubicBezTo>
                      <a:pt x="14626" y="3103"/>
                      <a:pt x="14373" y="3117"/>
                      <a:pt x="14149" y="3144"/>
                    </a:cubicBezTo>
                    <a:cubicBezTo>
                      <a:pt x="14036" y="3158"/>
                      <a:pt x="13917" y="3175"/>
                      <a:pt x="13810" y="3217"/>
                    </a:cubicBezTo>
                    <a:cubicBezTo>
                      <a:pt x="13749" y="3241"/>
                      <a:pt x="13654" y="3288"/>
                      <a:pt x="13667" y="3369"/>
                    </a:cubicBezTo>
                    <a:cubicBezTo>
                      <a:pt x="13678" y="3441"/>
                      <a:pt x="13763" y="3478"/>
                      <a:pt x="13820" y="3506"/>
                    </a:cubicBezTo>
                    <a:cubicBezTo>
                      <a:pt x="13995" y="3590"/>
                      <a:pt x="14195" y="3623"/>
                      <a:pt x="14386" y="3645"/>
                    </a:cubicBezTo>
                    <a:cubicBezTo>
                      <a:pt x="14648" y="3675"/>
                      <a:pt x="14911" y="3683"/>
                      <a:pt x="15173" y="3656"/>
                    </a:cubicBezTo>
                    <a:cubicBezTo>
                      <a:pt x="15330" y="3639"/>
                      <a:pt x="15493" y="3612"/>
                      <a:pt x="15635" y="3538"/>
                    </a:cubicBezTo>
                    <a:cubicBezTo>
                      <a:pt x="15691" y="3509"/>
                      <a:pt x="15784" y="3440"/>
                      <a:pt x="15744" y="3364"/>
                    </a:cubicBezTo>
                    <a:cubicBezTo>
                      <a:pt x="15699" y="3280"/>
                      <a:pt x="15551" y="3264"/>
                      <a:pt x="15472" y="3249"/>
                    </a:cubicBezTo>
                    <a:cubicBezTo>
                      <a:pt x="15355" y="3230"/>
                      <a:pt x="15316" y="3224"/>
                      <a:pt x="15236" y="3224"/>
                    </a:cubicBezTo>
                  </a:path>
                  <a:path w="2278" h="1508">
                    <a:moveTo>
                      <a:pt x="13558" y="3514"/>
                    </a:moveTo>
                    <a:cubicBezTo>
                      <a:pt x="13552" y="3544"/>
                      <a:pt x="13555" y="3575"/>
                      <a:pt x="13549" y="3605"/>
                    </a:cubicBezTo>
                    <a:cubicBezTo>
                      <a:pt x="13537" y="3666"/>
                      <a:pt x="13525" y="3726"/>
                      <a:pt x="13515" y="3788"/>
                    </a:cubicBezTo>
                    <a:cubicBezTo>
                      <a:pt x="13502" y="3868"/>
                      <a:pt x="13494" y="3944"/>
                      <a:pt x="13494" y="4025"/>
                    </a:cubicBezTo>
                    <a:cubicBezTo>
                      <a:pt x="13494" y="4092"/>
                      <a:pt x="13501" y="4158"/>
                      <a:pt x="13523" y="4221"/>
                    </a:cubicBezTo>
                    <a:cubicBezTo>
                      <a:pt x="13533" y="4248"/>
                      <a:pt x="13554" y="4310"/>
                      <a:pt x="13578" y="4329"/>
                    </a:cubicBezTo>
                    <a:cubicBezTo>
                      <a:pt x="13585" y="4332"/>
                      <a:pt x="13593" y="4335"/>
                      <a:pt x="13600" y="4338"/>
                    </a:cubicBezTo>
                  </a:path>
                  <a:path w="2278" h="1508">
                    <a:moveTo>
                      <a:pt x="13820" y="4480"/>
                    </a:moveTo>
                    <a:cubicBezTo>
                      <a:pt x="13853" y="4483"/>
                      <a:pt x="13872" y="4485"/>
                      <a:pt x="13904" y="4496"/>
                    </a:cubicBezTo>
                    <a:cubicBezTo>
                      <a:pt x="14081" y="4554"/>
                      <a:pt x="14250" y="4605"/>
                      <a:pt x="14437" y="4624"/>
                    </a:cubicBezTo>
                    <a:cubicBezTo>
                      <a:pt x="14604" y="4641"/>
                      <a:pt x="14770" y="4631"/>
                      <a:pt x="14936" y="4617"/>
                    </a:cubicBezTo>
                    <a:cubicBezTo>
                      <a:pt x="15157" y="4599"/>
                      <a:pt x="15393" y="4569"/>
                      <a:pt x="15603" y="4494"/>
                    </a:cubicBezTo>
                    <a:cubicBezTo>
                      <a:pt x="15664" y="4472"/>
                      <a:pt x="15733" y="4444"/>
                      <a:pt x="15771" y="4391"/>
                    </a:cubicBezTo>
                    <a:cubicBezTo>
                      <a:pt x="15771" y="4384"/>
                      <a:pt x="15771" y="4376"/>
                      <a:pt x="15771" y="4369"/>
                    </a:cubicBezTo>
                  </a:path>
                  <a:path w="2278" h="1508">
                    <a:moveTo>
                      <a:pt x="15750" y="3638"/>
                    </a:moveTo>
                    <a:cubicBezTo>
                      <a:pt x="15741" y="3656"/>
                      <a:pt x="15736" y="3685"/>
                      <a:pt x="15733" y="3706"/>
                    </a:cubicBezTo>
                    <a:cubicBezTo>
                      <a:pt x="15727" y="3756"/>
                      <a:pt x="15718" y="3805"/>
                      <a:pt x="15713" y="3856"/>
                    </a:cubicBezTo>
                    <a:cubicBezTo>
                      <a:pt x="15706" y="3931"/>
                      <a:pt x="15707" y="4008"/>
                      <a:pt x="15706" y="4084"/>
                    </a:cubicBezTo>
                    <a:cubicBezTo>
                      <a:pt x="15705" y="4158"/>
                      <a:pt x="15717" y="4231"/>
                      <a:pt x="15720" y="4305"/>
                    </a:cubicBezTo>
                    <a:cubicBezTo>
                      <a:pt x="15722" y="4348"/>
                      <a:pt x="15723" y="4387"/>
                      <a:pt x="15729" y="442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61" name=""/>
            <p:cNvSpPr/>
            <p:nvPr/>
          </p:nvSpPr>
          <p:spPr>
            <a:xfrm>
              <a:off x="3506760" y="2743200"/>
              <a:ext cx="2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X</a:t>
              </a:r>
              <a:endParaRPr b="0" lang="en-US" sz="1600" spc="-1" strike="noStrike">
                <a:solidFill>
                  <a:srgbClr val="000000"/>
                </a:solidFill>
                <a:latin typeface="Arial"/>
              </a:endParaRPr>
            </a:p>
          </p:txBody>
        </p:sp>
        <p:sp>
          <p:nvSpPr>
            <p:cNvPr id="3162"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p</a:t>
              </a:r>
              <a:endParaRPr b="0" lang="en-US" sz="1600" spc="-1" strike="noStrike">
                <a:solidFill>
                  <a:srgbClr val="000000"/>
                </a:solidFill>
                <a:latin typeface="Arial"/>
              </a:endParaRPr>
            </a:p>
          </p:txBody>
        </p:sp>
        <p:sp>
          <p:nvSpPr>
            <p:cNvPr id="3163"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Z</a:t>
              </a:r>
              <a:endParaRPr b="0" lang="en-US" sz="1600" spc="-1" strike="noStrike">
                <a:solidFill>
                  <a:srgbClr val="000000"/>
                </a:solidFill>
                <a:latin typeface="Arial"/>
              </a:endParaRPr>
            </a:p>
          </p:txBody>
        </p:sp>
        <p:sp>
          <p:nvSpPr>
            <p:cNvPr id="3164" name=""/>
            <p:cNvSpPr/>
            <p:nvPr/>
          </p:nvSpPr>
          <p:spPr>
            <a:xfrm>
              <a:off x="3980520" y="2895480"/>
              <a:ext cx="3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St</a:t>
              </a:r>
              <a:endParaRPr b="0" lang="en-US" sz="1600" spc="-1" strike="noStrike">
                <a:solidFill>
                  <a:srgbClr val="000000"/>
                </a:solidFill>
                <a:latin typeface="Arial"/>
              </a:endParaRPr>
            </a:p>
          </p:txBody>
        </p:sp>
      </p:grpSp>
      <p:sp>
        <p:nvSpPr>
          <p:cNvPr id="3165"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grpSp>
        <p:nvGrpSpPr>
          <p:cNvPr id="3166" name=""/>
          <p:cNvGrpSpPr/>
          <p:nvPr/>
        </p:nvGrpSpPr>
        <p:grpSpPr>
          <a:xfrm>
            <a:off x="3200400" y="2220840"/>
            <a:ext cx="2225160" cy="1985760"/>
            <a:chOff x="3200400" y="2220840"/>
            <a:chExt cx="2225160" cy="1985760"/>
          </a:xfrm>
        </p:grpSpPr>
        <p:sp>
          <p:nvSpPr>
            <p:cNvPr id="3167" name=""/>
            <p:cNvSpPr/>
            <p:nvPr/>
          </p:nvSpPr>
          <p:spPr>
            <a:xfrm>
              <a:off x="4805280" y="2220840"/>
              <a:ext cx="264600" cy="183960"/>
            </a:xfrm>
            <a:custGeom>
              <a:avLst/>
              <a:gdLst/>
              <a:ahLst/>
              <a:rect l="l" t="t" r="r" b="b"/>
              <a:pathLst>
                <a:path w="737" h="512">
                  <a:moveTo>
                    <a:pt x="21534" y="12356"/>
                  </a:moveTo>
                  <a:cubicBezTo>
                    <a:pt x="21564" y="12313"/>
                    <a:pt x="21582" y="12275"/>
                    <a:pt x="21603" y="12228"/>
                  </a:cubicBezTo>
                  <a:cubicBezTo>
                    <a:pt x="21608" y="12216"/>
                    <a:pt x="21614" y="12205"/>
                    <a:pt x="21619" y="12193"/>
                  </a:cubicBezTo>
                </a:path>
                <a:path w="737" h="512">
                  <a:moveTo>
                    <a:pt x="21788" y="12087"/>
                  </a:moveTo>
                  <a:cubicBezTo>
                    <a:pt x="21783" y="12044"/>
                    <a:pt x="21783" y="12010"/>
                    <a:pt x="21794" y="11968"/>
                  </a:cubicBezTo>
                  <a:cubicBezTo>
                    <a:pt x="21806" y="11922"/>
                    <a:pt x="21831" y="11884"/>
                    <a:pt x="21857" y="11845"/>
                  </a:cubicBezTo>
                </a:path>
                <a:path w="737" h="512">
                  <a:moveTo>
                    <a:pt x="22095" y="11972"/>
                  </a:moveTo>
                  <a:cubicBezTo>
                    <a:pt x="22104" y="12036"/>
                    <a:pt x="22139" y="12042"/>
                    <a:pt x="22180" y="12091"/>
                  </a:cubicBezTo>
                  <a:cubicBezTo>
                    <a:pt x="22213" y="12130"/>
                    <a:pt x="22244" y="12171"/>
                    <a:pt x="22270" y="1221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8" name=""/>
            <p:cNvSpPr/>
            <p:nvPr/>
          </p:nvSpPr>
          <p:spPr>
            <a:xfrm>
              <a:off x="5109840" y="2427120"/>
              <a:ext cx="17280" cy="88920"/>
            </a:xfrm>
            <a:custGeom>
              <a:avLst/>
              <a:gdLst/>
              <a:ahLst/>
              <a:rect l="l" t="t" r="r" b="b"/>
              <a:pathLst>
                <a:path w="49" h="248">
                  <a:moveTo>
                    <a:pt x="22423" y="12418"/>
                  </a:moveTo>
                  <a:cubicBezTo>
                    <a:pt x="22393" y="12459"/>
                    <a:pt x="22377" y="12488"/>
                    <a:pt x="22381" y="12541"/>
                  </a:cubicBezTo>
                  <a:cubicBezTo>
                    <a:pt x="22384" y="12589"/>
                    <a:pt x="22406" y="12625"/>
                    <a:pt x="22429" y="12665"/>
                  </a:cubicBezTo>
                </a:path>
              </a:pathLst>
            </a:custGeom>
            <a:noFill/>
            <a:ln cap="rnd" w="38160">
              <a:solidFill>
                <a:srgbClr val="808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69" name=""/>
            <p:cNvSpPr/>
            <p:nvPr/>
          </p:nvSpPr>
          <p:spPr>
            <a:xfrm>
              <a:off x="5190840" y="2592000"/>
              <a:ext cx="44280" cy="90720"/>
            </a:xfrm>
            <a:custGeom>
              <a:avLst/>
              <a:gdLst/>
              <a:ahLst/>
              <a:rect l="l" t="t" r="r" b="b"/>
              <a:pathLst>
                <a:path w="123" h="253">
                  <a:moveTo>
                    <a:pt x="22619" y="12876"/>
                  </a:moveTo>
                  <a:cubicBezTo>
                    <a:pt x="22600" y="12926"/>
                    <a:pt x="22600" y="12952"/>
                    <a:pt x="22630" y="13000"/>
                  </a:cubicBezTo>
                  <a:cubicBezTo>
                    <a:pt x="22659" y="13046"/>
                    <a:pt x="22690" y="13087"/>
                    <a:pt x="22725" y="13128"/>
                  </a:cubicBezTo>
                </a:path>
              </a:pathLst>
            </a:custGeom>
            <a:noFill/>
            <a:ln cap="rnd" w="38160">
              <a:solidFill>
                <a:srgbClr val="808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70" name=""/>
            <p:cNvSpPr/>
            <p:nvPr/>
          </p:nvSpPr>
          <p:spPr>
            <a:xfrm>
              <a:off x="5298840" y="2761920"/>
              <a:ext cx="79200" cy="82800"/>
            </a:xfrm>
            <a:custGeom>
              <a:avLst/>
              <a:gdLst/>
              <a:ahLst/>
              <a:rect l="l" t="t" r="r" b="b"/>
              <a:pathLst>
                <a:path w="218" h="231">
                  <a:moveTo>
                    <a:pt x="22905" y="13348"/>
                  </a:moveTo>
                  <a:cubicBezTo>
                    <a:pt x="22964" y="13374"/>
                    <a:pt x="22995" y="13401"/>
                    <a:pt x="23032" y="13454"/>
                  </a:cubicBezTo>
                  <a:cubicBezTo>
                    <a:pt x="23062" y="13496"/>
                    <a:pt x="23089" y="13538"/>
                    <a:pt x="23122" y="13578"/>
                  </a:cubicBezTo>
                </a:path>
              </a:pathLst>
            </a:custGeom>
            <a:noFill/>
            <a:ln cap="rnd" w="3816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71" name=""/>
            <p:cNvSpPr/>
            <p:nvPr/>
          </p:nvSpPr>
          <p:spPr>
            <a:xfrm>
              <a:off x="5317920" y="2943000"/>
              <a:ext cx="107640" cy="112680"/>
            </a:xfrm>
            <a:custGeom>
              <a:avLst/>
              <a:gdLst/>
              <a:ahLst/>
              <a:rect l="l" t="t" r="r" b="b"/>
              <a:pathLst>
                <a:path w="297" h="314">
                  <a:moveTo>
                    <a:pt x="23191" y="13851"/>
                  </a:moveTo>
                  <a:cubicBezTo>
                    <a:pt x="23210" y="13894"/>
                    <a:pt x="23229" y="13935"/>
                    <a:pt x="23244" y="13979"/>
                  </a:cubicBezTo>
                  <a:cubicBezTo>
                    <a:pt x="23247" y="13989"/>
                    <a:pt x="23251" y="14000"/>
                    <a:pt x="23254" y="14010"/>
                  </a:cubicBezTo>
                </a:path>
                <a:path w="297" h="314">
                  <a:moveTo>
                    <a:pt x="22958" y="14164"/>
                  </a:moveTo>
                  <a:cubicBezTo>
                    <a:pt x="23006" y="14164"/>
                    <a:pt x="23053" y="14161"/>
                    <a:pt x="23101" y="1416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2" name=""/>
            <p:cNvSpPr/>
            <p:nvPr/>
          </p:nvSpPr>
          <p:spPr>
            <a:xfrm>
              <a:off x="3441600" y="2435040"/>
              <a:ext cx="1758600" cy="1730160"/>
            </a:xfrm>
            <a:custGeom>
              <a:avLst/>
              <a:gdLst/>
              <a:ahLst/>
              <a:rect l="l" t="t" r="r" b="b"/>
              <a:pathLst>
                <a:path w="4885" h="4807">
                  <a:moveTo>
                    <a:pt x="22556" y="14173"/>
                  </a:moveTo>
                  <a:cubicBezTo>
                    <a:pt x="22593" y="14177"/>
                    <a:pt x="22605" y="14178"/>
                    <a:pt x="22630" y="14177"/>
                  </a:cubicBezTo>
                </a:path>
                <a:path w="4885" h="4807">
                  <a:moveTo>
                    <a:pt x="21053" y="16281"/>
                  </a:moveTo>
                  <a:cubicBezTo>
                    <a:pt x="21075" y="16323"/>
                    <a:pt x="21099" y="16366"/>
                    <a:pt x="21127" y="16404"/>
                  </a:cubicBezTo>
                  <a:cubicBezTo>
                    <a:pt x="21136" y="16414"/>
                    <a:pt x="21144" y="16425"/>
                    <a:pt x="21153" y="16435"/>
                  </a:cubicBezTo>
                </a:path>
                <a:path w="4885" h="4807">
                  <a:moveTo>
                    <a:pt x="21513" y="16902"/>
                  </a:moveTo>
                  <a:cubicBezTo>
                    <a:pt x="21522" y="16915"/>
                    <a:pt x="21531" y="16929"/>
                    <a:pt x="21540" y="16942"/>
                  </a:cubicBezTo>
                </a:path>
                <a:path w="4885" h="4807">
                  <a:moveTo>
                    <a:pt x="17746" y="17149"/>
                  </a:moveTo>
                  <a:cubicBezTo>
                    <a:pt x="17760" y="17185"/>
                    <a:pt x="17765" y="17207"/>
                    <a:pt x="17767" y="17246"/>
                  </a:cubicBezTo>
                </a:path>
                <a:path w="4885" h="4807">
                  <a:moveTo>
                    <a:pt x="18190" y="12440"/>
                  </a:moveTo>
                  <a:cubicBezTo>
                    <a:pt x="18210" y="12472"/>
                    <a:pt x="18229" y="12504"/>
                    <a:pt x="18248" y="12537"/>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3" name=""/>
            <p:cNvSpPr/>
            <p:nvPr/>
          </p:nvSpPr>
          <p:spPr>
            <a:xfrm>
              <a:off x="3490560" y="3904920"/>
              <a:ext cx="1360440" cy="241560"/>
            </a:xfrm>
            <a:custGeom>
              <a:avLst/>
              <a:gdLst/>
              <a:ahLst/>
              <a:rect l="l" t="t" r="r" b="b"/>
              <a:pathLst>
                <a:path w="3779" h="672">
                  <a:moveTo>
                    <a:pt x="18063" y="16523"/>
                  </a:moveTo>
                  <a:cubicBezTo>
                    <a:pt x="18056" y="16556"/>
                    <a:pt x="18047" y="16587"/>
                    <a:pt x="18037" y="16620"/>
                  </a:cubicBezTo>
                </a:path>
                <a:path w="3779" h="672">
                  <a:moveTo>
                    <a:pt x="17957" y="16828"/>
                  </a:moveTo>
                  <a:cubicBezTo>
                    <a:pt x="17933" y="16863"/>
                    <a:pt x="17909" y="16896"/>
                    <a:pt x="17883" y="16929"/>
                  </a:cubicBezTo>
                </a:path>
                <a:path w="3779" h="672">
                  <a:moveTo>
                    <a:pt x="21513" y="17154"/>
                  </a:moveTo>
                  <a:cubicBezTo>
                    <a:pt x="21565" y="17177"/>
                    <a:pt x="21605" y="17191"/>
                    <a:pt x="21661" y="1719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4" name=""/>
            <p:cNvSpPr/>
            <p:nvPr/>
          </p:nvSpPr>
          <p:spPr>
            <a:xfrm>
              <a:off x="3527280" y="3776400"/>
              <a:ext cx="136080" cy="403200"/>
            </a:xfrm>
            <a:custGeom>
              <a:avLst/>
              <a:gdLst/>
              <a:ahLst/>
              <a:rect l="l" t="t" r="r" b="b"/>
              <a:pathLst>
                <a:path w="376" h="1121">
                  <a:moveTo>
                    <a:pt x="18359" y="16166"/>
                  </a:moveTo>
                  <a:cubicBezTo>
                    <a:pt x="18343" y="16209"/>
                    <a:pt x="18322" y="16249"/>
                    <a:pt x="18301" y="16290"/>
                  </a:cubicBezTo>
                </a:path>
                <a:path w="376" h="1121">
                  <a:moveTo>
                    <a:pt x="17984" y="17286"/>
                  </a:moveTo>
                  <a:cubicBezTo>
                    <a:pt x="18033" y="17264"/>
                    <a:pt x="18083" y="17243"/>
                    <a:pt x="18137" y="17233"/>
                  </a:cubicBezTo>
                  <a:cubicBezTo>
                    <a:pt x="18175" y="17229"/>
                    <a:pt x="18189" y="17227"/>
                    <a:pt x="18211" y="17211"/>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5" name=""/>
            <p:cNvSpPr/>
            <p:nvPr/>
          </p:nvSpPr>
          <p:spPr>
            <a:xfrm>
              <a:off x="3732120" y="4159080"/>
              <a:ext cx="313920" cy="31680"/>
            </a:xfrm>
            <a:custGeom>
              <a:avLst/>
              <a:gdLst/>
              <a:ahLst/>
              <a:rect l="l" t="t" r="r" b="b"/>
              <a:pathLst>
                <a:path w="874" h="89">
                  <a:moveTo>
                    <a:pt x="18550" y="17246"/>
                  </a:moveTo>
                  <a:cubicBezTo>
                    <a:pt x="18600" y="17263"/>
                    <a:pt x="18647" y="17280"/>
                    <a:pt x="18698" y="17291"/>
                  </a:cubicBezTo>
                  <a:cubicBezTo>
                    <a:pt x="18747" y="17302"/>
                    <a:pt x="18796" y="17299"/>
                    <a:pt x="18846" y="17299"/>
                  </a:cubicBezTo>
                </a:path>
                <a:path w="874" h="89">
                  <a:moveTo>
                    <a:pt x="19090" y="17229"/>
                  </a:moveTo>
                  <a:cubicBezTo>
                    <a:pt x="19138" y="17255"/>
                    <a:pt x="19181" y="17266"/>
                    <a:pt x="19233" y="17282"/>
                  </a:cubicBezTo>
                  <a:cubicBezTo>
                    <a:pt x="19284" y="17298"/>
                    <a:pt x="19333" y="17307"/>
                    <a:pt x="19386" y="17313"/>
                  </a:cubicBezTo>
                  <a:cubicBezTo>
                    <a:pt x="19398" y="17314"/>
                    <a:pt x="19411" y="17316"/>
                    <a:pt x="19423" y="17317"/>
                  </a:cubicBezTo>
                </a:path>
              </a:pathLst>
            </a:custGeom>
            <a:noFill/>
            <a:ln cap="rnd" w="38160">
              <a:solidFill>
                <a:srgbClr val="808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76" name=""/>
            <p:cNvSpPr/>
            <p:nvPr/>
          </p:nvSpPr>
          <p:spPr>
            <a:xfrm>
              <a:off x="4182840" y="4187520"/>
              <a:ext cx="109080" cy="19080"/>
            </a:xfrm>
            <a:custGeom>
              <a:avLst/>
              <a:gdLst/>
              <a:ahLst/>
              <a:rect l="l" t="t" r="r" b="b"/>
              <a:pathLst>
                <a:path w="303" h="54">
                  <a:moveTo>
                    <a:pt x="19804" y="17308"/>
                  </a:moveTo>
                  <a:cubicBezTo>
                    <a:pt x="19864" y="17340"/>
                    <a:pt x="19890" y="17329"/>
                    <a:pt x="19952" y="17339"/>
                  </a:cubicBezTo>
                  <a:cubicBezTo>
                    <a:pt x="20005" y="17347"/>
                    <a:pt x="20051" y="17360"/>
                    <a:pt x="20106" y="17361"/>
                  </a:cubicBezTo>
                </a:path>
              </a:pathLst>
            </a:custGeom>
            <a:noFill/>
            <a:ln cap="rnd" w="38160">
              <a:solidFill>
                <a:srgbClr val="808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77" name=""/>
            <p:cNvSpPr/>
            <p:nvPr/>
          </p:nvSpPr>
          <p:spPr>
            <a:xfrm>
              <a:off x="4406760" y="4151160"/>
              <a:ext cx="337680" cy="33120"/>
            </a:xfrm>
            <a:custGeom>
              <a:avLst/>
              <a:gdLst/>
              <a:ahLst/>
              <a:rect l="l" t="t" r="r" b="b"/>
              <a:pathLst>
                <a:path w="938" h="93">
                  <a:moveTo>
                    <a:pt x="20428" y="17233"/>
                  </a:moveTo>
                  <a:cubicBezTo>
                    <a:pt x="20481" y="17267"/>
                    <a:pt x="20523" y="17290"/>
                    <a:pt x="20587" y="17295"/>
                  </a:cubicBezTo>
                  <a:cubicBezTo>
                    <a:pt x="20637" y="17299"/>
                    <a:pt x="20685" y="17293"/>
                    <a:pt x="20735" y="17295"/>
                  </a:cubicBezTo>
                  <a:cubicBezTo>
                    <a:pt x="20747" y="17296"/>
                    <a:pt x="20760" y="17298"/>
                    <a:pt x="20772" y="17299"/>
                  </a:cubicBezTo>
                </a:path>
                <a:path w="938" h="93">
                  <a:moveTo>
                    <a:pt x="21063" y="17207"/>
                  </a:moveTo>
                  <a:cubicBezTo>
                    <a:pt x="21117" y="17234"/>
                    <a:pt x="21156" y="17253"/>
                    <a:pt x="21217" y="17255"/>
                  </a:cubicBezTo>
                  <a:cubicBezTo>
                    <a:pt x="21268" y="17256"/>
                    <a:pt x="21316" y="17256"/>
                    <a:pt x="21365" y="17264"/>
                  </a:cubicBezTo>
                </a:path>
              </a:pathLst>
            </a:custGeom>
            <a:noFill/>
            <a:ln cap="rnd" w="38160">
              <a:solidFill>
                <a:srgbClr val="808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178" name=""/>
            <p:cNvSpPr/>
            <p:nvPr/>
          </p:nvSpPr>
          <p:spPr>
            <a:xfrm>
              <a:off x="4716360" y="3927240"/>
              <a:ext cx="64800" cy="76320"/>
            </a:xfrm>
            <a:custGeom>
              <a:avLst/>
              <a:gdLst/>
              <a:ahLst/>
              <a:rect l="l" t="t" r="r" b="b"/>
              <a:pathLst>
                <a:path w="181" h="213">
                  <a:moveTo>
                    <a:pt x="21286" y="16585"/>
                  </a:moveTo>
                  <a:cubicBezTo>
                    <a:pt x="21335" y="16621"/>
                    <a:pt x="21379" y="16656"/>
                    <a:pt x="21413" y="16708"/>
                  </a:cubicBezTo>
                  <a:cubicBezTo>
                    <a:pt x="21431" y="16737"/>
                    <a:pt x="21448" y="16768"/>
                    <a:pt x="21466" y="16797"/>
                  </a:cubicBezTo>
                </a:path>
              </a:pathLst>
            </a:custGeom>
            <a:noFill/>
            <a:ln cap="rnd" w="38160">
              <a:solidFill>
                <a:srgbClr val="80808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79" name=""/>
            <p:cNvSpPr/>
            <p:nvPr/>
          </p:nvSpPr>
          <p:spPr>
            <a:xfrm>
              <a:off x="3528720" y="2339640"/>
              <a:ext cx="39600" cy="23760"/>
            </a:xfrm>
            <a:custGeom>
              <a:avLst/>
              <a:gdLst/>
              <a:ahLst/>
              <a:rect l="l" t="t" r="r" b="b"/>
              <a:pathLst>
                <a:path w="107" h="67">
                  <a:moveTo>
                    <a:pt x="17989" y="12175"/>
                  </a:moveTo>
                  <a:cubicBezTo>
                    <a:pt x="18033" y="12194"/>
                    <a:pt x="18060" y="12210"/>
                    <a:pt x="18095" y="12241"/>
                  </a:cubicBezTo>
                </a:path>
              </a:pathLst>
            </a:custGeom>
            <a:noFill/>
            <a:ln cap="rnd" w="38160">
              <a:solidFill>
                <a:srgbClr val="808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0" name=""/>
            <p:cNvSpPr/>
            <p:nvPr/>
          </p:nvSpPr>
          <p:spPr>
            <a:xfrm>
              <a:off x="3354120" y="2360520"/>
              <a:ext cx="320400" cy="293400"/>
            </a:xfrm>
            <a:custGeom>
              <a:avLst/>
              <a:gdLst/>
              <a:ahLst/>
              <a:rect l="l" t="t" r="r" b="b"/>
              <a:pathLst>
                <a:path w="890" h="816">
                  <a:moveTo>
                    <a:pt x="18391" y="12599"/>
                  </a:moveTo>
                  <a:cubicBezTo>
                    <a:pt x="18371" y="12646"/>
                    <a:pt x="18374" y="12680"/>
                    <a:pt x="18381" y="12731"/>
                  </a:cubicBezTo>
                </a:path>
                <a:path w="890" h="816">
                  <a:moveTo>
                    <a:pt x="17936" y="12233"/>
                  </a:moveTo>
                  <a:cubicBezTo>
                    <a:pt x="17927" y="12275"/>
                    <a:pt x="17916" y="12312"/>
                    <a:pt x="17915" y="12356"/>
                  </a:cubicBezTo>
                  <a:cubicBezTo>
                    <a:pt x="17915" y="12368"/>
                    <a:pt x="17915" y="12379"/>
                    <a:pt x="17915" y="12391"/>
                  </a:cubicBezTo>
                </a:path>
                <a:path w="890" h="816">
                  <a:moveTo>
                    <a:pt x="17836" y="12431"/>
                  </a:moveTo>
                  <a:cubicBezTo>
                    <a:pt x="17803" y="12470"/>
                    <a:pt x="17774" y="12508"/>
                    <a:pt x="17746" y="12550"/>
                  </a:cubicBezTo>
                  <a:cubicBezTo>
                    <a:pt x="17726" y="12581"/>
                    <a:pt x="17710" y="12610"/>
                    <a:pt x="17693" y="12643"/>
                  </a:cubicBezTo>
                </a:path>
                <a:path w="890" h="816">
                  <a:moveTo>
                    <a:pt x="17634" y="12837"/>
                  </a:moveTo>
                  <a:cubicBezTo>
                    <a:pt x="17589" y="12870"/>
                    <a:pt x="17558" y="12903"/>
                    <a:pt x="17534" y="12956"/>
                  </a:cubicBezTo>
                  <a:cubicBezTo>
                    <a:pt x="17521" y="12986"/>
                    <a:pt x="17513" y="13018"/>
                    <a:pt x="17502" y="1304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1" name=""/>
            <p:cNvSpPr/>
            <p:nvPr/>
          </p:nvSpPr>
          <p:spPr>
            <a:xfrm>
              <a:off x="3295440" y="2746080"/>
              <a:ext cx="31320" cy="44640"/>
            </a:xfrm>
            <a:custGeom>
              <a:avLst/>
              <a:gdLst/>
              <a:ahLst/>
              <a:rect l="l" t="t" r="r" b="b"/>
              <a:pathLst>
                <a:path w="91" h="125">
                  <a:moveTo>
                    <a:pt x="17428" y="13304"/>
                  </a:moveTo>
                  <a:cubicBezTo>
                    <a:pt x="17399" y="13347"/>
                    <a:pt x="17368" y="13387"/>
                    <a:pt x="17338" y="13428"/>
                  </a:cubicBezTo>
                </a:path>
              </a:pathLst>
            </a:custGeom>
            <a:noFill/>
            <a:ln cap="rnd" w="38160">
              <a:solidFill>
                <a:srgbClr val="80808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82" name=""/>
            <p:cNvSpPr/>
            <p:nvPr/>
          </p:nvSpPr>
          <p:spPr>
            <a:xfrm>
              <a:off x="3200400" y="2906640"/>
              <a:ext cx="236160" cy="152280"/>
            </a:xfrm>
            <a:custGeom>
              <a:avLst/>
              <a:gdLst/>
              <a:ahLst/>
              <a:rect l="l" t="t" r="r" b="b"/>
              <a:pathLst>
                <a:path w="657" h="424">
                  <a:moveTo>
                    <a:pt x="17174" y="13750"/>
                  </a:moveTo>
                  <a:cubicBezTo>
                    <a:pt x="17137" y="13790"/>
                    <a:pt x="17119" y="13822"/>
                    <a:pt x="17100" y="13873"/>
                  </a:cubicBezTo>
                  <a:cubicBezTo>
                    <a:pt x="17089" y="13904"/>
                    <a:pt x="17085" y="13915"/>
                    <a:pt x="17074" y="13935"/>
                  </a:cubicBezTo>
                </a:path>
                <a:path w="657" h="424">
                  <a:moveTo>
                    <a:pt x="17074" y="14173"/>
                  </a:moveTo>
                  <a:cubicBezTo>
                    <a:pt x="17122" y="14145"/>
                    <a:pt x="17174" y="14122"/>
                    <a:pt x="17232" y="14116"/>
                  </a:cubicBezTo>
                  <a:cubicBezTo>
                    <a:pt x="17268" y="14112"/>
                    <a:pt x="17307" y="14116"/>
                    <a:pt x="17343" y="14116"/>
                  </a:cubicBezTo>
                </a:path>
                <a:path w="657" h="424">
                  <a:moveTo>
                    <a:pt x="17470" y="14111"/>
                  </a:moveTo>
                  <a:cubicBezTo>
                    <a:pt x="17518" y="14113"/>
                    <a:pt x="17571" y="14113"/>
                    <a:pt x="17619" y="14120"/>
                  </a:cubicBezTo>
                  <a:cubicBezTo>
                    <a:pt x="17658" y="14126"/>
                    <a:pt x="17691" y="14136"/>
                    <a:pt x="17730" y="1413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83" name=""/>
          <p:cNvSpPr/>
          <p:nvPr/>
        </p:nvSpPr>
        <p:spPr>
          <a:xfrm>
            <a:off x="3048120" y="2144880"/>
            <a:ext cx="260496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4" name=""/>
          <p:cNvSpPr/>
          <p:nvPr/>
        </p:nvSpPr>
        <p:spPr>
          <a:xfrm>
            <a:off x="3429000" y="1371600"/>
            <a:ext cx="544680" cy="53352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5" name=""/>
          <p:cNvSpPr/>
          <p:nvPr/>
        </p:nvSpPr>
        <p:spPr>
          <a:xfrm>
            <a:off x="4371840" y="3143160"/>
            <a:ext cx="351000" cy="343080"/>
          </a:xfrm>
          <a:custGeom>
            <a:avLst/>
            <a:gdLst/>
            <a:ahLst/>
            <a:rect l="l" t="t" r="r" b="b"/>
            <a:pathLst>
              <a:path w="976" h="954">
                <a:moveTo>
                  <a:pt x="12143" y="9683"/>
                </a:moveTo>
                <a:cubicBezTo>
                  <a:pt x="12224" y="9627"/>
                  <a:pt x="12316" y="9587"/>
                  <a:pt x="12404" y="9542"/>
                </a:cubicBezTo>
                <a:cubicBezTo>
                  <a:pt x="12446" y="9521"/>
                  <a:pt x="12490" y="9502"/>
                  <a:pt x="12532" y="9481"/>
                </a:cubicBezTo>
                <a:cubicBezTo>
                  <a:pt x="12573" y="9460"/>
                  <a:pt x="12624" y="9438"/>
                  <a:pt x="12660" y="9409"/>
                </a:cubicBezTo>
                <a:cubicBezTo>
                  <a:pt x="12725" y="9357"/>
                  <a:pt x="12785" y="9285"/>
                  <a:pt x="12834" y="9218"/>
                </a:cubicBezTo>
                <a:cubicBezTo>
                  <a:pt x="12868" y="9171"/>
                  <a:pt x="12892" y="9122"/>
                  <a:pt x="12930" y="9077"/>
                </a:cubicBezTo>
                <a:cubicBezTo>
                  <a:pt x="12961" y="9040"/>
                  <a:pt x="12991" y="9006"/>
                  <a:pt x="13017" y="8966"/>
                </a:cubicBezTo>
                <a:cubicBezTo>
                  <a:pt x="13036" y="8937"/>
                  <a:pt x="13054" y="8893"/>
                  <a:pt x="13063" y="8859"/>
                </a:cubicBezTo>
                <a:cubicBezTo>
                  <a:pt x="13072" y="8824"/>
                  <a:pt x="13083" y="8792"/>
                  <a:pt x="13090" y="8757"/>
                </a:cubicBezTo>
                <a:cubicBezTo>
                  <a:pt x="13090" y="8748"/>
                  <a:pt x="13090" y="8739"/>
                  <a:pt x="13090" y="8730"/>
                </a:cubicBezTo>
                <a:cubicBezTo>
                  <a:pt x="13051" y="8761"/>
                  <a:pt x="13021" y="8795"/>
                  <a:pt x="12989" y="8833"/>
                </a:cubicBezTo>
                <a:cubicBezTo>
                  <a:pt x="12967" y="8859"/>
                  <a:pt x="12960" y="8867"/>
                  <a:pt x="12948" y="8886"/>
                </a:cubicBezTo>
                <a:cubicBezTo>
                  <a:pt x="12999" y="8848"/>
                  <a:pt x="13043" y="8810"/>
                  <a:pt x="13081" y="8760"/>
                </a:cubicBezTo>
                <a:cubicBezTo>
                  <a:pt x="13100" y="8808"/>
                  <a:pt x="13114" y="8849"/>
                  <a:pt x="13118" y="8901"/>
                </a:cubicBezTo>
                <a:cubicBezTo>
                  <a:pt x="13118" y="8910"/>
                  <a:pt x="13118" y="8919"/>
                  <a:pt x="13118" y="8928"/>
                </a:cubicBezTo>
              </a:path>
              <a:path w="976" h="954">
                <a:moveTo>
                  <a:pt x="12330" y="9458"/>
                </a:moveTo>
                <a:cubicBezTo>
                  <a:pt x="12273" y="9489"/>
                  <a:pt x="12233" y="9529"/>
                  <a:pt x="12189" y="9576"/>
                </a:cubicBezTo>
                <a:cubicBezTo>
                  <a:pt x="12166" y="9603"/>
                  <a:pt x="12158" y="9612"/>
                  <a:pt x="12143" y="9630"/>
                </a:cubicBezTo>
                <a:cubicBezTo>
                  <a:pt x="12187" y="9630"/>
                  <a:pt x="12228" y="9626"/>
                  <a:pt x="12271" y="9622"/>
                </a:cubicBezTo>
                <a:cubicBezTo>
                  <a:pt x="12315" y="9618"/>
                  <a:pt x="12356" y="9625"/>
                  <a:pt x="12399" y="9634"/>
                </a:cubicBezTo>
              </a:path>
            </a:pathLst>
          </a:custGeom>
          <a:noFill/>
          <a:ln cap="rnd"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6" name=""/>
          <p:cNvSpPr/>
          <p:nvPr/>
        </p:nvSpPr>
        <p:spPr>
          <a:xfrm>
            <a:off x="3649680" y="3060720"/>
            <a:ext cx="225360" cy="431640"/>
          </a:xfrm>
          <a:custGeom>
            <a:avLst/>
            <a:gdLst/>
            <a:ahLst/>
            <a:rect l="l" t="t" r="r" b="b"/>
            <a:pathLst>
              <a:path w="628" h="1202">
                <a:moveTo>
                  <a:pt x="10230" y="8501"/>
                </a:moveTo>
                <a:cubicBezTo>
                  <a:pt x="10223" y="8543"/>
                  <a:pt x="10221" y="8581"/>
                  <a:pt x="10221" y="8623"/>
                </a:cubicBezTo>
                <a:cubicBezTo>
                  <a:pt x="10221" y="8662"/>
                  <a:pt x="10224" y="8696"/>
                  <a:pt x="10230" y="8734"/>
                </a:cubicBezTo>
                <a:cubicBezTo>
                  <a:pt x="10240" y="8792"/>
                  <a:pt x="10247" y="8850"/>
                  <a:pt x="10253" y="8909"/>
                </a:cubicBezTo>
                <a:cubicBezTo>
                  <a:pt x="10258" y="8966"/>
                  <a:pt x="10288" y="8998"/>
                  <a:pt x="10312" y="9046"/>
                </a:cubicBezTo>
                <a:cubicBezTo>
                  <a:pt x="10332" y="9085"/>
                  <a:pt x="10340" y="9125"/>
                  <a:pt x="10367" y="9161"/>
                </a:cubicBezTo>
                <a:cubicBezTo>
                  <a:pt x="10394" y="9198"/>
                  <a:pt x="10421" y="9232"/>
                  <a:pt x="10450" y="9268"/>
                </a:cubicBezTo>
                <a:cubicBezTo>
                  <a:pt x="10481" y="9306"/>
                  <a:pt x="10516" y="9339"/>
                  <a:pt x="10546" y="9378"/>
                </a:cubicBezTo>
                <a:cubicBezTo>
                  <a:pt x="10574" y="9414"/>
                  <a:pt x="10595" y="9453"/>
                  <a:pt x="10623" y="9489"/>
                </a:cubicBezTo>
                <a:cubicBezTo>
                  <a:pt x="10657" y="9533"/>
                  <a:pt x="10691" y="9556"/>
                  <a:pt x="10738" y="9584"/>
                </a:cubicBezTo>
              </a:path>
              <a:path w="628" h="1202">
                <a:moveTo>
                  <a:pt x="10221" y="8547"/>
                </a:moveTo>
                <a:cubicBezTo>
                  <a:pt x="10198" y="8590"/>
                  <a:pt x="10191" y="8619"/>
                  <a:pt x="10180" y="8665"/>
                </a:cubicBezTo>
                <a:cubicBezTo>
                  <a:pt x="10171" y="8703"/>
                  <a:pt x="10163" y="8742"/>
                  <a:pt x="10152" y="8779"/>
                </a:cubicBezTo>
                <a:cubicBezTo>
                  <a:pt x="10144" y="8806"/>
                  <a:pt x="10142" y="8829"/>
                  <a:pt x="10138" y="8856"/>
                </a:cubicBezTo>
                <a:cubicBezTo>
                  <a:pt x="10138" y="8816"/>
                  <a:pt x="10142" y="8783"/>
                  <a:pt x="10152" y="8745"/>
                </a:cubicBezTo>
                <a:cubicBezTo>
                  <a:pt x="10164" y="8699"/>
                  <a:pt x="10170" y="8653"/>
                  <a:pt x="10184" y="8608"/>
                </a:cubicBezTo>
                <a:cubicBezTo>
                  <a:pt x="10229" y="8652"/>
                  <a:pt x="10270" y="8699"/>
                  <a:pt x="10312" y="8745"/>
                </a:cubicBezTo>
              </a:path>
              <a:path w="628" h="1202">
                <a:moveTo>
                  <a:pt x="10651" y="9653"/>
                </a:moveTo>
                <a:cubicBezTo>
                  <a:pt x="10640" y="9649"/>
                  <a:pt x="10630" y="9645"/>
                  <a:pt x="10619" y="9641"/>
                </a:cubicBezTo>
                <a:cubicBezTo>
                  <a:pt x="10662" y="9666"/>
                  <a:pt x="10700" y="9686"/>
                  <a:pt x="10747" y="9702"/>
                </a:cubicBezTo>
                <a:cubicBezTo>
                  <a:pt x="10757" y="9665"/>
                  <a:pt x="10768" y="9627"/>
                  <a:pt x="10765" y="9588"/>
                </a:cubicBezTo>
                <a:cubicBezTo>
                  <a:pt x="10763" y="9552"/>
                  <a:pt x="10765" y="9517"/>
                  <a:pt x="10761" y="9481"/>
                </a:cubicBezTo>
                <a:cubicBezTo>
                  <a:pt x="10756" y="9454"/>
                  <a:pt x="10754" y="9446"/>
                  <a:pt x="10756" y="9428"/>
                </a:cubicBezTo>
              </a:path>
            </a:pathLst>
          </a:custGeom>
          <a:noFill/>
          <a:ln cap="rnd"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7" name=""/>
          <p:cNvSpPr/>
          <p:nvPr/>
        </p:nvSpPr>
        <p:spPr>
          <a:xfrm>
            <a:off x="5029200" y="3048120"/>
            <a:ext cx="511200" cy="62532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8" name=""/>
          <p:cNvSpPr/>
          <p:nvPr/>
        </p:nvSpPr>
        <p:spPr>
          <a:xfrm>
            <a:off x="3957120" y="236232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eis</a:t>
            </a:r>
            <a:endParaRPr b="0" lang="en-US" sz="1600" spc="-1" strike="noStrike">
              <a:solidFill>
                <a:srgbClr val="000000"/>
              </a:solidFill>
              <a:latin typeface="Arial"/>
            </a:endParaRPr>
          </a:p>
        </p:txBody>
      </p:sp>
      <p:sp>
        <p:nvSpPr>
          <p:cNvPr id="3189" name=""/>
          <p:cNvSpPr/>
          <p:nvPr/>
        </p:nvSpPr>
        <p:spPr>
          <a:xfrm>
            <a:off x="3809880" y="2286000"/>
            <a:ext cx="693720" cy="533520"/>
          </a:xfrm>
          <a:custGeom>
            <a:avLst/>
            <a:gdLst/>
            <a:ahLst/>
            <a:rect l="l" t="t" r="r" b="b"/>
            <a:pathLst>
              <a:path w="2632" h="1676">
                <a:moveTo>
                  <a:pt x="21207" y="9609"/>
                </a:moveTo>
                <a:cubicBezTo>
                  <a:pt x="21196" y="9614"/>
                  <a:pt x="21129" y="9628"/>
                  <a:pt x="21119" y="9638"/>
                </a:cubicBezTo>
                <a:cubicBezTo>
                  <a:pt x="21094" y="9665"/>
                  <a:pt x="21088" y="9676"/>
                  <a:pt x="21058" y="9699"/>
                </a:cubicBezTo>
                <a:cubicBezTo>
                  <a:pt x="21033" y="9719"/>
                  <a:pt x="20949" y="9774"/>
                  <a:pt x="20938" y="9787"/>
                </a:cubicBezTo>
                <a:cubicBezTo>
                  <a:pt x="20918" y="9810"/>
                  <a:pt x="20897" y="9828"/>
                  <a:pt x="20879" y="9849"/>
                </a:cubicBezTo>
                <a:cubicBezTo>
                  <a:pt x="20864" y="9866"/>
                  <a:pt x="20797" y="9925"/>
                  <a:pt x="20788" y="9936"/>
                </a:cubicBezTo>
                <a:cubicBezTo>
                  <a:pt x="20764" y="9966"/>
                  <a:pt x="20787" y="10004"/>
                  <a:pt x="20759" y="10027"/>
                </a:cubicBezTo>
                <a:cubicBezTo>
                  <a:pt x="20738" y="10045"/>
                  <a:pt x="20718" y="10074"/>
                  <a:pt x="20700" y="10088"/>
                </a:cubicBezTo>
                <a:cubicBezTo>
                  <a:pt x="20677" y="10106"/>
                  <a:pt x="20659" y="10131"/>
                  <a:pt x="20639" y="10147"/>
                </a:cubicBezTo>
                <a:cubicBezTo>
                  <a:pt x="20609" y="10170"/>
                  <a:pt x="20593" y="10172"/>
                  <a:pt x="20551" y="10208"/>
                </a:cubicBezTo>
                <a:cubicBezTo>
                  <a:pt x="20519" y="10235"/>
                  <a:pt x="20490" y="10267"/>
                  <a:pt x="20460" y="10296"/>
                </a:cubicBezTo>
                <a:cubicBezTo>
                  <a:pt x="20493" y="10324"/>
                  <a:pt x="20535" y="10375"/>
                  <a:pt x="20551" y="10386"/>
                </a:cubicBezTo>
                <a:cubicBezTo>
                  <a:pt x="20580" y="10407"/>
                  <a:pt x="20620" y="10427"/>
                  <a:pt x="20639" y="10445"/>
                </a:cubicBezTo>
                <a:cubicBezTo>
                  <a:pt x="20679" y="10483"/>
                  <a:pt x="20710" y="10509"/>
                  <a:pt x="20730" y="10536"/>
                </a:cubicBezTo>
                <a:cubicBezTo>
                  <a:pt x="20758" y="10573"/>
                  <a:pt x="20767" y="10607"/>
                  <a:pt x="20788" y="10626"/>
                </a:cubicBezTo>
                <a:cubicBezTo>
                  <a:pt x="20805" y="10642"/>
                  <a:pt x="20864" y="10638"/>
                  <a:pt x="20879" y="10655"/>
                </a:cubicBezTo>
                <a:cubicBezTo>
                  <a:pt x="20905" y="10684"/>
                  <a:pt x="20906" y="10692"/>
                  <a:pt x="20938" y="10717"/>
                </a:cubicBezTo>
                <a:cubicBezTo>
                  <a:pt x="20950" y="10726"/>
                  <a:pt x="20984" y="10793"/>
                  <a:pt x="20999" y="10805"/>
                </a:cubicBezTo>
                <a:cubicBezTo>
                  <a:pt x="21025" y="10826"/>
                  <a:pt x="21036" y="10847"/>
                  <a:pt x="21058" y="10866"/>
                </a:cubicBezTo>
                <a:cubicBezTo>
                  <a:pt x="21078" y="10883"/>
                  <a:pt x="21101" y="10910"/>
                  <a:pt x="21119" y="10924"/>
                </a:cubicBezTo>
                <a:cubicBezTo>
                  <a:pt x="21144" y="10944"/>
                  <a:pt x="21157" y="10969"/>
                  <a:pt x="21178" y="10986"/>
                </a:cubicBezTo>
                <a:cubicBezTo>
                  <a:pt x="21200" y="11004"/>
                  <a:pt x="21253" y="11061"/>
                  <a:pt x="21269" y="11074"/>
                </a:cubicBezTo>
                <a:cubicBezTo>
                  <a:pt x="21301" y="11100"/>
                  <a:pt x="21305" y="11096"/>
                  <a:pt x="21327" y="11135"/>
                </a:cubicBezTo>
                <a:cubicBezTo>
                  <a:pt x="21342" y="11161"/>
                  <a:pt x="21346" y="11193"/>
                  <a:pt x="21386" y="11193"/>
                </a:cubicBezTo>
                <a:cubicBezTo>
                  <a:pt x="21432" y="11193"/>
                  <a:pt x="21456" y="11168"/>
                  <a:pt x="21506" y="11164"/>
                </a:cubicBezTo>
                <a:cubicBezTo>
                  <a:pt x="21556" y="11160"/>
                  <a:pt x="21577" y="11141"/>
                  <a:pt x="21626" y="11135"/>
                </a:cubicBezTo>
                <a:cubicBezTo>
                  <a:pt x="21676" y="11129"/>
                  <a:pt x="21738" y="11111"/>
                  <a:pt x="21776" y="11106"/>
                </a:cubicBezTo>
                <a:cubicBezTo>
                  <a:pt x="21874" y="11094"/>
                  <a:pt x="21992" y="11085"/>
                  <a:pt x="22074" y="11074"/>
                </a:cubicBezTo>
                <a:cubicBezTo>
                  <a:pt x="22246" y="11051"/>
                  <a:pt x="22523" y="11063"/>
                  <a:pt x="22643" y="11106"/>
                </a:cubicBezTo>
                <a:cubicBezTo>
                  <a:pt x="22678" y="11081"/>
                  <a:pt x="22683" y="11083"/>
                  <a:pt x="22705" y="11044"/>
                </a:cubicBezTo>
                <a:cubicBezTo>
                  <a:pt x="22725" y="11009"/>
                  <a:pt x="22712" y="10998"/>
                  <a:pt x="22734" y="10954"/>
                </a:cubicBezTo>
                <a:cubicBezTo>
                  <a:pt x="22739" y="10944"/>
                  <a:pt x="22777" y="10897"/>
                  <a:pt x="22792" y="10866"/>
                </a:cubicBezTo>
                <a:cubicBezTo>
                  <a:pt x="22812" y="10825"/>
                  <a:pt x="22808" y="10809"/>
                  <a:pt x="22822" y="10775"/>
                </a:cubicBezTo>
                <a:cubicBezTo>
                  <a:pt x="22838" y="10736"/>
                  <a:pt x="22838" y="10693"/>
                  <a:pt x="22854" y="10655"/>
                </a:cubicBezTo>
                <a:cubicBezTo>
                  <a:pt x="22869" y="10621"/>
                  <a:pt x="22863" y="10607"/>
                  <a:pt x="22883" y="10565"/>
                </a:cubicBezTo>
                <a:cubicBezTo>
                  <a:pt x="22906" y="10517"/>
                  <a:pt x="22919" y="10465"/>
                  <a:pt x="22942" y="10416"/>
                </a:cubicBezTo>
                <a:cubicBezTo>
                  <a:pt x="22958" y="10381"/>
                  <a:pt x="22950" y="10367"/>
                  <a:pt x="22971" y="10325"/>
                </a:cubicBezTo>
                <a:cubicBezTo>
                  <a:pt x="22990" y="10287"/>
                  <a:pt x="22982" y="10285"/>
                  <a:pt x="23003" y="10237"/>
                </a:cubicBezTo>
                <a:cubicBezTo>
                  <a:pt x="23017" y="10205"/>
                  <a:pt x="23057" y="10157"/>
                  <a:pt x="23062" y="10147"/>
                </a:cubicBezTo>
                <a:cubicBezTo>
                  <a:pt x="23083" y="10104"/>
                  <a:pt x="23074" y="10092"/>
                  <a:pt x="23091" y="10056"/>
                </a:cubicBezTo>
                <a:cubicBezTo>
                  <a:pt x="23036" y="10051"/>
                  <a:pt x="23025" y="10037"/>
                  <a:pt x="23003" y="10027"/>
                </a:cubicBezTo>
                <a:cubicBezTo>
                  <a:pt x="22958" y="10006"/>
                  <a:pt x="22949" y="10016"/>
                  <a:pt x="22913" y="9998"/>
                </a:cubicBezTo>
                <a:cubicBezTo>
                  <a:pt x="22879" y="9981"/>
                  <a:pt x="22864" y="9990"/>
                  <a:pt x="22822" y="9968"/>
                </a:cubicBezTo>
                <a:cubicBezTo>
                  <a:pt x="22785" y="9949"/>
                  <a:pt x="22785" y="9931"/>
                  <a:pt x="22734" y="9907"/>
                </a:cubicBezTo>
                <a:cubicBezTo>
                  <a:pt x="22696" y="9889"/>
                  <a:pt x="22660" y="9860"/>
                  <a:pt x="22643" y="9849"/>
                </a:cubicBezTo>
                <a:cubicBezTo>
                  <a:pt x="22611" y="9828"/>
                  <a:pt x="22600" y="9815"/>
                  <a:pt x="22552" y="9787"/>
                </a:cubicBezTo>
                <a:cubicBezTo>
                  <a:pt x="22539" y="9779"/>
                  <a:pt x="22475" y="9770"/>
                  <a:pt x="22464" y="9758"/>
                </a:cubicBezTo>
                <a:cubicBezTo>
                  <a:pt x="22444" y="9737"/>
                  <a:pt x="22422" y="9719"/>
                  <a:pt x="22403" y="9699"/>
                </a:cubicBezTo>
                <a:cubicBezTo>
                  <a:pt x="22387" y="9681"/>
                  <a:pt x="22357" y="9655"/>
                  <a:pt x="22344" y="9638"/>
                </a:cubicBezTo>
                <a:cubicBezTo>
                  <a:pt x="22317" y="9605"/>
                  <a:pt x="22324" y="9603"/>
                  <a:pt x="22286" y="9580"/>
                </a:cubicBezTo>
                <a:cubicBezTo>
                  <a:pt x="22245" y="9556"/>
                  <a:pt x="22230" y="9516"/>
                  <a:pt x="22195" y="9518"/>
                </a:cubicBezTo>
                <a:cubicBezTo>
                  <a:pt x="22129" y="9521"/>
                  <a:pt x="22154" y="9543"/>
                  <a:pt x="22104" y="9547"/>
                </a:cubicBezTo>
                <a:cubicBezTo>
                  <a:pt x="22036" y="9553"/>
                  <a:pt x="21917" y="9577"/>
                  <a:pt x="21896" y="9580"/>
                </a:cubicBezTo>
                <a:cubicBezTo>
                  <a:pt x="21809" y="9592"/>
                  <a:pt x="21700" y="9600"/>
                  <a:pt x="21626" y="9609"/>
                </a:cubicBezTo>
                <a:cubicBezTo>
                  <a:pt x="21509" y="9623"/>
                  <a:pt x="21229" y="9609"/>
                  <a:pt x="21207" y="9609"/>
                </a:cubicBezTo>
                <a:cubicBezTo>
                  <a:pt x="21217" y="9609"/>
                  <a:pt x="21226" y="9609"/>
                  <a:pt x="21236" y="960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0" name=""/>
          <p:cNvGrpSpPr/>
          <p:nvPr/>
        </p:nvGrpSpPr>
        <p:grpSpPr>
          <a:xfrm>
            <a:off x="3657600" y="2209680"/>
            <a:ext cx="968400" cy="301680"/>
            <a:chOff x="3657600" y="2209680"/>
            <a:chExt cx="968400" cy="301680"/>
          </a:xfrm>
        </p:grpSpPr>
        <p:sp>
          <p:nvSpPr>
            <p:cNvPr id="3191" name=""/>
            <p:cNvSpPr/>
            <p:nvPr/>
          </p:nvSpPr>
          <p:spPr>
            <a:xfrm>
              <a:off x="3657600" y="2282760"/>
              <a:ext cx="203040" cy="228600"/>
            </a:xfrm>
            <a:custGeom>
              <a:avLst/>
              <a:gdLst/>
              <a:ahLst/>
              <a:rect l="l" t="t" r="r" b="b"/>
              <a:pathLst>
                <a:path w="566" h="571">
                  <a:moveTo>
                    <a:pt x="10592" y="6858"/>
                  </a:moveTo>
                  <a:cubicBezTo>
                    <a:pt x="10536" y="6858"/>
                    <a:pt x="10524" y="6832"/>
                    <a:pt x="10475" y="6826"/>
                  </a:cubicBezTo>
                  <a:cubicBezTo>
                    <a:pt x="10434" y="6821"/>
                    <a:pt x="10424" y="6801"/>
                    <a:pt x="10413" y="6767"/>
                  </a:cubicBezTo>
                </a:path>
                <a:path w="566" h="571">
                  <a:moveTo>
                    <a:pt x="10293" y="6676"/>
                  </a:moveTo>
                  <a:cubicBezTo>
                    <a:pt x="10293" y="6666"/>
                    <a:pt x="10293" y="6657"/>
                    <a:pt x="10293" y="6647"/>
                  </a:cubicBezTo>
                  <a:cubicBezTo>
                    <a:pt x="10258" y="6638"/>
                    <a:pt x="10240" y="6627"/>
                    <a:pt x="10205" y="6618"/>
                  </a:cubicBezTo>
                  <a:cubicBezTo>
                    <a:pt x="10190" y="6567"/>
                    <a:pt x="10192" y="6605"/>
                    <a:pt x="10176" y="6557"/>
                  </a:cubicBezTo>
                </a:path>
                <a:path w="566" h="571">
                  <a:moveTo>
                    <a:pt x="10355" y="6466"/>
                  </a:moveTo>
                  <a:cubicBezTo>
                    <a:pt x="10384" y="6466"/>
                    <a:pt x="10394" y="6466"/>
                    <a:pt x="10413" y="6466"/>
                  </a:cubicBezTo>
                  <a:cubicBezTo>
                    <a:pt x="10426" y="6427"/>
                    <a:pt x="10434" y="6420"/>
                    <a:pt x="10475" y="6408"/>
                  </a:cubicBezTo>
                </a:path>
                <a:path w="566" h="571">
                  <a:moveTo>
                    <a:pt x="10654" y="6349"/>
                  </a:moveTo>
                  <a:cubicBezTo>
                    <a:pt x="10691" y="6296"/>
                    <a:pt x="10675" y="6288"/>
                    <a:pt x="10741" y="62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2" name=""/>
            <p:cNvSpPr/>
            <p:nvPr/>
          </p:nvSpPr>
          <p:spPr>
            <a:xfrm>
              <a:off x="3946680" y="2244600"/>
              <a:ext cx="64800" cy="3240"/>
            </a:xfrm>
            <a:custGeom>
              <a:avLst/>
              <a:gdLst/>
              <a:ahLst/>
              <a:rect l="l" t="t" r="r" b="b"/>
              <a:pathLst>
                <a:path w="179" h="1">
                  <a:moveTo>
                    <a:pt x="10982" y="6197"/>
                  </a:moveTo>
                  <a:cubicBezTo>
                    <a:pt x="11041" y="6197"/>
                    <a:pt x="11101" y="6197"/>
                    <a:pt x="11160" y="6197"/>
                  </a:cubicBezTo>
                </a:path>
              </a:pathLst>
            </a:custGeom>
            <a:noFill/>
            <a:ln cap="rnd" w="28440">
              <a:solidFill>
                <a:srgbClr val="808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193" name=""/>
            <p:cNvSpPr/>
            <p:nvPr/>
          </p:nvSpPr>
          <p:spPr>
            <a:xfrm>
              <a:off x="4108320" y="2209680"/>
              <a:ext cx="65160" cy="12600"/>
            </a:xfrm>
            <a:custGeom>
              <a:avLst/>
              <a:gdLst/>
              <a:ahLst/>
              <a:rect l="l" t="t" r="r" b="b"/>
              <a:pathLst>
                <a:path w="180" h="31">
                  <a:moveTo>
                    <a:pt x="11430" y="6109"/>
                  </a:moveTo>
                  <a:cubicBezTo>
                    <a:pt x="11430" y="6119"/>
                    <a:pt x="11430" y="6129"/>
                    <a:pt x="11430" y="6139"/>
                  </a:cubicBezTo>
                  <a:cubicBezTo>
                    <a:pt x="11490" y="6139"/>
                    <a:pt x="11549" y="6139"/>
                    <a:pt x="11609"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94" name=""/>
            <p:cNvSpPr/>
            <p:nvPr/>
          </p:nvSpPr>
          <p:spPr>
            <a:xfrm>
              <a:off x="4270320" y="2209680"/>
              <a:ext cx="54000" cy="12600"/>
            </a:xfrm>
            <a:custGeom>
              <a:avLst/>
              <a:gdLst/>
              <a:ahLst/>
              <a:rect l="l" t="t" r="r" b="b"/>
              <a:pathLst>
                <a:path w="151" h="31">
                  <a:moveTo>
                    <a:pt x="11878" y="6109"/>
                  </a:moveTo>
                  <a:cubicBezTo>
                    <a:pt x="11918" y="6109"/>
                    <a:pt x="11958" y="6109"/>
                    <a:pt x="11998" y="6109"/>
                  </a:cubicBezTo>
                  <a:cubicBezTo>
                    <a:pt x="11998" y="6139"/>
                    <a:pt x="11998" y="6149"/>
                    <a:pt x="12028"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95" name=""/>
            <p:cNvSpPr/>
            <p:nvPr/>
          </p:nvSpPr>
          <p:spPr>
            <a:xfrm>
              <a:off x="4410000" y="2222280"/>
              <a:ext cx="216000" cy="241200"/>
            </a:xfrm>
            <a:custGeom>
              <a:avLst/>
              <a:gdLst/>
              <a:ahLst/>
              <a:rect l="l" t="t" r="r" b="b"/>
              <a:pathLst>
                <a:path w="599" h="600">
                  <a:moveTo>
                    <a:pt x="12268" y="6139"/>
                  </a:moveTo>
                  <a:cubicBezTo>
                    <a:pt x="12268" y="6149"/>
                    <a:pt x="12268" y="6158"/>
                    <a:pt x="12268" y="6168"/>
                  </a:cubicBezTo>
                  <a:cubicBezTo>
                    <a:pt x="12314" y="6183"/>
                    <a:pt x="12280" y="6182"/>
                    <a:pt x="12326" y="6197"/>
                  </a:cubicBezTo>
                  <a:cubicBezTo>
                    <a:pt x="12343" y="6246"/>
                    <a:pt x="12341" y="6212"/>
                    <a:pt x="12359" y="6258"/>
                  </a:cubicBezTo>
                  <a:cubicBezTo>
                    <a:pt x="12409" y="6258"/>
                    <a:pt x="12403" y="6246"/>
                    <a:pt x="12417" y="6288"/>
                  </a:cubicBezTo>
                  <a:cubicBezTo>
                    <a:pt x="12417" y="6258"/>
                    <a:pt x="12417" y="6249"/>
                    <a:pt x="12417" y="6229"/>
                  </a:cubicBezTo>
                </a:path>
                <a:path w="599" h="600">
                  <a:moveTo>
                    <a:pt x="12625" y="6408"/>
                  </a:moveTo>
                  <a:cubicBezTo>
                    <a:pt x="12636" y="6408"/>
                    <a:pt x="12647" y="6408"/>
                    <a:pt x="12658" y="6408"/>
                  </a:cubicBezTo>
                  <a:cubicBezTo>
                    <a:pt x="12672" y="6449"/>
                    <a:pt x="12666" y="6437"/>
                    <a:pt x="12716" y="6437"/>
                  </a:cubicBezTo>
                  <a:cubicBezTo>
                    <a:pt x="12716" y="6466"/>
                    <a:pt x="12716" y="6476"/>
                    <a:pt x="12745" y="6466"/>
                  </a:cubicBezTo>
                </a:path>
                <a:path w="599" h="600">
                  <a:moveTo>
                    <a:pt x="12866" y="6618"/>
                  </a:moveTo>
                  <a:cubicBezTo>
                    <a:pt x="12806" y="6618"/>
                    <a:pt x="12791" y="6618"/>
                    <a:pt x="12775" y="6676"/>
                  </a:cubicBezTo>
                  <a:cubicBezTo>
                    <a:pt x="12719" y="6695"/>
                    <a:pt x="12770" y="6718"/>
                    <a:pt x="12716" y="6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6"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3197" name=""/>
          <p:cNvSpPr/>
          <p:nvPr/>
        </p:nvSpPr>
        <p:spPr>
          <a:xfrm>
            <a:off x="415800" y="59832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198"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3199"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3200"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3201"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3202" name=""/>
          <p:cNvGrpSpPr/>
          <p:nvPr/>
        </p:nvGrpSpPr>
        <p:grpSpPr>
          <a:xfrm>
            <a:off x="1554120" y="1012680"/>
            <a:ext cx="5052960" cy="4521240"/>
            <a:chOff x="1554120" y="1012680"/>
            <a:chExt cx="5052960" cy="4521240"/>
          </a:xfrm>
        </p:grpSpPr>
        <p:sp>
          <p:nvSpPr>
            <p:cNvPr id="3203"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4"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5"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6"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3207" name="Ink 5"/>
          <p:cNvSpPr/>
          <p:nvPr/>
        </p:nvSpPr>
        <p:spPr>
          <a:xfrm>
            <a:off x="133020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8" name="Group 14"/>
          <p:cNvGrpSpPr/>
          <p:nvPr/>
        </p:nvGrpSpPr>
        <p:grpSpPr>
          <a:xfrm>
            <a:off x="1254240" y="4000680"/>
            <a:ext cx="380520" cy="380880"/>
            <a:chOff x="1254240" y="4000680"/>
            <a:chExt cx="380520" cy="380880"/>
          </a:xfrm>
        </p:grpSpPr>
        <p:sp>
          <p:nvSpPr>
            <p:cNvPr id="3209" name="Ink 15"/>
            <p:cNvSpPr/>
            <p:nvPr/>
          </p:nvSpPr>
          <p:spPr>
            <a:xfrm>
              <a:off x="125424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0" name="Ink 16"/>
            <p:cNvSpPr/>
            <p:nvPr/>
          </p:nvSpPr>
          <p:spPr>
            <a:xfrm>
              <a:off x="130608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1" name=""/>
          <p:cNvSpPr/>
          <p:nvPr/>
        </p:nvSpPr>
        <p:spPr>
          <a:xfrm>
            <a:off x="133020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2"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3213" name="Ink 61"/>
          <p:cNvSpPr/>
          <p:nvPr/>
        </p:nvSpPr>
        <p:spPr>
          <a:xfrm>
            <a:off x="87300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4"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3215" name=""/>
          <p:cNvGrpSpPr/>
          <p:nvPr/>
        </p:nvGrpSpPr>
        <p:grpSpPr>
          <a:xfrm>
            <a:off x="1254240" y="1714680"/>
            <a:ext cx="532800" cy="457200"/>
            <a:chOff x="1254240" y="1714680"/>
            <a:chExt cx="532800" cy="457200"/>
          </a:xfrm>
        </p:grpSpPr>
        <p:sp>
          <p:nvSpPr>
            <p:cNvPr id="3216" name=""/>
            <p:cNvSpPr/>
            <p:nvPr/>
          </p:nvSpPr>
          <p:spPr>
            <a:xfrm>
              <a:off x="1467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7" name="Group 12"/>
            <p:cNvGrpSpPr/>
            <p:nvPr/>
          </p:nvGrpSpPr>
          <p:grpSpPr>
            <a:xfrm>
              <a:off x="1254240" y="1714680"/>
              <a:ext cx="532800" cy="457200"/>
              <a:chOff x="1254240" y="1714680"/>
              <a:chExt cx="532800" cy="457200"/>
            </a:xfrm>
          </p:grpSpPr>
          <p:sp>
            <p:nvSpPr>
              <p:cNvPr id="3218" name="Ink 13"/>
              <p:cNvSpPr/>
              <p:nvPr/>
            </p:nvSpPr>
            <p:spPr>
              <a:xfrm>
                <a:off x="125424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9" name="Ink 14"/>
              <p:cNvSpPr/>
              <p:nvPr/>
            </p:nvSpPr>
            <p:spPr>
              <a:xfrm>
                <a:off x="126720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20" name="Ink 15"/>
              <p:cNvSpPr/>
              <p:nvPr/>
            </p:nvSpPr>
            <p:spPr>
              <a:xfrm>
                <a:off x="177336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1" name="Ink 16"/>
              <p:cNvSpPr/>
              <p:nvPr/>
            </p:nvSpPr>
            <p:spPr>
              <a:xfrm>
                <a:off x="127980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222" name=""/>
            <p:cNvSpPr/>
            <p:nvPr/>
          </p:nvSpPr>
          <p:spPr>
            <a:xfrm>
              <a:off x="162720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3" name=""/>
            <p:cNvSpPr/>
            <p:nvPr/>
          </p:nvSpPr>
          <p:spPr>
            <a:xfrm>
              <a:off x="1307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4" name=""/>
          <p:cNvGrpSpPr/>
          <p:nvPr/>
        </p:nvGrpSpPr>
        <p:grpSpPr>
          <a:xfrm>
            <a:off x="1635120" y="1333440"/>
            <a:ext cx="501120" cy="304920"/>
            <a:chOff x="1635120" y="1333440"/>
            <a:chExt cx="501120" cy="304920"/>
          </a:xfrm>
        </p:grpSpPr>
        <p:sp>
          <p:nvSpPr>
            <p:cNvPr id="3225" name=""/>
            <p:cNvSpPr/>
            <p:nvPr/>
          </p:nvSpPr>
          <p:spPr>
            <a:xfrm>
              <a:off x="18100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6" name=""/>
            <p:cNvSpPr/>
            <p:nvPr/>
          </p:nvSpPr>
          <p:spPr>
            <a:xfrm>
              <a:off x="198540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7" name=""/>
            <p:cNvSpPr/>
            <p:nvPr/>
          </p:nvSpPr>
          <p:spPr>
            <a:xfrm>
              <a:off x="163512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8" name=""/>
          <p:cNvSpPr/>
          <p:nvPr/>
        </p:nvSpPr>
        <p:spPr>
          <a:xfrm>
            <a:off x="224460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9" name=""/>
          <p:cNvSpPr/>
          <p:nvPr/>
        </p:nvSpPr>
        <p:spPr>
          <a:xfrm>
            <a:off x="415800" y="194328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0" name=""/>
          <p:cNvGrpSpPr/>
          <p:nvPr/>
        </p:nvGrpSpPr>
        <p:grpSpPr>
          <a:xfrm>
            <a:off x="4952880" y="380880"/>
            <a:ext cx="884160" cy="747720"/>
            <a:chOff x="4952880" y="380880"/>
            <a:chExt cx="884160" cy="747720"/>
          </a:xfrm>
        </p:grpSpPr>
        <p:sp>
          <p:nvSpPr>
            <p:cNvPr id="3231" name=""/>
            <p:cNvSpPr/>
            <p:nvPr/>
          </p:nvSpPr>
          <p:spPr>
            <a:xfrm>
              <a:off x="4952880" y="380880"/>
              <a:ext cx="873000" cy="70020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2"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3233" name=""/>
            <p:cNvSpPr/>
            <p:nvPr/>
          </p:nvSpPr>
          <p:spPr>
            <a:xfrm>
              <a:off x="4988520" y="74520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3234" name=""/>
            <p:cNvSpPr/>
            <p:nvPr/>
          </p:nvSpPr>
          <p:spPr>
            <a:xfrm>
              <a:off x="5395680" y="7912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3235"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3236"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3237"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3238" name=""/>
          <p:cNvSpPr/>
          <p:nvPr/>
        </p:nvSpPr>
        <p:spPr>
          <a:xfrm>
            <a:off x="6095880" y="1468440"/>
            <a:ext cx="560520" cy="36684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9" name=""/>
          <p:cNvSpPr/>
          <p:nvPr/>
        </p:nvSpPr>
        <p:spPr>
          <a:xfrm>
            <a:off x="6477120" y="184932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40" name="Group 101"/>
          <p:cNvGrpSpPr/>
          <p:nvPr/>
        </p:nvGrpSpPr>
        <p:grpSpPr>
          <a:xfrm>
            <a:off x="6553080" y="2382840"/>
            <a:ext cx="304560" cy="518400"/>
            <a:chOff x="6553080" y="2382840"/>
            <a:chExt cx="304560" cy="518400"/>
          </a:xfrm>
        </p:grpSpPr>
        <p:grpSp>
          <p:nvGrpSpPr>
            <p:cNvPr id="3241" name="Group 79"/>
            <p:cNvGrpSpPr/>
            <p:nvPr/>
          </p:nvGrpSpPr>
          <p:grpSpPr>
            <a:xfrm>
              <a:off x="6553080" y="2382840"/>
              <a:ext cx="304560" cy="518400"/>
              <a:chOff x="6553080" y="2382840"/>
              <a:chExt cx="304560" cy="518400"/>
            </a:xfrm>
          </p:grpSpPr>
          <p:sp>
            <p:nvSpPr>
              <p:cNvPr id="3242" name="Ink 80"/>
              <p:cNvSpPr/>
              <p:nvPr/>
            </p:nvSpPr>
            <p:spPr>
              <a:xfrm>
                <a:off x="6558480" y="268452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3" name="Ink 81"/>
              <p:cNvSpPr/>
              <p:nvPr/>
            </p:nvSpPr>
            <p:spPr>
              <a:xfrm>
                <a:off x="6553080" y="258552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244" name="Ink 82"/>
              <p:cNvSpPr/>
              <p:nvPr/>
            </p:nvSpPr>
            <p:spPr>
              <a:xfrm>
                <a:off x="6741000" y="259956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5" name="Ink 83"/>
              <p:cNvSpPr/>
              <p:nvPr/>
            </p:nvSpPr>
            <p:spPr>
              <a:xfrm>
                <a:off x="6609240" y="284688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246" name="Ink 84"/>
              <p:cNvSpPr/>
              <p:nvPr/>
            </p:nvSpPr>
            <p:spPr>
              <a:xfrm>
                <a:off x="6757560" y="260028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7" name="Ink 85"/>
              <p:cNvSpPr/>
              <p:nvPr/>
            </p:nvSpPr>
            <p:spPr>
              <a:xfrm>
                <a:off x="6795360" y="259164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248" name="Ink 86"/>
              <p:cNvSpPr/>
              <p:nvPr/>
            </p:nvSpPr>
            <p:spPr>
              <a:xfrm>
                <a:off x="6772320" y="259668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9" name="Ink 87"/>
              <p:cNvSpPr/>
              <p:nvPr/>
            </p:nvSpPr>
            <p:spPr>
              <a:xfrm>
                <a:off x="6593760" y="238284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0" name="Ink 88"/>
              <p:cNvSpPr/>
              <p:nvPr/>
            </p:nvSpPr>
            <p:spPr>
              <a:xfrm>
                <a:off x="6615000" y="243216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1" name="Ink 89"/>
              <p:cNvSpPr/>
              <p:nvPr/>
            </p:nvSpPr>
            <p:spPr>
              <a:xfrm>
                <a:off x="6607440" y="266976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2" name="Ink 90"/>
              <p:cNvSpPr/>
              <p:nvPr/>
            </p:nvSpPr>
            <p:spPr>
              <a:xfrm>
                <a:off x="6590880" y="284616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253" name="Ink 91"/>
              <p:cNvSpPr/>
              <p:nvPr/>
            </p:nvSpPr>
            <p:spPr>
              <a:xfrm>
                <a:off x="6627960" y="286164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254" name="Ink 92"/>
              <p:cNvSpPr/>
              <p:nvPr/>
            </p:nvSpPr>
            <p:spPr>
              <a:xfrm>
                <a:off x="6753960" y="281340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255" name="Ink 93"/>
              <p:cNvSpPr/>
              <p:nvPr/>
            </p:nvSpPr>
            <p:spPr>
              <a:xfrm>
                <a:off x="6760440" y="260172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56" name="Ink 175"/>
            <p:cNvSpPr/>
            <p:nvPr/>
          </p:nvSpPr>
          <p:spPr>
            <a:xfrm>
              <a:off x="6607800" y="239616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57"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3258" name="Ink 28"/>
          <p:cNvSpPr/>
          <p:nvPr/>
        </p:nvSpPr>
        <p:spPr>
          <a:xfrm>
            <a:off x="6781680" y="352584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9" name="Group 14"/>
          <p:cNvGrpSpPr/>
          <p:nvPr/>
        </p:nvGrpSpPr>
        <p:grpSpPr>
          <a:xfrm>
            <a:off x="6629400" y="3962520"/>
            <a:ext cx="380520" cy="380880"/>
            <a:chOff x="6629400" y="3962520"/>
            <a:chExt cx="380520" cy="380880"/>
          </a:xfrm>
        </p:grpSpPr>
        <p:sp>
          <p:nvSpPr>
            <p:cNvPr id="3260"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1"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2"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3" name=""/>
          <p:cNvSpPr/>
          <p:nvPr/>
        </p:nvSpPr>
        <p:spPr>
          <a:xfrm>
            <a:off x="6172200" y="63036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4"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3265"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6" name=""/>
          <p:cNvSpPr/>
          <p:nvPr/>
        </p:nvSpPr>
        <p:spPr>
          <a:xfrm>
            <a:off x="3429000" y="1371600"/>
            <a:ext cx="266760" cy="39672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7" name=""/>
          <p:cNvSpPr/>
          <p:nvPr/>
        </p:nvSpPr>
        <p:spPr>
          <a:xfrm>
            <a:off x="4648320" y="1697040"/>
            <a:ext cx="230040" cy="32400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8" name=""/>
          <p:cNvSpPr/>
          <p:nvPr/>
        </p:nvSpPr>
        <p:spPr>
          <a:xfrm>
            <a:off x="5181480" y="243216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9" name=""/>
          <p:cNvSpPr/>
          <p:nvPr/>
        </p:nvSpPr>
        <p:spPr>
          <a:xfrm>
            <a:off x="5105520" y="3745080"/>
            <a:ext cx="21888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0" name=""/>
          <p:cNvSpPr/>
          <p:nvPr/>
        </p:nvSpPr>
        <p:spPr>
          <a:xfrm>
            <a:off x="3962520" y="432288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1" name=""/>
          <p:cNvSpPr/>
          <p:nvPr/>
        </p:nvSpPr>
        <p:spPr>
          <a:xfrm>
            <a:off x="3009960" y="3865680"/>
            <a:ext cx="19980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2" name=""/>
          <p:cNvSpPr/>
          <p:nvPr/>
        </p:nvSpPr>
        <p:spPr>
          <a:xfrm>
            <a:off x="2781360" y="3009960"/>
            <a:ext cx="258840" cy="10008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3" name=""/>
          <p:cNvSpPr/>
          <p:nvPr/>
        </p:nvSpPr>
        <p:spPr>
          <a:xfrm>
            <a:off x="3227400" y="2247840"/>
            <a:ext cx="290520" cy="16056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4" name=""/>
          <p:cNvGrpSpPr/>
          <p:nvPr/>
        </p:nvGrpSpPr>
        <p:grpSpPr>
          <a:xfrm>
            <a:off x="3429000" y="2514600"/>
            <a:ext cx="1599840" cy="1294920"/>
            <a:chOff x="3429000" y="2514600"/>
            <a:chExt cx="1599840" cy="1294920"/>
          </a:xfrm>
        </p:grpSpPr>
        <p:grpSp>
          <p:nvGrpSpPr>
            <p:cNvPr id="3275" name=""/>
            <p:cNvGrpSpPr/>
            <p:nvPr/>
          </p:nvGrpSpPr>
          <p:grpSpPr>
            <a:xfrm>
              <a:off x="3429000" y="2514600"/>
              <a:ext cx="1599840" cy="1294920"/>
              <a:chOff x="3429000" y="2514600"/>
              <a:chExt cx="1599840" cy="1294920"/>
            </a:xfrm>
          </p:grpSpPr>
          <p:sp>
            <p:nvSpPr>
              <p:cNvPr id="3276" name=""/>
              <p:cNvSpPr/>
              <p:nvPr/>
            </p:nvSpPr>
            <p:spPr>
              <a:xfrm>
                <a:off x="3429000" y="2607120"/>
                <a:ext cx="479880" cy="45432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7" name=""/>
              <p:cNvSpPr/>
              <p:nvPr/>
            </p:nvSpPr>
            <p:spPr>
              <a:xfrm>
                <a:off x="3668760" y="3162240"/>
                <a:ext cx="880200" cy="64728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8" name=""/>
              <p:cNvSpPr/>
              <p:nvPr/>
            </p:nvSpPr>
            <p:spPr>
              <a:xfrm>
                <a:off x="4388760" y="2514600"/>
                <a:ext cx="640080" cy="60516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9" name=""/>
              <p:cNvSpPr/>
              <p:nvPr/>
            </p:nvSpPr>
            <p:spPr>
              <a:xfrm>
                <a:off x="3828960" y="2792160"/>
                <a:ext cx="621000" cy="475920"/>
              </a:xfrm>
              <a:custGeom>
                <a:avLst/>
                <a:gdLst/>
                <a:ahLst/>
                <a:rect l="l" t="t" r="r" b="b"/>
                <a:pathLst>
                  <a:path w="2278" h="1508">
                    <a:moveTo>
                      <a:pt x="15042" y="3209"/>
                    </a:moveTo>
                    <a:cubicBezTo>
                      <a:pt x="15018" y="3199"/>
                      <a:pt x="14996" y="3188"/>
                      <a:pt x="14971" y="3180"/>
                    </a:cubicBezTo>
                    <a:cubicBezTo>
                      <a:pt x="14931" y="3167"/>
                      <a:pt x="14890" y="3157"/>
                      <a:pt x="14849" y="3149"/>
                    </a:cubicBezTo>
                    <a:cubicBezTo>
                      <a:pt x="14626" y="3103"/>
                      <a:pt x="14373" y="3117"/>
                      <a:pt x="14149" y="3144"/>
                    </a:cubicBezTo>
                    <a:cubicBezTo>
                      <a:pt x="14036" y="3158"/>
                      <a:pt x="13917" y="3175"/>
                      <a:pt x="13810" y="3217"/>
                    </a:cubicBezTo>
                    <a:cubicBezTo>
                      <a:pt x="13749" y="3241"/>
                      <a:pt x="13654" y="3288"/>
                      <a:pt x="13667" y="3369"/>
                    </a:cubicBezTo>
                    <a:cubicBezTo>
                      <a:pt x="13678" y="3441"/>
                      <a:pt x="13763" y="3478"/>
                      <a:pt x="13820" y="3506"/>
                    </a:cubicBezTo>
                    <a:cubicBezTo>
                      <a:pt x="13995" y="3590"/>
                      <a:pt x="14195" y="3623"/>
                      <a:pt x="14386" y="3645"/>
                    </a:cubicBezTo>
                    <a:cubicBezTo>
                      <a:pt x="14648" y="3675"/>
                      <a:pt x="14911" y="3683"/>
                      <a:pt x="15173" y="3656"/>
                    </a:cubicBezTo>
                    <a:cubicBezTo>
                      <a:pt x="15330" y="3639"/>
                      <a:pt x="15493" y="3612"/>
                      <a:pt x="15635" y="3538"/>
                    </a:cubicBezTo>
                    <a:cubicBezTo>
                      <a:pt x="15691" y="3509"/>
                      <a:pt x="15784" y="3440"/>
                      <a:pt x="15744" y="3364"/>
                    </a:cubicBezTo>
                    <a:cubicBezTo>
                      <a:pt x="15699" y="3280"/>
                      <a:pt x="15551" y="3264"/>
                      <a:pt x="15472" y="3249"/>
                    </a:cubicBezTo>
                    <a:cubicBezTo>
                      <a:pt x="15355" y="3230"/>
                      <a:pt x="15316" y="3224"/>
                      <a:pt x="15236" y="3224"/>
                    </a:cubicBezTo>
                  </a:path>
                  <a:path w="2278" h="1508">
                    <a:moveTo>
                      <a:pt x="13558" y="3514"/>
                    </a:moveTo>
                    <a:cubicBezTo>
                      <a:pt x="13552" y="3544"/>
                      <a:pt x="13555" y="3575"/>
                      <a:pt x="13549" y="3605"/>
                    </a:cubicBezTo>
                    <a:cubicBezTo>
                      <a:pt x="13537" y="3666"/>
                      <a:pt x="13525" y="3726"/>
                      <a:pt x="13515" y="3788"/>
                    </a:cubicBezTo>
                    <a:cubicBezTo>
                      <a:pt x="13502" y="3868"/>
                      <a:pt x="13494" y="3944"/>
                      <a:pt x="13494" y="4025"/>
                    </a:cubicBezTo>
                    <a:cubicBezTo>
                      <a:pt x="13494" y="4092"/>
                      <a:pt x="13501" y="4158"/>
                      <a:pt x="13523" y="4221"/>
                    </a:cubicBezTo>
                    <a:cubicBezTo>
                      <a:pt x="13533" y="4248"/>
                      <a:pt x="13554" y="4310"/>
                      <a:pt x="13578" y="4329"/>
                    </a:cubicBezTo>
                    <a:cubicBezTo>
                      <a:pt x="13585" y="4332"/>
                      <a:pt x="13593" y="4335"/>
                      <a:pt x="13600" y="4338"/>
                    </a:cubicBezTo>
                  </a:path>
                  <a:path w="2278" h="1508">
                    <a:moveTo>
                      <a:pt x="13820" y="4480"/>
                    </a:moveTo>
                    <a:cubicBezTo>
                      <a:pt x="13853" y="4483"/>
                      <a:pt x="13872" y="4485"/>
                      <a:pt x="13904" y="4496"/>
                    </a:cubicBezTo>
                    <a:cubicBezTo>
                      <a:pt x="14081" y="4554"/>
                      <a:pt x="14250" y="4605"/>
                      <a:pt x="14437" y="4624"/>
                    </a:cubicBezTo>
                    <a:cubicBezTo>
                      <a:pt x="14604" y="4641"/>
                      <a:pt x="14770" y="4631"/>
                      <a:pt x="14936" y="4617"/>
                    </a:cubicBezTo>
                    <a:cubicBezTo>
                      <a:pt x="15157" y="4599"/>
                      <a:pt x="15393" y="4569"/>
                      <a:pt x="15603" y="4494"/>
                    </a:cubicBezTo>
                    <a:cubicBezTo>
                      <a:pt x="15664" y="4472"/>
                      <a:pt x="15733" y="4444"/>
                      <a:pt x="15771" y="4391"/>
                    </a:cubicBezTo>
                    <a:cubicBezTo>
                      <a:pt x="15771" y="4384"/>
                      <a:pt x="15771" y="4376"/>
                      <a:pt x="15771" y="4369"/>
                    </a:cubicBezTo>
                  </a:path>
                  <a:path w="2278" h="1508">
                    <a:moveTo>
                      <a:pt x="15750" y="3638"/>
                    </a:moveTo>
                    <a:cubicBezTo>
                      <a:pt x="15741" y="3656"/>
                      <a:pt x="15736" y="3685"/>
                      <a:pt x="15733" y="3706"/>
                    </a:cubicBezTo>
                    <a:cubicBezTo>
                      <a:pt x="15727" y="3756"/>
                      <a:pt x="15718" y="3805"/>
                      <a:pt x="15713" y="3856"/>
                    </a:cubicBezTo>
                    <a:cubicBezTo>
                      <a:pt x="15706" y="3931"/>
                      <a:pt x="15707" y="4008"/>
                      <a:pt x="15706" y="4084"/>
                    </a:cubicBezTo>
                    <a:cubicBezTo>
                      <a:pt x="15705" y="4158"/>
                      <a:pt x="15717" y="4231"/>
                      <a:pt x="15720" y="4305"/>
                    </a:cubicBezTo>
                    <a:cubicBezTo>
                      <a:pt x="15722" y="4348"/>
                      <a:pt x="15723" y="4387"/>
                      <a:pt x="15729" y="442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0" name=""/>
            <p:cNvSpPr/>
            <p:nvPr/>
          </p:nvSpPr>
          <p:spPr>
            <a:xfrm>
              <a:off x="3506760" y="2743200"/>
              <a:ext cx="2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X</a:t>
              </a:r>
              <a:endParaRPr b="0" lang="en-US" sz="1600" spc="-1" strike="noStrike">
                <a:solidFill>
                  <a:srgbClr val="000000"/>
                </a:solidFill>
                <a:latin typeface="Arial"/>
              </a:endParaRPr>
            </a:p>
          </p:txBody>
        </p:sp>
        <p:sp>
          <p:nvSpPr>
            <p:cNvPr id="3281"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p</a:t>
              </a:r>
              <a:endParaRPr b="0" lang="en-US" sz="1600" spc="-1" strike="noStrike">
                <a:solidFill>
                  <a:srgbClr val="000000"/>
                </a:solidFill>
                <a:latin typeface="Arial"/>
              </a:endParaRPr>
            </a:p>
          </p:txBody>
        </p:sp>
        <p:sp>
          <p:nvSpPr>
            <p:cNvPr id="3282"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Z</a:t>
              </a:r>
              <a:endParaRPr b="0" lang="en-US" sz="1600" spc="-1" strike="noStrike">
                <a:solidFill>
                  <a:srgbClr val="000000"/>
                </a:solidFill>
                <a:latin typeface="Arial"/>
              </a:endParaRPr>
            </a:p>
          </p:txBody>
        </p:sp>
        <p:sp>
          <p:nvSpPr>
            <p:cNvPr id="3283" name=""/>
            <p:cNvSpPr/>
            <p:nvPr/>
          </p:nvSpPr>
          <p:spPr>
            <a:xfrm>
              <a:off x="3980520" y="2895480"/>
              <a:ext cx="3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St</a:t>
              </a:r>
              <a:endParaRPr b="0" lang="en-US" sz="1600" spc="-1" strike="noStrike">
                <a:solidFill>
                  <a:srgbClr val="000000"/>
                </a:solidFill>
                <a:latin typeface="Arial"/>
              </a:endParaRPr>
            </a:p>
          </p:txBody>
        </p:sp>
      </p:grpSp>
      <p:sp>
        <p:nvSpPr>
          <p:cNvPr id="3284"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grpSp>
        <p:nvGrpSpPr>
          <p:cNvPr id="3285" name=""/>
          <p:cNvGrpSpPr/>
          <p:nvPr/>
        </p:nvGrpSpPr>
        <p:grpSpPr>
          <a:xfrm>
            <a:off x="3200400" y="2220840"/>
            <a:ext cx="2225160" cy="1985760"/>
            <a:chOff x="3200400" y="2220840"/>
            <a:chExt cx="2225160" cy="1985760"/>
          </a:xfrm>
        </p:grpSpPr>
        <p:sp>
          <p:nvSpPr>
            <p:cNvPr id="3286" name=""/>
            <p:cNvSpPr/>
            <p:nvPr/>
          </p:nvSpPr>
          <p:spPr>
            <a:xfrm>
              <a:off x="4805280" y="2220840"/>
              <a:ext cx="264600" cy="183960"/>
            </a:xfrm>
            <a:custGeom>
              <a:avLst/>
              <a:gdLst/>
              <a:ahLst/>
              <a:rect l="l" t="t" r="r" b="b"/>
              <a:pathLst>
                <a:path w="737" h="512">
                  <a:moveTo>
                    <a:pt x="21534" y="12356"/>
                  </a:moveTo>
                  <a:cubicBezTo>
                    <a:pt x="21564" y="12313"/>
                    <a:pt x="21582" y="12275"/>
                    <a:pt x="21603" y="12228"/>
                  </a:cubicBezTo>
                  <a:cubicBezTo>
                    <a:pt x="21608" y="12216"/>
                    <a:pt x="21614" y="12205"/>
                    <a:pt x="21619" y="12193"/>
                  </a:cubicBezTo>
                </a:path>
                <a:path w="737" h="512">
                  <a:moveTo>
                    <a:pt x="21788" y="12087"/>
                  </a:moveTo>
                  <a:cubicBezTo>
                    <a:pt x="21783" y="12044"/>
                    <a:pt x="21783" y="12010"/>
                    <a:pt x="21794" y="11968"/>
                  </a:cubicBezTo>
                  <a:cubicBezTo>
                    <a:pt x="21806" y="11922"/>
                    <a:pt x="21831" y="11884"/>
                    <a:pt x="21857" y="11845"/>
                  </a:cubicBezTo>
                </a:path>
                <a:path w="737" h="512">
                  <a:moveTo>
                    <a:pt x="22095" y="11972"/>
                  </a:moveTo>
                  <a:cubicBezTo>
                    <a:pt x="22104" y="12036"/>
                    <a:pt x="22139" y="12042"/>
                    <a:pt x="22180" y="12091"/>
                  </a:cubicBezTo>
                  <a:cubicBezTo>
                    <a:pt x="22213" y="12130"/>
                    <a:pt x="22244" y="12171"/>
                    <a:pt x="22270" y="1221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7" name=""/>
            <p:cNvSpPr/>
            <p:nvPr/>
          </p:nvSpPr>
          <p:spPr>
            <a:xfrm>
              <a:off x="5109840" y="2427120"/>
              <a:ext cx="17280" cy="88920"/>
            </a:xfrm>
            <a:custGeom>
              <a:avLst/>
              <a:gdLst/>
              <a:ahLst/>
              <a:rect l="l" t="t" r="r" b="b"/>
              <a:pathLst>
                <a:path w="49" h="248">
                  <a:moveTo>
                    <a:pt x="22423" y="12418"/>
                  </a:moveTo>
                  <a:cubicBezTo>
                    <a:pt x="22393" y="12459"/>
                    <a:pt x="22377" y="12488"/>
                    <a:pt x="22381" y="12541"/>
                  </a:cubicBezTo>
                  <a:cubicBezTo>
                    <a:pt x="22384" y="12589"/>
                    <a:pt x="22406" y="12625"/>
                    <a:pt x="22429" y="12665"/>
                  </a:cubicBezTo>
                </a:path>
              </a:pathLst>
            </a:custGeom>
            <a:noFill/>
            <a:ln cap="rnd" w="38160">
              <a:solidFill>
                <a:srgbClr val="808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288" name=""/>
            <p:cNvSpPr/>
            <p:nvPr/>
          </p:nvSpPr>
          <p:spPr>
            <a:xfrm>
              <a:off x="5190840" y="2592000"/>
              <a:ext cx="44280" cy="90720"/>
            </a:xfrm>
            <a:custGeom>
              <a:avLst/>
              <a:gdLst/>
              <a:ahLst/>
              <a:rect l="l" t="t" r="r" b="b"/>
              <a:pathLst>
                <a:path w="123" h="253">
                  <a:moveTo>
                    <a:pt x="22619" y="12876"/>
                  </a:moveTo>
                  <a:cubicBezTo>
                    <a:pt x="22600" y="12926"/>
                    <a:pt x="22600" y="12952"/>
                    <a:pt x="22630" y="13000"/>
                  </a:cubicBezTo>
                  <a:cubicBezTo>
                    <a:pt x="22659" y="13046"/>
                    <a:pt x="22690" y="13087"/>
                    <a:pt x="22725" y="13128"/>
                  </a:cubicBezTo>
                </a:path>
              </a:pathLst>
            </a:custGeom>
            <a:noFill/>
            <a:ln cap="rnd" w="38160">
              <a:solidFill>
                <a:srgbClr val="808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89" name=""/>
            <p:cNvSpPr/>
            <p:nvPr/>
          </p:nvSpPr>
          <p:spPr>
            <a:xfrm>
              <a:off x="5298840" y="2761920"/>
              <a:ext cx="79200" cy="82800"/>
            </a:xfrm>
            <a:custGeom>
              <a:avLst/>
              <a:gdLst/>
              <a:ahLst/>
              <a:rect l="l" t="t" r="r" b="b"/>
              <a:pathLst>
                <a:path w="218" h="231">
                  <a:moveTo>
                    <a:pt x="22905" y="13348"/>
                  </a:moveTo>
                  <a:cubicBezTo>
                    <a:pt x="22964" y="13374"/>
                    <a:pt x="22995" y="13401"/>
                    <a:pt x="23032" y="13454"/>
                  </a:cubicBezTo>
                  <a:cubicBezTo>
                    <a:pt x="23062" y="13496"/>
                    <a:pt x="23089" y="13538"/>
                    <a:pt x="23122" y="13578"/>
                  </a:cubicBezTo>
                </a:path>
              </a:pathLst>
            </a:custGeom>
            <a:noFill/>
            <a:ln cap="rnd" w="3816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290" name=""/>
            <p:cNvSpPr/>
            <p:nvPr/>
          </p:nvSpPr>
          <p:spPr>
            <a:xfrm>
              <a:off x="5317920" y="2943000"/>
              <a:ext cx="107640" cy="112680"/>
            </a:xfrm>
            <a:custGeom>
              <a:avLst/>
              <a:gdLst/>
              <a:ahLst/>
              <a:rect l="l" t="t" r="r" b="b"/>
              <a:pathLst>
                <a:path w="297" h="314">
                  <a:moveTo>
                    <a:pt x="23191" y="13851"/>
                  </a:moveTo>
                  <a:cubicBezTo>
                    <a:pt x="23210" y="13894"/>
                    <a:pt x="23229" y="13935"/>
                    <a:pt x="23244" y="13979"/>
                  </a:cubicBezTo>
                  <a:cubicBezTo>
                    <a:pt x="23247" y="13989"/>
                    <a:pt x="23251" y="14000"/>
                    <a:pt x="23254" y="14010"/>
                  </a:cubicBezTo>
                </a:path>
                <a:path w="297" h="314">
                  <a:moveTo>
                    <a:pt x="22958" y="14164"/>
                  </a:moveTo>
                  <a:cubicBezTo>
                    <a:pt x="23006" y="14164"/>
                    <a:pt x="23053" y="14161"/>
                    <a:pt x="23101" y="1416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1" name=""/>
            <p:cNvSpPr/>
            <p:nvPr/>
          </p:nvSpPr>
          <p:spPr>
            <a:xfrm>
              <a:off x="3441600" y="2435040"/>
              <a:ext cx="1758600" cy="1730160"/>
            </a:xfrm>
            <a:custGeom>
              <a:avLst/>
              <a:gdLst/>
              <a:ahLst/>
              <a:rect l="l" t="t" r="r" b="b"/>
              <a:pathLst>
                <a:path w="4885" h="4807">
                  <a:moveTo>
                    <a:pt x="22556" y="14173"/>
                  </a:moveTo>
                  <a:cubicBezTo>
                    <a:pt x="22593" y="14177"/>
                    <a:pt x="22605" y="14178"/>
                    <a:pt x="22630" y="14177"/>
                  </a:cubicBezTo>
                </a:path>
                <a:path w="4885" h="4807">
                  <a:moveTo>
                    <a:pt x="21053" y="16281"/>
                  </a:moveTo>
                  <a:cubicBezTo>
                    <a:pt x="21075" y="16323"/>
                    <a:pt x="21099" y="16366"/>
                    <a:pt x="21127" y="16404"/>
                  </a:cubicBezTo>
                  <a:cubicBezTo>
                    <a:pt x="21136" y="16414"/>
                    <a:pt x="21144" y="16425"/>
                    <a:pt x="21153" y="16435"/>
                  </a:cubicBezTo>
                </a:path>
                <a:path w="4885" h="4807">
                  <a:moveTo>
                    <a:pt x="21513" y="16902"/>
                  </a:moveTo>
                  <a:cubicBezTo>
                    <a:pt x="21522" y="16915"/>
                    <a:pt x="21531" y="16929"/>
                    <a:pt x="21540" y="16942"/>
                  </a:cubicBezTo>
                </a:path>
                <a:path w="4885" h="4807">
                  <a:moveTo>
                    <a:pt x="17746" y="17149"/>
                  </a:moveTo>
                  <a:cubicBezTo>
                    <a:pt x="17760" y="17185"/>
                    <a:pt x="17765" y="17207"/>
                    <a:pt x="17767" y="17246"/>
                  </a:cubicBezTo>
                </a:path>
                <a:path w="4885" h="4807">
                  <a:moveTo>
                    <a:pt x="18190" y="12440"/>
                  </a:moveTo>
                  <a:cubicBezTo>
                    <a:pt x="18210" y="12472"/>
                    <a:pt x="18229" y="12504"/>
                    <a:pt x="18248" y="12537"/>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2" name=""/>
            <p:cNvSpPr/>
            <p:nvPr/>
          </p:nvSpPr>
          <p:spPr>
            <a:xfrm>
              <a:off x="3490560" y="3904920"/>
              <a:ext cx="1360440" cy="241560"/>
            </a:xfrm>
            <a:custGeom>
              <a:avLst/>
              <a:gdLst/>
              <a:ahLst/>
              <a:rect l="l" t="t" r="r" b="b"/>
              <a:pathLst>
                <a:path w="3779" h="672">
                  <a:moveTo>
                    <a:pt x="18063" y="16523"/>
                  </a:moveTo>
                  <a:cubicBezTo>
                    <a:pt x="18056" y="16556"/>
                    <a:pt x="18047" y="16587"/>
                    <a:pt x="18037" y="16620"/>
                  </a:cubicBezTo>
                </a:path>
                <a:path w="3779" h="672">
                  <a:moveTo>
                    <a:pt x="17957" y="16828"/>
                  </a:moveTo>
                  <a:cubicBezTo>
                    <a:pt x="17933" y="16863"/>
                    <a:pt x="17909" y="16896"/>
                    <a:pt x="17883" y="16929"/>
                  </a:cubicBezTo>
                </a:path>
                <a:path w="3779" h="672">
                  <a:moveTo>
                    <a:pt x="21513" y="17154"/>
                  </a:moveTo>
                  <a:cubicBezTo>
                    <a:pt x="21565" y="17177"/>
                    <a:pt x="21605" y="17191"/>
                    <a:pt x="21661" y="1719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3" name=""/>
            <p:cNvSpPr/>
            <p:nvPr/>
          </p:nvSpPr>
          <p:spPr>
            <a:xfrm>
              <a:off x="3527280" y="3776400"/>
              <a:ext cx="136080" cy="403200"/>
            </a:xfrm>
            <a:custGeom>
              <a:avLst/>
              <a:gdLst/>
              <a:ahLst/>
              <a:rect l="l" t="t" r="r" b="b"/>
              <a:pathLst>
                <a:path w="376" h="1121">
                  <a:moveTo>
                    <a:pt x="18359" y="16166"/>
                  </a:moveTo>
                  <a:cubicBezTo>
                    <a:pt x="18343" y="16209"/>
                    <a:pt x="18322" y="16249"/>
                    <a:pt x="18301" y="16290"/>
                  </a:cubicBezTo>
                </a:path>
                <a:path w="376" h="1121">
                  <a:moveTo>
                    <a:pt x="17984" y="17286"/>
                  </a:moveTo>
                  <a:cubicBezTo>
                    <a:pt x="18033" y="17264"/>
                    <a:pt x="18083" y="17243"/>
                    <a:pt x="18137" y="17233"/>
                  </a:cubicBezTo>
                  <a:cubicBezTo>
                    <a:pt x="18175" y="17229"/>
                    <a:pt x="18189" y="17227"/>
                    <a:pt x="18211" y="17211"/>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4" name=""/>
            <p:cNvSpPr/>
            <p:nvPr/>
          </p:nvSpPr>
          <p:spPr>
            <a:xfrm>
              <a:off x="3732120" y="4159080"/>
              <a:ext cx="313920" cy="31680"/>
            </a:xfrm>
            <a:custGeom>
              <a:avLst/>
              <a:gdLst/>
              <a:ahLst/>
              <a:rect l="l" t="t" r="r" b="b"/>
              <a:pathLst>
                <a:path w="874" h="89">
                  <a:moveTo>
                    <a:pt x="18550" y="17246"/>
                  </a:moveTo>
                  <a:cubicBezTo>
                    <a:pt x="18600" y="17263"/>
                    <a:pt x="18647" y="17280"/>
                    <a:pt x="18698" y="17291"/>
                  </a:cubicBezTo>
                  <a:cubicBezTo>
                    <a:pt x="18747" y="17302"/>
                    <a:pt x="18796" y="17299"/>
                    <a:pt x="18846" y="17299"/>
                  </a:cubicBezTo>
                </a:path>
                <a:path w="874" h="89">
                  <a:moveTo>
                    <a:pt x="19090" y="17229"/>
                  </a:moveTo>
                  <a:cubicBezTo>
                    <a:pt x="19138" y="17255"/>
                    <a:pt x="19181" y="17266"/>
                    <a:pt x="19233" y="17282"/>
                  </a:cubicBezTo>
                  <a:cubicBezTo>
                    <a:pt x="19284" y="17298"/>
                    <a:pt x="19333" y="17307"/>
                    <a:pt x="19386" y="17313"/>
                  </a:cubicBezTo>
                  <a:cubicBezTo>
                    <a:pt x="19398" y="17314"/>
                    <a:pt x="19411" y="17316"/>
                    <a:pt x="19423" y="17317"/>
                  </a:cubicBezTo>
                </a:path>
              </a:pathLst>
            </a:custGeom>
            <a:noFill/>
            <a:ln cap="rnd" w="38160">
              <a:solidFill>
                <a:srgbClr val="808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95" name=""/>
            <p:cNvSpPr/>
            <p:nvPr/>
          </p:nvSpPr>
          <p:spPr>
            <a:xfrm>
              <a:off x="4182840" y="4187520"/>
              <a:ext cx="109080" cy="19080"/>
            </a:xfrm>
            <a:custGeom>
              <a:avLst/>
              <a:gdLst/>
              <a:ahLst/>
              <a:rect l="l" t="t" r="r" b="b"/>
              <a:pathLst>
                <a:path w="303" h="54">
                  <a:moveTo>
                    <a:pt x="19804" y="17308"/>
                  </a:moveTo>
                  <a:cubicBezTo>
                    <a:pt x="19864" y="17340"/>
                    <a:pt x="19890" y="17329"/>
                    <a:pt x="19952" y="17339"/>
                  </a:cubicBezTo>
                  <a:cubicBezTo>
                    <a:pt x="20005" y="17347"/>
                    <a:pt x="20051" y="17360"/>
                    <a:pt x="20106" y="17361"/>
                  </a:cubicBezTo>
                </a:path>
              </a:pathLst>
            </a:custGeom>
            <a:noFill/>
            <a:ln cap="rnd" w="38160">
              <a:solidFill>
                <a:srgbClr val="808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96" name=""/>
            <p:cNvSpPr/>
            <p:nvPr/>
          </p:nvSpPr>
          <p:spPr>
            <a:xfrm>
              <a:off x="4406760" y="4151160"/>
              <a:ext cx="337680" cy="33120"/>
            </a:xfrm>
            <a:custGeom>
              <a:avLst/>
              <a:gdLst/>
              <a:ahLst/>
              <a:rect l="l" t="t" r="r" b="b"/>
              <a:pathLst>
                <a:path w="938" h="93">
                  <a:moveTo>
                    <a:pt x="20428" y="17233"/>
                  </a:moveTo>
                  <a:cubicBezTo>
                    <a:pt x="20481" y="17267"/>
                    <a:pt x="20523" y="17290"/>
                    <a:pt x="20587" y="17295"/>
                  </a:cubicBezTo>
                  <a:cubicBezTo>
                    <a:pt x="20637" y="17299"/>
                    <a:pt x="20685" y="17293"/>
                    <a:pt x="20735" y="17295"/>
                  </a:cubicBezTo>
                  <a:cubicBezTo>
                    <a:pt x="20747" y="17296"/>
                    <a:pt x="20760" y="17298"/>
                    <a:pt x="20772" y="17299"/>
                  </a:cubicBezTo>
                </a:path>
                <a:path w="938" h="93">
                  <a:moveTo>
                    <a:pt x="21063" y="17207"/>
                  </a:moveTo>
                  <a:cubicBezTo>
                    <a:pt x="21117" y="17234"/>
                    <a:pt x="21156" y="17253"/>
                    <a:pt x="21217" y="17255"/>
                  </a:cubicBezTo>
                  <a:cubicBezTo>
                    <a:pt x="21268" y="17256"/>
                    <a:pt x="21316" y="17256"/>
                    <a:pt x="21365" y="17264"/>
                  </a:cubicBezTo>
                </a:path>
              </a:pathLst>
            </a:custGeom>
            <a:noFill/>
            <a:ln cap="rnd" w="38160">
              <a:solidFill>
                <a:srgbClr val="808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97" name=""/>
            <p:cNvSpPr/>
            <p:nvPr/>
          </p:nvSpPr>
          <p:spPr>
            <a:xfrm>
              <a:off x="4716360" y="3927240"/>
              <a:ext cx="64800" cy="76320"/>
            </a:xfrm>
            <a:custGeom>
              <a:avLst/>
              <a:gdLst/>
              <a:ahLst/>
              <a:rect l="l" t="t" r="r" b="b"/>
              <a:pathLst>
                <a:path w="181" h="213">
                  <a:moveTo>
                    <a:pt x="21286" y="16585"/>
                  </a:moveTo>
                  <a:cubicBezTo>
                    <a:pt x="21335" y="16621"/>
                    <a:pt x="21379" y="16656"/>
                    <a:pt x="21413" y="16708"/>
                  </a:cubicBezTo>
                  <a:cubicBezTo>
                    <a:pt x="21431" y="16737"/>
                    <a:pt x="21448" y="16768"/>
                    <a:pt x="21466" y="16797"/>
                  </a:cubicBezTo>
                </a:path>
              </a:pathLst>
            </a:custGeom>
            <a:noFill/>
            <a:ln cap="rnd" w="38160">
              <a:solidFill>
                <a:srgbClr val="80808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98" name=""/>
            <p:cNvSpPr/>
            <p:nvPr/>
          </p:nvSpPr>
          <p:spPr>
            <a:xfrm>
              <a:off x="3528720" y="2339640"/>
              <a:ext cx="39600" cy="23760"/>
            </a:xfrm>
            <a:custGeom>
              <a:avLst/>
              <a:gdLst/>
              <a:ahLst/>
              <a:rect l="l" t="t" r="r" b="b"/>
              <a:pathLst>
                <a:path w="107" h="67">
                  <a:moveTo>
                    <a:pt x="17989" y="12175"/>
                  </a:moveTo>
                  <a:cubicBezTo>
                    <a:pt x="18033" y="12194"/>
                    <a:pt x="18060" y="12210"/>
                    <a:pt x="18095" y="12241"/>
                  </a:cubicBezTo>
                </a:path>
              </a:pathLst>
            </a:custGeom>
            <a:noFill/>
            <a:ln cap="rnd" w="38160">
              <a:solidFill>
                <a:srgbClr val="808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99" name=""/>
            <p:cNvSpPr/>
            <p:nvPr/>
          </p:nvSpPr>
          <p:spPr>
            <a:xfrm>
              <a:off x="3354120" y="2360520"/>
              <a:ext cx="320400" cy="293400"/>
            </a:xfrm>
            <a:custGeom>
              <a:avLst/>
              <a:gdLst/>
              <a:ahLst/>
              <a:rect l="l" t="t" r="r" b="b"/>
              <a:pathLst>
                <a:path w="890" h="816">
                  <a:moveTo>
                    <a:pt x="18391" y="12599"/>
                  </a:moveTo>
                  <a:cubicBezTo>
                    <a:pt x="18371" y="12646"/>
                    <a:pt x="18374" y="12680"/>
                    <a:pt x="18381" y="12731"/>
                  </a:cubicBezTo>
                </a:path>
                <a:path w="890" h="816">
                  <a:moveTo>
                    <a:pt x="17936" y="12233"/>
                  </a:moveTo>
                  <a:cubicBezTo>
                    <a:pt x="17927" y="12275"/>
                    <a:pt x="17916" y="12312"/>
                    <a:pt x="17915" y="12356"/>
                  </a:cubicBezTo>
                  <a:cubicBezTo>
                    <a:pt x="17915" y="12368"/>
                    <a:pt x="17915" y="12379"/>
                    <a:pt x="17915" y="12391"/>
                  </a:cubicBezTo>
                </a:path>
                <a:path w="890" h="816">
                  <a:moveTo>
                    <a:pt x="17836" y="12431"/>
                  </a:moveTo>
                  <a:cubicBezTo>
                    <a:pt x="17803" y="12470"/>
                    <a:pt x="17774" y="12508"/>
                    <a:pt x="17746" y="12550"/>
                  </a:cubicBezTo>
                  <a:cubicBezTo>
                    <a:pt x="17726" y="12581"/>
                    <a:pt x="17710" y="12610"/>
                    <a:pt x="17693" y="12643"/>
                  </a:cubicBezTo>
                </a:path>
                <a:path w="890" h="816">
                  <a:moveTo>
                    <a:pt x="17634" y="12837"/>
                  </a:moveTo>
                  <a:cubicBezTo>
                    <a:pt x="17589" y="12870"/>
                    <a:pt x="17558" y="12903"/>
                    <a:pt x="17534" y="12956"/>
                  </a:cubicBezTo>
                  <a:cubicBezTo>
                    <a:pt x="17521" y="12986"/>
                    <a:pt x="17513" y="13018"/>
                    <a:pt x="17502" y="1304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0" name=""/>
            <p:cNvSpPr/>
            <p:nvPr/>
          </p:nvSpPr>
          <p:spPr>
            <a:xfrm>
              <a:off x="3295440" y="2746080"/>
              <a:ext cx="31320" cy="44640"/>
            </a:xfrm>
            <a:custGeom>
              <a:avLst/>
              <a:gdLst/>
              <a:ahLst/>
              <a:rect l="l" t="t" r="r" b="b"/>
              <a:pathLst>
                <a:path w="91" h="125">
                  <a:moveTo>
                    <a:pt x="17428" y="13304"/>
                  </a:moveTo>
                  <a:cubicBezTo>
                    <a:pt x="17399" y="13347"/>
                    <a:pt x="17368" y="13387"/>
                    <a:pt x="17338" y="13428"/>
                  </a:cubicBezTo>
                </a:path>
              </a:pathLst>
            </a:custGeom>
            <a:noFill/>
            <a:ln cap="rnd" w="38160">
              <a:solidFill>
                <a:srgbClr val="80808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301" name=""/>
            <p:cNvSpPr/>
            <p:nvPr/>
          </p:nvSpPr>
          <p:spPr>
            <a:xfrm>
              <a:off x="3200400" y="2906640"/>
              <a:ext cx="236160" cy="152280"/>
            </a:xfrm>
            <a:custGeom>
              <a:avLst/>
              <a:gdLst/>
              <a:ahLst/>
              <a:rect l="l" t="t" r="r" b="b"/>
              <a:pathLst>
                <a:path w="657" h="424">
                  <a:moveTo>
                    <a:pt x="17174" y="13750"/>
                  </a:moveTo>
                  <a:cubicBezTo>
                    <a:pt x="17137" y="13790"/>
                    <a:pt x="17119" y="13822"/>
                    <a:pt x="17100" y="13873"/>
                  </a:cubicBezTo>
                  <a:cubicBezTo>
                    <a:pt x="17089" y="13904"/>
                    <a:pt x="17085" y="13915"/>
                    <a:pt x="17074" y="13935"/>
                  </a:cubicBezTo>
                </a:path>
                <a:path w="657" h="424">
                  <a:moveTo>
                    <a:pt x="17074" y="14173"/>
                  </a:moveTo>
                  <a:cubicBezTo>
                    <a:pt x="17122" y="14145"/>
                    <a:pt x="17174" y="14122"/>
                    <a:pt x="17232" y="14116"/>
                  </a:cubicBezTo>
                  <a:cubicBezTo>
                    <a:pt x="17268" y="14112"/>
                    <a:pt x="17307" y="14116"/>
                    <a:pt x="17343" y="14116"/>
                  </a:cubicBezTo>
                </a:path>
                <a:path w="657" h="424">
                  <a:moveTo>
                    <a:pt x="17470" y="14111"/>
                  </a:moveTo>
                  <a:cubicBezTo>
                    <a:pt x="17518" y="14113"/>
                    <a:pt x="17571" y="14113"/>
                    <a:pt x="17619" y="14120"/>
                  </a:cubicBezTo>
                  <a:cubicBezTo>
                    <a:pt x="17658" y="14126"/>
                    <a:pt x="17691" y="14136"/>
                    <a:pt x="17730" y="1413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02" name=""/>
          <p:cNvSpPr/>
          <p:nvPr/>
        </p:nvSpPr>
        <p:spPr>
          <a:xfrm>
            <a:off x="3048120" y="2144880"/>
            <a:ext cx="260496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3" name=""/>
          <p:cNvSpPr/>
          <p:nvPr/>
        </p:nvSpPr>
        <p:spPr>
          <a:xfrm>
            <a:off x="3429000" y="1371600"/>
            <a:ext cx="544680" cy="53352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4" name=""/>
          <p:cNvSpPr/>
          <p:nvPr/>
        </p:nvSpPr>
        <p:spPr>
          <a:xfrm>
            <a:off x="4343400" y="3124080"/>
            <a:ext cx="351000" cy="343080"/>
          </a:xfrm>
          <a:custGeom>
            <a:avLst/>
            <a:gdLst/>
            <a:ahLst/>
            <a:rect l="l" t="t" r="r" b="b"/>
            <a:pathLst>
              <a:path w="976" h="954">
                <a:moveTo>
                  <a:pt x="12143" y="9683"/>
                </a:moveTo>
                <a:cubicBezTo>
                  <a:pt x="12224" y="9627"/>
                  <a:pt x="12316" y="9587"/>
                  <a:pt x="12404" y="9542"/>
                </a:cubicBezTo>
                <a:cubicBezTo>
                  <a:pt x="12446" y="9521"/>
                  <a:pt x="12490" y="9502"/>
                  <a:pt x="12532" y="9481"/>
                </a:cubicBezTo>
                <a:cubicBezTo>
                  <a:pt x="12573" y="9460"/>
                  <a:pt x="12624" y="9438"/>
                  <a:pt x="12660" y="9409"/>
                </a:cubicBezTo>
                <a:cubicBezTo>
                  <a:pt x="12725" y="9357"/>
                  <a:pt x="12785" y="9285"/>
                  <a:pt x="12834" y="9218"/>
                </a:cubicBezTo>
                <a:cubicBezTo>
                  <a:pt x="12868" y="9171"/>
                  <a:pt x="12892" y="9122"/>
                  <a:pt x="12930" y="9077"/>
                </a:cubicBezTo>
                <a:cubicBezTo>
                  <a:pt x="12961" y="9040"/>
                  <a:pt x="12991" y="9006"/>
                  <a:pt x="13017" y="8966"/>
                </a:cubicBezTo>
                <a:cubicBezTo>
                  <a:pt x="13036" y="8937"/>
                  <a:pt x="13054" y="8893"/>
                  <a:pt x="13063" y="8859"/>
                </a:cubicBezTo>
                <a:cubicBezTo>
                  <a:pt x="13072" y="8824"/>
                  <a:pt x="13083" y="8792"/>
                  <a:pt x="13090" y="8757"/>
                </a:cubicBezTo>
                <a:cubicBezTo>
                  <a:pt x="13090" y="8748"/>
                  <a:pt x="13090" y="8739"/>
                  <a:pt x="13090" y="8730"/>
                </a:cubicBezTo>
                <a:cubicBezTo>
                  <a:pt x="13051" y="8761"/>
                  <a:pt x="13021" y="8795"/>
                  <a:pt x="12989" y="8833"/>
                </a:cubicBezTo>
                <a:cubicBezTo>
                  <a:pt x="12967" y="8859"/>
                  <a:pt x="12960" y="8867"/>
                  <a:pt x="12948" y="8886"/>
                </a:cubicBezTo>
                <a:cubicBezTo>
                  <a:pt x="12999" y="8848"/>
                  <a:pt x="13043" y="8810"/>
                  <a:pt x="13081" y="8760"/>
                </a:cubicBezTo>
                <a:cubicBezTo>
                  <a:pt x="13100" y="8808"/>
                  <a:pt x="13114" y="8849"/>
                  <a:pt x="13118" y="8901"/>
                </a:cubicBezTo>
                <a:cubicBezTo>
                  <a:pt x="13118" y="8910"/>
                  <a:pt x="13118" y="8919"/>
                  <a:pt x="13118" y="8928"/>
                </a:cubicBezTo>
              </a:path>
              <a:path w="976" h="954">
                <a:moveTo>
                  <a:pt x="12330" y="9458"/>
                </a:moveTo>
                <a:cubicBezTo>
                  <a:pt x="12273" y="9489"/>
                  <a:pt x="12233" y="9529"/>
                  <a:pt x="12189" y="9576"/>
                </a:cubicBezTo>
                <a:cubicBezTo>
                  <a:pt x="12166" y="9603"/>
                  <a:pt x="12158" y="9612"/>
                  <a:pt x="12143" y="9630"/>
                </a:cubicBezTo>
                <a:cubicBezTo>
                  <a:pt x="12187" y="9630"/>
                  <a:pt x="12228" y="9626"/>
                  <a:pt x="12271" y="9622"/>
                </a:cubicBezTo>
                <a:cubicBezTo>
                  <a:pt x="12315" y="9618"/>
                  <a:pt x="12356" y="9625"/>
                  <a:pt x="12399" y="963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5" name=""/>
          <p:cNvSpPr/>
          <p:nvPr/>
        </p:nvSpPr>
        <p:spPr>
          <a:xfrm>
            <a:off x="3657600" y="3048120"/>
            <a:ext cx="225360" cy="431640"/>
          </a:xfrm>
          <a:custGeom>
            <a:avLst/>
            <a:gdLst/>
            <a:ahLst/>
            <a:rect l="l" t="t" r="r" b="b"/>
            <a:pathLst>
              <a:path w="628" h="1202">
                <a:moveTo>
                  <a:pt x="10230" y="8501"/>
                </a:moveTo>
                <a:cubicBezTo>
                  <a:pt x="10223" y="8543"/>
                  <a:pt x="10221" y="8581"/>
                  <a:pt x="10221" y="8623"/>
                </a:cubicBezTo>
                <a:cubicBezTo>
                  <a:pt x="10221" y="8662"/>
                  <a:pt x="10224" y="8696"/>
                  <a:pt x="10230" y="8734"/>
                </a:cubicBezTo>
                <a:cubicBezTo>
                  <a:pt x="10240" y="8792"/>
                  <a:pt x="10247" y="8850"/>
                  <a:pt x="10253" y="8909"/>
                </a:cubicBezTo>
                <a:cubicBezTo>
                  <a:pt x="10258" y="8966"/>
                  <a:pt x="10288" y="8998"/>
                  <a:pt x="10312" y="9046"/>
                </a:cubicBezTo>
                <a:cubicBezTo>
                  <a:pt x="10332" y="9085"/>
                  <a:pt x="10340" y="9125"/>
                  <a:pt x="10367" y="9161"/>
                </a:cubicBezTo>
                <a:cubicBezTo>
                  <a:pt x="10394" y="9198"/>
                  <a:pt x="10421" y="9232"/>
                  <a:pt x="10450" y="9268"/>
                </a:cubicBezTo>
                <a:cubicBezTo>
                  <a:pt x="10481" y="9306"/>
                  <a:pt x="10516" y="9339"/>
                  <a:pt x="10546" y="9378"/>
                </a:cubicBezTo>
                <a:cubicBezTo>
                  <a:pt x="10574" y="9414"/>
                  <a:pt x="10595" y="9453"/>
                  <a:pt x="10623" y="9489"/>
                </a:cubicBezTo>
                <a:cubicBezTo>
                  <a:pt x="10657" y="9533"/>
                  <a:pt x="10691" y="9556"/>
                  <a:pt x="10738" y="9584"/>
                </a:cubicBezTo>
              </a:path>
              <a:path w="628" h="1202">
                <a:moveTo>
                  <a:pt x="10221" y="8547"/>
                </a:moveTo>
                <a:cubicBezTo>
                  <a:pt x="10198" y="8590"/>
                  <a:pt x="10191" y="8619"/>
                  <a:pt x="10180" y="8665"/>
                </a:cubicBezTo>
                <a:cubicBezTo>
                  <a:pt x="10171" y="8703"/>
                  <a:pt x="10163" y="8742"/>
                  <a:pt x="10152" y="8779"/>
                </a:cubicBezTo>
                <a:cubicBezTo>
                  <a:pt x="10144" y="8806"/>
                  <a:pt x="10142" y="8829"/>
                  <a:pt x="10138" y="8856"/>
                </a:cubicBezTo>
                <a:cubicBezTo>
                  <a:pt x="10138" y="8816"/>
                  <a:pt x="10142" y="8783"/>
                  <a:pt x="10152" y="8745"/>
                </a:cubicBezTo>
                <a:cubicBezTo>
                  <a:pt x="10164" y="8699"/>
                  <a:pt x="10170" y="8653"/>
                  <a:pt x="10184" y="8608"/>
                </a:cubicBezTo>
                <a:cubicBezTo>
                  <a:pt x="10229" y="8652"/>
                  <a:pt x="10270" y="8699"/>
                  <a:pt x="10312" y="8745"/>
                </a:cubicBezTo>
              </a:path>
              <a:path w="628" h="1202">
                <a:moveTo>
                  <a:pt x="10651" y="9653"/>
                </a:moveTo>
                <a:cubicBezTo>
                  <a:pt x="10640" y="9649"/>
                  <a:pt x="10630" y="9645"/>
                  <a:pt x="10619" y="9641"/>
                </a:cubicBezTo>
                <a:cubicBezTo>
                  <a:pt x="10662" y="9666"/>
                  <a:pt x="10700" y="9686"/>
                  <a:pt x="10747" y="9702"/>
                </a:cubicBezTo>
                <a:cubicBezTo>
                  <a:pt x="10757" y="9665"/>
                  <a:pt x="10768" y="9627"/>
                  <a:pt x="10765" y="9588"/>
                </a:cubicBezTo>
                <a:cubicBezTo>
                  <a:pt x="10763" y="9552"/>
                  <a:pt x="10765" y="9517"/>
                  <a:pt x="10761" y="9481"/>
                </a:cubicBezTo>
                <a:cubicBezTo>
                  <a:pt x="10756" y="9454"/>
                  <a:pt x="10754" y="9446"/>
                  <a:pt x="10756" y="942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6" name=""/>
          <p:cNvSpPr/>
          <p:nvPr/>
        </p:nvSpPr>
        <p:spPr>
          <a:xfrm>
            <a:off x="304920" y="2133720"/>
            <a:ext cx="1447560" cy="554040"/>
          </a:xfrm>
          <a:custGeom>
            <a:avLst/>
            <a:gdLst/>
            <a:ahLst/>
            <a:rect l="l" t="t" r="r" b="b"/>
            <a:pathLst>
              <a:path w="3086" h="1542">
                <a:moveTo>
                  <a:pt x="22147" y="8291"/>
                </a:moveTo>
                <a:cubicBezTo>
                  <a:pt x="22227" y="8358"/>
                  <a:pt x="22309" y="8435"/>
                  <a:pt x="22394" y="8497"/>
                </a:cubicBezTo>
                <a:cubicBezTo>
                  <a:pt x="22551" y="8612"/>
                  <a:pt x="22723" y="8655"/>
                  <a:pt x="22916" y="8661"/>
                </a:cubicBezTo>
                <a:cubicBezTo>
                  <a:pt x="23038" y="8665"/>
                  <a:pt x="23165" y="8662"/>
                  <a:pt x="23286" y="8650"/>
                </a:cubicBezTo>
                <a:cubicBezTo>
                  <a:pt x="23437" y="8635"/>
                  <a:pt x="23588" y="8622"/>
                  <a:pt x="23739" y="8612"/>
                </a:cubicBezTo>
                <a:cubicBezTo>
                  <a:pt x="23886" y="8602"/>
                  <a:pt x="24029" y="8578"/>
                  <a:pt x="24174" y="8551"/>
                </a:cubicBezTo>
                <a:cubicBezTo>
                  <a:pt x="24370" y="8514"/>
                  <a:pt x="24575" y="8487"/>
                  <a:pt x="24760" y="8409"/>
                </a:cubicBezTo>
                <a:cubicBezTo>
                  <a:pt x="24823" y="8383"/>
                  <a:pt x="24870" y="8356"/>
                  <a:pt x="24897" y="8291"/>
                </a:cubicBezTo>
                <a:cubicBezTo>
                  <a:pt x="24969" y="8118"/>
                  <a:pt x="24833" y="7838"/>
                  <a:pt x="24764" y="7685"/>
                </a:cubicBezTo>
                <a:cubicBezTo>
                  <a:pt x="24710" y="7567"/>
                  <a:pt x="24654" y="7425"/>
                  <a:pt x="24563" y="7330"/>
                </a:cubicBezTo>
                <a:cubicBezTo>
                  <a:pt x="24399" y="7158"/>
                  <a:pt x="24172" y="7142"/>
                  <a:pt x="23950" y="7132"/>
                </a:cubicBezTo>
                <a:cubicBezTo>
                  <a:pt x="23826" y="7126"/>
                  <a:pt x="23703" y="7120"/>
                  <a:pt x="23579" y="7120"/>
                </a:cubicBezTo>
                <a:cubicBezTo>
                  <a:pt x="23399" y="7120"/>
                  <a:pt x="23211" y="7122"/>
                  <a:pt x="23034" y="7155"/>
                </a:cubicBezTo>
                <a:cubicBezTo>
                  <a:pt x="22862" y="7187"/>
                  <a:pt x="22691" y="7242"/>
                  <a:pt x="22522" y="7288"/>
                </a:cubicBezTo>
                <a:cubicBezTo>
                  <a:pt x="22347" y="7336"/>
                  <a:pt x="22181" y="7408"/>
                  <a:pt x="22041" y="7525"/>
                </a:cubicBezTo>
                <a:cubicBezTo>
                  <a:pt x="21939" y="7610"/>
                  <a:pt x="21900" y="7726"/>
                  <a:pt x="21868" y="7853"/>
                </a:cubicBezTo>
                <a:cubicBezTo>
                  <a:pt x="21832" y="7999"/>
                  <a:pt x="21783" y="8193"/>
                  <a:pt x="21886" y="8322"/>
                </a:cubicBezTo>
                <a:cubicBezTo>
                  <a:pt x="21925" y="8370"/>
                  <a:pt x="21983" y="8423"/>
                  <a:pt x="22037" y="8455"/>
                </a:cubicBezTo>
                <a:cubicBezTo>
                  <a:pt x="22159" y="8526"/>
                  <a:pt x="22315" y="8553"/>
                  <a:pt x="22453" y="8570"/>
                </a:cubicBezTo>
                <a:cubicBezTo>
                  <a:pt x="22538" y="8580"/>
                  <a:pt x="22621" y="8575"/>
                  <a:pt x="22705" y="8577"/>
                </a:cubicBezTo>
                <a:cubicBezTo>
                  <a:pt x="22779" y="8579"/>
                  <a:pt x="22851" y="8579"/>
                  <a:pt x="22925" y="8577"/>
                </a:cubicBezTo>
              </a:path>
            </a:pathLst>
          </a:custGeom>
          <a:noFill/>
          <a:ln cap="rnd"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7" name=""/>
          <p:cNvSpPr/>
          <p:nvPr/>
        </p:nvSpPr>
        <p:spPr>
          <a:xfrm>
            <a:off x="5029200" y="2971800"/>
            <a:ext cx="511200" cy="62532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8" name=""/>
          <p:cNvSpPr/>
          <p:nvPr/>
        </p:nvSpPr>
        <p:spPr>
          <a:xfrm>
            <a:off x="3957120" y="236232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eis</a:t>
            </a:r>
            <a:endParaRPr b="0" lang="en-US" sz="1600" spc="-1" strike="noStrike">
              <a:solidFill>
                <a:srgbClr val="000000"/>
              </a:solidFill>
              <a:latin typeface="Arial"/>
            </a:endParaRPr>
          </a:p>
        </p:txBody>
      </p:sp>
      <p:sp>
        <p:nvSpPr>
          <p:cNvPr id="3309" name=""/>
          <p:cNvSpPr/>
          <p:nvPr/>
        </p:nvSpPr>
        <p:spPr>
          <a:xfrm>
            <a:off x="3809880" y="2286000"/>
            <a:ext cx="693720" cy="533520"/>
          </a:xfrm>
          <a:custGeom>
            <a:avLst/>
            <a:gdLst/>
            <a:ahLst/>
            <a:rect l="l" t="t" r="r" b="b"/>
            <a:pathLst>
              <a:path w="2632" h="1676">
                <a:moveTo>
                  <a:pt x="21207" y="9609"/>
                </a:moveTo>
                <a:cubicBezTo>
                  <a:pt x="21196" y="9614"/>
                  <a:pt x="21129" y="9628"/>
                  <a:pt x="21119" y="9638"/>
                </a:cubicBezTo>
                <a:cubicBezTo>
                  <a:pt x="21094" y="9665"/>
                  <a:pt x="21088" y="9676"/>
                  <a:pt x="21058" y="9699"/>
                </a:cubicBezTo>
                <a:cubicBezTo>
                  <a:pt x="21033" y="9719"/>
                  <a:pt x="20949" y="9774"/>
                  <a:pt x="20938" y="9787"/>
                </a:cubicBezTo>
                <a:cubicBezTo>
                  <a:pt x="20918" y="9810"/>
                  <a:pt x="20897" y="9828"/>
                  <a:pt x="20879" y="9849"/>
                </a:cubicBezTo>
                <a:cubicBezTo>
                  <a:pt x="20864" y="9866"/>
                  <a:pt x="20797" y="9925"/>
                  <a:pt x="20788" y="9936"/>
                </a:cubicBezTo>
                <a:cubicBezTo>
                  <a:pt x="20764" y="9966"/>
                  <a:pt x="20787" y="10004"/>
                  <a:pt x="20759" y="10027"/>
                </a:cubicBezTo>
                <a:cubicBezTo>
                  <a:pt x="20738" y="10045"/>
                  <a:pt x="20718" y="10074"/>
                  <a:pt x="20700" y="10088"/>
                </a:cubicBezTo>
                <a:cubicBezTo>
                  <a:pt x="20677" y="10106"/>
                  <a:pt x="20659" y="10131"/>
                  <a:pt x="20639" y="10147"/>
                </a:cubicBezTo>
                <a:cubicBezTo>
                  <a:pt x="20609" y="10170"/>
                  <a:pt x="20593" y="10172"/>
                  <a:pt x="20551" y="10208"/>
                </a:cubicBezTo>
                <a:cubicBezTo>
                  <a:pt x="20519" y="10235"/>
                  <a:pt x="20490" y="10267"/>
                  <a:pt x="20460" y="10296"/>
                </a:cubicBezTo>
                <a:cubicBezTo>
                  <a:pt x="20493" y="10324"/>
                  <a:pt x="20535" y="10375"/>
                  <a:pt x="20551" y="10386"/>
                </a:cubicBezTo>
                <a:cubicBezTo>
                  <a:pt x="20580" y="10407"/>
                  <a:pt x="20620" y="10427"/>
                  <a:pt x="20639" y="10445"/>
                </a:cubicBezTo>
                <a:cubicBezTo>
                  <a:pt x="20679" y="10483"/>
                  <a:pt x="20710" y="10509"/>
                  <a:pt x="20730" y="10536"/>
                </a:cubicBezTo>
                <a:cubicBezTo>
                  <a:pt x="20758" y="10573"/>
                  <a:pt x="20767" y="10607"/>
                  <a:pt x="20788" y="10626"/>
                </a:cubicBezTo>
                <a:cubicBezTo>
                  <a:pt x="20805" y="10642"/>
                  <a:pt x="20864" y="10638"/>
                  <a:pt x="20879" y="10655"/>
                </a:cubicBezTo>
                <a:cubicBezTo>
                  <a:pt x="20905" y="10684"/>
                  <a:pt x="20906" y="10692"/>
                  <a:pt x="20938" y="10717"/>
                </a:cubicBezTo>
                <a:cubicBezTo>
                  <a:pt x="20950" y="10726"/>
                  <a:pt x="20984" y="10793"/>
                  <a:pt x="20999" y="10805"/>
                </a:cubicBezTo>
                <a:cubicBezTo>
                  <a:pt x="21025" y="10826"/>
                  <a:pt x="21036" y="10847"/>
                  <a:pt x="21058" y="10866"/>
                </a:cubicBezTo>
                <a:cubicBezTo>
                  <a:pt x="21078" y="10883"/>
                  <a:pt x="21101" y="10910"/>
                  <a:pt x="21119" y="10924"/>
                </a:cubicBezTo>
                <a:cubicBezTo>
                  <a:pt x="21144" y="10944"/>
                  <a:pt x="21157" y="10969"/>
                  <a:pt x="21178" y="10986"/>
                </a:cubicBezTo>
                <a:cubicBezTo>
                  <a:pt x="21200" y="11004"/>
                  <a:pt x="21253" y="11061"/>
                  <a:pt x="21269" y="11074"/>
                </a:cubicBezTo>
                <a:cubicBezTo>
                  <a:pt x="21301" y="11100"/>
                  <a:pt x="21305" y="11096"/>
                  <a:pt x="21327" y="11135"/>
                </a:cubicBezTo>
                <a:cubicBezTo>
                  <a:pt x="21342" y="11161"/>
                  <a:pt x="21346" y="11193"/>
                  <a:pt x="21386" y="11193"/>
                </a:cubicBezTo>
                <a:cubicBezTo>
                  <a:pt x="21432" y="11193"/>
                  <a:pt x="21456" y="11168"/>
                  <a:pt x="21506" y="11164"/>
                </a:cubicBezTo>
                <a:cubicBezTo>
                  <a:pt x="21556" y="11160"/>
                  <a:pt x="21577" y="11141"/>
                  <a:pt x="21626" y="11135"/>
                </a:cubicBezTo>
                <a:cubicBezTo>
                  <a:pt x="21676" y="11129"/>
                  <a:pt x="21738" y="11111"/>
                  <a:pt x="21776" y="11106"/>
                </a:cubicBezTo>
                <a:cubicBezTo>
                  <a:pt x="21874" y="11094"/>
                  <a:pt x="21992" y="11085"/>
                  <a:pt x="22074" y="11074"/>
                </a:cubicBezTo>
                <a:cubicBezTo>
                  <a:pt x="22246" y="11051"/>
                  <a:pt x="22523" y="11063"/>
                  <a:pt x="22643" y="11106"/>
                </a:cubicBezTo>
                <a:cubicBezTo>
                  <a:pt x="22678" y="11081"/>
                  <a:pt x="22683" y="11083"/>
                  <a:pt x="22705" y="11044"/>
                </a:cubicBezTo>
                <a:cubicBezTo>
                  <a:pt x="22725" y="11009"/>
                  <a:pt x="22712" y="10998"/>
                  <a:pt x="22734" y="10954"/>
                </a:cubicBezTo>
                <a:cubicBezTo>
                  <a:pt x="22739" y="10944"/>
                  <a:pt x="22777" y="10897"/>
                  <a:pt x="22792" y="10866"/>
                </a:cubicBezTo>
                <a:cubicBezTo>
                  <a:pt x="22812" y="10825"/>
                  <a:pt x="22808" y="10809"/>
                  <a:pt x="22822" y="10775"/>
                </a:cubicBezTo>
                <a:cubicBezTo>
                  <a:pt x="22838" y="10736"/>
                  <a:pt x="22838" y="10693"/>
                  <a:pt x="22854" y="10655"/>
                </a:cubicBezTo>
                <a:cubicBezTo>
                  <a:pt x="22869" y="10621"/>
                  <a:pt x="22863" y="10607"/>
                  <a:pt x="22883" y="10565"/>
                </a:cubicBezTo>
                <a:cubicBezTo>
                  <a:pt x="22906" y="10517"/>
                  <a:pt x="22919" y="10465"/>
                  <a:pt x="22942" y="10416"/>
                </a:cubicBezTo>
                <a:cubicBezTo>
                  <a:pt x="22958" y="10381"/>
                  <a:pt x="22950" y="10367"/>
                  <a:pt x="22971" y="10325"/>
                </a:cubicBezTo>
                <a:cubicBezTo>
                  <a:pt x="22990" y="10287"/>
                  <a:pt x="22982" y="10285"/>
                  <a:pt x="23003" y="10237"/>
                </a:cubicBezTo>
                <a:cubicBezTo>
                  <a:pt x="23017" y="10205"/>
                  <a:pt x="23057" y="10157"/>
                  <a:pt x="23062" y="10147"/>
                </a:cubicBezTo>
                <a:cubicBezTo>
                  <a:pt x="23083" y="10104"/>
                  <a:pt x="23074" y="10092"/>
                  <a:pt x="23091" y="10056"/>
                </a:cubicBezTo>
                <a:cubicBezTo>
                  <a:pt x="23036" y="10051"/>
                  <a:pt x="23025" y="10037"/>
                  <a:pt x="23003" y="10027"/>
                </a:cubicBezTo>
                <a:cubicBezTo>
                  <a:pt x="22958" y="10006"/>
                  <a:pt x="22949" y="10016"/>
                  <a:pt x="22913" y="9998"/>
                </a:cubicBezTo>
                <a:cubicBezTo>
                  <a:pt x="22879" y="9981"/>
                  <a:pt x="22864" y="9990"/>
                  <a:pt x="22822" y="9968"/>
                </a:cubicBezTo>
                <a:cubicBezTo>
                  <a:pt x="22785" y="9949"/>
                  <a:pt x="22785" y="9931"/>
                  <a:pt x="22734" y="9907"/>
                </a:cubicBezTo>
                <a:cubicBezTo>
                  <a:pt x="22696" y="9889"/>
                  <a:pt x="22660" y="9860"/>
                  <a:pt x="22643" y="9849"/>
                </a:cubicBezTo>
                <a:cubicBezTo>
                  <a:pt x="22611" y="9828"/>
                  <a:pt x="22600" y="9815"/>
                  <a:pt x="22552" y="9787"/>
                </a:cubicBezTo>
                <a:cubicBezTo>
                  <a:pt x="22539" y="9779"/>
                  <a:pt x="22475" y="9770"/>
                  <a:pt x="22464" y="9758"/>
                </a:cubicBezTo>
                <a:cubicBezTo>
                  <a:pt x="22444" y="9737"/>
                  <a:pt x="22422" y="9719"/>
                  <a:pt x="22403" y="9699"/>
                </a:cubicBezTo>
                <a:cubicBezTo>
                  <a:pt x="22387" y="9681"/>
                  <a:pt x="22357" y="9655"/>
                  <a:pt x="22344" y="9638"/>
                </a:cubicBezTo>
                <a:cubicBezTo>
                  <a:pt x="22317" y="9605"/>
                  <a:pt x="22324" y="9603"/>
                  <a:pt x="22286" y="9580"/>
                </a:cubicBezTo>
                <a:cubicBezTo>
                  <a:pt x="22245" y="9556"/>
                  <a:pt x="22230" y="9516"/>
                  <a:pt x="22195" y="9518"/>
                </a:cubicBezTo>
                <a:cubicBezTo>
                  <a:pt x="22129" y="9521"/>
                  <a:pt x="22154" y="9543"/>
                  <a:pt x="22104" y="9547"/>
                </a:cubicBezTo>
                <a:cubicBezTo>
                  <a:pt x="22036" y="9553"/>
                  <a:pt x="21917" y="9577"/>
                  <a:pt x="21896" y="9580"/>
                </a:cubicBezTo>
                <a:cubicBezTo>
                  <a:pt x="21809" y="9592"/>
                  <a:pt x="21700" y="9600"/>
                  <a:pt x="21626" y="9609"/>
                </a:cubicBezTo>
                <a:cubicBezTo>
                  <a:pt x="21509" y="9623"/>
                  <a:pt x="21229" y="9609"/>
                  <a:pt x="21207" y="9609"/>
                </a:cubicBezTo>
                <a:cubicBezTo>
                  <a:pt x="21217" y="9609"/>
                  <a:pt x="21226" y="9609"/>
                  <a:pt x="21236" y="960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0" name=""/>
          <p:cNvGrpSpPr/>
          <p:nvPr/>
        </p:nvGrpSpPr>
        <p:grpSpPr>
          <a:xfrm>
            <a:off x="3657600" y="2209680"/>
            <a:ext cx="968400" cy="301680"/>
            <a:chOff x="3657600" y="2209680"/>
            <a:chExt cx="968400" cy="301680"/>
          </a:xfrm>
        </p:grpSpPr>
        <p:sp>
          <p:nvSpPr>
            <p:cNvPr id="3311" name=""/>
            <p:cNvSpPr/>
            <p:nvPr/>
          </p:nvSpPr>
          <p:spPr>
            <a:xfrm>
              <a:off x="3657600" y="2282760"/>
              <a:ext cx="203040" cy="228600"/>
            </a:xfrm>
            <a:custGeom>
              <a:avLst/>
              <a:gdLst/>
              <a:ahLst/>
              <a:rect l="l" t="t" r="r" b="b"/>
              <a:pathLst>
                <a:path w="566" h="571">
                  <a:moveTo>
                    <a:pt x="10592" y="6858"/>
                  </a:moveTo>
                  <a:cubicBezTo>
                    <a:pt x="10536" y="6858"/>
                    <a:pt x="10524" y="6832"/>
                    <a:pt x="10475" y="6826"/>
                  </a:cubicBezTo>
                  <a:cubicBezTo>
                    <a:pt x="10434" y="6821"/>
                    <a:pt x="10424" y="6801"/>
                    <a:pt x="10413" y="6767"/>
                  </a:cubicBezTo>
                </a:path>
                <a:path w="566" h="571">
                  <a:moveTo>
                    <a:pt x="10293" y="6676"/>
                  </a:moveTo>
                  <a:cubicBezTo>
                    <a:pt x="10293" y="6666"/>
                    <a:pt x="10293" y="6657"/>
                    <a:pt x="10293" y="6647"/>
                  </a:cubicBezTo>
                  <a:cubicBezTo>
                    <a:pt x="10258" y="6638"/>
                    <a:pt x="10240" y="6627"/>
                    <a:pt x="10205" y="6618"/>
                  </a:cubicBezTo>
                  <a:cubicBezTo>
                    <a:pt x="10190" y="6567"/>
                    <a:pt x="10192" y="6605"/>
                    <a:pt x="10176" y="6557"/>
                  </a:cubicBezTo>
                </a:path>
                <a:path w="566" h="571">
                  <a:moveTo>
                    <a:pt x="10355" y="6466"/>
                  </a:moveTo>
                  <a:cubicBezTo>
                    <a:pt x="10384" y="6466"/>
                    <a:pt x="10394" y="6466"/>
                    <a:pt x="10413" y="6466"/>
                  </a:cubicBezTo>
                  <a:cubicBezTo>
                    <a:pt x="10426" y="6427"/>
                    <a:pt x="10434" y="6420"/>
                    <a:pt x="10475" y="6408"/>
                  </a:cubicBezTo>
                </a:path>
                <a:path w="566" h="571">
                  <a:moveTo>
                    <a:pt x="10654" y="6349"/>
                  </a:moveTo>
                  <a:cubicBezTo>
                    <a:pt x="10691" y="6296"/>
                    <a:pt x="10675" y="6288"/>
                    <a:pt x="10741" y="62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2" name=""/>
            <p:cNvSpPr/>
            <p:nvPr/>
          </p:nvSpPr>
          <p:spPr>
            <a:xfrm>
              <a:off x="3946680" y="2244600"/>
              <a:ext cx="64800" cy="3240"/>
            </a:xfrm>
            <a:custGeom>
              <a:avLst/>
              <a:gdLst/>
              <a:ahLst/>
              <a:rect l="l" t="t" r="r" b="b"/>
              <a:pathLst>
                <a:path w="179" h="1">
                  <a:moveTo>
                    <a:pt x="10982" y="6197"/>
                  </a:moveTo>
                  <a:cubicBezTo>
                    <a:pt x="11041" y="6197"/>
                    <a:pt x="11101" y="6197"/>
                    <a:pt x="11160" y="6197"/>
                  </a:cubicBezTo>
                </a:path>
              </a:pathLst>
            </a:custGeom>
            <a:noFill/>
            <a:ln cap="rnd" w="28440">
              <a:solidFill>
                <a:srgbClr val="808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3" name=""/>
            <p:cNvSpPr/>
            <p:nvPr/>
          </p:nvSpPr>
          <p:spPr>
            <a:xfrm>
              <a:off x="4108320" y="2209680"/>
              <a:ext cx="65160" cy="12600"/>
            </a:xfrm>
            <a:custGeom>
              <a:avLst/>
              <a:gdLst/>
              <a:ahLst/>
              <a:rect l="l" t="t" r="r" b="b"/>
              <a:pathLst>
                <a:path w="180" h="31">
                  <a:moveTo>
                    <a:pt x="11430" y="6109"/>
                  </a:moveTo>
                  <a:cubicBezTo>
                    <a:pt x="11430" y="6119"/>
                    <a:pt x="11430" y="6129"/>
                    <a:pt x="11430" y="6139"/>
                  </a:cubicBezTo>
                  <a:cubicBezTo>
                    <a:pt x="11490" y="6139"/>
                    <a:pt x="11549" y="6139"/>
                    <a:pt x="11609"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14" name=""/>
            <p:cNvSpPr/>
            <p:nvPr/>
          </p:nvSpPr>
          <p:spPr>
            <a:xfrm>
              <a:off x="4270320" y="2209680"/>
              <a:ext cx="54000" cy="12600"/>
            </a:xfrm>
            <a:custGeom>
              <a:avLst/>
              <a:gdLst/>
              <a:ahLst/>
              <a:rect l="l" t="t" r="r" b="b"/>
              <a:pathLst>
                <a:path w="151" h="31">
                  <a:moveTo>
                    <a:pt x="11878" y="6109"/>
                  </a:moveTo>
                  <a:cubicBezTo>
                    <a:pt x="11918" y="6109"/>
                    <a:pt x="11958" y="6109"/>
                    <a:pt x="11998" y="6109"/>
                  </a:cubicBezTo>
                  <a:cubicBezTo>
                    <a:pt x="11998" y="6139"/>
                    <a:pt x="11998" y="6149"/>
                    <a:pt x="12028"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15" name=""/>
            <p:cNvSpPr/>
            <p:nvPr/>
          </p:nvSpPr>
          <p:spPr>
            <a:xfrm>
              <a:off x="4410000" y="2222280"/>
              <a:ext cx="216000" cy="241200"/>
            </a:xfrm>
            <a:custGeom>
              <a:avLst/>
              <a:gdLst/>
              <a:ahLst/>
              <a:rect l="l" t="t" r="r" b="b"/>
              <a:pathLst>
                <a:path w="599" h="600">
                  <a:moveTo>
                    <a:pt x="12268" y="6139"/>
                  </a:moveTo>
                  <a:cubicBezTo>
                    <a:pt x="12268" y="6149"/>
                    <a:pt x="12268" y="6158"/>
                    <a:pt x="12268" y="6168"/>
                  </a:cubicBezTo>
                  <a:cubicBezTo>
                    <a:pt x="12314" y="6183"/>
                    <a:pt x="12280" y="6182"/>
                    <a:pt x="12326" y="6197"/>
                  </a:cubicBezTo>
                  <a:cubicBezTo>
                    <a:pt x="12343" y="6246"/>
                    <a:pt x="12341" y="6212"/>
                    <a:pt x="12359" y="6258"/>
                  </a:cubicBezTo>
                  <a:cubicBezTo>
                    <a:pt x="12409" y="6258"/>
                    <a:pt x="12403" y="6246"/>
                    <a:pt x="12417" y="6288"/>
                  </a:cubicBezTo>
                  <a:cubicBezTo>
                    <a:pt x="12417" y="6258"/>
                    <a:pt x="12417" y="6249"/>
                    <a:pt x="12417" y="6229"/>
                  </a:cubicBezTo>
                </a:path>
                <a:path w="599" h="600">
                  <a:moveTo>
                    <a:pt x="12625" y="6408"/>
                  </a:moveTo>
                  <a:cubicBezTo>
                    <a:pt x="12636" y="6408"/>
                    <a:pt x="12647" y="6408"/>
                    <a:pt x="12658" y="6408"/>
                  </a:cubicBezTo>
                  <a:cubicBezTo>
                    <a:pt x="12672" y="6449"/>
                    <a:pt x="12666" y="6437"/>
                    <a:pt x="12716" y="6437"/>
                  </a:cubicBezTo>
                  <a:cubicBezTo>
                    <a:pt x="12716" y="6466"/>
                    <a:pt x="12716" y="6476"/>
                    <a:pt x="12745" y="6466"/>
                  </a:cubicBezTo>
                </a:path>
                <a:path w="599" h="600">
                  <a:moveTo>
                    <a:pt x="12866" y="6618"/>
                  </a:moveTo>
                  <a:cubicBezTo>
                    <a:pt x="12806" y="6618"/>
                    <a:pt x="12791" y="6618"/>
                    <a:pt x="12775" y="6676"/>
                  </a:cubicBezTo>
                  <a:cubicBezTo>
                    <a:pt x="12719" y="6695"/>
                    <a:pt x="12770" y="6718"/>
                    <a:pt x="12716" y="6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6"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3317" name=""/>
          <p:cNvSpPr/>
          <p:nvPr/>
        </p:nvSpPr>
        <p:spPr>
          <a:xfrm>
            <a:off x="415800" y="59832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18"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3319"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3320"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3321"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3322" name=""/>
          <p:cNvGrpSpPr/>
          <p:nvPr/>
        </p:nvGrpSpPr>
        <p:grpSpPr>
          <a:xfrm>
            <a:off x="1554120" y="1012680"/>
            <a:ext cx="5052960" cy="4521240"/>
            <a:chOff x="1554120" y="1012680"/>
            <a:chExt cx="5052960" cy="4521240"/>
          </a:xfrm>
        </p:grpSpPr>
        <p:sp>
          <p:nvSpPr>
            <p:cNvPr id="3323"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4"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5"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6"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3327" name="Ink 5"/>
          <p:cNvSpPr/>
          <p:nvPr/>
        </p:nvSpPr>
        <p:spPr>
          <a:xfrm>
            <a:off x="133020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8" name="Group 14"/>
          <p:cNvGrpSpPr/>
          <p:nvPr/>
        </p:nvGrpSpPr>
        <p:grpSpPr>
          <a:xfrm>
            <a:off x="1254240" y="4000680"/>
            <a:ext cx="380520" cy="380880"/>
            <a:chOff x="1254240" y="4000680"/>
            <a:chExt cx="380520" cy="380880"/>
          </a:xfrm>
        </p:grpSpPr>
        <p:sp>
          <p:nvSpPr>
            <p:cNvPr id="3329" name="Ink 15"/>
            <p:cNvSpPr/>
            <p:nvPr/>
          </p:nvSpPr>
          <p:spPr>
            <a:xfrm>
              <a:off x="125424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0" name="Ink 16"/>
            <p:cNvSpPr/>
            <p:nvPr/>
          </p:nvSpPr>
          <p:spPr>
            <a:xfrm>
              <a:off x="130608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1" name=""/>
          <p:cNvSpPr/>
          <p:nvPr/>
        </p:nvSpPr>
        <p:spPr>
          <a:xfrm>
            <a:off x="133020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2"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3333" name="Ink 61"/>
          <p:cNvSpPr/>
          <p:nvPr/>
        </p:nvSpPr>
        <p:spPr>
          <a:xfrm>
            <a:off x="87300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4"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3335" name=""/>
          <p:cNvGrpSpPr/>
          <p:nvPr/>
        </p:nvGrpSpPr>
        <p:grpSpPr>
          <a:xfrm>
            <a:off x="1254240" y="1714680"/>
            <a:ext cx="532800" cy="457200"/>
            <a:chOff x="1254240" y="1714680"/>
            <a:chExt cx="532800" cy="457200"/>
          </a:xfrm>
        </p:grpSpPr>
        <p:sp>
          <p:nvSpPr>
            <p:cNvPr id="3336" name=""/>
            <p:cNvSpPr/>
            <p:nvPr/>
          </p:nvSpPr>
          <p:spPr>
            <a:xfrm>
              <a:off x="1467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37" name="Group 12"/>
            <p:cNvGrpSpPr/>
            <p:nvPr/>
          </p:nvGrpSpPr>
          <p:grpSpPr>
            <a:xfrm>
              <a:off x="1254240" y="1714680"/>
              <a:ext cx="532800" cy="457200"/>
              <a:chOff x="1254240" y="1714680"/>
              <a:chExt cx="532800" cy="457200"/>
            </a:xfrm>
          </p:grpSpPr>
          <p:sp>
            <p:nvSpPr>
              <p:cNvPr id="3338" name="Ink 13"/>
              <p:cNvSpPr/>
              <p:nvPr/>
            </p:nvSpPr>
            <p:spPr>
              <a:xfrm>
                <a:off x="125424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9" name="Ink 14"/>
              <p:cNvSpPr/>
              <p:nvPr/>
            </p:nvSpPr>
            <p:spPr>
              <a:xfrm>
                <a:off x="126720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40" name="Ink 15"/>
              <p:cNvSpPr/>
              <p:nvPr/>
            </p:nvSpPr>
            <p:spPr>
              <a:xfrm>
                <a:off x="177336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1" name="Ink 16"/>
              <p:cNvSpPr/>
              <p:nvPr/>
            </p:nvSpPr>
            <p:spPr>
              <a:xfrm>
                <a:off x="127980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342" name=""/>
            <p:cNvSpPr/>
            <p:nvPr/>
          </p:nvSpPr>
          <p:spPr>
            <a:xfrm>
              <a:off x="162720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3" name=""/>
            <p:cNvSpPr/>
            <p:nvPr/>
          </p:nvSpPr>
          <p:spPr>
            <a:xfrm>
              <a:off x="1307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4" name=""/>
          <p:cNvGrpSpPr/>
          <p:nvPr/>
        </p:nvGrpSpPr>
        <p:grpSpPr>
          <a:xfrm>
            <a:off x="1635120" y="1333440"/>
            <a:ext cx="501120" cy="304920"/>
            <a:chOff x="1635120" y="1333440"/>
            <a:chExt cx="501120" cy="304920"/>
          </a:xfrm>
        </p:grpSpPr>
        <p:sp>
          <p:nvSpPr>
            <p:cNvPr id="3345" name=""/>
            <p:cNvSpPr/>
            <p:nvPr/>
          </p:nvSpPr>
          <p:spPr>
            <a:xfrm>
              <a:off x="18100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6" name=""/>
            <p:cNvSpPr/>
            <p:nvPr/>
          </p:nvSpPr>
          <p:spPr>
            <a:xfrm>
              <a:off x="198540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7" name=""/>
            <p:cNvSpPr/>
            <p:nvPr/>
          </p:nvSpPr>
          <p:spPr>
            <a:xfrm>
              <a:off x="163512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48" name=""/>
          <p:cNvSpPr/>
          <p:nvPr/>
        </p:nvSpPr>
        <p:spPr>
          <a:xfrm>
            <a:off x="224460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9" name=""/>
          <p:cNvSpPr/>
          <p:nvPr/>
        </p:nvSpPr>
        <p:spPr>
          <a:xfrm>
            <a:off x="415800" y="194328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0" name=""/>
          <p:cNvGrpSpPr/>
          <p:nvPr/>
        </p:nvGrpSpPr>
        <p:grpSpPr>
          <a:xfrm>
            <a:off x="4952880" y="380880"/>
            <a:ext cx="884160" cy="747720"/>
            <a:chOff x="4952880" y="380880"/>
            <a:chExt cx="884160" cy="747720"/>
          </a:xfrm>
        </p:grpSpPr>
        <p:sp>
          <p:nvSpPr>
            <p:cNvPr id="3351" name=""/>
            <p:cNvSpPr/>
            <p:nvPr/>
          </p:nvSpPr>
          <p:spPr>
            <a:xfrm>
              <a:off x="4952880" y="380880"/>
              <a:ext cx="873000" cy="70020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2"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3353" name=""/>
            <p:cNvSpPr/>
            <p:nvPr/>
          </p:nvSpPr>
          <p:spPr>
            <a:xfrm>
              <a:off x="4988520" y="74520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3354" name=""/>
            <p:cNvSpPr/>
            <p:nvPr/>
          </p:nvSpPr>
          <p:spPr>
            <a:xfrm>
              <a:off x="5395680" y="7912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3355"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3356"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3357"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3358" name=""/>
          <p:cNvSpPr/>
          <p:nvPr/>
        </p:nvSpPr>
        <p:spPr>
          <a:xfrm>
            <a:off x="6095880" y="1468440"/>
            <a:ext cx="560520" cy="36684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9" name=""/>
          <p:cNvSpPr/>
          <p:nvPr/>
        </p:nvSpPr>
        <p:spPr>
          <a:xfrm>
            <a:off x="6477120" y="184932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60" name="Group 101"/>
          <p:cNvGrpSpPr/>
          <p:nvPr/>
        </p:nvGrpSpPr>
        <p:grpSpPr>
          <a:xfrm>
            <a:off x="6553080" y="2382840"/>
            <a:ext cx="304560" cy="518400"/>
            <a:chOff x="6553080" y="2382840"/>
            <a:chExt cx="304560" cy="518400"/>
          </a:xfrm>
        </p:grpSpPr>
        <p:grpSp>
          <p:nvGrpSpPr>
            <p:cNvPr id="3361" name="Group 79"/>
            <p:cNvGrpSpPr/>
            <p:nvPr/>
          </p:nvGrpSpPr>
          <p:grpSpPr>
            <a:xfrm>
              <a:off x="6553080" y="2382840"/>
              <a:ext cx="304560" cy="518400"/>
              <a:chOff x="6553080" y="2382840"/>
              <a:chExt cx="304560" cy="518400"/>
            </a:xfrm>
          </p:grpSpPr>
          <p:sp>
            <p:nvSpPr>
              <p:cNvPr id="3362" name="Ink 80"/>
              <p:cNvSpPr/>
              <p:nvPr/>
            </p:nvSpPr>
            <p:spPr>
              <a:xfrm>
                <a:off x="6558480" y="268452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3" name="Ink 81"/>
              <p:cNvSpPr/>
              <p:nvPr/>
            </p:nvSpPr>
            <p:spPr>
              <a:xfrm>
                <a:off x="6553080" y="258552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364" name="Ink 82"/>
              <p:cNvSpPr/>
              <p:nvPr/>
            </p:nvSpPr>
            <p:spPr>
              <a:xfrm>
                <a:off x="6741000" y="259956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5" name="Ink 83"/>
              <p:cNvSpPr/>
              <p:nvPr/>
            </p:nvSpPr>
            <p:spPr>
              <a:xfrm>
                <a:off x="6609240" y="284688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366" name="Ink 84"/>
              <p:cNvSpPr/>
              <p:nvPr/>
            </p:nvSpPr>
            <p:spPr>
              <a:xfrm>
                <a:off x="6757560" y="260028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7" name="Ink 85"/>
              <p:cNvSpPr/>
              <p:nvPr/>
            </p:nvSpPr>
            <p:spPr>
              <a:xfrm>
                <a:off x="6795360" y="259164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368" name="Ink 86"/>
              <p:cNvSpPr/>
              <p:nvPr/>
            </p:nvSpPr>
            <p:spPr>
              <a:xfrm>
                <a:off x="6772320" y="259668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9" name="Ink 87"/>
              <p:cNvSpPr/>
              <p:nvPr/>
            </p:nvSpPr>
            <p:spPr>
              <a:xfrm>
                <a:off x="6593760" y="238284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0" name="Ink 88"/>
              <p:cNvSpPr/>
              <p:nvPr/>
            </p:nvSpPr>
            <p:spPr>
              <a:xfrm>
                <a:off x="6615000" y="243216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1" name="Ink 89"/>
              <p:cNvSpPr/>
              <p:nvPr/>
            </p:nvSpPr>
            <p:spPr>
              <a:xfrm>
                <a:off x="6607440" y="266976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2" name="Ink 90"/>
              <p:cNvSpPr/>
              <p:nvPr/>
            </p:nvSpPr>
            <p:spPr>
              <a:xfrm>
                <a:off x="6590880" y="284616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373" name="Ink 91"/>
              <p:cNvSpPr/>
              <p:nvPr/>
            </p:nvSpPr>
            <p:spPr>
              <a:xfrm>
                <a:off x="6627960" y="286164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374" name="Ink 92"/>
              <p:cNvSpPr/>
              <p:nvPr/>
            </p:nvSpPr>
            <p:spPr>
              <a:xfrm>
                <a:off x="6753960" y="281340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75" name="Ink 93"/>
              <p:cNvSpPr/>
              <p:nvPr/>
            </p:nvSpPr>
            <p:spPr>
              <a:xfrm>
                <a:off x="6760440" y="260172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6" name="Ink 175"/>
            <p:cNvSpPr/>
            <p:nvPr/>
          </p:nvSpPr>
          <p:spPr>
            <a:xfrm>
              <a:off x="6607800" y="239616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7"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3378" name="Ink 28"/>
          <p:cNvSpPr/>
          <p:nvPr/>
        </p:nvSpPr>
        <p:spPr>
          <a:xfrm>
            <a:off x="6781680" y="352584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9" name="Group 14"/>
          <p:cNvGrpSpPr/>
          <p:nvPr/>
        </p:nvGrpSpPr>
        <p:grpSpPr>
          <a:xfrm>
            <a:off x="6629400" y="3962520"/>
            <a:ext cx="380520" cy="380880"/>
            <a:chOff x="6629400" y="3962520"/>
            <a:chExt cx="380520" cy="380880"/>
          </a:xfrm>
        </p:grpSpPr>
        <p:sp>
          <p:nvSpPr>
            <p:cNvPr id="3380"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1"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82"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3" name=""/>
          <p:cNvSpPr/>
          <p:nvPr/>
        </p:nvSpPr>
        <p:spPr>
          <a:xfrm>
            <a:off x="6172200" y="63036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4"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3385"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6" name=""/>
          <p:cNvSpPr/>
          <p:nvPr/>
        </p:nvSpPr>
        <p:spPr>
          <a:xfrm>
            <a:off x="3429000" y="1371600"/>
            <a:ext cx="266760" cy="39672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7" name=""/>
          <p:cNvSpPr/>
          <p:nvPr/>
        </p:nvSpPr>
        <p:spPr>
          <a:xfrm>
            <a:off x="4648320" y="1697040"/>
            <a:ext cx="230040" cy="32400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8" name=""/>
          <p:cNvSpPr/>
          <p:nvPr/>
        </p:nvSpPr>
        <p:spPr>
          <a:xfrm>
            <a:off x="5181480" y="243216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9" name=""/>
          <p:cNvSpPr/>
          <p:nvPr/>
        </p:nvSpPr>
        <p:spPr>
          <a:xfrm>
            <a:off x="5105520" y="3745080"/>
            <a:ext cx="21888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0" name=""/>
          <p:cNvSpPr/>
          <p:nvPr/>
        </p:nvSpPr>
        <p:spPr>
          <a:xfrm>
            <a:off x="3962520" y="432288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1" name=""/>
          <p:cNvSpPr/>
          <p:nvPr/>
        </p:nvSpPr>
        <p:spPr>
          <a:xfrm>
            <a:off x="3009960" y="3865680"/>
            <a:ext cx="19980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2" name=""/>
          <p:cNvSpPr/>
          <p:nvPr/>
        </p:nvSpPr>
        <p:spPr>
          <a:xfrm>
            <a:off x="2781360" y="3009960"/>
            <a:ext cx="258840" cy="10008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3" name=""/>
          <p:cNvSpPr/>
          <p:nvPr/>
        </p:nvSpPr>
        <p:spPr>
          <a:xfrm>
            <a:off x="3227400" y="2247840"/>
            <a:ext cx="290520" cy="16056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94" name=""/>
          <p:cNvGrpSpPr/>
          <p:nvPr/>
        </p:nvGrpSpPr>
        <p:grpSpPr>
          <a:xfrm>
            <a:off x="3429000" y="2514600"/>
            <a:ext cx="1599840" cy="1294920"/>
            <a:chOff x="3429000" y="2514600"/>
            <a:chExt cx="1599840" cy="1294920"/>
          </a:xfrm>
        </p:grpSpPr>
        <p:grpSp>
          <p:nvGrpSpPr>
            <p:cNvPr id="3395" name=""/>
            <p:cNvGrpSpPr/>
            <p:nvPr/>
          </p:nvGrpSpPr>
          <p:grpSpPr>
            <a:xfrm>
              <a:off x="3429000" y="2514600"/>
              <a:ext cx="1599840" cy="1294920"/>
              <a:chOff x="3429000" y="2514600"/>
              <a:chExt cx="1599840" cy="1294920"/>
            </a:xfrm>
          </p:grpSpPr>
          <p:sp>
            <p:nvSpPr>
              <p:cNvPr id="3396" name=""/>
              <p:cNvSpPr/>
              <p:nvPr/>
            </p:nvSpPr>
            <p:spPr>
              <a:xfrm>
                <a:off x="3429000" y="2607120"/>
                <a:ext cx="479880" cy="45432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7" name=""/>
              <p:cNvSpPr/>
              <p:nvPr/>
            </p:nvSpPr>
            <p:spPr>
              <a:xfrm>
                <a:off x="3668760" y="3162240"/>
                <a:ext cx="880200" cy="64728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8" name=""/>
              <p:cNvSpPr/>
              <p:nvPr/>
            </p:nvSpPr>
            <p:spPr>
              <a:xfrm>
                <a:off x="4388760" y="2514600"/>
                <a:ext cx="640080" cy="60516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9" name=""/>
              <p:cNvSpPr/>
              <p:nvPr/>
            </p:nvSpPr>
            <p:spPr>
              <a:xfrm>
                <a:off x="3828960" y="2792160"/>
                <a:ext cx="621000" cy="475920"/>
              </a:xfrm>
              <a:custGeom>
                <a:avLst/>
                <a:gdLst/>
                <a:ahLst/>
                <a:rect l="l" t="t" r="r" b="b"/>
                <a:pathLst>
                  <a:path w="2278" h="1508">
                    <a:moveTo>
                      <a:pt x="15042" y="3209"/>
                    </a:moveTo>
                    <a:cubicBezTo>
                      <a:pt x="15018" y="3199"/>
                      <a:pt x="14996" y="3188"/>
                      <a:pt x="14971" y="3180"/>
                    </a:cubicBezTo>
                    <a:cubicBezTo>
                      <a:pt x="14931" y="3167"/>
                      <a:pt x="14890" y="3157"/>
                      <a:pt x="14849" y="3149"/>
                    </a:cubicBezTo>
                    <a:cubicBezTo>
                      <a:pt x="14626" y="3103"/>
                      <a:pt x="14373" y="3117"/>
                      <a:pt x="14149" y="3144"/>
                    </a:cubicBezTo>
                    <a:cubicBezTo>
                      <a:pt x="14036" y="3158"/>
                      <a:pt x="13917" y="3175"/>
                      <a:pt x="13810" y="3217"/>
                    </a:cubicBezTo>
                    <a:cubicBezTo>
                      <a:pt x="13749" y="3241"/>
                      <a:pt x="13654" y="3288"/>
                      <a:pt x="13667" y="3369"/>
                    </a:cubicBezTo>
                    <a:cubicBezTo>
                      <a:pt x="13678" y="3441"/>
                      <a:pt x="13763" y="3478"/>
                      <a:pt x="13820" y="3506"/>
                    </a:cubicBezTo>
                    <a:cubicBezTo>
                      <a:pt x="13995" y="3590"/>
                      <a:pt x="14195" y="3623"/>
                      <a:pt x="14386" y="3645"/>
                    </a:cubicBezTo>
                    <a:cubicBezTo>
                      <a:pt x="14648" y="3675"/>
                      <a:pt x="14911" y="3683"/>
                      <a:pt x="15173" y="3656"/>
                    </a:cubicBezTo>
                    <a:cubicBezTo>
                      <a:pt x="15330" y="3639"/>
                      <a:pt x="15493" y="3612"/>
                      <a:pt x="15635" y="3538"/>
                    </a:cubicBezTo>
                    <a:cubicBezTo>
                      <a:pt x="15691" y="3509"/>
                      <a:pt x="15784" y="3440"/>
                      <a:pt x="15744" y="3364"/>
                    </a:cubicBezTo>
                    <a:cubicBezTo>
                      <a:pt x="15699" y="3280"/>
                      <a:pt x="15551" y="3264"/>
                      <a:pt x="15472" y="3249"/>
                    </a:cubicBezTo>
                    <a:cubicBezTo>
                      <a:pt x="15355" y="3230"/>
                      <a:pt x="15316" y="3224"/>
                      <a:pt x="15236" y="3224"/>
                    </a:cubicBezTo>
                  </a:path>
                  <a:path w="2278" h="1508">
                    <a:moveTo>
                      <a:pt x="13558" y="3514"/>
                    </a:moveTo>
                    <a:cubicBezTo>
                      <a:pt x="13552" y="3544"/>
                      <a:pt x="13555" y="3575"/>
                      <a:pt x="13549" y="3605"/>
                    </a:cubicBezTo>
                    <a:cubicBezTo>
                      <a:pt x="13537" y="3666"/>
                      <a:pt x="13525" y="3726"/>
                      <a:pt x="13515" y="3788"/>
                    </a:cubicBezTo>
                    <a:cubicBezTo>
                      <a:pt x="13502" y="3868"/>
                      <a:pt x="13494" y="3944"/>
                      <a:pt x="13494" y="4025"/>
                    </a:cubicBezTo>
                    <a:cubicBezTo>
                      <a:pt x="13494" y="4092"/>
                      <a:pt x="13501" y="4158"/>
                      <a:pt x="13523" y="4221"/>
                    </a:cubicBezTo>
                    <a:cubicBezTo>
                      <a:pt x="13533" y="4248"/>
                      <a:pt x="13554" y="4310"/>
                      <a:pt x="13578" y="4329"/>
                    </a:cubicBezTo>
                    <a:cubicBezTo>
                      <a:pt x="13585" y="4332"/>
                      <a:pt x="13593" y="4335"/>
                      <a:pt x="13600" y="4338"/>
                    </a:cubicBezTo>
                  </a:path>
                  <a:path w="2278" h="1508">
                    <a:moveTo>
                      <a:pt x="13820" y="4480"/>
                    </a:moveTo>
                    <a:cubicBezTo>
                      <a:pt x="13853" y="4483"/>
                      <a:pt x="13872" y="4485"/>
                      <a:pt x="13904" y="4496"/>
                    </a:cubicBezTo>
                    <a:cubicBezTo>
                      <a:pt x="14081" y="4554"/>
                      <a:pt x="14250" y="4605"/>
                      <a:pt x="14437" y="4624"/>
                    </a:cubicBezTo>
                    <a:cubicBezTo>
                      <a:pt x="14604" y="4641"/>
                      <a:pt x="14770" y="4631"/>
                      <a:pt x="14936" y="4617"/>
                    </a:cubicBezTo>
                    <a:cubicBezTo>
                      <a:pt x="15157" y="4599"/>
                      <a:pt x="15393" y="4569"/>
                      <a:pt x="15603" y="4494"/>
                    </a:cubicBezTo>
                    <a:cubicBezTo>
                      <a:pt x="15664" y="4472"/>
                      <a:pt x="15733" y="4444"/>
                      <a:pt x="15771" y="4391"/>
                    </a:cubicBezTo>
                    <a:cubicBezTo>
                      <a:pt x="15771" y="4384"/>
                      <a:pt x="15771" y="4376"/>
                      <a:pt x="15771" y="4369"/>
                    </a:cubicBezTo>
                  </a:path>
                  <a:path w="2278" h="1508">
                    <a:moveTo>
                      <a:pt x="15750" y="3638"/>
                    </a:moveTo>
                    <a:cubicBezTo>
                      <a:pt x="15741" y="3656"/>
                      <a:pt x="15736" y="3685"/>
                      <a:pt x="15733" y="3706"/>
                    </a:cubicBezTo>
                    <a:cubicBezTo>
                      <a:pt x="15727" y="3756"/>
                      <a:pt x="15718" y="3805"/>
                      <a:pt x="15713" y="3856"/>
                    </a:cubicBezTo>
                    <a:cubicBezTo>
                      <a:pt x="15706" y="3931"/>
                      <a:pt x="15707" y="4008"/>
                      <a:pt x="15706" y="4084"/>
                    </a:cubicBezTo>
                    <a:cubicBezTo>
                      <a:pt x="15705" y="4158"/>
                      <a:pt x="15717" y="4231"/>
                      <a:pt x="15720" y="4305"/>
                    </a:cubicBezTo>
                    <a:cubicBezTo>
                      <a:pt x="15722" y="4348"/>
                      <a:pt x="15723" y="4387"/>
                      <a:pt x="15729" y="442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0" name=""/>
            <p:cNvSpPr/>
            <p:nvPr/>
          </p:nvSpPr>
          <p:spPr>
            <a:xfrm>
              <a:off x="3506760" y="2743200"/>
              <a:ext cx="2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X</a:t>
              </a:r>
              <a:endParaRPr b="0" lang="en-US" sz="1600" spc="-1" strike="noStrike">
                <a:solidFill>
                  <a:srgbClr val="000000"/>
                </a:solidFill>
                <a:latin typeface="Arial"/>
              </a:endParaRPr>
            </a:p>
          </p:txBody>
        </p:sp>
        <p:sp>
          <p:nvSpPr>
            <p:cNvPr id="3401"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p</a:t>
              </a:r>
              <a:endParaRPr b="0" lang="en-US" sz="1600" spc="-1" strike="noStrike">
                <a:solidFill>
                  <a:srgbClr val="000000"/>
                </a:solidFill>
                <a:latin typeface="Arial"/>
              </a:endParaRPr>
            </a:p>
          </p:txBody>
        </p:sp>
        <p:sp>
          <p:nvSpPr>
            <p:cNvPr id="3402"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Z</a:t>
              </a:r>
              <a:endParaRPr b="0" lang="en-US" sz="1600" spc="-1" strike="noStrike">
                <a:solidFill>
                  <a:srgbClr val="000000"/>
                </a:solidFill>
                <a:latin typeface="Arial"/>
              </a:endParaRPr>
            </a:p>
          </p:txBody>
        </p:sp>
        <p:sp>
          <p:nvSpPr>
            <p:cNvPr id="3403" name=""/>
            <p:cNvSpPr/>
            <p:nvPr/>
          </p:nvSpPr>
          <p:spPr>
            <a:xfrm>
              <a:off x="3980520" y="2895480"/>
              <a:ext cx="3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St</a:t>
              </a:r>
              <a:endParaRPr b="0" lang="en-US" sz="1600" spc="-1" strike="noStrike">
                <a:solidFill>
                  <a:srgbClr val="000000"/>
                </a:solidFill>
                <a:latin typeface="Arial"/>
              </a:endParaRPr>
            </a:p>
          </p:txBody>
        </p:sp>
      </p:grpSp>
      <p:sp>
        <p:nvSpPr>
          <p:cNvPr id="3404"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grpSp>
        <p:nvGrpSpPr>
          <p:cNvPr id="3405" name=""/>
          <p:cNvGrpSpPr/>
          <p:nvPr/>
        </p:nvGrpSpPr>
        <p:grpSpPr>
          <a:xfrm>
            <a:off x="3200400" y="2220840"/>
            <a:ext cx="2225160" cy="1985760"/>
            <a:chOff x="3200400" y="2220840"/>
            <a:chExt cx="2225160" cy="1985760"/>
          </a:xfrm>
        </p:grpSpPr>
        <p:sp>
          <p:nvSpPr>
            <p:cNvPr id="3406" name=""/>
            <p:cNvSpPr/>
            <p:nvPr/>
          </p:nvSpPr>
          <p:spPr>
            <a:xfrm>
              <a:off x="4805280" y="2220840"/>
              <a:ext cx="264600" cy="183960"/>
            </a:xfrm>
            <a:custGeom>
              <a:avLst/>
              <a:gdLst/>
              <a:ahLst/>
              <a:rect l="l" t="t" r="r" b="b"/>
              <a:pathLst>
                <a:path w="737" h="512">
                  <a:moveTo>
                    <a:pt x="21534" y="12356"/>
                  </a:moveTo>
                  <a:cubicBezTo>
                    <a:pt x="21564" y="12313"/>
                    <a:pt x="21582" y="12275"/>
                    <a:pt x="21603" y="12228"/>
                  </a:cubicBezTo>
                  <a:cubicBezTo>
                    <a:pt x="21608" y="12216"/>
                    <a:pt x="21614" y="12205"/>
                    <a:pt x="21619" y="12193"/>
                  </a:cubicBezTo>
                </a:path>
                <a:path w="737" h="512">
                  <a:moveTo>
                    <a:pt x="21788" y="12087"/>
                  </a:moveTo>
                  <a:cubicBezTo>
                    <a:pt x="21783" y="12044"/>
                    <a:pt x="21783" y="12010"/>
                    <a:pt x="21794" y="11968"/>
                  </a:cubicBezTo>
                  <a:cubicBezTo>
                    <a:pt x="21806" y="11922"/>
                    <a:pt x="21831" y="11884"/>
                    <a:pt x="21857" y="11845"/>
                  </a:cubicBezTo>
                </a:path>
                <a:path w="737" h="512">
                  <a:moveTo>
                    <a:pt x="22095" y="11972"/>
                  </a:moveTo>
                  <a:cubicBezTo>
                    <a:pt x="22104" y="12036"/>
                    <a:pt x="22139" y="12042"/>
                    <a:pt x="22180" y="12091"/>
                  </a:cubicBezTo>
                  <a:cubicBezTo>
                    <a:pt x="22213" y="12130"/>
                    <a:pt x="22244" y="12171"/>
                    <a:pt x="22270" y="1221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7" name=""/>
            <p:cNvSpPr/>
            <p:nvPr/>
          </p:nvSpPr>
          <p:spPr>
            <a:xfrm>
              <a:off x="5109840" y="2427120"/>
              <a:ext cx="17280" cy="88920"/>
            </a:xfrm>
            <a:custGeom>
              <a:avLst/>
              <a:gdLst/>
              <a:ahLst/>
              <a:rect l="l" t="t" r="r" b="b"/>
              <a:pathLst>
                <a:path w="49" h="248">
                  <a:moveTo>
                    <a:pt x="22423" y="12418"/>
                  </a:moveTo>
                  <a:cubicBezTo>
                    <a:pt x="22393" y="12459"/>
                    <a:pt x="22377" y="12488"/>
                    <a:pt x="22381" y="12541"/>
                  </a:cubicBezTo>
                  <a:cubicBezTo>
                    <a:pt x="22384" y="12589"/>
                    <a:pt x="22406" y="12625"/>
                    <a:pt x="22429" y="12665"/>
                  </a:cubicBezTo>
                </a:path>
              </a:pathLst>
            </a:custGeom>
            <a:noFill/>
            <a:ln cap="rnd" w="38160">
              <a:solidFill>
                <a:srgbClr val="808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08" name=""/>
            <p:cNvSpPr/>
            <p:nvPr/>
          </p:nvSpPr>
          <p:spPr>
            <a:xfrm>
              <a:off x="5190840" y="2592000"/>
              <a:ext cx="44280" cy="90720"/>
            </a:xfrm>
            <a:custGeom>
              <a:avLst/>
              <a:gdLst/>
              <a:ahLst/>
              <a:rect l="l" t="t" r="r" b="b"/>
              <a:pathLst>
                <a:path w="123" h="253">
                  <a:moveTo>
                    <a:pt x="22619" y="12876"/>
                  </a:moveTo>
                  <a:cubicBezTo>
                    <a:pt x="22600" y="12926"/>
                    <a:pt x="22600" y="12952"/>
                    <a:pt x="22630" y="13000"/>
                  </a:cubicBezTo>
                  <a:cubicBezTo>
                    <a:pt x="22659" y="13046"/>
                    <a:pt x="22690" y="13087"/>
                    <a:pt x="22725" y="13128"/>
                  </a:cubicBezTo>
                </a:path>
              </a:pathLst>
            </a:custGeom>
            <a:noFill/>
            <a:ln cap="rnd" w="38160">
              <a:solidFill>
                <a:srgbClr val="808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409" name=""/>
            <p:cNvSpPr/>
            <p:nvPr/>
          </p:nvSpPr>
          <p:spPr>
            <a:xfrm>
              <a:off x="5298840" y="2761920"/>
              <a:ext cx="79200" cy="82800"/>
            </a:xfrm>
            <a:custGeom>
              <a:avLst/>
              <a:gdLst/>
              <a:ahLst/>
              <a:rect l="l" t="t" r="r" b="b"/>
              <a:pathLst>
                <a:path w="218" h="231">
                  <a:moveTo>
                    <a:pt x="22905" y="13348"/>
                  </a:moveTo>
                  <a:cubicBezTo>
                    <a:pt x="22964" y="13374"/>
                    <a:pt x="22995" y="13401"/>
                    <a:pt x="23032" y="13454"/>
                  </a:cubicBezTo>
                  <a:cubicBezTo>
                    <a:pt x="23062" y="13496"/>
                    <a:pt x="23089" y="13538"/>
                    <a:pt x="23122" y="13578"/>
                  </a:cubicBezTo>
                </a:path>
              </a:pathLst>
            </a:custGeom>
            <a:noFill/>
            <a:ln cap="rnd" w="3816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410" name=""/>
            <p:cNvSpPr/>
            <p:nvPr/>
          </p:nvSpPr>
          <p:spPr>
            <a:xfrm>
              <a:off x="5317920" y="2943000"/>
              <a:ext cx="107640" cy="112680"/>
            </a:xfrm>
            <a:custGeom>
              <a:avLst/>
              <a:gdLst/>
              <a:ahLst/>
              <a:rect l="l" t="t" r="r" b="b"/>
              <a:pathLst>
                <a:path w="297" h="314">
                  <a:moveTo>
                    <a:pt x="23191" y="13851"/>
                  </a:moveTo>
                  <a:cubicBezTo>
                    <a:pt x="23210" y="13894"/>
                    <a:pt x="23229" y="13935"/>
                    <a:pt x="23244" y="13979"/>
                  </a:cubicBezTo>
                  <a:cubicBezTo>
                    <a:pt x="23247" y="13989"/>
                    <a:pt x="23251" y="14000"/>
                    <a:pt x="23254" y="14010"/>
                  </a:cubicBezTo>
                </a:path>
                <a:path w="297" h="314">
                  <a:moveTo>
                    <a:pt x="22958" y="14164"/>
                  </a:moveTo>
                  <a:cubicBezTo>
                    <a:pt x="23006" y="14164"/>
                    <a:pt x="23053" y="14161"/>
                    <a:pt x="23101" y="1416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1" name=""/>
            <p:cNvSpPr/>
            <p:nvPr/>
          </p:nvSpPr>
          <p:spPr>
            <a:xfrm>
              <a:off x="3441600" y="2435040"/>
              <a:ext cx="1758600" cy="1730160"/>
            </a:xfrm>
            <a:custGeom>
              <a:avLst/>
              <a:gdLst/>
              <a:ahLst/>
              <a:rect l="l" t="t" r="r" b="b"/>
              <a:pathLst>
                <a:path w="4885" h="4807">
                  <a:moveTo>
                    <a:pt x="22556" y="14173"/>
                  </a:moveTo>
                  <a:cubicBezTo>
                    <a:pt x="22593" y="14177"/>
                    <a:pt x="22605" y="14178"/>
                    <a:pt x="22630" y="14177"/>
                  </a:cubicBezTo>
                </a:path>
                <a:path w="4885" h="4807">
                  <a:moveTo>
                    <a:pt x="21053" y="16281"/>
                  </a:moveTo>
                  <a:cubicBezTo>
                    <a:pt x="21075" y="16323"/>
                    <a:pt x="21099" y="16366"/>
                    <a:pt x="21127" y="16404"/>
                  </a:cubicBezTo>
                  <a:cubicBezTo>
                    <a:pt x="21136" y="16414"/>
                    <a:pt x="21144" y="16425"/>
                    <a:pt x="21153" y="16435"/>
                  </a:cubicBezTo>
                </a:path>
                <a:path w="4885" h="4807">
                  <a:moveTo>
                    <a:pt x="21513" y="16902"/>
                  </a:moveTo>
                  <a:cubicBezTo>
                    <a:pt x="21522" y="16915"/>
                    <a:pt x="21531" y="16929"/>
                    <a:pt x="21540" y="16942"/>
                  </a:cubicBezTo>
                </a:path>
                <a:path w="4885" h="4807">
                  <a:moveTo>
                    <a:pt x="17746" y="17149"/>
                  </a:moveTo>
                  <a:cubicBezTo>
                    <a:pt x="17760" y="17185"/>
                    <a:pt x="17765" y="17207"/>
                    <a:pt x="17767" y="17246"/>
                  </a:cubicBezTo>
                </a:path>
                <a:path w="4885" h="4807">
                  <a:moveTo>
                    <a:pt x="18190" y="12440"/>
                  </a:moveTo>
                  <a:cubicBezTo>
                    <a:pt x="18210" y="12472"/>
                    <a:pt x="18229" y="12504"/>
                    <a:pt x="18248" y="12537"/>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2" name=""/>
            <p:cNvSpPr/>
            <p:nvPr/>
          </p:nvSpPr>
          <p:spPr>
            <a:xfrm>
              <a:off x="3490560" y="3904920"/>
              <a:ext cx="1360440" cy="241560"/>
            </a:xfrm>
            <a:custGeom>
              <a:avLst/>
              <a:gdLst/>
              <a:ahLst/>
              <a:rect l="l" t="t" r="r" b="b"/>
              <a:pathLst>
                <a:path w="3779" h="672">
                  <a:moveTo>
                    <a:pt x="18063" y="16523"/>
                  </a:moveTo>
                  <a:cubicBezTo>
                    <a:pt x="18056" y="16556"/>
                    <a:pt x="18047" y="16587"/>
                    <a:pt x="18037" y="16620"/>
                  </a:cubicBezTo>
                </a:path>
                <a:path w="3779" h="672">
                  <a:moveTo>
                    <a:pt x="17957" y="16828"/>
                  </a:moveTo>
                  <a:cubicBezTo>
                    <a:pt x="17933" y="16863"/>
                    <a:pt x="17909" y="16896"/>
                    <a:pt x="17883" y="16929"/>
                  </a:cubicBezTo>
                </a:path>
                <a:path w="3779" h="672">
                  <a:moveTo>
                    <a:pt x="21513" y="17154"/>
                  </a:moveTo>
                  <a:cubicBezTo>
                    <a:pt x="21565" y="17177"/>
                    <a:pt x="21605" y="17191"/>
                    <a:pt x="21661" y="1719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3" name=""/>
            <p:cNvSpPr/>
            <p:nvPr/>
          </p:nvSpPr>
          <p:spPr>
            <a:xfrm>
              <a:off x="3527280" y="3776400"/>
              <a:ext cx="136080" cy="403200"/>
            </a:xfrm>
            <a:custGeom>
              <a:avLst/>
              <a:gdLst/>
              <a:ahLst/>
              <a:rect l="l" t="t" r="r" b="b"/>
              <a:pathLst>
                <a:path w="376" h="1121">
                  <a:moveTo>
                    <a:pt x="18359" y="16166"/>
                  </a:moveTo>
                  <a:cubicBezTo>
                    <a:pt x="18343" y="16209"/>
                    <a:pt x="18322" y="16249"/>
                    <a:pt x="18301" y="16290"/>
                  </a:cubicBezTo>
                </a:path>
                <a:path w="376" h="1121">
                  <a:moveTo>
                    <a:pt x="17984" y="17286"/>
                  </a:moveTo>
                  <a:cubicBezTo>
                    <a:pt x="18033" y="17264"/>
                    <a:pt x="18083" y="17243"/>
                    <a:pt x="18137" y="17233"/>
                  </a:cubicBezTo>
                  <a:cubicBezTo>
                    <a:pt x="18175" y="17229"/>
                    <a:pt x="18189" y="17227"/>
                    <a:pt x="18211" y="17211"/>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4" name=""/>
            <p:cNvSpPr/>
            <p:nvPr/>
          </p:nvSpPr>
          <p:spPr>
            <a:xfrm>
              <a:off x="3732120" y="4159080"/>
              <a:ext cx="313920" cy="31680"/>
            </a:xfrm>
            <a:custGeom>
              <a:avLst/>
              <a:gdLst/>
              <a:ahLst/>
              <a:rect l="l" t="t" r="r" b="b"/>
              <a:pathLst>
                <a:path w="874" h="89">
                  <a:moveTo>
                    <a:pt x="18550" y="17246"/>
                  </a:moveTo>
                  <a:cubicBezTo>
                    <a:pt x="18600" y="17263"/>
                    <a:pt x="18647" y="17280"/>
                    <a:pt x="18698" y="17291"/>
                  </a:cubicBezTo>
                  <a:cubicBezTo>
                    <a:pt x="18747" y="17302"/>
                    <a:pt x="18796" y="17299"/>
                    <a:pt x="18846" y="17299"/>
                  </a:cubicBezTo>
                </a:path>
                <a:path w="874" h="89">
                  <a:moveTo>
                    <a:pt x="19090" y="17229"/>
                  </a:moveTo>
                  <a:cubicBezTo>
                    <a:pt x="19138" y="17255"/>
                    <a:pt x="19181" y="17266"/>
                    <a:pt x="19233" y="17282"/>
                  </a:cubicBezTo>
                  <a:cubicBezTo>
                    <a:pt x="19284" y="17298"/>
                    <a:pt x="19333" y="17307"/>
                    <a:pt x="19386" y="17313"/>
                  </a:cubicBezTo>
                  <a:cubicBezTo>
                    <a:pt x="19398" y="17314"/>
                    <a:pt x="19411" y="17316"/>
                    <a:pt x="19423" y="17317"/>
                  </a:cubicBezTo>
                </a:path>
              </a:pathLst>
            </a:custGeom>
            <a:noFill/>
            <a:ln cap="rnd" w="38160">
              <a:solidFill>
                <a:srgbClr val="808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415" name=""/>
            <p:cNvSpPr/>
            <p:nvPr/>
          </p:nvSpPr>
          <p:spPr>
            <a:xfrm>
              <a:off x="4182840" y="4187520"/>
              <a:ext cx="109080" cy="19080"/>
            </a:xfrm>
            <a:custGeom>
              <a:avLst/>
              <a:gdLst/>
              <a:ahLst/>
              <a:rect l="l" t="t" r="r" b="b"/>
              <a:pathLst>
                <a:path w="303" h="54">
                  <a:moveTo>
                    <a:pt x="19804" y="17308"/>
                  </a:moveTo>
                  <a:cubicBezTo>
                    <a:pt x="19864" y="17340"/>
                    <a:pt x="19890" y="17329"/>
                    <a:pt x="19952" y="17339"/>
                  </a:cubicBezTo>
                  <a:cubicBezTo>
                    <a:pt x="20005" y="17347"/>
                    <a:pt x="20051" y="17360"/>
                    <a:pt x="20106" y="17361"/>
                  </a:cubicBezTo>
                </a:path>
              </a:pathLst>
            </a:custGeom>
            <a:noFill/>
            <a:ln cap="rnd" w="38160">
              <a:solidFill>
                <a:srgbClr val="808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16" name=""/>
            <p:cNvSpPr/>
            <p:nvPr/>
          </p:nvSpPr>
          <p:spPr>
            <a:xfrm>
              <a:off x="4406760" y="4151160"/>
              <a:ext cx="337680" cy="33120"/>
            </a:xfrm>
            <a:custGeom>
              <a:avLst/>
              <a:gdLst/>
              <a:ahLst/>
              <a:rect l="l" t="t" r="r" b="b"/>
              <a:pathLst>
                <a:path w="938" h="93">
                  <a:moveTo>
                    <a:pt x="20428" y="17233"/>
                  </a:moveTo>
                  <a:cubicBezTo>
                    <a:pt x="20481" y="17267"/>
                    <a:pt x="20523" y="17290"/>
                    <a:pt x="20587" y="17295"/>
                  </a:cubicBezTo>
                  <a:cubicBezTo>
                    <a:pt x="20637" y="17299"/>
                    <a:pt x="20685" y="17293"/>
                    <a:pt x="20735" y="17295"/>
                  </a:cubicBezTo>
                  <a:cubicBezTo>
                    <a:pt x="20747" y="17296"/>
                    <a:pt x="20760" y="17298"/>
                    <a:pt x="20772" y="17299"/>
                  </a:cubicBezTo>
                </a:path>
                <a:path w="938" h="93">
                  <a:moveTo>
                    <a:pt x="21063" y="17207"/>
                  </a:moveTo>
                  <a:cubicBezTo>
                    <a:pt x="21117" y="17234"/>
                    <a:pt x="21156" y="17253"/>
                    <a:pt x="21217" y="17255"/>
                  </a:cubicBezTo>
                  <a:cubicBezTo>
                    <a:pt x="21268" y="17256"/>
                    <a:pt x="21316" y="17256"/>
                    <a:pt x="21365" y="17264"/>
                  </a:cubicBezTo>
                </a:path>
              </a:pathLst>
            </a:custGeom>
            <a:noFill/>
            <a:ln cap="rnd" w="38160">
              <a:solidFill>
                <a:srgbClr val="808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417" name=""/>
            <p:cNvSpPr/>
            <p:nvPr/>
          </p:nvSpPr>
          <p:spPr>
            <a:xfrm>
              <a:off x="4716360" y="3927240"/>
              <a:ext cx="64800" cy="76320"/>
            </a:xfrm>
            <a:custGeom>
              <a:avLst/>
              <a:gdLst/>
              <a:ahLst/>
              <a:rect l="l" t="t" r="r" b="b"/>
              <a:pathLst>
                <a:path w="181" h="213">
                  <a:moveTo>
                    <a:pt x="21286" y="16585"/>
                  </a:moveTo>
                  <a:cubicBezTo>
                    <a:pt x="21335" y="16621"/>
                    <a:pt x="21379" y="16656"/>
                    <a:pt x="21413" y="16708"/>
                  </a:cubicBezTo>
                  <a:cubicBezTo>
                    <a:pt x="21431" y="16737"/>
                    <a:pt x="21448" y="16768"/>
                    <a:pt x="21466" y="16797"/>
                  </a:cubicBezTo>
                </a:path>
              </a:pathLst>
            </a:custGeom>
            <a:noFill/>
            <a:ln cap="rnd" w="38160">
              <a:solidFill>
                <a:srgbClr val="80808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18" name=""/>
            <p:cNvSpPr/>
            <p:nvPr/>
          </p:nvSpPr>
          <p:spPr>
            <a:xfrm>
              <a:off x="3528720" y="2339640"/>
              <a:ext cx="39600" cy="23760"/>
            </a:xfrm>
            <a:custGeom>
              <a:avLst/>
              <a:gdLst/>
              <a:ahLst/>
              <a:rect l="l" t="t" r="r" b="b"/>
              <a:pathLst>
                <a:path w="107" h="67">
                  <a:moveTo>
                    <a:pt x="17989" y="12175"/>
                  </a:moveTo>
                  <a:cubicBezTo>
                    <a:pt x="18033" y="12194"/>
                    <a:pt x="18060" y="12210"/>
                    <a:pt x="18095" y="12241"/>
                  </a:cubicBezTo>
                </a:path>
              </a:pathLst>
            </a:custGeom>
            <a:noFill/>
            <a:ln cap="rnd" w="38160">
              <a:solidFill>
                <a:srgbClr val="808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19" name=""/>
            <p:cNvSpPr/>
            <p:nvPr/>
          </p:nvSpPr>
          <p:spPr>
            <a:xfrm>
              <a:off x="3354120" y="2360520"/>
              <a:ext cx="320400" cy="293400"/>
            </a:xfrm>
            <a:custGeom>
              <a:avLst/>
              <a:gdLst/>
              <a:ahLst/>
              <a:rect l="l" t="t" r="r" b="b"/>
              <a:pathLst>
                <a:path w="890" h="816">
                  <a:moveTo>
                    <a:pt x="18391" y="12599"/>
                  </a:moveTo>
                  <a:cubicBezTo>
                    <a:pt x="18371" y="12646"/>
                    <a:pt x="18374" y="12680"/>
                    <a:pt x="18381" y="12731"/>
                  </a:cubicBezTo>
                </a:path>
                <a:path w="890" h="816">
                  <a:moveTo>
                    <a:pt x="17936" y="12233"/>
                  </a:moveTo>
                  <a:cubicBezTo>
                    <a:pt x="17927" y="12275"/>
                    <a:pt x="17916" y="12312"/>
                    <a:pt x="17915" y="12356"/>
                  </a:cubicBezTo>
                  <a:cubicBezTo>
                    <a:pt x="17915" y="12368"/>
                    <a:pt x="17915" y="12379"/>
                    <a:pt x="17915" y="12391"/>
                  </a:cubicBezTo>
                </a:path>
                <a:path w="890" h="816">
                  <a:moveTo>
                    <a:pt x="17836" y="12431"/>
                  </a:moveTo>
                  <a:cubicBezTo>
                    <a:pt x="17803" y="12470"/>
                    <a:pt x="17774" y="12508"/>
                    <a:pt x="17746" y="12550"/>
                  </a:cubicBezTo>
                  <a:cubicBezTo>
                    <a:pt x="17726" y="12581"/>
                    <a:pt x="17710" y="12610"/>
                    <a:pt x="17693" y="12643"/>
                  </a:cubicBezTo>
                </a:path>
                <a:path w="890" h="816">
                  <a:moveTo>
                    <a:pt x="17634" y="12837"/>
                  </a:moveTo>
                  <a:cubicBezTo>
                    <a:pt x="17589" y="12870"/>
                    <a:pt x="17558" y="12903"/>
                    <a:pt x="17534" y="12956"/>
                  </a:cubicBezTo>
                  <a:cubicBezTo>
                    <a:pt x="17521" y="12986"/>
                    <a:pt x="17513" y="13018"/>
                    <a:pt x="17502" y="1304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0" name=""/>
            <p:cNvSpPr/>
            <p:nvPr/>
          </p:nvSpPr>
          <p:spPr>
            <a:xfrm>
              <a:off x="3295440" y="2746080"/>
              <a:ext cx="31320" cy="44640"/>
            </a:xfrm>
            <a:custGeom>
              <a:avLst/>
              <a:gdLst/>
              <a:ahLst/>
              <a:rect l="l" t="t" r="r" b="b"/>
              <a:pathLst>
                <a:path w="91" h="125">
                  <a:moveTo>
                    <a:pt x="17428" y="13304"/>
                  </a:moveTo>
                  <a:cubicBezTo>
                    <a:pt x="17399" y="13347"/>
                    <a:pt x="17368" y="13387"/>
                    <a:pt x="17338" y="13428"/>
                  </a:cubicBezTo>
                </a:path>
              </a:pathLst>
            </a:custGeom>
            <a:noFill/>
            <a:ln cap="rnd" w="38160">
              <a:solidFill>
                <a:srgbClr val="80808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21" name=""/>
            <p:cNvSpPr/>
            <p:nvPr/>
          </p:nvSpPr>
          <p:spPr>
            <a:xfrm>
              <a:off x="3200400" y="2906640"/>
              <a:ext cx="236160" cy="152280"/>
            </a:xfrm>
            <a:custGeom>
              <a:avLst/>
              <a:gdLst/>
              <a:ahLst/>
              <a:rect l="l" t="t" r="r" b="b"/>
              <a:pathLst>
                <a:path w="657" h="424">
                  <a:moveTo>
                    <a:pt x="17174" y="13750"/>
                  </a:moveTo>
                  <a:cubicBezTo>
                    <a:pt x="17137" y="13790"/>
                    <a:pt x="17119" y="13822"/>
                    <a:pt x="17100" y="13873"/>
                  </a:cubicBezTo>
                  <a:cubicBezTo>
                    <a:pt x="17089" y="13904"/>
                    <a:pt x="17085" y="13915"/>
                    <a:pt x="17074" y="13935"/>
                  </a:cubicBezTo>
                </a:path>
                <a:path w="657" h="424">
                  <a:moveTo>
                    <a:pt x="17074" y="14173"/>
                  </a:moveTo>
                  <a:cubicBezTo>
                    <a:pt x="17122" y="14145"/>
                    <a:pt x="17174" y="14122"/>
                    <a:pt x="17232" y="14116"/>
                  </a:cubicBezTo>
                  <a:cubicBezTo>
                    <a:pt x="17268" y="14112"/>
                    <a:pt x="17307" y="14116"/>
                    <a:pt x="17343" y="14116"/>
                  </a:cubicBezTo>
                </a:path>
                <a:path w="657" h="424">
                  <a:moveTo>
                    <a:pt x="17470" y="14111"/>
                  </a:moveTo>
                  <a:cubicBezTo>
                    <a:pt x="17518" y="14113"/>
                    <a:pt x="17571" y="14113"/>
                    <a:pt x="17619" y="14120"/>
                  </a:cubicBezTo>
                  <a:cubicBezTo>
                    <a:pt x="17658" y="14126"/>
                    <a:pt x="17691" y="14136"/>
                    <a:pt x="17730" y="1413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2" name=""/>
          <p:cNvSpPr/>
          <p:nvPr/>
        </p:nvSpPr>
        <p:spPr>
          <a:xfrm>
            <a:off x="3048120" y="2144880"/>
            <a:ext cx="260496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3" name=""/>
          <p:cNvSpPr/>
          <p:nvPr/>
        </p:nvSpPr>
        <p:spPr>
          <a:xfrm>
            <a:off x="3429000" y="1371600"/>
            <a:ext cx="544680" cy="53352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4" name=""/>
          <p:cNvSpPr/>
          <p:nvPr/>
        </p:nvSpPr>
        <p:spPr>
          <a:xfrm>
            <a:off x="4343400" y="3124080"/>
            <a:ext cx="351000" cy="343080"/>
          </a:xfrm>
          <a:custGeom>
            <a:avLst/>
            <a:gdLst/>
            <a:ahLst/>
            <a:rect l="l" t="t" r="r" b="b"/>
            <a:pathLst>
              <a:path w="976" h="954">
                <a:moveTo>
                  <a:pt x="12143" y="9683"/>
                </a:moveTo>
                <a:cubicBezTo>
                  <a:pt x="12224" y="9627"/>
                  <a:pt x="12316" y="9587"/>
                  <a:pt x="12404" y="9542"/>
                </a:cubicBezTo>
                <a:cubicBezTo>
                  <a:pt x="12446" y="9521"/>
                  <a:pt x="12490" y="9502"/>
                  <a:pt x="12532" y="9481"/>
                </a:cubicBezTo>
                <a:cubicBezTo>
                  <a:pt x="12573" y="9460"/>
                  <a:pt x="12624" y="9438"/>
                  <a:pt x="12660" y="9409"/>
                </a:cubicBezTo>
                <a:cubicBezTo>
                  <a:pt x="12725" y="9357"/>
                  <a:pt x="12785" y="9285"/>
                  <a:pt x="12834" y="9218"/>
                </a:cubicBezTo>
                <a:cubicBezTo>
                  <a:pt x="12868" y="9171"/>
                  <a:pt x="12892" y="9122"/>
                  <a:pt x="12930" y="9077"/>
                </a:cubicBezTo>
                <a:cubicBezTo>
                  <a:pt x="12961" y="9040"/>
                  <a:pt x="12991" y="9006"/>
                  <a:pt x="13017" y="8966"/>
                </a:cubicBezTo>
                <a:cubicBezTo>
                  <a:pt x="13036" y="8937"/>
                  <a:pt x="13054" y="8893"/>
                  <a:pt x="13063" y="8859"/>
                </a:cubicBezTo>
                <a:cubicBezTo>
                  <a:pt x="13072" y="8824"/>
                  <a:pt x="13083" y="8792"/>
                  <a:pt x="13090" y="8757"/>
                </a:cubicBezTo>
                <a:cubicBezTo>
                  <a:pt x="13090" y="8748"/>
                  <a:pt x="13090" y="8739"/>
                  <a:pt x="13090" y="8730"/>
                </a:cubicBezTo>
                <a:cubicBezTo>
                  <a:pt x="13051" y="8761"/>
                  <a:pt x="13021" y="8795"/>
                  <a:pt x="12989" y="8833"/>
                </a:cubicBezTo>
                <a:cubicBezTo>
                  <a:pt x="12967" y="8859"/>
                  <a:pt x="12960" y="8867"/>
                  <a:pt x="12948" y="8886"/>
                </a:cubicBezTo>
                <a:cubicBezTo>
                  <a:pt x="12999" y="8848"/>
                  <a:pt x="13043" y="8810"/>
                  <a:pt x="13081" y="8760"/>
                </a:cubicBezTo>
                <a:cubicBezTo>
                  <a:pt x="13100" y="8808"/>
                  <a:pt x="13114" y="8849"/>
                  <a:pt x="13118" y="8901"/>
                </a:cubicBezTo>
                <a:cubicBezTo>
                  <a:pt x="13118" y="8910"/>
                  <a:pt x="13118" y="8919"/>
                  <a:pt x="13118" y="8928"/>
                </a:cubicBezTo>
              </a:path>
              <a:path w="976" h="954">
                <a:moveTo>
                  <a:pt x="12330" y="9458"/>
                </a:moveTo>
                <a:cubicBezTo>
                  <a:pt x="12273" y="9489"/>
                  <a:pt x="12233" y="9529"/>
                  <a:pt x="12189" y="9576"/>
                </a:cubicBezTo>
                <a:cubicBezTo>
                  <a:pt x="12166" y="9603"/>
                  <a:pt x="12158" y="9612"/>
                  <a:pt x="12143" y="9630"/>
                </a:cubicBezTo>
                <a:cubicBezTo>
                  <a:pt x="12187" y="9630"/>
                  <a:pt x="12228" y="9626"/>
                  <a:pt x="12271" y="9622"/>
                </a:cubicBezTo>
                <a:cubicBezTo>
                  <a:pt x="12315" y="9618"/>
                  <a:pt x="12356" y="9625"/>
                  <a:pt x="12399" y="963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5" name=""/>
          <p:cNvSpPr/>
          <p:nvPr/>
        </p:nvSpPr>
        <p:spPr>
          <a:xfrm>
            <a:off x="3629160" y="3048120"/>
            <a:ext cx="225360" cy="431640"/>
          </a:xfrm>
          <a:custGeom>
            <a:avLst/>
            <a:gdLst/>
            <a:ahLst/>
            <a:rect l="l" t="t" r="r" b="b"/>
            <a:pathLst>
              <a:path w="628" h="1202">
                <a:moveTo>
                  <a:pt x="10230" y="8501"/>
                </a:moveTo>
                <a:cubicBezTo>
                  <a:pt x="10223" y="8543"/>
                  <a:pt x="10221" y="8581"/>
                  <a:pt x="10221" y="8623"/>
                </a:cubicBezTo>
                <a:cubicBezTo>
                  <a:pt x="10221" y="8662"/>
                  <a:pt x="10224" y="8696"/>
                  <a:pt x="10230" y="8734"/>
                </a:cubicBezTo>
                <a:cubicBezTo>
                  <a:pt x="10240" y="8792"/>
                  <a:pt x="10247" y="8850"/>
                  <a:pt x="10253" y="8909"/>
                </a:cubicBezTo>
                <a:cubicBezTo>
                  <a:pt x="10258" y="8966"/>
                  <a:pt x="10288" y="8998"/>
                  <a:pt x="10312" y="9046"/>
                </a:cubicBezTo>
                <a:cubicBezTo>
                  <a:pt x="10332" y="9085"/>
                  <a:pt x="10340" y="9125"/>
                  <a:pt x="10367" y="9161"/>
                </a:cubicBezTo>
                <a:cubicBezTo>
                  <a:pt x="10394" y="9198"/>
                  <a:pt x="10421" y="9232"/>
                  <a:pt x="10450" y="9268"/>
                </a:cubicBezTo>
                <a:cubicBezTo>
                  <a:pt x="10481" y="9306"/>
                  <a:pt x="10516" y="9339"/>
                  <a:pt x="10546" y="9378"/>
                </a:cubicBezTo>
                <a:cubicBezTo>
                  <a:pt x="10574" y="9414"/>
                  <a:pt x="10595" y="9453"/>
                  <a:pt x="10623" y="9489"/>
                </a:cubicBezTo>
                <a:cubicBezTo>
                  <a:pt x="10657" y="9533"/>
                  <a:pt x="10691" y="9556"/>
                  <a:pt x="10738" y="9584"/>
                </a:cubicBezTo>
              </a:path>
              <a:path w="628" h="1202">
                <a:moveTo>
                  <a:pt x="10221" y="8547"/>
                </a:moveTo>
                <a:cubicBezTo>
                  <a:pt x="10198" y="8590"/>
                  <a:pt x="10191" y="8619"/>
                  <a:pt x="10180" y="8665"/>
                </a:cubicBezTo>
                <a:cubicBezTo>
                  <a:pt x="10171" y="8703"/>
                  <a:pt x="10163" y="8742"/>
                  <a:pt x="10152" y="8779"/>
                </a:cubicBezTo>
                <a:cubicBezTo>
                  <a:pt x="10144" y="8806"/>
                  <a:pt x="10142" y="8829"/>
                  <a:pt x="10138" y="8856"/>
                </a:cubicBezTo>
                <a:cubicBezTo>
                  <a:pt x="10138" y="8816"/>
                  <a:pt x="10142" y="8783"/>
                  <a:pt x="10152" y="8745"/>
                </a:cubicBezTo>
                <a:cubicBezTo>
                  <a:pt x="10164" y="8699"/>
                  <a:pt x="10170" y="8653"/>
                  <a:pt x="10184" y="8608"/>
                </a:cubicBezTo>
                <a:cubicBezTo>
                  <a:pt x="10229" y="8652"/>
                  <a:pt x="10270" y="8699"/>
                  <a:pt x="10312" y="8745"/>
                </a:cubicBezTo>
              </a:path>
              <a:path w="628" h="1202">
                <a:moveTo>
                  <a:pt x="10651" y="9653"/>
                </a:moveTo>
                <a:cubicBezTo>
                  <a:pt x="10640" y="9649"/>
                  <a:pt x="10630" y="9645"/>
                  <a:pt x="10619" y="9641"/>
                </a:cubicBezTo>
                <a:cubicBezTo>
                  <a:pt x="10662" y="9666"/>
                  <a:pt x="10700" y="9686"/>
                  <a:pt x="10747" y="9702"/>
                </a:cubicBezTo>
                <a:cubicBezTo>
                  <a:pt x="10757" y="9665"/>
                  <a:pt x="10768" y="9627"/>
                  <a:pt x="10765" y="9588"/>
                </a:cubicBezTo>
                <a:cubicBezTo>
                  <a:pt x="10763" y="9552"/>
                  <a:pt x="10765" y="9517"/>
                  <a:pt x="10761" y="9481"/>
                </a:cubicBezTo>
                <a:cubicBezTo>
                  <a:pt x="10756" y="9454"/>
                  <a:pt x="10754" y="9446"/>
                  <a:pt x="10756" y="942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6" name=""/>
          <p:cNvSpPr/>
          <p:nvPr/>
        </p:nvSpPr>
        <p:spPr>
          <a:xfrm>
            <a:off x="304920" y="2133720"/>
            <a:ext cx="1447560" cy="554040"/>
          </a:xfrm>
          <a:custGeom>
            <a:avLst/>
            <a:gdLst/>
            <a:ahLst/>
            <a:rect l="l" t="t" r="r" b="b"/>
            <a:pathLst>
              <a:path w="3086" h="1542">
                <a:moveTo>
                  <a:pt x="22147" y="8291"/>
                </a:moveTo>
                <a:cubicBezTo>
                  <a:pt x="22227" y="8358"/>
                  <a:pt x="22309" y="8435"/>
                  <a:pt x="22394" y="8497"/>
                </a:cubicBezTo>
                <a:cubicBezTo>
                  <a:pt x="22551" y="8612"/>
                  <a:pt x="22723" y="8655"/>
                  <a:pt x="22916" y="8661"/>
                </a:cubicBezTo>
                <a:cubicBezTo>
                  <a:pt x="23038" y="8665"/>
                  <a:pt x="23165" y="8662"/>
                  <a:pt x="23286" y="8650"/>
                </a:cubicBezTo>
                <a:cubicBezTo>
                  <a:pt x="23437" y="8635"/>
                  <a:pt x="23588" y="8622"/>
                  <a:pt x="23739" y="8612"/>
                </a:cubicBezTo>
                <a:cubicBezTo>
                  <a:pt x="23886" y="8602"/>
                  <a:pt x="24029" y="8578"/>
                  <a:pt x="24174" y="8551"/>
                </a:cubicBezTo>
                <a:cubicBezTo>
                  <a:pt x="24370" y="8514"/>
                  <a:pt x="24575" y="8487"/>
                  <a:pt x="24760" y="8409"/>
                </a:cubicBezTo>
                <a:cubicBezTo>
                  <a:pt x="24823" y="8383"/>
                  <a:pt x="24870" y="8356"/>
                  <a:pt x="24897" y="8291"/>
                </a:cubicBezTo>
                <a:cubicBezTo>
                  <a:pt x="24969" y="8118"/>
                  <a:pt x="24833" y="7838"/>
                  <a:pt x="24764" y="7685"/>
                </a:cubicBezTo>
                <a:cubicBezTo>
                  <a:pt x="24710" y="7567"/>
                  <a:pt x="24654" y="7425"/>
                  <a:pt x="24563" y="7330"/>
                </a:cubicBezTo>
                <a:cubicBezTo>
                  <a:pt x="24399" y="7158"/>
                  <a:pt x="24172" y="7142"/>
                  <a:pt x="23950" y="7132"/>
                </a:cubicBezTo>
                <a:cubicBezTo>
                  <a:pt x="23826" y="7126"/>
                  <a:pt x="23703" y="7120"/>
                  <a:pt x="23579" y="7120"/>
                </a:cubicBezTo>
                <a:cubicBezTo>
                  <a:pt x="23399" y="7120"/>
                  <a:pt x="23211" y="7122"/>
                  <a:pt x="23034" y="7155"/>
                </a:cubicBezTo>
                <a:cubicBezTo>
                  <a:pt x="22862" y="7187"/>
                  <a:pt x="22691" y="7242"/>
                  <a:pt x="22522" y="7288"/>
                </a:cubicBezTo>
                <a:cubicBezTo>
                  <a:pt x="22347" y="7336"/>
                  <a:pt x="22181" y="7408"/>
                  <a:pt x="22041" y="7525"/>
                </a:cubicBezTo>
                <a:cubicBezTo>
                  <a:pt x="21939" y="7610"/>
                  <a:pt x="21900" y="7726"/>
                  <a:pt x="21868" y="7853"/>
                </a:cubicBezTo>
                <a:cubicBezTo>
                  <a:pt x="21832" y="7999"/>
                  <a:pt x="21783" y="8193"/>
                  <a:pt x="21886" y="8322"/>
                </a:cubicBezTo>
                <a:cubicBezTo>
                  <a:pt x="21925" y="8370"/>
                  <a:pt x="21983" y="8423"/>
                  <a:pt x="22037" y="8455"/>
                </a:cubicBezTo>
                <a:cubicBezTo>
                  <a:pt x="22159" y="8526"/>
                  <a:pt x="22315" y="8553"/>
                  <a:pt x="22453" y="8570"/>
                </a:cubicBezTo>
                <a:cubicBezTo>
                  <a:pt x="22538" y="8580"/>
                  <a:pt x="22621" y="8575"/>
                  <a:pt x="22705" y="8577"/>
                </a:cubicBezTo>
                <a:cubicBezTo>
                  <a:pt x="22779" y="8579"/>
                  <a:pt x="22851" y="8579"/>
                  <a:pt x="22925" y="8577"/>
                </a:cubicBezTo>
              </a:path>
            </a:pathLst>
          </a:custGeom>
          <a:noFill/>
          <a:ln cap="rnd"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7" name=""/>
          <p:cNvSpPr/>
          <p:nvPr/>
        </p:nvSpPr>
        <p:spPr>
          <a:xfrm>
            <a:off x="6019920" y="762120"/>
            <a:ext cx="1447560" cy="554040"/>
          </a:xfrm>
          <a:custGeom>
            <a:avLst/>
            <a:gdLst/>
            <a:ahLst/>
            <a:rect l="l" t="t" r="r" b="b"/>
            <a:pathLst>
              <a:path w="3086" h="1542">
                <a:moveTo>
                  <a:pt x="22147" y="8291"/>
                </a:moveTo>
                <a:cubicBezTo>
                  <a:pt x="22227" y="8358"/>
                  <a:pt x="22309" y="8435"/>
                  <a:pt x="22394" y="8497"/>
                </a:cubicBezTo>
                <a:cubicBezTo>
                  <a:pt x="22551" y="8612"/>
                  <a:pt x="22723" y="8655"/>
                  <a:pt x="22916" y="8661"/>
                </a:cubicBezTo>
                <a:cubicBezTo>
                  <a:pt x="23038" y="8665"/>
                  <a:pt x="23165" y="8662"/>
                  <a:pt x="23286" y="8650"/>
                </a:cubicBezTo>
                <a:cubicBezTo>
                  <a:pt x="23437" y="8635"/>
                  <a:pt x="23588" y="8622"/>
                  <a:pt x="23739" y="8612"/>
                </a:cubicBezTo>
                <a:cubicBezTo>
                  <a:pt x="23886" y="8602"/>
                  <a:pt x="24029" y="8578"/>
                  <a:pt x="24174" y="8551"/>
                </a:cubicBezTo>
                <a:cubicBezTo>
                  <a:pt x="24370" y="8514"/>
                  <a:pt x="24575" y="8487"/>
                  <a:pt x="24760" y="8409"/>
                </a:cubicBezTo>
                <a:cubicBezTo>
                  <a:pt x="24823" y="8383"/>
                  <a:pt x="24870" y="8356"/>
                  <a:pt x="24897" y="8291"/>
                </a:cubicBezTo>
                <a:cubicBezTo>
                  <a:pt x="24969" y="8118"/>
                  <a:pt x="24833" y="7838"/>
                  <a:pt x="24764" y="7685"/>
                </a:cubicBezTo>
                <a:cubicBezTo>
                  <a:pt x="24710" y="7567"/>
                  <a:pt x="24654" y="7425"/>
                  <a:pt x="24563" y="7330"/>
                </a:cubicBezTo>
                <a:cubicBezTo>
                  <a:pt x="24399" y="7158"/>
                  <a:pt x="24172" y="7142"/>
                  <a:pt x="23950" y="7132"/>
                </a:cubicBezTo>
                <a:cubicBezTo>
                  <a:pt x="23826" y="7126"/>
                  <a:pt x="23703" y="7120"/>
                  <a:pt x="23579" y="7120"/>
                </a:cubicBezTo>
                <a:cubicBezTo>
                  <a:pt x="23399" y="7120"/>
                  <a:pt x="23211" y="7122"/>
                  <a:pt x="23034" y="7155"/>
                </a:cubicBezTo>
                <a:cubicBezTo>
                  <a:pt x="22862" y="7187"/>
                  <a:pt x="22691" y="7242"/>
                  <a:pt x="22522" y="7288"/>
                </a:cubicBezTo>
                <a:cubicBezTo>
                  <a:pt x="22347" y="7336"/>
                  <a:pt x="22181" y="7408"/>
                  <a:pt x="22041" y="7525"/>
                </a:cubicBezTo>
                <a:cubicBezTo>
                  <a:pt x="21939" y="7610"/>
                  <a:pt x="21900" y="7726"/>
                  <a:pt x="21868" y="7853"/>
                </a:cubicBezTo>
                <a:cubicBezTo>
                  <a:pt x="21832" y="7999"/>
                  <a:pt x="21783" y="8193"/>
                  <a:pt x="21886" y="8322"/>
                </a:cubicBezTo>
                <a:cubicBezTo>
                  <a:pt x="21925" y="8370"/>
                  <a:pt x="21983" y="8423"/>
                  <a:pt x="22037" y="8455"/>
                </a:cubicBezTo>
                <a:cubicBezTo>
                  <a:pt x="22159" y="8526"/>
                  <a:pt x="22315" y="8553"/>
                  <a:pt x="22453" y="8570"/>
                </a:cubicBezTo>
                <a:cubicBezTo>
                  <a:pt x="22538" y="8580"/>
                  <a:pt x="22621" y="8575"/>
                  <a:pt x="22705" y="8577"/>
                </a:cubicBezTo>
                <a:cubicBezTo>
                  <a:pt x="22779" y="8579"/>
                  <a:pt x="22851" y="8579"/>
                  <a:pt x="22925" y="8577"/>
                </a:cubicBezTo>
              </a:path>
            </a:pathLst>
          </a:custGeom>
          <a:noFill/>
          <a:ln cap="rnd"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8" name=""/>
          <p:cNvSpPr/>
          <p:nvPr/>
        </p:nvSpPr>
        <p:spPr>
          <a:xfrm>
            <a:off x="4876920" y="2971800"/>
            <a:ext cx="511200" cy="62532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9" name=""/>
          <p:cNvSpPr/>
          <p:nvPr/>
        </p:nvSpPr>
        <p:spPr>
          <a:xfrm>
            <a:off x="3957120" y="236232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eis</a:t>
            </a:r>
            <a:endParaRPr b="0" lang="en-US" sz="1600" spc="-1" strike="noStrike">
              <a:solidFill>
                <a:srgbClr val="000000"/>
              </a:solidFill>
              <a:latin typeface="Arial"/>
            </a:endParaRPr>
          </a:p>
        </p:txBody>
      </p:sp>
      <p:sp>
        <p:nvSpPr>
          <p:cNvPr id="3430" name=""/>
          <p:cNvSpPr/>
          <p:nvPr/>
        </p:nvSpPr>
        <p:spPr>
          <a:xfrm>
            <a:off x="3809880" y="2286000"/>
            <a:ext cx="693720" cy="533520"/>
          </a:xfrm>
          <a:custGeom>
            <a:avLst/>
            <a:gdLst/>
            <a:ahLst/>
            <a:rect l="l" t="t" r="r" b="b"/>
            <a:pathLst>
              <a:path w="2632" h="1676">
                <a:moveTo>
                  <a:pt x="21207" y="9609"/>
                </a:moveTo>
                <a:cubicBezTo>
                  <a:pt x="21196" y="9614"/>
                  <a:pt x="21129" y="9628"/>
                  <a:pt x="21119" y="9638"/>
                </a:cubicBezTo>
                <a:cubicBezTo>
                  <a:pt x="21094" y="9665"/>
                  <a:pt x="21088" y="9676"/>
                  <a:pt x="21058" y="9699"/>
                </a:cubicBezTo>
                <a:cubicBezTo>
                  <a:pt x="21033" y="9719"/>
                  <a:pt x="20949" y="9774"/>
                  <a:pt x="20938" y="9787"/>
                </a:cubicBezTo>
                <a:cubicBezTo>
                  <a:pt x="20918" y="9810"/>
                  <a:pt x="20897" y="9828"/>
                  <a:pt x="20879" y="9849"/>
                </a:cubicBezTo>
                <a:cubicBezTo>
                  <a:pt x="20864" y="9866"/>
                  <a:pt x="20797" y="9925"/>
                  <a:pt x="20788" y="9936"/>
                </a:cubicBezTo>
                <a:cubicBezTo>
                  <a:pt x="20764" y="9966"/>
                  <a:pt x="20787" y="10004"/>
                  <a:pt x="20759" y="10027"/>
                </a:cubicBezTo>
                <a:cubicBezTo>
                  <a:pt x="20738" y="10045"/>
                  <a:pt x="20718" y="10074"/>
                  <a:pt x="20700" y="10088"/>
                </a:cubicBezTo>
                <a:cubicBezTo>
                  <a:pt x="20677" y="10106"/>
                  <a:pt x="20659" y="10131"/>
                  <a:pt x="20639" y="10147"/>
                </a:cubicBezTo>
                <a:cubicBezTo>
                  <a:pt x="20609" y="10170"/>
                  <a:pt x="20593" y="10172"/>
                  <a:pt x="20551" y="10208"/>
                </a:cubicBezTo>
                <a:cubicBezTo>
                  <a:pt x="20519" y="10235"/>
                  <a:pt x="20490" y="10267"/>
                  <a:pt x="20460" y="10296"/>
                </a:cubicBezTo>
                <a:cubicBezTo>
                  <a:pt x="20493" y="10324"/>
                  <a:pt x="20535" y="10375"/>
                  <a:pt x="20551" y="10386"/>
                </a:cubicBezTo>
                <a:cubicBezTo>
                  <a:pt x="20580" y="10407"/>
                  <a:pt x="20620" y="10427"/>
                  <a:pt x="20639" y="10445"/>
                </a:cubicBezTo>
                <a:cubicBezTo>
                  <a:pt x="20679" y="10483"/>
                  <a:pt x="20710" y="10509"/>
                  <a:pt x="20730" y="10536"/>
                </a:cubicBezTo>
                <a:cubicBezTo>
                  <a:pt x="20758" y="10573"/>
                  <a:pt x="20767" y="10607"/>
                  <a:pt x="20788" y="10626"/>
                </a:cubicBezTo>
                <a:cubicBezTo>
                  <a:pt x="20805" y="10642"/>
                  <a:pt x="20864" y="10638"/>
                  <a:pt x="20879" y="10655"/>
                </a:cubicBezTo>
                <a:cubicBezTo>
                  <a:pt x="20905" y="10684"/>
                  <a:pt x="20906" y="10692"/>
                  <a:pt x="20938" y="10717"/>
                </a:cubicBezTo>
                <a:cubicBezTo>
                  <a:pt x="20950" y="10726"/>
                  <a:pt x="20984" y="10793"/>
                  <a:pt x="20999" y="10805"/>
                </a:cubicBezTo>
                <a:cubicBezTo>
                  <a:pt x="21025" y="10826"/>
                  <a:pt x="21036" y="10847"/>
                  <a:pt x="21058" y="10866"/>
                </a:cubicBezTo>
                <a:cubicBezTo>
                  <a:pt x="21078" y="10883"/>
                  <a:pt x="21101" y="10910"/>
                  <a:pt x="21119" y="10924"/>
                </a:cubicBezTo>
                <a:cubicBezTo>
                  <a:pt x="21144" y="10944"/>
                  <a:pt x="21157" y="10969"/>
                  <a:pt x="21178" y="10986"/>
                </a:cubicBezTo>
                <a:cubicBezTo>
                  <a:pt x="21200" y="11004"/>
                  <a:pt x="21253" y="11061"/>
                  <a:pt x="21269" y="11074"/>
                </a:cubicBezTo>
                <a:cubicBezTo>
                  <a:pt x="21301" y="11100"/>
                  <a:pt x="21305" y="11096"/>
                  <a:pt x="21327" y="11135"/>
                </a:cubicBezTo>
                <a:cubicBezTo>
                  <a:pt x="21342" y="11161"/>
                  <a:pt x="21346" y="11193"/>
                  <a:pt x="21386" y="11193"/>
                </a:cubicBezTo>
                <a:cubicBezTo>
                  <a:pt x="21432" y="11193"/>
                  <a:pt x="21456" y="11168"/>
                  <a:pt x="21506" y="11164"/>
                </a:cubicBezTo>
                <a:cubicBezTo>
                  <a:pt x="21556" y="11160"/>
                  <a:pt x="21577" y="11141"/>
                  <a:pt x="21626" y="11135"/>
                </a:cubicBezTo>
                <a:cubicBezTo>
                  <a:pt x="21676" y="11129"/>
                  <a:pt x="21738" y="11111"/>
                  <a:pt x="21776" y="11106"/>
                </a:cubicBezTo>
                <a:cubicBezTo>
                  <a:pt x="21874" y="11094"/>
                  <a:pt x="21992" y="11085"/>
                  <a:pt x="22074" y="11074"/>
                </a:cubicBezTo>
                <a:cubicBezTo>
                  <a:pt x="22246" y="11051"/>
                  <a:pt x="22523" y="11063"/>
                  <a:pt x="22643" y="11106"/>
                </a:cubicBezTo>
                <a:cubicBezTo>
                  <a:pt x="22678" y="11081"/>
                  <a:pt x="22683" y="11083"/>
                  <a:pt x="22705" y="11044"/>
                </a:cubicBezTo>
                <a:cubicBezTo>
                  <a:pt x="22725" y="11009"/>
                  <a:pt x="22712" y="10998"/>
                  <a:pt x="22734" y="10954"/>
                </a:cubicBezTo>
                <a:cubicBezTo>
                  <a:pt x="22739" y="10944"/>
                  <a:pt x="22777" y="10897"/>
                  <a:pt x="22792" y="10866"/>
                </a:cubicBezTo>
                <a:cubicBezTo>
                  <a:pt x="22812" y="10825"/>
                  <a:pt x="22808" y="10809"/>
                  <a:pt x="22822" y="10775"/>
                </a:cubicBezTo>
                <a:cubicBezTo>
                  <a:pt x="22838" y="10736"/>
                  <a:pt x="22838" y="10693"/>
                  <a:pt x="22854" y="10655"/>
                </a:cubicBezTo>
                <a:cubicBezTo>
                  <a:pt x="22869" y="10621"/>
                  <a:pt x="22863" y="10607"/>
                  <a:pt x="22883" y="10565"/>
                </a:cubicBezTo>
                <a:cubicBezTo>
                  <a:pt x="22906" y="10517"/>
                  <a:pt x="22919" y="10465"/>
                  <a:pt x="22942" y="10416"/>
                </a:cubicBezTo>
                <a:cubicBezTo>
                  <a:pt x="22958" y="10381"/>
                  <a:pt x="22950" y="10367"/>
                  <a:pt x="22971" y="10325"/>
                </a:cubicBezTo>
                <a:cubicBezTo>
                  <a:pt x="22990" y="10287"/>
                  <a:pt x="22982" y="10285"/>
                  <a:pt x="23003" y="10237"/>
                </a:cubicBezTo>
                <a:cubicBezTo>
                  <a:pt x="23017" y="10205"/>
                  <a:pt x="23057" y="10157"/>
                  <a:pt x="23062" y="10147"/>
                </a:cubicBezTo>
                <a:cubicBezTo>
                  <a:pt x="23083" y="10104"/>
                  <a:pt x="23074" y="10092"/>
                  <a:pt x="23091" y="10056"/>
                </a:cubicBezTo>
                <a:cubicBezTo>
                  <a:pt x="23036" y="10051"/>
                  <a:pt x="23025" y="10037"/>
                  <a:pt x="23003" y="10027"/>
                </a:cubicBezTo>
                <a:cubicBezTo>
                  <a:pt x="22958" y="10006"/>
                  <a:pt x="22949" y="10016"/>
                  <a:pt x="22913" y="9998"/>
                </a:cubicBezTo>
                <a:cubicBezTo>
                  <a:pt x="22879" y="9981"/>
                  <a:pt x="22864" y="9990"/>
                  <a:pt x="22822" y="9968"/>
                </a:cubicBezTo>
                <a:cubicBezTo>
                  <a:pt x="22785" y="9949"/>
                  <a:pt x="22785" y="9931"/>
                  <a:pt x="22734" y="9907"/>
                </a:cubicBezTo>
                <a:cubicBezTo>
                  <a:pt x="22696" y="9889"/>
                  <a:pt x="22660" y="9860"/>
                  <a:pt x="22643" y="9849"/>
                </a:cubicBezTo>
                <a:cubicBezTo>
                  <a:pt x="22611" y="9828"/>
                  <a:pt x="22600" y="9815"/>
                  <a:pt x="22552" y="9787"/>
                </a:cubicBezTo>
                <a:cubicBezTo>
                  <a:pt x="22539" y="9779"/>
                  <a:pt x="22475" y="9770"/>
                  <a:pt x="22464" y="9758"/>
                </a:cubicBezTo>
                <a:cubicBezTo>
                  <a:pt x="22444" y="9737"/>
                  <a:pt x="22422" y="9719"/>
                  <a:pt x="22403" y="9699"/>
                </a:cubicBezTo>
                <a:cubicBezTo>
                  <a:pt x="22387" y="9681"/>
                  <a:pt x="22357" y="9655"/>
                  <a:pt x="22344" y="9638"/>
                </a:cubicBezTo>
                <a:cubicBezTo>
                  <a:pt x="22317" y="9605"/>
                  <a:pt x="22324" y="9603"/>
                  <a:pt x="22286" y="9580"/>
                </a:cubicBezTo>
                <a:cubicBezTo>
                  <a:pt x="22245" y="9556"/>
                  <a:pt x="22230" y="9516"/>
                  <a:pt x="22195" y="9518"/>
                </a:cubicBezTo>
                <a:cubicBezTo>
                  <a:pt x="22129" y="9521"/>
                  <a:pt x="22154" y="9543"/>
                  <a:pt x="22104" y="9547"/>
                </a:cubicBezTo>
                <a:cubicBezTo>
                  <a:pt x="22036" y="9553"/>
                  <a:pt x="21917" y="9577"/>
                  <a:pt x="21896" y="9580"/>
                </a:cubicBezTo>
                <a:cubicBezTo>
                  <a:pt x="21809" y="9592"/>
                  <a:pt x="21700" y="9600"/>
                  <a:pt x="21626" y="9609"/>
                </a:cubicBezTo>
                <a:cubicBezTo>
                  <a:pt x="21509" y="9623"/>
                  <a:pt x="21229" y="9609"/>
                  <a:pt x="21207" y="9609"/>
                </a:cubicBezTo>
                <a:cubicBezTo>
                  <a:pt x="21217" y="9609"/>
                  <a:pt x="21226" y="9609"/>
                  <a:pt x="21236" y="960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1" name=""/>
          <p:cNvGrpSpPr/>
          <p:nvPr/>
        </p:nvGrpSpPr>
        <p:grpSpPr>
          <a:xfrm>
            <a:off x="3657600" y="2209680"/>
            <a:ext cx="968400" cy="301680"/>
            <a:chOff x="3657600" y="2209680"/>
            <a:chExt cx="968400" cy="301680"/>
          </a:xfrm>
        </p:grpSpPr>
        <p:sp>
          <p:nvSpPr>
            <p:cNvPr id="3432" name=""/>
            <p:cNvSpPr/>
            <p:nvPr/>
          </p:nvSpPr>
          <p:spPr>
            <a:xfrm>
              <a:off x="3657600" y="2282760"/>
              <a:ext cx="203040" cy="228600"/>
            </a:xfrm>
            <a:custGeom>
              <a:avLst/>
              <a:gdLst/>
              <a:ahLst/>
              <a:rect l="l" t="t" r="r" b="b"/>
              <a:pathLst>
                <a:path w="566" h="571">
                  <a:moveTo>
                    <a:pt x="10592" y="6858"/>
                  </a:moveTo>
                  <a:cubicBezTo>
                    <a:pt x="10536" y="6858"/>
                    <a:pt x="10524" y="6832"/>
                    <a:pt x="10475" y="6826"/>
                  </a:cubicBezTo>
                  <a:cubicBezTo>
                    <a:pt x="10434" y="6821"/>
                    <a:pt x="10424" y="6801"/>
                    <a:pt x="10413" y="6767"/>
                  </a:cubicBezTo>
                </a:path>
                <a:path w="566" h="571">
                  <a:moveTo>
                    <a:pt x="10293" y="6676"/>
                  </a:moveTo>
                  <a:cubicBezTo>
                    <a:pt x="10293" y="6666"/>
                    <a:pt x="10293" y="6657"/>
                    <a:pt x="10293" y="6647"/>
                  </a:cubicBezTo>
                  <a:cubicBezTo>
                    <a:pt x="10258" y="6638"/>
                    <a:pt x="10240" y="6627"/>
                    <a:pt x="10205" y="6618"/>
                  </a:cubicBezTo>
                  <a:cubicBezTo>
                    <a:pt x="10190" y="6567"/>
                    <a:pt x="10192" y="6605"/>
                    <a:pt x="10176" y="6557"/>
                  </a:cubicBezTo>
                </a:path>
                <a:path w="566" h="571">
                  <a:moveTo>
                    <a:pt x="10355" y="6466"/>
                  </a:moveTo>
                  <a:cubicBezTo>
                    <a:pt x="10384" y="6466"/>
                    <a:pt x="10394" y="6466"/>
                    <a:pt x="10413" y="6466"/>
                  </a:cubicBezTo>
                  <a:cubicBezTo>
                    <a:pt x="10426" y="6427"/>
                    <a:pt x="10434" y="6420"/>
                    <a:pt x="10475" y="6408"/>
                  </a:cubicBezTo>
                </a:path>
                <a:path w="566" h="571">
                  <a:moveTo>
                    <a:pt x="10654" y="6349"/>
                  </a:moveTo>
                  <a:cubicBezTo>
                    <a:pt x="10691" y="6296"/>
                    <a:pt x="10675" y="6288"/>
                    <a:pt x="10741" y="62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3" name=""/>
            <p:cNvSpPr/>
            <p:nvPr/>
          </p:nvSpPr>
          <p:spPr>
            <a:xfrm>
              <a:off x="3946680" y="2244600"/>
              <a:ext cx="64800" cy="3240"/>
            </a:xfrm>
            <a:custGeom>
              <a:avLst/>
              <a:gdLst/>
              <a:ahLst/>
              <a:rect l="l" t="t" r="r" b="b"/>
              <a:pathLst>
                <a:path w="179" h="1">
                  <a:moveTo>
                    <a:pt x="10982" y="6197"/>
                  </a:moveTo>
                  <a:cubicBezTo>
                    <a:pt x="11041" y="6197"/>
                    <a:pt x="11101" y="6197"/>
                    <a:pt x="11160" y="6197"/>
                  </a:cubicBezTo>
                </a:path>
              </a:pathLst>
            </a:custGeom>
            <a:noFill/>
            <a:ln cap="rnd" w="28440">
              <a:solidFill>
                <a:srgbClr val="808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4" name=""/>
            <p:cNvSpPr/>
            <p:nvPr/>
          </p:nvSpPr>
          <p:spPr>
            <a:xfrm>
              <a:off x="4108320" y="2209680"/>
              <a:ext cx="65160" cy="12600"/>
            </a:xfrm>
            <a:custGeom>
              <a:avLst/>
              <a:gdLst/>
              <a:ahLst/>
              <a:rect l="l" t="t" r="r" b="b"/>
              <a:pathLst>
                <a:path w="180" h="31">
                  <a:moveTo>
                    <a:pt x="11430" y="6109"/>
                  </a:moveTo>
                  <a:cubicBezTo>
                    <a:pt x="11430" y="6119"/>
                    <a:pt x="11430" y="6129"/>
                    <a:pt x="11430" y="6139"/>
                  </a:cubicBezTo>
                  <a:cubicBezTo>
                    <a:pt x="11490" y="6139"/>
                    <a:pt x="11549" y="6139"/>
                    <a:pt x="11609"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35" name=""/>
            <p:cNvSpPr/>
            <p:nvPr/>
          </p:nvSpPr>
          <p:spPr>
            <a:xfrm>
              <a:off x="4270320" y="2209680"/>
              <a:ext cx="54000" cy="12600"/>
            </a:xfrm>
            <a:custGeom>
              <a:avLst/>
              <a:gdLst/>
              <a:ahLst/>
              <a:rect l="l" t="t" r="r" b="b"/>
              <a:pathLst>
                <a:path w="151" h="31">
                  <a:moveTo>
                    <a:pt x="11878" y="6109"/>
                  </a:moveTo>
                  <a:cubicBezTo>
                    <a:pt x="11918" y="6109"/>
                    <a:pt x="11958" y="6109"/>
                    <a:pt x="11998" y="6109"/>
                  </a:cubicBezTo>
                  <a:cubicBezTo>
                    <a:pt x="11998" y="6139"/>
                    <a:pt x="11998" y="6149"/>
                    <a:pt x="12028"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36" name=""/>
            <p:cNvSpPr/>
            <p:nvPr/>
          </p:nvSpPr>
          <p:spPr>
            <a:xfrm>
              <a:off x="4410000" y="2222280"/>
              <a:ext cx="216000" cy="241200"/>
            </a:xfrm>
            <a:custGeom>
              <a:avLst/>
              <a:gdLst/>
              <a:ahLst/>
              <a:rect l="l" t="t" r="r" b="b"/>
              <a:pathLst>
                <a:path w="599" h="600">
                  <a:moveTo>
                    <a:pt x="12268" y="6139"/>
                  </a:moveTo>
                  <a:cubicBezTo>
                    <a:pt x="12268" y="6149"/>
                    <a:pt x="12268" y="6158"/>
                    <a:pt x="12268" y="6168"/>
                  </a:cubicBezTo>
                  <a:cubicBezTo>
                    <a:pt x="12314" y="6183"/>
                    <a:pt x="12280" y="6182"/>
                    <a:pt x="12326" y="6197"/>
                  </a:cubicBezTo>
                  <a:cubicBezTo>
                    <a:pt x="12343" y="6246"/>
                    <a:pt x="12341" y="6212"/>
                    <a:pt x="12359" y="6258"/>
                  </a:cubicBezTo>
                  <a:cubicBezTo>
                    <a:pt x="12409" y="6258"/>
                    <a:pt x="12403" y="6246"/>
                    <a:pt x="12417" y="6288"/>
                  </a:cubicBezTo>
                  <a:cubicBezTo>
                    <a:pt x="12417" y="6258"/>
                    <a:pt x="12417" y="6249"/>
                    <a:pt x="12417" y="6229"/>
                  </a:cubicBezTo>
                </a:path>
                <a:path w="599" h="600">
                  <a:moveTo>
                    <a:pt x="12625" y="6408"/>
                  </a:moveTo>
                  <a:cubicBezTo>
                    <a:pt x="12636" y="6408"/>
                    <a:pt x="12647" y="6408"/>
                    <a:pt x="12658" y="6408"/>
                  </a:cubicBezTo>
                  <a:cubicBezTo>
                    <a:pt x="12672" y="6449"/>
                    <a:pt x="12666" y="6437"/>
                    <a:pt x="12716" y="6437"/>
                  </a:cubicBezTo>
                  <a:cubicBezTo>
                    <a:pt x="12716" y="6466"/>
                    <a:pt x="12716" y="6476"/>
                    <a:pt x="12745" y="6466"/>
                  </a:cubicBezTo>
                </a:path>
                <a:path w="599" h="600">
                  <a:moveTo>
                    <a:pt x="12866" y="6618"/>
                  </a:moveTo>
                  <a:cubicBezTo>
                    <a:pt x="12806" y="6618"/>
                    <a:pt x="12791" y="6618"/>
                    <a:pt x="12775" y="6676"/>
                  </a:cubicBezTo>
                  <a:cubicBezTo>
                    <a:pt x="12719" y="6695"/>
                    <a:pt x="12770" y="6718"/>
                    <a:pt x="12716" y="6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7"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3438" name=""/>
          <p:cNvSpPr/>
          <p:nvPr/>
        </p:nvSpPr>
        <p:spPr>
          <a:xfrm>
            <a:off x="415800" y="59832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439"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3440"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3441"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3442"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3443" name=""/>
          <p:cNvGrpSpPr/>
          <p:nvPr/>
        </p:nvGrpSpPr>
        <p:grpSpPr>
          <a:xfrm>
            <a:off x="1554120" y="1012680"/>
            <a:ext cx="5052960" cy="4521240"/>
            <a:chOff x="1554120" y="1012680"/>
            <a:chExt cx="5052960" cy="4521240"/>
          </a:xfrm>
        </p:grpSpPr>
        <p:sp>
          <p:nvSpPr>
            <p:cNvPr id="3444"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5"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6"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7"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3448" name="Ink 5"/>
          <p:cNvSpPr/>
          <p:nvPr/>
        </p:nvSpPr>
        <p:spPr>
          <a:xfrm>
            <a:off x="133020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9" name="Group 14"/>
          <p:cNvGrpSpPr/>
          <p:nvPr/>
        </p:nvGrpSpPr>
        <p:grpSpPr>
          <a:xfrm>
            <a:off x="1254240" y="4000680"/>
            <a:ext cx="380520" cy="380880"/>
            <a:chOff x="1254240" y="4000680"/>
            <a:chExt cx="380520" cy="380880"/>
          </a:xfrm>
        </p:grpSpPr>
        <p:sp>
          <p:nvSpPr>
            <p:cNvPr id="3450" name="Ink 15"/>
            <p:cNvSpPr/>
            <p:nvPr/>
          </p:nvSpPr>
          <p:spPr>
            <a:xfrm>
              <a:off x="125424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1" name="Ink 16"/>
            <p:cNvSpPr/>
            <p:nvPr/>
          </p:nvSpPr>
          <p:spPr>
            <a:xfrm>
              <a:off x="130608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2" name=""/>
          <p:cNvSpPr/>
          <p:nvPr/>
        </p:nvSpPr>
        <p:spPr>
          <a:xfrm>
            <a:off x="133020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3"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3454" name="Ink 61"/>
          <p:cNvSpPr/>
          <p:nvPr/>
        </p:nvSpPr>
        <p:spPr>
          <a:xfrm>
            <a:off x="87300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5"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3456" name=""/>
          <p:cNvGrpSpPr/>
          <p:nvPr/>
        </p:nvGrpSpPr>
        <p:grpSpPr>
          <a:xfrm>
            <a:off x="1254240" y="1714680"/>
            <a:ext cx="532800" cy="457200"/>
            <a:chOff x="1254240" y="1714680"/>
            <a:chExt cx="532800" cy="457200"/>
          </a:xfrm>
        </p:grpSpPr>
        <p:sp>
          <p:nvSpPr>
            <p:cNvPr id="3457" name=""/>
            <p:cNvSpPr/>
            <p:nvPr/>
          </p:nvSpPr>
          <p:spPr>
            <a:xfrm>
              <a:off x="1467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58" name="Group 12"/>
            <p:cNvGrpSpPr/>
            <p:nvPr/>
          </p:nvGrpSpPr>
          <p:grpSpPr>
            <a:xfrm>
              <a:off x="1254240" y="1714680"/>
              <a:ext cx="532800" cy="457200"/>
              <a:chOff x="1254240" y="1714680"/>
              <a:chExt cx="532800" cy="457200"/>
            </a:xfrm>
          </p:grpSpPr>
          <p:sp>
            <p:nvSpPr>
              <p:cNvPr id="3459" name="Ink 13"/>
              <p:cNvSpPr/>
              <p:nvPr/>
            </p:nvSpPr>
            <p:spPr>
              <a:xfrm>
                <a:off x="125424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0" name="Ink 14"/>
              <p:cNvSpPr/>
              <p:nvPr/>
            </p:nvSpPr>
            <p:spPr>
              <a:xfrm>
                <a:off x="126720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461" name="Ink 15"/>
              <p:cNvSpPr/>
              <p:nvPr/>
            </p:nvSpPr>
            <p:spPr>
              <a:xfrm>
                <a:off x="177336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2" name="Ink 16"/>
              <p:cNvSpPr/>
              <p:nvPr/>
            </p:nvSpPr>
            <p:spPr>
              <a:xfrm>
                <a:off x="127980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463" name=""/>
            <p:cNvSpPr/>
            <p:nvPr/>
          </p:nvSpPr>
          <p:spPr>
            <a:xfrm>
              <a:off x="162720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4" name=""/>
            <p:cNvSpPr/>
            <p:nvPr/>
          </p:nvSpPr>
          <p:spPr>
            <a:xfrm>
              <a:off x="1307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65" name=""/>
          <p:cNvGrpSpPr/>
          <p:nvPr/>
        </p:nvGrpSpPr>
        <p:grpSpPr>
          <a:xfrm>
            <a:off x="1635120" y="1333440"/>
            <a:ext cx="501120" cy="304920"/>
            <a:chOff x="1635120" y="1333440"/>
            <a:chExt cx="501120" cy="304920"/>
          </a:xfrm>
        </p:grpSpPr>
        <p:sp>
          <p:nvSpPr>
            <p:cNvPr id="3466" name=""/>
            <p:cNvSpPr/>
            <p:nvPr/>
          </p:nvSpPr>
          <p:spPr>
            <a:xfrm>
              <a:off x="18100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7" name=""/>
            <p:cNvSpPr/>
            <p:nvPr/>
          </p:nvSpPr>
          <p:spPr>
            <a:xfrm>
              <a:off x="198540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8" name=""/>
            <p:cNvSpPr/>
            <p:nvPr/>
          </p:nvSpPr>
          <p:spPr>
            <a:xfrm>
              <a:off x="163512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69" name=""/>
          <p:cNvSpPr/>
          <p:nvPr/>
        </p:nvSpPr>
        <p:spPr>
          <a:xfrm>
            <a:off x="224460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0" name=""/>
          <p:cNvSpPr/>
          <p:nvPr/>
        </p:nvSpPr>
        <p:spPr>
          <a:xfrm>
            <a:off x="415800" y="194328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1" name=""/>
          <p:cNvGrpSpPr/>
          <p:nvPr/>
        </p:nvGrpSpPr>
        <p:grpSpPr>
          <a:xfrm>
            <a:off x="4952880" y="380880"/>
            <a:ext cx="884160" cy="747720"/>
            <a:chOff x="4952880" y="380880"/>
            <a:chExt cx="884160" cy="747720"/>
          </a:xfrm>
        </p:grpSpPr>
        <p:sp>
          <p:nvSpPr>
            <p:cNvPr id="3472" name=""/>
            <p:cNvSpPr/>
            <p:nvPr/>
          </p:nvSpPr>
          <p:spPr>
            <a:xfrm>
              <a:off x="4952880" y="380880"/>
              <a:ext cx="873000" cy="70020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3"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3474" name=""/>
            <p:cNvSpPr/>
            <p:nvPr/>
          </p:nvSpPr>
          <p:spPr>
            <a:xfrm>
              <a:off x="4988520" y="74520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3475" name=""/>
            <p:cNvSpPr/>
            <p:nvPr/>
          </p:nvSpPr>
          <p:spPr>
            <a:xfrm>
              <a:off x="5395680" y="7912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3476"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3477"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3478"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3479" name=""/>
          <p:cNvSpPr/>
          <p:nvPr/>
        </p:nvSpPr>
        <p:spPr>
          <a:xfrm>
            <a:off x="6095880" y="1468440"/>
            <a:ext cx="560520" cy="36684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0" name=""/>
          <p:cNvSpPr/>
          <p:nvPr/>
        </p:nvSpPr>
        <p:spPr>
          <a:xfrm>
            <a:off x="6477120" y="184932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81" name="Group 101"/>
          <p:cNvGrpSpPr/>
          <p:nvPr/>
        </p:nvGrpSpPr>
        <p:grpSpPr>
          <a:xfrm>
            <a:off x="6553080" y="2382840"/>
            <a:ext cx="304560" cy="518400"/>
            <a:chOff x="6553080" y="2382840"/>
            <a:chExt cx="304560" cy="518400"/>
          </a:xfrm>
        </p:grpSpPr>
        <p:grpSp>
          <p:nvGrpSpPr>
            <p:cNvPr id="3482" name="Group 79"/>
            <p:cNvGrpSpPr/>
            <p:nvPr/>
          </p:nvGrpSpPr>
          <p:grpSpPr>
            <a:xfrm>
              <a:off x="6553080" y="2382840"/>
              <a:ext cx="304560" cy="518400"/>
              <a:chOff x="6553080" y="2382840"/>
              <a:chExt cx="304560" cy="518400"/>
            </a:xfrm>
          </p:grpSpPr>
          <p:sp>
            <p:nvSpPr>
              <p:cNvPr id="3483" name="Ink 80"/>
              <p:cNvSpPr/>
              <p:nvPr/>
            </p:nvSpPr>
            <p:spPr>
              <a:xfrm>
                <a:off x="6558480" y="268452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4" name="Ink 81"/>
              <p:cNvSpPr/>
              <p:nvPr/>
            </p:nvSpPr>
            <p:spPr>
              <a:xfrm>
                <a:off x="6553080" y="258552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485" name="Ink 82"/>
              <p:cNvSpPr/>
              <p:nvPr/>
            </p:nvSpPr>
            <p:spPr>
              <a:xfrm>
                <a:off x="6741000" y="259956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6" name="Ink 83"/>
              <p:cNvSpPr/>
              <p:nvPr/>
            </p:nvSpPr>
            <p:spPr>
              <a:xfrm>
                <a:off x="6609240" y="284688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487" name="Ink 84"/>
              <p:cNvSpPr/>
              <p:nvPr/>
            </p:nvSpPr>
            <p:spPr>
              <a:xfrm>
                <a:off x="6757560" y="260028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8" name="Ink 85"/>
              <p:cNvSpPr/>
              <p:nvPr/>
            </p:nvSpPr>
            <p:spPr>
              <a:xfrm>
                <a:off x="6795360" y="259164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489" name="Ink 86"/>
              <p:cNvSpPr/>
              <p:nvPr/>
            </p:nvSpPr>
            <p:spPr>
              <a:xfrm>
                <a:off x="6772320" y="259668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0" name="Ink 87"/>
              <p:cNvSpPr/>
              <p:nvPr/>
            </p:nvSpPr>
            <p:spPr>
              <a:xfrm>
                <a:off x="6593760" y="238284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1" name="Ink 88"/>
              <p:cNvSpPr/>
              <p:nvPr/>
            </p:nvSpPr>
            <p:spPr>
              <a:xfrm>
                <a:off x="6615000" y="243216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2" name="Ink 89"/>
              <p:cNvSpPr/>
              <p:nvPr/>
            </p:nvSpPr>
            <p:spPr>
              <a:xfrm>
                <a:off x="6607440" y="266976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3" name="Ink 90"/>
              <p:cNvSpPr/>
              <p:nvPr/>
            </p:nvSpPr>
            <p:spPr>
              <a:xfrm>
                <a:off x="6590880" y="284616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494" name="Ink 91"/>
              <p:cNvSpPr/>
              <p:nvPr/>
            </p:nvSpPr>
            <p:spPr>
              <a:xfrm>
                <a:off x="6627960" y="286164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495" name="Ink 92"/>
              <p:cNvSpPr/>
              <p:nvPr/>
            </p:nvSpPr>
            <p:spPr>
              <a:xfrm>
                <a:off x="6753960" y="281340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496" name="Ink 93"/>
              <p:cNvSpPr/>
              <p:nvPr/>
            </p:nvSpPr>
            <p:spPr>
              <a:xfrm>
                <a:off x="6760440" y="260172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7" name="Ink 175"/>
            <p:cNvSpPr/>
            <p:nvPr/>
          </p:nvSpPr>
          <p:spPr>
            <a:xfrm>
              <a:off x="6607800" y="239616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8"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3499" name="Ink 28"/>
          <p:cNvSpPr/>
          <p:nvPr/>
        </p:nvSpPr>
        <p:spPr>
          <a:xfrm>
            <a:off x="6781680" y="352584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00" name="Group 14"/>
          <p:cNvGrpSpPr/>
          <p:nvPr/>
        </p:nvGrpSpPr>
        <p:grpSpPr>
          <a:xfrm>
            <a:off x="6629400" y="3962520"/>
            <a:ext cx="380520" cy="380880"/>
            <a:chOff x="6629400" y="3962520"/>
            <a:chExt cx="380520" cy="380880"/>
          </a:xfrm>
        </p:grpSpPr>
        <p:sp>
          <p:nvSpPr>
            <p:cNvPr id="3501"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2"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03"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4" name=""/>
          <p:cNvSpPr/>
          <p:nvPr/>
        </p:nvSpPr>
        <p:spPr>
          <a:xfrm>
            <a:off x="6172200" y="63036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5"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3506"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7" name=""/>
          <p:cNvSpPr/>
          <p:nvPr/>
        </p:nvSpPr>
        <p:spPr>
          <a:xfrm>
            <a:off x="3429000" y="1371600"/>
            <a:ext cx="266760" cy="39672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8" name=""/>
          <p:cNvSpPr/>
          <p:nvPr/>
        </p:nvSpPr>
        <p:spPr>
          <a:xfrm>
            <a:off x="4648320" y="1697040"/>
            <a:ext cx="230040" cy="32400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9" name=""/>
          <p:cNvSpPr/>
          <p:nvPr/>
        </p:nvSpPr>
        <p:spPr>
          <a:xfrm>
            <a:off x="5181480" y="243216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0" name=""/>
          <p:cNvSpPr/>
          <p:nvPr/>
        </p:nvSpPr>
        <p:spPr>
          <a:xfrm>
            <a:off x="5105520" y="3745080"/>
            <a:ext cx="21888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1" name=""/>
          <p:cNvSpPr/>
          <p:nvPr/>
        </p:nvSpPr>
        <p:spPr>
          <a:xfrm>
            <a:off x="3962520" y="432288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2" name=""/>
          <p:cNvSpPr/>
          <p:nvPr/>
        </p:nvSpPr>
        <p:spPr>
          <a:xfrm>
            <a:off x="3009960" y="3865680"/>
            <a:ext cx="19980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3" name=""/>
          <p:cNvSpPr/>
          <p:nvPr/>
        </p:nvSpPr>
        <p:spPr>
          <a:xfrm>
            <a:off x="2781360" y="3009960"/>
            <a:ext cx="258840" cy="10008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4" name=""/>
          <p:cNvSpPr/>
          <p:nvPr/>
        </p:nvSpPr>
        <p:spPr>
          <a:xfrm>
            <a:off x="3227400" y="2247840"/>
            <a:ext cx="290520" cy="16056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15" name=""/>
          <p:cNvGrpSpPr/>
          <p:nvPr/>
        </p:nvGrpSpPr>
        <p:grpSpPr>
          <a:xfrm>
            <a:off x="3429000" y="2514600"/>
            <a:ext cx="1599840" cy="1294920"/>
            <a:chOff x="3429000" y="2514600"/>
            <a:chExt cx="1599840" cy="1294920"/>
          </a:xfrm>
        </p:grpSpPr>
        <p:grpSp>
          <p:nvGrpSpPr>
            <p:cNvPr id="3516" name=""/>
            <p:cNvGrpSpPr/>
            <p:nvPr/>
          </p:nvGrpSpPr>
          <p:grpSpPr>
            <a:xfrm>
              <a:off x="3429000" y="2514600"/>
              <a:ext cx="1599840" cy="1294920"/>
              <a:chOff x="3429000" y="2514600"/>
              <a:chExt cx="1599840" cy="1294920"/>
            </a:xfrm>
          </p:grpSpPr>
          <p:sp>
            <p:nvSpPr>
              <p:cNvPr id="3517" name=""/>
              <p:cNvSpPr/>
              <p:nvPr/>
            </p:nvSpPr>
            <p:spPr>
              <a:xfrm>
                <a:off x="3429000" y="2607120"/>
                <a:ext cx="479880" cy="45432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8" name=""/>
              <p:cNvSpPr/>
              <p:nvPr/>
            </p:nvSpPr>
            <p:spPr>
              <a:xfrm>
                <a:off x="3668760" y="3162240"/>
                <a:ext cx="880200" cy="64728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9" name=""/>
              <p:cNvSpPr/>
              <p:nvPr/>
            </p:nvSpPr>
            <p:spPr>
              <a:xfrm>
                <a:off x="4388760" y="2514600"/>
                <a:ext cx="640080" cy="60516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0" name=""/>
              <p:cNvSpPr/>
              <p:nvPr/>
            </p:nvSpPr>
            <p:spPr>
              <a:xfrm>
                <a:off x="3828960" y="2792160"/>
                <a:ext cx="621000" cy="475920"/>
              </a:xfrm>
              <a:custGeom>
                <a:avLst/>
                <a:gdLst/>
                <a:ahLst/>
                <a:rect l="l" t="t" r="r" b="b"/>
                <a:pathLst>
                  <a:path w="2278" h="1508">
                    <a:moveTo>
                      <a:pt x="15042" y="3209"/>
                    </a:moveTo>
                    <a:cubicBezTo>
                      <a:pt x="15018" y="3199"/>
                      <a:pt x="14996" y="3188"/>
                      <a:pt x="14971" y="3180"/>
                    </a:cubicBezTo>
                    <a:cubicBezTo>
                      <a:pt x="14931" y="3167"/>
                      <a:pt x="14890" y="3157"/>
                      <a:pt x="14849" y="3149"/>
                    </a:cubicBezTo>
                    <a:cubicBezTo>
                      <a:pt x="14626" y="3103"/>
                      <a:pt x="14373" y="3117"/>
                      <a:pt x="14149" y="3144"/>
                    </a:cubicBezTo>
                    <a:cubicBezTo>
                      <a:pt x="14036" y="3158"/>
                      <a:pt x="13917" y="3175"/>
                      <a:pt x="13810" y="3217"/>
                    </a:cubicBezTo>
                    <a:cubicBezTo>
                      <a:pt x="13749" y="3241"/>
                      <a:pt x="13654" y="3288"/>
                      <a:pt x="13667" y="3369"/>
                    </a:cubicBezTo>
                    <a:cubicBezTo>
                      <a:pt x="13678" y="3441"/>
                      <a:pt x="13763" y="3478"/>
                      <a:pt x="13820" y="3506"/>
                    </a:cubicBezTo>
                    <a:cubicBezTo>
                      <a:pt x="13995" y="3590"/>
                      <a:pt x="14195" y="3623"/>
                      <a:pt x="14386" y="3645"/>
                    </a:cubicBezTo>
                    <a:cubicBezTo>
                      <a:pt x="14648" y="3675"/>
                      <a:pt x="14911" y="3683"/>
                      <a:pt x="15173" y="3656"/>
                    </a:cubicBezTo>
                    <a:cubicBezTo>
                      <a:pt x="15330" y="3639"/>
                      <a:pt x="15493" y="3612"/>
                      <a:pt x="15635" y="3538"/>
                    </a:cubicBezTo>
                    <a:cubicBezTo>
                      <a:pt x="15691" y="3509"/>
                      <a:pt x="15784" y="3440"/>
                      <a:pt x="15744" y="3364"/>
                    </a:cubicBezTo>
                    <a:cubicBezTo>
                      <a:pt x="15699" y="3280"/>
                      <a:pt x="15551" y="3264"/>
                      <a:pt x="15472" y="3249"/>
                    </a:cubicBezTo>
                    <a:cubicBezTo>
                      <a:pt x="15355" y="3230"/>
                      <a:pt x="15316" y="3224"/>
                      <a:pt x="15236" y="3224"/>
                    </a:cubicBezTo>
                  </a:path>
                  <a:path w="2278" h="1508">
                    <a:moveTo>
                      <a:pt x="13558" y="3514"/>
                    </a:moveTo>
                    <a:cubicBezTo>
                      <a:pt x="13552" y="3544"/>
                      <a:pt x="13555" y="3575"/>
                      <a:pt x="13549" y="3605"/>
                    </a:cubicBezTo>
                    <a:cubicBezTo>
                      <a:pt x="13537" y="3666"/>
                      <a:pt x="13525" y="3726"/>
                      <a:pt x="13515" y="3788"/>
                    </a:cubicBezTo>
                    <a:cubicBezTo>
                      <a:pt x="13502" y="3868"/>
                      <a:pt x="13494" y="3944"/>
                      <a:pt x="13494" y="4025"/>
                    </a:cubicBezTo>
                    <a:cubicBezTo>
                      <a:pt x="13494" y="4092"/>
                      <a:pt x="13501" y="4158"/>
                      <a:pt x="13523" y="4221"/>
                    </a:cubicBezTo>
                    <a:cubicBezTo>
                      <a:pt x="13533" y="4248"/>
                      <a:pt x="13554" y="4310"/>
                      <a:pt x="13578" y="4329"/>
                    </a:cubicBezTo>
                    <a:cubicBezTo>
                      <a:pt x="13585" y="4332"/>
                      <a:pt x="13593" y="4335"/>
                      <a:pt x="13600" y="4338"/>
                    </a:cubicBezTo>
                  </a:path>
                  <a:path w="2278" h="1508">
                    <a:moveTo>
                      <a:pt x="13820" y="4480"/>
                    </a:moveTo>
                    <a:cubicBezTo>
                      <a:pt x="13853" y="4483"/>
                      <a:pt x="13872" y="4485"/>
                      <a:pt x="13904" y="4496"/>
                    </a:cubicBezTo>
                    <a:cubicBezTo>
                      <a:pt x="14081" y="4554"/>
                      <a:pt x="14250" y="4605"/>
                      <a:pt x="14437" y="4624"/>
                    </a:cubicBezTo>
                    <a:cubicBezTo>
                      <a:pt x="14604" y="4641"/>
                      <a:pt x="14770" y="4631"/>
                      <a:pt x="14936" y="4617"/>
                    </a:cubicBezTo>
                    <a:cubicBezTo>
                      <a:pt x="15157" y="4599"/>
                      <a:pt x="15393" y="4569"/>
                      <a:pt x="15603" y="4494"/>
                    </a:cubicBezTo>
                    <a:cubicBezTo>
                      <a:pt x="15664" y="4472"/>
                      <a:pt x="15733" y="4444"/>
                      <a:pt x="15771" y="4391"/>
                    </a:cubicBezTo>
                    <a:cubicBezTo>
                      <a:pt x="15771" y="4384"/>
                      <a:pt x="15771" y="4376"/>
                      <a:pt x="15771" y="4369"/>
                    </a:cubicBezTo>
                  </a:path>
                  <a:path w="2278" h="1508">
                    <a:moveTo>
                      <a:pt x="15750" y="3638"/>
                    </a:moveTo>
                    <a:cubicBezTo>
                      <a:pt x="15741" y="3656"/>
                      <a:pt x="15736" y="3685"/>
                      <a:pt x="15733" y="3706"/>
                    </a:cubicBezTo>
                    <a:cubicBezTo>
                      <a:pt x="15727" y="3756"/>
                      <a:pt x="15718" y="3805"/>
                      <a:pt x="15713" y="3856"/>
                    </a:cubicBezTo>
                    <a:cubicBezTo>
                      <a:pt x="15706" y="3931"/>
                      <a:pt x="15707" y="4008"/>
                      <a:pt x="15706" y="4084"/>
                    </a:cubicBezTo>
                    <a:cubicBezTo>
                      <a:pt x="15705" y="4158"/>
                      <a:pt x="15717" y="4231"/>
                      <a:pt x="15720" y="4305"/>
                    </a:cubicBezTo>
                    <a:cubicBezTo>
                      <a:pt x="15722" y="4348"/>
                      <a:pt x="15723" y="4387"/>
                      <a:pt x="15729" y="442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21" name=""/>
            <p:cNvSpPr/>
            <p:nvPr/>
          </p:nvSpPr>
          <p:spPr>
            <a:xfrm>
              <a:off x="3506760" y="2743200"/>
              <a:ext cx="2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X</a:t>
              </a:r>
              <a:endParaRPr b="0" lang="en-US" sz="1600" spc="-1" strike="noStrike">
                <a:solidFill>
                  <a:srgbClr val="000000"/>
                </a:solidFill>
                <a:latin typeface="Arial"/>
              </a:endParaRPr>
            </a:p>
          </p:txBody>
        </p:sp>
        <p:sp>
          <p:nvSpPr>
            <p:cNvPr id="3522"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p</a:t>
              </a:r>
              <a:endParaRPr b="0" lang="en-US" sz="1600" spc="-1" strike="noStrike">
                <a:solidFill>
                  <a:srgbClr val="000000"/>
                </a:solidFill>
                <a:latin typeface="Arial"/>
              </a:endParaRPr>
            </a:p>
          </p:txBody>
        </p:sp>
        <p:sp>
          <p:nvSpPr>
            <p:cNvPr id="3523"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Z</a:t>
              </a:r>
              <a:endParaRPr b="0" lang="en-US" sz="1600" spc="-1" strike="noStrike">
                <a:solidFill>
                  <a:srgbClr val="000000"/>
                </a:solidFill>
                <a:latin typeface="Arial"/>
              </a:endParaRPr>
            </a:p>
          </p:txBody>
        </p:sp>
        <p:sp>
          <p:nvSpPr>
            <p:cNvPr id="3524" name=""/>
            <p:cNvSpPr/>
            <p:nvPr/>
          </p:nvSpPr>
          <p:spPr>
            <a:xfrm>
              <a:off x="3980520" y="2895480"/>
              <a:ext cx="3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St</a:t>
              </a:r>
              <a:endParaRPr b="0" lang="en-US" sz="1600" spc="-1" strike="noStrike">
                <a:solidFill>
                  <a:srgbClr val="000000"/>
                </a:solidFill>
                <a:latin typeface="Arial"/>
              </a:endParaRPr>
            </a:p>
          </p:txBody>
        </p:sp>
      </p:grpSp>
      <p:sp>
        <p:nvSpPr>
          <p:cNvPr id="3525"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grpSp>
        <p:nvGrpSpPr>
          <p:cNvPr id="3526" name=""/>
          <p:cNvGrpSpPr/>
          <p:nvPr/>
        </p:nvGrpSpPr>
        <p:grpSpPr>
          <a:xfrm>
            <a:off x="3200400" y="2220840"/>
            <a:ext cx="2225160" cy="1985760"/>
            <a:chOff x="3200400" y="2220840"/>
            <a:chExt cx="2225160" cy="1985760"/>
          </a:xfrm>
        </p:grpSpPr>
        <p:sp>
          <p:nvSpPr>
            <p:cNvPr id="3527" name=""/>
            <p:cNvSpPr/>
            <p:nvPr/>
          </p:nvSpPr>
          <p:spPr>
            <a:xfrm>
              <a:off x="4805280" y="2220840"/>
              <a:ext cx="264600" cy="183960"/>
            </a:xfrm>
            <a:custGeom>
              <a:avLst/>
              <a:gdLst/>
              <a:ahLst/>
              <a:rect l="l" t="t" r="r" b="b"/>
              <a:pathLst>
                <a:path w="737" h="512">
                  <a:moveTo>
                    <a:pt x="21534" y="12356"/>
                  </a:moveTo>
                  <a:cubicBezTo>
                    <a:pt x="21564" y="12313"/>
                    <a:pt x="21582" y="12275"/>
                    <a:pt x="21603" y="12228"/>
                  </a:cubicBezTo>
                  <a:cubicBezTo>
                    <a:pt x="21608" y="12216"/>
                    <a:pt x="21614" y="12205"/>
                    <a:pt x="21619" y="12193"/>
                  </a:cubicBezTo>
                </a:path>
                <a:path w="737" h="512">
                  <a:moveTo>
                    <a:pt x="21788" y="12087"/>
                  </a:moveTo>
                  <a:cubicBezTo>
                    <a:pt x="21783" y="12044"/>
                    <a:pt x="21783" y="12010"/>
                    <a:pt x="21794" y="11968"/>
                  </a:cubicBezTo>
                  <a:cubicBezTo>
                    <a:pt x="21806" y="11922"/>
                    <a:pt x="21831" y="11884"/>
                    <a:pt x="21857" y="11845"/>
                  </a:cubicBezTo>
                </a:path>
                <a:path w="737" h="512">
                  <a:moveTo>
                    <a:pt x="22095" y="11972"/>
                  </a:moveTo>
                  <a:cubicBezTo>
                    <a:pt x="22104" y="12036"/>
                    <a:pt x="22139" y="12042"/>
                    <a:pt x="22180" y="12091"/>
                  </a:cubicBezTo>
                  <a:cubicBezTo>
                    <a:pt x="22213" y="12130"/>
                    <a:pt x="22244" y="12171"/>
                    <a:pt x="22270" y="1221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8" name=""/>
            <p:cNvSpPr/>
            <p:nvPr/>
          </p:nvSpPr>
          <p:spPr>
            <a:xfrm>
              <a:off x="5109840" y="2427120"/>
              <a:ext cx="17280" cy="88920"/>
            </a:xfrm>
            <a:custGeom>
              <a:avLst/>
              <a:gdLst/>
              <a:ahLst/>
              <a:rect l="l" t="t" r="r" b="b"/>
              <a:pathLst>
                <a:path w="49" h="248">
                  <a:moveTo>
                    <a:pt x="22423" y="12418"/>
                  </a:moveTo>
                  <a:cubicBezTo>
                    <a:pt x="22393" y="12459"/>
                    <a:pt x="22377" y="12488"/>
                    <a:pt x="22381" y="12541"/>
                  </a:cubicBezTo>
                  <a:cubicBezTo>
                    <a:pt x="22384" y="12589"/>
                    <a:pt x="22406" y="12625"/>
                    <a:pt x="22429" y="12665"/>
                  </a:cubicBezTo>
                </a:path>
              </a:pathLst>
            </a:custGeom>
            <a:noFill/>
            <a:ln cap="rnd" w="38160">
              <a:solidFill>
                <a:srgbClr val="808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29" name=""/>
            <p:cNvSpPr/>
            <p:nvPr/>
          </p:nvSpPr>
          <p:spPr>
            <a:xfrm>
              <a:off x="5190840" y="2592000"/>
              <a:ext cx="44280" cy="90720"/>
            </a:xfrm>
            <a:custGeom>
              <a:avLst/>
              <a:gdLst/>
              <a:ahLst/>
              <a:rect l="l" t="t" r="r" b="b"/>
              <a:pathLst>
                <a:path w="123" h="253">
                  <a:moveTo>
                    <a:pt x="22619" y="12876"/>
                  </a:moveTo>
                  <a:cubicBezTo>
                    <a:pt x="22600" y="12926"/>
                    <a:pt x="22600" y="12952"/>
                    <a:pt x="22630" y="13000"/>
                  </a:cubicBezTo>
                  <a:cubicBezTo>
                    <a:pt x="22659" y="13046"/>
                    <a:pt x="22690" y="13087"/>
                    <a:pt x="22725" y="13128"/>
                  </a:cubicBezTo>
                </a:path>
              </a:pathLst>
            </a:custGeom>
            <a:noFill/>
            <a:ln cap="rnd" w="38160">
              <a:solidFill>
                <a:srgbClr val="808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30" name=""/>
            <p:cNvSpPr/>
            <p:nvPr/>
          </p:nvSpPr>
          <p:spPr>
            <a:xfrm>
              <a:off x="5298840" y="2761920"/>
              <a:ext cx="79200" cy="82800"/>
            </a:xfrm>
            <a:custGeom>
              <a:avLst/>
              <a:gdLst/>
              <a:ahLst/>
              <a:rect l="l" t="t" r="r" b="b"/>
              <a:pathLst>
                <a:path w="218" h="231">
                  <a:moveTo>
                    <a:pt x="22905" y="13348"/>
                  </a:moveTo>
                  <a:cubicBezTo>
                    <a:pt x="22964" y="13374"/>
                    <a:pt x="22995" y="13401"/>
                    <a:pt x="23032" y="13454"/>
                  </a:cubicBezTo>
                  <a:cubicBezTo>
                    <a:pt x="23062" y="13496"/>
                    <a:pt x="23089" y="13538"/>
                    <a:pt x="23122" y="13578"/>
                  </a:cubicBezTo>
                </a:path>
              </a:pathLst>
            </a:custGeom>
            <a:noFill/>
            <a:ln cap="rnd" w="3816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531" name=""/>
            <p:cNvSpPr/>
            <p:nvPr/>
          </p:nvSpPr>
          <p:spPr>
            <a:xfrm>
              <a:off x="5317920" y="2943000"/>
              <a:ext cx="107640" cy="112680"/>
            </a:xfrm>
            <a:custGeom>
              <a:avLst/>
              <a:gdLst/>
              <a:ahLst/>
              <a:rect l="l" t="t" r="r" b="b"/>
              <a:pathLst>
                <a:path w="297" h="314">
                  <a:moveTo>
                    <a:pt x="23191" y="13851"/>
                  </a:moveTo>
                  <a:cubicBezTo>
                    <a:pt x="23210" y="13894"/>
                    <a:pt x="23229" y="13935"/>
                    <a:pt x="23244" y="13979"/>
                  </a:cubicBezTo>
                  <a:cubicBezTo>
                    <a:pt x="23247" y="13989"/>
                    <a:pt x="23251" y="14000"/>
                    <a:pt x="23254" y="14010"/>
                  </a:cubicBezTo>
                </a:path>
                <a:path w="297" h="314">
                  <a:moveTo>
                    <a:pt x="22958" y="14164"/>
                  </a:moveTo>
                  <a:cubicBezTo>
                    <a:pt x="23006" y="14164"/>
                    <a:pt x="23053" y="14161"/>
                    <a:pt x="23101" y="1416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2" name=""/>
            <p:cNvSpPr/>
            <p:nvPr/>
          </p:nvSpPr>
          <p:spPr>
            <a:xfrm>
              <a:off x="3441600" y="2435040"/>
              <a:ext cx="1758600" cy="1730160"/>
            </a:xfrm>
            <a:custGeom>
              <a:avLst/>
              <a:gdLst/>
              <a:ahLst/>
              <a:rect l="l" t="t" r="r" b="b"/>
              <a:pathLst>
                <a:path w="4885" h="4807">
                  <a:moveTo>
                    <a:pt x="22556" y="14173"/>
                  </a:moveTo>
                  <a:cubicBezTo>
                    <a:pt x="22593" y="14177"/>
                    <a:pt x="22605" y="14178"/>
                    <a:pt x="22630" y="14177"/>
                  </a:cubicBezTo>
                </a:path>
                <a:path w="4885" h="4807">
                  <a:moveTo>
                    <a:pt x="21053" y="16281"/>
                  </a:moveTo>
                  <a:cubicBezTo>
                    <a:pt x="21075" y="16323"/>
                    <a:pt x="21099" y="16366"/>
                    <a:pt x="21127" y="16404"/>
                  </a:cubicBezTo>
                  <a:cubicBezTo>
                    <a:pt x="21136" y="16414"/>
                    <a:pt x="21144" y="16425"/>
                    <a:pt x="21153" y="16435"/>
                  </a:cubicBezTo>
                </a:path>
                <a:path w="4885" h="4807">
                  <a:moveTo>
                    <a:pt x="21513" y="16902"/>
                  </a:moveTo>
                  <a:cubicBezTo>
                    <a:pt x="21522" y="16915"/>
                    <a:pt x="21531" y="16929"/>
                    <a:pt x="21540" y="16942"/>
                  </a:cubicBezTo>
                </a:path>
                <a:path w="4885" h="4807">
                  <a:moveTo>
                    <a:pt x="17746" y="17149"/>
                  </a:moveTo>
                  <a:cubicBezTo>
                    <a:pt x="17760" y="17185"/>
                    <a:pt x="17765" y="17207"/>
                    <a:pt x="17767" y="17246"/>
                  </a:cubicBezTo>
                </a:path>
                <a:path w="4885" h="4807">
                  <a:moveTo>
                    <a:pt x="18190" y="12440"/>
                  </a:moveTo>
                  <a:cubicBezTo>
                    <a:pt x="18210" y="12472"/>
                    <a:pt x="18229" y="12504"/>
                    <a:pt x="18248" y="12537"/>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3" name=""/>
            <p:cNvSpPr/>
            <p:nvPr/>
          </p:nvSpPr>
          <p:spPr>
            <a:xfrm>
              <a:off x="3490560" y="3904920"/>
              <a:ext cx="1360440" cy="241560"/>
            </a:xfrm>
            <a:custGeom>
              <a:avLst/>
              <a:gdLst/>
              <a:ahLst/>
              <a:rect l="l" t="t" r="r" b="b"/>
              <a:pathLst>
                <a:path w="3779" h="672">
                  <a:moveTo>
                    <a:pt x="18063" y="16523"/>
                  </a:moveTo>
                  <a:cubicBezTo>
                    <a:pt x="18056" y="16556"/>
                    <a:pt x="18047" y="16587"/>
                    <a:pt x="18037" y="16620"/>
                  </a:cubicBezTo>
                </a:path>
                <a:path w="3779" h="672">
                  <a:moveTo>
                    <a:pt x="17957" y="16828"/>
                  </a:moveTo>
                  <a:cubicBezTo>
                    <a:pt x="17933" y="16863"/>
                    <a:pt x="17909" y="16896"/>
                    <a:pt x="17883" y="16929"/>
                  </a:cubicBezTo>
                </a:path>
                <a:path w="3779" h="672">
                  <a:moveTo>
                    <a:pt x="21513" y="17154"/>
                  </a:moveTo>
                  <a:cubicBezTo>
                    <a:pt x="21565" y="17177"/>
                    <a:pt x="21605" y="17191"/>
                    <a:pt x="21661" y="1719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4" name=""/>
            <p:cNvSpPr/>
            <p:nvPr/>
          </p:nvSpPr>
          <p:spPr>
            <a:xfrm>
              <a:off x="3527280" y="3776400"/>
              <a:ext cx="136080" cy="403200"/>
            </a:xfrm>
            <a:custGeom>
              <a:avLst/>
              <a:gdLst/>
              <a:ahLst/>
              <a:rect l="l" t="t" r="r" b="b"/>
              <a:pathLst>
                <a:path w="376" h="1121">
                  <a:moveTo>
                    <a:pt x="18359" y="16166"/>
                  </a:moveTo>
                  <a:cubicBezTo>
                    <a:pt x="18343" y="16209"/>
                    <a:pt x="18322" y="16249"/>
                    <a:pt x="18301" y="16290"/>
                  </a:cubicBezTo>
                </a:path>
                <a:path w="376" h="1121">
                  <a:moveTo>
                    <a:pt x="17984" y="17286"/>
                  </a:moveTo>
                  <a:cubicBezTo>
                    <a:pt x="18033" y="17264"/>
                    <a:pt x="18083" y="17243"/>
                    <a:pt x="18137" y="17233"/>
                  </a:cubicBezTo>
                  <a:cubicBezTo>
                    <a:pt x="18175" y="17229"/>
                    <a:pt x="18189" y="17227"/>
                    <a:pt x="18211" y="17211"/>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5" name=""/>
            <p:cNvSpPr/>
            <p:nvPr/>
          </p:nvSpPr>
          <p:spPr>
            <a:xfrm>
              <a:off x="3732120" y="4159080"/>
              <a:ext cx="313920" cy="31680"/>
            </a:xfrm>
            <a:custGeom>
              <a:avLst/>
              <a:gdLst/>
              <a:ahLst/>
              <a:rect l="l" t="t" r="r" b="b"/>
              <a:pathLst>
                <a:path w="874" h="89">
                  <a:moveTo>
                    <a:pt x="18550" y="17246"/>
                  </a:moveTo>
                  <a:cubicBezTo>
                    <a:pt x="18600" y="17263"/>
                    <a:pt x="18647" y="17280"/>
                    <a:pt x="18698" y="17291"/>
                  </a:cubicBezTo>
                  <a:cubicBezTo>
                    <a:pt x="18747" y="17302"/>
                    <a:pt x="18796" y="17299"/>
                    <a:pt x="18846" y="17299"/>
                  </a:cubicBezTo>
                </a:path>
                <a:path w="874" h="89">
                  <a:moveTo>
                    <a:pt x="19090" y="17229"/>
                  </a:moveTo>
                  <a:cubicBezTo>
                    <a:pt x="19138" y="17255"/>
                    <a:pt x="19181" y="17266"/>
                    <a:pt x="19233" y="17282"/>
                  </a:cubicBezTo>
                  <a:cubicBezTo>
                    <a:pt x="19284" y="17298"/>
                    <a:pt x="19333" y="17307"/>
                    <a:pt x="19386" y="17313"/>
                  </a:cubicBezTo>
                  <a:cubicBezTo>
                    <a:pt x="19398" y="17314"/>
                    <a:pt x="19411" y="17316"/>
                    <a:pt x="19423" y="17317"/>
                  </a:cubicBezTo>
                </a:path>
              </a:pathLst>
            </a:custGeom>
            <a:noFill/>
            <a:ln cap="rnd" w="38160">
              <a:solidFill>
                <a:srgbClr val="808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536" name=""/>
            <p:cNvSpPr/>
            <p:nvPr/>
          </p:nvSpPr>
          <p:spPr>
            <a:xfrm>
              <a:off x="4182840" y="4187520"/>
              <a:ext cx="109080" cy="19080"/>
            </a:xfrm>
            <a:custGeom>
              <a:avLst/>
              <a:gdLst/>
              <a:ahLst/>
              <a:rect l="l" t="t" r="r" b="b"/>
              <a:pathLst>
                <a:path w="303" h="54">
                  <a:moveTo>
                    <a:pt x="19804" y="17308"/>
                  </a:moveTo>
                  <a:cubicBezTo>
                    <a:pt x="19864" y="17340"/>
                    <a:pt x="19890" y="17329"/>
                    <a:pt x="19952" y="17339"/>
                  </a:cubicBezTo>
                  <a:cubicBezTo>
                    <a:pt x="20005" y="17347"/>
                    <a:pt x="20051" y="17360"/>
                    <a:pt x="20106" y="17361"/>
                  </a:cubicBezTo>
                </a:path>
              </a:pathLst>
            </a:custGeom>
            <a:noFill/>
            <a:ln cap="rnd" w="38160">
              <a:solidFill>
                <a:srgbClr val="808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37" name=""/>
            <p:cNvSpPr/>
            <p:nvPr/>
          </p:nvSpPr>
          <p:spPr>
            <a:xfrm>
              <a:off x="4406760" y="4151160"/>
              <a:ext cx="337680" cy="33120"/>
            </a:xfrm>
            <a:custGeom>
              <a:avLst/>
              <a:gdLst/>
              <a:ahLst/>
              <a:rect l="l" t="t" r="r" b="b"/>
              <a:pathLst>
                <a:path w="938" h="93">
                  <a:moveTo>
                    <a:pt x="20428" y="17233"/>
                  </a:moveTo>
                  <a:cubicBezTo>
                    <a:pt x="20481" y="17267"/>
                    <a:pt x="20523" y="17290"/>
                    <a:pt x="20587" y="17295"/>
                  </a:cubicBezTo>
                  <a:cubicBezTo>
                    <a:pt x="20637" y="17299"/>
                    <a:pt x="20685" y="17293"/>
                    <a:pt x="20735" y="17295"/>
                  </a:cubicBezTo>
                  <a:cubicBezTo>
                    <a:pt x="20747" y="17296"/>
                    <a:pt x="20760" y="17298"/>
                    <a:pt x="20772" y="17299"/>
                  </a:cubicBezTo>
                </a:path>
                <a:path w="938" h="93">
                  <a:moveTo>
                    <a:pt x="21063" y="17207"/>
                  </a:moveTo>
                  <a:cubicBezTo>
                    <a:pt x="21117" y="17234"/>
                    <a:pt x="21156" y="17253"/>
                    <a:pt x="21217" y="17255"/>
                  </a:cubicBezTo>
                  <a:cubicBezTo>
                    <a:pt x="21268" y="17256"/>
                    <a:pt x="21316" y="17256"/>
                    <a:pt x="21365" y="17264"/>
                  </a:cubicBezTo>
                </a:path>
              </a:pathLst>
            </a:custGeom>
            <a:noFill/>
            <a:ln cap="rnd" w="38160">
              <a:solidFill>
                <a:srgbClr val="808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538" name=""/>
            <p:cNvSpPr/>
            <p:nvPr/>
          </p:nvSpPr>
          <p:spPr>
            <a:xfrm>
              <a:off x="4716360" y="3927240"/>
              <a:ext cx="64800" cy="76320"/>
            </a:xfrm>
            <a:custGeom>
              <a:avLst/>
              <a:gdLst/>
              <a:ahLst/>
              <a:rect l="l" t="t" r="r" b="b"/>
              <a:pathLst>
                <a:path w="181" h="213">
                  <a:moveTo>
                    <a:pt x="21286" y="16585"/>
                  </a:moveTo>
                  <a:cubicBezTo>
                    <a:pt x="21335" y="16621"/>
                    <a:pt x="21379" y="16656"/>
                    <a:pt x="21413" y="16708"/>
                  </a:cubicBezTo>
                  <a:cubicBezTo>
                    <a:pt x="21431" y="16737"/>
                    <a:pt x="21448" y="16768"/>
                    <a:pt x="21466" y="16797"/>
                  </a:cubicBezTo>
                </a:path>
              </a:pathLst>
            </a:custGeom>
            <a:noFill/>
            <a:ln cap="rnd" w="38160">
              <a:solidFill>
                <a:srgbClr val="80808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39" name=""/>
            <p:cNvSpPr/>
            <p:nvPr/>
          </p:nvSpPr>
          <p:spPr>
            <a:xfrm>
              <a:off x="3528720" y="2339640"/>
              <a:ext cx="39600" cy="23760"/>
            </a:xfrm>
            <a:custGeom>
              <a:avLst/>
              <a:gdLst/>
              <a:ahLst/>
              <a:rect l="l" t="t" r="r" b="b"/>
              <a:pathLst>
                <a:path w="107" h="67">
                  <a:moveTo>
                    <a:pt x="17989" y="12175"/>
                  </a:moveTo>
                  <a:cubicBezTo>
                    <a:pt x="18033" y="12194"/>
                    <a:pt x="18060" y="12210"/>
                    <a:pt x="18095" y="12241"/>
                  </a:cubicBezTo>
                </a:path>
              </a:pathLst>
            </a:custGeom>
            <a:noFill/>
            <a:ln cap="rnd" w="38160">
              <a:solidFill>
                <a:srgbClr val="808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40" name=""/>
            <p:cNvSpPr/>
            <p:nvPr/>
          </p:nvSpPr>
          <p:spPr>
            <a:xfrm>
              <a:off x="3354120" y="2360520"/>
              <a:ext cx="320400" cy="293400"/>
            </a:xfrm>
            <a:custGeom>
              <a:avLst/>
              <a:gdLst/>
              <a:ahLst/>
              <a:rect l="l" t="t" r="r" b="b"/>
              <a:pathLst>
                <a:path w="890" h="816">
                  <a:moveTo>
                    <a:pt x="18391" y="12599"/>
                  </a:moveTo>
                  <a:cubicBezTo>
                    <a:pt x="18371" y="12646"/>
                    <a:pt x="18374" y="12680"/>
                    <a:pt x="18381" y="12731"/>
                  </a:cubicBezTo>
                </a:path>
                <a:path w="890" h="816">
                  <a:moveTo>
                    <a:pt x="17936" y="12233"/>
                  </a:moveTo>
                  <a:cubicBezTo>
                    <a:pt x="17927" y="12275"/>
                    <a:pt x="17916" y="12312"/>
                    <a:pt x="17915" y="12356"/>
                  </a:cubicBezTo>
                  <a:cubicBezTo>
                    <a:pt x="17915" y="12368"/>
                    <a:pt x="17915" y="12379"/>
                    <a:pt x="17915" y="12391"/>
                  </a:cubicBezTo>
                </a:path>
                <a:path w="890" h="816">
                  <a:moveTo>
                    <a:pt x="17836" y="12431"/>
                  </a:moveTo>
                  <a:cubicBezTo>
                    <a:pt x="17803" y="12470"/>
                    <a:pt x="17774" y="12508"/>
                    <a:pt x="17746" y="12550"/>
                  </a:cubicBezTo>
                  <a:cubicBezTo>
                    <a:pt x="17726" y="12581"/>
                    <a:pt x="17710" y="12610"/>
                    <a:pt x="17693" y="12643"/>
                  </a:cubicBezTo>
                </a:path>
                <a:path w="890" h="816">
                  <a:moveTo>
                    <a:pt x="17634" y="12837"/>
                  </a:moveTo>
                  <a:cubicBezTo>
                    <a:pt x="17589" y="12870"/>
                    <a:pt x="17558" y="12903"/>
                    <a:pt x="17534" y="12956"/>
                  </a:cubicBezTo>
                  <a:cubicBezTo>
                    <a:pt x="17521" y="12986"/>
                    <a:pt x="17513" y="13018"/>
                    <a:pt x="17502" y="1304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1" name=""/>
            <p:cNvSpPr/>
            <p:nvPr/>
          </p:nvSpPr>
          <p:spPr>
            <a:xfrm>
              <a:off x="3295440" y="2746080"/>
              <a:ext cx="31320" cy="44640"/>
            </a:xfrm>
            <a:custGeom>
              <a:avLst/>
              <a:gdLst/>
              <a:ahLst/>
              <a:rect l="l" t="t" r="r" b="b"/>
              <a:pathLst>
                <a:path w="91" h="125">
                  <a:moveTo>
                    <a:pt x="17428" y="13304"/>
                  </a:moveTo>
                  <a:cubicBezTo>
                    <a:pt x="17399" y="13347"/>
                    <a:pt x="17368" y="13387"/>
                    <a:pt x="17338" y="13428"/>
                  </a:cubicBezTo>
                </a:path>
              </a:pathLst>
            </a:custGeom>
            <a:noFill/>
            <a:ln cap="rnd" w="38160">
              <a:solidFill>
                <a:srgbClr val="80808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42" name=""/>
            <p:cNvSpPr/>
            <p:nvPr/>
          </p:nvSpPr>
          <p:spPr>
            <a:xfrm>
              <a:off x="3200400" y="2906640"/>
              <a:ext cx="236160" cy="152280"/>
            </a:xfrm>
            <a:custGeom>
              <a:avLst/>
              <a:gdLst/>
              <a:ahLst/>
              <a:rect l="l" t="t" r="r" b="b"/>
              <a:pathLst>
                <a:path w="657" h="424">
                  <a:moveTo>
                    <a:pt x="17174" y="13750"/>
                  </a:moveTo>
                  <a:cubicBezTo>
                    <a:pt x="17137" y="13790"/>
                    <a:pt x="17119" y="13822"/>
                    <a:pt x="17100" y="13873"/>
                  </a:cubicBezTo>
                  <a:cubicBezTo>
                    <a:pt x="17089" y="13904"/>
                    <a:pt x="17085" y="13915"/>
                    <a:pt x="17074" y="13935"/>
                  </a:cubicBezTo>
                </a:path>
                <a:path w="657" h="424">
                  <a:moveTo>
                    <a:pt x="17074" y="14173"/>
                  </a:moveTo>
                  <a:cubicBezTo>
                    <a:pt x="17122" y="14145"/>
                    <a:pt x="17174" y="14122"/>
                    <a:pt x="17232" y="14116"/>
                  </a:cubicBezTo>
                  <a:cubicBezTo>
                    <a:pt x="17268" y="14112"/>
                    <a:pt x="17307" y="14116"/>
                    <a:pt x="17343" y="14116"/>
                  </a:cubicBezTo>
                </a:path>
                <a:path w="657" h="424">
                  <a:moveTo>
                    <a:pt x="17470" y="14111"/>
                  </a:moveTo>
                  <a:cubicBezTo>
                    <a:pt x="17518" y="14113"/>
                    <a:pt x="17571" y="14113"/>
                    <a:pt x="17619" y="14120"/>
                  </a:cubicBezTo>
                  <a:cubicBezTo>
                    <a:pt x="17658" y="14126"/>
                    <a:pt x="17691" y="14136"/>
                    <a:pt x="17730" y="1413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43" name=""/>
          <p:cNvSpPr/>
          <p:nvPr/>
        </p:nvSpPr>
        <p:spPr>
          <a:xfrm>
            <a:off x="3048120" y="2144880"/>
            <a:ext cx="260496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4" name=""/>
          <p:cNvSpPr/>
          <p:nvPr/>
        </p:nvSpPr>
        <p:spPr>
          <a:xfrm>
            <a:off x="3429000" y="1371600"/>
            <a:ext cx="544680" cy="53352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5" name=""/>
          <p:cNvSpPr/>
          <p:nvPr/>
        </p:nvSpPr>
        <p:spPr>
          <a:xfrm>
            <a:off x="4343400" y="3124080"/>
            <a:ext cx="351000" cy="343080"/>
          </a:xfrm>
          <a:custGeom>
            <a:avLst/>
            <a:gdLst/>
            <a:ahLst/>
            <a:rect l="l" t="t" r="r" b="b"/>
            <a:pathLst>
              <a:path w="976" h="954">
                <a:moveTo>
                  <a:pt x="12143" y="9683"/>
                </a:moveTo>
                <a:cubicBezTo>
                  <a:pt x="12224" y="9627"/>
                  <a:pt x="12316" y="9587"/>
                  <a:pt x="12404" y="9542"/>
                </a:cubicBezTo>
                <a:cubicBezTo>
                  <a:pt x="12446" y="9521"/>
                  <a:pt x="12490" y="9502"/>
                  <a:pt x="12532" y="9481"/>
                </a:cubicBezTo>
                <a:cubicBezTo>
                  <a:pt x="12573" y="9460"/>
                  <a:pt x="12624" y="9438"/>
                  <a:pt x="12660" y="9409"/>
                </a:cubicBezTo>
                <a:cubicBezTo>
                  <a:pt x="12725" y="9357"/>
                  <a:pt x="12785" y="9285"/>
                  <a:pt x="12834" y="9218"/>
                </a:cubicBezTo>
                <a:cubicBezTo>
                  <a:pt x="12868" y="9171"/>
                  <a:pt x="12892" y="9122"/>
                  <a:pt x="12930" y="9077"/>
                </a:cubicBezTo>
                <a:cubicBezTo>
                  <a:pt x="12961" y="9040"/>
                  <a:pt x="12991" y="9006"/>
                  <a:pt x="13017" y="8966"/>
                </a:cubicBezTo>
                <a:cubicBezTo>
                  <a:pt x="13036" y="8937"/>
                  <a:pt x="13054" y="8893"/>
                  <a:pt x="13063" y="8859"/>
                </a:cubicBezTo>
                <a:cubicBezTo>
                  <a:pt x="13072" y="8824"/>
                  <a:pt x="13083" y="8792"/>
                  <a:pt x="13090" y="8757"/>
                </a:cubicBezTo>
                <a:cubicBezTo>
                  <a:pt x="13090" y="8748"/>
                  <a:pt x="13090" y="8739"/>
                  <a:pt x="13090" y="8730"/>
                </a:cubicBezTo>
                <a:cubicBezTo>
                  <a:pt x="13051" y="8761"/>
                  <a:pt x="13021" y="8795"/>
                  <a:pt x="12989" y="8833"/>
                </a:cubicBezTo>
                <a:cubicBezTo>
                  <a:pt x="12967" y="8859"/>
                  <a:pt x="12960" y="8867"/>
                  <a:pt x="12948" y="8886"/>
                </a:cubicBezTo>
                <a:cubicBezTo>
                  <a:pt x="12999" y="8848"/>
                  <a:pt x="13043" y="8810"/>
                  <a:pt x="13081" y="8760"/>
                </a:cubicBezTo>
                <a:cubicBezTo>
                  <a:pt x="13100" y="8808"/>
                  <a:pt x="13114" y="8849"/>
                  <a:pt x="13118" y="8901"/>
                </a:cubicBezTo>
                <a:cubicBezTo>
                  <a:pt x="13118" y="8910"/>
                  <a:pt x="13118" y="8919"/>
                  <a:pt x="13118" y="8928"/>
                </a:cubicBezTo>
              </a:path>
              <a:path w="976" h="954">
                <a:moveTo>
                  <a:pt x="12330" y="9458"/>
                </a:moveTo>
                <a:cubicBezTo>
                  <a:pt x="12273" y="9489"/>
                  <a:pt x="12233" y="9529"/>
                  <a:pt x="12189" y="9576"/>
                </a:cubicBezTo>
                <a:cubicBezTo>
                  <a:pt x="12166" y="9603"/>
                  <a:pt x="12158" y="9612"/>
                  <a:pt x="12143" y="9630"/>
                </a:cubicBezTo>
                <a:cubicBezTo>
                  <a:pt x="12187" y="9630"/>
                  <a:pt x="12228" y="9626"/>
                  <a:pt x="12271" y="9622"/>
                </a:cubicBezTo>
                <a:cubicBezTo>
                  <a:pt x="12315" y="9618"/>
                  <a:pt x="12356" y="9625"/>
                  <a:pt x="12399" y="963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6" name=""/>
          <p:cNvSpPr/>
          <p:nvPr/>
        </p:nvSpPr>
        <p:spPr>
          <a:xfrm>
            <a:off x="3629160" y="3048120"/>
            <a:ext cx="225360" cy="431640"/>
          </a:xfrm>
          <a:custGeom>
            <a:avLst/>
            <a:gdLst/>
            <a:ahLst/>
            <a:rect l="l" t="t" r="r" b="b"/>
            <a:pathLst>
              <a:path w="628" h="1202">
                <a:moveTo>
                  <a:pt x="10230" y="8501"/>
                </a:moveTo>
                <a:cubicBezTo>
                  <a:pt x="10223" y="8543"/>
                  <a:pt x="10221" y="8581"/>
                  <a:pt x="10221" y="8623"/>
                </a:cubicBezTo>
                <a:cubicBezTo>
                  <a:pt x="10221" y="8662"/>
                  <a:pt x="10224" y="8696"/>
                  <a:pt x="10230" y="8734"/>
                </a:cubicBezTo>
                <a:cubicBezTo>
                  <a:pt x="10240" y="8792"/>
                  <a:pt x="10247" y="8850"/>
                  <a:pt x="10253" y="8909"/>
                </a:cubicBezTo>
                <a:cubicBezTo>
                  <a:pt x="10258" y="8966"/>
                  <a:pt x="10288" y="8998"/>
                  <a:pt x="10312" y="9046"/>
                </a:cubicBezTo>
                <a:cubicBezTo>
                  <a:pt x="10332" y="9085"/>
                  <a:pt x="10340" y="9125"/>
                  <a:pt x="10367" y="9161"/>
                </a:cubicBezTo>
                <a:cubicBezTo>
                  <a:pt x="10394" y="9198"/>
                  <a:pt x="10421" y="9232"/>
                  <a:pt x="10450" y="9268"/>
                </a:cubicBezTo>
                <a:cubicBezTo>
                  <a:pt x="10481" y="9306"/>
                  <a:pt x="10516" y="9339"/>
                  <a:pt x="10546" y="9378"/>
                </a:cubicBezTo>
                <a:cubicBezTo>
                  <a:pt x="10574" y="9414"/>
                  <a:pt x="10595" y="9453"/>
                  <a:pt x="10623" y="9489"/>
                </a:cubicBezTo>
                <a:cubicBezTo>
                  <a:pt x="10657" y="9533"/>
                  <a:pt x="10691" y="9556"/>
                  <a:pt x="10738" y="9584"/>
                </a:cubicBezTo>
              </a:path>
              <a:path w="628" h="1202">
                <a:moveTo>
                  <a:pt x="10221" y="8547"/>
                </a:moveTo>
                <a:cubicBezTo>
                  <a:pt x="10198" y="8590"/>
                  <a:pt x="10191" y="8619"/>
                  <a:pt x="10180" y="8665"/>
                </a:cubicBezTo>
                <a:cubicBezTo>
                  <a:pt x="10171" y="8703"/>
                  <a:pt x="10163" y="8742"/>
                  <a:pt x="10152" y="8779"/>
                </a:cubicBezTo>
                <a:cubicBezTo>
                  <a:pt x="10144" y="8806"/>
                  <a:pt x="10142" y="8829"/>
                  <a:pt x="10138" y="8856"/>
                </a:cubicBezTo>
                <a:cubicBezTo>
                  <a:pt x="10138" y="8816"/>
                  <a:pt x="10142" y="8783"/>
                  <a:pt x="10152" y="8745"/>
                </a:cubicBezTo>
                <a:cubicBezTo>
                  <a:pt x="10164" y="8699"/>
                  <a:pt x="10170" y="8653"/>
                  <a:pt x="10184" y="8608"/>
                </a:cubicBezTo>
                <a:cubicBezTo>
                  <a:pt x="10229" y="8652"/>
                  <a:pt x="10270" y="8699"/>
                  <a:pt x="10312" y="8745"/>
                </a:cubicBezTo>
              </a:path>
              <a:path w="628" h="1202">
                <a:moveTo>
                  <a:pt x="10651" y="9653"/>
                </a:moveTo>
                <a:cubicBezTo>
                  <a:pt x="10640" y="9649"/>
                  <a:pt x="10630" y="9645"/>
                  <a:pt x="10619" y="9641"/>
                </a:cubicBezTo>
                <a:cubicBezTo>
                  <a:pt x="10662" y="9666"/>
                  <a:pt x="10700" y="9686"/>
                  <a:pt x="10747" y="9702"/>
                </a:cubicBezTo>
                <a:cubicBezTo>
                  <a:pt x="10757" y="9665"/>
                  <a:pt x="10768" y="9627"/>
                  <a:pt x="10765" y="9588"/>
                </a:cubicBezTo>
                <a:cubicBezTo>
                  <a:pt x="10763" y="9552"/>
                  <a:pt x="10765" y="9517"/>
                  <a:pt x="10761" y="9481"/>
                </a:cubicBezTo>
                <a:cubicBezTo>
                  <a:pt x="10756" y="9454"/>
                  <a:pt x="10754" y="9446"/>
                  <a:pt x="10756" y="942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7" name=""/>
          <p:cNvSpPr/>
          <p:nvPr/>
        </p:nvSpPr>
        <p:spPr>
          <a:xfrm>
            <a:off x="2895480" y="5562720"/>
            <a:ext cx="1109880" cy="554040"/>
          </a:xfrm>
          <a:custGeom>
            <a:avLst/>
            <a:gdLst/>
            <a:ahLst/>
            <a:rect l="l" t="t" r="r" b="b"/>
            <a:pathLst>
              <a:path w="3086" h="1542">
                <a:moveTo>
                  <a:pt x="22147" y="8291"/>
                </a:moveTo>
                <a:cubicBezTo>
                  <a:pt x="22227" y="8358"/>
                  <a:pt x="22309" y="8435"/>
                  <a:pt x="22394" y="8497"/>
                </a:cubicBezTo>
                <a:cubicBezTo>
                  <a:pt x="22551" y="8612"/>
                  <a:pt x="22723" y="8655"/>
                  <a:pt x="22916" y="8661"/>
                </a:cubicBezTo>
                <a:cubicBezTo>
                  <a:pt x="23038" y="8665"/>
                  <a:pt x="23165" y="8662"/>
                  <a:pt x="23286" y="8650"/>
                </a:cubicBezTo>
                <a:cubicBezTo>
                  <a:pt x="23437" y="8635"/>
                  <a:pt x="23588" y="8622"/>
                  <a:pt x="23739" y="8612"/>
                </a:cubicBezTo>
                <a:cubicBezTo>
                  <a:pt x="23886" y="8602"/>
                  <a:pt x="24029" y="8578"/>
                  <a:pt x="24174" y="8551"/>
                </a:cubicBezTo>
                <a:cubicBezTo>
                  <a:pt x="24370" y="8514"/>
                  <a:pt x="24575" y="8487"/>
                  <a:pt x="24760" y="8409"/>
                </a:cubicBezTo>
                <a:cubicBezTo>
                  <a:pt x="24823" y="8383"/>
                  <a:pt x="24870" y="8356"/>
                  <a:pt x="24897" y="8291"/>
                </a:cubicBezTo>
                <a:cubicBezTo>
                  <a:pt x="24969" y="8118"/>
                  <a:pt x="24833" y="7838"/>
                  <a:pt x="24764" y="7685"/>
                </a:cubicBezTo>
                <a:cubicBezTo>
                  <a:pt x="24710" y="7567"/>
                  <a:pt x="24654" y="7425"/>
                  <a:pt x="24563" y="7330"/>
                </a:cubicBezTo>
                <a:cubicBezTo>
                  <a:pt x="24399" y="7158"/>
                  <a:pt x="24172" y="7142"/>
                  <a:pt x="23950" y="7132"/>
                </a:cubicBezTo>
                <a:cubicBezTo>
                  <a:pt x="23826" y="7126"/>
                  <a:pt x="23703" y="7120"/>
                  <a:pt x="23579" y="7120"/>
                </a:cubicBezTo>
                <a:cubicBezTo>
                  <a:pt x="23399" y="7120"/>
                  <a:pt x="23211" y="7122"/>
                  <a:pt x="23034" y="7155"/>
                </a:cubicBezTo>
                <a:cubicBezTo>
                  <a:pt x="22862" y="7187"/>
                  <a:pt x="22691" y="7242"/>
                  <a:pt x="22522" y="7288"/>
                </a:cubicBezTo>
                <a:cubicBezTo>
                  <a:pt x="22347" y="7336"/>
                  <a:pt x="22181" y="7408"/>
                  <a:pt x="22041" y="7525"/>
                </a:cubicBezTo>
                <a:cubicBezTo>
                  <a:pt x="21939" y="7610"/>
                  <a:pt x="21900" y="7726"/>
                  <a:pt x="21868" y="7853"/>
                </a:cubicBezTo>
                <a:cubicBezTo>
                  <a:pt x="21832" y="7999"/>
                  <a:pt x="21783" y="8193"/>
                  <a:pt x="21886" y="8322"/>
                </a:cubicBezTo>
                <a:cubicBezTo>
                  <a:pt x="21925" y="8370"/>
                  <a:pt x="21983" y="8423"/>
                  <a:pt x="22037" y="8455"/>
                </a:cubicBezTo>
                <a:cubicBezTo>
                  <a:pt x="22159" y="8526"/>
                  <a:pt x="22315" y="8553"/>
                  <a:pt x="22453" y="8570"/>
                </a:cubicBezTo>
                <a:cubicBezTo>
                  <a:pt x="22538" y="8580"/>
                  <a:pt x="22621" y="8575"/>
                  <a:pt x="22705" y="8577"/>
                </a:cubicBezTo>
                <a:cubicBezTo>
                  <a:pt x="22779" y="8579"/>
                  <a:pt x="22851" y="8579"/>
                  <a:pt x="22925" y="8577"/>
                </a:cubicBezTo>
              </a:path>
            </a:pathLst>
          </a:custGeom>
          <a:noFill/>
          <a:ln cap="rnd"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8" name=""/>
          <p:cNvSpPr/>
          <p:nvPr/>
        </p:nvSpPr>
        <p:spPr>
          <a:xfrm>
            <a:off x="304920" y="2133720"/>
            <a:ext cx="1447560" cy="554040"/>
          </a:xfrm>
          <a:custGeom>
            <a:avLst/>
            <a:gdLst/>
            <a:ahLst/>
            <a:rect l="l" t="t" r="r" b="b"/>
            <a:pathLst>
              <a:path w="3086" h="1542">
                <a:moveTo>
                  <a:pt x="22147" y="8291"/>
                </a:moveTo>
                <a:cubicBezTo>
                  <a:pt x="22227" y="8358"/>
                  <a:pt x="22309" y="8435"/>
                  <a:pt x="22394" y="8497"/>
                </a:cubicBezTo>
                <a:cubicBezTo>
                  <a:pt x="22551" y="8612"/>
                  <a:pt x="22723" y="8655"/>
                  <a:pt x="22916" y="8661"/>
                </a:cubicBezTo>
                <a:cubicBezTo>
                  <a:pt x="23038" y="8665"/>
                  <a:pt x="23165" y="8662"/>
                  <a:pt x="23286" y="8650"/>
                </a:cubicBezTo>
                <a:cubicBezTo>
                  <a:pt x="23437" y="8635"/>
                  <a:pt x="23588" y="8622"/>
                  <a:pt x="23739" y="8612"/>
                </a:cubicBezTo>
                <a:cubicBezTo>
                  <a:pt x="23886" y="8602"/>
                  <a:pt x="24029" y="8578"/>
                  <a:pt x="24174" y="8551"/>
                </a:cubicBezTo>
                <a:cubicBezTo>
                  <a:pt x="24370" y="8514"/>
                  <a:pt x="24575" y="8487"/>
                  <a:pt x="24760" y="8409"/>
                </a:cubicBezTo>
                <a:cubicBezTo>
                  <a:pt x="24823" y="8383"/>
                  <a:pt x="24870" y="8356"/>
                  <a:pt x="24897" y="8291"/>
                </a:cubicBezTo>
                <a:cubicBezTo>
                  <a:pt x="24969" y="8118"/>
                  <a:pt x="24833" y="7838"/>
                  <a:pt x="24764" y="7685"/>
                </a:cubicBezTo>
                <a:cubicBezTo>
                  <a:pt x="24710" y="7567"/>
                  <a:pt x="24654" y="7425"/>
                  <a:pt x="24563" y="7330"/>
                </a:cubicBezTo>
                <a:cubicBezTo>
                  <a:pt x="24399" y="7158"/>
                  <a:pt x="24172" y="7142"/>
                  <a:pt x="23950" y="7132"/>
                </a:cubicBezTo>
                <a:cubicBezTo>
                  <a:pt x="23826" y="7126"/>
                  <a:pt x="23703" y="7120"/>
                  <a:pt x="23579" y="7120"/>
                </a:cubicBezTo>
                <a:cubicBezTo>
                  <a:pt x="23399" y="7120"/>
                  <a:pt x="23211" y="7122"/>
                  <a:pt x="23034" y="7155"/>
                </a:cubicBezTo>
                <a:cubicBezTo>
                  <a:pt x="22862" y="7187"/>
                  <a:pt x="22691" y="7242"/>
                  <a:pt x="22522" y="7288"/>
                </a:cubicBezTo>
                <a:cubicBezTo>
                  <a:pt x="22347" y="7336"/>
                  <a:pt x="22181" y="7408"/>
                  <a:pt x="22041" y="7525"/>
                </a:cubicBezTo>
                <a:cubicBezTo>
                  <a:pt x="21939" y="7610"/>
                  <a:pt x="21900" y="7726"/>
                  <a:pt x="21868" y="7853"/>
                </a:cubicBezTo>
                <a:cubicBezTo>
                  <a:pt x="21832" y="7999"/>
                  <a:pt x="21783" y="8193"/>
                  <a:pt x="21886" y="8322"/>
                </a:cubicBezTo>
                <a:cubicBezTo>
                  <a:pt x="21925" y="8370"/>
                  <a:pt x="21983" y="8423"/>
                  <a:pt x="22037" y="8455"/>
                </a:cubicBezTo>
                <a:cubicBezTo>
                  <a:pt x="22159" y="8526"/>
                  <a:pt x="22315" y="8553"/>
                  <a:pt x="22453" y="8570"/>
                </a:cubicBezTo>
                <a:cubicBezTo>
                  <a:pt x="22538" y="8580"/>
                  <a:pt x="22621" y="8575"/>
                  <a:pt x="22705" y="8577"/>
                </a:cubicBezTo>
                <a:cubicBezTo>
                  <a:pt x="22779" y="8579"/>
                  <a:pt x="22851" y="8579"/>
                  <a:pt x="22925" y="8577"/>
                </a:cubicBezTo>
              </a:path>
            </a:pathLst>
          </a:custGeom>
          <a:noFill/>
          <a:ln cap="rnd"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9" name=""/>
          <p:cNvSpPr/>
          <p:nvPr/>
        </p:nvSpPr>
        <p:spPr>
          <a:xfrm>
            <a:off x="6019920" y="762120"/>
            <a:ext cx="1447560" cy="554040"/>
          </a:xfrm>
          <a:custGeom>
            <a:avLst/>
            <a:gdLst/>
            <a:ahLst/>
            <a:rect l="l" t="t" r="r" b="b"/>
            <a:pathLst>
              <a:path w="3086" h="1542">
                <a:moveTo>
                  <a:pt x="22147" y="8291"/>
                </a:moveTo>
                <a:cubicBezTo>
                  <a:pt x="22227" y="8358"/>
                  <a:pt x="22309" y="8435"/>
                  <a:pt x="22394" y="8497"/>
                </a:cubicBezTo>
                <a:cubicBezTo>
                  <a:pt x="22551" y="8612"/>
                  <a:pt x="22723" y="8655"/>
                  <a:pt x="22916" y="8661"/>
                </a:cubicBezTo>
                <a:cubicBezTo>
                  <a:pt x="23038" y="8665"/>
                  <a:pt x="23165" y="8662"/>
                  <a:pt x="23286" y="8650"/>
                </a:cubicBezTo>
                <a:cubicBezTo>
                  <a:pt x="23437" y="8635"/>
                  <a:pt x="23588" y="8622"/>
                  <a:pt x="23739" y="8612"/>
                </a:cubicBezTo>
                <a:cubicBezTo>
                  <a:pt x="23886" y="8602"/>
                  <a:pt x="24029" y="8578"/>
                  <a:pt x="24174" y="8551"/>
                </a:cubicBezTo>
                <a:cubicBezTo>
                  <a:pt x="24370" y="8514"/>
                  <a:pt x="24575" y="8487"/>
                  <a:pt x="24760" y="8409"/>
                </a:cubicBezTo>
                <a:cubicBezTo>
                  <a:pt x="24823" y="8383"/>
                  <a:pt x="24870" y="8356"/>
                  <a:pt x="24897" y="8291"/>
                </a:cubicBezTo>
                <a:cubicBezTo>
                  <a:pt x="24969" y="8118"/>
                  <a:pt x="24833" y="7838"/>
                  <a:pt x="24764" y="7685"/>
                </a:cubicBezTo>
                <a:cubicBezTo>
                  <a:pt x="24710" y="7567"/>
                  <a:pt x="24654" y="7425"/>
                  <a:pt x="24563" y="7330"/>
                </a:cubicBezTo>
                <a:cubicBezTo>
                  <a:pt x="24399" y="7158"/>
                  <a:pt x="24172" y="7142"/>
                  <a:pt x="23950" y="7132"/>
                </a:cubicBezTo>
                <a:cubicBezTo>
                  <a:pt x="23826" y="7126"/>
                  <a:pt x="23703" y="7120"/>
                  <a:pt x="23579" y="7120"/>
                </a:cubicBezTo>
                <a:cubicBezTo>
                  <a:pt x="23399" y="7120"/>
                  <a:pt x="23211" y="7122"/>
                  <a:pt x="23034" y="7155"/>
                </a:cubicBezTo>
                <a:cubicBezTo>
                  <a:pt x="22862" y="7187"/>
                  <a:pt x="22691" y="7242"/>
                  <a:pt x="22522" y="7288"/>
                </a:cubicBezTo>
                <a:cubicBezTo>
                  <a:pt x="22347" y="7336"/>
                  <a:pt x="22181" y="7408"/>
                  <a:pt x="22041" y="7525"/>
                </a:cubicBezTo>
                <a:cubicBezTo>
                  <a:pt x="21939" y="7610"/>
                  <a:pt x="21900" y="7726"/>
                  <a:pt x="21868" y="7853"/>
                </a:cubicBezTo>
                <a:cubicBezTo>
                  <a:pt x="21832" y="7999"/>
                  <a:pt x="21783" y="8193"/>
                  <a:pt x="21886" y="8322"/>
                </a:cubicBezTo>
                <a:cubicBezTo>
                  <a:pt x="21925" y="8370"/>
                  <a:pt x="21983" y="8423"/>
                  <a:pt x="22037" y="8455"/>
                </a:cubicBezTo>
                <a:cubicBezTo>
                  <a:pt x="22159" y="8526"/>
                  <a:pt x="22315" y="8553"/>
                  <a:pt x="22453" y="8570"/>
                </a:cubicBezTo>
                <a:cubicBezTo>
                  <a:pt x="22538" y="8580"/>
                  <a:pt x="22621" y="8575"/>
                  <a:pt x="22705" y="8577"/>
                </a:cubicBezTo>
                <a:cubicBezTo>
                  <a:pt x="22779" y="8579"/>
                  <a:pt x="22851" y="8579"/>
                  <a:pt x="22925" y="8577"/>
                </a:cubicBezTo>
              </a:path>
            </a:pathLst>
          </a:custGeom>
          <a:noFill/>
          <a:ln cap="rnd"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0" name=""/>
          <p:cNvSpPr/>
          <p:nvPr/>
        </p:nvSpPr>
        <p:spPr>
          <a:xfrm>
            <a:off x="4952880" y="3048120"/>
            <a:ext cx="511200" cy="62532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1" name=""/>
          <p:cNvSpPr/>
          <p:nvPr/>
        </p:nvSpPr>
        <p:spPr>
          <a:xfrm>
            <a:off x="3957120" y="236232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eis</a:t>
            </a:r>
            <a:endParaRPr b="0" lang="en-US" sz="1600" spc="-1" strike="noStrike">
              <a:solidFill>
                <a:srgbClr val="000000"/>
              </a:solidFill>
              <a:latin typeface="Arial"/>
            </a:endParaRPr>
          </a:p>
        </p:txBody>
      </p:sp>
      <p:sp>
        <p:nvSpPr>
          <p:cNvPr id="3552" name=""/>
          <p:cNvSpPr/>
          <p:nvPr/>
        </p:nvSpPr>
        <p:spPr>
          <a:xfrm>
            <a:off x="3809880" y="2286000"/>
            <a:ext cx="693720" cy="533520"/>
          </a:xfrm>
          <a:custGeom>
            <a:avLst/>
            <a:gdLst/>
            <a:ahLst/>
            <a:rect l="l" t="t" r="r" b="b"/>
            <a:pathLst>
              <a:path w="2632" h="1676">
                <a:moveTo>
                  <a:pt x="21207" y="9609"/>
                </a:moveTo>
                <a:cubicBezTo>
                  <a:pt x="21196" y="9614"/>
                  <a:pt x="21129" y="9628"/>
                  <a:pt x="21119" y="9638"/>
                </a:cubicBezTo>
                <a:cubicBezTo>
                  <a:pt x="21094" y="9665"/>
                  <a:pt x="21088" y="9676"/>
                  <a:pt x="21058" y="9699"/>
                </a:cubicBezTo>
                <a:cubicBezTo>
                  <a:pt x="21033" y="9719"/>
                  <a:pt x="20949" y="9774"/>
                  <a:pt x="20938" y="9787"/>
                </a:cubicBezTo>
                <a:cubicBezTo>
                  <a:pt x="20918" y="9810"/>
                  <a:pt x="20897" y="9828"/>
                  <a:pt x="20879" y="9849"/>
                </a:cubicBezTo>
                <a:cubicBezTo>
                  <a:pt x="20864" y="9866"/>
                  <a:pt x="20797" y="9925"/>
                  <a:pt x="20788" y="9936"/>
                </a:cubicBezTo>
                <a:cubicBezTo>
                  <a:pt x="20764" y="9966"/>
                  <a:pt x="20787" y="10004"/>
                  <a:pt x="20759" y="10027"/>
                </a:cubicBezTo>
                <a:cubicBezTo>
                  <a:pt x="20738" y="10045"/>
                  <a:pt x="20718" y="10074"/>
                  <a:pt x="20700" y="10088"/>
                </a:cubicBezTo>
                <a:cubicBezTo>
                  <a:pt x="20677" y="10106"/>
                  <a:pt x="20659" y="10131"/>
                  <a:pt x="20639" y="10147"/>
                </a:cubicBezTo>
                <a:cubicBezTo>
                  <a:pt x="20609" y="10170"/>
                  <a:pt x="20593" y="10172"/>
                  <a:pt x="20551" y="10208"/>
                </a:cubicBezTo>
                <a:cubicBezTo>
                  <a:pt x="20519" y="10235"/>
                  <a:pt x="20490" y="10267"/>
                  <a:pt x="20460" y="10296"/>
                </a:cubicBezTo>
                <a:cubicBezTo>
                  <a:pt x="20493" y="10324"/>
                  <a:pt x="20535" y="10375"/>
                  <a:pt x="20551" y="10386"/>
                </a:cubicBezTo>
                <a:cubicBezTo>
                  <a:pt x="20580" y="10407"/>
                  <a:pt x="20620" y="10427"/>
                  <a:pt x="20639" y="10445"/>
                </a:cubicBezTo>
                <a:cubicBezTo>
                  <a:pt x="20679" y="10483"/>
                  <a:pt x="20710" y="10509"/>
                  <a:pt x="20730" y="10536"/>
                </a:cubicBezTo>
                <a:cubicBezTo>
                  <a:pt x="20758" y="10573"/>
                  <a:pt x="20767" y="10607"/>
                  <a:pt x="20788" y="10626"/>
                </a:cubicBezTo>
                <a:cubicBezTo>
                  <a:pt x="20805" y="10642"/>
                  <a:pt x="20864" y="10638"/>
                  <a:pt x="20879" y="10655"/>
                </a:cubicBezTo>
                <a:cubicBezTo>
                  <a:pt x="20905" y="10684"/>
                  <a:pt x="20906" y="10692"/>
                  <a:pt x="20938" y="10717"/>
                </a:cubicBezTo>
                <a:cubicBezTo>
                  <a:pt x="20950" y="10726"/>
                  <a:pt x="20984" y="10793"/>
                  <a:pt x="20999" y="10805"/>
                </a:cubicBezTo>
                <a:cubicBezTo>
                  <a:pt x="21025" y="10826"/>
                  <a:pt x="21036" y="10847"/>
                  <a:pt x="21058" y="10866"/>
                </a:cubicBezTo>
                <a:cubicBezTo>
                  <a:pt x="21078" y="10883"/>
                  <a:pt x="21101" y="10910"/>
                  <a:pt x="21119" y="10924"/>
                </a:cubicBezTo>
                <a:cubicBezTo>
                  <a:pt x="21144" y="10944"/>
                  <a:pt x="21157" y="10969"/>
                  <a:pt x="21178" y="10986"/>
                </a:cubicBezTo>
                <a:cubicBezTo>
                  <a:pt x="21200" y="11004"/>
                  <a:pt x="21253" y="11061"/>
                  <a:pt x="21269" y="11074"/>
                </a:cubicBezTo>
                <a:cubicBezTo>
                  <a:pt x="21301" y="11100"/>
                  <a:pt x="21305" y="11096"/>
                  <a:pt x="21327" y="11135"/>
                </a:cubicBezTo>
                <a:cubicBezTo>
                  <a:pt x="21342" y="11161"/>
                  <a:pt x="21346" y="11193"/>
                  <a:pt x="21386" y="11193"/>
                </a:cubicBezTo>
                <a:cubicBezTo>
                  <a:pt x="21432" y="11193"/>
                  <a:pt x="21456" y="11168"/>
                  <a:pt x="21506" y="11164"/>
                </a:cubicBezTo>
                <a:cubicBezTo>
                  <a:pt x="21556" y="11160"/>
                  <a:pt x="21577" y="11141"/>
                  <a:pt x="21626" y="11135"/>
                </a:cubicBezTo>
                <a:cubicBezTo>
                  <a:pt x="21676" y="11129"/>
                  <a:pt x="21738" y="11111"/>
                  <a:pt x="21776" y="11106"/>
                </a:cubicBezTo>
                <a:cubicBezTo>
                  <a:pt x="21874" y="11094"/>
                  <a:pt x="21992" y="11085"/>
                  <a:pt x="22074" y="11074"/>
                </a:cubicBezTo>
                <a:cubicBezTo>
                  <a:pt x="22246" y="11051"/>
                  <a:pt x="22523" y="11063"/>
                  <a:pt x="22643" y="11106"/>
                </a:cubicBezTo>
                <a:cubicBezTo>
                  <a:pt x="22678" y="11081"/>
                  <a:pt x="22683" y="11083"/>
                  <a:pt x="22705" y="11044"/>
                </a:cubicBezTo>
                <a:cubicBezTo>
                  <a:pt x="22725" y="11009"/>
                  <a:pt x="22712" y="10998"/>
                  <a:pt x="22734" y="10954"/>
                </a:cubicBezTo>
                <a:cubicBezTo>
                  <a:pt x="22739" y="10944"/>
                  <a:pt x="22777" y="10897"/>
                  <a:pt x="22792" y="10866"/>
                </a:cubicBezTo>
                <a:cubicBezTo>
                  <a:pt x="22812" y="10825"/>
                  <a:pt x="22808" y="10809"/>
                  <a:pt x="22822" y="10775"/>
                </a:cubicBezTo>
                <a:cubicBezTo>
                  <a:pt x="22838" y="10736"/>
                  <a:pt x="22838" y="10693"/>
                  <a:pt x="22854" y="10655"/>
                </a:cubicBezTo>
                <a:cubicBezTo>
                  <a:pt x="22869" y="10621"/>
                  <a:pt x="22863" y="10607"/>
                  <a:pt x="22883" y="10565"/>
                </a:cubicBezTo>
                <a:cubicBezTo>
                  <a:pt x="22906" y="10517"/>
                  <a:pt x="22919" y="10465"/>
                  <a:pt x="22942" y="10416"/>
                </a:cubicBezTo>
                <a:cubicBezTo>
                  <a:pt x="22958" y="10381"/>
                  <a:pt x="22950" y="10367"/>
                  <a:pt x="22971" y="10325"/>
                </a:cubicBezTo>
                <a:cubicBezTo>
                  <a:pt x="22990" y="10287"/>
                  <a:pt x="22982" y="10285"/>
                  <a:pt x="23003" y="10237"/>
                </a:cubicBezTo>
                <a:cubicBezTo>
                  <a:pt x="23017" y="10205"/>
                  <a:pt x="23057" y="10157"/>
                  <a:pt x="23062" y="10147"/>
                </a:cubicBezTo>
                <a:cubicBezTo>
                  <a:pt x="23083" y="10104"/>
                  <a:pt x="23074" y="10092"/>
                  <a:pt x="23091" y="10056"/>
                </a:cubicBezTo>
                <a:cubicBezTo>
                  <a:pt x="23036" y="10051"/>
                  <a:pt x="23025" y="10037"/>
                  <a:pt x="23003" y="10027"/>
                </a:cubicBezTo>
                <a:cubicBezTo>
                  <a:pt x="22958" y="10006"/>
                  <a:pt x="22949" y="10016"/>
                  <a:pt x="22913" y="9998"/>
                </a:cubicBezTo>
                <a:cubicBezTo>
                  <a:pt x="22879" y="9981"/>
                  <a:pt x="22864" y="9990"/>
                  <a:pt x="22822" y="9968"/>
                </a:cubicBezTo>
                <a:cubicBezTo>
                  <a:pt x="22785" y="9949"/>
                  <a:pt x="22785" y="9931"/>
                  <a:pt x="22734" y="9907"/>
                </a:cubicBezTo>
                <a:cubicBezTo>
                  <a:pt x="22696" y="9889"/>
                  <a:pt x="22660" y="9860"/>
                  <a:pt x="22643" y="9849"/>
                </a:cubicBezTo>
                <a:cubicBezTo>
                  <a:pt x="22611" y="9828"/>
                  <a:pt x="22600" y="9815"/>
                  <a:pt x="22552" y="9787"/>
                </a:cubicBezTo>
                <a:cubicBezTo>
                  <a:pt x="22539" y="9779"/>
                  <a:pt x="22475" y="9770"/>
                  <a:pt x="22464" y="9758"/>
                </a:cubicBezTo>
                <a:cubicBezTo>
                  <a:pt x="22444" y="9737"/>
                  <a:pt x="22422" y="9719"/>
                  <a:pt x="22403" y="9699"/>
                </a:cubicBezTo>
                <a:cubicBezTo>
                  <a:pt x="22387" y="9681"/>
                  <a:pt x="22357" y="9655"/>
                  <a:pt x="22344" y="9638"/>
                </a:cubicBezTo>
                <a:cubicBezTo>
                  <a:pt x="22317" y="9605"/>
                  <a:pt x="22324" y="9603"/>
                  <a:pt x="22286" y="9580"/>
                </a:cubicBezTo>
                <a:cubicBezTo>
                  <a:pt x="22245" y="9556"/>
                  <a:pt x="22230" y="9516"/>
                  <a:pt x="22195" y="9518"/>
                </a:cubicBezTo>
                <a:cubicBezTo>
                  <a:pt x="22129" y="9521"/>
                  <a:pt x="22154" y="9543"/>
                  <a:pt x="22104" y="9547"/>
                </a:cubicBezTo>
                <a:cubicBezTo>
                  <a:pt x="22036" y="9553"/>
                  <a:pt x="21917" y="9577"/>
                  <a:pt x="21896" y="9580"/>
                </a:cubicBezTo>
                <a:cubicBezTo>
                  <a:pt x="21809" y="9592"/>
                  <a:pt x="21700" y="9600"/>
                  <a:pt x="21626" y="9609"/>
                </a:cubicBezTo>
                <a:cubicBezTo>
                  <a:pt x="21509" y="9623"/>
                  <a:pt x="21229" y="9609"/>
                  <a:pt x="21207" y="9609"/>
                </a:cubicBezTo>
                <a:cubicBezTo>
                  <a:pt x="21217" y="9609"/>
                  <a:pt x="21226" y="9609"/>
                  <a:pt x="21236" y="960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53" name=""/>
          <p:cNvGrpSpPr/>
          <p:nvPr/>
        </p:nvGrpSpPr>
        <p:grpSpPr>
          <a:xfrm>
            <a:off x="3657600" y="2209680"/>
            <a:ext cx="968400" cy="301680"/>
            <a:chOff x="3657600" y="2209680"/>
            <a:chExt cx="968400" cy="301680"/>
          </a:xfrm>
        </p:grpSpPr>
        <p:sp>
          <p:nvSpPr>
            <p:cNvPr id="3554" name=""/>
            <p:cNvSpPr/>
            <p:nvPr/>
          </p:nvSpPr>
          <p:spPr>
            <a:xfrm>
              <a:off x="3657600" y="2282760"/>
              <a:ext cx="203040" cy="228600"/>
            </a:xfrm>
            <a:custGeom>
              <a:avLst/>
              <a:gdLst/>
              <a:ahLst/>
              <a:rect l="l" t="t" r="r" b="b"/>
              <a:pathLst>
                <a:path w="566" h="571">
                  <a:moveTo>
                    <a:pt x="10592" y="6858"/>
                  </a:moveTo>
                  <a:cubicBezTo>
                    <a:pt x="10536" y="6858"/>
                    <a:pt x="10524" y="6832"/>
                    <a:pt x="10475" y="6826"/>
                  </a:cubicBezTo>
                  <a:cubicBezTo>
                    <a:pt x="10434" y="6821"/>
                    <a:pt x="10424" y="6801"/>
                    <a:pt x="10413" y="6767"/>
                  </a:cubicBezTo>
                </a:path>
                <a:path w="566" h="571">
                  <a:moveTo>
                    <a:pt x="10293" y="6676"/>
                  </a:moveTo>
                  <a:cubicBezTo>
                    <a:pt x="10293" y="6666"/>
                    <a:pt x="10293" y="6657"/>
                    <a:pt x="10293" y="6647"/>
                  </a:cubicBezTo>
                  <a:cubicBezTo>
                    <a:pt x="10258" y="6638"/>
                    <a:pt x="10240" y="6627"/>
                    <a:pt x="10205" y="6618"/>
                  </a:cubicBezTo>
                  <a:cubicBezTo>
                    <a:pt x="10190" y="6567"/>
                    <a:pt x="10192" y="6605"/>
                    <a:pt x="10176" y="6557"/>
                  </a:cubicBezTo>
                </a:path>
                <a:path w="566" h="571">
                  <a:moveTo>
                    <a:pt x="10355" y="6466"/>
                  </a:moveTo>
                  <a:cubicBezTo>
                    <a:pt x="10384" y="6466"/>
                    <a:pt x="10394" y="6466"/>
                    <a:pt x="10413" y="6466"/>
                  </a:cubicBezTo>
                  <a:cubicBezTo>
                    <a:pt x="10426" y="6427"/>
                    <a:pt x="10434" y="6420"/>
                    <a:pt x="10475" y="6408"/>
                  </a:cubicBezTo>
                </a:path>
                <a:path w="566" h="571">
                  <a:moveTo>
                    <a:pt x="10654" y="6349"/>
                  </a:moveTo>
                  <a:cubicBezTo>
                    <a:pt x="10691" y="6296"/>
                    <a:pt x="10675" y="6288"/>
                    <a:pt x="10741" y="62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5" name=""/>
            <p:cNvSpPr/>
            <p:nvPr/>
          </p:nvSpPr>
          <p:spPr>
            <a:xfrm>
              <a:off x="3946680" y="2244600"/>
              <a:ext cx="64800" cy="3240"/>
            </a:xfrm>
            <a:custGeom>
              <a:avLst/>
              <a:gdLst/>
              <a:ahLst/>
              <a:rect l="l" t="t" r="r" b="b"/>
              <a:pathLst>
                <a:path w="179" h="1">
                  <a:moveTo>
                    <a:pt x="10982" y="6197"/>
                  </a:moveTo>
                  <a:cubicBezTo>
                    <a:pt x="11041" y="6197"/>
                    <a:pt x="11101" y="6197"/>
                    <a:pt x="11160" y="6197"/>
                  </a:cubicBezTo>
                </a:path>
              </a:pathLst>
            </a:custGeom>
            <a:noFill/>
            <a:ln cap="rnd" w="28440">
              <a:solidFill>
                <a:srgbClr val="808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56" name=""/>
            <p:cNvSpPr/>
            <p:nvPr/>
          </p:nvSpPr>
          <p:spPr>
            <a:xfrm>
              <a:off x="4108320" y="2209680"/>
              <a:ext cx="65160" cy="12600"/>
            </a:xfrm>
            <a:custGeom>
              <a:avLst/>
              <a:gdLst/>
              <a:ahLst/>
              <a:rect l="l" t="t" r="r" b="b"/>
              <a:pathLst>
                <a:path w="180" h="31">
                  <a:moveTo>
                    <a:pt x="11430" y="6109"/>
                  </a:moveTo>
                  <a:cubicBezTo>
                    <a:pt x="11430" y="6119"/>
                    <a:pt x="11430" y="6129"/>
                    <a:pt x="11430" y="6139"/>
                  </a:cubicBezTo>
                  <a:cubicBezTo>
                    <a:pt x="11490" y="6139"/>
                    <a:pt x="11549" y="6139"/>
                    <a:pt x="11609"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57" name=""/>
            <p:cNvSpPr/>
            <p:nvPr/>
          </p:nvSpPr>
          <p:spPr>
            <a:xfrm>
              <a:off x="4270320" y="2209680"/>
              <a:ext cx="54000" cy="12600"/>
            </a:xfrm>
            <a:custGeom>
              <a:avLst/>
              <a:gdLst/>
              <a:ahLst/>
              <a:rect l="l" t="t" r="r" b="b"/>
              <a:pathLst>
                <a:path w="151" h="31">
                  <a:moveTo>
                    <a:pt x="11878" y="6109"/>
                  </a:moveTo>
                  <a:cubicBezTo>
                    <a:pt x="11918" y="6109"/>
                    <a:pt x="11958" y="6109"/>
                    <a:pt x="11998" y="6109"/>
                  </a:cubicBezTo>
                  <a:cubicBezTo>
                    <a:pt x="11998" y="6139"/>
                    <a:pt x="11998" y="6149"/>
                    <a:pt x="12028"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58" name=""/>
            <p:cNvSpPr/>
            <p:nvPr/>
          </p:nvSpPr>
          <p:spPr>
            <a:xfrm>
              <a:off x="4410000" y="2222280"/>
              <a:ext cx="216000" cy="241200"/>
            </a:xfrm>
            <a:custGeom>
              <a:avLst/>
              <a:gdLst/>
              <a:ahLst/>
              <a:rect l="l" t="t" r="r" b="b"/>
              <a:pathLst>
                <a:path w="599" h="600">
                  <a:moveTo>
                    <a:pt x="12268" y="6139"/>
                  </a:moveTo>
                  <a:cubicBezTo>
                    <a:pt x="12268" y="6149"/>
                    <a:pt x="12268" y="6158"/>
                    <a:pt x="12268" y="6168"/>
                  </a:cubicBezTo>
                  <a:cubicBezTo>
                    <a:pt x="12314" y="6183"/>
                    <a:pt x="12280" y="6182"/>
                    <a:pt x="12326" y="6197"/>
                  </a:cubicBezTo>
                  <a:cubicBezTo>
                    <a:pt x="12343" y="6246"/>
                    <a:pt x="12341" y="6212"/>
                    <a:pt x="12359" y="6258"/>
                  </a:cubicBezTo>
                  <a:cubicBezTo>
                    <a:pt x="12409" y="6258"/>
                    <a:pt x="12403" y="6246"/>
                    <a:pt x="12417" y="6288"/>
                  </a:cubicBezTo>
                  <a:cubicBezTo>
                    <a:pt x="12417" y="6258"/>
                    <a:pt x="12417" y="6249"/>
                    <a:pt x="12417" y="6229"/>
                  </a:cubicBezTo>
                </a:path>
                <a:path w="599" h="600">
                  <a:moveTo>
                    <a:pt x="12625" y="6408"/>
                  </a:moveTo>
                  <a:cubicBezTo>
                    <a:pt x="12636" y="6408"/>
                    <a:pt x="12647" y="6408"/>
                    <a:pt x="12658" y="6408"/>
                  </a:cubicBezTo>
                  <a:cubicBezTo>
                    <a:pt x="12672" y="6449"/>
                    <a:pt x="12666" y="6437"/>
                    <a:pt x="12716" y="6437"/>
                  </a:cubicBezTo>
                  <a:cubicBezTo>
                    <a:pt x="12716" y="6466"/>
                    <a:pt x="12716" y="6476"/>
                    <a:pt x="12745" y="6466"/>
                  </a:cubicBezTo>
                </a:path>
                <a:path w="599" h="600">
                  <a:moveTo>
                    <a:pt x="12866" y="6618"/>
                  </a:moveTo>
                  <a:cubicBezTo>
                    <a:pt x="12806" y="6618"/>
                    <a:pt x="12791" y="6618"/>
                    <a:pt x="12775" y="6676"/>
                  </a:cubicBezTo>
                  <a:cubicBezTo>
                    <a:pt x="12719" y="6695"/>
                    <a:pt x="12770" y="6718"/>
                    <a:pt x="12716" y="6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68"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hiteboard"/>
              </a:rPr>
              <a:t>IT Environment</a:t>
            </a:r>
            <a:endParaRPr b="0" lang="en-US" sz="1400" spc="-1" strike="noStrike">
              <a:solidFill>
                <a:srgbClr val="000000"/>
              </a:solidFill>
              <a:latin typeface="Arial"/>
            </a:endParaRPr>
          </a:p>
        </p:txBody>
      </p:sp>
      <p:sp>
        <p:nvSpPr>
          <p:cNvPr id="70"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grpSp>
        <p:nvGrpSpPr>
          <p:cNvPr id="71" name=""/>
          <p:cNvGrpSpPr/>
          <p:nvPr/>
        </p:nvGrpSpPr>
        <p:grpSpPr>
          <a:xfrm>
            <a:off x="1554120" y="1012680"/>
            <a:ext cx="5052960" cy="4521240"/>
            <a:chOff x="1554120" y="1012680"/>
            <a:chExt cx="5052960" cy="4521240"/>
          </a:xfrm>
        </p:grpSpPr>
        <p:sp>
          <p:nvSpPr>
            <p:cNvPr id="72"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9"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3560" name=""/>
          <p:cNvSpPr/>
          <p:nvPr/>
        </p:nvSpPr>
        <p:spPr>
          <a:xfrm>
            <a:off x="415800" y="59832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561"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3562"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3563"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3564"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3565" name=""/>
          <p:cNvGrpSpPr/>
          <p:nvPr/>
        </p:nvGrpSpPr>
        <p:grpSpPr>
          <a:xfrm>
            <a:off x="1554120" y="1012680"/>
            <a:ext cx="5052960" cy="4521240"/>
            <a:chOff x="1554120" y="1012680"/>
            <a:chExt cx="5052960" cy="4521240"/>
          </a:xfrm>
        </p:grpSpPr>
        <p:sp>
          <p:nvSpPr>
            <p:cNvPr id="3566"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7"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8"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9"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3570" name="Ink 5"/>
          <p:cNvSpPr/>
          <p:nvPr/>
        </p:nvSpPr>
        <p:spPr>
          <a:xfrm>
            <a:off x="133020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1" name="Group 14"/>
          <p:cNvGrpSpPr/>
          <p:nvPr/>
        </p:nvGrpSpPr>
        <p:grpSpPr>
          <a:xfrm>
            <a:off x="1254240" y="4000680"/>
            <a:ext cx="380520" cy="380880"/>
            <a:chOff x="1254240" y="4000680"/>
            <a:chExt cx="380520" cy="380880"/>
          </a:xfrm>
        </p:grpSpPr>
        <p:sp>
          <p:nvSpPr>
            <p:cNvPr id="3572" name="Ink 15"/>
            <p:cNvSpPr/>
            <p:nvPr/>
          </p:nvSpPr>
          <p:spPr>
            <a:xfrm>
              <a:off x="125424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3" name="Ink 16"/>
            <p:cNvSpPr/>
            <p:nvPr/>
          </p:nvSpPr>
          <p:spPr>
            <a:xfrm>
              <a:off x="130608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4" name=""/>
          <p:cNvSpPr/>
          <p:nvPr/>
        </p:nvSpPr>
        <p:spPr>
          <a:xfrm>
            <a:off x="133020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5"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3576" name="Ink 61"/>
          <p:cNvSpPr/>
          <p:nvPr/>
        </p:nvSpPr>
        <p:spPr>
          <a:xfrm>
            <a:off x="87300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7"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3578" name=""/>
          <p:cNvGrpSpPr/>
          <p:nvPr/>
        </p:nvGrpSpPr>
        <p:grpSpPr>
          <a:xfrm>
            <a:off x="1254240" y="1714680"/>
            <a:ext cx="532800" cy="457200"/>
            <a:chOff x="1254240" y="1714680"/>
            <a:chExt cx="532800" cy="457200"/>
          </a:xfrm>
        </p:grpSpPr>
        <p:sp>
          <p:nvSpPr>
            <p:cNvPr id="3579" name=""/>
            <p:cNvSpPr/>
            <p:nvPr/>
          </p:nvSpPr>
          <p:spPr>
            <a:xfrm>
              <a:off x="1467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80" name="Group 12"/>
            <p:cNvGrpSpPr/>
            <p:nvPr/>
          </p:nvGrpSpPr>
          <p:grpSpPr>
            <a:xfrm>
              <a:off x="1254240" y="1714680"/>
              <a:ext cx="532800" cy="457200"/>
              <a:chOff x="1254240" y="1714680"/>
              <a:chExt cx="532800" cy="457200"/>
            </a:xfrm>
          </p:grpSpPr>
          <p:sp>
            <p:nvSpPr>
              <p:cNvPr id="3581" name="Ink 13"/>
              <p:cNvSpPr/>
              <p:nvPr/>
            </p:nvSpPr>
            <p:spPr>
              <a:xfrm>
                <a:off x="125424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2" name="Ink 14"/>
              <p:cNvSpPr/>
              <p:nvPr/>
            </p:nvSpPr>
            <p:spPr>
              <a:xfrm>
                <a:off x="126720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583" name="Ink 15"/>
              <p:cNvSpPr/>
              <p:nvPr/>
            </p:nvSpPr>
            <p:spPr>
              <a:xfrm>
                <a:off x="177336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4" name="Ink 16"/>
              <p:cNvSpPr/>
              <p:nvPr/>
            </p:nvSpPr>
            <p:spPr>
              <a:xfrm>
                <a:off x="127980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585" name=""/>
            <p:cNvSpPr/>
            <p:nvPr/>
          </p:nvSpPr>
          <p:spPr>
            <a:xfrm>
              <a:off x="162720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6" name=""/>
            <p:cNvSpPr/>
            <p:nvPr/>
          </p:nvSpPr>
          <p:spPr>
            <a:xfrm>
              <a:off x="1307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7" name=""/>
          <p:cNvGrpSpPr/>
          <p:nvPr/>
        </p:nvGrpSpPr>
        <p:grpSpPr>
          <a:xfrm>
            <a:off x="1635120" y="1333440"/>
            <a:ext cx="501120" cy="304920"/>
            <a:chOff x="1635120" y="1333440"/>
            <a:chExt cx="501120" cy="304920"/>
          </a:xfrm>
        </p:grpSpPr>
        <p:sp>
          <p:nvSpPr>
            <p:cNvPr id="3588" name=""/>
            <p:cNvSpPr/>
            <p:nvPr/>
          </p:nvSpPr>
          <p:spPr>
            <a:xfrm>
              <a:off x="18100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9" name=""/>
            <p:cNvSpPr/>
            <p:nvPr/>
          </p:nvSpPr>
          <p:spPr>
            <a:xfrm>
              <a:off x="198540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0" name=""/>
            <p:cNvSpPr/>
            <p:nvPr/>
          </p:nvSpPr>
          <p:spPr>
            <a:xfrm>
              <a:off x="163512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91" name=""/>
          <p:cNvSpPr/>
          <p:nvPr/>
        </p:nvSpPr>
        <p:spPr>
          <a:xfrm>
            <a:off x="224460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2" name=""/>
          <p:cNvSpPr/>
          <p:nvPr/>
        </p:nvSpPr>
        <p:spPr>
          <a:xfrm>
            <a:off x="415800" y="194328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93" name=""/>
          <p:cNvGrpSpPr/>
          <p:nvPr/>
        </p:nvGrpSpPr>
        <p:grpSpPr>
          <a:xfrm>
            <a:off x="4952880" y="380880"/>
            <a:ext cx="884160" cy="747720"/>
            <a:chOff x="4952880" y="380880"/>
            <a:chExt cx="884160" cy="747720"/>
          </a:xfrm>
        </p:grpSpPr>
        <p:sp>
          <p:nvSpPr>
            <p:cNvPr id="3594" name=""/>
            <p:cNvSpPr/>
            <p:nvPr/>
          </p:nvSpPr>
          <p:spPr>
            <a:xfrm>
              <a:off x="4952880" y="380880"/>
              <a:ext cx="873000" cy="70020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5"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3596" name=""/>
            <p:cNvSpPr/>
            <p:nvPr/>
          </p:nvSpPr>
          <p:spPr>
            <a:xfrm>
              <a:off x="4988520" y="74520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3597" name=""/>
            <p:cNvSpPr/>
            <p:nvPr/>
          </p:nvSpPr>
          <p:spPr>
            <a:xfrm>
              <a:off x="5395680" y="7912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3598"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3599"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3600"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3601" name=""/>
          <p:cNvSpPr/>
          <p:nvPr/>
        </p:nvSpPr>
        <p:spPr>
          <a:xfrm>
            <a:off x="6095880" y="1468440"/>
            <a:ext cx="560520" cy="36684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2" name=""/>
          <p:cNvSpPr/>
          <p:nvPr/>
        </p:nvSpPr>
        <p:spPr>
          <a:xfrm>
            <a:off x="6477120" y="184932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03" name="Group 101"/>
          <p:cNvGrpSpPr/>
          <p:nvPr/>
        </p:nvGrpSpPr>
        <p:grpSpPr>
          <a:xfrm>
            <a:off x="6553080" y="2382840"/>
            <a:ext cx="304560" cy="518400"/>
            <a:chOff x="6553080" y="2382840"/>
            <a:chExt cx="304560" cy="518400"/>
          </a:xfrm>
        </p:grpSpPr>
        <p:grpSp>
          <p:nvGrpSpPr>
            <p:cNvPr id="3604" name="Group 79"/>
            <p:cNvGrpSpPr/>
            <p:nvPr/>
          </p:nvGrpSpPr>
          <p:grpSpPr>
            <a:xfrm>
              <a:off x="6553080" y="2382840"/>
              <a:ext cx="304560" cy="518400"/>
              <a:chOff x="6553080" y="2382840"/>
              <a:chExt cx="304560" cy="518400"/>
            </a:xfrm>
          </p:grpSpPr>
          <p:sp>
            <p:nvSpPr>
              <p:cNvPr id="3605" name="Ink 80"/>
              <p:cNvSpPr/>
              <p:nvPr/>
            </p:nvSpPr>
            <p:spPr>
              <a:xfrm>
                <a:off x="6558480" y="268452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6" name="Ink 81"/>
              <p:cNvSpPr/>
              <p:nvPr/>
            </p:nvSpPr>
            <p:spPr>
              <a:xfrm>
                <a:off x="6553080" y="258552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607" name="Ink 82"/>
              <p:cNvSpPr/>
              <p:nvPr/>
            </p:nvSpPr>
            <p:spPr>
              <a:xfrm>
                <a:off x="6741000" y="259956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8" name="Ink 83"/>
              <p:cNvSpPr/>
              <p:nvPr/>
            </p:nvSpPr>
            <p:spPr>
              <a:xfrm>
                <a:off x="6609240" y="284688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609" name="Ink 84"/>
              <p:cNvSpPr/>
              <p:nvPr/>
            </p:nvSpPr>
            <p:spPr>
              <a:xfrm>
                <a:off x="6757560" y="260028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0" name="Ink 85"/>
              <p:cNvSpPr/>
              <p:nvPr/>
            </p:nvSpPr>
            <p:spPr>
              <a:xfrm>
                <a:off x="6795360" y="259164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611" name="Ink 86"/>
              <p:cNvSpPr/>
              <p:nvPr/>
            </p:nvSpPr>
            <p:spPr>
              <a:xfrm>
                <a:off x="6772320" y="259668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2" name="Ink 87"/>
              <p:cNvSpPr/>
              <p:nvPr/>
            </p:nvSpPr>
            <p:spPr>
              <a:xfrm>
                <a:off x="6593760" y="238284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3" name="Ink 88"/>
              <p:cNvSpPr/>
              <p:nvPr/>
            </p:nvSpPr>
            <p:spPr>
              <a:xfrm>
                <a:off x="6615000" y="243216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4" name="Ink 89"/>
              <p:cNvSpPr/>
              <p:nvPr/>
            </p:nvSpPr>
            <p:spPr>
              <a:xfrm>
                <a:off x="6607440" y="266976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5" name="Ink 90"/>
              <p:cNvSpPr/>
              <p:nvPr/>
            </p:nvSpPr>
            <p:spPr>
              <a:xfrm>
                <a:off x="6590880" y="284616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616" name="Ink 91"/>
              <p:cNvSpPr/>
              <p:nvPr/>
            </p:nvSpPr>
            <p:spPr>
              <a:xfrm>
                <a:off x="6627960" y="286164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617" name="Ink 92"/>
              <p:cNvSpPr/>
              <p:nvPr/>
            </p:nvSpPr>
            <p:spPr>
              <a:xfrm>
                <a:off x="6753960" y="281340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18" name="Ink 93"/>
              <p:cNvSpPr/>
              <p:nvPr/>
            </p:nvSpPr>
            <p:spPr>
              <a:xfrm>
                <a:off x="6760440" y="260172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9" name="Ink 175"/>
            <p:cNvSpPr/>
            <p:nvPr/>
          </p:nvSpPr>
          <p:spPr>
            <a:xfrm>
              <a:off x="6607800" y="239616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20"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3621" name="Ink 28"/>
          <p:cNvSpPr/>
          <p:nvPr/>
        </p:nvSpPr>
        <p:spPr>
          <a:xfrm>
            <a:off x="6781680" y="352584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2" name="Group 14"/>
          <p:cNvGrpSpPr/>
          <p:nvPr/>
        </p:nvGrpSpPr>
        <p:grpSpPr>
          <a:xfrm>
            <a:off x="6629400" y="3962520"/>
            <a:ext cx="380520" cy="380880"/>
            <a:chOff x="6629400" y="3962520"/>
            <a:chExt cx="380520" cy="380880"/>
          </a:xfrm>
        </p:grpSpPr>
        <p:sp>
          <p:nvSpPr>
            <p:cNvPr id="3623"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4"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25"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6" name=""/>
          <p:cNvSpPr/>
          <p:nvPr/>
        </p:nvSpPr>
        <p:spPr>
          <a:xfrm>
            <a:off x="6172200" y="63036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7"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3628"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9" name=""/>
          <p:cNvSpPr/>
          <p:nvPr/>
        </p:nvSpPr>
        <p:spPr>
          <a:xfrm>
            <a:off x="3429000" y="1371600"/>
            <a:ext cx="266760" cy="39672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0" name=""/>
          <p:cNvSpPr/>
          <p:nvPr/>
        </p:nvSpPr>
        <p:spPr>
          <a:xfrm>
            <a:off x="4648320" y="1697040"/>
            <a:ext cx="230040" cy="32400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1" name=""/>
          <p:cNvSpPr/>
          <p:nvPr/>
        </p:nvSpPr>
        <p:spPr>
          <a:xfrm>
            <a:off x="5181480" y="243216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2" name=""/>
          <p:cNvSpPr/>
          <p:nvPr/>
        </p:nvSpPr>
        <p:spPr>
          <a:xfrm>
            <a:off x="5105520" y="3745080"/>
            <a:ext cx="21888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3" name=""/>
          <p:cNvSpPr/>
          <p:nvPr/>
        </p:nvSpPr>
        <p:spPr>
          <a:xfrm>
            <a:off x="3962520" y="432288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4" name=""/>
          <p:cNvSpPr/>
          <p:nvPr/>
        </p:nvSpPr>
        <p:spPr>
          <a:xfrm>
            <a:off x="3009960" y="3865680"/>
            <a:ext cx="19980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5" name=""/>
          <p:cNvSpPr/>
          <p:nvPr/>
        </p:nvSpPr>
        <p:spPr>
          <a:xfrm>
            <a:off x="2781360" y="3009960"/>
            <a:ext cx="258840" cy="10008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6" name=""/>
          <p:cNvSpPr/>
          <p:nvPr/>
        </p:nvSpPr>
        <p:spPr>
          <a:xfrm>
            <a:off x="3227400" y="2247840"/>
            <a:ext cx="290520" cy="16056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37" name=""/>
          <p:cNvGrpSpPr/>
          <p:nvPr/>
        </p:nvGrpSpPr>
        <p:grpSpPr>
          <a:xfrm>
            <a:off x="3429000" y="2514600"/>
            <a:ext cx="1599840" cy="1294920"/>
            <a:chOff x="3429000" y="2514600"/>
            <a:chExt cx="1599840" cy="1294920"/>
          </a:xfrm>
        </p:grpSpPr>
        <p:grpSp>
          <p:nvGrpSpPr>
            <p:cNvPr id="3638" name=""/>
            <p:cNvGrpSpPr/>
            <p:nvPr/>
          </p:nvGrpSpPr>
          <p:grpSpPr>
            <a:xfrm>
              <a:off x="3429000" y="2514600"/>
              <a:ext cx="1599840" cy="1294920"/>
              <a:chOff x="3429000" y="2514600"/>
              <a:chExt cx="1599840" cy="1294920"/>
            </a:xfrm>
          </p:grpSpPr>
          <p:sp>
            <p:nvSpPr>
              <p:cNvPr id="3639" name=""/>
              <p:cNvSpPr/>
              <p:nvPr/>
            </p:nvSpPr>
            <p:spPr>
              <a:xfrm>
                <a:off x="3429000" y="2607120"/>
                <a:ext cx="479880" cy="45432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0" name=""/>
              <p:cNvSpPr/>
              <p:nvPr/>
            </p:nvSpPr>
            <p:spPr>
              <a:xfrm>
                <a:off x="3668760" y="3162240"/>
                <a:ext cx="880200" cy="64728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1" name=""/>
              <p:cNvSpPr/>
              <p:nvPr/>
            </p:nvSpPr>
            <p:spPr>
              <a:xfrm>
                <a:off x="4388760" y="2514600"/>
                <a:ext cx="640080" cy="60516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2" name=""/>
              <p:cNvSpPr/>
              <p:nvPr/>
            </p:nvSpPr>
            <p:spPr>
              <a:xfrm>
                <a:off x="3828960" y="2792160"/>
                <a:ext cx="621000" cy="475920"/>
              </a:xfrm>
              <a:custGeom>
                <a:avLst/>
                <a:gdLst/>
                <a:ahLst/>
                <a:rect l="l" t="t" r="r" b="b"/>
                <a:pathLst>
                  <a:path w="2278" h="1508">
                    <a:moveTo>
                      <a:pt x="15042" y="3209"/>
                    </a:moveTo>
                    <a:cubicBezTo>
                      <a:pt x="15018" y="3199"/>
                      <a:pt x="14996" y="3188"/>
                      <a:pt x="14971" y="3180"/>
                    </a:cubicBezTo>
                    <a:cubicBezTo>
                      <a:pt x="14931" y="3167"/>
                      <a:pt x="14890" y="3157"/>
                      <a:pt x="14849" y="3149"/>
                    </a:cubicBezTo>
                    <a:cubicBezTo>
                      <a:pt x="14626" y="3103"/>
                      <a:pt x="14373" y="3117"/>
                      <a:pt x="14149" y="3144"/>
                    </a:cubicBezTo>
                    <a:cubicBezTo>
                      <a:pt x="14036" y="3158"/>
                      <a:pt x="13917" y="3175"/>
                      <a:pt x="13810" y="3217"/>
                    </a:cubicBezTo>
                    <a:cubicBezTo>
                      <a:pt x="13749" y="3241"/>
                      <a:pt x="13654" y="3288"/>
                      <a:pt x="13667" y="3369"/>
                    </a:cubicBezTo>
                    <a:cubicBezTo>
                      <a:pt x="13678" y="3441"/>
                      <a:pt x="13763" y="3478"/>
                      <a:pt x="13820" y="3506"/>
                    </a:cubicBezTo>
                    <a:cubicBezTo>
                      <a:pt x="13995" y="3590"/>
                      <a:pt x="14195" y="3623"/>
                      <a:pt x="14386" y="3645"/>
                    </a:cubicBezTo>
                    <a:cubicBezTo>
                      <a:pt x="14648" y="3675"/>
                      <a:pt x="14911" y="3683"/>
                      <a:pt x="15173" y="3656"/>
                    </a:cubicBezTo>
                    <a:cubicBezTo>
                      <a:pt x="15330" y="3639"/>
                      <a:pt x="15493" y="3612"/>
                      <a:pt x="15635" y="3538"/>
                    </a:cubicBezTo>
                    <a:cubicBezTo>
                      <a:pt x="15691" y="3509"/>
                      <a:pt x="15784" y="3440"/>
                      <a:pt x="15744" y="3364"/>
                    </a:cubicBezTo>
                    <a:cubicBezTo>
                      <a:pt x="15699" y="3280"/>
                      <a:pt x="15551" y="3264"/>
                      <a:pt x="15472" y="3249"/>
                    </a:cubicBezTo>
                    <a:cubicBezTo>
                      <a:pt x="15355" y="3230"/>
                      <a:pt x="15316" y="3224"/>
                      <a:pt x="15236" y="3224"/>
                    </a:cubicBezTo>
                  </a:path>
                  <a:path w="2278" h="1508">
                    <a:moveTo>
                      <a:pt x="13558" y="3514"/>
                    </a:moveTo>
                    <a:cubicBezTo>
                      <a:pt x="13552" y="3544"/>
                      <a:pt x="13555" y="3575"/>
                      <a:pt x="13549" y="3605"/>
                    </a:cubicBezTo>
                    <a:cubicBezTo>
                      <a:pt x="13537" y="3666"/>
                      <a:pt x="13525" y="3726"/>
                      <a:pt x="13515" y="3788"/>
                    </a:cubicBezTo>
                    <a:cubicBezTo>
                      <a:pt x="13502" y="3868"/>
                      <a:pt x="13494" y="3944"/>
                      <a:pt x="13494" y="4025"/>
                    </a:cubicBezTo>
                    <a:cubicBezTo>
                      <a:pt x="13494" y="4092"/>
                      <a:pt x="13501" y="4158"/>
                      <a:pt x="13523" y="4221"/>
                    </a:cubicBezTo>
                    <a:cubicBezTo>
                      <a:pt x="13533" y="4248"/>
                      <a:pt x="13554" y="4310"/>
                      <a:pt x="13578" y="4329"/>
                    </a:cubicBezTo>
                    <a:cubicBezTo>
                      <a:pt x="13585" y="4332"/>
                      <a:pt x="13593" y="4335"/>
                      <a:pt x="13600" y="4338"/>
                    </a:cubicBezTo>
                  </a:path>
                  <a:path w="2278" h="1508">
                    <a:moveTo>
                      <a:pt x="13820" y="4480"/>
                    </a:moveTo>
                    <a:cubicBezTo>
                      <a:pt x="13853" y="4483"/>
                      <a:pt x="13872" y="4485"/>
                      <a:pt x="13904" y="4496"/>
                    </a:cubicBezTo>
                    <a:cubicBezTo>
                      <a:pt x="14081" y="4554"/>
                      <a:pt x="14250" y="4605"/>
                      <a:pt x="14437" y="4624"/>
                    </a:cubicBezTo>
                    <a:cubicBezTo>
                      <a:pt x="14604" y="4641"/>
                      <a:pt x="14770" y="4631"/>
                      <a:pt x="14936" y="4617"/>
                    </a:cubicBezTo>
                    <a:cubicBezTo>
                      <a:pt x="15157" y="4599"/>
                      <a:pt x="15393" y="4569"/>
                      <a:pt x="15603" y="4494"/>
                    </a:cubicBezTo>
                    <a:cubicBezTo>
                      <a:pt x="15664" y="4472"/>
                      <a:pt x="15733" y="4444"/>
                      <a:pt x="15771" y="4391"/>
                    </a:cubicBezTo>
                    <a:cubicBezTo>
                      <a:pt x="15771" y="4384"/>
                      <a:pt x="15771" y="4376"/>
                      <a:pt x="15771" y="4369"/>
                    </a:cubicBezTo>
                  </a:path>
                  <a:path w="2278" h="1508">
                    <a:moveTo>
                      <a:pt x="15750" y="3638"/>
                    </a:moveTo>
                    <a:cubicBezTo>
                      <a:pt x="15741" y="3656"/>
                      <a:pt x="15736" y="3685"/>
                      <a:pt x="15733" y="3706"/>
                    </a:cubicBezTo>
                    <a:cubicBezTo>
                      <a:pt x="15727" y="3756"/>
                      <a:pt x="15718" y="3805"/>
                      <a:pt x="15713" y="3856"/>
                    </a:cubicBezTo>
                    <a:cubicBezTo>
                      <a:pt x="15706" y="3931"/>
                      <a:pt x="15707" y="4008"/>
                      <a:pt x="15706" y="4084"/>
                    </a:cubicBezTo>
                    <a:cubicBezTo>
                      <a:pt x="15705" y="4158"/>
                      <a:pt x="15717" y="4231"/>
                      <a:pt x="15720" y="4305"/>
                    </a:cubicBezTo>
                    <a:cubicBezTo>
                      <a:pt x="15722" y="4348"/>
                      <a:pt x="15723" y="4387"/>
                      <a:pt x="15729" y="442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3" name=""/>
            <p:cNvSpPr/>
            <p:nvPr/>
          </p:nvSpPr>
          <p:spPr>
            <a:xfrm>
              <a:off x="3506760" y="2743200"/>
              <a:ext cx="2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X</a:t>
              </a:r>
              <a:endParaRPr b="0" lang="en-US" sz="1600" spc="-1" strike="noStrike">
                <a:solidFill>
                  <a:srgbClr val="000000"/>
                </a:solidFill>
                <a:latin typeface="Arial"/>
              </a:endParaRPr>
            </a:p>
          </p:txBody>
        </p:sp>
        <p:sp>
          <p:nvSpPr>
            <p:cNvPr id="3644"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p</a:t>
              </a:r>
              <a:endParaRPr b="0" lang="en-US" sz="1600" spc="-1" strike="noStrike">
                <a:solidFill>
                  <a:srgbClr val="000000"/>
                </a:solidFill>
                <a:latin typeface="Arial"/>
              </a:endParaRPr>
            </a:p>
          </p:txBody>
        </p:sp>
        <p:sp>
          <p:nvSpPr>
            <p:cNvPr id="3645"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Z</a:t>
              </a:r>
              <a:endParaRPr b="0" lang="en-US" sz="1600" spc="-1" strike="noStrike">
                <a:solidFill>
                  <a:srgbClr val="000000"/>
                </a:solidFill>
                <a:latin typeface="Arial"/>
              </a:endParaRPr>
            </a:p>
          </p:txBody>
        </p:sp>
        <p:sp>
          <p:nvSpPr>
            <p:cNvPr id="3646" name=""/>
            <p:cNvSpPr/>
            <p:nvPr/>
          </p:nvSpPr>
          <p:spPr>
            <a:xfrm>
              <a:off x="3980520" y="2895480"/>
              <a:ext cx="3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St</a:t>
              </a:r>
              <a:endParaRPr b="0" lang="en-US" sz="1600" spc="-1" strike="noStrike">
                <a:solidFill>
                  <a:srgbClr val="000000"/>
                </a:solidFill>
                <a:latin typeface="Arial"/>
              </a:endParaRPr>
            </a:p>
          </p:txBody>
        </p:sp>
      </p:grpSp>
      <p:sp>
        <p:nvSpPr>
          <p:cNvPr id="3647"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grpSp>
        <p:nvGrpSpPr>
          <p:cNvPr id="3648" name=""/>
          <p:cNvGrpSpPr/>
          <p:nvPr/>
        </p:nvGrpSpPr>
        <p:grpSpPr>
          <a:xfrm>
            <a:off x="3200400" y="2220840"/>
            <a:ext cx="2225160" cy="1985760"/>
            <a:chOff x="3200400" y="2220840"/>
            <a:chExt cx="2225160" cy="1985760"/>
          </a:xfrm>
        </p:grpSpPr>
        <p:sp>
          <p:nvSpPr>
            <p:cNvPr id="3649" name=""/>
            <p:cNvSpPr/>
            <p:nvPr/>
          </p:nvSpPr>
          <p:spPr>
            <a:xfrm>
              <a:off x="4805280" y="2220840"/>
              <a:ext cx="264600" cy="183960"/>
            </a:xfrm>
            <a:custGeom>
              <a:avLst/>
              <a:gdLst/>
              <a:ahLst/>
              <a:rect l="l" t="t" r="r" b="b"/>
              <a:pathLst>
                <a:path w="737" h="512">
                  <a:moveTo>
                    <a:pt x="21534" y="12356"/>
                  </a:moveTo>
                  <a:cubicBezTo>
                    <a:pt x="21564" y="12313"/>
                    <a:pt x="21582" y="12275"/>
                    <a:pt x="21603" y="12228"/>
                  </a:cubicBezTo>
                  <a:cubicBezTo>
                    <a:pt x="21608" y="12216"/>
                    <a:pt x="21614" y="12205"/>
                    <a:pt x="21619" y="12193"/>
                  </a:cubicBezTo>
                </a:path>
                <a:path w="737" h="512">
                  <a:moveTo>
                    <a:pt x="21788" y="12087"/>
                  </a:moveTo>
                  <a:cubicBezTo>
                    <a:pt x="21783" y="12044"/>
                    <a:pt x="21783" y="12010"/>
                    <a:pt x="21794" y="11968"/>
                  </a:cubicBezTo>
                  <a:cubicBezTo>
                    <a:pt x="21806" y="11922"/>
                    <a:pt x="21831" y="11884"/>
                    <a:pt x="21857" y="11845"/>
                  </a:cubicBezTo>
                </a:path>
                <a:path w="737" h="512">
                  <a:moveTo>
                    <a:pt x="22095" y="11972"/>
                  </a:moveTo>
                  <a:cubicBezTo>
                    <a:pt x="22104" y="12036"/>
                    <a:pt x="22139" y="12042"/>
                    <a:pt x="22180" y="12091"/>
                  </a:cubicBezTo>
                  <a:cubicBezTo>
                    <a:pt x="22213" y="12130"/>
                    <a:pt x="22244" y="12171"/>
                    <a:pt x="22270" y="1221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0" name=""/>
            <p:cNvSpPr/>
            <p:nvPr/>
          </p:nvSpPr>
          <p:spPr>
            <a:xfrm>
              <a:off x="5109840" y="2427120"/>
              <a:ext cx="17280" cy="88920"/>
            </a:xfrm>
            <a:custGeom>
              <a:avLst/>
              <a:gdLst/>
              <a:ahLst/>
              <a:rect l="l" t="t" r="r" b="b"/>
              <a:pathLst>
                <a:path w="49" h="248">
                  <a:moveTo>
                    <a:pt x="22423" y="12418"/>
                  </a:moveTo>
                  <a:cubicBezTo>
                    <a:pt x="22393" y="12459"/>
                    <a:pt x="22377" y="12488"/>
                    <a:pt x="22381" y="12541"/>
                  </a:cubicBezTo>
                  <a:cubicBezTo>
                    <a:pt x="22384" y="12589"/>
                    <a:pt x="22406" y="12625"/>
                    <a:pt x="22429" y="12665"/>
                  </a:cubicBezTo>
                </a:path>
              </a:pathLst>
            </a:custGeom>
            <a:noFill/>
            <a:ln cap="rnd" w="38160">
              <a:solidFill>
                <a:srgbClr val="808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51" name=""/>
            <p:cNvSpPr/>
            <p:nvPr/>
          </p:nvSpPr>
          <p:spPr>
            <a:xfrm>
              <a:off x="5190840" y="2592000"/>
              <a:ext cx="44280" cy="90720"/>
            </a:xfrm>
            <a:custGeom>
              <a:avLst/>
              <a:gdLst/>
              <a:ahLst/>
              <a:rect l="l" t="t" r="r" b="b"/>
              <a:pathLst>
                <a:path w="123" h="253">
                  <a:moveTo>
                    <a:pt x="22619" y="12876"/>
                  </a:moveTo>
                  <a:cubicBezTo>
                    <a:pt x="22600" y="12926"/>
                    <a:pt x="22600" y="12952"/>
                    <a:pt x="22630" y="13000"/>
                  </a:cubicBezTo>
                  <a:cubicBezTo>
                    <a:pt x="22659" y="13046"/>
                    <a:pt x="22690" y="13087"/>
                    <a:pt x="22725" y="13128"/>
                  </a:cubicBezTo>
                </a:path>
              </a:pathLst>
            </a:custGeom>
            <a:noFill/>
            <a:ln cap="rnd" w="38160">
              <a:solidFill>
                <a:srgbClr val="808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652" name=""/>
            <p:cNvSpPr/>
            <p:nvPr/>
          </p:nvSpPr>
          <p:spPr>
            <a:xfrm>
              <a:off x="5298840" y="2761920"/>
              <a:ext cx="79200" cy="82800"/>
            </a:xfrm>
            <a:custGeom>
              <a:avLst/>
              <a:gdLst/>
              <a:ahLst/>
              <a:rect l="l" t="t" r="r" b="b"/>
              <a:pathLst>
                <a:path w="218" h="231">
                  <a:moveTo>
                    <a:pt x="22905" y="13348"/>
                  </a:moveTo>
                  <a:cubicBezTo>
                    <a:pt x="22964" y="13374"/>
                    <a:pt x="22995" y="13401"/>
                    <a:pt x="23032" y="13454"/>
                  </a:cubicBezTo>
                  <a:cubicBezTo>
                    <a:pt x="23062" y="13496"/>
                    <a:pt x="23089" y="13538"/>
                    <a:pt x="23122" y="13578"/>
                  </a:cubicBezTo>
                </a:path>
              </a:pathLst>
            </a:custGeom>
            <a:noFill/>
            <a:ln cap="rnd" w="3816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653" name=""/>
            <p:cNvSpPr/>
            <p:nvPr/>
          </p:nvSpPr>
          <p:spPr>
            <a:xfrm>
              <a:off x="5317920" y="2943000"/>
              <a:ext cx="107640" cy="112680"/>
            </a:xfrm>
            <a:custGeom>
              <a:avLst/>
              <a:gdLst/>
              <a:ahLst/>
              <a:rect l="l" t="t" r="r" b="b"/>
              <a:pathLst>
                <a:path w="297" h="314">
                  <a:moveTo>
                    <a:pt x="23191" y="13851"/>
                  </a:moveTo>
                  <a:cubicBezTo>
                    <a:pt x="23210" y="13894"/>
                    <a:pt x="23229" y="13935"/>
                    <a:pt x="23244" y="13979"/>
                  </a:cubicBezTo>
                  <a:cubicBezTo>
                    <a:pt x="23247" y="13989"/>
                    <a:pt x="23251" y="14000"/>
                    <a:pt x="23254" y="14010"/>
                  </a:cubicBezTo>
                </a:path>
                <a:path w="297" h="314">
                  <a:moveTo>
                    <a:pt x="22958" y="14164"/>
                  </a:moveTo>
                  <a:cubicBezTo>
                    <a:pt x="23006" y="14164"/>
                    <a:pt x="23053" y="14161"/>
                    <a:pt x="23101" y="1416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4" name=""/>
            <p:cNvSpPr/>
            <p:nvPr/>
          </p:nvSpPr>
          <p:spPr>
            <a:xfrm>
              <a:off x="3441600" y="2435040"/>
              <a:ext cx="1758600" cy="1730160"/>
            </a:xfrm>
            <a:custGeom>
              <a:avLst/>
              <a:gdLst/>
              <a:ahLst/>
              <a:rect l="l" t="t" r="r" b="b"/>
              <a:pathLst>
                <a:path w="4885" h="4807">
                  <a:moveTo>
                    <a:pt x="22556" y="14173"/>
                  </a:moveTo>
                  <a:cubicBezTo>
                    <a:pt x="22593" y="14177"/>
                    <a:pt x="22605" y="14178"/>
                    <a:pt x="22630" y="14177"/>
                  </a:cubicBezTo>
                </a:path>
                <a:path w="4885" h="4807">
                  <a:moveTo>
                    <a:pt x="21053" y="16281"/>
                  </a:moveTo>
                  <a:cubicBezTo>
                    <a:pt x="21075" y="16323"/>
                    <a:pt x="21099" y="16366"/>
                    <a:pt x="21127" y="16404"/>
                  </a:cubicBezTo>
                  <a:cubicBezTo>
                    <a:pt x="21136" y="16414"/>
                    <a:pt x="21144" y="16425"/>
                    <a:pt x="21153" y="16435"/>
                  </a:cubicBezTo>
                </a:path>
                <a:path w="4885" h="4807">
                  <a:moveTo>
                    <a:pt x="21513" y="16902"/>
                  </a:moveTo>
                  <a:cubicBezTo>
                    <a:pt x="21522" y="16915"/>
                    <a:pt x="21531" y="16929"/>
                    <a:pt x="21540" y="16942"/>
                  </a:cubicBezTo>
                </a:path>
                <a:path w="4885" h="4807">
                  <a:moveTo>
                    <a:pt x="17746" y="17149"/>
                  </a:moveTo>
                  <a:cubicBezTo>
                    <a:pt x="17760" y="17185"/>
                    <a:pt x="17765" y="17207"/>
                    <a:pt x="17767" y="17246"/>
                  </a:cubicBezTo>
                </a:path>
                <a:path w="4885" h="4807">
                  <a:moveTo>
                    <a:pt x="18190" y="12440"/>
                  </a:moveTo>
                  <a:cubicBezTo>
                    <a:pt x="18210" y="12472"/>
                    <a:pt x="18229" y="12504"/>
                    <a:pt x="18248" y="12537"/>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5" name=""/>
            <p:cNvSpPr/>
            <p:nvPr/>
          </p:nvSpPr>
          <p:spPr>
            <a:xfrm>
              <a:off x="3490560" y="3904920"/>
              <a:ext cx="1360440" cy="241560"/>
            </a:xfrm>
            <a:custGeom>
              <a:avLst/>
              <a:gdLst/>
              <a:ahLst/>
              <a:rect l="l" t="t" r="r" b="b"/>
              <a:pathLst>
                <a:path w="3779" h="672">
                  <a:moveTo>
                    <a:pt x="18063" y="16523"/>
                  </a:moveTo>
                  <a:cubicBezTo>
                    <a:pt x="18056" y="16556"/>
                    <a:pt x="18047" y="16587"/>
                    <a:pt x="18037" y="16620"/>
                  </a:cubicBezTo>
                </a:path>
                <a:path w="3779" h="672">
                  <a:moveTo>
                    <a:pt x="17957" y="16828"/>
                  </a:moveTo>
                  <a:cubicBezTo>
                    <a:pt x="17933" y="16863"/>
                    <a:pt x="17909" y="16896"/>
                    <a:pt x="17883" y="16929"/>
                  </a:cubicBezTo>
                </a:path>
                <a:path w="3779" h="672">
                  <a:moveTo>
                    <a:pt x="21513" y="17154"/>
                  </a:moveTo>
                  <a:cubicBezTo>
                    <a:pt x="21565" y="17177"/>
                    <a:pt x="21605" y="17191"/>
                    <a:pt x="21661" y="1719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6" name=""/>
            <p:cNvSpPr/>
            <p:nvPr/>
          </p:nvSpPr>
          <p:spPr>
            <a:xfrm>
              <a:off x="3527280" y="3776400"/>
              <a:ext cx="136080" cy="403200"/>
            </a:xfrm>
            <a:custGeom>
              <a:avLst/>
              <a:gdLst/>
              <a:ahLst/>
              <a:rect l="l" t="t" r="r" b="b"/>
              <a:pathLst>
                <a:path w="376" h="1121">
                  <a:moveTo>
                    <a:pt x="18359" y="16166"/>
                  </a:moveTo>
                  <a:cubicBezTo>
                    <a:pt x="18343" y="16209"/>
                    <a:pt x="18322" y="16249"/>
                    <a:pt x="18301" y="16290"/>
                  </a:cubicBezTo>
                </a:path>
                <a:path w="376" h="1121">
                  <a:moveTo>
                    <a:pt x="17984" y="17286"/>
                  </a:moveTo>
                  <a:cubicBezTo>
                    <a:pt x="18033" y="17264"/>
                    <a:pt x="18083" y="17243"/>
                    <a:pt x="18137" y="17233"/>
                  </a:cubicBezTo>
                  <a:cubicBezTo>
                    <a:pt x="18175" y="17229"/>
                    <a:pt x="18189" y="17227"/>
                    <a:pt x="18211" y="17211"/>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7" name=""/>
            <p:cNvSpPr/>
            <p:nvPr/>
          </p:nvSpPr>
          <p:spPr>
            <a:xfrm>
              <a:off x="3732120" y="4159080"/>
              <a:ext cx="313920" cy="31680"/>
            </a:xfrm>
            <a:custGeom>
              <a:avLst/>
              <a:gdLst/>
              <a:ahLst/>
              <a:rect l="l" t="t" r="r" b="b"/>
              <a:pathLst>
                <a:path w="874" h="89">
                  <a:moveTo>
                    <a:pt x="18550" y="17246"/>
                  </a:moveTo>
                  <a:cubicBezTo>
                    <a:pt x="18600" y="17263"/>
                    <a:pt x="18647" y="17280"/>
                    <a:pt x="18698" y="17291"/>
                  </a:cubicBezTo>
                  <a:cubicBezTo>
                    <a:pt x="18747" y="17302"/>
                    <a:pt x="18796" y="17299"/>
                    <a:pt x="18846" y="17299"/>
                  </a:cubicBezTo>
                </a:path>
                <a:path w="874" h="89">
                  <a:moveTo>
                    <a:pt x="19090" y="17229"/>
                  </a:moveTo>
                  <a:cubicBezTo>
                    <a:pt x="19138" y="17255"/>
                    <a:pt x="19181" y="17266"/>
                    <a:pt x="19233" y="17282"/>
                  </a:cubicBezTo>
                  <a:cubicBezTo>
                    <a:pt x="19284" y="17298"/>
                    <a:pt x="19333" y="17307"/>
                    <a:pt x="19386" y="17313"/>
                  </a:cubicBezTo>
                  <a:cubicBezTo>
                    <a:pt x="19398" y="17314"/>
                    <a:pt x="19411" y="17316"/>
                    <a:pt x="19423" y="17317"/>
                  </a:cubicBezTo>
                </a:path>
              </a:pathLst>
            </a:custGeom>
            <a:noFill/>
            <a:ln cap="rnd" w="38160">
              <a:solidFill>
                <a:srgbClr val="808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658" name=""/>
            <p:cNvSpPr/>
            <p:nvPr/>
          </p:nvSpPr>
          <p:spPr>
            <a:xfrm>
              <a:off x="4182840" y="4187520"/>
              <a:ext cx="109080" cy="19080"/>
            </a:xfrm>
            <a:custGeom>
              <a:avLst/>
              <a:gdLst/>
              <a:ahLst/>
              <a:rect l="l" t="t" r="r" b="b"/>
              <a:pathLst>
                <a:path w="303" h="54">
                  <a:moveTo>
                    <a:pt x="19804" y="17308"/>
                  </a:moveTo>
                  <a:cubicBezTo>
                    <a:pt x="19864" y="17340"/>
                    <a:pt x="19890" y="17329"/>
                    <a:pt x="19952" y="17339"/>
                  </a:cubicBezTo>
                  <a:cubicBezTo>
                    <a:pt x="20005" y="17347"/>
                    <a:pt x="20051" y="17360"/>
                    <a:pt x="20106" y="17361"/>
                  </a:cubicBezTo>
                </a:path>
              </a:pathLst>
            </a:custGeom>
            <a:noFill/>
            <a:ln cap="rnd" w="38160">
              <a:solidFill>
                <a:srgbClr val="808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59" name=""/>
            <p:cNvSpPr/>
            <p:nvPr/>
          </p:nvSpPr>
          <p:spPr>
            <a:xfrm>
              <a:off x="4406760" y="4151160"/>
              <a:ext cx="337680" cy="33120"/>
            </a:xfrm>
            <a:custGeom>
              <a:avLst/>
              <a:gdLst/>
              <a:ahLst/>
              <a:rect l="l" t="t" r="r" b="b"/>
              <a:pathLst>
                <a:path w="938" h="93">
                  <a:moveTo>
                    <a:pt x="20428" y="17233"/>
                  </a:moveTo>
                  <a:cubicBezTo>
                    <a:pt x="20481" y="17267"/>
                    <a:pt x="20523" y="17290"/>
                    <a:pt x="20587" y="17295"/>
                  </a:cubicBezTo>
                  <a:cubicBezTo>
                    <a:pt x="20637" y="17299"/>
                    <a:pt x="20685" y="17293"/>
                    <a:pt x="20735" y="17295"/>
                  </a:cubicBezTo>
                  <a:cubicBezTo>
                    <a:pt x="20747" y="17296"/>
                    <a:pt x="20760" y="17298"/>
                    <a:pt x="20772" y="17299"/>
                  </a:cubicBezTo>
                </a:path>
                <a:path w="938" h="93">
                  <a:moveTo>
                    <a:pt x="21063" y="17207"/>
                  </a:moveTo>
                  <a:cubicBezTo>
                    <a:pt x="21117" y="17234"/>
                    <a:pt x="21156" y="17253"/>
                    <a:pt x="21217" y="17255"/>
                  </a:cubicBezTo>
                  <a:cubicBezTo>
                    <a:pt x="21268" y="17256"/>
                    <a:pt x="21316" y="17256"/>
                    <a:pt x="21365" y="17264"/>
                  </a:cubicBezTo>
                </a:path>
              </a:pathLst>
            </a:custGeom>
            <a:noFill/>
            <a:ln cap="rnd" w="38160">
              <a:solidFill>
                <a:srgbClr val="808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660" name=""/>
            <p:cNvSpPr/>
            <p:nvPr/>
          </p:nvSpPr>
          <p:spPr>
            <a:xfrm>
              <a:off x="4716360" y="3927240"/>
              <a:ext cx="64800" cy="76320"/>
            </a:xfrm>
            <a:custGeom>
              <a:avLst/>
              <a:gdLst/>
              <a:ahLst/>
              <a:rect l="l" t="t" r="r" b="b"/>
              <a:pathLst>
                <a:path w="181" h="213">
                  <a:moveTo>
                    <a:pt x="21286" y="16585"/>
                  </a:moveTo>
                  <a:cubicBezTo>
                    <a:pt x="21335" y="16621"/>
                    <a:pt x="21379" y="16656"/>
                    <a:pt x="21413" y="16708"/>
                  </a:cubicBezTo>
                  <a:cubicBezTo>
                    <a:pt x="21431" y="16737"/>
                    <a:pt x="21448" y="16768"/>
                    <a:pt x="21466" y="16797"/>
                  </a:cubicBezTo>
                </a:path>
              </a:pathLst>
            </a:custGeom>
            <a:noFill/>
            <a:ln cap="rnd" w="38160">
              <a:solidFill>
                <a:srgbClr val="80808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61" name=""/>
            <p:cNvSpPr/>
            <p:nvPr/>
          </p:nvSpPr>
          <p:spPr>
            <a:xfrm>
              <a:off x="3528720" y="2339640"/>
              <a:ext cx="39600" cy="23760"/>
            </a:xfrm>
            <a:custGeom>
              <a:avLst/>
              <a:gdLst/>
              <a:ahLst/>
              <a:rect l="l" t="t" r="r" b="b"/>
              <a:pathLst>
                <a:path w="107" h="67">
                  <a:moveTo>
                    <a:pt x="17989" y="12175"/>
                  </a:moveTo>
                  <a:cubicBezTo>
                    <a:pt x="18033" y="12194"/>
                    <a:pt x="18060" y="12210"/>
                    <a:pt x="18095" y="12241"/>
                  </a:cubicBezTo>
                </a:path>
              </a:pathLst>
            </a:custGeom>
            <a:noFill/>
            <a:ln cap="rnd" w="38160">
              <a:solidFill>
                <a:srgbClr val="808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62" name=""/>
            <p:cNvSpPr/>
            <p:nvPr/>
          </p:nvSpPr>
          <p:spPr>
            <a:xfrm>
              <a:off x="3354120" y="2360520"/>
              <a:ext cx="320400" cy="293400"/>
            </a:xfrm>
            <a:custGeom>
              <a:avLst/>
              <a:gdLst/>
              <a:ahLst/>
              <a:rect l="l" t="t" r="r" b="b"/>
              <a:pathLst>
                <a:path w="890" h="816">
                  <a:moveTo>
                    <a:pt x="18391" y="12599"/>
                  </a:moveTo>
                  <a:cubicBezTo>
                    <a:pt x="18371" y="12646"/>
                    <a:pt x="18374" y="12680"/>
                    <a:pt x="18381" y="12731"/>
                  </a:cubicBezTo>
                </a:path>
                <a:path w="890" h="816">
                  <a:moveTo>
                    <a:pt x="17936" y="12233"/>
                  </a:moveTo>
                  <a:cubicBezTo>
                    <a:pt x="17927" y="12275"/>
                    <a:pt x="17916" y="12312"/>
                    <a:pt x="17915" y="12356"/>
                  </a:cubicBezTo>
                  <a:cubicBezTo>
                    <a:pt x="17915" y="12368"/>
                    <a:pt x="17915" y="12379"/>
                    <a:pt x="17915" y="12391"/>
                  </a:cubicBezTo>
                </a:path>
                <a:path w="890" h="816">
                  <a:moveTo>
                    <a:pt x="17836" y="12431"/>
                  </a:moveTo>
                  <a:cubicBezTo>
                    <a:pt x="17803" y="12470"/>
                    <a:pt x="17774" y="12508"/>
                    <a:pt x="17746" y="12550"/>
                  </a:cubicBezTo>
                  <a:cubicBezTo>
                    <a:pt x="17726" y="12581"/>
                    <a:pt x="17710" y="12610"/>
                    <a:pt x="17693" y="12643"/>
                  </a:cubicBezTo>
                </a:path>
                <a:path w="890" h="816">
                  <a:moveTo>
                    <a:pt x="17634" y="12837"/>
                  </a:moveTo>
                  <a:cubicBezTo>
                    <a:pt x="17589" y="12870"/>
                    <a:pt x="17558" y="12903"/>
                    <a:pt x="17534" y="12956"/>
                  </a:cubicBezTo>
                  <a:cubicBezTo>
                    <a:pt x="17521" y="12986"/>
                    <a:pt x="17513" y="13018"/>
                    <a:pt x="17502" y="1304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3" name=""/>
            <p:cNvSpPr/>
            <p:nvPr/>
          </p:nvSpPr>
          <p:spPr>
            <a:xfrm>
              <a:off x="3295440" y="2746080"/>
              <a:ext cx="31320" cy="44640"/>
            </a:xfrm>
            <a:custGeom>
              <a:avLst/>
              <a:gdLst/>
              <a:ahLst/>
              <a:rect l="l" t="t" r="r" b="b"/>
              <a:pathLst>
                <a:path w="91" h="125">
                  <a:moveTo>
                    <a:pt x="17428" y="13304"/>
                  </a:moveTo>
                  <a:cubicBezTo>
                    <a:pt x="17399" y="13347"/>
                    <a:pt x="17368" y="13387"/>
                    <a:pt x="17338" y="13428"/>
                  </a:cubicBezTo>
                </a:path>
              </a:pathLst>
            </a:custGeom>
            <a:noFill/>
            <a:ln cap="rnd" w="38160">
              <a:solidFill>
                <a:srgbClr val="80808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664" name=""/>
            <p:cNvSpPr/>
            <p:nvPr/>
          </p:nvSpPr>
          <p:spPr>
            <a:xfrm>
              <a:off x="3200400" y="2906640"/>
              <a:ext cx="236160" cy="152280"/>
            </a:xfrm>
            <a:custGeom>
              <a:avLst/>
              <a:gdLst/>
              <a:ahLst/>
              <a:rect l="l" t="t" r="r" b="b"/>
              <a:pathLst>
                <a:path w="657" h="424">
                  <a:moveTo>
                    <a:pt x="17174" y="13750"/>
                  </a:moveTo>
                  <a:cubicBezTo>
                    <a:pt x="17137" y="13790"/>
                    <a:pt x="17119" y="13822"/>
                    <a:pt x="17100" y="13873"/>
                  </a:cubicBezTo>
                  <a:cubicBezTo>
                    <a:pt x="17089" y="13904"/>
                    <a:pt x="17085" y="13915"/>
                    <a:pt x="17074" y="13935"/>
                  </a:cubicBezTo>
                </a:path>
                <a:path w="657" h="424">
                  <a:moveTo>
                    <a:pt x="17074" y="14173"/>
                  </a:moveTo>
                  <a:cubicBezTo>
                    <a:pt x="17122" y="14145"/>
                    <a:pt x="17174" y="14122"/>
                    <a:pt x="17232" y="14116"/>
                  </a:cubicBezTo>
                  <a:cubicBezTo>
                    <a:pt x="17268" y="14112"/>
                    <a:pt x="17307" y="14116"/>
                    <a:pt x="17343" y="14116"/>
                  </a:cubicBezTo>
                </a:path>
                <a:path w="657" h="424">
                  <a:moveTo>
                    <a:pt x="17470" y="14111"/>
                  </a:moveTo>
                  <a:cubicBezTo>
                    <a:pt x="17518" y="14113"/>
                    <a:pt x="17571" y="14113"/>
                    <a:pt x="17619" y="14120"/>
                  </a:cubicBezTo>
                  <a:cubicBezTo>
                    <a:pt x="17658" y="14126"/>
                    <a:pt x="17691" y="14136"/>
                    <a:pt x="17730" y="1413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5" name=""/>
          <p:cNvSpPr/>
          <p:nvPr/>
        </p:nvSpPr>
        <p:spPr>
          <a:xfrm>
            <a:off x="3048120" y="2144880"/>
            <a:ext cx="260496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6" name=""/>
          <p:cNvSpPr/>
          <p:nvPr/>
        </p:nvSpPr>
        <p:spPr>
          <a:xfrm>
            <a:off x="3429000" y="1371600"/>
            <a:ext cx="544680" cy="53352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7" name=""/>
          <p:cNvSpPr/>
          <p:nvPr/>
        </p:nvSpPr>
        <p:spPr>
          <a:xfrm>
            <a:off x="6858000" y="477504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333399"/>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68" name=""/>
          <p:cNvSpPr/>
          <p:nvPr/>
        </p:nvSpPr>
        <p:spPr>
          <a:xfrm>
            <a:off x="6950520" y="449568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hiteboard"/>
              </a:rPr>
              <a:t>Next Steps</a:t>
            </a:r>
            <a:endParaRPr b="0" lang="en-US" sz="1800" spc="-1" strike="noStrike">
              <a:solidFill>
                <a:srgbClr val="000000"/>
              </a:solidFill>
              <a:latin typeface="Arial"/>
            </a:endParaRPr>
          </a:p>
        </p:txBody>
      </p:sp>
      <p:sp>
        <p:nvSpPr>
          <p:cNvPr id="3669" name=""/>
          <p:cNvSpPr/>
          <p:nvPr/>
        </p:nvSpPr>
        <p:spPr>
          <a:xfrm>
            <a:off x="4343400" y="3048120"/>
            <a:ext cx="351000" cy="342720"/>
          </a:xfrm>
          <a:custGeom>
            <a:avLst/>
            <a:gdLst/>
            <a:ahLst/>
            <a:rect l="l" t="t" r="r" b="b"/>
            <a:pathLst>
              <a:path w="976" h="954">
                <a:moveTo>
                  <a:pt x="12143" y="9683"/>
                </a:moveTo>
                <a:cubicBezTo>
                  <a:pt x="12224" y="9627"/>
                  <a:pt x="12316" y="9587"/>
                  <a:pt x="12404" y="9542"/>
                </a:cubicBezTo>
                <a:cubicBezTo>
                  <a:pt x="12446" y="9521"/>
                  <a:pt x="12490" y="9502"/>
                  <a:pt x="12532" y="9481"/>
                </a:cubicBezTo>
                <a:cubicBezTo>
                  <a:pt x="12573" y="9460"/>
                  <a:pt x="12624" y="9438"/>
                  <a:pt x="12660" y="9409"/>
                </a:cubicBezTo>
                <a:cubicBezTo>
                  <a:pt x="12725" y="9357"/>
                  <a:pt x="12785" y="9285"/>
                  <a:pt x="12834" y="9218"/>
                </a:cubicBezTo>
                <a:cubicBezTo>
                  <a:pt x="12868" y="9171"/>
                  <a:pt x="12892" y="9122"/>
                  <a:pt x="12930" y="9077"/>
                </a:cubicBezTo>
                <a:cubicBezTo>
                  <a:pt x="12961" y="9040"/>
                  <a:pt x="12991" y="9006"/>
                  <a:pt x="13017" y="8966"/>
                </a:cubicBezTo>
                <a:cubicBezTo>
                  <a:pt x="13036" y="8937"/>
                  <a:pt x="13054" y="8893"/>
                  <a:pt x="13063" y="8859"/>
                </a:cubicBezTo>
                <a:cubicBezTo>
                  <a:pt x="13072" y="8824"/>
                  <a:pt x="13083" y="8792"/>
                  <a:pt x="13090" y="8757"/>
                </a:cubicBezTo>
                <a:cubicBezTo>
                  <a:pt x="13090" y="8748"/>
                  <a:pt x="13090" y="8739"/>
                  <a:pt x="13090" y="8730"/>
                </a:cubicBezTo>
                <a:cubicBezTo>
                  <a:pt x="13051" y="8761"/>
                  <a:pt x="13021" y="8795"/>
                  <a:pt x="12989" y="8833"/>
                </a:cubicBezTo>
                <a:cubicBezTo>
                  <a:pt x="12967" y="8859"/>
                  <a:pt x="12960" y="8867"/>
                  <a:pt x="12948" y="8886"/>
                </a:cubicBezTo>
                <a:cubicBezTo>
                  <a:pt x="12999" y="8848"/>
                  <a:pt x="13043" y="8810"/>
                  <a:pt x="13081" y="8760"/>
                </a:cubicBezTo>
                <a:cubicBezTo>
                  <a:pt x="13100" y="8808"/>
                  <a:pt x="13114" y="8849"/>
                  <a:pt x="13118" y="8901"/>
                </a:cubicBezTo>
                <a:cubicBezTo>
                  <a:pt x="13118" y="8910"/>
                  <a:pt x="13118" y="8919"/>
                  <a:pt x="13118" y="8928"/>
                </a:cubicBezTo>
              </a:path>
              <a:path w="976" h="954">
                <a:moveTo>
                  <a:pt x="12330" y="9458"/>
                </a:moveTo>
                <a:cubicBezTo>
                  <a:pt x="12273" y="9489"/>
                  <a:pt x="12233" y="9529"/>
                  <a:pt x="12189" y="9576"/>
                </a:cubicBezTo>
                <a:cubicBezTo>
                  <a:pt x="12166" y="9603"/>
                  <a:pt x="12158" y="9612"/>
                  <a:pt x="12143" y="9630"/>
                </a:cubicBezTo>
                <a:cubicBezTo>
                  <a:pt x="12187" y="9630"/>
                  <a:pt x="12228" y="9626"/>
                  <a:pt x="12271" y="9622"/>
                </a:cubicBezTo>
                <a:cubicBezTo>
                  <a:pt x="12315" y="9618"/>
                  <a:pt x="12356" y="9625"/>
                  <a:pt x="12399" y="963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0" name=""/>
          <p:cNvSpPr/>
          <p:nvPr/>
        </p:nvSpPr>
        <p:spPr>
          <a:xfrm>
            <a:off x="3629160" y="2971800"/>
            <a:ext cx="225360" cy="431640"/>
          </a:xfrm>
          <a:custGeom>
            <a:avLst/>
            <a:gdLst/>
            <a:ahLst/>
            <a:rect l="l" t="t" r="r" b="b"/>
            <a:pathLst>
              <a:path w="628" h="1202">
                <a:moveTo>
                  <a:pt x="10230" y="8501"/>
                </a:moveTo>
                <a:cubicBezTo>
                  <a:pt x="10223" y="8543"/>
                  <a:pt x="10221" y="8581"/>
                  <a:pt x="10221" y="8623"/>
                </a:cubicBezTo>
                <a:cubicBezTo>
                  <a:pt x="10221" y="8662"/>
                  <a:pt x="10224" y="8696"/>
                  <a:pt x="10230" y="8734"/>
                </a:cubicBezTo>
                <a:cubicBezTo>
                  <a:pt x="10240" y="8792"/>
                  <a:pt x="10247" y="8850"/>
                  <a:pt x="10253" y="8909"/>
                </a:cubicBezTo>
                <a:cubicBezTo>
                  <a:pt x="10258" y="8966"/>
                  <a:pt x="10288" y="8998"/>
                  <a:pt x="10312" y="9046"/>
                </a:cubicBezTo>
                <a:cubicBezTo>
                  <a:pt x="10332" y="9085"/>
                  <a:pt x="10340" y="9125"/>
                  <a:pt x="10367" y="9161"/>
                </a:cubicBezTo>
                <a:cubicBezTo>
                  <a:pt x="10394" y="9198"/>
                  <a:pt x="10421" y="9232"/>
                  <a:pt x="10450" y="9268"/>
                </a:cubicBezTo>
                <a:cubicBezTo>
                  <a:pt x="10481" y="9306"/>
                  <a:pt x="10516" y="9339"/>
                  <a:pt x="10546" y="9378"/>
                </a:cubicBezTo>
                <a:cubicBezTo>
                  <a:pt x="10574" y="9414"/>
                  <a:pt x="10595" y="9453"/>
                  <a:pt x="10623" y="9489"/>
                </a:cubicBezTo>
                <a:cubicBezTo>
                  <a:pt x="10657" y="9533"/>
                  <a:pt x="10691" y="9556"/>
                  <a:pt x="10738" y="9584"/>
                </a:cubicBezTo>
              </a:path>
              <a:path w="628" h="1202">
                <a:moveTo>
                  <a:pt x="10221" y="8547"/>
                </a:moveTo>
                <a:cubicBezTo>
                  <a:pt x="10198" y="8590"/>
                  <a:pt x="10191" y="8619"/>
                  <a:pt x="10180" y="8665"/>
                </a:cubicBezTo>
                <a:cubicBezTo>
                  <a:pt x="10171" y="8703"/>
                  <a:pt x="10163" y="8742"/>
                  <a:pt x="10152" y="8779"/>
                </a:cubicBezTo>
                <a:cubicBezTo>
                  <a:pt x="10144" y="8806"/>
                  <a:pt x="10142" y="8829"/>
                  <a:pt x="10138" y="8856"/>
                </a:cubicBezTo>
                <a:cubicBezTo>
                  <a:pt x="10138" y="8816"/>
                  <a:pt x="10142" y="8783"/>
                  <a:pt x="10152" y="8745"/>
                </a:cubicBezTo>
                <a:cubicBezTo>
                  <a:pt x="10164" y="8699"/>
                  <a:pt x="10170" y="8653"/>
                  <a:pt x="10184" y="8608"/>
                </a:cubicBezTo>
                <a:cubicBezTo>
                  <a:pt x="10229" y="8652"/>
                  <a:pt x="10270" y="8699"/>
                  <a:pt x="10312" y="8745"/>
                </a:cubicBezTo>
              </a:path>
              <a:path w="628" h="1202">
                <a:moveTo>
                  <a:pt x="10651" y="9653"/>
                </a:moveTo>
                <a:cubicBezTo>
                  <a:pt x="10640" y="9649"/>
                  <a:pt x="10630" y="9645"/>
                  <a:pt x="10619" y="9641"/>
                </a:cubicBezTo>
                <a:cubicBezTo>
                  <a:pt x="10662" y="9666"/>
                  <a:pt x="10700" y="9686"/>
                  <a:pt x="10747" y="9702"/>
                </a:cubicBezTo>
                <a:cubicBezTo>
                  <a:pt x="10757" y="9665"/>
                  <a:pt x="10768" y="9627"/>
                  <a:pt x="10765" y="9588"/>
                </a:cubicBezTo>
                <a:cubicBezTo>
                  <a:pt x="10763" y="9552"/>
                  <a:pt x="10765" y="9517"/>
                  <a:pt x="10761" y="9481"/>
                </a:cubicBezTo>
                <a:cubicBezTo>
                  <a:pt x="10756" y="9454"/>
                  <a:pt x="10754" y="9446"/>
                  <a:pt x="10756" y="942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1" name=""/>
          <p:cNvSpPr/>
          <p:nvPr/>
        </p:nvSpPr>
        <p:spPr>
          <a:xfrm>
            <a:off x="2895480" y="5562720"/>
            <a:ext cx="1109880" cy="554040"/>
          </a:xfrm>
          <a:custGeom>
            <a:avLst/>
            <a:gdLst/>
            <a:ahLst/>
            <a:rect l="l" t="t" r="r" b="b"/>
            <a:pathLst>
              <a:path w="3086" h="1542">
                <a:moveTo>
                  <a:pt x="22147" y="8291"/>
                </a:moveTo>
                <a:cubicBezTo>
                  <a:pt x="22227" y="8358"/>
                  <a:pt x="22309" y="8435"/>
                  <a:pt x="22394" y="8497"/>
                </a:cubicBezTo>
                <a:cubicBezTo>
                  <a:pt x="22551" y="8612"/>
                  <a:pt x="22723" y="8655"/>
                  <a:pt x="22916" y="8661"/>
                </a:cubicBezTo>
                <a:cubicBezTo>
                  <a:pt x="23038" y="8665"/>
                  <a:pt x="23165" y="8662"/>
                  <a:pt x="23286" y="8650"/>
                </a:cubicBezTo>
                <a:cubicBezTo>
                  <a:pt x="23437" y="8635"/>
                  <a:pt x="23588" y="8622"/>
                  <a:pt x="23739" y="8612"/>
                </a:cubicBezTo>
                <a:cubicBezTo>
                  <a:pt x="23886" y="8602"/>
                  <a:pt x="24029" y="8578"/>
                  <a:pt x="24174" y="8551"/>
                </a:cubicBezTo>
                <a:cubicBezTo>
                  <a:pt x="24370" y="8514"/>
                  <a:pt x="24575" y="8487"/>
                  <a:pt x="24760" y="8409"/>
                </a:cubicBezTo>
                <a:cubicBezTo>
                  <a:pt x="24823" y="8383"/>
                  <a:pt x="24870" y="8356"/>
                  <a:pt x="24897" y="8291"/>
                </a:cubicBezTo>
                <a:cubicBezTo>
                  <a:pt x="24969" y="8118"/>
                  <a:pt x="24833" y="7838"/>
                  <a:pt x="24764" y="7685"/>
                </a:cubicBezTo>
                <a:cubicBezTo>
                  <a:pt x="24710" y="7567"/>
                  <a:pt x="24654" y="7425"/>
                  <a:pt x="24563" y="7330"/>
                </a:cubicBezTo>
                <a:cubicBezTo>
                  <a:pt x="24399" y="7158"/>
                  <a:pt x="24172" y="7142"/>
                  <a:pt x="23950" y="7132"/>
                </a:cubicBezTo>
                <a:cubicBezTo>
                  <a:pt x="23826" y="7126"/>
                  <a:pt x="23703" y="7120"/>
                  <a:pt x="23579" y="7120"/>
                </a:cubicBezTo>
                <a:cubicBezTo>
                  <a:pt x="23399" y="7120"/>
                  <a:pt x="23211" y="7122"/>
                  <a:pt x="23034" y="7155"/>
                </a:cubicBezTo>
                <a:cubicBezTo>
                  <a:pt x="22862" y="7187"/>
                  <a:pt x="22691" y="7242"/>
                  <a:pt x="22522" y="7288"/>
                </a:cubicBezTo>
                <a:cubicBezTo>
                  <a:pt x="22347" y="7336"/>
                  <a:pt x="22181" y="7408"/>
                  <a:pt x="22041" y="7525"/>
                </a:cubicBezTo>
                <a:cubicBezTo>
                  <a:pt x="21939" y="7610"/>
                  <a:pt x="21900" y="7726"/>
                  <a:pt x="21868" y="7853"/>
                </a:cubicBezTo>
                <a:cubicBezTo>
                  <a:pt x="21832" y="7999"/>
                  <a:pt x="21783" y="8193"/>
                  <a:pt x="21886" y="8322"/>
                </a:cubicBezTo>
                <a:cubicBezTo>
                  <a:pt x="21925" y="8370"/>
                  <a:pt x="21983" y="8423"/>
                  <a:pt x="22037" y="8455"/>
                </a:cubicBezTo>
                <a:cubicBezTo>
                  <a:pt x="22159" y="8526"/>
                  <a:pt x="22315" y="8553"/>
                  <a:pt x="22453" y="8570"/>
                </a:cubicBezTo>
                <a:cubicBezTo>
                  <a:pt x="22538" y="8580"/>
                  <a:pt x="22621" y="8575"/>
                  <a:pt x="22705" y="8577"/>
                </a:cubicBezTo>
                <a:cubicBezTo>
                  <a:pt x="22779" y="8579"/>
                  <a:pt x="22851" y="8579"/>
                  <a:pt x="22925" y="8577"/>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2" name=""/>
          <p:cNvSpPr/>
          <p:nvPr/>
        </p:nvSpPr>
        <p:spPr>
          <a:xfrm>
            <a:off x="304920" y="2133720"/>
            <a:ext cx="1447560" cy="554040"/>
          </a:xfrm>
          <a:custGeom>
            <a:avLst/>
            <a:gdLst/>
            <a:ahLst/>
            <a:rect l="l" t="t" r="r" b="b"/>
            <a:pathLst>
              <a:path w="3086" h="1542">
                <a:moveTo>
                  <a:pt x="22147" y="8291"/>
                </a:moveTo>
                <a:cubicBezTo>
                  <a:pt x="22227" y="8358"/>
                  <a:pt x="22309" y="8435"/>
                  <a:pt x="22394" y="8497"/>
                </a:cubicBezTo>
                <a:cubicBezTo>
                  <a:pt x="22551" y="8612"/>
                  <a:pt x="22723" y="8655"/>
                  <a:pt x="22916" y="8661"/>
                </a:cubicBezTo>
                <a:cubicBezTo>
                  <a:pt x="23038" y="8665"/>
                  <a:pt x="23165" y="8662"/>
                  <a:pt x="23286" y="8650"/>
                </a:cubicBezTo>
                <a:cubicBezTo>
                  <a:pt x="23437" y="8635"/>
                  <a:pt x="23588" y="8622"/>
                  <a:pt x="23739" y="8612"/>
                </a:cubicBezTo>
                <a:cubicBezTo>
                  <a:pt x="23886" y="8602"/>
                  <a:pt x="24029" y="8578"/>
                  <a:pt x="24174" y="8551"/>
                </a:cubicBezTo>
                <a:cubicBezTo>
                  <a:pt x="24370" y="8514"/>
                  <a:pt x="24575" y="8487"/>
                  <a:pt x="24760" y="8409"/>
                </a:cubicBezTo>
                <a:cubicBezTo>
                  <a:pt x="24823" y="8383"/>
                  <a:pt x="24870" y="8356"/>
                  <a:pt x="24897" y="8291"/>
                </a:cubicBezTo>
                <a:cubicBezTo>
                  <a:pt x="24969" y="8118"/>
                  <a:pt x="24833" y="7838"/>
                  <a:pt x="24764" y="7685"/>
                </a:cubicBezTo>
                <a:cubicBezTo>
                  <a:pt x="24710" y="7567"/>
                  <a:pt x="24654" y="7425"/>
                  <a:pt x="24563" y="7330"/>
                </a:cubicBezTo>
                <a:cubicBezTo>
                  <a:pt x="24399" y="7158"/>
                  <a:pt x="24172" y="7142"/>
                  <a:pt x="23950" y="7132"/>
                </a:cubicBezTo>
                <a:cubicBezTo>
                  <a:pt x="23826" y="7126"/>
                  <a:pt x="23703" y="7120"/>
                  <a:pt x="23579" y="7120"/>
                </a:cubicBezTo>
                <a:cubicBezTo>
                  <a:pt x="23399" y="7120"/>
                  <a:pt x="23211" y="7122"/>
                  <a:pt x="23034" y="7155"/>
                </a:cubicBezTo>
                <a:cubicBezTo>
                  <a:pt x="22862" y="7187"/>
                  <a:pt x="22691" y="7242"/>
                  <a:pt x="22522" y="7288"/>
                </a:cubicBezTo>
                <a:cubicBezTo>
                  <a:pt x="22347" y="7336"/>
                  <a:pt x="22181" y="7408"/>
                  <a:pt x="22041" y="7525"/>
                </a:cubicBezTo>
                <a:cubicBezTo>
                  <a:pt x="21939" y="7610"/>
                  <a:pt x="21900" y="7726"/>
                  <a:pt x="21868" y="7853"/>
                </a:cubicBezTo>
                <a:cubicBezTo>
                  <a:pt x="21832" y="7999"/>
                  <a:pt x="21783" y="8193"/>
                  <a:pt x="21886" y="8322"/>
                </a:cubicBezTo>
                <a:cubicBezTo>
                  <a:pt x="21925" y="8370"/>
                  <a:pt x="21983" y="8423"/>
                  <a:pt x="22037" y="8455"/>
                </a:cubicBezTo>
                <a:cubicBezTo>
                  <a:pt x="22159" y="8526"/>
                  <a:pt x="22315" y="8553"/>
                  <a:pt x="22453" y="8570"/>
                </a:cubicBezTo>
                <a:cubicBezTo>
                  <a:pt x="22538" y="8580"/>
                  <a:pt x="22621" y="8575"/>
                  <a:pt x="22705" y="8577"/>
                </a:cubicBezTo>
                <a:cubicBezTo>
                  <a:pt x="22779" y="8579"/>
                  <a:pt x="22851" y="8579"/>
                  <a:pt x="22925" y="8577"/>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3" name=""/>
          <p:cNvSpPr/>
          <p:nvPr/>
        </p:nvSpPr>
        <p:spPr>
          <a:xfrm>
            <a:off x="6019920" y="762120"/>
            <a:ext cx="1447560" cy="554040"/>
          </a:xfrm>
          <a:custGeom>
            <a:avLst/>
            <a:gdLst/>
            <a:ahLst/>
            <a:rect l="l" t="t" r="r" b="b"/>
            <a:pathLst>
              <a:path w="3086" h="1542">
                <a:moveTo>
                  <a:pt x="22147" y="8291"/>
                </a:moveTo>
                <a:cubicBezTo>
                  <a:pt x="22227" y="8358"/>
                  <a:pt x="22309" y="8435"/>
                  <a:pt x="22394" y="8497"/>
                </a:cubicBezTo>
                <a:cubicBezTo>
                  <a:pt x="22551" y="8612"/>
                  <a:pt x="22723" y="8655"/>
                  <a:pt x="22916" y="8661"/>
                </a:cubicBezTo>
                <a:cubicBezTo>
                  <a:pt x="23038" y="8665"/>
                  <a:pt x="23165" y="8662"/>
                  <a:pt x="23286" y="8650"/>
                </a:cubicBezTo>
                <a:cubicBezTo>
                  <a:pt x="23437" y="8635"/>
                  <a:pt x="23588" y="8622"/>
                  <a:pt x="23739" y="8612"/>
                </a:cubicBezTo>
                <a:cubicBezTo>
                  <a:pt x="23886" y="8602"/>
                  <a:pt x="24029" y="8578"/>
                  <a:pt x="24174" y="8551"/>
                </a:cubicBezTo>
                <a:cubicBezTo>
                  <a:pt x="24370" y="8514"/>
                  <a:pt x="24575" y="8487"/>
                  <a:pt x="24760" y="8409"/>
                </a:cubicBezTo>
                <a:cubicBezTo>
                  <a:pt x="24823" y="8383"/>
                  <a:pt x="24870" y="8356"/>
                  <a:pt x="24897" y="8291"/>
                </a:cubicBezTo>
                <a:cubicBezTo>
                  <a:pt x="24969" y="8118"/>
                  <a:pt x="24833" y="7838"/>
                  <a:pt x="24764" y="7685"/>
                </a:cubicBezTo>
                <a:cubicBezTo>
                  <a:pt x="24710" y="7567"/>
                  <a:pt x="24654" y="7425"/>
                  <a:pt x="24563" y="7330"/>
                </a:cubicBezTo>
                <a:cubicBezTo>
                  <a:pt x="24399" y="7158"/>
                  <a:pt x="24172" y="7142"/>
                  <a:pt x="23950" y="7132"/>
                </a:cubicBezTo>
                <a:cubicBezTo>
                  <a:pt x="23826" y="7126"/>
                  <a:pt x="23703" y="7120"/>
                  <a:pt x="23579" y="7120"/>
                </a:cubicBezTo>
                <a:cubicBezTo>
                  <a:pt x="23399" y="7120"/>
                  <a:pt x="23211" y="7122"/>
                  <a:pt x="23034" y="7155"/>
                </a:cubicBezTo>
                <a:cubicBezTo>
                  <a:pt x="22862" y="7187"/>
                  <a:pt x="22691" y="7242"/>
                  <a:pt x="22522" y="7288"/>
                </a:cubicBezTo>
                <a:cubicBezTo>
                  <a:pt x="22347" y="7336"/>
                  <a:pt x="22181" y="7408"/>
                  <a:pt x="22041" y="7525"/>
                </a:cubicBezTo>
                <a:cubicBezTo>
                  <a:pt x="21939" y="7610"/>
                  <a:pt x="21900" y="7726"/>
                  <a:pt x="21868" y="7853"/>
                </a:cubicBezTo>
                <a:cubicBezTo>
                  <a:pt x="21832" y="7999"/>
                  <a:pt x="21783" y="8193"/>
                  <a:pt x="21886" y="8322"/>
                </a:cubicBezTo>
                <a:cubicBezTo>
                  <a:pt x="21925" y="8370"/>
                  <a:pt x="21983" y="8423"/>
                  <a:pt x="22037" y="8455"/>
                </a:cubicBezTo>
                <a:cubicBezTo>
                  <a:pt x="22159" y="8526"/>
                  <a:pt x="22315" y="8553"/>
                  <a:pt x="22453" y="8570"/>
                </a:cubicBezTo>
                <a:cubicBezTo>
                  <a:pt x="22538" y="8580"/>
                  <a:pt x="22621" y="8575"/>
                  <a:pt x="22705" y="8577"/>
                </a:cubicBezTo>
                <a:cubicBezTo>
                  <a:pt x="22779" y="8579"/>
                  <a:pt x="22851" y="8579"/>
                  <a:pt x="22925" y="8577"/>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4" name=""/>
          <p:cNvSpPr/>
          <p:nvPr/>
        </p:nvSpPr>
        <p:spPr>
          <a:xfrm>
            <a:off x="4800600" y="2971800"/>
            <a:ext cx="511200" cy="62532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5" name=""/>
          <p:cNvSpPr/>
          <p:nvPr/>
        </p:nvSpPr>
        <p:spPr>
          <a:xfrm>
            <a:off x="3957120" y="236232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eis</a:t>
            </a:r>
            <a:endParaRPr b="0" lang="en-US" sz="1600" spc="-1" strike="noStrike">
              <a:solidFill>
                <a:srgbClr val="000000"/>
              </a:solidFill>
              <a:latin typeface="Arial"/>
            </a:endParaRPr>
          </a:p>
        </p:txBody>
      </p:sp>
      <p:sp>
        <p:nvSpPr>
          <p:cNvPr id="3676" name=""/>
          <p:cNvSpPr/>
          <p:nvPr/>
        </p:nvSpPr>
        <p:spPr>
          <a:xfrm>
            <a:off x="3809880" y="2286000"/>
            <a:ext cx="693720" cy="533520"/>
          </a:xfrm>
          <a:custGeom>
            <a:avLst/>
            <a:gdLst/>
            <a:ahLst/>
            <a:rect l="l" t="t" r="r" b="b"/>
            <a:pathLst>
              <a:path w="2632" h="1676">
                <a:moveTo>
                  <a:pt x="21207" y="9609"/>
                </a:moveTo>
                <a:cubicBezTo>
                  <a:pt x="21196" y="9614"/>
                  <a:pt x="21129" y="9628"/>
                  <a:pt x="21119" y="9638"/>
                </a:cubicBezTo>
                <a:cubicBezTo>
                  <a:pt x="21094" y="9665"/>
                  <a:pt x="21088" y="9676"/>
                  <a:pt x="21058" y="9699"/>
                </a:cubicBezTo>
                <a:cubicBezTo>
                  <a:pt x="21033" y="9719"/>
                  <a:pt x="20949" y="9774"/>
                  <a:pt x="20938" y="9787"/>
                </a:cubicBezTo>
                <a:cubicBezTo>
                  <a:pt x="20918" y="9810"/>
                  <a:pt x="20897" y="9828"/>
                  <a:pt x="20879" y="9849"/>
                </a:cubicBezTo>
                <a:cubicBezTo>
                  <a:pt x="20864" y="9866"/>
                  <a:pt x="20797" y="9925"/>
                  <a:pt x="20788" y="9936"/>
                </a:cubicBezTo>
                <a:cubicBezTo>
                  <a:pt x="20764" y="9966"/>
                  <a:pt x="20787" y="10004"/>
                  <a:pt x="20759" y="10027"/>
                </a:cubicBezTo>
                <a:cubicBezTo>
                  <a:pt x="20738" y="10045"/>
                  <a:pt x="20718" y="10074"/>
                  <a:pt x="20700" y="10088"/>
                </a:cubicBezTo>
                <a:cubicBezTo>
                  <a:pt x="20677" y="10106"/>
                  <a:pt x="20659" y="10131"/>
                  <a:pt x="20639" y="10147"/>
                </a:cubicBezTo>
                <a:cubicBezTo>
                  <a:pt x="20609" y="10170"/>
                  <a:pt x="20593" y="10172"/>
                  <a:pt x="20551" y="10208"/>
                </a:cubicBezTo>
                <a:cubicBezTo>
                  <a:pt x="20519" y="10235"/>
                  <a:pt x="20490" y="10267"/>
                  <a:pt x="20460" y="10296"/>
                </a:cubicBezTo>
                <a:cubicBezTo>
                  <a:pt x="20493" y="10324"/>
                  <a:pt x="20535" y="10375"/>
                  <a:pt x="20551" y="10386"/>
                </a:cubicBezTo>
                <a:cubicBezTo>
                  <a:pt x="20580" y="10407"/>
                  <a:pt x="20620" y="10427"/>
                  <a:pt x="20639" y="10445"/>
                </a:cubicBezTo>
                <a:cubicBezTo>
                  <a:pt x="20679" y="10483"/>
                  <a:pt x="20710" y="10509"/>
                  <a:pt x="20730" y="10536"/>
                </a:cubicBezTo>
                <a:cubicBezTo>
                  <a:pt x="20758" y="10573"/>
                  <a:pt x="20767" y="10607"/>
                  <a:pt x="20788" y="10626"/>
                </a:cubicBezTo>
                <a:cubicBezTo>
                  <a:pt x="20805" y="10642"/>
                  <a:pt x="20864" y="10638"/>
                  <a:pt x="20879" y="10655"/>
                </a:cubicBezTo>
                <a:cubicBezTo>
                  <a:pt x="20905" y="10684"/>
                  <a:pt x="20906" y="10692"/>
                  <a:pt x="20938" y="10717"/>
                </a:cubicBezTo>
                <a:cubicBezTo>
                  <a:pt x="20950" y="10726"/>
                  <a:pt x="20984" y="10793"/>
                  <a:pt x="20999" y="10805"/>
                </a:cubicBezTo>
                <a:cubicBezTo>
                  <a:pt x="21025" y="10826"/>
                  <a:pt x="21036" y="10847"/>
                  <a:pt x="21058" y="10866"/>
                </a:cubicBezTo>
                <a:cubicBezTo>
                  <a:pt x="21078" y="10883"/>
                  <a:pt x="21101" y="10910"/>
                  <a:pt x="21119" y="10924"/>
                </a:cubicBezTo>
                <a:cubicBezTo>
                  <a:pt x="21144" y="10944"/>
                  <a:pt x="21157" y="10969"/>
                  <a:pt x="21178" y="10986"/>
                </a:cubicBezTo>
                <a:cubicBezTo>
                  <a:pt x="21200" y="11004"/>
                  <a:pt x="21253" y="11061"/>
                  <a:pt x="21269" y="11074"/>
                </a:cubicBezTo>
                <a:cubicBezTo>
                  <a:pt x="21301" y="11100"/>
                  <a:pt x="21305" y="11096"/>
                  <a:pt x="21327" y="11135"/>
                </a:cubicBezTo>
                <a:cubicBezTo>
                  <a:pt x="21342" y="11161"/>
                  <a:pt x="21346" y="11193"/>
                  <a:pt x="21386" y="11193"/>
                </a:cubicBezTo>
                <a:cubicBezTo>
                  <a:pt x="21432" y="11193"/>
                  <a:pt x="21456" y="11168"/>
                  <a:pt x="21506" y="11164"/>
                </a:cubicBezTo>
                <a:cubicBezTo>
                  <a:pt x="21556" y="11160"/>
                  <a:pt x="21577" y="11141"/>
                  <a:pt x="21626" y="11135"/>
                </a:cubicBezTo>
                <a:cubicBezTo>
                  <a:pt x="21676" y="11129"/>
                  <a:pt x="21738" y="11111"/>
                  <a:pt x="21776" y="11106"/>
                </a:cubicBezTo>
                <a:cubicBezTo>
                  <a:pt x="21874" y="11094"/>
                  <a:pt x="21992" y="11085"/>
                  <a:pt x="22074" y="11074"/>
                </a:cubicBezTo>
                <a:cubicBezTo>
                  <a:pt x="22246" y="11051"/>
                  <a:pt x="22523" y="11063"/>
                  <a:pt x="22643" y="11106"/>
                </a:cubicBezTo>
                <a:cubicBezTo>
                  <a:pt x="22678" y="11081"/>
                  <a:pt x="22683" y="11083"/>
                  <a:pt x="22705" y="11044"/>
                </a:cubicBezTo>
                <a:cubicBezTo>
                  <a:pt x="22725" y="11009"/>
                  <a:pt x="22712" y="10998"/>
                  <a:pt x="22734" y="10954"/>
                </a:cubicBezTo>
                <a:cubicBezTo>
                  <a:pt x="22739" y="10944"/>
                  <a:pt x="22777" y="10897"/>
                  <a:pt x="22792" y="10866"/>
                </a:cubicBezTo>
                <a:cubicBezTo>
                  <a:pt x="22812" y="10825"/>
                  <a:pt x="22808" y="10809"/>
                  <a:pt x="22822" y="10775"/>
                </a:cubicBezTo>
                <a:cubicBezTo>
                  <a:pt x="22838" y="10736"/>
                  <a:pt x="22838" y="10693"/>
                  <a:pt x="22854" y="10655"/>
                </a:cubicBezTo>
                <a:cubicBezTo>
                  <a:pt x="22869" y="10621"/>
                  <a:pt x="22863" y="10607"/>
                  <a:pt x="22883" y="10565"/>
                </a:cubicBezTo>
                <a:cubicBezTo>
                  <a:pt x="22906" y="10517"/>
                  <a:pt x="22919" y="10465"/>
                  <a:pt x="22942" y="10416"/>
                </a:cubicBezTo>
                <a:cubicBezTo>
                  <a:pt x="22958" y="10381"/>
                  <a:pt x="22950" y="10367"/>
                  <a:pt x="22971" y="10325"/>
                </a:cubicBezTo>
                <a:cubicBezTo>
                  <a:pt x="22990" y="10287"/>
                  <a:pt x="22982" y="10285"/>
                  <a:pt x="23003" y="10237"/>
                </a:cubicBezTo>
                <a:cubicBezTo>
                  <a:pt x="23017" y="10205"/>
                  <a:pt x="23057" y="10157"/>
                  <a:pt x="23062" y="10147"/>
                </a:cubicBezTo>
                <a:cubicBezTo>
                  <a:pt x="23083" y="10104"/>
                  <a:pt x="23074" y="10092"/>
                  <a:pt x="23091" y="10056"/>
                </a:cubicBezTo>
                <a:cubicBezTo>
                  <a:pt x="23036" y="10051"/>
                  <a:pt x="23025" y="10037"/>
                  <a:pt x="23003" y="10027"/>
                </a:cubicBezTo>
                <a:cubicBezTo>
                  <a:pt x="22958" y="10006"/>
                  <a:pt x="22949" y="10016"/>
                  <a:pt x="22913" y="9998"/>
                </a:cubicBezTo>
                <a:cubicBezTo>
                  <a:pt x="22879" y="9981"/>
                  <a:pt x="22864" y="9990"/>
                  <a:pt x="22822" y="9968"/>
                </a:cubicBezTo>
                <a:cubicBezTo>
                  <a:pt x="22785" y="9949"/>
                  <a:pt x="22785" y="9931"/>
                  <a:pt x="22734" y="9907"/>
                </a:cubicBezTo>
                <a:cubicBezTo>
                  <a:pt x="22696" y="9889"/>
                  <a:pt x="22660" y="9860"/>
                  <a:pt x="22643" y="9849"/>
                </a:cubicBezTo>
                <a:cubicBezTo>
                  <a:pt x="22611" y="9828"/>
                  <a:pt x="22600" y="9815"/>
                  <a:pt x="22552" y="9787"/>
                </a:cubicBezTo>
                <a:cubicBezTo>
                  <a:pt x="22539" y="9779"/>
                  <a:pt x="22475" y="9770"/>
                  <a:pt x="22464" y="9758"/>
                </a:cubicBezTo>
                <a:cubicBezTo>
                  <a:pt x="22444" y="9737"/>
                  <a:pt x="22422" y="9719"/>
                  <a:pt x="22403" y="9699"/>
                </a:cubicBezTo>
                <a:cubicBezTo>
                  <a:pt x="22387" y="9681"/>
                  <a:pt x="22357" y="9655"/>
                  <a:pt x="22344" y="9638"/>
                </a:cubicBezTo>
                <a:cubicBezTo>
                  <a:pt x="22317" y="9605"/>
                  <a:pt x="22324" y="9603"/>
                  <a:pt x="22286" y="9580"/>
                </a:cubicBezTo>
                <a:cubicBezTo>
                  <a:pt x="22245" y="9556"/>
                  <a:pt x="22230" y="9516"/>
                  <a:pt x="22195" y="9518"/>
                </a:cubicBezTo>
                <a:cubicBezTo>
                  <a:pt x="22129" y="9521"/>
                  <a:pt x="22154" y="9543"/>
                  <a:pt x="22104" y="9547"/>
                </a:cubicBezTo>
                <a:cubicBezTo>
                  <a:pt x="22036" y="9553"/>
                  <a:pt x="21917" y="9577"/>
                  <a:pt x="21896" y="9580"/>
                </a:cubicBezTo>
                <a:cubicBezTo>
                  <a:pt x="21809" y="9592"/>
                  <a:pt x="21700" y="9600"/>
                  <a:pt x="21626" y="9609"/>
                </a:cubicBezTo>
                <a:cubicBezTo>
                  <a:pt x="21509" y="9623"/>
                  <a:pt x="21229" y="9609"/>
                  <a:pt x="21207" y="9609"/>
                </a:cubicBezTo>
                <a:cubicBezTo>
                  <a:pt x="21217" y="9609"/>
                  <a:pt x="21226" y="9609"/>
                  <a:pt x="21236" y="960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7" name=""/>
          <p:cNvGrpSpPr/>
          <p:nvPr/>
        </p:nvGrpSpPr>
        <p:grpSpPr>
          <a:xfrm>
            <a:off x="3657600" y="2209680"/>
            <a:ext cx="968400" cy="301680"/>
            <a:chOff x="3657600" y="2209680"/>
            <a:chExt cx="968400" cy="301680"/>
          </a:xfrm>
        </p:grpSpPr>
        <p:sp>
          <p:nvSpPr>
            <p:cNvPr id="3678" name=""/>
            <p:cNvSpPr/>
            <p:nvPr/>
          </p:nvSpPr>
          <p:spPr>
            <a:xfrm>
              <a:off x="3657600" y="2282760"/>
              <a:ext cx="203040" cy="228600"/>
            </a:xfrm>
            <a:custGeom>
              <a:avLst/>
              <a:gdLst/>
              <a:ahLst/>
              <a:rect l="l" t="t" r="r" b="b"/>
              <a:pathLst>
                <a:path w="566" h="571">
                  <a:moveTo>
                    <a:pt x="10592" y="6858"/>
                  </a:moveTo>
                  <a:cubicBezTo>
                    <a:pt x="10536" y="6858"/>
                    <a:pt x="10524" y="6832"/>
                    <a:pt x="10475" y="6826"/>
                  </a:cubicBezTo>
                  <a:cubicBezTo>
                    <a:pt x="10434" y="6821"/>
                    <a:pt x="10424" y="6801"/>
                    <a:pt x="10413" y="6767"/>
                  </a:cubicBezTo>
                </a:path>
                <a:path w="566" h="571">
                  <a:moveTo>
                    <a:pt x="10293" y="6676"/>
                  </a:moveTo>
                  <a:cubicBezTo>
                    <a:pt x="10293" y="6666"/>
                    <a:pt x="10293" y="6657"/>
                    <a:pt x="10293" y="6647"/>
                  </a:cubicBezTo>
                  <a:cubicBezTo>
                    <a:pt x="10258" y="6638"/>
                    <a:pt x="10240" y="6627"/>
                    <a:pt x="10205" y="6618"/>
                  </a:cubicBezTo>
                  <a:cubicBezTo>
                    <a:pt x="10190" y="6567"/>
                    <a:pt x="10192" y="6605"/>
                    <a:pt x="10176" y="6557"/>
                  </a:cubicBezTo>
                </a:path>
                <a:path w="566" h="571">
                  <a:moveTo>
                    <a:pt x="10355" y="6466"/>
                  </a:moveTo>
                  <a:cubicBezTo>
                    <a:pt x="10384" y="6466"/>
                    <a:pt x="10394" y="6466"/>
                    <a:pt x="10413" y="6466"/>
                  </a:cubicBezTo>
                  <a:cubicBezTo>
                    <a:pt x="10426" y="6427"/>
                    <a:pt x="10434" y="6420"/>
                    <a:pt x="10475" y="6408"/>
                  </a:cubicBezTo>
                </a:path>
                <a:path w="566" h="571">
                  <a:moveTo>
                    <a:pt x="10654" y="6349"/>
                  </a:moveTo>
                  <a:cubicBezTo>
                    <a:pt x="10691" y="6296"/>
                    <a:pt x="10675" y="6288"/>
                    <a:pt x="10741" y="62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9" name=""/>
            <p:cNvSpPr/>
            <p:nvPr/>
          </p:nvSpPr>
          <p:spPr>
            <a:xfrm>
              <a:off x="3946680" y="2244600"/>
              <a:ext cx="64800" cy="3240"/>
            </a:xfrm>
            <a:custGeom>
              <a:avLst/>
              <a:gdLst/>
              <a:ahLst/>
              <a:rect l="l" t="t" r="r" b="b"/>
              <a:pathLst>
                <a:path w="179" h="1">
                  <a:moveTo>
                    <a:pt x="10982" y="6197"/>
                  </a:moveTo>
                  <a:cubicBezTo>
                    <a:pt x="11041" y="6197"/>
                    <a:pt x="11101" y="6197"/>
                    <a:pt x="11160" y="6197"/>
                  </a:cubicBezTo>
                </a:path>
              </a:pathLst>
            </a:custGeom>
            <a:noFill/>
            <a:ln cap="rnd" w="28440">
              <a:solidFill>
                <a:srgbClr val="808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80" name=""/>
            <p:cNvSpPr/>
            <p:nvPr/>
          </p:nvSpPr>
          <p:spPr>
            <a:xfrm>
              <a:off x="4108320" y="2209680"/>
              <a:ext cx="65160" cy="12600"/>
            </a:xfrm>
            <a:custGeom>
              <a:avLst/>
              <a:gdLst/>
              <a:ahLst/>
              <a:rect l="l" t="t" r="r" b="b"/>
              <a:pathLst>
                <a:path w="180" h="31">
                  <a:moveTo>
                    <a:pt x="11430" y="6109"/>
                  </a:moveTo>
                  <a:cubicBezTo>
                    <a:pt x="11430" y="6119"/>
                    <a:pt x="11430" y="6129"/>
                    <a:pt x="11430" y="6139"/>
                  </a:cubicBezTo>
                  <a:cubicBezTo>
                    <a:pt x="11490" y="6139"/>
                    <a:pt x="11549" y="6139"/>
                    <a:pt x="11609"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81" name=""/>
            <p:cNvSpPr/>
            <p:nvPr/>
          </p:nvSpPr>
          <p:spPr>
            <a:xfrm>
              <a:off x="4270320" y="2209680"/>
              <a:ext cx="54000" cy="12600"/>
            </a:xfrm>
            <a:custGeom>
              <a:avLst/>
              <a:gdLst/>
              <a:ahLst/>
              <a:rect l="l" t="t" r="r" b="b"/>
              <a:pathLst>
                <a:path w="151" h="31">
                  <a:moveTo>
                    <a:pt x="11878" y="6109"/>
                  </a:moveTo>
                  <a:cubicBezTo>
                    <a:pt x="11918" y="6109"/>
                    <a:pt x="11958" y="6109"/>
                    <a:pt x="11998" y="6109"/>
                  </a:cubicBezTo>
                  <a:cubicBezTo>
                    <a:pt x="11998" y="6139"/>
                    <a:pt x="11998" y="6149"/>
                    <a:pt x="12028"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82" name=""/>
            <p:cNvSpPr/>
            <p:nvPr/>
          </p:nvSpPr>
          <p:spPr>
            <a:xfrm>
              <a:off x="4410000" y="2222280"/>
              <a:ext cx="216000" cy="241200"/>
            </a:xfrm>
            <a:custGeom>
              <a:avLst/>
              <a:gdLst/>
              <a:ahLst/>
              <a:rect l="l" t="t" r="r" b="b"/>
              <a:pathLst>
                <a:path w="599" h="600">
                  <a:moveTo>
                    <a:pt x="12268" y="6139"/>
                  </a:moveTo>
                  <a:cubicBezTo>
                    <a:pt x="12268" y="6149"/>
                    <a:pt x="12268" y="6158"/>
                    <a:pt x="12268" y="6168"/>
                  </a:cubicBezTo>
                  <a:cubicBezTo>
                    <a:pt x="12314" y="6183"/>
                    <a:pt x="12280" y="6182"/>
                    <a:pt x="12326" y="6197"/>
                  </a:cubicBezTo>
                  <a:cubicBezTo>
                    <a:pt x="12343" y="6246"/>
                    <a:pt x="12341" y="6212"/>
                    <a:pt x="12359" y="6258"/>
                  </a:cubicBezTo>
                  <a:cubicBezTo>
                    <a:pt x="12409" y="6258"/>
                    <a:pt x="12403" y="6246"/>
                    <a:pt x="12417" y="6288"/>
                  </a:cubicBezTo>
                  <a:cubicBezTo>
                    <a:pt x="12417" y="6258"/>
                    <a:pt x="12417" y="6249"/>
                    <a:pt x="12417" y="6229"/>
                  </a:cubicBezTo>
                </a:path>
                <a:path w="599" h="600">
                  <a:moveTo>
                    <a:pt x="12625" y="6408"/>
                  </a:moveTo>
                  <a:cubicBezTo>
                    <a:pt x="12636" y="6408"/>
                    <a:pt x="12647" y="6408"/>
                    <a:pt x="12658" y="6408"/>
                  </a:cubicBezTo>
                  <a:cubicBezTo>
                    <a:pt x="12672" y="6449"/>
                    <a:pt x="12666" y="6437"/>
                    <a:pt x="12716" y="6437"/>
                  </a:cubicBezTo>
                  <a:cubicBezTo>
                    <a:pt x="12716" y="6466"/>
                    <a:pt x="12716" y="6476"/>
                    <a:pt x="12745" y="6466"/>
                  </a:cubicBezTo>
                </a:path>
                <a:path w="599" h="600">
                  <a:moveTo>
                    <a:pt x="12866" y="6618"/>
                  </a:moveTo>
                  <a:cubicBezTo>
                    <a:pt x="12806" y="6618"/>
                    <a:pt x="12791" y="6618"/>
                    <a:pt x="12775" y="6676"/>
                  </a:cubicBezTo>
                  <a:cubicBezTo>
                    <a:pt x="12719" y="6695"/>
                    <a:pt x="12770" y="6718"/>
                    <a:pt x="12716" y="6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3"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3684" name=""/>
          <p:cNvSpPr/>
          <p:nvPr/>
        </p:nvSpPr>
        <p:spPr>
          <a:xfrm>
            <a:off x="415800" y="59832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85"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3686"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3687"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3688"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3689" name=""/>
          <p:cNvGrpSpPr/>
          <p:nvPr/>
        </p:nvGrpSpPr>
        <p:grpSpPr>
          <a:xfrm>
            <a:off x="1554120" y="1012680"/>
            <a:ext cx="5052960" cy="4521240"/>
            <a:chOff x="1554120" y="1012680"/>
            <a:chExt cx="5052960" cy="4521240"/>
          </a:xfrm>
        </p:grpSpPr>
        <p:sp>
          <p:nvSpPr>
            <p:cNvPr id="3690"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1"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2"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93"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3694" name="Ink 5"/>
          <p:cNvSpPr/>
          <p:nvPr/>
        </p:nvSpPr>
        <p:spPr>
          <a:xfrm>
            <a:off x="133020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5" name="Group 14"/>
          <p:cNvGrpSpPr/>
          <p:nvPr/>
        </p:nvGrpSpPr>
        <p:grpSpPr>
          <a:xfrm>
            <a:off x="1254240" y="4000680"/>
            <a:ext cx="380520" cy="380880"/>
            <a:chOff x="1254240" y="4000680"/>
            <a:chExt cx="380520" cy="380880"/>
          </a:xfrm>
        </p:grpSpPr>
        <p:sp>
          <p:nvSpPr>
            <p:cNvPr id="3696" name="Ink 15"/>
            <p:cNvSpPr/>
            <p:nvPr/>
          </p:nvSpPr>
          <p:spPr>
            <a:xfrm>
              <a:off x="125424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7" name="Ink 16"/>
            <p:cNvSpPr/>
            <p:nvPr/>
          </p:nvSpPr>
          <p:spPr>
            <a:xfrm>
              <a:off x="130608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98" name=""/>
          <p:cNvSpPr/>
          <p:nvPr/>
        </p:nvSpPr>
        <p:spPr>
          <a:xfrm>
            <a:off x="133020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9"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3700" name="Ink 61"/>
          <p:cNvSpPr/>
          <p:nvPr/>
        </p:nvSpPr>
        <p:spPr>
          <a:xfrm>
            <a:off x="87300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1"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3702" name=""/>
          <p:cNvGrpSpPr/>
          <p:nvPr/>
        </p:nvGrpSpPr>
        <p:grpSpPr>
          <a:xfrm>
            <a:off x="1254240" y="1714680"/>
            <a:ext cx="532800" cy="457200"/>
            <a:chOff x="1254240" y="1714680"/>
            <a:chExt cx="532800" cy="457200"/>
          </a:xfrm>
        </p:grpSpPr>
        <p:sp>
          <p:nvSpPr>
            <p:cNvPr id="3703" name=""/>
            <p:cNvSpPr/>
            <p:nvPr/>
          </p:nvSpPr>
          <p:spPr>
            <a:xfrm>
              <a:off x="1467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4" name="Group 12"/>
            <p:cNvGrpSpPr/>
            <p:nvPr/>
          </p:nvGrpSpPr>
          <p:grpSpPr>
            <a:xfrm>
              <a:off x="1254240" y="1714680"/>
              <a:ext cx="532800" cy="457200"/>
              <a:chOff x="1254240" y="1714680"/>
              <a:chExt cx="532800" cy="457200"/>
            </a:xfrm>
          </p:grpSpPr>
          <p:sp>
            <p:nvSpPr>
              <p:cNvPr id="3705" name="Ink 13"/>
              <p:cNvSpPr/>
              <p:nvPr/>
            </p:nvSpPr>
            <p:spPr>
              <a:xfrm>
                <a:off x="125424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6" name="Ink 14"/>
              <p:cNvSpPr/>
              <p:nvPr/>
            </p:nvSpPr>
            <p:spPr>
              <a:xfrm>
                <a:off x="126720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07" name="Ink 15"/>
              <p:cNvSpPr/>
              <p:nvPr/>
            </p:nvSpPr>
            <p:spPr>
              <a:xfrm>
                <a:off x="177336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8" name="Ink 16"/>
              <p:cNvSpPr/>
              <p:nvPr/>
            </p:nvSpPr>
            <p:spPr>
              <a:xfrm>
                <a:off x="127980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709" name=""/>
            <p:cNvSpPr/>
            <p:nvPr/>
          </p:nvSpPr>
          <p:spPr>
            <a:xfrm>
              <a:off x="162720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0" name=""/>
            <p:cNvSpPr/>
            <p:nvPr/>
          </p:nvSpPr>
          <p:spPr>
            <a:xfrm>
              <a:off x="1307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11" name=""/>
          <p:cNvGrpSpPr/>
          <p:nvPr/>
        </p:nvGrpSpPr>
        <p:grpSpPr>
          <a:xfrm>
            <a:off x="1635120" y="1333440"/>
            <a:ext cx="501120" cy="304920"/>
            <a:chOff x="1635120" y="1333440"/>
            <a:chExt cx="501120" cy="304920"/>
          </a:xfrm>
        </p:grpSpPr>
        <p:sp>
          <p:nvSpPr>
            <p:cNvPr id="3712" name=""/>
            <p:cNvSpPr/>
            <p:nvPr/>
          </p:nvSpPr>
          <p:spPr>
            <a:xfrm>
              <a:off x="18100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3" name=""/>
            <p:cNvSpPr/>
            <p:nvPr/>
          </p:nvSpPr>
          <p:spPr>
            <a:xfrm>
              <a:off x="198540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4" name=""/>
            <p:cNvSpPr/>
            <p:nvPr/>
          </p:nvSpPr>
          <p:spPr>
            <a:xfrm>
              <a:off x="163512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5" name=""/>
          <p:cNvSpPr/>
          <p:nvPr/>
        </p:nvSpPr>
        <p:spPr>
          <a:xfrm>
            <a:off x="224460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6" name=""/>
          <p:cNvSpPr/>
          <p:nvPr/>
        </p:nvSpPr>
        <p:spPr>
          <a:xfrm>
            <a:off x="415800" y="194328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17" name=""/>
          <p:cNvGrpSpPr/>
          <p:nvPr/>
        </p:nvGrpSpPr>
        <p:grpSpPr>
          <a:xfrm>
            <a:off x="4952880" y="380880"/>
            <a:ext cx="884160" cy="747720"/>
            <a:chOff x="4952880" y="380880"/>
            <a:chExt cx="884160" cy="747720"/>
          </a:xfrm>
        </p:grpSpPr>
        <p:sp>
          <p:nvSpPr>
            <p:cNvPr id="3718" name=""/>
            <p:cNvSpPr/>
            <p:nvPr/>
          </p:nvSpPr>
          <p:spPr>
            <a:xfrm>
              <a:off x="4952880" y="380880"/>
              <a:ext cx="873000" cy="70020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9"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3720" name=""/>
            <p:cNvSpPr/>
            <p:nvPr/>
          </p:nvSpPr>
          <p:spPr>
            <a:xfrm>
              <a:off x="4988520" y="74520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3721" name=""/>
            <p:cNvSpPr/>
            <p:nvPr/>
          </p:nvSpPr>
          <p:spPr>
            <a:xfrm>
              <a:off x="5395680" y="7912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3722"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3723"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3724"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3725" name=""/>
          <p:cNvSpPr/>
          <p:nvPr/>
        </p:nvSpPr>
        <p:spPr>
          <a:xfrm>
            <a:off x="6095880" y="1468440"/>
            <a:ext cx="560520" cy="36684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6" name=""/>
          <p:cNvSpPr/>
          <p:nvPr/>
        </p:nvSpPr>
        <p:spPr>
          <a:xfrm>
            <a:off x="6477120" y="184932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7" name="Group 101"/>
          <p:cNvGrpSpPr/>
          <p:nvPr/>
        </p:nvGrpSpPr>
        <p:grpSpPr>
          <a:xfrm>
            <a:off x="6553080" y="2382840"/>
            <a:ext cx="304560" cy="518400"/>
            <a:chOff x="6553080" y="2382840"/>
            <a:chExt cx="304560" cy="518400"/>
          </a:xfrm>
        </p:grpSpPr>
        <p:grpSp>
          <p:nvGrpSpPr>
            <p:cNvPr id="3728" name="Group 79"/>
            <p:cNvGrpSpPr/>
            <p:nvPr/>
          </p:nvGrpSpPr>
          <p:grpSpPr>
            <a:xfrm>
              <a:off x="6553080" y="2382840"/>
              <a:ext cx="304560" cy="518400"/>
              <a:chOff x="6553080" y="2382840"/>
              <a:chExt cx="304560" cy="518400"/>
            </a:xfrm>
          </p:grpSpPr>
          <p:sp>
            <p:nvSpPr>
              <p:cNvPr id="3729" name="Ink 80"/>
              <p:cNvSpPr/>
              <p:nvPr/>
            </p:nvSpPr>
            <p:spPr>
              <a:xfrm>
                <a:off x="6558480" y="268452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0" name="Ink 81"/>
              <p:cNvSpPr/>
              <p:nvPr/>
            </p:nvSpPr>
            <p:spPr>
              <a:xfrm>
                <a:off x="6553080" y="258552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731" name="Ink 82"/>
              <p:cNvSpPr/>
              <p:nvPr/>
            </p:nvSpPr>
            <p:spPr>
              <a:xfrm>
                <a:off x="6741000" y="259956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2" name="Ink 83"/>
              <p:cNvSpPr/>
              <p:nvPr/>
            </p:nvSpPr>
            <p:spPr>
              <a:xfrm>
                <a:off x="6609240" y="284688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733" name="Ink 84"/>
              <p:cNvSpPr/>
              <p:nvPr/>
            </p:nvSpPr>
            <p:spPr>
              <a:xfrm>
                <a:off x="6757560" y="260028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4" name="Ink 85"/>
              <p:cNvSpPr/>
              <p:nvPr/>
            </p:nvSpPr>
            <p:spPr>
              <a:xfrm>
                <a:off x="6795360" y="259164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735" name="Ink 86"/>
              <p:cNvSpPr/>
              <p:nvPr/>
            </p:nvSpPr>
            <p:spPr>
              <a:xfrm>
                <a:off x="6772320" y="259668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6" name="Ink 87"/>
              <p:cNvSpPr/>
              <p:nvPr/>
            </p:nvSpPr>
            <p:spPr>
              <a:xfrm>
                <a:off x="6593760" y="238284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7" name="Ink 88"/>
              <p:cNvSpPr/>
              <p:nvPr/>
            </p:nvSpPr>
            <p:spPr>
              <a:xfrm>
                <a:off x="6615000" y="243216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8" name="Ink 89"/>
              <p:cNvSpPr/>
              <p:nvPr/>
            </p:nvSpPr>
            <p:spPr>
              <a:xfrm>
                <a:off x="6607440" y="266976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9" name="Ink 90"/>
              <p:cNvSpPr/>
              <p:nvPr/>
            </p:nvSpPr>
            <p:spPr>
              <a:xfrm>
                <a:off x="6590880" y="284616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740" name="Ink 91"/>
              <p:cNvSpPr/>
              <p:nvPr/>
            </p:nvSpPr>
            <p:spPr>
              <a:xfrm>
                <a:off x="6627960" y="286164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741" name="Ink 92"/>
              <p:cNvSpPr/>
              <p:nvPr/>
            </p:nvSpPr>
            <p:spPr>
              <a:xfrm>
                <a:off x="6753960" y="281340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42" name="Ink 93"/>
              <p:cNvSpPr/>
              <p:nvPr/>
            </p:nvSpPr>
            <p:spPr>
              <a:xfrm>
                <a:off x="6760440" y="260172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3" name="Ink 175"/>
            <p:cNvSpPr/>
            <p:nvPr/>
          </p:nvSpPr>
          <p:spPr>
            <a:xfrm>
              <a:off x="6607800" y="239616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4"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3745" name="Ink 28"/>
          <p:cNvSpPr/>
          <p:nvPr/>
        </p:nvSpPr>
        <p:spPr>
          <a:xfrm>
            <a:off x="6781680" y="352584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6" name="Group 14"/>
          <p:cNvGrpSpPr/>
          <p:nvPr/>
        </p:nvGrpSpPr>
        <p:grpSpPr>
          <a:xfrm>
            <a:off x="6629400" y="3962520"/>
            <a:ext cx="380520" cy="380880"/>
            <a:chOff x="6629400" y="3962520"/>
            <a:chExt cx="380520" cy="380880"/>
          </a:xfrm>
        </p:grpSpPr>
        <p:sp>
          <p:nvSpPr>
            <p:cNvPr id="3747"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8"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9"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0" name=""/>
          <p:cNvSpPr/>
          <p:nvPr/>
        </p:nvSpPr>
        <p:spPr>
          <a:xfrm>
            <a:off x="6172200" y="63036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1"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3752"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3" name=""/>
          <p:cNvSpPr/>
          <p:nvPr/>
        </p:nvSpPr>
        <p:spPr>
          <a:xfrm>
            <a:off x="3429000" y="1371600"/>
            <a:ext cx="266760" cy="39672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4" name=""/>
          <p:cNvSpPr/>
          <p:nvPr/>
        </p:nvSpPr>
        <p:spPr>
          <a:xfrm>
            <a:off x="4648320" y="1697040"/>
            <a:ext cx="230040" cy="32400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5" name=""/>
          <p:cNvSpPr/>
          <p:nvPr/>
        </p:nvSpPr>
        <p:spPr>
          <a:xfrm>
            <a:off x="5181480" y="243216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6" name=""/>
          <p:cNvSpPr/>
          <p:nvPr/>
        </p:nvSpPr>
        <p:spPr>
          <a:xfrm>
            <a:off x="5105520" y="3745080"/>
            <a:ext cx="21888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7" name=""/>
          <p:cNvSpPr/>
          <p:nvPr/>
        </p:nvSpPr>
        <p:spPr>
          <a:xfrm>
            <a:off x="3962520" y="432288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8" name=""/>
          <p:cNvSpPr/>
          <p:nvPr/>
        </p:nvSpPr>
        <p:spPr>
          <a:xfrm>
            <a:off x="3009960" y="3865680"/>
            <a:ext cx="19980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9" name=""/>
          <p:cNvSpPr/>
          <p:nvPr/>
        </p:nvSpPr>
        <p:spPr>
          <a:xfrm>
            <a:off x="2781360" y="3009960"/>
            <a:ext cx="258840" cy="10008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0" name=""/>
          <p:cNvSpPr/>
          <p:nvPr/>
        </p:nvSpPr>
        <p:spPr>
          <a:xfrm>
            <a:off x="3227400" y="2247840"/>
            <a:ext cx="290520" cy="16056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61" name=""/>
          <p:cNvGrpSpPr/>
          <p:nvPr/>
        </p:nvGrpSpPr>
        <p:grpSpPr>
          <a:xfrm>
            <a:off x="3429000" y="2514600"/>
            <a:ext cx="1599840" cy="1294920"/>
            <a:chOff x="3429000" y="2514600"/>
            <a:chExt cx="1599840" cy="1294920"/>
          </a:xfrm>
        </p:grpSpPr>
        <p:grpSp>
          <p:nvGrpSpPr>
            <p:cNvPr id="3762" name=""/>
            <p:cNvGrpSpPr/>
            <p:nvPr/>
          </p:nvGrpSpPr>
          <p:grpSpPr>
            <a:xfrm>
              <a:off x="3429000" y="2514600"/>
              <a:ext cx="1599840" cy="1294920"/>
              <a:chOff x="3429000" y="2514600"/>
              <a:chExt cx="1599840" cy="1294920"/>
            </a:xfrm>
          </p:grpSpPr>
          <p:sp>
            <p:nvSpPr>
              <p:cNvPr id="3763" name=""/>
              <p:cNvSpPr/>
              <p:nvPr/>
            </p:nvSpPr>
            <p:spPr>
              <a:xfrm>
                <a:off x="3429000" y="2607120"/>
                <a:ext cx="479880" cy="45432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4" name=""/>
              <p:cNvSpPr/>
              <p:nvPr/>
            </p:nvSpPr>
            <p:spPr>
              <a:xfrm>
                <a:off x="3668760" y="3162240"/>
                <a:ext cx="880200" cy="64728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5" name=""/>
              <p:cNvSpPr/>
              <p:nvPr/>
            </p:nvSpPr>
            <p:spPr>
              <a:xfrm>
                <a:off x="4388760" y="2514600"/>
                <a:ext cx="640080" cy="60516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6" name=""/>
              <p:cNvSpPr/>
              <p:nvPr/>
            </p:nvSpPr>
            <p:spPr>
              <a:xfrm>
                <a:off x="3828960" y="2792160"/>
                <a:ext cx="621000" cy="475920"/>
              </a:xfrm>
              <a:custGeom>
                <a:avLst/>
                <a:gdLst/>
                <a:ahLst/>
                <a:rect l="l" t="t" r="r" b="b"/>
                <a:pathLst>
                  <a:path w="2278" h="1508">
                    <a:moveTo>
                      <a:pt x="15042" y="3209"/>
                    </a:moveTo>
                    <a:cubicBezTo>
                      <a:pt x="15018" y="3199"/>
                      <a:pt x="14996" y="3188"/>
                      <a:pt x="14971" y="3180"/>
                    </a:cubicBezTo>
                    <a:cubicBezTo>
                      <a:pt x="14931" y="3167"/>
                      <a:pt x="14890" y="3157"/>
                      <a:pt x="14849" y="3149"/>
                    </a:cubicBezTo>
                    <a:cubicBezTo>
                      <a:pt x="14626" y="3103"/>
                      <a:pt x="14373" y="3117"/>
                      <a:pt x="14149" y="3144"/>
                    </a:cubicBezTo>
                    <a:cubicBezTo>
                      <a:pt x="14036" y="3158"/>
                      <a:pt x="13917" y="3175"/>
                      <a:pt x="13810" y="3217"/>
                    </a:cubicBezTo>
                    <a:cubicBezTo>
                      <a:pt x="13749" y="3241"/>
                      <a:pt x="13654" y="3288"/>
                      <a:pt x="13667" y="3369"/>
                    </a:cubicBezTo>
                    <a:cubicBezTo>
                      <a:pt x="13678" y="3441"/>
                      <a:pt x="13763" y="3478"/>
                      <a:pt x="13820" y="3506"/>
                    </a:cubicBezTo>
                    <a:cubicBezTo>
                      <a:pt x="13995" y="3590"/>
                      <a:pt x="14195" y="3623"/>
                      <a:pt x="14386" y="3645"/>
                    </a:cubicBezTo>
                    <a:cubicBezTo>
                      <a:pt x="14648" y="3675"/>
                      <a:pt x="14911" y="3683"/>
                      <a:pt x="15173" y="3656"/>
                    </a:cubicBezTo>
                    <a:cubicBezTo>
                      <a:pt x="15330" y="3639"/>
                      <a:pt x="15493" y="3612"/>
                      <a:pt x="15635" y="3538"/>
                    </a:cubicBezTo>
                    <a:cubicBezTo>
                      <a:pt x="15691" y="3509"/>
                      <a:pt x="15784" y="3440"/>
                      <a:pt x="15744" y="3364"/>
                    </a:cubicBezTo>
                    <a:cubicBezTo>
                      <a:pt x="15699" y="3280"/>
                      <a:pt x="15551" y="3264"/>
                      <a:pt x="15472" y="3249"/>
                    </a:cubicBezTo>
                    <a:cubicBezTo>
                      <a:pt x="15355" y="3230"/>
                      <a:pt x="15316" y="3224"/>
                      <a:pt x="15236" y="3224"/>
                    </a:cubicBezTo>
                  </a:path>
                  <a:path w="2278" h="1508">
                    <a:moveTo>
                      <a:pt x="13558" y="3514"/>
                    </a:moveTo>
                    <a:cubicBezTo>
                      <a:pt x="13552" y="3544"/>
                      <a:pt x="13555" y="3575"/>
                      <a:pt x="13549" y="3605"/>
                    </a:cubicBezTo>
                    <a:cubicBezTo>
                      <a:pt x="13537" y="3666"/>
                      <a:pt x="13525" y="3726"/>
                      <a:pt x="13515" y="3788"/>
                    </a:cubicBezTo>
                    <a:cubicBezTo>
                      <a:pt x="13502" y="3868"/>
                      <a:pt x="13494" y="3944"/>
                      <a:pt x="13494" y="4025"/>
                    </a:cubicBezTo>
                    <a:cubicBezTo>
                      <a:pt x="13494" y="4092"/>
                      <a:pt x="13501" y="4158"/>
                      <a:pt x="13523" y="4221"/>
                    </a:cubicBezTo>
                    <a:cubicBezTo>
                      <a:pt x="13533" y="4248"/>
                      <a:pt x="13554" y="4310"/>
                      <a:pt x="13578" y="4329"/>
                    </a:cubicBezTo>
                    <a:cubicBezTo>
                      <a:pt x="13585" y="4332"/>
                      <a:pt x="13593" y="4335"/>
                      <a:pt x="13600" y="4338"/>
                    </a:cubicBezTo>
                  </a:path>
                  <a:path w="2278" h="1508">
                    <a:moveTo>
                      <a:pt x="13820" y="4480"/>
                    </a:moveTo>
                    <a:cubicBezTo>
                      <a:pt x="13853" y="4483"/>
                      <a:pt x="13872" y="4485"/>
                      <a:pt x="13904" y="4496"/>
                    </a:cubicBezTo>
                    <a:cubicBezTo>
                      <a:pt x="14081" y="4554"/>
                      <a:pt x="14250" y="4605"/>
                      <a:pt x="14437" y="4624"/>
                    </a:cubicBezTo>
                    <a:cubicBezTo>
                      <a:pt x="14604" y="4641"/>
                      <a:pt x="14770" y="4631"/>
                      <a:pt x="14936" y="4617"/>
                    </a:cubicBezTo>
                    <a:cubicBezTo>
                      <a:pt x="15157" y="4599"/>
                      <a:pt x="15393" y="4569"/>
                      <a:pt x="15603" y="4494"/>
                    </a:cubicBezTo>
                    <a:cubicBezTo>
                      <a:pt x="15664" y="4472"/>
                      <a:pt x="15733" y="4444"/>
                      <a:pt x="15771" y="4391"/>
                    </a:cubicBezTo>
                    <a:cubicBezTo>
                      <a:pt x="15771" y="4384"/>
                      <a:pt x="15771" y="4376"/>
                      <a:pt x="15771" y="4369"/>
                    </a:cubicBezTo>
                  </a:path>
                  <a:path w="2278" h="1508">
                    <a:moveTo>
                      <a:pt x="15750" y="3638"/>
                    </a:moveTo>
                    <a:cubicBezTo>
                      <a:pt x="15741" y="3656"/>
                      <a:pt x="15736" y="3685"/>
                      <a:pt x="15733" y="3706"/>
                    </a:cubicBezTo>
                    <a:cubicBezTo>
                      <a:pt x="15727" y="3756"/>
                      <a:pt x="15718" y="3805"/>
                      <a:pt x="15713" y="3856"/>
                    </a:cubicBezTo>
                    <a:cubicBezTo>
                      <a:pt x="15706" y="3931"/>
                      <a:pt x="15707" y="4008"/>
                      <a:pt x="15706" y="4084"/>
                    </a:cubicBezTo>
                    <a:cubicBezTo>
                      <a:pt x="15705" y="4158"/>
                      <a:pt x="15717" y="4231"/>
                      <a:pt x="15720" y="4305"/>
                    </a:cubicBezTo>
                    <a:cubicBezTo>
                      <a:pt x="15722" y="4348"/>
                      <a:pt x="15723" y="4387"/>
                      <a:pt x="15729" y="442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67" name=""/>
            <p:cNvSpPr/>
            <p:nvPr/>
          </p:nvSpPr>
          <p:spPr>
            <a:xfrm>
              <a:off x="3506760" y="2743200"/>
              <a:ext cx="2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X</a:t>
              </a:r>
              <a:endParaRPr b="0" lang="en-US" sz="1600" spc="-1" strike="noStrike">
                <a:solidFill>
                  <a:srgbClr val="000000"/>
                </a:solidFill>
                <a:latin typeface="Arial"/>
              </a:endParaRPr>
            </a:p>
          </p:txBody>
        </p:sp>
        <p:sp>
          <p:nvSpPr>
            <p:cNvPr id="3768"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p</a:t>
              </a:r>
              <a:endParaRPr b="0" lang="en-US" sz="1600" spc="-1" strike="noStrike">
                <a:solidFill>
                  <a:srgbClr val="000000"/>
                </a:solidFill>
                <a:latin typeface="Arial"/>
              </a:endParaRPr>
            </a:p>
          </p:txBody>
        </p:sp>
        <p:sp>
          <p:nvSpPr>
            <p:cNvPr id="3769"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Z</a:t>
              </a:r>
              <a:endParaRPr b="0" lang="en-US" sz="1600" spc="-1" strike="noStrike">
                <a:solidFill>
                  <a:srgbClr val="000000"/>
                </a:solidFill>
                <a:latin typeface="Arial"/>
              </a:endParaRPr>
            </a:p>
          </p:txBody>
        </p:sp>
        <p:sp>
          <p:nvSpPr>
            <p:cNvPr id="3770" name=""/>
            <p:cNvSpPr/>
            <p:nvPr/>
          </p:nvSpPr>
          <p:spPr>
            <a:xfrm>
              <a:off x="3980520" y="2895480"/>
              <a:ext cx="3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St</a:t>
              </a:r>
              <a:endParaRPr b="0" lang="en-US" sz="1600" spc="-1" strike="noStrike">
                <a:solidFill>
                  <a:srgbClr val="000000"/>
                </a:solidFill>
                <a:latin typeface="Arial"/>
              </a:endParaRPr>
            </a:p>
          </p:txBody>
        </p:sp>
      </p:grpSp>
      <p:sp>
        <p:nvSpPr>
          <p:cNvPr id="3771"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grpSp>
        <p:nvGrpSpPr>
          <p:cNvPr id="3772" name=""/>
          <p:cNvGrpSpPr/>
          <p:nvPr/>
        </p:nvGrpSpPr>
        <p:grpSpPr>
          <a:xfrm>
            <a:off x="3200400" y="2220840"/>
            <a:ext cx="2225160" cy="1985760"/>
            <a:chOff x="3200400" y="2220840"/>
            <a:chExt cx="2225160" cy="1985760"/>
          </a:xfrm>
        </p:grpSpPr>
        <p:sp>
          <p:nvSpPr>
            <p:cNvPr id="3773" name=""/>
            <p:cNvSpPr/>
            <p:nvPr/>
          </p:nvSpPr>
          <p:spPr>
            <a:xfrm>
              <a:off x="4805280" y="2220840"/>
              <a:ext cx="264600" cy="183960"/>
            </a:xfrm>
            <a:custGeom>
              <a:avLst/>
              <a:gdLst/>
              <a:ahLst/>
              <a:rect l="l" t="t" r="r" b="b"/>
              <a:pathLst>
                <a:path w="737" h="512">
                  <a:moveTo>
                    <a:pt x="21534" y="12356"/>
                  </a:moveTo>
                  <a:cubicBezTo>
                    <a:pt x="21564" y="12313"/>
                    <a:pt x="21582" y="12275"/>
                    <a:pt x="21603" y="12228"/>
                  </a:cubicBezTo>
                  <a:cubicBezTo>
                    <a:pt x="21608" y="12216"/>
                    <a:pt x="21614" y="12205"/>
                    <a:pt x="21619" y="12193"/>
                  </a:cubicBezTo>
                </a:path>
                <a:path w="737" h="512">
                  <a:moveTo>
                    <a:pt x="21788" y="12087"/>
                  </a:moveTo>
                  <a:cubicBezTo>
                    <a:pt x="21783" y="12044"/>
                    <a:pt x="21783" y="12010"/>
                    <a:pt x="21794" y="11968"/>
                  </a:cubicBezTo>
                  <a:cubicBezTo>
                    <a:pt x="21806" y="11922"/>
                    <a:pt x="21831" y="11884"/>
                    <a:pt x="21857" y="11845"/>
                  </a:cubicBezTo>
                </a:path>
                <a:path w="737" h="512">
                  <a:moveTo>
                    <a:pt x="22095" y="11972"/>
                  </a:moveTo>
                  <a:cubicBezTo>
                    <a:pt x="22104" y="12036"/>
                    <a:pt x="22139" y="12042"/>
                    <a:pt x="22180" y="12091"/>
                  </a:cubicBezTo>
                  <a:cubicBezTo>
                    <a:pt x="22213" y="12130"/>
                    <a:pt x="22244" y="12171"/>
                    <a:pt x="22270" y="1221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4" name=""/>
            <p:cNvSpPr/>
            <p:nvPr/>
          </p:nvSpPr>
          <p:spPr>
            <a:xfrm>
              <a:off x="5109840" y="2427120"/>
              <a:ext cx="17280" cy="88920"/>
            </a:xfrm>
            <a:custGeom>
              <a:avLst/>
              <a:gdLst/>
              <a:ahLst/>
              <a:rect l="l" t="t" r="r" b="b"/>
              <a:pathLst>
                <a:path w="49" h="248">
                  <a:moveTo>
                    <a:pt x="22423" y="12418"/>
                  </a:moveTo>
                  <a:cubicBezTo>
                    <a:pt x="22393" y="12459"/>
                    <a:pt x="22377" y="12488"/>
                    <a:pt x="22381" y="12541"/>
                  </a:cubicBezTo>
                  <a:cubicBezTo>
                    <a:pt x="22384" y="12589"/>
                    <a:pt x="22406" y="12625"/>
                    <a:pt x="22429" y="12665"/>
                  </a:cubicBezTo>
                </a:path>
              </a:pathLst>
            </a:custGeom>
            <a:noFill/>
            <a:ln cap="rnd" w="38160">
              <a:solidFill>
                <a:srgbClr val="808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75" name=""/>
            <p:cNvSpPr/>
            <p:nvPr/>
          </p:nvSpPr>
          <p:spPr>
            <a:xfrm>
              <a:off x="5190840" y="2592000"/>
              <a:ext cx="44280" cy="90720"/>
            </a:xfrm>
            <a:custGeom>
              <a:avLst/>
              <a:gdLst/>
              <a:ahLst/>
              <a:rect l="l" t="t" r="r" b="b"/>
              <a:pathLst>
                <a:path w="123" h="253">
                  <a:moveTo>
                    <a:pt x="22619" y="12876"/>
                  </a:moveTo>
                  <a:cubicBezTo>
                    <a:pt x="22600" y="12926"/>
                    <a:pt x="22600" y="12952"/>
                    <a:pt x="22630" y="13000"/>
                  </a:cubicBezTo>
                  <a:cubicBezTo>
                    <a:pt x="22659" y="13046"/>
                    <a:pt x="22690" y="13087"/>
                    <a:pt x="22725" y="13128"/>
                  </a:cubicBezTo>
                </a:path>
              </a:pathLst>
            </a:custGeom>
            <a:noFill/>
            <a:ln cap="rnd" w="38160">
              <a:solidFill>
                <a:srgbClr val="808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76" name=""/>
            <p:cNvSpPr/>
            <p:nvPr/>
          </p:nvSpPr>
          <p:spPr>
            <a:xfrm>
              <a:off x="5298840" y="2761920"/>
              <a:ext cx="79200" cy="82800"/>
            </a:xfrm>
            <a:custGeom>
              <a:avLst/>
              <a:gdLst/>
              <a:ahLst/>
              <a:rect l="l" t="t" r="r" b="b"/>
              <a:pathLst>
                <a:path w="218" h="231">
                  <a:moveTo>
                    <a:pt x="22905" y="13348"/>
                  </a:moveTo>
                  <a:cubicBezTo>
                    <a:pt x="22964" y="13374"/>
                    <a:pt x="22995" y="13401"/>
                    <a:pt x="23032" y="13454"/>
                  </a:cubicBezTo>
                  <a:cubicBezTo>
                    <a:pt x="23062" y="13496"/>
                    <a:pt x="23089" y="13538"/>
                    <a:pt x="23122" y="13578"/>
                  </a:cubicBezTo>
                </a:path>
              </a:pathLst>
            </a:custGeom>
            <a:noFill/>
            <a:ln cap="rnd" w="3816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7" name=""/>
            <p:cNvSpPr/>
            <p:nvPr/>
          </p:nvSpPr>
          <p:spPr>
            <a:xfrm>
              <a:off x="5317920" y="2943000"/>
              <a:ext cx="107640" cy="112680"/>
            </a:xfrm>
            <a:custGeom>
              <a:avLst/>
              <a:gdLst/>
              <a:ahLst/>
              <a:rect l="l" t="t" r="r" b="b"/>
              <a:pathLst>
                <a:path w="297" h="314">
                  <a:moveTo>
                    <a:pt x="23191" y="13851"/>
                  </a:moveTo>
                  <a:cubicBezTo>
                    <a:pt x="23210" y="13894"/>
                    <a:pt x="23229" y="13935"/>
                    <a:pt x="23244" y="13979"/>
                  </a:cubicBezTo>
                  <a:cubicBezTo>
                    <a:pt x="23247" y="13989"/>
                    <a:pt x="23251" y="14000"/>
                    <a:pt x="23254" y="14010"/>
                  </a:cubicBezTo>
                </a:path>
                <a:path w="297" h="314">
                  <a:moveTo>
                    <a:pt x="22958" y="14164"/>
                  </a:moveTo>
                  <a:cubicBezTo>
                    <a:pt x="23006" y="14164"/>
                    <a:pt x="23053" y="14161"/>
                    <a:pt x="23101" y="1416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8" name=""/>
            <p:cNvSpPr/>
            <p:nvPr/>
          </p:nvSpPr>
          <p:spPr>
            <a:xfrm>
              <a:off x="3441600" y="2435040"/>
              <a:ext cx="1758600" cy="1730160"/>
            </a:xfrm>
            <a:custGeom>
              <a:avLst/>
              <a:gdLst/>
              <a:ahLst/>
              <a:rect l="l" t="t" r="r" b="b"/>
              <a:pathLst>
                <a:path w="4885" h="4807">
                  <a:moveTo>
                    <a:pt x="22556" y="14173"/>
                  </a:moveTo>
                  <a:cubicBezTo>
                    <a:pt x="22593" y="14177"/>
                    <a:pt x="22605" y="14178"/>
                    <a:pt x="22630" y="14177"/>
                  </a:cubicBezTo>
                </a:path>
                <a:path w="4885" h="4807">
                  <a:moveTo>
                    <a:pt x="21053" y="16281"/>
                  </a:moveTo>
                  <a:cubicBezTo>
                    <a:pt x="21075" y="16323"/>
                    <a:pt x="21099" y="16366"/>
                    <a:pt x="21127" y="16404"/>
                  </a:cubicBezTo>
                  <a:cubicBezTo>
                    <a:pt x="21136" y="16414"/>
                    <a:pt x="21144" y="16425"/>
                    <a:pt x="21153" y="16435"/>
                  </a:cubicBezTo>
                </a:path>
                <a:path w="4885" h="4807">
                  <a:moveTo>
                    <a:pt x="21513" y="16902"/>
                  </a:moveTo>
                  <a:cubicBezTo>
                    <a:pt x="21522" y="16915"/>
                    <a:pt x="21531" y="16929"/>
                    <a:pt x="21540" y="16942"/>
                  </a:cubicBezTo>
                </a:path>
                <a:path w="4885" h="4807">
                  <a:moveTo>
                    <a:pt x="17746" y="17149"/>
                  </a:moveTo>
                  <a:cubicBezTo>
                    <a:pt x="17760" y="17185"/>
                    <a:pt x="17765" y="17207"/>
                    <a:pt x="17767" y="17246"/>
                  </a:cubicBezTo>
                </a:path>
                <a:path w="4885" h="4807">
                  <a:moveTo>
                    <a:pt x="18190" y="12440"/>
                  </a:moveTo>
                  <a:cubicBezTo>
                    <a:pt x="18210" y="12472"/>
                    <a:pt x="18229" y="12504"/>
                    <a:pt x="18248" y="12537"/>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9" name=""/>
            <p:cNvSpPr/>
            <p:nvPr/>
          </p:nvSpPr>
          <p:spPr>
            <a:xfrm>
              <a:off x="3490560" y="3904920"/>
              <a:ext cx="1360440" cy="241560"/>
            </a:xfrm>
            <a:custGeom>
              <a:avLst/>
              <a:gdLst/>
              <a:ahLst/>
              <a:rect l="l" t="t" r="r" b="b"/>
              <a:pathLst>
                <a:path w="3779" h="672">
                  <a:moveTo>
                    <a:pt x="18063" y="16523"/>
                  </a:moveTo>
                  <a:cubicBezTo>
                    <a:pt x="18056" y="16556"/>
                    <a:pt x="18047" y="16587"/>
                    <a:pt x="18037" y="16620"/>
                  </a:cubicBezTo>
                </a:path>
                <a:path w="3779" h="672">
                  <a:moveTo>
                    <a:pt x="17957" y="16828"/>
                  </a:moveTo>
                  <a:cubicBezTo>
                    <a:pt x="17933" y="16863"/>
                    <a:pt x="17909" y="16896"/>
                    <a:pt x="17883" y="16929"/>
                  </a:cubicBezTo>
                </a:path>
                <a:path w="3779" h="672">
                  <a:moveTo>
                    <a:pt x="21513" y="17154"/>
                  </a:moveTo>
                  <a:cubicBezTo>
                    <a:pt x="21565" y="17177"/>
                    <a:pt x="21605" y="17191"/>
                    <a:pt x="21661" y="1719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0" name=""/>
            <p:cNvSpPr/>
            <p:nvPr/>
          </p:nvSpPr>
          <p:spPr>
            <a:xfrm>
              <a:off x="3527280" y="3776400"/>
              <a:ext cx="136080" cy="403200"/>
            </a:xfrm>
            <a:custGeom>
              <a:avLst/>
              <a:gdLst/>
              <a:ahLst/>
              <a:rect l="l" t="t" r="r" b="b"/>
              <a:pathLst>
                <a:path w="376" h="1121">
                  <a:moveTo>
                    <a:pt x="18359" y="16166"/>
                  </a:moveTo>
                  <a:cubicBezTo>
                    <a:pt x="18343" y="16209"/>
                    <a:pt x="18322" y="16249"/>
                    <a:pt x="18301" y="16290"/>
                  </a:cubicBezTo>
                </a:path>
                <a:path w="376" h="1121">
                  <a:moveTo>
                    <a:pt x="17984" y="17286"/>
                  </a:moveTo>
                  <a:cubicBezTo>
                    <a:pt x="18033" y="17264"/>
                    <a:pt x="18083" y="17243"/>
                    <a:pt x="18137" y="17233"/>
                  </a:cubicBezTo>
                  <a:cubicBezTo>
                    <a:pt x="18175" y="17229"/>
                    <a:pt x="18189" y="17227"/>
                    <a:pt x="18211" y="17211"/>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1" name=""/>
            <p:cNvSpPr/>
            <p:nvPr/>
          </p:nvSpPr>
          <p:spPr>
            <a:xfrm>
              <a:off x="3732120" y="4159080"/>
              <a:ext cx="313920" cy="31680"/>
            </a:xfrm>
            <a:custGeom>
              <a:avLst/>
              <a:gdLst/>
              <a:ahLst/>
              <a:rect l="l" t="t" r="r" b="b"/>
              <a:pathLst>
                <a:path w="874" h="89">
                  <a:moveTo>
                    <a:pt x="18550" y="17246"/>
                  </a:moveTo>
                  <a:cubicBezTo>
                    <a:pt x="18600" y="17263"/>
                    <a:pt x="18647" y="17280"/>
                    <a:pt x="18698" y="17291"/>
                  </a:cubicBezTo>
                  <a:cubicBezTo>
                    <a:pt x="18747" y="17302"/>
                    <a:pt x="18796" y="17299"/>
                    <a:pt x="18846" y="17299"/>
                  </a:cubicBezTo>
                </a:path>
                <a:path w="874" h="89">
                  <a:moveTo>
                    <a:pt x="19090" y="17229"/>
                  </a:moveTo>
                  <a:cubicBezTo>
                    <a:pt x="19138" y="17255"/>
                    <a:pt x="19181" y="17266"/>
                    <a:pt x="19233" y="17282"/>
                  </a:cubicBezTo>
                  <a:cubicBezTo>
                    <a:pt x="19284" y="17298"/>
                    <a:pt x="19333" y="17307"/>
                    <a:pt x="19386" y="17313"/>
                  </a:cubicBezTo>
                  <a:cubicBezTo>
                    <a:pt x="19398" y="17314"/>
                    <a:pt x="19411" y="17316"/>
                    <a:pt x="19423" y="17317"/>
                  </a:cubicBezTo>
                </a:path>
              </a:pathLst>
            </a:custGeom>
            <a:noFill/>
            <a:ln cap="rnd" w="38160">
              <a:solidFill>
                <a:srgbClr val="808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782" name=""/>
            <p:cNvSpPr/>
            <p:nvPr/>
          </p:nvSpPr>
          <p:spPr>
            <a:xfrm>
              <a:off x="4182840" y="4187520"/>
              <a:ext cx="109080" cy="19080"/>
            </a:xfrm>
            <a:custGeom>
              <a:avLst/>
              <a:gdLst/>
              <a:ahLst/>
              <a:rect l="l" t="t" r="r" b="b"/>
              <a:pathLst>
                <a:path w="303" h="54">
                  <a:moveTo>
                    <a:pt x="19804" y="17308"/>
                  </a:moveTo>
                  <a:cubicBezTo>
                    <a:pt x="19864" y="17340"/>
                    <a:pt x="19890" y="17329"/>
                    <a:pt x="19952" y="17339"/>
                  </a:cubicBezTo>
                  <a:cubicBezTo>
                    <a:pt x="20005" y="17347"/>
                    <a:pt x="20051" y="17360"/>
                    <a:pt x="20106" y="17361"/>
                  </a:cubicBezTo>
                </a:path>
              </a:pathLst>
            </a:custGeom>
            <a:noFill/>
            <a:ln cap="rnd" w="38160">
              <a:solidFill>
                <a:srgbClr val="808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83" name=""/>
            <p:cNvSpPr/>
            <p:nvPr/>
          </p:nvSpPr>
          <p:spPr>
            <a:xfrm>
              <a:off x="4406760" y="4151160"/>
              <a:ext cx="337680" cy="33120"/>
            </a:xfrm>
            <a:custGeom>
              <a:avLst/>
              <a:gdLst/>
              <a:ahLst/>
              <a:rect l="l" t="t" r="r" b="b"/>
              <a:pathLst>
                <a:path w="938" h="93">
                  <a:moveTo>
                    <a:pt x="20428" y="17233"/>
                  </a:moveTo>
                  <a:cubicBezTo>
                    <a:pt x="20481" y="17267"/>
                    <a:pt x="20523" y="17290"/>
                    <a:pt x="20587" y="17295"/>
                  </a:cubicBezTo>
                  <a:cubicBezTo>
                    <a:pt x="20637" y="17299"/>
                    <a:pt x="20685" y="17293"/>
                    <a:pt x="20735" y="17295"/>
                  </a:cubicBezTo>
                  <a:cubicBezTo>
                    <a:pt x="20747" y="17296"/>
                    <a:pt x="20760" y="17298"/>
                    <a:pt x="20772" y="17299"/>
                  </a:cubicBezTo>
                </a:path>
                <a:path w="938" h="93">
                  <a:moveTo>
                    <a:pt x="21063" y="17207"/>
                  </a:moveTo>
                  <a:cubicBezTo>
                    <a:pt x="21117" y="17234"/>
                    <a:pt x="21156" y="17253"/>
                    <a:pt x="21217" y="17255"/>
                  </a:cubicBezTo>
                  <a:cubicBezTo>
                    <a:pt x="21268" y="17256"/>
                    <a:pt x="21316" y="17256"/>
                    <a:pt x="21365" y="17264"/>
                  </a:cubicBezTo>
                </a:path>
              </a:pathLst>
            </a:custGeom>
            <a:noFill/>
            <a:ln cap="rnd" w="38160">
              <a:solidFill>
                <a:srgbClr val="808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784" name=""/>
            <p:cNvSpPr/>
            <p:nvPr/>
          </p:nvSpPr>
          <p:spPr>
            <a:xfrm>
              <a:off x="4716360" y="3927240"/>
              <a:ext cx="64800" cy="76320"/>
            </a:xfrm>
            <a:custGeom>
              <a:avLst/>
              <a:gdLst/>
              <a:ahLst/>
              <a:rect l="l" t="t" r="r" b="b"/>
              <a:pathLst>
                <a:path w="181" h="213">
                  <a:moveTo>
                    <a:pt x="21286" y="16585"/>
                  </a:moveTo>
                  <a:cubicBezTo>
                    <a:pt x="21335" y="16621"/>
                    <a:pt x="21379" y="16656"/>
                    <a:pt x="21413" y="16708"/>
                  </a:cubicBezTo>
                  <a:cubicBezTo>
                    <a:pt x="21431" y="16737"/>
                    <a:pt x="21448" y="16768"/>
                    <a:pt x="21466" y="16797"/>
                  </a:cubicBezTo>
                </a:path>
              </a:pathLst>
            </a:custGeom>
            <a:noFill/>
            <a:ln cap="rnd" w="38160">
              <a:solidFill>
                <a:srgbClr val="80808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5" name=""/>
            <p:cNvSpPr/>
            <p:nvPr/>
          </p:nvSpPr>
          <p:spPr>
            <a:xfrm>
              <a:off x="3528720" y="2339640"/>
              <a:ext cx="39600" cy="23760"/>
            </a:xfrm>
            <a:custGeom>
              <a:avLst/>
              <a:gdLst/>
              <a:ahLst/>
              <a:rect l="l" t="t" r="r" b="b"/>
              <a:pathLst>
                <a:path w="107" h="67">
                  <a:moveTo>
                    <a:pt x="17989" y="12175"/>
                  </a:moveTo>
                  <a:cubicBezTo>
                    <a:pt x="18033" y="12194"/>
                    <a:pt x="18060" y="12210"/>
                    <a:pt x="18095" y="12241"/>
                  </a:cubicBezTo>
                </a:path>
              </a:pathLst>
            </a:custGeom>
            <a:noFill/>
            <a:ln cap="rnd" w="38160">
              <a:solidFill>
                <a:srgbClr val="808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86" name=""/>
            <p:cNvSpPr/>
            <p:nvPr/>
          </p:nvSpPr>
          <p:spPr>
            <a:xfrm>
              <a:off x="3354120" y="2360520"/>
              <a:ext cx="320400" cy="293400"/>
            </a:xfrm>
            <a:custGeom>
              <a:avLst/>
              <a:gdLst/>
              <a:ahLst/>
              <a:rect l="l" t="t" r="r" b="b"/>
              <a:pathLst>
                <a:path w="890" h="816">
                  <a:moveTo>
                    <a:pt x="18391" y="12599"/>
                  </a:moveTo>
                  <a:cubicBezTo>
                    <a:pt x="18371" y="12646"/>
                    <a:pt x="18374" y="12680"/>
                    <a:pt x="18381" y="12731"/>
                  </a:cubicBezTo>
                </a:path>
                <a:path w="890" h="816">
                  <a:moveTo>
                    <a:pt x="17936" y="12233"/>
                  </a:moveTo>
                  <a:cubicBezTo>
                    <a:pt x="17927" y="12275"/>
                    <a:pt x="17916" y="12312"/>
                    <a:pt x="17915" y="12356"/>
                  </a:cubicBezTo>
                  <a:cubicBezTo>
                    <a:pt x="17915" y="12368"/>
                    <a:pt x="17915" y="12379"/>
                    <a:pt x="17915" y="12391"/>
                  </a:cubicBezTo>
                </a:path>
                <a:path w="890" h="816">
                  <a:moveTo>
                    <a:pt x="17836" y="12431"/>
                  </a:moveTo>
                  <a:cubicBezTo>
                    <a:pt x="17803" y="12470"/>
                    <a:pt x="17774" y="12508"/>
                    <a:pt x="17746" y="12550"/>
                  </a:cubicBezTo>
                  <a:cubicBezTo>
                    <a:pt x="17726" y="12581"/>
                    <a:pt x="17710" y="12610"/>
                    <a:pt x="17693" y="12643"/>
                  </a:cubicBezTo>
                </a:path>
                <a:path w="890" h="816">
                  <a:moveTo>
                    <a:pt x="17634" y="12837"/>
                  </a:moveTo>
                  <a:cubicBezTo>
                    <a:pt x="17589" y="12870"/>
                    <a:pt x="17558" y="12903"/>
                    <a:pt x="17534" y="12956"/>
                  </a:cubicBezTo>
                  <a:cubicBezTo>
                    <a:pt x="17521" y="12986"/>
                    <a:pt x="17513" y="13018"/>
                    <a:pt x="17502" y="1304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7" name=""/>
            <p:cNvSpPr/>
            <p:nvPr/>
          </p:nvSpPr>
          <p:spPr>
            <a:xfrm>
              <a:off x="3295440" y="2746080"/>
              <a:ext cx="31320" cy="44640"/>
            </a:xfrm>
            <a:custGeom>
              <a:avLst/>
              <a:gdLst/>
              <a:ahLst/>
              <a:rect l="l" t="t" r="r" b="b"/>
              <a:pathLst>
                <a:path w="91" h="125">
                  <a:moveTo>
                    <a:pt x="17428" y="13304"/>
                  </a:moveTo>
                  <a:cubicBezTo>
                    <a:pt x="17399" y="13347"/>
                    <a:pt x="17368" y="13387"/>
                    <a:pt x="17338" y="13428"/>
                  </a:cubicBezTo>
                </a:path>
              </a:pathLst>
            </a:custGeom>
            <a:noFill/>
            <a:ln cap="rnd" w="38160">
              <a:solidFill>
                <a:srgbClr val="80808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88" name=""/>
            <p:cNvSpPr/>
            <p:nvPr/>
          </p:nvSpPr>
          <p:spPr>
            <a:xfrm>
              <a:off x="3200400" y="2906640"/>
              <a:ext cx="236160" cy="152280"/>
            </a:xfrm>
            <a:custGeom>
              <a:avLst/>
              <a:gdLst/>
              <a:ahLst/>
              <a:rect l="l" t="t" r="r" b="b"/>
              <a:pathLst>
                <a:path w="657" h="424">
                  <a:moveTo>
                    <a:pt x="17174" y="13750"/>
                  </a:moveTo>
                  <a:cubicBezTo>
                    <a:pt x="17137" y="13790"/>
                    <a:pt x="17119" y="13822"/>
                    <a:pt x="17100" y="13873"/>
                  </a:cubicBezTo>
                  <a:cubicBezTo>
                    <a:pt x="17089" y="13904"/>
                    <a:pt x="17085" y="13915"/>
                    <a:pt x="17074" y="13935"/>
                  </a:cubicBezTo>
                </a:path>
                <a:path w="657" h="424">
                  <a:moveTo>
                    <a:pt x="17074" y="14173"/>
                  </a:moveTo>
                  <a:cubicBezTo>
                    <a:pt x="17122" y="14145"/>
                    <a:pt x="17174" y="14122"/>
                    <a:pt x="17232" y="14116"/>
                  </a:cubicBezTo>
                  <a:cubicBezTo>
                    <a:pt x="17268" y="14112"/>
                    <a:pt x="17307" y="14116"/>
                    <a:pt x="17343" y="14116"/>
                  </a:cubicBezTo>
                </a:path>
                <a:path w="657" h="424">
                  <a:moveTo>
                    <a:pt x="17470" y="14111"/>
                  </a:moveTo>
                  <a:cubicBezTo>
                    <a:pt x="17518" y="14113"/>
                    <a:pt x="17571" y="14113"/>
                    <a:pt x="17619" y="14120"/>
                  </a:cubicBezTo>
                  <a:cubicBezTo>
                    <a:pt x="17658" y="14126"/>
                    <a:pt x="17691" y="14136"/>
                    <a:pt x="17730" y="1413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9" name=""/>
          <p:cNvSpPr/>
          <p:nvPr/>
        </p:nvSpPr>
        <p:spPr>
          <a:xfrm>
            <a:off x="3048120" y="2144880"/>
            <a:ext cx="260496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0" name=""/>
          <p:cNvSpPr/>
          <p:nvPr/>
        </p:nvSpPr>
        <p:spPr>
          <a:xfrm>
            <a:off x="3429000" y="1371600"/>
            <a:ext cx="544680" cy="53352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1" name=""/>
          <p:cNvSpPr/>
          <p:nvPr/>
        </p:nvSpPr>
        <p:spPr>
          <a:xfrm>
            <a:off x="6858000" y="477504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333399"/>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92" name=""/>
          <p:cNvSpPr/>
          <p:nvPr/>
        </p:nvSpPr>
        <p:spPr>
          <a:xfrm>
            <a:off x="6950520" y="449568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hiteboard"/>
              </a:rPr>
              <a:t>Next Steps</a:t>
            </a:r>
            <a:endParaRPr b="0" lang="en-US" sz="1800" spc="-1" strike="noStrike">
              <a:solidFill>
                <a:srgbClr val="000000"/>
              </a:solidFill>
              <a:latin typeface="Arial"/>
            </a:endParaRPr>
          </a:p>
        </p:txBody>
      </p:sp>
      <p:sp>
        <p:nvSpPr>
          <p:cNvPr id="3793" name=""/>
          <p:cNvSpPr/>
          <p:nvPr/>
        </p:nvSpPr>
        <p:spPr>
          <a:xfrm>
            <a:off x="6991200" y="4800600"/>
            <a:ext cx="17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hiteboard"/>
              </a:rPr>
              <a:t>F4p Workshop</a:t>
            </a:r>
            <a:endParaRPr b="0" lang="en-US" sz="1800" spc="-1" strike="noStrike">
              <a:solidFill>
                <a:srgbClr val="000000"/>
              </a:solidFill>
              <a:latin typeface="Arial"/>
            </a:endParaRPr>
          </a:p>
        </p:txBody>
      </p:sp>
      <p:sp>
        <p:nvSpPr>
          <p:cNvPr id="3794" name=""/>
          <p:cNvSpPr/>
          <p:nvPr/>
        </p:nvSpPr>
        <p:spPr>
          <a:xfrm>
            <a:off x="6899400" y="5008680"/>
            <a:ext cx="149040" cy="17280"/>
          </a:xfrm>
          <a:custGeom>
            <a:avLst/>
            <a:gdLst/>
            <a:ahLst/>
            <a:rect l="l" t="t" r="r" b="b"/>
            <a:pathLst>
              <a:path w="414" h="49">
                <a:moveTo>
                  <a:pt x="18529" y="14455"/>
                </a:moveTo>
                <a:cubicBezTo>
                  <a:pt x="18579" y="14430"/>
                  <a:pt x="18621" y="14418"/>
                  <a:pt x="18677" y="14411"/>
                </a:cubicBezTo>
                <a:cubicBezTo>
                  <a:pt x="18728" y="14405"/>
                  <a:pt x="18774" y="14417"/>
                  <a:pt x="18825" y="14420"/>
                </a:cubicBezTo>
                <a:cubicBezTo>
                  <a:pt x="18868" y="14422"/>
                  <a:pt x="18900" y="14425"/>
                  <a:pt x="18942" y="14437"/>
                </a:cubicBezTo>
              </a:path>
            </a:pathLst>
          </a:custGeom>
          <a:noFill/>
          <a:ln cap="rnd" w="28440">
            <a:solidFill>
              <a:srgbClr val="333399"/>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95" name=""/>
          <p:cNvSpPr/>
          <p:nvPr/>
        </p:nvSpPr>
        <p:spPr>
          <a:xfrm>
            <a:off x="4343400" y="3111480"/>
            <a:ext cx="351000" cy="343080"/>
          </a:xfrm>
          <a:custGeom>
            <a:avLst/>
            <a:gdLst/>
            <a:ahLst/>
            <a:rect l="l" t="t" r="r" b="b"/>
            <a:pathLst>
              <a:path w="976" h="954">
                <a:moveTo>
                  <a:pt x="12143" y="9683"/>
                </a:moveTo>
                <a:cubicBezTo>
                  <a:pt x="12224" y="9627"/>
                  <a:pt x="12316" y="9587"/>
                  <a:pt x="12404" y="9542"/>
                </a:cubicBezTo>
                <a:cubicBezTo>
                  <a:pt x="12446" y="9521"/>
                  <a:pt x="12490" y="9502"/>
                  <a:pt x="12532" y="9481"/>
                </a:cubicBezTo>
                <a:cubicBezTo>
                  <a:pt x="12573" y="9460"/>
                  <a:pt x="12624" y="9438"/>
                  <a:pt x="12660" y="9409"/>
                </a:cubicBezTo>
                <a:cubicBezTo>
                  <a:pt x="12725" y="9357"/>
                  <a:pt x="12785" y="9285"/>
                  <a:pt x="12834" y="9218"/>
                </a:cubicBezTo>
                <a:cubicBezTo>
                  <a:pt x="12868" y="9171"/>
                  <a:pt x="12892" y="9122"/>
                  <a:pt x="12930" y="9077"/>
                </a:cubicBezTo>
                <a:cubicBezTo>
                  <a:pt x="12961" y="9040"/>
                  <a:pt x="12991" y="9006"/>
                  <a:pt x="13017" y="8966"/>
                </a:cubicBezTo>
                <a:cubicBezTo>
                  <a:pt x="13036" y="8937"/>
                  <a:pt x="13054" y="8893"/>
                  <a:pt x="13063" y="8859"/>
                </a:cubicBezTo>
                <a:cubicBezTo>
                  <a:pt x="13072" y="8824"/>
                  <a:pt x="13083" y="8792"/>
                  <a:pt x="13090" y="8757"/>
                </a:cubicBezTo>
                <a:cubicBezTo>
                  <a:pt x="13090" y="8748"/>
                  <a:pt x="13090" y="8739"/>
                  <a:pt x="13090" y="8730"/>
                </a:cubicBezTo>
                <a:cubicBezTo>
                  <a:pt x="13051" y="8761"/>
                  <a:pt x="13021" y="8795"/>
                  <a:pt x="12989" y="8833"/>
                </a:cubicBezTo>
                <a:cubicBezTo>
                  <a:pt x="12967" y="8859"/>
                  <a:pt x="12960" y="8867"/>
                  <a:pt x="12948" y="8886"/>
                </a:cubicBezTo>
                <a:cubicBezTo>
                  <a:pt x="12999" y="8848"/>
                  <a:pt x="13043" y="8810"/>
                  <a:pt x="13081" y="8760"/>
                </a:cubicBezTo>
                <a:cubicBezTo>
                  <a:pt x="13100" y="8808"/>
                  <a:pt x="13114" y="8849"/>
                  <a:pt x="13118" y="8901"/>
                </a:cubicBezTo>
                <a:cubicBezTo>
                  <a:pt x="13118" y="8910"/>
                  <a:pt x="13118" y="8919"/>
                  <a:pt x="13118" y="8928"/>
                </a:cubicBezTo>
              </a:path>
              <a:path w="976" h="954">
                <a:moveTo>
                  <a:pt x="12330" y="9458"/>
                </a:moveTo>
                <a:cubicBezTo>
                  <a:pt x="12273" y="9489"/>
                  <a:pt x="12233" y="9529"/>
                  <a:pt x="12189" y="9576"/>
                </a:cubicBezTo>
                <a:cubicBezTo>
                  <a:pt x="12166" y="9603"/>
                  <a:pt x="12158" y="9612"/>
                  <a:pt x="12143" y="9630"/>
                </a:cubicBezTo>
                <a:cubicBezTo>
                  <a:pt x="12187" y="9630"/>
                  <a:pt x="12228" y="9626"/>
                  <a:pt x="12271" y="9622"/>
                </a:cubicBezTo>
                <a:cubicBezTo>
                  <a:pt x="12315" y="9618"/>
                  <a:pt x="12356" y="9625"/>
                  <a:pt x="12399" y="963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6" name=""/>
          <p:cNvSpPr/>
          <p:nvPr/>
        </p:nvSpPr>
        <p:spPr>
          <a:xfrm>
            <a:off x="3657600" y="3048120"/>
            <a:ext cx="225360" cy="431640"/>
          </a:xfrm>
          <a:custGeom>
            <a:avLst/>
            <a:gdLst/>
            <a:ahLst/>
            <a:rect l="l" t="t" r="r" b="b"/>
            <a:pathLst>
              <a:path w="628" h="1202">
                <a:moveTo>
                  <a:pt x="10230" y="8501"/>
                </a:moveTo>
                <a:cubicBezTo>
                  <a:pt x="10223" y="8543"/>
                  <a:pt x="10221" y="8581"/>
                  <a:pt x="10221" y="8623"/>
                </a:cubicBezTo>
                <a:cubicBezTo>
                  <a:pt x="10221" y="8662"/>
                  <a:pt x="10224" y="8696"/>
                  <a:pt x="10230" y="8734"/>
                </a:cubicBezTo>
                <a:cubicBezTo>
                  <a:pt x="10240" y="8792"/>
                  <a:pt x="10247" y="8850"/>
                  <a:pt x="10253" y="8909"/>
                </a:cubicBezTo>
                <a:cubicBezTo>
                  <a:pt x="10258" y="8966"/>
                  <a:pt x="10288" y="8998"/>
                  <a:pt x="10312" y="9046"/>
                </a:cubicBezTo>
                <a:cubicBezTo>
                  <a:pt x="10332" y="9085"/>
                  <a:pt x="10340" y="9125"/>
                  <a:pt x="10367" y="9161"/>
                </a:cubicBezTo>
                <a:cubicBezTo>
                  <a:pt x="10394" y="9198"/>
                  <a:pt x="10421" y="9232"/>
                  <a:pt x="10450" y="9268"/>
                </a:cubicBezTo>
                <a:cubicBezTo>
                  <a:pt x="10481" y="9306"/>
                  <a:pt x="10516" y="9339"/>
                  <a:pt x="10546" y="9378"/>
                </a:cubicBezTo>
                <a:cubicBezTo>
                  <a:pt x="10574" y="9414"/>
                  <a:pt x="10595" y="9453"/>
                  <a:pt x="10623" y="9489"/>
                </a:cubicBezTo>
                <a:cubicBezTo>
                  <a:pt x="10657" y="9533"/>
                  <a:pt x="10691" y="9556"/>
                  <a:pt x="10738" y="9584"/>
                </a:cubicBezTo>
              </a:path>
              <a:path w="628" h="1202">
                <a:moveTo>
                  <a:pt x="10221" y="8547"/>
                </a:moveTo>
                <a:cubicBezTo>
                  <a:pt x="10198" y="8590"/>
                  <a:pt x="10191" y="8619"/>
                  <a:pt x="10180" y="8665"/>
                </a:cubicBezTo>
                <a:cubicBezTo>
                  <a:pt x="10171" y="8703"/>
                  <a:pt x="10163" y="8742"/>
                  <a:pt x="10152" y="8779"/>
                </a:cubicBezTo>
                <a:cubicBezTo>
                  <a:pt x="10144" y="8806"/>
                  <a:pt x="10142" y="8829"/>
                  <a:pt x="10138" y="8856"/>
                </a:cubicBezTo>
                <a:cubicBezTo>
                  <a:pt x="10138" y="8816"/>
                  <a:pt x="10142" y="8783"/>
                  <a:pt x="10152" y="8745"/>
                </a:cubicBezTo>
                <a:cubicBezTo>
                  <a:pt x="10164" y="8699"/>
                  <a:pt x="10170" y="8653"/>
                  <a:pt x="10184" y="8608"/>
                </a:cubicBezTo>
                <a:cubicBezTo>
                  <a:pt x="10229" y="8652"/>
                  <a:pt x="10270" y="8699"/>
                  <a:pt x="10312" y="8745"/>
                </a:cubicBezTo>
              </a:path>
              <a:path w="628" h="1202">
                <a:moveTo>
                  <a:pt x="10651" y="9653"/>
                </a:moveTo>
                <a:cubicBezTo>
                  <a:pt x="10640" y="9649"/>
                  <a:pt x="10630" y="9645"/>
                  <a:pt x="10619" y="9641"/>
                </a:cubicBezTo>
                <a:cubicBezTo>
                  <a:pt x="10662" y="9666"/>
                  <a:pt x="10700" y="9686"/>
                  <a:pt x="10747" y="9702"/>
                </a:cubicBezTo>
                <a:cubicBezTo>
                  <a:pt x="10757" y="9665"/>
                  <a:pt x="10768" y="9627"/>
                  <a:pt x="10765" y="9588"/>
                </a:cubicBezTo>
                <a:cubicBezTo>
                  <a:pt x="10763" y="9552"/>
                  <a:pt x="10765" y="9517"/>
                  <a:pt x="10761" y="9481"/>
                </a:cubicBezTo>
                <a:cubicBezTo>
                  <a:pt x="10756" y="9454"/>
                  <a:pt x="10754" y="9446"/>
                  <a:pt x="10756" y="942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7" name=""/>
          <p:cNvSpPr/>
          <p:nvPr/>
        </p:nvSpPr>
        <p:spPr>
          <a:xfrm>
            <a:off x="2895480" y="5562720"/>
            <a:ext cx="1109880" cy="554040"/>
          </a:xfrm>
          <a:custGeom>
            <a:avLst/>
            <a:gdLst/>
            <a:ahLst/>
            <a:rect l="l" t="t" r="r" b="b"/>
            <a:pathLst>
              <a:path w="3086" h="1542">
                <a:moveTo>
                  <a:pt x="22147" y="8291"/>
                </a:moveTo>
                <a:cubicBezTo>
                  <a:pt x="22227" y="8358"/>
                  <a:pt x="22309" y="8435"/>
                  <a:pt x="22394" y="8497"/>
                </a:cubicBezTo>
                <a:cubicBezTo>
                  <a:pt x="22551" y="8612"/>
                  <a:pt x="22723" y="8655"/>
                  <a:pt x="22916" y="8661"/>
                </a:cubicBezTo>
                <a:cubicBezTo>
                  <a:pt x="23038" y="8665"/>
                  <a:pt x="23165" y="8662"/>
                  <a:pt x="23286" y="8650"/>
                </a:cubicBezTo>
                <a:cubicBezTo>
                  <a:pt x="23437" y="8635"/>
                  <a:pt x="23588" y="8622"/>
                  <a:pt x="23739" y="8612"/>
                </a:cubicBezTo>
                <a:cubicBezTo>
                  <a:pt x="23886" y="8602"/>
                  <a:pt x="24029" y="8578"/>
                  <a:pt x="24174" y="8551"/>
                </a:cubicBezTo>
                <a:cubicBezTo>
                  <a:pt x="24370" y="8514"/>
                  <a:pt x="24575" y="8487"/>
                  <a:pt x="24760" y="8409"/>
                </a:cubicBezTo>
                <a:cubicBezTo>
                  <a:pt x="24823" y="8383"/>
                  <a:pt x="24870" y="8356"/>
                  <a:pt x="24897" y="8291"/>
                </a:cubicBezTo>
                <a:cubicBezTo>
                  <a:pt x="24969" y="8118"/>
                  <a:pt x="24833" y="7838"/>
                  <a:pt x="24764" y="7685"/>
                </a:cubicBezTo>
                <a:cubicBezTo>
                  <a:pt x="24710" y="7567"/>
                  <a:pt x="24654" y="7425"/>
                  <a:pt x="24563" y="7330"/>
                </a:cubicBezTo>
                <a:cubicBezTo>
                  <a:pt x="24399" y="7158"/>
                  <a:pt x="24172" y="7142"/>
                  <a:pt x="23950" y="7132"/>
                </a:cubicBezTo>
                <a:cubicBezTo>
                  <a:pt x="23826" y="7126"/>
                  <a:pt x="23703" y="7120"/>
                  <a:pt x="23579" y="7120"/>
                </a:cubicBezTo>
                <a:cubicBezTo>
                  <a:pt x="23399" y="7120"/>
                  <a:pt x="23211" y="7122"/>
                  <a:pt x="23034" y="7155"/>
                </a:cubicBezTo>
                <a:cubicBezTo>
                  <a:pt x="22862" y="7187"/>
                  <a:pt x="22691" y="7242"/>
                  <a:pt x="22522" y="7288"/>
                </a:cubicBezTo>
                <a:cubicBezTo>
                  <a:pt x="22347" y="7336"/>
                  <a:pt x="22181" y="7408"/>
                  <a:pt x="22041" y="7525"/>
                </a:cubicBezTo>
                <a:cubicBezTo>
                  <a:pt x="21939" y="7610"/>
                  <a:pt x="21900" y="7726"/>
                  <a:pt x="21868" y="7853"/>
                </a:cubicBezTo>
                <a:cubicBezTo>
                  <a:pt x="21832" y="7999"/>
                  <a:pt x="21783" y="8193"/>
                  <a:pt x="21886" y="8322"/>
                </a:cubicBezTo>
                <a:cubicBezTo>
                  <a:pt x="21925" y="8370"/>
                  <a:pt x="21983" y="8423"/>
                  <a:pt x="22037" y="8455"/>
                </a:cubicBezTo>
                <a:cubicBezTo>
                  <a:pt x="22159" y="8526"/>
                  <a:pt x="22315" y="8553"/>
                  <a:pt x="22453" y="8570"/>
                </a:cubicBezTo>
                <a:cubicBezTo>
                  <a:pt x="22538" y="8580"/>
                  <a:pt x="22621" y="8575"/>
                  <a:pt x="22705" y="8577"/>
                </a:cubicBezTo>
                <a:cubicBezTo>
                  <a:pt x="22779" y="8579"/>
                  <a:pt x="22851" y="8579"/>
                  <a:pt x="22925" y="8577"/>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8" name=""/>
          <p:cNvSpPr/>
          <p:nvPr/>
        </p:nvSpPr>
        <p:spPr>
          <a:xfrm>
            <a:off x="276120" y="2120760"/>
            <a:ext cx="1447920" cy="554040"/>
          </a:xfrm>
          <a:custGeom>
            <a:avLst/>
            <a:gdLst/>
            <a:ahLst/>
            <a:rect l="l" t="t" r="r" b="b"/>
            <a:pathLst>
              <a:path w="3086" h="1542">
                <a:moveTo>
                  <a:pt x="22147" y="8291"/>
                </a:moveTo>
                <a:cubicBezTo>
                  <a:pt x="22227" y="8358"/>
                  <a:pt x="22309" y="8435"/>
                  <a:pt x="22394" y="8497"/>
                </a:cubicBezTo>
                <a:cubicBezTo>
                  <a:pt x="22551" y="8612"/>
                  <a:pt x="22723" y="8655"/>
                  <a:pt x="22916" y="8661"/>
                </a:cubicBezTo>
                <a:cubicBezTo>
                  <a:pt x="23038" y="8665"/>
                  <a:pt x="23165" y="8662"/>
                  <a:pt x="23286" y="8650"/>
                </a:cubicBezTo>
                <a:cubicBezTo>
                  <a:pt x="23437" y="8635"/>
                  <a:pt x="23588" y="8622"/>
                  <a:pt x="23739" y="8612"/>
                </a:cubicBezTo>
                <a:cubicBezTo>
                  <a:pt x="23886" y="8602"/>
                  <a:pt x="24029" y="8578"/>
                  <a:pt x="24174" y="8551"/>
                </a:cubicBezTo>
                <a:cubicBezTo>
                  <a:pt x="24370" y="8514"/>
                  <a:pt x="24575" y="8487"/>
                  <a:pt x="24760" y="8409"/>
                </a:cubicBezTo>
                <a:cubicBezTo>
                  <a:pt x="24823" y="8383"/>
                  <a:pt x="24870" y="8356"/>
                  <a:pt x="24897" y="8291"/>
                </a:cubicBezTo>
                <a:cubicBezTo>
                  <a:pt x="24969" y="8118"/>
                  <a:pt x="24833" y="7838"/>
                  <a:pt x="24764" y="7685"/>
                </a:cubicBezTo>
                <a:cubicBezTo>
                  <a:pt x="24710" y="7567"/>
                  <a:pt x="24654" y="7425"/>
                  <a:pt x="24563" y="7330"/>
                </a:cubicBezTo>
                <a:cubicBezTo>
                  <a:pt x="24399" y="7158"/>
                  <a:pt x="24172" y="7142"/>
                  <a:pt x="23950" y="7132"/>
                </a:cubicBezTo>
                <a:cubicBezTo>
                  <a:pt x="23826" y="7126"/>
                  <a:pt x="23703" y="7120"/>
                  <a:pt x="23579" y="7120"/>
                </a:cubicBezTo>
                <a:cubicBezTo>
                  <a:pt x="23399" y="7120"/>
                  <a:pt x="23211" y="7122"/>
                  <a:pt x="23034" y="7155"/>
                </a:cubicBezTo>
                <a:cubicBezTo>
                  <a:pt x="22862" y="7187"/>
                  <a:pt x="22691" y="7242"/>
                  <a:pt x="22522" y="7288"/>
                </a:cubicBezTo>
                <a:cubicBezTo>
                  <a:pt x="22347" y="7336"/>
                  <a:pt x="22181" y="7408"/>
                  <a:pt x="22041" y="7525"/>
                </a:cubicBezTo>
                <a:cubicBezTo>
                  <a:pt x="21939" y="7610"/>
                  <a:pt x="21900" y="7726"/>
                  <a:pt x="21868" y="7853"/>
                </a:cubicBezTo>
                <a:cubicBezTo>
                  <a:pt x="21832" y="7999"/>
                  <a:pt x="21783" y="8193"/>
                  <a:pt x="21886" y="8322"/>
                </a:cubicBezTo>
                <a:cubicBezTo>
                  <a:pt x="21925" y="8370"/>
                  <a:pt x="21983" y="8423"/>
                  <a:pt x="22037" y="8455"/>
                </a:cubicBezTo>
                <a:cubicBezTo>
                  <a:pt x="22159" y="8526"/>
                  <a:pt x="22315" y="8553"/>
                  <a:pt x="22453" y="8570"/>
                </a:cubicBezTo>
                <a:cubicBezTo>
                  <a:pt x="22538" y="8580"/>
                  <a:pt x="22621" y="8575"/>
                  <a:pt x="22705" y="8577"/>
                </a:cubicBezTo>
                <a:cubicBezTo>
                  <a:pt x="22779" y="8579"/>
                  <a:pt x="22851" y="8579"/>
                  <a:pt x="22925" y="8577"/>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9" name=""/>
          <p:cNvSpPr/>
          <p:nvPr/>
        </p:nvSpPr>
        <p:spPr>
          <a:xfrm>
            <a:off x="5991120" y="749160"/>
            <a:ext cx="1447920" cy="554040"/>
          </a:xfrm>
          <a:custGeom>
            <a:avLst/>
            <a:gdLst/>
            <a:ahLst/>
            <a:rect l="l" t="t" r="r" b="b"/>
            <a:pathLst>
              <a:path w="3086" h="1542">
                <a:moveTo>
                  <a:pt x="22147" y="8291"/>
                </a:moveTo>
                <a:cubicBezTo>
                  <a:pt x="22227" y="8358"/>
                  <a:pt x="22309" y="8435"/>
                  <a:pt x="22394" y="8497"/>
                </a:cubicBezTo>
                <a:cubicBezTo>
                  <a:pt x="22551" y="8612"/>
                  <a:pt x="22723" y="8655"/>
                  <a:pt x="22916" y="8661"/>
                </a:cubicBezTo>
                <a:cubicBezTo>
                  <a:pt x="23038" y="8665"/>
                  <a:pt x="23165" y="8662"/>
                  <a:pt x="23286" y="8650"/>
                </a:cubicBezTo>
                <a:cubicBezTo>
                  <a:pt x="23437" y="8635"/>
                  <a:pt x="23588" y="8622"/>
                  <a:pt x="23739" y="8612"/>
                </a:cubicBezTo>
                <a:cubicBezTo>
                  <a:pt x="23886" y="8602"/>
                  <a:pt x="24029" y="8578"/>
                  <a:pt x="24174" y="8551"/>
                </a:cubicBezTo>
                <a:cubicBezTo>
                  <a:pt x="24370" y="8514"/>
                  <a:pt x="24575" y="8487"/>
                  <a:pt x="24760" y="8409"/>
                </a:cubicBezTo>
                <a:cubicBezTo>
                  <a:pt x="24823" y="8383"/>
                  <a:pt x="24870" y="8356"/>
                  <a:pt x="24897" y="8291"/>
                </a:cubicBezTo>
                <a:cubicBezTo>
                  <a:pt x="24969" y="8118"/>
                  <a:pt x="24833" y="7838"/>
                  <a:pt x="24764" y="7685"/>
                </a:cubicBezTo>
                <a:cubicBezTo>
                  <a:pt x="24710" y="7567"/>
                  <a:pt x="24654" y="7425"/>
                  <a:pt x="24563" y="7330"/>
                </a:cubicBezTo>
                <a:cubicBezTo>
                  <a:pt x="24399" y="7158"/>
                  <a:pt x="24172" y="7142"/>
                  <a:pt x="23950" y="7132"/>
                </a:cubicBezTo>
                <a:cubicBezTo>
                  <a:pt x="23826" y="7126"/>
                  <a:pt x="23703" y="7120"/>
                  <a:pt x="23579" y="7120"/>
                </a:cubicBezTo>
                <a:cubicBezTo>
                  <a:pt x="23399" y="7120"/>
                  <a:pt x="23211" y="7122"/>
                  <a:pt x="23034" y="7155"/>
                </a:cubicBezTo>
                <a:cubicBezTo>
                  <a:pt x="22862" y="7187"/>
                  <a:pt x="22691" y="7242"/>
                  <a:pt x="22522" y="7288"/>
                </a:cubicBezTo>
                <a:cubicBezTo>
                  <a:pt x="22347" y="7336"/>
                  <a:pt x="22181" y="7408"/>
                  <a:pt x="22041" y="7525"/>
                </a:cubicBezTo>
                <a:cubicBezTo>
                  <a:pt x="21939" y="7610"/>
                  <a:pt x="21900" y="7726"/>
                  <a:pt x="21868" y="7853"/>
                </a:cubicBezTo>
                <a:cubicBezTo>
                  <a:pt x="21832" y="7999"/>
                  <a:pt x="21783" y="8193"/>
                  <a:pt x="21886" y="8322"/>
                </a:cubicBezTo>
                <a:cubicBezTo>
                  <a:pt x="21925" y="8370"/>
                  <a:pt x="21983" y="8423"/>
                  <a:pt x="22037" y="8455"/>
                </a:cubicBezTo>
                <a:cubicBezTo>
                  <a:pt x="22159" y="8526"/>
                  <a:pt x="22315" y="8553"/>
                  <a:pt x="22453" y="8570"/>
                </a:cubicBezTo>
                <a:cubicBezTo>
                  <a:pt x="22538" y="8580"/>
                  <a:pt x="22621" y="8575"/>
                  <a:pt x="22705" y="8577"/>
                </a:cubicBezTo>
                <a:cubicBezTo>
                  <a:pt x="22779" y="8579"/>
                  <a:pt x="22851" y="8579"/>
                  <a:pt x="22925" y="8577"/>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0" name=""/>
          <p:cNvSpPr/>
          <p:nvPr/>
        </p:nvSpPr>
        <p:spPr>
          <a:xfrm>
            <a:off x="5000760" y="2882880"/>
            <a:ext cx="511200" cy="62532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1" name=""/>
          <p:cNvSpPr/>
          <p:nvPr/>
        </p:nvSpPr>
        <p:spPr>
          <a:xfrm>
            <a:off x="3957120" y="236232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eis</a:t>
            </a:r>
            <a:endParaRPr b="0" lang="en-US" sz="1600" spc="-1" strike="noStrike">
              <a:solidFill>
                <a:srgbClr val="000000"/>
              </a:solidFill>
              <a:latin typeface="Arial"/>
            </a:endParaRPr>
          </a:p>
        </p:txBody>
      </p:sp>
      <p:sp>
        <p:nvSpPr>
          <p:cNvPr id="3802" name=""/>
          <p:cNvSpPr/>
          <p:nvPr/>
        </p:nvSpPr>
        <p:spPr>
          <a:xfrm>
            <a:off x="3809880" y="2286000"/>
            <a:ext cx="693720" cy="533520"/>
          </a:xfrm>
          <a:custGeom>
            <a:avLst/>
            <a:gdLst/>
            <a:ahLst/>
            <a:rect l="l" t="t" r="r" b="b"/>
            <a:pathLst>
              <a:path w="2632" h="1676">
                <a:moveTo>
                  <a:pt x="21207" y="9609"/>
                </a:moveTo>
                <a:cubicBezTo>
                  <a:pt x="21196" y="9614"/>
                  <a:pt x="21129" y="9628"/>
                  <a:pt x="21119" y="9638"/>
                </a:cubicBezTo>
                <a:cubicBezTo>
                  <a:pt x="21094" y="9665"/>
                  <a:pt x="21088" y="9676"/>
                  <a:pt x="21058" y="9699"/>
                </a:cubicBezTo>
                <a:cubicBezTo>
                  <a:pt x="21033" y="9719"/>
                  <a:pt x="20949" y="9774"/>
                  <a:pt x="20938" y="9787"/>
                </a:cubicBezTo>
                <a:cubicBezTo>
                  <a:pt x="20918" y="9810"/>
                  <a:pt x="20897" y="9828"/>
                  <a:pt x="20879" y="9849"/>
                </a:cubicBezTo>
                <a:cubicBezTo>
                  <a:pt x="20864" y="9866"/>
                  <a:pt x="20797" y="9925"/>
                  <a:pt x="20788" y="9936"/>
                </a:cubicBezTo>
                <a:cubicBezTo>
                  <a:pt x="20764" y="9966"/>
                  <a:pt x="20787" y="10004"/>
                  <a:pt x="20759" y="10027"/>
                </a:cubicBezTo>
                <a:cubicBezTo>
                  <a:pt x="20738" y="10045"/>
                  <a:pt x="20718" y="10074"/>
                  <a:pt x="20700" y="10088"/>
                </a:cubicBezTo>
                <a:cubicBezTo>
                  <a:pt x="20677" y="10106"/>
                  <a:pt x="20659" y="10131"/>
                  <a:pt x="20639" y="10147"/>
                </a:cubicBezTo>
                <a:cubicBezTo>
                  <a:pt x="20609" y="10170"/>
                  <a:pt x="20593" y="10172"/>
                  <a:pt x="20551" y="10208"/>
                </a:cubicBezTo>
                <a:cubicBezTo>
                  <a:pt x="20519" y="10235"/>
                  <a:pt x="20490" y="10267"/>
                  <a:pt x="20460" y="10296"/>
                </a:cubicBezTo>
                <a:cubicBezTo>
                  <a:pt x="20493" y="10324"/>
                  <a:pt x="20535" y="10375"/>
                  <a:pt x="20551" y="10386"/>
                </a:cubicBezTo>
                <a:cubicBezTo>
                  <a:pt x="20580" y="10407"/>
                  <a:pt x="20620" y="10427"/>
                  <a:pt x="20639" y="10445"/>
                </a:cubicBezTo>
                <a:cubicBezTo>
                  <a:pt x="20679" y="10483"/>
                  <a:pt x="20710" y="10509"/>
                  <a:pt x="20730" y="10536"/>
                </a:cubicBezTo>
                <a:cubicBezTo>
                  <a:pt x="20758" y="10573"/>
                  <a:pt x="20767" y="10607"/>
                  <a:pt x="20788" y="10626"/>
                </a:cubicBezTo>
                <a:cubicBezTo>
                  <a:pt x="20805" y="10642"/>
                  <a:pt x="20864" y="10638"/>
                  <a:pt x="20879" y="10655"/>
                </a:cubicBezTo>
                <a:cubicBezTo>
                  <a:pt x="20905" y="10684"/>
                  <a:pt x="20906" y="10692"/>
                  <a:pt x="20938" y="10717"/>
                </a:cubicBezTo>
                <a:cubicBezTo>
                  <a:pt x="20950" y="10726"/>
                  <a:pt x="20984" y="10793"/>
                  <a:pt x="20999" y="10805"/>
                </a:cubicBezTo>
                <a:cubicBezTo>
                  <a:pt x="21025" y="10826"/>
                  <a:pt x="21036" y="10847"/>
                  <a:pt x="21058" y="10866"/>
                </a:cubicBezTo>
                <a:cubicBezTo>
                  <a:pt x="21078" y="10883"/>
                  <a:pt x="21101" y="10910"/>
                  <a:pt x="21119" y="10924"/>
                </a:cubicBezTo>
                <a:cubicBezTo>
                  <a:pt x="21144" y="10944"/>
                  <a:pt x="21157" y="10969"/>
                  <a:pt x="21178" y="10986"/>
                </a:cubicBezTo>
                <a:cubicBezTo>
                  <a:pt x="21200" y="11004"/>
                  <a:pt x="21253" y="11061"/>
                  <a:pt x="21269" y="11074"/>
                </a:cubicBezTo>
                <a:cubicBezTo>
                  <a:pt x="21301" y="11100"/>
                  <a:pt x="21305" y="11096"/>
                  <a:pt x="21327" y="11135"/>
                </a:cubicBezTo>
                <a:cubicBezTo>
                  <a:pt x="21342" y="11161"/>
                  <a:pt x="21346" y="11193"/>
                  <a:pt x="21386" y="11193"/>
                </a:cubicBezTo>
                <a:cubicBezTo>
                  <a:pt x="21432" y="11193"/>
                  <a:pt x="21456" y="11168"/>
                  <a:pt x="21506" y="11164"/>
                </a:cubicBezTo>
                <a:cubicBezTo>
                  <a:pt x="21556" y="11160"/>
                  <a:pt x="21577" y="11141"/>
                  <a:pt x="21626" y="11135"/>
                </a:cubicBezTo>
                <a:cubicBezTo>
                  <a:pt x="21676" y="11129"/>
                  <a:pt x="21738" y="11111"/>
                  <a:pt x="21776" y="11106"/>
                </a:cubicBezTo>
                <a:cubicBezTo>
                  <a:pt x="21874" y="11094"/>
                  <a:pt x="21992" y="11085"/>
                  <a:pt x="22074" y="11074"/>
                </a:cubicBezTo>
                <a:cubicBezTo>
                  <a:pt x="22246" y="11051"/>
                  <a:pt x="22523" y="11063"/>
                  <a:pt x="22643" y="11106"/>
                </a:cubicBezTo>
                <a:cubicBezTo>
                  <a:pt x="22678" y="11081"/>
                  <a:pt x="22683" y="11083"/>
                  <a:pt x="22705" y="11044"/>
                </a:cubicBezTo>
                <a:cubicBezTo>
                  <a:pt x="22725" y="11009"/>
                  <a:pt x="22712" y="10998"/>
                  <a:pt x="22734" y="10954"/>
                </a:cubicBezTo>
                <a:cubicBezTo>
                  <a:pt x="22739" y="10944"/>
                  <a:pt x="22777" y="10897"/>
                  <a:pt x="22792" y="10866"/>
                </a:cubicBezTo>
                <a:cubicBezTo>
                  <a:pt x="22812" y="10825"/>
                  <a:pt x="22808" y="10809"/>
                  <a:pt x="22822" y="10775"/>
                </a:cubicBezTo>
                <a:cubicBezTo>
                  <a:pt x="22838" y="10736"/>
                  <a:pt x="22838" y="10693"/>
                  <a:pt x="22854" y="10655"/>
                </a:cubicBezTo>
                <a:cubicBezTo>
                  <a:pt x="22869" y="10621"/>
                  <a:pt x="22863" y="10607"/>
                  <a:pt x="22883" y="10565"/>
                </a:cubicBezTo>
                <a:cubicBezTo>
                  <a:pt x="22906" y="10517"/>
                  <a:pt x="22919" y="10465"/>
                  <a:pt x="22942" y="10416"/>
                </a:cubicBezTo>
                <a:cubicBezTo>
                  <a:pt x="22958" y="10381"/>
                  <a:pt x="22950" y="10367"/>
                  <a:pt x="22971" y="10325"/>
                </a:cubicBezTo>
                <a:cubicBezTo>
                  <a:pt x="22990" y="10287"/>
                  <a:pt x="22982" y="10285"/>
                  <a:pt x="23003" y="10237"/>
                </a:cubicBezTo>
                <a:cubicBezTo>
                  <a:pt x="23017" y="10205"/>
                  <a:pt x="23057" y="10157"/>
                  <a:pt x="23062" y="10147"/>
                </a:cubicBezTo>
                <a:cubicBezTo>
                  <a:pt x="23083" y="10104"/>
                  <a:pt x="23074" y="10092"/>
                  <a:pt x="23091" y="10056"/>
                </a:cubicBezTo>
                <a:cubicBezTo>
                  <a:pt x="23036" y="10051"/>
                  <a:pt x="23025" y="10037"/>
                  <a:pt x="23003" y="10027"/>
                </a:cubicBezTo>
                <a:cubicBezTo>
                  <a:pt x="22958" y="10006"/>
                  <a:pt x="22949" y="10016"/>
                  <a:pt x="22913" y="9998"/>
                </a:cubicBezTo>
                <a:cubicBezTo>
                  <a:pt x="22879" y="9981"/>
                  <a:pt x="22864" y="9990"/>
                  <a:pt x="22822" y="9968"/>
                </a:cubicBezTo>
                <a:cubicBezTo>
                  <a:pt x="22785" y="9949"/>
                  <a:pt x="22785" y="9931"/>
                  <a:pt x="22734" y="9907"/>
                </a:cubicBezTo>
                <a:cubicBezTo>
                  <a:pt x="22696" y="9889"/>
                  <a:pt x="22660" y="9860"/>
                  <a:pt x="22643" y="9849"/>
                </a:cubicBezTo>
                <a:cubicBezTo>
                  <a:pt x="22611" y="9828"/>
                  <a:pt x="22600" y="9815"/>
                  <a:pt x="22552" y="9787"/>
                </a:cubicBezTo>
                <a:cubicBezTo>
                  <a:pt x="22539" y="9779"/>
                  <a:pt x="22475" y="9770"/>
                  <a:pt x="22464" y="9758"/>
                </a:cubicBezTo>
                <a:cubicBezTo>
                  <a:pt x="22444" y="9737"/>
                  <a:pt x="22422" y="9719"/>
                  <a:pt x="22403" y="9699"/>
                </a:cubicBezTo>
                <a:cubicBezTo>
                  <a:pt x="22387" y="9681"/>
                  <a:pt x="22357" y="9655"/>
                  <a:pt x="22344" y="9638"/>
                </a:cubicBezTo>
                <a:cubicBezTo>
                  <a:pt x="22317" y="9605"/>
                  <a:pt x="22324" y="9603"/>
                  <a:pt x="22286" y="9580"/>
                </a:cubicBezTo>
                <a:cubicBezTo>
                  <a:pt x="22245" y="9556"/>
                  <a:pt x="22230" y="9516"/>
                  <a:pt x="22195" y="9518"/>
                </a:cubicBezTo>
                <a:cubicBezTo>
                  <a:pt x="22129" y="9521"/>
                  <a:pt x="22154" y="9543"/>
                  <a:pt x="22104" y="9547"/>
                </a:cubicBezTo>
                <a:cubicBezTo>
                  <a:pt x="22036" y="9553"/>
                  <a:pt x="21917" y="9577"/>
                  <a:pt x="21896" y="9580"/>
                </a:cubicBezTo>
                <a:cubicBezTo>
                  <a:pt x="21809" y="9592"/>
                  <a:pt x="21700" y="9600"/>
                  <a:pt x="21626" y="9609"/>
                </a:cubicBezTo>
                <a:cubicBezTo>
                  <a:pt x="21509" y="9623"/>
                  <a:pt x="21229" y="9609"/>
                  <a:pt x="21207" y="9609"/>
                </a:cubicBezTo>
                <a:cubicBezTo>
                  <a:pt x="21217" y="9609"/>
                  <a:pt x="21226" y="9609"/>
                  <a:pt x="21236" y="960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3" name=""/>
          <p:cNvGrpSpPr/>
          <p:nvPr/>
        </p:nvGrpSpPr>
        <p:grpSpPr>
          <a:xfrm>
            <a:off x="3657600" y="2209680"/>
            <a:ext cx="968400" cy="301680"/>
            <a:chOff x="3657600" y="2209680"/>
            <a:chExt cx="968400" cy="301680"/>
          </a:xfrm>
        </p:grpSpPr>
        <p:sp>
          <p:nvSpPr>
            <p:cNvPr id="3804" name=""/>
            <p:cNvSpPr/>
            <p:nvPr/>
          </p:nvSpPr>
          <p:spPr>
            <a:xfrm>
              <a:off x="3657600" y="2282760"/>
              <a:ext cx="203040" cy="228600"/>
            </a:xfrm>
            <a:custGeom>
              <a:avLst/>
              <a:gdLst/>
              <a:ahLst/>
              <a:rect l="l" t="t" r="r" b="b"/>
              <a:pathLst>
                <a:path w="566" h="571">
                  <a:moveTo>
                    <a:pt x="10592" y="6858"/>
                  </a:moveTo>
                  <a:cubicBezTo>
                    <a:pt x="10536" y="6858"/>
                    <a:pt x="10524" y="6832"/>
                    <a:pt x="10475" y="6826"/>
                  </a:cubicBezTo>
                  <a:cubicBezTo>
                    <a:pt x="10434" y="6821"/>
                    <a:pt x="10424" y="6801"/>
                    <a:pt x="10413" y="6767"/>
                  </a:cubicBezTo>
                </a:path>
                <a:path w="566" h="571">
                  <a:moveTo>
                    <a:pt x="10293" y="6676"/>
                  </a:moveTo>
                  <a:cubicBezTo>
                    <a:pt x="10293" y="6666"/>
                    <a:pt x="10293" y="6657"/>
                    <a:pt x="10293" y="6647"/>
                  </a:cubicBezTo>
                  <a:cubicBezTo>
                    <a:pt x="10258" y="6638"/>
                    <a:pt x="10240" y="6627"/>
                    <a:pt x="10205" y="6618"/>
                  </a:cubicBezTo>
                  <a:cubicBezTo>
                    <a:pt x="10190" y="6567"/>
                    <a:pt x="10192" y="6605"/>
                    <a:pt x="10176" y="6557"/>
                  </a:cubicBezTo>
                </a:path>
                <a:path w="566" h="571">
                  <a:moveTo>
                    <a:pt x="10355" y="6466"/>
                  </a:moveTo>
                  <a:cubicBezTo>
                    <a:pt x="10384" y="6466"/>
                    <a:pt x="10394" y="6466"/>
                    <a:pt x="10413" y="6466"/>
                  </a:cubicBezTo>
                  <a:cubicBezTo>
                    <a:pt x="10426" y="6427"/>
                    <a:pt x="10434" y="6420"/>
                    <a:pt x="10475" y="6408"/>
                  </a:cubicBezTo>
                </a:path>
                <a:path w="566" h="571">
                  <a:moveTo>
                    <a:pt x="10654" y="6349"/>
                  </a:moveTo>
                  <a:cubicBezTo>
                    <a:pt x="10691" y="6296"/>
                    <a:pt x="10675" y="6288"/>
                    <a:pt x="10741" y="62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5" name=""/>
            <p:cNvSpPr/>
            <p:nvPr/>
          </p:nvSpPr>
          <p:spPr>
            <a:xfrm>
              <a:off x="3946680" y="2244600"/>
              <a:ext cx="64800" cy="3240"/>
            </a:xfrm>
            <a:custGeom>
              <a:avLst/>
              <a:gdLst/>
              <a:ahLst/>
              <a:rect l="l" t="t" r="r" b="b"/>
              <a:pathLst>
                <a:path w="179" h="1">
                  <a:moveTo>
                    <a:pt x="10982" y="6197"/>
                  </a:moveTo>
                  <a:cubicBezTo>
                    <a:pt x="11041" y="6197"/>
                    <a:pt x="11101" y="6197"/>
                    <a:pt x="11160" y="6197"/>
                  </a:cubicBezTo>
                </a:path>
              </a:pathLst>
            </a:custGeom>
            <a:noFill/>
            <a:ln cap="rnd" w="28440">
              <a:solidFill>
                <a:srgbClr val="808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806" name=""/>
            <p:cNvSpPr/>
            <p:nvPr/>
          </p:nvSpPr>
          <p:spPr>
            <a:xfrm>
              <a:off x="4108320" y="2209680"/>
              <a:ext cx="65160" cy="12600"/>
            </a:xfrm>
            <a:custGeom>
              <a:avLst/>
              <a:gdLst/>
              <a:ahLst/>
              <a:rect l="l" t="t" r="r" b="b"/>
              <a:pathLst>
                <a:path w="180" h="31">
                  <a:moveTo>
                    <a:pt x="11430" y="6109"/>
                  </a:moveTo>
                  <a:cubicBezTo>
                    <a:pt x="11430" y="6119"/>
                    <a:pt x="11430" y="6129"/>
                    <a:pt x="11430" y="6139"/>
                  </a:cubicBezTo>
                  <a:cubicBezTo>
                    <a:pt x="11490" y="6139"/>
                    <a:pt x="11549" y="6139"/>
                    <a:pt x="11609"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07" name=""/>
            <p:cNvSpPr/>
            <p:nvPr/>
          </p:nvSpPr>
          <p:spPr>
            <a:xfrm>
              <a:off x="4270320" y="2209680"/>
              <a:ext cx="54000" cy="12600"/>
            </a:xfrm>
            <a:custGeom>
              <a:avLst/>
              <a:gdLst/>
              <a:ahLst/>
              <a:rect l="l" t="t" r="r" b="b"/>
              <a:pathLst>
                <a:path w="151" h="31">
                  <a:moveTo>
                    <a:pt x="11878" y="6109"/>
                  </a:moveTo>
                  <a:cubicBezTo>
                    <a:pt x="11918" y="6109"/>
                    <a:pt x="11958" y="6109"/>
                    <a:pt x="11998" y="6109"/>
                  </a:cubicBezTo>
                  <a:cubicBezTo>
                    <a:pt x="11998" y="6139"/>
                    <a:pt x="11998" y="6149"/>
                    <a:pt x="12028"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08" name=""/>
            <p:cNvSpPr/>
            <p:nvPr/>
          </p:nvSpPr>
          <p:spPr>
            <a:xfrm>
              <a:off x="4410000" y="2222280"/>
              <a:ext cx="216000" cy="241200"/>
            </a:xfrm>
            <a:custGeom>
              <a:avLst/>
              <a:gdLst/>
              <a:ahLst/>
              <a:rect l="l" t="t" r="r" b="b"/>
              <a:pathLst>
                <a:path w="599" h="600">
                  <a:moveTo>
                    <a:pt x="12268" y="6139"/>
                  </a:moveTo>
                  <a:cubicBezTo>
                    <a:pt x="12268" y="6149"/>
                    <a:pt x="12268" y="6158"/>
                    <a:pt x="12268" y="6168"/>
                  </a:cubicBezTo>
                  <a:cubicBezTo>
                    <a:pt x="12314" y="6183"/>
                    <a:pt x="12280" y="6182"/>
                    <a:pt x="12326" y="6197"/>
                  </a:cubicBezTo>
                  <a:cubicBezTo>
                    <a:pt x="12343" y="6246"/>
                    <a:pt x="12341" y="6212"/>
                    <a:pt x="12359" y="6258"/>
                  </a:cubicBezTo>
                  <a:cubicBezTo>
                    <a:pt x="12409" y="6258"/>
                    <a:pt x="12403" y="6246"/>
                    <a:pt x="12417" y="6288"/>
                  </a:cubicBezTo>
                  <a:cubicBezTo>
                    <a:pt x="12417" y="6258"/>
                    <a:pt x="12417" y="6249"/>
                    <a:pt x="12417" y="6229"/>
                  </a:cubicBezTo>
                </a:path>
                <a:path w="599" h="600">
                  <a:moveTo>
                    <a:pt x="12625" y="6408"/>
                  </a:moveTo>
                  <a:cubicBezTo>
                    <a:pt x="12636" y="6408"/>
                    <a:pt x="12647" y="6408"/>
                    <a:pt x="12658" y="6408"/>
                  </a:cubicBezTo>
                  <a:cubicBezTo>
                    <a:pt x="12672" y="6449"/>
                    <a:pt x="12666" y="6437"/>
                    <a:pt x="12716" y="6437"/>
                  </a:cubicBezTo>
                  <a:cubicBezTo>
                    <a:pt x="12716" y="6466"/>
                    <a:pt x="12716" y="6476"/>
                    <a:pt x="12745" y="6466"/>
                  </a:cubicBezTo>
                </a:path>
                <a:path w="599" h="600">
                  <a:moveTo>
                    <a:pt x="12866" y="6618"/>
                  </a:moveTo>
                  <a:cubicBezTo>
                    <a:pt x="12806" y="6618"/>
                    <a:pt x="12791" y="6618"/>
                    <a:pt x="12775" y="6676"/>
                  </a:cubicBezTo>
                  <a:cubicBezTo>
                    <a:pt x="12719" y="6695"/>
                    <a:pt x="12770" y="6718"/>
                    <a:pt x="12716" y="6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9"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3810" name=""/>
          <p:cNvSpPr/>
          <p:nvPr/>
        </p:nvSpPr>
        <p:spPr>
          <a:xfrm>
            <a:off x="415800" y="59832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11"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3812"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3813"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3814"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3815" name=""/>
          <p:cNvGrpSpPr/>
          <p:nvPr/>
        </p:nvGrpSpPr>
        <p:grpSpPr>
          <a:xfrm>
            <a:off x="1554120" y="1012680"/>
            <a:ext cx="5052960" cy="4521240"/>
            <a:chOff x="1554120" y="1012680"/>
            <a:chExt cx="5052960" cy="4521240"/>
          </a:xfrm>
        </p:grpSpPr>
        <p:sp>
          <p:nvSpPr>
            <p:cNvPr id="3816"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7"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8"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9"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urrent IT</a:t>
            </a:r>
            <a:endParaRPr b="0" lang="en-US" sz="1400" spc="-1" strike="noStrike">
              <a:solidFill>
                <a:srgbClr val="000000"/>
              </a:solidFill>
              <a:latin typeface="Arial"/>
            </a:endParaRPr>
          </a:p>
        </p:txBody>
      </p:sp>
      <p:sp>
        <p:nvSpPr>
          <p:cNvPr id="3820" name="Ink 5"/>
          <p:cNvSpPr/>
          <p:nvPr/>
        </p:nvSpPr>
        <p:spPr>
          <a:xfrm>
            <a:off x="1330200" y="3543480"/>
            <a:ext cx="239760" cy="407880"/>
          </a:xfrm>
          <a:custGeom>
            <a:avLst/>
            <a:gdLst/>
            <a:ahLst/>
            <a:rect l="l" t="t" r="r" b="b"/>
            <a:pathLst>
              <a:path w="805" h="1373">
                <a:moveTo>
                  <a:pt x="13357" y="13160"/>
                </a:moveTo>
                <a:cubicBezTo>
                  <a:pt x="13350" y="13204"/>
                  <a:pt x="13350" y="13251"/>
                  <a:pt x="13350" y="13296"/>
                </a:cubicBezTo>
                <a:cubicBezTo>
                  <a:pt x="13349" y="13412"/>
                  <a:pt x="13353" y="13529"/>
                  <a:pt x="13354" y="13645"/>
                </a:cubicBezTo>
                <a:cubicBezTo>
                  <a:pt x="13355" y="13847"/>
                  <a:pt x="13344" y="14053"/>
                  <a:pt x="13365" y="14254"/>
                </a:cubicBezTo>
                <a:cubicBezTo>
                  <a:pt x="13372" y="14319"/>
                  <a:pt x="13374" y="14299"/>
                  <a:pt x="13409" y="14288"/>
                </a:cubicBezTo>
              </a:path>
              <a:path w="805" h="1373">
                <a:moveTo>
                  <a:pt x="13390" y="13081"/>
                </a:moveTo>
                <a:cubicBezTo>
                  <a:pt x="13414" y="13075"/>
                  <a:pt x="13435" y="13073"/>
                  <a:pt x="13462" y="13072"/>
                </a:cubicBezTo>
                <a:cubicBezTo>
                  <a:pt x="13530" y="13069"/>
                  <a:pt x="13597" y="13062"/>
                  <a:pt x="13664" y="13057"/>
                </a:cubicBezTo>
                <a:cubicBezTo>
                  <a:pt x="13760" y="13050"/>
                  <a:pt x="13855" y="13044"/>
                  <a:pt x="13951" y="13038"/>
                </a:cubicBezTo>
                <a:cubicBezTo>
                  <a:pt x="14020" y="13034"/>
                  <a:pt x="14087" y="13031"/>
                  <a:pt x="14154" y="13040"/>
                </a:cubicBezTo>
              </a:path>
              <a:path w="805" h="1373">
                <a:moveTo>
                  <a:pt x="14124" y="13048"/>
                </a:moveTo>
                <a:cubicBezTo>
                  <a:pt x="14133" y="13095"/>
                  <a:pt x="14130" y="13142"/>
                  <a:pt x="14131" y="13191"/>
                </a:cubicBezTo>
                <a:cubicBezTo>
                  <a:pt x="14134" y="13304"/>
                  <a:pt x="14131" y="13418"/>
                  <a:pt x="14128" y="13531"/>
                </a:cubicBezTo>
                <a:cubicBezTo>
                  <a:pt x="14124" y="13667"/>
                  <a:pt x="14122" y="13802"/>
                  <a:pt x="14120" y="13938"/>
                </a:cubicBezTo>
                <a:cubicBezTo>
                  <a:pt x="14119" y="14040"/>
                  <a:pt x="14120" y="14141"/>
                  <a:pt x="14123" y="14243"/>
                </a:cubicBezTo>
                <a:cubicBezTo>
                  <a:pt x="14125" y="14293"/>
                  <a:pt x="14126" y="14334"/>
                  <a:pt x="14139" y="14382"/>
                </a:cubicBezTo>
              </a:path>
              <a:path w="805" h="1373">
                <a:moveTo>
                  <a:pt x="13479" y="14385"/>
                </a:moveTo>
                <a:cubicBezTo>
                  <a:pt x="13498" y="14390"/>
                  <a:pt x="13517" y="14394"/>
                  <a:pt x="13537" y="14397"/>
                </a:cubicBezTo>
                <a:cubicBezTo>
                  <a:pt x="13585" y="14405"/>
                  <a:pt x="13632" y="14398"/>
                  <a:pt x="13681" y="14397"/>
                </a:cubicBezTo>
                <a:cubicBezTo>
                  <a:pt x="13745" y="14396"/>
                  <a:pt x="13813" y="14394"/>
                  <a:pt x="13877" y="14382"/>
                </a:cubicBezTo>
                <a:cubicBezTo>
                  <a:pt x="13919" y="14374"/>
                  <a:pt x="13957" y="14370"/>
                  <a:pt x="13996" y="14358"/>
                </a:cubicBezTo>
              </a:path>
              <a:path w="805" h="1373">
                <a:moveTo>
                  <a:pt x="13544" y="13251"/>
                </a:moveTo>
                <a:cubicBezTo>
                  <a:pt x="13566" y="13265"/>
                  <a:pt x="13580" y="13260"/>
                  <a:pt x="13607" y="13261"/>
                </a:cubicBezTo>
                <a:cubicBezTo>
                  <a:pt x="13649" y="13262"/>
                  <a:pt x="13690" y="13259"/>
                  <a:pt x="13732" y="13264"/>
                </a:cubicBezTo>
                <a:cubicBezTo>
                  <a:pt x="13780" y="13270"/>
                  <a:pt x="13836" y="13274"/>
                  <a:pt x="13881" y="13284"/>
                </a:cubicBezTo>
                <a:cubicBezTo>
                  <a:pt x="13915" y="13296"/>
                  <a:pt x="13921" y="13302"/>
                  <a:pt x="13942" y="13292"/>
                </a:cubicBezTo>
              </a:path>
              <a:path w="805" h="1373">
                <a:moveTo>
                  <a:pt x="13549" y="13425"/>
                </a:moveTo>
                <a:cubicBezTo>
                  <a:pt x="13556" y="13449"/>
                  <a:pt x="13573" y="13441"/>
                  <a:pt x="13602" y="13440"/>
                </a:cubicBezTo>
                <a:cubicBezTo>
                  <a:pt x="13648" y="13439"/>
                  <a:pt x="13695" y="13442"/>
                  <a:pt x="13741" y="13440"/>
                </a:cubicBezTo>
                <a:cubicBezTo>
                  <a:pt x="13793" y="13437"/>
                  <a:pt x="13841" y="13438"/>
                  <a:pt x="13892" y="13444"/>
                </a:cubicBezTo>
              </a:path>
              <a:path w="805" h="1373">
                <a:moveTo>
                  <a:pt x="13579" y="13619"/>
                </a:moveTo>
                <a:cubicBezTo>
                  <a:pt x="13575" y="13617"/>
                  <a:pt x="13572" y="13615"/>
                  <a:pt x="13568" y="13613"/>
                </a:cubicBezTo>
                <a:cubicBezTo>
                  <a:pt x="13583" y="13628"/>
                  <a:pt x="13604" y="13633"/>
                  <a:pt x="13628" y="13633"/>
                </a:cubicBezTo>
                <a:cubicBezTo>
                  <a:pt x="13659" y="13632"/>
                  <a:pt x="13691" y="13628"/>
                  <a:pt x="13723" y="13630"/>
                </a:cubicBezTo>
                <a:cubicBezTo>
                  <a:pt x="13758" y="13632"/>
                  <a:pt x="13797" y="13641"/>
                  <a:pt x="13832" y="13640"/>
                </a:cubicBezTo>
                <a:cubicBezTo>
                  <a:pt x="13854" y="13640"/>
                  <a:pt x="13873" y="13643"/>
                  <a:pt x="13894" y="13643"/>
                </a:cubicBezTo>
              </a:path>
              <a:path w="805" h="1373">
                <a:moveTo>
                  <a:pt x="13724" y="13967"/>
                </a:moveTo>
                <a:cubicBezTo>
                  <a:pt x="13723" y="13945"/>
                  <a:pt x="13720" y="13931"/>
                  <a:pt x="13708" y="13913"/>
                </a:cubicBezTo>
                <a:cubicBezTo>
                  <a:pt x="13691" y="13917"/>
                  <a:pt x="13668" y="13927"/>
                  <a:pt x="13665" y="13948"/>
                </a:cubicBezTo>
                <a:cubicBezTo>
                  <a:pt x="13662" y="13969"/>
                  <a:pt x="13686" y="13973"/>
                  <a:pt x="13701" y="13971"/>
                </a:cubicBezTo>
                <a:cubicBezTo>
                  <a:pt x="13723" y="13968"/>
                  <a:pt x="13728" y="13967"/>
                  <a:pt x="13734" y="13950"/>
                </a:cubicBezTo>
                <a:cubicBezTo>
                  <a:pt x="13718" y="13942"/>
                  <a:pt x="13706" y="13938"/>
                  <a:pt x="13688" y="13940"/>
                </a:cubicBezTo>
                <a:cubicBezTo>
                  <a:pt x="13672" y="13941"/>
                  <a:pt x="13653" y="13936"/>
                  <a:pt x="13650" y="13952"/>
                </a:cubicBezTo>
                <a:cubicBezTo>
                  <a:pt x="13652" y="13957"/>
                  <a:pt x="13653" y="13962"/>
                  <a:pt x="13655" y="1396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1" name="Group 14"/>
          <p:cNvGrpSpPr/>
          <p:nvPr/>
        </p:nvGrpSpPr>
        <p:grpSpPr>
          <a:xfrm>
            <a:off x="1254240" y="4000680"/>
            <a:ext cx="380520" cy="380880"/>
            <a:chOff x="1254240" y="4000680"/>
            <a:chExt cx="380520" cy="380880"/>
          </a:xfrm>
        </p:grpSpPr>
        <p:sp>
          <p:nvSpPr>
            <p:cNvPr id="3822" name="Ink 15"/>
            <p:cNvSpPr/>
            <p:nvPr/>
          </p:nvSpPr>
          <p:spPr>
            <a:xfrm>
              <a:off x="1254240" y="400068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3" name="Ink 16"/>
            <p:cNvSpPr/>
            <p:nvPr/>
          </p:nvSpPr>
          <p:spPr>
            <a:xfrm>
              <a:off x="1306080" y="413928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4" name=""/>
          <p:cNvSpPr/>
          <p:nvPr/>
        </p:nvSpPr>
        <p:spPr>
          <a:xfrm>
            <a:off x="1330200" y="4457880"/>
            <a:ext cx="277920" cy="326880"/>
          </a:xfrm>
          <a:custGeom>
            <a:avLst/>
            <a:gdLst/>
            <a:ahLst/>
            <a:rect l="l" t="t" r="r" b="b"/>
            <a:pathLst>
              <a:path w="772" h="1755">
                <a:moveTo>
                  <a:pt x="19707" y="1947"/>
                </a:moveTo>
                <a:cubicBezTo>
                  <a:pt x="19691" y="1919"/>
                  <a:pt x="19672" y="1892"/>
                  <a:pt x="19647" y="1871"/>
                </a:cubicBezTo>
                <a:cubicBezTo>
                  <a:pt x="19617" y="1847"/>
                  <a:pt x="19571" y="1829"/>
                  <a:pt x="19533" y="1826"/>
                </a:cubicBezTo>
                <a:cubicBezTo>
                  <a:pt x="19500" y="1824"/>
                  <a:pt x="19473" y="1827"/>
                  <a:pt x="19444" y="1841"/>
                </a:cubicBezTo>
                <a:cubicBezTo>
                  <a:pt x="19405" y="1860"/>
                  <a:pt x="19361" y="1883"/>
                  <a:pt x="19326" y="1910"/>
                </a:cubicBezTo>
                <a:cubicBezTo>
                  <a:pt x="19295" y="1934"/>
                  <a:pt x="19268" y="1961"/>
                  <a:pt x="19244" y="1992"/>
                </a:cubicBezTo>
                <a:cubicBezTo>
                  <a:pt x="19216" y="2028"/>
                  <a:pt x="19180" y="2071"/>
                  <a:pt x="19158" y="2111"/>
                </a:cubicBezTo>
                <a:cubicBezTo>
                  <a:pt x="19143" y="2139"/>
                  <a:pt x="19136" y="2164"/>
                  <a:pt x="19136" y="2196"/>
                </a:cubicBezTo>
                <a:cubicBezTo>
                  <a:pt x="19137" y="2256"/>
                  <a:pt x="19168" y="2317"/>
                  <a:pt x="19218" y="2352"/>
                </a:cubicBezTo>
                <a:cubicBezTo>
                  <a:pt x="19252" y="2376"/>
                  <a:pt x="19296" y="2393"/>
                  <a:pt x="19336" y="2402"/>
                </a:cubicBezTo>
                <a:cubicBezTo>
                  <a:pt x="19372" y="2410"/>
                  <a:pt x="19413" y="2423"/>
                  <a:pt x="19450" y="2418"/>
                </a:cubicBezTo>
                <a:cubicBezTo>
                  <a:pt x="19482" y="2414"/>
                  <a:pt x="19513" y="2404"/>
                  <a:pt x="19545" y="2397"/>
                </a:cubicBezTo>
                <a:cubicBezTo>
                  <a:pt x="19577" y="2390"/>
                  <a:pt x="19610" y="2384"/>
                  <a:pt x="19641" y="2373"/>
                </a:cubicBezTo>
                <a:cubicBezTo>
                  <a:pt x="19673" y="2361"/>
                  <a:pt x="19703" y="2347"/>
                  <a:pt x="19729" y="2326"/>
                </a:cubicBezTo>
                <a:cubicBezTo>
                  <a:pt x="19757" y="2303"/>
                  <a:pt x="19783" y="2277"/>
                  <a:pt x="19802" y="2246"/>
                </a:cubicBezTo>
                <a:cubicBezTo>
                  <a:pt x="19817" y="2223"/>
                  <a:pt x="19823" y="2196"/>
                  <a:pt x="19828" y="2170"/>
                </a:cubicBezTo>
                <a:cubicBezTo>
                  <a:pt x="19834" y="2140"/>
                  <a:pt x="19833" y="2117"/>
                  <a:pt x="19825" y="2088"/>
                </a:cubicBezTo>
                <a:cubicBezTo>
                  <a:pt x="19816" y="2055"/>
                  <a:pt x="19799" y="2037"/>
                  <a:pt x="19777" y="2011"/>
                </a:cubicBezTo>
                <a:cubicBezTo>
                  <a:pt x="19752" y="1982"/>
                  <a:pt x="19726" y="1974"/>
                  <a:pt x="19691" y="1963"/>
                </a:cubicBezTo>
                <a:cubicBezTo>
                  <a:pt x="19669" y="1955"/>
                  <a:pt x="19662" y="1952"/>
                  <a:pt x="19647" y="1958"/>
                </a:cubicBezTo>
              </a:path>
              <a:path w="772" h="1755">
                <a:moveTo>
                  <a:pt x="19482" y="2453"/>
                </a:moveTo>
                <a:cubicBezTo>
                  <a:pt x="19457" y="2505"/>
                  <a:pt x="19429" y="2554"/>
                  <a:pt x="19399" y="2603"/>
                </a:cubicBezTo>
                <a:cubicBezTo>
                  <a:pt x="19380" y="2634"/>
                  <a:pt x="19359" y="2663"/>
                  <a:pt x="19339" y="2693"/>
                </a:cubicBezTo>
                <a:cubicBezTo>
                  <a:pt x="19312" y="2735"/>
                  <a:pt x="19287" y="2774"/>
                  <a:pt x="19263" y="2818"/>
                </a:cubicBezTo>
                <a:cubicBezTo>
                  <a:pt x="19244" y="2854"/>
                  <a:pt x="19222" y="2890"/>
                  <a:pt x="19199" y="2924"/>
                </a:cubicBezTo>
                <a:cubicBezTo>
                  <a:pt x="19175" y="2959"/>
                  <a:pt x="19148" y="2992"/>
                  <a:pt x="19123" y="3027"/>
                </a:cubicBezTo>
                <a:cubicBezTo>
                  <a:pt x="19155" y="2992"/>
                  <a:pt x="19183" y="2960"/>
                  <a:pt x="19209" y="2921"/>
                </a:cubicBezTo>
                <a:cubicBezTo>
                  <a:pt x="19247" y="2863"/>
                  <a:pt x="19278" y="2802"/>
                  <a:pt x="19317" y="2744"/>
                </a:cubicBezTo>
                <a:cubicBezTo>
                  <a:pt x="19347" y="2699"/>
                  <a:pt x="19378" y="2653"/>
                  <a:pt x="19396" y="2601"/>
                </a:cubicBezTo>
                <a:cubicBezTo>
                  <a:pt x="19407" y="2569"/>
                  <a:pt x="19420" y="2535"/>
                  <a:pt x="19428" y="2503"/>
                </a:cubicBezTo>
                <a:cubicBezTo>
                  <a:pt x="19429" y="2497"/>
                  <a:pt x="19430" y="2490"/>
                  <a:pt x="19431" y="2484"/>
                </a:cubicBezTo>
                <a:cubicBezTo>
                  <a:pt x="19445" y="2516"/>
                  <a:pt x="19458" y="2550"/>
                  <a:pt x="19466" y="2585"/>
                </a:cubicBezTo>
                <a:cubicBezTo>
                  <a:pt x="19476" y="2630"/>
                  <a:pt x="19493" y="2666"/>
                  <a:pt x="19514" y="2707"/>
                </a:cubicBezTo>
                <a:cubicBezTo>
                  <a:pt x="19529" y="2736"/>
                  <a:pt x="19541" y="2767"/>
                  <a:pt x="19555" y="2797"/>
                </a:cubicBezTo>
                <a:cubicBezTo>
                  <a:pt x="19575" y="2838"/>
                  <a:pt x="19596" y="2878"/>
                  <a:pt x="19618" y="2918"/>
                </a:cubicBezTo>
                <a:cubicBezTo>
                  <a:pt x="19637" y="2952"/>
                  <a:pt x="19662" y="2976"/>
                  <a:pt x="19685" y="3006"/>
                </a:cubicBezTo>
                <a:cubicBezTo>
                  <a:pt x="19689" y="3012"/>
                  <a:pt x="19694" y="3018"/>
                  <a:pt x="19698" y="3024"/>
                </a:cubicBezTo>
              </a:path>
              <a:path w="772" h="1755">
                <a:moveTo>
                  <a:pt x="19412" y="2897"/>
                </a:moveTo>
                <a:cubicBezTo>
                  <a:pt x="19433" y="2850"/>
                  <a:pt x="19403" y="2933"/>
                  <a:pt x="19399" y="2942"/>
                </a:cubicBezTo>
                <a:cubicBezTo>
                  <a:pt x="19371" y="3005"/>
                  <a:pt x="19334" y="3069"/>
                  <a:pt x="19298" y="3127"/>
                </a:cubicBezTo>
                <a:cubicBezTo>
                  <a:pt x="19273" y="3167"/>
                  <a:pt x="19253" y="3209"/>
                  <a:pt x="19237" y="3252"/>
                </a:cubicBezTo>
                <a:cubicBezTo>
                  <a:pt x="19222" y="3293"/>
                  <a:pt x="19206" y="3334"/>
                  <a:pt x="19187" y="3373"/>
                </a:cubicBezTo>
                <a:cubicBezTo>
                  <a:pt x="19172" y="3404"/>
                  <a:pt x="19151" y="3432"/>
                  <a:pt x="19133" y="3461"/>
                </a:cubicBezTo>
                <a:cubicBezTo>
                  <a:pt x="19109" y="3500"/>
                  <a:pt x="19083" y="3539"/>
                  <a:pt x="19063" y="3580"/>
                </a:cubicBezTo>
                <a:cubicBezTo>
                  <a:pt x="19090" y="3541"/>
                  <a:pt x="19117" y="3503"/>
                  <a:pt x="19145" y="3466"/>
                </a:cubicBezTo>
                <a:cubicBezTo>
                  <a:pt x="19195" y="3400"/>
                  <a:pt x="19221" y="3324"/>
                  <a:pt x="19260" y="3252"/>
                </a:cubicBezTo>
                <a:cubicBezTo>
                  <a:pt x="19288" y="3200"/>
                  <a:pt x="19319" y="3157"/>
                  <a:pt x="19339" y="3101"/>
                </a:cubicBezTo>
                <a:cubicBezTo>
                  <a:pt x="19357" y="3050"/>
                  <a:pt x="19374" y="2999"/>
                  <a:pt x="19387" y="2947"/>
                </a:cubicBezTo>
                <a:cubicBezTo>
                  <a:pt x="19392" y="2929"/>
                  <a:pt x="19395" y="2910"/>
                  <a:pt x="19399" y="2892"/>
                </a:cubicBezTo>
                <a:cubicBezTo>
                  <a:pt x="19397" y="2921"/>
                  <a:pt x="19398" y="2948"/>
                  <a:pt x="19399" y="2977"/>
                </a:cubicBezTo>
                <a:cubicBezTo>
                  <a:pt x="19400" y="3002"/>
                  <a:pt x="19399" y="3028"/>
                  <a:pt x="19402" y="3053"/>
                </a:cubicBezTo>
                <a:cubicBezTo>
                  <a:pt x="19407" y="3097"/>
                  <a:pt x="19418" y="3140"/>
                  <a:pt x="19431" y="3183"/>
                </a:cubicBezTo>
                <a:cubicBezTo>
                  <a:pt x="19445" y="3226"/>
                  <a:pt x="19454" y="3271"/>
                  <a:pt x="19469" y="3313"/>
                </a:cubicBezTo>
                <a:cubicBezTo>
                  <a:pt x="19481" y="3345"/>
                  <a:pt x="19489" y="3379"/>
                  <a:pt x="19507" y="3408"/>
                </a:cubicBezTo>
                <a:cubicBezTo>
                  <a:pt x="19532" y="3449"/>
                  <a:pt x="19569" y="3481"/>
                  <a:pt x="19593" y="352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5" name=""/>
          <p:cNvSpPr/>
          <p:nvPr/>
        </p:nvSpPr>
        <p:spPr>
          <a:xfrm>
            <a:off x="1838880" y="2971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oftware</a:t>
            </a:r>
            <a:endParaRPr b="0" lang="en-US" sz="1400" spc="-1" strike="noStrike">
              <a:solidFill>
                <a:srgbClr val="000000"/>
              </a:solidFill>
              <a:latin typeface="Arial"/>
            </a:endParaRPr>
          </a:p>
        </p:txBody>
      </p:sp>
      <p:sp>
        <p:nvSpPr>
          <p:cNvPr id="3826" name="Ink 61"/>
          <p:cNvSpPr/>
          <p:nvPr/>
        </p:nvSpPr>
        <p:spPr>
          <a:xfrm>
            <a:off x="873000" y="2781360"/>
            <a:ext cx="762120" cy="401400"/>
          </a:xfrm>
          <a:custGeom>
            <a:avLst/>
            <a:gdLst/>
            <a:ahLst/>
            <a:rect l="l" t="t" r="r" b="b"/>
            <a:pathLst>
              <a:path w="931" h="639">
                <a:moveTo>
                  <a:pt x="22035" y="4408"/>
                </a:moveTo>
                <a:cubicBezTo>
                  <a:pt x="22057" y="4444"/>
                  <a:pt x="22066" y="4474"/>
                  <a:pt x="22069" y="4517"/>
                </a:cubicBezTo>
                <a:cubicBezTo>
                  <a:pt x="22073" y="4580"/>
                  <a:pt x="22071" y="4642"/>
                  <a:pt x="22072" y="4705"/>
                </a:cubicBezTo>
                <a:cubicBezTo>
                  <a:pt x="22073" y="4766"/>
                  <a:pt x="22076" y="4823"/>
                  <a:pt x="22092" y="4882"/>
                </a:cubicBezTo>
                <a:cubicBezTo>
                  <a:pt x="22099" y="4905"/>
                  <a:pt x="22102" y="4913"/>
                  <a:pt x="22112" y="4926"/>
                </a:cubicBezTo>
              </a:path>
              <a:path w="931" h="639">
                <a:moveTo>
                  <a:pt x="22095" y="4375"/>
                </a:moveTo>
                <a:cubicBezTo>
                  <a:pt x="22118" y="4379"/>
                  <a:pt x="22140" y="4381"/>
                  <a:pt x="22164" y="4382"/>
                </a:cubicBezTo>
                <a:cubicBezTo>
                  <a:pt x="22234" y="4385"/>
                  <a:pt x="22304" y="4378"/>
                  <a:pt x="22374" y="4374"/>
                </a:cubicBezTo>
                <a:cubicBezTo>
                  <a:pt x="22446" y="4370"/>
                  <a:pt x="22518" y="4368"/>
                  <a:pt x="22590" y="4365"/>
                </a:cubicBezTo>
                <a:cubicBezTo>
                  <a:pt x="22674" y="4362"/>
                  <a:pt x="22758" y="4359"/>
                  <a:pt x="22842" y="4356"/>
                </a:cubicBezTo>
                <a:cubicBezTo>
                  <a:pt x="22883" y="4354"/>
                  <a:pt x="22932" y="4346"/>
                  <a:pt x="22965" y="4371"/>
                </a:cubicBezTo>
              </a:path>
              <a:path w="931" h="639">
                <a:moveTo>
                  <a:pt x="22859" y="4335"/>
                </a:moveTo>
                <a:cubicBezTo>
                  <a:pt x="22873" y="4345"/>
                  <a:pt x="22881" y="4340"/>
                  <a:pt x="22884" y="4363"/>
                </a:cubicBezTo>
                <a:cubicBezTo>
                  <a:pt x="22889" y="4396"/>
                  <a:pt x="22882" y="4436"/>
                  <a:pt x="22878" y="4469"/>
                </a:cubicBezTo>
                <a:cubicBezTo>
                  <a:pt x="22870" y="4534"/>
                  <a:pt x="22865" y="4599"/>
                  <a:pt x="22872" y="4665"/>
                </a:cubicBezTo>
                <a:cubicBezTo>
                  <a:pt x="22876" y="4708"/>
                  <a:pt x="22886" y="4751"/>
                  <a:pt x="22895" y="4794"/>
                </a:cubicBezTo>
                <a:cubicBezTo>
                  <a:pt x="22902" y="4826"/>
                  <a:pt x="22903" y="4856"/>
                  <a:pt x="22903" y="4888"/>
                </a:cubicBezTo>
                <a:cubicBezTo>
                  <a:pt x="22904" y="4908"/>
                  <a:pt x="22905" y="4914"/>
                  <a:pt x="22898" y="4925"/>
                </a:cubicBezTo>
              </a:path>
              <a:path w="931" h="639">
                <a:moveTo>
                  <a:pt x="22908" y="4952"/>
                </a:moveTo>
                <a:cubicBezTo>
                  <a:pt x="22885" y="4954"/>
                  <a:pt x="22862" y="4955"/>
                  <a:pt x="22839" y="4955"/>
                </a:cubicBezTo>
                <a:cubicBezTo>
                  <a:pt x="22783" y="4955"/>
                  <a:pt x="22728" y="4957"/>
                  <a:pt x="22672" y="4959"/>
                </a:cubicBezTo>
                <a:cubicBezTo>
                  <a:pt x="22589" y="4961"/>
                  <a:pt x="22506" y="4962"/>
                  <a:pt x="22423" y="4965"/>
                </a:cubicBezTo>
                <a:cubicBezTo>
                  <a:pt x="22345" y="4968"/>
                  <a:pt x="22266" y="4969"/>
                  <a:pt x="22188" y="4971"/>
                </a:cubicBezTo>
                <a:cubicBezTo>
                  <a:pt x="22168" y="4971"/>
                  <a:pt x="22099" y="4983"/>
                  <a:pt x="22081" y="4971"/>
                </a:cubicBezTo>
                <a:cubicBezTo>
                  <a:pt x="22086" y="4969"/>
                  <a:pt x="22090" y="4966"/>
                  <a:pt x="22095" y="4964"/>
                </a:cubicBezTo>
              </a:path>
              <a:path w="931" h="639">
                <a:moveTo>
                  <a:pt x="22125" y="4588"/>
                </a:moveTo>
                <a:cubicBezTo>
                  <a:pt x="22147" y="4589"/>
                  <a:pt x="22170" y="4588"/>
                  <a:pt x="22194" y="4587"/>
                </a:cubicBezTo>
                <a:cubicBezTo>
                  <a:pt x="22250" y="4584"/>
                  <a:pt x="22307" y="4578"/>
                  <a:pt x="22363" y="4573"/>
                </a:cubicBezTo>
                <a:cubicBezTo>
                  <a:pt x="22439" y="4566"/>
                  <a:pt x="22516" y="4565"/>
                  <a:pt x="22593" y="4560"/>
                </a:cubicBezTo>
                <a:cubicBezTo>
                  <a:pt x="22682" y="4555"/>
                  <a:pt x="22772" y="4548"/>
                  <a:pt x="22861" y="4548"/>
                </a:cubicBezTo>
                <a:cubicBezTo>
                  <a:pt x="22897" y="4550"/>
                  <a:pt x="22905" y="4552"/>
                  <a:pt x="22927" y="4545"/>
                </a:cubicBezTo>
              </a:path>
              <a:path w="931" h="639">
                <a:moveTo>
                  <a:pt x="22312" y="4601"/>
                </a:moveTo>
                <a:cubicBezTo>
                  <a:pt x="22317" y="4615"/>
                  <a:pt x="22321" y="4629"/>
                  <a:pt x="22321" y="4644"/>
                </a:cubicBezTo>
                <a:cubicBezTo>
                  <a:pt x="22320" y="4673"/>
                  <a:pt x="22320" y="4703"/>
                  <a:pt x="22320" y="4732"/>
                </a:cubicBezTo>
                <a:cubicBezTo>
                  <a:pt x="22320" y="4766"/>
                  <a:pt x="22323" y="4798"/>
                  <a:pt x="22330" y="4831"/>
                </a:cubicBezTo>
                <a:cubicBezTo>
                  <a:pt x="22334" y="4848"/>
                  <a:pt x="22341" y="4861"/>
                  <a:pt x="22350" y="4876"/>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7" name=""/>
          <p:cNvSpPr/>
          <p:nvPr/>
        </p:nvSpPr>
        <p:spPr>
          <a:xfrm>
            <a:off x="2209680" y="1981080"/>
            <a:ext cx="1067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Deployment Preference</a:t>
            </a:r>
            <a:endParaRPr b="0" lang="en-US" sz="1400" spc="-1" strike="noStrike">
              <a:solidFill>
                <a:srgbClr val="000000"/>
              </a:solidFill>
              <a:latin typeface="Arial"/>
            </a:endParaRPr>
          </a:p>
        </p:txBody>
      </p:sp>
      <p:grpSp>
        <p:nvGrpSpPr>
          <p:cNvPr id="3828" name=""/>
          <p:cNvGrpSpPr/>
          <p:nvPr/>
        </p:nvGrpSpPr>
        <p:grpSpPr>
          <a:xfrm>
            <a:off x="1254240" y="1714680"/>
            <a:ext cx="532800" cy="457200"/>
            <a:chOff x="1254240" y="1714680"/>
            <a:chExt cx="532800" cy="457200"/>
          </a:xfrm>
        </p:grpSpPr>
        <p:sp>
          <p:nvSpPr>
            <p:cNvPr id="3829" name=""/>
            <p:cNvSpPr/>
            <p:nvPr/>
          </p:nvSpPr>
          <p:spPr>
            <a:xfrm>
              <a:off x="146736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30" name="Group 12"/>
            <p:cNvGrpSpPr/>
            <p:nvPr/>
          </p:nvGrpSpPr>
          <p:grpSpPr>
            <a:xfrm>
              <a:off x="1254240" y="1714680"/>
              <a:ext cx="532800" cy="457200"/>
              <a:chOff x="1254240" y="1714680"/>
              <a:chExt cx="532800" cy="457200"/>
            </a:xfrm>
          </p:grpSpPr>
          <p:sp>
            <p:nvSpPr>
              <p:cNvPr id="3831" name="Ink 13"/>
              <p:cNvSpPr/>
              <p:nvPr/>
            </p:nvSpPr>
            <p:spPr>
              <a:xfrm>
                <a:off x="1254240" y="1731600"/>
                <a:ext cx="14760" cy="417960"/>
              </a:xfrm>
              <a:custGeom>
                <a:avLst/>
                <a:gdLst/>
                <a:ahLst/>
                <a:rect l="l" t="t" r="r" b="b"/>
                <a:pathLst>
                  <a:path w="185" h="4243">
                    <a:moveTo>
                      <a:pt x="9654" y="1711"/>
                    </a:moveTo>
                    <a:cubicBezTo>
                      <a:pt x="9656" y="1798"/>
                      <a:pt x="9658" y="1886"/>
                      <a:pt x="9660" y="1974"/>
                    </a:cubicBezTo>
                    <a:cubicBezTo>
                      <a:pt x="9682" y="3156"/>
                      <a:pt x="9685" y="4341"/>
                      <a:pt x="9782" y="5520"/>
                    </a:cubicBezTo>
                    <a:cubicBezTo>
                      <a:pt x="9786" y="5572"/>
                      <a:pt x="9837" y="6001"/>
                      <a:pt x="9838" y="5908"/>
                    </a:cubicBezTo>
                    <a:cubicBezTo>
                      <a:pt x="9838" y="5848"/>
                      <a:pt x="9836" y="5787"/>
                      <a:pt x="9835" y="5727"/>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2" name="Ink 14"/>
              <p:cNvSpPr/>
              <p:nvPr/>
            </p:nvSpPr>
            <p:spPr>
              <a:xfrm>
                <a:off x="1267200" y="1714680"/>
                <a:ext cx="515880" cy="19800"/>
              </a:xfrm>
              <a:custGeom>
                <a:avLst/>
                <a:gdLst/>
                <a:ahLst/>
                <a:rect l="l" t="t" r="r" b="b"/>
                <a:pathLst>
                  <a:path w="6418" h="203">
                    <a:moveTo>
                      <a:pt x="9818" y="1646"/>
                    </a:moveTo>
                    <a:cubicBezTo>
                      <a:pt x="9959" y="1622"/>
                      <a:pt x="10098" y="1597"/>
                      <a:pt x="10241" y="1579"/>
                    </a:cubicBezTo>
                    <a:cubicBezTo>
                      <a:pt x="10438" y="1554"/>
                      <a:pt x="10635" y="1541"/>
                      <a:pt x="10833" y="1540"/>
                    </a:cubicBezTo>
                    <a:cubicBezTo>
                      <a:pt x="11781" y="1535"/>
                      <a:pt x="12734" y="1583"/>
                      <a:pt x="13682" y="1602"/>
                    </a:cubicBezTo>
                    <a:cubicBezTo>
                      <a:pt x="14043" y="1609"/>
                      <a:pt x="15948" y="1407"/>
                      <a:pt x="16235" y="1712"/>
                    </a:cubicBezTo>
                    <a:cubicBezTo>
                      <a:pt x="16260" y="1739"/>
                      <a:pt x="16165" y="1719"/>
                      <a:pt x="16135" y="1740"/>
                    </a:cubicBezTo>
                  </a:path>
                </a:pathLst>
              </a:custGeom>
              <a:noFill/>
              <a:ln cap="rnd" w="19080">
                <a:solidFill>
                  <a:srgbClr val="80808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33" name="Ink 15"/>
              <p:cNvSpPr/>
              <p:nvPr/>
            </p:nvSpPr>
            <p:spPr>
              <a:xfrm>
                <a:off x="1773360" y="1731960"/>
                <a:ext cx="9000" cy="439920"/>
              </a:xfrm>
              <a:custGeom>
                <a:avLst/>
                <a:gdLst/>
                <a:ahLst/>
                <a:rect l="l" t="t" r="r" b="b"/>
                <a:pathLst>
                  <a:path w="115" h="4464">
                    <a:moveTo>
                      <a:pt x="16222" y="1714"/>
                    </a:moveTo>
                    <a:cubicBezTo>
                      <a:pt x="16217" y="1780"/>
                      <a:pt x="16211" y="1851"/>
                      <a:pt x="16209" y="1920"/>
                    </a:cubicBezTo>
                    <a:cubicBezTo>
                      <a:pt x="16186" y="2650"/>
                      <a:pt x="16192" y="3381"/>
                      <a:pt x="16178" y="4111"/>
                    </a:cubicBezTo>
                    <a:cubicBezTo>
                      <a:pt x="16171" y="4457"/>
                      <a:pt x="16162" y="4803"/>
                      <a:pt x="16145" y="5149"/>
                    </a:cubicBezTo>
                    <a:cubicBezTo>
                      <a:pt x="16136" y="5337"/>
                      <a:pt x="16123" y="5524"/>
                      <a:pt x="16116" y="5712"/>
                    </a:cubicBezTo>
                    <a:cubicBezTo>
                      <a:pt x="16112" y="5818"/>
                      <a:pt x="16107" y="5927"/>
                      <a:pt x="16122" y="6033"/>
                    </a:cubicBezTo>
                    <a:cubicBezTo>
                      <a:pt x="16125" y="6055"/>
                      <a:pt x="16141" y="6187"/>
                      <a:pt x="16187" y="6177"/>
                    </a:cubicBezTo>
                    <a:cubicBezTo>
                      <a:pt x="16262" y="6160"/>
                      <a:pt x="16200" y="6112"/>
                      <a:pt x="16195" y="6100"/>
                    </a:cubicBezTo>
                    <a:cubicBezTo>
                      <a:pt x="16189" y="6094"/>
                      <a:pt x="16182" y="6088"/>
                      <a:pt x="16176" y="6082"/>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4" name="Ink 16"/>
              <p:cNvSpPr/>
              <p:nvPr/>
            </p:nvSpPr>
            <p:spPr>
              <a:xfrm>
                <a:off x="1279800" y="2159280"/>
                <a:ext cx="507240" cy="11520"/>
              </a:xfrm>
              <a:custGeom>
                <a:avLst/>
                <a:gdLst/>
                <a:ahLst/>
                <a:rect l="l" t="t" r="r" b="b"/>
                <a:pathLst>
                  <a:path w="6313" h="117">
                    <a:moveTo>
                      <a:pt x="9975" y="6124"/>
                    </a:moveTo>
                    <a:cubicBezTo>
                      <a:pt x="10029" y="6129"/>
                      <a:pt x="10080" y="6141"/>
                      <a:pt x="10135" y="6140"/>
                    </a:cubicBezTo>
                    <a:cubicBezTo>
                      <a:pt x="10703" y="6134"/>
                      <a:pt x="11267" y="6092"/>
                      <a:pt x="11837" y="6103"/>
                    </a:cubicBezTo>
                    <a:cubicBezTo>
                      <a:pt x="12756" y="6121"/>
                      <a:pt x="13677" y="6110"/>
                      <a:pt x="14596" y="6137"/>
                    </a:cubicBezTo>
                    <a:cubicBezTo>
                      <a:pt x="15039" y="6150"/>
                      <a:pt x="15478" y="6181"/>
                      <a:pt x="15921" y="6143"/>
                    </a:cubicBezTo>
                    <a:cubicBezTo>
                      <a:pt x="15964" y="6139"/>
                      <a:pt x="16333" y="6105"/>
                      <a:pt x="16257" y="6060"/>
                    </a:cubicBezTo>
                    <a:cubicBezTo>
                      <a:pt x="16226" y="6042"/>
                      <a:pt x="16145" y="6052"/>
                      <a:pt x="16112" y="6055"/>
                    </a:cubicBezTo>
                    <a:cubicBezTo>
                      <a:pt x="16109" y="6060"/>
                      <a:pt x="16106" y="6066"/>
                      <a:pt x="16103" y="6071"/>
                    </a:cubicBezTo>
                  </a:path>
                </a:pathLst>
              </a:custGeom>
              <a:noFill/>
              <a:ln cap="rnd" w="19080">
                <a:solidFill>
                  <a:srgbClr val="80808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835" name=""/>
            <p:cNvSpPr/>
            <p:nvPr/>
          </p:nvSpPr>
          <p:spPr>
            <a:xfrm>
              <a:off x="162720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6" name=""/>
            <p:cNvSpPr/>
            <p:nvPr/>
          </p:nvSpPr>
          <p:spPr>
            <a:xfrm>
              <a:off x="1307520" y="1828800"/>
              <a:ext cx="137520" cy="2401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7" name=""/>
          <p:cNvGrpSpPr/>
          <p:nvPr/>
        </p:nvGrpSpPr>
        <p:grpSpPr>
          <a:xfrm>
            <a:off x="1635120" y="1333440"/>
            <a:ext cx="501120" cy="304920"/>
            <a:chOff x="1635120" y="1333440"/>
            <a:chExt cx="501120" cy="304920"/>
          </a:xfrm>
        </p:grpSpPr>
        <p:sp>
          <p:nvSpPr>
            <p:cNvPr id="3838" name=""/>
            <p:cNvSpPr/>
            <p:nvPr/>
          </p:nvSpPr>
          <p:spPr>
            <a:xfrm>
              <a:off x="181008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9" name=""/>
            <p:cNvSpPr/>
            <p:nvPr/>
          </p:nvSpPr>
          <p:spPr>
            <a:xfrm>
              <a:off x="198540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0" name=""/>
            <p:cNvSpPr/>
            <p:nvPr/>
          </p:nvSpPr>
          <p:spPr>
            <a:xfrm>
              <a:off x="1635120" y="1333440"/>
              <a:ext cx="150840" cy="304920"/>
            </a:xfrm>
            <a:custGeom>
              <a:avLst/>
              <a:gdLst/>
              <a:ahLst/>
              <a:rect l="l" t="t" r="r" b="b"/>
              <a:pathLst>
                <a:path w="616" h="1334">
                  <a:moveTo>
                    <a:pt x="3329" y="10651"/>
                  </a:moveTo>
                  <a:cubicBezTo>
                    <a:pt x="3343" y="10651"/>
                    <a:pt x="3357" y="10651"/>
                    <a:pt x="3371" y="10651"/>
                  </a:cubicBezTo>
                  <a:cubicBezTo>
                    <a:pt x="3320" y="10644"/>
                    <a:pt x="3271" y="10639"/>
                    <a:pt x="3220" y="10638"/>
                  </a:cubicBezTo>
                  <a:cubicBezTo>
                    <a:pt x="3155" y="10637"/>
                    <a:pt x="3045" y="10614"/>
                    <a:pt x="3006" y="10668"/>
                  </a:cubicBezTo>
                  <a:cubicBezTo>
                    <a:pt x="2980" y="10704"/>
                    <a:pt x="2971" y="10752"/>
                    <a:pt x="2970" y="10794"/>
                  </a:cubicBezTo>
                  <a:cubicBezTo>
                    <a:pt x="2969" y="10836"/>
                    <a:pt x="2976" y="10873"/>
                    <a:pt x="2970" y="10915"/>
                  </a:cubicBezTo>
                  <a:cubicBezTo>
                    <a:pt x="2964" y="10959"/>
                    <a:pt x="2973" y="10998"/>
                    <a:pt x="2970" y="11041"/>
                  </a:cubicBezTo>
                  <a:cubicBezTo>
                    <a:pt x="2967" y="11087"/>
                    <a:pt x="2958" y="11120"/>
                    <a:pt x="2965" y="11167"/>
                  </a:cubicBezTo>
                  <a:cubicBezTo>
                    <a:pt x="2972" y="11214"/>
                    <a:pt x="2968" y="11246"/>
                    <a:pt x="2965" y="11293"/>
                  </a:cubicBezTo>
                  <a:cubicBezTo>
                    <a:pt x="2962" y="11336"/>
                    <a:pt x="2968" y="11377"/>
                    <a:pt x="2970" y="11419"/>
                  </a:cubicBezTo>
                  <a:cubicBezTo>
                    <a:pt x="2972" y="11458"/>
                    <a:pt x="2979" y="11504"/>
                    <a:pt x="2965" y="11541"/>
                  </a:cubicBezTo>
                  <a:cubicBezTo>
                    <a:pt x="2946" y="11590"/>
                    <a:pt x="2948" y="11610"/>
                    <a:pt x="2944" y="11662"/>
                  </a:cubicBezTo>
                  <a:cubicBezTo>
                    <a:pt x="2941" y="11702"/>
                    <a:pt x="2929" y="11743"/>
                    <a:pt x="2923" y="11784"/>
                  </a:cubicBezTo>
                  <a:cubicBezTo>
                    <a:pt x="2914" y="11847"/>
                    <a:pt x="2936" y="11866"/>
                    <a:pt x="2991" y="11897"/>
                  </a:cubicBezTo>
                  <a:cubicBezTo>
                    <a:pt x="3046" y="11928"/>
                    <a:pt x="3113" y="11933"/>
                    <a:pt x="3173" y="11945"/>
                  </a:cubicBezTo>
                  <a:cubicBezTo>
                    <a:pt x="3224" y="11955"/>
                    <a:pt x="3277" y="11956"/>
                    <a:pt x="3329" y="11962"/>
                  </a:cubicBezTo>
                  <a:cubicBezTo>
                    <a:pt x="3386" y="11968"/>
                    <a:pt x="3429" y="11990"/>
                    <a:pt x="3465" y="11940"/>
                  </a:cubicBezTo>
                  <a:cubicBezTo>
                    <a:pt x="3498" y="11894"/>
                    <a:pt x="3506" y="11829"/>
                    <a:pt x="3507" y="11775"/>
                  </a:cubicBezTo>
                  <a:cubicBezTo>
                    <a:pt x="3508" y="11732"/>
                    <a:pt x="3510" y="11691"/>
                    <a:pt x="3512" y="11649"/>
                  </a:cubicBezTo>
                  <a:cubicBezTo>
                    <a:pt x="3514" y="11607"/>
                    <a:pt x="3512" y="11565"/>
                    <a:pt x="3517" y="11523"/>
                  </a:cubicBezTo>
                  <a:cubicBezTo>
                    <a:pt x="3522" y="11479"/>
                    <a:pt x="3519" y="11440"/>
                    <a:pt x="3522" y="11397"/>
                  </a:cubicBezTo>
                  <a:cubicBezTo>
                    <a:pt x="3525" y="11351"/>
                    <a:pt x="3528" y="11313"/>
                    <a:pt x="3527" y="11267"/>
                  </a:cubicBezTo>
                  <a:cubicBezTo>
                    <a:pt x="3526" y="11224"/>
                    <a:pt x="3528" y="11179"/>
                    <a:pt x="3527" y="11137"/>
                  </a:cubicBezTo>
                  <a:cubicBezTo>
                    <a:pt x="3525" y="11081"/>
                    <a:pt x="3524" y="11028"/>
                    <a:pt x="3527" y="10972"/>
                  </a:cubicBezTo>
                  <a:cubicBezTo>
                    <a:pt x="3532" y="10886"/>
                    <a:pt x="3554" y="10720"/>
                    <a:pt x="3486" y="10677"/>
                  </a:cubicBez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1" name=""/>
          <p:cNvSpPr/>
          <p:nvPr/>
        </p:nvSpPr>
        <p:spPr>
          <a:xfrm>
            <a:off x="2244600" y="1181160"/>
            <a:ext cx="501840" cy="372960"/>
          </a:xfrm>
          <a:custGeom>
            <a:avLst/>
            <a:gdLst/>
            <a:ahLst/>
            <a:rect l="l" t="t" r="r" b="b"/>
            <a:pathLst>
              <a:path w="1392" h="1035">
                <a:moveTo>
                  <a:pt x="21295" y="3429"/>
                </a:moveTo>
                <a:cubicBezTo>
                  <a:pt x="21306" y="3437"/>
                  <a:pt x="21317" y="3444"/>
                  <a:pt x="21328" y="3452"/>
                </a:cubicBezTo>
                <a:cubicBezTo>
                  <a:pt x="21280" y="3452"/>
                  <a:pt x="21234" y="3455"/>
                  <a:pt x="21186" y="3459"/>
                </a:cubicBezTo>
                <a:cubicBezTo>
                  <a:pt x="21125" y="3464"/>
                  <a:pt x="21092" y="3473"/>
                  <a:pt x="21044" y="3513"/>
                </a:cubicBezTo>
                <a:cubicBezTo>
                  <a:pt x="21005" y="3546"/>
                  <a:pt x="20965" y="3573"/>
                  <a:pt x="20934" y="3615"/>
                </a:cubicBezTo>
                <a:cubicBezTo>
                  <a:pt x="20909" y="3649"/>
                  <a:pt x="20870" y="3691"/>
                  <a:pt x="20852" y="3730"/>
                </a:cubicBezTo>
                <a:cubicBezTo>
                  <a:pt x="20834" y="3768"/>
                  <a:pt x="20830" y="3815"/>
                  <a:pt x="20824" y="3856"/>
                </a:cubicBezTo>
                <a:cubicBezTo>
                  <a:pt x="20817" y="3899"/>
                  <a:pt x="20819" y="3934"/>
                  <a:pt x="20847" y="3970"/>
                </a:cubicBezTo>
                <a:cubicBezTo>
                  <a:pt x="20873" y="4003"/>
                  <a:pt x="20932" y="4024"/>
                  <a:pt x="20971" y="4039"/>
                </a:cubicBezTo>
                <a:cubicBezTo>
                  <a:pt x="20999" y="4046"/>
                  <a:pt x="21010" y="4049"/>
                  <a:pt x="21030" y="4050"/>
                </a:cubicBezTo>
              </a:path>
              <a:path w="1392" h="1035">
                <a:moveTo>
                  <a:pt x="21108" y="3993"/>
                </a:moveTo>
                <a:cubicBezTo>
                  <a:pt x="21114" y="3983"/>
                  <a:pt x="21120" y="3973"/>
                  <a:pt x="21126" y="3963"/>
                </a:cubicBezTo>
                <a:cubicBezTo>
                  <a:pt x="21085" y="4000"/>
                  <a:pt x="21056" y="4033"/>
                  <a:pt x="21025" y="4077"/>
                </a:cubicBezTo>
                <a:cubicBezTo>
                  <a:pt x="21001" y="4111"/>
                  <a:pt x="20984" y="4143"/>
                  <a:pt x="20975" y="4184"/>
                </a:cubicBezTo>
                <a:cubicBezTo>
                  <a:pt x="20965" y="4228"/>
                  <a:pt x="20958" y="4254"/>
                  <a:pt x="20971" y="4298"/>
                </a:cubicBezTo>
                <a:cubicBezTo>
                  <a:pt x="20985" y="4346"/>
                  <a:pt x="21025" y="4368"/>
                  <a:pt x="21071" y="4382"/>
                </a:cubicBezTo>
                <a:cubicBezTo>
                  <a:pt x="21120" y="4396"/>
                  <a:pt x="21165" y="4396"/>
                  <a:pt x="21213" y="4382"/>
                </a:cubicBezTo>
                <a:cubicBezTo>
                  <a:pt x="21260" y="4369"/>
                  <a:pt x="21298" y="4333"/>
                  <a:pt x="21341" y="4310"/>
                </a:cubicBezTo>
                <a:cubicBezTo>
                  <a:pt x="21352" y="4305"/>
                  <a:pt x="21362" y="4299"/>
                  <a:pt x="21373" y="4294"/>
                </a:cubicBezTo>
              </a:path>
              <a:path w="1392" h="1035">
                <a:moveTo>
                  <a:pt x="21378" y="4172"/>
                </a:moveTo>
                <a:cubicBezTo>
                  <a:pt x="21381" y="4211"/>
                  <a:pt x="21388" y="4254"/>
                  <a:pt x="21414" y="4287"/>
                </a:cubicBezTo>
                <a:cubicBezTo>
                  <a:pt x="21444" y="4324"/>
                  <a:pt x="21500" y="4346"/>
                  <a:pt x="21547" y="4352"/>
                </a:cubicBezTo>
                <a:cubicBezTo>
                  <a:pt x="21588" y="4357"/>
                  <a:pt x="21644" y="4345"/>
                  <a:pt x="21680" y="4325"/>
                </a:cubicBezTo>
                <a:cubicBezTo>
                  <a:pt x="21724" y="4301"/>
                  <a:pt x="21770" y="4268"/>
                  <a:pt x="21799" y="4226"/>
                </a:cubicBezTo>
                <a:cubicBezTo>
                  <a:pt x="21813" y="4200"/>
                  <a:pt x="21817" y="4192"/>
                  <a:pt x="21817" y="4172"/>
                </a:cubicBezTo>
              </a:path>
              <a:path w="1392" h="1035">
                <a:moveTo>
                  <a:pt x="21318" y="3581"/>
                </a:moveTo>
                <a:cubicBezTo>
                  <a:pt x="21303" y="3577"/>
                  <a:pt x="21288" y="3574"/>
                  <a:pt x="21273" y="3570"/>
                </a:cubicBezTo>
                <a:cubicBezTo>
                  <a:pt x="21283" y="3527"/>
                  <a:pt x="21284" y="3486"/>
                  <a:pt x="21318" y="3452"/>
                </a:cubicBezTo>
                <a:cubicBezTo>
                  <a:pt x="21357" y="3412"/>
                  <a:pt x="21427" y="3382"/>
                  <a:pt x="21479" y="3368"/>
                </a:cubicBezTo>
                <a:cubicBezTo>
                  <a:pt x="21523" y="3356"/>
                  <a:pt x="21580" y="3354"/>
                  <a:pt x="21625" y="3360"/>
                </a:cubicBezTo>
                <a:cubicBezTo>
                  <a:pt x="21661" y="3365"/>
                  <a:pt x="21734" y="3377"/>
                  <a:pt x="21762" y="3398"/>
                </a:cubicBezTo>
                <a:cubicBezTo>
                  <a:pt x="21793" y="3421"/>
                  <a:pt x="21789" y="3477"/>
                  <a:pt x="21781" y="3509"/>
                </a:cubicBezTo>
                <a:cubicBezTo>
                  <a:pt x="21770" y="3554"/>
                  <a:pt x="21750" y="3598"/>
                  <a:pt x="21735" y="3642"/>
                </a:cubicBezTo>
              </a:path>
              <a:path w="1392" h="1035">
                <a:moveTo>
                  <a:pt x="21703" y="3669"/>
                </a:moveTo>
                <a:cubicBezTo>
                  <a:pt x="21712" y="3608"/>
                  <a:pt x="21719" y="3581"/>
                  <a:pt x="21785" y="3566"/>
                </a:cubicBezTo>
                <a:cubicBezTo>
                  <a:pt x="21833" y="3555"/>
                  <a:pt x="21884" y="3559"/>
                  <a:pt x="21932" y="3570"/>
                </a:cubicBezTo>
                <a:cubicBezTo>
                  <a:pt x="21978" y="3581"/>
                  <a:pt x="22030" y="3602"/>
                  <a:pt x="22064" y="3635"/>
                </a:cubicBezTo>
                <a:cubicBezTo>
                  <a:pt x="22091" y="3661"/>
                  <a:pt x="22098" y="3703"/>
                  <a:pt x="22096" y="3738"/>
                </a:cubicBezTo>
                <a:cubicBezTo>
                  <a:pt x="22094" y="3766"/>
                  <a:pt x="22082" y="3792"/>
                  <a:pt x="22073" y="3818"/>
                </a:cubicBezTo>
              </a:path>
              <a:path w="1392" h="1035">
                <a:moveTo>
                  <a:pt x="21813" y="4149"/>
                </a:moveTo>
                <a:cubicBezTo>
                  <a:pt x="21805" y="4206"/>
                  <a:pt x="21831" y="4216"/>
                  <a:pt x="21886" y="4237"/>
                </a:cubicBezTo>
                <a:cubicBezTo>
                  <a:pt x="21922" y="4251"/>
                  <a:pt x="21971" y="4261"/>
                  <a:pt x="22009" y="4249"/>
                </a:cubicBezTo>
                <a:cubicBezTo>
                  <a:pt x="22056" y="4235"/>
                  <a:pt x="22098" y="4190"/>
                  <a:pt x="22133" y="4157"/>
                </a:cubicBezTo>
                <a:cubicBezTo>
                  <a:pt x="22163" y="4129"/>
                  <a:pt x="22207" y="4091"/>
                  <a:pt x="22211" y="4046"/>
                </a:cubicBezTo>
                <a:cubicBezTo>
                  <a:pt x="22214" y="4004"/>
                  <a:pt x="22188" y="3964"/>
                  <a:pt x="22165" y="3932"/>
                </a:cubicBezTo>
                <a:cubicBezTo>
                  <a:pt x="22143" y="3907"/>
                  <a:pt x="22137" y="3899"/>
                  <a:pt x="22128" y="38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2" name=""/>
          <p:cNvSpPr/>
          <p:nvPr/>
        </p:nvSpPr>
        <p:spPr>
          <a:xfrm>
            <a:off x="415800" y="194328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43" name=""/>
          <p:cNvGrpSpPr/>
          <p:nvPr/>
        </p:nvGrpSpPr>
        <p:grpSpPr>
          <a:xfrm>
            <a:off x="4952880" y="380880"/>
            <a:ext cx="884160" cy="747720"/>
            <a:chOff x="4952880" y="380880"/>
            <a:chExt cx="884160" cy="747720"/>
          </a:xfrm>
        </p:grpSpPr>
        <p:sp>
          <p:nvSpPr>
            <p:cNvPr id="3844" name=""/>
            <p:cNvSpPr/>
            <p:nvPr/>
          </p:nvSpPr>
          <p:spPr>
            <a:xfrm>
              <a:off x="4952880" y="380880"/>
              <a:ext cx="873000" cy="700200"/>
            </a:xfrm>
            <a:custGeom>
              <a:avLst/>
              <a:gdLst/>
              <a:ahLst/>
              <a:rect l="l" t="t" r="r" b="b"/>
              <a:pathLst>
                <a:path w="2427" h="2152">
                  <a:moveTo>
                    <a:pt x="4212" y="4348"/>
                  </a:moveTo>
                  <a:cubicBezTo>
                    <a:pt x="4207" y="4339"/>
                    <a:pt x="4203" y="4330"/>
                    <a:pt x="4198" y="4321"/>
                  </a:cubicBezTo>
                  <a:cubicBezTo>
                    <a:pt x="4206" y="4360"/>
                    <a:pt x="4212" y="4400"/>
                    <a:pt x="4221" y="4439"/>
                  </a:cubicBezTo>
                  <a:cubicBezTo>
                    <a:pt x="4231" y="4481"/>
                    <a:pt x="4231" y="4513"/>
                    <a:pt x="4235" y="4554"/>
                  </a:cubicBezTo>
                  <a:cubicBezTo>
                    <a:pt x="4240" y="4608"/>
                    <a:pt x="4243" y="4663"/>
                    <a:pt x="4244" y="4718"/>
                  </a:cubicBezTo>
                  <a:cubicBezTo>
                    <a:pt x="4245" y="4764"/>
                    <a:pt x="4248" y="4809"/>
                    <a:pt x="4249" y="4855"/>
                  </a:cubicBezTo>
                  <a:cubicBezTo>
                    <a:pt x="4250" y="4896"/>
                    <a:pt x="4250" y="4936"/>
                    <a:pt x="4253" y="4977"/>
                  </a:cubicBezTo>
                  <a:cubicBezTo>
                    <a:pt x="4256" y="5018"/>
                    <a:pt x="4260" y="5058"/>
                    <a:pt x="4262" y="5099"/>
                  </a:cubicBezTo>
                  <a:cubicBezTo>
                    <a:pt x="4264" y="5138"/>
                    <a:pt x="4266" y="5178"/>
                    <a:pt x="4267" y="5217"/>
                  </a:cubicBezTo>
                  <a:cubicBezTo>
                    <a:pt x="4268" y="5260"/>
                    <a:pt x="4262" y="5301"/>
                    <a:pt x="4262" y="5343"/>
                  </a:cubicBezTo>
                  <a:cubicBezTo>
                    <a:pt x="4262" y="5404"/>
                    <a:pt x="4253" y="5465"/>
                    <a:pt x="4253" y="5526"/>
                  </a:cubicBezTo>
                  <a:cubicBezTo>
                    <a:pt x="4253" y="5569"/>
                    <a:pt x="4260" y="5613"/>
                    <a:pt x="4262" y="5656"/>
                  </a:cubicBezTo>
                  <a:cubicBezTo>
                    <a:pt x="4264" y="5697"/>
                    <a:pt x="4261" y="5738"/>
                    <a:pt x="4262" y="5778"/>
                  </a:cubicBezTo>
                  <a:cubicBezTo>
                    <a:pt x="4263" y="5814"/>
                    <a:pt x="4268" y="5849"/>
                    <a:pt x="4267" y="5885"/>
                  </a:cubicBezTo>
                  <a:cubicBezTo>
                    <a:pt x="4266" y="5912"/>
                    <a:pt x="4245" y="6017"/>
                    <a:pt x="4262" y="6037"/>
                  </a:cubicBezTo>
                  <a:cubicBezTo>
                    <a:pt x="4286" y="6065"/>
                    <a:pt x="4396" y="6033"/>
                    <a:pt x="4427" y="6033"/>
                  </a:cubicBezTo>
                  <a:cubicBezTo>
                    <a:pt x="4506" y="6033"/>
                    <a:pt x="4584" y="6036"/>
                    <a:pt x="4661" y="6018"/>
                  </a:cubicBezTo>
                  <a:cubicBezTo>
                    <a:pt x="4707" y="6008"/>
                    <a:pt x="4742" y="6003"/>
                    <a:pt x="4789" y="5999"/>
                  </a:cubicBezTo>
                  <a:cubicBezTo>
                    <a:pt x="4831" y="5996"/>
                    <a:pt x="4874" y="5994"/>
                    <a:pt x="4917" y="5988"/>
                  </a:cubicBezTo>
                  <a:cubicBezTo>
                    <a:pt x="4960" y="5982"/>
                    <a:pt x="5002" y="5969"/>
                    <a:pt x="5045" y="5961"/>
                  </a:cubicBezTo>
                  <a:cubicBezTo>
                    <a:pt x="5092" y="5953"/>
                    <a:pt x="5135" y="5949"/>
                    <a:pt x="5182" y="5953"/>
                  </a:cubicBezTo>
                  <a:cubicBezTo>
                    <a:pt x="5237" y="5958"/>
                    <a:pt x="5294" y="5958"/>
                    <a:pt x="5347" y="5961"/>
                  </a:cubicBezTo>
                  <a:cubicBezTo>
                    <a:pt x="5427" y="5966"/>
                    <a:pt x="5501" y="5997"/>
                    <a:pt x="5580" y="5999"/>
                  </a:cubicBezTo>
                  <a:cubicBezTo>
                    <a:pt x="5625" y="6000"/>
                    <a:pt x="5675" y="6002"/>
                    <a:pt x="5722" y="5999"/>
                  </a:cubicBezTo>
                  <a:cubicBezTo>
                    <a:pt x="5768" y="5996"/>
                    <a:pt x="5818" y="5990"/>
                    <a:pt x="5864" y="5984"/>
                  </a:cubicBezTo>
                  <a:cubicBezTo>
                    <a:pt x="5923" y="5976"/>
                    <a:pt x="5973" y="5969"/>
                    <a:pt x="6033" y="5969"/>
                  </a:cubicBezTo>
                  <a:cubicBezTo>
                    <a:pt x="6088" y="5969"/>
                    <a:pt x="6144" y="5956"/>
                    <a:pt x="6198" y="5961"/>
                  </a:cubicBezTo>
                  <a:cubicBezTo>
                    <a:pt x="6246" y="5965"/>
                    <a:pt x="6288" y="5987"/>
                    <a:pt x="6335" y="5988"/>
                  </a:cubicBezTo>
                  <a:cubicBezTo>
                    <a:pt x="6385" y="5989"/>
                    <a:pt x="6429" y="5965"/>
                    <a:pt x="6477" y="5957"/>
                  </a:cubicBezTo>
                  <a:cubicBezTo>
                    <a:pt x="6521" y="5949"/>
                    <a:pt x="6560" y="5953"/>
                    <a:pt x="6605" y="5953"/>
                  </a:cubicBezTo>
                </a:path>
                <a:path w="2427" h="2152">
                  <a:moveTo>
                    <a:pt x="6473" y="3921"/>
                  </a:moveTo>
                  <a:cubicBezTo>
                    <a:pt x="6474" y="3912"/>
                    <a:pt x="6476" y="3903"/>
                    <a:pt x="6477" y="3894"/>
                  </a:cubicBezTo>
                  <a:cubicBezTo>
                    <a:pt x="6478" y="3943"/>
                    <a:pt x="6481" y="3991"/>
                    <a:pt x="6477" y="4039"/>
                  </a:cubicBezTo>
                  <a:cubicBezTo>
                    <a:pt x="6471" y="4109"/>
                    <a:pt x="6457" y="4181"/>
                    <a:pt x="6459" y="4252"/>
                  </a:cubicBezTo>
                  <a:cubicBezTo>
                    <a:pt x="6461" y="4306"/>
                    <a:pt x="6461" y="4359"/>
                    <a:pt x="6468" y="4413"/>
                  </a:cubicBezTo>
                  <a:cubicBezTo>
                    <a:pt x="6478" y="4490"/>
                    <a:pt x="6485" y="4567"/>
                    <a:pt x="6491" y="4645"/>
                  </a:cubicBezTo>
                  <a:cubicBezTo>
                    <a:pt x="6495" y="4698"/>
                    <a:pt x="6494" y="4750"/>
                    <a:pt x="6505" y="4802"/>
                  </a:cubicBezTo>
                  <a:cubicBezTo>
                    <a:pt x="6518" y="4861"/>
                    <a:pt x="6519" y="4917"/>
                    <a:pt x="6523" y="4977"/>
                  </a:cubicBezTo>
                  <a:cubicBezTo>
                    <a:pt x="6527" y="5031"/>
                    <a:pt x="6525" y="5083"/>
                    <a:pt x="6528" y="5137"/>
                  </a:cubicBezTo>
                  <a:cubicBezTo>
                    <a:pt x="6531" y="5181"/>
                    <a:pt x="6535" y="5224"/>
                    <a:pt x="6541" y="5267"/>
                  </a:cubicBezTo>
                  <a:cubicBezTo>
                    <a:pt x="6550" y="5330"/>
                    <a:pt x="6557" y="5398"/>
                    <a:pt x="6573" y="5458"/>
                  </a:cubicBezTo>
                  <a:cubicBezTo>
                    <a:pt x="6583" y="5495"/>
                    <a:pt x="6597" y="5531"/>
                    <a:pt x="6605" y="5568"/>
                  </a:cubicBezTo>
                  <a:cubicBezTo>
                    <a:pt x="6614" y="5608"/>
                    <a:pt x="6613" y="5645"/>
                    <a:pt x="6615" y="5686"/>
                  </a:cubicBezTo>
                  <a:cubicBezTo>
                    <a:pt x="6617" y="5725"/>
                    <a:pt x="6626" y="5766"/>
                    <a:pt x="6624" y="5805"/>
                  </a:cubicBezTo>
                  <a:cubicBezTo>
                    <a:pt x="6622" y="5843"/>
                    <a:pt x="6612" y="5882"/>
                    <a:pt x="6605" y="5919"/>
                  </a:cubicBezTo>
                </a:path>
                <a:path w="2427" h="2152">
                  <a:moveTo>
                    <a:pt x="4226" y="4096"/>
                  </a:moveTo>
                  <a:cubicBezTo>
                    <a:pt x="4273" y="4074"/>
                    <a:pt x="4322" y="4049"/>
                    <a:pt x="4372" y="4035"/>
                  </a:cubicBezTo>
                  <a:cubicBezTo>
                    <a:pt x="4421" y="4021"/>
                    <a:pt x="4454" y="4011"/>
                    <a:pt x="4505" y="4012"/>
                  </a:cubicBezTo>
                  <a:cubicBezTo>
                    <a:pt x="4550" y="4013"/>
                    <a:pt x="4597" y="4016"/>
                    <a:pt x="4642" y="4020"/>
                  </a:cubicBezTo>
                  <a:cubicBezTo>
                    <a:pt x="4698" y="4024"/>
                    <a:pt x="4752" y="4038"/>
                    <a:pt x="4807" y="4043"/>
                  </a:cubicBezTo>
                  <a:cubicBezTo>
                    <a:pt x="4854" y="4048"/>
                    <a:pt x="4894" y="4058"/>
                    <a:pt x="4940" y="4066"/>
                  </a:cubicBezTo>
                  <a:cubicBezTo>
                    <a:pt x="4989" y="4075"/>
                    <a:pt x="5033" y="4078"/>
                    <a:pt x="5082" y="4077"/>
                  </a:cubicBezTo>
                  <a:cubicBezTo>
                    <a:pt x="5127" y="4077"/>
                    <a:pt x="5169" y="4080"/>
                    <a:pt x="5214" y="4077"/>
                  </a:cubicBezTo>
                  <a:cubicBezTo>
                    <a:pt x="5265" y="4074"/>
                    <a:pt x="5314" y="4078"/>
                    <a:pt x="5365" y="4085"/>
                  </a:cubicBezTo>
                  <a:cubicBezTo>
                    <a:pt x="5409" y="4092"/>
                    <a:pt x="5453" y="4104"/>
                    <a:pt x="5498" y="4107"/>
                  </a:cubicBezTo>
                  <a:cubicBezTo>
                    <a:pt x="5539" y="4110"/>
                    <a:pt x="5590" y="4105"/>
                    <a:pt x="5631" y="4100"/>
                  </a:cubicBezTo>
                  <a:cubicBezTo>
                    <a:pt x="5681" y="4094"/>
                    <a:pt x="5732" y="4075"/>
                    <a:pt x="5782" y="4066"/>
                  </a:cubicBezTo>
                  <a:cubicBezTo>
                    <a:pt x="5840" y="4056"/>
                    <a:pt x="5899" y="4048"/>
                    <a:pt x="5956" y="4039"/>
                  </a:cubicBezTo>
                  <a:cubicBezTo>
                    <a:pt x="5998" y="4032"/>
                    <a:pt x="6038" y="4016"/>
                    <a:pt x="6079" y="4008"/>
                  </a:cubicBezTo>
                  <a:cubicBezTo>
                    <a:pt x="6126" y="3999"/>
                    <a:pt x="6175" y="4001"/>
                    <a:pt x="6221" y="3993"/>
                  </a:cubicBezTo>
                  <a:cubicBezTo>
                    <a:pt x="6264" y="3985"/>
                    <a:pt x="6308" y="3984"/>
                    <a:pt x="6354" y="3982"/>
                  </a:cubicBezTo>
                </a:path>
                <a:path w="2427" h="2152">
                  <a:moveTo>
                    <a:pt x="5406" y="4184"/>
                  </a:moveTo>
                  <a:cubicBezTo>
                    <a:pt x="5393" y="4157"/>
                    <a:pt x="5389" y="4148"/>
                    <a:pt x="5379" y="4130"/>
                  </a:cubicBezTo>
                  <a:cubicBezTo>
                    <a:pt x="5372" y="4174"/>
                    <a:pt x="5372" y="4220"/>
                    <a:pt x="5365" y="4264"/>
                  </a:cubicBezTo>
                  <a:cubicBezTo>
                    <a:pt x="5357" y="4314"/>
                    <a:pt x="5350" y="4363"/>
                    <a:pt x="5347" y="4413"/>
                  </a:cubicBezTo>
                  <a:cubicBezTo>
                    <a:pt x="5344" y="4458"/>
                    <a:pt x="5336" y="4501"/>
                    <a:pt x="5333" y="4546"/>
                  </a:cubicBezTo>
                  <a:cubicBezTo>
                    <a:pt x="5331" y="4576"/>
                    <a:pt x="5326" y="4627"/>
                    <a:pt x="5333" y="4657"/>
                  </a:cubicBezTo>
                  <a:cubicBezTo>
                    <a:pt x="5348" y="4726"/>
                    <a:pt x="5394" y="4790"/>
                    <a:pt x="5406" y="4859"/>
                  </a:cubicBezTo>
                  <a:cubicBezTo>
                    <a:pt x="5422" y="4957"/>
                    <a:pt x="5408" y="5077"/>
                    <a:pt x="5406" y="5175"/>
                  </a:cubicBezTo>
                  <a:cubicBezTo>
                    <a:pt x="5405" y="5211"/>
                    <a:pt x="5407" y="5246"/>
                    <a:pt x="5406" y="5282"/>
                  </a:cubicBezTo>
                  <a:cubicBezTo>
                    <a:pt x="5405" y="5319"/>
                    <a:pt x="5401" y="5355"/>
                    <a:pt x="5406" y="5393"/>
                  </a:cubicBezTo>
                  <a:cubicBezTo>
                    <a:pt x="5413" y="5452"/>
                    <a:pt x="5431" y="5507"/>
                    <a:pt x="5448" y="5564"/>
                  </a:cubicBezTo>
                  <a:cubicBezTo>
                    <a:pt x="5460" y="5603"/>
                    <a:pt x="5459" y="5645"/>
                    <a:pt x="5461" y="5686"/>
                  </a:cubicBezTo>
                  <a:cubicBezTo>
                    <a:pt x="5463" y="5751"/>
                    <a:pt x="5461" y="5816"/>
                    <a:pt x="5461" y="5881"/>
                  </a:cubicBezTo>
                </a:path>
                <a:path w="2427" h="2152">
                  <a:moveTo>
                    <a:pt x="4294" y="5046"/>
                  </a:moveTo>
                  <a:cubicBezTo>
                    <a:pt x="4341" y="5039"/>
                    <a:pt x="4381" y="5034"/>
                    <a:pt x="4427" y="5023"/>
                  </a:cubicBezTo>
                  <a:cubicBezTo>
                    <a:pt x="4470" y="5013"/>
                    <a:pt x="4512" y="5004"/>
                    <a:pt x="4555" y="4996"/>
                  </a:cubicBezTo>
                  <a:cubicBezTo>
                    <a:pt x="4603" y="4987"/>
                    <a:pt x="4635" y="4987"/>
                    <a:pt x="4683" y="4992"/>
                  </a:cubicBezTo>
                  <a:cubicBezTo>
                    <a:pt x="4730" y="4997"/>
                    <a:pt x="4775" y="5015"/>
                    <a:pt x="4821" y="5019"/>
                  </a:cubicBezTo>
                  <a:cubicBezTo>
                    <a:pt x="4864" y="5023"/>
                    <a:pt x="4908" y="5026"/>
                    <a:pt x="4953" y="5023"/>
                  </a:cubicBezTo>
                  <a:cubicBezTo>
                    <a:pt x="4998" y="5020"/>
                    <a:pt x="5041" y="5015"/>
                    <a:pt x="5086" y="5011"/>
                  </a:cubicBezTo>
                  <a:cubicBezTo>
                    <a:pt x="5143" y="5005"/>
                    <a:pt x="5198" y="5013"/>
                    <a:pt x="5255" y="5015"/>
                  </a:cubicBezTo>
                  <a:cubicBezTo>
                    <a:pt x="5299" y="5016"/>
                    <a:pt x="5340" y="5010"/>
                    <a:pt x="5384" y="5008"/>
                  </a:cubicBezTo>
                  <a:cubicBezTo>
                    <a:pt x="5428" y="5006"/>
                    <a:pt x="5472" y="5007"/>
                    <a:pt x="5516" y="5004"/>
                  </a:cubicBezTo>
                  <a:cubicBezTo>
                    <a:pt x="5566" y="5001"/>
                    <a:pt x="5610" y="4983"/>
                    <a:pt x="5658" y="4977"/>
                  </a:cubicBezTo>
                  <a:cubicBezTo>
                    <a:pt x="5703" y="4971"/>
                    <a:pt x="5749" y="4967"/>
                    <a:pt x="5795" y="4958"/>
                  </a:cubicBezTo>
                  <a:cubicBezTo>
                    <a:pt x="5839" y="4949"/>
                    <a:pt x="5885" y="4941"/>
                    <a:pt x="5928" y="4931"/>
                  </a:cubicBezTo>
                  <a:cubicBezTo>
                    <a:pt x="5987" y="4917"/>
                    <a:pt x="6041" y="4901"/>
                    <a:pt x="6102" y="4897"/>
                  </a:cubicBezTo>
                  <a:cubicBezTo>
                    <a:pt x="6162" y="4893"/>
                    <a:pt x="6209" y="4902"/>
                    <a:pt x="6267" y="4908"/>
                  </a:cubicBezTo>
                  <a:cubicBezTo>
                    <a:pt x="6313" y="4913"/>
                    <a:pt x="6350" y="4920"/>
                    <a:pt x="6395" y="49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5" name=""/>
            <p:cNvSpPr/>
            <p:nvPr/>
          </p:nvSpPr>
          <p:spPr>
            <a:xfrm>
              <a:off x="5000400" y="443880"/>
              <a:ext cx="3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tP</a:t>
              </a:r>
              <a:endParaRPr b="0" lang="en-US" sz="1600" spc="-1" strike="noStrike">
                <a:solidFill>
                  <a:srgbClr val="000000"/>
                </a:solidFill>
                <a:latin typeface="Arial"/>
              </a:endParaRPr>
            </a:p>
          </p:txBody>
        </p:sp>
        <p:sp>
          <p:nvSpPr>
            <p:cNvPr id="3846" name=""/>
            <p:cNvSpPr/>
            <p:nvPr/>
          </p:nvSpPr>
          <p:spPr>
            <a:xfrm>
              <a:off x="4988520" y="74520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An</a:t>
              </a:r>
              <a:endParaRPr b="0" lang="en-US" sz="1600" spc="-1" strike="noStrike">
                <a:solidFill>
                  <a:srgbClr val="000000"/>
                </a:solidFill>
                <a:latin typeface="Arial"/>
              </a:endParaRPr>
            </a:p>
          </p:txBody>
        </p:sp>
        <p:sp>
          <p:nvSpPr>
            <p:cNvPr id="3847" name=""/>
            <p:cNvSpPr/>
            <p:nvPr/>
          </p:nvSpPr>
          <p:spPr>
            <a:xfrm>
              <a:off x="5395680" y="7912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BA</a:t>
              </a:r>
              <a:endParaRPr b="0" lang="en-US" sz="1600" spc="-1" strike="noStrike">
                <a:solidFill>
                  <a:srgbClr val="000000"/>
                </a:solidFill>
                <a:latin typeface="Arial"/>
              </a:endParaRPr>
            </a:p>
          </p:txBody>
        </p:sp>
        <p:sp>
          <p:nvSpPr>
            <p:cNvPr id="3848" name=""/>
            <p:cNvSpPr/>
            <p:nvPr/>
          </p:nvSpPr>
          <p:spPr>
            <a:xfrm>
              <a:off x="5405760" y="443880"/>
              <a:ext cx="40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co</a:t>
              </a:r>
              <a:endParaRPr b="0" lang="en-US" sz="1600" spc="-1" strike="noStrike">
                <a:solidFill>
                  <a:srgbClr val="000000"/>
                </a:solidFill>
                <a:latin typeface="Arial"/>
              </a:endParaRPr>
            </a:p>
          </p:txBody>
        </p:sp>
      </p:grpSp>
      <p:sp>
        <p:nvSpPr>
          <p:cNvPr id="3849" name=""/>
          <p:cNvSpPr/>
          <p:nvPr/>
        </p:nvSpPr>
        <p:spPr>
          <a:xfrm>
            <a:off x="4485960" y="1371600"/>
            <a:ext cx="108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ategories</a:t>
            </a:r>
            <a:endParaRPr b="0" lang="en-US" sz="1400" spc="-1" strike="noStrike">
              <a:solidFill>
                <a:srgbClr val="000000"/>
              </a:solidFill>
              <a:latin typeface="Arial"/>
            </a:endParaRPr>
          </a:p>
        </p:txBody>
      </p:sp>
      <p:sp>
        <p:nvSpPr>
          <p:cNvPr id="3850" name=""/>
          <p:cNvSpPr/>
          <p:nvPr/>
        </p:nvSpPr>
        <p:spPr>
          <a:xfrm>
            <a:off x="5328360" y="211932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QoS Req’s</a:t>
            </a:r>
            <a:endParaRPr b="0" lang="en-US" sz="1400" spc="-1" strike="noStrike">
              <a:solidFill>
                <a:srgbClr val="000000"/>
              </a:solidFill>
              <a:latin typeface="Arial"/>
            </a:endParaRPr>
          </a:p>
        </p:txBody>
      </p:sp>
      <p:sp>
        <p:nvSpPr>
          <p:cNvPr id="3851" name=""/>
          <p:cNvSpPr/>
          <p:nvPr/>
        </p:nvSpPr>
        <p:spPr>
          <a:xfrm>
            <a:off x="6095880" y="1468440"/>
            <a:ext cx="560520" cy="366840"/>
          </a:xfrm>
          <a:custGeom>
            <a:avLst/>
            <a:gdLst/>
            <a:ahLst/>
            <a:rect l="l" t="t" r="r" b="b"/>
            <a:pathLst>
              <a:path w="1557" h="1020">
                <a:moveTo>
                  <a:pt x="20087" y="8337"/>
                </a:moveTo>
                <a:cubicBezTo>
                  <a:pt x="20089" y="8378"/>
                  <a:pt x="20094" y="8418"/>
                  <a:pt x="20096" y="8459"/>
                </a:cubicBezTo>
                <a:cubicBezTo>
                  <a:pt x="20098" y="8505"/>
                  <a:pt x="20104" y="8550"/>
                  <a:pt x="20110" y="8596"/>
                </a:cubicBezTo>
                <a:cubicBezTo>
                  <a:pt x="20116" y="8640"/>
                  <a:pt x="20115" y="8683"/>
                  <a:pt x="20119" y="8726"/>
                </a:cubicBezTo>
                <a:cubicBezTo>
                  <a:pt x="20123" y="8764"/>
                  <a:pt x="20120" y="8802"/>
                  <a:pt x="20124" y="8840"/>
                </a:cubicBezTo>
                <a:cubicBezTo>
                  <a:pt x="20127" y="8877"/>
                  <a:pt x="20126" y="8924"/>
                  <a:pt x="20138" y="8959"/>
                </a:cubicBezTo>
                <a:cubicBezTo>
                  <a:pt x="20151" y="8996"/>
                  <a:pt x="20174" y="9028"/>
                  <a:pt x="20179" y="9069"/>
                </a:cubicBezTo>
                <a:cubicBezTo>
                  <a:pt x="20186" y="9124"/>
                  <a:pt x="20177" y="9182"/>
                  <a:pt x="20183" y="9237"/>
                </a:cubicBezTo>
              </a:path>
              <a:path w="1557" h="1020">
                <a:moveTo>
                  <a:pt x="20243" y="9325"/>
                </a:moveTo>
                <a:cubicBezTo>
                  <a:pt x="20256" y="9272"/>
                  <a:pt x="20274" y="9248"/>
                  <a:pt x="20325" y="9222"/>
                </a:cubicBezTo>
                <a:cubicBezTo>
                  <a:pt x="20369" y="9200"/>
                  <a:pt x="20424" y="9182"/>
                  <a:pt x="20472" y="9172"/>
                </a:cubicBezTo>
                <a:cubicBezTo>
                  <a:pt x="20518" y="9162"/>
                  <a:pt x="20562" y="9146"/>
                  <a:pt x="20609" y="9134"/>
                </a:cubicBezTo>
                <a:cubicBezTo>
                  <a:pt x="20651" y="9123"/>
                  <a:pt x="20690" y="9127"/>
                  <a:pt x="20733" y="9126"/>
                </a:cubicBezTo>
                <a:cubicBezTo>
                  <a:pt x="20784" y="9125"/>
                  <a:pt x="20833" y="9124"/>
                  <a:pt x="20884" y="9126"/>
                </a:cubicBezTo>
                <a:cubicBezTo>
                  <a:pt x="20926" y="9127"/>
                  <a:pt x="20969" y="9123"/>
                  <a:pt x="21012" y="9123"/>
                </a:cubicBezTo>
                <a:cubicBezTo>
                  <a:pt x="21083" y="9123"/>
                  <a:pt x="21149" y="9141"/>
                  <a:pt x="21218" y="9149"/>
                </a:cubicBezTo>
                <a:cubicBezTo>
                  <a:pt x="21270" y="9155"/>
                  <a:pt x="21325" y="9158"/>
                  <a:pt x="21378" y="9161"/>
                </a:cubicBezTo>
                <a:cubicBezTo>
                  <a:pt x="21422" y="9163"/>
                  <a:pt x="21467" y="9162"/>
                  <a:pt x="21511" y="9165"/>
                </a:cubicBezTo>
                <a:cubicBezTo>
                  <a:pt x="21555" y="9168"/>
                  <a:pt x="21599" y="9171"/>
                  <a:pt x="21643" y="9172"/>
                </a:cubicBezTo>
              </a:path>
              <a:path w="1557" h="1020">
                <a:moveTo>
                  <a:pt x="20366" y="8985"/>
                </a:moveTo>
                <a:cubicBezTo>
                  <a:pt x="20411" y="8968"/>
                  <a:pt x="20452" y="8949"/>
                  <a:pt x="20495" y="8928"/>
                </a:cubicBezTo>
                <a:cubicBezTo>
                  <a:pt x="20540" y="8906"/>
                  <a:pt x="20582" y="8880"/>
                  <a:pt x="20623" y="8852"/>
                </a:cubicBezTo>
                <a:cubicBezTo>
                  <a:pt x="20666" y="8823"/>
                  <a:pt x="20709" y="8788"/>
                  <a:pt x="20755" y="8764"/>
                </a:cubicBezTo>
                <a:cubicBezTo>
                  <a:pt x="20798" y="8742"/>
                  <a:pt x="20843" y="8717"/>
                  <a:pt x="20888" y="8699"/>
                </a:cubicBezTo>
                <a:cubicBezTo>
                  <a:pt x="20932" y="8681"/>
                  <a:pt x="20974" y="8660"/>
                  <a:pt x="21016" y="8638"/>
                </a:cubicBezTo>
                <a:cubicBezTo>
                  <a:pt x="21056" y="8617"/>
                  <a:pt x="21099" y="8600"/>
                  <a:pt x="21140" y="8581"/>
                </a:cubicBezTo>
                <a:cubicBezTo>
                  <a:pt x="21184" y="8560"/>
                  <a:pt x="21227" y="8539"/>
                  <a:pt x="21268" y="8512"/>
                </a:cubicBezTo>
                <a:cubicBezTo>
                  <a:pt x="21323" y="8476"/>
                  <a:pt x="21369" y="8428"/>
                  <a:pt x="21424" y="8390"/>
                </a:cubicBezTo>
                <a:cubicBezTo>
                  <a:pt x="21476" y="8354"/>
                  <a:pt x="21528" y="8332"/>
                  <a:pt x="21584" y="8306"/>
                </a:cubicBezTo>
                <a:cubicBezTo>
                  <a:pt x="21541" y="8309"/>
                  <a:pt x="21499" y="8313"/>
                  <a:pt x="21456" y="8318"/>
                </a:cubicBezTo>
                <a:cubicBezTo>
                  <a:pt x="21412" y="8323"/>
                  <a:pt x="21372" y="8332"/>
                  <a:pt x="21328" y="8333"/>
                </a:cubicBezTo>
                <a:cubicBezTo>
                  <a:pt x="21377" y="8345"/>
                  <a:pt x="21411" y="8344"/>
                  <a:pt x="21460" y="8341"/>
                </a:cubicBezTo>
                <a:cubicBezTo>
                  <a:pt x="21505" y="8339"/>
                  <a:pt x="21545" y="8330"/>
                  <a:pt x="21588" y="8318"/>
                </a:cubicBezTo>
                <a:cubicBezTo>
                  <a:pt x="21545" y="8349"/>
                  <a:pt x="21509" y="8377"/>
                  <a:pt x="21474" y="8417"/>
                </a:cubicBezTo>
                <a:cubicBezTo>
                  <a:pt x="21438" y="8458"/>
                  <a:pt x="21417" y="8501"/>
                  <a:pt x="21396" y="8551"/>
                </a:cubicBezTo>
                <a:cubicBezTo>
                  <a:pt x="21393" y="8560"/>
                  <a:pt x="21390" y="8568"/>
                  <a:pt x="21387" y="8577"/>
                </a:cubicBezTo>
              </a:path>
              <a:path w="1557" h="1020">
                <a:moveTo>
                  <a:pt x="20371" y="8615"/>
                </a:moveTo>
                <a:cubicBezTo>
                  <a:pt x="20413" y="8605"/>
                  <a:pt x="20458" y="8607"/>
                  <a:pt x="20499" y="8596"/>
                </a:cubicBezTo>
                <a:cubicBezTo>
                  <a:pt x="20548" y="8583"/>
                  <a:pt x="20593" y="8559"/>
                  <a:pt x="20641" y="8543"/>
                </a:cubicBezTo>
                <a:cubicBezTo>
                  <a:pt x="20685" y="8528"/>
                  <a:pt x="20729" y="8537"/>
                  <a:pt x="20774" y="8539"/>
                </a:cubicBezTo>
                <a:cubicBezTo>
                  <a:pt x="20818" y="8541"/>
                  <a:pt x="20863" y="8539"/>
                  <a:pt x="20907" y="8535"/>
                </a:cubicBezTo>
                <a:cubicBezTo>
                  <a:pt x="20951" y="8531"/>
                  <a:pt x="20986" y="8528"/>
                  <a:pt x="21030" y="8535"/>
                </a:cubicBezTo>
              </a:path>
              <a:path w="1557" h="1020">
                <a:moveTo>
                  <a:pt x="20417" y="8825"/>
                </a:moveTo>
                <a:cubicBezTo>
                  <a:pt x="20462" y="8829"/>
                  <a:pt x="20505" y="8830"/>
                  <a:pt x="20550" y="8825"/>
                </a:cubicBezTo>
                <a:cubicBezTo>
                  <a:pt x="20595" y="8820"/>
                  <a:pt x="20638" y="8814"/>
                  <a:pt x="20682" y="8810"/>
                </a:cubicBezTo>
                <a:cubicBezTo>
                  <a:pt x="20728" y="8806"/>
                  <a:pt x="20774" y="8794"/>
                  <a:pt x="20820" y="8791"/>
                </a:cubicBezTo>
                <a:cubicBezTo>
                  <a:pt x="20864" y="8788"/>
                  <a:pt x="20908" y="8788"/>
                  <a:pt x="20952" y="8783"/>
                </a:cubicBezTo>
                <a:cubicBezTo>
                  <a:pt x="21006" y="8777"/>
                  <a:pt x="21062" y="8777"/>
                  <a:pt x="21117" y="8776"/>
                </a:cubicBezTo>
                <a:cubicBezTo>
                  <a:pt x="21149" y="8776"/>
                  <a:pt x="21160" y="8776"/>
                  <a:pt x="21181" y="8768"/>
                </a:cubicBezTo>
              </a:path>
              <a:path w="1557" h="1020">
                <a:moveTo>
                  <a:pt x="20344" y="9085"/>
                </a:moveTo>
                <a:cubicBezTo>
                  <a:pt x="20366" y="9037"/>
                  <a:pt x="20398" y="9036"/>
                  <a:pt x="20453" y="9027"/>
                </a:cubicBezTo>
                <a:cubicBezTo>
                  <a:pt x="20500" y="9019"/>
                  <a:pt x="20547" y="9017"/>
                  <a:pt x="20595" y="9012"/>
                </a:cubicBezTo>
                <a:cubicBezTo>
                  <a:pt x="20639" y="9007"/>
                  <a:pt x="20684" y="9005"/>
                  <a:pt x="20728" y="9004"/>
                </a:cubicBezTo>
                <a:cubicBezTo>
                  <a:pt x="20773" y="9003"/>
                  <a:pt x="20817" y="9005"/>
                  <a:pt x="20861" y="9004"/>
                </a:cubicBezTo>
                <a:cubicBezTo>
                  <a:pt x="20945" y="9001"/>
                  <a:pt x="21033" y="8999"/>
                  <a:pt x="21117" y="9008"/>
                </a:cubicBezTo>
                <a:cubicBezTo>
                  <a:pt x="21174" y="9014"/>
                  <a:pt x="21223" y="9010"/>
                  <a:pt x="21277" y="903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2" name=""/>
          <p:cNvSpPr/>
          <p:nvPr/>
        </p:nvSpPr>
        <p:spPr>
          <a:xfrm>
            <a:off x="6477120" y="1849320"/>
            <a:ext cx="295200" cy="460440"/>
          </a:xfrm>
          <a:custGeom>
            <a:avLst/>
            <a:gdLst/>
            <a:ahLst/>
            <a:rect l="l" t="t" r="r" b="b"/>
            <a:pathLst>
              <a:path w="1297" h="2028">
                <a:moveTo>
                  <a:pt x="12655" y="5715"/>
                </a:moveTo>
                <a:cubicBezTo>
                  <a:pt x="12655" y="5796"/>
                  <a:pt x="12656" y="5875"/>
                  <a:pt x="12662" y="5955"/>
                </a:cubicBezTo>
                <a:cubicBezTo>
                  <a:pt x="12664" y="5985"/>
                  <a:pt x="12666" y="6005"/>
                  <a:pt x="12675" y="6034"/>
                </a:cubicBezTo>
              </a:path>
              <a:path w="1297" h="2028">
                <a:moveTo>
                  <a:pt x="12728" y="6023"/>
                </a:moveTo>
                <a:cubicBezTo>
                  <a:pt x="12769" y="6022"/>
                  <a:pt x="12783" y="6035"/>
                  <a:pt x="12818" y="6058"/>
                </a:cubicBezTo>
                <a:cubicBezTo>
                  <a:pt x="12863" y="6087"/>
                  <a:pt x="12907" y="6103"/>
                  <a:pt x="12958" y="6117"/>
                </a:cubicBezTo>
              </a:path>
              <a:path w="1297" h="2028">
                <a:moveTo>
                  <a:pt x="13086" y="5665"/>
                </a:moveTo>
                <a:cubicBezTo>
                  <a:pt x="13095" y="5697"/>
                  <a:pt x="13097" y="5727"/>
                  <a:pt x="13101" y="5760"/>
                </a:cubicBezTo>
                <a:cubicBezTo>
                  <a:pt x="13107" y="5814"/>
                  <a:pt x="13102" y="5862"/>
                  <a:pt x="13099" y="5916"/>
                </a:cubicBezTo>
                <a:cubicBezTo>
                  <a:pt x="13097" y="5954"/>
                  <a:pt x="13093" y="5985"/>
                  <a:pt x="13080" y="6021"/>
                </a:cubicBezTo>
              </a:path>
              <a:path w="1297" h="2028">
                <a:moveTo>
                  <a:pt x="12811" y="6037"/>
                </a:moveTo>
                <a:cubicBezTo>
                  <a:pt x="12780" y="6044"/>
                  <a:pt x="12769" y="6045"/>
                  <a:pt x="12780" y="6081"/>
                </a:cubicBezTo>
                <a:cubicBezTo>
                  <a:pt x="12787" y="6104"/>
                  <a:pt x="12802" y="6151"/>
                  <a:pt x="12834" y="6146"/>
                </a:cubicBezTo>
                <a:cubicBezTo>
                  <a:pt x="12866" y="6141"/>
                  <a:pt x="12902" y="6119"/>
                  <a:pt x="12927" y="6099"/>
                </a:cubicBezTo>
                <a:cubicBezTo>
                  <a:pt x="12948" y="6082"/>
                  <a:pt x="12963" y="6074"/>
                  <a:pt x="12987" y="6062"/>
                </a:cubicBezTo>
              </a:path>
              <a:path w="1297" h="2028">
                <a:moveTo>
                  <a:pt x="12688" y="5476"/>
                </a:moveTo>
                <a:cubicBezTo>
                  <a:pt x="12667" y="5467"/>
                  <a:pt x="12658" y="5474"/>
                  <a:pt x="12636" y="5433"/>
                </a:cubicBezTo>
                <a:cubicBezTo>
                  <a:pt x="12592" y="5351"/>
                  <a:pt x="12562" y="5250"/>
                  <a:pt x="12540" y="5160"/>
                </a:cubicBezTo>
                <a:cubicBezTo>
                  <a:pt x="12520" y="5079"/>
                  <a:pt x="12505" y="4995"/>
                  <a:pt x="12512" y="4911"/>
                </a:cubicBezTo>
                <a:cubicBezTo>
                  <a:pt x="12519" y="4833"/>
                  <a:pt x="12540" y="4757"/>
                  <a:pt x="12571" y="4686"/>
                </a:cubicBezTo>
                <a:cubicBezTo>
                  <a:pt x="12595" y="4631"/>
                  <a:pt x="12627" y="4569"/>
                  <a:pt x="12688" y="4548"/>
                </a:cubicBezTo>
                <a:cubicBezTo>
                  <a:pt x="12755" y="4525"/>
                  <a:pt x="12818" y="4554"/>
                  <a:pt x="12872" y="4593"/>
                </a:cubicBezTo>
                <a:cubicBezTo>
                  <a:pt x="12961" y="4657"/>
                  <a:pt x="13029" y="4743"/>
                  <a:pt x="13086" y="4835"/>
                </a:cubicBezTo>
                <a:cubicBezTo>
                  <a:pt x="13102" y="4862"/>
                  <a:pt x="13117" y="4890"/>
                  <a:pt x="13133" y="4917"/>
                </a:cubicBezTo>
              </a:path>
              <a:path w="1297" h="2028">
                <a:moveTo>
                  <a:pt x="13205" y="5084"/>
                </a:moveTo>
                <a:cubicBezTo>
                  <a:pt x="13200" y="5124"/>
                  <a:pt x="13198" y="5159"/>
                  <a:pt x="13198" y="5199"/>
                </a:cubicBezTo>
                <a:cubicBezTo>
                  <a:pt x="13198" y="5229"/>
                  <a:pt x="13193" y="5259"/>
                  <a:pt x="13185" y="5288"/>
                </a:cubicBezTo>
                <a:cubicBezTo>
                  <a:pt x="13177" y="5317"/>
                  <a:pt x="13167" y="5339"/>
                  <a:pt x="13146" y="5362"/>
                </a:cubicBezTo>
                <a:cubicBezTo>
                  <a:pt x="13120" y="5389"/>
                  <a:pt x="13086" y="5400"/>
                  <a:pt x="13052" y="5409"/>
                </a:cubicBezTo>
              </a:path>
              <a:path w="1297" h="2028">
                <a:moveTo>
                  <a:pt x="12855" y="5523"/>
                </a:moveTo>
                <a:cubicBezTo>
                  <a:pt x="12866" y="5498"/>
                  <a:pt x="12865" y="5479"/>
                  <a:pt x="12865" y="5451"/>
                </a:cubicBezTo>
                <a:cubicBezTo>
                  <a:pt x="12865" y="5413"/>
                  <a:pt x="12851" y="5386"/>
                  <a:pt x="12842" y="5351"/>
                </a:cubicBezTo>
                <a:cubicBezTo>
                  <a:pt x="12841" y="5343"/>
                  <a:pt x="12840" y="5336"/>
                  <a:pt x="12839" y="5328"/>
                </a:cubicBezTo>
              </a:path>
              <a:path w="1297" h="2028">
                <a:moveTo>
                  <a:pt x="12859" y="5149"/>
                </a:moveTo>
                <a:cubicBezTo>
                  <a:pt x="12826" y="5160"/>
                  <a:pt x="12811" y="5176"/>
                  <a:pt x="12782" y="5155"/>
                </a:cubicBezTo>
                <a:cubicBezTo>
                  <a:pt x="12754" y="5135"/>
                  <a:pt x="12746" y="5121"/>
                  <a:pt x="12711" y="5121"/>
                </a:cubicBezTo>
                <a:cubicBezTo>
                  <a:pt x="12711" y="5147"/>
                  <a:pt x="12721" y="5164"/>
                  <a:pt x="12753" y="5171"/>
                </a:cubicBezTo>
                <a:cubicBezTo>
                  <a:pt x="12784" y="5178"/>
                  <a:pt x="12818" y="5175"/>
                  <a:pt x="12846" y="5162"/>
                </a:cubicBezTo>
                <a:cubicBezTo>
                  <a:pt x="12876" y="5148"/>
                  <a:pt x="12894" y="5130"/>
                  <a:pt x="12907" y="5100"/>
                </a:cubicBezTo>
                <a:cubicBezTo>
                  <a:pt x="12918" y="5076"/>
                  <a:pt x="12919" y="5052"/>
                  <a:pt x="12901" y="5030"/>
                </a:cubicBezTo>
                <a:cubicBezTo>
                  <a:pt x="12876" y="4999"/>
                  <a:pt x="12839" y="4978"/>
                  <a:pt x="12815" y="4946"/>
                </a:cubicBezTo>
                <a:cubicBezTo>
                  <a:pt x="12812" y="4940"/>
                  <a:pt x="12808" y="4934"/>
                  <a:pt x="12805" y="4928"/>
                </a:cubicBezTo>
                <a:cubicBezTo>
                  <a:pt x="12839" y="4941"/>
                  <a:pt x="12849" y="4935"/>
                  <a:pt x="12860" y="4898"/>
                </a:cubicBezTo>
                <a:cubicBezTo>
                  <a:pt x="12872" y="4858"/>
                  <a:pt x="12872" y="4821"/>
                  <a:pt x="12872" y="4780"/>
                </a:cubicBezTo>
                <a:cubicBezTo>
                  <a:pt x="12872" y="4748"/>
                  <a:pt x="12868" y="4732"/>
                  <a:pt x="12854" y="4704"/>
                </a:cubicBezTo>
              </a:path>
              <a:path w="1297" h="2028">
                <a:moveTo>
                  <a:pt x="12394" y="5077"/>
                </a:moveTo>
                <a:cubicBezTo>
                  <a:pt x="12374" y="5110"/>
                  <a:pt x="12357" y="5141"/>
                  <a:pt x="12332" y="5171"/>
                </a:cubicBezTo>
                <a:cubicBezTo>
                  <a:pt x="12306" y="5202"/>
                  <a:pt x="12277" y="5228"/>
                  <a:pt x="12244" y="5252"/>
                </a:cubicBezTo>
                <a:cubicBezTo>
                  <a:pt x="12222" y="5267"/>
                  <a:pt x="12216" y="5273"/>
                  <a:pt x="12197" y="5268"/>
                </a:cubicBezTo>
              </a:path>
              <a:path w="1297" h="2028">
                <a:moveTo>
                  <a:pt x="12372" y="4817"/>
                </a:moveTo>
                <a:cubicBezTo>
                  <a:pt x="12351" y="4794"/>
                  <a:pt x="12335" y="4772"/>
                  <a:pt x="12304" y="4791"/>
                </a:cubicBezTo>
                <a:cubicBezTo>
                  <a:pt x="12272" y="4810"/>
                  <a:pt x="12244" y="4840"/>
                  <a:pt x="12216" y="4864"/>
                </a:cubicBezTo>
                <a:cubicBezTo>
                  <a:pt x="12176" y="4898"/>
                  <a:pt x="12190" y="4889"/>
                  <a:pt x="12169" y="4838"/>
                </a:cubicBezTo>
              </a:path>
              <a:path w="1297" h="2028">
                <a:moveTo>
                  <a:pt x="12478" y="4595"/>
                </a:moveTo>
                <a:cubicBezTo>
                  <a:pt x="12452" y="4592"/>
                  <a:pt x="12426" y="4589"/>
                  <a:pt x="12408" y="4569"/>
                </a:cubicBezTo>
                <a:cubicBezTo>
                  <a:pt x="12376" y="4534"/>
                  <a:pt x="12357" y="4495"/>
                  <a:pt x="12337" y="4453"/>
                </a:cubicBezTo>
                <a:cubicBezTo>
                  <a:pt x="12311" y="4398"/>
                  <a:pt x="12300" y="4351"/>
                  <a:pt x="12289" y="4292"/>
                </a:cubicBezTo>
              </a:path>
              <a:path w="1297" h="2028">
                <a:moveTo>
                  <a:pt x="12621" y="4331"/>
                </a:moveTo>
                <a:cubicBezTo>
                  <a:pt x="12628" y="4334"/>
                  <a:pt x="12634" y="4336"/>
                  <a:pt x="12641" y="4339"/>
                </a:cubicBezTo>
                <a:cubicBezTo>
                  <a:pt x="12627" y="4308"/>
                  <a:pt x="12608" y="4281"/>
                  <a:pt x="12595" y="4250"/>
                </a:cubicBezTo>
                <a:cubicBezTo>
                  <a:pt x="12580" y="4216"/>
                  <a:pt x="12567" y="4183"/>
                  <a:pt x="12558" y="4147"/>
                </a:cubicBezTo>
              </a:path>
              <a:path w="1297" h="2028">
                <a:moveTo>
                  <a:pt x="12880" y="4404"/>
                </a:moveTo>
                <a:cubicBezTo>
                  <a:pt x="12886" y="4381"/>
                  <a:pt x="12885" y="4357"/>
                  <a:pt x="12891" y="4334"/>
                </a:cubicBezTo>
                <a:cubicBezTo>
                  <a:pt x="12900" y="4299"/>
                  <a:pt x="12905" y="4264"/>
                  <a:pt x="12914" y="4229"/>
                </a:cubicBezTo>
                <a:cubicBezTo>
                  <a:pt x="12923" y="4192"/>
                  <a:pt x="12934" y="4156"/>
                  <a:pt x="12945" y="4119"/>
                </a:cubicBezTo>
              </a:path>
              <a:path w="1297" h="2028">
                <a:moveTo>
                  <a:pt x="13086" y="4456"/>
                </a:moveTo>
                <a:cubicBezTo>
                  <a:pt x="13108" y="4420"/>
                  <a:pt x="13137" y="4387"/>
                  <a:pt x="13159" y="4351"/>
                </a:cubicBezTo>
                <a:cubicBezTo>
                  <a:pt x="13175" y="4324"/>
                  <a:pt x="13197" y="4296"/>
                  <a:pt x="13219" y="4286"/>
                </a:cubicBezTo>
              </a:path>
              <a:path w="1297" h="2028">
                <a:moveTo>
                  <a:pt x="13224" y="4618"/>
                </a:moveTo>
                <a:cubicBezTo>
                  <a:pt x="13200" y="4633"/>
                  <a:pt x="13203" y="4646"/>
                  <a:pt x="13200" y="4678"/>
                </a:cubicBezTo>
                <a:cubicBezTo>
                  <a:pt x="13237" y="4683"/>
                  <a:pt x="13262" y="4677"/>
                  <a:pt x="13298" y="4665"/>
                </a:cubicBezTo>
                <a:cubicBezTo>
                  <a:pt x="13321" y="4657"/>
                  <a:pt x="13353" y="4642"/>
                  <a:pt x="13377" y="4655"/>
                </a:cubicBezTo>
                <a:cubicBezTo>
                  <a:pt x="13384" y="4661"/>
                  <a:pt x="13390" y="4667"/>
                  <a:pt x="13397" y="4673"/>
                </a:cubicBezTo>
              </a:path>
              <a:path w="1297" h="2028">
                <a:moveTo>
                  <a:pt x="13332" y="5079"/>
                </a:moveTo>
                <a:cubicBezTo>
                  <a:pt x="13363" y="5100"/>
                  <a:pt x="13362" y="5082"/>
                  <a:pt x="13398" y="5074"/>
                </a:cubicBezTo>
                <a:cubicBezTo>
                  <a:pt x="13421" y="5069"/>
                  <a:pt x="13442" y="5066"/>
                  <a:pt x="13465" y="5064"/>
                </a:cubicBezTo>
              </a:path>
              <a:path w="1297" h="2028">
                <a:moveTo>
                  <a:pt x="13320" y="5404"/>
                </a:moveTo>
                <a:cubicBezTo>
                  <a:pt x="13320" y="5439"/>
                  <a:pt x="13328" y="5448"/>
                  <a:pt x="13350" y="5477"/>
                </a:cubicBezTo>
                <a:cubicBezTo>
                  <a:pt x="13367" y="5500"/>
                  <a:pt x="13376" y="5508"/>
                  <a:pt x="13400" y="5523"/>
                </a:cubicBezTo>
              </a:path>
              <a:path w="1297" h="2028">
                <a:moveTo>
                  <a:pt x="12780" y="5680"/>
                </a:moveTo>
                <a:cubicBezTo>
                  <a:pt x="12759" y="5642"/>
                  <a:pt x="12760" y="5720"/>
                  <a:pt x="12763" y="5723"/>
                </a:cubicBezTo>
                <a:cubicBezTo>
                  <a:pt x="12790" y="5750"/>
                  <a:pt x="12844" y="5722"/>
                  <a:pt x="12873" y="5715"/>
                </a:cubicBezTo>
                <a:cubicBezTo>
                  <a:pt x="12909" y="5706"/>
                  <a:pt x="12947" y="5696"/>
                  <a:pt x="12982" y="5684"/>
                </a:cubicBezTo>
                <a:cubicBezTo>
                  <a:pt x="13000" y="5675"/>
                  <a:pt x="13005" y="5672"/>
                  <a:pt x="13019" y="5675"/>
                </a:cubicBezTo>
              </a:path>
              <a:path w="1297" h="2028">
                <a:moveTo>
                  <a:pt x="12834" y="5877"/>
                </a:moveTo>
                <a:cubicBezTo>
                  <a:pt x="12827" y="5897"/>
                  <a:pt x="12823" y="5913"/>
                  <a:pt x="12821" y="5934"/>
                </a:cubicBezTo>
                <a:cubicBezTo>
                  <a:pt x="12844" y="5910"/>
                  <a:pt x="12857" y="5889"/>
                  <a:pt x="12894" y="5898"/>
                </a:cubicBezTo>
                <a:cubicBezTo>
                  <a:pt x="12925" y="5905"/>
                  <a:pt x="12946" y="5915"/>
                  <a:pt x="12972" y="5887"/>
                </a:cubicBezTo>
                <a:cubicBezTo>
                  <a:pt x="13004" y="5853"/>
                  <a:pt x="13025" y="5801"/>
                  <a:pt x="13042" y="575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53" name="Group 101"/>
          <p:cNvGrpSpPr/>
          <p:nvPr/>
        </p:nvGrpSpPr>
        <p:grpSpPr>
          <a:xfrm>
            <a:off x="6553080" y="2382840"/>
            <a:ext cx="304560" cy="518400"/>
            <a:chOff x="6553080" y="2382840"/>
            <a:chExt cx="304560" cy="518400"/>
          </a:xfrm>
        </p:grpSpPr>
        <p:grpSp>
          <p:nvGrpSpPr>
            <p:cNvPr id="3854" name="Group 79"/>
            <p:cNvGrpSpPr/>
            <p:nvPr/>
          </p:nvGrpSpPr>
          <p:grpSpPr>
            <a:xfrm>
              <a:off x="6553080" y="2382840"/>
              <a:ext cx="304560" cy="518400"/>
              <a:chOff x="6553080" y="2382840"/>
              <a:chExt cx="304560" cy="518400"/>
            </a:xfrm>
          </p:grpSpPr>
          <p:sp>
            <p:nvSpPr>
              <p:cNvPr id="3855" name="Ink 80"/>
              <p:cNvSpPr/>
              <p:nvPr/>
            </p:nvSpPr>
            <p:spPr>
              <a:xfrm>
                <a:off x="6558480" y="2684520"/>
                <a:ext cx="34200" cy="216720"/>
              </a:xfrm>
              <a:custGeom>
                <a:avLst/>
                <a:gdLst/>
                <a:ahLst/>
                <a:rect l="l" t="t" r="r" b="b"/>
                <a:pathLst>
                  <a:path w="162" h="966">
                    <a:moveTo>
                      <a:pt x="5160" y="3583"/>
                    </a:moveTo>
                    <a:cubicBezTo>
                      <a:pt x="5168" y="3652"/>
                      <a:pt x="5176" y="3720"/>
                      <a:pt x="5183" y="3789"/>
                    </a:cubicBezTo>
                    <a:cubicBezTo>
                      <a:pt x="5200" y="3966"/>
                      <a:pt x="5217" y="4144"/>
                      <a:pt x="5247" y="4319"/>
                    </a:cubicBezTo>
                    <a:cubicBezTo>
                      <a:pt x="5258" y="4384"/>
                      <a:pt x="5267" y="4467"/>
                      <a:pt x="5302" y="4525"/>
                    </a:cubicBezTo>
                    <a:cubicBezTo>
                      <a:pt x="5308" y="4533"/>
                      <a:pt x="5315" y="4540"/>
                      <a:pt x="5321" y="454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6" name="Ink 81"/>
              <p:cNvSpPr/>
              <p:nvPr/>
            </p:nvSpPr>
            <p:spPr>
              <a:xfrm>
                <a:off x="6553080" y="2585520"/>
                <a:ext cx="246240" cy="84960"/>
              </a:xfrm>
              <a:custGeom>
                <a:avLst/>
                <a:gdLst/>
                <a:ahLst/>
                <a:rect l="l" t="t" r="r" b="b"/>
                <a:pathLst>
                  <a:path w="1176" h="379">
                    <a:moveTo>
                      <a:pt x="5131" y="3522"/>
                    </a:moveTo>
                    <a:cubicBezTo>
                      <a:pt x="5175" y="3499"/>
                      <a:pt x="5222" y="3474"/>
                      <a:pt x="5270" y="3454"/>
                    </a:cubicBezTo>
                    <a:cubicBezTo>
                      <a:pt x="5374" y="3411"/>
                      <a:pt x="5480" y="3368"/>
                      <a:pt x="5586" y="3330"/>
                    </a:cubicBezTo>
                    <a:cubicBezTo>
                      <a:pt x="5742" y="3274"/>
                      <a:pt x="5901" y="3220"/>
                      <a:pt x="6062" y="3178"/>
                    </a:cubicBezTo>
                    <a:cubicBezTo>
                      <a:pt x="6140" y="3158"/>
                      <a:pt x="6208" y="3147"/>
                      <a:pt x="6287" y="3150"/>
                    </a:cubicBezTo>
                    <a:cubicBezTo>
                      <a:pt x="6293" y="3150"/>
                      <a:pt x="6300" y="3150"/>
                      <a:pt x="6306" y="3150"/>
                    </a:cubicBezTo>
                  </a:path>
                </a:pathLst>
              </a:custGeom>
              <a:noFill/>
              <a:ln cap="rnd" w="19080">
                <a:solidFill>
                  <a:srgbClr val="80808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857" name="Ink 82"/>
              <p:cNvSpPr/>
              <p:nvPr/>
            </p:nvSpPr>
            <p:spPr>
              <a:xfrm>
                <a:off x="6741000" y="2599560"/>
                <a:ext cx="67320" cy="266040"/>
              </a:xfrm>
              <a:custGeom>
                <a:avLst/>
                <a:gdLst/>
                <a:ahLst/>
                <a:rect l="l" t="t" r="r" b="b"/>
                <a:pathLst>
                  <a:path w="320" h="1188">
                    <a:moveTo>
                      <a:pt x="6348" y="3206"/>
                    </a:moveTo>
                    <a:cubicBezTo>
                      <a:pt x="6329" y="3236"/>
                      <a:pt x="6313" y="3265"/>
                      <a:pt x="6298" y="3299"/>
                    </a:cubicBezTo>
                    <a:cubicBezTo>
                      <a:pt x="6264" y="3377"/>
                      <a:pt x="6234" y="3455"/>
                      <a:pt x="6204" y="3535"/>
                    </a:cubicBezTo>
                    <a:cubicBezTo>
                      <a:pt x="6137" y="3713"/>
                      <a:pt x="6078" y="3900"/>
                      <a:pt x="6049" y="4088"/>
                    </a:cubicBezTo>
                    <a:cubicBezTo>
                      <a:pt x="6035" y="4177"/>
                      <a:pt x="6033" y="4256"/>
                      <a:pt x="6043" y="4342"/>
                    </a:cubicBezTo>
                    <a:cubicBezTo>
                      <a:pt x="6043" y="4370"/>
                      <a:pt x="6044" y="4380"/>
                      <a:pt x="6062" y="439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8" name="Ink 83"/>
              <p:cNvSpPr/>
              <p:nvPr/>
            </p:nvSpPr>
            <p:spPr>
              <a:xfrm>
                <a:off x="6609240" y="2846880"/>
                <a:ext cx="147960" cy="53280"/>
              </a:xfrm>
              <a:custGeom>
                <a:avLst/>
                <a:gdLst/>
                <a:ahLst/>
                <a:rect l="l" t="t" r="r" b="b"/>
                <a:pathLst>
                  <a:path w="705" h="239">
                    <a:moveTo>
                      <a:pt x="5404" y="4545"/>
                    </a:moveTo>
                    <a:cubicBezTo>
                      <a:pt x="5443" y="4540"/>
                      <a:pt x="5479" y="4531"/>
                      <a:pt x="5516" y="4520"/>
                    </a:cubicBezTo>
                    <a:cubicBezTo>
                      <a:pt x="5580" y="4501"/>
                      <a:pt x="5644" y="4475"/>
                      <a:pt x="5707" y="4451"/>
                    </a:cubicBezTo>
                    <a:cubicBezTo>
                      <a:pt x="5785" y="4421"/>
                      <a:pt x="5864" y="4388"/>
                      <a:pt x="5944" y="4365"/>
                    </a:cubicBezTo>
                    <a:cubicBezTo>
                      <a:pt x="6001" y="4349"/>
                      <a:pt x="6057" y="4334"/>
                      <a:pt x="6108" y="4307"/>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859" name="Ink 84"/>
              <p:cNvSpPr/>
              <p:nvPr/>
            </p:nvSpPr>
            <p:spPr>
              <a:xfrm>
                <a:off x="6757560" y="2600280"/>
                <a:ext cx="100080" cy="223560"/>
              </a:xfrm>
              <a:custGeom>
                <a:avLst/>
                <a:gdLst/>
                <a:ahLst/>
                <a:rect l="l" t="t" r="r" b="b"/>
                <a:pathLst>
                  <a:path w="476" h="993">
                    <a:moveTo>
                      <a:pt x="6568" y="3218"/>
                    </a:moveTo>
                    <a:cubicBezTo>
                      <a:pt x="6573" y="3216"/>
                      <a:pt x="6578" y="3214"/>
                      <a:pt x="6583" y="3212"/>
                    </a:cubicBezTo>
                    <a:cubicBezTo>
                      <a:pt x="6556" y="3229"/>
                      <a:pt x="6541" y="3240"/>
                      <a:pt x="6522" y="3267"/>
                    </a:cubicBezTo>
                    <a:cubicBezTo>
                      <a:pt x="6477" y="3329"/>
                      <a:pt x="6451" y="3401"/>
                      <a:pt x="6416" y="3469"/>
                    </a:cubicBezTo>
                    <a:cubicBezTo>
                      <a:pt x="6364" y="3571"/>
                      <a:pt x="6315" y="3675"/>
                      <a:pt x="6264" y="3778"/>
                    </a:cubicBezTo>
                    <a:cubicBezTo>
                      <a:pt x="6219" y="3869"/>
                      <a:pt x="6172" y="3958"/>
                      <a:pt x="6140" y="4055"/>
                    </a:cubicBezTo>
                    <a:cubicBezTo>
                      <a:pt x="6127" y="4096"/>
                      <a:pt x="6104" y="4147"/>
                      <a:pt x="6112" y="4190"/>
                    </a:cubicBezTo>
                    <a:cubicBezTo>
                      <a:pt x="6114" y="4195"/>
                      <a:pt x="6115" y="4199"/>
                      <a:pt x="6117" y="420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0" name="Ink 85"/>
              <p:cNvSpPr/>
              <p:nvPr/>
            </p:nvSpPr>
            <p:spPr>
              <a:xfrm>
                <a:off x="6795360" y="2591640"/>
                <a:ext cx="39600" cy="18360"/>
              </a:xfrm>
              <a:custGeom>
                <a:avLst/>
                <a:gdLst/>
                <a:ahLst/>
                <a:rect l="l" t="t" r="r" b="b"/>
                <a:pathLst>
                  <a:path w="190" h="84">
                    <a:moveTo>
                      <a:pt x="6476" y="3252"/>
                    </a:moveTo>
                    <a:cubicBezTo>
                      <a:pt x="6458" y="3224"/>
                      <a:pt x="6435" y="3208"/>
                      <a:pt x="6404" y="3192"/>
                    </a:cubicBezTo>
                    <a:cubicBezTo>
                      <a:pt x="6389" y="3184"/>
                      <a:pt x="6359" y="3174"/>
                      <a:pt x="6342" y="3173"/>
                    </a:cubicBezTo>
                    <a:cubicBezTo>
                      <a:pt x="6321" y="3171"/>
                      <a:pt x="6308" y="3172"/>
                      <a:pt x="6287" y="3175"/>
                    </a:cubicBezTo>
                  </a:path>
                </a:pathLst>
              </a:custGeom>
              <a:noFill/>
              <a:ln cap="rnd" w="19080">
                <a:solidFill>
                  <a:srgbClr val="80808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861" name="Ink 86"/>
              <p:cNvSpPr/>
              <p:nvPr/>
            </p:nvSpPr>
            <p:spPr>
              <a:xfrm>
                <a:off x="6772320" y="2596680"/>
                <a:ext cx="70200" cy="234360"/>
              </a:xfrm>
              <a:custGeom>
                <a:avLst/>
                <a:gdLst/>
                <a:ahLst/>
                <a:rect l="l" t="t" r="r" b="b"/>
                <a:pathLst>
                  <a:path w="338" h="1045">
                    <a:moveTo>
                      <a:pt x="6508" y="3192"/>
                    </a:moveTo>
                    <a:cubicBezTo>
                      <a:pt x="6508" y="3229"/>
                      <a:pt x="6508" y="3263"/>
                      <a:pt x="6499" y="3301"/>
                    </a:cubicBezTo>
                    <a:cubicBezTo>
                      <a:pt x="6480" y="3379"/>
                      <a:pt x="6450" y="3453"/>
                      <a:pt x="6422" y="3528"/>
                    </a:cubicBezTo>
                    <a:cubicBezTo>
                      <a:pt x="6382" y="3634"/>
                      <a:pt x="6336" y="3739"/>
                      <a:pt x="6296" y="3845"/>
                    </a:cubicBezTo>
                    <a:cubicBezTo>
                      <a:pt x="6265" y="3928"/>
                      <a:pt x="6234" y="4013"/>
                      <a:pt x="6209" y="4098"/>
                    </a:cubicBezTo>
                    <a:cubicBezTo>
                      <a:pt x="6197" y="4140"/>
                      <a:pt x="6193" y="4197"/>
                      <a:pt x="6178" y="4236"/>
                    </a:cubicBezTo>
                    <a:cubicBezTo>
                      <a:pt x="6178" y="4231"/>
                      <a:pt x="6177" y="4225"/>
                      <a:pt x="6177" y="4220"/>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2" name="Ink 87"/>
              <p:cNvSpPr/>
              <p:nvPr/>
            </p:nvSpPr>
            <p:spPr>
              <a:xfrm>
                <a:off x="6593760" y="2382840"/>
                <a:ext cx="146880" cy="248400"/>
              </a:xfrm>
              <a:custGeom>
                <a:avLst/>
                <a:gdLst/>
                <a:ahLst/>
                <a:rect l="l" t="t" r="r" b="b"/>
                <a:pathLst>
                  <a:path w="705" h="1111">
                    <a:moveTo>
                      <a:pt x="5356" y="3348"/>
                    </a:moveTo>
                    <a:cubicBezTo>
                      <a:pt x="5348" y="3326"/>
                      <a:pt x="5339" y="3306"/>
                      <a:pt x="5335" y="3281"/>
                    </a:cubicBezTo>
                    <a:cubicBezTo>
                      <a:pt x="5328" y="3239"/>
                      <a:pt x="5326" y="3197"/>
                      <a:pt x="5325" y="3155"/>
                    </a:cubicBezTo>
                    <a:cubicBezTo>
                      <a:pt x="5323" y="2994"/>
                      <a:pt x="5351" y="2830"/>
                      <a:pt x="5390" y="2675"/>
                    </a:cubicBezTo>
                    <a:cubicBezTo>
                      <a:pt x="5415" y="2578"/>
                      <a:pt x="5450" y="2484"/>
                      <a:pt x="5506" y="2400"/>
                    </a:cubicBezTo>
                    <a:cubicBezTo>
                      <a:pt x="5552" y="2332"/>
                      <a:pt x="5609" y="2272"/>
                      <a:pt x="5689" y="2247"/>
                    </a:cubicBezTo>
                    <a:cubicBezTo>
                      <a:pt x="5828" y="2204"/>
                      <a:pt x="5937" y="2312"/>
                      <a:pt x="5990" y="2428"/>
                    </a:cubicBezTo>
                    <a:cubicBezTo>
                      <a:pt x="6032" y="2521"/>
                      <a:pt x="6041" y="2618"/>
                      <a:pt x="6006" y="2712"/>
                    </a:cubicBezTo>
                    <a:cubicBezTo>
                      <a:pt x="5999" y="2731"/>
                      <a:pt x="6000" y="2745"/>
                      <a:pt x="5993" y="2761"/>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3" name="Ink 88"/>
              <p:cNvSpPr/>
              <p:nvPr/>
            </p:nvSpPr>
            <p:spPr>
              <a:xfrm>
                <a:off x="6615000" y="2432160"/>
                <a:ext cx="127800" cy="171000"/>
              </a:xfrm>
              <a:custGeom>
                <a:avLst/>
                <a:gdLst/>
                <a:ahLst/>
                <a:rect l="l" t="t" r="r" b="b"/>
                <a:pathLst>
                  <a:path w="607" h="764">
                    <a:moveTo>
                      <a:pt x="6032" y="2742"/>
                    </a:moveTo>
                    <a:cubicBezTo>
                      <a:pt x="6032" y="2728"/>
                      <a:pt x="6032" y="2724"/>
                      <a:pt x="6036" y="2715"/>
                    </a:cubicBezTo>
                    <a:cubicBezTo>
                      <a:pt x="6010" y="2717"/>
                      <a:pt x="5985" y="2717"/>
                      <a:pt x="5957" y="2724"/>
                    </a:cubicBezTo>
                    <a:cubicBezTo>
                      <a:pt x="5933" y="2730"/>
                      <a:pt x="5907" y="2740"/>
                      <a:pt x="5882" y="2741"/>
                    </a:cubicBezTo>
                    <a:cubicBezTo>
                      <a:pt x="5853" y="2742"/>
                      <a:pt x="5837" y="2728"/>
                      <a:pt x="5810" y="2724"/>
                    </a:cubicBezTo>
                    <a:cubicBezTo>
                      <a:pt x="5788" y="2721"/>
                      <a:pt x="5766" y="2732"/>
                      <a:pt x="5747" y="2739"/>
                    </a:cubicBezTo>
                    <a:cubicBezTo>
                      <a:pt x="5779" y="2730"/>
                      <a:pt x="5778" y="2750"/>
                      <a:pt x="5792" y="2707"/>
                    </a:cubicBezTo>
                    <a:cubicBezTo>
                      <a:pt x="5798" y="2687"/>
                      <a:pt x="5796" y="2645"/>
                      <a:pt x="5795" y="2623"/>
                    </a:cubicBezTo>
                    <a:cubicBezTo>
                      <a:pt x="5793" y="2592"/>
                      <a:pt x="5787" y="2558"/>
                      <a:pt x="5778" y="2528"/>
                    </a:cubicBezTo>
                    <a:cubicBezTo>
                      <a:pt x="5771" y="2506"/>
                      <a:pt x="5756" y="2478"/>
                      <a:pt x="5735" y="2466"/>
                    </a:cubicBezTo>
                    <a:cubicBezTo>
                      <a:pt x="5706" y="2449"/>
                      <a:pt x="5673" y="2470"/>
                      <a:pt x="5648" y="2485"/>
                    </a:cubicBezTo>
                    <a:cubicBezTo>
                      <a:pt x="5584" y="2525"/>
                      <a:pt x="5536" y="2603"/>
                      <a:pt x="5509" y="2672"/>
                    </a:cubicBezTo>
                    <a:cubicBezTo>
                      <a:pt x="5466" y="2782"/>
                      <a:pt x="5435" y="2907"/>
                      <a:pt x="5430" y="3025"/>
                    </a:cubicBezTo>
                    <a:cubicBezTo>
                      <a:pt x="5428" y="3068"/>
                      <a:pt x="5429" y="3137"/>
                      <a:pt x="5451" y="3177"/>
                    </a:cubicBezTo>
                    <a:cubicBezTo>
                      <a:pt x="5471" y="3203"/>
                      <a:pt x="5475" y="3208"/>
                      <a:pt x="5488" y="322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4" name="Ink 89"/>
              <p:cNvSpPr/>
              <p:nvPr/>
            </p:nvSpPr>
            <p:spPr>
              <a:xfrm>
                <a:off x="6607440" y="2669760"/>
                <a:ext cx="91440" cy="138240"/>
              </a:xfrm>
              <a:custGeom>
                <a:avLst/>
                <a:gdLst/>
                <a:ahLst/>
                <a:rect l="l" t="t" r="r" b="b"/>
                <a:pathLst>
                  <a:path w="434" h="616">
                    <a:moveTo>
                      <a:pt x="5620" y="3577"/>
                    </a:moveTo>
                    <a:cubicBezTo>
                      <a:pt x="5595" y="3563"/>
                      <a:pt x="5591" y="3565"/>
                      <a:pt x="5559" y="3575"/>
                    </a:cubicBezTo>
                    <a:cubicBezTo>
                      <a:pt x="5505" y="3592"/>
                      <a:pt x="5446" y="3614"/>
                      <a:pt x="5417" y="3667"/>
                    </a:cubicBezTo>
                    <a:cubicBezTo>
                      <a:pt x="5404" y="3691"/>
                      <a:pt x="5393" y="3714"/>
                      <a:pt x="5394" y="3741"/>
                    </a:cubicBezTo>
                    <a:cubicBezTo>
                      <a:pt x="5395" y="3770"/>
                      <a:pt x="5408" y="3792"/>
                      <a:pt x="5431" y="3808"/>
                    </a:cubicBezTo>
                    <a:cubicBezTo>
                      <a:pt x="5451" y="3822"/>
                      <a:pt x="5486" y="3835"/>
                      <a:pt x="5511" y="3838"/>
                    </a:cubicBezTo>
                    <a:cubicBezTo>
                      <a:pt x="5538" y="3842"/>
                      <a:pt x="5563" y="3836"/>
                      <a:pt x="5588" y="3831"/>
                    </a:cubicBezTo>
                    <a:cubicBezTo>
                      <a:pt x="5580" y="3853"/>
                      <a:pt x="5569" y="3872"/>
                      <a:pt x="5560" y="3894"/>
                    </a:cubicBezTo>
                    <a:cubicBezTo>
                      <a:pt x="5548" y="3923"/>
                      <a:pt x="5538" y="3954"/>
                      <a:pt x="5532" y="3985"/>
                    </a:cubicBezTo>
                    <a:cubicBezTo>
                      <a:pt x="5527" y="4011"/>
                      <a:pt x="5525" y="4039"/>
                      <a:pt x="5523" y="4065"/>
                    </a:cubicBezTo>
                    <a:cubicBezTo>
                      <a:pt x="5521" y="4088"/>
                      <a:pt x="5517" y="4111"/>
                      <a:pt x="5514" y="4135"/>
                    </a:cubicBezTo>
                    <a:cubicBezTo>
                      <a:pt x="5533" y="4123"/>
                      <a:pt x="5553" y="4089"/>
                      <a:pt x="5574" y="4083"/>
                    </a:cubicBezTo>
                    <a:cubicBezTo>
                      <a:pt x="5598" y="4076"/>
                      <a:pt x="5624" y="4075"/>
                      <a:pt x="5649" y="4069"/>
                    </a:cubicBezTo>
                    <a:cubicBezTo>
                      <a:pt x="5676" y="4063"/>
                      <a:pt x="5701" y="4052"/>
                      <a:pt x="5727" y="4045"/>
                    </a:cubicBezTo>
                    <a:cubicBezTo>
                      <a:pt x="5748" y="4039"/>
                      <a:pt x="5769" y="4032"/>
                      <a:pt x="5790" y="4025"/>
                    </a:cubicBezTo>
                    <a:cubicBezTo>
                      <a:pt x="5794" y="3993"/>
                      <a:pt x="5777" y="3984"/>
                      <a:pt x="5758" y="3956"/>
                    </a:cubicBezTo>
                    <a:cubicBezTo>
                      <a:pt x="5738" y="3926"/>
                      <a:pt x="5726" y="3901"/>
                      <a:pt x="5713" y="3868"/>
                    </a:cubicBezTo>
                    <a:cubicBezTo>
                      <a:pt x="5702" y="3841"/>
                      <a:pt x="5698" y="3842"/>
                      <a:pt x="5681" y="3824"/>
                    </a:cubicBezTo>
                    <a:cubicBezTo>
                      <a:pt x="5705" y="3814"/>
                      <a:pt x="5733" y="3804"/>
                      <a:pt x="5755" y="3790"/>
                    </a:cubicBezTo>
                    <a:cubicBezTo>
                      <a:pt x="5781" y="3773"/>
                      <a:pt x="5804" y="3747"/>
                      <a:pt x="5815" y="3718"/>
                    </a:cubicBezTo>
                    <a:cubicBezTo>
                      <a:pt x="5822" y="3699"/>
                      <a:pt x="5830" y="3678"/>
                      <a:pt x="5827" y="3657"/>
                    </a:cubicBezTo>
                    <a:cubicBezTo>
                      <a:pt x="5824" y="3635"/>
                      <a:pt x="5813" y="3616"/>
                      <a:pt x="5801" y="3597"/>
                    </a:cubicBezTo>
                    <a:cubicBezTo>
                      <a:pt x="5782" y="3568"/>
                      <a:pt x="5756" y="3544"/>
                      <a:pt x="5724" y="3529"/>
                    </a:cubicBezTo>
                    <a:cubicBezTo>
                      <a:pt x="5701" y="3518"/>
                      <a:pt x="5676" y="3521"/>
                      <a:pt x="5652" y="3522"/>
                    </a:cubicBezTo>
                    <a:cubicBezTo>
                      <a:pt x="5626" y="3523"/>
                      <a:pt x="5603" y="3527"/>
                      <a:pt x="5578" y="352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5" name="Ink 90"/>
              <p:cNvSpPr/>
              <p:nvPr/>
            </p:nvSpPr>
            <p:spPr>
              <a:xfrm>
                <a:off x="6590880" y="2846160"/>
                <a:ext cx="132120" cy="40320"/>
              </a:xfrm>
              <a:custGeom>
                <a:avLst/>
                <a:gdLst/>
                <a:ahLst/>
                <a:rect l="l" t="t" r="r" b="b"/>
                <a:pathLst>
                  <a:path w="633" h="179">
                    <a:moveTo>
                      <a:pt x="5944" y="4305"/>
                    </a:moveTo>
                    <a:cubicBezTo>
                      <a:pt x="5918" y="4322"/>
                      <a:pt x="5902" y="4316"/>
                      <a:pt x="5870" y="4319"/>
                    </a:cubicBezTo>
                    <a:cubicBezTo>
                      <a:pt x="5831" y="4322"/>
                      <a:pt x="5791" y="4320"/>
                      <a:pt x="5753" y="4325"/>
                    </a:cubicBezTo>
                    <a:cubicBezTo>
                      <a:pt x="5696" y="4333"/>
                      <a:pt x="5639" y="4348"/>
                      <a:pt x="5583" y="4362"/>
                    </a:cubicBezTo>
                    <a:cubicBezTo>
                      <a:pt x="5523" y="4377"/>
                      <a:pt x="5465" y="4395"/>
                      <a:pt x="5408" y="4419"/>
                    </a:cubicBezTo>
                    <a:cubicBezTo>
                      <a:pt x="5373" y="4434"/>
                      <a:pt x="5343" y="4447"/>
                      <a:pt x="5312" y="4468"/>
                    </a:cubicBezTo>
                    <a:cubicBezTo>
                      <a:pt x="5331" y="4493"/>
                      <a:pt x="5374" y="4469"/>
                      <a:pt x="5413" y="4460"/>
                    </a:cubicBezTo>
                  </a:path>
                </a:pathLst>
              </a:custGeom>
              <a:noFill/>
              <a:ln cap="rnd" w="19080">
                <a:solidFill>
                  <a:srgbClr val="80808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866" name="Ink 91"/>
              <p:cNvSpPr/>
              <p:nvPr/>
            </p:nvSpPr>
            <p:spPr>
              <a:xfrm>
                <a:off x="6627960" y="2861640"/>
                <a:ext cx="83160" cy="27720"/>
              </a:xfrm>
              <a:custGeom>
                <a:avLst/>
                <a:gdLst/>
                <a:ahLst/>
                <a:rect l="l" t="t" r="r" b="b"/>
                <a:pathLst>
                  <a:path w="398" h="125">
                    <a:moveTo>
                      <a:pt x="5875" y="4390"/>
                    </a:moveTo>
                    <a:cubicBezTo>
                      <a:pt x="5894" y="4360"/>
                      <a:pt x="5852" y="4378"/>
                      <a:pt x="5829" y="4384"/>
                    </a:cubicBezTo>
                    <a:cubicBezTo>
                      <a:pt x="5788" y="4395"/>
                      <a:pt x="5748" y="4407"/>
                      <a:pt x="5707" y="4419"/>
                    </a:cubicBezTo>
                    <a:cubicBezTo>
                      <a:pt x="5661" y="4433"/>
                      <a:pt x="5614" y="4445"/>
                      <a:pt x="5569" y="4462"/>
                    </a:cubicBezTo>
                    <a:cubicBezTo>
                      <a:pt x="5542" y="4472"/>
                      <a:pt x="5515" y="4484"/>
                      <a:pt x="5491" y="4497"/>
                    </a:cubicBezTo>
                  </a:path>
                </a:pathLst>
              </a:custGeom>
              <a:noFill/>
              <a:ln cap="rnd" w="19080">
                <a:solidFill>
                  <a:srgbClr val="808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867" name="Ink 92"/>
              <p:cNvSpPr/>
              <p:nvPr/>
            </p:nvSpPr>
            <p:spPr>
              <a:xfrm>
                <a:off x="6753960" y="2813400"/>
                <a:ext cx="16560" cy="49320"/>
              </a:xfrm>
              <a:custGeom>
                <a:avLst/>
                <a:gdLst/>
                <a:ahLst/>
                <a:rect l="l" t="t" r="r" b="b"/>
                <a:pathLst>
                  <a:path w="81" h="223">
                    <a:moveTo>
                      <a:pt x="6169" y="4157"/>
                    </a:moveTo>
                    <a:cubicBezTo>
                      <a:pt x="6151" y="4180"/>
                      <a:pt x="6137" y="4200"/>
                      <a:pt x="6126" y="4226"/>
                    </a:cubicBezTo>
                    <a:cubicBezTo>
                      <a:pt x="6116" y="4248"/>
                      <a:pt x="6110" y="4270"/>
                      <a:pt x="6103" y="4293"/>
                    </a:cubicBezTo>
                    <a:cubicBezTo>
                      <a:pt x="6092" y="4328"/>
                      <a:pt x="6090" y="4344"/>
                      <a:pt x="6098" y="4379"/>
                    </a:cubicBezTo>
                  </a:path>
                </a:pathLst>
              </a:custGeom>
              <a:noFill/>
              <a:ln cap="rnd" w="1908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68" name="Ink 93"/>
              <p:cNvSpPr/>
              <p:nvPr/>
            </p:nvSpPr>
            <p:spPr>
              <a:xfrm>
                <a:off x="6760440" y="2601720"/>
                <a:ext cx="64440" cy="177840"/>
              </a:xfrm>
              <a:custGeom>
                <a:avLst/>
                <a:gdLst/>
                <a:ahLst/>
                <a:rect l="l" t="t" r="r" b="b"/>
                <a:pathLst>
                  <a:path w="307" h="794">
                    <a:moveTo>
                      <a:pt x="6413" y="3400"/>
                    </a:moveTo>
                    <a:cubicBezTo>
                      <a:pt x="6422" y="3371"/>
                      <a:pt x="6423" y="3345"/>
                      <a:pt x="6425" y="3315"/>
                    </a:cubicBezTo>
                    <a:cubicBezTo>
                      <a:pt x="6426" y="3292"/>
                      <a:pt x="6422" y="3269"/>
                      <a:pt x="6422" y="3246"/>
                    </a:cubicBezTo>
                    <a:cubicBezTo>
                      <a:pt x="6424" y="3231"/>
                      <a:pt x="6425" y="3225"/>
                      <a:pt x="6424" y="3215"/>
                    </a:cubicBezTo>
                    <a:cubicBezTo>
                      <a:pt x="6388" y="3266"/>
                      <a:pt x="6365" y="3318"/>
                      <a:pt x="6338" y="3374"/>
                    </a:cubicBezTo>
                    <a:cubicBezTo>
                      <a:pt x="6292" y="3467"/>
                      <a:pt x="6248" y="3560"/>
                      <a:pt x="6210" y="3657"/>
                    </a:cubicBezTo>
                    <a:cubicBezTo>
                      <a:pt x="6174" y="3748"/>
                      <a:pt x="6138" y="3845"/>
                      <a:pt x="6123" y="3942"/>
                    </a:cubicBezTo>
                    <a:cubicBezTo>
                      <a:pt x="6117" y="3980"/>
                      <a:pt x="6126" y="3994"/>
                      <a:pt x="6157" y="4008"/>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9" name="Ink 175"/>
            <p:cNvSpPr/>
            <p:nvPr/>
          </p:nvSpPr>
          <p:spPr>
            <a:xfrm>
              <a:off x="6607800" y="2396160"/>
              <a:ext cx="169920" cy="246600"/>
            </a:xfrm>
            <a:custGeom>
              <a:avLst/>
              <a:gdLst/>
              <a:ahLst/>
              <a:rect l="l" t="t" r="r" b="b"/>
              <a:pathLst>
                <a:path w="432" h="899">
                  <a:moveTo>
                    <a:pt x="13702" y="12287"/>
                  </a:moveTo>
                  <a:cubicBezTo>
                    <a:pt x="13675" y="12289"/>
                    <a:pt x="13660" y="12301"/>
                    <a:pt x="13648" y="12332"/>
                  </a:cubicBezTo>
                  <a:cubicBezTo>
                    <a:pt x="13636" y="12363"/>
                    <a:pt x="13624" y="12397"/>
                    <a:pt x="13616" y="12429"/>
                  </a:cubicBezTo>
                  <a:cubicBezTo>
                    <a:pt x="13604" y="12475"/>
                    <a:pt x="13596" y="12523"/>
                    <a:pt x="13591" y="12570"/>
                  </a:cubicBezTo>
                  <a:cubicBezTo>
                    <a:pt x="13584" y="12635"/>
                    <a:pt x="13582" y="12702"/>
                    <a:pt x="13591" y="12767"/>
                  </a:cubicBezTo>
                  <a:cubicBezTo>
                    <a:pt x="13596" y="12804"/>
                    <a:pt x="13604" y="12839"/>
                    <a:pt x="13622" y="12872"/>
                  </a:cubicBezTo>
                  <a:cubicBezTo>
                    <a:pt x="13627" y="12881"/>
                    <a:pt x="13632" y="12889"/>
                    <a:pt x="13637" y="12898"/>
                  </a:cubicBezTo>
                </a:path>
                <a:path w="432" h="899">
                  <a:moveTo>
                    <a:pt x="13720" y="12215"/>
                  </a:moveTo>
                  <a:cubicBezTo>
                    <a:pt x="13689" y="12213"/>
                    <a:pt x="13683" y="12234"/>
                    <a:pt x="13668" y="12267"/>
                  </a:cubicBezTo>
                  <a:cubicBezTo>
                    <a:pt x="13649" y="12309"/>
                    <a:pt x="13626" y="12349"/>
                    <a:pt x="13611" y="12393"/>
                  </a:cubicBezTo>
                  <a:cubicBezTo>
                    <a:pt x="13591" y="12449"/>
                    <a:pt x="13574" y="12506"/>
                    <a:pt x="13567" y="12565"/>
                  </a:cubicBezTo>
                  <a:cubicBezTo>
                    <a:pt x="13560" y="12631"/>
                    <a:pt x="13564" y="12694"/>
                    <a:pt x="13570" y="12760"/>
                  </a:cubicBezTo>
                  <a:cubicBezTo>
                    <a:pt x="13575" y="12815"/>
                    <a:pt x="13584" y="12869"/>
                    <a:pt x="13593" y="12924"/>
                  </a:cubicBezTo>
                  <a:cubicBezTo>
                    <a:pt x="13597" y="12950"/>
                    <a:pt x="13593" y="12993"/>
                    <a:pt x="13614" y="12975"/>
                  </a:cubicBezTo>
                </a:path>
                <a:path w="432" h="899">
                  <a:moveTo>
                    <a:pt x="13709" y="12165"/>
                  </a:moveTo>
                  <a:cubicBezTo>
                    <a:pt x="13682" y="12194"/>
                    <a:pt x="13674" y="12216"/>
                    <a:pt x="13660" y="12254"/>
                  </a:cubicBezTo>
                  <a:cubicBezTo>
                    <a:pt x="13636" y="12320"/>
                    <a:pt x="13616" y="12387"/>
                    <a:pt x="13597" y="12455"/>
                  </a:cubicBezTo>
                  <a:cubicBezTo>
                    <a:pt x="13578" y="12521"/>
                    <a:pt x="13560" y="12586"/>
                    <a:pt x="13550" y="12654"/>
                  </a:cubicBezTo>
                  <a:cubicBezTo>
                    <a:pt x="13541" y="12714"/>
                    <a:pt x="13532" y="12776"/>
                    <a:pt x="13537" y="12837"/>
                  </a:cubicBezTo>
                  <a:cubicBezTo>
                    <a:pt x="13541" y="12883"/>
                    <a:pt x="13549" y="12930"/>
                    <a:pt x="13571" y="12971"/>
                  </a:cubicBezTo>
                  <a:cubicBezTo>
                    <a:pt x="13576" y="12979"/>
                    <a:pt x="13580" y="12986"/>
                    <a:pt x="13585" y="12994"/>
                  </a:cubicBezTo>
                </a:path>
                <a:path w="432" h="899">
                  <a:moveTo>
                    <a:pt x="13729" y="12261"/>
                  </a:moveTo>
                  <a:cubicBezTo>
                    <a:pt x="13729" y="12267"/>
                    <a:pt x="13729" y="12272"/>
                    <a:pt x="13729" y="12278"/>
                  </a:cubicBezTo>
                  <a:cubicBezTo>
                    <a:pt x="13748" y="12253"/>
                    <a:pt x="13761" y="12226"/>
                    <a:pt x="13780" y="12202"/>
                  </a:cubicBezTo>
                  <a:cubicBezTo>
                    <a:pt x="13798" y="12179"/>
                    <a:pt x="13824" y="12153"/>
                    <a:pt x="13856" y="12162"/>
                  </a:cubicBezTo>
                  <a:cubicBezTo>
                    <a:pt x="13885" y="12170"/>
                    <a:pt x="13897" y="12205"/>
                    <a:pt x="13907" y="12229"/>
                  </a:cubicBezTo>
                  <a:cubicBezTo>
                    <a:pt x="13918" y="12255"/>
                    <a:pt x="13919" y="12277"/>
                    <a:pt x="13922" y="12304"/>
                  </a:cubicBezTo>
                  <a:cubicBezTo>
                    <a:pt x="13925" y="12329"/>
                    <a:pt x="13928" y="12353"/>
                    <a:pt x="13932" y="12378"/>
                  </a:cubicBezTo>
                  <a:cubicBezTo>
                    <a:pt x="13934" y="12392"/>
                    <a:pt x="13932" y="12433"/>
                    <a:pt x="13942" y="12399"/>
                  </a:cubicBezTo>
                </a:path>
                <a:path w="432" h="899">
                  <a:moveTo>
                    <a:pt x="13932" y="12186"/>
                  </a:moveTo>
                  <a:cubicBezTo>
                    <a:pt x="13932" y="12221"/>
                    <a:pt x="13935" y="12255"/>
                    <a:pt x="13939" y="12290"/>
                  </a:cubicBezTo>
                  <a:cubicBezTo>
                    <a:pt x="13943" y="12327"/>
                    <a:pt x="13951" y="12362"/>
                    <a:pt x="13955" y="12399"/>
                  </a:cubicBezTo>
                  <a:cubicBezTo>
                    <a:pt x="13958" y="12426"/>
                    <a:pt x="13960" y="12454"/>
                    <a:pt x="13961" y="12481"/>
                  </a:cubicBezTo>
                  <a:cubicBezTo>
                    <a:pt x="13962" y="12514"/>
                    <a:pt x="13972" y="12519"/>
                    <a:pt x="13944" y="12498"/>
                  </a:cubicBezTo>
                </a:path>
                <a:path w="432" h="899">
                  <a:moveTo>
                    <a:pt x="13935" y="12298"/>
                  </a:moveTo>
                  <a:cubicBezTo>
                    <a:pt x="13922" y="12326"/>
                    <a:pt x="13914" y="12338"/>
                    <a:pt x="13913" y="12370"/>
                  </a:cubicBezTo>
                  <a:cubicBezTo>
                    <a:pt x="13911" y="12405"/>
                    <a:pt x="13915" y="12441"/>
                    <a:pt x="13918" y="12476"/>
                  </a:cubicBezTo>
                  <a:cubicBezTo>
                    <a:pt x="13922" y="12522"/>
                    <a:pt x="13930" y="12568"/>
                    <a:pt x="13935" y="12614"/>
                  </a:cubicBezTo>
                  <a:cubicBezTo>
                    <a:pt x="13940" y="12664"/>
                    <a:pt x="13947" y="12715"/>
                    <a:pt x="13950" y="12766"/>
                  </a:cubicBezTo>
                  <a:cubicBezTo>
                    <a:pt x="13950" y="12783"/>
                    <a:pt x="13950" y="12789"/>
                    <a:pt x="13950" y="12800"/>
                  </a:cubicBezTo>
                  <a:cubicBezTo>
                    <a:pt x="13943" y="12755"/>
                    <a:pt x="13940" y="12712"/>
                    <a:pt x="13942" y="12666"/>
                  </a:cubicBezTo>
                  <a:cubicBezTo>
                    <a:pt x="13944" y="12626"/>
                    <a:pt x="13949" y="12507"/>
                    <a:pt x="13953" y="12547"/>
                  </a:cubicBezTo>
                  <a:cubicBezTo>
                    <a:pt x="13953" y="12556"/>
                    <a:pt x="13952" y="12564"/>
                    <a:pt x="13952" y="12573"/>
                  </a:cubicBezTo>
                  <a:cubicBezTo>
                    <a:pt x="13946" y="12616"/>
                    <a:pt x="13941" y="12659"/>
                    <a:pt x="13936" y="12702"/>
                  </a:cubicBezTo>
                  <a:cubicBezTo>
                    <a:pt x="13929" y="12772"/>
                    <a:pt x="13913" y="12849"/>
                    <a:pt x="13922" y="12919"/>
                  </a:cubicBezTo>
                  <a:cubicBezTo>
                    <a:pt x="13924" y="12924"/>
                    <a:pt x="13925" y="12928"/>
                    <a:pt x="13927" y="12933"/>
                  </a:cubicBezTo>
                  <a:cubicBezTo>
                    <a:pt x="13931" y="12902"/>
                    <a:pt x="13932" y="12874"/>
                    <a:pt x="13932" y="12843"/>
                  </a:cubicBezTo>
                  <a:cubicBezTo>
                    <a:pt x="13932" y="12789"/>
                    <a:pt x="13931" y="12736"/>
                    <a:pt x="13929" y="12682"/>
                  </a:cubicBezTo>
                  <a:cubicBezTo>
                    <a:pt x="13927" y="12639"/>
                    <a:pt x="13928" y="12593"/>
                    <a:pt x="13919" y="12550"/>
                  </a:cubicBezTo>
                  <a:cubicBezTo>
                    <a:pt x="13916" y="12533"/>
                    <a:pt x="13915" y="12527"/>
                    <a:pt x="13910" y="12516"/>
                  </a:cubicBezTo>
                  <a:cubicBezTo>
                    <a:pt x="13892" y="12547"/>
                    <a:pt x="13889" y="12558"/>
                    <a:pt x="13886" y="12596"/>
                  </a:cubicBezTo>
                  <a:cubicBezTo>
                    <a:pt x="13880" y="12666"/>
                    <a:pt x="13876" y="12734"/>
                    <a:pt x="13876" y="12804"/>
                  </a:cubicBezTo>
                  <a:cubicBezTo>
                    <a:pt x="13876" y="12825"/>
                    <a:pt x="13879" y="12843"/>
                    <a:pt x="13881" y="12863"/>
                  </a:cubicBezTo>
                  <a:cubicBezTo>
                    <a:pt x="13898" y="12831"/>
                    <a:pt x="13907" y="12801"/>
                    <a:pt x="13909" y="12764"/>
                  </a:cubicBezTo>
                  <a:cubicBezTo>
                    <a:pt x="13912" y="12714"/>
                    <a:pt x="13910" y="12666"/>
                    <a:pt x="13906" y="12616"/>
                  </a:cubicBezTo>
                  <a:cubicBezTo>
                    <a:pt x="13905" y="12603"/>
                    <a:pt x="13896" y="12490"/>
                    <a:pt x="13889" y="12570"/>
                  </a:cubicBezTo>
                  <a:cubicBezTo>
                    <a:pt x="13886" y="12604"/>
                    <a:pt x="13894" y="12641"/>
                    <a:pt x="13895" y="12675"/>
                  </a:cubicBezTo>
                  <a:cubicBezTo>
                    <a:pt x="13895" y="12702"/>
                    <a:pt x="13895" y="12711"/>
                    <a:pt x="13895" y="12729"/>
                  </a:cubicBezTo>
                  <a:cubicBezTo>
                    <a:pt x="13894" y="12737"/>
                    <a:pt x="13891" y="12810"/>
                    <a:pt x="13890" y="12761"/>
                  </a:cubicBezTo>
                  <a:cubicBezTo>
                    <a:pt x="13889" y="12722"/>
                    <a:pt x="13894" y="12685"/>
                    <a:pt x="13892" y="12646"/>
                  </a:cubicBezTo>
                  <a:cubicBezTo>
                    <a:pt x="13890" y="12602"/>
                    <a:pt x="13884" y="12560"/>
                    <a:pt x="13876" y="12517"/>
                  </a:cubicBezTo>
                  <a:cubicBezTo>
                    <a:pt x="13872" y="12496"/>
                    <a:pt x="13872" y="12490"/>
                    <a:pt x="13864" y="12479"/>
                  </a:cubicBezTo>
                  <a:cubicBezTo>
                    <a:pt x="13850" y="12518"/>
                    <a:pt x="13855" y="12549"/>
                    <a:pt x="13856" y="12591"/>
                  </a:cubicBezTo>
                  <a:cubicBezTo>
                    <a:pt x="13857" y="12639"/>
                    <a:pt x="13857" y="12687"/>
                    <a:pt x="13863" y="12734"/>
                  </a:cubicBezTo>
                  <a:cubicBezTo>
                    <a:pt x="13867" y="12756"/>
                    <a:pt x="13868" y="12762"/>
                    <a:pt x="13873" y="12775"/>
                  </a:cubicBezTo>
                  <a:cubicBezTo>
                    <a:pt x="13901" y="12738"/>
                    <a:pt x="13910" y="12699"/>
                    <a:pt x="13915" y="12651"/>
                  </a:cubicBezTo>
                  <a:cubicBezTo>
                    <a:pt x="13923" y="12582"/>
                    <a:pt x="13915" y="12511"/>
                    <a:pt x="13910" y="12442"/>
                  </a:cubicBezTo>
                  <a:cubicBezTo>
                    <a:pt x="13906" y="12389"/>
                    <a:pt x="13897" y="12337"/>
                    <a:pt x="13887" y="12284"/>
                  </a:cubicBezTo>
                  <a:cubicBezTo>
                    <a:pt x="13881" y="12250"/>
                    <a:pt x="13874" y="12249"/>
                    <a:pt x="13856" y="12225"/>
                  </a:cubicBezTo>
                  <a:cubicBezTo>
                    <a:pt x="13840" y="12204"/>
                    <a:pt x="13830" y="12182"/>
                    <a:pt x="13809" y="12163"/>
                  </a:cubicBezTo>
                  <a:cubicBezTo>
                    <a:pt x="13784" y="12140"/>
                    <a:pt x="13775" y="12145"/>
                    <a:pt x="13746" y="12151"/>
                  </a:cubicBezTo>
                  <a:cubicBezTo>
                    <a:pt x="13724" y="12156"/>
                    <a:pt x="13699" y="12169"/>
                    <a:pt x="13686" y="12188"/>
                  </a:cubicBezTo>
                  <a:cubicBezTo>
                    <a:pt x="13670" y="12212"/>
                    <a:pt x="13657" y="12239"/>
                    <a:pt x="13642" y="12263"/>
                  </a:cubicBezTo>
                  <a:cubicBezTo>
                    <a:pt x="13622" y="12295"/>
                    <a:pt x="13612" y="12317"/>
                    <a:pt x="13611" y="12356"/>
                  </a:cubicBezTo>
                  <a:cubicBezTo>
                    <a:pt x="13611" y="12371"/>
                    <a:pt x="13611" y="12376"/>
                    <a:pt x="13611" y="12386"/>
                  </a:cubicBezTo>
                  <a:cubicBezTo>
                    <a:pt x="13627" y="12428"/>
                    <a:pt x="13629" y="12338"/>
                    <a:pt x="13634" y="12315"/>
                  </a:cubicBezTo>
                  <a:cubicBezTo>
                    <a:pt x="13645" y="12263"/>
                    <a:pt x="13659" y="12211"/>
                    <a:pt x="13674" y="12160"/>
                  </a:cubicBezTo>
                  <a:cubicBezTo>
                    <a:pt x="13684" y="12125"/>
                    <a:pt x="13686" y="12118"/>
                    <a:pt x="13711" y="12096"/>
                  </a:cubicBezTo>
                  <a:cubicBezTo>
                    <a:pt x="13738" y="12148"/>
                    <a:pt x="13752" y="12204"/>
                    <a:pt x="13781" y="12255"/>
                  </a:cubicBezTo>
                  <a:cubicBezTo>
                    <a:pt x="13796" y="12280"/>
                    <a:pt x="13808" y="12299"/>
                    <a:pt x="13830" y="12318"/>
                  </a:cubicBezTo>
                  <a:cubicBezTo>
                    <a:pt x="13844" y="12330"/>
                    <a:pt x="13881" y="12369"/>
                    <a:pt x="13904" y="12359"/>
                  </a:cubicBezTo>
                  <a:cubicBezTo>
                    <a:pt x="13930" y="12348"/>
                    <a:pt x="13947" y="12323"/>
                    <a:pt x="13962" y="12301"/>
                  </a:cubicBezTo>
                  <a:cubicBezTo>
                    <a:pt x="13962" y="12329"/>
                    <a:pt x="13961" y="12357"/>
                    <a:pt x="13958" y="12386"/>
                  </a:cubicBezTo>
                  <a:cubicBezTo>
                    <a:pt x="13954" y="12425"/>
                    <a:pt x="13954" y="12465"/>
                    <a:pt x="13956" y="12504"/>
                  </a:cubicBezTo>
                  <a:cubicBezTo>
                    <a:pt x="13958" y="12550"/>
                    <a:pt x="13960" y="12597"/>
                    <a:pt x="13962" y="12643"/>
                  </a:cubicBezTo>
                  <a:cubicBezTo>
                    <a:pt x="13964" y="12685"/>
                    <a:pt x="13964" y="12727"/>
                    <a:pt x="13964" y="12769"/>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0" name=""/>
          <p:cNvSpPr/>
          <p:nvPr/>
        </p:nvSpPr>
        <p:spPr>
          <a:xfrm>
            <a:off x="5350680" y="38862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calability</a:t>
            </a:r>
            <a:endParaRPr b="0" lang="en-US" sz="1400" spc="-1" strike="noStrike">
              <a:solidFill>
                <a:srgbClr val="000000"/>
              </a:solidFill>
              <a:latin typeface="Arial"/>
            </a:endParaRPr>
          </a:p>
        </p:txBody>
      </p:sp>
      <p:sp>
        <p:nvSpPr>
          <p:cNvPr id="3871" name="Ink 28"/>
          <p:cNvSpPr/>
          <p:nvPr/>
        </p:nvSpPr>
        <p:spPr>
          <a:xfrm>
            <a:off x="6781680" y="3525840"/>
            <a:ext cx="762120" cy="368280"/>
          </a:xfrm>
          <a:custGeom>
            <a:avLst/>
            <a:gdLst/>
            <a:ahLst/>
            <a:rect l="l" t="t" r="r" b="b"/>
            <a:pathLst>
              <a:path w="2626" h="1545">
                <a:moveTo>
                  <a:pt x="17708" y="11809"/>
                </a:moveTo>
                <a:cubicBezTo>
                  <a:pt x="17737" y="11793"/>
                  <a:pt x="17743" y="11793"/>
                  <a:pt x="17776" y="11792"/>
                </a:cubicBezTo>
                <a:cubicBezTo>
                  <a:pt x="18012" y="11785"/>
                  <a:pt x="18251" y="11802"/>
                  <a:pt x="18486" y="11815"/>
                </a:cubicBezTo>
                <a:cubicBezTo>
                  <a:pt x="18935" y="11840"/>
                  <a:pt x="19386" y="11859"/>
                  <a:pt x="19836" y="11842"/>
                </a:cubicBezTo>
                <a:cubicBezTo>
                  <a:pt x="19959" y="11837"/>
                  <a:pt x="20082" y="11833"/>
                  <a:pt x="20205" y="11824"/>
                </a:cubicBezTo>
              </a:path>
              <a:path w="2626" h="1545">
                <a:moveTo>
                  <a:pt x="20016" y="11684"/>
                </a:moveTo>
                <a:cubicBezTo>
                  <a:pt x="20033" y="11709"/>
                  <a:pt x="20050" y="11716"/>
                  <a:pt x="20080" y="11724"/>
                </a:cubicBezTo>
                <a:cubicBezTo>
                  <a:pt x="20117" y="11734"/>
                  <a:pt x="20153" y="11746"/>
                  <a:pt x="20189" y="11759"/>
                </a:cubicBezTo>
                <a:cubicBezTo>
                  <a:pt x="20223" y="11772"/>
                  <a:pt x="20255" y="11787"/>
                  <a:pt x="20285" y="11808"/>
                </a:cubicBezTo>
                <a:cubicBezTo>
                  <a:pt x="20302" y="11820"/>
                  <a:pt x="20311" y="11832"/>
                  <a:pt x="20321" y="11849"/>
                </a:cubicBezTo>
                <a:cubicBezTo>
                  <a:pt x="20301" y="11859"/>
                  <a:pt x="20280" y="11864"/>
                  <a:pt x="20258" y="11870"/>
                </a:cubicBezTo>
                <a:cubicBezTo>
                  <a:pt x="20220" y="11881"/>
                  <a:pt x="20182" y="11892"/>
                  <a:pt x="20145" y="11905"/>
                </a:cubicBezTo>
                <a:cubicBezTo>
                  <a:pt x="20114" y="11916"/>
                  <a:pt x="20088" y="11937"/>
                  <a:pt x="20057" y="11949"/>
                </a:cubicBezTo>
                <a:cubicBezTo>
                  <a:pt x="20039" y="11953"/>
                  <a:pt x="20033" y="11954"/>
                  <a:pt x="20035" y="11971"/>
                </a:cubicBezTo>
              </a:path>
              <a:path w="2626" h="1545">
                <a:moveTo>
                  <a:pt x="18028" y="12390"/>
                </a:moveTo>
                <a:cubicBezTo>
                  <a:pt x="18025" y="12429"/>
                  <a:pt x="18017" y="12467"/>
                  <a:pt x="18012" y="12506"/>
                </a:cubicBezTo>
                <a:cubicBezTo>
                  <a:pt x="18004" y="12576"/>
                  <a:pt x="17995" y="12646"/>
                  <a:pt x="17987" y="12716"/>
                </a:cubicBezTo>
                <a:cubicBezTo>
                  <a:pt x="17979" y="12782"/>
                  <a:pt x="17975" y="12847"/>
                  <a:pt x="17968" y="12913"/>
                </a:cubicBezTo>
                <a:cubicBezTo>
                  <a:pt x="17964" y="12954"/>
                  <a:pt x="17949" y="13001"/>
                  <a:pt x="17951" y="13042"/>
                </a:cubicBezTo>
                <a:cubicBezTo>
                  <a:pt x="17952" y="13049"/>
                  <a:pt x="17954" y="13056"/>
                  <a:pt x="17955" y="13063"/>
                </a:cubicBezTo>
              </a:path>
              <a:path w="2626" h="1545">
                <a:moveTo>
                  <a:pt x="18490" y="12061"/>
                </a:moveTo>
                <a:cubicBezTo>
                  <a:pt x="18425" y="12094"/>
                  <a:pt x="18367" y="12136"/>
                  <a:pt x="18303" y="12171"/>
                </a:cubicBezTo>
                <a:cubicBezTo>
                  <a:pt x="18234" y="12209"/>
                  <a:pt x="18163" y="12245"/>
                  <a:pt x="18095" y="12285"/>
                </a:cubicBezTo>
                <a:cubicBezTo>
                  <a:pt x="18067" y="12303"/>
                  <a:pt x="18061" y="12307"/>
                  <a:pt x="18043" y="12316"/>
                </a:cubicBezTo>
              </a:path>
              <a:path w="2626" h="1545">
                <a:moveTo>
                  <a:pt x="18602" y="12011"/>
                </a:moveTo>
                <a:cubicBezTo>
                  <a:pt x="18587" y="12054"/>
                  <a:pt x="18583" y="12099"/>
                  <a:pt x="18575" y="12144"/>
                </a:cubicBezTo>
                <a:cubicBezTo>
                  <a:pt x="18549" y="12291"/>
                  <a:pt x="18526" y="12438"/>
                  <a:pt x="18515" y="12587"/>
                </a:cubicBezTo>
                <a:cubicBezTo>
                  <a:pt x="18510" y="12654"/>
                  <a:pt x="18511" y="12720"/>
                  <a:pt x="18512" y="12787"/>
                </a:cubicBezTo>
                <a:cubicBezTo>
                  <a:pt x="18512" y="12807"/>
                  <a:pt x="18513" y="12815"/>
                  <a:pt x="18524" y="12826"/>
                </a:cubicBezTo>
              </a:path>
              <a:path w="2626" h="1545">
                <a:moveTo>
                  <a:pt x="19750" y="12062"/>
                </a:moveTo>
                <a:cubicBezTo>
                  <a:pt x="19726" y="12078"/>
                  <a:pt x="19702" y="12092"/>
                  <a:pt x="19678" y="12108"/>
                </a:cubicBezTo>
                <a:cubicBezTo>
                  <a:pt x="19633" y="12138"/>
                  <a:pt x="19587" y="12166"/>
                  <a:pt x="19542" y="12196"/>
                </a:cubicBezTo>
                <a:cubicBezTo>
                  <a:pt x="19484" y="12234"/>
                  <a:pt x="19426" y="12271"/>
                  <a:pt x="19369" y="12310"/>
                </a:cubicBezTo>
                <a:cubicBezTo>
                  <a:pt x="19326" y="12339"/>
                  <a:pt x="19277" y="12388"/>
                  <a:pt x="19237" y="12412"/>
                </a:cubicBezTo>
                <a:cubicBezTo>
                  <a:pt x="19230" y="12413"/>
                  <a:pt x="19223" y="12414"/>
                  <a:pt x="19216" y="12415"/>
                </a:cubicBezTo>
              </a:path>
              <a:path w="2626" h="1545">
                <a:moveTo>
                  <a:pt x="19225" y="12455"/>
                </a:moveTo>
                <a:cubicBezTo>
                  <a:pt x="19218" y="12481"/>
                  <a:pt x="19219" y="12501"/>
                  <a:pt x="19218" y="12528"/>
                </a:cubicBezTo>
                <a:cubicBezTo>
                  <a:pt x="19215" y="12579"/>
                  <a:pt x="19214" y="12630"/>
                  <a:pt x="19209" y="12681"/>
                </a:cubicBezTo>
                <a:cubicBezTo>
                  <a:pt x="19203" y="12747"/>
                  <a:pt x="19195" y="12813"/>
                  <a:pt x="19184" y="12879"/>
                </a:cubicBezTo>
                <a:cubicBezTo>
                  <a:pt x="19175" y="12935"/>
                  <a:pt x="19161" y="12990"/>
                  <a:pt x="19146" y="13045"/>
                </a:cubicBezTo>
                <a:cubicBezTo>
                  <a:pt x="19142" y="13060"/>
                  <a:pt x="19114" y="13121"/>
                  <a:pt x="19138" y="13132"/>
                </a:cubicBezTo>
                <a:cubicBezTo>
                  <a:pt x="19143" y="13131"/>
                  <a:pt x="19149" y="13130"/>
                  <a:pt x="19154" y="13129"/>
                </a:cubicBezTo>
              </a:path>
              <a:path w="2626" h="1545">
                <a:moveTo>
                  <a:pt x="19851" y="12134"/>
                </a:moveTo>
                <a:cubicBezTo>
                  <a:pt x="19856" y="12161"/>
                  <a:pt x="19848" y="12189"/>
                  <a:pt x="19847" y="12218"/>
                </a:cubicBezTo>
                <a:cubicBezTo>
                  <a:pt x="19846" y="12266"/>
                  <a:pt x="19844" y="12314"/>
                  <a:pt x="19839" y="12362"/>
                </a:cubicBezTo>
                <a:cubicBezTo>
                  <a:pt x="19831" y="12431"/>
                  <a:pt x="19820" y="12499"/>
                  <a:pt x="19803" y="12566"/>
                </a:cubicBezTo>
                <a:cubicBezTo>
                  <a:pt x="19788" y="12623"/>
                  <a:pt x="19768" y="12679"/>
                  <a:pt x="19751" y="12735"/>
                </a:cubicBezTo>
                <a:cubicBezTo>
                  <a:pt x="19738" y="12777"/>
                  <a:pt x="19724" y="12817"/>
                  <a:pt x="19714" y="12857"/>
                </a:cubicBezTo>
                <a:cubicBezTo>
                  <a:pt x="19711" y="12867"/>
                  <a:pt x="19707" y="12877"/>
                  <a:pt x="19704" y="12887"/>
                </a:cubicBezTo>
              </a:path>
              <a:path w="2626" h="1545">
                <a:moveTo>
                  <a:pt x="19761" y="12844"/>
                </a:moveTo>
                <a:cubicBezTo>
                  <a:pt x="19731" y="12872"/>
                  <a:pt x="19700" y="12903"/>
                  <a:pt x="19666" y="12926"/>
                </a:cubicBezTo>
                <a:cubicBezTo>
                  <a:pt x="19610" y="12963"/>
                  <a:pt x="19550" y="12999"/>
                  <a:pt x="19492" y="13031"/>
                </a:cubicBezTo>
                <a:cubicBezTo>
                  <a:pt x="19391" y="13087"/>
                  <a:pt x="19281" y="13157"/>
                  <a:pt x="19176" y="13201"/>
                </a:cubicBezTo>
                <a:cubicBezTo>
                  <a:pt x="19144" y="13209"/>
                  <a:pt x="19134" y="13206"/>
                  <a:pt x="19129" y="13228"/>
                </a:cubicBezTo>
              </a:path>
              <a:path w="2626" h="1545">
                <a:moveTo>
                  <a:pt x="18522" y="12918"/>
                </a:moveTo>
                <a:cubicBezTo>
                  <a:pt x="18498" y="12945"/>
                  <a:pt x="18476" y="12965"/>
                  <a:pt x="18444" y="12982"/>
                </a:cubicBezTo>
                <a:cubicBezTo>
                  <a:pt x="18397" y="13007"/>
                  <a:pt x="18348" y="13027"/>
                  <a:pt x="18299" y="13047"/>
                </a:cubicBezTo>
                <a:cubicBezTo>
                  <a:pt x="18221" y="13079"/>
                  <a:pt x="18141" y="13108"/>
                  <a:pt x="18065" y="13144"/>
                </a:cubicBezTo>
                <a:cubicBezTo>
                  <a:pt x="18009" y="13171"/>
                  <a:pt x="17954" y="13200"/>
                  <a:pt x="17898" y="13220"/>
                </a:cubicBezTo>
              </a:path>
              <a:path w="2626" h="1545">
                <a:moveTo>
                  <a:pt x="18230" y="12418"/>
                </a:moveTo>
                <a:cubicBezTo>
                  <a:pt x="18257" y="12435"/>
                  <a:pt x="18278" y="12438"/>
                  <a:pt x="18309" y="12444"/>
                </a:cubicBezTo>
                <a:cubicBezTo>
                  <a:pt x="18381" y="12458"/>
                  <a:pt x="18455" y="12454"/>
                  <a:pt x="18528" y="12452"/>
                </a:cubicBezTo>
                <a:cubicBezTo>
                  <a:pt x="18647" y="12449"/>
                  <a:pt x="18765" y="12447"/>
                  <a:pt x="18884" y="12444"/>
                </a:cubicBezTo>
                <a:cubicBezTo>
                  <a:pt x="19005" y="12441"/>
                  <a:pt x="19127" y="12440"/>
                  <a:pt x="19248" y="12447"/>
                </a:cubicBezTo>
                <a:cubicBezTo>
                  <a:pt x="19313" y="12451"/>
                  <a:pt x="19381" y="12456"/>
                  <a:pt x="19445" y="12469"/>
                </a:cubicBezTo>
                <a:cubicBezTo>
                  <a:pt x="19465" y="12468"/>
                  <a:pt x="19473" y="12468"/>
                  <a:pt x="19485" y="12478"/>
                </a:cubicBezTo>
              </a:path>
              <a:path w="2626" h="1545">
                <a:moveTo>
                  <a:pt x="19463" y="12341"/>
                </a:moveTo>
                <a:cubicBezTo>
                  <a:pt x="19436" y="12358"/>
                  <a:pt x="19444" y="12375"/>
                  <a:pt x="19469" y="12396"/>
                </a:cubicBezTo>
                <a:cubicBezTo>
                  <a:pt x="19494" y="12417"/>
                  <a:pt x="19524" y="12429"/>
                  <a:pt x="19554" y="12441"/>
                </a:cubicBezTo>
                <a:cubicBezTo>
                  <a:pt x="19574" y="12449"/>
                  <a:pt x="19621" y="12470"/>
                  <a:pt x="19597" y="12500"/>
                </a:cubicBezTo>
                <a:cubicBezTo>
                  <a:pt x="19575" y="12526"/>
                  <a:pt x="19521" y="12537"/>
                  <a:pt x="19490" y="12544"/>
                </a:cubicBezTo>
                <a:cubicBezTo>
                  <a:pt x="19444" y="12554"/>
                  <a:pt x="19401" y="12567"/>
                  <a:pt x="19357" y="12585"/>
                </a:cubicBezTo>
                <a:cubicBezTo>
                  <a:pt x="19331" y="12595"/>
                  <a:pt x="19280" y="12598"/>
                  <a:pt x="19263" y="12616"/>
                </a:cubicBezTo>
                <a:cubicBezTo>
                  <a:pt x="19263" y="12620"/>
                  <a:pt x="19263" y="12625"/>
                  <a:pt x="19263" y="12629"/>
                </a:cubicBezTo>
              </a:path>
              <a:path w="2626" h="1545">
                <a:moveTo>
                  <a:pt x="18106" y="12835"/>
                </a:moveTo>
                <a:cubicBezTo>
                  <a:pt x="18157" y="12827"/>
                  <a:pt x="18208" y="12830"/>
                  <a:pt x="18259" y="12825"/>
                </a:cubicBezTo>
                <a:cubicBezTo>
                  <a:pt x="18343" y="12817"/>
                  <a:pt x="18427" y="12815"/>
                  <a:pt x="18511" y="12812"/>
                </a:cubicBezTo>
                <a:cubicBezTo>
                  <a:pt x="18639" y="12807"/>
                  <a:pt x="18768" y="12801"/>
                  <a:pt x="18896" y="12800"/>
                </a:cubicBezTo>
                <a:cubicBezTo>
                  <a:pt x="19050" y="12799"/>
                  <a:pt x="19205" y="12800"/>
                  <a:pt x="19359" y="12800"/>
                </a:cubicBezTo>
              </a:path>
              <a:path w="2626" h="1545">
                <a:moveTo>
                  <a:pt x="19390" y="12734"/>
                </a:moveTo>
                <a:cubicBezTo>
                  <a:pt x="19359" y="12726"/>
                  <a:pt x="19385" y="12729"/>
                  <a:pt x="19360" y="12722"/>
                </a:cubicBezTo>
                <a:cubicBezTo>
                  <a:pt x="19369" y="12757"/>
                  <a:pt x="19380" y="12767"/>
                  <a:pt x="19410" y="12788"/>
                </a:cubicBezTo>
                <a:cubicBezTo>
                  <a:pt x="19433" y="12804"/>
                  <a:pt x="19456" y="12811"/>
                  <a:pt x="19482" y="12821"/>
                </a:cubicBezTo>
                <a:cubicBezTo>
                  <a:pt x="19497" y="12827"/>
                  <a:pt x="19512" y="12834"/>
                  <a:pt x="19526" y="12841"/>
                </a:cubicBezTo>
                <a:cubicBezTo>
                  <a:pt x="19504" y="12852"/>
                  <a:pt x="19482" y="12859"/>
                  <a:pt x="19460" y="12871"/>
                </a:cubicBezTo>
                <a:cubicBezTo>
                  <a:pt x="19433" y="12886"/>
                  <a:pt x="19407" y="12899"/>
                  <a:pt x="19379" y="12912"/>
                </a:cubicBezTo>
                <a:cubicBezTo>
                  <a:pt x="19361" y="12920"/>
                  <a:pt x="19325" y="12943"/>
                  <a:pt x="19309" y="12947"/>
                </a:cubicBezTo>
                <a:cubicBezTo>
                  <a:pt x="19302" y="12946"/>
                  <a:pt x="19295" y="12946"/>
                  <a:pt x="19288" y="12945"/>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2" name="Group 14"/>
          <p:cNvGrpSpPr/>
          <p:nvPr/>
        </p:nvGrpSpPr>
        <p:grpSpPr>
          <a:xfrm>
            <a:off x="6629400" y="3962520"/>
            <a:ext cx="380520" cy="380880"/>
            <a:chOff x="6629400" y="3962520"/>
            <a:chExt cx="380520" cy="380880"/>
          </a:xfrm>
        </p:grpSpPr>
        <p:sp>
          <p:nvSpPr>
            <p:cNvPr id="3873" name="Ink 15"/>
            <p:cNvSpPr/>
            <p:nvPr/>
          </p:nvSpPr>
          <p:spPr>
            <a:xfrm>
              <a:off x="6629400" y="3962520"/>
              <a:ext cx="370080" cy="380880"/>
            </a:xfrm>
            <a:custGeom>
              <a:avLst/>
              <a:gdLst/>
              <a:ahLst/>
              <a:rect l="l" t="t" r="r" b="b"/>
              <a:pathLst>
                <a:path w="1410" h="1189">
                  <a:moveTo>
                    <a:pt x="9567" y="2076"/>
                  </a:moveTo>
                  <a:cubicBezTo>
                    <a:pt x="9498" y="2079"/>
                    <a:pt x="9429" y="2082"/>
                    <a:pt x="9360" y="2086"/>
                  </a:cubicBezTo>
                  <a:cubicBezTo>
                    <a:pt x="9160" y="2099"/>
                    <a:pt x="8961" y="2124"/>
                    <a:pt x="8764" y="2160"/>
                  </a:cubicBezTo>
                  <a:cubicBezTo>
                    <a:pt x="8687" y="2174"/>
                    <a:pt x="8617" y="2189"/>
                    <a:pt x="8547" y="2224"/>
                  </a:cubicBezTo>
                  <a:cubicBezTo>
                    <a:pt x="8522" y="2238"/>
                    <a:pt x="8514" y="2240"/>
                    <a:pt x="8504" y="2256"/>
                  </a:cubicBezTo>
                  <a:cubicBezTo>
                    <a:pt x="8535" y="2296"/>
                    <a:pt x="8549" y="2309"/>
                    <a:pt x="8604" y="2325"/>
                  </a:cubicBezTo>
                  <a:cubicBezTo>
                    <a:pt x="8823" y="2388"/>
                    <a:pt x="9086" y="2373"/>
                    <a:pt x="9310" y="2352"/>
                  </a:cubicBezTo>
                  <a:cubicBezTo>
                    <a:pt x="9438" y="2340"/>
                    <a:pt x="9567" y="2312"/>
                    <a:pt x="9688" y="2268"/>
                  </a:cubicBezTo>
                  <a:cubicBezTo>
                    <a:pt x="9742" y="2248"/>
                    <a:pt x="9765" y="2238"/>
                    <a:pt x="9797" y="2196"/>
                  </a:cubicBezTo>
                  <a:cubicBezTo>
                    <a:pt x="9772" y="2170"/>
                    <a:pt x="9776" y="2151"/>
                    <a:pt x="9717" y="2149"/>
                  </a:cubicBezTo>
                  <a:cubicBezTo>
                    <a:pt x="9667" y="2158"/>
                    <a:pt x="9647" y="2161"/>
                    <a:pt x="9611" y="2155"/>
                  </a:cubicBezTo>
                </a:path>
                <a:path w="1410" h="1189">
                  <a:moveTo>
                    <a:pt x="8447" y="2392"/>
                  </a:moveTo>
                  <a:cubicBezTo>
                    <a:pt x="8436" y="2418"/>
                    <a:pt x="8422" y="2453"/>
                    <a:pt x="8418" y="2481"/>
                  </a:cubicBezTo>
                  <a:cubicBezTo>
                    <a:pt x="8410" y="2532"/>
                    <a:pt x="8405" y="2597"/>
                    <a:pt x="8408" y="2649"/>
                  </a:cubicBezTo>
                  <a:cubicBezTo>
                    <a:pt x="8413" y="2723"/>
                    <a:pt x="8434" y="2791"/>
                    <a:pt x="8447" y="2863"/>
                  </a:cubicBezTo>
                  <a:cubicBezTo>
                    <a:pt x="8458" y="2923"/>
                    <a:pt x="8464" y="2985"/>
                    <a:pt x="8489" y="3042"/>
                  </a:cubicBezTo>
                  <a:cubicBezTo>
                    <a:pt x="8506" y="3074"/>
                    <a:pt x="8511" y="3082"/>
                    <a:pt x="8519" y="3103"/>
                  </a:cubicBezTo>
                </a:path>
                <a:path w="1410" h="1189">
                  <a:moveTo>
                    <a:pt x="9784" y="2327"/>
                  </a:moveTo>
                  <a:cubicBezTo>
                    <a:pt x="9815" y="2366"/>
                    <a:pt x="9818" y="2387"/>
                    <a:pt x="9812" y="2438"/>
                  </a:cubicBezTo>
                  <a:cubicBezTo>
                    <a:pt x="9806" y="2489"/>
                    <a:pt x="9788" y="2536"/>
                    <a:pt x="9774" y="2585"/>
                  </a:cubicBezTo>
                  <a:cubicBezTo>
                    <a:pt x="9750" y="2666"/>
                    <a:pt x="9735" y="2744"/>
                    <a:pt x="9717" y="2826"/>
                  </a:cubicBezTo>
                  <a:cubicBezTo>
                    <a:pt x="9711" y="2855"/>
                    <a:pt x="9695" y="2902"/>
                    <a:pt x="9696" y="2931"/>
                  </a:cubicBezTo>
                  <a:cubicBezTo>
                    <a:pt x="9697" y="2967"/>
                    <a:pt x="9695" y="2963"/>
                    <a:pt x="9685" y="2997"/>
                  </a:cubicBezTo>
                </a:path>
                <a:path w="1410" h="1189">
                  <a:moveTo>
                    <a:pt x="8668" y="3160"/>
                  </a:moveTo>
                  <a:cubicBezTo>
                    <a:pt x="8691" y="3178"/>
                    <a:pt x="8708" y="3191"/>
                    <a:pt x="8739" y="3202"/>
                  </a:cubicBezTo>
                  <a:cubicBezTo>
                    <a:pt x="8799" y="3224"/>
                    <a:pt x="8862" y="3241"/>
                    <a:pt x="8925" y="3251"/>
                  </a:cubicBezTo>
                  <a:cubicBezTo>
                    <a:pt x="9019" y="3266"/>
                    <a:pt x="9118" y="3268"/>
                    <a:pt x="9213" y="3262"/>
                  </a:cubicBezTo>
                  <a:cubicBezTo>
                    <a:pt x="9312" y="3256"/>
                    <a:pt x="9417" y="3242"/>
                    <a:pt x="9513" y="3214"/>
                  </a:cubicBezTo>
                  <a:cubicBezTo>
                    <a:pt x="9582" y="3194"/>
                    <a:pt x="9642" y="3161"/>
                    <a:pt x="9700" y="3128"/>
                  </a:cubicBezTo>
                  <a:cubicBezTo>
                    <a:pt x="9712" y="3123"/>
                    <a:pt x="9723" y="3118"/>
                    <a:pt x="9735" y="3113"/>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4" name="Ink 16"/>
            <p:cNvSpPr/>
            <p:nvPr/>
          </p:nvSpPr>
          <p:spPr>
            <a:xfrm>
              <a:off x="6681240" y="4101120"/>
              <a:ext cx="328680" cy="210960"/>
            </a:xfrm>
            <a:custGeom>
              <a:avLst/>
              <a:gdLst/>
              <a:ahLst/>
              <a:rect l="l" t="t" r="r" b="b"/>
              <a:pathLst>
                <a:path w="1250" h="658">
                  <a:moveTo>
                    <a:pt x="9480" y="2960"/>
                  </a:moveTo>
                  <a:cubicBezTo>
                    <a:pt x="9431" y="2963"/>
                    <a:pt x="9381" y="2971"/>
                    <a:pt x="9332" y="2975"/>
                  </a:cubicBezTo>
                  <a:cubicBezTo>
                    <a:pt x="9237" y="2982"/>
                    <a:pt x="9142" y="2990"/>
                    <a:pt x="9046" y="2992"/>
                  </a:cubicBezTo>
                  <a:cubicBezTo>
                    <a:pt x="8994" y="2993"/>
                    <a:pt x="8660" y="2994"/>
                    <a:pt x="8672" y="2975"/>
                  </a:cubicBezTo>
                  <a:cubicBezTo>
                    <a:pt x="8691" y="2943"/>
                    <a:pt x="8869" y="2944"/>
                    <a:pt x="8900" y="2940"/>
                  </a:cubicBezTo>
                  <a:cubicBezTo>
                    <a:pt x="9006" y="2927"/>
                    <a:pt x="9112" y="2918"/>
                    <a:pt x="9219" y="2913"/>
                  </a:cubicBezTo>
                  <a:cubicBezTo>
                    <a:pt x="9281" y="2911"/>
                    <a:pt x="9300" y="2911"/>
                    <a:pt x="9340" y="2910"/>
                  </a:cubicBezTo>
                  <a:cubicBezTo>
                    <a:pt x="9369" y="2909"/>
                    <a:pt x="9397" y="2907"/>
                    <a:pt x="9426" y="2906"/>
                  </a:cubicBezTo>
                  <a:cubicBezTo>
                    <a:pt x="9386" y="2899"/>
                    <a:pt x="9347" y="2894"/>
                    <a:pt x="9305" y="2893"/>
                  </a:cubicBezTo>
                  <a:cubicBezTo>
                    <a:pt x="9144" y="2891"/>
                    <a:pt x="8984" y="2896"/>
                    <a:pt x="8823" y="2899"/>
                  </a:cubicBezTo>
                  <a:cubicBezTo>
                    <a:pt x="8726" y="2901"/>
                    <a:pt x="8629" y="2906"/>
                    <a:pt x="8532" y="2906"/>
                  </a:cubicBezTo>
                  <a:cubicBezTo>
                    <a:pt x="8524" y="2906"/>
                    <a:pt x="8517" y="2905"/>
                    <a:pt x="8509" y="2905"/>
                  </a:cubicBezTo>
                  <a:cubicBezTo>
                    <a:pt x="8601" y="2881"/>
                    <a:pt x="8696" y="2877"/>
                    <a:pt x="8791" y="2866"/>
                  </a:cubicBezTo>
                  <a:cubicBezTo>
                    <a:pt x="8989" y="2843"/>
                    <a:pt x="9188" y="2824"/>
                    <a:pt x="9384" y="2792"/>
                  </a:cubicBezTo>
                  <a:cubicBezTo>
                    <a:pt x="9462" y="2779"/>
                    <a:pt x="9517" y="2760"/>
                    <a:pt x="9554" y="2730"/>
                  </a:cubicBezTo>
                  <a:cubicBezTo>
                    <a:pt x="9469" y="2715"/>
                    <a:pt x="9386" y="2718"/>
                    <a:pt x="9300" y="2720"/>
                  </a:cubicBezTo>
                  <a:cubicBezTo>
                    <a:pt x="9103" y="2725"/>
                    <a:pt x="8906" y="2742"/>
                    <a:pt x="8710" y="2762"/>
                  </a:cubicBezTo>
                  <a:cubicBezTo>
                    <a:pt x="8644" y="2769"/>
                    <a:pt x="8578" y="2776"/>
                    <a:pt x="8512" y="2784"/>
                  </a:cubicBezTo>
                  <a:cubicBezTo>
                    <a:pt x="8585" y="2758"/>
                    <a:pt x="8658" y="2746"/>
                    <a:pt x="8734" y="2730"/>
                  </a:cubicBezTo>
                  <a:cubicBezTo>
                    <a:pt x="8865" y="2703"/>
                    <a:pt x="8995" y="2675"/>
                    <a:pt x="9127" y="2654"/>
                  </a:cubicBezTo>
                  <a:cubicBezTo>
                    <a:pt x="9239" y="2636"/>
                    <a:pt x="9350" y="2617"/>
                    <a:pt x="9461" y="2594"/>
                  </a:cubicBezTo>
                  <a:cubicBezTo>
                    <a:pt x="9502" y="2585"/>
                    <a:pt x="9512" y="2583"/>
                    <a:pt x="9537" y="2575"/>
                  </a:cubicBezTo>
                  <a:cubicBezTo>
                    <a:pt x="9473" y="2579"/>
                    <a:pt x="9409" y="2586"/>
                    <a:pt x="9344" y="2595"/>
                  </a:cubicBezTo>
                  <a:cubicBezTo>
                    <a:pt x="9068" y="2631"/>
                    <a:pt x="8787" y="2660"/>
                    <a:pt x="8509" y="2671"/>
                  </a:cubicBezTo>
                  <a:cubicBezTo>
                    <a:pt x="8578" y="2652"/>
                    <a:pt x="8648" y="2635"/>
                    <a:pt x="8720" y="2624"/>
                  </a:cubicBezTo>
                  <a:cubicBezTo>
                    <a:pt x="8869" y="2601"/>
                    <a:pt x="9019" y="2578"/>
                    <a:pt x="9169" y="2558"/>
                  </a:cubicBezTo>
                  <a:cubicBezTo>
                    <a:pt x="9313" y="2538"/>
                    <a:pt x="9463" y="2528"/>
                    <a:pt x="9602" y="2483"/>
                  </a:cubicBezTo>
                  <a:cubicBezTo>
                    <a:pt x="9609" y="2480"/>
                    <a:pt x="9615" y="2477"/>
                    <a:pt x="9622" y="2474"/>
                  </a:cubicBezTo>
                  <a:cubicBezTo>
                    <a:pt x="9547" y="2448"/>
                    <a:pt x="9472" y="2444"/>
                    <a:pt x="9391" y="2444"/>
                  </a:cubicBezTo>
                  <a:cubicBezTo>
                    <a:pt x="9097" y="2442"/>
                    <a:pt x="8802" y="2465"/>
                    <a:pt x="8509" y="2486"/>
                  </a:cubicBezTo>
                  <a:cubicBezTo>
                    <a:pt x="8503" y="2487"/>
                    <a:pt x="8316" y="2501"/>
                    <a:pt x="8403" y="2496"/>
                  </a:cubicBezTo>
                  <a:cubicBezTo>
                    <a:pt x="8518" y="2490"/>
                    <a:pt x="8632" y="2478"/>
                    <a:pt x="8746" y="2466"/>
                  </a:cubicBezTo>
                  <a:cubicBezTo>
                    <a:pt x="8921" y="2448"/>
                    <a:pt x="9095" y="2437"/>
                    <a:pt x="9270" y="2421"/>
                  </a:cubicBezTo>
                  <a:cubicBezTo>
                    <a:pt x="9374" y="2412"/>
                    <a:pt x="9496" y="2401"/>
                    <a:pt x="9572" y="2362"/>
                  </a:cubicBezTo>
                  <a:cubicBezTo>
                    <a:pt x="9429" y="2333"/>
                    <a:pt x="9287" y="2337"/>
                    <a:pt x="9142" y="2342"/>
                  </a:cubicBezTo>
                  <a:cubicBezTo>
                    <a:pt x="9009" y="2346"/>
                    <a:pt x="8878" y="2359"/>
                    <a:pt x="8746" y="2375"/>
                  </a:cubicBezTo>
                  <a:cubicBezTo>
                    <a:pt x="8707" y="2380"/>
                    <a:pt x="8503" y="2381"/>
                    <a:pt x="8478" y="2421"/>
                  </a:cubicBezTo>
                  <a:cubicBezTo>
                    <a:pt x="8429" y="2498"/>
                    <a:pt x="8661" y="2410"/>
                    <a:pt x="8751" y="2396"/>
                  </a:cubicBezTo>
                  <a:cubicBezTo>
                    <a:pt x="8783" y="2389"/>
                    <a:pt x="8814" y="2381"/>
                    <a:pt x="8846" y="2374"/>
                  </a:cubicBezTo>
                </a:path>
              </a:pathLst>
            </a:custGeom>
            <a:noFill/>
            <a:ln cap="rnd"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5" name=""/>
          <p:cNvSpPr/>
          <p:nvPr/>
        </p:nvSpPr>
        <p:spPr>
          <a:xfrm>
            <a:off x="6858000" y="3886200"/>
            <a:ext cx="547560" cy="363600"/>
          </a:xfrm>
          <a:custGeom>
            <a:avLst/>
            <a:gdLst/>
            <a:ahLst/>
            <a:rect l="l" t="t" r="r" b="b"/>
            <a:pathLst>
              <a:path w="1521" h="1011">
                <a:moveTo>
                  <a:pt x="18833" y="14923"/>
                </a:moveTo>
                <a:cubicBezTo>
                  <a:pt x="18864" y="14865"/>
                  <a:pt x="18885" y="14834"/>
                  <a:pt x="18939" y="14790"/>
                </a:cubicBezTo>
                <a:cubicBezTo>
                  <a:pt x="18981" y="14756"/>
                  <a:pt x="19026" y="14728"/>
                  <a:pt x="19071" y="14698"/>
                </a:cubicBezTo>
                <a:cubicBezTo>
                  <a:pt x="19123" y="14663"/>
                  <a:pt x="19175" y="14634"/>
                  <a:pt x="19232" y="14607"/>
                </a:cubicBezTo>
                <a:cubicBezTo>
                  <a:pt x="19305" y="14572"/>
                  <a:pt x="19373" y="14528"/>
                  <a:pt x="19442" y="14485"/>
                </a:cubicBezTo>
                <a:cubicBezTo>
                  <a:pt x="19487" y="14457"/>
                  <a:pt x="19528" y="14425"/>
                  <a:pt x="19575" y="14401"/>
                </a:cubicBezTo>
                <a:cubicBezTo>
                  <a:pt x="19642" y="14366"/>
                  <a:pt x="19710" y="14331"/>
                  <a:pt x="19776" y="14294"/>
                </a:cubicBezTo>
                <a:cubicBezTo>
                  <a:pt x="19862" y="14245"/>
                  <a:pt x="19935" y="14177"/>
                  <a:pt x="20014" y="14119"/>
                </a:cubicBezTo>
                <a:cubicBezTo>
                  <a:pt x="20060" y="14085"/>
                  <a:pt x="20110" y="14056"/>
                  <a:pt x="20156" y="14023"/>
                </a:cubicBezTo>
                <a:cubicBezTo>
                  <a:pt x="20201" y="13991"/>
                  <a:pt x="20239" y="13967"/>
                  <a:pt x="20289" y="13943"/>
                </a:cubicBezTo>
                <a:cubicBezTo>
                  <a:pt x="20321" y="13928"/>
                  <a:pt x="20332" y="13923"/>
                  <a:pt x="20353" y="13913"/>
                </a:cubicBezTo>
                <a:cubicBezTo>
                  <a:pt x="20287" y="13940"/>
                  <a:pt x="20226" y="13965"/>
                  <a:pt x="20156" y="13981"/>
                </a:cubicBezTo>
                <a:cubicBezTo>
                  <a:pt x="20110" y="13991"/>
                  <a:pt x="20067" y="13998"/>
                  <a:pt x="20023" y="14016"/>
                </a:cubicBezTo>
                <a:cubicBezTo>
                  <a:pt x="19982" y="14032"/>
                  <a:pt x="19941" y="14051"/>
                  <a:pt x="19900" y="14069"/>
                </a:cubicBezTo>
                <a:cubicBezTo>
                  <a:pt x="19868" y="14088"/>
                  <a:pt x="19856" y="14095"/>
                  <a:pt x="19831" y="14100"/>
                </a:cubicBezTo>
                <a:cubicBezTo>
                  <a:pt x="19875" y="14088"/>
                  <a:pt x="19920" y="14073"/>
                  <a:pt x="19964" y="14062"/>
                </a:cubicBezTo>
                <a:cubicBezTo>
                  <a:pt x="20008" y="14051"/>
                  <a:pt x="20052" y="14052"/>
                  <a:pt x="20096" y="14042"/>
                </a:cubicBezTo>
                <a:cubicBezTo>
                  <a:pt x="20140" y="14032"/>
                  <a:pt x="20185" y="14021"/>
                  <a:pt x="20225" y="14001"/>
                </a:cubicBezTo>
                <a:cubicBezTo>
                  <a:pt x="20257" y="13981"/>
                  <a:pt x="20267" y="13975"/>
                  <a:pt x="20289" y="13962"/>
                </a:cubicBezTo>
                <a:cubicBezTo>
                  <a:pt x="20254" y="13996"/>
                  <a:pt x="20215" y="14029"/>
                  <a:pt x="20183" y="14065"/>
                </a:cubicBezTo>
                <a:cubicBezTo>
                  <a:pt x="20100" y="14156"/>
                  <a:pt x="20024" y="14251"/>
                  <a:pt x="19964" y="1435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6" name=""/>
          <p:cNvSpPr/>
          <p:nvPr/>
        </p:nvSpPr>
        <p:spPr>
          <a:xfrm>
            <a:off x="6172200" y="63036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7" name=""/>
          <p:cNvSpPr/>
          <p:nvPr/>
        </p:nvSpPr>
        <p:spPr>
          <a:xfrm>
            <a:off x="3340440" y="4724280"/>
            <a:ext cx="867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T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Funding</a:t>
            </a:r>
            <a:endParaRPr b="0" lang="en-US" sz="1400" spc="-1" strike="noStrike">
              <a:solidFill>
                <a:srgbClr val="000000"/>
              </a:solidFill>
              <a:latin typeface="Arial"/>
            </a:endParaRPr>
          </a:p>
        </p:txBody>
      </p:sp>
      <p:sp>
        <p:nvSpPr>
          <p:cNvPr id="3878" name=""/>
          <p:cNvSpPr/>
          <p:nvPr/>
        </p:nvSpPr>
        <p:spPr>
          <a:xfrm>
            <a:off x="3657600" y="5562720"/>
            <a:ext cx="262080" cy="32040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9" name=""/>
          <p:cNvSpPr/>
          <p:nvPr/>
        </p:nvSpPr>
        <p:spPr>
          <a:xfrm>
            <a:off x="3429000" y="1371600"/>
            <a:ext cx="266760" cy="396720"/>
          </a:xfrm>
          <a:custGeom>
            <a:avLst/>
            <a:gdLst/>
            <a:ahLst/>
            <a:rect l="l" t="t" r="r" b="b"/>
            <a:pathLst>
              <a:path w="738" h="1103">
                <a:moveTo>
                  <a:pt x="12541" y="7059"/>
                </a:moveTo>
                <a:cubicBezTo>
                  <a:pt x="12523" y="7084"/>
                  <a:pt x="12509" y="7108"/>
                  <a:pt x="12495" y="7136"/>
                </a:cubicBezTo>
                <a:cubicBezTo>
                  <a:pt x="12491" y="7099"/>
                  <a:pt x="12482" y="7057"/>
                  <a:pt x="12491" y="7021"/>
                </a:cubicBezTo>
                <a:cubicBezTo>
                  <a:pt x="12502" y="6978"/>
                  <a:pt x="12532" y="6944"/>
                  <a:pt x="12564" y="6914"/>
                </a:cubicBezTo>
                <a:cubicBezTo>
                  <a:pt x="12616" y="6866"/>
                  <a:pt x="12665" y="6814"/>
                  <a:pt x="12719" y="6770"/>
                </a:cubicBezTo>
                <a:cubicBezTo>
                  <a:pt x="12789" y="6713"/>
                  <a:pt x="12862" y="6664"/>
                  <a:pt x="12953" y="6651"/>
                </a:cubicBezTo>
                <a:cubicBezTo>
                  <a:pt x="13000" y="6644"/>
                  <a:pt x="13041" y="6658"/>
                  <a:pt x="13086" y="6670"/>
                </a:cubicBezTo>
                <a:cubicBezTo>
                  <a:pt x="13135" y="6683"/>
                  <a:pt x="13167" y="6720"/>
                  <a:pt x="13195" y="6762"/>
                </a:cubicBezTo>
                <a:cubicBezTo>
                  <a:pt x="13224" y="6805"/>
                  <a:pt x="13236" y="6856"/>
                  <a:pt x="13200" y="6895"/>
                </a:cubicBezTo>
                <a:cubicBezTo>
                  <a:pt x="13149" y="6950"/>
                  <a:pt x="13061" y="6983"/>
                  <a:pt x="12999" y="7025"/>
                </a:cubicBezTo>
                <a:cubicBezTo>
                  <a:pt x="12960" y="7052"/>
                  <a:pt x="12922" y="7090"/>
                  <a:pt x="12893" y="7128"/>
                </a:cubicBezTo>
                <a:cubicBezTo>
                  <a:pt x="12868" y="7160"/>
                  <a:pt x="12852" y="7204"/>
                  <a:pt x="12838" y="7242"/>
                </a:cubicBezTo>
                <a:cubicBezTo>
                  <a:pt x="12826" y="7277"/>
                  <a:pt x="12806" y="7326"/>
                  <a:pt x="12806" y="7364"/>
                </a:cubicBezTo>
                <a:cubicBezTo>
                  <a:pt x="12806" y="7411"/>
                  <a:pt x="12811" y="7467"/>
                  <a:pt x="12866" y="7471"/>
                </a:cubicBezTo>
                <a:cubicBezTo>
                  <a:pt x="12910" y="7474"/>
                  <a:pt x="12950" y="7461"/>
                  <a:pt x="12994" y="7467"/>
                </a:cubicBezTo>
                <a:cubicBezTo>
                  <a:pt x="13005" y="7468"/>
                  <a:pt x="13015" y="7470"/>
                  <a:pt x="13026" y="7471"/>
                </a:cubicBezTo>
                <a:cubicBezTo>
                  <a:pt x="12993" y="7505"/>
                  <a:pt x="12960" y="7536"/>
                  <a:pt x="12944" y="7582"/>
                </a:cubicBezTo>
                <a:cubicBezTo>
                  <a:pt x="12934" y="7610"/>
                  <a:pt x="12931" y="7641"/>
                  <a:pt x="12925" y="7670"/>
                </a:cubicBezTo>
                <a:cubicBezTo>
                  <a:pt x="12955" y="7666"/>
                  <a:pt x="13016" y="7667"/>
                  <a:pt x="13044" y="7651"/>
                </a:cubicBezTo>
                <a:cubicBezTo>
                  <a:pt x="13092" y="7622"/>
                  <a:pt x="13081" y="7577"/>
                  <a:pt x="13067" y="7536"/>
                </a:cubicBezTo>
                <a:cubicBezTo>
                  <a:pt x="13016" y="7542"/>
                  <a:pt x="12970" y="7554"/>
                  <a:pt x="12935" y="7597"/>
                </a:cubicBezTo>
                <a:cubicBezTo>
                  <a:pt x="12902" y="7638"/>
                  <a:pt x="12900" y="7669"/>
                  <a:pt x="12893" y="7715"/>
                </a:cubicBezTo>
                <a:cubicBezTo>
                  <a:pt x="12951" y="7734"/>
                  <a:pt x="12984" y="7729"/>
                  <a:pt x="13035" y="7689"/>
                </a:cubicBezTo>
                <a:cubicBezTo>
                  <a:pt x="13066" y="7664"/>
                  <a:pt x="13075" y="7639"/>
                  <a:pt x="13095" y="7609"/>
                </a:cubicBezTo>
                <a:cubicBezTo>
                  <a:pt x="13048" y="7602"/>
                  <a:pt x="12999" y="7598"/>
                  <a:pt x="12957" y="7628"/>
                </a:cubicBezTo>
                <a:cubicBezTo>
                  <a:pt x="12908" y="7663"/>
                  <a:pt x="12899" y="7702"/>
                  <a:pt x="12880" y="7753"/>
                </a:cubicBezTo>
                <a:cubicBezTo>
                  <a:pt x="12913" y="7741"/>
                  <a:pt x="12944" y="7727"/>
                  <a:pt x="12976" y="7712"/>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0" name=""/>
          <p:cNvSpPr/>
          <p:nvPr/>
        </p:nvSpPr>
        <p:spPr>
          <a:xfrm>
            <a:off x="4648320" y="1697040"/>
            <a:ext cx="230040" cy="324000"/>
          </a:xfrm>
          <a:custGeom>
            <a:avLst/>
            <a:gdLst/>
            <a:ahLst/>
            <a:rect l="l" t="t" r="r" b="b"/>
            <a:pathLst>
              <a:path w="637" h="897">
                <a:moveTo>
                  <a:pt x="13589" y="4733"/>
                </a:moveTo>
                <a:cubicBezTo>
                  <a:pt x="13548" y="4762"/>
                  <a:pt x="13508" y="4793"/>
                  <a:pt x="13475" y="4832"/>
                </a:cubicBezTo>
                <a:cubicBezTo>
                  <a:pt x="13445" y="4867"/>
                  <a:pt x="13416" y="4911"/>
                  <a:pt x="13392" y="4950"/>
                </a:cubicBezTo>
                <a:cubicBezTo>
                  <a:pt x="13370" y="4987"/>
                  <a:pt x="13359" y="5025"/>
                  <a:pt x="13333" y="5061"/>
                </a:cubicBezTo>
                <a:cubicBezTo>
                  <a:pt x="13305" y="5099"/>
                  <a:pt x="13279" y="5138"/>
                  <a:pt x="13250" y="5175"/>
                </a:cubicBezTo>
                <a:cubicBezTo>
                  <a:pt x="13216" y="5219"/>
                  <a:pt x="13192" y="5255"/>
                  <a:pt x="13168" y="5305"/>
                </a:cubicBezTo>
                <a:cubicBezTo>
                  <a:pt x="13150" y="5342"/>
                  <a:pt x="13135" y="5378"/>
                  <a:pt x="13122" y="5416"/>
                </a:cubicBezTo>
                <a:cubicBezTo>
                  <a:pt x="13119" y="5425"/>
                  <a:pt x="13116" y="5433"/>
                  <a:pt x="13113" y="5442"/>
                </a:cubicBezTo>
              </a:path>
              <a:path w="637" h="897">
                <a:moveTo>
                  <a:pt x="12971" y="5397"/>
                </a:moveTo>
                <a:cubicBezTo>
                  <a:pt x="12958" y="5368"/>
                  <a:pt x="12954" y="5360"/>
                  <a:pt x="12953" y="5339"/>
                </a:cubicBezTo>
                <a:cubicBezTo>
                  <a:pt x="12959" y="5379"/>
                  <a:pt x="12956" y="5419"/>
                  <a:pt x="12962" y="5458"/>
                </a:cubicBezTo>
                <a:cubicBezTo>
                  <a:pt x="12968" y="5497"/>
                  <a:pt x="12978" y="5533"/>
                  <a:pt x="12985" y="5572"/>
                </a:cubicBezTo>
                <a:cubicBezTo>
                  <a:pt x="12989" y="5600"/>
                  <a:pt x="12991" y="5610"/>
                  <a:pt x="12994" y="5629"/>
                </a:cubicBezTo>
                <a:cubicBezTo>
                  <a:pt x="13038" y="5592"/>
                  <a:pt x="13084" y="5566"/>
                  <a:pt x="13131" y="5534"/>
                </a:cubicBezTo>
                <a:cubicBezTo>
                  <a:pt x="13142" y="5526"/>
                  <a:pt x="13152" y="5519"/>
                  <a:pt x="13163" y="5511"/>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1" name=""/>
          <p:cNvSpPr/>
          <p:nvPr/>
        </p:nvSpPr>
        <p:spPr>
          <a:xfrm>
            <a:off x="5181480" y="2432160"/>
            <a:ext cx="433440" cy="299880"/>
          </a:xfrm>
          <a:custGeom>
            <a:avLst/>
            <a:gdLst/>
            <a:ahLst/>
            <a:rect l="l" t="t" r="r" b="b"/>
            <a:pathLst>
              <a:path w="1204" h="836">
                <a:moveTo>
                  <a:pt x="14426" y="7399"/>
                </a:moveTo>
                <a:cubicBezTo>
                  <a:pt x="14486" y="7411"/>
                  <a:pt x="14518" y="7397"/>
                  <a:pt x="14577" y="7387"/>
                </a:cubicBezTo>
                <a:cubicBezTo>
                  <a:pt x="14635" y="7377"/>
                  <a:pt x="14693" y="7370"/>
                  <a:pt x="14751" y="7357"/>
                </a:cubicBezTo>
                <a:cubicBezTo>
                  <a:pt x="14812" y="7344"/>
                  <a:pt x="14869" y="7314"/>
                  <a:pt x="14921" y="7281"/>
                </a:cubicBezTo>
                <a:cubicBezTo>
                  <a:pt x="14969" y="7251"/>
                  <a:pt x="15021" y="7221"/>
                  <a:pt x="15067" y="7189"/>
                </a:cubicBezTo>
                <a:cubicBezTo>
                  <a:pt x="15133" y="7143"/>
                  <a:pt x="15182" y="7087"/>
                  <a:pt x="15241" y="7036"/>
                </a:cubicBezTo>
                <a:cubicBezTo>
                  <a:pt x="15288" y="6995"/>
                  <a:pt x="15342" y="6963"/>
                  <a:pt x="15397" y="6934"/>
                </a:cubicBezTo>
                <a:cubicBezTo>
                  <a:pt x="15459" y="6901"/>
                  <a:pt x="15504" y="6861"/>
                  <a:pt x="15552" y="6811"/>
                </a:cubicBezTo>
                <a:cubicBezTo>
                  <a:pt x="15577" y="6785"/>
                  <a:pt x="15590" y="6755"/>
                  <a:pt x="15607" y="6724"/>
                </a:cubicBezTo>
              </a:path>
              <a:path w="1204" h="836">
                <a:moveTo>
                  <a:pt x="14724" y="7231"/>
                </a:moveTo>
                <a:cubicBezTo>
                  <a:pt x="14679" y="7260"/>
                  <a:pt x="14639" y="7294"/>
                  <a:pt x="14596" y="7326"/>
                </a:cubicBezTo>
                <a:cubicBezTo>
                  <a:pt x="14550" y="7360"/>
                  <a:pt x="14504" y="7395"/>
                  <a:pt x="14458" y="7429"/>
                </a:cubicBezTo>
                <a:cubicBezTo>
                  <a:pt x="14427" y="7451"/>
                  <a:pt x="14418" y="7458"/>
                  <a:pt x="14404" y="7479"/>
                </a:cubicBezTo>
                <a:cubicBezTo>
                  <a:pt x="14453" y="7510"/>
                  <a:pt x="14504" y="7529"/>
                  <a:pt x="14559" y="7548"/>
                </a:cubicBezTo>
                <a:cubicBezTo>
                  <a:pt x="14591" y="7559"/>
                  <a:pt x="14602" y="7563"/>
                  <a:pt x="14623" y="754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2" name=""/>
          <p:cNvSpPr/>
          <p:nvPr/>
        </p:nvSpPr>
        <p:spPr>
          <a:xfrm>
            <a:off x="5105520" y="3745080"/>
            <a:ext cx="218880" cy="182520"/>
          </a:xfrm>
          <a:custGeom>
            <a:avLst/>
            <a:gdLst/>
            <a:ahLst/>
            <a:rect l="l" t="t" r="r" b="b"/>
            <a:pathLst>
              <a:path w="606" h="505">
                <a:moveTo>
                  <a:pt x="14266" y="10572"/>
                </a:moveTo>
                <a:cubicBezTo>
                  <a:pt x="14255" y="10566"/>
                  <a:pt x="14245" y="10559"/>
                  <a:pt x="14234" y="10553"/>
                </a:cubicBezTo>
                <a:cubicBezTo>
                  <a:pt x="14272" y="10599"/>
                  <a:pt x="14307" y="10631"/>
                  <a:pt x="14358" y="10663"/>
                </a:cubicBezTo>
                <a:cubicBezTo>
                  <a:pt x="14404" y="10693"/>
                  <a:pt x="14450" y="10723"/>
                  <a:pt x="14495" y="10755"/>
                </a:cubicBezTo>
                <a:cubicBezTo>
                  <a:pt x="14553" y="10796"/>
                  <a:pt x="14611" y="10836"/>
                  <a:pt x="14669" y="10877"/>
                </a:cubicBezTo>
                <a:cubicBezTo>
                  <a:pt x="14711" y="10907"/>
                  <a:pt x="14749" y="10939"/>
                  <a:pt x="14793" y="10965"/>
                </a:cubicBezTo>
              </a:path>
              <a:path w="606" h="505">
                <a:moveTo>
                  <a:pt x="14193" y="10480"/>
                </a:moveTo>
                <a:cubicBezTo>
                  <a:pt x="14193" y="10519"/>
                  <a:pt x="14195" y="10557"/>
                  <a:pt x="14198" y="10595"/>
                </a:cubicBezTo>
                <a:cubicBezTo>
                  <a:pt x="14202" y="10636"/>
                  <a:pt x="14215" y="10673"/>
                  <a:pt x="14216" y="10713"/>
                </a:cubicBezTo>
                <a:cubicBezTo>
                  <a:pt x="14217" y="10754"/>
                  <a:pt x="14231" y="10791"/>
                  <a:pt x="14234" y="10831"/>
                </a:cubicBezTo>
                <a:cubicBezTo>
                  <a:pt x="14234" y="10787"/>
                  <a:pt x="14229" y="10747"/>
                  <a:pt x="14225" y="10705"/>
                </a:cubicBezTo>
                <a:cubicBezTo>
                  <a:pt x="14221" y="10660"/>
                  <a:pt x="14220" y="10621"/>
                  <a:pt x="14211" y="10576"/>
                </a:cubicBezTo>
                <a:cubicBezTo>
                  <a:pt x="14203" y="10537"/>
                  <a:pt x="14197" y="10499"/>
                  <a:pt x="14188" y="10461"/>
                </a:cubicBezTo>
                <a:cubicBezTo>
                  <a:pt x="14237" y="10471"/>
                  <a:pt x="14277" y="10470"/>
                  <a:pt x="14326" y="10469"/>
                </a:cubicBezTo>
                <a:cubicBezTo>
                  <a:pt x="14370" y="10468"/>
                  <a:pt x="14415" y="10463"/>
                  <a:pt x="14458" y="10465"/>
                </a:cubicBezTo>
                <a:cubicBezTo>
                  <a:pt x="14469" y="10466"/>
                  <a:pt x="14479" y="10468"/>
                  <a:pt x="14490" y="1046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3" name=""/>
          <p:cNvSpPr/>
          <p:nvPr/>
        </p:nvSpPr>
        <p:spPr>
          <a:xfrm>
            <a:off x="3962520" y="4322880"/>
            <a:ext cx="82440" cy="360360"/>
          </a:xfrm>
          <a:custGeom>
            <a:avLst/>
            <a:gdLst/>
            <a:ahLst/>
            <a:rect l="l" t="t" r="r" b="b"/>
            <a:pathLst>
              <a:path w="225" h="997">
                <a:moveTo>
                  <a:pt x="11035" y="12120"/>
                </a:moveTo>
                <a:cubicBezTo>
                  <a:pt x="11020" y="12153"/>
                  <a:pt x="11011" y="12186"/>
                  <a:pt x="11008" y="12223"/>
                </a:cubicBezTo>
                <a:cubicBezTo>
                  <a:pt x="11005" y="12261"/>
                  <a:pt x="11007" y="12300"/>
                  <a:pt x="11003" y="12338"/>
                </a:cubicBezTo>
                <a:cubicBezTo>
                  <a:pt x="10999" y="12378"/>
                  <a:pt x="10994" y="12416"/>
                  <a:pt x="10990" y="12456"/>
                </a:cubicBezTo>
                <a:cubicBezTo>
                  <a:pt x="10984" y="12514"/>
                  <a:pt x="10978" y="12573"/>
                  <a:pt x="10976" y="12631"/>
                </a:cubicBezTo>
                <a:cubicBezTo>
                  <a:pt x="10973" y="12711"/>
                  <a:pt x="10975" y="12792"/>
                  <a:pt x="10971" y="12872"/>
                </a:cubicBezTo>
                <a:cubicBezTo>
                  <a:pt x="10969" y="12923"/>
                  <a:pt x="10968" y="12973"/>
                  <a:pt x="10967" y="13024"/>
                </a:cubicBezTo>
                <a:cubicBezTo>
                  <a:pt x="10967" y="13055"/>
                  <a:pt x="10967" y="13085"/>
                  <a:pt x="10967" y="13116"/>
                </a:cubicBezTo>
              </a:path>
              <a:path w="225" h="997">
                <a:moveTo>
                  <a:pt x="11012" y="12185"/>
                </a:moveTo>
                <a:cubicBezTo>
                  <a:pt x="11012" y="12160"/>
                  <a:pt x="11012" y="12152"/>
                  <a:pt x="11012" y="12136"/>
                </a:cubicBezTo>
                <a:cubicBezTo>
                  <a:pt x="10994" y="12165"/>
                  <a:pt x="10952" y="12212"/>
                  <a:pt x="10948" y="12246"/>
                </a:cubicBezTo>
                <a:cubicBezTo>
                  <a:pt x="10943" y="12287"/>
                  <a:pt x="10947" y="12322"/>
                  <a:pt x="10935" y="12364"/>
                </a:cubicBezTo>
                <a:cubicBezTo>
                  <a:pt x="10924" y="12401"/>
                  <a:pt x="10912" y="12435"/>
                  <a:pt x="10903" y="12471"/>
                </a:cubicBezTo>
                <a:cubicBezTo>
                  <a:pt x="10926" y="12426"/>
                  <a:pt x="10926" y="12391"/>
                  <a:pt x="10939" y="12342"/>
                </a:cubicBezTo>
                <a:cubicBezTo>
                  <a:pt x="10951" y="12298"/>
                  <a:pt x="10970" y="12264"/>
                  <a:pt x="10990" y="12223"/>
                </a:cubicBezTo>
                <a:cubicBezTo>
                  <a:pt x="11002" y="12194"/>
                  <a:pt x="11006" y="12186"/>
                  <a:pt x="11012" y="12166"/>
                </a:cubicBezTo>
                <a:cubicBezTo>
                  <a:pt x="11038" y="12204"/>
                  <a:pt x="11057" y="12236"/>
                  <a:pt x="11072" y="12280"/>
                </a:cubicBezTo>
                <a:cubicBezTo>
                  <a:pt x="11085" y="12318"/>
                  <a:pt x="11096" y="12358"/>
                  <a:pt x="11113" y="12395"/>
                </a:cubicBezTo>
                <a:cubicBezTo>
                  <a:pt x="11118" y="12404"/>
                  <a:pt x="11122" y="12413"/>
                  <a:pt x="11127" y="1242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4" name=""/>
          <p:cNvSpPr/>
          <p:nvPr/>
        </p:nvSpPr>
        <p:spPr>
          <a:xfrm>
            <a:off x="3009960" y="3865680"/>
            <a:ext cx="199800" cy="164880"/>
          </a:xfrm>
          <a:custGeom>
            <a:avLst/>
            <a:gdLst/>
            <a:ahLst/>
            <a:rect l="l" t="t" r="r" b="b"/>
            <a:pathLst>
              <a:path w="555" h="458">
                <a:moveTo>
                  <a:pt x="8248" y="11300"/>
                </a:moveTo>
                <a:cubicBezTo>
                  <a:pt x="8301" y="11273"/>
                  <a:pt x="8347" y="11246"/>
                  <a:pt x="8390" y="11205"/>
                </a:cubicBezTo>
                <a:cubicBezTo>
                  <a:pt x="8433" y="11164"/>
                  <a:pt x="8474" y="11132"/>
                  <a:pt x="8523" y="11098"/>
                </a:cubicBezTo>
                <a:cubicBezTo>
                  <a:pt x="8588" y="11053"/>
                  <a:pt x="8655" y="11011"/>
                  <a:pt x="8720" y="10965"/>
                </a:cubicBezTo>
                <a:cubicBezTo>
                  <a:pt x="8731" y="10957"/>
                  <a:pt x="8741" y="10950"/>
                  <a:pt x="8752" y="10942"/>
                </a:cubicBezTo>
              </a:path>
              <a:path w="555" h="458">
                <a:moveTo>
                  <a:pt x="8523" y="10877"/>
                </a:moveTo>
                <a:cubicBezTo>
                  <a:pt x="8569" y="10878"/>
                  <a:pt x="8611" y="10872"/>
                  <a:pt x="8656" y="10862"/>
                </a:cubicBezTo>
                <a:cubicBezTo>
                  <a:pt x="8680" y="10857"/>
                  <a:pt x="8762" y="10830"/>
                  <a:pt x="8784" y="10843"/>
                </a:cubicBezTo>
                <a:cubicBezTo>
                  <a:pt x="8817" y="10862"/>
                  <a:pt x="8798" y="10930"/>
                  <a:pt x="8793" y="10957"/>
                </a:cubicBezTo>
                <a:cubicBezTo>
                  <a:pt x="8786" y="10994"/>
                  <a:pt x="8773" y="11028"/>
                  <a:pt x="8766" y="1106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5" name=""/>
          <p:cNvSpPr/>
          <p:nvPr/>
        </p:nvSpPr>
        <p:spPr>
          <a:xfrm>
            <a:off x="2781360" y="3009960"/>
            <a:ext cx="258840" cy="100080"/>
          </a:xfrm>
          <a:custGeom>
            <a:avLst/>
            <a:gdLst/>
            <a:ahLst/>
            <a:rect l="l" t="t" r="r" b="b"/>
            <a:pathLst>
              <a:path w="715" h="280">
                <a:moveTo>
                  <a:pt x="7653" y="8558"/>
                </a:moveTo>
                <a:cubicBezTo>
                  <a:pt x="7710" y="8577"/>
                  <a:pt x="7764" y="8580"/>
                  <a:pt x="7823" y="8589"/>
                </a:cubicBezTo>
                <a:cubicBezTo>
                  <a:pt x="7871" y="8596"/>
                  <a:pt x="7916" y="8611"/>
                  <a:pt x="7965" y="8612"/>
                </a:cubicBezTo>
                <a:cubicBezTo>
                  <a:pt x="8012" y="8613"/>
                  <a:pt x="8051" y="8601"/>
                  <a:pt x="8097" y="8596"/>
                </a:cubicBezTo>
                <a:cubicBezTo>
                  <a:pt x="8128" y="8593"/>
                  <a:pt x="8162" y="8596"/>
                  <a:pt x="8193" y="8596"/>
                </a:cubicBezTo>
              </a:path>
              <a:path w="715" h="280">
                <a:moveTo>
                  <a:pt x="8212" y="8497"/>
                </a:moveTo>
                <a:cubicBezTo>
                  <a:pt x="8201" y="8498"/>
                  <a:pt x="8191" y="8500"/>
                  <a:pt x="8180" y="8501"/>
                </a:cubicBezTo>
                <a:cubicBezTo>
                  <a:pt x="8217" y="8539"/>
                  <a:pt x="8258" y="8574"/>
                  <a:pt x="8303" y="8604"/>
                </a:cubicBezTo>
                <a:cubicBezTo>
                  <a:pt x="8334" y="8623"/>
                  <a:pt x="8345" y="8629"/>
                  <a:pt x="8367" y="8638"/>
                </a:cubicBezTo>
                <a:cubicBezTo>
                  <a:pt x="8344" y="8687"/>
                  <a:pt x="8310" y="8696"/>
                  <a:pt x="8258" y="8718"/>
                </a:cubicBezTo>
                <a:cubicBezTo>
                  <a:pt x="8220" y="8734"/>
                  <a:pt x="8191" y="8753"/>
                  <a:pt x="8157" y="8776"/>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6" name=""/>
          <p:cNvSpPr/>
          <p:nvPr/>
        </p:nvSpPr>
        <p:spPr>
          <a:xfrm>
            <a:off x="3227400" y="2247840"/>
            <a:ext cx="290520" cy="160560"/>
          </a:xfrm>
          <a:custGeom>
            <a:avLst/>
            <a:gdLst/>
            <a:ahLst/>
            <a:rect l="l" t="t" r="r" b="b"/>
            <a:pathLst>
              <a:path w="807" h="443">
                <a:moveTo>
                  <a:pt x="8866" y="6369"/>
                </a:moveTo>
                <a:cubicBezTo>
                  <a:pt x="8914" y="6394"/>
                  <a:pt x="8962" y="6412"/>
                  <a:pt x="9013" y="6430"/>
                </a:cubicBezTo>
                <a:cubicBezTo>
                  <a:pt x="9075" y="6452"/>
                  <a:pt x="9125" y="6483"/>
                  <a:pt x="9182" y="6514"/>
                </a:cubicBezTo>
                <a:cubicBezTo>
                  <a:pt x="9224" y="6537"/>
                  <a:pt x="9265" y="6556"/>
                  <a:pt x="9310" y="6571"/>
                </a:cubicBezTo>
                <a:cubicBezTo>
                  <a:pt x="9354" y="6586"/>
                  <a:pt x="9404" y="6591"/>
                  <a:pt x="9447" y="6609"/>
                </a:cubicBezTo>
                <a:cubicBezTo>
                  <a:pt x="9459" y="6615"/>
                  <a:pt x="9472" y="6622"/>
                  <a:pt x="9484" y="6628"/>
                </a:cubicBezTo>
              </a:path>
              <a:path w="807" h="443">
                <a:moveTo>
                  <a:pt x="9347" y="6811"/>
                </a:moveTo>
                <a:cubicBezTo>
                  <a:pt x="9324" y="6753"/>
                  <a:pt x="9344" y="6743"/>
                  <a:pt x="9406" y="6720"/>
                </a:cubicBezTo>
                <a:cubicBezTo>
                  <a:pt x="9454" y="6702"/>
                  <a:pt x="9490" y="6717"/>
                  <a:pt x="9539" y="6720"/>
                </a:cubicBezTo>
                <a:cubicBezTo>
                  <a:pt x="9584" y="6723"/>
                  <a:pt x="9627" y="6724"/>
                  <a:pt x="9672" y="6720"/>
                </a:cubicBezTo>
                <a:cubicBezTo>
                  <a:pt x="9651" y="6674"/>
                  <a:pt x="9631" y="6651"/>
                  <a:pt x="9594" y="6617"/>
                </a:cubicBezTo>
                <a:cubicBezTo>
                  <a:pt x="9559" y="6585"/>
                  <a:pt x="9535" y="6544"/>
                  <a:pt x="9502" y="651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7" name=""/>
          <p:cNvGrpSpPr/>
          <p:nvPr/>
        </p:nvGrpSpPr>
        <p:grpSpPr>
          <a:xfrm>
            <a:off x="3429000" y="2514600"/>
            <a:ext cx="1599840" cy="1294920"/>
            <a:chOff x="3429000" y="2514600"/>
            <a:chExt cx="1599840" cy="1294920"/>
          </a:xfrm>
        </p:grpSpPr>
        <p:grpSp>
          <p:nvGrpSpPr>
            <p:cNvPr id="3888" name=""/>
            <p:cNvGrpSpPr/>
            <p:nvPr/>
          </p:nvGrpSpPr>
          <p:grpSpPr>
            <a:xfrm>
              <a:off x="3429000" y="2514600"/>
              <a:ext cx="1599840" cy="1294920"/>
              <a:chOff x="3429000" y="2514600"/>
              <a:chExt cx="1599840" cy="1294920"/>
            </a:xfrm>
          </p:grpSpPr>
          <p:sp>
            <p:nvSpPr>
              <p:cNvPr id="3889" name=""/>
              <p:cNvSpPr/>
              <p:nvPr/>
            </p:nvSpPr>
            <p:spPr>
              <a:xfrm>
                <a:off x="3429000" y="2607120"/>
                <a:ext cx="479880" cy="45432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0" name=""/>
              <p:cNvSpPr/>
              <p:nvPr/>
            </p:nvSpPr>
            <p:spPr>
              <a:xfrm>
                <a:off x="3668760" y="3162240"/>
                <a:ext cx="880200" cy="64728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1" name=""/>
              <p:cNvSpPr/>
              <p:nvPr/>
            </p:nvSpPr>
            <p:spPr>
              <a:xfrm>
                <a:off x="4388760" y="2514600"/>
                <a:ext cx="640080" cy="605160"/>
              </a:xfrm>
              <a:custGeom>
                <a:avLst/>
                <a:gdLst/>
                <a:ahLst/>
                <a:rect l="l" t="t" r="r" b="b"/>
                <a:pathLst>
                  <a:path w="6802" h="5560">
                    <a:moveTo>
                      <a:pt x="5261" y="16915"/>
                    </a:moveTo>
                    <a:cubicBezTo>
                      <a:pt x="5376" y="16806"/>
                      <a:pt x="5433" y="16729"/>
                      <a:pt x="5505" y="16587"/>
                    </a:cubicBezTo>
                    <a:cubicBezTo>
                      <a:pt x="5521" y="16555"/>
                      <a:pt x="5531" y="16522"/>
                      <a:pt x="5550" y="16491"/>
                    </a:cubicBezTo>
                    <a:cubicBezTo>
                      <a:pt x="5606" y="16397"/>
                      <a:pt x="5679" y="16309"/>
                      <a:pt x="5747" y="16222"/>
                    </a:cubicBezTo>
                    <a:cubicBezTo>
                      <a:pt x="5888" y="16042"/>
                      <a:pt x="5982" y="15838"/>
                      <a:pt x="6118" y="15658"/>
                    </a:cubicBezTo>
                    <a:cubicBezTo>
                      <a:pt x="6209" y="15538"/>
                      <a:pt x="6311" y="15427"/>
                      <a:pt x="6401" y="15306"/>
                    </a:cubicBezTo>
                    <a:cubicBezTo>
                      <a:pt x="6511" y="15158"/>
                      <a:pt x="6592" y="14989"/>
                      <a:pt x="6702" y="14843"/>
                    </a:cubicBezTo>
                    <a:cubicBezTo>
                      <a:pt x="6802" y="14710"/>
                      <a:pt x="6881" y="14589"/>
                      <a:pt x="6956" y="14441"/>
                    </a:cubicBezTo>
                    <a:cubicBezTo>
                      <a:pt x="7021" y="14313"/>
                      <a:pt x="7101" y="14211"/>
                      <a:pt x="7182" y="14094"/>
                    </a:cubicBezTo>
                    <a:cubicBezTo>
                      <a:pt x="7226" y="14030"/>
                      <a:pt x="7262" y="13987"/>
                      <a:pt x="7315" y="13930"/>
                    </a:cubicBezTo>
                    <a:cubicBezTo>
                      <a:pt x="7438" y="13798"/>
                      <a:pt x="7475" y="13667"/>
                      <a:pt x="7569" y="13520"/>
                    </a:cubicBezTo>
                    <a:cubicBezTo>
                      <a:pt x="7624" y="13435"/>
                      <a:pt x="7694" y="13351"/>
                      <a:pt x="7757" y="13271"/>
                    </a:cubicBezTo>
                    <a:cubicBezTo>
                      <a:pt x="7884" y="13111"/>
                      <a:pt x="7997" y="12940"/>
                      <a:pt x="8112" y="12771"/>
                    </a:cubicBezTo>
                    <a:cubicBezTo>
                      <a:pt x="8202" y="12638"/>
                      <a:pt x="8286" y="12500"/>
                      <a:pt x="8372" y="12364"/>
                    </a:cubicBezTo>
                    <a:cubicBezTo>
                      <a:pt x="8467" y="12214"/>
                      <a:pt x="8518" y="12043"/>
                      <a:pt x="8617" y="11893"/>
                    </a:cubicBezTo>
                    <a:cubicBezTo>
                      <a:pt x="8663" y="11823"/>
                      <a:pt x="8714" y="11757"/>
                      <a:pt x="8763" y="11689"/>
                    </a:cubicBezTo>
                    <a:cubicBezTo>
                      <a:pt x="8767" y="11683"/>
                      <a:pt x="8772" y="11677"/>
                      <a:pt x="8776" y="11671"/>
                    </a:cubicBezTo>
                  </a:path>
                  <a:path w="6802" h="5560">
                    <a:moveTo>
                      <a:pt x="8792" y="11665"/>
                    </a:moveTo>
                    <a:cubicBezTo>
                      <a:pt x="8798" y="11698"/>
                      <a:pt x="8766" y="11715"/>
                      <a:pt x="8776" y="11747"/>
                    </a:cubicBezTo>
                    <a:cubicBezTo>
                      <a:pt x="8817" y="11877"/>
                      <a:pt x="8921" y="11988"/>
                      <a:pt x="8976" y="12113"/>
                    </a:cubicBezTo>
                    <a:cubicBezTo>
                      <a:pt x="9050" y="12282"/>
                      <a:pt x="9124" y="12452"/>
                      <a:pt x="9223" y="12607"/>
                    </a:cubicBezTo>
                    <a:cubicBezTo>
                      <a:pt x="9291" y="12714"/>
                      <a:pt x="9375" y="12805"/>
                      <a:pt x="9436" y="12917"/>
                    </a:cubicBezTo>
                    <a:cubicBezTo>
                      <a:pt x="9516" y="13062"/>
                      <a:pt x="9579" y="13215"/>
                      <a:pt x="9658" y="13361"/>
                    </a:cubicBezTo>
                    <a:cubicBezTo>
                      <a:pt x="9675" y="13393"/>
                      <a:pt x="9692" y="13421"/>
                      <a:pt x="9709" y="13454"/>
                    </a:cubicBezTo>
                    <a:cubicBezTo>
                      <a:pt x="9786" y="13600"/>
                      <a:pt x="9868" y="13740"/>
                      <a:pt x="9941" y="13888"/>
                    </a:cubicBezTo>
                    <a:cubicBezTo>
                      <a:pt x="10006" y="14019"/>
                      <a:pt x="10068" y="14146"/>
                      <a:pt x="10138" y="14274"/>
                    </a:cubicBezTo>
                    <a:cubicBezTo>
                      <a:pt x="10243" y="14467"/>
                      <a:pt x="10369" y="14646"/>
                      <a:pt x="10474" y="14838"/>
                    </a:cubicBezTo>
                    <a:cubicBezTo>
                      <a:pt x="10539" y="14956"/>
                      <a:pt x="10613" y="15063"/>
                      <a:pt x="10681" y="15176"/>
                    </a:cubicBezTo>
                    <a:cubicBezTo>
                      <a:pt x="10741" y="15275"/>
                      <a:pt x="10809" y="15351"/>
                      <a:pt x="10874" y="15444"/>
                    </a:cubicBezTo>
                    <a:cubicBezTo>
                      <a:pt x="10995" y="15617"/>
                      <a:pt x="11096" y="15799"/>
                      <a:pt x="11217" y="15968"/>
                    </a:cubicBezTo>
                    <a:cubicBezTo>
                      <a:pt x="11297" y="16080"/>
                      <a:pt x="11366" y="16200"/>
                      <a:pt x="11440" y="16317"/>
                    </a:cubicBezTo>
                    <a:cubicBezTo>
                      <a:pt x="11514" y="16434"/>
                      <a:pt x="11601" y="16530"/>
                      <a:pt x="11681" y="16640"/>
                    </a:cubicBezTo>
                    <a:cubicBezTo>
                      <a:pt x="11726" y="16702"/>
                      <a:pt x="11758" y="16768"/>
                      <a:pt x="11814" y="16822"/>
                    </a:cubicBezTo>
                    <a:cubicBezTo>
                      <a:pt x="11903" y="16908"/>
                      <a:pt x="11972" y="16987"/>
                      <a:pt x="12049" y="17095"/>
                    </a:cubicBezTo>
                    <a:cubicBezTo>
                      <a:pt x="12053" y="17101"/>
                      <a:pt x="12058" y="17107"/>
                      <a:pt x="12062" y="17113"/>
                    </a:cubicBezTo>
                  </a:path>
                  <a:path w="6802" h="5560">
                    <a:moveTo>
                      <a:pt x="5270" y="17068"/>
                    </a:moveTo>
                    <a:cubicBezTo>
                      <a:pt x="5388" y="17060"/>
                      <a:pt x="5505" y="17075"/>
                      <a:pt x="5623" y="17068"/>
                    </a:cubicBezTo>
                    <a:cubicBezTo>
                      <a:pt x="5709" y="17063"/>
                      <a:pt x="5787" y="17051"/>
                      <a:pt x="5874" y="17055"/>
                    </a:cubicBezTo>
                    <a:cubicBezTo>
                      <a:pt x="5965" y="17059"/>
                      <a:pt x="6057" y="17067"/>
                      <a:pt x="6147" y="17074"/>
                    </a:cubicBezTo>
                    <a:cubicBezTo>
                      <a:pt x="6212" y="17079"/>
                      <a:pt x="6276" y="17077"/>
                      <a:pt x="6340" y="17081"/>
                    </a:cubicBezTo>
                    <a:cubicBezTo>
                      <a:pt x="6432" y="17087"/>
                      <a:pt x="6515" y="17089"/>
                      <a:pt x="6607" y="17084"/>
                    </a:cubicBezTo>
                    <a:cubicBezTo>
                      <a:pt x="6798" y="17074"/>
                      <a:pt x="6990" y="17071"/>
                      <a:pt x="7182" y="17068"/>
                    </a:cubicBezTo>
                    <a:cubicBezTo>
                      <a:pt x="7291" y="17066"/>
                      <a:pt x="7400" y="17072"/>
                      <a:pt x="7509" y="17068"/>
                    </a:cubicBezTo>
                    <a:cubicBezTo>
                      <a:pt x="7625" y="17064"/>
                      <a:pt x="7733" y="17072"/>
                      <a:pt x="7849" y="17076"/>
                    </a:cubicBezTo>
                    <a:cubicBezTo>
                      <a:pt x="7987" y="17081"/>
                      <a:pt x="8126" y="17079"/>
                      <a:pt x="8265" y="17081"/>
                    </a:cubicBezTo>
                    <a:cubicBezTo>
                      <a:pt x="8346" y="17082"/>
                      <a:pt x="8422" y="17093"/>
                      <a:pt x="8503" y="17095"/>
                    </a:cubicBezTo>
                    <a:cubicBezTo>
                      <a:pt x="8670" y="17100"/>
                      <a:pt x="8841" y="17090"/>
                      <a:pt x="9007" y="17089"/>
                    </a:cubicBezTo>
                    <a:cubicBezTo>
                      <a:pt x="9164" y="17088"/>
                      <a:pt x="9314" y="17083"/>
                      <a:pt x="9471" y="17089"/>
                    </a:cubicBezTo>
                    <a:cubicBezTo>
                      <a:pt x="9539" y="17092"/>
                      <a:pt x="9607" y="17083"/>
                      <a:pt x="9674" y="17087"/>
                    </a:cubicBezTo>
                    <a:cubicBezTo>
                      <a:pt x="9771" y="17093"/>
                      <a:pt x="9855" y="17137"/>
                      <a:pt x="9947" y="17148"/>
                    </a:cubicBezTo>
                    <a:cubicBezTo>
                      <a:pt x="10035" y="17159"/>
                      <a:pt x="10126" y="17167"/>
                      <a:pt x="10214" y="17177"/>
                    </a:cubicBezTo>
                    <a:cubicBezTo>
                      <a:pt x="10292" y="17185"/>
                      <a:pt x="10377" y="17214"/>
                      <a:pt x="10452" y="17219"/>
                    </a:cubicBezTo>
                    <a:cubicBezTo>
                      <a:pt x="10518" y="17223"/>
                      <a:pt x="10580" y="17200"/>
                      <a:pt x="10646" y="17201"/>
                    </a:cubicBezTo>
                    <a:cubicBezTo>
                      <a:pt x="10816" y="17204"/>
                      <a:pt x="10981" y="17212"/>
                      <a:pt x="11151" y="17211"/>
                    </a:cubicBezTo>
                    <a:cubicBezTo>
                      <a:pt x="11337" y="17210"/>
                      <a:pt x="11526" y="17192"/>
                      <a:pt x="11706" y="17193"/>
                    </a:cubicBezTo>
                    <a:cubicBezTo>
                      <a:pt x="11794" y="17193"/>
                      <a:pt x="11875" y="17213"/>
                      <a:pt x="11960" y="17222"/>
                    </a:cubicBezTo>
                    <a:cubicBezTo>
                      <a:pt x="11967" y="17221"/>
                      <a:pt x="11975" y="17220"/>
                      <a:pt x="11982" y="1721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2" name=""/>
              <p:cNvSpPr/>
              <p:nvPr/>
            </p:nvSpPr>
            <p:spPr>
              <a:xfrm>
                <a:off x="3828960" y="2792160"/>
                <a:ext cx="621000" cy="475920"/>
              </a:xfrm>
              <a:custGeom>
                <a:avLst/>
                <a:gdLst/>
                <a:ahLst/>
                <a:rect l="l" t="t" r="r" b="b"/>
                <a:pathLst>
                  <a:path w="2278" h="1508">
                    <a:moveTo>
                      <a:pt x="15042" y="3209"/>
                    </a:moveTo>
                    <a:cubicBezTo>
                      <a:pt x="15018" y="3199"/>
                      <a:pt x="14996" y="3188"/>
                      <a:pt x="14971" y="3180"/>
                    </a:cubicBezTo>
                    <a:cubicBezTo>
                      <a:pt x="14931" y="3167"/>
                      <a:pt x="14890" y="3157"/>
                      <a:pt x="14849" y="3149"/>
                    </a:cubicBezTo>
                    <a:cubicBezTo>
                      <a:pt x="14626" y="3103"/>
                      <a:pt x="14373" y="3117"/>
                      <a:pt x="14149" y="3144"/>
                    </a:cubicBezTo>
                    <a:cubicBezTo>
                      <a:pt x="14036" y="3158"/>
                      <a:pt x="13917" y="3175"/>
                      <a:pt x="13810" y="3217"/>
                    </a:cubicBezTo>
                    <a:cubicBezTo>
                      <a:pt x="13749" y="3241"/>
                      <a:pt x="13654" y="3288"/>
                      <a:pt x="13667" y="3369"/>
                    </a:cubicBezTo>
                    <a:cubicBezTo>
                      <a:pt x="13678" y="3441"/>
                      <a:pt x="13763" y="3478"/>
                      <a:pt x="13820" y="3506"/>
                    </a:cubicBezTo>
                    <a:cubicBezTo>
                      <a:pt x="13995" y="3590"/>
                      <a:pt x="14195" y="3623"/>
                      <a:pt x="14386" y="3645"/>
                    </a:cubicBezTo>
                    <a:cubicBezTo>
                      <a:pt x="14648" y="3675"/>
                      <a:pt x="14911" y="3683"/>
                      <a:pt x="15173" y="3656"/>
                    </a:cubicBezTo>
                    <a:cubicBezTo>
                      <a:pt x="15330" y="3639"/>
                      <a:pt x="15493" y="3612"/>
                      <a:pt x="15635" y="3538"/>
                    </a:cubicBezTo>
                    <a:cubicBezTo>
                      <a:pt x="15691" y="3509"/>
                      <a:pt x="15784" y="3440"/>
                      <a:pt x="15744" y="3364"/>
                    </a:cubicBezTo>
                    <a:cubicBezTo>
                      <a:pt x="15699" y="3280"/>
                      <a:pt x="15551" y="3264"/>
                      <a:pt x="15472" y="3249"/>
                    </a:cubicBezTo>
                    <a:cubicBezTo>
                      <a:pt x="15355" y="3230"/>
                      <a:pt x="15316" y="3224"/>
                      <a:pt x="15236" y="3224"/>
                    </a:cubicBezTo>
                  </a:path>
                  <a:path w="2278" h="1508">
                    <a:moveTo>
                      <a:pt x="13558" y="3514"/>
                    </a:moveTo>
                    <a:cubicBezTo>
                      <a:pt x="13552" y="3544"/>
                      <a:pt x="13555" y="3575"/>
                      <a:pt x="13549" y="3605"/>
                    </a:cubicBezTo>
                    <a:cubicBezTo>
                      <a:pt x="13537" y="3666"/>
                      <a:pt x="13525" y="3726"/>
                      <a:pt x="13515" y="3788"/>
                    </a:cubicBezTo>
                    <a:cubicBezTo>
                      <a:pt x="13502" y="3868"/>
                      <a:pt x="13494" y="3944"/>
                      <a:pt x="13494" y="4025"/>
                    </a:cubicBezTo>
                    <a:cubicBezTo>
                      <a:pt x="13494" y="4092"/>
                      <a:pt x="13501" y="4158"/>
                      <a:pt x="13523" y="4221"/>
                    </a:cubicBezTo>
                    <a:cubicBezTo>
                      <a:pt x="13533" y="4248"/>
                      <a:pt x="13554" y="4310"/>
                      <a:pt x="13578" y="4329"/>
                    </a:cubicBezTo>
                    <a:cubicBezTo>
                      <a:pt x="13585" y="4332"/>
                      <a:pt x="13593" y="4335"/>
                      <a:pt x="13600" y="4338"/>
                    </a:cubicBezTo>
                  </a:path>
                  <a:path w="2278" h="1508">
                    <a:moveTo>
                      <a:pt x="13820" y="4480"/>
                    </a:moveTo>
                    <a:cubicBezTo>
                      <a:pt x="13853" y="4483"/>
                      <a:pt x="13872" y="4485"/>
                      <a:pt x="13904" y="4496"/>
                    </a:cubicBezTo>
                    <a:cubicBezTo>
                      <a:pt x="14081" y="4554"/>
                      <a:pt x="14250" y="4605"/>
                      <a:pt x="14437" y="4624"/>
                    </a:cubicBezTo>
                    <a:cubicBezTo>
                      <a:pt x="14604" y="4641"/>
                      <a:pt x="14770" y="4631"/>
                      <a:pt x="14936" y="4617"/>
                    </a:cubicBezTo>
                    <a:cubicBezTo>
                      <a:pt x="15157" y="4599"/>
                      <a:pt x="15393" y="4569"/>
                      <a:pt x="15603" y="4494"/>
                    </a:cubicBezTo>
                    <a:cubicBezTo>
                      <a:pt x="15664" y="4472"/>
                      <a:pt x="15733" y="4444"/>
                      <a:pt x="15771" y="4391"/>
                    </a:cubicBezTo>
                    <a:cubicBezTo>
                      <a:pt x="15771" y="4384"/>
                      <a:pt x="15771" y="4376"/>
                      <a:pt x="15771" y="4369"/>
                    </a:cubicBezTo>
                  </a:path>
                  <a:path w="2278" h="1508">
                    <a:moveTo>
                      <a:pt x="15750" y="3638"/>
                    </a:moveTo>
                    <a:cubicBezTo>
                      <a:pt x="15741" y="3656"/>
                      <a:pt x="15736" y="3685"/>
                      <a:pt x="15733" y="3706"/>
                    </a:cubicBezTo>
                    <a:cubicBezTo>
                      <a:pt x="15727" y="3756"/>
                      <a:pt x="15718" y="3805"/>
                      <a:pt x="15713" y="3856"/>
                    </a:cubicBezTo>
                    <a:cubicBezTo>
                      <a:pt x="15706" y="3931"/>
                      <a:pt x="15707" y="4008"/>
                      <a:pt x="15706" y="4084"/>
                    </a:cubicBezTo>
                    <a:cubicBezTo>
                      <a:pt x="15705" y="4158"/>
                      <a:pt x="15717" y="4231"/>
                      <a:pt x="15720" y="4305"/>
                    </a:cubicBezTo>
                    <a:cubicBezTo>
                      <a:pt x="15722" y="4348"/>
                      <a:pt x="15723" y="4387"/>
                      <a:pt x="15729" y="4429"/>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3" name=""/>
            <p:cNvSpPr/>
            <p:nvPr/>
          </p:nvSpPr>
          <p:spPr>
            <a:xfrm>
              <a:off x="3506760" y="2743200"/>
              <a:ext cx="2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X</a:t>
              </a:r>
              <a:endParaRPr b="0" lang="en-US" sz="1600" spc="-1" strike="noStrike">
                <a:solidFill>
                  <a:srgbClr val="000000"/>
                </a:solidFill>
                <a:latin typeface="Arial"/>
              </a:endParaRPr>
            </a:p>
          </p:txBody>
        </p:sp>
        <p:sp>
          <p:nvSpPr>
            <p:cNvPr id="3894" name=""/>
            <p:cNvSpPr/>
            <p:nvPr/>
          </p:nvSpPr>
          <p:spPr>
            <a:xfrm>
              <a:off x="4563720" y="27432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p</a:t>
              </a:r>
              <a:endParaRPr b="0" lang="en-US" sz="1600" spc="-1" strike="noStrike">
                <a:solidFill>
                  <a:srgbClr val="000000"/>
                </a:solidFill>
                <a:latin typeface="Arial"/>
              </a:endParaRPr>
            </a:p>
          </p:txBody>
        </p:sp>
        <p:sp>
          <p:nvSpPr>
            <p:cNvPr id="3895" name=""/>
            <p:cNvSpPr/>
            <p:nvPr/>
          </p:nvSpPr>
          <p:spPr>
            <a:xfrm>
              <a:off x="3979080" y="3429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Z</a:t>
              </a:r>
              <a:endParaRPr b="0" lang="en-US" sz="1600" spc="-1" strike="noStrike">
                <a:solidFill>
                  <a:srgbClr val="000000"/>
                </a:solidFill>
                <a:latin typeface="Arial"/>
              </a:endParaRPr>
            </a:p>
          </p:txBody>
        </p:sp>
        <p:sp>
          <p:nvSpPr>
            <p:cNvPr id="3896" name=""/>
            <p:cNvSpPr/>
            <p:nvPr/>
          </p:nvSpPr>
          <p:spPr>
            <a:xfrm>
              <a:off x="3980520" y="2895480"/>
              <a:ext cx="3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St</a:t>
              </a:r>
              <a:endParaRPr b="0" lang="en-US" sz="1600" spc="-1" strike="noStrike">
                <a:solidFill>
                  <a:srgbClr val="000000"/>
                </a:solidFill>
                <a:latin typeface="Arial"/>
              </a:endParaRPr>
            </a:p>
          </p:txBody>
        </p:sp>
      </p:grpSp>
      <p:sp>
        <p:nvSpPr>
          <p:cNvPr id="3897" name=""/>
          <p:cNvSpPr/>
          <p:nvPr/>
        </p:nvSpPr>
        <p:spPr>
          <a:xfrm>
            <a:off x="2498040" y="457200"/>
            <a:ext cx="7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hiteboard"/>
              </a:rPr>
              <a:t>ibm</a:t>
            </a:r>
            <a:endParaRPr b="0" lang="en-US" sz="2400" spc="-1" strike="noStrike">
              <a:solidFill>
                <a:srgbClr val="000000"/>
              </a:solidFill>
              <a:latin typeface="Arial"/>
            </a:endParaRPr>
          </a:p>
        </p:txBody>
      </p:sp>
      <p:grpSp>
        <p:nvGrpSpPr>
          <p:cNvPr id="3898" name=""/>
          <p:cNvGrpSpPr/>
          <p:nvPr/>
        </p:nvGrpSpPr>
        <p:grpSpPr>
          <a:xfrm>
            <a:off x="3200400" y="2220840"/>
            <a:ext cx="2225160" cy="1985760"/>
            <a:chOff x="3200400" y="2220840"/>
            <a:chExt cx="2225160" cy="1985760"/>
          </a:xfrm>
        </p:grpSpPr>
        <p:sp>
          <p:nvSpPr>
            <p:cNvPr id="3899" name=""/>
            <p:cNvSpPr/>
            <p:nvPr/>
          </p:nvSpPr>
          <p:spPr>
            <a:xfrm>
              <a:off x="4805280" y="2220840"/>
              <a:ext cx="264600" cy="183960"/>
            </a:xfrm>
            <a:custGeom>
              <a:avLst/>
              <a:gdLst/>
              <a:ahLst/>
              <a:rect l="l" t="t" r="r" b="b"/>
              <a:pathLst>
                <a:path w="737" h="512">
                  <a:moveTo>
                    <a:pt x="21534" y="12356"/>
                  </a:moveTo>
                  <a:cubicBezTo>
                    <a:pt x="21564" y="12313"/>
                    <a:pt x="21582" y="12275"/>
                    <a:pt x="21603" y="12228"/>
                  </a:cubicBezTo>
                  <a:cubicBezTo>
                    <a:pt x="21608" y="12216"/>
                    <a:pt x="21614" y="12205"/>
                    <a:pt x="21619" y="12193"/>
                  </a:cubicBezTo>
                </a:path>
                <a:path w="737" h="512">
                  <a:moveTo>
                    <a:pt x="21788" y="12087"/>
                  </a:moveTo>
                  <a:cubicBezTo>
                    <a:pt x="21783" y="12044"/>
                    <a:pt x="21783" y="12010"/>
                    <a:pt x="21794" y="11968"/>
                  </a:cubicBezTo>
                  <a:cubicBezTo>
                    <a:pt x="21806" y="11922"/>
                    <a:pt x="21831" y="11884"/>
                    <a:pt x="21857" y="11845"/>
                  </a:cubicBezTo>
                </a:path>
                <a:path w="737" h="512">
                  <a:moveTo>
                    <a:pt x="22095" y="11972"/>
                  </a:moveTo>
                  <a:cubicBezTo>
                    <a:pt x="22104" y="12036"/>
                    <a:pt x="22139" y="12042"/>
                    <a:pt x="22180" y="12091"/>
                  </a:cubicBezTo>
                  <a:cubicBezTo>
                    <a:pt x="22213" y="12130"/>
                    <a:pt x="22244" y="12171"/>
                    <a:pt x="22270" y="1221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0" name=""/>
            <p:cNvSpPr/>
            <p:nvPr/>
          </p:nvSpPr>
          <p:spPr>
            <a:xfrm>
              <a:off x="5109840" y="2427120"/>
              <a:ext cx="17280" cy="88920"/>
            </a:xfrm>
            <a:custGeom>
              <a:avLst/>
              <a:gdLst/>
              <a:ahLst/>
              <a:rect l="l" t="t" r="r" b="b"/>
              <a:pathLst>
                <a:path w="49" h="248">
                  <a:moveTo>
                    <a:pt x="22423" y="12418"/>
                  </a:moveTo>
                  <a:cubicBezTo>
                    <a:pt x="22393" y="12459"/>
                    <a:pt x="22377" y="12488"/>
                    <a:pt x="22381" y="12541"/>
                  </a:cubicBezTo>
                  <a:cubicBezTo>
                    <a:pt x="22384" y="12589"/>
                    <a:pt x="22406" y="12625"/>
                    <a:pt x="22429" y="12665"/>
                  </a:cubicBezTo>
                </a:path>
              </a:pathLst>
            </a:custGeom>
            <a:noFill/>
            <a:ln cap="rnd" w="38160">
              <a:solidFill>
                <a:srgbClr val="808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1" name=""/>
            <p:cNvSpPr/>
            <p:nvPr/>
          </p:nvSpPr>
          <p:spPr>
            <a:xfrm>
              <a:off x="5190840" y="2592000"/>
              <a:ext cx="44280" cy="90720"/>
            </a:xfrm>
            <a:custGeom>
              <a:avLst/>
              <a:gdLst/>
              <a:ahLst/>
              <a:rect l="l" t="t" r="r" b="b"/>
              <a:pathLst>
                <a:path w="123" h="253">
                  <a:moveTo>
                    <a:pt x="22619" y="12876"/>
                  </a:moveTo>
                  <a:cubicBezTo>
                    <a:pt x="22600" y="12926"/>
                    <a:pt x="22600" y="12952"/>
                    <a:pt x="22630" y="13000"/>
                  </a:cubicBezTo>
                  <a:cubicBezTo>
                    <a:pt x="22659" y="13046"/>
                    <a:pt x="22690" y="13087"/>
                    <a:pt x="22725" y="13128"/>
                  </a:cubicBezTo>
                </a:path>
              </a:pathLst>
            </a:custGeom>
            <a:noFill/>
            <a:ln cap="rnd" w="38160">
              <a:solidFill>
                <a:srgbClr val="808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02" name=""/>
            <p:cNvSpPr/>
            <p:nvPr/>
          </p:nvSpPr>
          <p:spPr>
            <a:xfrm>
              <a:off x="5298840" y="2761920"/>
              <a:ext cx="79200" cy="82800"/>
            </a:xfrm>
            <a:custGeom>
              <a:avLst/>
              <a:gdLst/>
              <a:ahLst/>
              <a:rect l="l" t="t" r="r" b="b"/>
              <a:pathLst>
                <a:path w="218" h="231">
                  <a:moveTo>
                    <a:pt x="22905" y="13348"/>
                  </a:moveTo>
                  <a:cubicBezTo>
                    <a:pt x="22964" y="13374"/>
                    <a:pt x="22995" y="13401"/>
                    <a:pt x="23032" y="13454"/>
                  </a:cubicBezTo>
                  <a:cubicBezTo>
                    <a:pt x="23062" y="13496"/>
                    <a:pt x="23089" y="13538"/>
                    <a:pt x="23122" y="13578"/>
                  </a:cubicBezTo>
                </a:path>
              </a:pathLst>
            </a:custGeom>
            <a:noFill/>
            <a:ln cap="rnd" w="38160">
              <a:solidFill>
                <a:srgbClr val="80808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03" name=""/>
            <p:cNvSpPr/>
            <p:nvPr/>
          </p:nvSpPr>
          <p:spPr>
            <a:xfrm>
              <a:off x="5317920" y="2943000"/>
              <a:ext cx="107640" cy="112680"/>
            </a:xfrm>
            <a:custGeom>
              <a:avLst/>
              <a:gdLst/>
              <a:ahLst/>
              <a:rect l="l" t="t" r="r" b="b"/>
              <a:pathLst>
                <a:path w="297" h="314">
                  <a:moveTo>
                    <a:pt x="23191" y="13851"/>
                  </a:moveTo>
                  <a:cubicBezTo>
                    <a:pt x="23210" y="13894"/>
                    <a:pt x="23229" y="13935"/>
                    <a:pt x="23244" y="13979"/>
                  </a:cubicBezTo>
                  <a:cubicBezTo>
                    <a:pt x="23247" y="13989"/>
                    <a:pt x="23251" y="14000"/>
                    <a:pt x="23254" y="14010"/>
                  </a:cubicBezTo>
                </a:path>
                <a:path w="297" h="314">
                  <a:moveTo>
                    <a:pt x="22958" y="14164"/>
                  </a:moveTo>
                  <a:cubicBezTo>
                    <a:pt x="23006" y="14164"/>
                    <a:pt x="23053" y="14161"/>
                    <a:pt x="23101" y="1416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4" name=""/>
            <p:cNvSpPr/>
            <p:nvPr/>
          </p:nvSpPr>
          <p:spPr>
            <a:xfrm>
              <a:off x="3441600" y="2435040"/>
              <a:ext cx="1758600" cy="1730160"/>
            </a:xfrm>
            <a:custGeom>
              <a:avLst/>
              <a:gdLst/>
              <a:ahLst/>
              <a:rect l="l" t="t" r="r" b="b"/>
              <a:pathLst>
                <a:path w="4885" h="4807">
                  <a:moveTo>
                    <a:pt x="22556" y="14173"/>
                  </a:moveTo>
                  <a:cubicBezTo>
                    <a:pt x="22593" y="14177"/>
                    <a:pt x="22605" y="14178"/>
                    <a:pt x="22630" y="14177"/>
                  </a:cubicBezTo>
                </a:path>
                <a:path w="4885" h="4807">
                  <a:moveTo>
                    <a:pt x="21053" y="16281"/>
                  </a:moveTo>
                  <a:cubicBezTo>
                    <a:pt x="21075" y="16323"/>
                    <a:pt x="21099" y="16366"/>
                    <a:pt x="21127" y="16404"/>
                  </a:cubicBezTo>
                  <a:cubicBezTo>
                    <a:pt x="21136" y="16414"/>
                    <a:pt x="21144" y="16425"/>
                    <a:pt x="21153" y="16435"/>
                  </a:cubicBezTo>
                </a:path>
                <a:path w="4885" h="4807">
                  <a:moveTo>
                    <a:pt x="21513" y="16902"/>
                  </a:moveTo>
                  <a:cubicBezTo>
                    <a:pt x="21522" y="16915"/>
                    <a:pt x="21531" y="16929"/>
                    <a:pt x="21540" y="16942"/>
                  </a:cubicBezTo>
                </a:path>
                <a:path w="4885" h="4807">
                  <a:moveTo>
                    <a:pt x="17746" y="17149"/>
                  </a:moveTo>
                  <a:cubicBezTo>
                    <a:pt x="17760" y="17185"/>
                    <a:pt x="17765" y="17207"/>
                    <a:pt x="17767" y="17246"/>
                  </a:cubicBezTo>
                </a:path>
                <a:path w="4885" h="4807">
                  <a:moveTo>
                    <a:pt x="18190" y="12440"/>
                  </a:moveTo>
                  <a:cubicBezTo>
                    <a:pt x="18210" y="12472"/>
                    <a:pt x="18229" y="12504"/>
                    <a:pt x="18248" y="12537"/>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5" name=""/>
            <p:cNvSpPr/>
            <p:nvPr/>
          </p:nvSpPr>
          <p:spPr>
            <a:xfrm>
              <a:off x="3490560" y="3904920"/>
              <a:ext cx="1360440" cy="241560"/>
            </a:xfrm>
            <a:custGeom>
              <a:avLst/>
              <a:gdLst/>
              <a:ahLst/>
              <a:rect l="l" t="t" r="r" b="b"/>
              <a:pathLst>
                <a:path w="3779" h="672">
                  <a:moveTo>
                    <a:pt x="18063" y="16523"/>
                  </a:moveTo>
                  <a:cubicBezTo>
                    <a:pt x="18056" y="16556"/>
                    <a:pt x="18047" y="16587"/>
                    <a:pt x="18037" y="16620"/>
                  </a:cubicBezTo>
                </a:path>
                <a:path w="3779" h="672">
                  <a:moveTo>
                    <a:pt x="17957" y="16828"/>
                  </a:moveTo>
                  <a:cubicBezTo>
                    <a:pt x="17933" y="16863"/>
                    <a:pt x="17909" y="16896"/>
                    <a:pt x="17883" y="16929"/>
                  </a:cubicBezTo>
                </a:path>
                <a:path w="3779" h="672">
                  <a:moveTo>
                    <a:pt x="21513" y="17154"/>
                  </a:moveTo>
                  <a:cubicBezTo>
                    <a:pt x="21565" y="17177"/>
                    <a:pt x="21605" y="17191"/>
                    <a:pt x="21661" y="17194"/>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6" name=""/>
            <p:cNvSpPr/>
            <p:nvPr/>
          </p:nvSpPr>
          <p:spPr>
            <a:xfrm>
              <a:off x="3527280" y="3776400"/>
              <a:ext cx="136080" cy="403200"/>
            </a:xfrm>
            <a:custGeom>
              <a:avLst/>
              <a:gdLst/>
              <a:ahLst/>
              <a:rect l="l" t="t" r="r" b="b"/>
              <a:pathLst>
                <a:path w="376" h="1121">
                  <a:moveTo>
                    <a:pt x="18359" y="16166"/>
                  </a:moveTo>
                  <a:cubicBezTo>
                    <a:pt x="18343" y="16209"/>
                    <a:pt x="18322" y="16249"/>
                    <a:pt x="18301" y="16290"/>
                  </a:cubicBezTo>
                </a:path>
                <a:path w="376" h="1121">
                  <a:moveTo>
                    <a:pt x="17984" y="17286"/>
                  </a:moveTo>
                  <a:cubicBezTo>
                    <a:pt x="18033" y="17264"/>
                    <a:pt x="18083" y="17243"/>
                    <a:pt x="18137" y="17233"/>
                  </a:cubicBezTo>
                  <a:cubicBezTo>
                    <a:pt x="18175" y="17229"/>
                    <a:pt x="18189" y="17227"/>
                    <a:pt x="18211" y="17211"/>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7" name=""/>
            <p:cNvSpPr/>
            <p:nvPr/>
          </p:nvSpPr>
          <p:spPr>
            <a:xfrm>
              <a:off x="3732120" y="4159080"/>
              <a:ext cx="313920" cy="31680"/>
            </a:xfrm>
            <a:custGeom>
              <a:avLst/>
              <a:gdLst/>
              <a:ahLst/>
              <a:rect l="l" t="t" r="r" b="b"/>
              <a:pathLst>
                <a:path w="874" h="89">
                  <a:moveTo>
                    <a:pt x="18550" y="17246"/>
                  </a:moveTo>
                  <a:cubicBezTo>
                    <a:pt x="18600" y="17263"/>
                    <a:pt x="18647" y="17280"/>
                    <a:pt x="18698" y="17291"/>
                  </a:cubicBezTo>
                  <a:cubicBezTo>
                    <a:pt x="18747" y="17302"/>
                    <a:pt x="18796" y="17299"/>
                    <a:pt x="18846" y="17299"/>
                  </a:cubicBezTo>
                </a:path>
                <a:path w="874" h="89">
                  <a:moveTo>
                    <a:pt x="19090" y="17229"/>
                  </a:moveTo>
                  <a:cubicBezTo>
                    <a:pt x="19138" y="17255"/>
                    <a:pt x="19181" y="17266"/>
                    <a:pt x="19233" y="17282"/>
                  </a:cubicBezTo>
                  <a:cubicBezTo>
                    <a:pt x="19284" y="17298"/>
                    <a:pt x="19333" y="17307"/>
                    <a:pt x="19386" y="17313"/>
                  </a:cubicBezTo>
                  <a:cubicBezTo>
                    <a:pt x="19398" y="17314"/>
                    <a:pt x="19411" y="17316"/>
                    <a:pt x="19423" y="17317"/>
                  </a:cubicBezTo>
                </a:path>
              </a:pathLst>
            </a:custGeom>
            <a:noFill/>
            <a:ln cap="rnd" w="38160">
              <a:solidFill>
                <a:srgbClr val="808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908" name=""/>
            <p:cNvSpPr/>
            <p:nvPr/>
          </p:nvSpPr>
          <p:spPr>
            <a:xfrm>
              <a:off x="4182840" y="4187520"/>
              <a:ext cx="109080" cy="19080"/>
            </a:xfrm>
            <a:custGeom>
              <a:avLst/>
              <a:gdLst/>
              <a:ahLst/>
              <a:rect l="l" t="t" r="r" b="b"/>
              <a:pathLst>
                <a:path w="303" h="54">
                  <a:moveTo>
                    <a:pt x="19804" y="17308"/>
                  </a:moveTo>
                  <a:cubicBezTo>
                    <a:pt x="19864" y="17340"/>
                    <a:pt x="19890" y="17329"/>
                    <a:pt x="19952" y="17339"/>
                  </a:cubicBezTo>
                  <a:cubicBezTo>
                    <a:pt x="20005" y="17347"/>
                    <a:pt x="20051" y="17360"/>
                    <a:pt x="20106" y="17361"/>
                  </a:cubicBezTo>
                </a:path>
              </a:pathLst>
            </a:custGeom>
            <a:noFill/>
            <a:ln cap="rnd" w="38160">
              <a:solidFill>
                <a:srgbClr val="808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09" name=""/>
            <p:cNvSpPr/>
            <p:nvPr/>
          </p:nvSpPr>
          <p:spPr>
            <a:xfrm>
              <a:off x="4406760" y="4151160"/>
              <a:ext cx="337680" cy="33120"/>
            </a:xfrm>
            <a:custGeom>
              <a:avLst/>
              <a:gdLst/>
              <a:ahLst/>
              <a:rect l="l" t="t" r="r" b="b"/>
              <a:pathLst>
                <a:path w="938" h="93">
                  <a:moveTo>
                    <a:pt x="20428" y="17233"/>
                  </a:moveTo>
                  <a:cubicBezTo>
                    <a:pt x="20481" y="17267"/>
                    <a:pt x="20523" y="17290"/>
                    <a:pt x="20587" y="17295"/>
                  </a:cubicBezTo>
                  <a:cubicBezTo>
                    <a:pt x="20637" y="17299"/>
                    <a:pt x="20685" y="17293"/>
                    <a:pt x="20735" y="17295"/>
                  </a:cubicBezTo>
                  <a:cubicBezTo>
                    <a:pt x="20747" y="17296"/>
                    <a:pt x="20760" y="17298"/>
                    <a:pt x="20772" y="17299"/>
                  </a:cubicBezTo>
                </a:path>
                <a:path w="938" h="93">
                  <a:moveTo>
                    <a:pt x="21063" y="17207"/>
                  </a:moveTo>
                  <a:cubicBezTo>
                    <a:pt x="21117" y="17234"/>
                    <a:pt x="21156" y="17253"/>
                    <a:pt x="21217" y="17255"/>
                  </a:cubicBezTo>
                  <a:cubicBezTo>
                    <a:pt x="21268" y="17256"/>
                    <a:pt x="21316" y="17256"/>
                    <a:pt x="21365" y="17264"/>
                  </a:cubicBezTo>
                </a:path>
              </a:pathLst>
            </a:custGeom>
            <a:noFill/>
            <a:ln cap="rnd" w="38160">
              <a:solidFill>
                <a:srgbClr val="808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910" name=""/>
            <p:cNvSpPr/>
            <p:nvPr/>
          </p:nvSpPr>
          <p:spPr>
            <a:xfrm>
              <a:off x="4716360" y="3927240"/>
              <a:ext cx="64800" cy="76320"/>
            </a:xfrm>
            <a:custGeom>
              <a:avLst/>
              <a:gdLst/>
              <a:ahLst/>
              <a:rect l="l" t="t" r="r" b="b"/>
              <a:pathLst>
                <a:path w="181" h="213">
                  <a:moveTo>
                    <a:pt x="21286" y="16585"/>
                  </a:moveTo>
                  <a:cubicBezTo>
                    <a:pt x="21335" y="16621"/>
                    <a:pt x="21379" y="16656"/>
                    <a:pt x="21413" y="16708"/>
                  </a:cubicBezTo>
                  <a:cubicBezTo>
                    <a:pt x="21431" y="16737"/>
                    <a:pt x="21448" y="16768"/>
                    <a:pt x="21466" y="16797"/>
                  </a:cubicBezTo>
                </a:path>
              </a:pathLst>
            </a:custGeom>
            <a:noFill/>
            <a:ln cap="rnd" w="38160">
              <a:solidFill>
                <a:srgbClr val="80808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11" name=""/>
            <p:cNvSpPr/>
            <p:nvPr/>
          </p:nvSpPr>
          <p:spPr>
            <a:xfrm>
              <a:off x="3528720" y="2339640"/>
              <a:ext cx="39600" cy="23760"/>
            </a:xfrm>
            <a:custGeom>
              <a:avLst/>
              <a:gdLst/>
              <a:ahLst/>
              <a:rect l="l" t="t" r="r" b="b"/>
              <a:pathLst>
                <a:path w="107" h="67">
                  <a:moveTo>
                    <a:pt x="17989" y="12175"/>
                  </a:moveTo>
                  <a:cubicBezTo>
                    <a:pt x="18033" y="12194"/>
                    <a:pt x="18060" y="12210"/>
                    <a:pt x="18095" y="12241"/>
                  </a:cubicBezTo>
                </a:path>
              </a:pathLst>
            </a:custGeom>
            <a:noFill/>
            <a:ln cap="rnd" w="38160">
              <a:solidFill>
                <a:srgbClr val="808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912" name=""/>
            <p:cNvSpPr/>
            <p:nvPr/>
          </p:nvSpPr>
          <p:spPr>
            <a:xfrm>
              <a:off x="3354120" y="2360520"/>
              <a:ext cx="320400" cy="293400"/>
            </a:xfrm>
            <a:custGeom>
              <a:avLst/>
              <a:gdLst/>
              <a:ahLst/>
              <a:rect l="l" t="t" r="r" b="b"/>
              <a:pathLst>
                <a:path w="890" h="816">
                  <a:moveTo>
                    <a:pt x="18391" y="12599"/>
                  </a:moveTo>
                  <a:cubicBezTo>
                    <a:pt x="18371" y="12646"/>
                    <a:pt x="18374" y="12680"/>
                    <a:pt x="18381" y="12731"/>
                  </a:cubicBezTo>
                </a:path>
                <a:path w="890" h="816">
                  <a:moveTo>
                    <a:pt x="17936" y="12233"/>
                  </a:moveTo>
                  <a:cubicBezTo>
                    <a:pt x="17927" y="12275"/>
                    <a:pt x="17916" y="12312"/>
                    <a:pt x="17915" y="12356"/>
                  </a:cubicBezTo>
                  <a:cubicBezTo>
                    <a:pt x="17915" y="12368"/>
                    <a:pt x="17915" y="12379"/>
                    <a:pt x="17915" y="12391"/>
                  </a:cubicBezTo>
                </a:path>
                <a:path w="890" h="816">
                  <a:moveTo>
                    <a:pt x="17836" y="12431"/>
                  </a:moveTo>
                  <a:cubicBezTo>
                    <a:pt x="17803" y="12470"/>
                    <a:pt x="17774" y="12508"/>
                    <a:pt x="17746" y="12550"/>
                  </a:cubicBezTo>
                  <a:cubicBezTo>
                    <a:pt x="17726" y="12581"/>
                    <a:pt x="17710" y="12610"/>
                    <a:pt x="17693" y="12643"/>
                  </a:cubicBezTo>
                </a:path>
                <a:path w="890" h="816">
                  <a:moveTo>
                    <a:pt x="17634" y="12837"/>
                  </a:moveTo>
                  <a:cubicBezTo>
                    <a:pt x="17589" y="12870"/>
                    <a:pt x="17558" y="12903"/>
                    <a:pt x="17534" y="12956"/>
                  </a:cubicBezTo>
                  <a:cubicBezTo>
                    <a:pt x="17521" y="12986"/>
                    <a:pt x="17513" y="13018"/>
                    <a:pt x="17502" y="1304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3" name=""/>
            <p:cNvSpPr/>
            <p:nvPr/>
          </p:nvSpPr>
          <p:spPr>
            <a:xfrm>
              <a:off x="3295440" y="2746080"/>
              <a:ext cx="31320" cy="44640"/>
            </a:xfrm>
            <a:custGeom>
              <a:avLst/>
              <a:gdLst/>
              <a:ahLst/>
              <a:rect l="l" t="t" r="r" b="b"/>
              <a:pathLst>
                <a:path w="91" h="125">
                  <a:moveTo>
                    <a:pt x="17428" y="13304"/>
                  </a:moveTo>
                  <a:cubicBezTo>
                    <a:pt x="17399" y="13347"/>
                    <a:pt x="17368" y="13387"/>
                    <a:pt x="17338" y="13428"/>
                  </a:cubicBezTo>
                </a:path>
              </a:pathLst>
            </a:custGeom>
            <a:noFill/>
            <a:ln cap="rnd" w="38160">
              <a:solidFill>
                <a:srgbClr val="80808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914" name=""/>
            <p:cNvSpPr/>
            <p:nvPr/>
          </p:nvSpPr>
          <p:spPr>
            <a:xfrm>
              <a:off x="3200400" y="2906640"/>
              <a:ext cx="236160" cy="152280"/>
            </a:xfrm>
            <a:custGeom>
              <a:avLst/>
              <a:gdLst/>
              <a:ahLst/>
              <a:rect l="l" t="t" r="r" b="b"/>
              <a:pathLst>
                <a:path w="657" h="424">
                  <a:moveTo>
                    <a:pt x="17174" y="13750"/>
                  </a:moveTo>
                  <a:cubicBezTo>
                    <a:pt x="17137" y="13790"/>
                    <a:pt x="17119" y="13822"/>
                    <a:pt x="17100" y="13873"/>
                  </a:cubicBezTo>
                  <a:cubicBezTo>
                    <a:pt x="17089" y="13904"/>
                    <a:pt x="17085" y="13915"/>
                    <a:pt x="17074" y="13935"/>
                  </a:cubicBezTo>
                </a:path>
                <a:path w="657" h="424">
                  <a:moveTo>
                    <a:pt x="17074" y="14173"/>
                  </a:moveTo>
                  <a:cubicBezTo>
                    <a:pt x="17122" y="14145"/>
                    <a:pt x="17174" y="14122"/>
                    <a:pt x="17232" y="14116"/>
                  </a:cubicBezTo>
                  <a:cubicBezTo>
                    <a:pt x="17268" y="14112"/>
                    <a:pt x="17307" y="14116"/>
                    <a:pt x="17343" y="14116"/>
                  </a:cubicBezTo>
                </a:path>
                <a:path w="657" h="424">
                  <a:moveTo>
                    <a:pt x="17470" y="14111"/>
                  </a:moveTo>
                  <a:cubicBezTo>
                    <a:pt x="17518" y="14113"/>
                    <a:pt x="17571" y="14113"/>
                    <a:pt x="17619" y="14120"/>
                  </a:cubicBezTo>
                  <a:cubicBezTo>
                    <a:pt x="17658" y="14126"/>
                    <a:pt x="17691" y="14136"/>
                    <a:pt x="17730" y="14138"/>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15" name=""/>
          <p:cNvSpPr/>
          <p:nvPr/>
        </p:nvSpPr>
        <p:spPr>
          <a:xfrm>
            <a:off x="3048120" y="2144880"/>
            <a:ext cx="2604960" cy="2214360"/>
          </a:xfrm>
          <a:custGeom>
            <a:avLst/>
            <a:gdLst/>
            <a:ahLst/>
            <a:rect l="l" t="t" r="r" b="b"/>
            <a:pathLst>
              <a:path w="7234" h="6153">
                <a:moveTo>
                  <a:pt x="12142" y="6055"/>
                </a:moveTo>
                <a:cubicBezTo>
                  <a:pt x="12042" y="6079"/>
                  <a:pt x="11947" y="6110"/>
                  <a:pt x="11845" y="6125"/>
                </a:cubicBezTo>
                <a:cubicBezTo>
                  <a:pt x="11605" y="6160"/>
                  <a:pt x="11361" y="6168"/>
                  <a:pt x="11120" y="6196"/>
                </a:cubicBezTo>
                <a:cubicBezTo>
                  <a:pt x="10888" y="6223"/>
                  <a:pt x="10647" y="6195"/>
                  <a:pt x="10422" y="6244"/>
                </a:cubicBezTo>
                <a:cubicBezTo>
                  <a:pt x="10231" y="6286"/>
                  <a:pt x="10018" y="6397"/>
                  <a:pt x="9845" y="6473"/>
                </a:cubicBezTo>
                <a:cubicBezTo>
                  <a:pt x="9644" y="6560"/>
                  <a:pt x="9444" y="6706"/>
                  <a:pt x="9295" y="6870"/>
                </a:cubicBezTo>
                <a:cubicBezTo>
                  <a:pt x="9154" y="7026"/>
                  <a:pt x="8975" y="7215"/>
                  <a:pt x="8856" y="7382"/>
                </a:cubicBezTo>
                <a:cubicBezTo>
                  <a:pt x="8788" y="7477"/>
                  <a:pt x="8753" y="7578"/>
                  <a:pt x="8702" y="7682"/>
                </a:cubicBezTo>
                <a:cubicBezTo>
                  <a:pt x="8623" y="7844"/>
                  <a:pt x="8550" y="8007"/>
                  <a:pt x="8501" y="8180"/>
                </a:cubicBezTo>
                <a:cubicBezTo>
                  <a:pt x="8447" y="8369"/>
                  <a:pt x="8439" y="8557"/>
                  <a:pt x="8438" y="8753"/>
                </a:cubicBezTo>
                <a:cubicBezTo>
                  <a:pt x="8437" y="9000"/>
                  <a:pt x="8453" y="9256"/>
                  <a:pt x="8490" y="9499"/>
                </a:cubicBezTo>
                <a:cubicBezTo>
                  <a:pt x="8527" y="9739"/>
                  <a:pt x="8611" y="9948"/>
                  <a:pt x="8676" y="10178"/>
                </a:cubicBezTo>
                <a:cubicBezTo>
                  <a:pt x="8700" y="10262"/>
                  <a:pt x="8715" y="10355"/>
                  <a:pt x="8729" y="10438"/>
                </a:cubicBezTo>
                <a:cubicBezTo>
                  <a:pt x="8762" y="10632"/>
                  <a:pt x="8781" y="10849"/>
                  <a:pt x="8877" y="11029"/>
                </a:cubicBezTo>
                <a:cubicBezTo>
                  <a:pt x="8971" y="11207"/>
                  <a:pt x="9131" y="11379"/>
                  <a:pt x="9263" y="11531"/>
                </a:cubicBezTo>
                <a:cubicBezTo>
                  <a:pt x="9389" y="11676"/>
                  <a:pt x="9521" y="11864"/>
                  <a:pt x="9671" y="11977"/>
                </a:cubicBezTo>
                <a:cubicBezTo>
                  <a:pt x="9975" y="12207"/>
                  <a:pt x="10420" y="12140"/>
                  <a:pt x="10776" y="12127"/>
                </a:cubicBezTo>
                <a:cubicBezTo>
                  <a:pt x="10890" y="12123"/>
                  <a:pt x="10997" y="12112"/>
                  <a:pt x="11110" y="12100"/>
                </a:cubicBezTo>
                <a:cubicBezTo>
                  <a:pt x="11321" y="12078"/>
                  <a:pt x="11527" y="12077"/>
                  <a:pt x="11740" y="12091"/>
                </a:cubicBezTo>
                <a:cubicBezTo>
                  <a:pt x="12149" y="12118"/>
                  <a:pt x="12490" y="12105"/>
                  <a:pt x="12893" y="12025"/>
                </a:cubicBezTo>
                <a:cubicBezTo>
                  <a:pt x="13048" y="11994"/>
                  <a:pt x="13219" y="11990"/>
                  <a:pt x="13369" y="11942"/>
                </a:cubicBezTo>
                <a:cubicBezTo>
                  <a:pt x="13565" y="11879"/>
                  <a:pt x="13834" y="11798"/>
                  <a:pt x="14015" y="11703"/>
                </a:cubicBezTo>
                <a:cubicBezTo>
                  <a:pt x="14068" y="11675"/>
                  <a:pt x="14114" y="11632"/>
                  <a:pt x="14163" y="11598"/>
                </a:cubicBezTo>
                <a:cubicBezTo>
                  <a:pt x="14364" y="11459"/>
                  <a:pt x="14578" y="11341"/>
                  <a:pt x="14777" y="11201"/>
                </a:cubicBezTo>
                <a:cubicBezTo>
                  <a:pt x="14980" y="11059"/>
                  <a:pt x="15105" y="10854"/>
                  <a:pt x="15232" y="10645"/>
                </a:cubicBezTo>
                <a:cubicBezTo>
                  <a:pt x="15304" y="10526"/>
                  <a:pt x="15324" y="10431"/>
                  <a:pt x="15370" y="10306"/>
                </a:cubicBezTo>
                <a:cubicBezTo>
                  <a:pt x="15430" y="10143"/>
                  <a:pt x="15472" y="9973"/>
                  <a:pt x="15534" y="9812"/>
                </a:cubicBezTo>
                <a:cubicBezTo>
                  <a:pt x="15628" y="9571"/>
                  <a:pt x="15650" y="9386"/>
                  <a:pt x="15661" y="9128"/>
                </a:cubicBezTo>
                <a:cubicBezTo>
                  <a:pt x="15674" y="8806"/>
                  <a:pt x="15605" y="8537"/>
                  <a:pt x="15502" y="8233"/>
                </a:cubicBezTo>
                <a:cubicBezTo>
                  <a:pt x="15468" y="8134"/>
                  <a:pt x="15426" y="8038"/>
                  <a:pt x="15401" y="7938"/>
                </a:cubicBezTo>
                <a:cubicBezTo>
                  <a:pt x="15388" y="7887"/>
                  <a:pt x="15388" y="7848"/>
                  <a:pt x="15375" y="7801"/>
                </a:cubicBezTo>
                <a:cubicBezTo>
                  <a:pt x="15298" y="7519"/>
                  <a:pt x="15135" y="7320"/>
                  <a:pt x="14989" y="7073"/>
                </a:cubicBezTo>
                <a:cubicBezTo>
                  <a:pt x="14930" y="6973"/>
                  <a:pt x="14884" y="6873"/>
                  <a:pt x="14814" y="6778"/>
                </a:cubicBezTo>
                <a:cubicBezTo>
                  <a:pt x="14734" y="6668"/>
                  <a:pt x="14640" y="6546"/>
                  <a:pt x="14544" y="6451"/>
                </a:cubicBezTo>
                <a:cubicBezTo>
                  <a:pt x="14414" y="6322"/>
                  <a:pt x="14238" y="6181"/>
                  <a:pt x="14068" y="6112"/>
                </a:cubicBezTo>
                <a:cubicBezTo>
                  <a:pt x="13851" y="6024"/>
                  <a:pt x="13568" y="6003"/>
                  <a:pt x="13343" y="5988"/>
                </a:cubicBezTo>
                <a:cubicBezTo>
                  <a:pt x="13250" y="5982"/>
                  <a:pt x="13152" y="5987"/>
                  <a:pt x="13057" y="5993"/>
                </a:cubicBezTo>
                <a:cubicBezTo>
                  <a:pt x="12791" y="6009"/>
                  <a:pt x="12538" y="5999"/>
                  <a:pt x="12274" y="6006"/>
                </a:cubicBezTo>
                <a:cubicBezTo>
                  <a:pt x="12166" y="6009"/>
                  <a:pt x="12072" y="6037"/>
                  <a:pt x="11967" y="6050"/>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6" name=""/>
          <p:cNvSpPr/>
          <p:nvPr/>
        </p:nvSpPr>
        <p:spPr>
          <a:xfrm>
            <a:off x="3429000" y="1371600"/>
            <a:ext cx="544680" cy="533520"/>
          </a:xfrm>
          <a:custGeom>
            <a:avLst/>
            <a:gdLst/>
            <a:ahLst/>
            <a:rect l="l" t="t" r="r" b="b"/>
            <a:pathLst>
              <a:path w="1515" h="1483">
                <a:moveTo>
                  <a:pt x="11332" y="6222"/>
                </a:moveTo>
                <a:cubicBezTo>
                  <a:pt x="11367" y="6265"/>
                  <a:pt x="11418" y="6304"/>
                  <a:pt x="11459" y="6350"/>
                </a:cubicBezTo>
                <a:cubicBezTo>
                  <a:pt x="11507" y="6404"/>
                  <a:pt x="11539" y="6417"/>
                  <a:pt x="11602" y="6451"/>
                </a:cubicBezTo>
                <a:cubicBezTo>
                  <a:pt x="11656" y="6480"/>
                  <a:pt x="11699" y="6522"/>
                  <a:pt x="11740" y="6566"/>
                </a:cubicBezTo>
                <a:cubicBezTo>
                  <a:pt x="11790" y="6619"/>
                  <a:pt x="11831" y="6677"/>
                  <a:pt x="11882" y="6729"/>
                </a:cubicBezTo>
                <a:cubicBezTo>
                  <a:pt x="11928" y="6776"/>
                  <a:pt x="11971" y="6826"/>
                  <a:pt x="12020" y="6870"/>
                </a:cubicBezTo>
                <a:cubicBezTo>
                  <a:pt x="12066" y="6912"/>
                  <a:pt x="12111" y="6958"/>
                  <a:pt x="12158" y="6998"/>
                </a:cubicBezTo>
                <a:cubicBezTo>
                  <a:pt x="12257" y="7082"/>
                  <a:pt x="12358" y="7191"/>
                  <a:pt x="12438" y="7294"/>
                </a:cubicBezTo>
                <a:cubicBezTo>
                  <a:pt x="12467" y="7331"/>
                  <a:pt x="12516" y="7407"/>
                  <a:pt x="12560" y="7426"/>
                </a:cubicBezTo>
                <a:cubicBezTo>
                  <a:pt x="12572" y="7426"/>
                  <a:pt x="12585" y="7426"/>
                  <a:pt x="12597" y="7426"/>
                </a:cubicBezTo>
              </a:path>
              <a:path w="1515" h="1483">
                <a:moveTo>
                  <a:pt x="12846" y="6103"/>
                </a:moveTo>
                <a:cubicBezTo>
                  <a:pt x="12796" y="6123"/>
                  <a:pt x="12736" y="6139"/>
                  <a:pt x="12687" y="6174"/>
                </a:cubicBezTo>
                <a:cubicBezTo>
                  <a:pt x="12626" y="6218"/>
                  <a:pt x="12608" y="6272"/>
                  <a:pt x="12565" y="6328"/>
                </a:cubicBezTo>
                <a:cubicBezTo>
                  <a:pt x="12526" y="6377"/>
                  <a:pt x="12482" y="6429"/>
                  <a:pt x="12433" y="6469"/>
                </a:cubicBezTo>
                <a:cubicBezTo>
                  <a:pt x="12381" y="6511"/>
                  <a:pt x="12323" y="6545"/>
                  <a:pt x="12269" y="6584"/>
                </a:cubicBezTo>
                <a:cubicBezTo>
                  <a:pt x="12217" y="6621"/>
                  <a:pt x="12175" y="6657"/>
                  <a:pt x="12131" y="6698"/>
                </a:cubicBezTo>
                <a:cubicBezTo>
                  <a:pt x="12087" y="6740"/>
                  <a:pt x="12052" y="6787"/>
                  <a:pt x="12004" y="6826"/>
                </a:cubicBezTo>
                <a:cubicBezTo>
                  <a:pt x="11955" y="6866"/>
                  <a:pt x="11906" y="6920"/>
                  <a:pt x="11867" y="6972"/>
                </a:cubicBezTo>
                <a:cubicBezTo>
                  <a:pt x="11833" y="7017"/>
                  <a:pt x="11811" y="7068"/>
                  <a:pt x="11777" y="7113"/>
                </a:cubicBezTo>
                <a:cubicBezTo>
                  <a:pt x="11745" y="7156"/>
                  <a:pt x="11702" y="7192"/>
                  <a:pt x="11671" y="7236"/>
                </a:cubicBezTo>
                <a:cubicBezTo>
                  <a:pt x="11621" y="7306"/>
                  <a:pt x="11596" y="7393"/>
                  <a:pt x="11544" y="7461"/>
                </a:cubicBezTo>
                <a:cubicBezTo>
                  <a:pt x="11510" y="7506"/>
                  <a:pt x="11466" y="7545"/>
                  <a:pt x="11427" y="7585"/>
                </a:cubicBezTo>
              </a:path>
            </a:pathLst>
          </a:custGeom>
          <a:noFill/>
          <a:ln cap="rnd"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7" name=""/>
          <p:cNvSpPr/>
          <p:nvPr/>
        </p:nvSpPr>
        <p:spPr>
          <a:xfrm>
            <a:off x="6858000" y="477504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333399"/>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18" name=""/>
          <p:cNvSpPr/>
          <p:nvPr/>
        </p:nvSpPr>
        <p:spPr>
          <a:xfrm>
            <a:off x="6950520" y="449568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hiteboard"/>
              </a:rPr>
              <a:t>Next Steps</a:t>
            </a:r>
            <a:endParaRPr b="0" lang="en-US" sz="1800" spc="-1" strike="noStrike">
              <a:solidFill>
                <a:srgbClr val="000000"/>
              </a:solidFill>
              <a:latin typeface="Arial"/>
            </a:endParaRPr>
          </a:p>
        </p:txBody>
      </p:sp>
      <p:sp>
        <p:nvSpPr>
          <p:cNvPr id="3919" name=""/>
          <p:cNvSpPr/>
          <p:nvPr/>
        </p:nvSpPr>
        <p:spPr>
          <a:xfrm>
            <a:off x="6991200" y="4800600"/>
            <a:ext cx="1729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hiteboard"/>
              </a:rPr>
              <a:t>F4p Work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hiteboard"/>
              </a:rPr>
              <a:t>Tech review</a:t>
            </a:r>
            <a:endParaRPr b="0" lang="en-US" sz="1800" spc="-1" strike="noStrike">
              <a:solidFill>
                <a:srgbClr val="000000"/>
              </a:solidFill>
              <a:latin typeface="Arial"/>
            </a:endParaRPr>
          </a:p>
        </p:txBody>
      </p:sp>
      <p:sp>
        <p:nvSpPr>
          <p:cNvPr id="3920" name=""/>
          <p:cNvSpPr/>
          <p:nvPr/>
        </p:nvSpPr>
        <p:spPr>
          <a:xfrm>
            <a:off x="6899400" y="5008680"/>
            <a:ext cx="149040" cy="17280"/>
          </a:xfrm>
          <a:custGeom>
            <a:avLst/>
            <a:gdLst/>
            <a:ahLst/>
            <a:rect l="l" t="t" r="r" b="b"/>
            <a:pathLst>
              <a:path w="414" h="49">
                <a:moveTo>
                  <a:pt x="18529" y="14455"/>
                </a:moveTo>
                <a:cubicBezTo>
                  <a:pt x="18579" y="14430"/>
                  <a:pt x="18621" y="14418"/>
                  <a:pt x="18677" y="14411"/>
                </a:cubicBezTo>
                <a:cubicBezTo>
                  <a:pt x="18728" y="14405"/>
                  <a:pt x="18774" y="14417"/>
                  <a:pt x="18825" y="14420"/>
                </a:cubicBezTo>
                <a:cubicBezTo>
                  <a:pt x="18868" y="14422"/>
                  <a:pt x="18900" y="14425"/>
                  <a:pt x="18942" y="14437"/>
                </a:cubicBezTo>
              </a:path>
            </a:pathLst>
          </a:custGeom>
          <a:noFill/>
          <a:ln cap="rnd" w="28440">
            <a:solidFill>
              <a:srgbClr val="333399"/>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21" name=""/>
          <p:cNvSpPr/>
          <p:nvPr/>
        </p:nvSpPr>
        <p:spPr>
          <a:xfrm>
            <a:off x="6959520" y="5289480"/>
            <a:ext cx="112680" cy="12600"/>
          </a:xfrm>
          <a:custGeom>
            <a:avLst/>
            <a:gdLst/>
            <a:ahLst/>
            <a:rect l="l" t="t" r="r" b="b"/>
            <a:pathLst>
              <a:path w="313" h="36">
                <a:moveTo>
                  <a:pt x="18698" y="15187"/>
                </a:moveTo>
                <a:cubicBezTo>
                  <a:pt x="18753" y="15199"/>
                  <a:pt x="18807" y="15200"/>
                  <a:pt x="18862" y="15209"/>
                </a:cubicBezTo>
                <a:cubicBezTo>
                  <a:pt x="18913" y="15217"/>
                  <a:pt x="18958" y="15221"/>
                  <a:pt x="19010" y="15218"/>
                </a:cubicBezTo>
              </a:path>
            </a:pathLst>
          </a:custGeom>
          <a:noFill/>
          <a:ln cap="rnd" w="28440">
            <a:solidFill>
              <a:srgbClr val="333399"/>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2" name=""/>
          <p:cNvSpPr/>
          <p:nvPr/>
        </p:nvSpPr>
        <p:spPr>
          <a:xfrm>
            <a:off x="4343400" y="3111480"/>
            <a:ext cx="351000" cy="343080"/>
          </a:xfrm>
          <a:custGeom>
            <a:avLst/>
            <a:gdLst/>
            <a:ahLst/>
            <a:rect l="l" t="t" r="r" b="b"/>
            <a:pathLst>
              <a:path w="976" h="954">
                <a:moveTo>
                  <a:pt x="12143" y="9683"/>
                </a:moveTo>
                <a:cubicBezTo>
                  <a:pt x="12224" y="9627"/>
                  <a:pt x="12316" y="9587"/>
                  <a:pt x="12404" y="9542"/>
                </a:cubicBezTo>
                <a:cubicBezTo>
                  <a:pt x="12446" y="9521"/>
                  <a:pt x="12490" y="9502"/>
                  <a:pt x="12532" y="9481"/>
                </a:cubicBezTo>
                <a:cubicBezTo>
                  <a:pt x="12573" y="9460"/>
                  <a:pt x="12624" y="9438"/>
                  <a:pt x="12660" y="9409"/>
                </a:cubicBezTo>
                <a:cubicBezTo>
                  <a:pt x="12725" y="9357"/>
                  <a:pt x="12785" y="9285"/>
                  <a:pt x="12834" y="9218"/>
                </a:cubicBezTo>
                <a:cubicBezTo>
                  <a:pt x="12868" y="9171"/>
                  <a:pt x="12892" y="9122"/>
                  <a:pt x="12930" y="9077"/>
                </a:cubicBezTo>
                <a:cubicBezTo>
                  <a:pt x="12961" y="9040"/>
                  <a:pt x="12991" y="9006"/>
                  <a:pt x="13017" y="8966"/>
                </a:cubicBezTo>
                <a:cubicBezTo>
                  <a:pt x="13036" y="8937"/>
                  <a:pt x="13054" y="8893"/>
                  <a:pt x="13063" y="8859"/>
                </a:cubicBezTo>
                <a:cubicBezTo>
                  <a:pt x="13072" y="8824"/>
                  <a:pt x="13083" y="8792"/>
                  <a:pt x="13090" y="8757"/>
                </a:cubicBezTo>
                <a:cubicBezTo>
                  <a:pt x="13090" y="8748"/>
                  <a:pt x="13090" y="8739"/>
                  <a:pt x="13090" y="8730"/>
                </a:cubicBezTo>
                <a:cubicBezTo>
                  <a:pt x="13051" y="8761"/>
                  <a:pt x="13021" y="8795"/>
                  <a:pt x="12989" y="8833"/>
                </a:cubicBezTo>
                <a:cubicBezTo>
                  <a:pt x="12967" y="8859"/>
                  <a:pt x="12960" y="8867"/>
                  <a:pt x="12948" y="8886"/>
                </a:cubicBezTo>
                <a:cubicBezTo>
                  <a:pt x="12999" y="8848"/>
                  <a:pt x="13043" y="8810"/>
                  <a:pt x="13081" y="8760"/>
                </a:cubicBezTo>
                <a:cubicBezTo>
                  <a:pt x="13100" y="8808"/>
                  <a:pt x="13114" y="8849"/>
                  <a:pt x="13118" y="8901"/>
                </a:cubicBezTo>
                <a:cubicBezTo>
                  <a:pt x="13118" y="8910"/>
                  <a:pt x="13118" y="8919"/>
                  <a:pt x="13118" y="8928"/>
                </a:cubicBezTo>
              </a:path>
              <a:path w="976" h="954">
                <a:moveTo>
                  <a:pt x="12330" y="9458"/>
                </a:moveTo>
                <a:cubicBezTo>
                  <a:pt x="12273" y="9489"/>
                  <a:pt x="12233" y="9529"/>
                  <a:pt x="12189" y="9576"/>
                </a:cubicBezTo>
                <a:cubicBezTo>
                  <a:pt x="12166" y="9603"/>
                  <a:pt x="12158" y="9612"/>
                  <a:pt x="12143" y="9630"/>
                </a:cubicBezTo>
                <a:cubicBezTo>
                  <a:pt x="12187" y="9630"/>
                  <a:pt x="12228" y="9626"/>
                  <a:pt x="12271" y="9622"/>
                </a:cubicBezTo>
                <a:cubicBezTo>
                  <a:pt x="12315" y="9618"/>
                  <a:pt x="12356" y="9625"/>
                  <a:pt x="12399" y="9634"/>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3" name=""/>
          <p:cNvSpPr/>
          <p:nvPr/>
        </p:nvSpPr>
        <p:spPr>
          <a:xfrm>
            <a:off x="3657600" y="3048120"/>
            <a:ext cx="225360" cy="431640"/>
          </a:xfrm>
          <a:custGeom>
            <a:avLst/>
            <a:gdLst/>
            <a:ahLst/>
            <a:rect l="l" t="t" r="r" b="b"/>
            <a:pathLst>
              <a:path w="628" h="1202">
                <a:moveTo>
                  <a:pt x="10230" y="8501"/>
                </a:moveTo>
                <a:cubicBezTo>
                  <a:pt x="10223" y="8543"/>
                  <a:pt x="10221" y="8581"/>
                  <a:pt x="10221" y="8623"/>
                </a:cubicBezTo>
                <a:cubicBezTo>
                  <a:pt x="10221" y="8662"/>
                  <a:pt x="10224" y="8696"/>
                  <a:pt x="10230" y="8734"/>
                </a:cubicBezTo>
                <a:cubicBezTo>
                  <a:pt x="10240" y="8792"/>
                  <a:pt x="10247" y="8850"/>
                  <a:pt x="10253" y="8909"/>
                </a:cubicBezTo>
                <a:cubicBezTo>
                  <a:pt x="10258" y="8966"/>
                  <a:pt x="10288" y="8998"/>
                  <a:pt x="10312" y="9046"/>
                </a:cubicBezTo>
                <a:cubicBezTo>
                  <a:pt x="10332" y="9085"/>
                  <a:pt x="10340" y="9125"/>
                  <a:pt x="10367" y="9161"/>
                </a:cubicBezTo>
                <a:cubicBezTo>
                  <a:pt x="10394" y="9198"/>
                  <a:pt x="10421" y="9232"/>
                  <a:pt x="10450" y="9268"/>
                </a:cubicBezTo>
                <a:cubicBezTo>
                  <a:pt x="10481" y="9306"/>
                  <a:pt x="10516" y="9339"/>
                  <a:pt x="10546" y="9378"/>
                </a:cubicBezTo>
                <a:cubicBezTo>
                  <a:pt x="10574" y="9414"/>
                  <a:pt x="10595" y="9453"/>
                  <a:pt x="10623" y="9489"/>
                </a:cubicBezTo>
                <a:cubicBezTo>
                  <a:pt x="10657" y="9533"/>
                  <a:pt x="10691" y="9556"/>
                  <a:pt x="10738" y="9584"/>
                </a:cubicBezTo>
              </a:path>
              <a:path w="628" h="1202">
                <a:moveTo>
                  <a:pt x="10221" y="8547"/>
                </a:moveTo>
                <a:cubicBezTo>
                  <a:pt x="10198" y="8590"/>
                  <a:pt x="10191" y="8619"/>
                  <a:pt x="10180" y="8665"/>
                </a:cubicBezTo>
                <a:cubicBezTo>
                  <a:pt x="10171" y="8703"/>
                  <a:pt x="10163" y="8742"/>
                  <a:pt x="10152" y="8779"/>
                </a:cubicBezTo>
                <a:cubicBezTo>
                  <a:pt x="10144" y="8806"/>
                  <a:pt x="10142" y="8829"/>
                  <a:pt x="10138" y="8856"/>
                </a:cubicBezTo>
                <a:cubicBezTo>
                  <a:pt x="10138" y="8816"/>
                  <a:pt x="10142" y="8783"/>
                  <a:pt x="10152" y="8745"/>
                </a:cubicBezTo>
                <a:cubicBezTo>
                  <a:pt x="10164" y="8699"/>
                  <a:pt x="10170" y="8653"/>
                  <a:pt x="10184" y="8608"/>
                </a:cubicBezTo>
                <a:cubicBezTo>
                  <a:pt x="10229" y="8652"/>
                  <a:pt x="10270" y="8699"/>
                  <a:pt x="10312" y="8745"/>
                </a:cubicBezTo>
              </a:path>
              <a:path w="628" h="1202">
                <a:moveTo>
                  <a:pt x="10651" y="9653"/>
                </a:moveTo>
                <a:cubicBezTo>
                  <a:pt x="10640" y="9649"/>
                  <a:pt x="10630" y="9645"/>
                  <a:pt x="10619" y="9641"/>
                </a:cubicBezTo>
                <a:cubicBezTo>
                  <a:pt x="10662" y="9666"/>
                  <a:pt x="10700" y="9686"/>
                  <a:pt x="10747" y="9702"/>
                </a:cubicBezTo>
                <a:cubicBezTo>
                  <a:pt x="10757" y="9665"/>
                  <a:pt x="10768" y="9627"/>
                  <a:pt x="10765" y="9588"/>
                </a:cubicBezTo>
                <a:cubicBezTo>
                  <a:pt x="10763" y="9552"/>
                  <a:pt x="10765" y="9517"/>
                  <a:pt x="10761" y="9481"/>
                </a:cubicBezTo>
                <a:cubicBezTo>
                  <a:pt x="10756" y="9454"/>
                  <a:pt x="10754" y="9446"/>
                  <a:pt x="10756" y="942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4" name=""/>
          <p:cNvSpPr/>
          <p:nvPr/>
        </p:nvSpPr>
        <p:spPr>
          <a:xfrm>
            <a:off x="2895480" y="5562720"/>
            <a:ext cx="1109880" cy="554040"/>
          </a:xfrm>
          <a:custGeom>
            <a:avLst/>
            <a:gdLst/>
            <a:ahLst/>
            <a:rect l="l" t="t" r="r" b="b"/>
            <a:pathLst>
              <a:path w="3086" h="1542">
                <a:moveTo>
                  <a:pt x="22147" y="8291"/>
                </a:moveTo>
                <a:cubicBezTo>
                  <a:pt x="22227" y="8358"/>
                  <a:pt x="22309" y="8435"/>
                  <a:pt x="22394" y="8497"/>
                </a:cubicBezTo>
                <a:cubicBezTo>
                  <a:pt x="22551" y="8612"/>
                  <a:pt x="22723" y="8655"/>
                  <a:pt x="22916" y="8661"/>
                </a:cubicBezTo>
                <a:cubicBezTo>
                  <a:pt x="23038" y="8665"/>
                  <a:pt x="23165" y="8662"/>
                  <a:pt x="23286" y="8650"/>
                </a:cubicBezTo>
                <a:cubicBezTo>
                  <a:pt x="23437" y="8635"/>
                  <a:pt x="23588" y="8622"/>
                  <a:pt x="23739" y="8612"/>
                </a:cubicBezTo>
                <a:cubicBezTo>
                  <a:pt x="23886" y="8602"/>
                  <a:pt x="24029" y="8578"/>
                  <a:pt x="24174" y="8551"/>
                </a:cubicBezTo>
                <a:cubicBezTo>
                  <a:pt x="24370" y="8514"/>
                  <a:pt x="24575" y="8487"/>
                  <a:pt x="24760" y="8409"/>
                </a:cubicBezTo>
                <a:cubicBezTo>
                  <a:pt x="24823" y="8383"/>
                  <a:pt x="24870" y="8356"/>
                  <a:pt x="24897" y="8291"/>
                </a:cubicBezTo>
                <a:cubicBezTo>
                  <a:pt x="24969" y="8118"/>
                  <a:pt x="24833" y="7838"/>
                  <a:pt x="24764" y="7685"/>
                </a:cubicBezTo>
                <a:cubicBezTo>
                  <a:pt x="24710" y="7567"/>
                  <a:pt x="24654" y="7425"/>
                  <a:pt x="24563" y="7330"/>
                </a:cubicBezTo>
                <a:cubicBezTo>
                  <a:pt x="24399" y="7158"/>
                  <a:pt x="24172" y="7142"/>
                  <a:pt x="23950" y="7132"/>
                </a:cubicBezTo>
                <a:cubicBezTo>
                  <a:pt x="23826" y="7126"/>
                  <a:pt x="23703" y="7120"/>
                  <a:pt x="23579" y="7120"/>
                </a:cubicBezTo>
                <a:cubicBezTo>
                  <a:pt x="23399" y="7120"/>
                  <a:pt x="23211" y="7122"/>
                  <a:pt x="23034" y="7155"/>
                </a:cubicBezTo>
                <a:cubicBezTo>
                  <a:pt x="22862" y="7187"/>
                  <a:pt x="22691" y="7242"/>
                  <a:pt x="22522" y="7288"/>
                </a:cubicBezTo>
                <a:cubicBezTo>
                  <a:pt x="22347" y="7336"/>
                  <a:pt x="22181" y="7408"/>
                  <a:pt x="22041" y="7525"/>
                </a:cubicBezTo>
                <a:cubicBezTo>
                  <a:pt x="21939" y="7610"/>
                  <a:pt x="21900" y="7726"/>
                  <a:pt x="21868" y="7853"/>
                </a:cubicBezTo>
                <a:cubicBezTo>
                  <a:pt x="21832" y="7999"/>
                  <a:pt x="21783" y="8193"/>
                  <a:pt x="21886" y="8322"/>
                </a:cubicBezTo>
                <a:cubicBezTo>
                  <a:pt x="21925" y="8370"/>
                  <a:pt x="21983" y="8423"/>
                  <a:pt x="22037" y="8455"/>
                </a:cubicBezTo>
                <a:cubicBezTo>
                  <a:pt x="22159" y="8526"/>
                  <a:pt x="22315" y="8553"/>
                  <a:pt x="22453" y="8570"/>
                </a:cubicBezTo>
                <a:cubicBezTo>
                  <a:pt x="22538" y="8580"/>
                  <a:pt x="22621" y="8575"/>
                  <a:pt x="22705" y="8577"/>
                </a:cubicBezTo>
                <a:cubicBezTo>
                  <a:pt x="22779" y="8579"/>
                  <a:pt x="22851" y="8579"/>
                  <a:pt x="22925" y="8577"/>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5" name=""/>
          <p:cNvSpPr/>
          <p:nvPr/>
        </p:nvSpPr>
        <p:spPr>
          <a:xfrm>
            <a:off x="276120" y="2120760"/>
            <a:ext cx="1447920" cy="554040"/>
          </a:xfrm>
          <a:custGeom>
            <a:avLst/>
            <a:gdLst/>
            <a:ahLst/>
            <a:rect l="l" t="t" r="r" b="b"/>
            <a:pathLst>
              <a:path w="3086" h="1542">
                <a:moveTo>
                  <a:pt x="22147" y="8291"/>
                </a:moveTo>
                <a:cubicBezTo>
                  <a:pt x="22227" y="8358"/>
                  <a:pt x="22309" y="8435"/>
                  <a:pt x="22394" y="8497"/>
                </a:cubicBezTo>
                <a:cubicBezTo>
                  <a:pt x="22551" y="8612"/>
                  <a:pt x="22723" y="8655"/>
                  <a:pt x="22916" y="8661"/>
                </a:cubicBezTo>
                <a:cubicBezTo>
                  <a:pt x="23038" y="8665"/>
                  <a:pt x="23165" y="8662"/>
                  <a:pt x="23286" y="8650"/>
                </a:cubicBezTo>
                <a:cubicBezTo>
                  <a:pt x="23437" y="8635"/>
                  <a:pt x="23588" y="8622"/>
                  <a:pt x="23739" y="8612"/>
                </a:cubicBezTo>
                <a:cubicBezTo>
                  <a:pt x="23886" y="8602"/>
                  <a:pt x="24029" y="8578"/>
                  <a:pt x="24174" y="8551"/>
                </a:cubicBezTo>
                <a:cubicBezTo>
                  <a:pt x="24370" y="8514"/>
                  <a:pt x="24575" y="8487"/>
                  <a:pt x="24760" y="8409"/>
                </a:cubicBezTo>
                <a:cubicBezTo>
                  <a:pt x="24823" y="8383"/>
                  <a:pt x="24870" y="8356"/>
                  <a:pt x="24897" y="8291"/>
                </a:cubicBezTo>
                <a:cubicBezTo>
                  <a:pt x="24969" y="8118"/>
                  <a:pt x="24833" y="7838"/>
                  <a:pt x="24764" y="7685"/>
                </a:cubicBezTo>
                <a:cubicBezTo>
                  <a:pt x="24710" y="7567"/>
                  <a:pt x="24654" y="7425"/>
                  <a:pt x="24563" y="7330"/>
                </a:cubicBezTo>
                <a:cubicBezTo>
                  <a:pt x="24399" y="7158"/>
                  <a:pt x="24172" y="7142"/>
                  <a:pt x="23950" y="7132"/>
                </a:cubicBezTo>
                <a:cubicBezTo>
                  <a:pt x="23826" y="7126"/>
                  <a:pt x="23703" y="7120"/>
                  <a:pt x="23579" y="7120"/>
                </a:cubicBezTo>
                <a:cubicBezTo>
                  <a:pt x="23399" y="7120"/>
                  <a:pt x="23211" y="7122"/>
                  <a:pt x="23034" y="7155"/>
                </a:cubicBezTo>
                <a:cubicBezTo>
                  <a:pt x="22862" y="7187"/>
                  <a:pt x="22691" y="7242"/>
                  <a:pt x="22522" y="7288"/>
                </a:cubicBezTo>
                <a:cubicBezTo>
                  <a:pt x="22347" y="7336"/>
                  <a:pt x="22181" y="7408"/>
                  <a:pt x="22041" y="7525"/>
                </a:cubicBezTo>
                <a:cubicBezTo>
                  <a:pt x="21939" y="7610"/>
                  <a:pt x="21900" y="7726"/>
                  <a:pt x="21868" y="7853"/>
                </a:cubicBezTo>
                <a:cubicBezTo>
                  <a:pt x="21832" y="7999"/>
                  <a:pt x="21783" y="8193"/>
                  <a:pt x="21886" y="8322"/>
                </a:cubicBezTo>
                <a:cubicBezTo>
                  <a:pt x="21925" y="8370"/>
                  <a:pt x="21983" y="8423"/>
                  <a:pt x="22037" y="8455"/>
                </a:cubicBezTo>
                <a:cubicBezTo>
                  <a:pt x="22159" y="8526"/>
                  <a:pt x="22315" y="8553"/>
                  <a:pt x="22453" y="8570"/>
                </a:cubicBezTo>
                <a:cubicBezTo>
                  <a:pt x="22538" y="8580"/>
                  <a:pt x="22621" y="8575"/>
                  <a:pt x="22705" y="8577"/>
                </a:cubicBezTo>
                <a:cubicBezTo>
                  <a:pt x="22779" y="8579"/>
                  <a:pt x="22851" y="8579"/>
                  <a:pt x="22925" y="8577"/>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6" name=""/>
          <p:cNvSpPr/>
          <p:nvPr/>
        </p:nvSpPr>
        <p:spPr>
          <a:xfrm>
            <a:off x="5991120" y="749160"/>
            <a:ext cx="1447920" cy="554040"/>
          </a:xfrm>
          <a:custGeom>
            <a:avLst/>
            <a:gdLst/>
            <a:ahLst/>
            <a:rect l="l" t="t" r="r" b="b"/>
            <a:pathLst>
              <a:path w="3086" h="1542">
                <a:moveTo>
                  <a:pt x="22147" y="8291"/>
                </a:moveTo>
                <a:cubicBezTo>
                  <a:pt x="22227" y="8358"/>
                  <a:pt x="22309" y="8435"/>
                  <a:pt x="22394" y="8497"/>
                </a:cubicBezTo>
                <a:cubicBezTo>
                  <a:pt x="22551" y="8612"/>
                  <a:pt x="22723" y="8655"/>
                  <a:pt x="22916" y="8661"/>
                </a:cubicBezTo>
                <a:cubicBezTo>
                  <a:pt x="23038" y="8665"/>
                  <a:pt x="23165" y="8662"/>
                  <a:pt x="23286" y="8650"/>
                </a:cubicBezTo>
                <a:cubicBezTo>
                  <a:pt x="23437" y="8635"/>
                  <a:pt x="23588" y="8622"/>
                  <a:pt x="23739" y="8612"/>
                </a:cubicBezTo>
                <a:cubicBezTo>
                  <a:pt x="23886" y="8602"/>
                  <a:pt x="24029" y="8578"/>
                  <a:pt x="24174" y="8551"/>
                </a:cubicBezTo>
                <a:cubicBezTo>
                  <a:pt x="24370" y="8514"/>
                  <a:pt x="24575" y="8487"/>
                  <a:pt x="24760" y="8409"/>
                </a:cubicBezTo>
                <a:cubicBezTo>
                  <a:pt x="24823" y="8383"/>
                  <a:pt x="24870" y="8356"/>
                  <a:pt x="24897" y="8291"/>
                </a:cubicBezTo>
                <a:cubicBezTo>
                  <a:pt x="24969" y="8118"/>
                  <a:pt x="24833" y="7838"/>
                  <a:pt x="24764" y="7685"/>
                </a:cubicBezTo>
                <a:cubicBezTo>
                  <a:pt x="24710" y="7567"/>
                  <a:pt x="24654" y="7425"/>
                  <a:pt x="24563" y="7330"/>
                </a:cubicBezTo>
                <a:cubicBezTo>
                  <a:pt x="24399" y="7158"/>
                  <a:pt x="24172" y="7142"/>
                  <a:pt x="23950" y="7132"/>
                </a:cubicBezTo>
                <a:cubicBezTo>
                  <a:pt x="23826" y="7126"/>
                  <a:pt x="23703" y="7120"/>
                  <a:pt x="23579" y="7120"/>
                </a:cubicBezTo>
                <a:cubicBezTo>
                  <a:pt x="23399" y="7120"/>
                  <a:pt x="23211" y="7122"/>
                  <a:pt x="23034" y="7155"/>
                </a:cubicBezTo>
                <a:cubicBezTo>
                  <a:pt x="22862" y="7187"/>
                  <a:pt x="22691" y="7242"/>
                  <a:pt x="22522" y="7288"/>
                </a:cubicBezTo>
                <a:cubicBezTo>
                  <a:pt x="22347" y="7336"/>
                  <a:pt x="22181" y="7408"/>
                  <a:pt x="22041" y="7525"/>
                </a:cubicBezTo>
                <a:cubicBezTo>
                  <a:pt x="21939" y="7610"/>
                  <a:pt x="21900" y="7726"/>
                  <a:pt x="21868" y="7853"/>
                </a:cubicBezTo>
                <a:cubicBezTo>
                  <a:pt x="21832" y="7999"/>
                  <a:pt x="21783" y="8193"/>
                  <a:pt x="21886" y="8322"/>
                </a:cubicBezTo>
                <a:cubicBezTo>
                  <a:pt x="21925" y="8370"/>
                  <a:pt x="21983" y="8423"/>
                  <a:pt x="22037" y="8455"/>
                </a:cubicBezTo>
                <a:cubicBezTo>
                  <a:pt x="22159" y="8526"/>
                  <a:pt x="22315" y="8553"/>
                  <a:pt x="22453" y="8570"/>
                </a:cubicBezTo>
                <a:cubicBezTo>
                  <a:pt x="22538" y="8580"/>
                  <a:pt x="22621" y="8575"/>
                  <a:pt x="22705" y="8577"/>
                </a:cubicBezTo>
                <a:cubicBezTo>
                  <a:pt x="22779" y="8579"/>
                  <a:pt x="22851" y="8579"/>
                  <a:pt x="22925" y="8577"/>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7" name=""/>
          <p:cNvSpPr/>
          <p:nvPr/>
        </p:nvSpPr>
        <p:spPr>
          <a:xfrm>
            <a:off x="4772160" y="3035160"/>
            <a:ext cx="511200" cy="625680"/>
          </a:xfrm>
          <a:custGeom>
            <a:avLst/>
            <a:gdLst/>
            <a:ahLst/>
            <a:rect l="l" t="t" r="r" b="b"/>
            <a:pathLst>
              <a:path w="725" h="890">
                <a:moveTo>
                  <a:pt x="20334" y="1976"/>
                </a:moveTo>
                <a:cubicBezTo>
                  <a:pt x="20382" y="1976"/>
                  <a:pt x="20419" y="1987"/>
                  <a:pt x="20463" y="2010"/>
                </a:cubicBezTo>
                <a:cubicBezTo>
                  <a:pt x="20520" y="2040"/>
                  <a:pt x="20562" y="2087"/>
                  <a:pt x="20591" y="2143"/>
                </a:cubicBezTo>
                <a:cubicBezTo>
                  <a:pt x="20613" y="2185"/>
                  <a:pt x="20627" y="2231"/>
                  <a:pt x="20636" y="2277"/>
                </a:cubicBezTo>
                <a:cubicBezTo>
                  <a:pt x="20651" y="2239"/>
                  <a:pt x="20659" y="2202"/>
                  <a:pt x="20669" y="2162"/>
                </a:cubicBezTo>
                <a:cubicBezTo>
                  <a:pt x="20679" y="2124"/>
                  <a:pt x="20685" y="2086"/>
                  <a:pt x="20696" y="2048"/>
                </a:cubicBezTo>
                <a:cubicBezTo>
                  <a:pt x="20707" y="2008"/>
                  <a:pt x="20719" y="1967"/>
                  <a:pt x="20728" y="1926"/>
                </a:cubicBezTo>
                <a:cubicBezTo>
                  <a:pt x="20740" y="1868"/>
                  <a:pt x="20755" y="1814"/>
                  <a:pt x="20774" y="1758"/>
                </a:cubicBezTo>
                <a:cubicBezTo>
                  <a:pt x="20787" y="1721"/>
                  <a:pt x="20804" y="1674"/>
                  <a:pt x="20829" y="1644"/>
                </a:cubicBezTo>
                <a:cubicBezTo>
                  <a:pt x="20873" y="1590"/>
                  <a:pt x="20931" y="1556"/>
                  <a:pt x="20966" y="1495"/>
                </a:cubicBezTo>
                <a:cubicBezTo>
                  <a:pt x="20993" y="1448"/>
                  <a:pt x="21016" y="1422"/>
                  <a:pt x="21058" y="13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8" name=""/>
          <p:cNvSpPr/>
          <p:nvPr/>
        </p:nvSpPr>
        <p:spPr>
          <a:xfrm>
            <a:off x="3957120" y="236232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hiteboard"/>
              </a:rPr>
              <a:t>eis</a:t>
            </a:r>
            <a:endParaRPr b="0" lang="en-US" sz="1600" spc="-1" strike="noStrike">
              <a:solidFill>
                <a:srgbClr val="000000"/>
              </a:solidFill>
              <a:latin typeface="Arial"/>
            </a:endParaRPr>
          </a:p>
        </p:txBody>
      </p:sp>
      <p:sp>
        <p:nvSpPr>
          <p:cNvPr id="3929" name=""/>
          <p:cNvSpPr/>
          <p:nvPr/>
        </p:nvSpPr>
        <p:spPr>
          <a:xfrm>
            <a:off x="3809880" y="2286000"/>
            <a:ext cx="693720" cy="533520"/>
          </a:xfrm>
          <a:custGeom>
            <a:avLst/>
            <a:gdLst/>
            <a:ahLst/>
            <a:rect l="l" t="t" r="r" b="b"/>
            <a:pathLst>
              <a:path w="2632" h="1676">
                <a:moveTo>
                  <a:pt x="21207" y="9609"/>
                </a:moveTo>
                <a:cubicBezTo>
                  <a:pt x="21196" y="9614"/>
                  <a:pt x="21129" y="9628"/>
                  <a:pt x="21119" y="9638"/>
                </a:cubicBezTo>
                <a:cubicBezTo>
                  <a:pt x="21094" y="9665"/>
                  <a:pt x="21088" y="9676"/>
                  <a:pt x="21058" y="9699"/>
                </a:cubicBezTo>
                <a:cubicBezTo>
                  <a:pt x="21033" y="9719"/>
                  <a:pt x="20949" y="9774"/>
                  <a:pt x="20938" y="9787"/>
                </a:cubicBezTo>
                <a:cubicBezTo>
                  <a:pt x="20918" y="9810"/>
                  <a:pt x="20897" y="9828"/>
                  <a:pt x="20879" y="9849"/>
                </a:cubicBezTo>
                <a:cubicBezTo>
                  <a:pt x="20864" y="9866"/>
                  <a:pt x="20797" y="9925"/>
                  <a:pt x="20788" y="9936"/>
                </a:cubicBezTo>
                <a:cubicBezTo>
                  <a:pt x="20764" y="9966"/>
                  <a:pt x="20787" y="10004"/>
                  <a:pt x="20759" y="10027"/>
                </a:cubicBezTo>
                <a:cubicBezTo>
                  <a:pt x="20738" y="10045"/>
                  <a:pt x="20718" y="10074"/>
                  <a:pt x="20700" y="10088"/>
                </a:cubicBezTo>
                <a:cubicBezTo>
                  <a:pt x="20677" y="10106"/>
                  <a:pt x="20659" y="10131"/>
                  <a:pt x="20639" y="10147"/>
                </a:cubicBezTo>
                <a:cubicBezTo>
                  <a:pt x="20609" y="10170"/>
                  <a:pt x="20593" y="10172"/>
                  <a:pt x="20551" y="10208"/>
                </a:cubicBezTo>
                <a:cubicBezTo>
                  <a:pt x="20519" y="10235"/>
                  <a:pt x="20490" y="10267"/>
                  <a:pt x="20460" y="10296"/>
                </a:cubicBezTo>
                <a:cubicBezTo>
                  <a:pt x="20493" y="10324"/>
                  <a:pt x="20535" y="10375"/>
                  <a:pt x="20551" y="10386"/>
                </a:cubicBezTo>
                <a:cubicBezTo>
                  <a:pt x="20580" y="10407"/>
                  <a:pt x="20620" y="10427"/>
                  <a:pt x="20639" y="10445"/>
                </a:cubicBezTo>
                <a:cubicBezTo>
                  <a:pt x="20679" y="10483"/>
                  <a:pt x="20710" y="10509"/>
                  <a:pt x="20730" y="10536"/>
                </a:cubicBezTo>
                <a:cubicBezTo>
                  <a:pt x="20758" y="10573"/>
                  <a:pt x="20767" y="10607"/>
                  <a:pt x="20788" y="10626"/>
                </a:cubicBezTo>
                <a:cubicBezTo>
                  <a:pt x="20805" y="10642"/>
                  <a:pt x="20864" y="10638"/>
                  <a:pt x="20879" y="10655"/>
                </a:cubicBezTo>
                <a:cubicBezTo>
                  <a:pt x="20905" y="10684"/>
                  <a:pt x="20906" y="10692"/>
                  <a:pt x="20938" y="10717"/>
                </a:cubicBezTo>
                <a:cubicBezTo>
                  <a:pt x="20950" y="10726"/>
                  <a:pt x="20984" y="10793"/>
                  <a:pt x="20999" y="10805"/>
                </a:cubicBezTo>
                <a:cubicBezTo>
                  <a:pt x="21025" y="10826"/>
                  <a:pt x="21036" y="10847"/>
                  <a:pt x="21058" y="10866"/>
                </a:cubicBezTo>
                <a:cubicBezTo>
                  <a:pt x="21078" y="10883"/>
                  <a:pt x="21101" y="10910"/>
                  <a:pt x="21119" y="10924"/>
                </a:cubicBezTo>
                <a:cubicBezTo>
                  <a:pt x="21144" y="10944"/>
                  <a:pt x="21157" y="10969"/>
                  <a:pt x="21178" y="10986"/>
                </a:cubicBezTo>
                <a:cubicBezTo>
                  <a:pt x="21200" y="11004"/>
                  <a:pt x="21253" y="11061"/>
                  <a:pt x="21269" y="11074"/>
                </a:cubicBezTo>
                <a:cubicBezTo>
                  <a:pt x="21301" y="11100"/>
                  <a:pt x="21305" y="11096"/>
                  <a:pt x="21327" y="11135"/>
                </a:cubicBezTo>
                <a:cubicBezTo>
                  <a:pt x="21342" y="11161"/>
                  <a:pt x="21346" y="11193"/>
                  <a:pt x="21386" y="11193"/>
                </a:cubicBezTo>
                <a:cubicBezTo>
                  <a:pt x="21432" y="11193"/>
                  <a:pt x="21456" y="11168"/>
                  <a:pt x="21506" y="11164"/>
                </a:cubicBezTo>
                <a:cubicBezTo>
                  <a:pt x="21556" y="11160"/>
                  <a:pt x="21577" y="11141"/>
                  <a:pt x="21626" y="11135"/>
                </a:cubicBezTo>
                <a:cubicBezTo>
                  <a:pt x="21676" y="11129"/>
                  <a:pt x="21738" y="11111"/>
                  <a:pt x="21776" y="11106"/>
                </a:cubicBezTo>
                <a:cubicBezTo>
                  <a:pt x="21874" y="11094"/>
                  <a:pt x="21992" y="11085"/>
                  <a:pt x="22074" y="11074"/>
                </a:cubicBezTo>
                <a:cubicBezTo>
                  <a:pt x="22246" y="11051"/>
                  <a:pt x="22523" y="11063"/>
                  <a:pt x="22643" y="11106"/>
                </a:cubicBezTo>
                <a:cubicBezTo>
                  <a:pt x="22678" y="11081"/>
                  <a:pt x="22683" y="11083"/>
                  <a:pt x="22705" y="11044"/>
                </a:cubicBezTo>
                <a:cubicBezTo>
                  <a:pt x="22725" y="11009"/>
                  <a:pt x="22712" y="10998"/>
                  <a:pt x="22734" y="10954"/>
                </a:cubicBezTo>
                <a:cubicBezTo>
                  <a:pt x="22739" y="10944"/>
                  <a:pt x="22777" y="10897"/>
                  <a:pt x="22792" y="10866"/>
                </a:cubicBezTo>
                <a:cubicBezTo>
                  <a:pt x="22812" y="10825"/>
                  <a:pt x="22808" y="10809"/>
                  <a:pt x="22822" y="10775"/>
                </a:cubicBezTo>
                <a:cubicBezTo>
                  <a:pt x="22838" y="10736"/>
                  <a:pt x="22838" y="10693"/>
                  <a:pt x="22854" y="10655"/>
                </a:cubicBezTo>
                <a:cubicBezTo>
                  <a:pt x="22869" y="10621"/>
                  <a:pt x="22863" y="10607"/>
                  <a:pt x="22883" y="10565"/>
                </a:cubicBezTo>
                <a:cubicBezTo>
                  <a:pt x="22906" y="10517"/>
                  <a:pt x="22919" y="10465"/>
                  <a:pt x="22942" y="10416"/>
                </a:cubicBezTo>
                <a:cubicBezTo>
                  <a:pt x="22958" y="10381"/>
                  <a:pt x="22950" y="10367"/>
                  <a:pt x="22971" y="10325"/>
                </a:cubicBezTo>
                <a:cubicBezTo>
                  <a:pt x="22990" y="10287"/>
                  <a:pt x="22982" y="10285"/>
                  <a:pt x="23003" y="10237"/>
                </a:cubicBezTo>
                <a:cubicBezTo>
                  <a:pt x="23017" y="10205"/>
                  <a:pt x="23057" y="10157"/>
                  <a:pt x="23062" y="10147"/>
                </a:cubicBezTo>
                <a:cubicBezTo>
                  <a:pt x="23083" y="10104"/>
                  <a:pt x="23074" y="10092"/>
                  <a:pt x="23091" y="10056"/>
                </a:cubicBezTo>
                <a:cubicBezTo>
                  <a:pt x="23036" y="10051"/>
                  <a:pt x="23025" y="10037"/>
                  <a:pt x="23003" y="10027"/>
                </a:cubicBezTo>
                <a:cubicBezTo>
                  <a:pt x="22958" y="10006"/>
                  <a:pt x="22949" y="10016"/>
                  <a:pt x="22913" y="9998"/>
                </a:cubicBezTo>
                <a:cubicBezTo>
                  <a:pt x="22879" y="9981"/>
                  <a:pt x="22864" y="9990"/>
                  <a:pt x="22822" y="9968"/>
                </a:cubicBezTo>
                <a:cubicBezTo>
                  <a:pt x="22785" y="9949"/>
                  <a:pt x="22785" y="9931"/>
                  <a:pt x="22734" y="9907"/>
                </a:cubicBezTo>
                <a:cubicBezTo>
                  <a:pt x="22696" y="9889"/>
                  <a:pt x="22660" y="9860"/>
                  <a:pt x="22643" y="9849"/>
                </a:cubicBezTo>
                <a:cubicBezTo>
                  <a:pt x="22611" y="9828"/>
                  <a:pt x="22600" y="9815"/>
                  <a:pt x="22552" y="9787"/>
                </a:cubicBezTo>
                <a:cubicBezTo>
                  <a:pt x="22539" y="9779"/>
                  <a:pt x="22475" y="9770"/>
                  <a:pt x="22464" y="9758"/>
                </a:cubicBezTo>
                <a:cubicBezTo>
                  <a:pt x="22444" y="9737"/>
                  <a:pt x="22422" y="9719"/>
                  <a:pt x="22403" y="9699"/>
                </a:cubicBezTo>
                <a:cubicBezTo>
                  <a:pt x="22387" y="9681"/>
                  <a:pt x="22357" y="9655"/>
                  <a:pt x="22344" y="9638"/>
                </a:cubicBezTo>
                <a:cubicBezTo>
                  <a:pt x="22317" y="9605"/>
                  <a:pt x="22324" y="9603"/>
                  <a:pt x="22286" y="9580"/>
                </a:cubicBezTo>
                <a:cubicBezTo>
                  <a:pt x="22245" y="9556"/>
                  <a:pt x="22230" y="9516"/>
                  <a:pt x="22195" y="9518"/>
                </a:cubicBezTo>
                <a:cubicBezTo>
                  <a:pt x="22129" y="9521"/>
                  <a:pt x="22154" y="9543"/>
                  <a:pt x="22104" y="9547"/>
                </a:cubicBezTo>
                <a:cubicBezTo>
                  <a:pt x="22036" y="9553"/>
                  <a:pt x="21917" y="9577"/>
                  <a:pt x="21896" y="9580"/>
                </a:cubicBezTo>
                <a:cubicBezTo>
                  <a:pt x="21809" y="9592"/>
                  <a:pt x="21700" y="9600"/>
                  <a:pt x="21626" y="9609"/>
                </a:cubicBezTo>
                <a:cubicBezTo>
                  <a:pt x="21509" y="9623"/>
                  <a:pt x="21229" y="9609"/>
                  <a:pt x="21207" y="9609"/>
                </a:cubicBezTo>
                <a:cubicBezTo>
                  <a:pt x="21217" y="9609"/>
                  <a:pt x="21226" y="9609"/>
                  <a:pt x="21236" y="960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30" name=""/>
          <p:cNvGrpSpPr/>
          <p:nvPr/>
        </p:nvGrpSpPr>
        <p:grpSpPr>
          <a:xfrm>
            <a:off x="3657600" y="2209680"/>
            <a:ext cx="968400" cy="301680"/>
            <a:chOff x="3657600" y="2209680"/>
            <a:chExt cx="968400" cy="301680"/>
          </a:xfrm>
        </p:grpSpPr>
        <p:sp>
          <p:nvSpPr>
            <p:cNvPr id="3931" name=""/>
            <p:cNvSpPr/>
            <p:nvPr/>
          </p:nvSpPr>
          <p:spPr>
            <a:xfrm>
              <a:off x="3657600" y="2282760"/>
              <a:ext cx="203040" cy="228600"/>
            </a:xfrm>
            <a:custGeom>
              <a:avLst/>
              <a:gdLst/>
              <a:ahLst/>
              <a:rect l="l" t="t" r="r" b="b"/>
              <a:pathLst>
                <a:path w="566" h="571">
                  <a:moveTo>
                    <a:pt x="10592" y="6858"/>
                  </a:moveTo>
                  <a:cubicBezTo>
                    <a:pt x="10536" y="6858"/>
                    <a:pt x="10524" y="6832"/>
                    <a:pt x="10475" y="6826"/>
                  </a:cubicBezTo>
                  <a:cubicBezTo>
                    <a:pt x="10434" y="6821"/>
                    <a:pt x="10424" y="6801"/>
                    <a:pt x="10413" y="6767"/>
                  </a:cubicBezTo>
                </a:path>
                <a:path w="566" h="571">
                  <a:moveTo>
                    <a:pt x="10293" y="6676"/>
                  </a:moveTo>
                  <a:cubicBezTo>
                    <a:pt x="10293" y="6666"/>
                    <a:pt x="10293" y="6657"/>
                    <a:pt x="10293" y="6647"/>
                  </a:cubicBezTo>
                  <a:cubicBezTo>
                    <a:pt x="10258" y="6638"/>
                    <a:pt x="10240" y="6627"/>
                    <a:pt x="10205" y="6618"/>
                  </a:cubicBezTo>
                  <a:cubicBezTo>
                    <a:pt x="10190" y="6567"/>
                    <a:pt x="10192" y="6605"/>
                    <a:pt x="10176" y="6557"/>
                  </a:cubicBezTo>
                </a:path>
                <a:path w="566" h="571">
                  <a:moveTo>
                    <a:pt x="10355" y="6466"/>
                  </a:moveTo>
                  <a:cubicBezTo>
                    <a:pt x="10384" y="6466"/>
                    <a:pt x="10394" y="6466"/>
                    <a:pt x="10413" y="6466"/>
                  </a:cubicBezTo>
                  <a:cubicBezTo>
                    <a:pt x="10426" y="6427"/>
                    <a:pt x="10434" y="6420"/>
                    <a:pt x="10475" y="6408"/>
                  </a:cubicBezTo>
                </a:path>
                <a:path w="566" h="571">
                  <a:moveTo>
                    <a:pt x="10654" y="6349"/>
                  </a:moveTo>
                  <a:cubicBezTo>
                    <a:pt x="10691" y="6296"/>
                    <a:pt x="10675" y="6288"/>
                    <a:pt x="10741" y="628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2" name=""/>
            <p:cNvSpPr/>
            <p:nvPr/>
          </p:nvSpPr>
          <p:spPr>
            <a:xfrm>
              <a:off x="3946680" y="2244600"/>
              <a:ext cx="64800" cy="3240"/>
            </a:xfrm>
            <a:custGeom>
              <a:avLst/>
              <a:gdLst/>
              <a:ahLst/>
              <a:rect l="l" t="t" r="r" b="b"/>
              <a:pathLst>
                <a:path w="179" h="1">
                  <a:moveTo>
                    <a:pt x="10982" y="6197"/>
                  </a:moveTo>
                  <a:cubicBezTo>
                    <a:pt x="11041" y="6197"/>
                    <a:pt x="11101" y="6197"/>
                    <a:pt x="11160" y="6197"/>
                  </a:cubicBezTo>
                </a:path>
              </a:pathLst>
            </a:custGeom>
            <a:noFill/>
            <a:ln cap="rnd" w="28440">
              <a:solidFill>
                <a:srgbClr val="808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33" name=""/>
            <p:cNvSpPr/>
            <p:nvPr/>
          </p:nvSpPr>
          <p:spPr>
            <a:xfrm>
              <a:off x="4108320" y="2209680"/>
              <a:ext cx="65160" cy="12600"/>
            </a:xfrm>
            <a:custGeom>
              <a:avLst/>
              <a:gdLst/>
              <a:ahLst/>
              <a:rect l="l" t="t" r="r" b="b"/>
              <a:pathLst>
                <a:path w="180" h="31">
                  <a:moveTo>
                    <a:pt x="11430" y="6109"/>
                  </a:moveTo>
                  <a:cubicBezTo>
                    <a:pt x="11430" y="6119"/>
                    <a:pt x="11430" y="6129"/>
                    <a:pt x="11430" y="6139"/>
                  </a:cubicBezTo>
                  <a:cubicBezTo>
                    <a:pt x="11490" y="6139"/>
                    <a:pt x="11549" y="6139"/>
                    <a:pt x="11609"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34" name=""/>
            <p:cNvSpPr/>
            <p:nvPr/>
          </p:nvSpPr>
          <p:spPr>
            <a:xfrm>
              <a:off x="4270320" y="2209680"/>
              <a:ext cx="54000" cy="12600"/>
            </a:xfrm>
            <a:custGeom>
              <a:avLst/>
              <a:gdLst/>
              <a:ahLst/>
              <a:rect l="l" t="t" r="r" b="b"/>
              <a:pathLst>
                <a:path w="151" h="31">
                  <a:moveTo>
                    <a:pt x="11878" y="6109"/>
                  </a:moveTo>
                  <a:cubicBezTo>
                    <a:pt x="11918" y="6109"/>
                    <a:pt x="11958" y="6109"/>
                    <a:pt x="11998" y="6109"/>
                  </a:cubicBezTo>
                  <a:cubicBezTo>
                    <a:pt x="11998" y="6139"/>
                    <a:pt x="11998" y="6149"/>
                    <a:pt x="12028" y="6139"/>
                  </a:cubicBezTo>
                </a:path>
              </a:pathLst>
            </a:custGeom>
            <a:noFill/>
            <a:ln cap="rnd" w="28440">
              <a:solidFill>
                <a:srgbClr val="80808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35" name=""/>
            <p:cNvSpPr/>
            <p:nvPr/>
          </p:nvSpPr>
          <p:spPr>
            <a:xfrm>
              <a:off x="4410000" y="2222280"/>
              <a:ext cx="216000" cy="241200"/>
            </a:xfrm>
            <a:custGeom>
              <a:avLst/>
              <a:gdLst/>
              <a:ahLst/>
              <a:rect l="l" t="t" r="r" b="b"/>
              <a:pathLst>
                <a:path w="599" h="600">
                  <a:moveTo>
                    <a:pt x="12268" y="6139"/>
                  </a:moveTo>
                  <a:cubicBezTo>
                    <a:pt x="12268" y="6149"/>
                    <a:pt x="12268" y="6158"/>
                    <a:pt x="12268" y="6168"/>
                  </a:cubicBezTo>
                  <a:cubicBezTo>
                    <a:pt x="12314" y="6183"/>
                    <a:pt x="12280" y="6182"/>
                    <a:pt x="12326" y="6197"/>
                  </a:cubicBezTo>
                  <a:cubicBezTo>
                    <a:pt x="12343" y="6246"/>
                    <a:pt x="12341" y="6212"/>
                    <a:pt x="12359" y="6258"/>
                  </a:cubicBezTo>
                  <a:cubicBezTo>
                    <a:pt x="12409" y="6258"/>
                    <a:pt x="12403" y="6246"/>
                    <a:pt x="12417" y="6288"/>
                  </a:cubicBezTo>
                  <a:cubicBezTo>
                    <a:pt x="12417" y="6258"/>
                    <a:pt x="12417" y="6249"/>
                    <a:pt x="12417" y="6229"/>
                  </a:cubicBezTo>
                </a:path>
                <a:path w="599" h="600">
                  <a:moveTo>
                    <a:pt x="12625" y="6408"/>
                  </a:moveTo>
                  <a:cubicBezTo>
                    <a:pt x="12636" y="6408"/>
                    <a:pt x="12647" y="6408"/>
                    <a:pt x="12658" y="6408"/>
                  </a:cubicBezTo>
                  <a:cubicBezTo>
                    <a:pt x="12672" y="6449"/>
                    <a:pt x="12666" y="6437"/>
                    <a:pt x="12716" y="6437"/>
                  </a:cubicBezTo>
                  <a:cubicBezTo>
                    <a:pt x="12716" y="6466"/>
                    <a:pt x="12716" y="6476"/>
                    <a:pt x="12745" y="6466"/>
                  </a:cubicBezTo>
                </a:path>
                <a:path w="599" h="600">
                  <a:moveTo>
                    <a:pt x="12866" y="6618"/>
                  </a:moveTo>
                  <a:cubicBezTo>
                    <a:pt x="12806" y="6618"/>
                    <a:pt x="12791" y="6618"/>
                    <a:pt x="12775" y="6676"/>
                  </a:cubicBezTo>
                  <a:cubicBezTo>
                    <a:pt x="12719" y="6695"/>
                    <a:pt x="12770" y="6718"/>
                    <a:pt x="12716" y="6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76"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7"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hiteboard"/>
              </a:rPr>
              <a:t>IT Environment</a:t>
            </a:r>
            <a:endParaRPr b="0" lang="en-US" sz="1400" spc="-1" strike="noStrike">
              <a:solidFill>
                <a:srgbClr val="000000"/>
              </a:solidFill>
              <a:latin typeface="Arial"/>
            </a:endParaRPr>
          </a:p>
        </p:txBody>
      </p:sp>
      <p:sp>
        <p:nvSpPr>
          <p:cNvPr id="78"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79" name=""/>
          <p:cNvSpPr/>
          <p:nvPr/>
        </p:nvSpPr>
        <p:spPr>
          <a:xfrm>
            <a:off x="6224400" y="144792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hiteboard"/>
              </a:rPr>
              <a:t>Workloads</a:t>
            </a:r>
            <a:endParaRPr b="0" lang="en-US" sz="1400" spc="-1" strike="noStrike">
              <a:solidFill>
                <a:srgbClr val="000000"/>
              </a:solidFill>
              <a:latin typeface="Arial"/>
            </a:endParaRPr>
          </a:p>
        </p:txBody>
      </p:sp>
      <p:grpSp>
        <p:nvGrpSpPr>
          <p:cNvPr id="80" name=""/>
          <p:cNvGrpSpPr/>
          <p:nvPr/>
        </p:nvGrpSpPr>
        <p:grpSpPr>
          <a:xfrm>
            <a:off x="1554120" y="1012680"/>
            <a:ext cx="5052960" cy="4521240"/>
            <a:chOff x="1554120" y="1012680"/>
            <a:chExt cx="5052960" cy="4521240"/>
          </a:xfrm>
        </p:grpSpPr>
        <p:sp>
          <p:nvSpPr>
            <p:cNvPr id="81"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85"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hiteboard"/>
              </a:rPr>
              <a:t>IT Environment</a:t>
            </a:r>
            <a:endParaRPr b="0" lang="en-US" sz="1400" spc="-1" strike="noStrike">
              <a:solidFill>
                <a:srgbClr val="000000"/>
              </a:solidFill>
              <a:latin typeface="Arial"/>
            </a:endParaRPr>
          </a:p>
        </p:txBody>
      </p:sp>
      <p:sp>
        <p:nvSpPr>
          <p:cNvPr id="87"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88" name=""/>
          <p:cNvSpPr/>
          <p:nvPr/>
        </p:nvSpPr>
        <p:spPr>
          <a:xfrm>
            <a:off x="6224400" y="144792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hiteboard"/>
              </a:rPr>
              <a:t>Workloads</a:t>
            </a:r>
            <a:endParaRPr b="0" lang="en-US" sz="1400" spc="-1" strike="noStrike">
              <a:solidFill>
                <a:srgbClr val="000000"/>
              </a:solidFill>
              <a:latin typeface="Arial"/>
            </a:endParaRPr>
          </a:p>
        </p:txBody>
      </p:sp>
      <p:sp>
        <p:nvSpPr>
          <p:cNvPr id="89" name=""/>
          <p:cNvSpPr/>
          <p:nvPr/>
        </p:nvSpPr>
        <p:spPr>
          <a:xfrm>
            <a:off x="411408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hiteboard"/>
              </a:rPr>
              <a:t>Costs</a:t>
            </a:r>
            <a:endParaRPr b="0" lang="en-US" sz="1400" spc="-1" strike="noStrike">
              <a:solidFill>
                <a:srgbClr val="000000"/>
              </a:solidFill>
              <a:latin typeface="Arial"/>
            </a:endParaRPr>
          </a:p>
        </p:txBody>
      </p:sp>
      <p:grpSp>
        <p:nvGrpSpPr>
          <p:cNvPr id="90" name=""/>
          <p:cNvGrpSpPr/>
          <p:nvPr/>
        </p:nvGrpSpPr>
        <p:grpSpPr>
          <a:xfrm>
            <a:off x="1554120" y="1012680"/>
            <a:ext cx="5052960" cy="4521240"/>
            <a:chOff x="1554120" y="1012680"/>
            <a:chExt cx="5052960" cy="4521240"/>
          </a:xfrm>
        </p:grpSpPr>
        <p:sp>
          <p:nvSpPr>
            <p:cNvPr id="91" name=""/>
            <p:cNvSpPr/>
            <p:nvPr/>
          </p:nvSpPr>
          <p:spPr>
            <a:xfrm>
              <a:off x="1554120" y="101268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057400" y="472428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792600" y="110952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2760" y="3808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Systems Selection</a:t>
            </a:r>
            <a:endParaRPr b="0" lang="en-US" sz="1400" spc="-1" strike="noStrike">
              <a:solidFill>
                <a:srgbClr val="000000"/>
              </a:solidFill>
              <a:latin typeface="Arial"/>
            </a:endParaRPr>
          </a:p>
        </p:txBody>
      </p:sp>
      <p:sp>
        <p:nvSpPr>
          <p:cNvPr id="95" name=""/>
          <p:cNvSpPr/>
          <p:nvPr/>
        </p:nvSpPr>
        <p:spPr>
          <a:xfrm>
            <a:off x="380880" y="636480"/>
            <a:ext cx="1514520" cy="49320"/>
          </a:xfrm>
          <a:custGeom>
            <a:avLst/>
            <a:gdLst/>
            <a:ahLst/>
            <a:rect l="l" t="t" r="r" b="b"/>
            <a:pathLst>
              <a:path w="4207" h="138">
                <a:moveTo>
                  <a:pt x="19625" y="1842"/>
                </a:moveTo>
                <a:cubicBezTo>
                  <a:pt x="19669" y="1839"/>
                  <a:pt x="19713" y="1834"/>
                  <a:pt x="19758" y="1834"/>
                </a:cubicBezTo>
                <a:cubicBezTo>
                  <a:pt x="19802" y="1834"/>
                  <a:pt x="19846" y="1834"/>
                  <a:pt x="19891" y="1831"/>
                </a:cubicBezTo>
                <a:cubicBezTo>
                  <a:pt x="19980" y="1826"/>
                  <a:pt x="20071" y="1819"/>
                  <a:pt x="20161" y="1819"/>
                </a:cubicBezTo>
                <a:cubicBezTo>
                  <a:pt x="20221" y="1819"/>
                  <a:pt x="20271" y="1819"/>
                  <a:pt x="20330" y="1808"/>
                </a:cubicBezTo>
                <a:cubicBezTo>
                  <a:pt x="20448" y="1786"/>
                  <a:pt x="20559" y="1799"/>
                  <a:pt x="20678" y="1792"/>
                </a:cubicBezTo>
                <a:cubicBezTo>
                  <a:pt x="20796" y="1785"/>
                  <a:pt x="20912" y="1765"/>
                  <a:pt x="21030" y="1758"/>
                </a:cubicBezTo>
                <a:cubicBezTo>
                  <a:pt x="21117" y="1753"/>
                  <a:pt x="21208" y="1747"/>
                  <a:pt x="21295" y="1751"/>
                </a:cubicBezTo>
                <a:cubicBezTo>
                  <a:pt x="21339" y="1753"/>
                  <a:pt x="21381" y="1757"/>
                  <a:pt x="21424" y="1758"/>
                </a:cubicBezTo>
                <a:cubicBezTo>
                  <a:pt x="21466" y="1759"/>
                  <a:pt x="21509" y="1758"/>
                  <a:pt x="21552" y="1758"/>
                </a:cubicBezTo>
                <a:cubicBezTo>
                  <a:pt x="21619" y="1759"/>
                  <a:pt x="21686" y="1758"/>
                  <a:pt x="21753" y="1758"/>
                </a:cubicBezTo>
                <a:cubicBezTo>
                  <a:pt x="21865" y="1758"/>
                  <a:pt x="21972" y="1766"/>
                  <a:pt x="22083" y="1773"/>
                </a:cubicBezTo>
                <a:cubicBezTo>
                  <a:pt x="22177" y="1779"/>
                  <a:pt x="22271" y="1781"/>
                  <a:pt x="22366" y="1781"/>
                </a:cubicBezTo>
                <a:cubicBezTo>
                  <a:pt x="22544" y="1781"/>
                  <a:pt x="22724" y="1790"/>
                  <a:pt x="22902" y="1781"/>
                </a:cubicBezTo>
                <a:cubicBezTo>
                  <a:pt x="22946" y="1779"/>
                  <a:pt x="22990" y="1776"/>
                  <a:pt x="23034" y="1773"/>
                </a:cubicBezTo>
                <a:cubicBezTo>
                  <a:pt x="23118" y="1768"/>
                  <a:pt x="23202" y="1760"/>
                  <a:pt x="23286" y="1758"/>
                </a:cubicBezTo>
                <a:cubicBezTo>
                  <a:pt x="23386" y="1756"/>
                  <a:pt x="23489" y="1753"/>
                  <a:pt x="23588" y="1739"/>
                </a:cubicBezTo>
                <a:cubicBezTo>
                  <a:pt x="23669" y="1728"/>
                  <a:pt x="23750" y="1716"/>
                  <a:pt x="23831" y="1705"/>
                </a:cubicBezTo>
              </a:path>
            </a:pathLst>
          </a:custGeom>
          <a:noFill/>
          <a:ln cap="rnd" w="28440">
            <a:solidFill>
              <a:srgbClr val="80808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6" name=""/>
          <p:cNvSpPr/>
          <p:nvPr/>
        </p:nvSpPr>
        <p:spPr>
          <a:xfrm>
            <a:off x="270720" y="2209680"/>
            <a:ext cx="146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IT Environment</a:t>
            </a:r>
            <a:endParaRPr b="0" lang="en-US" sz="1400" spc="-1" strike="noStrike">
              <a:solidFill>
                <a:srgbClr val="000000"/>
              </a:solidFill>
              <a:latin typeface="Arial"/>
            </a:endParaRPr>
          </a:p>
        </p:txBody>
      </p:sp>
      <p:sp>
        <p:nvSpPr>
          <p:cNvPr id="97" name=""/>
          <p:cNvSpPr/>
          <p:nvPr/>
        </p:nvSpPr>
        <p:spPr>
          <a:xfrm>
            <a:off x="7959600" y="380880"/>
            <a:ext cx="6987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ho?</a:t>
            </a:r>
            <a:endParaRPr b="0" lang="en-US" sz="1400" spc="-1" strike="noStrike">
              <a:solidFill>
                <a:srgbClr val="000000"/>
              </a:solidFill>
              <a:latin typeface="Arial"/>
            </a:endParaRPr>
          </a:p>
        </p:txBody>
      </p:sp>
      <p:sp>
        <p:nvSpPr>
          <p:cNvPr id="98" name=""/>
          <p:cNvSpPr/>
          <p:nvPr/>
        </p:nvSpPr>
        <p:spPr>
          <a:xfrm>
            <a:off x="6148080" y="8380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Workloads</a:t>
            </a:r>
            <a:endParaRPr b="0" lang="en-US" sz="1400" spc="-1" strike="noStrike">
              <a:solidFill>
                <a:srgbClr val="000000"/>
              </a:solidFill>
              <a:latin typeface="Arial"/>
            </a:endParaRPr>
          </a:p>
        </p:txBody>
      </p:sp>
      <p:sp>
        <p:nvSpPr>
          <p:cNvPr id="99" name=""/>
          <p:cNvSpPr/>
          <p:nvPr/>
        </p:nvSpPr>
        <p:spPr>
          <a:xfrm>
            <a:off x="3123360" y="571500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Whiteboard"/>
              </a:rPr>
              <a:t>Costs</a:t>
            </a:r>
            <a:endParaRPr b="0" lang="en-US" sz="1400" spc="-1" strike="noStrike">
              <a:solidFill>
                <a:srgbClr val="000000"/>
              </a:solidFill>
              <a:latin typeface="Arial"/>
            </a:endParaRPr>
          </a:p>
        </p:txBody>
      </p:sp>
      <p:grpSp>
        <p:nvGrpSpPr>
          <p:cNvPr id="100" name=""/>
          <p:cNvGrpSpPr/>
          <p:nvPr/>
        </p:nvGrpSpPr>
        <p:grpSpPr>
          <a:xfrm>
            <a:off x="1676520" y="990720"/>
            <a:ext cx="5052960" cy="4521240"/>
            <a:chOff x="1676520" y="990720"/>
            <a:chExt cx="5052960" cy="4521240"/>
          </a:xfrm>
        </p:grpSpPr>
        <p:sp>
          <p:nvSpPr>
            <p:cNvPr id="101" name=""/>
            <p:cNvSpPr/>
            <p:nvPr/>
          </p:nvSpPr>
          <p:spPr>
            <a:xfrm>
              <a:off x="1676520" y="990720"/>
              <a:ext cx="5052960" cy="4256280"/>
            </a:xfrm>
            <a:custGeom>
              <a:avLst/>
              <a:gdLst/>
              <a:ahLst/>
              <a:rect l="l" t="t" r="r" b="b"/>
              <a:pathLst>
                <a:path w="14037" h="11820">
                  <a:moveTo>
                    <a:pt x="11900" y="2834"/>
                  </a:moveTo>
                  <a:cubicBezTo>
                    <a:pt x="11889" y="2833"/>
                    <a:pt x="11879" y="2831"/>
                    <a:pt x="11868" y="2830"/>
                  </a:cubicBezTo>
                  <a:cubicBezTo>
                    <a:pt x="12049" y="2830"/>
                    <a:pt x="12235" y="2815"/>
                    <a:pt x="12417" y="2815"/>
                  </a:cubicBezTo>
                  <a:cubicBezTo>
                    <a:pt x="12816" y="2814"/>
                    <a:pt x="13205" y="2914"/>
                    <a:pt x="13594" y="2986"/>
                  </a:cubicBezTo>
                  <a:cubicBezTo>
                    <a:pt x="13895" y="3041"/>
                    <a:pt x="14161" y="3118"/>
                    <a:pt x="14449" y="3223"/>
                  </a:cubicBezTo>
                  <a:cubicBezTo>
                    <a:pt x="14634" y="3290"/>
                    <a:pt x="14829" y="3351"/>
                    <a:pt x="15008" y="3429"/>
                  </a:cubicBezTo>
                  <a:cubicBezTo>
                    <a:pt x="15143" y="3488"/>
                    <a:pt x="15273" y="3543"/>
                    <a:pt x="15397" y="3627"/>
                  </a:cubicBezTo>
                  <a:cubicBezTo>
                    <a:pt x="15544" y="3726"/>
                    <a:pt x="15645" y="3863"/>
                    <a:pt x="15786" y="3966"/>
                  </a:cubicBezTo>
                  <a:cubicBezTo>
                    <a:pt x="16053" y="4161"/>
                    <a:pt x="16244" y="4293"/>
                    <a:pt x="16463" y="4538"/>
                  </a:cubicBezTo>
                  <a:cubicBezTo>
                    <a:pt x="16688" y="4789"/>
                    <a:pt x="16890" y="5022"/>
                    <a:pt x="17076" y="5297"/>
                  </a:cubicBezTo>
                  <a:cubicBezTo>
                    <a:pt x="17202" y="5483"/>
                    <a:pt x="17329" y="5658"/>
                    <a:pt x="17442" y="5854"/>
                  </a:cubicBezTo>
                  <a:cubicBezTo>
                    <a:pt x="17527" y="6001"/>
                    <a:pt x="17633" y="6146"/>
                    <a:pt x="17698" y="6300"/>
                  </a:cubicBezTo>
                  <a:cubicBezTo>
                    <a:pt x="17818" y="6584"/>
                    <a:pt x="17850" y="6908"/>
                    <a:pt x="17932" y="7204"/>
                  </a:cubicBezTo>
                  <a:cubicBezTo>
                    <a:pt x="17987" y="7402"/>
                    <a:pt x="18069" y="7588"/>
                    <a:pt x="18133" y="7780"/>
                  </a:cubicBezTo>
                  <a:cubicBezTo>
                    <a:pt x="18215" y="8027"/>
                    <a:pt x="18233" y="8275"/>
                    <a:pt x="18266" y="8535"/>
                  </a:cubicBezTo>
                  <a:cubicBezTo>
                    <a:pt x="18299" y="8795"/>
                    <a:pt x="18345" y="9064"/>
                    <a:pt x="18348" y="9325"/>
                  </a:cubicBezTo>
                  <a:cubicBezTo>
                    <a:pt x="18350" y="9516"/>
                    <a:pt x="18346" y="9716"/>
                    <a:pt x="18335" y="9908"/>
                  </a:cubicBezTo>
                  <a:cubicBezTo>
                    <a:pt x="18323" y="10111"/>
                    <a:pt x="18287" y="10285"/>
                    <a:pt x="18234" y="10480"/>
                  </a:cubicBezTo>
                  <a:cubicBezTo>
                    <a:pt x="18193" y="10631"/>
                    <a:pt x="18159" y="10783"/>
                    <a:pt x="18120" y="10930"/>
                  </a:cubicBezTo>
                  <a:cubicBezTo>
                    <a:pt x="18008" y="11352"/>
                    <a:pt x="17865" y="11822"/>
                    <a:pt x="17657" y="12208"/>
                  </a:cubicBezTo>
                  <a:cubicBezTo>
                    <a:pt x="17541" y="12424"/>
                    <a:pt x="17384" y="12620"/>
                    <a:pt x="17241" y="12818"/>
                  </a:cubicBezTo>
                  <a:cubicBezTo>
                    <a:pt x="17108" y="13003"/>
                    <a:pt x="16984" y="13167"/>
                    <a:pt x="16824" y="13329"/>
                  </a:cubicBezTo>
                  <a:cubicBezTo>
                    <a:pt x="16769" y="13384"/>
                    <a:pt x="16716" y="13436"/>
                    <a:pt x="16660" y="13489"/>
                  </a:cubicBezTo>
                  <a:cubicBezTo>
                    <a:pt x="16476" y="13664"/>
                    <a:pt x="16295" y="13831"/>
                    <a:pt x="16097" y="13989"/>
                  </a:cubicBezTo>
                  <a:cubicBezTo>
                    <a:pt x="15903" y="14144"/>
                    <a:pt x="15700" y="14300"/>
                    <a:pt x="15488" y="14431"/>
                  </a:cubicBezTo>
                  <a:cubicBezTo>
                    <a:pt x="15348" y="14518"/>
                    <a:pt x="15218" y="14542"/>
                    <a:pt x="15072" y="14603"/>
                  </a:cubicBezTo>
                  <a:cubicBezTo>
                    <a:pt x="15038" y="14612"/>
                    <a:pt x="15026" y="14615"/>
                    <a:pt x="15008" y="14634"/>
                  </a:cubicBezTo>
                </a:path>
                <a:path w="14037" h="11820">
                  <a:moveTo>
                    <a:pt x="5356" y="12303"/>
                  </a:moveTo>
                  <a:cubicBezTo>
                    <a:pt x="5283" y="12222"/>
                    <a:pt x="5205" y="12149"/>
                    <a:pt x="5136" y="12059"/>
                  </a:cubicBezTo>
                  <a:cubicBezTo>
                    <a:pt x="4978" y="11853"/>
                    <a:pt x="4902" y="11666"/>
                    <a:pt x="4802" y="11430"/>
                  </a:cubicBezTo>
                  <a:cubicBezTo>
                    <a:pt x="4660" y="11093"/>
                    <a:pt x="4549" y="10784"/>
                    <a:pt x="4473" y="10427"/>
                  </a:cubicBezTo>
                  <a:cubicBezTo>
                    <a:pt x="4383" y="10006"/>
                    <a:pt x="4335" y="9599"/>
                    <a:pt x="4326" y="9168"/>
                  </a:cubicBezTo>
                  <a:cubicBezTo>
                    <a:pt x="4314" y="8564"/>
                    <a:pt x="4419" y="7986"/>
                    <a:pt x="4706" y="7456"/>
                  </a:cubicBezTo>
                  <a:cubicBezTo>
                    <a:pt x="4804" y="7275"/>
                    <a:pt x="4872" y="7084"/>
                    <a:pt x="4963" y="6899"/>
                  </a:cubicBezTo>
                  <a:cubicBezTo>
                    <a:pt x="5077" y="6667"/>
                    <a:pt x="5232" y="6460"/>
                    <a:pt x="5411" y="6274"/>
                  </a:cubicBezTo>
                  <a:cubicBezTo>
                    <a:pt x="5562" y="6118"/>
                    <a:pt x="5736" y="5979"/>
                    <a:pt x="5887" y="5824"/>
                  </a:cubicBezTo>
                  <a:cubicBezTo>
                    <a:pt x="5999" y="5709"/>
                    <a:pt x="6116" y="5599"/>
                    <a:pt x="6226" y="5484"/>
                  </a:cubicBezTo>
                  <a:cubicBezTo>
                    <a:pt x="6363" y="5340"/>
                    <a:pt x="6493" y="5220"/>
                    <a:pt x="6642" y="5091"/>
                  </a:cubicBezTo>
                  <a:cubicBezTo>
                    <a:pt x="6774" y="4976"/>
                    <a:pt x="6906" y="4868"/>
                    <a:pt x="7049" y="4767"/>
                  </a:cubicBezTo>
                  <a:cubicBezTo>
                    <a:pt x="7224" y="4644"/>
                    <a:pt x="7400" y="4568"/>
                    <a:pt x="7589" y="4474"/>
                  </a:cubicBezTo>
                  <a:cubicBezTo>
                    <a:pt x="7791" y="4374"/>
                    <a:pt x="7981" y="4254"/>
                    <a:pt x="8189" y="4168"/>
                  </a:cubicBezTo>
                  <a:cubicBezTo>
                    <a:pt x="8556" y="4016"/>
                    <a:pt x="8913" y="3895"/>
                    <a:pt x="9292" y="3799"/>
                  </a:cubicBezTo>
                  <a:cubicBezTo>
                    <a:pt x="9636" y="3712"/>
                    <a:pt x="10082" y="3505"/>
                    <a:pt x="10340" y="3532"/>
                  </a:cubicBezTo>
                  <a:cubicBezTo>
                    <a:pt x="10340" y="3541"/>
                    <a:pt x="10340" y="3549"/>
                    <a:pt x="10340" y="3558"/>
                  </a:cubicBezTo>
                </a:path>
                <a:path w="14037" h="11820">
                  <a:moveTo>
                    <a:pt x="10239" y="3505"/>
                  </a:moveTo>
                  <a:cubicBezTo>
                    <a:pt x="10234" y="3496"/>
                    <a:pt x="10230" y="3487"/>
                    <a:pt x="10225" y="3478"/>
                  </a:cubicBezTo>
                  <a:cubicBezTo>
                    <a:pt x="10273" y="3458"/>
                    <a:pt x="10312" y="3447"/>
                    <a:pt x="10363" y="3444"/>
                  </a:cubicBezTo>
                  <a:cubicBezTo>
                    <a:pt x="10409" y="3441"/>
                    <a:pt x="10454" y="3428"/>
                    <a:pt x="10500" y="3425"/>
                  </a:cubicBezTo>
                  <a:cubicBezTo>
                    <a:pt x="10546" y="3422"/>
                    <a:pt x="10588" y="3433"/>
                    <a:pt x="10633" y="3429"/>
                  </a:cubicBezTo>
                  <a:cubicBezTo>
                    <a:pt x="10665" y="3426"/>
                    <a:pt x="10692" y="3429"/>
                    <a:pt x="10724" y="3432"/>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179800" y="4702320"/>
              <a:ext cx="3417840" cy="809640"/>
            </a:xfrm>
            <a:custGeom>
              <a:avLst/>
              <a:gdLst/>
              <a:ahLst/>
              <a:rect l="l" t="t" r="r" b="b"/>
              <a:pathLst>
                <a:path w="9492" h="2247">
                  <a:moveTo>
                    <a:pt x="15131" y="14168"/>
                  </a:moveTo>
                  <a:cubicBezTo>
                    <a:pt x="15110" y="14208"/>
                    <a:pt x="15083" y="14241"/>
                    <a:pt x="15058" y="14279"/>
                  </a:cubicBezTo>
                  <a:cubicBezTo>
                    <a:pt x="15034" y="14315"/>
                    <a:pt x="15007" y="14354"/>
                    <a:pt x="14989" y="14393"/>
                  </a:cubicBezTo>
                  <a:cubicBezTo>
                    <a:pt x="14971" y="14433"/>
                    <a:pt x="14959" y="14478"/>
                    <a:pt x="14934" y="14515"/>
                  </a:cubicBezTo>
                  <a:cubicBezTo>
                    <a:pt x="14908" y="14553"/>
                    <a:pt x="14874" y="14585"/>
                    <a:pt x="14847" y="14622"/>
                  </a:cubicBezTo>
                  <a:cubicBezTo>
                    <a:pt x="14828" y="14650"/>
                    <a:pt x="14822" y="14660"/>
                    <a:pt x="14806" y="14676"/>
                  </a:cubicBezTo>
                  <a:cubicBezTo>
                    <a:pt x="14858" y="14694"/>
                    <a:pt x="14885" y="14695"/>
                    <a:pt x="14939" y="14687"/>
                  </a:cubicBezTo>
                  <a:cubicBezTo>
                    <a:pt x="14986" y="14680"/>
                    <a:pt x="15028" y="14675"/>
                    <a:pt x="15076" y="14679"/>
                  </a:cubicBezTo>
                  <a:cubicBezTo>
                    <a:pt x="15106" y="14681"/>
                    <a:pt x="15185" y="14672"/>
                    <a:pt x="15209" y="14687"/>
                  </a:cubicBezTo>
                  <a:cubicBezTo>
                    <a:pt x="15234" y="14702"/>
                    <a:pt x="15257" y="14747"/>
                    <a:pt x="15273" y="14771"/>
                  </a:cubicBezTo>
                </a:path>
                <a:path w="9492" h="2247">
                  <a:moveTo>
                    <a:pt x="14115" y="14923"/>
                  </a:moveTo>
                  <a:cubicBezTo>
                    <a:pt x="13971" y="14953"/>
                    <a:pt x="13821" y="14979"/>
                    <a:pt x="13680" y="15019"/>
                  </a:cubicBezTo>
                  <a:cubicBezTo>
                    <a:pt x="13579" y="15048"/>
                    <a:pt x="13487" y="15081"/>
                    <a:pt x="13383" y="15099"/>
                  </a:cubicBezTo>
                  <a:cubicBezTo>
                    <a:pt x="13303" y="15113"/>
                    <a:pt x="13220" y="15120"/>
                    <a:pt x="13140" y="15137"/>
                  </a:cubicBezTo>
                  <a:cubicBezTo>
                    <a:pt x="13084" y="15149"/>
                    <a:pt x="13027" y="15157"/>
                    <a:pt x="12971" y="15168"/>
                  </a:cubicBezTo>
                  <a:cubicBezTo>
                    <a:pt x="12923" y="15178"/>
                    <a:pt x="12877" y="15191"/>
                    <a:pt x="12829" y="15202"/>
                  </a:cubicBezTo>
                  <a:cubicBezTo>
                    <a:pt x="12650" y="15243"/>
                    <a:pt x="12463" y="15237"/>
                    <a:pt x="12280" y="15251"/>
                  </a:cubicBezTo>
                  <a:cubicBezTo>
                    <a:pt x="12186" y="15258"/>
                    <a:pt x="12093" y="15270"/>
                    <a:pt x="12001" y="15278"/>
                  </a:cubicBezTo>
                  <a:cubicBezTo>
                    <a:pt x="11946" y="15283"/>
                    <a:pt x="11891" y="15286"/>
                    <a:pt x="11836" y="15290"/>
                  </a:cubicBezTo>
                  <a:cubicBezTo>
                    <a:pt x="11788" y="15293"/>
                    <a:pt x="11742" y="15297"/>
                    <a:pt x="11694" y="15301"/>
                  </a:cubicBezTo>
                  <a:cubicBezTo>
                    <a:pt x="11516" y="15316"/>
                    <a:pt x="11332" y="15319"/>
                    <a:pt x="11154" y="15320"/>
                  </a:cubicBezTo>
                  <a:cubicBezTo>
                    <a:pt x="11018" y="15321"/>
                    <a:pt x="10883" y="15322"/>
                    <a:pt x="10747" y="15324"/>
                  </a:cubicBezTo>
                  <a:cubicBezTo>
                    <a:pt x="10701" y="15325"/>
                    <a:pt x="10656" y="15329"/>
                    <a:pt x="10610" y="15328"/>
                  </a:cubicBezTo>
                  <a:cubicBezTo>
                    <a:pt x="10424" y="15324"/>
                    <a:pt x="10238" y="15313"/>
                    <a:pt x="10051" y="15312"/>
                  </a:cubicBezTo>
                  <a:cubicBezTo>
                    <a:pt x="10007" y="15312"/>
                    <a:pt x="9963" y="15309"/>
                    <a:pt x="9919" y="15309"/>
                  </a:cubicBezTo>
                  <a:cubicBezTo>
                    <a:pt x="9769" y="15308"/>
                    <a:pt x="9620" y="15307"/>
                    <a:pt x="9470" y="15312"/>
                  </a:cubicBezTo>
                  <a:cubicBezTo>
                    <a:pt x="9330" y="15316"/>
                    <a:pt x="9194" y="15332"/>
                    <a:pt x="9054" y="15339"/>
                  </a:cubicBezTo>
                  <a:cubicBezTo>
                    <a:pt x="8908" y="15346"/>
                    <a:pt x="8763" y="15346"/>
                    <a:pt x="8619" y="15320"/>
                  </a:cubicBezTo>
                  <a:cubicBezTo>
                    <a:pt x="8453" y="15290"/>
                    <a:pt x="8261" y="15265"/>
                    <a:pt x="8102" y="15209"/>
                  </a:cubicBezTo>
                  <a:cubicBezTo>
                    <a:pt x="8057" y="15193"/>
                    <a:pt x="8016" y="15170"/>
                    <a:pt x="7974" y="15145"/>
                  </a:cubicBezTo>
                  <a:cubicBezTo>
                    <a:pt x="7930" y="15119"/>
                    <a:pt x="7889" y="15088"/>
                    <a:pt x="7846" y="15061"/>
                  </a:cubicBezTo>
                </a:path>
                <a:path w="9492" h="2247">
                  <a:moveTo>
                    <a:pt x="5905" y="13165"/>
                  </a:moveTo>
                  <a:cubicBezTo>
                    <a:pt x="5867" y="13144"/>
                    <a:pt x="5852" y="13130"/>
                    <a:pt x="5823" y="13097"/>
                  </a:cubicBezTo>
                  <a:cubicBezTo>
                    <a:pt x="5807" y="13155"/>
                    <a:pt x="5811" y="13202"/>
                    <a:pt x="5814" y="13261"/>
                  </a:cubicBezTo>
                  <a:cubicBezTo>
                    <a:pt x="5816" y="13310"/>
                    <a:pt x="5832" y="13358"/>
                    <a:pt x="5841" y="13406"/>
                  </a:cubicBezTo>
                  <a:cubicBezTo>
                    <a:pt x="5849" y="13449"/>
                    <a:pt x="5867" y="13488"/>
                    <a:pt x="5882" y="13528"/>
                  </a:cubicBezTo>
                  <a:cubicBezTo>
                    <a:pt x="5896" y="13565"/>
                    <a:pt x="5905" y="13607"/>
                    <a:pt x="5914" y="13646"/>
                  </a:cubicBezTo>
                  <a:cubicBezTo>
                    <a:pt x="5923" y="13684"/>
                    <a:pt x="5930" y="13722"/>
                    <a:pt x="5937" y="13760"/>
                  </a:cubicBezTo>
                  <a:cubicBezTo>
                    <a:pt x="5918" y="13713"/>
                    <a:pt x="5905" y="13668"/>
                    <a:pt x="5892" y="13619"/>
                  </a:cubicBezTo>
                  <a:cubicBezTo>
                    <a:pt x="5880" y="13573"/>
                    <a:pt x="5866" y="13528"/>
                    <a:pt x="5855" y="13482"/>
                  </a:cubicBezTo>
                  <a:cubicBezTo>
                    <a:pt x="5843" y="13435"/>
                    <a:pt x="5842" y="13386"/>
                    <a:pt x="5828" y="13341"/>
                  </a:cubicBezTo>
                  <a:cubicBezTo>
                    <a:pt x="5816" y="13303"/>
                    <a:pt x="5800" y="13261"/>
                    <a:pt x="5791" y="13222"/>
                  </a:cubicBezTo>
                  <a:cubicBezTo>
                    <a:pt x="5785" y="13198"/>
                    <a:pt x="5784" y="13171"/>
                    <a:pt x="5782" y="13146"/>
                  </a:cubicBezTo>
                  <a:cubicBezTo>
                    <a:pt x="5826" y="13157"/>
                    <a:pt x="5873" y="13157"/>
                    <a:pt x="5914" y="13173"/>
                  </a:cubicBezTo>
                  <a:cubicBezTo>
                    <a:pt x="5963" y="13192"/>
                    <a:pt x="6003" y="13233"/>
                    <a:pt x="6043" y="13264"/>
                  </a:cubicBezTo>
                  <a:cubicBezTo>
                    <a:pt x="6095" y="13305"/>
                    <a:pt x="6154" y="13337"/>
                    <a:pt x="6207" y="13375"/>
                  </a:cubicBezTo>
                  <a:cubicBezTo>
                    <a:pt x="6238" y="13401"/>
                    <a:pt x="6248" y="13409"/>
                    <a:pt x="6267" y="13428"/>
                  </a:cubicBezTo>
                </a:path>
                <a:path w="9492" h="2247">
                  <a:moveTo>
                    <a:pt x="6020" y="13383"/>
                  </a:moveTo>
                  <a:cubicBezTo>
                    <a:pt x="6009" y="13375"/>
                    <a:pt x="5999" y="13368"/>
                    <a:pt x="5988" y="13360"/>
                  </a:cubicBezTo>
                  <a:cubicBezTo>
                    <a:pt x="5987" y="13410"/>
                    <a:pt x="5974" y="13429"/>
                    <a:pt x="6001" y="13482"/>
                  </a:cubicBezTo>
                  <a:cubicBezTo>
                    <a:pt x="6021" y="13521"/>
                    <a:pt x="6060" y="13561"/>
                    <a:pt x="6088" y="13596"/>
                  </a:cubicBezTo>
                  <a:cubicBezTo>
                    <a:pt x="6118" y="13635"/>
                    <a:pt x="6144" y="13676"/>
                    <a:pt x="6175" y="13714"/>
                  </a:cubicBezTo>
                  <a:cubicBezTo>
                    <a:pt x="6205" y="13752"/>
                    <a:pt x="6234" y="13793"/>
                    <a:pt x="6267" y="13829"/>
                  </a:cubicBezTo>
                  <a:cubicBezTo>
                    <a:pt x="6301" y="13866"/>
                    <a:pt x="6338" y="13899"/>
                    <a:pt x="6368" y="13939"/>
                  </a:cubicBezTo>
                  <a:cubicBezTo>
                    <a:pt x="6418" y="14006"/>
                    <a:pt x="6458" y="14077"/>
                    <a:pt x="6519" y="14134"/>
                  </a:cubicBezTo>
                  <a:cubicBezTo>
                    <a:pt x="6559" y="14172"/>
                    <a:pt x="6589" y="14204"/>
                    <a:pt x="6624" y="14245"/>
                  </a:cubicBezTo>
                  <a:cubicBezTo>
                    <a:pt x="6658" y="14285"/>
                    <a:pt x="6695" y="14320"/>
                    <a:pt x="6734" y="14355"/>
                  </a:cubicBezTo>
                  <a:cubicBezTo>
                    <a:pt x="6773" y="14390"/>
                    <a:pt x="6815" y="14422"/>
                    <a:pt x="6853" y="14458"/>
                  </a:cubicBezTo>
                  <a:cubicBezTo>
                    <a:pt x="6892" y="14494"/>
                    <a:pt x="6932" y="14523"/>
                    <a:pt x="6972" y="14557"/>
                  </a:cubicBezTo>
                  <a:cubicBezTo>
                    <a:pt x="7014" y="14593"/>
                    <a:pt x="7053" y="14633"/>
                    <a:pt x="7095" y="14668"/>
                  </a:cubicBezTo>
                  <a:cubicBezTo>
                    <a:pt x="7196" y="14751"/>
                    <a:pt x="7311" y="14825"/>
                    <a:pt x="7425" y="14889"/>
                  </a:cubicBezTo>
                  <a:cubicBezTo>
                    <a:pt x="7467" y="14913"/>
                    <a:pt x="7510" y="14936"/>
                    <a:pt x="7553" y="14958"/>
                  </a:cubicBezTo>
                  <a:cubicBezTo>
                    <a:pt x="7599" y="14982"/>
                    <a:pt x="7646" y="15002"/>
                    <a:pt x="7690" y="15030"/>
                  </a:cubicBezTo>
                  <a:cubicBezTo>
                    <a:pt x="7742" y="15063"/>
                    <a:pt x="7788" y="15097"/>
                    <a:pt x="7846" y="15118"/>
                  </a:cubicBezTo>
                  <a:cubicBezTo>
                    <a:pt x="7911" y="15142"/>
                    <a:pt x="7982" y="15159"/>
                    <a:pt x="8047" y="15179"/>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915000" y="1087560"/>
              <a:ext cx="239760" cy="236520"/>
            </a:xfrm>
            <a:custGeom>
              <a:avLst/>
              <a:gdLst/>
              <a:ahLst/>
              <a:rect l="l" t="t" r="r" b="b"/>
              <a:pathLst>
                <a:path w="664" h="657">
                  <a:moveTo>
                    <a:pt x="10537" y="3082"/>
                  </a:moveTo>
                  <a:cubicBezTo>
                    <a:pt x="10582" y="3103"/>
                    <a:pt x="10630" y="3127"/>
                    <a:pt x="10678" y="3139"/>
                  </a:cubicBezTo>
                  <a:cubicBezTo>
                    <a:pt x="10732" y="3153"/>
                    <a:pt x="10788" y="3161"/>
                    <a:pt x="10843" y="3173"/>
                  </a:cubicBezTo>
                  <a:cubicBezTo>
                    <a:pt x="10893" y="3184"/>
                    <a:pt x="10943" y="3197"/>
                    <a:pt x="10994" y="3207"/>
                  </a:cubicBezTo>
                  <a:cubicBezTo>
                    <a:pt x="11043" y="3217"/>
                    <a:pt x="11090" y="3231"/>
                    <a:pt x="11136" y="3249"/>
                  </a:cubicBezTo>
                  <a:cubicBezTo>
                    <a:pt x="11168" y="3261"/>
                    <a:pt x="11179" y="3265"/>
                    <a:pt x="11200" y="3276"/>
                  </a:cubicBezTo>
                  <a:cubicBezTo>
                    <a:pt x="11166" y="3321"/>
                    <a:pt x="11131" y="3365"/>
                    <a:pt x="11081" y="3394"/>
                  </a:cubicBezTo>
                  <a:cubicBezTo>
                    <a:pt x="11029" y="3424"/>
                    <a:pt x="10995" y="3464"/>
                    <a:pt x="10948" y="3501"/>
                  </a:cubicBezTo>
                  <a:cubicBezTo>
                    <a:pt x="10903" y="3537"/>
                    <a:pt x="10854" y="3575"/>
                    <a:pt x="10807" y="3608"/>
                  </a:cubicBezTo>
                  <a:cubicBezTo>
                    <a:pt x="10771" y="3633"/>
                    <a:pt x="10725" y="3668"/>
                    <a:pt x="10701" y="3707"/>
                  </a:cubicBezTo>
                  <a:cubicBezTo>
                    <a:pt x="10697" y="3717"/>
                    <a:pt x="10692" y="3728"/>
                    <a:pt x="10688" y="3738"/>
                  </a:cubicBez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
          <p:cNvSpPr/>
          <p:nvPr/>
        </p:nvSpPr>
        <p:spPr>
          <a:xfrm>
            <a:off x="1918080" y="3962520"/>
            <a:ext cx="102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hiteboard"/>
              </a:rPr>
              <a:t>Current IT</a:t>
            </a:r>
            <a:endParaRPr b="0" lang="en-US" sz="1400" spc="-1" strike="noStrike">
              <a:solidFill>
                <a:srgbClr val="000000"/>
              </a:solidFill>
              <a:latin typeface="Arial"/>
            </a:endParaRPr>
          </a:p>
        </p:txBody>
      </p:sp>
      <p:sp>
        <p:nvSpPr>
          <p:cNvPr id="105" name=""/>
          <p:cNvSpPr/>
          <p:nvPr/>
        </p:nvSpPr>
        <p:spPr>
          <a:xfrm>
            <a:off x="739800" y="5003640"/>
            <a:ext cx="4680" cy="11160"/>
          </a:xfrm>
          <a:custGeom>
            <a:avLst/>
            <a:gdLst/>
            <a:ahLst/>
            <a:rect l="l" t="t" r="r" b="b"/>
            <a:pathLst>
              <a:path w="10" h="28">
                <a:moveTo>
                  <a:pt x="2066" y="13928"/>
                </a:moveTo>
                <a:cubicBezTo>
                  <a:pt x="2063" y="13919"/>
                  <a:pt x="2060" y="13910"/>
                  <a:pt x="2057" y="13901"/>
                </a:cubicBezTo>
              </a:path>
            </a:pathLst>
          </a:custGeom>
          <a:noFill/>
          <a:ln cap="rnd" w="28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0:27:49Z</dcterms:created>
  <dc:creator>Corey Sommers</dc:creator>
  <dc:description/>
  <dc:language>en-US</dc:language>
  <cp:lastModifiedBy>Chris M Grejtak</cp:lastModifiedBy>
  <dcterms:modified xsi:type="dcterms:W3CDTF">2012-03-29T14:11:41Z</dcterms:modified>
  <cp:revision>45</cp:revision>
  <dc:subject/>
  <dc:title>Slide 1</dc:title>
</cp:coreProperties>
</file>