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3455-915E-4EA3-9B0A-6A906F408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2160" y="393156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2FDE-AC8B-465F-912A-30376DEF1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780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136B-AF14-464C-8D0A-BCDE68509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44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872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216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44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872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8A70-5790-4A2C-827F-CF2B987CF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82160" y="304560"/>
            <a:ext cx="867564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A6ED-D244-4298-A6C2-6C216AB98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2780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82160" y="393156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2780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544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4872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8216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1544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4872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D48E-3B41-428E-90C3-A535D8705C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82160" y="304560"/>
            <a:ext cx="867564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2780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82160" y="393156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2780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544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8720" y="129492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8216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1544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8720" y="3931560"/>
            <a:ext cx="27932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338D-3E90-4076-A78E-B05B6BA2F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1CE2-4752-47DD-A43C-834071EA7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160" y="304560"/>
            <a:ext cx="8675640" cy="37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AA10-62B6-45E2-A110-815CC335A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B00D-B33A-4039-80D9-8633B9C20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7800" y="393156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2519-EAB0-4AAD-A468-A1C215398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16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7800" y="1294920"/>
            <a:ext cx="423360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160" y="3931560"/>
            <a:ext cx="8675640" cy="240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DB8E-3D01-4CE9-9171-09CFD415E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74680" y="1181160"/>
            <a:ext cx="859464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© 2015 IBM Corpo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82520" y="6536880"/>
            <a:ext cx="355680" cy="17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E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1A69A-040C-41C4-A430-4D705D76C2C6}" type="slidenum">
              <a:rPr b="0" lang="en-IE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54120" y="6537240"/>
            <a:ext cx="5943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9360" y="6537240"/>
            <a:ext cx="10047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83600" y="222120"/>
            <a:ext cx="585720" cy="2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4680" y="1050840"/>
            <a:ext cx="8594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74680" y="3664080"/>
            <a:ext cx="8583480" cy="2222280"/>
            <a:chOff x="274680" y="3664080"/>
            <a:chExt cx="8583480" cy="2222280"/>
          </a:xfrm>
        </p:grpSpPr>
        <p:sp>
          <p:nvSpPr>
            <p:cNvPr id="46" name=""/>
            <p:cNvSpPr/>
            <p:nvPr/>
          </p:nvSpPr>
          <p:spPr>
            <a:xfrm>
              <a:off x="274680" y="3664080"/>
              <a:ext cx="1344600" cy="449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680" y="4548240"/>
              <a:ext cx="1344600" cy="449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680" y="5437080"/>
              <a:ext cx="414360" cy="449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12120" y="3664080"/>
              <a:ext cx="1344600" cy="449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12120" y="4548240"/>
              <a:ext cx="1344600" cy="449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43800" y="5437080"/>
              <a:ext cx="414360" cy="449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84400" y="3664080"/>
              <a:ext cx="4513320" cy="44928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84400" y="4548240"/>
              <a:ext cx="5006880" cy="45396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03840" y="5433840"/>
              <a:ext cx="1436760" cy="45252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89440" y="5437080"/>
              <a:ext cx="1344600" cy="449280"/>
            </a:xfrm>
            <a:prstGeom prst="rect">
              <a:avLst/>
            </a:prstGeom>
            <a:solidFill>
              <a:srgbClr val="fffff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© 2012 IBM Corpo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80360" y="684360"/>
            <a:ext cx="585720" cy="2347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50920" y="3664080"/>
            <a:ext cx="8599320" cy="2246040"/>
            <a:chOff x="250920" y="3664080"/>
            <a:chExt cx="8599320" cy="2246040"/>
          </a:xfrm>
        </p:grpSpPr>
        <p:grpSp>
          <p:nvGrpSpPr>
            <p:cNvPr id="59" name=""/>
            <p:cNvGrpSpPr/>
            <p:nvPr/>
          </p:nvGrpSpPr>
          <p:grpSpPr>
            <a:xfrm>
              <a:off x="250920" y="3664080"/>
              <a:ext cx="8599320" cy="2246040"/>
              <a:chOff x="250920" y="3664080"/>
              <a:chExt cx="8599320" cy="2246040"/>
            </a:xfrm>
          </p:grpSpPr>
          <p:sp>
            <p:nvSpPr>
              <p:cNvPr id="60" name=""/>
              <p:cNvSpPr/>
              <p:nvPr/>
            </p:nvSpPr>
            <p:spPr>
              <a:xfrm>
                <a:off x="250920" y="3664080"/>
                <a:ext cx="1347840" cy="453960"/>
              </a:xfrm>
              <a:prstGeom prst="rect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0920" y="4557600"/>
                <a:ext cx="1347840" cy="453960"/>
              </a:xfrm>
              <a:prstGeom prst="rect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0920" y="5456160"/>
                <a:ext cx="414360" cy="453960"/>
              </a:xfrm>
              <a:prstGeom prst="rect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02400" y="3664080"/>
                <a:ext cx="1347840" cy="453960"/>
              </a:xfrm>
              <a:prstGeom prst="rect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02400" y="4557600"/>
                <a:ext cx="1347840" cy="453960"/>
              </a:xfrm>
              <a:prstGeom prst="rect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434440" y="5456160"/>
                <a:ext cx="414360" cy="453960"/>
              </a:xfrm>
              <a:prstGeom prst="rect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63880" y="3664080"/>
                <a:ext cx="4521240" cy="453960"/>
              </a:xfrm>
              <a:custGeom>
                <a:avLst/>
                <a:gdLst/>
                <a:ahLst/>
                <a:rect l="l" t="t" r="r" b="b"/>
                <a:pathLst>
                  <a:path w="288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880" y="288"/>
                    </a:lnTo>
                    <a:lnTo>
                      <a:pt x="2838" y="256"/>
                    </a:lnTo>
                    <a:cubicBezTo>
                      <a:pt x="2838" y="256"/>
                      <a:pt x="2728" y="169"/>
                      <a:pt x="2660" y="134"/>
                    </a:cubicBezTo>
                    <a:cubicBezTo>
                      <a:pt x="2592" y="99"/>
                      <a:pt x="2502" y="67"/>
                      <a:pt x="2430" y="46"/>
                    </a:cubicBezTo>
                    <a:cubicBezTo>
                      <a:pt x="2358" y="25"/>
                      <a:pt x="2283" y="18"/>
                      <a:pt x="2230" y="10"/>
                    </a:cubicBez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63880" y="4557600"/>
                <a:ext cx="5014800" cy="459000"/>
              </a:xfrm>
              <a:custGeom>
                <a:avLst/>
                <a:gdLst/>
                <a:ahLst/>
                <a:rect l="l" t="t" r="r" b="b"/>
                <a:pathLst>
                  <a:path w="3194" h="290">
                    <a:moveTo>
                      <a:pt x="0" y="0"/>
                    </a:moveTo>
                    <a:lnTo>
                      <a:pt x="0" y="288"/>
                    </a:lnTo>
                    <a:lnTo>
                      <a:pt x="3194" y="290"/>
                    </a:lnTo>
                    <a:lnTo>
                      <a:pt x="3188" y="256"/>
                    </a:lnTo>
                    <a:cubicBezTo>
                      <a:pt x="3182" y="232"/>
                      <a:pt x="3172" y="183"/>
                      <a:pt x="3160" y="146"/>
                    </a:cubicBezTo>
                    <a:cubicBezTo>
                      <a:pt x="3146" y="103"/>
                      <a:pt x="3128" y="58"/>
                      <a:pt x="3118" y="34"/>
                    </a:cubicBezTo>
                    <a:lnTo>
                      <a:pt x="310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91240" y="5452920"/>
                <a:ext cx="1439640" cy="457200"/>
              </a:xfrm>
              <a:custGeom>
                <a:avLst/>
                <a:gdLst/>
                <a:ahLst/>
                <a:rect l="l" t="t" r="r" b="b"/>
                <a:pathLst>
                  <a:path w="3194" h="290">
                    <a:moveTo>
                      <a:pt x="0" y="290"/>
                    </a:moveTo>
                    <a:lnTo>
                      <a:pt x="0" y="2"/>
                    </a:lnTo>
                    <a:lnTo>
                      <a:pt x="3194" y="0"/>
                    </a:lnTo>
                    <a:lnTo>
                      <a:pt x="3176" y="156"/>
                    </a:lnTo>
                    <a:cubicBezTo>
                      <a:pt x="3169" y="198"/>
                      <a:pt x="3162" y="232"/>
                      <a:pt x="3150" y="254"/>
                    </a:cubicBezTo>
                    <a:lnTo>
                      <a:pt x="3140" y="290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70360" y="5456160"/>
                <a:ext cx="1347480" cy="453960"/>
              </a:xfrm>
              <a:prstGeom prst="rect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160" y="304560"/>
            <a:ext cx="867564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82160" y="1294920"/>
            <a:ext cx="86756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280" y="1417680"/>
            <a:ext cx="87184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520" y="228600"/>
            <a:ext cx="438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680" y="1050840"/>
            <a:ext cx="85946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© 2015 IBM Corpo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280360" y="682560"/>
            <a:ext cx="588960" cy="236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210960" y="3789360"/>
            <a:ext cx="8599680" cy="2246400"/>
            <a:chOff x="210960" y="3789360"/>
            <a:chExt cx="8599680" cy="2246400"/>
          </a:xfrm>
        </p:grpSpPr>
        <p:sp>
          <p:nvSpPr>
            <p:cNvPr id="114" name=""/>
            <p:cNvSpPr/>
            <p:nvPr/>
          </p:nvSpPr>
          <p:spPr>
            <a:xfrm>
              <a:off x="210960" y="3789360"/>
              <a:ext cx="1347840" cy="453960"/>
            </a:xfrm>
            <a:prstGeom prst="rect">
              <a:avLst/>
            </a:pr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0960" y="4683240"/>
              <a:ext cx="1347840" cy="455400"/>
            </a:xfrm>
            <a:prstGeom prst="rect">
              <a:avLst/>
            </a:pr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0960" y="5581800"/>
              <a:ext cx="414360" cy="453960"/>
            </a:xfrm>
            <a:prstGeom prst="rect">
              <a:avLst/>
            </a:pr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62800" y="3789360"/>
              <a:ext cx="1347840" cy="453960"/>
            </a:xfrm>
            <a:prstGeom prst="rect">
              <a:avLst/>
            </a:pr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62800" y="4683240"/>
              <a:ext cx="1347840" cy="455400"/>
            </a:xfrm>
            <a:prstGeom prst="rect">
              <a:avLst/>
            </a:pr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96280" y="5581800"/>
              <a:ext cx="414360" cy="453960"/>
            </a:xfrm>
            <a:prstGeom prst="rect">
              <a:avLst/>
            </a:pr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23920" y="3789360"/>
              <a:ext cx="4521240" cy="453960"/>
            </a:xfrm>
            <a:custGeom>
              <a:avLst/>
              <a:gdLst/>
              <a:ahLst/>
              <a:rect l="l" t="t" r="r" b="b"/>
              <a:pathLst>
                <a:path w="2880" h="288">
                  <a:moveTo>
                    <a:pt x="0" y="0"/>
                  </a:moveTo>
                  <a:lnTo>
                    <a:pt x="0" y="288"/>
                  </a:lnTo>
                  <a:lnTo>
                    <a:pt x="2880" y="288"/>
                  </a:lnTo>
                  <a:lnTo>
                    <a:pt x="2838" y="256"/>
                  </a:lnTo>
                  <a:cubicBezTo>
                    <a:pt x="2838" y="256"/>
                    <a:pt x="2728" y="169"/>
                    <a:pt x="2660" y="134"/>
                  </a:cubicBezTo>
                  <a:cubicBezTo>
                    <a:pt x="2592" y="99"/>
                    <a:pt x="2502" y="67"/>
                    <a:pt x="2430" y="46"/>
                  </a:cubicBezTo>
                  <a:cubicBezTo>
                    <a:pt x="2358" y="25"/>
                    <a:pt x="2283" y="18"/>
                    <a:pt x="2230" y="10"/>
                  </a:cubicBez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3920" y="4683240"/>
              <a:ext cx="5015160" cy="45864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0"/>
                  </a:moveTo>
                  <a:lnTo>
                    <a:pt x="0" y="288"/>
                  </a:lnTo>
                  <a:lnTo>
                    <a:pt x="3194" y="290"/>
                  </a:lnTo>
                  <a:lnTo>
                    <a:pt x="3188" y="256"/>
                  </a:lnTo>
                  <a:cubicBezTo>
                    <a:pt x="3182" y="232"/>
                    <a:pt x="3172" y="183"/>
                    <a:pt x="3160" y="146"/>
                  </a:cubicBezTo>
                  <a:cubicBezTo>
                    <a:pt x="3146" y="103"/>
                    <a:pt x="3128" y="58"/>
                    <a:pt x="3118" y="34"/>
                  </a:cubicBezTo>
                  <a:lnTo>
                    <a:pt x="310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1640" y="5578560"/>
              <a:ext cx="1439640" cy="457200"/>
            </a:xfrm>
            <a:custGeom>
              <a:avLst/>
              <a:gdLst/>
              <a:ahLst/>
              <a:rect l="l" t="t" r="r" b="b"/>
              <a:pathLst>
                <a:path w="3194" h="290">
                  <a:moveTo>
                    <a:pt x="0" y="290"/>
                  </a:moveTo>
                  <a:lnTo>
                    <a:pt x="0" y="2"/>
                  </a:lnTo>
                  <a:lnTo>
                    <a:pt x="3194" y="0"/>
                  </a:lnTo>
                  <a:lnTo>
                    <a:pt x="3176" y="156"/>
                  </a:lnTo>
                  <a:cubicBezTo>
                    <a:pt x="3169" y="198"/>
                    <a:pt x="3162" y="232"/>
                    <a:pt x="3150" y="254"/>
                  </a:cubicBezTo>
                  <a:lnTo>
                    <a:pt x="3140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0400" y="5581800"/>
              <a:ext cx="1347840" cy="453960"/>
            </a:xfrm>
            <a:prstGeom prst="rect">
              <a:avLst/>
            </a:prstGeom>
            <a:solidFill>
              <a:srgbClr val="ddddd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3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ibm.com/account/profile/us?page=re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bm.com/suppor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bm.com/support/servicerequest" TargetMode="External"/><Relationship Id="rId2" Type="http://schemas.openxmlformats.org/officeDocument/2006/relationships/hyperlink" Target="http://ibm.com/software/support/servicerequest/quick_start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tsmail@us.ibm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Customer_Support-TNF-SWG-IE@wwpdl.vnet.ibm.com" TargetMode="External"/><Relationship Id="rId2" Type="http://schemas.openxmlformats.org/officeDocument/2006/relationships/hyperlink" Target="http://www.ibm.com/planetwide/" TargetMode="External"/><Relationship Id="rId3" Type="http://schemas.openxmlformats.org/officeDocument/2006/relationships/hyperlink" Target="http://www.ibm.com/planetwide/" TargetMode="External"/><Relationship Id="rId4" Type="http://schemas.openxmlformats.org/officeDocument/2006/relationships/hyperlink" Target="https://www-946.ibm.com/sr/help/" TargetMode="External"/><Relationship Id="rId5" Type="http://schemas.openxmlformats.org/officeDocument/2006/relationships/hyperlink" Target="https://www.youtube.com/watch?v=mKXxPNFrczk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520" y="304920"/>
            <a:ext cx="8686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7889fb"/>
                </a:solidFill>
                <a:latin typeface="Arial"/>
              </a:rPr>
              <a:t>Now Factory IBM Customer Support – Welco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8840" y="1447920"/>
            <a:ext cx="859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0492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280" y="1511280"/>
            <a:ext cx="89996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elcome to Now Factory IBM Custom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ow Factory appliances are installed, configured, maintained and supported by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520" y="304920"/>
            <a:ext cx="8686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7889fb"/>
                </a:solidFill>
                <a:latin typeface="Arial"/>
              </a:rPr>
              <a:t>Now Factory IBM Customer Support – IBM 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8840" y="1447920"/>
            <a:ext cx="859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0492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80" y="1511280"/>
            <a:ext cx="89996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Please register with an IBM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ibm.com/account/profile/us?page=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Your IBM id provides access to IBM applications, services, communities, support, on-line purchasing, and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Everyone who will need to contact support must register with an IBM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82520" y="304920"/>
            <a:ext cx="8686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7889fb"/>
                </a:solidFill>
                <a:latin typeface="Arial"/>
              </a:rPr>
              <a:t>Now Factory IBM Customer Support – Support Por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8840" y="1447920"/>
            <a:ext cx="859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280" y="1511280"/>
            <a:ext cx="89996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Login to the Support Portal with your IBM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bm.com/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he Support Portal is a centralised website to access all online support content and tools, inclu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rvice requests for hardware and software (PM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pport not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pport regist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irectory of worldwide cont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82520" y="304920"/>
            <a:ext cx="8686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7889fb"/>
                </a:solidFill>
                <a:latin typeface="Arial"/>
              </a:rPr>
              <a:t>Now Factory IBM Customer Support – Service Reque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8840" y="1447920"/>
            <a:ext cx="859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492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280" y="1511280"/>
            <a:ext cx="89996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Login to the Service Request tool with your IBM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ibm.com/support/service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lternatively, follow the links for Service request on the Support Por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The Service Request tool is a fast and convenient way to create and update service requests on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720" indent="-55080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rvice Requests may also be referred to as Problem Management Records, or PM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720" indent="-55080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ssistance with the initial IBM Service Request setup is available on the IBM Support Registrations Quick Start pag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ibm.com/software/support/servicerequest/quick_star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2520" y="304920"/>
            <a:ext cx="8686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7889fb"/>
                </a:solidFill>
                <a:latin typeface="Arial"/>
              </a:rPr>
              <a:t>Now Factory IBM Customer Support – IBM Customer Number (IC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8840" y="1447920"/>
            <a:ext cx="859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0492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280" y="1511280"/>
            <a:ext cx="89996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ccess to IBM support services such as the Support Portal and Service Request require that you register with an IBM Customer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An IBM Customer Number, or ICN, is the unique number that IBM issues its customers during the entitlement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Your ICN allows IBM to identify your company and support contract and is used during interactions with IBM support, including accessing support online and by phone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If you do not know your ICN, ask your Site Technical Contact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520" y="304920"/>
            <a:ext cx="8686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7889fb"/>
                </a:solidFill>
                <a:latin typeface="Arial"/>
              </a:rPr>
              <a:t>Now Factory IBM Customer Support – Site Technical Contact (ST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8840" y="1447920"/>
            <a:ext cx="859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4920"/>
            <a:ext cx="9144000" cy="60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280" y="1511280"/>
            <a:ext cx="89996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51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BM clients designate a Site Technical Contact (STC) for each I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Once IBM has processed your enrollment form, the STC will receive a Support Welcome Letter that explains IBM support and how to use the IBM Support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The STC will also receive your organisation's IC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Note for STC: If you do not receive your ICN, email </a:t>
            </a: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ea typeface="DSerif"/>
                <a:hlinkClick r:id="rId1"/>
              </a:rPr>
              <a:t>tsmail@us.ibm.com</a:t>
            </a:r>
            <a:r>
              <a:rPr b="1" i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 Include your company's name and address, and indicate the request is for IBM Now Fa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The STC maintains authorisations for support-related Web and tool access. Contact information should be reviewed and updated regular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2520" y="304920"/>
            <a:ext cx="8686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7889fb"/>
                </a:solidFill>
                <a:latin typeface="Arial"/>
              </a:rPr>
              <a:t>Now Factory IBM Customer Support – Lin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8840" y="1447920"/>
            <a:ext cx="8597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04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4240" indent="-333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11240"/>
                <a:tab algn="l" pos="5587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280" y="1511280"/>
            <a:ext cx="89996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57280" indent="-55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email </a:t>
            </a: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ea typeface="DSerif"/>
                <a:hlinkClick r:id="rId1"/>
              </a:rPr>
              <a:t>Customer_Support-TNF-SWG-IE@wwpdl.vnet.ibm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720" indent="-5508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Appliance Support Handbo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99"/>
                </a:solidFill>
                <a:latin typeface="Arial"/>
                <a:ea typeface="DSerif"/>
              </a:rPr>
              <a:t>	</a:t>
            </a: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ea typeface="DSerif"/>
                <a:hlinkClick r:id="rId2"/>
              </a:rPr>
              <a:t>http://www.ibm.com/planetwid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Directory of worldwide cont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	</a:t>
            </a: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ea typeface="DSerif"/>
                <a:hlinkClick r:id="rId3"/>
              </a:rPr>
              <a:t>http://www.ibm.com/planetwid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BM Service Request Hel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s://www-946.ibm.com/sr/help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7280" indent="-55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IBM Service Request streamlined problem submission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	</a:t>
            </a:r>
            <a:r>
              <a:rPr b="0" lang="en-IE" sz="2000" spc="-1" strike="noStrike" u="sng">
                <a:solidFill>
                  <a:srgbClr val="ccccff"/>
                </a:solidFill>
                <a:uFillTx/>
                <a:latin typeface="Arial"/>
                <a:ea typeface="DSerif"/>
                <a:hlinkClick r:id="rId5"/>
              </a:rPr>
              <a:t>https://www.youtube.com/watch?v=mKXxPNFrczk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D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http://www.ibm.com/planetwid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572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5407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2:41:33Z</dcterms:created>
  <dc:creator>Karen Butner</dc:creator>
  <dc:description/>
  <dc:language>en-US</dc:language>
  <cp:lastModifiedBy>ADMINIBM</cp:lastModifiedBy>
  <dcterms:modified xsi:type="dcterms:W3CDTF">2015-02-25T23:07:09Z</dcterms:modified>
  <cp:revision>211</cp:revision>
  <dc:subject/>
  <dc:title>IBM Program Work Center Overview</dc:title>
</cp:coreProperties>
</file>