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wmf" ContentType="image/x-wmf"/>
  <Override PartName="/ppt/media/image1.png" ContentType="image/png"/>
  <Override PartName="/ppt/media/image24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8768-19EF-4F94-9677-B20CE168F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 a traditional network, firewalls and VPNs connect regional, or branch offices with the corporate headquarters, through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he problem with this design is that the failure of a firewall or VPN leads to the disruption of all communications between the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he initial packet for a connection from a source host is sent through all available network providers, with translated addresses. The first provider to return a response packet from the destination is selected as the best route for that connection. All other connection choices are sent a reset, to gracefully close the connection attempts made on the slower li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ith StoneGate, Stonesoft introduced the next level of high availability. Not only is it possible to cluster the firewalls, but multiple network providers can be combined, or clustered,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f a network link fails, or a firewall node fails, VPN connections are transparently failed over to the remaining available network providers, or optionally to a standby link, such as a leased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0" y="374976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56596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0" y="374976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49960" y="374976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14280" y="374976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6596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0" y="374976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0" y="374976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56596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49960" y="160020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14280" y="160020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0" y="374976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49960" y="374976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14280" y="3749760"/>
            <a:ext cx="206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65960" y="374976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65960" y="1600200"/>
            <a:ext cx="31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0" y="3749760"/>
            <a:ext cx="640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99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6633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"/>
          <p:cNvSpPr/>
          <p:nvPr/>
        </p:nvSpPr>
        <p:spPr>
          <a:xfrm>
            <a:off x="9051840" y="310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ntent2" descr=""/>
          <p:cNvPicPr/>
          <p:nvPr/>
        </p:nvPicPr>
        <p:blipFill>
          <a:blip r:embed="rId2"/>
          <a:stretch/>
        </p:blipFill>
        <p:spPr>
          <a:xfrm>
            <a:off x="0" y="0"/>
            <a:ext cx="868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7315200" y="6248520"/>
            <a:ext cx="1676520" cy="398520"/>
            <a:chOff x="7315200" y="6248520"/>
            <a:chExt cx="1676520" cy="398520"/>
          </a:xfrm>
        </p:grpSpPr>
        <p:sp>
          <p:nvSpPr>
            <p:cNvPr id="5" name=""/>
            <p:cNvSpPr/>
            <p:nvPr/>
          </p:nvSpPr>
          <p:spPr>
            <a:xfrm>
              <a:off x="7315200" y="6248880"/>
              <a:ext cx="132480" cy="398160"/>
            </a:xfrm>
            <a:custGeom>
              <a:avLst/>
              <a:gdLst/>
              <a:ahLst/>
              <a:rect l="l" t="t" r="r" b="b"/>
              <a:pathLst>
                <a:path w="810" h="2429">
                  <a:moveTo>
                    <a:pt x="810" y="1754"/>
                  </a:moveTo>
                  <a:lnTo>
                    <a:pt x="809" y="1792"/>
                  </a:lnTo>
                  <a:lnTo>
                    <a:pt x="806" y="1828"/>
                  </a:lnTo>
                  <a:lnTo>
                    <a:pt x="800" y="1864"/>
                  </a:lnTo>
                  <a:lnTo>
                    <a:pt x="793" y="1898"/>
                  </a:lnTo>
                  <a:lnTo>
                    <a:pt x="783" y="1931"/>
                  </a:lnTo>
                  <a:lnTo>
                    <a:pt x="771" y="1964"/>
                  </a:lnTo>
                  <a:lnTo>
                    <a:pt x="758" y="1995"/>
                  </a:lnTo>
                  <a:lnTo>
                    <a:pt x="742" y="2026"/>
                  </a:lnTo>
                  <a:lnTo>
                    <a:pt x="724" y="2055"/>
                  </a:lnTo>
                  <a:lnTo>
                    <a:pt x="706" y="2083"/>
                  </a:lnTo>
                  <a:lnTo>
                    <a:pt x="685" y="2110"/>
                  </a:lnTo>
                  <a:lnTo>
                    <a:pt x="663" y="2136"/>
                  </a:lnTo>
                  <a:lnTo>
                    <a:pt x="639" y="2161"/>
                  </a:lnTo>
                  <a:lnTo>
                    <a:pt x="614" y="2185"/>
                  </a:lnTo>
                  <a:lnTo>
                    <a:pt x="588" y="2208"/>
                  </a:lnTo>
                  <a:lnTo>
                    <a:pt x="561" y="2231"/>
                  </a:lnTo>
                  <a:lnTo>
                    <a:pt x="532" y="2252"/>
                  </a:lnTo>
                  <a:lnTo>
                    <a:pt x="502" y="2271"/>
                  </a:lnTo>
                  <a:lnTo>
                    <a:pt x="472" y="2291"/>
                  </a:lnTo>
                  <a:lnTo>
                    <a:pt x="439" y="2309"/>
                  </a:lnTo>
                  <a:lnTo>
                    <a:pt x="407" y="2327"/>
                  </a:lnTo>
                  <a:lnTo>
                    <a:pt x="373" y="2343"/>
                  </a:lnTo>
                  <a:lnTo>
                    <a:pt x="339" y="2358"/>
                  </a:lnTo>
                  <a:lnTo>
                    <a:pt x="305" y="2372"/>
                  </a:lnTo>
                  <a:lnTo>
                    <a:pt x="269" y="2385"/>
                  </a:lnTo>
                  <a:lnTo>
                    <a:pt x="233" y="2397"/>
                  </a:lnTo>
                  <a:lnTo>
                    <a:pt x="196" y="2409"/>
                  </a:lnTo>
                  <a:lnTo>
                    <a:pt x="159" y="2420"/>
                  </a:lnTo>
                  <a:lnTo>
                    <a:pt x="121" y="2429"/>
                  </a:lnTo>
                  <a:lnTo>
                    <a:pt x="121" y="2429"/>
                  </a:lnTo>
                  <a:lnTo>
                    <a:pt x="114" y="2413"/>
                  </a:lnTo>
                  <a:lnTo>
                    <a:pt x="97" y="2369"/>
                  </a:lnTo>
                  <a:lnTo>
                    <a:pt x="73" y="2310"/>
                  </a:lnTo>
                  <a:lnTo>
                    <a:pt x="48" y="2246"/>
                  </a:lnTo>
                  <a:lnTo>
                    <a:pt x="24" y="2186"/>
                  </a:lnTo>
                  <a:lnTo>
                    <a:pt x="7" y="2143"/>
                  </a:lnTo>
                  <a:lnTo>
                    <a:pt x="0" y="2127"/>
                  </a:lnTo>
                  <a:lnTo>
                    <a:pt x="0" y="2127"/>
                  </a:lnTo>
                  <a:lnTo>
                    <a:pt x="34" y="2114"/>
                  </a:lnTo>
                  <a:lnTo>
                    <a:pt x="69" y="2101"/>
                  </a:lnTo>
                  <a:lnTo>
                    <a:pt x="103" y="2088"/>
                  </a:lnTo>
                  <a:lnTo>
                    <a:pt x="138" y="2073"/>
                  </a:lnTo>
                  <a:lnTo>
                    <a:pt x="173" y="2059"/>
                  </a:lnTo>
                  <a:lnTo>
                    <a:pt x="207" y="2044"/>
                  </a:lnTo>
                  <a:lnTo>
                    <a:pt x="239" y="2029"/>
                  </a:lnTo>
                  <a:lnTo>
                    <a:pt x="271" y="2011"/>
                  </a:lnTo>
                  <a:lnTo>
                    <a:pt x="300" y="1993"/>
                  </a:lnTo>
                  <a:lnTo>
                    <a:pt x="327" y="1972"/>
                  </a:lnTo>
                  <a:lnTo>
                    <a:pt x="352" y="1951"/>
                  </a:lnTo>
                  <a:lnTo>
                    <a:pt x="374" y="1926"/>
                  </a:lnTo>
                  <a:lnTo>
                    <a:pt x="393" y="1899"/>
                  </a:lnTo>
                  <a:lnTo>
                    <a:pt x="408" y="1870"/>
                  </a:lnTo>
                  <a:lnTo>
                    <a:pt x="420" y="1837"/>
                  </a:lnTo>
                  <a:lnTo>
                    <a:pt x="426" y="1802"/>
                  </a:lnTo>
                  <a:lnTo>
                    <a:pt x="429" y="1764"/>
                  </a:lnTo>
                  <a:lnTo>
                    <a:pt x="429" y="1764"/>
                  </a:lnTo>
                  <a:lnTo>
                    <a:pt x="427" y="1731"/>
                  </a:lnTo>
                  <a:lnTo>
                    <a:pt x="424" y="1701"/>
                  </a:lnTo>
                  <a:lnTo>
                    <a:pt x="420" y="1671"/>
                  </a:lnTo>
                  <a:lnTo>
                    <a:pt x="412" y="1642"/>
                  </a:lnTo>
                  <a:lnTo>
                    <a:pt x="405" y="1612"/>
                  </a:lnTo>
                  <a:lnTo>
                    <a:pt x="394" y="1584"/>
                  </a:lnTo>
                  <a:lnTo>
                    <a:pt x="383" y="1556"/>
                  </a:lnTo>
                  <a:lnTo>
                    <a:pt x="370" y="1529"/>
                  </a:lnTo>
                  <a:lnTo>
                    <a:pt x="357" y="1502"/>
                  </a:lnTo>
                  <a:lnTo>
                    <a:pt x="342" y="1474"/>
                  </a:lnTo>
                  <a:lnTo>
                    <a:pt x="325" y="1448"/>
                  </a:lnTo>
                  <a:lnTo>
                    <a:pt x="309" y="1421"/>
                  </a:lnTo>
                  <a:lnTo>
                    <a:pt x="292" y="1395"/>
                  </a:lnTo>
                  <a:lnTo>
                    <a:pt x="274" y="1368"/>
                  </a:lnTo>
                  <a:lnTo>
                    <a:pt x="256" y="1341"/>
                  </a:lnTo>
                  <a:lnTo>
                    <a:pt x="238" y="1314"/>
                  </a:lnTo>
                  <a:lnTo>
                    <a:pt x="220" y="1286"/>
                  </a:lnTo>
                  <a:lnTo>
                    <a:pt x="201" y="1258"/>
                  </a:lnTo>
                  <a:lnTo>
                    <a:pt x="183" y="1230"/>
                  </a:lnTo>
                  <a:lnTo>
                    <a:pt x="164" y="1202"/>
                  </a:lnTo>
                  <a:lnTo>
                    <a:pt x="147" y="1172"/>
                  </a:lnTo>
                  <a:lnTo>
                    <a:pt x="130" y="1142"/>
                  </a:lnTo>
                  <a:lnTo>
                    <a:pt x="113" y="1111"/>
                  </a:lnTo>
                  <a:lnTo>
                    <a:pt x="97" y="1079"/>
                  </a:lnTo>
                  <a:lnTo>
                    <a:pt x="83" y="1046"/>
                  </a:lnTo>
                  <a:lnTo>
                    <a:pt x="69" y="1012"/>
                  </a:lnTo>
                  <a:lnTo>
                    <a:pt x="56" y="978"/>
                  </a:lnTo>
                  <a:lnTo>
                    <a:pt x="45" y="942"/>
                  </a:lnTo>
                  <a:lnTo>
                    <a:pt x="34" y="905"/>
                  </a:lnTo>
                  <a:lnTo>
                    <a:pt x="26" y="866"/>
                  </a:lnTo>
                  <a:lnTo>
                    <a:pt x="19" y="826"/>
                  </a:lnTo>
                  <a:lnTo>
                    <a:pt x="14" y="785"/>
                  </a:lnTo>
                  <a:lnTo>
                    <a:pt x="11" y="742"/>
                  </a:lnTo>
                  <a:lnTo>
                    <a:pt x="10" y="697"/>
                  </a:lnTo>
                  <a:lnTo>
                    <a:pt x="10" y="697"/>
                  </a:lnTo>
                  <a:lnTo>
                    <a:pt x="11" y="661"/>
                  </a:lnTo>
                  <a:lnTo>
                    <a:pt x="14" y="625"/>
                  </a:lnTo>
                  <a:lnTo>
                    <a:pt x="20" y="590"/>
                  </a:lnTo>
                  <a:lnTo>
                    <a:pt x="27" y="556"/>
                  </a:lnTo>
                  <a:lnTo>
                    <a:pt x="37" y="523"/>
                  </a:lnTo>
                  <a:lnTo>
                    <a:pt x="48" y="491"/>
                  </a:lnTo>
                  <a:lnTo>
                    <a:pt x="61" y="459"/>
                  </a:lnTo>
                  <a:lnTo>
                    <a:pt x="76" y="429"/>
                  </a:lnTo>
                  <a:lnTo>
                    <a:pt x="94" y="399"/>
                  </a:lnTo>
                  <a:lnTo>
                    <a:pt x="112" y="371"/>
                  </a:lnTo>
                  <a:lnTo>
                    <a:pt x="132" y="343"/>
                  </a:lnTo>
                  <a:lnTo>
                    <a:pt x="153" y="316"/>
                  </a:lnTo>
                  <a:lnTo>
                    <a:pt x="176" y="291"/>
                  </a:lnTo>
                  <a:lnTo>
                    <a:pt x="200" y="266"/>
                  </a:lnTo>
                  <a:lnTo>
                    <a:pt x="226" y="242"/>
                  </a:lnTo>
                  <a:lnTo>
                    <a:pt x="253" y="219"/>
                  </a:lnTo>
                  <a:lnTo>
                    <a:pt x="281" y="197"/>
                  </a:lnTo>
                  <a:lnTo>
                    <a:pt x="310" y="175"/>
                  </a:lnTo>
                  <a:lnTo>
                    <a:pt x="340" y="156"/>
                  </a:lnTo>
                  <a:lnTo>
                    <a:pt x="371" y="136"/>
                  </a:lnTo>
                  <a:lnTo>
                    <a:pt x="404" y="119"/>
                  </a:lnTo>
                  <a:lnTo>
                    <a:pt x="436" y="101"/>
                  </a:lnTo>
                  <a:lnTo>
                    <a:pt x="470" y="85"/>
                  </a:lnTo>
                  <a:lnTo>
                    <a:pt x="504" y="70"/>
                  </a:lnTo>
                  <a:lnTo>
                    <a:pt x="538" y="56"/>
                  </a:lnTo>
                  <a:lnTo>
                    <a:pt x="574" y="43"/>
                  </a:lnTo>
                  <a:lnTo>
                    <a:pt x="610" y="31"/>
                  </a:lnTo>
                  <a:lnTo>
                    <a:pt x="646" y="20"/>
                  </a:lnTo>
                  <a:lnTo>
                    <a:pt x="683" y="1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24" y="19"/>
                  </a:lnTo>
                  <a:lnTo>
                    <a:pt x="735" y="64"/>
                  </a:lnTo>
                  <a:lnTo>
                    <a:pt x="751" y="127"/>
                  </a:lnTo>
                  <a:lnTo>
                    <a:pt x="769" y="195"/>
                  </a:lnTo>
                  <a:lnTo>
                    <a:pt x="784" y="258"/>
                  </a:lnTo>
                  <a:lnTo>
                    <a:pt x="796" y="304"/>
                  </a:lnTo>
                  <a:lnTo>
                    <a:pt x="800" y="322"/>
                  </a:lnTo>
                  <a:lnTo>
                    <a:pt x="800" y="322"/>
                  </a:lnTo>
                  <a:lnTo>
                    <a:pt x="764" y="333"/>
                  </a:lnTo>
                  <a:lnTo>
                    <a:pt x="729" y="345"/>
                  </a:lnTo>
                  <a:lnTo>
                    <a:pt x="692" y="358"/>
                  </a:lnTo>
                  <a:lnTo>
                    <a:pt x="656" y="372"/>
                  </a:lnTo>
                  <a:lnTo>
                    <a:pt x="620" y="387"/>
                  </a:lnTo>
                  <a:lnTo>
                    <a:pt x="586" y="405"/>
                  </a:lnTo>
                  <a:lnTo>
                    <a:pt x="552" y="422"/>
                  </a:lnTo>
                  <a:lnTo>
                    <a:pt x="522" y="443"/>
                  </a:lnTo>
                  <a:lnTo>
                    <a:pt x="493" y="464"/>
                  </a:lnTo>
                  <a:lnTo>
                    <a:pt x="467" y="488"/>
                  </a:lnTo>
                  <a:lnTo>
                    <a:pt x="443" y="513"/>
                  </a:lnTo>
                  <a:lnTo>
                    <a:pt x="423" y="542"/>
                  </a:lnTo>
                  <a:lnTo>
                    <a:pt x="407" y="572"/>
                  </a:lnTo>
                  <a:lnTo>
                    <a:pt x="395" y="606"/>
                  </a:lnTo>
                  <a:lnTo>
                    <a:pt x="387" y="641"/>
                  </a:lnTo>
                  <a:lnTo>
                    <a:pt x="385" y="680"/>
                  </a:lnTo>
                  <a:lnTo>
                    <a:pt x="385" y="680"/>
                  </a:lnTo>
                  <a:lnTo>
                    <a:pt x="386" y="715"/>
                  </a:lnTo>
                  <a:lnTo>
                    <a:pt x="389" y="749"/>
                  </a:lnTo>
                  <a:lnTo>
                    <a:pt x="394" y="784"/>
                  </a:lnTo>
                  <a:lnTo>
                    <a:pt x="401" y="817"/>
                  </a:lnTo>
                  <a:lnTo>
                    <a:pt x="410" y="849"/>
                  </a:lnTo>
                  <a:lnTo>
                    <a:pt x="420" y="880"/>
                  </a:lnTo>
                  <a:lnTo>
                    <a:pt x="432" y="911"/>
                  </a:lnTo>
                  <a:lnTo>
                    <a:pt x="445" y="942"/>
                  </a:lnTo>
                  <a:lnTo>
                    <a:pt x="459" y="971"/>
                  </a:lnTo>
                  <a:lnTo>
                    <a:pt x="474" y="1000"/>
                  </a:lnTo>
                  <a:lnTo>
                    <a:pt x="489" y="1030"/>
                  </a:lnTo>
                  <a:lnTo>
                    <a:pt x="507" y="1058"/>
                  </a:lnTo>
                  <a:lnTo>
                    <a:pt x="524" y="1086"/>
                  </a:lnTo>
                  <a:lnTo>
                    <a:pt x="542" y="1115"/>
                  </a:lnTo>
                  <a:lnTo>
                    <a:pt x="560" y="1143"/>
                  </a:lnTo>
                  <a:lnTo>
                    <a:pt x="579" y="1171"/>
                  </a:lnTo>
                  <a:lnTo>
                    <a:pt x="598" y="1199"/>
                  </a:lnTo>
                  <a:lnTo>
                    <a:pt x="617" y="1227"/>
                  </a:lnTo>
                  <a:lnTo>
                    <a:pt x="635" y="1255"/>
                  </a:lnTo>
                  <a:lnTo>
                    <a:pt x="654" y="1284"/>
                  </a:lnTo>
                  <a:lnTo>
                    <a:pt x="671" y="1312"/>
                  </a:lnTo>
                  <a:lnTo>
                    <a:pt x="688" y="1342"/>
                  </a:lnTo>
                  <a:lnTo>
                    <a:pt x="706" y="1372"/>
                  </a:lnTo>
                  <a:lnTo>
                    <a:pt x="722" y="1403"/>
                  </a:lnTo>
                  <a:lnTo>
                    <a:pt x="737" y="1434"/>
                  </a:lnTo>
                  <a:lnTo>
                    <a:pt x="751" y="1466"/>
                  </a:lnTo>
                  <a:lnTo>
                    <a:pt x="763" y="1498"/>
                  </a:lnTo>
                  <a:lnTo>
                    <a:pt x="775" y="1532"/>
                  </a:lnTo>
                  <a:lnTo>
                    <a:pt x="785" y="1567"/>
                  </a:lnTo>
                  <a:lnTo>
                    <a:pt x="794" y="1602"/>
                  </a:lnTo>
                  <a:lnTo>
                    <a:pt x="801" y="1637"/>
                  </a:lnTo>
                  <a:lnTo>
                    <a:pt x="806" y="1676"/>
                  </a:lnTo>
                  <a:lnTo>
                    <a:pt x="809" y="1714"/>
                  </a:lnTo>
                  <a:lnTo>
                    <a:pt x="810" y="1754"/>
                  </a:lnTo>
                  <a:lnTo>
                    <a:pt x="810" y="1754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73960" y="6256080"/>
              <a:ext cx="153000" cy="38232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935" y="309"/>
                  </a:moveTo>
                  <a:lnTo>
                    <a:pt x="662" y="309"/>
                  </a:lnTo>
                  <a:lnTo>
                    <a:pt x="662" y="2334"/>
                  </a:lnTo>
                  <a:lnTo>
                    <a:pt x="287" y="2334"/>
                  </a:lnTo>
                  <a:lnTo>
                    <a:pt x="287" y="309"/>
                  </a:lnTo>
                  <a:lnTo>
                    <a:pt x="0" y="309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35" y="30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79320" y="6250680"/>
              <a:ext cx="178560" cy="392760"/>
            </a:xfrm>
            <a:custGeom>
              <a:avLst/>
              <a:gdLst/>
              <a:ahLst/>
              <a:rect l="l" t="t" r="r" b="b"/>
              <a:pathLst>
                <a:path w="1091" h="2395">
                  <a:moveTo>
                    <a:pt x="1091" y="2395"/>
                  </a:moveTo>
                  <a:lnTo>
                    <a:pt x="1003" y="2395"/>
                  </a:lnTo>
                  <a:lnTo>
                    <a:pt x="341" y="1177"/>
                  </a:lnTo>
                  <a:lnTo>
                    <a:pt x="341" y="2365"/>
                  </a:lnTo>
                  <a:lnTo>
                    <a:pt x="0" y="2365"/>
                  </a:lnTo>
                  <a:lnTo>
                    <a:pt x="0" y="0"/>
                  </a:lnTo>
                  <a:lnTo>
                    <a:pt x="98" y="0"/>
                  </a:lnTo>
                  <a:lnTo>
                    <a:pt x="753" y="1185"/>
                  </a:lnTo>
                  <a:lnTo>
                    <a:pt x="753" y="31"/>
                  </a:lnTo>
                  <a:lnTo>
                    <a:pt x="1091" y="31"/>
                  </a:lnTo>
                  <a:lnTo>
                    <a:pt x="1091" y="2395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16200" y="6256080"/>
              <a:ext cx="125640" cy="382320"/>
            </a:xfrm>
            <a:custGeom>
              <a:avLst/>
              <a:gdLst/>
              <a:ahLst/>
              <a:rect l="l" t="t" r="r" b="b"/>
              <a:pathLst>
                <a:path w="768" h="2334">
                  <a:moveTo>
                    <a:pt x="697" y="1379"/>
                  </a:moveTo>
                  <a:lnTo>
                    <a:pt x="371" y="1379"/>
                  </a:lnTo>
                  <a:lnTo>
                    <a:pt x="371" y="2027"/>
                  </a:lnTo>
                  <a:lnTo>
                    <a:pt x="768" y="2027"/>
                  </a:lnTo>
                  <a:lnTo>
                    <a:pt x="768" y="2334"/>
                  </a:lnTo>
                  <a:lnTo>
                    <a:pt x="0" y="233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309"/>
                  </a:lnTo>
                  <a:lnTo>
                    <a:pt x="371" y="309"/>
                  </a:lnTo>
                  <a:lnTo>
                    <a:pt x="371" y="1075"/>
                  </a:lnTo>
                  <a:lnTo>
                    <a:pt x="697" y="1075"/>
                  </a:lnTo>
                  <a:lnTo>
                    <a:pt x="697" y="137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78920" y="6248880"/>
              <a:ext cx="132480" cy="398160"/>
            </a:xfrm>
            <a:custGeom>
              <a:avLst/>
              <a:gdLst/>
              <a:ahLst/>
              <a:rect l="l" t="t" r="r" b="b"/>
              <a:pathLst>
                <a:path w="810" h="2429">
                  <a:moveTo>
                    <a:pt x="810" y="1754"/>
                  </a:moveTo>
                  <a:lnTo>
                    <a:pt x="808" y="1792"/>
                  </a:lnTo>
                  <a:lnTo>
                    <a:pt x="805" y="1828"/>
                  </a:lnTo>
                  <a:lnTo>
                    <a:pt x="800" y="1864"/>
                  </a:lnTo>
                  <a:lnTo>
                    <a:pt x="792" y="1898"/>
                  </a:lnTo>
                  <a:lnTo>
                    <a:pt x="782" y="1931"/>
                  </a:lnTo>
                  <a:lnTo>
                    <a:pt x="770" y="1964"/>
                  </a:lnTo>
                  <a:lnTo>
                    <a:pt x="757" y="1995"/>
                  </a:lnTo>
                  <a:lnTo>
                    <a:pt x="741" y="2026"/>
                  </a:lnTo>
                  <a:lnTo>
                    <a:pt x="724" y="2055"/>
                  </a:lnTo>
                  <a:lnTo>
                    <a:pt x="705" y="2082"/>
                  </a:lnTo>
                  <a:lnTo>
                    <a:pt x="684" y="2109"/>
                  </a:lnTo>
                  <a:lnTo>
                    <a:pt x="663" y="2136"/>
                  </a:lnTo>
                  <a:lnTo>
                    <a:pt x="639" y="2161"/>
                  </a:lnTo>
                  <a:lnTo>
                    <a:pt x="614" y="2185"/>
                  </a:lnTo>
                  <a:lnTo>
                    <a:pt x="588" y="2208"/>
                  </a:lnTo>
                  <a:lnTo>
                    <a:pt x="561" y="2230"/>
                  </a:lnTo>
                  <a:lnTo>
                    <a:pt x="531" y="2252"/>
                  </a:lnTo>
                  <a:lnTo>
                    <a:pt x="502" y="2271"/>
                  </a:lnTo>
                  <a:lnTo>
                    <a:pt x="470" y="2291"/>
                  </a:lnTo>
                  <a:lnTo>
                    <a:pt x="439" y="2309"/>
                  </a:lnTo>
                  <a:lnTo>
                    <a:pt x="406" y="2327"/>
                  </a:lnTo>
                  <a:lnTo>
                    <a:pt x="372" y="2342"/>
                  </a:lnTo>
                  <a:lnTo>
                    <a:pt x="339" y="2358"/>
                  </a:lnTo>
                  <a:lnTo>
                    <a:pt x="303" y="2372"/>
                  </a:lnTo>
                  <a:lnTo>
                    <a:pt x="268" y="2385"/>
                  </a:lnTo>
                  <a:lnTo>
                    <a:pt x="231" y="2397"/>
                  </a:lnTo>
                  <a:lnTo>
                    <a:pt x="195" y="2409"/>
                  </a:lnTo>
                  <a:lnTo>
                    <a:pt x="158" y="2420"/>
                  </a:lnTo>
                  <a:lnTo>
                    <a:pt x="120" y="2429"/>
                  </a:lnTo>
                  <a:lnTo>
                    <a:pt x="120" y="2429"/>
                  </a:lnTo>
                  <a:lnTo>
                    <a:pt x="114" y="2413"/>
                  </a:lnTo>
                  <a:lnTo>
                    <a:pt x="96" y="2369"/>
                  </a:lnTo>
                  <a:lnTo>
                    <a:pt x="72" y="2310"/>
                  </a:lnTo>
                  <a:lnTo>
                    <a:pt x="47" y="2246"/>
                  </a:lnTo>
                  <a:lnTo>
                    <a:pt x="23" y="2186"/>
                  </a:lnTo>
                  <a:lnTo>
                    <a:pt x="6" y="2143"/>
                  </a:lnTo>
                  <a:lnTo>
                    <a:pt x="0" y="2127"/>
                  </a:lnTo>
                  <a:lnTo>
                    <a:pt x="0" y="2127"/>
                  </a:lnTo>
                  <a:lnTo>
                    <a:pt x="33" y="2114"/>
                  </a:lnTo>
                  <a:lnTo>
                    <a:pt x="68" y="2101"/>
                  </a:lnTo>
                  <a:lnTo>
                    <a:pt x="103" y="2088"/>
                  </a:lnTo>
                  <a:lnTo>
                    <a:pt x="138" y="2073"/>
                  </a:lnTo>
                  <a:lnTo>
                    <a:pt x="172" y="2059"/>
                  </a:lnTo>
                  <a:lnTo>
                    <a:pt x="206" y="2044"/>
                  </a:lnTo>
                  <a:lnTo>
                    <a:pt x="239" y="2029"/>
                  </a:lnTo>
                  <a:lnTo>
                    <a:pt x="270" y="2011"/>
                  </a:lnTo>
                  <a:lnTo>
                    <a:pt x="300" y="1993"/>
                  </a:lnTo>
                  <a:lnTo>
                    <a:pt x="327" y="1972"/>
                  </a:lnTo>
                  <a:lnTo>
                    <a:pt x="352" y="1951"/>
                  </a:lnTo>
                  <a:lnTo>
                    <a:pt x="374" y="1926"/>
                  </a:lnTo>
                  <a:lnTo>
                    <a:pt x="392" y="1899"/>
                  </a:lnTo>
                  <a:lnTo>
                    <a:pt x="407" y="1870"/>
                  </a:lnTo>
                  <a:lnTo>
                    <a:pt x="419" y="1837"/>
                  </a:lnTo>
                  <a:lnTo>
                    <a:pt x="426" y="1802"/>
                  </a:lnTo>
                  <a:lnTo>
                    <a:pt x="428" y="1764"/>
                  </a:lnTo>
                  <a:lnTo>
                    <a:pt x="428" y="1764"/>
                  </a:lnTo>
                  <a:lnTo>
                    <a:pt x="427" y="1731"/>
                  </a:lnTo>
                  <a:lnTo>
                    <a:pt x="424" y="1701"/>
                  </a:lnTo>
                  <a:lnTo>
                    <a:pt x="419" y="1671"/>
                  </a:lnTo>
                  <a:lnTo>
                    <a:pt x="412" y="1642"/>
                  </a:lnTo>
                  <a:lnTo>
                    <a:pt x="403" y="1612"/>
                  </a:lnTo>
                  <a:lnTo>
                    <a:pt x="393" y="1584"/>
                  </a:lnTo>
                  <a:lnTo>
                    <a:pt x="382" y="1557"/>
                  </a:lnTo>
                  <a:lnTo>
                    <a:pt x="369" y="1529"/>
                  </a:lnTo>
                  <a:lnTo>
                    <a:pt x="355" y="1502"/>
                  </a:lnTo>
                  <a:lnTo>
                    <a:pt x="340" y="1474"/>
                  </a:lnTo>
                  <a:lnTo>
                    <a:pt x="325" y="1448"/>
                  </a:lnTo>
                  <a:lnTo>
                    <a:pt x="307" y="1421"/>
                  </a:lnTo>
                  <a:lnTo>
                    <a:pt x="290" y="1395"/>
                  </a:lnTo>
                  <a:lnTo>
                    <a:pt x="272" y="1368"/>
                  </a:lnTo>
                  <a:lnTo>
                    <a:pt x="254" y="1341"/>
                  </a:lnTo>
                  <a:lnTo>
                    <a:pt x="235" y="1314"/>
                  </a:lnTo>
                  <a:lnTo>
                    <a:pt x="217" y="1286"/>
                  </a:lnTo>
                  <a:lnTo>
                    <a:pt x="199" y="1258"/>
                  </a:lnTo>
                  <a:lnTo>
                    <a:pt x="180" y="1230"/>
                  </a:lnTo>
                  <a:lnTo>
                    <a:pt x="162" y="1202"/>
                  </a:lnTo>
                  <a:lnTo>
                    <a:pt x="144" y="1172"/>
                  </a:lnTo>
                  <a:lnTo>
                    <a:pt x="127" y="1142"/>
                  </a:lnTo>
                  <a:lnTo>
                    <a:pt x="109" y="1111"/>
                  </a:lnTo>
                  <a:lnTo>
                    <a:pt x="94" y="1079"/>
                  </a:lnTo>
                  <a:lnTo>
                    <a:pt x="79" y="1046"/>
                  </a:lnTo>
                  <a:lnTo>
                    <a:pt x="65" y="1012"/>
                  </a:lnTo>
                  <a:lnTo>
                    <a:pt x="52" y="978"/>
                  </a:lnTo>
                  <a:lnTo>
                    <a:pt x="41" y="942"/>
                  </a:lnTo>
                  <a:lnTo>
                    <a:pt x="31" y="905"/>
                  </a:lnTo>
                  <a:lnTo>
                    <a:pt x="22" y="866"/>
                  </a:lnTo>
                  <a:lnTo>
                    <a:pt x="15" y="826"/>
                  </a:lnTo>
                  <a:lnTo>
                    <a:pt x="10" y="785"/>
                  </a:lnTo>
                  <a:lnTo>
                    <a:pt x="7" y="742"/>
                  </a:lnTo>
                  <a:lnTo>
                    <a:pt x="6" y="697"/>
                  </a:lnTo>
                  <a:lnTo>
                    <a:pt x="6" y="697"/>
                  </a:lnTo>
                  <a:lnTo>
                    <a:pt x="7" y="661"/>
                  </a:lnTo>
                  <a:lnTo>
                    <a:pt x="10" y="625"/>
                  </a:lnTo>
                  <a:lnTo>
                    <a:pt x="16" y="590"/>
                  </a:lnTo>
                  <a:lnTo>
                    <a:pt x="23" y="556"/>
                  </a:lnTo>
                  <a:lnTo>
                    <a:pt x="33" y="523"/>
                  </a:lnTo>
                  <a:lnTo>
                    <a:pt x="44" y="491"/>
                  </a:lnTo>
                  <a:lnTo>
                    <a:pt x="58" y="459"/>
                  </a:lnTo>
                  <a:lnTo>
                    <a:pt x="73" y="429"/>
                  </a:lnTo>
                  <a:lnTo>
                    <a:pt x="90" y="399"/>
                  </a:lnTo>
                  <a:lnTo>
                    <a:pt x="108" y="371"/>
                  </a:lnTo>
                  <a:lnTo>
                    <a:pt x="129" y="343"/>
                  </a:lnTo>
                  <a:lnTo>
                    <a:pt x="151" y="316"/>
                  </a:lnTo>
                  <a:lnTo>
                    <a:pt x="174" y="291"/>
                  </a:lnTo>
                  <a:lnTo>
                    <a:pt x="199" y="266"/>
                  </a:lnTo>
                  <a:lnTo>
                    <a:pt x="224" y="242"/>
                  </a:lnTo>
                  <a:lnTo>
                    <a:pt x="251" y="219"/>
                  </a:lnTo>
                  <a:lnTo>
                    <a:pt x="279" y="197"/>
                  </a:lnTo>
                  <a:lnTo>
                    <a:pt x="308" y="175"/>
                  </a:lnTo>
                  <a:lnTo>
                    <a:pt x="339" y="156"/>
                  </a:lnTo>
                  <a:lnTo>
                    <a:pt x="370" y="136"/>
                  </a:lnTo>
                  <a:lnTo>
                    <a:pt x="402" y="119"/>
                  </a:lnTo>
                  <a:lnTo>
                    <a:pt x="434" y="101"/>
                  </a:lnTo>
                  <a:lnTo>
                    <a:pt x="468" y="85"/>
                  </a:lnTo>
                  <a:lnTo>
                    <a:pt x="503" y="70"/>
                  </a:lnTo>
                  <a:lnTo>
                    <a:pt x="538" y="56"/>
                  </a:lnTo>
                  <a:lnTo>
                    <a:pt x="574" y="43"/>
                  </a:lnTo>
                  <a:lnTo>
                    <a:pt x="609" y="31"/>
                  </a:lnTo>
                  <a:lnTo>
                    <a:pt x="645" y="20"/>
                  </a:lnTo>
                  <a:lnTo>
                    <a:pt x="682" y="10"/>
                  </a:lnTo>
                  <a:lnTo>
                    <a:pt x="718" y="0"/>
                  </a:lnTo>
                  <a:lnTo>
                    <a:pt x="718" y="0"/>
                  </a:lnTo>
                  <a:lnTo>
                    <a:pt x="724" y="19"/>
                  </a:lnTo>
                  <a:lnTo>
                    <a:pt x="734" y="64"/>
                  </a:lnTo>
                  <a:lnTo>
                    <a:pt x="751" y="127"/>
                  </a:lnTo>
                  <a:lnTo>
                    <a:pt x="768" y="195"/>
                  </a:lnTo>
                  <a:lnTo>
                    <a:pt x="783" y="258"/>
                  </a:lnTo>
                  <a:lnTo>
                    <a:pt x="795" y="304"/>
                  </a:lnTo>
                  <a:lnTo>
                    <a:pt x="800" y="322"/>
                  </a:lnTo>
                  <a:lnTo>
                    <a:pt x="800" y="322"/>
                  </a:lnTo>
                  <a:lnTo>
                    <a:pt x="764" y="333"/>
                  </a:lnTo>
                  <a:lnTo>
                    <a:pt x="728" y="345"/>
                  </a:lnTo>
                  <a:lnTo>
                    <a:pt x="691" y="358"/>
                  </a:lnTo>
                  <a:lnTo>
                    <a:pt x="655" y="372"/>
                  </a:lnTo>
                  <a:lnTo>
                    <a:pt x="619" y="387"/>
                  </a:lnTo>
                  <a:lnTo>
                    <a:pt x="586" y="405"/>
                  </a:lnTo>
                  <a:lnTo>
                    <a:pt x="552" y="422"/>
                  </a:lnTo>
                  <a:lnTo>
                    <a:pt x="521" y="443"/>
                  </a:lnTo>
                  <a:lnTo>
                    <a:pt x="492" y="464"/>
                  </a:lnTo>
                  <a:lnTo>
                    <a:pt x="466" y="488"/>
                  </a:lnTo>
                  <a:lnTo>
                    <a:pt x="442" y="513"/>
                  </a:lnTo>
                  <a:lnTo>
                    <a:pt x="422" y="542"/>
                  </a:lnTo>
                  <a:lnTo>
                    <a:pt x="406" y="572"/>
                  </a:lnTo>
                  <a:lnTo>
                    <a:pt x="394" y="606"/>
                  </a:lnTo>
                  <a:lnTo>
                    <a:pt x="387" y="641"/>
                  </a:lnTo>
                  <a:lnTo>
                    <a:pt x="384" y="680"/>
                  </a:lnTo>
                  <a:lnTo>
                    <a:pt x="384" y="680"/>
                  </a:lnTo>
                  <a:lnTo>
                    <a:pt x="386" y="715"/>
                  </a:lnTo>
                  <a:lnTo>
                    <a:pt x="389" y="749"/>
                  </a:lnTo>
                  <a:lnTo>
                    <a:pt x="393" y="784"/>
                  </a:lnTo>
                  <a:lnTo>
                    <a:pt x="401" y="817"/>
                  </a:lnTo>
                  <a:lnTo>
                    <a:pt x="409" y="849"/>
                  </a:lnTo>
                  <a:lnTo>
                    <a:pt x="419" y="880"/>
                  </a:lnTo>
                  <a:lnTo>
                    <a:pt x="431" y="911"/>
                  </a:lnTo>
                  <a:lnTo>
                    <a:pt x="444" y="942"/>
                  </a:lnTo>
                  <a:lnTo>
                    <a:pt x="458" y="971"/>
                  </a:lnTo>
                  <a:lnTo>
                    <a:pt x="472" y="1000"/>
                  </a:lnTo>
                  <a:lnTo>
                    <a:pt x="489" y="1030"/>
                  </a:lnTo>
                  <a:lnTo>
                    <a:pt x="506" y="1058"/>
                  </a:lnTo>
                  <a:lnTo>
                    <a:pt x="524" y="1086"/>
                  </a:lnTo>
                  <a:lnTo>
                    <a:pt x="541" y="1115"/>
                  </a:lnTo>
                  <a:lnTo>
                    <a:pt x="559" y="1143"/>
                  </a:lnTo>
                  <a:lnTo>
                    <a:pt x="578" y="1171"/>
                  </a:lnTo>
                  <a:lnTo>
                    <a:pt x="598" y="1199"/>
                  </a:lnTo>
                  <a:lnTo>
                    <a:pt x="616" y="1227"/>
                  </a:lnTo>
                  <a:lnTo>
                    <a:pt x="634" y="1255"/>
                  </a:lnTo>
                  <a:lnTo>
                    <a:pt x="653" y="1284"/>
                  </a:lnTo>
                  <a:lnTo>
                    <a:pt x="670" y="1312"/>
                  </a:lnTo>
                  <a:lnTo>
                    <a:pt x="688" y="1342"/>
                  </a:lnTo>
                  <a:lnTo>
                    <a:pt x="705" y="1372"/>
                  </a:lnTo>
                  <a:lnTo>
                    <a:pt x="721" y="1403"/>
                  </a:lnTo>
                  <a:lnTo>
                    <a:pt x="737" y="1434"/>
                  </a:lnTo>
                  <a:lnTo>
                    <a:pt x="750" y="1466"/>
                  </a:lnTo>
                  <a:lnTo>
                    <a:pt x="763" y="1498"/>
                  </a:lnTo>
                  <a:lnTo>
                    <a:pt x="775" y="1532"/>
                  </a:lnTo>
                  <a:lnTo>
                    <a:pt x="785" y="1567"/>
                  </a:lnTo>
                  <a:lnTo>
                    <a:pt x="793" y="1602"/>
                  </a:lnTo>
                  <a:lnTo>
                    <a:pt x="801" y="1637"/>
                  </a:lnTo>
                  <a:lnTo>
                    <a:pt x="805" y="1676"/>
                  </a:lnTo>
                  <a:lnTo>
                    <a:pt x="808" y="1714"/>
                  </a:lnTo>
                  <a:lnTo>
                    <a:pt x="810" y="1754"/>
                  </a:lnTo>
                  <a:lnTo>
                    <a:pt x="810" y="1754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85000" y="6256080"/>
              <a:ext cx="120600" cy="382320"/>
            </a:xfrm>
            <a:custGeom>
              <a:avLst/>
              <a:gdLst/>
              <a:ahLst/>
              <a:rect l="l" t="t" r="r" b="b"/>
              <a:pathLst>
                <a:path w="737" h="2334">
                  <a:moveTo>
                    <a:pt x="682" y="1379"/>
                  </a:moveTo>
                  <a:lnTo>
                    <a:pt x="371" y="1379"/>
                  </a:lnTo>
                  <a:lnTo>
                    <a:pt x="371" y="2334"/>
                  </a:lnTo>
                  <a:lnTo>
                    <a:pt x="0" y="2334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7" y="309"/>
                  </a:lnTo>
                  <a:lnTo>
                    <a:pt x="371" y="309"/>
                  </a:lnTo>
                  <a:lnTo>
                    <a:pt x="371" y="1075"/>
                  </a:lnTo>
                  <a:lnTo>
                    <a:pt x="682" y="1075"/>
                  </a:lnTo>
                  <a:lnTo>
                    <a:pt x="682" y="137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39920" y="6248520"/>
              <a:ext cx="196920" cy="397440"/>
            </a:xfrm>
            <a:custGeom>
              <a:avLst/>
              <a:gdLst/>
              <a:ahLst/>
              <a:rect l="l" t="t" r="r" b="b"/>
              <a:pathLst>
                <a:path w="1204" h="2425">
                  <a:moveTo>
                    <a:pt x="603" y="0"/>
                  </a:moveTo>
                  <a:lnTo>
                    <a:pt x="566" y="1"/>
                  </a:lnTo>
                  <a:lnTo>
                    <a:pt x="531" y="4"/>
                  </a:lnTo>
                  <a:lnTo>
                    <a:pt x="497" y="10"/>
                  </a:lnTo>
                  <a:lnTo>
                    <a:pt x="466" y="18"/>
                  </a:lnTo>
                  <a:lnTo>
                    <a:pt x="434" y="27"/>
                  </a:lnTo>
                  <a:lnTo>
                    <a:pt x="405" y="39"/>
                  </a:lnTo>
                  <a:lnTo>
                    <a:pt x="378" y="52"/>
                  </a:lnTo>
                  <a:lnTo>
                    <a:pt x="351" y="68"/>
                  </a:lnTo>
                  <a:lnTo>
                    <a:pt x="326" y="85"/>
                  </a:lnTo>
                  <a:lnTo>
                    <a:pt x="302" y="103"/>
                  </a:lnTo>
                  <a:lnTo>
                    <a:pt x="279" y="124"/>
                  </a:lnTo>
                  <a:lnTo>
                    <a:pt x="257" y="146"/>
                  </a:lnTo>
                  <a:lnTo>
                    <a:pt x="236" y="169"/>
                  </a:lnTo>
                  <a:lnTo>
                    <a:pt x="217" y="194"/>
                  </a:lnTo>
                  <a:lnTo>
                    <a:pt x="198" y="219"/>
                  </a:lnTo>
                  <a:lnTo>
                    <a:pt x="181" y="246"/>
                  </a:lnTo>
                  <a:lnTo>
                    <a:pt x="165" y="274"/>
                  </a:lnTo>
                  <a:lnTo>
                    <a:pt x="149" y="302"/>
                  </a:lnTo>
                  <a:lnTo>
                    <a:pt x="135" y="333"/>
                  </a:lnTo>
                  <a:lnTo>
                    <a:pt x="122" y="363"/>
                  </a:lnTo>
                  <a:lnTo>
                    <a:pt x="110" y="395"/>
                  </a:lnTo>
                  <a:lnTo>
                    <a:pt x="98" y="427"/>
                  </a:lnTo>
                  <a:lnTo>
                    <a:pt x="87" y="460"/>
                  </a:lnTo>
                  <a:lnTo>
                    <a:pt x="78" y="494"/>
                  </a:lnTo>
                  <a:lnTo>
                    <a:pt x="69" y="527"/>
                  </a:lnTo>
                  <a:lnTo>
                    <a:pt x="60" y="562"/>
                  </a:lnTo>
                  <a:lnTo>
                    <a:pt x="53" y="597"/>
                  </a:lnTo>
                  <a:lnTo>
                    <a:pt x="45" y="632"/>
                  </a:lnTo>
                  <a:lnTo>
                    <a:pt x="40" y="667"/>
                  </a:lnTo>
                  <a:lnTo>
                    <a:pt x="33" y="701"/>
                  </a:lnTo>
                  <a:lnTo>
                    <a:pt x="29" y="737"/>
                  </a:lnTo>
                  <a:lnTo>
                    <a:pt x="23" y="772"/>
                  </a:lnTo>
                  <a:lnTo>
                    <a:pt x="20" y="807"/>
                  </a:lnTo>
                  <a:lnTo>
                    <a:pt x="17" y="842"/>
                  </a:lnTo>
                  <a:lnTo>
                    <a:pt x="13" y="876"/>
                  </a:lnTo>
                  <a:lnTo>
                    <a:pt x="10" y="910"/>
                  </a:lnTo>
                  <a:lnTo>
                    <a:pt x="8" y="944"/>
                  </a:lnTo>
                  <a:lnTo>
                    <a:pt x="6" y="976"/>
                  </a:lnTo>
                  <a:lnTo>
                    <a:pt x="5" y="1009"/>
                  </a:lnTo>
                  <a:lnTo>
                    <a:pt x="4" y="1042"/>
                  </a:lnTo>
                  <a:lnTo>
                    <a:pt x="3" y="1072"/>
                  </a:lnTo>
                  <a:lnTo>
                    <a:pt x="2" y="1102"/>
                  </a:lnTo>
                  <a:lnTo>
                    <a:pt x="2" y="1132"/>
                  </a:lnTo>
                  <a:lnTo>
                    <a:pt x="2" y="1160"/>
                  </a:lnTo>
                  <a:lnTo>
                    <a:pt x="2" y="1187"/>
                  </a:lnTo>
                  <a:lnTo>
                    <a:pt x="0" y="1213"/>
                  </a:lnTo>
                  <a:lnTo>
                    <a:pt x="0" y="1213"/>
                  </a:lnTo>
                  <a:lnTo>
                    <a:pt x="2" y="1238"/>
                  </a:lnTo>
                  <a:lnTo>
                    <a:pt x="2" y="1266"/>
                  </a:lnTo>
                  <a:lnTo>
                    <a:pt x="2" y="1294"/>
                  </a:lnTo>
                  <a:lnTo>
                    <a:pt x="2" y="1323"/>
                  </a:lnTo>
                  <a:lnTo>
                    <a:pt x="3" y="1352"/>
                  </a:lnTo>
                  <a:lnTo>
                    <a:pt x="4" y="1384"/>
                  </a:lnTo>
                  <a:lnTo>
                    <a:pt x="5" y="1416"/>
                  </a:lnTo>
                  <a:lnTo>
                    <a:pt x="6" y="1448"/>
                  </a:lnTo>
                  <a:lnTo>
                    <a:pt x="8" y="1481"/>
                  </a:lnTo>
                  <a:lnTo>
                    <a:pt x="10" y="1514"/>
                  </a:lnTo>
                  <a:lnTo>
                    <a:pt x="13" y="1549"/>
                  </a:lnTo>
                  <a:lnTo>
                    <a:pt x="17" y="1583"/>
                  </a:lnTo>
                  <a:lnTo>
                    <a:pt x="20" y="1618"/>
                  </a:lnTo>
                  <a:lnTo>
                    <a:pt x="23" y="1653"/>
                  </a:lnTo>
                  <a:lnTo>
                    <a:pt x="29" y="1688"/>
                  </a:lnTo>
                  <a:lnTo>
                    <a:pt x="33" y="1723"/>
                  </a:lnTo>
                  <a:lnTo>
                    <a:pt x="40" y="1758"/>
                  </a:lnTo>
                  <a:lnTo>
                    <a:pt x="45" y="1794"/>
                  </a:lnTo>
                  <a:lnTo>
                    <a:pt x="53" y="1829"/>
                  </a:lnTo>
                  <a:lnTo>
                    <a:pt x="60" y="1863"/>
                  </a:lnTo>
                  <a:lnTo>
                    <a:pt x="69" y="1897"/>
                  </a:lnTo>
                  <a:lnTo>
                    <a:pt x="78" y="1931"/>
                  </a:lnTo>
                  <a:lnTo>
                    <a:pt x="87" y="1965"/>
                  </a:lnTo>
                  <a:lnTo>
                    <a:pt x="98" y="1997"/>
                  </a:lnTo>
                  <a:lnTo>
                    <a:pt x="110" y="2030"/>
                  </a:lnTo>
                  <a:lnTo>
                    <a:pt x="122" y="2061"/>
                  </a:lnTo>
                  <a:lnTo>
                    <a:pt x="135" y="2093"/>
                  </a:lnTo>
                  <a:lnTo>
                    <a:pt x="149" y="2122"/>
                  </a:lnTo>
                  <a:lnTo>
                    <a:pt x="165" y="2151"/>
                  </a:lnTo>
                  <a:lnTo>
                    <a:pt x="181" y="2180"/>
                  </a:lnTo>
                  <a:lnTo>
                    <a:pt x="198" y="2206"/>
                  </a:lnTo>
                  <a:lnTo>
                    <a:pt x="217" y="2232"/>
                  </a:lnTo>
                  <a:lnTo>
                    <a:pt x="236" y="2256"/>
                  </a:lnTo>
                  <a:lnTo>
                    <a:pt x="257" y="2280"/>
                  </a:lnTo>
                  <a:lnTo>
                    <a:pt x="279" y="2302"/>
                  </a:lnTo>
                  <a:lnTo>
                    <a:pt x="302" y="2321"/>
                  </a:lnTo>
                  <a:lnTo>
                    <a:pt x="326" y="2340"/>
                  </a:lnTo>
                  <a:lnTo>
                    <a:pt x="351" y="2357"/>
                  </a:lnTo>
                  <a:lnTo>
                    <a:pt x="378" y="2372"/>
                  </a:lnTo>
                  <a:lnTo>
                    <a:pt x="405" y="2386"/>
                  </a:lnTo>
                  <a:lnTo>
                    <a:pt x="434" y="2397"/>
                  </a:lnTo>
                  <a:lnTo>
                    <a:pt x="466" y="2407"/>
                  </a:lnTo>
                  <a:lnTo>
                    <a:pt x="497" y="2415"/>
                  </a:lnTo>
                  <a:lnTo>
                    <a:pt x="531" y="2421"/>
                  </a:lnTo>
                  <a:lnTo>
                    <a:pt x="566" y="2424"/>
                  </a:lnTo>
                  <a:lnTo>
                    <a:pt x="603" y="2425"/>
                  </a:lnTo>
                  <a:lnTo>
                    <a:pt x="603" y="2425"/>
                  </a:lnTo>
                  <a:lnTo>
                    <a:pt x="639" y="2424"/>
                  </a:lnTo>
                  <a:lnTo>
                    <a:pt x="672" y="2421"/>
                  </a:lnTo>
                  <a:lnTo>
                    <a:pt x="705" y="2417"/>
                  </a:lnTo>
                  <a:lnTo>
                    <a:pt x="738" y="2409"/>
                  </a:lnTo>
                  <a:lnTo>
                    <a:pt x="767" y="2402"/>
                  </a:lnTo>
                  <a:lnTo>
                    <a:pt x="796" y="2391"/>
                  </a:lnTo>
                  <a:lnTo>
                    <a:pt x="823" y="2379"/>
                  </a:lnTo>
                  <a:lnTo>
                    <a:pt x="851" y="2366"/>
                  </a:lnTo>
                  <a:lnTo>
                    <a:pt x="876" y="2350"/>
                  </a:lnTo>
                  <a:lnTo>
                    <a:pt x="900" y="2334"/>
                  </a:lnTo>
                  <a:lnTo>
                    <a:pt x="922" y="2316"/>
                  </a:lnTo>
                  <a:lnTo>
                    <a:pt x="943" y="2296"/>
                  </a:lnTo>
                  <a:lnTo>
                    <a:pt x="964" y="2275"/>
                  </a:lnTo>
                  <a:lnTo>
                    <a:pt x="983" y="2254"/>
                  </a:lnTo>
                  <a:lnTo>
                    <a:pt x="1002" y="2231"/>
                  </a:lnTo>
                  <a:lnTo>
                    <a:pt x="1019" y="2206"/>
                  </a:lnTo>
                  <a:lnTo>
                    <a:pt x="1035" y="2181"/>
                  </a:lnTo>
                  <a:lnTo>
                    <a:pt x="1051" y="2154"/>
                  </a:lnTo>
                  <a:lnTo>
                    <a:pt x="1065" y="2126"/>
                  </a:lnTo>
                  <a:lnTo>
                    <a:pt x="1078" y="2098"/>
                  </a:lnTo>
                  <a:lnTo>
                    <a:pt x="1091" y="2069"/>
                  </a:lnTo>
                  <a:lnTo>
                    <a:pt x="1103" y="2038"/>
                  </a:lnTo>
                  <a:lnTo>
                    <a:pt x="1114" y="2008"/>
                  </a:lnTo>
                  <a:lnTo>
                    <a:pt x="1124" y="1975"/>
                  </a:lnTo>
                  <a:lnTo>
                    <a:pt x="1132" y="1944"/>
                  </a:lnTo>
                  <a:lnTo>
                    <a:pt x="1141" y="1910"/>
                  </a:lnTo>
                  <a:lnTo>
                    <a:pt x="1149" y="1876"/>
                  </a:lnTo>
                  <a:lnTo>
                    <a:pt x="1156" y="1843"/>
                  </a:lnTo>
                  <a:lnTo>
                    <a:pt x="1163" y="1809"/>
                  </a:lnTo>
                  <a:lnTo>
                    <a:pt x="1169" y="1774"/>
                  </a:lnTo>
                  <a:lnTo>
                    <a:pt x="1174" y="1738"/>
                  </a:lnTo>
                  <a:lnTo>
                    <a:pt x="1179" y="1704"/>
                  </a:lnTo>
                  <a:lnTo>
                    <a:pt x="1183" y="1668"/>
                  </a:lnTo>
                  <a:lnTo>
                    <a:pt x="1187" y="1632"/>
                  </a:lnTo>
                  <a:lnTo>
                    <a:pt x="1190" y="1596"/>
                  </a:lnTo>
                  <a:lnTo>
                    <a:pt x="1193" y="1560"/>
                  </a:lnTo>
                  <a:lnTo>
                    <a:pt x="1195" y="1524"/>
                  </a:lnTo>
                  <a:lnTo>
                    <a:pt x="1197" y="1488"/>
                  </a:lnTo>
                  <a:lnTo>
                    <a:pt x="1200" y="1452"/>
                  </a:lnTo>
                  <a:lnTo>
                    <a:pt x="1201" y="1418"/>
                  </a:lnTo>
                  <a:lnTo>
                    <a:pt x="1202" y="1382"/>
                  </a:lnTo>
                  <a:lnTo>
                    <a:pt x="1203" y="1347"/>
                  </a:lnTo>
                  <a:lnTo>
                    <a:pt x="1203" y="1313"/>
                  </a:lnTo>
                  <a:lnTo>
                    <a:pt x="1203" y="1279"/>
                  </a:lnTo>
                  <a:lnTo>
                    <a:pt x="1204" y="1245"/>
                  </a:lnTo>
                  <a:lnTo>
                    <a:pt x="1204" y="1213"/>
                  </a:lnTo>
                  <a:lnTo>
                    <a:pt x="1204" y="1213"/>
                  </a:lnTo>
                  <a:lnTo>
                    <a:pt x="1204" y="1180"/>
                  </a:lnTo>
                  <a:lnTo>
                    <a:pt x="1203" y="1146"/>
                  </a:lnTo>
                  <a:lnTo>
                    <a:pt x="1203" y="1112"/>
                  </a:lnTo>
                  <a:lnTo>
                    <a:pt x="1203" y="1077"/>
                  </a:lnTo>
                  <a:lnTo>
                    <a:pt x="1202" y="1043"/>
                  </a:lnTo>
                  <a:lnTo>
                    <a:pt x="1201" y="1008"/>
                  </a:lnTo>
                  <a:lnTo>
                    <a:pt x="1200" y="972"/>
                  </a:lnTo>
                  <a:lnTo>
                    <a:pt x="1197" y="936"/>
                  </a:lnTo>
                  <a:lnTo>
                    <a:pt x="1195" y="900"/>
                  </a:lnTo>
                  <a:lnTo>
                    <a:pt x="1193" y="864"/>
                  </a:lnTo>
                  <a:lnTo>
                    <a:pt x="1190" y="828"/>
                  </a:lnTo>
                  <a:lnTo>
                    <a:pt x="1187" y="793"/>
                  </a:lnTo>
                  <a:lnTo>
                    <a:pt x="1183" y="757"/>
                  </a:lnTo>
                  <a:lnTo>
                    <a:pt x="1179" y="722"/>
                  </a:lnTo>
                  <a:lnTo>
                    <a:pt x="1174" y="686"/>
                  </a:lnTo>
                  <a:lnTo>
                    <a:pt x="1169" y="651"/>
                  </a:lnTo>
                  <a:lnTo>
                    <a:pt x="1163" y="617"/>
                  </a:lnTo>
                  <a:lnTo>
                    <a:pt x="1156" y="582"/>
                  </a:lnTo>
                  <a:lnTo>
                    <a:pt x="1149" y="548"/>
                  </a:lnTo>
                  <a:lnTo>
                    <a:pt x="1141" y="514"/>
                  </a:lnTo>
                  <a:lnTo>
                    <a:pt x="1132" y="482"/>
                  </a:lnTo>
                  <a:lnTo>
                    <a:pt x="1124" y="449"/>
                  </a:lnTo>
                  <a:lnTo>
                    <a:pt x="1114" y="418"/>
                  </a:lnTo>
                  <a:lnTo>
                    <a:pt x="1103" y="386"/>
                  </a:lnTo>
                  <a:lnTo>
                    <a:pt x="1091" y="357"/>
                  </a:lnTo>
                  <a:lnTo>
                    <a:pt x="1078" y="327"/>
                  </a:lnTo>
                  <a:lnTo>
                    <a:pt x="1065" y="298"/>
                  </a:lnTo>
                  <a:lnTo>
                    <a:pt x="1051" y="271"/>
                  </a:lnTo>
                  <a:lnTo>
                    <a:pt x="1035" y="245"/>
                  </a:lnTo>
                  <a:lnTo>
                    <a:pt x="1019" y="219"/>
                  </a:lnTo>
                  <a:lnTo>
                    <a:pt x="1002" y="195"/>
                  </a:lnTo>
                  <a:lnTo>
                    <a:pt x="983" y="171"/>
                  </a:lnTo>
                  <a:lnTo>
                    <a:pt x="964" y="149"/>
                  </a:lnTo>
                  <a:lnTo>
                    <a:pt x="943" y="128"/>
                  </a:lnTo>
                  <a:lnTo>
                    <a:pt x="922" y="109"/>
                  </a:lnTo>
                  <a:lnTo>
                    <a:pt x="900" y="91"/>
                  </a:lnTo>
                  <a:lnTo>
                    <a:pt x="876" y="74"/>
                  </a:lnTo>
                  <a:lnTo>
                    <a:pt x="851" y="59"/>
                  </a:lnTo>
                  <a:lnTo>
                    <a:pt x="823" y="46"/>
                  </a:lnTo>
                  <a:lnTo>
                    <a:pt x="796" y="34"/>
                  </a:lnTo>
                  <a:lnTo>
                    <a:pt x="767" y="24"/>
                  </a:lnTo>
                  <a:lnTo>
                    <a:pt x="738" y="15"/>
                  </a:lnTo>
                  <a:lnTo>
                    <a:pt x="705" y="9"/>
                  </a:lnTo>
                  <a:lnTo>
                    <a:pt x="672" y="3"/>
                  </a:lnTo>
                  <a:lnTo>
                    <a:pt x="639" y="1"/>
                  </a:lnTo>
                  <a:lnTo>
                    <a:pt x="603" y="0"/>
                  </a:lnTo>
                  <a:lnTo>
                    <a:pt x="603" y="0"/>
                  </a:lnTo>
                  <a:close/>
                  <a:moveTo>
                    <a:pt x="603" y="321"/>
                  </a:moveTo>
                  <a:lnTo>
                    <a:pt x="627" y="323"/>
                  </a:lnTo>
                  <a:lnTo>
                    <a:pt x="648" y="331"/>
                  </a:lnTo>
                  <a:lnTo>
                    <a:pt x="669" y="341"/>
                  </a:lnTo>
                  <a:lnTo>
                    <a:pt x="689" y="358"/>
                  </a:lnTo>
                  <a:lnTo>
                    <a:pt x="706" y="376"/>
                  </a:lnTo>
                  <a:lnTo>
                    <a:pt x="722" y="400"/>
                  </a:lnTo>
                  <a:lnTo>
                    <a:pt x="738" y="426"/>
                  </a:lnTo>
                  <a:lnTo>
                    <a:pt x="751" y="455"/>
                  </a:lnTo>
                  <a:lnTo>
                    <a:pt x="763" y="486"/>
                  </a:lnTo>
                  <a:lnTo>
                    <a:pt x="773" y="521"/>
                  </a:lnTo>
                  <a:lnTo>
                    <a:pt x="783" y="557"/>
                  </a:lnTo>
                  <a:lnTo>
                    <a:pt x="792" y="595"/>
                  </a:lnTo>
                  <a:lnTo>
                    <a:pt x="800" y="634"/>
                  </a:lnTo>
                  <a:lnTo>
                    <a:pt x="806" y="674"/>
                  </a:lnTo>
                  <a:lnTo>
                    <a:pt x="813" y="714"/>
                  </a:lnTo>
                  <a:lnTo>
                    <a:pt x="817" y="757"/>
                  </a:lnTo>
                  <a:lnTo>
                    <a:pt x="821" y="798"/>
                  </a:lnTo>
                  <a:lnTo>
                    <a:pt x="825" y="840"/>
                  </a:lnTo>
                  <a:lnTo>
                    <a:pt x="828" y="882"/>
                  </a:lnTo>
                  <a:lnTo>
                    <a:pt x="830" y="923"/>
                  </a:lnTo>
                  <a:lnTo>
                    <a:pt x="832" y="962"/>
                  </a:lnTo>
                  <a:lnTo>
                    <a:pt x="833" y="1001"/>
                  </a:lnTo>
                  <a:lnTo>
                    <a:pt x="834" y="1038"/>
                  </a:lnTo>
                  <a:lnTo>
                    <a:pt x="834" y="1074"/>
                  </a:lnTo>
                  <a:lnTo>
                    <a:pt x="835" y="1107"/>
                  </a:lnTo>
                  <a:lnTo>
                    <a:pt x="835" y="1138"/>
                  </a:lnTo>
                  <a:lnTo>
                    <a:pt x="835" y="1167"/>
                  </a:lnTo>
                  <a:lnTo>
                    <a:pt x="835" y="1192"/>
                  </a:lnTo>
                  <a:lnTo>
                    <a:pt x="835" y="1213"/>
                  </a:lnTo>
                  <a:lnTo>
                    <a:pt x="835" y="1213"/>
                  </a:lnTo>
                  <a:lnTo>
                    <a:pt x="835" y="1234"/>
                  </a:lnTo>
                  <a:lnTo>
                    <a:pt x="835" y="1259"/>
                  </a:lnTo>
                  <a:lnTo>
                    <a:pt x="835" y="1287"/>
                  </a:lnTo>
                  <a:lnTo>
                    <a:pt x="835" y="1318"/>
                  </a:lnTo>
                  <a:lnTo>
                    <a:pt x="834" y="1351"/>
                  </a:lnTo>
                  <a:lnTo>
                    <a:pt x="834" y="1386"/>
                  </a:lnTo>
                  <a:lnTo>
                    <a:pt x="833" y="1423"/>
                  </a:lnTo>
                  <a:lnTo>
                    <a:pt x="832" y="1462"/>
                  </a:lnTo>
                  <a:lnTo>
                    <a:pt x="830" y="1502"/>
                  </a:lnTo>
                  <a:lnTo>
                    <a:pt x="828" y="1543"/>
                  </a:lnTo>
                  <a:lnTo>
                    <a:pt x="825" y="1584"/>
                  </a:lnTo>
                  <a:lnTo>
                    <a:pt x="821" y="1626"/>
                  </a:lnTo>
                  <a:lnTo>
                    <a:pt x="817" y="1669"/>
                  </a:lnTo>
                  <a:lnTo>
                    <a:pt x="813" y="1710"/>
                  </a:lnTo>
                  <a:lnTo>
                    <a:pt x="806" y="1751"/>
                  </a:lnTo>
                  <a:lnTo>
                    <a:pt x="800" y="1792"/>
                  </a:lnTo>
                  <a:lnTo>
                    <a:pt x="792" y="1831"/>
                  </a:lnTo>
                  <a:lnTo>
                    <a:pt x="783" y="1869"/>
                  </a:lnTo>
                  <a:lnTo>
                    <a:pt x="773" y="1905"/>
                  </a:lnTo>
                  <a:lnTo>
                    <a:pt x="763" y="1938"/>
                  </a:lnTo>
                  <a:lnTo>
                    <a:pt x="751" y="1970"/>
                  </a:lnTo>
                  <a:lnTo>
                    <a:pt x="738" y="1999"/>
                  </a:lnTo>
                  <a:lnTo>
                    <a:pt x="722" y="2025"/>
                  </a:lnTo>
                  <a:lnTo>
                    <a:pt x="706" y="2048"/>
                  </a:lnTo>
                  <a:lnTo>
                    <a:pt x="689" y="2068"/>
                  </a:lnTo>
                  <a:lnTo>
                    <a:pt x="669" y="2083"/>
                  </a:lnTo>
                  <a:lnTo>
                    <a:pt x="648" y="2095"/>
                  </a:lnTo>
                  <a:lnTo>
                    <a:pt x="627" y="2101"/>
                  </a:lnTo>
                  <a:lnTo>
                    <a:pt x="603" y="2105"/>
                  </a:lnTo>
                  <a:lnTo>
                    <a:pt x="603" y="2105"/>
                  </a:lnTo>
                  <a:lnTo>
                    <a:pt x="579" y="2101"/>
                  </a:lnTo>
                  <a:lnTo>
                    <a:pt x="556" y="2095"/>
                  </a:lnTo>
                  <a:lnTo>
                    <a:pt x="535" y="2083"/>
                  </a:lnTo>
                  <a:lnTo>
                    <a:pt x="517" y="2067"/>
                  </a:lnTo>
                  <a:lnTo>
                    <a:pt x="499" y="2047"/>
                  </a:lnTo>
                  <a:lnTo>
                    <a:pt x="483" y="2024"/>
                  </a:lnTo>
                  <a:lnTo>
                    <a:pt x="469" y="1997"/>
                  </a:lnTo>
                  <a:lnTo>
                    <a:pt x="455" y="1968"/>
                  </a:lnTo>
                  <a:lnTo>
                    <a:pt x="443" y="1936"/>
                  </a:lnTo>
                  <a:lnTo>
                    <a:pt x="432" y="1901"/>
                  </a:lnTo>
                  <a:lnTo>
                    <a:pt x="422" y="1866"/>
                  </a:lnTo>
                  <a:lnTo>
                    <a:pt x="414" y="1828"/>
                  </a:lnTo>
                  <a:lnTo>
                    <a:pt x="406" y="1788"/>
                  </a:lnTo>
                  <a:lnTo>
                    <a:pt x="399" y="1747"/>
                  </a:lnTo>
                  <a:lnTo>
                    <a:pt x="393" y="1706"/>
                  </a:lnTo>
                  <a:lnTo>
                    <a:pt x="389" y="1664"/>
                  </a:lnTo>
                  <a:lnTo>
                    <a:pt x="384" y="1622"/>
                  </a:lnTo>
                  <a:lnTo>
                    <a:pt x="380" y="1580"/>
                  </a:lnTo>
                  <a:lnTo>
                    <a:pt x="378" y="1538"/>
                  </a:lnTo>
                  <a:lnTo>
                    <a:pt x="376" y="1497"/>
                  </a:lnTo>
                  <a:lnTo>
                    <a:pt x="373" y="1458"/>
                  </a:lnTo>
                  <a:lnTo>
                    <a:pt x="371" y="1419"/>
                  </a:lnTo>
                  <a:lnTo>
                    <a:pt x="371" y="1382"/>
                  </a:lnTo>
                  <a:lnTo>
                    <a:pt x="370" y="1347"/>
                  </a:lnTo>
                  <a:lnTo>
                    <a:pt x="369" y="1314"/>
                  </a:lnTo>
                  <a:lnTo>
                    <a:pt x="369" y="1284"/>
                  </a:lnTo>
                  <a:lnTo>
                    <a:pt x="369" y="1257"/>
                  </a:lnTo>
                  <a:lnTo>
                    <a:pt x="369" y="1233"/>
                  </a:lnTo>
                  <a:lnTo>
                    <a:pt x="369" y="1213"/>
                  </a:lnTo>
                  <a:lnTo>
                    <a:pt x="369" y="1213"/>
                  </a:lnTo>
                  <a:lnTo>
                    <a:pt x="369" y="1193"/>
                  </a:lnTo>
                  <a:lnTo>
                    <a:pt x="369" y="1168"/>
                  </a:lnTo>
                  <a:lnTo>
                    <a:pt x="369" y="1140"/>
                  </a:lnTo>
                  <a:lnTo>
                    <a:pt x="369" y="1110"/>
                  </a:lnTo>
                  <a:lnTo>
                    <a:pt x="370" y="1077"/>
                  </a:lnTo>
                  <a:lnTo>
                    <a:pt x="371" y="1043"/>
                  </a:lnTo>
                  <a:lnTo>
                    <a:pt x="371" y="1006"/>
                  </a:lnTo>
                  <a:lnTo>
                    <a:pt x="373" y="968"/>
                  </a:lnTo>
                  <a:lnTo>
                    <a:pt x="376" y="927"/>
                  </a:lnTo>
                  <a:lnTo>
                    <a:pt x="378" y="886"/>
                  </a:lnTo>
                  <a:lnTo>
                    <a:pt x="380" y="845"/>
                  </a:lnTo>
                  <a:lnTo>
                    <a:pt x="384" y="803"/>
                  </a:lnTo>
                  <a:lnTo>
                    <a:pt x="389" y="761"/>
                  </a:lnTo>
                  <a:lnTo>
                    <a:pt x="393" y="719"/>
                  </a:lnTo>
                  <a:lnTo>
                    <a:pt x="399" y="677"/>
                  </a:lnTo>
                  <a:lnTo>
                    <a:pt x="406" y="637"/>
                  </a:lnTo>
                  <a:lnTo>
                    <a:pt x="414" y="598"/>
                  </a:lnTo>
                  <a:lnTo>
                    <a:pt x="422" y="559"/>
                  </a:lnTo>
                  <a:lnTo>
                    <a:pt x="432" y="523"/>
                  </a:lnTo>
                  <a:lnTo>
                    <a:pt x="443" y="488"/>
                  </a:lnTo>
                  <a:lnTo>
                    <a:pt x="455" y="457"/>
                  </a:lnTo>
                  <a:lnTo>
                    <a:pt x="469" y="427"/>
                  </a:lnTo>
                  <a:lnTo>
                    <a:pt x="483" y="401"/>
                  </a:lnTo>
                  <a:lnTo>
                    <a:pt x="499" y="377"/>
                  </a:lnTo>
                  <a:lnTo>
                    <a:pt x="517" y="358"/>
                  </a:lnTo>
                  <a:lnTo>
                    <a:pt x="535" y="343"/>
                  </a:lnTo>
                  <a:lnTo>
                    <a:pt x="556" y="331"/>
                  </a:lnTo>
                  <a:lnTo>
                    <a:pt x="579" y="323"/>
                  </a:lnTo>
                  <a:lnTo>
                    <a:pt x="603" y="321"/>
                  </a:lnTo>
                  <a:lnTo>
                    <a:pt x="603" y="321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43080" y="6248520"/>
              <a:ext cx="196200" cy="397440"/>
            </a:xfrm>
            <a:custGeom>
              <a:avLst/>
              <a:gdLst/>
              <a:ahLst/>
              <a:rect l="l" t="t" r="r" b="b"/>
              <a:pathLst>
                <a:path w="1202" h="2425">
                  <a:moveTo>
                    <a:pt x="601" y="0"/>
                  </a:moveTo>
                  <a:lnTo>
                    <a:pt x="565" y="1"/>
                  </a:lnTo>
                  <a:lnTo>
                    <a:pt x="529" y="4"/>
                  </a:lnTo>
                  <a:lnTo>
                    <a:pt x="497" y="10"/>
                  </a:lnTo>
                  <a:lnTo>
                    <a:pt x="464" y="18"/>
                  </a:lnTo>
                  <a:lnTo>
                    <a:pt x="434" y="27"/>
                  </a:lnTo>
                  <a:lnTo>
                    <a:pt x="404" y="39"/>
                  </a:lnTo>
                  <a:lnTo>
                    <a:pt x="376" y="52"/>
                  </a:lnTo>
                  <a:lnTo>
                    <a:pt x="350" y="68"/>
                  </a:lnTo>
                  <a:lnTo>
                    <a:pt x="324" y="85"/>
                  </a:lnTo>
                  <a:lnTo>
                    <a:pt x="300" y="103"/>
                  </a:lnTo>
                  <a:lnTo>
                    <a:pt x="277" y="124"/>
                  </a:lnTo>
                  <a:lnTo>
                    <a:pt x="255" y="146"/>
                  </a:lnTo>
                  <a:lnTo>
                    <a:pt x="235" y="169"/>
                  </a:lnTo>
                  <a:lnTo>
                    <a:pt x="216" y="194"/>
                  </a:lnTo>
                  <a:lnTo>
                    <a:pt x="198" y="219"/>
                  </a:lnTo>
                  <a:lnTo>
                    <a:pt x="180" y="246"/>
                  </a:lnTo>
                  <a:lnTo>
                    <a:pt x="164" y="274"/>
                  </a:lnTo>
                  <a:lnTo>
                    <a:pt x="149" y="302"/>
                  </a:lnTo>
                  <a:lnTo>
                    <a:pt x="135" y="333"/>
                  </a:lnTo>
                  <a:lnTo>
                    <a:pt x="122" y="363"/>
                  </a:lnTo>
                  <a:lnTo>
                    <a:pt x="109" y="395"/>
                  </a:lnTo>
                  <a:lnTo>
                    <a:pt x="97" y="427"/>
                  </a:lnTo>
                  <a:lnTo>
                    <a:pt x="87" y="460"/>
                  </a:lnTo>
                  <a:lnTo>
                    <a:pt x="77" y="494"/>
                  </a:lnTo>
                  <a:lnTo>
                    <a:pt x="67" y="527"/>
                  </a:lnTo>
                  <a:lnTo>
                    <a:pt x="59" y="562"/>
                  </a:lnTo>
                  <a:lnTo>
                    <a:pt x="51" y="597"/>
                  </a:lnTo>
                  <a:lnTo>
                    <a:pt x="44" y="632"/>
                  </a:lnTo>
                  <a:lnTo>
                    <a:pt x="38" y="667"/>
                  </a:lnTo>
                  <a:lnTo>
                    <a:pt x="32" y="701"/>
                  </a:lnTo>
                  <a:lnTo>
                    <a:pt x="27" y="737"/>
                  </a:lnTo>
                  <a:lnTo>
                    <a:pt x="23" y="772"/>
                  </a:lnTo>
                  <a:lnTo>
                    <a:pt x="18" y="807"/>
                  </a:lnTo>
                  <a:lnTo>
                    <a:pt x="15" y="842"/>
                  </a:lnTo>
                  <a:lnTo>
                    <a:pt x="12" y="876"/>
                  </a:lnTo>
                  <a:lnTo>
                    <a:pt x="10" y="910"/>
                  </a:lnTo>
                  <a:lnTo>
                    <a:pt x="7" y="944"/>
                  </a:lnTo>
                  <a:lnTo>
                    <a:pt x="5" y="976"/>
                  </a:lnTo>
                  <a:lnTo>
                    <a:pt x="4" y="1009"/>
                  </a:lnTo>
                  <a:lnTo>
                    <a:pt x="2" y="1042"/>
                  </a:lnTo>
                  <a:lnTo>
                    <a:pt x="2" y="1072"/>
                  </a:lnTo>
                  <a:lnTo>
                    <a:pt x="1" y="1102"/>
                  </a:lnTo>
                  <a:lnTo>
                    <a:pt x="0" y="1132"/>
                  </a:lnTo>
                  <a:lnTo>
                    <a:pt x="0" y="1160"/>
                  </a:lnTo>
                  <a:lnTo>
                    <a:pt x="0" y="1187"/>
                  </a:lnTo>
                  <a:lnTo>
                    <a:pt x="0" y="1213"/>
                  </a:lnTo>
                  <a:lnTo>
                    <a:pt x="0" y="1213"/>
                  </a:lnTo>
                  <a:lnTo>
                    <a:pt x="0" y="1238"/>
                  </a:lnTo>
                  <a:lnTo>
                    <a:pt x="0" y="1266"/>
                  </a:lnTo>
                  <a:lnTo>
                    <a:pt x="0" y="1294"/>
                  </a:lnTo>
                  <a:lnTo>
                    <a:pt x="1" y="1323"/>
                  </a:lnTo>
                  <a:lnTo>
                    <a:pt x="2" y="1352"/>
                  </a:lnTo>
                  <a:lnTo>
                    <a:pt x="2" y="1384"/>
                  </a:lnTo>
                  <a:lnTo>
                    <a:pt x="4" y="1416"/>
                  </a:lnTo>
                  <a:lnTo>
                    <a:pt x="5" y="1448"/>
                  </a:lnTo>
                  <a:lnTo>
                    <a:pt x="7" y="1481"/>
                  </a:lnTo>
                  <a:lnTo>
                    <a:pt x="10" y="1514"/>
                  </a:lnTo>
                  <a:lnTo>
                    <a:pt x="12" y="1549"/>
                  </a:lnTo>
                  <a:lnTo>
                    <a:pt x="15" y="1583"/>
                  </a:lnTo>
                  <a:lnTo>
                    <a:pt x="18" y="1618"/>
                  </a:lnTo>
                  <a:lnTo>
                    <a:pt x="23" y="1653"/>
                  </a:lnTo>
                  <a:lnTo>
                    <a:pt x="27" y="1688"/>
                  </a:lnTo>
                  <a:lnTo>
                    <a:pt x="32" y="1723"/>
                  </a:lnTo>
                  <a:lnTo>
                    <a:pt x="38" y="1758"/>
                  </a:lnTo>
                  <a:lnTo>
                    <a:pt x="44" y="1794"/>
                  </a:lnTo>
                  <a:lnTo>
                    <a:pt x="51" y="1829"/>
                  </a:lnTo>
                  <a:lnTo>
                    <a:pt x="59" y="1863"/>
                  </a:lnTo>
                  <a:lnTo>
                    <a:pt x="67" y="1897"/>
                  </a:lnTo>
                  <a:lnTo>
                    <a:pt x="77" y="1931"/>
                  </a:lnTo>
                  <a:lnTo>
                    <a:pt x="87" y="1965"/>
                  </a:lnTo>
                  <a:lnTo>
                    <a:pt x="97" y="1997"/>
                  </a:lnTo>
                  <a:lnTo>
                    <a:pt x="109" y="2030"/>
                  </a:lnTo>
                  <a:lnTo>
                    <a:pt x="122" y="2061"/>
                  </a:lnTo>
                  <a:lnTo>
                    <a:pt x="135" y="2093"/>
                  </a:lnTo>
                  <a:lnTo>
                    <a:pt x="149" y="2122"/>
                  </a:lnTo>
                  <a:lnTo>
                    <a:pt x="164" y="2151"/>
                  </a:lnTo>
                  <a:lnTo>
                    <a:pt x="180" y="2180"/>
                  </a:lnTo>
                  <a:lnTo>
                    <a:pt x="198" y="2206"/>
                  </a:lnTo>
                  <a:lnTo>
                    <a:pt x="216" y="2232"/>
                  </a:lnTo>
                  <a:lnTo>
                    <a:pt x="235" y="2256"/>
                  </a:lnTo>
                  <a:lnTo>
                    <a:pt x="255" y="2280"/>
                  </a:lnTo>
                  <a:lnTo>
                    <a:pt x="277" y="2302"/>
                  </a:lnTo>
                  <a:lnTo>
                    <a:pt x="300" y="2321"/>
                  </a:lnTo>
                  <a:lnTo>
                    <a:pt x="324" y="2340"/>
                  </a:lnTo>
                  <a:lnTo>
                    <a:pt x="350" y="2357"/>
                  </a:lnTo>
                  <a:lnTo>
                    <a:pt x="376" y="2372"/>
                  </a:lnTo>
                  <a:lnTo>
                    <a:pt x="404" y="2386"/>
                  </a:lnTo>
                  <a:lnTo>
                    <a:pt x="434" y="2397"/>
                  </a:lnTo>
                  <a:lnTo>
                    <a:pt x="464" y="2407"/>
                  </a:lnTo>
                  <a:lnTo>
                    <a:pt x="497" y="2415"/>
                  </a:lnTo>
                  <a:lnTo>
                    <a:pt x="529" y="2421"/>
                  </a:lnTo>
                  <a:lnTo>
                    <a:pt x="565" y="2424"/>
                  </a:lnTo>
                  <a:lnTo>
                    <a:pt x="601" y="2425"/>
                  </a:lnTo>
                  <a:lnTo>
                    <a:pt x="601" y="2425"/>
                  </a:lnTo>
                  <a:lnTo>
                    <a:pt x="637" y="2424"/>
                  </a:lnTo>
                  <a:lnTo>
                    <a:pt x="672" y="2421"/>
                  </a:lnTo>
                  <a:lnTo>
                    <a:pt x="704" y="2417"/>
                  </a:lnTo>
                  <a:lnTo>
                    <a:pt x="736" y="2409"/>
                  </a:lnTo>
                  <a:lnTo>
                    <a:pt x="766" y="2402"/>
                  </a:lnTo>
                  <a:lnTo>
                    <a:pt x="795" y="2391"/>
                  </a:lnTo>
                  <a:lnTo>
                    <a:pt x="823" y="2379"/>
                  </a:lnTo>
                  <a:lnTo>
                    <a:pt x="849" y="2366"/>
                  </a:lnTo>
                  <a:lnTo>
                    <a:pt x="874" y="2350"/>
                  </a:lnTo>
                  <a:lnTo>
                    <a:pt x="898" y="2334"/>
                  </a:lnTo>
                  <a:lnTo>
                    <a:pt x="921" y="2316"/>
                  </a:lnTo>
                  <a:lnTo>
                    <a:pt x="942" y="2296"/>
                  </a:lnTo>
                  <a:lnTo>
                    <a:pt x="963" y="2275"/>
                  </a:lnTo>
                  <a:lnTo>
                    <a:pt x="983" y="2254"/>
                  </a:lnTo>
                  <a:lnTo>
                    <a:pt x="1000" y="2231"/>
                  </a:lnTo>
                  <a:lnTo>
                    <a:pt x="1017" y="2206"/>
                  </a:lnTo>
                  <a:lnTo>
                    <a:pt x="1034" y="2181"/>
                  </a:lnTo>
                  <a:lnTo>
                    <a:pt x="1049" y="2154"/>
                  </a:lnTo>
                  <a:lnTo>
                    <a:pt x="1063" y="2126"/>
                  </a:lnTo>
                  <a:lnTo>
                    <a:pt x="1077" y="2098"/>
                  </a:lnTo>
                  <a:lnTo>
                    <a:pt x="1089" y="2069"/>
                  </a:lnTo>
                  <a:lnTo>
                    <a:pt x="1101" y="2038"/>
                  </a:lnTo>
                  <a:lnTo>
                    <a:pt x="1112" y="2008"/>
                  </a:lnTo>
                  <a:lnTo>
                    <a:pt x="1122" y="1975"/>
                  </a:lnTo>
                  <a:lnTo>
                    <a:pt x="1132" y="1944"/>
                  </a:lnTo>
                  <a:lnTo>
                    <a:pt x="1140" y="1910"/>
                  </a:lnTo>
                  <a:lnTo>
                    <a:pt x="1148" y="1876"/>
                  </a:lnTo>
                  <a:lnTo>
                    <a:pt x="1156" y="1843"/>
                  </a:lnTo>
                  <a:lnTo>
                    <a:pt x="1162" y="1809"/>
                  </a:lnTo>
                  <a:lnTo>
                    <a:pt x="1168" y="1774"/>
                  </a:lnTo>
                  <a:lnTo>
                    <a:pt x="1173" y="1738"/>
                  </a:lnTo>
                  <a:lnTo>
                    <a:pt x="1177" y="1704"/>
                  </a:lnTo>
                  <a:lnTo>
                    <a:pt x="1182" y="1668"/>
                  </a:lnTo>
                  <a:lnTo>
                    <a:pt x="1186" y="1632"/>
                  </a:lnTo>
                  <a:lnTo>
                    <a:pt x="1189" y="1596"/>
                  </a:lnTo>
                  <a:lnTo>
                    <a:pt x="1191" y="1560"/>
                  </a:lnTo>
                  <a:lnTo>
                    <a:pt x="1195" y="1524"/>
                  </a:lnTo>
                  <a:lnTo>
                    <a:pt x="1196" y="1488"/>
                  </a:lnTo>
                  <a:lnTo>
                    <a:pt x="1198" y="1452"/>
                  </a:lnTo>
                  <a:lnTo>
                    <a:pt x="1199" y="1418"/>
                  </a:lnTo>
                  <a:lnTo>
                    <a:pt x="1200" y="1382"/>
                  </a:lnTo>
                  <a:lnTo>
                    <a:pt x="1201" y="1347"/>
                  </a:lnTo>
                  <a:lnTo>
                    <a:pt x="1202" y="1313"/>
                  </a:lnTo>
                  <a:lnTo>
                    <a:pt x="1202" y="1279"/>
                  </a:lnTo>
                  <a:lnTo>
                    <a:pt x="1202" y="1245"/>
                  </a:lnTo>
                  <a:lnTo>
                    <a:pt x="1202" y="1213"/>
                  </a:lnTo>
                  <a:lnTo>
                    <a:pt x="1202" y="1213"/>
                  </a:lnTo>
                  <a:lnTo>
                    <a:pt x="1202" y="1180"/>
                  </a:lnTo>
                  <a:lnTo>
                    <a:pt x="1202" y="1146"/>
                  </a:lnTo>
                  <a:lnTo>
                    <a:pt x="1202" y="1112"/>
                  </a:lnTo>
                  <a:lnTo>
                    <a:pt x="1201" y="1077"/>
                  </a:lnTo>
                  <a:lnTo>
                    <a:pt x="1200" y="1043"/>
                  </a:lnTo>
                  <a:lnTo>
                    <a:pt x="1199" y="1008"/>
                  </a:lnTo>
                  <a:lnTo>
                    <a:pt x="1198" y="972"/>
                  </a:lnTo>
                  <a:lnTo>
                    <a:pt x="1196" y="936"/>
                  </a:lnTo>
                  <a:lnTo>
                    <a:pt x="1195" y="900"/>
                  </a:lnTo>
                  <a:lnTo>
                    <a:pt x="1191" y="864"/>
                  </a:lnTo>
                  <a:lnTo>
                    <a:pt x="1189" y="828"/>
                  </a:lnTo>
                  <a:lnTo>
                    <a:pt x="1186" y="793"/>
                  </a:lnTo>
                  <a:lnTo>
                    <a:pt x="1182" y="757"/>
                  </a:lnTo>
                  <a:lnTo>
                    <a:pt x="1177" y="722"/>
                  </a:lnTo>
                  <a:lnTo>
                    <a:pt x="1173" y="686"/>
                  </a:lnTo>
                  <a:lnTo>
                    <a:pt x="1168" y="651"/>
                  </a:lnTo>
                  <a:lnTo>
                    <a:pt x="1162" y="617"/>
                  </a:lnTo>
                  <a:lnTo>
                    <a:pt x="1156" y="582"/>
                  </a:lnTo>
                  <a:lnTo>
                    <a:pt x="1148" y="548"/>
                  </a:lnTo>
                  <a:lnTo>
                    <a:pt x="1140" y="514"/>
                  </a:lnTo>
                  <a:lnTo>
                    <a:pt x="1132" y="482"/>
                  </a:lnTo>
                  <a:lnTo>
                    <a:pt x="1122" y="449"/>
                  </a:lnTo>
                  <a:lnTo>
                    <a:pt x="1112" y="418"/>
                  </a:lnTo>
                  <a:lnTo>
                    <a:pt x="1101" y="386"/>
                  </a:lnTo>
                  <a:lnTo>
                    <a:pt x="1089" y="357"/>
                  </a:lnTo>
                  <a:lnTo>
                    <a:pt x="1077" y="327"/>
                  </a:lnTo>
                  <a:lnTo>
                    <a:pt x="1063" y="298"/>
                  </a:lnTo>
                  <a:lnTo>
                    <a:pt x="1049" y="271"/>
                  </a:lnTo>
                  <a:lnTo>
                    <a:pt x="1034" y="245"/>
                  </a:lnTo>
                  <a:lnTo>
                    <a:pt x="1017" y="219"/>
                  </a:lnTo>
                  <a:lnTo>
                    <a:pt x="1000" y="195"/>
                  </a:lnTo>
                  <a:lnTo>
                    <a:pt x="983" y="171"/>
                  </a:lnTo>
                  <a:lnTo>
                    <a:pt x="963" y="149"/>
                  </a:lnTo>
                  <a:lnTo>
                    <a:pt x="942" y="128"/>
                  </a:lnTo>
                  <a:lnTo>
                    <a:pt x="921" y="109"/>
                  </a:lnTo>
                  <a:lnTo>
                    <a:pt x="898" y="91"/>
                  </a:lnTo>
                  <a:lnTo>
                    <a:pt x="874" y="74"/>
                  </a:lnTo>
                  <a:lnTo>
                    <a:pt x="849" y="59"/>
                  </a:lnTo>
                  <a:lnTo>
                    <a:pt x="823" y="46"/>
                  </a:lnTo>
                  <a:lnTo>
                    <a:pt x="795" y="34"/>
                  </a:lnTo>
                  <a:lnTo>
                    <a:pt x="766" y="24"/>
                  </a:lnTo>
                  <a:lnTo>
                    <a:pt x="736" y="15"/>
                  </a:lnTo>
                  <a:lnTo>
                    <a:pt x="704" y="9"/>
                  </a:lnTo>
                  <a:lnTo>
                    <a:pt x="672" y="3"/>
                  </a:lnTo>
                  <a:lnTo>
                    <a:pt x="637" y="1"/>
                  </a:lnTo>
                  <a:lnTo>
                    <a:pt x="601" y="0"/>
                  </a:lnTo>
                  <a:lnTo>
                    <a:pt x="601" y="0"/>
                  </a:lnTo>
                  <a:close/>
                  <a:moveTo>
                    <a:pt x="601" y="321"/>
                  </a:moveTo>
                  <a:lnTo>
                    <a:pt x="625" y="323"/>
                  </a:lnTo>
                  <a:lnTo>
                    <a:pt x="648" y="331"/>
                  </a:lnTo>
                  <a:lnTo>
                    <a:pt x="668" y="341"/>
                  </a:lnTo>
                  <a:lnTo>
                    <a:pt x="688" y="358"/>
                  </a:lnTo>
                  <a:lnTo>
                    <a:pt x="705" y="376"/>
                  </a:lnTo>
                  <a:lnTo>
                    <a:pt x="722" y="400"/>
                  </a:lnTo>
                  <a:lnTo>
                    <a:pt x="736" y="426"/>
                  </a:lnTo>
                  <a:lnTo>
                    <a:pt x="749" y="455"/>
                  </a:lnTo>
                  <a:lnTo>
                    <a:pt x="762" y="486"/>
                  </a:lnTo>
                  <a:lnTo>
                    <a:pt x="773" y="521"/>
                  </a:lnTo>
                  <a:lnTo>
                    <a:pt x="783" y="557"/>
                  </a:lnTo>
                  <a:lnTo>
                    <a:pt x="791" y="595"/>
                  </a:lnTo>
                  <a:lnTo>
                    <a:pt x="799" y="634"/>
                  </a:lnTo>
                  <a:lnTo>
                    <a:pt x="805" y="674"/>
                  </a:lnTo>
                  <a:lnTo>
                    <a:pt x="811" y="714"/>
                  </a:lnTo>
                  <a:lnTo>
                    <a:pt x="816" y="757"/>
                  </a:lnTo>
                  <a:lnTo>
                    <a:pt x="821" y="798"/>
                  </a:lnTo>
                  <a:lnTo>
                    <a:pt x="824" y="840"/>
                  </a:lnTo>
                  <a:lnTo>
                    <a:pt x="827" y="882"/>
                  </a:lnTo>
                  <a:lnTo>
                    <a:pt x="829" y="923"/>
                  </a:lnTo>
                  <a:lnTo>
                    <a:pt x="830" y="962"/>
                  </a:lnTo>
                  <a:lnTo>
                    <a:pt x="832" y="1001"/>
                  </a:lnTo>
                  <a:lnTo>
                    <a:pt x="833" y="1038"/>
                  </a:lnTo>
                  <a:lnTo>
                    <a:pt x="834" y="1074"/>
                  </a:lnTo>
                  <a:lnTo>
                    <a:pt x="834" y="1107"/>
                  </a:lnTo>
                  <a:lnTo>
                    <a:pt x="834" y="1138"/>
                  </a:lnTo>
                  <a:lnTo>
                    <a:pt x="835" y="1167"/>
                  </a:lnTo>
                  <a:lnTo>
                    <a:pt x="835" y="1192"/>
                  </a:lnTo>
                  <a:lnTo>
                    <a:pt x="834" y="1213"/>
                  </a:lnTo>
                  <a:lnTo>
                    <a:pt x="834" y="1213"/>
                  </a:lnTo>
                  <a:lnTo>
                    <a:pt x="835" y="1234"/>
                  </a:lnTo>
                  <a:lnTo>
                    <a:pt x="835" y="1259"/>
                  </a:lnTo>
                  <a:lnTo>
                    <a:pt x="834" y="1287"/>
                  </a:lnTo>
                  <a:lnTo>
                    <a:pt x="834" y="1318"/>
                  </a:lnTo>
                  <a:lnTo>
                    <a:pt x="834" y="1351"/>
                  </a:lnTo>
                  <a:lnTo>
                    <a:pt x="833" y="1386"/>
                  </a:lnTo>
                  <a:lnTo>
                    <a:pt x="832" y="1423"/>
                  </a:lnTo>
                  <a:lnTo>
                    <a:pt x="830" y="1462"/>
                  </a:lnTo>
                  <a:lnTo>
                    <a:pt x="829" y="1502"/>
                  </a:lnTo>
                  <a:lnTo>
                    <a:pt x="827" y="1543"/>
                  </a:lnTo>
                  <a:lnTo>
                    <a:pt x="824" y="1584"/>
                  </a:lnTo>
                  <a:lnTo>
                    <a:pt x="821" y="1626"/>
                  </a:lnTo>
                  <a:lnTo>
                    <a:pt x="816" y="1669"/>
                  </a:lnTo>
                  <a:lnTo>
                    <a:pt x="811" y="1710"/>
                  </a:lnTo>
                  <a:lnTo>
                    <a:pt x="805" y="1751"/>
                  </a:lnTo>
                  <a:lnTo>
                    <a:pt x="799" y="1792"/>
                  </a:lnTo>
                  <a:lnTo>
                    <a:pt x="791" y="1831"/>
                  </a:lnTo>
                  <a:lnTo>
                    <a:pt x="783" y="1869"/>
                  </a:lnTo>
                  <a:lnTo>
                    <a:pt x="773" y="1905"/>
                  </a:lnTo>
                  <a:lnTo>
                    <a:pt x="762" y="1938"/>
                  </a:lnTo>
                  <a:lnTo>
                    <a:pt x="749" y="1970"/>
                  </a:lnTo>
                  <a:lnTo>
                    <a:pt x="736" y="1999"/>
                  </a:lnTo>
                  <a:lnTo>
                    <a:pt x="722" y="2025"/>
                  </a:lnTo>
                  <a:lnTo>
                    <a:pt x="705" y="2048"/>
                  </a:lnTo>
                  <a:lnTo>
                    <a:pt x="688" y="2068"/>
                  </a:lnTo>
                  <a:lnTo>
                    <a:pt x="668" y="2083"/>
                  </a:lnTo>
                  <a:lnTo>
                    <a:pt x="648" y="2095"/>
                  </a:lnTo>
                  <a:lnTo>
                    <a:pt x="625" y="2101"/>
                  </a:lnTo>
                  <a:lnTo>
                    <a:pt x="601" y="2105"/>
                  </a:lnTo>
                  <a:lnTo>
                    <a:pt x="601" y="2105"/>
                  </a:lnTo>
                  <a:lnTo>
                    <a:pt x="577" y="2101"/>
                  </a:lnTo>
                  <a:lnTo>
                    <a:pt x="555" y="2095"/>
                  </a:lnTo>
                  <a:lnTo>
                    <a:pt x="535" y="2083"/>
                  </a:lnTo>
                  <a:lnTo>
                    <a:pt x="515" y="2067"/>
                  </a:lnTo>
                  <a:lnTo>
                    <a:pt x="498" y="2047"/>
                  </a:lnTo>
                  <a:lnTo>
                    <a:pt x="483" y="2024"/>
                  </a:lnTo>
                  <a:lnTo>
                    <a:pt x="467" y="1997"/>
                  </a:lnTo>
                  <a:lnTo>
                    <a:pt x="454" y="1968"/>
                  </a:lnTo>
                  <a:lnTo>
                    <a:pt x="442" y="1936"/>
                  </a:lnTo>
                  <a:lnTo>
                    <a:pt x="431" y="1901"/>
                  </a:lnTo>
                  <a:lnTo>
                    <a:pt x="422" y="1866"/>
                  </a:lnTo>
                  <a:lnTo>
                    <a:pt x="413" y="1828"/>
                  </a:lnTo>
                  <a:lnTo>
                    <a:pt x="405" y="1788"/>
                  </a:lnTo>
                  <a:lnTo>
                    <a:pt x="398" y="1747"/>
                  </a:lnTo>
                  <a:lnTo>
                    <a:pt x="392" y="1706"/>
                  </a:lnTo>
                  <a:lnTo>
                    <a:pt x="387" y="1664"/>
                  </a:lnTo>
                  <a:lnTo>
                    <a:pt x="383" y="1622"/>
                  </a:lnTo>
                  <a:lnTo>
                    <a:pt x="379" y="1580"/>
                  </a:lnTo>
                  <a:lnTo>
                    <a:pt x="376" y="1538"/>
                  </a:lnTo>
                  <a:lnTo>
                    <a:pt x="374" y="1497"/>
                  </a:lnTo>
                  <a:lnTo>
                    <a:pt x="372" y="1458"/>
                  </a:lnTo>
                  <a:lnTo>
                    <a:pt x="371" y="1419"/>
                  </a:lnTo>
                  <a:lnTo>
                    <a:pt x="370" y="1382"/>
                  </a:lnTo>
                  <a:lnTo>
                    <a:pt x="368" y="1347"/>
                  </a:lnTo>
                  <a:lnTo>
                    <a:pt x="368" y="1314"/>
                  </a:lnTo>
                  <a:lnTo>
                    <a:pt x="368" y="1284"/>
                  </a:lnTo>
                  <a:lnTo>
                    <a:pt x="368" y="1257"/>
                  </a:lnTo>
                  <a:lnTo>
                    <a:pt x="368" y="1233"/>
                  </a:lnTo>
                  <a:lnTo>
                    <a:pt x="368" y="1213"/>
                  </a:lnTo>
                  <a:lnTo>
                    <a:pt x="368" y="1213"/>
                  </a:lnTo>
                  <a:lnTo>
                    <a:pt x="368" y="1193"/>
                  </a:lnTo>
                  <a:lnTo>
                    <a:pt x="368" y="1168"/>
                  </a:lnTo>
                  <a:lnTo>
                    <a:pt x="368" y="1140"/>
                  </a:lnTo>
                  <a:lnTo>
                    <a:pt x="368" y="1110"/>
                  </a:lnTo>
                  <a:lnTo>
                    <a:pt x="368" y="1077"/>
                  </a:lnTo>
                  <a:lnTo>
                    <a:pt x="370" y="1043"/>
                  </a:lnTo>
                  <a:lnTo>
                    <a:pt x="371" y="1006"/>
                  </a:lnTo>
                  <a:lnTo>
                    <a:pt x="372" y="968"/>
                  </a:lnTo>
                  <a:lnTo>
                    <a:pt x="374" y="927"/>
                  </a:lnTo>
                  <a:lnTo>
                    <a:pt x="376" y="886"/>
                  </a:lnTo>
                  <a:lnTo>
                    <a:pt x="379" y="845"/>
                  </a:lnTo>
                  <a:lnTo>
                    <a:pt x="383" y="803"/>
                  </a:lnTo>
                  <a:lnTo>
                    <a:pt x="387" y="761"/>
                  </a:lnTo>
                  <a:lnTo>
                    <a:pt x="392" y="719"/>
                  </a:lnTo>
                  <a:lnTo>
                    <a:pt x="398" y="677"/>
                  </a:lnTo>
                  <a:lnTo>
                    <a:pt x="405" y="637"/>
                  </a:lnTo>
                  <a:lnTo>
                    <a:pt x="413" y="598"/>
                  </a:lnTo>
                  <a:lnTo>
                    <a:pt x="422" y="559"/>
                  </a:lnTo>
                  <a:lnTo>
                    <a:pt x="431" y="523"/>
                  </a:lnTo>
                  <a:lnTo>
                    <a:pt x="442" y="488"/>
                  </a:lnTo>
                  <a:lnTo>
                    <a:pt x="454" y="457"/>
                  </a:lnTo>
                  <a:lnTo>
                    <a:pt x="467" y="427"/>
                  </a:lnTo>
                  <a:lnTo>
                    <a:pt x="483" y="401"/>
                  </a:lnTo>
                  <a:lnTo>
                    <a:pt x="498" y="377"/>
                  </a:lnTo>
                  <a:lnTo>
                    <a:pt x="515" y="358"/>
                  </a:lnTo>
                  <a:lnTo>
                    <a:pt x="535" y="343"/>
                  </a:lnTo>
                  <a:lnTo>
                    <a:pt x="555" y="331"/>
                  </a:lnTo>
                  <a:lnTo>
                    <a:pt x="577" y="323"/>
                  </a:lnTo>
                  <a:lnTo>
                    <a:pt x="601" y="321"/>
                  </a:lnTo>
                  <a:lnTo>
                    <a:pt x="601" y="321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838720" y="6256080"/>
              <a:ext cx="153000" cy="38232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935" y="309"/>
                  </a:moveTo>
                  <a:lnTo>
                    <a:pt x="662" y="309"/>
                  </a:lnTo>
                  <a:lnTo>
                    <a:pt x="662" y="2334"/>
                  </a:lnTo>
                  <a:lnTo>
                    <a:pt x="287" y="2334"/>
                  </a:lnTo>
                  <a:lnTo>
                    <a:pt x="287" y="309"/>
                  </a:lnTo>
                  <a:lnTo>
                    <a:pt x="0" y="309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35" y="30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"/>
          <p:cNvSpPr/>
          <p:nvPr/>
        </p:nvSpPr>
        <p:spPr>
          <a:xfrm>
            <a:off x="9051840" y="310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400800" y="6091200"/>
            <a:ext cx="2590920" cy="614160"/>
            <a:chOff x="6400800" y="6091200"/>
            <a:chExt cx="2590920" cy="614160"/>
          </a:xfrm>
        </p:grpSpPr>
        <p:sp>
          <p:nvSpPr>
            <p:cNvPr id="54" name=""/>
            <p:cNvSpPr/>
            <p:nvPr/>
          </p:nvSpPr>
          <p:spPr>
            <a:xfrm>
              <a:off x="6400800" y="6091560"/>
              <a:ext cx="204840" cy="613800"/>
            </a:xfrm>
            <a:custGeom>
              <a:avLst/>
              <a:gdLst/>
              <a:ahLst/>
              <a:rect l="l" t="t" r="r" b="b"/>
              <a:pathLst>
                <a:path w="810" h="2429">
                  <a:moveTo>
                    <a:pt x="810" y="1754"/>
                  </a:moveTo>
                  <a:lnTo>
                    <a:pt x="809" y="1792"/>
                  </a:lnTo>
                  <a:lnTo>
                    <a:pt x="806" y="1828"/>
                  </a:lnTo>
                  <a:lnTo>
                    <a:pt x="800" y="1864"/>
                  </a:lnTo>
                  <a:lnTo>
                    <a:pt x="793" y="1898"/>
                  </a:lnTo>
                  <a:lnTo>
                    <a:pt x="783" y="1931"/>
                  </a:lnTo>
                  <a:lnTo>
                    <a:pt x="771" y="1964"/>
                  </a:lnTo>
                  <a:lnTo>
                    <a:pt x="758" y="1995"/>
                  </a:lnTo>
                  <a:lnTo>
                    <a:pt x="742" y="2026"/>
                  </a:lnTo>
                  <a:lnTo>
                    <a:pt x="724" y="2055"/>
                  </a:lnTo>
                  <a:lnTo>
                    <a:pt x="706" y="2083"/>
                  </a:lnTo>
                  <a:lnTo>
                    <a:pt x="685" y="2110"/>
                  </a:lnTo>
                  <a:lnTo>
                    <a:pt x="663" y="2136"/>
                  </a:lnTo>
                  <a:lnTo>
                    <a:pt x="639" y="2161"/>
                  </a:lnTo>
                  <a:lnTo>
                    <a:pt x="614" y="2185"/>
                  </a:lnTo>
                  <a:lnTo>
                    <a:pt x="588" y="2208"/>
                  </a:lnTo>
                  <a:lnTo>
                    <a:pt x="561" y="2231"/>
                  </a:lnTo>
                  <a:lnTo>
                    <a:pt x="532" y="2252"/>
                  </a:lnTo>
                  <a:lnTo>
                    <a:pt x="502" y="2271"/>
                  </a:lnTo>
                  <a:lnTo>
                    <a:pt x="472" y="2291"/>
                  </a:lnTo>
                  <a:lnTo>
                    <a:pt x="439" y="2309"/>
                  </a:lnTo>
                  <a:lnTo>
                    <a:pt x="407" y="2327"/>
                  </a:lnTo>
                  <a:lnTo>
                    <a:pt x="373" y="2343"/>
                  </a:lnTo>
                  <a:lnTo>
                    <a:pt x="339" y="2358"/>
                  </a:lnTo>
                  <a:lnTo>
                    <a:pt x="305" y="2372"/>
                  </a:lnTo>
                  <a:lnTo>
                    <a:pt x="269" y="2385"/>
                  </a:lnTo>
                  <a:lnTo>
                    <a:pt x="233" y="2397"/>
                  </a:lnTo>
                  <a:lnTo>
                    <a:pt x="196" y="2409"/>
                  </a:lnTo>
                  <a:lnTo>
                    <a:pt x="159" y="2420"/>
                  </a:lnTo>
                  <a:lnTo>
                    <a:pt x="121" y="2429"/>
                  </a:lnTo>
                  <a:lnTo>
                    <a:pt x="121" y="2429"/>
                  </a:lnTo>
                  <a:lnTo>
                    <a:pt x="114" y="2413"/>
                  </a:lnTo>
                  <a:lnTo>
                    <a:pt x="97" y="2369"/>
                  </a:lnTo>
                  <a:lnTo>
                    <a:pt x="73" y="2310"/>
                  </a:lnTo>
                  <a:lnTo>
                    <a:pt x="48" y="2246"/>
                  </a:lnTo>
                  <a:lnTo>
                    <a:pt x="24" y="2186"/>
                  </a:lnTo>
                  <a:lnTo>
                    <a:pt x="7" y="2143"/>
                  </a:lnTo>
                  <a:lnTo>
                    <a:pt x="0" y="2127"/>
                  </a:lnTo>
                  <a:lnTo>
                    <a:pt x="0" y="2127"/>
                  </a:lnTo>
                  <a:lnTo>
                    <a:pt x="34" y="2114"/>
                  </a:lnTo>
                  <a:lnTo>
                    <a:pt x="69" y="2101"/>
                  </a:lnTo>
                  <a:lnTo>
                    <a:pt x="103" y="2088"/>
                  </a:lnTo>
                  <a:lnTo>
                    <a:pt x="138" y="2073"/>
                  </a:lnTo>
                  <a:lnTo>
                    <a:pt x="173" y="2059"/>
                  </a:lnTo>
                  <a:lnTo>
                    <a:pt x="207" y="2044"/>
                  </a:lnTo>
                  <a:lnTo>
                    <a:pt x="239" y="2029"/>
                  </a:lnTo>
                  <a:lnTo>
                    <a:pt x="271" y="2011"/>
                  </a:lnTo>
                  <a:lnTo>
                    <a:pt x="300" y="1993"/>
                  </a:lnTo>
                  <a:lnTo>
                    <a:pt x="327" y="1972"/>
                  </a:lnTo>
                  <a:lnTo>
                    <a:pt x="352" y="1951"/>
                  </a:lnTo>
                  <a:lnTo>
                    <a:pt x="374" y="1926"/>
                  </a:lnTo>
                  <a:lnTo>
                    <a:pt x="393" y="1899"/>
                  </a:lnTo>
                  <a:lnTo>
                    <a:pt x="408" y="1870"/>
                  </a:lnTo>
                  <a:lnTo>
                    <a:pt x="420" y="1837"/>
                  </a:lnTo>
                  <a:lnTo>
                    <a:pt x="426" y="1802"/>
                  </a:lnTo>
                  <a:lnTo>
                    <a:pt x="429" y="1764"/>
                  </a:lnTo>
                  <a:lnTo>
                    <a:pt x="429" y="1764"/>
                  </a:lnTo>
                  <a:lnTo>
                    <a:pt x="427" y="1731"/>
                  </a:lnTo>
                  <a:lnTo>
                    <a:pt x="424" y="1701"/>
                  </a:lnTo>
                  <a:lnTo>
                    <a:pt x="420" y="1671"/>
                  </a:lnTo>
                  <a:lnTo>
                    <a:pt x="412" y="1642"/>
                  </a:lnTo>
                  <a:lnTo>
                    <a:pt x="405" y="1612"/>
                  </a:lnTo>
                  <a:lnTo>
                    <a:pt x="394" y="1584"/>
                  </a:lnTo>
                  <a:lnTo>
                    <a:pt x="383" y="1556"/>
                  </a:lnTo>
                  <a:lnTo>
                    <a:pt x="370" y="1529"/>
                  </a:lnTo>
                  <a:lnTo>
                    <a:pt x="357" y="1502"/>
                  </a:lnTo>
                  <a:lnTo>
                    <a:pt x="342" y="1474"/>
                  </a:lnTo>
                  <a:lnTo>
                    <a:pt x="325" y="1448"/>
                  </a:lnTo>
                  <a:lnTo>
                    <a:pt x="309" y="1421"/>
                  </a:lnTo>
                  <a:lnTo>
                    <a:pt x="292" y="1395"/>
                  </a:lnTo>
                  <a:lnTo>
                    <a:pt x="274" y="1368"/>
                  </a:lnTo>
                  <a:lnTo>
                    <a:pt x="256" y="1341"/>
                  </a:lnTo>
                  <a:lnTo>
                    <a:pt x="238" y="1314"/>
                  </a:lnTo>
                  <a:lnTo>
                    <a:pt x="220" y="1286"/>
                  </a:lnTo>
                  <a:lnTo>
                    <a:pt x="201" y="1258"/>
                  </a:lnTo>
                  <a:lnTo>
                    <a:pt x="183" y="1230"/>
                  </a:lnTo>
                  <a:lnTo>
                    <a:pt x="164" y="1202"/>
                  </a:lnTo>
                  <a:lnTo>
                    <a:pt x="147" y="1172"/>
                  </a:lnTo>
                  <a:lnTo>
                    <a:pt x="130" y="1142"/>
                  </a:lnTo>
                  <a:lnTo>
                    <a:pt x="113" y="1111"/>
                  </a:lnTo>
                  <a:lnTo>
                    <a:pt x="97" y="1079"/>
                  </a:lnTo>
                  <a:lnTo>
                    <a:pt x="83" y="1046"/>
                  </a:lnTo>
                  <a:lnTo>
                    <a:pt x="69" y="1012"/>
                  </a:lnTo>
                  <a:lnTo>
                    <a:pt x="56" y="978"/>
                  </a:lnTo>
                  <a:lnTo>
                    <a:pt x="45" y="942"/>
                  </a:lnTo>
                  <a:lnTo>
                    <a:pt x="34" y="905"/>
                  </a:lnTo>
                  <a:lnTo>
                    <a:pt x="26" y="866"/>
                  </a:lnTo>
                  <a:lnTo>
                    <a:pt x="19" y="826"/>
                  </a:lnTo>
                  <a:lnTo>
                    <a:pt x="14" y="785"/>
                  </a:lnTo>
                  <a:lnTo>
                    <a:pt x="11" y="742"/>
                  </a:lnTo>
                  <a:lnTo>
                    <a:pt x="10" y="697"/>
                  </a:lnTo>
                  <a:lnTo>
                    <a:pt x="10" y="697"/>
                  </a:lnTo>
                  <a:lnTo>
                    <a:pt x="11" y="661"/>
                  </a:lnTo>
                  <a:lnTo>
                    <a:pt x="14" y="625"/>
                  </a:lnTo>
                  <a:lnTo>
                    <a:pt x="20" y="590"/>
                  </a:lnTo>
                  <a:lnTo>
                    <a:pt x="27" y="556"/>
                  </a:lnTo>
                  <a:lnTo>
                    <a:pt x="37" y="523"/>
                  </a:lnTo>
                  <a:lnTo>
                    <a:pt x="48" y="491"/>
                  </a:lnTo>
                  <a:lnTo>
                    <a:pt x="61" y="459"/>
                  </a:lnTo>
                  <a:lnTo>
                    <a:pt x="76" y="429"/>
                  </a:lnTo>
                  <a:lnTo>
                    <a:pt x="94" y="399"/>
                  </a:lnTo>
                  <a:lnTo>
                    <a:pt x="112" y="371"/>
                  </a:lnTo>
                  <a:lnTo>
                    <a:pt x="132" y="343"/>
                  </a:lnTo>
                  <a:lnTo>
                    <a:pt x="153" y="316"/>
                  </a:lnTo>
                  <a:lnTo>
                    <a:pt x="176" y="291"/>
                  </a:lnTo>
                  <a:lnTo>
                    <a:pt x="200" y="266"/>
                  </a:lnTo>
                  <a:lnTo>
                    <a:pt x="226" y="242"/>
                  </a:lnTo>
                  <a:lnTo>
                    <a:pt x="253" y="219"/>
                  </a:lnTo>
                  <a:lnTo>
                    <a:pt x="281" y="197"/>
                  </a:lnTo>
                  <a:lnTo>
                    <a:pt x="310" y="175"/>
                  </a:lnTo>
                  <a:lnTo>
                    <a:pt x="340" y="156"/>
                  </a:lnTo>
                  <a:lnTo>
                    <a:pt x="371" y="136"/>
                  </a:lnTo>
                  <a:lnTo>
                    <a:pt x="404" y="119"/>
                  </a:lnTo>
                  <a:lnTo>
                    <a:pt x="436" y="101"/>
                  </a:lnTo>
                  <a:lnTo>
                    <a:pt x="470" y="85"/>
                  </a:lnTo>
                  <a:lnTo>
                    <a:pt x="504" y="70"/>
                  </a:lnTo>
                  <a:lnTo>
                    <a:pt x="538" y="56"/>
                  </a:lnTo>
                  <a:lnTo>
                    <a:pt x="574" y="43"/>
                  </a:lnTo>
                  <a:lnTo>
                    <a:pt x="610" y="31"/>
                  </a:lnTo>
                  <a:lnTo>
                    <a:pt x="646" y="20"/>
                  </a:lnTo>
                  <a:lnTo>
                    <a:pt x="683" y="1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24" y="19"/>
                  </a:lnTo>
                  <a:lnTo>
                    <a:pt x="735" y="64"/>
                  </a:lnTo>
                  <a:lnTo>
                    <a:pt x="751" y="127"/>
                  </a:lnTo>
                  <a:lnTo>
                    <a:pt x="769" y="195"/>
                  </a:lnTo>
                  <a:lnTo>
                    <a:pt x="784" y="258"/>
                  </a:lnTo>
                  <a:lnTo>
                    <a:pt x="796" y="304"/>
                  </a:lnTo>
                  <a:lnTo>
                    <a:pt x="800" y="322"/>
                  </a:lnTo>
                  <a:lnTo>
                    <a:pt x="800" y="322"/>
                  </a:lnTo>
                  <a:lnTo>
                    <a:pt x="764" y="333"/>
                  </a:lnTo>
                  <a:lnTo>
                    <a:pt x="729" y="345"/>
                  </a:lnTo>
                  <a:lnTo>
                    <a:pt x="692" y="358"/>
                  </a:lnTo>
                  <a:lnTo>
                    <a:pt x="656" y="372"/>
                  </a:lnTo>
                  <a:lnTo>
                    <a:pt x="620" y="387"/>
                  </a:lnTo>
                  <a:lnTo>
                    <a:pt x="586" y="405"/>
                  </a:lnTo>
                  <a:lnTo>
                    <a:pt x="552" y="422"/>
                  </a:lnTo>
                  <a:lnTo>
                    <a:pt x="522" y="443"/>
                  </a:lnTo>
                  <a:lnTo>
                    <a:pt x="493" y="464"/>
                  </a:lnTo>
                  <a:lnTo>
                    <a:pt x="467" y="488"/>
                  </a:lnTo>
                  <a:lnTo>
                    <a:pt x="443" y="513"/>
                  </a:lnTo>
                  <a:lnTo>
                    <a:pt x="423" y="542"/>
                  </a:lnTo>
                  <a:lnTo>
                    <a:pt x="407" y="572"/>
                  </a:lnTo>
                  <a:lnTo>
                    <a:pt x="395" y="606"/>
                  </a:lnTo>
                  <a:lnTo>
                    <a:pt x="387" y="641"/>
                  </a:lnTo>
                  <a:lnTo>
                    <a:pt x="385" y="680"/>
                  </a:lnTo>
                  <a:lnTo>
                    <a:pt x="385" y="680"/>
                  </a:lnTo>
                  <a:lnTo>
                    <a:pt x="386" y="715"/>
                  </a:lnTo>
                  <a:lnTo>
                    <a:pt x="389" y="749"/>
                  </a:lnTo>
                  <a:lnTo>
                    <a:pt x="394" y="784"/>
                  </a:lnTo>
                  <a:lnTo>
                    <a:pt x="401" y="817"/>
                  </a:lnTo>
                  <a:lnTo>
                    <a:pt x="410" y="849"/>
                  </a:lnTo>
                  <a:lnTo>
                    <a:pt x="420" y="880"/>
                  </a:lnTo>
                  <a:lnTo>
                    <a:pt x="432" y="911"/>
                  </a:lnTo>
                  <a:lnTo>
                    <a:pt x="445" y="942"/>
                  </a:lnTo>
                  <a:lnTo>
                    <a:pt x="459" y="971"/>
                  </a:lnTo>
                  <a:lnTo>
                    <a:pt x="474" y="1000"/>
                  </a:lnTo>
                  <a:lnTo>
                    <a:pt x="489" y="1030"/>
                  </a:lnTo>
                  <a:lnTo>
                    <a:pt x="507" y="1058"/>
                  </a:lnTo>
                  <a:lnTo>
                    <a:pt x="524" y="1086"/>
                  </a:lnTo>
                  <a:lnTo>
                    <a:pt x="542" y="1115"/>
                  </a:lnTo>
                  <a:lnTo>
                    <a:pt x="560" y="1143"/>
                  </a:lnTo>
                  <a:lnTo>
                    <a:pt x="579" y="1171"/>
                  </a:lnTo>
                  <a:lnTo>
                    <a:pt x="598" y="1199"/>
                  </a:lnTo>
                  <a:lnTo>
                    <a:pt x="617" y="1227"/>
                  </a:lnTo>
                  <a:lnTo>
                    <a:pt x="635" y="1255"/>
                  </a:lnTo>
                  <a:lnTo>
                    <a:pt x="654" y="1284"/>
                  </a:lnTo>
                  <a:lnTo>
                    <a:pt x="671" y="1312"/>
                  </a:lnTo>
                  <a:lnTo>
                    <a:pt x="688" y="1342"/>
                  </a:lnTo>
                  <a:lnTo>
                    <a:pt x="706" y="1372"/>
                  </a:lnTo>
                  <a:lnTo>
                    <a:pt x="722" y="1403"/>
                  </a:lnTo>
                  <a:lnTo>
                    <a:pt x="737" y="1434"/>
                  </a:lnTo>
                  <a:lnTo>
                    <a:pt x="751" y="1466"/>
                  </a:lnTo>
                  <a:lnTo>
                    <a:pt x="763" y="1498"/>
                  </a:lnTo>
                  <a:lnTo>
                    <a:pt x="775" y="1532"/>
                  </a:lnTo>
                  <a:lnTo>
                    <a:pt x="785" y="1567"/>
                  </a:lnTo>
                  <a:lnTo>
                    <a:pt x="794" y="1602"/>
                  </a:lnTo>
                  <a:lnTo>
                    <a:pt x="801" y="1637"/>
                  </a:lnTo>
                  <a:lnTo>
                    <a:pt x="806" y="1676"/>
                  </a:lnTo>
                  <a:lnTo>
                    <a:pt x="809" y="1714"/>
                  </a:lnTo>
                  <a:lnTo>
                    <a:pt x="810" y="1754"/>
                  </a:lnTo>
                  <a:lnTo>
                    <a:pt x="810" y="1754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46320" y="6103080"/>
              <a:ext cx="236520" cy="58932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935" y="309"/>
                  </a:moveTo>
                  <a:lnTo>
                    <a:pt x="662" y="309"/>
                  </a:lnTo>
                  <a:lnTo>
                    <a:pt x="662" y="2334"/>
                  </a:lnTo>
                  <a:lnTo>
                    <a:pt x="287" y="2334"/>
                  </a:lnTo>
                  <a:lnTo>
                    <a:pt x="287" y="309"/>
                  </a:lnTo>
                  <a:lnTo>
                    <a:pt x="0" y="309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35" y="30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72720" y="6094800"/>
              <a:ext cx="276120" cy="605520"/>
            </a:xfrm>
            <a:custGeom>
              <a:avLst/>
              <a:gdLst/>
              <a:ahLst/>
              <a:rect l="l" t="t" r="r" b="b"/>
              <a:pathLst>
                <a:path w="1091" h="2395">
                  <a:moveTo>
                    <a:pt x="1091" y="2395"/>
                  </a:moveTo>
                  <a:lnTo>
                    <a:pt x="1003" y="2395"/>
                  </a:lnTo>
                  <a:lnTo>
                    <a:pt x="341" y="1177"/>
                  </a:lnTo>
                  <a:lnTo>
                    <a:pt x="341" y="2365"/>
                  </a:lnTo>
                  <a:lnTo>
                    <a:pt x="0" y="2365"/>
                  </a:lnTo>
                  <a:lnTo>
                    <a:pt x="0" y="0"/>
                  </a:lnTo>
                  <a:lnTo>
                    <a:pt x="98" y="0"/>
                  </a:lnTo>
                  <a:lnTo>
                    <a:pt x="753" y="1185"/>
                  </a:lnTo>
                  <a:lnTo>
                    <a:pt x="753" y="31"/>
                  </a:lnTo>
                  <a:lnTo>
                    <a:pt x="1091" y="31"/>
                  </a:lnTo>
                  <a:lnTo>
                    <a:pt x="1091" y="2395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38480" y="6103080"/>
              <a:ext cx="194040" cy="589320"/>
            </a:xfrm>
            <a:custGeom>
              <a:avLst/>
              <a:gdLst/>
              <a:ahLst/>
              <a:rect l="l" t="t" r="r" b="b"/>
              <a:pathLst>
                <a:path w="768" h="2334">
                  <a:moveTo>
                    <a:pt x="697" y="1379"/>
                  </a:moveTo>
                  <a:lnTo>
                    <a:pt x="371" y="1379"/>
                  </a:lnTo>
                  <a:lnTo>
                    <a:pt x="371" y="2027"/>
                  </a:lnTo>
                  <a:lnTo>
                    <a:pt x="768" y="2027"/>
                  </a:lnTo>
                  <a:lnTo>
                    <a:pt x="768" y="2334"/>
                  </a:lnTo>
                  <a:lnTo>
                    <a:pt x="0" y="2334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309"/>
                  </a:lnTo>
                  <a:lnTo>
                    <a:pt x="371" y="309"/>
                  </a:lnTo>
                  <a:lnTo>
                    <a:pt x="371" y="1075"/>
                  </a:lnTo>
                  <a:lnTo>
                    <a:pt x="697" y="1075"/>
                  </a:lnTo>
                  <a:lnTo>
                    <a:pt x="697" y="137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0480" y="6091560"/>
              <a:ext cx="204840" cy="613800"/>
            </a:xfrm>
            <a:custGeom>
              <a:avLst/>
              <a:gdLst/>
              <a:ahLst/>
              <a:rect l="l" t="t" r="r" b="b"/>
              <a:pathLst>
                <a:path w="810" h="2429">
                  <a:moveTo>
                    <a:pt x="810" y="1754"/>
                  </a:moveTo>
                  <a:lnTo>
                    <a:pt x="808" y="1792"/>
                  </a:lnTo>
                  <a:lnTo>
                    <a:pt x="805" y="1828"/>
                  </a:lnTo>
                  <a:lnTo>
                    <a:pt x="800" y="1864"/>
                  </a:lnTo>
                  <a:lnTo>
                    <a:pt x="792" y="1898"/>
                  </a:lnTo>
                  <a:lnTo>
                    <a:pt x="782" y="1931"/>
                  </a:lnTo>
                  <a:lnTo>
                    <a:pt x="770" y="1964"/>
                  </a:lnTo>
                  <a:lnTo>
                    <a:pt x="757" y="1995"/>
                  </a:lnTo>
                  <a:lnTo>
                    <a:pt x="741" y="2026"/>
                  </a:lnTo>
                  <a:lnTo>
                    <a:pt x="724" y="2055"/>
                  </a:lnTo>
                  <a:lnTo>
                    <a:pt x="705" y="2082"/>
                  </a:lnTo>
                  <a:lnTo>
                    <a:pt x="684" y="2109"/>
                  </a:lnTo>
                  <a:lnTo>
                    <a:pt x="663" y="2136"/>
                  </a:lnTo>
                  <a:lnTo>
                    <a:pt x="639" y="2161"/>
                  </a:lnTo>
                  <a:lnTo>
                    <a:pt x="614" y="2185"/>
                  </a:lnTo>
                  <a:lnTo>
                    <a:pt x="588" y="2208"/>
                  </a:lnTo>
                  <a:lnTo>
                    <a:pt x="561" y="2230"/>
                  </a:lnTo>
                  <a:lnTo>
                    <a:pt x="531" y="2252"/>
                  </a:lnTo>
                  <a:lnTo>
                    <a:pt x="502" y="2271"/>
                  </a:lnTo>
                  <a:lnTo>
                    <a:pt x="470" y="2291"/>
                  </a:lnTo>
                  <a:lnTo>
                    <a:pt x="439" y="2309"/>
                  </a:lnTo>
                  <a:lnTo>
                    <a:pt x="406" y="2327"/>
                  </a:lnTo>
                  <a:lnTo>
                    <a:pt x="372" y="2342"/>
                  </a:lnTo>
                  <a:lnTo>
                    <a:pt x="339" y="2358"/>
                  </a:lnTo>
                  <a:lnTo>
                    <a:pt x="303" y="2372"/>
                  </a:lnTo>
                  <a:lnTo>
                    <a:pt x="268" y="2385"/>
                  </a:lnTo>
                  <a:lnTo>
                    <a:pt x="231" y="2397"/>
                  </a:lnTo>
                  <a:lnTo>
                    <a:pt x="195" y="2409"/>
                  </a:lnTo>
                  <a:lnTo>
                    <a:pt x="158" y="2420"/>
                  </a:lnTo>
                  <a:lnTo>
                    <a:pt x="120" y="2429"/>
                  </a:lnTo>
                  <a:lnTo>
                    <a:pt x="120" y="2429"/>
                  </a:lnTo>
                  <a:lnTo>
                    <a:pt x="114" y="2413"/>
                  </a:lnTo>
                  <a:lnTo>
                    <a:pt x="96" y="2369"/>
                  </a:lnTo>
                  <a:lnTo>
                    <a:pt x="72" y="2310"/>
                  </a:lnTo>
                  <a:lnTo>
                    <a:pt x="47" y="2246"/>
                  </a:lnTo>
                  <a:lnTo>
                    <a:pt x="23" y="2186"/>
                  </a:lnTo>
                  <a:lnTo>
                    <a:pt x="6" y="2143"/>
                  </a:lnTo>
                  <a:lnTo>
                    <a:pt x="0" y="2127"/>
                  </a:lnTo>
                  <a:lnTo>
                    <a:pt x="0" y="2127"/>
                  </a:lnTo>
                  <a:lnTo>
                    <a:pt x="33" y="2114"/>
                  </a:lnTo>
                  <a:lnTo>
                    <a:pt x="68" y="2101"/>
                  </a:lnTo>
                  <a:lnTo>
                    <a:pt x="103" y="2088"/>
                  </a:lnTo>
                  <a:lnTo>
                    <a:pt x="138" y="2073"/>
                  </a:lnTo>
                  <a:lnTo>
                    <a:pt x="172" y="2059"/>
                  </a:lnTo>
                  <a:lnTo>
                    <a:pt x="206" y="2044"/>
                  </a:lnTo>
                  <a:lnTo>
                    <a:pt x="239" y="2029"/>
                  </a:lnTo>
                  <a:lnTo>
                    <a:pt x="270" y="2011"/>
                  </a:lnTo>
                  <a:lnTo>
                    <a:pt x="300" y="1993"/>
                  </a:lnTo>
                  <a:lnTo>
                    <a:pt x="327" y="1972"/>
                  </a:lnTo>
                  <a:lnTo>
                    <a:pt x="352" y="1951"/>
                  </a:lnTo>
                  <a:lnTo>
                    <a:pt x="374" y="1926"/>
                  </a:lnTo>
                  <a:lnTo>
                    <a:pt x="392" y="1899"/>
                  </a:lnTo>
                  <a:lnTo>
                    <a:pt x="407" y="1870"/>
                  </a:lnTo>
                  <a:lnTo>
                    <a:pt x="419" y="1837"/>
                  </a:lnTo>
                  <a:lnTo>
                    <a:pt x="426" y="1802"/>
                  </a:lnTo>
                  <a:lnTo>
                    <a:pt x="428" y="1764"/>
                  </a:lnTo>
                  <a:lnTo>
                    <a:pt x="428" y="1764"/>
                  </a:lnTo>
                  <a:lnTo>
                    <a:pt x="427" y="1731"/>
                  </a:lnTo>
                  <a:lnTo>
                    <a:pt x="424" y="1701"/>
                  </a:lnTo>
                  <a:lnTo>
                    <a:pt x="419" y="1671"/>
                  </a:lnTo>
                  <a:lnTo>
                    <a:pt x="412" y="1642"/>
                  </a:lnTo>
                  <a:lnTo>
                    <a:pt x="403" y="1612"/>
                  </a:lnTo>
                  <a:lnTo>
                    <a:pt x="393" y="1584"/>
                  </a:lnTo>
                  <a:lnTo>
                    <a:pt x="382" y="1557"/>
                  </a:lnTo>
                  <a:lnTo>
                    <a:pt x="369" y="1529"/>
                  </a:lnTo>
                  <a:lnTo>
                    <a:pt x="355" y="1502"/>
                  </a:lnTo>
                  <a:lnTo>
                    <a:pt x="340" y="1474"/>
                  </a:lnTo>
                  <a:lnTo>
                    <a:pt x="325" y="1448"/>
                  </a:lnTo>
                  <a:lnTo>
                    <a:pt x="307" y="1421"/>
                  </a:lnTo>
                  <a:lnTo>
                    <a:pt x="290" y="1395"/>
                  </a:lnTo>
                  <a:lnTo>
                    <a:pt x="272" y="1368"/>
                  </a:lnTo>
                  <a:lnTo>
                    <a:pt x="254" y="1341"/>
                  </a:lnTo>
                  <a:lnTo>
                    <a:pt x="235" y="1314"/>
                  </a:lnTo>
                  <a:lnTo>
                    <a:pt x="217" y="1286"/>
                  </a:lnTo>
                  <a:lnTo>
                    <a:pt x="199" y="1258"/>
                  </a:lnTo>
                  <a:lnTo>
                    <a:pt x="180" y="1230"/>
                  </a:lnTo>
                  <a:lnTo>
                    <a:pt x="162" y="1202"/>
                  </a:lnTo>
                  <a:lnTo>
                    <a:pt x="144" y="1172"/>
                  </a:lnTo>
                  <a:lnTo>
                    <a:pt x="127" y="1142"/>
                  </a:lnTo>
                  <a:lnTo>
                    <a:pt x="109" y="1111"/>
                  </a:lnTo>
                  <a:lnTo>
                    <a:pt x="94" y="1079"/>
                  </a:lnTo>
                  <a:lnTo>
                    <a:pt x="79" y="1046"/>
                  </a:lnTo>
                  <a:lnTo>
                    <a:pt x="65" y="1012"/>
                  </a:lnTo>
                  <a:lnTo>
                    <a:pt x="52" y="978"/>
                  </a:lnTo>
                  <a:lnTo>
                    <a:pt x="41" y="942"/>
                  </a:lnTo>
                  <a:lnTo>
                    <a:pt x="31" y="905"/>
                  </a:lnTo>
                  <a:lnTo>
                    <a:pt x="22" y="866"/>
                  </a:lnTo>
                  <a:lnTo>
                    <a:pt x="15" y="826"/>
                  </a:lnTo>
                  <a:lnTo>
                    <a:pt x="10" y="785"/>
                  </a:lnTo>
                  <a:lnTo>
                    <a:pt x="7" y="742"/>
                  </a:lnTo>
                  <a:lnTo>
                    <a:pt x="6" y="697"/>
                  </a:lnTo>
                  <a:lnTo>
                    <a:pt x="6" y="697"/>
                  </a:lnTo>
                  <a:lnTo>
                    <a:pt x="7" y="661"/>
                  </a:lnTo>
                  <a:lnTo>
                    <a:pt x="10" y="625"/>
                  </a:lnTo>
                  <a:lnTo>
                    <a:pt x="16" y="590"/>
                  </a:lnTo>
                  <a:lnTo>
                    <a:pt x="23" y="556"/>
                  </a:lnTo>
                  <a:lnTo>
                    <a:pt x="33" y="523"/>
                  </a:lnTo>
                  <a:lnTo>
                    <a:pt x="44" y="491"/>
                  </a:lnTo>
                  <a:lnTo>
                    <a:pt x="58" y="459"/>
                  </a:lnTo>
                  <a:lnTo>
                    <a:pt x="73" y="429"/>
                  </a:lnTo>
                  <a:lnTo>
                    <a:pt x="90" y="399"/>
                  </a:lnTo>
                  <a:lnTo>
                    <a:pt x="108" y="371"/>
                  </a:lnTo>
                  <a:lnTo>
                    <a:pt x="129" y="343"/>
                  </a:lnTo>
                  <a:lnTo>
                    <a:pt x="151" y="316"/>
                  </a:lnTo>
                  <a:lnTo>
                    <a:pt x="174" y="291"/>
                  </a:lnTo>
                  <a:lnTo>
                    <a:pt x="199" y="266"/>
                  </a:lnTo>
                  <a:lnTo>
                    <a:pt x="224" y="242"/>
                  </a:lnTo>
                  <a:lnTo>
                    <a:pt x="251" y="219"/>
                  </a:lnTo>
                  <a:lnTo>
                    <a:pt x="279" y="197"/>
                  </a:lnTo>
                  <a:lnTo>
                    <a:pt x="308" y="175"/>
                  </a:lnTo>
                  <a:lnTo>
                    <a:pt x="339" y="156"/>
                  </a:lnTo>
                  <a:lnTo>
                    <a:pt x="370" y="136"/>
                  </a:lnTo>
                  <a:lnTo>
                    <a:pt x="402" y="119"/>
                  </a:lnTo>
                  <a:lnTo>
                    <a:pt x="434" y="101"/>
                  </a:lnTo>
                  <a:lnTo>
                    <a:pt x="468" y="85"/>
                  </a:lnTo>
                  <a:lnTo>
                    <a:pt x="503" y="70"/>
                  </a:lnTo>
                  <a:lnTo>
                    <a:pt x="538" y="56"/>
                  </a:lnTo>
                  <a:lnTo>
                    <a:pt x="574" y="43"/>
                  </a:lnTo>
                  <a:lnTo>
                    <a:pt x="609" y="31"/>
                  </a:lnTo>
                  <a:lnTo>
                    <a:pt x="645" y="20"/>
                  </a:lnTo>
                  <a:lnTo>
                    <a:pt x="682" y="10"/>
                  </a:lnTo>
                  <a:lnTo>
                    <a:pt x="718" y="0"/>
                  </a:lnTo>
                  <a:lnTo>
                    <a:pt x="718" y="0"/>
                  </a:lnTo>
                  <a:lnTo>
                    <a:pt x="724" y="19"/>
                  </a:lnTo>
                  <a:lnTo>
                    <a:pt x="734" y="64"/>
                  </a:lnTo>
                  <a:lnTo>
                    <a:pt x="751" y="127"/>
                  </a:lnTo>
                  <a:lnTo>
                    <a:pt x="768" y="195"/>
                  </a:lnTo>
                  <a:lnTo>
                    <a:pt x="783" y="258"/>
                  </a:lnTo>
                  <a:lnTo>
                    <a:pt x="795" y="304"/>
                  </a:lnTo>
                  <a:lnTo>
                    <a:pt x="800" y="322"/>
                  </a:lnTo>
                  <a:lnTo>
                    <a:pt x="800" y="322"/>
                  </a:lnTo>
                  <a:lnTo>
                    <a:pt x="764" y="333"/>
                  </a:lnTo>
                  <a:lnTo>
                    <a:pt x="728" y="345"/>
                  </a:lnTo>
                  <a:lnTo>
                    <a:pt x="691" y="358"/>
                  </a:lnTo>
                  <a:lnTo>
                    <a:pt x="655" y="372"/>
                  </a:lnTo>
                  <a:lnTo>
                    <a:pt x="619" y="387"/>
                  </a:lnTo>
                  <a:lnTo>
                    <a:pt x="586" y="405"/>
                  </a:lnTo>
                  <a:lnTo>
                    <a:pt x="552" y="422"/>
                  </a:lnTo>
                  <a:lnTo>
                    <a:pt x="521" y="443"/>
                  </a:lnTo>
                  <a:lnTo>
                    <a:pt x="492" y="464"/>
                  </a:lnTo>
                  <a:lnTo>
                    <a:pt x="466" y="488"/>
                  </a:lnTo>
                  <a:lnTo>
                    <a:pt x="442" y="513"/>
                  </a:lnTo>
                  <a:lnTo>
                    <a:pt x="422" y="542"/>
                  </a:lnTo>
                  <a:lnTo>
                    <a:pt x="406" y="572"/>
                  </a:lnTo>
                  <a:lnTo>
                    <a:pt x="394" y="606"/>
                  </a:lnTo>
                  <a:lnTo>
                    <a:pt x="387" y="641"/>
                  </a:lnTo>
                  <a:lnTo>
                    <a:pt x="384" y="680"/>
                  </a:lnTo>
                  <a:lnTo>
                    <a:pt x="384" y="680"/>
                  </a:lnTo>
                  <a:lnTo>
                    <a:pt x="386" y="715"/>
                  </a:lnTo>
                  <a:lnTo>
                    <a:pt x="389" y="749"/>
                  </a:lnTo>
                  <a:lnTo>
                    <a:pt x="393" y="784"/>
                  </a:lnTo>
                  <a:lnTo>
                    <a:pt x="401" y="817"/>
                  </a:lnTo>
                  <a:lnTo>
                    <a:pt x="409" y="849"/>
                  </a:lnTo>
                  <a:lnTo>
                    <a:pt x="419" y="880"/>
                  </a:lnTo>
                  <a:lnTo>
                    <a:pt x="431" y="911"/>
                  </a:lnTo>
                  <a:lnTo>
                    <a:pt x="444" y="942"/>
                  </a:lnTo>
                  <a:lnTo>
                    <a:pt x="458" y="971"/>
                  </a:lnTo>
                  <a:lnTo>
                    <a:pt x="472" y="1000"/>
                  </a:lnTo>
                  <a:lnTo>
                    <a:pt x="489" y="1030"/>
                  </a:lnTo>
                  <a:lnTo>
                    <a:pt x="506" y="1058"/>
                  </a:lnTo>
                  <a:lnTo>
                    <a:pt x="524" y="1086"/>
                  </a:lnTo>
                  <a:lnTo>
                    <a:pt x="541" y="1115"/>
                  </a:lnTo>
                  <a:lnTo>
                    <a:pt x="559" y="1143"/>
                  </a:lnTo>
                  <a:lnTo>
                    <a:pt x="578" y="1171"/>
                  </a:lnTo>
                  <a:lnTo>
                    <a:pt x="598" y="1199"/>
                  </a:lnTo>
                  <a:lnTo>
                    <a:pt x="616" y="1227"/>
                  </a:lnTo>
                  <a:lnTo>
                    <a:pt x="634" y="1255"/>
                  </a:lnTo>
                  <a:lnTo>
                    <a:pt x="653" y="1284"/>
                  </a:lnTo>
                  <a:lnTo>
                    <a:pt x="670" y="1312"/>
                  </a:lnTo>
                  <a:lnTo>
                    <a:pt x="688" y="1342"/>
                  </a:lnTo>
                  <a:lnTo>
                    <a:pt x="705" y="1372"/>
                  </a:lnTo>
                  <a:lnTo>
                    <a:pt x="721" y="1403"/>
                  </a:lnTo>
                  <a:lnTo>
                    <a:pt x="737" y="1434"/>
                  </a:lnTo>
                  <a:lnTo>
                    <a:pt x="750" y="1466"/>
                  </a:lnTo>
                  <a:lnTo>
                    <a:pt x="763" y="1498"/>
                  </a:lnTo>
                  <a:lnTo>
                    <a:pt x="775" y="1532"/>
                  </a:lnTo>
                  <a:lnTo>
                    <a:pt x="785" y="1567"/>
                  </a:lnTo>
                  <a:lnTo>
                    <a:pt x="793" y="1602"/>
                  </a:lnTo>
                  <a:lnTo>
                    <a:pt x="801" y="1637"/>
                  </a:lnTo>
                  <a:lnTo>
                    <a:pt x="805" y="1676"/>
                  </a:lnTo>
                  <a:lnTo>
                    <a:pt x="808" y="1714"/>
                  </a:lnTo>
                  <a:lnTo>
                    <a:pt x="810" y="1754"/>
                  </a:lnTo>
                  <a:lnTo>
                    <a:pt x="810" y="1754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17600" y="6103080"/>
              <a:ext cx="186480" cy="589320"/>
            </a:xfrm>
            <a:custGeom>
              <a:avLst/>
              <a:gdLst/>
              <a:ahLst/>
              <a:rect l="l" t="t" r="r" b="b"/>
              <a:pathLst>
                <a:path w="737" h="2334">
                  <a:moveTo>
                    <a:pt x="682" y="1379"/>
                  </a:moveTo>
                  <a:lnTo>
                    <a:pt x="371" y="1379"/>
                  </a:lnTo>
                  <a:lnTo>
                    <a:pt x="371" y="2334"/>
                  </a:lnTo>
                  <a:lnTo>
                    <a:pt x="0" y="2334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7" y="309"/>
                  </a:lnTo>
                  <a:lnTo>
                    <a:pt x="371" y="309"/>
                  </a:lnTo>
                  <a:lnTo>
                    <a:pt x="371" y="1075"/>
                  </a:lnTo>
                  <a:lnTo>
                    <a:pt x="682" y="1075"/>
                  </a:lnTo>
                  <a:lnTo>
                    <a:pt x="682" y="137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03000" y="6091200"/>
              <a:ext cx="304560" cy="613080"/>
            </a:xfrm>
            <a:custGeom>
              <a:avLst/>
              <a:gdLst/>
              <a:ahLst/>
              <a:rect l="l" t="t" r="r" b="b"/>
              <a:pathLst>
                <a:path w="1204" h="2425">
                  <a:moveTo>
                    <a:pt x="603" y="0"/>
                  </a:moveTo>
                  <a:lnTo>
                    <a:pt x="566" y="1"/>
                  </a:lnTo>
                  <a:lnTo>
                    <a:pt x="531" y="4"/>
                  </a:lnTo>
                  <a:lnTo>
                    <a:pt x="497" y="10"/>
                  </a:lnTo>
                  <a:lnTo>
                    <a:pt x="466" y="18"/>
                  </a:lnTo>
                  <a:lnTo>
                    <a:pt x="434" y="27"/>
                  </a:lnTo>
                  <a:lnTo>
                    <a:pt x="405" y="39"/>
                  </a:lnTo>
                  <a:lnTo>
                    <a:pt x="378" y="52"/>
                  </a:lnTo>
                  <a:lnTo>
                    <a:pt x="351" y="68"/>
                  </a:lnTo>
                  <a:lnTo>
                    <a:pt x="326" y="85"/>
                  </a:lnTo>
                  <a:lnTo>
                    <a:pt x="302" y="103"/>
                  </a:lnTo>
                  <a:lnTo>
                    <a:pt x="279" y="124"/>
                  </a:lnTo>
                  <a:lnTo>
                    <a:pt x="257" y="146"/>
                  </a:lnTo>
                  <a:lnTo>
                    <a:pt x="236" y="169"/>
                  </a:lnTo>
                  <a:lnTo>
                    <a:pt x="217" y="194"/>
                  </a:lnTo>
                  <a:lnTo>
                    <a:pt x="198" y="219"/>
                  </a:lnTo>
                  <a:lnTo>
                    <a:pt x="181" y="246"/>
                  </a:lnTo>
                  <a:lnTo>
                    <a:pt x="165" y="274"/>
                  </a:lnTo>
                  <a:lnTo>
                    <a:pt x="149" y="302"/>
                  </a:lnTo>
                  <a:lnTo>
                    <a:pt x="135" y="333"/>
                  </a:lnTo>
                  <a:lnTo>
                    <a:pt x="122" y="363"/>
                  </a:lnTo>
                  <a:lnTo>
                    <a:pt x="110" y="395"/>
                  </a:lnTo>
                  <a:lnTo>
                    <a:pt x="98" y="427"/>
                  </a:lnTo>
                  <a:lnTo>
                    <a:pt x="87" y="460"/>
                  </a:lnTo>
                  <a:lnTo>
                    <a:pt x="78" y="494"/>
                  </a:lnTo>
                  <a:lnTo>
                    <a:pt x="69" y="527"/>
                  </a:lnTo>
                  <a:lnTo>
                    <a:pt x="60" y="562"/>
                  </a:lnTo>
                  <a:lnTo>
                    <a:pt x="53" y="597"/>
                  </a:lnTo>
                  <a:lnTo>
                    <a:pt x="45" y="632"/>
                  </a:lnTo>
                  <a:lnTo>
                    <a:pt x="40" y="667"/>
                  </a:lnTo>
                  <a:lnTo>
                    <a:pt x="33" y="701"/>
                  </a:lnTo>
                  <a:lnTo>
                    <a:pt x="29" y="737"/>
                  </a:lnTo>
                  <a:lnTo>
                    <a:pt x="23" y="772"/>
                  </a:lnTo>
                  <a:lnTo>
                    <a:pt x="20" y="807"/>
                  </a:lnTo>
                  <a:lnTo>
                    <a:pt x="17" y="842"/>
                  </a:lnTo>
                  <a:lnTo>
                    <a:pt x="13" y="876"/>
                  </a:lnTo>
                  <a:lnTo>
                    <a:pt x="10" y="910"/>
                  </a:lnTo>
                  <a:lnTo>
                    <a:pt x="8" y="944"/>
                  </a:lnTo>
                  <a:lnTo>
                    <a:pt x="6" y="976"/>
                  </a:lnTo>
                  <a:lnTo>
                    <a:pt x="5" y="1009"/>
                  </a:lnTo>
                  <a:lnTo>
                    <a:pt x="4" y="1042"/>
                  </a:lnTo>
                  <a:lnTo>
                    <a:pt x="3" y="1072"/>
                  </a:lnTo>
                  <a:lnTo>
                    <a:pt x="2" y="1102"/>
                  </a:lnTo>
                  <a:lnTo>
                    <a:pt x="2" y="1132"/>
                  </a:lnTo>
                  <a:lnTo>
                    <a:pt x="2" y="1160"/>
                  </a:lnTo>
                  <a:lnTo>
                    <a:pt x="2" y="1187"/>
                  </a:lnTo>
                  <a:lnTo>
                    <a:pt x="0" y="1213"/>
                  </a:lnTo>
                  <a:lnTo>
                    <a:pt x="0" y="1213"/>
                  </a:lnTo>
                  <a:lnTo>
                    <a:pt x="2" y="1238"/>
                  </a:lnTo>
                  <a:lnTo>
                    <a:pt x="2" y="1266"/>
                  </a:lnTo>
                  <a:lnTo>
                    <a:pt x="2" y="1294"/>
                  </a:lnTo>
                  <a:lnTo>
                    <a:pt x="2" y="1323"/>
                  </a:lnTo>
                  <a:lnTo>
                    <a:pt x="3" y="1352"/>
                  </a:lnTo>
                  <a:lnTo>
                    <a:pt x="4" y="1384"/>
                  </a:lnTo>
                  <a:lnTo>
                    <a:pt x="5" y="1416"/>
                  </a:lnTo>
                  <a:lnTo>
                    <a:pt x="6" y="1448"/>
                  </a:lnTo>
                  <a:lnTo>
                    <a:pt x="8" y="1481"/>
                  </a:lnTo>
                  <a:lnTo>
                    <a:pt x="10" y="1514"/>
                  </a:lnTo>
                  <a:lnTo>
                    <a:pt x="13" y="1549"/>
                  </a:lnTo>
                  <a:lnTo>
                    <a:pt x="17" y="1583"/>
                  </a:lnTo>
                  <a:lnTo>
                    <a:pt x="20" y="1618"/>
                  </a:lnTo>
                  <a:lnTo>
                    <a:pt x="23" y="1653"/>
                  </a:lnTo>
                  <a:lnTo>
                    <a:pt x="29" y="1688"/>
                  </a:lnTo>
                  <a:lnTo>
                    <a:pt x="33" y="1723"/>
                  </a:lnTo>
                  <a:lnTo>
                    <a:pt x="40" y="1758"/>
                  </a:lnTo>
                  <a:lnTo>
                    <a:pt x="45" y="1794"/>
                  </a:lnTo>
                  <a:lnTo>
                    <a:pt x="53" y="1829"/>
                  </a:lnTo>
                  <a:lnTo>
                    <a:pt x="60" y="1863"/>
                  </a:lnTo>
                  <a:lnTo>
                    <a:pt x="69" y="1897"/>
                  </a:lnTo>
                  <a:lnTo>
                    <a:pt x="78" y="1931"/>
                  </a:lnTo>
                  <a:lnTo>
                    <a:pt x="87" y="1965"/>
                  </a:lnTo>
                  <a:lnTo>
                    <a:pt x="98" y="1997"/>
                  </a:lnTo>
                  <a:lnTo>
                    <a:pt x="110" y="2030"/>
                  </a:lnTo>
                  <a:lnTo>
                    <a:pt x="122" y="2061"/>
                  </a:lnTo>
                  <a:lnTo>
                    <a:pt x="135" y="2093"/>
                  </a:lnTo>
                  <a:lnTo>
                    <a:pt x="149" y="2122"/>
                  </a:lnTo>
                  <a:lnTo>
                    <a:pt x="165" y="2151"/>
                  </a:lnTo>
                  <a:lnTo>
                    <a:pt x="181" y="2180"/>
                  </a:lnTo>
                  <a:lnTo>
                    <a:pt x="198" y="2206"/>
                  </a:lnTo>
                  <a:lnTo>
                    <a:pt x="217" y="2232"/>
                  </a:lnTo>
                  <a:lnTo>
                    <a:pt x="236" y="2256"/>
                  </a:lnTo>
                  <a:lnTo>
                    <a:pt x="257" y="2280"/>
                  </a:lnTo>
                  <a:lnTo>
                    <a:pt x="279" y="2302"/>
                  </a:lnTo>
                  <a:lnTo>
                    <a:pt x="302" y="2321"/>
                  </a:lnTo>
                  <a:lnTo>
                    <a:pt x="326" y="2340"/>
                  </a:lnTo>
                  <a:lnTo>
                    <a:pt x="351" y="2357"/>
                  </a:lnTo>
                  <a:lnTo>
                    <a:pt x="378" y="2372"/>
                  </a:lnTo>
                  <a:lnTo>
                    <a:pt x="405" y="2386"/>
                  </a:lnTo>
                  <a:lnTo>
                    <a:pt x="434" y="2397"/>
                  </a:lnTo>
                  <a:lnTo>
                    <a:pt x="466" y="2407"/>
                  </a:lnTo>
                  <a:lnTo>
                    <a:pt x="497" y="2415"/>
                  </a:lnTo>
                  <a:lnTo>
                    <a:pt x="531" y="2421"/>
                  </a:lnTo>
                  <a:lnTo>
                    <a:pt x="566" y="2424"/>
                  </a:lnTo>
                  <a:lnTo>
                    <a:pt x="603" y="2425"/>
                  </a:lnTo>
                  <a:lnTo>
                    <a:pt x="603" y="2425"/>
                  </a:lnTo>
                  <a:lnTo>
                    <a:pt x="639" y="2424"/>
                  </a:lnTo>
                  <a:lnTo>
                    <a:pt x="672" y="2421"/>
                  </a:lnTo>
                  <a:lnTo>
                    <a:pt x="705" y="2417"/>
                  </a:lnTo>
                  <a:lnTo>
                    <a:pt x="738" y="2409"/>
                  </a:lnTo>
                  <a:lnTo>
                    <a:pt x="767" y="2402"/>
                  </a:lnTo>
                  <a:lnTo>
                    <a:pt x="796" y="2391"/>
                  </a:lnTo>
                  <a:lnTo>
                    <a:pt x="823" y="2379"/>
                  </a:lnTo>
                  <a:lnTo>
                    <a:pt x="851" y="2366"/>
                  </a:lnTo>
                  <a:lnTo>
                    <a:pt x="876" y="2350"/>
                  </a:lnTo>
                  <a:lnTo>
                    <a:pt x="900" y="2334"/>
                  </a:lnTo>
                  <a:lnTo>
                    <a:pt x="922" y="2316"/>
                  </a:lnTo>
                  <a:lnTo>
                    <a:pt x="943" y="2296"/>
                  </a:lnTo>
                  <a:lnTo>
                    <a:pt x="964" y="2275"/>
                  </a:lnTo>
                  <a:lnTo>
                    <a:pt x="983" y="2254"/>
                  </a:lnTo>
                  <a:lnTo>
                    <a:pt x="1002" y="2231"/>
                  </a:lnTo>
                  <a:lnTo>
                    <a:pt x="1019" y="2206"/>
                  </a:lnTo>
                  <a:lnTo>
                    <a:pt x="1035" y="2181"/>
                  </a:lnTo>
                  <a:lnTo>
                    <a:pt x="1051" y="2154"/>
                  </a:lnTo>
                  <a:lnTo>
                    <a:pt x="1065" y="2126"/>
                  </a:lnTo>
                  <a:lnTo>
                    <a:pt x="1078" y="2098"/>
                  </a:lnTo>
                  <a:lnTo>
                    <a:pt x="1091" y="2069"/>
                  </a:lnTo>
                  <a:lnTo>
                    <a:pt x="1103" y="2038"/>
                  </a:lnTo>
                  <a:lnTo>
                    <a:pt x="1114" y="2008"/>
                  </a:lnTo>
                  <a:lnTo>
                    <a:pt x="1124" y="1975"/>
                  </a:lnTo>
                  <a:lnTo>
                    <a:pt x="1132" y="1944"/>
                  </a:lnTo>
                  <a:lnTo>
                    <a:pt x="1141" y="1910"/>
                  </a:lnTo>
                  <a:lnTo>
                    <a:pt x="1149" y="1876"/>
                  </a:lnTo>
                  <a:lnTo>
                    <a:pt x="1156" y="1843"/>
                  </a:lnTo>
                  <a:lnTo>
                    <a:pt x="1163" y="1809"/>
                  </a:lnTo>
                  <a:lnTo>
                    <a:pt x="1169" y="1774"/>
                  </a:lnTo>
                  <a:lnTo>
                    <a:pt x="1174" y="1738"/>
                  </a:lnTo>
                  <a:lnTo>
                    <a:pt x="1179" y="1704"/>
                  </a:lnTo>
                  <a:lnTo>
                    <a:pt x="1183" y="1668"/>
                  </a:lnTo>
                  <a:lnTo>
                    <a:pt x="1187" y="1632"/>
                  </a:lnTo>
                  <a:lnTo>
                    <a:pt x="1190" y="1596"/>
                  </a:lnTo>
                  <a:lnTo>
                    <a:pt x="1193" y="1560"/>
                  </a:lnTo>
                  <a:lnTo>
                    <a:pt x="1195" y="1524"/>
                  </a:lnTo>
                  <a:lnTo>
                    <a:pt x="1197" y="1488"/>
                  </a:lnTo>
                  <a:lnTo>
                    <a:pt x="1200" y="1452"/>
                  </a:lnTo>
                  <a:lnTo>
                    <a:pt x="1201" y="1418"/>
                  </a:lnTo>
                  <a:lnTo>
                    <a:pt x="1202" y="1382"/>
                  </a:lnTo>
                  <a:lnTo>
                    <a:pt x="1203" y="1347"/>
                  </a:lnTo>
                  <a:lnTo>
                    <a:pt x="1203" y="1313"/>
                  </a:lnTo>
                  <a:lnTo>
                    <a:pt x="1203" y="1279"/>
                  </a:lnTo>
                  <a:lnTo>
                    <a:pt x="1204" y="1245"/>
                  </a:lnTo>
                  <a:lnTo>
                    <a:pt x="1204" y="1213"/>
                  </a:lnTo>
                  <a:lnTo>
                    <a:pt x="1204" y="1213"/>
                  </a:lnTo>
                  <a:lnTo>
                    <a:pt x="1204" y="1180"/>
                  </a:lnTo>
                  <a:lnTo>
                    <a:pt x="1203" y="1146"/>
                  </a:lnTo>
                  <a:lnTo>
                    <a:pt x="1203" y="1112"/>
                  </a:lnTo>
                  <a:lnTo>
                    <a:pt x="1203" y="1077"/>
                  </a:lnTo>
                  <a:lnTo>
                    <a:pt x="1202" y="1043"/>
                  </a:lnTo>
                  <a:lnTo>
                    <a:pt x="1201" y="1008"/>
                  </a:lnTo>
                  <a:lnTo>
                    <a:pt x="1200" y="972"/>
                  </a:lnTo>
                  <a:lnTo>
                    <a:pt x="1197" y="936"/>
                  </a:lnTo>
                  <a:lnTo>
                    <a:pt x="1195" y="900"/>
                  </a:lnTo>
                  <a:lnTo>
                    <a:pt x="1193" y="864"/>
                  </a:lnTo>
                  <a:lnTo>
                    <a:pt x="1190" y="828"/>
                  </a:lnTo>
                  <a:lnTo>
                    <a:pt x="1187" y="793"/>
                  </a:lnTo>
                  <a:lnTo>
                    <a:pt x="1183" y="757"/>
                  </a:lnTo>
                  <a:lnTo>
                    <a:pt x="1179" y="722"/>
                  </a:lnTo>
                  <a:lnTo>
                    <a:pt x="1174" y="686"/>
                  </a:lnTo>
                  <a:lnTo>
                    <a:pt x="1169" y="651"/>
                  </a:lnTo>
                  <a:lnTo>
                    <a:pt x="1163" y="617"/>
                  </a:lnTo>
                  <a:lnTo>
                    <a:pt x="1156" y="582"/>
                  </a:lnTo>
                  <a:lnTo>
                    <a:pt x="1149" y="548"/>
                  </a:lnTo>
                  <a:lnTo>
                    <a:pt x="1141" y="514"/>
                  </a:lnTo>
                  <a:lnTo>
                    <a:pt x="1132" y="482"/>
                  </a:lnTo>
                  <a:lnTo>
                    <a:pt x="1124" y="449"/>
                  </a:lnTo>
                  <a:lnTo>
                    <a:pt x="1114" y="418"/>
                  </a:lnTo>
                  <a:lnTo>
                    <a:pt x="1103" y="386"/>
                  </a:lnTo>
                  <a:lnTo>
                    <a:pt x="1091" y="357"/>
                  </a:lnTo>
                  <a:lnTo>
                    <a:pt x="1078" y="327"/>
                  </a:lnTo>
                  <a:lnTo>
                    <a:pt x="1065" y="298"/>
                  </a:lnTo>
                  <a:lnTo>
                    <a:pt x="1051" y="271"/>
                  </a:lnTo>
                  <a:lnTo>
                    <a:pt x="1035" y="245"/>
                  </a:lnTo>
                  <a:lnTo>
                    <a:pt x="1019" y="219"/>
                  </a:lnTo>
                  <a:lnTo>
                    <a:pt x="1002" y="195"/>
                  </a:lnTo>
                  <a:lnTo>
                    <a:pt x="983" y="171"/>
                  </a:lnTo>
                  <a:lnTo>
                    <a:pt x="964" y="149"/>
                  </a:lnTo>
                  <a:lnTo>
                    <a:pt x="943" y="128"/>
                  </a:lnTo>
                  <a:lnTo>
                    <a:pt x="922" y="109"/>
                  </a:lnTo>
                  <a:lnTo>
                    <a:pt x="900" y="91"/>
                  </a:lnTo>
                  <a:lnTo>
                    <a:pt x="876" y="74"/>
                  </a:lnTo>
                  <a:lnTo>
                    <a:pt x="851" y="59"/>
                  </a:lnTo>
                  <a:lnTo>
                    <a:pt x="823" y="46"/>
                  </a:lnTo>
                  <a:lnTo>
                    <a:pt x="796" y="34"/>
                  </a:lnTo>
                  <a:lnTo>
                    <a:pt x="767" y="24"/>
                  </a:lnTo>
                  <a:lnTo>
                    <a:pt x="738" y="15"/>
                  </a:lnTo>
                  <a:lnTo>
                    <a:pt x="705" y="9"/>
                  </a:lnTo>
                  <a:lnTo>
                    <a:pt x="672" y="3"/>
                  </a:lnTo>
                  <a:lnTo>
                    <a:pt x="639" y="1"/>
                  </a:lnTo>
                  <a:lnTo>
                    <a:pt x="603" y="0"/>
                  </a:lnTo>
                  <a:lnTo>
                    <a:pt x="603" y="0"/>
                  </a:lnTo>
                  <a:close/>
                  <a:moveTo>
                    <a:pt x="603" y="321"/>
                  </a:moveTo>
                  <a:lnTo>
                    <a:pt x="627" y="323"/>
                  </a:lnTo>
                  <a:lnTo>
                    <a:pt x="648" y="331"/>
                  </a:lnTo>
                  <a:lnTo>
                    <a:pt x="669" y="341"/>
                  </a:lnTo>
                  <a:lnTo>
                    <a:pt x="689" y="358"/>
                  </a:lnTo>
                  <a:lnTo>
                    <a:pt x="706" y="376"/>
                  </a:lnTo>
                  <a:lnTo>
                    <a:pt x="722" y="400"/>
                  </a:lnTo>
                  <a:lnTo>
                    <a:pt x="738" y="426"/>
                  </a:lnTo>
                  <a:lnTo>
                    <a:pt x="751" y="455"/>
                  </a:lnTo>
                  <a:lnTo>
                    <a:pt x="763" y="486"/>
                  </a:lnTo>
                  <a:lnTo>
                    <a:pt x="773" y="521"/>
                  </a:lnTo>
                  <a:lnTo>
                    <a:pt x="783" y="557"/>
                  </a:lnTo>
                  <a:lnTo>
                    <a:pt x="792" y="595"/>
                  </a:lnTo>
                  <a:lnTo>
                    <a:pt x="800" y="634"/>
                  </a:lnTo>
                  <a:lnTo>
                    <a:pt x="806" y="674"/>
                  </a:lnTo>
                  <a:lnTo>
                    <a:pt x="813" y="714"/>
                  </a:lnTo>
                  <a:lnTo>
                    <a:pt x="817" y="757"/>
                  </a:lnTo>
                  <a:lnTo>
                    <a:pt x="821" y="798"/>
                  </a:lnTo>
                  <a:lnTo>
                    <a:pt x="825" y="840"/>
                  </a:lnTo>
                  <a:lnTo>
                    <a:pt x="828" y="882"/>
                  </a:lnTo>
                  <a:lnTo>
                    <a:pt x="830" y="923"/>
                  </a:lnTo>
                  <a:lnTo>
                    <a:pt x="832" y="962"/>
                  </a:lnTo>
                  <a:lnTo>
                    <a:pt x="833" y="1001"/>
                  </a:lnTo>
                  <a:lnTo>
                    <a:pt x="834" y="1038"/>
                  </a:lnTo>
                  <a:lnTo>
                    <a:pt x="834" y="1074"/>
                  </a:lnTo>
                  <a:lnTo>
                    <a:pt x="835" y="1107"/>
                  </a:lnTo>
                  <a:lnTo>
                    <a:pt x="835" y="1138"/>
                  </a:lnTo>
                  <a:lnTo>
                    <a:pt x="835" y="1167"/>
                  </a:lnTo>
                  <a:lnTo>
                    <a:pt x="835" y="1192"/>
                  </a:lnTo>
                  <a:lnTo>
                    <a:pt x="835" y="1213"/>
                  </a:lnTo>
                  <a:lnTo>
                    <a:pt x="835" y="1213"/>
                  </a:lnTo>
                  <a:lnTo>
                    <a:pt x="835" y="1234"/>
                  </a:lnTo>
                  <a:lnTo>
                    <a:pt x="835" y="1259"/>
                  </a:lnTo>
                  <a:lnTo>
                    <a:pt x="835" y="1287"/>
                  </a:lnTo>
                  <a:lnTo>
                    <a:pt x="835" y="1318"/>
                  </a:lnTo>
                  <a:lnTo>
                    <a:pt x="834" y="1351"/>
                  </a:lnTo>
                  <a:lnTo>
                    <a:pt x="834" y="1386"/>
                  </a:lnTo>
                  <a:lnTo>
                    <a:pt x="833" y="1423"/>
                  </a:lnTo>
                  <a:lnTo>
                    <a:pt x="832" y="1462"/>
                  </a:lnTo>
                  <a:lnTo>
                    <a:pt x="830" y="1502"/>
                  </a:lnTo>
                  <a:lnTo>
                    <a:pt x="828" y="1543"/>
                  </a:lnTo>
                  <a:lnTo>
                    <a:pt x="825" y="1584"/>
                  </a:lnTo>
                  <a:lnTo>
                    <a:pt x="821" y="1626"/>
                  </a:lnTo>
                  <a:lnTo>
                    <a:pt x="817" y="1669"/>
                  </a:lnTo>
                  <a:lnTo>
                    <a:pt x="813" y="1710"/>
                  </a:lnTo>
                  <a:lnTo>
                    <a:pt x="806" y="1751"/>
                  </a:lnTo>
                  <a:lnTo>
                    <a:pt x="800" y="1792"/>
                  </a:lnTo>
                  <a:lnTo>
                    <a:pt x="792" y="1831"/>
                  </a:lnTo>
                  <a:lnTo>
                    <a:pt x="783" y="1869"/>
                  </a:lnTo>
                  <a:lnTo>
                    <a:pt x="773" y="1905"/>
                  </a:lnTo>
                  <a:lnTo>
                    <a:pt x="763" y="1938"/>
                  </a:lnTo>
                  <a:lnTo>
                    <a:pt x="751" y="1970"/>
                  </a:lnTo>
                  <a:lnTo>
                    <a:pt x="738" y="1999"/>
                  </a:lnTo>
                  <a:lnTo>
                    <a:pt x="722" y="2025"/>
                  </a:lnTo>
                  <a:lnTo>
                    <a:pt x="706" y="2048"/>
                  </a:lnTo>
                  <a:lnTo>
                    <a:pt x="689" y="2068"/>
                  </a:lnTo>
                  <a:lnTo>
                    <a:pt x="669" y="2083"/>
                  </a:lnTo>
                  <a:lnTo>
                    <a:pt x="648" y="2095"/>
                  </a:lnTo>
                  <a:lnTo>
                    <a:pt x="627" y="2101"/>
                  </a:lnTo>
                  <a:lnTo>
                    <a:pt x="603" y="2105"/>
                  </a:lnTo>
                  <a:lnTo>
                    <a:pt x="603" y="2105"/>
                  </a:lnTo>
                  <a:lnTo>
                    <a:pt x="579" y="2101"/>
                  </a:lnTo>
                  <a:lnTo>
                    <a:pt x="556" y="2095"/>
                  </a:lnTo>
                  <a:lnTo>
                    <a:pt x="535" y="2083"/>
                  </a:lnTo>
                  <a:lnTo>
                    <a:pt x="517" y="2067"/>
                  </a:lnTo>
                  <a:lnTo>
                    <a:pt x="499" y="2047"/>
                  </a:lnTo>
                  <a:lnTo>
                    <a:pt x="483" y="2024"/>
                  </a:lnTo>
                  <a:lnTo>
                    <a:pt x="469" y="1997"/>
                  </a:lnTo>
                  <a:lnTo>
                    <a:pt x="455" y="1968"/>
                  </a:lnTo>
                  <a:lnTo>
                    <a:pt x="443" y="1936"/>
                  </a:lnTo>
                  <a:lnTo>
                    <a:pt x="432" y="1901"/>
                  </a:lnTo>
                  <a:lnTo>
                    <a:pt x="422" y="1866"/>
                  </a:lnTo>
                  <a:lnTo>
                    <a:pt x="414" y="1828"/>
                  </a:lnTo>
                  <a:lnTo>
                    <a:pt x="406" y="1788"/>
                  </a:lnTo>
                  <a:lnTo>
                    <a:pt x="399" y="1747"/>
                  </a:lnTo>
                  <a:lnTo>
                    <a:pt x="393" y="1706"/>
                  </a:lnTo>
                  <a:lnTo>
                    <a:pt x="389" y="1664"/>
                  </a:lnTo>
                  <a:lnTo>
                    <a:pt x="384" y="1622"/>
                  </a:lnTo>
                  <a:lnTo>
                    <a:pt x="380" y="1580"/>
                  </a:lnTo>
                  <a:lnTo>
                    <a:pt x="378" y="1538"/>
                  </a:lnTo>
                  <a:lnTo>
                    <a:pt x="376" y="1497"/>
                  </a:lnTo>
                  <a:lnTo>
                    <a:pt x="373" y="1458"/>
                  </a:lnTo>
                  <a:lnTo>
                    <a:pt x="371" y="1419"/>
                  </a:lnTo>
                  <a:lnTo>
                    <a:pt x="371" y="1382"/>
                  </a:lnTo>
                  <a:lnTo>
                    <a:pt x="370" y="1347"/>
                  </a:lnTo>
                  <a:lnTo>
                    <a:pt x="369" y="1314"/>
                  </a:lnTo>
                  <a:lnTo>
                    <a:pt x="369" y="1284"/>
                  </a:lnTo>
                  <a:lnTo>
                    <a:pt x="369" y="1257"/>
                  </a:lnTo>
                  <a:lnTo>
                    <a:pt x="369" y="1233"/>
                  </a:lnTo>
                  <a:lnTo>
                    <a:pt x="369" y="1213"/>
                  </a:lnTo>
                  <a:lnTo>
                    <a:pt x="369" y="1213"/>
                  </a:lnTo>
                  <a:lnTo>
                    <a:pt x="369" y="1193"/>
                  </a:lnTo>
                  <a:lnTo>
                    <a:pt x="369" y="1168"/>
                  </a:lnTo>
                  <a:lnTo>
                    <a:pt x="369" y="1140"/>
                  </a:lnTo>
                  <a:lnTo>
                    <a:pt x="369" y="1110"/>
                  </a:lnTo>
                  <a:lnTo>
                    <a:pt x="370" y="1077"/>
                  </a:lnTo>
                  <a:lnTo>
                    <a:pt x="371" y="1043"/>
                  </a:lnTo>
                  <a:lnTo>
                    <a:pt x="371" y="1006"/>
                  </a:lnTo>
                  <a:lnTo>
                    <a:pt x="373" y="968"/>
                  </a:lnTo>
                  <a:lnTo>
                    <a:pt x="376" y="927"/>
                  </a:lnTo>
                  <a:lnTo>
                    <a:pt x="378" y="886"/>
                  </a:lnTo>
                  <a:lnTo>
                    <a:pt x="380" y="845"/>
                  </a:lnTo>
                  <a:lnTo>
                    <a:pt x="384" y="803"/>
                  </a:lnTo>
                  <a:lnTo>
                    <a:pt x="389" y="761"/>
                  </a:lnTo>
                  <a:lnTo>
                    <a:pt x="393" y="719"/>
                  </a:lnTo>
                  <a:lnTo>
                    <a:pt x="399" y="677"/>
                  </a:lnTo>
                  <a:lnTo>
                    <a:pt x="406" y="637"/>
                  </a:lnTo>
                  <a:lnTo>
                    <a:pt x="414" y="598"/>
                  </a:lnTo>
                  <a:lnTo>
                    <a:pt x="422" y="559"/>
                  </a:lnTo>
                  <a:lnTo>
                    <a:pt x="432" y="523"/>
                  </a:lnTo>
                  <a:lnTo>
                    <a:pt x="443" y="488"/>
                  </a:lnTo>
                  <a:lnTo>
                    <a:pt x="455" y="457"/>
                  </a:lnTo>
                  <a:lnTo>
                    <a:pt x="469" y="427"/>
                  </a:lnTo>
                  <a:lnTo>
                    <a:pt x="483" y="401"/>
                  </a:lnTo>
                  <a:lnTo>
                    <a:pt x="499" y="377"/>
                  </a:lnTo>
                  <a:lnTo>
                    <a:pt x="517" y="358"/>
                  </a:lnTo>
                  <a:lnTo>
                    <a:pt x="535" y="343"/>
                  </a:lnTo>
                  <a:lnTo>
                    <a:pt x="556" y="331"/>
                  </a:lnTo>
                  <a:lnTo>
                    <a:pt x="579" y="323"/>
                  </a:lnTo>
                  <a:lnTo>
                    <a:pt x="603" y="321"/>
                  </a:lnTo>
                  <a:lnTo>
                    <a:pt x="603" y="321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43560" y="6091200"/>
              <a:ext cx="303120" cy="613080"/>
            </a:xfrm>
            <a:custGeom>
              <a:avLst/>
              <a:gdLst/>
              <a:ahLst/>
              <a:rect l="l" t="t" r="r" b="b"/>
              <a:pathLst>
                <a:path w="1202" h="2425">
                  <a:moveTo>
                    <a:pt x="601" y="0"/>
                  </a:moveTo>
                  <a:lnTo>
                    <a:pt x="565" y="1"/>
                  </a:lnTo>
                  <a:lnTo>
                    <a:pt x="529" y="4"/>
                  </a:lnTo>
                  <a:lnTo>
                    <a:pt x="497" y="10"/>
                  </a:lnTo>
                  <a:lnTo>
                    <a:pt x="464" y="18"/>
                  </a:lnTo>
                  <a:lnTo>
                    <a:pt x="434" y="27"/>
                  </a:lnTo>
                  <a:lnTo>
                    <a:pt x="404" y="39"/>
                  </a:lnTo>
                  <a:lnTo>
                    <a:pt x="376" y="52"/>
                  </a:lnTo>
                  <a:lnTo>
                    <a:pt x="350" y="68"/>
                  </a:lnTo>
                  <a:lnTo>
                    <a:pt x="324" y="85"/>
                  </a:lnTo>
                  <a:lnTo>
                    <a:pt x="300" y="103"/>
                  </a:lnTo>
                  <a:lnTo>
                    <a:pt x="277" y="124"/>
                  </a:lnTo>
                  <a:lnTo>
                    <a:pt x="255" y="146"/>
                  </a:lnTo>
                  <a:lnTo>
                    <a:pt x="235" y="169"/>
                  </a:lnTo>
                  <a:lnTo>
                    <a:pt x="216" y="194"/>
                  </a:lnTo>
                  <a:lnTo>
                    <a:pt x="198" y="219"/>
                  </a:lnTo>
                  <a:lnTo>
                    <a:pt x="180" y="246"/>
                  </a:lnTo>
                  <a:lnTo>
                    <a:pt x="164" y="274"/>
                  </a:lnTo>
                  <a:lnTo>
                    <a:pt x="149" y="302"/>
                  </a:lnTo>
                  <a:lnTo>
                    <a:pt x="135" y="333"/>
                  </a:lnTo>
                  <a:lnTo>
                    <a:pt x="122" y="363"/>
                  </a:lnTo>
                  <a:lnTo>
                    <a:pt x="109" y="395"/>
                  </a:lnTo>
                  <a:lnTo>
                    <a:pt x="97" y="427"/>
                  </a:lnTo>
                  <a:lnTo>
                    <a:pt x="87" y="460"/>
                  </a:lnTo>
                  <a:lnTo>
                    <a:pt x="77" y="494"/>
                  </a:lnTo>
                  <a:lnTo>
                    <a:pt x="67" y="527"/>
                  </a:lnTo>
                  <a:lnTo>
                    <a:pt x="59" y="562"/>
                  </a:lnTo>
                  <a:lnTo>
                    <a:pt x="51" y="597"/>
                  </a:lnTo>
                  <a:lnTo>
                    <a:pt x="44" y="632"/>
                  </a:lnTo>
                  <a:lnTo>
                    <a:pt x="38" y="667"/>
                  </a:lnTo>
                  <a:lnTo>
                    <a:pt x="32" y="701"/>
                  </a:lnTo>
                  <a:lnTo>
                    <a:pt x="27" y="737"/>
                  </a:lnTo>
                  <a:lnTo>
                    <a:pt x="23" y="772"/>
                  </a:lnTo>
                  <a:lnTo>
                    <a:pt x="18" y="807"/>
                  </a:lnTo>
                  <a:lnTo>
                    <a:pt x="15" y="842"/>
                  </a:lnTo>
                  <a:lnTo>
                    <a:pt x="12" y="876"/>
                  </a:lnTo>
                  <a:lnTo>
                    <a:pt x="10" y="910"/>
                  </a:lnTo>
                  <a:lnTo>
                    <a:pt x="7" y="944"/>
                  </a:lnTo>
                  <a:lnTo>
                    <a:pt x="5" y="976"/>
                  </a:lnTo>
                  <a:lnTo>
                    <a:pt x="4" y="1009"/>
                  </a:lnTo>
                  <a:lnTo>
                    <a:pt x="2" y="1042"/>
                  </a:lnTo>
                  <a:lnTo>
                    <a:pt x="2" y="1072"/>
                  </a:lnTo>
                  <a:lnTo>
                    <a:pt x="1" y="1102"/>
                  </a:lnTo>
                  <a:lnTo>
                    <a:pt x="0" y="1132"/>
                  </a:lnTo>
                  <a:lnTo>
                    <a:pt x="0" y="1160"/>
                  </a:lnTo>
                  <a:lnTo>
                    <a:pt x="0" y="1187"/>
                  </a:lnTo>
                  <a:lnTo>
                    <a:pt x="0" y="1213"/>
                  </a:lnTo>
                  <a:lnTo>
                    <a:pt x="0" y="1213"/>
                  </a:lnTo>
                  <a:lnTo>
                    <a:pt x="0" y="1238"/>
                  </a:lnTo>
                  <a:lnTo>
                    <a:pt x="0" y="1266"/>
                  </a:lnTo>
                  <a:lnTo>
                    <a:pt x="0" y="1294"/>
                  </a:lnTo>
                  <a:lnTo>
                    <a:pt x="1" y="1323"/>
                  </a:lnTo>
                  <a:lnTo>
                    <a:pt x="2" y="1352"/>
                  </a:lnTo>
                  <a:lnTo>
                    <a:pt x="2" y="1384"/>
                  </a:lnTo>
                  <a:lnTo>
                    <a:pt x="4" y="1416"/>
                  </a:lnTo>
                  <a:lnTo>
                    <a:pt x="5" y="1448"/>
                  </a:lnTo>
                  <a:lnTo>
                    <a:pt x="7" y="1481"/>
                  </a:lnTo>
                  <a:lnTo>
                    <a:pt x="10" y="1514"/>
                  </a:lnTo>
                  <a:lnTo>
                    <a:pt x="12" y="1549"/>
                  </a:lnTo>
                  <a:lnTo>
                    <a:pt x="15" y="1583"/>
                  </a:lnTo>
                  <a:lnTo>
                    <a:pt x="18" y="1618"/>
                  </a:lnTo>
                  <a:lnTo>
                    <a:pt x="23" y="1653"/>
                  </a:lnTo>
                  <a:lnTo>
                    <a:pt x="27" y="1688"/>
                  </a:lnTo>
                  <a:lnTo>
                    <a:pt x="32" y="1723"/>
                  </a:lnTo>
                  <a:lnTo>
                    <a:pt x="38" y="1758"/>
                  </a:lnTo>
                  <a:lnTo>
                    <a:pt x="44" y="1794"/>
                  </a:lnTo>
                  <a:lnTo>
                    <a:pt x="51" y="1829"/>
                  </a:lnTo>
                  <a:lnTo>
                    <a:pt x="59" y="1863"/>
                  </a:lnTo>
                  <a:lnTo>
                    <a:pt x="67" y="1897"/>
                  </a:lnTo>
                  <a:lnTo>
                    <a:pt x="77" y="1931"/>
                  </a:lnTo>
                  <a:lnTo>
                    <a:pt x="87" y="1965"/>
                  </a:lnTo>
                  <a:lnTo>
                    <a:pt x="97" y="1997"/>
                  </a:lnTo>
                  <a:lnTo>
                    <a:pt x="109" y="2030"/>
                  </a:lnTo>
                  <a:lnTo>
                    <a:pt x="122" y="2061"/>
                  </a:lnTo>
                  <a:lnTo>
                    <a:pt x="135" y="2093"/>
                  </a:lnTo>
                  <a:lnTo>
                    <a:pt x="149" y="2122"/>
                  </a:lnTo>
                  <a:lnTo>
                    <a:pt x="164" y="2151"/>
                  </a:lnTo>
                  <a:lnTo>
                    <a:pt x="180" y="2180"/>
                  </a:lnTo>
                  <a:lnTo>
                    <a:pt x="198" y="2206"/>
                  </a:lnTo>
                  <a:lnTo>
                    <a:pt x="216" y="2232"/>
                  </a:lnTo>
                  <a:lnTo>
                    <a:pt x="235" y="2256"/>
                  </a:lnTo>
                  <a:lnTo>
                    <a:pt x="255" y="2280"/>
                  </a:lnTo>
                  <a:lnTo>
                    <a:pt x="277" y="2302"/>
                  </a:lnTo>
                  <a:lnTo>
                    <a:pt x="300" y="2321"/>
                  </a:lnTo>
                  <a:lnTo>
                    <a:pt x="324" y="2340"/>
                  </a:lnTo>
                  <a:lnTo>
                    <a:pt x="350" y="2357"/>
                  </a:lnTo>
                  <a:lnTo>
                    <a:pt x="376" y="2372"/>
                  </a:lnTo>
                  <a:lnTo>
                    <a:pt x="404" y="2386"/>
                  </a:lnTo>
                  <a:lnTo>
                    <a:pt x="434" y="2397"/>
                  </a:lnTo>
                  <a:lnTo>
                    <a:pt x="464" y="2407"/>
                  </a:lnTo>
                  <a:lnTo>
                    <a:pt x="497" y="2415"/>
                  </a:lnTo>
                  <a:lnTo>
                    <a:pt x="529" y="2421"/>
                  </a:lnTo>
                  <a:lnTo>
                    <a:pt x="565" y="2424"/>
                  </a:lnTo>
                  <a:lnTo>
                    <a:pt x="601" y="2425"/>
                  </a:lnTo>
                  <a:lnTo>
                    <a:pt x="601" y="2425"/>
                  </a:lnTo>
                  <a:lnTo>
                    <a:pt x="637" y="2424"/>
                  </a:lnTo>
                  <a:lnTo>
                    <a:pt x="672" y="2421"/>
                  </a:lnTo>
                  <a:lnTo>
                    <a:pt x="704" y="2417"/>
                  </a:lnTo>
                  <a:lnTo>
                    <a:pt x="736" y="2409"/>
                  </a:lnTo>
                  <a:lnTo>
                    <a:pt x="766" y="2402"/>
                  </a:lnTo>
                  <a:lnTo>
                    <a:pt x="795" y="2391"/>
                  </a:lnTo>
                  <a:lnTo>
                    <a:pt x="823" y="2379"/>
                  </a:lnTo>
                  <a:lnTo>
                    <a:pt x="849" y="2366"/>
                  </a:lnTo>
                  <a:lnTo>
                    <a:pt x="874" y="2350"/>
                  </a:lnTo>
                  <a:lnTo>
                    <a:pt x="898" y="2334"/>
                  </a:lnTo>
                  <a:lnTo>
                    <a:pt x="921" y="2316"/>
                  </a:lnTo>
                  <a:lnTo>
                    <a:pt x="942" y="2296"/>
                  </a:lnTo>
                  <a:lnTo>
                    <a:pt x="963" y="2275"/>
                  </a:lnTo>
                  <a:lnTo>
                    <a:pt x="983" y="2254"/>
                  </a:lnTo>
                  <a:lnTo>
                    <a:pt x="1000" y="2231"/>
                  </a:lnTo>
                  <a:lnTo>
                    <a:pt x="1017" y="2206"/>
                  </a:lnTo>
                  <a:lnTo>
                    <a:pt x="1034" y="2181"/>
                  </a:lnTo>
                  <a:lnTo>
                    <a:pt x="1049" y="2154"/>
                  </a:lnTo>
                  <a:lnTo>
                    <a:pt x="1063" y="2126"/>
                  </a:lnTo>
                  <a:lnTo>
                    <a:pt x="1077" y="2098"/>
                  </a:lnTo>
                  <a:lnTo>
                    <a:pt x="1089" y="2069"/>
                  </a:lnTo>
                  <a:lnTo>
                    <a:pt x="1101" y="2038"/>
                  </a:lnTo>
                  <a:lnTo>
                    <a:pt x="1112" y="2008"/>
                  </a:lnTo>
                  <a:lnTo>
                    <a:pt x="1122" y="1975"/>
                  </a:lnTo>
                  <a:lnTo>
                    <a:pt x="1132" y="1944"/>
                  </a:lnTo>
                  <a:lnTo>
                    <a:pt x="1140" y="1910"/>
                  </a:lnTo>
                  <a:lnTo>
                    <a:pt x="1148" y="1876"/>
                  </a:lnTo>
                  <a:lnTo>
                    <a:pt x="1156" y="1843"/>
                  </a:lnTo>
                  <a:lnTo>
                    <a:pt x="1162" y="1809"/>
                  </a:lnTo>
                  <a:lnTo>
                    <a:pt x="1168" y="1774"/>
                  </a:lnTo>
                  <a:lnTo>
                    <a:pt x="1173" y="1738"/>
                  </a:lnTo>
                  <a:lnTo>
                    <a:pt x="1177" y="1704"/>
                  </a:lnTo>
                  <a:lnTo>
                    <a:pt x="1182" y="1668"/>
                  </a:lnTo>
                  <a:lnTo>
                    <a:pt x="1186" y="1632"/>
                  </a:lnTo>
                  <a:lnTo>
                    <a:pt x="1189" y="1596"/>
                  </a:lnTo>
                  <a:lnTo>
                    <a:pt x="1191" y="1560"/>
                  </a:lnTo>
                  <a:lnTo>
                    <a:pt x="1195" y="1524"/>
                  </a:lnTo>
                  <a:lnTo>
                    <a:pt x="1196" y="1488"/>
                  </a:lnTo>
                  <a:lnTo>
                    <a:pt x="1198" y="1452"/>
                  </a:lnTo>
                  <a:lnTo>
                    <a:pt x="1199" y="1418"/>
                  </a:lnTo>
                  <a:lnTo>
                    <a:pt x="1200" y="1382"/>
                  </a:lnTo>
                  <a:lnTo>
                    <a:pt x="1201" y="1347"/>
                  </a:lnTo>
                  <a:lnTo>
                    <a:pt x="1202" y="1313"/>
                  </a:lnTo>
                  <a:lnTo>
                    <a:pt x="1202" y="1279"/>
                  </a:lnTo>
                  <a:lnTo>
                    <a:pt x="1202" y="1245"/>
                  </a:lnTo>
                  <a:lnTo>
                    <a:pt x="1202" y="1213"/>
                  </a:lnTo>
                  <a:lnTo>
                    <a:pt x="1202" y="1213"/>
                  </a:lnTo>
                  <a:lnTo>
                    <a:pt x="1202" y="1180"/>
                  </a:lnTo>
                  <a:lnTo>
                    <a:pt x="1202" y="1146"/>
                  </a:lnTo>
                  <a:lnTo>
                    <a:pt x="1202" y="1112"/>
                  </a:lnTo>
                  <a:lnTo>
                    <a:pt x="1201" y="1077"/>
                  </a:lnTo>
                  <a:lnTo>
                    <a:pt x="1200" y="1043"/>
                  </a:lnTo>
                  <a:lnTo>
                    <a:pt x="1199" y="1008"/>
                  </a:lnTo>
                  <a:lnTo>
                    <a:pt x="1198" y="972"/>
                  </a:lnTo>
                  <a:lnTo>
                    <a:pt x="1196" y="936"/>
                  </a:lnTo>
                  <a:lnTo>
                    <a:pt x="1195" y="900"/>
                  </a:lnTo>
                  <a:lnTo>
                    <a:pt x="1191" y="864"/>
                  </a:lnTo>
                  <a:lnTo>
                    <a:pt x="1189" y="828"/>
                  </a:lnTo>
                  <a:lnTo>
                    <a:pt x="1186" y="793"/>
                  </a:lnTo>
                  <a:lnTo>
                    <a:pt x="1182" y="757"/>
                  </a:lnTo>
                  <a:lnTo>
                    <a:pt x="1177" y="722"/>
                  </a:lnTo>
                  <a:lnTo>
                    <a:pt x="1173" y="686"/>
                  </a:lnTo>
                  <a:lnTo>
                    <a:pt x="1168" y="651"/>
                  </a:lnTo>
                  <a:lnTo>
                    <a:pt x="1162" y="617"/>
                  </a:lnTo>
                  <a:lnTo>
                    <a:pt x="1156" y="582"/>
                  </a:lnTo>
                  <a:lnTo>
                    <a:pt x="1148" y="548"/>
                  </a:lnTo>
                  <a:lnTo>
                    <a:pt x="1140" y="514"/>
                  </a:lnTo>
                  <a:lnTo>
                    <a:pt x="1132" y="482"/>
                  </a:lnTo>
                  <a:lnTo>
                    <a:pt x="1122" y="449"/>
                  </a:lnTo>
                  <a:lnTo>
                    <a:pt x="1112" y="418"/>
                  </a:lnTo>
                  <a:lnTo>
                    <a:pt x="1101" y="386"/>
                  </a:lnTo>
                  <a:lnTo>
                    <a:pt x="1089" y="357"/>
                  </a:lnTo>
                  <a:lnTo>
                    <a:pt x="1077" y="327"/>
                  </a:lnTo>
                  <a:lnTo>
                    <a:pt x="1063" y="298"/>
                  </a:lnTo>
                  <a:lnTo>
                    <a:pt x="1049" y="271"/>
                  </a:lnTo>
                  <a:lnTo>
                    <a:pt x="1034" y="245"/>
                  </a:lnTo>
                  <a:lnTo>
                    <a:pt x="1017" y="219"/>
                  </a:lnTo>
                  <a:lnTo>
                    <a:pt x="1000" y="195"/>
                  </a:lnTo>
                  <a:lnTo>
                    <a:pt x="983" y="171"/>
                  </a:lnTo>
                  <a:lnTo>
                    <a:pt x="963" y="149"/>
                  </a:lnTo>
                  <a:lnTo>
                    <a:pt x="942" y="128"/>
                  </a:lnTo>
                  <a:lnTo>
                    <a:pt x="921" y="109"/>
                  </a:lnTo>
                  <a:lnTo>
                    <a:pt x="898" y="91"/>
                  </a:lnTo>
                  <a:lnTo>
                    <a:pt x="874" y="74"/>
                  </a:lnTo>
                  <a:lnTo>
                    <a:pt x="849" y="59"/>
                  </a:lnTo>
                  <a:lnTo>
                    <a:pt x="823" y="46"/>
                  </a:lnTo>
                  <a:lnTo>
                    <a:pt x="795" y="34"/>
                  </a:lnTo>
                  <a:lnTo>
                    <a:pt x="766" y="24"/>
                  </a:lnTo>
                  <a:lnTo>
                    <a:pt x="736" y="15"/>
                  </a:lnTo>
                  <a:lnTo>
                    <a:pt x="704" y="9"/>
                  </a:lnTo>
                  <a:lnTo>
                    <a:pt x="672" y="3"/>
                  </a:lnTo>
                  <a:lnTo>
                    <a:pt x="637" y="1"/>
                  </a:lnTo>
                  <a:lnTo>
                    <a:pt x="601" y="0"/>
                  </a:lnTo>
                  <a:lnTo>
                    <a:pt x="601" y="0"/>
                  </a:lnTo>
                  <a:close/>
                  <a:moveTo>
                    <a:pt x="601" y="321"/>
                  </a:moveTo>
                  <a:lnTo>
                    <a:pt x="625" y="323"/>
                  </a:lnTo>
                  <a:lnTo>
                    <a:pt x="648" y="331"/>
                  </a:lnTo>
                  <a:lnTo>
                    <a:pt x="668" y="341"/>
                  </a:lnTo>
                  <a:lnTo>
                    <a:pt x="688" y="358"/>
                  </a:lnTo>
                  <a:lnTo>
                    <a:pt x="705" y="376"/>
                  </a:lnTo>
                  <a:lnTo>
                    <a:pt x="722" y="400"/>
                  </a:lnTo>
                  <a:lnTo>
                    <a:pt x="736" y="426"/>
                  </a:lnTo>
                  <a:lnTo>
                    <a:pt x="749" y="455"/>
                  </a:lnTo>
                  <a:lnTo>
                    <a:pt x="762" y="486"/>
                  </a:lnTo>
                  <a:lnTo>
                    <a:pt x="773" y="521"/>
                  </a:lnTo>
                  <a:lnTo>
                    <a:pt x="783" y="557"/>
                  </a:lnTo>
                  <a:lnTo>
                    <a:pt x="791" y="595"/>
                  </a:lnTo>
                  <a:lnTo>
                    <a:pt x="799" y="634"/>
                  </a:lnTo>
                  <a:lnTo>
                    <a:pt x="805" y="674"/>
                  </a:lnTo>
                  <a:lnTo>
                    <a:pt x="811" y="714"/>
                  </a:lnTo>
                  <a:lnTo>
                    <a:pt x="816" y="757"/>
                  </a:lnTo>
                  <a:lnTo>
                    <a:pt x="821" y="798"/>
                  </a:lnTo>
                  <a:lnTo>
                    <a:pt x="824" y="840"/>
                  </a:lnTo>
                  <a:lnTo>
                    <a:pt x="827" y="882"/>
                  </a:lnTo>
                  <a:lnTo>
                    <a:pt x="829" y="923"/>
                  </a:lnTo>
                  <a:lnTo>
                    <a:pt x="830" y="962"/>
                  </a:lnTo>
                  <a:lnTo>
                    <a:pt x="832" y="1001"/>
                  </a:lnTo>
                  <a:lnTo>
                    <a:pt x="833" y="1038"/>
                  </a:lnTo>
                  <a:lnTo>
                    <a:pt x="834" y="1074"/>
                  </a:lnTo>
                  <a:lnTo>
                    <a:pt x="834" y="1107"/>
                  </a:lnTo>
                  <a:lnTo>
                    <a:pt x="834" y="1138"/>
                  </a:lnTo>
                  <a:lnTo>
                    <a:pt x="835" y="1167"/>
                  </a:lnTo>
                  <a:lnTo>
                    <a:pt x="835" y="1192"/>
                  </a:lnTo>
                  <a:lnTo>
                    <a:pt x="834" y="1213"/>
                  </a:lnTo>
                  <a:lnTo>
                    <a:pt x="834" y="1213"/>
                  </a:lnTo>
                  <a:lnTo>
                    <a:pt x="835" y="1234"/>
                  </a:lnTo>
                  <a:lnTo>
                    <a:pt x="835" y="1259"/>
                  </a:lnTo>
                  <a:lnTo>
                    <a:pt x="834" y="1287"/>
                  </a:lnTo>
                  <a:lnTo>
                    <a:pt x="834" y="1318"/>
                  </a:lnTo>
                  <a:lnTo>
                    <a:pt x="834" y="1351"/>
                  </a:lnTo>
                  <a:lnTo>
                    <a:pt x="833" y="1386"/>
                  </a:lnTo>
                  <a:lnTo>
                    <a:pt x="832" y="1423"/>
                  </a:lnTo>
                  <a:lnTo>
                    <a:pt x="830" y="1462"/>
                  </a:lnTo>
                  <a:lnTo>
                    <a:pt x="829" y="1502"/>
                  </a:lnTo>
                  <a:lnTo>
                    <a:pt x="827" y="1543"/>
                  </a:lnTo>
                  <a:lnTo>
                    <a:pt x="824" y="1584"/>
                  </a:lnTo>
                  <a:lnTo>
                    <a:pt x="821" y="1626"/>
                  </a:lnTo>
                  <a:lnTo>
                    <a:pt x="816" y="1669"/>
                  </a:lnTo>
                  <a:lnTo>
                    <a:pt x="811" y="1710"/>
                  </a:lnTo>
                  <a:lnTo>
                    <a:pt x="805" y="1751"/>
                  </a:lnTo>
                  <a:lnTo>
                    <a:pt x="799" y="1792"/>
                  </a:lnTo>
                  <a:lnTo>
                    <a:pt x="791" y="1831"/>
                  </a:lnTo>
                  <a:lnTo>
                    <a:pt x="783" y="1869"/>
                  </a:lnTo>
                  <a:lnTo>
                    <a:pt x="773" y="1905"/>
                  </a:lnTo>
                  <a:lnTo>
                    <a:pt x="762" y="1938"/>
                  </a:lnTo>
                  <a:lnTo>
                    <a:pt x="749" y="1970"/>
                  </a:lnTo>
                  <a:lnTo>
                    <a:pt x="736" y="1999"/>
                  </a:lnTo>
                  <a:lnTo>
                    <a:pt x="722" y="2025"/>
                  </a:lnTo>
                  <a:lnTo>
                    <a:pt x="705" y="2048"/>
                  </a:lnTo>
                  <a:lnTo>
                    <a:pt x="688" y="2068"/>
                  </a:lnTo>
                  <a:lnTo>
                    <a:pt x="668" y="2083"/>
                  </a:lnTo>
                  <a:lnTo>
                    <a:pt x="648" y="2095"/>
                  </a:lnTo>
                  <a:lnTo>
                    <a:pt x="625" y="2101"/>
                  </a:lnTo>
                  <a:lnTo>
                    <a:pt x="601" y="2105"/>
                  </a:lnTo>
                  <a:lnTo>
                    <a:pt x="601" y="2105"/>
                  </a:lnTo>
                  <a:lnTo>
                    <a:pt x="577" y="2101"/>
                  </a:lnTo>
                  <a:lnTo>
                    <a:pt x="555" y="2095"/>
                  </a:lnTo>
                  <a:lnTo>
                    <a:pt x="535" y="2083"/>
                  </a:lnTo>
                  <a:lnTo>
                    <a:pt x="515" y="2067"/>
                  </a:lnTo>
                  <a:lnTo>
                    <a:pt x="498" y="2047"/>
                  </a:lnTo>
                  <a:lnTo>
                    <a:pt x="483" y="2024"/>
                  </a:lnTo>
                  <a:lnTo>
                    <a:pt x="467" y="1997"/>
                  </a:lnTo>
                  <a:lnTo>
                    <a:pt x="454" y="1968"/>
                  </a:lnTo>
                  <a:lnTo>
                    <a:pt x="442" y="1936"/>
                  </a:lnTo>
                  <a:lnTo>
                    <a:pt x="431" y="1901"/>
                  </a:lnTo>
                  <a:lnTo>
                    <a:pt x="422" y="1866"/>
                  </a:lnTo>
                  <a:lnTo>
                    <a:pt x="413" y="1828"/>
                  </a:lnTo>
                  <a:lnTo>
                    <a:pt x="405" y="1788"/>
                  </a:lnTo>
                  <a:lnTo>
                    <a:pt x="398" y="1747"/>
                  </a:lnTo>
                  <a:lnTo>
                    <a:pt x="392" y="1706"/>
                  </a:lnTo>
                  <a:lnTo>
                    <a:pt x="387" y="1664"/>
                  </a:lnTo>
                  <a:lnTo>
                    <a:pt x="383" y="1622"/>
                  </a:lnTo>
                  <a:lnTo>
                    <a:pt x="379" y="1580"/>
                  </a:lnTo>
                  <a:lnTo>
                    <a:pt x="376" y="1538"/>
                  </a:lnTo>
                  <a:lnTo>
                    <a:pt x="374" y="1497"/>
                  </a:lnTo>
                  <a:lnTo>
                    <a:pt x="372" y="1458"/>
                  </a:lnTo>
                  <a:lnTo>
                    <a:pt x="371" y="1419"/>
                  </a:lnTo>
                  <a:lnTo>
                    <a:pt x="370" y="1382"/>
                  </a:lnTo>
                  <a:lnTo>
                    <a:pt x="368" y="1347"/>
                  </a:lnTo>
                  <a:lnTo>
                    <a:pt x="368" y="1314"/>
                  </a:lnTo>
                  <a:lnTo>
                    <a:pt x="368" y="1284"/>
                  </a:lnTo>
                  <a:lnTo>
                    <a:pt x="368" y="1257"/>
                  </a:lnTo>
                  <a:lnTo>
                    <a:pt x="368" y="1233"/>
                  </a:lnTo>
                  <a:lnTo>
                    <a:pt x="368" y="1213"/>
                  </a:lnTo>
                  <a:lnTo>
                    <a:pt x="368" y="1213"/>
                  </a:lnTo>
                  <a:lnTo>
                    <a:pt x="368" y="1193"/>
                  </a:lnTo>
                  <a:lnTo>
                    <a:pt x="368" y="1168"/>
                  </a:lnTo>
                  <a:lnTo>
                    <a:pt x="368" y="1140"/>
                  </a:lnTo>
                  <a:lnTo>
                    <a:pt x="368" y="1110"/>
                  </a:lnTo>
                  <a:lnTo>
                    <a:pt x="368" y="1077"/>
                  </a:lnTo>
                  <a:lnTo>
                    <a:pt x="370" y="1043"/>
                  </a:lnTo>
                  <a:lnTo>
                    <a:pt x="371" y="1006"/>
                  </a:lnTo>
                  <a:lnTo>
                    <a:pt x="372" y="968"/>
                  </a:lnTo>
                  <a:lnTo>
                    <a:pt x="374" y="927"/>
                  </a:lnTo>
                  <a:lnTo>
                    <a:pt x="376" y="886"/>
                  </a:lnTo>
                  <a:lnTo>
                    <a:pt x="379" y="845"/>
                  </a:lnTo>
                  <a:lnTo>
                    <a:pt x="383" y="803"/>
                  </a:lnTo>
                  <a:lnTo>
                    <a:pt x="387" y="761"/>
                  </a:lnTo>
                  <a:lnTo>
                    <a:pt x="392" y="719"/>
                  </a:lnTo>
                  <a:lnTo>
                    <a:pt x="398" y="677"/>
                  </a:lnTo>
                  <a:lnTo>
                    <a:pt x="405" y="637"/>
                  </a:lnTo>
                  <a:lnTo>
                    <a:pt x="413" y="598"/>
                  </a:lnTo>
                  <a:lnTo>
                    <a:pt x="422" y="559"/>
                  </a:lnTo>
                  <a:lnTo>
                    <a:pt x="431" y="523"/>
                  </a:lnTo>
                  <a:lnTo>
                    <a:pt x="442" y="488"/>
                  </a:lnTo>
                  <a:lnTo>
                    <a:pt x="454" y="457"/>
                  </a:lnTo>
                  <a:lnTo>
                    <a:pt x="467" y="427"/>
                  </a:lnTo>
                  <a:lnTo>
                    <a:pt x="483" y="401"/>
                  </a:lnTo>
                  <a:lnTo>
                    <a:pt x="498" y="377"/>
                  </a:lnTo>
                  <a:lnTo>
                    <a:pt x="515" y="358"/>
                  </a:lnTo>
                  <a:lnTo>
                    <a:pt x="535" y="343"/>
                  </a:lnTo>
                  <a:lnTo>
                    <a:pt x="555" y="331"/>
                  </a:lnTo>
                  <a:lnTo>
                    <a:pt x="577" y="323"/>
                  </a:lnTo>
                  <a:lnTo>
                    <a:pt x="601" y="321"/>
                  </a:lnTo>
                  <a:lnTo>
                    <a:pt x="601" y="321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755200" y="6103080"/>
              <a:ext cx="236520" cy="58932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935" y="309"/>
                  </a:moveTo>
                  <a:lnTo>
                    <a:pt x="662" y="309"/>
                  </a:lnTo>
                  <a:lnTo>
                    <a:pt x="662" y="2334"/>
                  </a:lnTo>
                  <a:lnTo>
                    <a:pt x="287" y="2334"/>
                  </a:lnTo>
                  <a:lnTo>
                    <a:pt x="287" y="309"/>
                  </a:lnTo>
                  <a:lnTo>
                    <a:pt x="0" y="309"/>
                  </a:lnTo>
                  <a:lnTo>
                    <a:pt x="0" y="0"/>
                  </a:lnTo>
                  <a:lnTo>
                    <a:pt x="935" y="0"/>
                  </a:lnTo>
                  <a:lnTo>
                    <a:pt x="935" y="309"/>
                  </a:lnTo>
                  <a:close/>
                </a:path>
              </a:pathLst>
            </a:custGeom>
            <a:solidFill>
              <a:srgbClr val="33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3333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993333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SzPct val="7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5.wmf"/><Relationship Id="rId12" Type="http://schemas.openxmlformats.org/officeDocument/2006/relationships/image" Target="../media/image16.jpe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8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8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8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8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8.wmf"/><Relationship Id="rId3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3.wmf"/><Relationship Id="rId19" Type="http://schemas.openxmlformats.org/officeDocument/2006/relationships/image" Target="../media/image15.wmf"/><Relationship Id="rId20" Type="http://schemas.openxmlformats.org/officeDocument/2006/relationships/image" Target="../media/image15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Trebuchet MS"/>
              </a:rPr>
              <a:t>Real World Business Security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3333"/>
                </a:solidFill>
                <a:latin typeface="Trebuchet MS"/>
              </a:rPr>
              <a:t>Fabyan Augusto de Oliveira</a:t>
            </a: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3333"/>
                </a:solidFill>
                <a:latin typeface="Trebuchet MS"/>
              </a:rPr>
              <a:t>Veli-Matti Juntunen</a:t>
            </a: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6483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466800" y="1676160"/>
            <a:ext cx="2095560" cy="822240"/>
            <a:chOff x="3466800" y="1676160"/>
            <a:chExt cx="2095560" cy="822240"/>
          </a:xfrm>
        </p:grpSpPr>
        <p:grpSp>
          <p:nvGrpSpPr>
            <p:cNvPr id="381" name=""/>
            <p:cNvGrpSpPr/>
            <p:nvPr/>
          </p:nvGrpSpPr>
          <p:grpSpPr>
            <a:xfrm>
              <a:off x="3466800" y="1676160"/>
              <a:ext cx="2095560" cy="822240"/>
              <a:chOff x="3466800" y="1676160"/>
              <a:chExt cx="2095560" cy="822240"/>
            </a:xfrm>
          </p:grpSpPr>
          <p:sp>
            <p:nvSpPr>
              <p:cNvPr id="382" name=""/>
              <p:cNvSpPr/>
              <p:nvPr/>
            </p:nvSpPr>
            <p:spPr>
              <a:xfrm rot="10800000">
                <a:off x="3466800" y="1785960"/>
                <a:ext cx="99108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0800000">
                <a:off x="4044600" y="1676160"/>
                <a:ext cx="91332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0800000">
                <a:off x="4594680" y="1792440"/>
                <a:ext cx="96768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0800000">
                <a:off x="3776760" y="1902600"/>
                <a:ext cx="928800" cy="5850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0800000">
                <a:off x="4358520" y="1902600"/>
                <a:ext cx="918360" cy="5958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0800000">
                <a:off x="3741840" y="1870920"/>
                <a:ext cx="1573920" cy="401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0800000">
                <a:off x="4053600" y="1845720"/>
                <a:ext cx="873720" cy="517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953520" y="19047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rebuchet MS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572000" y="3448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048120" y="3448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09680" y="4114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175280" y="2743200"/>
            <a:ext cx="320400" cy="304920"/>
            <a:chOff x="4175280" y="2743200"/>
            <a:chExt cx="320400" cy="304920"/>
          </a:xfrm>
        </p:grpSpPr>
        <p:sp>
          <p:nvSpPr>
            <p:cNvPr id="394" name=""/>
            <p:cNvSpPr/>
            <p:nvPr/>
          </p:nvSpPr>
          <p:spPr>
            <a:xfrm>
              <a:off x="4175280" y="2743200"/>
              <a:ext cx="320400" cy="30492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1120" y="2754720"/>
              <a:ext cx="28836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68" y="4"/>
                  </a:lnTo>
                  <a:lnTo>
                    <a:pt x="4" y="4"/>
                  </a:lnTo>
                  <a:lnTo>
                    <a:pt x="4" y="68"/>
                  </a:lnTo>
                  <a:lnTo>
                    <a:pt x="0" y="72"/>
                  </a:lnTo>
                </a:path>
              </a:pathLst>
            </a:custGeom>
            <a:solidFill>
              <a:srgbClr val="ca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91120" y="2754720"/>
              <a:ext cx="28836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68" y="68"/>
                  </a:lnTo>
                  <a:lnTo>
                    <a:pt x="68" y="4"/>
                  </a:lnTo>
                  <a:lnTo>
                    <a:pt x="72" y="0"/>
                  </a:lnTo>
                </a:path>
              </a:pathLst>
            </a:custGeom>
            <a:solidFill>
              <a:srgbClr val="42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06960" y="2770200"/>
              <a:ext cx="256320" cy="246960"/>
            </a:xfrm>
            <a:prstGeom prst="rect">
              <a:avLst/>
            </a:prstGeom>
            <a:solidFill>
              <a:srgbClr val="a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920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25" y="13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5132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6" y="27"/>
                  </a:moveTo>
                  <a:lnTo>
                    <a:pt x="0" y="13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6" y="18"/>
                  </a:lnTo>
                  <a:lnTo>
                    <a:pt x="16" y="2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83280" y="291312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1"/>
                  </a:moveTo>
                  <a:lnTo>
                    <a:pt x="13" y="2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26" y="11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83280" y="277416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5"/>
                  </a:moveTo>
                  <a:lnTo>
                    <a:pt x="13" y="0"/>
                  </a:lnTo>
                  <a:lnTo>
                    <a:pt x="26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8" y="15"/>
                  </a:lnTo>
                  <a:lnTo>
                    <a:pt x="0" y="15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27120" y="2859120"/>
              <a:ext cx="7992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6"/>
                  </a:moveTo>
                  <a:lnTo>
                    <a:pt x="9" y="0"/>
                  </a:lnTo>
                  <a:lnTo>
                    <a:pt x="20" y="9"/>
                  </a:lnTo>
                  <a:lnTo>
                    <a:pt x="9" y="19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63560" y="2859120"/>
              <a:ext cx="7992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12"/>
                  </a:move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11" y="12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99120" y="2920680"/>
              <a:ext cx="72000" cy="846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11"/>
                  </a:moveTo>
                  <a:lnTo>
                    <a:pt x="18" y="11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99120" y="2781720"/>
              <a:ext cx="72000" cy="885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6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381240" cy="182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581280" y="3352680"/>
            <a:ext cx="381240" cy="1825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5594400" y="3187800"/>
            <a:ext cx="501480" cy="546120"/>
            <a:chOff x="5594400" y="3187800"/>
            <a:chExt cx="501480" cy="546120"/>
          </a:xfrm>
        </p:grpSpPr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5594400" y="3492360"/>
              <a:ext cx="5014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5594400" y="3340080"/>
              <a:ext cx="5014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5"/>
            <a:stretch/>
          </p:blipFill>
          <p:spPr>
            <a:xfrm>
              <a:off x="5594400" y="3187800"/>
              <a:ext cx="50148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"/>
          <p:cNvGrpSpPr/>
          <p:nvPr/>
        </p:nvGrpSpPr>
        <p:grpSpPr>
          <a:xfrm>
            <a:off x="2895480" y="3124080"/>
            <a:ext cx="457200" cy="574560"/>
            <a:chOff x="2895480" y="3124080"/>
            <a:chExt cx="457200" cy="574560"/>
          </a:xfrm>
        </p:grpSpPr>
        <p:pic>
          <p:nvPicPr>
            <p:cNvPr id="413" name="" descr=""/>
            <p:cNvPicPr/>
            <p:nvPr/>
          </p:nvPicPr>
          <p:blipFill>
            <a:blip r:embed="rId6"/>
            <a:stretch/>
          </p:blipFill>
          <p:spPr>
            <a:xfrm>
              <a:off x="2895480" y="342864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7"/>
            <a:stretch/>
          </p:blipFill>
          <p:spPr>
            <a:xfrm>
              <a:off x="2895480" y="327636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8"/>
            <a:stretch/>
          </p:blipFill>
          <p:spPr>
            <a:xfrm>
              <a:off x="2895480" y="3124080"/>
              <a:ext cx="457200" cy="2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/>
          <p:cNvSpPr/>
          <p:nvPr/>
        </p:nvSpPr>
        <p:spPr>
          <a:xfrm>
            <a:off x="5787360" y="28954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MZ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4680" y="28195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MZ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4382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8954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8098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16360" y="38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epartm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32767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Email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2578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7150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1722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6294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97840" y="38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epartm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33680" y="327672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Web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572000" y="2743200"/>
            <a:ext cx="320760" cy="304920"/>
            <a:chOff x="4572000" y="2743200"/>
            <a:chExt cx="320760" cy="304920"/>
          </a:xfrm>
        </p:grpSpPr>
        <p:sp>
          <p:nvSpPr>
            <p:cNvPr id="431" name=""/>
            <p:cNvSpPr/>
            <p:nvPr/>
          </p:nvSpPr>
          <p:spPr>
            <a:xfrm>
              <a:off x="4572000" y="2743200"/>
              <a:ext cx="320760" cy="30492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87840" y="2754720"/>
              <a:ext cx="28872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68" y="4"/>
                  </a:lnTo>
                  <a:lnTo>
                    <a:pt x="4" y="4"/>
                  </a:lnTo>
                  <a:lnTo>
                    <a:pt x="4" y="68"/>
                  </a:lnTo>
                  <a:lnTo>
                    <a:pt x="0" y="72"/>
                  </a:lnTo>
                </a:path>
              </a:pathLst>
            </a:custGeom>
            <a:solidFill>
              <a:srgbClr val="ca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87840" y="2754720"/>
              <a:ext cx="28872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68" y="68"/>
                  </a:lnTo>
                  <a:lnTo>
                    <a:pt x="68" y="4"/>
                  </a:lnTo>
                  <a:lnTo>
                    <a:pt x="72" y="0"/>
                  </a:lnTo>
                </a:path>
              </a:pathLst>
            </a:custGeom>
            <a:solidFill>
              <a:srgbClr val="42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3680" y="2770200"/>
              <a:ext cx="256680" cy="246960"/>
            </a:xfrm>
            <a:prstGeom prst="rect">
              <a:avLst/>
            </a:prstGeom>
            <a:solidFill>
              <a:srgbClr val="a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1592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25" y="13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4840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6" y="27"/>
                  </a:moveTo>
                  <a:lnTo>
                    <a:pt x="0" y="13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6" y="18"/>
                  </a:lnTo>
                  <a:lnTo>
                    <a:pt x="16" y="2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80000" y="291312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1"/>
                  </a:moveTo>
                  <a:lnTo>
                    <a:pt x="13" y="2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26" y="11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80000" y="277416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5"/>
                  </a:moveTo>
                  <a:lnTo>
                    <a:pt x="13" y="0"/>
                  </a:lnTo>
                  <a:lnTo>
                    <a:pt x="26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8" y="15"/>
                  </a:lnTo>
                  <a:lnTo>
                    <a:pt x="0" y="15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23840" y="2859120"/>
              <a:ext cx="8028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6"/>
                  </a:moveTo>
                  <a:lnTo>
                    <a:pt x="9" y="0"/>
                  </a:lnTo>
                  <a:lnTo>
                    <a:pt x="20" y="9"/>
                  </a:lnTo>
                  <a:lnTo>
                    <a:pt x="9" y="19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60280" y="2859120"/>
              <a:ext cx="8028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12"/>
                  </a:move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11" y="12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96200" y="2920680"/>
              <a:ext cx="72000" cy="846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11"/>
                  </a:moveTo>
                  <a:lnTo>
                    <a:pt x="18" y="11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96200" y="2781720"/>
              <a:ext cx="72000" cy="885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6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193840" y="4218120"/>
            <a:ext cx="1768320" cy="353880"/>
            <a:chOff x="2193840" y="4218120"/>
            <a:chExt cx="1768320" cy="353880"/>
          </a:xfrm>
        </p:grpSpPr>
        <p:sp>
          <p:nvSpPr>
            <p:cNvPr id="444" name="computr2"/>
            <p:cNvSpPr/>
            <p:nvPr/>
          </p:nvSpPr>
          <p:spPr>
            <a:xfrm>
              <a:off x="219384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computr2"/>
            <p:cNvSpPr/>
            <p:nvPr/>
          </p:nvSpPr>
          <p:spPr>
            <a:xfrm>
              <a:off x="263772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computr2"/>
            <p:cNvSpPr/>
            <p:nvPr/>
          </p:nvSpPr>
          <p:spPr>
            <a:xfrm>
              <a:off x="3080880" y="4218120"/>
              <a:ext cx="4374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computr2"/>
            <p:cNvSpPr/>
            <p:nvPr/>
          </p:nvSpPr>
          <p:spPr>
            <a:xfrm>
              <a:off x="352512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013360" y="4218120"/>
            <a:ext cx="1768320" cy="353880"/>
            <a:chOff x="5013360" y="4218120"/>
            <a:chExt cx="1768320" cy="353880"/>
          </a:xfrm>
        </p:grpSpPr>
        <p:sp>
          <p:nvSpPr>
            <p:cNvPr id="449" name="computr2"/>
            <p:cNvSpPr/>
            <p:nvPr/>
          </p:nvSpPr>
          <p:spPr>
            <a:xfrm>
              <a:off x="501336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computr2"/>
            <p:cNvSpPr/>
            <p:nvPr/>
          </p:nvSpPr>
          <p:spPr>
            <a:xfrm>
              <a:off x="545724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computr2"/>
            <p:cNvSpPr/>
            <p:nvPr/>
          </p:nvSpPr>
          <p:spPr>
            <a:xfrm>
              <a:off x="590004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computr2"/>
            <p:cNvSpPr/>
            <p:nvPr/>
          </p:nvSpPr>
          <p:spPr>
            <a:xfrm>
              <a:off x="634464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49568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9"/>
          <a:stretch/>
        </p:blipFill>
        <p:spPr>
          <a:xfrm>
            <a:off x="4267080" y="4038480"/>
            <a:ext cx="381240" cy="182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10"/>
          <a:stretch/>
        </p:blipFill>
        <p:spPr>
          <a:xfrm>
            <a:off x="4343400" y="3219480"/>
            <a:ext cx="241200" cy="514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11"/>
          <a:stretch/>
        </p:blipFill>
        <p:spPr>
          <a:xfrm>
            <a:off x="4483080" y="3219480"/>
            <a:ext cx="241200" cy="5144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2"/>
          <a:stretch/>
        </p:blipFill>
        <p:spPr>
          <a:xfrm>
            <a:off x="4330800" y="4438800"/>
            <a:ext cx="241200" cy="514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3"/>
          <a:stretch/>
        </p:blipFill>
        <p:spPr>
          <a:xfrm>
            <a:off x="4483080" y="4438800"/>
            <a:ext cx="241200" cy="514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Exemplo de Consolidaçã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z900_model" descr="The image “file:///C:/Datat/Logoja%20ja%20kuvia/z900_model.jpg” cannot be displayed, because it contains errors."/>
          <p:cNvPicPr/>
          <p:nvPr/>
        </p:nvPicPr>
        <p:blipFill>
          <a:blip r:embed="rId14"/>
          <a:stretch/>
        </p:blipFill>
        <p:spPr>
          <a:xfrm>
            <a:off x="3581280" y="5157720"/>
            <a:ext cx="1295640" cy="1166760"/>
          </a:xfrm>
          <a:prstGeom prst="rect">
            <a:avLst/>
          </a:prstGeom>
          <a:ln w="0">
            <a:noFill/>
          </a:ln>
        </p:spPr>
      </p:pic>
      <p:grpSp>
        <p:nvGrpSpPr>
          <p:cNvPr id="461" name=""/>
          <p:cNvGrpSpPr/>
          <p:nvPr/>
        </p:nvGrpSpPr>
        <p:grpSpPr>
          <a:xfrm>
            <a:off x="4800240" y="4876920"/>
            <a:ext cx="4154040" cy="1052640"/>
            <a:chOff x="4800240" y="4876920"/>
            <a:chExt cx="4154040" cy="1052640"/>
          </a:xfrm>
        </p:grpSpPr>
        <p:sp>
          <p:nvSpPr>
            <p:cNvPr id="462" name=""/>
            <p:cNvSpPr/>
            <p:nvPr/>
          </p:nvSpPr>
          <p:spPr>
            <a:xfrm flipH="1" flipV="1">
              <a:off x="4800240" y="4876920"/>
              <a:ext cx="609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04920" y="5105520"/>
              <a:ext cx="4149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rebuchet MS"/>
                </a:rPr>
                <a:t>Roteamento e controle de acesso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rebuchet MS"/>
                </a:rPr>
                <a:t>para aplicações do mainframe que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Trebuchet MS"/>
                </a:rPr>
                <a:t>não utilizam os benefícios do Hiper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6483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343400" y="3219480"/>
            <a:ext cx="241200" cy="51444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3466800" y="1676160"/>
            <a:ext cx="2095560" cy="822240"/>
            <a:chOff x="3466800" y="1676160"/>
            <a:chExt cx="2095560" cy="822240"/>
          </a:xfrm>
        </p:grpSpPr>
        <p:grpSp>
          <p:nvGrpSpPr>
            <p:cNvPr id="468" name=""/>
            <p:cNvGrpSpPr/>
            <p:nvPr/>
          </p:nvGrpSpPr>
          <p:grpSpPr>
            <a:xfrm>
              <a:off x="3466800" y="1676160"/>
              <a:ext cx="2095560" cy="822240"/>
              <a:chOff x="3466800" y="1676160"/>
              <a:chExt cx="2095560" cy="822240"/>
            </a:xfrm>
          </p:grpSpPr>
          <p:sp>
            <p:nvSpPr>
              <p:cNvPr id="469" name=""/>
              <p:cNvSpPr/>
              <p:nvPr/>
            </p:nvSpPr>
            <p:spPr>
              <a:xfrm rot="10800000">
                <a:off x="3466800" y="1785960"/>
                <a:ext cx="99108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10800000">
                <a:off x="4044600" y="1676160"/>
                <a:ext cx="91332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0800000">
                <a:off x="4594680" y="1792440"/>
                <a:ext cx="96768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0800000">
                <a:off x="3776760" y="1902600"/>
                <a:ext cx="928800" cy="5850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0800000">
                <a:off x="4358520" y="1902600"/>
                <a:ext cx="918360" cy="5958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0800000">
                <a:off x="3741840" y="1870920"/>
                <a:ext cx="1573920" cy="401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0800000">
                <a:off x="4053600" y="1845720"/>
                <a:ext cx="873720" cy="517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953520" y="19047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rebuchet MS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572000" y="3448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048120" y="3448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9568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09680" y="4114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175280" y="2743200"/>
            <a:ext cx="320400" cy="304920"/>
            <a:chOff x="4175280" y="2743200"/>
            <a:chExt cx="320400" cy="304920"/>
          </a:xfrm>
        </p:grpSpPr>
        <p:sp>
          <p:nvSpPr>
            <p:cNvPr id="482" name=""/>
            <p:cNvSpPr/>
            <p:nvPr/>
          </p:nvSpPr>
          <p:spPr>
            <a:xfrm>
              <a:off x="4175280" y="2743200"/>
              <a:ext cx="320400" cy="30492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2754720"/>
              <a:ext cx="28836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68" y="4"/>
                  </a:lnTo>
                  <a:lnTo>
                    <a:pt x="4" y="4"/>
                  </a:lnTo>
                  <a:lnTo>
                    <a:pt x="4" y="68"/>
                  </a:lnTo>
                  <a:lnTo>
                    <a:pt x="0" y="72"/>
                  </a:lnTo>
                </a:path>
              </a:pathLst>
            </a:custGeom>
            <a:solidFill>
              <a:srgbClr val="ca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2754720"/>
              <a:ext cx="28836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68" y="68"/>
                  </a:lnTo>
                  <a:lnTo>
                    <a:pt x="68" y="4"/>
                  </a:lnTo>
                  <a:lnTo>
                    <a:pt x="72" y="0"/>
                  </a:lnTo>
                </a:path>
              </a:pathLst>
            </a:custGeom>
            <a:solidFill>
              <a:srgbClr val="42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06960" y="2770200"/>
              <a:ext cx="256320" cy="246960"/>
            </a:xfrm>
            <a:prstGeom prst="rect">
              <a:avLst/>
            </a:prstGeom>
            <a:solidFill>
              <a:srgbClr val="a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1920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25" y="13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5132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6" y="27"/>
                  </a:moveTo>
                  <a:lnTo>
                    <a:pt x="0" y="13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6" y="18"/>
                  </a:lnTo>
                  <a:lnTo>
                    <a:pt x="16" y="2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83280" y="291312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1"/>
                  </a:moveTo>
                  <a:lnTo>
                    <a:pt x="13" y="2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26" y="11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83280" y="277416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5"/>
                  </a:moveTo>
                  <a:lnTo>
                    <a:pt x="13" y="0"/>
                  </a:lnTo>
                  <a:lnTo>
                    <a:pt x="26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8" y="15"/>
                  </a:lnTo>
                  <a:lnTo>
                    <a:pt x="0" y="15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27120" y="2859120"/>
              <a:ext cx="7992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6"/>
                  </a:moveTo>
                  <a:lnTo>
                    <a:pt x="9" y="0"/>
                  </a:lnTo>
                  <a:lnTo>
                    <a:pt x="20" y="9"/>
                  </a:lnTo>
                  <a:lnTo>
                    <a:pt x="9" y="19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63560" y="2859120"/>
              <a:ext cx="7992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12"/>
                  </a:move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11" y="12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99120" y="2920680"/>
              <a:ext cx="72000" cy="846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11"/>
                  </a:moveTo>
                  <a:lnTo>
                    <a:pt x="18" y="11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99120" y="2781720"/>
              <a:ext cx="72000" cy="885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6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381240" cy="1825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381240" cy="18252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581280" y="3352680"/>
            <a:ext cx="381240" cy="18252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5594400" y="3187800"/>
            <a:ext cx="501480" cy="546120"/>
            <a:chOff x="5594400" y="3187800"/>
            <a:chExt cx="501480" cy="546120"/>
          </a:xfrm>
        </p:grpSpPr>
        <p:pic>
          <p:nvPicPr>
            <p:cNvPr id="498" name="" descr=""/>
            <p:cNvPicPr/>
            <p:nvPr/>
          </p:nvPicPr>
          <p:blipFill>
            <a:blip r:embed="rId5"/>
            <a:stretch/>
          </p:blipFill>
          <p:spPr>
            <a:xfrm>
              <a:off x="5594400" y="3492360"/>
              <a:ext cx="5014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6"/>
            <a:stretch/>
          </p:blipFill>
          <p:spPr>
            <a:xfrm>
              <a:off x="5594400" y="3340080"/>
              <a:ext cx="5014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" descr=""/>
            <p:cNvPicPr/>
            <p:nvPr/>
          </p:nvPicPr>
          <p:blipFill>
            <a:blip r:embed="rId7"/>
            <a:stretch/>
          </p:blipFill>
          <p:spPr>
            <a:xfrm>
              <a:off x="5594400" y="3187800"/>
              <a:ext cx="501480" cy="24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1" name=""/>
          <p:cNvGrpSpPr/>
          <p:nvPr/>
        </p:nvGrpSpPr>
        <p:grpSpPr>
          <a:xfrm>
            <a:off x="2895480" y="3124080"/>
            <a:ext cx="457200" cy="574560"/>
            <a:chOff x="2895480" y="3124080"/>
            <a:chExt cx="457200" cy="574560"/>
          </a:xfrm>
        </p:grpSpPr>
        <p:pic>
          <p:nvPicPr>
            <p:cNvPr id="502" name="" descr=""/>
            <p:cNvPicPr/>
            <p:nvPr/>
          </p:nvPicPr>
          <p:blipFill>
            <a:blip r:embed="rId8"/>
            <a:stretch/>
          </p:blipFill>
          <p:spPr>
            <a:xfrm>
              <a:off x="2895480" y="342864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9"/>
            <a:stretch/>
          </p:blipFill>
          <p:spPr>
            <a:xfrm>
              <a:off x="2895480" y="327636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10"/>
            <a:stretch/>
          </p:blipFill>
          <p:spPr>
            <a:xfrm>
              <a:off x="2895480" y="3124080"/>
              <a:ext cx="457200" cy="2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"/>
          <p:cNvSpPr/>
          <p:nvPr/>
        </p:nvSpPr>
        <p:spPr>
          <a:xfrm>
            <a:off x="5787360" y="28954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MZ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34680" y="28195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MZ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4382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8954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3526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098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193840" y="4218120"/>
            <a:ext cx="1768320" cy="353880"/>
            <a:chOff x="2193840" y="4218120"/>
            <a:chExt cx="1768320" cy="353880"/>
          </a:xfrm>
        </p:grpSpPr>
        <p:sp>
          <p:nvSpPr>
            <p:cNvPr id="512" name="computr2"/>
            <p:cNvSpPr/>
            <p:nvPr/>
          </p:nvSpPr>
          <p:spPr>
            <a:xfrm>
              <a:off x="219384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computr2"/>
            <p:cNvSpPr/>
            <p:nvPr/>
          </p:nvSpPr>
          <p:spPr>
            <a:xfrm>
              <a:off x="263772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computr2"/>
            <p:cNvSpPr/>
            <p:nvPr/>
          </p:nvSpPr>
          <p:spPr>
            <a:xfrm>
              <a:off x="3080880" y="4218120"/>
              <a:ext cx="4374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computr2"/>
            <p:cNvSpPr/>
            <p:nvPr/>
          </p:nvSpPr>
          <p:spPr>
            <a:xfrm>
              <a:off x="352512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1116360" y="38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epartm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63640" y="32767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Email,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2578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7150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61722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66294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013360" y="4218120"/>
            <a:ext cx="1768320" cy="353880"/>
            <a:chOff x="5013360" y="4218120"/>
            <a:chExt cx="1768320" cy="353880"/>
          </a:xfrm>
        </p:grpSpPr>
        <p:sp>
          <p:nvSpPr>
            <p:cNvPr id="523" name="computr2"/>
            <p:cNvSpPr/>
            <p:nvPr/>
          </p:nvSpPr>
          <p:spPr>
            <a:xfrm>
              <a:off x="501336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computr2"/>
            <p:cNvSpPr/>
            <p:nvPr/>
          </p:nvSpPr>
          <p:spPr>
            <a:xfrm>
              <a:off x="545724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computr2"/>
            <p:cNvSpPr/>
            <p:nvPr/>
          </p:nvSpPr>
          <p:spPr>
            <a:xfrm>
              <a:off x="590004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computr2"/>
            <p:cNvSpPr/>
            <p:nvPr/>
          </p:nvSpPr>
          <p:spPr>
            <a:xfrm>
              <a:off x="634464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6297840" y="38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epartm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33680" y="327672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Web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1"/>
          <a:stretch/>
        </p:blipFill>
        <p:spPr>
          <a:xfrm>
            <a:off x="4483080" y="3219480"/>
            <a:ext cx="241200" cy="514440"/>
          </a:xfrm>
          <a:prstGeom prst="rect">
            <a:avLst/>
          </a:prstGeom>
          <a:ln w="0">
            <a:noFill/>
          </a:ln>
        </p:spPr>
      </p:pic>
      <p:grpSp>
        <p:nvGrpSpPr>
          <p:cNvPr id="530" name=""/>
          <p:cNvGrpSpPr/>
          <p:nvPr/>
        </p:nvGrpSpPr>
        <p:grpSpPr>
          <a:xfrm>
            <a:off x="4572000" y="2743200"/>
            <a:ext cx="320760" cy="304920"/>
            <a:chOff x="4572000" y="2743200"/>
            <a:chExt cx="320760" cy="304920"/>
          </a:xfrm>
        </p:grpSpPr>
        <p:sp>
          <p:nvSpPr>
            <p:cNvPr id="531" name=""/>
            <p:cNvSpPr/>
            <p:nvPr/>
          </p:nvSpPr>
          <p:spPr>
            <a:xfrm>
              <a:off x="4572000" y="2743200"/>
              <a:ext cx="320760" cy="30492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87840" y="2754720"/>
              <a:ext cx="28872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68" y="4"/>
                  </a:lnTo>
                  <a:lnTo>
                    <a:pt x="4" y="4"/>
                  </a:lnTo>
                  <a:lnTo>
                    <a:pt x="4" y="68"/>
                  </a:lnTo>
                  <a:lnTo>
                    <a:pt x="0" y="72"/>
                  </a:lnTo>
                </a:path>
              </a:pathLst>
            </a:custGeom>
            <a:solidFill>
              <a:srgbClr val="ca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587840" y="2754720"/>
              <a:ext cx="28872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68" y="68"/>
                  </a:lnTo>
                  <a:lnTo>
                    <a:pt x="68" y="4"/>
                  </a:lnTo>
                  <a:lnTo>
                    <a:pt x="72" y="0"/>
                  </a:lnTo>
                </a:path>
              </a:pathLst>
            </a:custGeom>
            <a:solidFill>
              <a:srgbClr val="42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603680" y="2770200"/>
              <a:ext cx="256680" cy="246960"/>
            </a:xfrm>
            <a:prstGeom prst="rect">
              <a:avLst/>
            </a:prstGeom>
            <a:solidFill>
              <a:srgbClr val="a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1592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25" y="13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74840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6" y="27"/>
                  </a:moveTo>
                  <a:lnTo>
                    <a:pt x="0" y="13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6" y="18"/>
                  </a:lnTo>
                  <a:lnTo>
                    <a:pt x="16" y="2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80000" y="291312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1"/>
                  </a:moveTo>
                  <a:lnTo>
                    <a:pt x="13" y="2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26" y="11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80000" y="277416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5"/>
                  </a:moveTo>
                  <a:lnTo>
                    <a:pt x="13" y="0"/>
                  </a:lnTo>
                  <a:lnTo>
                    <a:pt x="26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8" y="15"/>
                  </a:lnTo>
                  <a:lnTo>
                    <a:pt x="0" y="15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23840" y="2859120"/>
              <a:ext cx="8028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6"/>
                  </a:moveTo>
                  <a:lnTo>
                    <a:pt x="9" y="0"/>
                  </a:lnTo>
                  <a:lnTo>
                    <a:pt x="20" y="9"/>
                  </a:lnTo>
                  <a:lnTo>
                    <a:pt x="9" y="19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60280" y="2859120"/>
              <a:ext cx="8028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12"/>
                  </a:move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11" y="12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96200" y="2920680"/>
              <a:ext cx="72000" cy="846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11"/>
                  </a:moveTo>
                  <a:lnTo>
                    <a:pt x="18" y="11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96200" y="2781720"/>
              <a:ext cx="72000" cy="885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6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581280" y="4700520"/>
            <a:ext cx="1295640" cy="1166760"/>
            <a:chOff x="3581280" y="4700520"/>
            <a:chExt cx="1295640" cy="1166760"/>
          </a:xfrm>
        </p:grpSpPr>
        <p:pic>
          <p:nvPicPr>
            <p:cNvPr id="544" name="z900_model" descr="The image “file:///C:/Datat/Logoja%20ja%20kuvia/z900_model.jpg” cannot be displayed, because it contains errors."/>
            <p:cNvPicPr/>
            <p:nvPr/>
          </p:nvPicPr>
          <p:blipFill>
            <a:blip r:embed="rId12"/>
            <a:stretch/>
          </p:blipFill>
          <p:spPr>
            <a:xfrm>
              <a:off x="3581280" y="4700520"/>
              <a:ext cx="1295640" cy="1166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45" name=""/>
            <p:cNvGraphicFramePr/>
            <p:nvPr/>
          </p:nvGraphicFramePr>
          <p:xfrm>
            <a:off x="4343400" y="4716360"/>
            <a:ext cx="304920" cy="23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43400" y="4716360"/>
                      <a:ext cx="30492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7" name="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Exemplo de Consolidaçã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523880" y="2895480"/>
            <a:ext cx="2667240" cy="1600200"/>
            <a:chOff x="1523880" y="2895480"/>
            <a:chExt cx="2667240" cy="1600200"/>
          </a:xfrm>
        </p:grpSpPr>
        <p:sp>
          <p:nvSpPr>
            <p:cNvPr id="549" name=""/>
            <p:cNvSpPr/>
            <p:nvPr/>
          </p:nvSpPr>
          <p:spPr>
            <a:xfrm>
              <a:off x="1523880" y="2895480"/>
              <a:ext cx="2667240" cy="9144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33920" y="3733920"/>
              <a:ext cx="457200" cy="7617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6483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2286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343400" y="3219480"/>
            <a:ext cx="241200" cy="5144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466800" y="1676160"/>
            <a:ext cx="2095560" cy="822240"/>
            <a:chOff x="3466800" y="1676160"/>
            <a:chExt cx="2095560" cy="822240"/>
          </a:xfrm>
        </p:grpSpPr>
        <p:grpSp>
          <p:nvGrpSpPr>
            <p:cNvPr id="555" name=""/>
            <p:cNvGrpSpPr/>
            <p:nvPr/>
          </p:nvGrpSpPr>
          <p:grpSpPr>
            <a:xfrm>
              <a:off x="3466800" y="1676160"/>
              <a:ext cx="2095560" cy="822240"/>
              <a:chOff x="3466800" y="1676160"/>
              <a:chExt cx="2095560" cy="822240"/>
            </a:xfrm>
          </p:grpSpPr>
          <p:sp>
            <p:nvSpPr>
              <p:cNvPr id="556" name=""/>
              <p:cNvSpPr/>
              <p:nvPr/>
            </p:nvSpPr>
            <p:spPr>
              <a:xfrm rot="10800000">
                <a:off x="3466800" y="1785960"/>
                <a:ext cx="99108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0800000">
                <a:off x="4044600" y="1676160"/>
                <a:ext cx="91332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0800000">
                <a:off x="4594680" y="1792440"/>
                <a:ext cx="967680" cy="5706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0800000">
                <a:off x="3776760" y="1902600"/>
                <a:ext cx="928800" cy="5850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0800000">
                <a:off x="4358520" y="1902600"/>
                <a:ext cx="918360" cy="5958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0800000">
                <a:off x="3741840" y="1870920"/>
                <a:ext cx="1573920" cy="401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0800000">
                <a:off x="4053600" y="1845720"/>
                <a:ext cx="873720" cy="517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3953520" y="190476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2000" spc="-1" strike="noStrike">
                  <a:solidFill>
                    <a:srgbClr val="000000"/>
                  </a:solidFill>
                  <a:latin typeface="Trebuchet MS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4572000" y="3448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95680" y="3505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09680" y="4114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175280" y="2743200"/>
            <a:ext cx="320400" cy="304920"/>
            <a:chOff x="4175280" y="2743200"/>
            <a:chExt cx="320400" cy="304920"/>
          </a:xfrm>
        </p:grpSpPr>
        <p:sp>
          <p:nvSpPr>
            <p:cNvPr id="568" name=""/>
            <p:cNvSpPr/>
            <p:nvPr/>
          </p:nvSpPr>
          <p:spPr>
            <a:xfrm>
              <a:off x="4175280" y="2743200"/>
              <a:ext cx="320400" cy="30492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91120" y="2754720"/>
              <a:ext cx="28836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68" y="4"/>
                  </a:lnTo>
                  <a:lnTo>
                    <a:pt x="4" y="4"/>
                  </a:lnTo>
                  <a:lnTo>
                    <a:pt x="4" y="68"/>
                  </a:lnTo>
                  <a:lnTo>
                    <a:pt x="0" y="72"/>
                  </a:lnTo>
                </a:path>
              </a:pathLst>
            </a:custGeom>
            <a:solidFill>
              <a:srgbClr val="ca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91120" y="2754720"/>
              <a:ext cx="28836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68" y="68"/>
                  </a:lnTo>
                  <a:lnTo>
                    <a:pt x="68" y="4"/>
                  </a:lnTo>
                  <a:lnTo>
                    <a:pt x="72" y="0"/>
                  </a:lnTo>
                </a:path>
              </a:pathLst>
            </a:custGeom>
            <a:solidFill>
              <a:srgbClr val="42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6960" y="2770200"/>
              <a:ext cx="256320" cy="246960"/>
            </a:xfrm>
            <a:prstGeom prst="rect">
              <a:avLst/>
            </a:prstGeom>
            <a:solidFill>
              <a:srgbClr val="a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920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25" y="13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5132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6" y="27"/>
                  </a:moveTo>
                  <a:lnTo>
                    <a:pt x="0" y="13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6" y="18"/>
                  </a:lnTo>
                  <a:lnTo>
                    <a:pt x="16" y="2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83280" y="291312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1"/>
                  </a:moveTo>
                  <a:lnTo>
                    <a:pt x="13" y="2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26" y="11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83280" y="277416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5"/>
                  </a:moveTo>
                  <a:lnTo>
                    <a:pt x="13" y="0"/>
                  </a:lnTo>
                  <a:lnTo>
                    <a:pt x="26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8" y="15"/>
                  </a:lnTo>
                  <a:lnTo>
                    <a:pt x="0" y="15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27120" y="2859120"/>
              <a:ext cx="7992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6"/>
                  </a:moveTo>
                  <a:lnTo>
                    <a:pt x="9" y="0"/>
                  </a:lnTo>
                  <a:lnTo>
                    <a:pt x="20" y="9"/>
                  </a:lnTo>
                  <a:lnTo>
                    <a:pt x="9" y="19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3560" y="2859120"/>
              <a:ext cx="7992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12"/>
                  </a:move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11" y="12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99120" y="2920680"/>
              <a:ext cx="72000" cy="846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11"/>
                  </a:moveTo>
                  <a:lnTo>
                    <a:pt x="18" y="11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99120" y="2781720"/>
              <a:ext cx="72000" cy="885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6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381240" cy="1825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381240" cy="182520"/>
          </a:xfrm>
          <a:prstGeom prst="rect">
            <a:avLst/>
          </a:prstGeom>
          <a:ln w="0">
            <a:noFill/>
          </a:ln>
        </p:spPr>
      </p:pic>
      <p:grpSp>
        <p:nvGrpSpPr>
          <p:cNvPr id="582" name=""/>
          <p:cNvGrpSpPr/>
          <p:nvPr/>
        </p:nvGrpSpPr>
        <p:grpSpPr>
          <a:xfrm>
            <a:off x="5594400" y="3187800"/>
            <a:ext cx="501480" cy="546120"/>
            <a:chOff x="5594400" y="3187800"/>
            <a:chExt cx="501480" cy="546120"/>
          </a:xfrm>
        </p:grpSpPr>
        <p:pic>
          <p:nvPicPr>
            <p:cNvPr id="583" name="" descr=""/>
            <p:cNvPicPr/>
            <p:nvPr/>
          </p:nvPicPr>
          <p:blipFill>
            <a:blip r:embed="rId4"/>
            <a:stretch/>
          </p:blipFill>
          <p:spPr>
            <a:xfrm>
              <a:off x="5594400" y="3492360"/>
              <a:ext cx="501480" cy="2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5"/>
            <a:stretch/>
          </p:blipFill>
          <p:spPr>
            <a:xfrm>
              <a:off x="5594400" y="3340080"/>
              <a:ext cx="50148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6"/>
            <a:stretch/>
          </p:blipFill>
          <p:spPr>
            <a:xfrm>
              <a:off x="5594400" y="3187800"/>
              <a:ext cx="501480" cy="2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"/>
          <p:cNvSpPr/>
          <p:nvPr/>
        </p:nvSpPr>
        <p:spPr>
          <a:xfrm>
            <a:off x="5787360" y="28954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MZ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382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8954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33526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380988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2193840" y="4218120"/>
            <a:ext cx="1768320" cy="353880"/>
            <a:chOff x="2193840" y="4218120"/>
            <a:chExt cx="1768320" cy="353880"/>
          </a:xfrm>
        </p:grpSpPr>
        <p:sp>
          <p:nvSpPr>
            <p:cNvPr id="592" name="computr2"/>
            <p:cNvSpPr/>
            <p:nvPr/>
          </p:nvSpPr>
          <p:spPr>
            <a:xfrm>
              <a:off x="219384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computr2"/>
            <p:cNvSpPr/>
            <p:nvPr/>
          </p:nvSpPr>
          <p:spPr>
            <a:xfrm>
              <a:off x="263772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computr2"/>
            <p:cNvSpPr/>
            <p:nvPr/>
          </p:nvSpPr>
          <p:spPr>
            <a:xfrm>
              <a:off x="3080880" y="4218120"/>
              <a:ext cx="4374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computr2"/>
            <p:cNvSpPr/>
            <p:nvPr/>
          </p:nvSpPr>
          <p:spPr>
            <a:xfrm>
              <a:off x="352512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116360" y="38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epartm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52578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7150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1722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629400" y="4114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013360" y="4218120"/>
            <a:ext cx="1768320" cy="353880"/>
            <a:chOff x="5013360" y="4218120"/>
            <a:chExt cx="1768320" cy="353880"/>
          </a:xfrm>
        </p:grpSpPr>
        <p:sp>
          <p:nvSpPr>
            <p:cNvPr id="602" name="computr2"/>
            <p:cNvSpPr/>
            <p:nvPr/>
          </p:nvSpPr>
          <p:spPr>
            <a:xfrm>
              <a:off x="501336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computr2"/>
            <p:cNvSpPr/>
            <p:nvPr/>
          </p:nvSpPr>
          <p:spPr>
            <a:xfrm>
              <a:off x="5457240" y="4218120"/>
              <a:ext cx="43560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computr2"/>
            <p:cNvSpPr/>
            <p:nvPr/>
          </p:nvSpPr>
          <p:spPr>
            <a:xfrm>
              <a:off x="590004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computr2"/>
            <p:cNvSpPr/>
            <p:nvPr/>
          </p:nvSpPr>
          <p:spPr>
            <a:xfrm>
              <a:off x="6344640" y="4218120"/>
              <a:ext cx="437040" cy="353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297840" y="380988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Departm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133680" y="327672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rebuchet MS"/>
              </a:rPr>
              <a:t>Web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4483080" y="3219480"/>
            <a:ext cx="241200" cy="514440"/>
          </a:xfrm>
          <a:prstGeom prst="rect">
            <a:avLst/>
          </a:prstGeom>
          <a:ln w="0">
            <a:noFill/>
          </a:ln>
        </p:spPr>
      </p:pic>
      <p:grpSp>
        <p:nvGrpSpPr>
          <p:cNvPr id="609" name=""/>
          <p:cNvGrpSpPr/>
          <p:nvPr/>
        </p:nvGrpSpPr>
        <p:grpSpPr>
          <a:xfrm>
            <a:off x="4572000" y="2743200"/>
            <a:ext cx="320760" cy="304920"/>
            <a:chOff x="4572000" y="2743200"/>
            <a:chExt cx="320760" cy="304920"/>
          </a:xfrm>
        </p:grpSpPr>
        <p:sp>
          <p:nvSpPr>
            <p:cNvPr id="610" name=""/>
            <p:cNvSpPr/>
            <p:nvPr/>
          </p:nvSpPr>
          <p:spPr>
            <a:xfrm>
              <a:off x="4572000" y="2743200"/>
              <a:ext cx="320760" cy="30492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2754720"/>
              <a:ext cx="28872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68" y="4"/>
                  </a:lnTo>
                  <a:lnTo>
                    <a:pt x="4" y="4"/>
                  </a:lnTo>
                  <a:lnTo>
                    <a:pt x="4" y="68"/>
                  </a:lnTo>
                  <a:lnTo>
                    <a:pt x="0" y="72"/>
                  </a:lnTo>
                </a:path>
              </a:pathLst>
            </a:custGeom>
            <a:solidFill>
              <a:srgbClr val="ca7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87840" y="2754720"/>
              <a:ext cx="288720" cy="2779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0"/>
                  </a:moveTo>
                  <a:lnTo>
                    <a:pt x="72" y="72"/>
                  </a:lnTo>
                  <a:lnTo>
                    <a:pt x="0" y="72"/>
                  </a:lnTo>
                  <a:lnTo>
                    <a:pt x="4" y="68"/>
                  </a:lnTo>
                  <a:lnTo>
                    <a:pt x="68" y="68"/>
                  </a:lnTo>
                  <a:lnTo>
                    <a:pt x="68" y="4"/>
                  </a:lnTo>
                  <a:lnTo>
                    <a:pt x="72" y="0"/>
                  </a:lnTo>
                </a:path>
              </a:pathLst>
            </a:custGeom>
            <a:solidFill>
              <a:srgbClr val="4236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3680" y="2770200"/>
              <a:ext cx="256680" cy="246960"/>
            </a:xfrm>
            <a:prstGeom prst="rect">
              <a:avLst/>
            </a:prstGeom>
            <a:solidFill>
              <a:srgbClr val="a24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1592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9" y="0"/>
                  </a:moveTo>
                  <a:lnTo>
                    <a:pt x="25" y="13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9" y="9"/>
                  </a:lnTo>
                  <a:lnTo>
                    <a:pt x="9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48400" y="2843640"/>
              <a:ext cx="100080" cy="1040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6" y="27"/>
                  </a:moveTo>
                  <a:lnTo>
                    <a:pt x="0" y="13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6" y="18"/>
                  </a:lnTo>
                  <a:lnTo>
                    <a:pt x="16" y="2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80000" y="291312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1"/>
                  </a:moveTo>
                  <a:lnTo>
                    <a:pt x="13" y="27"/>
                  </a:lnTo>
                  <a:lnTo>
                    <a:pt x="0" y="11"/>
                  </a:lnTo>
                  <a:lnTo>
                    <a:pt x="8" y="11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26" y="11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80000" y="2774160"/>
              <a:ext cx="104040" cy="1040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0" y="15"/>
                  </a:moveTo>
                  <a:lnTo>
                    <a:pt x="13" y="0"/>
                  </a:lnTo>
                  <a:lnTo>
                    <a:pt x="26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8" y="15"/>
                  </a:lnTo>
                  <a:lnTo>
                    <a:pt x="0" y="15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23840" y="2859120"/>
              <a:ext cx="8028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6"/>
                  </a:moveTo>
                  <a:lnTo>
                    <a:pt x="9" y="0"/>
                  </a:lnTo>
                  <a:lnTo>
                    <a:pt x="20" y="9"/>
                  </a:lnTo>
                  <a:lnTo>
                    <a:pt x="9" y="19"/>
                  </a:lnTo>
                  <a:lnTo>
                    <a:pt x="9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9" y="6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60280" y="2859120"/>
              <a:ext cx="80280" cy="73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12"/>
                  </a:move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20" y="6"/>
                  </a:lnTo>
                  <a:lnTo>
                    <a:pt x="20" y="12"/>
                  </a:lnTo>
                  <a:lnTo>
                    <a:pt x="11" y="12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96200" y="2920680"/>
              <a:ext cx="72000" cy="8460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2" y="11"/>
                  </a:moveTo>
                  <a:lnTo>
                    <a:pt x="18" y="11"/>
                  </a:lnTo>
                  <a:lnTo>
                    <a:pt x="9" y="22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2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96200" y="2781720"/>
              <a:ext cx="72000" cy="885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6" y="11"/>
                  </a:moveTo>
                  <a:lnTo>
                    <a:pt x="0" y="11"/>
                  </a:lnTo>
                  <a:lnTo>
                    <a:pt x="9" y="0"/>
                  </a:lnTo>
                  <a:lnTo>
                    <a:pt x="18" y="11"/>
                  </a:lnTo>
                  <a:lnTo>
                    <a:pt x="12" y="11"/>
                  </a:lnTo>
                  <a:lnTo>
                    <a:pt x="12" y="23"/>
                  </a:lnTo>
                  <a:lnTo>
                    <a:pt x="6" y="23"/>
                  </a:lnTo>
                  <a:lnTo>
                    <a:pt x="6" y="11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3581280" y="4700520"/>
            <a:ext cx="1295640" cy="1166760"/>
            <a:chOff x="3581280" y="4700520"/>
            <a:chExt cx="1295640" cy="1166760"/>
          </a:xfrm>
        </p:grpSpPr>
        <p:pic>
          <p:nvPicPr>
            <p:cNvPr id="623" name="z900_model" descr="The image “file:///C:/Datat/Logoja%20ja%20kuvia/z900_model.jpg” cannot be displayed, because it contains errors."/>
            <p:cNvPicPr/>
            <p:nvPr/>
          </p:nvPicPr>
          <p:blipFill>
            <a:blip r:embed="rId8"/>
            <a:stretch/>
          </p:blipFill>
          <p:spPr>
            <a:xfrm>
              <a:off x="3581280" y="4700520"/>
              <a:ext cx="1295640" cy="1166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4" name=""/>
            <p:cNvGraphicFramePr/>
            <p:nvPr/>
          </p:nvGraphicFramePr>
          <p:xfrm>
            <a:off x="4343400" y="4716360"/>
            <a:ext cx="304920" cy="23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43400" y="4716360"/>
                      <a:ext cx="304920" cy="23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6" name="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Exemplo de Consolidaçã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762120" y="1341360"/>
            <a:ext cx="8313120" cy="4641840"/>
            <a:chOff x="762120" y="1341360"/>
            <a:chExt cx="8313120" cy="4641840"/>
          </a:xfrm>
        </p:grpSpPr>
        <p:grpSp>
          <p:nvGrpSpPr>
            <p:cNvPr id="628" name=""/>
            <p:cNvGrpSpPr/>
            <p:nvPr/>
          </p:nvGrpSpPr>
          <p:grpSpPr>
            <a:xfrm>
              <a:off x="4155840" y="1681200"/>
              <a:ext cx="1738800" cy="3094920"/>
              <a:chOff x="4155840" y="1681200"/>
              <a:chExt cx="1738800" cy="309492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4155840" y="1681200"/>
                <a:ext cx="1738800" cy="3094920"/>
                <a:chOff x="4155840" y="1681200"/>
                <a:chExt cx="1738800" cy="309492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11480" y="1681200"/>
                  <a:ext cx="82800" cy="3094920"/>
                </a:xfrm>
                <a:custGeom>
                  <a:avLst/>
                  <a:gdLst/>
                  <a:ahLst/>
                  <a:rect l="l" t="t" r="r" b="b"/>
                  <a:pathLst>
                    <a:path w="37" h="985">
                      <a:moveTo>
                        <a:pt x="0" y="985"/>
                      </a:moveTo>
                      <a:lnTo>
                        <a:pt x="0" y="39"/>
                      </a:lnTo>
                      <a:lnTo>
                        <a:pt x="37" y="0"/>
                      </a:lnTo>
                      <a:lnTo>
                        <a:pt x="37" y="908"/>
                      </a:lnTo>
                      <a:lnTo>
                        <a:pt x="0" y="985"/>
                      </a:lnTo>
                      <a:close/>
                    </a:path>
                  </a:pathLst>
                </a:custGeom>
                <a:solidFill>
                  <a:srgbClr val="5a87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155840" y="1681200"/>
                  <a:ext cx="1738800" cy="122400"/>
                </a:xfrm>
                <a:custGeom>
                  <a:avLst/>
                  <a:gdLst/>
                  <a:ahLst/>
                  <a:rect l="l" t="t" r="r" b="b"/>
                  <a:pathLst>
                    <a:path w="773" h="39">
                      <a:moveTo>
                        <a:pt x="736" y="39"/>
                      </a:moveTo>
                      <a:lnTo>
                        <a:pt x="0" y="39"/>
                      </a:lnTo>
                      <a:lnTo>
                        <a:pt x="67" y="0"/>
                      </a:lnTo>
                      <a:lnTo>
                        <a:pt x="773" y="0"/>
                      </a:lnTo>
                      <a:lnTo>
                        <a:pt x="736" y="39"/>
                      </a:lnTo>
                      <a:close/>
                    </a:path>
                  </a:pathLst>
                </a:custGeom>
                <a:solidFill>
                  <a:srgbClr val="3c5b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155840" y="1803600"/>
                <a:ext cx="1655280" cy="2972160"/>
                <a:chOff x="4155840" y="1803600"/>
                <a:chExt cx="1655280" cy="2972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155840" y="18036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171320" y="18036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187160" y="18036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203000" y="18036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218840" y="18036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234680" y="1803600"/>
                  <a:ext cx="1548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250520" y="1803600"/>
                  <a:ext cx="1548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266360" y="1803600"/>
                  <a:ext cx="15120" cy="2972160"/>
                </a:xfrm>
                <a:prstGeom prst="rect">
                  <a:avLst/>
                </a:prstGeom>
                <a:solidFill>
                  <a:srgbClr val="69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281480" y="1803600"/>
                  <a:ext cx="15480" cy="2972160"/>
                </a:xfrm>
                <a:prstGeom prst="rect">
                  <a:avLst/>
                </a:prstGeom>
                <a:solidFill>
                  <a:srgbClr val="6a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297320" y="1803600"/>
                  <a:ext cx="18360" cy="2972160"/>
                </a:xfrm>
                <a:prstGeom prst="rect">
                  <a:avLst/>
                </a:prstGeom>
                <a:solidFill>
                  <a:srgbClr val="6b9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15680" y="1803600"/>
                  <a:ext cx="15120" cy="2972160"/>
                </a:xfrm>
                <a:prstGeom prst="rect">
                  <a:avLst/>
                </a:prstGeom>
                <a:solidFill>
                  <a:srgbClr val="6b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331160" y="1803600"/>
                  <a:ext cx="15480" cy="2972160"/>
                </a:xfrm>
                <a:prstGeom prst="rect">
                  <a:avLst/>
                </a:prstGeom>
                <a:solidFill>
                  <a:srgbClr val="6c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347000" y="1803600"/>
                  <a:ext cx="15480" cy="2972160"/>
                </a:xfrm>
                <a:prstGeom prst="rect">
                  <a:avLst/>
                </a:prstGeom>
                <a:solidFill>
                  <a:srgbClr val="6e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362840" y="1803600"/>
                  <a:ext cx="15480" cy="2972160"/>
                </a:xfrm>
                <a:prstGeom prst="rect">
                  <a:avLst/>
                </a:prstGeom>
                <a:solidFill>
                  <a:srgbClr val="6f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378680" y="1803600"/>
                  <a:ext cx="15480" cy="2972160"/>
                </a:xfrm>
                <a:prstGeom prst="rect">
                  <a:avLst/>
                </a:prstGeom>
                <a:solidFill>
                  <a:srgbClr val="70a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394520" y="1803600"/>
                  <a:ext cx="15480" cy="2972160"/>
                </a:xfrm>
                <a:prstGeom prst="rect">
                  <a:avLst/>
                </a:prstGeom>
                <a:solidFill>
                  <a:srgbClr val="71a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410360" y="1803600"/>
                  <a:ext cx="15480" cy="2972160"/>
                </a:xfrm>
                <a:prstGeom prst="rect">
                  <a:avLst/>
                </a:prstGeom>
                <a:solidFill>
                  <a:srgbClr val="73a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426200" y="1803600"/>
                  <a:ext cx="15480" cy="2972160"/>
                </a:xfrm>
                <a:prstGeom prst="rect">
                  <a:avLst/>
                </a:prstGeom>
                <a:solidFill>
                  <a:srgbClr val="74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41680" y="1803600"/>
                  <a:ext cx="15120" cy="2972160"/>
                </a:xfrm>
                <a:prstGeom prst="rect">
                  <a:avLst/>
                </a:prstGeom>
                <a:solidFill>
                  <a:srgbClr val="76a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457160" y="1803600"/>
                  <a:ext cx="15480" cy="2972160"/>
                </a:xfrm>
                <a:prstGeom prst="rect">
                  <a:avLst/>
                </a:prstGeom>
                <a:solidFill>
                  <a:srgbClr val="77a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473000" y="1803600"/>
                  <a:ext cx="15480" cy="2972160"/>
                </a:xfrm>
                <a:prstGeom prst="rect">
                  <a:avLst/>
                </a:prstGeom>
                <a:solidFill>
                  <a:srgbClr val="78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488840" y="1803600"/>
                  <a:ext cx="15480" cy="2972160"/>
                </a:xfrm>
                <a:prstGeom prst="rect">
                  <a:avLst/>
                </a:prstGeom>
                <a:solidFill>
                  <a:srgbClr val="7aa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504680" y="1803600"/>
                  <a:ext cx="15480" cy="2972160"/>
                </a:xfrm>
                <a:prstGeom prst="rect">
                  <a:avLst/>
                </a:prstGeom>
                <a:solidFill>
                  <a:srgbClr val="7ca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520520" y="1803600"/>
                  <a:ext cx="15480" cy="2972160"/>
                </a:xfrm>
                <a:prstGeom prst="rect">
                  <a:avLst/>
                </a:prstGeom>
                <a:solidFill>
                  <a:srgbClr val="7db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536360" y="1803600"/>
                  <a:ext cx="15480" cy="2972160"/>
                </a:xfrm>
                <a:prstGeom prst="rect">
                  <a:avLst/>
                </a:prstGeom>
                <a:solidFill>
                  <a:srgbClr val="7fb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552200" y="1803600"/>
                  <a:ext cx="17640" cy="2972160"/>
                </a:xfrm>
                <a:prstGeom prst="rect">
                  <a:avLst/>
                </a:prstGeom>
                <a:solidFill>
                  <a:srgbClr val="81b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569840" y="1803600"/>
                  <a:ext cx="17640" cy="2972160"/>
                </a:xfrm>
                <a:prstGeom prst="rect">
                  <a:avLst/>
                </a:prstGeom>
                <a:solidFill>
                  <a:srgbClr val="82b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587840" y="1803600"/>
                  <a:ext cx="15480" cy="2972160"/>
                </a:xfrm>
                <a:prstGeom prst="rect">
                  <a:avLst/>
                </a:prstGeom>
                <a:solidFill>
                  <a:srgbClr val="84b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603680" y="1803600"/>
                  <a:ext cx="15480" cy="2972160"/>
                </a:xfrm>
                <a:prstGeom prst="rect">
                  <a:avLst/>
                </a:prstGeom>
                <a:solidFill>
                  <a:srgbClr val="86b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619520" y="1803600"/>
                  <a:ext cx="15480" cy="2972160"/>
                </a:xfrm>
                <a:prstGeom prst="rect">
                  <a:avLst/>
                </a:prstGeom>
                <a:solidFill>
                  <a:srgbClr val="87b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635000" y="1803600"/>
                  <a:ext cx="15480" cy="2972160"/>
                </a:xfrm>
                <a:prstGeom prst="rect">
                  <a:avLst/>
                </a:prstGeom>
                <a:solidFill>
                  <a:srgbClr val="89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50840" y="1803600"/>
                  <a:ext cx="15120" cy="2972160"/>
                </a:xfrm>
                <a:prstGeom prst="rect">
                  <a:avLst/>
                </a:prstGeom>
                <a:solidFill>
                  <a:srgbClr val="8a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666320" y="1803600"/>
                  <a:ext cx="15480" cy="2972160"/>
                </a:xfrm>
                <a:prstGeom prst="rect">
                  <a:avLst/>
                </a:prstGeom>
                <a:solidFill>
                  <a:srgbClr val="8b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82160" y="1803600"/>
                  <a:ext cx="15480" cy="2972160"/>
                </a:xfrm>
                <a:prstGeom prst="rect">
                  <a:avLst/>
                </a:prstGeom>
                <a:solidFill>
                  <a:srgbClr val="8c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98000" y="1803600"/>
                  <a:ext cx="15480" cy="2972160"/>
                </a:xfrm>
                <a:prstGeom prst="rect">
                  <a:avLst/>
                </a:prstGeom>
                <a:solidFill>
                  <a:srgbClr val="8e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713840" y="1803600"/>
                  <a:ext cx="15480" cy="2972160"/>
                </a:xfrm>
                <a:prstGeom prst="rect">
                  <a:avLst/>
                </a:prstGeom>
                <a:solidFill>
                  <a:srgbClr val="8fc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9680" y="1803600"/>
                  <a:ext cx="15480" cy="2972160"/>
                </a:xfrm>
                <a:prstGeom prst="rect">
                  <a:avLst/>
                </a:prstGeom>
                <a:solidFill>
                  <a:srgbClr val="90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45520" y="1803600"/>
                  <a:ext cx="15480" cy="2972160"/>
                </a:xfrm>
                <a:prstGeom prst="rect">
                  <a:avLst/>
                </a:prstGeom>
                <a:solidFill>
                  <a:srgbClr val="91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761000" y="1803600"/>
                  <a:ext cx="15480" cy="2972160"/>
                </a:xfrm>
                <a:prstGeom prst="rect">
                  <a:avLst/>
                </a:prstGeom>
                <a:solidFill>
                  <a:srgbClr val="92c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776840" y="1803600"/>
                  <a:ext cx="15120" cy="2972160"/>
                </a:xfrm>
                <a:prstGeom prst="rect">
                  <a:avLst/>
                </a:prstGeom>
                <a:solidFill>
                  <a:srgbClr val="93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792320" y="1803600"/>
                  <a:ext cx="15480" cy="2972160"/>
                </a:xfrm>
                <a:prstGeom prst="rect">
                  <a:avLst/>
                </a:prstGeom>
                <a:solidFill>
                  <a:srgbClr val="94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808160" y="1803600"/>
                  <a:ext cx="15480" cy="2972160"/>
                </a:xfrm>
                <a:prstGeom prst="rect">
                  <a:avLst/>
                </a:prstGeom>
                <a:solidFill>
                  <a:srgbClr val="94c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824000" y="1803600"/>
                  <a:ext cx="15480" cy="2972160"/>
                </a:xfrm>
                <a:prstGeom prst="rect">
                  <a:avLst/>
                </a:prstGeom>
                <a:solidFill>
                  <a:srgbClr val="95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839840" y="1803600"/>
                  <a:ext cx="15480" cy="2972160"/>
                </a:xfrm>
                <a:prstGeom prst="rect">
                  <a:avLst/>
                </a:prstGeom>
                <a:solidFill>
                  <a:srgbClr val="96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855680" y="1803600"/>
                  <a:ext cx="15480" cy="2972160"/>
                </a:xfrm>
                <a:prstGeom prst="rect">
                  <a:avLst/>
                </a:prstGeom>
                <a:solidFill>
                  <a:srgbClr val="96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871520" y="1803600"/>
                  <a:ext cx="1548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887000" y="1803600"/>
                  <a:ext cx="1764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905000" y="1803600"/>
                  <a:ext cx="1548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920840" y="18036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936680" y="18036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952520" y="1803600"/>
                  <a:ext cx="1512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967640" y="1803600"/>
                  <a:ext cx="15480" cy="29721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983480" y="1803600"/>
                  <a:ext cx="15480" cy="29721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999320" y="18036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015160" y="18036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031000" y="18036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046840" y="1803600"/>
                  <a:ext cx="1548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062680" y="1803600"/>
                  <a:ext cx="1512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077800" y="1803600"/>
                  <a:ext cx="15480" cy="2972160"/>
                </a:xfrm>
                <a:prstGeom prst="rect">
                  <a:avLst/>
                </a:prstGeom>
                <a:solidFill>
                  <a:srgbClr val="97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93640" y="1803600"/>
                  <a:ext cx="15480" cy="2972160"/>
                </a:xfrm>
                <a:prstGeom prst="rect">
                  <a:avLst/>
                </a:prstGeom>
                <a:solidFill>
                  <a:srgbClr val="96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109480" y="1803600"/>
                  <a:ext cx="15480" cy="2972160"/>
                </a:xfrm>
                <a:prstGeom prst="rect">
                  <a:avLst/>
                </a:prstGeom>
                <a:solidFill>
                  <a:srgbClr val="96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125320" y="1803600"/>
                  <a:ext cx="15480" cy="2972160"/>
                </a:xfrm>
                <a:prstGeom prst="rect">
                  <a:avLst/>
                </a:prstGeom>
                <a:solidFill>
                  <a:srgbClr val="95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41160" y="1803600"/>
                  <a:ext cx="15480" cy="2972160"/>
                </a:xfrm>
                <a:prstGeom prst="rect">
                  <a:avLst/>
                </a:prstGeom>
                <a:solidFill>
                  <a:srgbClr val="94c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157000" y="1803600"/>
                  <a:ext cx="15480" cy="2972160"/>
                </a:xfrm>
                <a:prstGeom prst="rect">
                  <a:avLst/>
                </a:prstGeom>
                <a:solidFill>
                  <a:srgbClr val="94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172840" y="1803600"/>
                  <a:ext cx="15480" cy="2972160"/>
                </a:xfrm>
                <a:prstGeom prst="rect">
                  <a:avLst/>
                </a:prstGeom>
                <a:solidFill>
                  <a:srgbClr val="93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188680" y="1803600"/>
                  <a:ext cx="15120" cy="2972160"/>
                </a:xfrm>
                <a:prstGeom prst="rect">
                  <a:avLst/>
                </a:prstGeom>
                <a:solidFill>
                  <a:srgbClr val="92c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203800" y="1803600"/>
                  <a:ext cx="18360" cy="2972160"/>
                </a:xfrm>
                <a:prstGeom prst="rect">
                  <a:avLst/>
                </a:prstGeom>
                <a:solidFill>
                  <a:srgbClr val="91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222160" y="1803600"/>
                  <a:ext cx="15480" cy="2972160"/>
                </a:xfrm>
                <a:prstGeom prst="rect">
                  <a:avLst/>
                </a:prstGeom>
                <a:solidFill>
                  <a:srgbClr val="90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38000" y="1803600"/>
                  <a:ext cx="15120" cy="2972160"/>
                </a:xfrm>
                <a:prstGeom prst="rect">
                  <a:avLst/>
                </a:prstGeom>
                <a:solidFill>
                  <a:srgbClr val="8fc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253480" y="1803600"/>
                  <a:ext cx="15480" cy="2972160"/>
                </a:xfrm>
                <a:prstGeom prst="rect">
                  <a:avLst/>
                </a:prstGeom>
                <a:solidFill>
                  <a:srgbClr val="8e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269320" y="1803600"/>
                  <a:ext cx="15480" cy="2972160"/>
                </a:xfrm>
                <a:prstGeom prst="rect">
                  <a:avLst/>
                </a:prstGeom>
                <a:solidFill>
                  <a:srgbClr val="8c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fi-FI" sz="1400" spc="-1" strike="noStrike">
                      <a:solidFill>
                        <a:srgbClr val="000000"/>
                      </a:solidFill>
                      <a:latin typeface="Times New Roman"/>
                    </a:rPr>
                    <a:t>SG as 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fi-FI" sz="1400" spc="-1" strike="noStrike">
                      <a:solidFill>
                        <a:srgbClr val="000000"/>
                      </a:solidFill>
                      <a:latin typeface="Times New Roman"/>
                    </a:rPr>
                    <a:t>replace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285160" y="1803600"/>
                  <a:ext cx="15480" cy="2972160"/>
                </a:xfrm>
                <a:prstGeom prst="rect">
                  <a:avLst/>
                </a:prstGeom>
                <a:solidFill>
                  <a:srgbClr val="8b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301000" y="1803600"/>
                  <a:ext cx="15480" cy="2972160"/>
                </a:xfrm>
                <a:prstGeom prst="rect">
                  <a:avLst/>
                </a:prstGeom>
                <a:solidFill>
                  <a:srgbClr val="8a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316840" y="1803600"/>
                  <a:ext cx="15480" cy="2972160"/>
                </a:xfrm>
                <a:prstGeom prst="rect">
                  <a:avLst/>
                </a:prstGeom>
                <a:solidFill>
                  <a:srgbClr val="89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332680" y="1803600"/>
                  <a:ext cx="15480" cy="2972160"/>
                </a:xfrm>
                <a:prstGeom prst="rect">
                  <a:avLst/>
                </a:prstGeom>
                <a:solidFill>
                  <a:srgbClr val="87b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348160" y="1803600"/>
                  <a:ext cx="15120" cy="2972160"/>
                </a:xfrm>
                <a:prstGeom prst="rect">
                  <a:avLst/>
                </a:prstGeom>
                <a:solidFill>
                  <a:srgbClr val="86b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363640" y="1803600"/>
                  <a:ext cx="15480" cy="2972160"/>
                </a:xfrm>
                <a:prstGeom prst="rect">
                  <a:avLst/>
                </a:prstGeom>
                <a:solidFill>
                  <a:srgbClr val="84b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379480" y="1803600"/>
                  <a:ext cx="18360" cy="2972160"/>
                </a:xfrm>
                <a:prstGeom prst="rect">
                  <a:avLst/>
                </a:prstGeom>
                <a:solidFill>
                  <a:srgbClr val="82b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397840" y="1803600"/>
                  <a:ext cx="15480" cy="2972160"/>
                </a:xfrm>
                <a:prstGeom prst="rect">
                  <a:avLst/>
                </a:prstGeom>
                <a:solidFill>
                  <a:srgbClr val="81b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13680" y="1803600"/>
                  <a:ext cx="15120" cy="2972160"/>
                </a:xfrm>
                <a:prstGeom prst="rect">
                  <a:avLst/>
                </a:prstGeom>
                <a:solidFill>
                  <a:srgbClr val="7fb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428800" y="1803600"/>
                  <a:ext cx="15480" cy="2972160"/>
                </a:xfrm>
                <a:prstGeom prst="rect">
                  <a:avLst/>
                </a:prstGeom>
                <a:solidFill>
                  <a:srgbClr val="7db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444640" y="1803600"/>
                  <a:ext cx="15480" cy="2972160"/>
                </a:xfrm>
                <a:prstGeom prst="rect">
                  <a:avLst/>
                </a:prstGeom>
                <a:solidFill>
                  <a:srgbClr val="7ca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460480" y="1803600"/>
                  <a:ext cx="15480" cy="2972160"/>
                </a:xfrm>
                <a:prstGeom prst="rect">
                  <a:avLst/>
                </a:prstGeom>
                <a:solidFill>
                  <a:srgbClr val="7aa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476320" y="1803600"/>
                  <a:ext cx="17640" cy="2972160"/>
                </a:xfrm>
                <a:prstGeom prst="rect">
                  <a:avLst/>
                </a:prstGeom>
                <a:solidFill>
                  <a:srgbClr val="78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494320" y="1803600"/>
                  <a:ext cx="15480" cy="2972160"/>
                </a:xfrm>
                <a:prstGeom prst="rect">
                  <a:avLst/>
                </a:prstGeom>
                <a:solidFill>
                  <a:srgbClr val="77a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510160" y="1803600"/>
                  <a:ext cx="15480" cy="2972160"/>
                </a:xfrm>
                <a:prstGeom prst="rect">
                  <a:avLst/>
                </a:prstGeom>
                <a:solidFill>
                  <a:srgbClr val="76a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526000" y="1803600"/>
                  <a:ext cx="15480" cy="2972160"/>
                </a:xfrm>
                <a:prstGeom prst="rect">
                  <a:avLst/>
                </a:prstGeom>
                <a:solidFill>
                  <a:srgbClr val="74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5541480" y="1803600"/>
                  <a:ext cx="15480" cy="2972160"/>
                </a:xfrm>
                <a:prstGeom prst="rect">
                  <a:avLst/>
                </a:prstGeom>
                <a:solidFill>
                  <a:srgbClr val="73a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5557320" y="1803600"/>
                  <a:ext cx="15480" cy="2972160"/>
                </a:xfrm>
                <a:prstGeom prst="rect">
                  <a:avLst/>
                </a:prstGeom>
                <a:solidFill>
                  <a:srgbClr val="71a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573160" y="1803600"/>
                  <a:ext cx="15120" cy="2972160"/>
                </a:xfrm>
                <a:prstGeom prst="rect">
                  <a:avLst/>
                </a:prstGeom>
                <a:solidFill>
                  <a:srgbClr val="70a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588640" y="1803600"/>
                  <a:ext cx="15480" cy="2972160"/>
                </a:xfrm>
                <a:prstGeom prst="rect">
                  <a:avLst/>
                </a:prstGeom>
                <a:solidFill>
                  <a:srgbClr val="6f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604480" y="1803600"/>
                  <a:ext cx="15480" cy="2972160"/>
                </a:xfrm>
                <a:prstGeom prst="rect">
                  <a:avLst/>
                </a:prstGeom>
                <a:solidFill>
                  <a:srgbClr val="6e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620320" y="1803600"/>
                  <a:ext cx="15480" cy="2972160"/>
                </a:xfrm>
                <a:prstGeom prst="rect">
                  <a:avLst/>
                </a:prstGeom>
                <a:solidFill>
                  <a:srgbClr val="6c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636160" y="1803600"/>
                  <a:ext cx="15480" cy="2972160"/>
                </a:xfrm>
                <a:prstGeom prst="rect">
                  <a:avLst/>
                </a:prstGeom>
                <a:solidFill>
                  <a:srgbClr val="6b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652000" y="1803600"/>
                  <a:ext cx="15480" cy="2972160"/>
                </a:xfrm>
                <a:prstGeom prst="rect">
                  <a:avLst/>
                </a:prstGeom>
                <a:solidFill>
                  <a:srgbClr val="6b9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5667480" y="1803600"/>
                  <a:ext cx="15480" cy="2972160"/>
                </a:xfrm>
                <a:prstGeom prst="rect">
                  <a:avLst/>
                </a:prstGeom>
                <a:solidFill>
                  <a:srgbClr val="6a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683320" y="1803600"/>
                  <a:ext cx="15480" cy="2972160"/>
                </a:xfrm>
                <a:prstGeom prst="rect">
                  <a:avLst/>
                </a:prstGeom>
                <a:solidFill>
                  <a:srgbClr val="69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5699160" y="1803600"/>
                  <a:ext cx="1512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714640" y="1803600"/>
                  <a:ext cx="1548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30480" y="18036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746320" y="18036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762160" y="18036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778000" y="18036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5793480" y="1803600"/>
                  <a:ext cx="1764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" name=""/>
            <p:cNvGrpSpPr/>
            <p:nvPr/>
          </p:nvGrpSpPr>
          <p:grpSpPr>
            <a:xfrm>
              <a:off x="969840" y="1677960"/>
              <a:ext cx="1107720" cy="3094920"/>
              <a:chOff x="969840" y="1677960"/>
              <a:chExt cx="1107720" cy="3094920"/>
            </a:xfrm>
          </p:grpSpPr>
          <p:grpSp>
            <p:nvGrpSpPr>
              <p:cNvPr id="738" name=""/>
              <p:cNvGrpSpPr/>
              <p:nvPr/>
            </p:nvGrpSpPr>
            <p:grpSpPr>
              <a:xfrm>
                <a:off x="969840" y="1677960"/>
                <a:ext cx="1107720" cy="3094920"/>
                <a:chOff x="969840" y="1677960"/>
                <a:chExt cx="1107720" cy="309492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050560" y="1677960"/>
                  <a:ext cx="27000" cy="3094920"/>
                </a:xfrm>
                <a:custGeom>
                  <a:avLst/>
                  <a:gdLst/>
                  <a:ahLst/>
                  <a:rect l="l" t="t" r="r" b="b"/>
                  <a:pathLst>
                    <a:path w="38" h="1413">
                      <a:moveTo>
                        <a:pt x="0" y="1413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1318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e1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969840" y="1677960"/>
                  <a:ext cx="1107720" cy="85320"/>
                </a:xfrm>
                <a:custGeom>
                  <a:avLst/>
                  <a:gdLst/>
                  <a:ahLst/>
                  <a:rect l="l" t="t" r="r" b="b"/>
                  <a:pathLst>
                    <a:path w="1543" h="39">
                      <a:moveTo>
                        <a:pt x="1505" y="39"/>
                      </a:moveTo>
                      <a:lnTo>
                        <a:pt x="0" y="39"/>
                      </a:lnTo>
                      <a:lnTo>
                        <a:pt x="99" y="0"/>
                      </a:lnTo>
                      <a:lnTo>
                        <a:pt x="1543" y="0"/>
                      </a:lnTo>
                      <a:lnTo>
                        <a:pt x="1505" y="39"/>
                      </a:lnTo>
                      <a:close/>
                    </a:path>
                  </a:pathLst>
                </a:custGeom>
                <a:solidFill>
                  <a:srgbClr val="98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969840" y="1763280"/>
                <a:ext cx="1080720" cy="3009600"/>
                <a:chOff x="969840" y="1763280"/>
                <a:chExt cx="1080720" cy="300960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969840" y="1763280"/>
                  <a:ext cx="702000" cy="3009240"/>
                  <a:chOff x="969840" y="1763280"/>
                  <a:chExt cx="702000" cy="300924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>
                    <a:off x="969840" y="1763280"/>
                    <a:ext cx="3240" cy="300924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973080" y="1763280"/>
                    <a:ext cx="3240" cy="3009240"/>
                  </a:xfrm>
                  <a:prstGeom prst="rect">
                    <a:avLst/>
                  </a:prstGeom>
                  <a:solidFill>
                    <a:srgbClr val="ff99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976680" y="1763280"/>
                    <a:ext cx="2880" cy="3009240"/>
                  </a:xfrm>
                  <a:prstGeom prst="rect">
                    <a:avLst/>
                  </a:prstGeom>
                  <a:solidFill>
                    <a:srgbClr val="ff990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979920" y="1763280"/>
                    <a:ext cx="3960" cy="3009240"/>
                  </a:xfrm>
                  <a:prstGeom prst="rect">
                    <a:avLst/>
                  </a:prstGeom>
                  <a:solidFill>
                    <a:srgbClr val="ff990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983880" y="1763280"/>
                    <a:ext cx="3240" cy="3009240"/>
                  </a:xfrm>
                  <a:prstGeom prst="rect">
                    <a:avLst/>
                  </a:prstGeom>
                  <a:solidFill>
                    <a:srgbClr val="ff99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987480" y="1763280"/>
                    <a:ext cx="3240" cy="3009240"/>
                  </a:xfrm>
                  <a:prstGeom prst="rect">
                    <a:avLst/>
                  </a:prstGeom>
                  <a:solidFill>
                    <a:srgbClr val="ff9a0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991080" y="1763280"/>
                    <a:ext cx="2880" cy="3009240"/>
                  </a:xfrm>
                  <a:prstGeom prst="rect">
                    <a:avLst/>
                  </a:prstGeom>
                  <a:solidFill>
                    <a:srgbClr val="ff9a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993960" y="1763280"/>
                    <a:ext cx="3240" cy="3009240"/>
                  </a:xfrm>
                  <a:prstGeom prst="rect">
                    <a:avLst/>
                  </a:prstGeom>
                  <a:solidFill>
                    <a:srgbClr val="ff9a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997560" y="1763280"/>
                    <a:ext cx="3240" cy="3009240"/>
                  </a:xfrm>
                  <a:prstGeom prst="rect">
                    <a:avLst/>
                  </a:prstGeom>
                  <a:solidFill>
                    <a:srgbClr val="ff9b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001160" y="1763280"/>
                    <a:ext cx="4320" cy="3009240"/>
                  </a:xfrm>
                  <a:prstGeom prst="rect">
                    <a:avLst/>
                  </a:prstGeom>
                  <a:solidFill>
                    <a:srgbClr val="ff9b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005480" y="1763280"/>
                    <a:ext cx="2520" cy="3009240"/>
                  </a:xfrm>
                  <a:prstGeom prst="rect">
                    <a:avLst/>
                  </a:prstGeom>
                  <a:solidFill>
                    <a:srgbClr val="ff9b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008360" y="1763280"/>
                    <a:ext cx="3240" cy="3009240"/>
                  </a:xfrm>
                  <a:prstGeom prst="rect">
                    <a:avLst/>
                  </a:prstGeom>
                  <a:solidFill>
                    <a:srgbClr val="ff9c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1011960" y="1763280"/>
                    <a:ext cx="3240" cy="3009240"/>
                  </a:xfrm>
                  <a:prstGeom prst="rect">
                    <a:avLst/>
                  </a:prstGeom>
                  <a:solidFill>
                    <a:srgbClr val="ff9c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015560" y="1763280"/>
                    <a:ext cx="2880" cy="3009240"/>
                  </a:xfrm>
                  <a:prstGeom prst="rect">
                    <a:avLst/>
                  </a:prstGeom>
                  <a:solidFill>
                    <a:srgbClr val="ff9c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018440" y="1763280"/>
                    <a:ext cx="3240" cy="3009240"/>
                  </a:xfrm>
                  <a:prstGeom prst="rect">
                    <a:avLst/>
                  </a:prstGeom>
                  <a:solidFill>
                    <a:srgbClr val="ff9d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022040" y="1763280"/>
                    <a:ext cx="3960" cy="3009240"/>
                  </a:xfrm>
                  <a:prstGeom prst="rect">
                    <a:avLst/>
                  </a:prstGeom>
                  <a:solidFill>
                    <a:srgbClr val="ff9d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026360" y="1763280"/>
                    <a:ext cx="3240" cy="3009240"/>
                  </a:xfrm>
                  <a:prstGeom prst="rect">
                    <a:avLst/>
                  </a:prstGeom>
                  <a:solidFill>
                    <a:srgbClr val="ff9d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029960" y="1763280"/>
                    <a:ext cx="2880" cy="3009240"/>
                  </a:xfrm>
                  <a:prstGeom prst="rect">
                    <a:avLst/>
                  </a:prstGeom>
                  <a:solidFill>
                    <a:srgbClr val="ff9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032840" y="1763280"/>
                    <a:ext cx="3240" cy="3009240"/>
                  </a:xfrm>
                  <a:prstGeom prst="rect">
                    <a:avLst/>
                  </a:prstGeom>
                  <a:solidFill>
                    <a:srgbClr val="ff9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036440" y="1763280"/>
                    <a:ext cx="3240" cy="3009240"/>
                  </a:xfrm>
                  <a:prstGeom prst="rect">
                    <a:avLst/>
                  </a:prstGeom>
                  <a:solidFill>
                    <a:srgbClr val="ff9f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040040" y="1763280"/>
                    <a:ext cx="2880" cy="3009240"/>
                  </a:xfrm>
                  <a:prstGeom prst="rect">
                    <a:avLst/>
                  </a:prstGeom>
                  <a:solidFill>
                    <a:srgbClr val="ff9f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042920" y="1763280"/>
                    <a:ext cx="3960" cy="3009240"/>
                  </a:xfrm>
                  <a:prstGeom prst="rect">
                    <a:avLst/>
                  </a:prstGeom>
                  <a:solidFill>
                    <a:srgbClr val="ffa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047240" y="1763280"/>
                    <a:ext cx="3240" cy="3009240"/>
                  </a:xfrm>
                  <a:prstGeom prst="rect">
                    <a:avLst/>
                  </a:prstGeom>
                  <a:solidFill>
                    <a:srgbClr val="ffa0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050840" y="1763280"/>
                    <a:ext cx="3240" cy="3009240"/>
                  </a:xfrm>
                  <a:prstGeom prst="rect">
                    <a:avLst/>
                  </a:prstGeom>
                  <a:solidFill>
                    <a:srgbClr val="ffa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054440" y="1763280"/>
                    <a:ext cx="2880" cy="3009240"/>
                  </a:xfrm>
                  <a:prstGeom prst="rect">
                    <a:avLst/>
                  </a:prstGeom>
                  <a:solidFill>
                    <a:srgbClr val="ffa1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057320" y="1763280"/>
                    <a:ext cx="3240" cy="3009240"/>
                  </a:xfrm>
                  <a:prstGeom prst="rect">
                    <a:avLst/>
                  </a:prstGeom>
                  <a:solidFill>
                    <a:srgbClr val="ffa2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060920" y="1763280"/>
                    <a:ext cx="3240" cy="3009240"/>
                  </a:xfrm>
                  <a:prstGeom prst="rect">
                    <a:avLst/>
                  </a:prstGeom>
                  <a:solidFill>
                    <a:srgbClr val="ffa2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064520" y="1763280"/>
                    <a:ext cx="2880" cy="3009240"/>
                  </a:xfrm>
                  <a:prstGeom prst="rect">
                    <a:avLst/>
                  </a:prstGeom>
                  <a:solidFill>
                    <a:srgbClr val="ffa3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067400" y="1763280"/>
                    <a:ext cx="3960" cy="3009240"/>
                  </a:xfrm>
                  <a:prstGeom prst="rect">
                    <a:avLst/>
                  </a:prstGeom>
                  <a:solidFill>
                    <a:srgbClr val="ffa4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071720" y="1763280"/>
                    <a:ext cx="3240" cy="3009240"/>
                  </a:xfrm>
                  <a:prstGeom prst="rect">
                    <a:avLst/>
                  </a:prstGeom>
                  <a:solidFill>
                    <a:srgbClr val="ffa4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1075320" y="1763280"/>
                    <a:ext cx="3240" cy="3009240"/>
                  </a:xfrm>
                  <a:prstGeom prst="rect">
                    <a:avLst/>
                  </a:prstGeom>
                  <a:solidFill>
                    <a:srgbClr val="ffa5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078920" y="1763280"/>
                    <a:ext cx="2880" cy="3009240"/>
                  </a:xfrm>
                  <a:prstGeom prst="rect">
                    <a:avLst/>
                  </a:prstGeom>
                  <a:solidFill>
                    <a:srgbClr val="ffa6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081800" y="1763280"/>
                    <a:ext cx="3240" cy="3009240"/>
                  </a:xfrm>
                  <a:prstGeom prst="rect">
                    <a:avLst/>
                  </a:prstGeom>
                  <a:solidFill>
                    <a:srgbClr val="ffa6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085400" y="1763280"/>
                    <a:ext cx="3240" cy="3009240"/>
                  </a:xfrm>
                  <a:prstGeom prst="rect">
                    <a:avLst/>
                  </a:prstGeom>
                  <a:solidFill>
                    <a:srgbClr val="ffa7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089000" y="1763280"/>
                    <a:ext cx="4320" cy="3009240"/>
                  </a:xfrm>
                  <a:prstGeom prst="rect">
                    <a:avLst/>
                  </a:prstGeom>
                  <a:solidFill>
                    <a:srgbClr val="ffa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093320" y="1763280"/>
                    <a:ext cx="2520" cy="3009240"/>
                  </a:xfrm>
                  <a:prstGeom prst="rect">
                    <a:avLst/>
                  </a:prstGeom>
                  <a:solidFill>
                    <a:srgbClr val="ffa9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096200" y="1763280"/>
                    <a:ext cx="3240" cy="3009240"/>
                  </a:xfrm>
                  <a:prstGeom prst="rect">
                    <a:avLst/>
                  </a:prstGeom>
                  <a:solidFill>
                    <a:srgbClr val="ffa9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099800" y="1763280"/>
                    <a:ext cx="3240" cy="3009240"/>
                  </a:xfrm>
                  <a:prstGeom prst="rect">
                    <a:avLst/>
                  </a:prstGeom>
                  <a:solidFill>
                    <a:srgbClr val="ffa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103400" y="1763280"/>
                    <a:ext cx="3240" cy="3009240"/>
                  </a:xfrm>
                  <a:prstGeom prst="rect">
                    <a:avLst/>
                  </a:prstGeom>
                  <a:solidFill>
                    <a:srgbClr val="ffab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106640" y="1763280"/>
                    <a:ext cx="2880" cy="3009240"/>
                  </a:xfrm>
                  <a:prstGeom prst="rect">
                    <a:avLst/>
                  </a:prstGeom>
                  <a:solidFill>
                    <a:srgbClr val="ffab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109880" y="1763280"/>
                    <a:ext cx="3960" cy="3009240"/>
                  </a:xfrm>
                  <a:prstGeom prst="rect">
                    <a:avLst/>
                  </a:prstGeom>
                  <a:solidFill>
                    <a:srgbClr val="ffa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113840" y="1763280"/>
                    <a:ext cx="3240" cy="3009240"/>
                  </a:xfrm>
                  <a:prstGeom prst="rect">
                    <a:avLst/>
                  </a:prstGeom>
                  <a:solidFill>
                    <a:srgbClr val="ffa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117440" y="1763280"/>
                    <a:ext cx="2880" cy="3009240"/>
                  </a:xfrm>
                  <a:prstGeom prst="rect">
                    <a:avLst/>
                  </a:prstGeom>
                  <a:solidFill>
                    <a:srgbClr val="ffa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120320" y="1763280"/>
                    <a:ext cx="3240" cy="3009240"/>
                  </a:xfrm>
                  <a:prstGeom prst="rect">
                    <a:avLst/>
                  </a:prstGeom>
                  <a:solidFill>
                    <a:srgbClr val="ffa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1123920" y="1763280"/>
                    <a:ext cx="3240" cy="3009240"/>
                  </a:xfrm>
                  <a:prstGeom prst="rect">
                    <a:avLst/>
                  </a:prstGeom>
                  <a:solidFill>
                    <a:srgbClr val="ffa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1127520" y="1763280"/>
                    <a:ext cx="3240" cy="3009240"/>
                  </a:xfrm>
                  <a:prstGeom prst="rect">
                    <a:avLst/>
                  </a:prstGeom>
                  <a:solidFill>
                    <a:srgbClr val="ffb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1131120" y="1763280"/>
                    <a:ext cx="2880" cy="3009240"/>
                  </a:xfrm>
                  <a:prstGeom prst="rect">
                    <a:avLst/>
                  </a:prstGeom>
                  <a:solidFill>
                    <a:srgbClr val="ffb2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134360" y="1763280"/>
                    <a:ext cx="3960" cy="3009240"/>
                  </a:xfrm>
                  <a:prstGeom prst="rect">
                    <a:avLst/>
                  </a:prstGeom>
                  <a:solidFill>
                    <a:srgbClr val="ffb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138320" y="1763280"/>
                    <a:ext cx="3240" cy="3009240"/>
                  </a:xfrm>
                  <a:prstGeom prst="rect">
                    <a:avLst/>
                  </a:prstGeom>
                  <a:solidFill>
                    <a:srgbClr val="ffb3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141920" y="1763280"/>
                    <a:ext cx="3240" cy="3009240"/>
                  </a:xfrm>
                  <a:prstGeom prst="rect">
                    <a:avLst/>
                  </a:prstGeom>
                  <a:solidFill>
                    <a:srgbClr val="ffb5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145520" y="1763280"/>
                    <a:ext cx="2880" cy="3009240"/>
                  </a:xfrm>
                  <a:prstGeom prst="rect">
                    <a:avLst/>
                  </a:prstGeom>
                  <a:solidFill>
                    <a:srgbClr val="ffb5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148400" y="1763280"/>
                    <a:ext cx="3240" cy="3009240"/>
                  </a:xfrm>
                  <a:prstGeom prst="rect">
                    <a:avLst/>
                  </a:prstGeom>
                  <a:solidFill>
                    <a:srgbClr val="ffb6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152000" y="1763280"/>
                    <a:ext cx="3240" cy="3009240"/>
                  </a:xfrm>
                  <a:prstGeom prst="rect">
                    <a:avLst/>
                  </a:prstGeom>
                  <a:solidFill>
                    <a:srgbClr val="ffb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155600" y="1763280"/>
                    <a:ext cx="4320" cy="3009240"/>
                  </a:xfrm>
                  <a:prstGeom prst="rect">
                    <a:avLst/>
                  </a:prstGeom>
                  <a:solidFill>
                    <a:srgbClr val="ffb8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159920" y="1763280"/>
                    <a:ext cx="2520" cy="3009240"/>
                  </a:xfrm>
                  <a:prstGeom prst="rect">
                    <a:avLst/>
                  </a:prstGeom>
                  <a:solidFill>
                    <a:srgbClr val="ffb9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162800" y="1763280"/>
                    <a:ext cx="3240" cy="3009240"/>
                  </a:xfrm>
                  <a:prstGeom prst="rect">
                    <a:avLst/>
                  </a:prstGeom>
                  <a:solidFill>
                    <a:srgbClr val="ffbb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1166400" y="1763280"/>
                    <a:ext cx="3240" cy="3009240"/>
                  </a:xfrm>
                  <a:prstGeom prst="rect">
                    <a:avLst/>
                  </a:prstGeom>
                  <a:solidFill>
                    <a:srgbClr val="ffbb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170000" y="1763280"/>
                    <a:ext cx="2880" cy="3009240"/>
                  </a:xfrm>
                  <a:prstGeom prst="rect">
                    <a:avLst/>
                  </a:prstGeom>
                  <a:solidFill>
                    <a:srgbClr val="ffbc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172880" y="1763280"/>
                    <a:ext cx="3240" cy="3009240"/>
                  </a:xfrm>
                  <a:prstGeom prst="rect">
                    <a:avLst/>
                  </a:prstGeom>
                  <a:solidFill>
                    <a:srgbClr val="ffbe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176480" y="1763280"/>
                    <a:ext cx="4320" cy="3009240"/>
                  </a:xfrm>
                  <a:prstGeom prst="rect">
                    <a:avLst/>
                  </a:prstGeom>
                  <a:solidFill>
                    <a:srgbClr val="ffbe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180800" y="1763280"/>
                    <a:ext cx="3240" cy="3009240"/>
                  </a:xfrm>
                  <a:prstGeom prst="rect">
                    <a:avLst/>
                  </a:prstGeom>
                  <a:solidFill>
                    <a:srgbClr val="ffc0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184400" y="1763280"/>
                    <a:ext cx="2520" cy="3009240"/>
                  </a:xfrm>
                  <a:prstGeom prst="rect">
                    <a:avLst/>
                  </a:prstGeom>
                  <a:solidFill>
                    <a:srgbClr val="ffc1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1187280" y="1763280"/>
                    <a:ext cx="3240" cy="3009240"/>
                  </a:xfrm>
                  <a:prstGeom prst="rect">
                    <a:avLst/>
                  </a:prstGeom>
                  <a:solidFill>
                    <a:srgbClr val="ffc2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1190880" y="1763280"/>
                    <a:ext cx="3240" cy="3009240"/>
                  </a:xfrm>
                  <a:prstGeom prst="rect">
                    <a:avLst/>
                  </a:prstGeom>
                  <a:solidFill>
                    <a:srgbClr val="ffc3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1194480" y="1763280"/>
                    <a:ext cx="2880" cy="3009240"/>
                  </a:xfrm>
                  <a:prstGeom prst="rect">
                    <a:avLst/>
                  </a:prstGeom>
                  <a:solidFill>
                    <a:srgbClr val="ffc4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1197360" y="1763280"/>
                    <a:ext cx="3960" cy="3009240"/>
                  </a:xfrm>
                  <a:prstGeom prst="rect">
                    <a:avLst/>
                  </a:prstGeom>
                  <a:solidFill>
                    <a:srgbClr val="ffc5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1201680" y="1763280"/>
                    <a:ext cx="3240" cy="3009240"/>
                  </a:xfrm>
                  <a:prstGeom prst="rect">
                    <a:avLst/>
                  </a:prstGeom>
                  <a:solidFill>
                    <a:srgbClr val="ffc6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1205280" y="1763280"/>
                    <a:ext cx="3600" cy="3009240"/>
                  </a:xfrm>
                  <a:prstGeom prst="rect">
                    <a:avLst/>
                  </a:prstGeom>
                  <a:solidFill>
                    <a:srgbClr val="ffc8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1208880" y="1763280"/>
                    <a:ext cx="2520" cy="3009240"/>
                  </a:xfrm>
                  <a:prstGeom prst="rect">
                    <a:avLst/>
                  </a:prstGeom>
                  <a:solidFill>
                    <a:srgbClr val="ffc8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1211760" y="1763280"/>
                    <a:ext cx="3240" cy="3009240"/>
                  </a:xfrm>
                  <a:prstGeom prst="rect">
                    <a:avLst/>
                  </a:prstGeom>
                  <a:solidFill>
                    <a:srgbClr val="ffca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1215360" y="1763280"/>
                    <a:ext cx="3240" cy="3009240"/>
                  </a:xfrm>
                  <a:prstGeom prst="rect">
                    <a:avLst/>
                  </a:prstGeom>
                  <a:solidFill>
                    <a:srgbClr val="ffcb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1218960" y="1763280"/>
                    <a:ext cx="2880" cy="3009240"/>
                  </a:xfrm>
                  <a:prstGeom prst="rect">
                    <a:avLst/>
                  </a:prstGeom>
                  <a:solidFill>
                    <a:srgbClr val="ffcc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1221840" y="1763280"/>
                    <a:ext cx="3960" cy="3009240"/>
                  </a:xfrm>
                  <a:prstGeom prst="rect">
                    <a:avLst/>
                  </a:prstGeom>
                  <a:solidFill>
                    <a:srgbClr val="ffcd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1226160" y="1763280"/>
                    <a:ext cx="3240" cy="3009240"/>
                  </a:xfrm>
                  <a:prstGeom prst="rect">
                    <a:avLst/>
                  </a:prstGeom>
                  <a:solidFill>
                    <a:srgbClr val="ffce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1229760" y="1763280"/>
                    <a:ext cx="3240" cy="3009240"/>
                  </a:xfrm>
                  <a:prstGeom prst="rect">
                    <a:avLst/>
                  </a:prstGeom>
                  <a:solidFill>
                    <a:srgbClr val="ffcf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1233360" y="1763280"/>
                    <a:ext cx="2880" cy="3009240"/>
                  </a:xfrm>
                  <a:prstGeom prst="rect">
                    <a:avLst/>
                  </a:prstGeom>
                  <a:solidFill>
                    <a:srgbClr val="ffd0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1236240" y="1763280"/>
                    <a:ext cx="3240" cy="3009240"/>
                  </a:xfrm>
                  <a:prstGeom prst="rect">
                    <a:avLst/>
                  </a:prstGeom>
                  <a:solidFill>
                    <a:srgbClr val="ffd1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1239840" y="1763280"/>
                    <a:ext cx="3240" cy="3009240"/>
                  </a:xfrm>
                  <a:prstGeom prst="rect">
                    <a:avLst/>
                  </a:prstGeom>
                  <a:solidFill>
                    <a:srgbClr val="ffd2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1243440" y="1763280"/>
                    <a:ext cx="4320" cy="3009240"/>
                  </a:xfrm>
                  <a:prstGeom prst="rect">
                    <a:avLst/>
                  </a:prstGeom>
                  <a:solidFill>
                    <a:srgbClr val="ffd3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1247760" y="1763280"/>
                    <a:ext cx="2520" cy="3009240"/>
                  </a:xfrm>
                  <a:prstGeom prst="rect">
                    <a:avLst/>
                  </a:prstGeom>
                  <a:solidFill>
                    <a:srgbClr val="ffd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1250640" y="1763280"/>
                    <a:ext cx="3240" cy="3009240"/>
                  </a:xfrm>
                  <a:prstGeom prst="rect">
                    <a:avLst/>
                  </a:prstGeom>
                  <a:solidFill>
                    <a:srgbClr val="ffd5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1254240" y="1763280"/>
                    <a:ext cx="3240" cy="3009240"/>
                  </a:xfrm>
                  <a:prstGeom prst="rect">
                    <a:avLst/>
                  </a:prstGeom>
                  <a:solidFill>
                    <a:srgbClr val="ffd7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257480" y="1763280"/>
                    <a:ext cx="3240" cy="3009240"/>
                  </a:xfrm>
                  <a:prstGeom prst="rect">
                    <a:avLst/>
                  </a:prstGeom>
                  <a:solidFill>
                    <a:srgbClr val="ffd8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261080" y="1763280"/>
                    <a:ext cx="2880" cy="3009240"/>
                  </a:xfrm>
                  <a:prstGeom prst="rect">
                    <a:avLst/>
                  </a:prstGeom>
                  <a:solidFill>
                    <a:srgbClr val="ffd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264320" y="1763280"/>
                    <a:ext cx="4320" cy="3009240"/>
                  </a:xfrm>
                  <a:prstGeom prst="rect">
                    <a:avLst/>
                  </a:prstGeom>
                  <a:solidFill>
                    <a:srgbClr val="ffda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1268640" y="1763280"/>
                    <a:ext cx="3240" cy="3009240"/>
                  </a:xfrm>
                  <a:prstGeom prst="rect">
                    <a:avLst/>
                  </a:prstGeom>
                  <a:solidFill>
                    <a:srgbClr val="ffdb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1272240" y="1763280"/>
                    <a:ext cx="3240" cy="3009240"/>
                  </a:xfrm>
                  <a:prstGeom prst="rect">
                    <a:avLst/>
                  </a:prstGeom>
                  <a:solidFill>
                    <a:srgbClr val="ffdc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275840" y="1763280"/>
                    <a:ext cx="2520" cy="3009240"/>
                  </a:xfrm>
                  <a:prstGeom prst="rect">
                    <a:avLst/>
                  </a:prstGeom>
                  <a:solidFill>
                    <a:srgbClr val="ffdd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278360" y="1763280"/>
                    <a:ext cx="3240" cy="3009240"/>
                  </a:xfrm>
                  <a:prstGeom prst="rect">
                    <a:avLst/>
                  </a:prstGeom>
                  <a:solidFill>
                    <a:srgbClr val="ffd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1281960" y="1763280"/>
                    <a:ext cx="3240" cy="3009240"/>
                  </a:xfrm>
                  <a:prstGeom prst="rect">
                    <a:avLst/>
                  </a:prstGeom>
                  <a:solidFill>
                    <a:srgbClr val="ffd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285560" y="1763280"/>
                    <a:ext cx="2880" cy="3009240"/>
                  </a:xfrm>
                  <a:prstGeom prst="rect">
                    <a:avLst/>
                  </a:prstGeom>
                  <a:solidFill>
                    <a:srgbClr val="ffe0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288440" y="1763280"/>
                    <a:ext cx="3960" cy="3009240"/>
                  </a:xfrm>
                  <a:prstGeom prst="rect">
                    <a:avLst/>
                  </a:prstGeom>
                  <a:solidFill>
                    <a:srgbClr val="ffe1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1292760" y="1763280"/>
                    <a:ext cx="3600" cy="3009240"/>
                  </a:xfrm>
                  <a:prstGeom prst="rect">
                    <a:avLst/>
                  </a:prstGeom>
                  <a:solidFill>
                    <a:srgbClr val="ffe1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1296720" y="1763280"/>
                    <a:ext cx="3240" cy="3009240"/>
                  </a:xfrm>
                  <a:prstGeom prst="rect">
                    <a:avLst/>
                  </a:prstGeom>
                  <a:solidFill>
                    <a:srgbClr val="ffe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1300320" y="1763280"/>
                    <a:ext cx="2520" cy="3009240"/>
                  </a:xfrm>
                  <a:prstGeom prst="rect">
                    <a:avLst/>
                  </a:prstGeom>
                  <a:solidFill>
                    <a:srgbClr val="ffe4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1302840" y="1763280"/>
                    <a:ext cx="3240" cy="3009240"/>
                  </a:xfrm>
                  <a:prstGeom prst="rect">
                    <a:avLst/>
                  </a:prstGeom>
                  <a:solidFill>
                    <a:srgbClr val="ffe4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1306440" y="1763280"/>
                    <a:ext cx="3240" cy="3009240"/>
                  </a:xfrm>
                  <a:prstGeom prst="rect">
                    <a:avLst/>
                  </a:prstGeom>
                  <a:solidFill>
                    <a:srgbClr val="ffe5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310040" y="1763280"/>
                    <a:ext cx="4320" cy="3009240"/>
                  </a:xfrm>
                  <a:prstGeom prst="rect">
                    <a:avLst/>
                  </a:prstGeom>
                  <a:solidFill>
                    <a:srgbClr val="ffe6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314360" y="1763280"/>
                    <a:ext cx="2520" cy="3009240"/>
                  </a:xfrm>
                  <a:prstGeom prst="rect">
                    <a:avLst/>
                  </a:prstGeom>
                  <a:solidFill>
                    <a:srgbClr val="ffe7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1317240" y="1763280"/>
                    <a:ext cx="3240" cy="3009240"/>
                  </a:xfrm>
                  <a:prstGeom prst="rect">
                    <a:avLst/>
                  </a:prstGeom>
                  <a:solidFill>
                    <a:srgbClr val="ffe8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1320840" y="1763280"/>
                    <a:ext cx="3240" cy="3009240"/>
                  </a:xfrm>
                  <a:prstGeom prst="rect">
                    <a:avLst/>
                  </a:prstGeom>
                  <a:solidFill>
                    <a:srgbClr val="ffe9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1324440" y="1763280"/>
                    <a:ext cx="2880" cy="3009240"/>
                  </a:xfrm>
                  <a:prstGeom prst="rect">
                    <a:avLst/>
                  </a:prstGeom>
                  <a:solidFill>
                    <a:srgbClr val="ffe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1327320" y="1763280"/>
                    <a:ext cx="3240" cy="3009240"/>
                  </a:xfrm>
                  <a:prstGeom prst="rect">
                    <a:avLst/>
                  </a:prstGeom>
                  <a:solidFill>
                    <a:srgbClr val="ffea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1330920" y="1763280"/>
                    <a:ext cx="4320" cy="3009240"/>
                  </a:xfrm>
                  <a:prstGeom prst="rect">
                    <a:avLst/>
                  </a:prstGeom>
                  <a:solidFill>
                    <a:srgbClr val="ffeb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35240" y="1763280"/>
                    <a:ext cx="3240" cy="3009240"/>
                  </a:xfrm>
                  <a:prstGeom prst="rect">
                    <a:avLst/>
                  </a:prstGeom>
                  <a:solidFill>
                    <a:srgbClr val="ffeb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338840" y="1763280"/>
                    <a:ext cx="2520" cy="3009240"/>
                  </a:xfrm>
                  <a:prstGeom prst="rect">
                    <a:avLst/>
                  </a:prstGeom>
                  <a:solidFill>
                    <a:srgbClr val="ffec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341720" y="1763280"/>
                    <a:ext cx="3240" cy="3009240"/>
                  </a:xfrm>
                  <a:prstGeom prst="rect">
                    <a:avLst/>
                  </a:prstGeom>
                  <a:solidFill>
                    <a:srgbClr val="ffed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1345320" y="1763280"/>
                    <a:ext cx="3240" cy="3009240"/>
                  </a:xfrm>
                  <a:prstGeom prst="rect">
                    <a:avLst/>
                  </a:prstGeom>
                  <a:solidFill>
                    <a:srgbClr val="ffee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348920" y="1763280"/>
                    <a:ext cx="2880" cy="3009240"/>
                  </a:xfrm>
                  <a:prstGeom prst="rect">
                    <a:avLst/>
                  </a:prstGeom>
                  <a:solidFill>
                    <a:srgbClr val="ffee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351800" y="1763280"/>
                    <a:ext cx="4320" cy="3009240"/>
                  </a:xfrm>
                  <a:prstGeom prst="rect">
                    <a:avLst/>
                  </a:prstGeom>
                  <a:solidFill>
                    <a:srgbClr val="ffe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1356120" y="1763280"/>
                    <a:ext cx="3240" cy="3009240"/>
                  </a:xfrm>
                  <a:prstGeom prst="rect">
                    <a:avLst/>
                  </a:prstGeom>
                  <a:solidFill>
                    <a:srgbClr val="fff0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1359720" y="1763280"/>
                    <a:ext cx="3240" cy="3009240"/>
                  </a:xfrm>
                  <a:prstGeom prst="rect">
                    <a:avLst/>
                  </a:prstGeom>
                  <a:solidFill>
                    <a:srgbClr val="fff0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363320" y="1763280"/>
                    <a:ext cx="252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366200" y="1763280"/>
                    <a:ext cx="324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369800" y="1763280"/>
                    <a:ext cx="3240" cy="3009240"/>
                  </a:xfrm>
                  <a:prstGeom prst="rect">
                    <a:avLst/>
                  </a:prstGeom>
                  <a:solidFill>
                    <a:srgbClr val="fff2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373400" y="1763280"/>
                    <a:ext cx="3240" cy="3009240"/>
                  </a:xfrm>
                  <a:prstGeom prst="rect">
                    <a:avLst/>
                  </a:prstGeom>
                  <a:solidFill>
                    <a:srgbClr val="fff3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377000" y="1763280"/>
                    <a:ext cx="3240" cy="3009240"/>
                  </a:xfrm>
                  <a:prstGeom prst="rect">
                    <a:avLst/>
                  </a:prstGeom>
                  <a:solidFill>
                    <a:srgbClr val="fff3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380600" y="1763280"/>
                    <a:ext cx="3240" cy="3009240"/>
                  </a:xfrm>
                  <a:prstGeom prst="rect">
                    <a:avLst/>
                  </a:prstGeom>
                  <a:solidFill>
                    <a:srgbClr val="fff4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384200" y="1763280"/>
                    <a:ext cx="3600" cy="3009240"/>
                  </a:xfrm>
                  <a:prstGeom prst="rect">
                    <a:avLst/>
                  </a:prstGeom>
                  <a:solidFill>
                    <a:srgbClr val="fff4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387800" y="1763280"/>
                    <a:ext cx="2520" cy="3009240"/>
                  </a:xfrm>
                  <a:prstGeom prst="rect">
                    <a:avLst/>
                  </a:prstGeom>
                  <a:solidFill>
                    <a:srgbClr val="fff5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390680" y="1763280"/>
                    <a:ext cx="3240" cy="3009240"/>
                  </a:xfrm>
                  <a:prstGeom prst="rect">
                    <a:avLst/>
                  </a:prstGeom>
                  <a:solidFill>
                    <a:srgbClr val="fff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394280" y="1763280"/>
                    <a:ext cx="3240" cy="3009240"/>
                  </a:xfrm>
                  <a:prstGeom prst="rect">
                    <a:avLst/>
                  </a:prstGeom>
                  <a:solidFill>
                    <a:srgbClr val="fff6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397880" y="1763280"/>
                    <a:ext cx="4320" cy="3009240"/>
                  </a:xfrm>
                  <a:prstGeom prst="rect">
                    <a:avLst/>
                  </a:prstGeom>
                  <a:solidFill>
                    <a:srgbClr val="fff6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402200" y="1763280"/>
                    <a:ext cx="252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405080" y="1763280"/>
                    <a:ext cx="324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408320" y="1763280"/>
                    <a:ext cx="324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411920" y="1763280"/>
                    <a:ext cx="360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415880" y="1763280"/>
                    <a:ext cx="2520" cy="3009240"/>
                  </a:xfrm>
                  <a:prstGeom prst="rect">
                    <a:avLst/>
                  </a:prstGeom>
                  <a:solidFill>
                    <a:srgbClr val="fff8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1418760" y="1763280"/>
                    <a:ext cx="432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1423080" y="1763280"/>
                    <a:ext cx="324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1426680" y="1763280"/>
                    <a:ext cx="3240" cy="3009240"/>
                  </a:xfrm>
                  <a:prstGeom prst="rect">
                    <a:avLst/>
                  </a:prstGeom>
                  <a:solidFill>
                    <a:srgbClr val="fff9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430280" y="1763280"/>
                    <a:ext cx="252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432800" y="1763280"/>
                    <a:ext cx="324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436400" y="1763280"/>
                    <a:ext cx="3240" cy="3009240"/>
                  </a:xfrm>
                  <a:prstGeom prst="rect">
                    <a:avLst/>
                  </a:prstGeom>
                  <a:solidFill>
                    <a:srgbClr val="fffa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440000" y="1763280"/>
                    <a:ext cx="288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442880" y="1763280"/>
                    <a:ext cx="432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447560" y="1763280"/>
                    <a:ext cx="324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1451160" y="176328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1454760" y="1763280"/>
                    <a:ext cx="252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457280" y="176328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460880" y="176328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1464480" y="1763280"/>
                    <a:ext cx="43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468800" y="1763280"/>
                    <a:ext cx="25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471680" y="1763280"/>
                    <a:ext cx="360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475280" y="176328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478880" y="1763280"/>
                    <a:ext cx="25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481760" y="1763280"/>
                    <a:ext cx="3240" cy="3009240"/>
                  </a:xfrm>
                  <a:prstGeom prst="rect">
                    <a:avLst/>
                  </a:prstGeom>
                  <a:solidFill>
                    <a:srgbClr val="fffd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1485360" y="1763280"/>
                    <a:ext cx="43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1489680" y="176328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1493280" y="1763280"/>
                    <a:ext cx="25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1496160" y="176328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1499760" y="1763280"/>
                    <a:ext cx="360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1503360" y="1763280"/>
                    <a:ext cx="25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1506240" y="1763280"/>
                    <a:ext cx="4320" cy="300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1510560" y="1763280"/>
                    <a:ext cx="3240" cy="300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1514160" y="176328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1517760" y="1763280"/>
                    <a:ext cx="25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1520640" y="176328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76328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1527840" y="176328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531440" y="1763280"/>
                    <a:ext cx="360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1535040" y="1763280"/>
                    <a:ext cx="3240" cy="3009240"/>
                  </a:xfrm>
                  <a:prstGeom prst="rect">
                    <a:avLst/>
                  </a:prstGeom>
                  <a:solidFill>
                    <a:srgbClr val="fffd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1538640" y="176328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1542240" y="176328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1545840" y="1763280"/>
                    <a:ext cx="25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1548720" y="176328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1552320" y="1763280"/>
                    <a:ext cx="43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1556640" y="1763280"/>
                    <a:ext cx="252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1559160" y="1763280"/>
                    <a:ext cx="360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1563120" y="176328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1566720" y="176328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1570320" y="1763280"/>
                    <a:ext cx="252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572840" y="1763280"/>
                    <a:ext cx="432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1577520" y="1763280"/>
                    <a:ext cx="324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1581120" y="1763280"/>
                    <a:ext cx="3240" cy="3009240"/>
                  </a:xfrm>
                  <a:prstGeom prst="rect">
                    <a:avLst/>
                  </a:prstGeom>
                  <a:solidFill>
                    <a:srgbClr val="fffa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1584720" y="1763280"/>
                    <a:ext cx="252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1587240" y="1763280"/>
                    <a:ext cx="324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1590840" y="1763280"/>
                    <a:ext cx="3600" cy="3009240"/>
                  </a:xfrm>
                  <a:prstGeom prst="rect">
                    <a:avLst/>
                  </a:prstGeom>
                  <a:solidFill>
                    <a:srgbClr val="fff9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1594800" y="1763280"/>
                    <a:ext cx="252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1597320" y="1763280"/>
                    <a:ext cx="432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602000" y="1763280"/>
                    <a:ext cx="3240" cy="3009240"/>
                  </a:xfrm>
                  <a:prstGeom prst="rect">
                    <a:avLst/>
                  </a:prstGeom>
                  <a:solidFill>
                    <a:srgbClr val="fff8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1605600" y="1763280"/>
                    <a:ext cx="324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608840" y="1763280"/>
                    <a:ext cx="252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611720" y="1763280"/>
                    <a:ext cx="324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615320" y="1763280"/>
                    <a:ext cx="324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618920" y="1763280"/>
                    <a:ext cx="4320" cy="3009240"/>
                  </a:xfrm>
                  <a:prstGeom prst="rect">
                    <a:avLst/>
                  </a:prstGeom>
                  <a:solidFill>
                    <a:srgbClr val="fff6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623240" y="1763280"/>
                    <a:ext cx="2880" cy="3009240"/>
                  </a:xfrm>
                  <a:prstGeom prst="rect">
                    <a:avLst/>
                  </a:prstGeom>
                  <a:solidFill>
                    <a:srgbClr val="fff6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626120" y="1763280"/>
                    <a:ext cx="3240" cy="3009240"/>
                  </a:xfrm>
                  <a:prstGeom prst="rect">
                    <a:avLst/>
                  </a:prstGeom>
                  <a:solidFill>
                    <a:srgbClr val="fff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1629720" y="1763280"/>
                    <a:ext cx="3240" cy="3009240"/>
                  </a:xfrm>
                  <a:prstGeom prst="rect">
                    <a:avLst/>
                  </a:prstGeom>
                  <a:solidFill>
                    <a:srgbClr val="fff5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633320" y="1763280"/>
                    <a:ext cx="2520" cy="3009240"/>
                  </a:xfrm>
                  <a:prstGeom prst="rect">
                    <a:avLst/>
                  </a:prstGeom>
                  <a:solidFill>
                    <a:srgbClr val="fff4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636200" y="1763280"/>
                    <a:ext cx="3240" cy="3009240"/>
                  </a:xfrm>
                  <a:prstGeom prst="rect">
                    <a:avLst/>
                  </a:prstGeom>
                  <a:solidFill>
                    <a:srgbClr val="fff4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1639800" y="1763280"/>
                    <a:ext cx="4320" cy="3009240"/>
                  </a:xfrm>
                  <a:prstGeom prst="rect">
                    <a:avLst/>
                  </a:prstGeom>
                  <a:solidFill>
                    <a:srgbClr val="fff3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1644120" y="1763280"/>
                    <a:ext cx="3240" cy="3009240"/>
                  </a:xfrm>
                  <a:prstGeom prst="rect">
                    <a:avLst/>
                  </a:prstGeom>
                  <a:solidFill>
                    <a:srgbClr val="fff3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1647720" y="1763280"/>
                    <a:ext cx="2520" cy="3009240"/>
                  </a:xfrm>
                  <a:prstGeom prst="rect">
                    <a:avLst/>
                  </a:prstGeom>
                  <a:solidFill>
                    <a:srgbClr val="fff2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1650600" y="1763280"/>
                    <a:ext cx="360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1654200" y="1763280"/>
                    <a:ext cx="324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1657800" y="1763280"/>
                    <a:ext cx="2520" cy="3009240"/>
                  </a:xfrm>
                  <a:prstGeom prst="rect">
                    <a:avLst/>
                  </a:prstGeom>
                  <a:solidFill>
                    <a:srgbClr val="fff0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1660680" y="1763280"/>
                    <a:ext cx="4320" cy="3009240"/>
                  </a:xfrm>
                  <a:prstGeom prst="rect">
                    <a:avLst/>
                  </a:prstGeom>
                  <a:solidFill>
                    <a:srgbClr val="fff0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1665000" y="1763280"/>
                    <a:ext cx="3240" cy="3009240"/>
                  </a:xfrm>
                  <a:prstGeom prst="rect">
                    <a:avLst/>
                  </a:prstGeom>
                  <a:solidFill>
                    <a:srgbClr val="ffe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1668600" y="1763280"/>
                    <a:ext cx="3240" cy="3009240"/>
                  </a:xfrm>
                  <a:prstGeom prst="rect">
                    <a:avLst/>
                  </a:prstGeom>
                  <a:solidFill>
                    <a:srgbClr val="ffee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43" name=""/>
                <p:cNvSpPr/>
                <p:nvPr/>
              </p:nvSpPr>
              <p:spPr>
                <a:xfrm>
                  <a:off x="1672200" y="1763280"/>
                  <a:ext cx="2520" cy="3009600"/>
                </a:xfrm>
                <a:prstGeom prst="rect">
                  <a:avLst/>
                </a:prstGeom>
                <a:solidFill>
                  <a:srgbClr val="ffe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674720" y="1763280"/>
                  <a:ext cx="3240" cy="3009600"/>
                </a:xfrm>
                <a:prstGeom prst="rect">
                  <a:avLst/>
                </a:prstGeom>
                <a:solidFill>
                  <a:srgbClr val="ffe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1678320" y="1763280"/>
                  <a:ext cx="3600" cy="3009600"/>
                </a:xfrm>
                <a:prstGeom prst="rect">
                  <a:avLst/>
                </a:prstGeom>
                <a:solidFill>
                  <a:srgbClr val="ffec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682280" y="1763280"/>
                  <a:ext cx="3240" cy="300960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1685880" y="1763280"/>
                  <a:ext cx="3240" cy="300960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1689480" y="1763280"/>
                  <a:ext cx="3240" cy="3009600"/>
                </a:xfrm>
                <a:prstGeom prst="rect">
                  <a:avLst/>
                </a:prstGeom>
                <a:solidFill>
                  <a:srgbClr val="ffea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1693080" y="1763280"/>
                  <a:ext cx="3240" cy="3009600"/>
                </a:xfrm>
                <a:prstGeom prst="rect">
                  <a:avLst/>
                </a:prstGeom>
                <a:solidFill>
                  <a:srgbClr val="ffe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1696680" y="1763280"/>
                  <a:ext cx="3240" cy="3009600"/>
                </a:xfrm>
                <a:prstGeom prst="rect">
                  <a:avLst/>
                </a:prstGeom>
                <a:solidFill>
                  <a:srgbClr val="ffe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1699920" y="1763280"/>
                  <a:ext cx="2520" cy="3009600"/>
                </a:xfrm>
                <a:prstGeom prst="rect">
                  <a:avLst/>
                </a:prstGeom>
                <a:solidFill>
                  <a:srgbClr val="ffe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702800" y="1763280"/>
                  <a:ext cx="3240" cy="3009600"/>
                </a:xfrm>
                <a:prstGeom prst="rect">
                  <a:avLst/>
                </a:prstGeom>
                <a:solidFill>
                  <a:srgbClr val="ffe7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06400" y="1763280"/>
                  <a:ext cx="4320" cy="3009600"/>
                </a:xfrm>
                <a:prstGeom prst="rect">
                  <a:avLst/>
                </a:prstGeom>
                <a:solidFill>
                  <a:srgbClr val="ffe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1710720" y="1763280"/>
                  <a:ext cx="2880" cy="3009600"/>
                </a:xfrm>
                <a:prstGeom prst="rect">
                  <a:avLst/>
                </a:prstGeom>
                <a:solidFill>
                  <a:srgbClr val="ffe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713600" y="1763280"/>
                  <a:ext cx="3240" cy="3009600"/>
                </a:xfrm>
                <a:prstGeom prst="rect">
                  <a:avLst/>
                </a:prstGeom>
                <a:solidFill>
                  <a:srgbClr val="ffe4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17200" y="1763280"/>
                  <a:ext cx="3240" cy="3009600"/>
                </a:xfrm>
                <a:prstGeom prst="rect">
                  <a:avLst/>
                </a:prstGeom>
                <a:solidFill>
                  <a:srgbClr val="ffe4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20800" y="1763280"/>
                  <a:ext cx="3240" cy="3009600"/>
                </a:xfrm>
                <a:prstGeom prst="rect">
                  <a:avLst/>
                </a:prstGeom>
                <a:solidFill>
                  <a:srgbClr val="ffe2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724400" y="1763280"/>
                  <a:ext cx="2520" cy="3009600"/>
                </a:xfrm>
                <a:prstGeom prst="rect">
                  <a:avLst/>
                </a:prstGeom>
                <a:solidFill>
                  <a:srgbClr val="ffe1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727280" y="1763280"/>
                  <a:ext cx="4320" cy="3009600"/>
                </a:xfrm>
                <a:prstGeom prst="rect">
                  <a:avLst/>
                </a:prstGeom>
                <a:solidFill>
                  <a:srgbClr val="ffe1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731600" y="1763280"/>
                  <a:ext cx="3240" cy="3009600"/>
                </a:xfrm>
                <a:prstGeom prst="rect">
                  <a:avLst/>
                </a:prstGeom>
                <a:solidFill>
                  <a:srgbClr val="ff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735200" y="1763280"/>
                  <a:ext cx="3240" cy="3009600"/>
                </a:xfrm>
                <a:prstGeom prst="rect">
                  <a:avLst/>
                </a:prstGeom>
                <a:solidFill>
                  <a:srgbClr val="ffde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738800" y="1763280"/>
                  <a:ext cx="2880" cy="3009600"/>
                </a:xfrm>
                <a:prstGeom prst="rect">
                  <a:avLst/>
                </a:prstGeom>
                <a:solidFill>
                  <a:srgbClr val="ffde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741680" y="1763280"/>
                  <a:ext cx="3240" cy="3009600"/>
                </a:xfrm>
                <a:prstGeom prst="rect">
                  <a:avLst/>
                </a:prstGeom>
                <a:solidFill>
                  <a:srgbClr val="ffdd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745280" y="1763280"/>
                  <a:ext cx="3240" cy="3009600"/>
                </a:xfrm>
                <a:prstGeom prst="rect">
                  <a:avLst/>
                </a:prstGeom>
                <a:solidFill>
                  <a:srgbClr val="ffdc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748880" y="1763280"/>
                  <a:ext cx="2520" cy="3009600"/>
                </a:xfrm>
                <a:prstGeom prst="rect">
                  <a:avLst/>
                </a:prstGeom>
                <a:solidFill>
                  <a:srgbClr val="ffdb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751760" y="1763280"/>
                  <a:ext cx="4320" cy="3009600"/>
                </a:xfrm>
                <a:prstGeom prst="rect">
                  <a:avLst/>
                </a:prstGeom>
                <a:solidFill>
                  <a:srgbClr val="ffd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1756080" y="1763280"/>
                  <a:ext cx="3240" cy="3009600"/>
                </a:xfrm>
                <a:prstGeom prst="rect">
                  <a:avLst/>
                </a:prstGeom>
                <a:solidFill>
                  <a:srgbClr val="ffd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759680" y="1763280"/>
                  <a:ext cx="3240" cy="3009600"/>
                </a:xfrm>
                <a:prstGeom prst="rect">
                  <a:avLst/>
                </a:prstGeom>
                <a:solidFill>
                  <a:srgbClr val="ffd8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1763280" y="1763280"/>
                  <a:ext cx="2520" cy="3009600"/>
                </a:xfrm>
                <a:prstGeom prst="rect">
                  <a:avLst/>
                </a:prstGeom>
                <a:solidFill>
                  <a:srgbClr val="ffd7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1766160" y="1763280"/>
                  <a:ext cx="3600" cy="300960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1769760" y="1763280"/>
                  <a:ext cx="3240" cy="3009600"/>
                </a:xfrm>
                <a:prstGeom prst="rect">
                  <a:avLst/>
                </a:prstGeom>
                <a:solidFill>
                  <a:srgbClr val="ffd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773360" y="1763280"/>
                  <a:ext cx="3960" cy="3009600"/>
                </a:xfrm>
                <a:prstGeom prst="rect">
                  <a:avLst/>
                </a:prstGeom>
                <a:solidFill>
                  <a:srgbClr val="ffd3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777680" y="1763280"/>
                  <a:ext cx="2880" cy="300960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780560" y="1763280"/>
                  <a:ext cx="3240" cy="3009600"/>
                </a:xfrm>
                <a:prstGeom prst="rect">
                  <a:avLst/>
                </a:prstGeom>
                <a:solidFill>
                  <a:srgbClr val="ffd1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784160" y="1763280"/>
                  <a:ext cx="3240" cy="3009600"/>
                </a:xfrm>
                <a:prstGeom prst="rect">
                  <a:avLst/>
                </a:prstGeom>
                <a:solidFill>
                  <a:srgbClr val="ffd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787760" y="1763280"/>
                  <a:ext cx="2520" cy="3009600"/>
                </a:xfrm>
                <a:prstGeom prst="rect">
                  <a:avLst/>
                </a:prstGeom>
                <a:solidFill>
                  <a:srgbClr val="ffcf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790640" y="1763280"/>
                  <a:ext cx="3240" cy="3009600"/>
                </a:xfrm>
                <a:prstGeom prst="rect">
                  <a:avLst/>
                </a:prstGeom>
                <a:solidFill>
                  <a:srgbClr val="ffce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794240" y="1763280"/>
                  <a:ext cx="4320" cy="3009600"/>
                </a:xfrm>
                <a:prstGeom prst="rect">
                  <a:avLst/>
                </a:prstGeom>
                <a:solidFill>
                  <a:srgbClr val="ffcd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798560" y="1763280"/>
                  <a:ext cx="3240" cy="3009600"/>
                </a:xfrm>
                <a:prstGeom prst="rect">
                  <a:avLst/>
                </a:prstGeom>
                <a:solidFill>
                  <a:srgbClr val="ffcc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802160" y="1763280"/>
                  <a:ext cx="2880" cy="3009600"/>
                </a:xfrm>
                <a:prstGeom prst="rect">
                  <a:avLst/>
                </a:prstGeom>
                <a:solidFill>
                  <a:srgbClr val="ffcb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805040" y="1763280"/>
                  <a:ext cx="3240" cy="3009600"/>
                </a:xfrm>
                <a:prstGeom prst="rect">
                  <a:avLst/>
                </a:prstGeom>
                <a:solidFill>
                  <a:srgbClr val="ffca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808640" y="1763280"/>
                  <a:ext cx="3240" cy="3009600"/>
                </a:xfrm>
                <a:prstGeom prst="rect">
                  <a:avLst/>
                </a:prstGeom>
                <a:solidFill>
                  <a:srgbClr val="ffc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812240" y="1763280"/>
                  <a:ext cx="2520" cy="3009600"/>
                </a:xfrm>
                <a:prstGeom prst="rect">
                  <a:avLst/>
                </a:prstGeom>
                <a:solidFill>
                  <a:srgbClr val="ffc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814760" y="1763280"/>
                  <a:ext cx="4320" cy="3009600"/>
                </a:xfrm>
                <a:prstGeom prst="rect">
                  <a:avLst/>
                </a:prstGeom>
                <a:solidFill>
                  <a:srgbClr val="ffc6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819440" y="1763280"/>
                  <a:ext cx="3240" cy="3009600"/>
                </a:xfrm>
                <a:prstGeom prst="rect">
                  <a:avLst/>
                </a:prstGeom>
                <a:solidFill>
                  <a:srgbClr val="ffc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823040" y="1763280"/>
                  <a:ext cx="3240" cy="3009600"/>
                </a:xfrm>
                <a:prstGeom prst="rect">
                  <a:avLst/>
                </a:prstGeom>
                <a:solidFill>
                  <a:srgbClr val="ffc4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826640" y="1763280"/>
                  <a:ext cx="2880" cy="3009600"/>
                </a:xfrm>
                <a:prstGeom prst="rect">
                  <a:avLst/>
                </a:prstGeom>
                <a:solidFill>
                  <a:srgbClr val="ffc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829520" y="1763280"/>
                  <a:ext cx="3240" cy="3009600"/>
                </a:xfrm>
                <a:prstGeom prst="rect">
                  <a:avLst/>
                </a:prstGeom>
                <a:solidFill>
                  <a:srgbClr val="ffc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1833120" y="1763280"/>
                  <a:ext cx="3240" cy="3009600"/>
                </a:xfrm>
                <a:prstGeom prst="rect">
                  <a:avLst/>
                </a:prstGeom>
                <a:solidFill>
                  <a:srgbClr val="ffc1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1836720" y="1763280"/>
                  <a:ext cx="3240" cy="3009600"/>
                </a:xfrm>
                <a:prstGeom prst="rect">
                  <a:avLst/>
                </a:prstGeom>
                <a:solidFill>
                  <a:srgbClr val="ffc0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1840320" y="1763280"/>
                  <a:ext cx="3240" cy="3009600"/>
                </a:xfrm>
                <a:prstGeom prst="rect">
                  <a:avLst/>
                </a:prstGeom>
                <a:solidFill>
                  <a:srgbClr val="ffb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843920" y="1763280"/>
                  <a:ext cx="3240" cy="3009600"/>
                </a:xfrm>
                <a:prstGeom prst="rect">
                  <a:avLst/>
                </a:prstGeom>
                <a:solidFill>
                  <a:srgbClr val="ffbe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847160" y="1763280"/>
                  <a:ext cx="3240" cy="3009600"/>
                </a:xfrm>
                <a:prstGeom prst="rect">
                  <a:avLst/>
                </a:prstGeom>
                <a:solidFill>
                  <a:srgbClr val="ffbc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850760" y="1763280"/>
                  <a:ext cx="3240" cy="3009600"/>
                </a:xfrm>
                <a:prstGeom prst="rect">
                  <a:avLst/>
                </a:prstGeom>
                <a:solidFill>
                  <a:srgbClr val="ffbb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854360" y="1763280"/>
                  <a:ext cx="2520" cy="3009600"/>
                </a:xfrm>
                <a:prstGeom prst="rect">
                  <a:avLst/>
                </a:prstGeom>
                <a:solidFill>
                  <a:srgbClr val="ffbb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857240" y="1763280"/>
                  <a:ext cx="3600" cy="3009600"/>
                </a:xfrm>
                <a:prstGeom prst="rect">
                  <a:avLst/>
                </a:prstGeom>
                <a:solidFill>
                  <a:srgbClr val="ffb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860840" y="1763280"/>
                  <a:ext cx="3960" cy="3009600"/>
                </a:xfrm>
                <a:prstGeom prst="rect">
                  <a:avLst/>
                </a:prstGeom>
                <a:solidFill>
                  <a:srgbClr val="ffb8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865160" y="1763280"/>
                  <a:ext cx="3240" cy="3009600"/>
                </a:xfrm>
                <a:prstGeom prst="rect">
                  <a:avLst/>
                </a:prstGeom>
                <a:solidFill>
                  <a:srgbClr val="ffb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868760" y="1763280"/>
                  <a:ext cx="2880" cy="3009600"/>
                </a:xfrm>
                <a:prstGeom prst="rect">
                  <a:avLst/>
                </a:prstGeom>
                <a:solidFill>
                  <a:srgbClr val="ffb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1871640" y="1763280"/>
                  <a:ext cx="3240" cy="3009600"/>
                </a:xfrm>
                <a:prstGeom prst="rect">
                  <a:avLst/>
                </a:prstGeom>
                <a:solidFill>
                  <a:srgbClr val="ffb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1875240" y="1763280"/>
                  <a:ext cx="3240" cy="3009600"/>
                </a:xfrm>
                <a:prstGeom prst="rect">
                  <a:avLst/>
                </a:prstGeom>
                <a:solidFill>
                  <a:srgbClr val="ffb5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878840" y="1763280"/>
                  <a:ext cx="2520" cy="3009600"/>
                </a:xfrm>
                <a:prstGeom prst="rect">
                  <a:avLst/>
                </a:prstGeom>
                <a:solidFill>
                  <a:srgbClr val="ffb3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881720" y="1763280"/>
                  <a:ext cx="4320" cy="3009600"/>
                </a:xfrm>
                <a:prstGeom prst="rect">
                  <a:avLst/>
                </a:prstGeom>
                <a:solidFill>
                  <a:srgbClr val="ffb2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886040" y="1763280"/>
                  <a:ext cx="3240" cy="3009600"/>
                </a:xfrm>
                <a:prstGeom prst="rect">
                  <a:avLst/>
                </a:prstGeom>
                <a:solidFill>
                  <a:srgbClr val="ffb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889640" y="1763280"/>
                  <a:ext cx="3240" cy="3009600"/>
                </a:xfrm>
                <a:prstGeom prst="rect">
                  <a:avLst/>
                </a:prstGeom>
                <a:solidFill>
                  <a:srgbClr val="ffb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893240" y="1763280"/>
                  <a:ext cx="2880" cy="3009600"/>
                </a:xfrm>
                <a:prstGeom prst="rect">
                  <a:avLst/>
                </a:prstGeom>
                <a:solidFill>
                  <a:srgbClr val="ffb0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896120" y="1763280"/>
                  <a:ext cx="3240" cy="3009600"/>
                </a:xfrm>
                <a:prstGeom prst="rect">
                  <a:avLst/>
                </a:prstGeom>
                <a:solidFill>
                  <a:srgbClr val="ffa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899720" y="1763280"/>
                  <a:ext cx="3240" cy="3009600"/>
                </a:xfrm>
                <a:prstGeom prst="rect">
                  <a:avLst/>
                </a:prstGeom>
                <a:solidFill>
                  <a:srgbClr val="ffa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1903320" y="1763280"/>
                  <a:ext cx="2520" cy="3009600"/>
                </a:xfrm>
                <a:prstGeom prst="rect">
                  <a:avLst/>
                </a:prstGeom>
                <a:solidFill>
                  <a:srgbClr val="ffa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1906200" y="1763280"/>
                  <a:ext cx="4320" cy="3009600"/>
                </a:xfrm>
                <a:prstGeom prst="rect">
                  <a:avLst/>
                </a:prstGeom>
                <a:solidFill>
                  <a:srgbClr val="ffa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910520" y="1763280"/>
                  <a:ext cx="3240" cy="3009600"/>
                </a:xfrm>
                <a:prstGeom prst="rect">
                  <a:avLst/>
                </a:prstGeom>
                <a:solidFill>
                  <a:srgbClr val="ffab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1914120" y="1763280"/>
                  <a:ext cx="3240" cy="3009600"/>
                </a:xfrm>
                <a:prstGeom prst="rect">
                  <a:avLst/>
                </a:prstGeom>
                <a:solidFill>
                  <a:srgbClr val="ffaa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917720" y="1763280"/>
                  <a:ext cx="2880" cy="3009600"/>
                </a:xfrm>
                <a:prstGeom prst="rect">
                  <a:avLst/>
                </a:prstGeom>
                <a:solidFill>
                  <a:srgbClr val="ffa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920600" y="1763280"/>
                  <a:ext cx="3240" cy="3009600"/>
                </a:xfrm>
                <a:prstGeom prst="rect">
                  <a:avLst/>
                </a:prstGeom>
                <a:solidFill>
                  <a:srgbClr val="ffa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924200" y="1763280"/>
                  <a:ext cx="3240" cy="3009600"/>
                </a:xfrm>
                <a:prstGeom prst="rect">
                  <a:avLst/>
                </a:prstGeom>
                <a:solidFill>
                  <a:srgbClr val="ffa9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1927800" y="1763280"/>
                  <a:ext cx="3960" cy="3009600"/>
                </a:xfrm>
                <a:prstGeom prst="rect">
                  <a:avLst/>
                </a:prstGeom>
                <a:solidFill>
                  <a:srgbClr val="ffa8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932120" y="1763280"/>
                  <a:ext cx="2880" cy="3009600"/>
                </a:xfrm>
                <a:prstGeom prst="rect">
                  <a:avLst/>
                </a:prstGeom>
                <a:solidFill>
                  <a:srgbClr val="ffa7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1935000" y="1763280"/>
                  <a:ext cx="3240" cy="3009600"/>
                </a:xfrm>
                <a:prstGeom prst="rect">
                  <a:avLst/>
                </a:prstGeom>
                <a:solidFill>
                  <a:srgbClr val="ffa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938600" y="1763280"/>
                  <a:ext cx="3240" cy="3009600"/>
                </a:xfrm>
                <a:prstGeom prst="rect">
                  <a:avLst/>
                </a:prstGeom>
                <a:solidFill>
                  <a:srgbClr val="ffa6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942200" y="1763280"/>
                  <a:ext cx="2520" cy="3009600"/>
                </a:xfrm>
                <a:prstGeom prst="rect">
                  <a:avLst/>
                </a:prstGeom>
                <a:solidFill>
                  <a:srgbClr val="ffa5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944720" y="1763280"/>
                  <a:ext cx="3600" cy="3009600"/>
                </a:xfrm>
                <a:prstGeom prst="rect">
                  <a:avLst/>
                </a:prstGeom>
                <a:solidFill>
                  <a:srgbClr val="ffa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948680" y="1763280"/>
                  <a:ext cx="3960" cy="3009600"/>
                </a:xfrm>
                <a:prstGeom prst="rect">
                  <a:avLst/>
                </a:prstGeom>
                <a:solidFill>
                  <a:srgbClr val="ffa4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1953000" y="1763280"/>
                  <a:ext cx="3240" cy="3009600"/>
                </a:xfrm>
                <a:prstGeom prst="rect">
                  <a:avLst/>
                </a:prstGeom>
                <a:solidFill>
                  <a:srgbClr val="ffa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1956600" y="1763280"/>
                  <a:ext cx="2880" cy="3009600"/>
                </a:xfrm>
                <a:prstGeom prst="rect">
                  <a:avLst/>
                </a:prstGeom>
                <a:solidFill>
                  <a:srgbClr val="ffa2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1959480" y="1763280"/>
                  <a:ext cx="3240" cy="3009600"/>
                </a:xfrm>
                <a:prstGeom prst="rect">
                  <a:avLst/>
                </a:prstGeom>
                <a:solidFill>
                  <a:srgbClr val="ffa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1963080" y="1763280"/>
                  <a:ext cx="3240" cy="3009600"/>
                </a:xfrm>
                <a:prstGeom prst="rect">
                  <a:avLst/>
                </a:prstGeom>
                <a:solidFill>
                  <a:srgbClr val="ffa1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966680" y="1763280"/>
                  <a:ext cx="3240" cy="3009600"/>
                </a:xfrm>
                <a:prstGeom prst="rect">
                  <a:avLst/>
                </a:prstGeom>
                <a:solidFill>
                  <a:srgbClr val="ffa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970280" y="1763280"/>
                  <a:ext cx="3240" cy="3009600"/>
                </a:xfrm>
                <a:prstGeom prst="rect">
                  <a:avLst/>
                </a:prstGeom>
                <a:solidFill>
                  <a:srgbClr val="ffa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973880" y="1763280"/>
                  <a:ext cx="3240" cy="3009600"/>
                </a:xfrm>
                <a:prstGeom prst="rect">
                  <a:avLst/>
                </a:prstGeom>
                <a:solidFill>
                  <a:srgbClr val="ffa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977120" y="1763280"/>
                  <a:ext cx="3240" cy="3009600"/>
                </a:xfrm>
                <a:prstGeom prst="rect">
                  <a:avLst/>
                </a:prstGeom>
                <a:solidFill>
                  <a:srgbClr val="ff9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980720" y="1763280"/>
                  <a:ext cx="2880" cy="3009600"/>
                </a:xfrm>
                <a:prstGeom prst="rect">
                  <a:avLst/>
                </a:prstGeom>
                <a:solidFill>
                  <a:srgbClr val="ff9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1983960" y="1763280"/>
                  <a:ext cx="3240" cy="3009600"/>
                </a:xfrm>
                <a:prstGeom prst="rect">
                  <a:avLst/>
                </a:prstGeom>
                <a:solidFill>
                  <a:srgbClr val="ff9e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987560" y="1763280"/>
                  <a:ext cx="3240" cy="3009600"/>
                </a:xfrm>
                <a:prstGeom prst="rect">
                  <a:avLst/>
                </a:prstGeom>
                <a:solidFill>
                  <a:srgbClr val="ff9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1990800" y="1763280"/>
                  <a:ext cx="3240" cy="3009600"/>
                </a:xfrm>
                <a:prstGeom prst="rect">
                  <a:avLst/>
                </a:prstGeom>
                <a:solidFill>
                  <a:srgbClr val="ff9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994400" y="1763280"/>
                  <a:ext cx="3240" cy="3009600"/>
                </a:xfrm>
                <a:prstGeom prst="rect">
                  <a:avLst/>
                </a:prstGeom>
                <a:solidFill>
                  <a:srgbClr val="ff9d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998000" y="1763280"/>
                  <a:ext cx="3240" cy="3009600"/>
                </a:xfrm>
                <a:prstGeom prst="rect">
                  <a:avLst/>
                </a:prstGeom>
                <a:solidFill>
                  <a:srgbClr val="ff9d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2001600" y="1763280"/>
                  <a:ext cx="3240" cy="3009600"/>
                </a:xfrm>
                <a:prstGeom prst="rect">
                  <a:avLst/>
                </a:prstGeom>
                <a:solidFill>
                  <a:srgbClr val="ff9c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005200" y="1763280"/>
                  <a:ext cx="3240" cy="3009600"/>
                </a:xfrm>
                <a:prstGeom prst="rect">
                  <a:avLst/>
                </a:prstGeom>
                <a:solidFill>
                  <a:srgbClr val="ff9c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2008800" y="1763280"/>
                  <a:ext cx="2880" cy="3009600"/>
                </a:xfrm>
                <a:prstGeom prst="rect">
                  <a:avLst/>
                </a:prstGeom>
                <a:solidFill>
                  <a:srgbClr val="ff9c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2011680" y="1763280"/>
                  <a:ext cx="3240" cy="3009600"/>
                </a:xfrm>
                <a:prstGeom prst="rect">
                  <a:avLst/>
                </a:prstGeom>
                <a:solidFill>
                  <a:srgbClr val="ff9b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2015280" y="1763280"/>
                  <a:ext cx="3960" cy="3009600"/>
                </a:xfrm>
                <a:prstGeom prst="rect">
                  <a:avLst/>
                </a:prstGeom>
                <a:solidFill>
                  <a:srgbClr val="ff9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2019600" y="1763280"/>
                  <a:ext cx="3240" cy="3009600"/>
                </a:xfrm>
                <a:prstGeom prst="rect">
                  <a:avLst/>
                </a:prstGeom>
                <a:solidFill>
                  <a:srgbClr val="ff9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2023200" y="1763280"/>
                  <a:ext cx="2880" cy="3009600"/>
                </a:xfrm>
                <a:prstGeom prst="rect">
                  <a:avLst/>
                </a:prstGeom>
                <a:solidFill>
                  <a:srgbClr val="ff9a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2026080" y="1763280"/>
                  <a:ext cx="3240" cy="3009600"/>
                </a:xfrm>
                <a:prstGeom prst="rect">
                  <a:avLst/>
                </a:prstGeom>
                <a:solidFill>
                  <a:srgbClr val="ff9a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2029680" y="1763280"/>
                  <a:ext cx="3240" cy="3009600"/>
                </a:xfrm>
                <a:prstGeom prst="rect">
                  <a:avLst/>
                </a:prstGeom>
                <a:solidFill>
                  <a:srgbClr val="ff9a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2033280" y="1763280"/>
                  <a:ext cx="2880" cy="3009600"/>
                </a:xfrm>
                <a:prstGeom prst="rect">
                  <a:avLst/>
                </a:prstGeom>
                <a:solidFill>
                  <a:srgbClr val="ff99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2036160" y="1763280"/>
                  <a:ext cx="3960" cy="3009600"/>
                </a:xfrm>
                <a:prstGeom prst="rect">
                  <a:avLst/>
                </a:prstGeom>
                <a:solidFill>
                  <a:srgbClr val="ff99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2040480" y="1763280"/>
                  <a:ext cx="3240" cy="3009600"/>
                </a:xfrm>
                <a:prstGeom prst="rect">
                  <a:avLst/>
                </a:prstGeom>
                <a:solidFill>
                  <a:srgbClr val="ff99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2044080" y="1763280"/>
                  <a:ext cx="3240" cy="3009600"/>
                </a:xfrm>
                <a:prstGeom prst="rect">
                  <a:avLst/>
                </a:prstGeom>
                <a:solidFill>
                  <a:srgbClr val="ff99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2047680" y="1763280"/>
                  <a:ext cx="2880" cy="3009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1" name=""/>
            <p:cNvGrpSpPr/>
            <p:nvPr/>
          </p:nvGrpSpPr>
          <p:grpSpPr>
            <a:xfrm>
              <a:off x="2077920" y="1681200"/>
              <a:ext cx="969480" cy="3101760"/>
              <a:chOff x="2077920" y="1681200"/>
              <a:chExt cx="969480" cy="3101760"/>
            </a:xfrm>
          </p:grpSpPr>
          <p:grpSp>
            <p:nvGrpSpPr>
              <p:cNvPr id="1052" name=""/>
              <p:cNvGrpSpPr/>
              <p:nvPr/>
            </p:nvGrpSpPr>
            <p:grpSpPr>
              <a:xfrm>
                <a:off x="2077920" y="1681200"/>
                <a:ext cx="969480" cy="3101760"/>
                <a:chOff x="2077920" y="1681200"/>
                <a:chExt cx="969480" cy="310176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3013920" y="1681200"/>
                  <a:ext cx="33120" cy="3101760"/>
                </a:xfrm>
                <a:custGeom>
                  <a:avLst/>
                  <a:gdLst/>
                  <a:ahLst/>
                  <a:rect l="l" t="t" r="r" b="b"/>
                  <a:pathLst>
                    <a:path w="38" h="2215">
                      <a:moveTo>
                        <a:pt x="0" y="2215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2088"/>
                      </a:lnTo>
                      <a:lnTo>
                        <a:pt x="0" y="2215"/>
                      </a:lnTo>
                      <a:close/>
                    </a:path>
                  </a:pathLst>
                </a:custGeom>
                <a:solidFill>
                  <a:srgbClr val="2db4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2077920" y="1681200"/>
                  <a:ext cx="969480" cy="54360"/>
                </a:xfrm>
                <a:custGeom>
                  <a:avLst/>
                  <a:gdLst/>
                  <a:ahLst/>
                  <a:rect l="l" t="t" r="r" b="b"/>
                  <a:pathLst>
                    <a:path w="1098" h="39">
                      <a:moveTo>
                        <a:pt x="1060" y="39"/>
                      </a:moveTo>
                      <a:lnTo>
                        <a:pt x="0" y="39"/>
                      </a:lnTo>
                      <a:lnTo>
                        <a:pt x="81" y="0"/>
                      </a:lnTo>
                      <a:lnTo>
                        <a:pt x="1098" y="0"/>
                      </a:lnTo>
                      <a:lnTo>
                        <a:pt x="1060" y="39"/>
                      </a:lnTo>
                      <a:close/>
                    </a:path>
                  </a:pathLst>
                </a:cu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"/>
              <p:cNvGrpSpPr/>
              <p:nvPr/>
            </p:nvGrpSpPr>
            <p:grpSpPr>
              <a:xfrm>
                <a:off x="2077920" y="1735560"/>
                <a:ext cx="936000" cy="3047040"/>
                <a:chOff x="2077920" y="1735560"/>
                <a:chExt cx="936000" cy="3047040"/>
              </a:xfrm>
            </p:grpSpPr>
            <p:grpSp>
              <p:nvGrpSpPr>
                <p:cNvPr id="1056" name=""/>
                <p:cNvGrpSpPr/>
                <p:nvPr/>
              </p:nvGrpSpPr>
              <p:grpSpPr>
                <a:xfrm>
                  <a:off x="2077920" y="1735560"/>
                  <a:ext cx="908640" cy="3047040"/>
                  <a:chOff x="2077920" y="1735560"/>
                  <a:chExt cx="908640" cy="304704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>
                    <a:off x="2077920" y="1735560"/>
                    <a:ext cx="4320" cy="3047040"/>
                  </a:xfrm>
                  <a:prstGeom prst="rect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082240" y="1735560"/>
                    <a:ext cx="5040" cy="3047040"/>
                  </a:xfrm>
                  <a:prstGeom prst="rect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087640" y="1735560"/>
                    <a:ext cx="3600" cy="3047040"/>
                  </a:xfrm>
                  <a:prstGeom prst="rect">
                    <a:avLst/>
                  </a:prstGeom>
                  <a:solidFill>
                    <a:srgbClr val="34cc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2091240" y="1735560"/>
                    <a:ext cx="5040" cy="3047040"/>
                  </a:xfrm>
                  <a:prstGeom prst="rect">
                    <a:avLst/>
                  </a:prstGeom>
                  <a:solidFill>
                    <a:srgbClr val="34cc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096280" y="1735560"/>
                    <a:ext cx="4320" cy="3047040"/>
                  </a:xfrm>
                  <a:prstGeom prst="rect">
                    <a:avLst/>
                  </a:prstGeom>
                  <a:solidFill>
                    <a:srgbClr val="35c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100600" y="1735560"/>
                    <a:ext cx="4320" cy="3047040"/>
                  </a:xfrm>
                  <a:prstGeom prst="rect">
                    <a:avLst/>
                  </a:prstGeom>
                  <a:solidFill>
                    <a:srgbClr val="35c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105280" y="1735560"/>
                    <a:ext cx="5400" cy="3047040"/>
                  </a:xfrm>
                  <a:prstGeom prst="rect">
                    <a:avLst/>
                  </a:prstGeom>
                  <a:solidFill>
                    <a:srgbClr val="36cd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2110680" y="1735560"/>
                    <a:ext cx="3240" cy="3047040"/>
                  </a:xfrm>
                  <a:prstGeom prst="rect">
                    <a:avLst/>
                  </a:prstGeom>
                  <a:solidFill>
                    <a:srgbClr val="37cd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113920" y="1735560"/>
                    <a:ext cx="4320" cy="30470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118240" y="1735560"/>
                    <a:ext cx="5400" cy="30470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2123640" y="1735560"/>
                    <a:ext cx="4320" cy="3047040"/>
                  </a:xfrm>
                  <a:prstGeom prst="rect">
                    <a:avLst/>
                  </a:prstGeom>
                  <a:solidFill>
                    <a:srgbClr val="39cd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2128320" y="1735560"/>
                    <a:ext cx="4320" cy="3047040"/>
                  </a:xfrm>
                  <a:prstGeom prst="rect">
                    <a:avLst/>
                  </a:prstGeom>
                  <a:solidFill>
                    <a:srgbClr val="3ace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2132640" y="1735560"/>
                    <a:ext cx="4320" cy="3047040"/>
                  </a:xfrm>
                  <a:prstGeom prst="rect">
                    <a:avLst/>
                  </a:prstGeom>
                  <a:solidFill>
                    <a:srgbClr val="3bc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2136960" y="1735560"/>
                    <a:ext cx="4320" cy="3047040"/>
                  </a:xfrm>
                  <a:prstGeom prst="rect">
                    <a:avLst/>
                  </a:prstGeom>
                  <a:solidFill>
                    <a:srgbClr val="3cce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2141280" y="1735560"/>
                    <a:ext cx="5040" cy="3047040"/>
                  </a:xfrm>
                  <a:prstGeom prst="rect">
                    <a:avLst/>
                  </a:prstGeom>
                  <a:solidFill>
                    <a:srgbClr val="3d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146680" y="1735560"/>
                    <a:ext cx="3600" cy="3047040"/>
                  </a:xfrm>
                  <a:prstGeom prst="rect">
                    <a:avLst/>
                  </a:prstGeom>
                  <a:solidFill>
                    <a:srgbClr val="3ec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150280" y="1735560"/>
                    <a:ext cx="4320" cy="3047040"/>
                  </a:xfrm>
                  <a:prstGeom prst="rect">
                    <a:avLst/>
                  </a:prstGeom>
                  <a:solidFill>
                    <a:srgbClr val="3fc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154600" y="1735560"/>
                    <a:ext cx="5400" cy="3047040"/>
                  </a:xfrm>
                  <a:prstGeom prst="rect">
                    <a:avLst/>
                  </a:prstGeom>
                  <a:solidFill>
                    <a:srgbClr val="40d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160000" y="1735560"/>
                    <a:ext cx="4320" cy="3047040"/>
                  </a:xfrm>
                  <a:prstGeom prst="rect">
                    <a:avLst/>
                  </a:prstGeom>
                  <a:solidFill>
                    <a:srgbClr val="41d0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2164320" y="1735560"/>
                    <a:ext cx="5040" cy="3047040"/>
                  </a:xfrm>
                  <a:prstGeom prst="rect">
                    <a:avLst/>
                  </a:prstGeom>
                  <a:solidFill>
                    <a:srgbClr val="42d0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2169720" y="1735560"/>
                    <a:ext cx="3600" cy="3047040"/>
                  </a:xfrm>
                  <a:prstGeom prst="rect">
                    <a:avLst/>
                  </a:prstGeom>
                  <a:solidFill>
                    <a:srgbClr val="43d1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2173320" y="1735560"/>
                    <a:ext cx="4320" cy="3047040"/>
                  </a:xfrm>
                  <a:prstGeom prst="rect">
                    <a:avLst/>
                  </a:prstGeom>
                  <a:solidFill>
                    <a:srgbClr val="44d1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2177640" y="1735560"/>
                    <a:ext cx="5040" cy="3047040"/>
                  </a:xfrm>
                  <a:prstGeom prst="rect">
                    <a:avLst/>
                  </a:prstGeom>
                  <a:solidFill>
                    <a:srgbClr val="45d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183040" y="1735560"/>
                    <a:ext cx="3600" cy="3047040"/>
                  </a:xfrm>
                  <a:prstGeom prst="rect">
                    <a:avLst/>
                  </a:prstGeom>
                  <a:solidFill>
                    <a:srgbClr val="47d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186640" y="1735560"/>
                    <a:ext cx="4320" cy="3047040"/>
                  </a:xfrm>
                  <a:prstGeom prst="rect">
                    <a:avLst/>
                  </a:prstGeom>
                  <a:solidFill>
                    <a:srgbClr val="48d3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190960" y="1735560"/>
                    <a:ext cx="5040" cy="3047040"/>
                  </a:xfrm>
                  <a:prstGeom prst="rect">
                    <a:avLst/>
                  </a:prstGeom>
                  <a:solidFill>
                    <a:srgbClr val="4ad3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196000" y="1735560"/>
                    <a:ext cx="4320" cy="3047040"/>
                  </a:xfrm>
                  <a:prstGeom prst="rect">
                    <a:avLst/>
                  </a:prstGeom>
                  <a:solidFill>
                    <a:srgbClr val="4bd4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200680" y="1735560"/>
                    <a:ext cx="5400" cy="3047040"/>
                  </a:xfrm>
                  <a:prstGeom prst="rect">
                    <a:avLst/>
                  </a:prstGeom>
                  <a:solidFill>
                    <a:srgbClr val="4cd4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2206080" y="1735560"/>
                    <a:ext cx="3600" cy="3047040"/>
                  </a:xfrm>
                  <a:prstGeom prst="rect">
                    <a:avLst/>
                  </a:prstGeom>
                  <a:solidFill>
                    <a:srgbClr val="4ed5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209680" y="1735560"/>
                    <a:ext cx="4320" cy="3047040"/>
                  </a:xfrm>
                  <a:prstGeom prst="rect">
                    <a:avLst/>
                  </a:prstGeom>
                  <a:solidFill>
                    <a:srgbClr val="4fd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214000" y="1735560"/>
                    <a:ext cx="5040" cy="3047040"/>
                  </a:xfrm>
                  <a:prstGeom prst="rect">
                    <a:avLst/>
                  </a:prstGeom>
                  <a:solidFill>
                    <a:srgbClr val="51d6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219040" y="1735560"/>
                    <a:ext cx="4320" cy="3047040"/>
                  </a:xfrm>
                  <a:prstGeom prst="rect">
                    <a:avLst/>
                  </a:prstGeom>
                  <a:solidFill>
                    <a:srgbClr val="52d7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223360" y="1735560"/>
                    <a:ext cx="3600" cy="3047040"/>
                  </a:xfrm>
                  <a:prstGeom prst="rect">
                    <a:avLst/>
                  </a:prstGeom>
                  <a:solidFill>
                    <a:srgbClr val="54d7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226960" y="1735560"/>
                    <a:ext cx="5040" cy="3047040"/>
                  </a:xfrm>
                  <a:prstGeom prst="rect">
                    <a:avLst/>
                  </a:prstGeom>
                  <a:solidFill>
                    <a:srgbClr val="55d8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2232360" y="1735560"/>
                    <a:ext cx="4320" cy="3047040"/>
                  </a:xfrm>
                  <a:prstGeom prst="rect">
                    <a:avLst/>
                  </a:prstGeom>
                  <a:solidFill>
                    <a:srgbClr val="57d9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2236680" y="1735560"/>
                    <a:ext cx="5400" cy="3047040"/>
                  </a:xfrm>
                  <a:prstGeom prst="rect">
                    <a:avLst/>
                  </a:prstGeom>
                  <a:solidFill>
                    <a:srgbClr val="59da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2242080" y="1735560"/>
                    <a:ext cx="3240" cy="3047040"/>
                  </a:xfrm>
                  <a:prstGeom prst="rect">
                    <a:avLst/>
                  </a:prstGeom>
                  <a:solidFill>
                    <a:srgbClr val="5ad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2245680" y="1735560"/>
                    <a:ext cx="4320" cy="3047040"/>
                  </a:xfrm>
                  <a:prstGeom prst="rect">
                    <a:avLst/>
                  </a:prstGeom>
                  <a:solidFill>
                    <a:srgbClr val="5c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2250000" y="1735560"/>
                    <a:ext cx="5400" cy="3047040"/>
                  </a:xfrm>
                  <a:prstGeom prst="rect">
                    <a:avLst/>
                  </a:prstGeom>
                  <a:solidFill>
                    <a:srgbClr val="5ddc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255400" y="1735560"/>
                    <a:ext cx="4320" cy="3047040"/>
                  </a:xfrm>
                  <a:prstGeom prst="rect">
                    <a:avLst/>
                  </a:prstGeom>
                  <a:solidFill>
                    <a:srgbClr val="5fdd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2259720" y="1735560"/>
                    <a:ext cx="5040" cy="3047040"/>
                  </a:xfrm>
                  <a:prstGeom prst="rect">
                    <a:avLst/>
                  </a:prstGeom>
                  <a:solidFill>
                    <a:srgbClr val="60dd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2265120" y="1735560"/>
                    <a:ext cx="3600" cy="3047040"/>
                  </a:xfrm>
                  <a:prstGeom prst="rect">
                    <a:avLst/>
                  </a:prstGeom>
                  <a:solidFill>
                    <a:srgbClr val="62de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2268720" y="1735560"/>
                    <a:ext cx="4320" cy="3047040"/>
                  </a:xfrm>
                  <a:prstGeom prst="rect">
                    <a:avLst/>
                  </a:prstGeom>
                  <a:solidFill>
                    <a:srgbClr val="63df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2273040" y="1735560"/>
                    <a:ext cx="5400" cy="3047040"/>
                  </a:xfrm>
                  <a:prstGeom prst="rect">
                    <a:avLst/>
                  </a:prstGeom>
                  <a:solidFill>
                    <a:srgbClr val="65e0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2278440" y="1735560"/>
                    <a:ext cx="4320" cy="3047040"/>
                  </a:xfrm>
                  <a:prstGeom prst="rect">
                    <a:avLst/>
                  </a:prstGeom>
                  <a:solidFill>
                    <a:srgbClr val="67e1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282760" y="1735560"/>
                    <a:ext cx="3240" cy="3047040"/>
                  </a:xfrm>
                  <a:prstGeom prst="rect">
                    <a:avLst/>
                  </a:prstGeom>
                  <a:solidFill>
                    <a:srgbClr val="69e2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360" y="1735560"/>
                    <a:ext cx="5400" cy="3047040"/>
                  </a:xfrm>
                  <a:prstGeom prst="rect">
                    <a:avLst/>
                  </a:prstGeom>
                  <a:solidFill>
                    <a:srgbClr val="6ae2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2291760" y="1735560"/>
                    <a:ext cx="4320" cy="3047040"/>
                  </a:xfrm>
                  <a:prstGeom prst="rect">
                    <a:avLst/>
                  </a:prstGeom>
                  <a:solidFill>
                    <a:srgbClr val="6ce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2296080" y="1735560"/>
                    <a:ext cx="5040" cy="3047040"/>
                  </a:xfrm>
                  <a:prstGeom prst="rect">
                    <a:avLst/>
                  </a:prstGeom>
                  <a:solidFill>
                    <a:srgbClr val="6de4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2301120" y="1735560"/>
                    <a:ext cx="3600" cy="3047040"/>
                  </a:xfrm>
                  <a:prstGeom prst="rect">
                    <a:avLst/>
                  </a:prstGeom>
                  <a:solidFill>
                    <a:srgbClr val="6fe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304720" y="1735560"/>
                    <a:ext cx="4320" cy="3047040"/>
                  </a:xfrm>
                  <a:prstGeom prst="rect">
                    <a:avLst/>
                  </a:prstGeom>
                  <a:solidFill>
                    <a:srgbClr val="70e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309400" y="1735560"/>
                    <a:ext cx="5040" cy="3047040"/>
                  </a:xfrm>
                  <a:prstGeom prst="rect">
                    <a:avLst/>
                  </a:prstGeom>
                  <a:solidFill>
                    <a:srgbClr val="72e7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2314440" y="1735560"/>
                    <a:ext cx="4320" cy="3047040"/>
                  </a:xfrm>
                  <a:prstGeom prst="rect">
                    <a:avLst/>
                  </a:prstGeom>
                  <a:solidFill>
                    <a:srgbClr val="73e7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318760" y="1735560"/>
                    <a:ext cx="3600" cy="3047040"/>
                  </a:xfrm>
                  <a:prstGeom prst="rect">
                    <a:avLst/>
                  </a:prstGeom>
                  <a:solidFill>
                    <a:srgbClr val="74e8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2322360" y="1735560"/>
                    <a:ext cx="5040" cy="3047040"/>
                  </a:xfrm>
                  <a:prstGeom prst="rect">
                    <a:avLst/>
                  </a:prstGeom>
                  <a:solidFill>
                    <a:srgbClr val="76e9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2327760" y="1735560"/>
                    <a:ext cx="4320" cy="3047040"/>
                  </a:xfrm>
                  <a:prstGeom prst="rect">
                    <a:avLst/>
                  </a:prstGeom>
                  <a:solidFill>
                    <a:srgbClr val="77ea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332080" y="1735560"/>
                    <a:ext cx="5400" cy="3047040"/>
                  </a:xfrm>
                  <a:prstGeom prst="rect">
                    <a:avLst/>
                  </a:prstGeom>
                  <a:solidFill>
                    <a:srgbClr val="79eb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2337480" y="1735560"/>
                    <a:ext cx="4320" cy="3047040"/>
                  </a:xfrm>
                  <a:prstGeom prst="rect">
                    <a:avLst/>
                  </a:prstGeom>
                  <a:solidFill>
                    <a:srgbClr val="7aeb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2341800" y="1735560"/>
                    <a:ext cx="3600" cy="3047040"/>
                  </a:xfrm>
                  <a:prstGeom prst="rect">
                    <a:avLst/>
                  </a:prstGeom>
                  <a:solidFill>
                    <a:srgbClr val="7bec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2345400" y="1735560"/>
                    <a:ext cx="5040" cy="3047040"/>
                  </a:xfrm>
                  <a:prstGeom prst="rect">
                    <a:avLst/>
                  </a:prstGeom>
                  <a:solidFill>
                    <a:srgbClr val="7ced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2350800" y="1735560"/>
                    <a:ext cx="4320" cy="3047040"/>
                  </a:xfrm>
                  <a:prstGeom prst="rect">
                    <a:avLst/>
                  </a:prstGeom>
                  <a:solidFill>
                    <a:srgbClr val="7ee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355120" y="1735560"/>
                    <a:ext cx="4320" cy="3047040"/>
                  </a:xfrm>
                  <a:prstGeom prst="rect">
                    <a:avLst/>
                  </a:prstGeom>
                  <a:solidFill>
                    <a:srgbClr val="7fe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2359440" y="1735560"/>
                    <a:ext cx="4320" cy="3047040"/>
                  </a:xfrm>
                  <a:prstGeom prst="rect">
                    <a:avLst/>
                  </a:prstGeom>
                  <a:solidFill>
                    <a:srgbClr val="81e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2363760" y="1735560"/>
                    <a:ext cx="4320" cy="3047040"/>
                  </a:xfrm>
                  <a:prstGeom prst="rect">
                    <a:avLst/>
                  </a:prstGeom>
                  <a:solidFill>
                    <a:srgbClr val="81f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2368440" y="1735560"/>
                    <a:ext cx="5400" cy="3047040"/>
                  </a:xfrm>
                  <a:prstGeom prst="rect">
                    <a:avLst/>
                  </a:prstGeom>
                  <a:solidFill>
                    <a:srgbClr val="83f1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2373840" y="1735560"/>
                    <a:ext cx="4320" cy="3047040"/>
                  </a:xfrm>
                  <a:prstGeom prst="rect">
                    <a:avLst/>
                  </a:prstGeom>
                  <a:solidFill>
                    <a:srgbClr val="84f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2378160" y="1735560"/>
                    <a:ext cx="3240" cy="3047040"/>
                  </a:xfrm>
                  <a:prstGeom prst="rect">
                    <a:avLst/>
                  </a:prstGeom>
                  <a:solidFill>
                    <a:srgbClr val="85f2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381400" y="1735560"/>
                    <a:ext cx="5400" cy="3047040"/>
                  </a:xfrm>
                  <a:prstGeom prst="rect">
                    <a:avLst/>
                  </a:prstGeom>
                  <a:solidFill>
                    <a:srgbClr val="86f2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386800" y="1735560"/>
                    <a:ext cx="4320" cy="3047040"/>
                  </a:xfrm>
                  <a:prstGeom prst="rect">
                    <a:avLst/>
                  </a:prstGeom>
                  <a:solidFill>
                    <a:srgbClr val="87f3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2391480" y="1735560"/>
                    <a:ext cx="5040" cy="3047040"/>
                  </a:xfrm>
                  <a:prstGeom prst="rect">
                    <a:avLst/>
                  </a:prstGeom>
                  <a:solidFill>
                    <a:srgbClr val="88f4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396520" y="1735560"/>
                    <a:ext cx="4320" cy="3047040"/>
                  </a:xfrm>
                  <a:prstGeom prst="rect">
                    <a:avLst/>
                  </a:prstGeom>
                  <a:solidFill>
                    <a:srgbClr val="89f4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2400840" y="1735560"/>
                    <a:ext cx="3600" cy="3047040"/>
                  </a:xfrm>
                  <a:prstGeom prst="rect">
                    <a:avLst/>
                  </a:prstGeom>
                  <a:solidFill>
                    <a:srgbClr val="8af5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2404440" y="1735560"/>
                    <a:ext cx="5400" cy="3047040"/>
                  </a:xfrm>
                  <a:prstGeom prst="rect">
                    <a:avLst/>
                  </a:prstGeom>
                  <a:solidFill>
                    <a:srgbClr val="8bf6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409840" y="1735560"/>
                    <a:ext cx="4320" cy="3047040"/>
                  </a:xfrm>
                  <a:prstGeom prst="rect">
                    <a:avLst/>
                  </a:prstGeom>
                  <a:solidFill>
                    <a:srgbClr val="8cf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414520" y="1735560"/>
                    <a:ext cx="3240" cy="30470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417760" y="1735560"/>
                    <a:ext cx="5400" cy="30470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423160" y="1735560"/>
                    <a:ext cx="4320" cy="3047040"/>
                  </a:xfrm>
                  <a:prstGeom prst="rect">
                    <a:avLst/>
                  </a:prstGeom>
                  <a:solidFill>
                    <a:srgbClr val="8ef8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427480" y="1735560"/>
                    <a:ext cx="5040" cy="3047040"/>
                  </a:xfrm>
                  <a:prstGeom prst="rect">
                    <a:avLst/>
                  </a:prstGeom>
                  <a:solidFill>
                    <a:srgbClr val="8ff8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432880" y="1735560"/>
                    <a:ext cx="4320" cy="30470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437200" y="1735560"/>
                    <a:ext cx="3600" cy="30470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440800" y="1735560"/>
                    <a:ext cx="5040" cy="3047040"/>
                  </a:xfrm>
                  <a:prstGeom prst="rect">
                    <a:avLst/>
                  </a:prstGeom>
                  <a:solidFill>
                    <a:srgbClr val="91f9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446200" y="1735560"/>
                    <a:ext cx="4320" cy="3047040"/>
                  </a:xfrm>
                  <a:prstGeom prst="rect">
                    <a:avLst/>
                  </a:prstGeom>
                  <a:solidFill>
                    <a:srgbClr val="91fa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450520" y="1735560"/>
                    <a:ext cx="4320" cy="30470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454840" y="1735560"/>
                    <a:ext cx="4320" cy="30470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459160" y="1735560"/>
                    <a:ext cx="4320" cy="30470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463840" y="1735560"/>
                    <a:ext cx="5040" cy="30470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468880" y="1735560"/>
                    <a:ext cx="4320" cy="3047040"/>
                  </a:xfrm>
                  <a:prstGeom prst="rect">
                    <a:avLst/>
                  </a:prstGeom>
                  <a:solidFill>
                    <a:srgbClr val="94fb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473560" y="1735560"/>
                    <a:ext cx="3600" cy="3047040"/>
                  </a:xfrm>
                  <a:prstGeom prst="rect">
                    <a:avLst/>
                  </a:prstGeom>
                  <a:solidFill>
                    <a:srgbClr val="94fc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477160" y="1735560"/>
                    <a:ext cx="5040" cy="30470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482200" y="1735560"/>
                    <a:ext cx="4320" cy="30470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486520" y="1735560"/>
                    <a:ext cx="4320" cy="30470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491200" y="1735560"/>
                    <a:ext cx="5400" cy="30470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496600" y="1735560"/>
                    <a:ext cx="3240" cy="30470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499840" y="1735560"/>
                    <a:ext cx="5400" cy="30470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505240" y="1735560"/>
                    <a:ext cx="4320" cy="30470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509560" y="1735560"/>
                    <a:ext cx="4320" cy="30470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514240" y="1735560"/>
                    <a:ext cx="4320" cy="30470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518560" y="1735560"/>
                    <a:ext cx="432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522880" y="1735560"/>
                    <a:ext cx="432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527200" y="1735560"/>
                    <a:ext cx="540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532600" y="1735560"/>
                    <a:ext cx="324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536200" y="1735560"/>
                    <a:ext cx="540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541600" y="1735560"/>
                    <a:ext cx="4320" cy="30470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545920" y="1735560"/>
                    <a:ext cx="4320" cy="30470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550240" y="1735560"/>
                    <a:ext cx="504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555640" y="1735560"/>
                    <a:ext cx="360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559240" y="1735560"/>
                    <a:ext cx="504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564280" y="1735560"/>
                    <a:ext cx="432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568960" y="1735560"/>
                    <a:ext cx="4320" cy="30470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573280" y="1735560"/>
                    <a:ext cx="4320" cy="30470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577600" y="1735560"/>
                    <a:ext cx="4320" cy="30470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581920" y="1735560"/>
                    <a:ext cx="4320" cy="30470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586240" y="1735560"/>
                    <a:ext cx="5400" cy="30470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591640" y="1735560"/>
                    <a:ext cx="3600" cy="30470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595600" y="1735560"/>
                    <a:ext cx="5040" cy="30470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600640" y="1735560"/>
                    <a:ext cx="4320" cy="30470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604960" y="1735560"/>
                    <a:ext cx="4320" cy="30470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609280" y="1735560"/>
                    <a:ext cx="5400" cy="30470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614680" y="1735560"/>
                    <a:ext cx="3240" cy="3047040"/>
                  </a:xfrm>
                  <a:prstGeom prst="rect">
                    <a:avLst/>
                  </a:prstGeom>
                  <a:solidFill>
                    <a:srgbClr val="94fc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618280" y="1735560"/>
                    <a:ext cx="4320" cy="3047040"/>
                  </a:xfrm>
                  <a:prstGeom prst="rect">
                    <a:avLst/>
                  </a:prstGeom>
                  <a:solidFill>
                    <a:srgbClr val="94fb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622600" y="1735560"/>
                    <a:ext cx="5400" cy="30470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628000" y="1735560"/>
                    <a:ext cx="4320" cy="30470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632320" y="1735560"/>
                    <a:ext cx="4320" cy="30470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637000" y="1735560"/>
                    <a:ext cx="4320" cy="30470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641320" y="1735560"/>
                    <a:ext cx="4320" cy="3047040"/>
                  </a:xfrm>
                  <a:prstGeom prst="rect">
                    <a:avLst/>
                  </a:prstGeom>
                  <a:solidFill>
                    <a:srgbClr val="91fa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645640" y="1735560"/>
                    <a:ext cx="5040" cy="3047040"/>
                  </a:xfrm>
                  <a:prstGeom prst="rect">
                    <a:avLst/>
                  </a:prstGeom>
                  <a:solidFill>
                    <a:srgbClr val="91f9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651040" y="1735560"/>
                    <a:ext cx="3600" cy="30470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654640" y="1735560"/>
                    <a:ext cx="4320" cy="30470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658960" y="1735560"/>
                    <a:ext cx="5400" cy="3047040"/>
                  </a:xfrm>
                  <a:prstGeom prst="rect">
                    <a:avLst/>
                  </a:prstGeom>
                  <a:solidFill>
                    <a:srgbClr val="8ff8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664360" y="1735560"/>
                    <a:ext cx="4320" cy="3047040"/>
                  </a:xfrm>
                  <a:prstGeom prst="rect">
                    <a:avLst/>
                  </a:prstGeom>
                  <a:solidFill>
                    <a:srgbClr val="8ef8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668680" y="1735560"/>
                    <a:ext cx="5040" cy="30470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674080" y="1735560"/>
                    <a:ext cx="3600" cy="30470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677680" y="1735560"/>
                    <a:ext cx="4320" cy="3047040"/>
                  </a:xfrm>
                  <a:prstGeom prst="rect">
                    <a:avLst/>
                  </a:prstGeom>
                  <a:solidFill>
                    <a:srgbClr val="8cf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682000" y="1735560"/>
                    <a:ext cx="5040" cy="3047040"/>
                  </a:xfrm>
                  <a:prstGeom prst="rect">
                    <a:avLst/>
                  </a:prstGeom>
                  <a:solidFill>
                    <a:srgbClr val="8bf6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687040" y="1735560"/>
                    <a:ext cx="4320" cy="3047040"/>
                  </a:xfrm>
                  <a:prstGeom prst="rect">
                    <a:avLst/>
                  </a:prstGeom>
                  <a:solidFill>
                    <a:srgbClr val="8af5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691720" y="1735560"/>
                    <a:ext cx="3600" cy="3047040"/>
                  </a:xfrm>
                  <a:prstGeom prst="rect">
                    <a:avLst/>
                  </a:prstGeom>
                  <a:solidFill>
                    <a:srgbClr val="89f4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695320" y="1735560"/>
                    <a:ext cx="5040" cy="3047040"/>
                  </a:xfrm>
                  <a:prstGeom prst="rect">
                    <a:avLst/>
                  </a:prstGeom>
                  <a:solidFill>
                    <a:srgbClr val="88f4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700360" y="1735560"/>
                    <a:ext cx="4320" cy="3047040"/>
                  </a:xfrm>
                  <a:prstGeom prst="rect">
                    <a:avLst/>
                  </a:prstGeom>
                  <a:solidFill>
                    <a:srgbClr val="87f3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704680" y="1735560"/>
                    <a:ext cx="5400" cy="3047040"/>
                  </a:xfrm>
                  <a:prstGeom prst="rect">
                    <a:avLst/>
                  </a:prstGeom>
                  <a:solidFill>
                    <a:srgbClr val="86f2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10080" y="1735560"/>
                    <a:ext cx="3240" cy="3047040"/>
                  </a:xfrm>
                  <a:prstGeom prst="rect">
                    <a:avLst/>
                  </a:prstGeom>
                  <a:solidFill>
                    <a:srgbClr val="85f2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13680" y="1735560"/>
                    <a:ext cx="4320" cy="3047040"/>
                  </a:xfrm>
                  <a:prstGeom prst="rect">
                    <a:avLst/>
                  </a:prstGeom>
                  <a:solidFill>
                    <a:srgbClr val="84f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18360" y="1735560"/>
                    <a:ext cx="5040" cy="3047040"/>
                  </a:xfrm>
                  <a:prstGeom prst="rect">
                    <a:avLst/>
                  </a:prstGeom>
                  <a:solidFill>
                    <a:srgbClr val="83f1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23400" y="1735560"/>
                    <a:ext cx="4320" cy="3047040"/>
                  </a:xfrm>
                  <a:prstGeom prst="rect">
                    <a:avLst/>
                  </a:prstGeom>
                  <a:solidFill>
                    <a:srgbClr val="81f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27720" y="1735560"/>
                    <a:ext cx="5400" cy="3047040"/>
                  </a:xfrm>
                  <a:prstGeom prst="rect">
                    <a:avLst/>
                  </a:prstGeom>
                  <a:solidFill>
                    <a:srgbClr val="81e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33120" y="1735560"/>
                    <a:ext cx="3240" cy="3047040"/>
                  </a:xfrm>
                  <a:prstGeom prst="rect">
                    <a:avLst/>
                  </a:prstGeom>
                  <a:solidFill>
                    <a:srgbClr val="7fe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36720" y="1735560"/>
                    <a:ext cx="4320" cy="3047040"/>
                  </a:xfrm>
                  <a:prstGeom prst="rect">
                    <a:avLst/>
                  </a:prstGeom>
                  <a:solidFill>
                    <a:srgbClr val="7ee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41040" y="1735560"/>
                    <a:ext cx="5400" cy="3047040"/>
                  </a:xfrm>
                  <a:prstGeom prst="rect">
                    <a:avLst/>
                  </a:prstGeom>
                  <a:solidFill>
                    <a:srgbClr val="7ced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746440" y="1735560"/>
                    <a:ext cx="3240" cy="3047040"/>
                  </a:xfrm>
                  <a:prstGeom prst="rect">
                    <a:avLst/>
                  </a:prstGeom>
                  <a:solidFill>
                    <a:srgbClr val="7bec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749680" y="1735560"/>
                    <a:ext cx="4320" cy="3047040"/>
                  </a:xfrm>
                  <a:prstGeom prst="rect">
                    <a:avLst/>
                  </a:prstGeom>
                  <a:solidFill>
                    <a:srgbClr val="7aeb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754360" y="1735560"/>
                    <a:ext cx="5400" cy="3047040"/>
                  </a:xfrm>
                  <a:prstGeom prst="rect">
                    <a:avLst/>
                  </a:prstGeom>
                  <a:solidFill>
                    <a:srgbClr val="79eb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759760" y="1735560"/>
                    <a:ext cx="4320" cy="3047040"/>
                  </a:xfrm>
                  <a:prstGeom prst="rect">
                    <a:avLst/>
                  </a:prstGeom>
                  <a:solidFill>
                    <a:srgbClr val="77ea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764080" y="1735560"/>
                    <a:ext cx="5040" cy="3047040"/>
                  </a:xfrm>
                  <a:prstGeom prst="rect">
                    <a:avLst/>
                  </a:prstGeom>
                  <a:solidFill>
                    <a:srgbClr val="76e9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769120" y="1735560"/>
                    <a:ext cx="3600" cy="3047040"/>
                  </a:xfrm>
                  <a:prstGeom prst="rect">
                    <a:avLst/>
                  </a:prstGeom>
                  <a:solidFill>
                    <a:srgbClr val="74e8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772720" y="1735560"/>
                    <a:ext cx="4320" cy="3047040"/>
                  </a:xfrm>
                  <a:prstGeom prst="rect">
                    <a:avLst/>
                  </a:prstGeom>
                  <a:solidFill>
                    <a:srgbClr val="73e7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777400" y="1735560"/>
                    <a:ext cx="5040" cy="3047040"/>
                  </a:xfrm>
                  <a:prstGeom prst="rect">
                    <a:avLst/>
                  </a:prstGeom>
                  <a:solidFill>
                    <a:srgbClr val="71e6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782440" y="1735560"/>
                    <a:ext cx="4320" cy="3047040"/>
                  </a:xfrm>
                  <a:prstGeom prst="rect">
                    <a:avLst/>
                  </a:prstGeom>
                  <a:solidFill>
                    <a:srgbClr val="70e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787120" y="1735560"/>
                    <a:ext cx="3240" cy="3047040"/>
                  </a:xfrm>
                  <a:prstGeom prst="rect">
                    <a:avLst/>
                  </a:prstGeom>
                  <a:solidFill>
                    <a:srgbClr val="6fe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790360" y="1735560"/>
                    <a:ext cx="5400" cy="3047040"/>
                  </a:xfrm>
                  <a:prstGeom prst="rect">
                    <a:avLst/>
                  </a:prstGeom>
                  <a:solidFill>
                    <a:srgbClr val="6de4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795760" y="1735560"/>
                    <a:ext cx="4320" cy="3047040"/>
                  </a:xfrm>
                  <a:prstGeom prst="rect">
                    <a:avLst/>
                  </a:prstGeom>
                  <a:solidFill>
                    <a:srgbClr val="6ce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800440" y="1735560"/>
                    <a:ext cx="5040" cy="3047040"/>
                  </a:xfrm>
                  <a:prstGeom prst="rect">
                    <a:avLst/>
                  </a:prstGeom>
                  <a:solidFill>
                    <a:srgbClr val="6ae2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805480" y="1735560"/>
                    <a:ext cx="3600" cy="3047040"/>
                  </a:xfrm>
                  <a:prstGeom prst="rect">
                    <a:avLst/>
                  </a:prstGeom>
                  <a:solidFill>
                    <a:srgbClr val="69e2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809080" y="1735560"/>
                    <a:ext cx="4320" cy="3047040"/>
                  </a:xfrm>
                  <a:prstGeom prst="rect">
                    <a:avLst/>
                  </a:prstGeom>
                  <a:solidFill>
                    <a:srgbClr val="67e1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813400" y="1735560"/>
                    <a:ext cx="5040" cy="3047040"/>
                  </a:xfrm>
                  <a:prstGeom prst="rect">
                    <a:avLst/>
                  </a:prstGeom>
                  <a:solidFill>
                    <a:srgbClr val="65e0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818800" y="1735560"/>
                    <a:ext cx="4320" cy="3047040"/>
                  </a:xfrm>
                  <a:prstGeom prst="rect">
                    <a:avLst/>
                  </a:prstGeom>
                  <a:solidFill>
                    <a:srgbClr val="63df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823120" y="1735560"/>
                    <a:ext cx="3600" cy="3047040"/>
                  </a:xfrm>
                  <a:prstGeom prst="rect">
                    <a:avLst/>
                  </a:prstGeom>
                  <a:solidFill>
                    <a:srgbClr val="62de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826720" y="1735560"/>
                    <a:ext cx="5040" cy="3047040"/>
                  </a:xfrm>
                  <a:prstGeom prst="rect">
                    <a:avLst/>
                  </a:prstGeom>
                  <a:solidFill>
                    <a:srgbClr val="60dd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831760" y="1735560"/>
                    <a:ext cx="4320" cy="3047040"/>
                  </a:xfrm>
                  <a:prstGeom prst="rect">
                    <a:avLst/>
                  </a:prstGeom>
                  <a:solidFill>
                    <a:srgbClr val="5fdd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836440" y="1735560"/>
                    <a:ext cx="5400" cy="3047040"/>
                  </a:xfrm>
                  <a:prstGeom prst="rect">
                    <a:avLst/>
                  </a:prstGeom>
                  <a:solidFill>
                    <a:srgbClr val="5ddc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841840" y="1735560"/>
                    <a:ext cx="4320" cy="3047040"/>
                  </a:xfrm>
                  <a:prstGeom prst="rect">
                    <a:avLst/>
                  </a:prstGeom>
                  <a:solidFill>
                    <a:srgbClr val="5c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846160" y="1735560"/>
                    <a:ext cx="3600" cy="3047040"/>
                  </a:xfrm>
                  <a:prstGeom prst="rect">
                    <a:avLst/>
                  </a:prstGeom>
                  <a:solidFill>
                    <a:srgbClr val="5ad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849760" y="1735560"/>
                    <a:ext cx="5040" cy="3047040"/>
                  </a:xfrm>
                  <a:prstGeom prst="rect">
                    <a:avLst/>
                  </a:prstGeom>
                  <a:solidFill>
                    <a:srgbClr val="59da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854800" y="1735560"/>
                    <a:ext cx="4320" cy="3047040"/>
                  </a:xfrm>
                  <a:prstGeom prst="rect">
                    <a:avLst/>
                  </a:prstGeom>
                  <a:solidFill>
                    <a:srgbClr val="57d9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859480" y="1735560"/>
                    <a:ext cx="5400" cy="3047040"/>
                  </a:xfrm>
                  <a:prstGeom prst="rect">
                    <a:avLst/>
                  </a:prstGeom>
                  <a:solidFill>
                    <a:srgbClr val="55d8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864880" y="1735560"/>
                    <a:ext cx="3240" cy="3047040"/>
                  </a:xfrm>
                  <a:prstGeom prst="rect">
                    <a:avLst/>
                  </a:prstGeom>
                  <a:solidFill>
                    <a:srgbClr val="54d7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868120" y="1735560"/>
                    <a:ext cx="4320" cy="3047040"/>
                  </a:xfrm>
                  <a:prstGeom prst="rect">
                    <a:avLst/>
                  </a:prstGeom>
                  <a:solidFill>
                    <a:srgbClr val="52d7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872440" y="1735560"/>
                    <a:ext cx="5400" cy="3047040"/>
                  </a:xfrm>
                  <a:prstGeom prst="rect">
                    <a:avLst/>
                  </a:prstGeom>
                  <a:solidFill>
                    <a:srgbClr val="51d6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877840" y="1735560"/>
                    <a:ext cx="4320" cy="3047040"/>
                  </a:xfrm>
                  <a:prstGeom prst="rect">
                    <a:avLst/>
                  </a:prstGeom>
                  <a:solidFill>
                    <a:srgbClr val="4fd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882520" y="1735560"/>
                    <a:ext cx="3240" cy="3047040"/>
                  </a:xfrm>
                  <a:prstGeom prst="rect">
                    <a:avLst/>
                  </a:prstGeom>
                  <a:solidFill>
                    <a:srgbClr val="4ed5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885760" y="1735560"/>
                    <a:ext cx="5400" cy="3047040"/>
                  </a:xfrm>
                  <a:prstGeom prst="rect">
                    <a:avLst/>
                  </a:prstGeom>
                  <a:solidFill>
                    <a:srgbClr val="4cd4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891160" y="1735560"/>
                    <a:ext cx="4320" cy="3047040"/>
                  </a:xfrm>
                  <a:prstGeom prst="rect">
                    <a:avLst/>
                  </a:prstGeom>
                  <a:solidFill>
                    <a:srgbClr val="4bd4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2895480" y="1735560"/>
                    <a:ext cx="5040" cy="3047040"/>
                  </a:xfrm>
                  <a:prstGeom prst="rect">
                    <a:avLst/>
                  </a:prstGeom>
                  <a:solidFill>
                    <a:srgbClr val="4ad3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2900880" y="1735560"/>
                    <a:ext cx="4320" cy="3047040"/>
                  </a:xfrm>
                  <a:prstGeom prst="rect">
                    <a:avLst/>
                  </a:prstGeom>
                  <a:solidFill>
                    <a:srgbClr val="48d3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2905200" y="1735560"/>
                    <a:ext cx="3600" cy="3047040"/>
                  </a:xfrm>
                  <a:prstGeom prst="rect">
                    <a:avLst/>
                  </a:prstGeom>
                  <a:solidFill>
                    <a:srgbClr val="47d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2908800" y="1735560"/>
                    <a:ext cx="5400" cy="3047040"/>
                  </a:xfrm>
                  <a:prstGeom prst="rect">
                    <a:avLst/>
                  </a:prstGeom>
                  <a:solidFill>
                    <a:srgbClr val="45d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2914200" y="1735560"/>
                    <a:ext cx="4320" cy="3047040"/>
                  </a:xfrm>
                  <a:prstGeom prst="rect">
                    <a:avLst/>
                  </a:prstGeom>
                  <a:solidFill>
                    <a:srgbClr val="44d1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2918520" y="1735560"/>
                    <a:ext cx="4320" cy="3047040"/>
                  </a:xfrm>
                  <a:prstGeom prst="rect">
                    <a:avLst/>
                  </a:prstGeom>
                  <a:solidFill>
                    <a:srgbClr val="43d1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923200" y="1735560"/>
                    <a:ext cx="4320" cy="3047040"/>
                  </a:xfrm>
                  <a:prstGeom prst="rect">
                    <a:avLst/>
                  </a:prstGeom>
                  <a:solidFill>
                    <a:srgbClr val="42d0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2927520" y="1735560"/>
                    <a:ext cx="4320" cy="3047040"/>
                  </a:xfrm>
                  <a:prstGeom prst="rect">
                    <a:avLst/>
                  </a:prstGeom>
                  <a:solidFill>
                    <a:srgbClr val="41d0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2931840" y="1735560"/>
                    <a:ext cx="5040" cy="3047040"/>
                  </a:xfrm>
                  <a:prstGeom prst="rect">
                    <a:avLst/>
                  </a:prstGeom>
                  <a:solidFill>
                    <a:srgbClr val="40d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2937240" y="1735560"/>
                    <a:ext cx="4320" cy="3047040"/>
                  </a:xfrm>
                  <a:prstGeom prst="rect">
                    <a:avLst/>
                  </a:prstGeom>
                  <a:solidFill>
                    <a:srgbClr val="3fc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2941560" y="1735560"/>
                    <a:ext cx="3600" cy="3047040"/>
                  </a:xfrm>
                  <a:prstGeom prst="rect">
                    <a:avLst/>
                  </a:prstGeom>
                  <a:solidFill>
                    <a:srgbClr val="3ec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2945160" y="1735560"/>
                    <a:ext cx="5040" cy="3047040"/>
                  </a:xfrm>
                  <a:prstGeom prst="rect">
                    <a:avLst/>
                  </a:prstGeom>
                  <a:solidFill>
                    <a:srgbClr val="3d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2950200" y="1735560"/>
                    <a:ext cx="4320" cy="3047040"/>
                  </a:xfrm>
                  <a:prstGeom prst="rect">
                    <a:avLst/>
                  </a:prstGeom>
                  <a:solidFill>
                    <a:srgbClr val="3cce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2954520" y="1735560"/>
                    <a:ext cx="4320" cy="3047040"/>
                  </a:xfrm>
                  <a:prstGeom prst="rect">
                    <a:avLst/>
                  </a:prstGeom>
                  <a:solidFill>
                    <a:srgbClr val="3bc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2959200" y="1735560"/>
                    <a:ext cx="5400" cy="3047040"/>
                  </a:xfrm>
                  <a:prstGeom prst="rect">
                    <a:avLst/>
                  </a:prstGeom>
                  <a:solidFill>
                    <a:srgbClr val="3ace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2964600" y="1735560"/>
                    <a:ext cx="3240" cy="3047040"/>
                  </a:xfrm>
                  <a:prstGeom prst="rect">
                    <a:avLst/>
                  </a:prstGeom>
                  <a:solidFill>
                    <a:srgbClr val="39cd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2967840" y="1735560"/>
                    <a:ext cx="5400" cy="30470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2973240" y="1735560"/>
                    <a:ext cx="4320" cy="30470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2977560" y="1735560"/>
                    <a:ext cx="4320" cy="3047040"/>
                  </a:xfrm>
                  <a:prstGeom prst="rect">
                    <a:avLst/>
                  </a:prstGeom>
                  <a:solidFill>
                    <a:srgbClr val="37cd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2982240" y="1735560"/>
                    <a:ext cx="4320" cy="3047040"/>
                  </a:xfrm>
                  <a:prstGeom prst="rect">
                    <a:avLst/>
                  </a:prstGeom>
                  <a:solidFill>
                    <a:srgbClr val="36cd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7" name=""/>
                <p:cNvSpPr/>
                <p:nvPr/>
              </p:nvSpPr>
              <p:spPr>
                <a:xfrm>
                  <a:off x="2986560" y="1735560"/>
                  <a:ext cx="4320" cy="3047040"/>
                </a:xfrm>
                <a:prstGeom prst="rect">
                  <a:avLst/>
                </a:prstGeom>
                <a:solidFill>
                  <a:srgbClr val="35c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990880" y="1735560"/>
                  <a:ext cx="4320" cy="3047040"/>
                </a:xfrm>
                <a:prstGeom prst="rect">
                  <a:avLst/>
                </a:prstGeom>
                <a:solidFill>
                  <a:srgbClr val="35c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995200" y="1735560"/>
                  <a:ext cx="5400" cy="3047040"/>
                </a:xfrm>
                <a:prstGeom prst="rect">
                  <a:avLst/>
                </a:prstGeom>
                <a:solidFill>
                  <a:srgbClr val="34c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3000600" y="1735560"/>
                  <a:ext cx="3240" cy="3047040"/>
                </a:xfrm>
                <a:prstGeom prst="rect">
                  <a:avLst/>
                </a:prstGeom>
                <a:solidFill>
                  <a:srgbClr val="34c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3004200" y="1735560"/>
                  <a:ext cx="5400" cy="304704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3009600" y="1735560"/>
                  <a:ext cx="4320" cy="304704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3" name=""/>
            <p:cNvGrpSpPr/>
            <p:nvPr/>
          </p:nvGrpSpPr>
          <p:grpSpPr>
            <a:xfrm>
              <a:off x="5819760" y="1681200"/>
              <a:ext cx="1253520" cy="3094920"/>
              <a:chOff x="5819760" y="1681200"/>
              <a:chExt cx="1253520" cy="309492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5819760" y="1681200"/>
                <a:ext cx="1253520" cy="3094920"/>
                <a:chOff x="5819760" y="1681200"/>
                <a:chExt cx="1253520" cy="309492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7027200" y="1681200"/>
                  <a:ext cx="45720" cy="3094920"/>
                </a:xfrm>
                <a:custGeom>
                  <a:avLst/>
                  <a:gdLst/>
                  <a:ahLst/>
                  <a:rect l="l" t="t" r="r" b="b"/>
                  <a:pathLst>
                    <a:path w="38" h="1413">
                      <a:moveTo>
                        <a:pt x="0" y="1413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1318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00b4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19760" y="1681200"/>
                  <a:ext cx="1253520" cy="85320"/>
                </a:xfrm>
                <a:custGeom>
                  <a:avLst/>
                  <a:gdLst/>
                  <a:ahLst/>
                  <a:rect l="l" t="t" r="r" b="b"/>
                  <a:pathLst>
                    <a:path w="1041" h="39">
                      <a:moveTo>
                        <a:pt x="1003" y="39"/>
                      </a:moveTo>
                      <a:lnTo>
                        <a:pt x="0" y="39"/>
                      </a:lnTo>
                      <a:lnTo>
                        <a:pt x="79" y="0"/>
                      </a:lnTo>
                      <a:lnTo>
                        <a:pt x="1041" y="0"/>
                      </a:lnTo>
                      <a:lnTo>
                        <a:pt x="1003" y="39"/>
                      </a:lnTo>
                      <a:close/>
                    </a:path>
                  </a:pathLst>
                </a:custGeom>
                <a:solidFill>
                  <a:srgbClr val="007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"/>
              <p:cNvGrpSpPr/>
              <p:nvPr/>
            </p:nvGrpSpPr>
            <p:grpSpPr>
              <a:xfrm>
                <a:off x="5819760" y="1766520"/>
                <a:ext cx="1207080" cy="3009600"/>
                <a:chOff x="5819760" y="1766520"/>
                <a:chExt cx="1207080" cy="3009600"/>
              </a:xfrm>
            </p:grpSpPr>
            <p:grpSp>
              <p:nvGrpSpPr>
                <p:cNvPr id="1268" name=""/>
                <p:cNvGrpSpPr/>
                <p:nvPr/>
              </p:nvGrpSpPr>
              <p:grpSpPr>
                <a:xfrm>
                  <a:off x="5819760" y="1766520"/>
                  <a:ext cx="784440" cy="3009240"/>
                  <a:chOff x="5819760" y="1766520"/>
                  <a:chExt cx="784440" cy="3009240"/>
                </a:xfrm>
              </p:grpSpPr>
              <p:sp>
                <p:nvSpPr>
                  <p:cNvPr id="1269" name=""/>
                  <p:cNvSpPr/>
                  <p:nvPr/>
                </p:nvSpPr>
                <p:spPr>
                  <a:xfrm>
                    <a:off x="5819760" y="1766520"/>
                    <a:ext cx="4680" cy="300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5824440" y="1766520"/>
                    <a:ext cx="3240" cy="3009240"/>
                  </a:xfrm>
                  <a:prstGeom prst="rect">
                    <a:avLst/>
                  </a:prstGeom>
                  <a:solidFill>
                    <a:srgbClr val="06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5828040" y="1766520"/>
                    <a:ext cx="2160" cy="3009240"/>
                  </a:xfrm>
                  <a:prstGeom prst="rect">
                    <a:avLst/>
                  </a:prstGeom>
                  <a:solidFill>
                    <a:srgbClr val="0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5830560" y="1766520"/>
                    <a:ext cx="4680" cy="3009240"/>
                  </a:xfrm>
                  <a:prstGeom prst="rect">
                    <a:avLst/>
                  </a:prstGeom>
                  <a:solidFill>
                    <a:srgbClr val="0a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5835240" y="1766520"/>
                    <a:ext cx="4320" cy="3009240"/>
                  </a:xfrm>
                  <a:prstGeom prst="rect">
                    <a:avLst/>
                  </a:prstGeom>
                  <a:solidFill>
                    <a:srgbClr val="0c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5839920" y="1766520"/>
                    <a:ext cx="3240" cy="3009240"/>
                  </a:xfrm>
                  <a:prstGeom prst="rect">
                    <a:avLst/>
                  </a:prstGeom>
                  <a:solidFill>
                    <a:srgbClr val="0e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5843520" y="1766520"/>
                    <a:ext cx="2160" cy="3009240"/>
                  </a:xfrm>
                  <a:prstGeom prst="rect">
                    <a:avLst/>
                  </a:prstGeom>
                  <a:solidFill>
                    <a:srgbClr val="0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5846040" y="1766520"/>
                    <a:ext cx="4680" cy="3009240"/>
                  </a:xfrm>
                  <a:prstGeom prst="rect">
                    <a:avLst/>
                  </a:prstGeom>
                  <a:solidFill>
                    <a:srgbClr val="11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5851080" y="1766520"/>
                    <a:ext cx="3240" cy="3009240"/>
                  </a:xfrm>
                  <a:prstGeom prst="rect">
                    <a:avLst/>
                  </a:prstGeom>
                  <a:solidFill>
                    <a:srgbClr val="13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5854680" y="1766520"/>
                    <a:ext cx="4680" cy="3009240"/>
                  </a:xfrm>
                  <a:prstGeom prst="rect">
                    <a:avLst/>
                  </a:prstGeom>
                  <a:solidFill>
                    <a:srgbClr val="13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859360" y="1766520"/>
                    <a:ext cx="3240" cy="3009240"/>
                  </a:xfrm>
                  <a:prstGeom prst="rect">
                    <a:avLst/>
                  </a:prstGeom>
                  <a:solidFill>
                    <a:srgbClr val="15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5862960" y="1766520"/>
                    <a:ext cx="3240" cy="3009240"/>
                  </a:xfrm>
                  <a:prstGeom prst="rect">
                    <a:avLst/>
                  </a:prstGeom>
                  <a:solidFill>
                    <a:srgbClr val="17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866560" y="1766520"/>
                    <a:ext cx="3240" cy="3009240"/>
                  </a:xfrm>
                  <a:prstGeom prst="rect">
                    <a:avLst/>
                  </a:prstGeom>
                  <a:solidFill>
                    <a:srgbClr val="17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5870160" y="1766520"/>
                    <a:ext cx="4680" cy="3009240"/>
                  </a:xfrm>
                  <a:prstGeom prst="rect">
                    <a:avLst/>
                  </a:prstGeom>
                  <a:solidFill>
                    <a:srgbClr val="19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5874840" y="1766520"/>
                    <a:ext cx="3240" cy="3009240"/>
                  </a:xfrm>
                  <a:prstGeom prst="rect">
                    <a:avLst/>
                  </a:prstGeom>
                  <a:solidFill>
                    <a:srgbClr val="1a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5878440" y="1766520"/>
                    <a:ext cx="3600" cy="3009240"/>
                  </a:xfrm>
                  <a:prstGeom prst="rect">
                    <a:avLst/>
                  </a:prstGeom>
                  <a:solidFill>
                    <a:srgbClr val="1b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882400" y="1766520"/>
                    <a:ext cx="3240" cy="3009240"/>
                  </a:xfrm>
                  <a:prstGeom prst="rect">
                    <a:avLst/>
                  </a:prstGeom>
                  <a:solidFill>
                    <a:srgbClr val="1d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5886000" y="1766520"/>
                    <a:ext cx="4320" cy="3009240"/>
                  </a:xfrm>
                  <a:prstGeom prst="rect">
                    <a:avLst/>
                  </a:prstGeom>
                  <a:solidFill>
                    <a:srgbClr val="1e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5890680" y="1766520"/>
                    <a:ext cx="3600" cy="3009240"/>
                  </a:xfrm>
                  <a:prstGeom prst="rect">
                    <a:avLst/>
                  </a:prstGeom>
                  <a:solidFill>
                    <a:srgbClr val="1f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5894280" y="1766520"/>
                    <a:ext cx="3240" cy="3009240"/>
                  </a:xfrm>
                  <a:prstGeom prst="rect">
                    <a:avLst/>
                  </a:prstGeom>
                  <a:solidFill>
                    <a:srgbClr val="20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5897880" y="1766520"/>
                    <a:ext cx="3240" cy="3009240"/>
                  </a:xfrm>
                  <a:prstGeom prst="rect">
                    <a:avLst/>
                  </a:prstGeom>
                  <a:solidFill>
                    <a:srgbClr val="22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5901480" y="1766520"/>
                    <a:ext cx="4680" cy="3009240"/>
                  </a:xfrm>
                  <a:prstGeom prst="rect">
                    <a:avLst/>
                  </a:prstGeom>
                  <a:solidFill>
                    <a:srgbClr val="23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5906520" y="1766520"/>
                    <a:ext cx="3240" cy="3009240"/>
                  </a:xfrm>
                  <a:prstGeom prst="rect">
                    <a:avLst/>
                  </a:prstGeom>
                  <a:solidFill>
                    <a:srgbClr val="24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5910120" y="1766520"/>
                    <a:ext cx="4680" cy="3009240"/>
                  </a:xfrm>
                  <a:prstGeom prst="rect">
                    <a:avLst/>
                  </a:prstGeom>
                  <a:solidFill>
                    <a:srgbClr val="26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5914800" y="1766520"/>
                    <a:ext cx="2160" cy="3009240"/>
                  </a:xfrm>
                  <a:prstGeom prst="rect">
                    <a:avLst/>
                  </a:prstGeom>
                  <a:solidFill>
                    <a:srgbClr val="27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5916960" y="1766520"/>
                    <a:ext cx="4680" cy="3009240"/>
                  </a:xfrm>
                  <a:prstGeom prst="rect">
                    <a:avLst/>
                  </a:prstGeom>
                  <a:solidFill>
                    <a:srgbClr val="28cf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5922000" y="1766520"/>
                    <a:ext cx="3240" cy="3009240"/>
                  </a:xfrm>
                  <a:prstGeom prst="rect">
                    <a:avLst/>
                  </a:prstGeom>
                  <a:solidFill>
                    <a:srgbClr val="2a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5925600" y="1766520"/>
                    <a:ext cx="4680" cy="3009240"/>
                  </a:xfrm>
                  <a:prstGeom prst="rect">
                    <a:avLst/>
                  </a:prstGeom>
                  <a:solidFill>
                    <a:srgbClr val="2a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5930280" y="1766520"/>
                    <a:ext cx="2160" cy="3009240"/>
                  </a:xfrm>
                  <a:prstGeom prst="rect">
                    <a:avLst/>
                  </a:prstGeom>
                  <a:solidFill>
                    <a:srgbClr val="2c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5932800" y="1766520"/>
                    <a:ext cx="4320" cy="3009240"/>
                  </a:xfrm>
                  <a:prstGeom prst="rect">
                    <a:avLst/>
                  </a:prstGeom>
                  <a:solidFill>
                    <a:srgbClr val="2e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5937480" y="1766520"/>
                    <a:ext cx="3600" cy="3009240"/>
                  </a:xfrm>
                  <a:prstGeom prst="rect">
                    <a:avLst/>
                  </a:prstGeom>
                  <a:solidFill>
                    <a:srgbClr val="2e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5941440" y="1766520"/>
                    <a:ext cx="4320" cy="3009240"/>
                  </a:xfrm>
                  <a:prstGeom prst="rect">
                    <a:avLst/>
                  </a:prstGeom>
                  <a:solidFill>
                    <a:srgbClr val="30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5946120" y="1766520"/>
                    <a:ext cx="3600" cy="3009240"/>
                  </a:xfrm>
                  <a:prstGeom prst="rect">
                    <a:avLst/>
                  </a:prstGeom>
                  <a:solidFill>
                    <a:srgbClr val="31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5949720" y="1766520"/>
                    <a:ext cx="3240" cy="3009240"/>
                  </a:xfrm>
                  <a:prstGeom prst="rect">
                    <a:avLst/>
                  </a:prstGeom>
                  <a:solidFill>
                    <a:srgbClr val="32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5953320" y="1766520"/>
                    <a:ext cx="3240" cy="3009240"/>
                  </a:xfrm>
                  <a:prstGeom prst="rect">
                    <a:avLst/>
                  </a:prstGeom>
                  <a:solidFill>
                    <a:srgbClr val="34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5956920" y="1766520"/>
                    <a:ext cx="4680" cy="3009240"/>
                  </a:xfrm>
                  <a:prstGeom prst="rect">
                    <a:avLst/>
                  </a:prstGeom>
                  <a:solidFill>
                    <a:srgbClr val="35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5961960" y="1766520"/>
                    <a:ext cx="3240" cy="3009240"/>
                  </a:xfrm>
                  <a:prstGeom prst="rect">
                    <a:avLst/>
                  </a:prstGeom>
                  <a:solidFill>
                    <a:srgbClr val="36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5965200" y="1766520"/>
                    <a:ext cx="2160" cy="3009240"/>
                  </a:xfrm>
                  <a:prstGeom prst="rect">
                    <a:avLst/>
                  </a:prstGeom>
                  <a:solidFill>
                    <a:srgbClr val="38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5967720" y="1766520"/>
                    <a:ext cx="4320" cy="3009240"/>
                  </a:xfrm>
                  <a:prstGeom prst="rect">
                    <a:avLst/>
                  </a:prstGeom>
                  <a:solidFill>
                    <a:srgbClr val="39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972400" y="1766520"/>
                    <a:ext cx="3600" cy="3009240"/>
                  </a:xfrm>
                  <a:prstGeom prst="rect">
                    <a:avLst/>
                  </a:prstGeom>
                  <a:solidFill>
                    <a:srgbClr val="3a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5976360" y="1766520"/>
                    <a:ext cx="4320" cy="3009240"/>
                  </a:xfrm>
                  <a:prstGeom prst="rect">
                    <a:avLst/>
                  </a:prstGeom>
                  <a:solidFill>
                    <a:srgbClr val="3c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5981040" y="1766520"/>
                    <a:ext cx="2160" cy="3009240"/>
                  </a:xfrm>
                  <a:prstGeom prst="rect">
                    <a:avLst/>
                  </a:prstGeom>
                  <a:solidFill>
                    <a:srgbClr val="3dd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5983560" y="1766520"/>
                    <a:ext cx="4680" cy="3009240"/>
                  </a:xfrm>
                  <a:prstGeom prst="rect">
                    <a:avLst/>
                  </a:prstGeom>
                  <a:solidFill>
                    <a:srgbClr val="3ed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5988240" y="1766520"/>
                    <a:ext cx="3240" cy="3009240"/>
                  </a:xfrm>
                  <a:prstGeom prst="rect">
                    <a:avLst/>
                  </a:prstGeom>
                  <a:solidFill>
                    <a:srgbClr val="40d5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5991840" y="1766520"/>
                    <a:ext cx="4320" cy="3009240"/>
                  </a:xfrm>
                  <a:prstGeom prst="rect">
                    <a:avLst/>
                  </a:prstGeom>
                  <a:solidFill>
                    <a:srgbClr val="41d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5996520" y="1766520"/>
                    <a:ext cx="3600" cy="3009240"/>
                  </a:xfrm>
                  <a:prstGeom prst="rect">
                    <a:avLst/>
                  </a:prstGeom>
                  <a:solidFill>
                    <a:srgbClr val="42d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6000480" y="1766520"/>
                    <a:ext cx="3240" cy="3009240"/>
                  </a:xfrm>
                  <a:prstGeom prst="rect">
                    <a:avLst/>
                  </a:prstGeom>
                  <a:solidFill>
                    <a:srgbClr val="44d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6003720" y="1766520"/>
                    <a:ext cx="3240" cy="3009240"/>
                  </a:xfrm>
                  <a:prstGeom prst="rect">
                    <a:avLst/>
                  </a:prstGeom>
                  <a:solidFill>
                    <a:srgbClr val="45d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6007320" y="1766520"/>
                    <a:ext cx="4680" cy="3009240"/>
                  </a:xfrm>
                  <a:prstGeom prst="rect">
                    <a:avLst/>
                  </a:prstGeom>
                  <a:solidFill>
                    <a:srgbClr val="46d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6012360" y="1766520"/>
                    <a:ext cx="3240" cy="3009240"/>
                  </a:xfrm>
                  <a:prstGeom prst="rect">
                    <a:avLst/>
                  </a:prstGeom>
                  <a:solidFill>
                    <a:srgbClr val="48d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6015960" y="1766520"/>
                    <a:ext cx="3240" cy="3009240"/>
                  </a:xfrm>
                  <a:prstGeom prst="rect">
                    <a:avLst/>
                  </a:prstGeom>
                  <a:solidFill>
                    <a:srgbClr val="49d8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6019560" y="1766520"/>
                    <a:ext cx="3600" cy="3009240"/>
                  </a:xfrm>
                  <a:prstGeom prst="rect">
                    <a:avLst/>
                  </a:prstGeom>
                  <a:solidFill>
                    <a:srgbClr val="4bd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6023160" y="1766520"/>
                    <a:ext cx="4320" cy="3009240"/>
                  </a:xfrm>
                  <a:prstGeom prst="rect">
                    <a:avLst/>
                  </a:prstGeom>
                  <a:solidFill>
                    <a:srgbClr val="4cd9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6027840" y="1766520"/>
                    <a:ext cx="3240" cy="3009240"/>
                  </a:xfrm>
                  <a:prstGeom prst="rect">
                    <a:avLst/>
                  </a:prstGeom>
                  <a:solidFill>
                    <a:srgbClr val="4dda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6031440" y="1766520"/>
                    <a:ext cx="4680" cy="3009240"/>
                  </a:xfrm>
                  <a:prstGeom prst="rect">
                    <a:avLst/>
                  </a:prstGeom>
                  <a:solidFill>
                    <a:srgbClr val="4fda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6036480" y="1766520"/>
                    <a:ext cx="2160" cy="3009240"/>
                  </a:xfrm>
                  <a:prstGeom prst="rect">
                    <a:avLst/>
                  </a:prstGeom>
                  <a:solidFill>
                    <a:srgbClr val="50db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6038640" y="1766520"/>
                    <a:ext cx="4320" cy="3009240"/>
                  </a:xfrm>
                  <a:prstGeom prst="rect">
                    <a:avLst/>
                  </a:prstGeom>
                  <a:solidFill>
                    <a:srgbClr val="51db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6043320" y="1766520"/>
                    <a:ext cx="3600" cy="3009240"/>
                  </a:xfrm>
                  <a:prstGeom prst="rect">
                    <a:avLst/>
                  </a:prstGeom>
                  <a:solidFill>
                    <a:srgbClr val="53dc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6047280" y="1766520"/>
                    <a:ext cx="4320" cy="3009240"/>
                  </a:xfrm>
                  <a:prstGeom prst="rect">
                    <a:avLst/>
                  </a:prstGeom>
                  <a:solidFill>
                    <a:srgbClr val="54dc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6051960" y="1766520"/>
                    <a:ext cx="2160" cy="3009240"/>
                  </a:xfrm>
                  <a:prstGeom prst="rect">
                    <a:avLst/>
                  </a:prstGeom>
                  <a:solidFill>
                    <a:srgbClr val="55dd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054480" y="1766520"/>
                    <a:ext cx="4680" cy="3009240"/>
                  </a:xfrm>
                  <a:prstGeom prst="rect">
                    <a:avLst/>
                  </a:prstGeom>
                  <a:solidFill>
                    <a:srgbClr val="57dd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6059160" y="1766520"/>
                    <a:ext cx="3240" cy="3009240"/>
                  </a:xfrm>
                  <a:prstGeom prst="rect">
                    <a:avLst/>
                  </a:prstGeom>
                  <a:solidFill>
                    <a:srgbClr val="58de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>
                    <a:off x="6062760" y="1766520"/>
                    <a:ext cx="4680" cy="3009240"/>
                  </a:xfrm>
                  <a:prstGeom prst="rect">
                    <a:avLst/>
                  </a:prstGeom>
                  <a:solidFill>
                    <a:srgbClr val="59de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>
                    <a:off x="6067800" y="1766520"/>
                    <a:ext cx="2160" cy="3009240"/>
                  </a:xfrm>
                  <a:prstGeom prst="rect">
                    <a:avLst/>
                  </a:prstGeom>
                  <a:solidFill>
                    <a:srgbClr val="5bdf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6069960" y="1766520"/>
                    <a:ext cx="4680" cy="3009240"/>
                  </a:xfrm>
                  <a:prstGeom prst="rect">
                    <a:avLst/>
                  </a:prstGeom>
                  <a:solidFill>
                    <a:srgbClr val="5ce0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6075000" y="1766520"/>
                    <a:ext cx="3240" cy="3009240"/>
                  </a:xfrm>
                  <a:prstGeom prst="rect">
                    <a:avLst/>
                  </a:prstGeom>
                  <a:solidFill>
                    <a:srgbClr val="5de0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6078240" y="1766520"/>
                    <a:ext cx="4680" cy="3009240"/>
                  </a:xfrm>
                  <a:prstGeom prst="rect">
                    <a:avLst/>
                  </a:prstGeom>
                  <a:solidFill>
                    <a:srgbClr val="5fe1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6083280" y="1766520"/>
                    <a:ext cx="3240" cy="3009240"/>
                  </a:xfrm>
                  <a:prstGeom prst="rect">
                    <a:avLst/>
                  </a:prstGeom>
                  <a:solidFill>
                    <a:srgbClr val="60e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6086880" y="1766520"/>
                    <a:ext cx="2160" cy="3009240"/>
                  </a:xfrm>
                  <a:prstGeom prst="rect">
                    <a:avLst/>
                  </a:prstGeom>
                  <a:solidFill>
                    <a:srgbClr val="61e2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089400" y="1766520"/>
                    <a:ext cx="4680" cy="3009240"/>
                  </a:xfrm>
                  <a:prstGeom prst="rect">
                    <a:avLst/>
                  </a:prstGeom>
                  <a:solidFill>
                    <a:srgbClr val="62e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6094080" y="1766520"/>
                    <a:ext cx="4320" cy="3009240"/>
                  </a:xfrm>
                  <a:prstGeom prst="rect">
                    <a:avLst/>
                  </a:prstGeom>
                  <a:solidFill>
                    <a:srgbClr val="64e3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098760" y="1766520"/>
                    <a:ext cx="3600" cy="3009240"/>
                  </a:xfrm>
                  <a:prstGeom prst="rect">
                    <a:avLst/>
                  </a:prstGeom>
                  <a:solidFill>
                    <a:srgbClr val="65e3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6102720" y="1766520"/>
                    <a:ext cx="2160" cy="3009240"/>
                  </a:xfrm>
                  <a:prstGeom prst="rect">
                    <a:avLst/>
                  </a:prstGeom>
                  <a:solidFill>
                    <a:srgbClr val="66e4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6104880" y="1766520"/>
                    <a:ext cx="4680" cy="3009240"/>
                  </a:xfrm>
                  <a:prstGeom prst="rect">
                    <a:avLst/>
                  </a:prstGeom>
                  <a:solidFill>
                    <a:srgbClr val="68e5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6109920" y="1766520"/>
                    <a:ext cx="3240" cy="3009240"/>
                  </a:xfrm>
                  <a:prstGeom prst="rect">
                    <a:avLst/>
                  </a:prstGeom>
                  <a:solidFill>
                    <a:srgbClr val="68e5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6113160" y="1766520"/>
                    <a:ext cx="4680" cy="3009240"/>
                  </a:xfrm>
                  <a:prstGeom prst="rect">
                    <a:avLst/>
                  </a:prstGeom>
                  <a:solidFill>
                    <a:srgbClr val="6ae6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6118200" y="1766520"/>
                    <a:ext cx="4680" cy="3009240"/>
                  </a:xfrm>
                  <a:prstGeom prst="rect">
                    <a:avLst/>
                  </a:prstGeom>
                  <a:solidFill>
                    <a:srgbClr val="6be6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6123240" y="1766520"/>
                    <a:ext cx="2160" cy="3009240"/>
                  </a:xfrm>
                  <a:prstGeom prst="rect">
                    <a:avLst/>
                  </a:prstGeom>
                  <a:solidFill>
                    <a:srgbClr val="6ce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6125400" y="1766520"/>
                    <a:ext cx="3600" cy="3009240"/>
                  </a:xfrm>
                  <a:prstGeom prst="rect">
                    <a:avLst/>
                  </a:prstGeom>
                  <a:solidFill>
                    <a:srgbClr val="6de7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6129000" y="1766520"/>
                    <a:ext cx="4320" cy="3009240"/>
                  </a:xfrm>
                  <a:prstGeom prst="rect">
                    <a:avLst/>
                  </a:prstGeom>
                  <a:solidFill>
                    <a:srgbClr val="6fe8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6133680" y="1766520"/>
                    <a:ext cx="3240" cy="3009240"/>
                  </a:xfrm>
                  <a:prstGeom prst="rect">
                    <a:avLst/>
                  </a:prstGeom>
                  <a:solidFill>
                    <a:srgbClr val="70e8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6137280" y="1766520"/>
                    <a:ext cx="3600" cy="3009240"/>
                  </a:xfrm>
                  <a:prstGeom prst="rect">
                    <a:avLst/>
                  </a:prstGeom>
                  <a:solidFill>
                    <a:srgbClr val="71e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6141240" y="1766520"/>
                    <a:ext cx="3240" cy="3009240"/>
                  </a:xfrm>
                  <a:prstGeom prst="rect">
                    <a:avLst/>
                  </a:prstGeom>
                  <a:solidFill>
                    <a:srgbClr val="72ea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>
                    <a:off x="6144840" y="1766520"/>
                    <a:ext cx="4680" cy="3009240"/>
                  </a:xfrm>
                  <a:prstGeom prst="rect">
                    <a:avLst/>
                  </a:prstGeom>
                  <a:solidFill>
                    <a:srgbClr val="73ea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6149520" y="1766520"/>
                    <a:ext cx="3240" cy="3009240"/>
                  </a:xfrm>
                  <a:prstGeom prst="rect">
                    <a:avLst/>
                  </a:prstGeom>
                  <a:solidFill>
                    <a:srgbClr val="74eb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6153120" y="1766520"/>
                    <a:ext cx="3240" cy="3009240"/>
                  </a:xfrm>
                  <a:prstGeom prst="rect">
                    <a:avLst/>
                  </a:prstGeom>
                  <a:solidFill>
                    <a:srgbClr val="75eb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6156720" y="1766520"/>
                    <a:ext cx="3240" cy="3009240"/>
                  </a:xfrm>
                  <a:prstGeom prst="rect">
                    <a:avLst/>
                  </a:prstGeom>
                  <a:solidFill>
                    <a:srgbClr val="76eb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6160320" y="1766520"/>
                    <a:ext cx="4680" cy="3009240"/>
                  </a:xfrm>
                  <a:prstGeom prst="rect">
                    <a:avLst/>
                  </a:prstGeom>
                  <a:solidFill>
                    <a:srgbClr val="77ec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6165360" y="1766520"/>
                    <a:ext cx="3240" cy="3009240"/>
                  </a:xfrm>
                  <a:prstGeom prst="rect">
                    <a:avLst/>
                  </a:prstGeom>
                  <a:solidFill>
                    <a:srgbClr val="79ed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6168600" y="1766520"/>
                    <a:ext cx="4680" cy="3009240"/>
                  </a:xfrm>
                  <a:prstGeom prst="rect">
                    <a:avLst/>
                  </a:prstGeom>
                  <a:solidFill>
                    <a:srgbClr val="79ed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6173640" y="1766520"/>
                    <a:ext cx="2160" cy="3009240"/>
                  </a:xfrm>
                  <a:prstGeom prst="rect">
                    <a:avLst/>
                  </a:prstGeom>
                  <a:solidFill>
                    <a:srgbClr val="7aee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6176160" y="1766520"/>
                    <a:ext cx="4320" cy="3009240"/>
                  </a:xfrm>
                  <a:prstGeom prst="rect">
                    <a:avLst/>
                  </a:prstGeom>
                  <a:solidFill>
                    <a:srgbClr val="7bee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1" name=""/>
                  <p:cNvSpPr/>
                  <p:nvPr/>
                </p:nvSpPr>
                <p:spPr>
                  <a:xfrm>
                    <a:off x="6180840" y="1766520"/>
                    <a:ext cx="3240" cy="3009240"/>
                  </a:xfrm>
                  <a:prstGeom prst="rect">
                    <a:avLst/>
                  </a:prstGeom>
                  <a:solidFill>
                    <a:srgbClr val="7ce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2" name=""/>
                  <p:cNvSpPr/>
                  <p:nvPr/>
                </p:nvSpPr>
                <p:spPr>
                  <a:xfrm>
                    <a:off x="6184440" y="1766520"/>
                    <a:ext cx="4680" cy="3009240"/>
                  </a:xfrm>
                  <a:prstGeom prst="rect">
                    <a:avLst/>
                  </a:prstGeom>
                  <a:solidFill>
                    <a:srgbClr val="7de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6189120" y="1766520"/>
                    <a:ext cx="2160" cy="3009240"/>
                  </a:xfrm>
                  <a:prstGeom prst="rect">
                    <a:avLst/>
                  </a:prstGeom>
                  <a:solidFill>
                    <a:srgbClr val="7ef0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6191640" y="1766520"/>
                    <a:ext cx="4680" cy="3009240"/>
                  </a:xfrm>
                  <a:prstGeom prst="rect">
                    <a:avLst/>
                  </a:prstGeom>
                  <a:solidFill>
                    <a:srgbClr val="7ff0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6196680" y="1766520"/>
                    <a:ext cx="3240" cy="3009240"/>
                  </a:xfrm>
                  <a:prstGeom prst="rect">
                    <a:avLst/>
                  </a:prstGeom>
                  <a:solidFill>
                    <a:srgbClr val="80f1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6200280" y="1766520"/>
                    <a:ext cx="4320" cy="3009240"/>
                  </a:xfrm>
                  <a:prstGeom prst="rect">
                    <a:avLst/>
                  </a:prstGeom>
                  <a:solidFill>
                    <a:srgbClr val="81f1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7" name=""/>
                  <p:cNvSpPr/>
                  <p:nvPr/>
                </p:nvSpPr>
                <p:spPr>
                  <a:xfrm>
                    <a:off x="6204960" y="1766520"/>
                    <a:ext cx="3600" cy="3009240"/>
                  </a:xfrm>
                  <a:prstGeom prst="rect">
                    <a:avLst/>
                  </a:prstGeom>
                  <a:solidFill>
                    <a:srgbClr val="81f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8" name=""/>
                  <p:cNvSpPr/>
                  <p:nvPr/>
                </p:nvSpPr>
                <p:spPr>
                  <a:xfrm>
                    <a:off x="6208560" y="1766520"/>
                    <a:ext cx="3240" cy="3009240"/>
                  </a:xfrm>
                  <a:prstGeom prst="rect">
                    <a:avLst/>
                  </a:prstGeom>
                  <a:solidFill>
                    <a:srgbClr val="82f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6212160" y="1766520"/>
                    <a:ext cx="3240" cy="3009240"/>
                  </a:xfrm>
                  <a:prstGeom prst="rect">
                    <a:avLst/>
                  </a:prstGeom>
                  <a:solidFill>
                    <a:srgbClr val="83f2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6215760" y="1766520"/>
                    <a:ext cx="4680" cy="3009240"/>
                  </a:xfrm>
                  <a:prstGeom prst="rect">
                    <a:avLst/>
                  </a:prstGeom>
                  <a:solidFill>
                    <a:srgbClr val="84f3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6220800" y="1766520"/>
                    <a:ext cx="3240" cy="3009240"/>
                  </a:xfrm>
                  <a:prstGeom prst="rect">
                    <a:avLst/>
                  </a:prstGeom>
                  <a:solidFill>
                    <a:srgbClr val="85f3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24040" y="1766520"/>
                    <a:ext cx="2160" cy="3009240"/>
                  </a:xfrm>
                  <a:prstGeom prst="rect">
                    <a:avLst/>
                  </a:prstGeom>
                  <a:solidFill>
                    <a:srgbClr val="86f4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6226560" y="1766520"/>
                    <a:ext cx="4320" cy="3009240"/>
                  </a:xfrm>
                  <a:prstGeom prst="rect">
                    <a:avLst/>
                  </a:prstGeom>
                  <a:solidFill>
                    <a:srgbClr val="86f4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6231240" y="1766520"/>
                    <a:ext cx="4680" cy="3009240"/>
                  </a:xfrm>
                  <a:prstGeom prst="rect">
                    <a:avLst/>
                  </a:prstGeom>
                  <a:solidFill>
                    <a:srgbClr val="87f4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6236280" y="1766520"/>
                    <a:ext cx="3240" cy="3009240"/>
                  </a:xfrm>
                  <a:prstGeom prst="rect">
                    <a:avLst/>
                  </a:prstGeom>
                  <a:solidFill>
                    <a:srgbClr val="88f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6239880" y="1766520"/>
                    <a:ext cx="2160" cy="3009240"/>
                  </a:xfrm>
                  <a:prstGeom prst="rect">
                    <a:avLst/>
                  </a:prstGeom>
                  <a:solidFill>
                    <a:srgbClr val="88f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6242040" y="1766520"/>
                    <a:ext cx="4680" cy="3009240"/>
                  </a:xfrm>
                  <a:prstGeom prst="rect">
                    <a:avLst/>
                  </a:prstGeom>
                  <a:solidFill>
                    <a:srgbClr val="89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6247080" y="1766520"/>
                    <a:ext cx="324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6250680" y="1766520"/>
                    <a:ext cx="468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6255720" y="1766520"/>
                    <a:ext cx="3240" cy="3009240"/>
                  </a:xfrm>
                  <a:prstGeom prst="rect">
                    <a:avLst/>
                  </a:prstGeom>
                  <a:solidFill>
                    <a:srgbClr val="8b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6258960" y="1766520"/>
                    <a:ext cx="324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262560" y="1766520"/>
                    <a:ext cx="324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266160" y="1766520"/>
                    <a:ext cx="468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271200" y="1766520"/>
                    <a:ext cx="324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6274800" y="1766520"/>
                    <a:ext cx="3240" cy="3009240"/>
                  </a:xfrm>
                  <a:prstGeom prst="rect">
                    <a:avLst/>
                  </a:prstGeom>
                  <a:solidFill>
                    <a:srgbClr val="8e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6278400" y="1766520"/>
                    <a:ext cx="3600" cy="3009240"/>
                  </a:xfrm>
                  <a:prstGeom prst="rect">
                    <a:avLst/>
                  </a:prstGeom>
                  <a:solidFill>
                    <a:srgbClr val="8e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282000" y="1766520"/>
                    <a:ext cx="432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286680" y="1766520"/>
                    <a:ext cx="324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290280" y="1766520"/>
                    <a:ext cx="4680" cy="3009240"/>
                  </a:xfrm>
                  <a:prstGeom prst="rect">
                    <a:avLst/>
                  </a:prstGeom>
                  <a:solidFill>
                    <a:srgbClr val="90f9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6295320" y="1766520"/>
                    <a:ext cx="2160" cy="3009240"/>
                  </a:xfrm>
                  <a:prstGeom prst="rect">
                    <a:avLst/>
                  </a:prstGeom>
                  <a:solidFill>
                    <a:srgbClr val="90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6297480" y="1766520"/>
                    <a:ext cx="468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6302520" y="1766520"/>
                    <a:ext cx="324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6306120" y="1766520"/>
                    <a:ext cx="432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310800" y="1766520"/>
                    <a:ext cx="216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6313320" y="1766520"/>
                    <a:ext cx="468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6318000" y="1766520"/>
                    <a:ext cx="324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6321600" y="1766520"/>
                    <a:ext cx="468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6326640" y="1766520"/>
                    <a:ext cx="2160" cy="3009240"/>
                  </a:xfrm>
                  <a:prstGeom prst="rect">
                    <a:avLst/>
                  </a:prstGeom>
                  <a:solidFill>
                    <a:srgbClr val="93fb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6329160" y="1766520"/>
                    <a:ext cx="432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6333480" y="1766520"/>
                    <a:ext cx="324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6337080" y="1766520"/>
                    <a:ext cx="468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6342120" y="1766520"/>
                    <a:ext cx="324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6345720" y="1766520"/>
                    <a:ext cx="216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6348240" y="1766520"/>
                    <a:ext cx="468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6352920" y="1766520"/>
                    <a:ext cx="432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6357600" y="1766520"/>
                    <a:ext cx="360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6361560" y="1766520"/>
                    <a:ext cx="216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6363720" y="1766520"/>
                    <a:ext cx="468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368760" y="1766520"/>
                    <a:ext cx="324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372000" y="1766520"/>
                    <a:ext cx="468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377040" y="1766520"/>
                    <a:ext cx="468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382080" y="1766520"/>
                    <a:ext cx="216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384240" y="1766520"/>
                    <a:ext cx="360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387840" y="1766520"/>
                    <a:ext cx="432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6392520" y="1766520"/>
                    <a:ext cx="360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6396480" y="17665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6400080" y="17665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6403680" y="17665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408360" y="17665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6411960" y="17665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6415560" y="17665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419160" y="1766520"/>
                    <a:ext cx="4680" cy="300924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423840" y="1766520"/>
                    <a:ext cx="3240" cy="300924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6427440" y="17665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432480" y="1766520"/>
                    <a:ext cx="216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6435000" y="1766520"/>
                    <a:ext cx="432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6439680" y="17665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443280" y="17665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6447960" y="1766520"/>
                    <a:ext cx="216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6450480" y="17665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455520" y="1766520"/>
                    <a:ext cx="324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6459120" y="1766520"/>
                    <a:ext cx="432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6463440" y="1766520"/>
                    <a:ext cx="360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6467400" y="1766520"/>
                    <a:ext cx="324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6471000" y="1766520"/>
                    <a:ext cx="324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6474600" y="1766520"/>
                    <a:ext cx="468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6479280" y="1766520"/>
                    <a:ext cx="324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6482880" y="1766520"/>
                    <a:ext cx="216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6485400" y="1766520"/>
                    <a:ext cx="432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490080" y="1766520"/>
                    <a:ext cx="468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495120" y="1766520"/>
                    <a:ext cx="324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498720" y="1766520"/>
                    <a:ext cx="216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500880" y="1766520"/>
                    <a:ext cx="468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6505920" y="1766520"/>
                    <a:ext cx="324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6509520" y="1766520"/>
                    <a:ext cx="468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6514200" y="1766520"/>
                    <a:ext cx="324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6517800" y="1766520"/>
                    <a:ext cx="3240" cy="3009240"/>
                  </a:xfrm>
                  <a:prstGeom prst="rect">
                    <a:avLst/>
                  </a:prstGeom>
                  <a:solidFill>
                    <a:srgbClr val="93fb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6521400" y="1766520"/>
                    <a:ext cx="324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6525000" y="1766520"/>
                    <a:ext cx="468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6530040" y="1766520"/>
                    <a:ext cx="324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6533640" y="1766520"/>
                    <a:ext cx="324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536880" y="1766520"/>
                    <a:ext cx="360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540840" y="1766520"/>
                    <a:ext cx="432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6545520" y="1766520"/>
                    <a:ext cx="360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549480" y="1766520"/>
                    <a:ext cx="4320" cy="3009240"/>
                  </a:xfrm>
                  <a:prstGeom prst="rect">
                    <a:avLst/>
                  </a:prstGeom>
                  <a:solidFill>
                    <a:srgbClr val="90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6553800" y="1766520"/>
                    <a:ext cx="2160" cy="3009240"/>
                  </a:xfrm>
                  <a:prstGeom prst="rect">
                    <a:avLst/>
                  </a:prstGeom>
                  <a:solidFill>
                    <a:srgbClr val="90f9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6556320" y="1766520"/>
                    <a:ext cx="468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6561360" y="1766520"/>
                    <a:ext cx="324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6564960" y="1766520"/>
                    <a:ext cx="4680" cy="3009240"/>
                  </a:xfrm>
                  <a:prstGeom prst="rect">
                    <a:avLst/>
                  </a:prstGeom>
                  <a:solidFill>
                    <a:srgbClr val="8e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6569640" y="1766520"/>
                    <a:ext cx="2160" cy="3009240"/>
                  </a:xfrm>
                  <a:prstGeom prst="rect">
                    <a:avLst/>
                  </a:prstGeom>
                  <a:solidFill>
                    <a:srgbClr val="8e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6571800" y="1766520"/>
                    <a:ext cx="468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6576840" y="1766520"/>
                    <a:ext cx="324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6580440" y="1766520"/>
                    <a:ext cx="468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6585480" y="1766520"/>
                    <a:ext cx="216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6587640" y="1766520"/>
                    <a:ext cx="4320" cy="3009240"/>
                  </a:xfrm>
                  <a:prstGeom prst="rect">
                    <a:avLst/>
                  </a:prstGeom>
                  <a:solidFill>
                    <a:srgbClr val="8b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6592320" y="1766520"/>
                    <a:ext cx="360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6596280" y="1766520"/>
                    <a:ext cx="432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6600960" y="1766520"/>
                    <a:ext cx="3240" cy="3009240"/>
                  </a:xfrm>
                  <a:prstGeom prst="rect">
                    <a:avLst/>
                  </a:prstGeom>
                  <a:solidFill>
                    <a:srgbClr val="89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9" name=""/>
                <p:cNvSpPr/>
                <p:nvPr/>
              </p:nvSpPr>
              <p:spPr>
                <a:xfrm>
                  <a:off x="6604560" y="1766520"/>
                  <a:ext cx="3600" cy="3009600"/>
                </a:xfrm>
                <a:prstGeom prst="rect">
                  <a:avLst/>
                </a:prstGeom>
                <a:solidFill>
                  <a:srgbClr val="88f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608160" y="1766520"/>
                  <a:ext cx="3240" cy="3009600"/>
                </a:xfrm>
                <a:prstGeom prst="rect">
                  <a:avLst/>
                </a:prstGeom>
                <a:solidFill>
                  <a:srgbClr val="88f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611760" y="1766520"/>
                  <a:ext cx="4320" cy="3009600"/>
                </a:xfrm>
                <a:prstGeom prst="rect">
                  <a:avLst/>
                </a:prstGeom>
                <a:solidFill>
                  <a:srgbClr val="87f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616440" y="1766520"/>
                  <a:ext cx="3600" cy="3009600"/>
                </a:xfrm>
                <a:prstGeom prst="rect">
                  <a:avLst/>
                </a:prstGeom>
                <a:solidFill>
                  <a:srgbClr val="86f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620400" y="1766520"/>
                  <a:ext cx="2160" cy="3009600"/>
                </a:xfrm>
                <a:prstGeom prst="rect">
                  <a:avLst/>
                </a:prstGeom>
                <a:solidFill>
                  <a:srgbClr val="86f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622920" y="1766520"/>
                  <a:ext cx="4320" cy="3009600"/>
                </a:xfrm>
                <a:prstGeom prst="rect">
                  <a:avLst/>
                </a:prstGeom>
                <a:solidFill>
                  <a:srgbClr val="85f3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627240" y="1766520"/>
                  <a:ext cx="3240" cy="3009600"/>
                </a:xfrm>
                <a:prstGeom prst="rect">
                  <a:avLst/>
                </a:prstGeom>
                <a:solidFill>
                  <a:srgbClr val="84f3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630840" y="1766520"/>
                  <a:ext cx="4680" cy="3009600"/>
                </a:xfrm>
                <a:prstGeom prst="rect">
                  <a:avLst/>
                </a:prstGeom>
                <a:solidFill>
                  <a:srgbClr val="83f2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635880" y="1766520"/>
                  <a:ext cx="4680" cy="3009600"/>
                </a:xfrm>
                <a:prstGeom prst="rect">
                  <a:avLst/>
                </a:prstGeom>
                <a:solidFill>
                  <a:srgbClr val="82f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640920" y="1766520"/>
                  <a:ext cx="2160" cy="3009600"/>
                </a:xfrm>
                <a:prstGeom prst="rect">
                  <a:avLst/>
                </a:prstGeom>
                <a:solidFill>
                  <a:srgbClr val="81f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643080" y="1766520"/>
                  <a:ext cx="3240" cy="3009600"/>
                </a:xfrm>
                <a:prstGeom prst="rect">
                  <a:avLst/>
                </a:prstGeom>
                <a:solidFill>
                  <a:srgbClr val="81f1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646680" y="1766520"/>
                  <a:ext cx="4320" cy="3009600"/>
                </a:xfrm>
                <a:prstGeom prst="rect">
                  <a:avLst/>
                </a:prstGeom>
                <a:solidFill>
                  <a:srgbClr val="80f1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6651360" y="1766520"/>
                  <a:ext cx="3600" cy="3009600"/>
                </a:xfrm>
                <a:prstGeom prst="rect">
                  <a:avLst/>
                </a:prstGeom>
                <a:solidFill>
                  <a:srgbClr val="7ff0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6655320" y="1766520"/>
                  <a:ext cx="3240" cy="3009600"/>
                </a:xfrm>
                <a:prstGeom prst="rect">
                  <a:avLst/>
                </a:prstGeom>
                <a:solidFill>
                  <a:srgbClr val="7ef0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658920" y="1766520"/>
                  <a:ext cx="3240" cy="3009600"/>
                </a:xfrm>
                <a:prstGeom prst="rect">
                  <a:avLst/>
                </a:prstGeom>
                <a:solidFill>
                  <a:srgbClr val="7d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6662520" y="1766520"/>
                  <a:ext cx="4680" cy="3009600"/>
                </a:xfrm>
                <a:prstGeom prst="rect">
                  <a:avLst/>
                </a:prstGeom>
                <a:solidFill>
                  <a:srgbClr val="7c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6667200" y="1766520"/>
                  <a:ext cx="3240" cy="3009600"/>
                </a:xfrm>
                <a:prstGeom prst="rect">
                  <a:avLst/>
                </a:prstGeom>
                <a:solidFill>
                  <a:srgbClr val="7be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670800" y="1766520"/>
                  <a:ext cx="3240" cy="3009600"/>
                </a:xfrm>
                <a:prstGeom prst="rect">
                  <a:avLst/>
                </a:prstGeom>
                <a:solidFill>
                  <a:srgbClr val="7aee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6674400" y="1766520"/>
                  <a:ext cx="3240" cy="3009600"/>
                </a:xfrm>
                <a:prstGeom prst="rect">
                  <a:avLst/>
                </a:prstGeom>
                <a:solidFill>
                  <a:srgbClr val="79ed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678000" y="1766520"/>
                  <a:ext cx="4680" cy="3009600"/>
                </a:xfrm>
                <a:prstGeom prst="rect">
                  <a:avLst/>
                </a:prstGeom>
                <a:solidFill>
                  <a:srgbClr val="79ed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6682680" y="1766520"/>
                  <a:ext cx="3240" cy="3009600"/>
                </a:xfrm>
                <a:prstGeom prst="rect">
                  <a:avLst/>
                </a:prstGeom>
                <a:solidFill>
                  <a:srgbClr val="77ec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686280" y="1766520"/>
                  <a:ext cx="4680" cy="3009600"/>
                </a:xfrm>
                <a:prstGeom prst="rect">
                  <a:avLst/>
                </a:prstGeom>
                <a:solidFill>
                  <a:srgbClr val="76eb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6691320" y="1766520"/>
                  <a:ext cx="2160" cy="3009600"/>
                </a:xfrm>
                <a:prstGeom prst="rect">
                  <a:avLst/>
                </a:prstGeom>
                <a:solidFill>
                  <a:srgbClr val="75eb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6693840" y="1766520"/>
                  <a:ext cx="4320" cy="3009600"/>
                </a:xfrm>
                <a:prstGeom prst="rect">
                  <a:avLst/>
                </a:prstGeom>
                <a:solidFill>
                  <a:srgbClr val="74eb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6698520" y="1766520"/>
                  <a:ext cx="3600" cy="3009600"/>
                </a:xfrm>
                <a:prstGeom prst="rect">
                  <a:avLst/>
                </a:prstGeom>
                <a:solidFill>
                  <a:srgbClr val="73ea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702120" y="1766520"/>
                  <a:ext cx="4320" cy="3009600"/>
                </a:xfrm>
                <a:prstGeom prst="rect">
                  <a:avLst/>
                </a:prstGeom>
                <a:solidFill>
                  <a:srgbClr val="72ea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6706800" y="1766520"/>
                  <a:ext cx="2160" cy="3009600"/>
                </a:xfrm>
                <a:prstGeom prst="rect">
                  <a:avLst/>
                </a:prstGeom>
                <a:solidFill>
                  <a:srgbClr val="71e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709320" y="1766520"/>
                  <a:ext cx="4680" cy="3009600"/>
                </a:xfrm>
                <a:prstGeom prst="rect">
                  <a:avLst/>
                </a:prstGeom>
                <a:solidFill>
                  <a:srgbClr val="70e8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6714360" y="1766520"/>
                  <a:ext cx="3240" cy="3009600"/>
                </a:xfrm>
                <a:prstGeom prst="rect">
                  <a:avLst/>
                </a:prstGeom>
                <a:solidFill>
                  <a:srgbClr val="6fe8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717960" y="1766520"/>
                  <a:ext cx="4680" cy="3009600"/>
                </a:xfrm>
                <a:prstGeom prst="rect">
                  <a:avLst/>
                </a:prstGeom>
                <a:solidFill>
                  <a:srgbClr val="6de7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722640" y="1766520"/>
                  <a:ext cx="3240" cy="3009600"/>
                </a:xfrm>
                <a:prstGeom prst="rect">
                  <a:avLst/>
                </a:prstGeom>
                <a:solidFill>
                  <a:srgbClr val="6ce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726240" y="1766520"/>
                  <a:ext cx="3240" cy="3009600"/>
                </a:xfrm>
                <a:prstGeom prst="rect">
                  <a:avLst/>
                </a:prstGeom>
                <a:solidFill>
                  <a:srgbClr val="6be6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729840" y="1766520"/>
                  <a:ext cx="3240" cy="3009600"/>
                </a:xfrm>
                <a:prstGeom prst="rect">
                  <a:avLst/>
                </a:prstGeom>
                <a:solidFill>
                  <a:srgbClr val="6a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733440" y="1766520"/>
                  <a:ext cx="4680" cy="3009600"/>
                </a:xfrm>
                <a:prstGeom prst="rect">
                  <a:avLst/>
                </a:prstGeom>
                <a:solidFill>
                  <a:srgbClr val="68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38120" y="1766520"/>
                  <a:ext cx="3240" cy="3009600"/>
                </a:xfrm>
                <a:prstGeom prst="rect">
                  <a:avLst/>
                </a:prstGeom>
                <a:solidFill>
                  <a:srgbClr val="68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741720" y="1766520"/>
                  <a:ext cx="2160" cy="3009600"/>
                </a:xfrm>
                <a:prstGeom prst="rect">
                  <a:avLst/>
                </a:prstGeom>
                <a:solidFill>
                  <a:srgbClr val="66e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744240" y="1766520"/>
                  <a:ext cx="4680" cy="3009600"/>
                </a:xfrm>
                <a:prstGeom prst="rect">
                  <a:avLst/>
                </a:prstGeom>
                <a:solidFill>
                  <a:srgbClr val="65e3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749280" y="1766520"/>
                  <a:ext cx="4320" cy="3009600"/>
                </a:xfrm>
                <a:prstGeom prst="rect">
                  <a:avLst/>
                </a:prstGeom>
                <a:solidFill>
                  <a:srgbClr val="64e3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753960" y="1766520"/>
                  <a:ext cx="3240" cy="3009600"/>
                </a:xfrm>
                <a:prstGeom prst="rect">
                  <a:avLst/>
                </a:prstGeom>
                <a:solidFill>
                  <a:srgbClr val="62e2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6757200" y="1766520"/>
                  <a:ext cx="2160" cy="3009600"/>
                </a:xfrm>
                <a:prstGeom prst="rect">
                  <a:avLst/>
                </a:prstGeom>
                <a:solidFill>
                  <a:srgbClr val="61e2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759720" y="1766520"/>
                  <a:ext cx="4680" cy="3009600"/>
                </a:xfrm>
                <a:prstGeom prst="rect">
                  <a:avLst/>
                </a:prstGeom>
                <a:solidFill>
                  <a:srgbClr val="60e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764760" y="1766520"/>
                  <a:ext cx="3240" cy="3009600"/>
                </a:xfrm>
                <a:prstGeom prst="rect">
                  <a:avLst/>
                </a:prstGeom>
                <a:solidFill>
                  <a:srgbClr val="5fe1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768360" y="1766520"/>
                  <a:ext cx="4680" cy="3009600"/>
                </a:xfrm>
                <a:prstGeom prst="rect">
                  <a:avLst/>
                </a:prstGeom>
                <a:solidFill>
                  <a:srgbClr val="5de0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6773040" y="1766520"/>
                  <a:ext cx="4320" cy="3009600"/>
                </a:xfrm>
                <a:prstGeom prst="rect">
                  <a:avLst/>
                </a:prstGeom>
                <a:solidFill>
                  <a:srgbClr val="5ce0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777720" y="1766520"/>
                  <a:ext cx="2160" cy="3009600"/>
                </a:xfrm>
                <a:prstGeom prst="rect">
                  <a:avLst/>
                </a:prstGeom>
                <a:solidFill>
                  <a:srgbClr val="5bdf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780240" y="1766520"/>
                  <a:ext cx="3240" cy="3009600"/>
                </a:xfrm>
                <a:prstGeom prst="rect">
                  <a:avLst/>
                </a:prstGeom>
                <a:solidFill>
                  <a:srgbClr val="59de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6783840" y="1766520"/>
                  <a:ext cx="4680" cy="3009600"/>
                </a:xfrm>
                <a:prstGeom prst="rect">
                  <a:avLst/>
                </a:prstGeom>
                <a:solidFill>
                  <a:srgbClr val="58de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788880" y="1766520"/>
                  <a:ext cx="3240" cy="3009600"/>
                </a:xfrm>
                <a:prstGeom prst="rect">
                  <a:avLst/>
                </a:prstGeom>
                <a:solidFill>
                  <a:srgbClr val="57dd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792480" y="1766520"/>
                  <a:ext cx="3600" cy="3009600"/>
                </a:xfrm>
                <a:prstGeom prst="rect">
                  <a:avLst/>
                </a:prstGeom>
                <a:solidFill>
                  <a:srgbClr val="55dd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6796080" y="1766520"/>
                  <a:ext cx="3240" cy="3009600"/>
                </a:xfrm>
                <a:prstGeom prst="rect">
                  <a:avLst/>
                </a:prstGeom>
                <a:solidFill>
                  <a:srgbClr val="54dc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6799680" y="1766520"/>
                  <a:ext cx="4320" cy="3009600"/>
                </a:xfrm>
                <a:prstGeom prst="rect">
                  <a:avLst/>
                </a:prstGeom>
                <a:solidFill>
                  <a:srgbClr val="53d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804360" y="1766520"/>
                  <a:ext cx="3600" cy="3009600"/>
                </a:xfrm>
                <a:prstGeom prst="rect">
                  <a:avLst/>
                </a:prstGeom>
                <a:solidFill>
                  <a:srgbClr val="51db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808320" y="1766520"/>
                  <a:ext cx="4320" cy="3009600"/>
                </a:xfrm>
                <a:prstGeom prst="rect">
                  <a:avLst/>
                </a:prstGeom>
                <a:solidFill>
                  <a:srgbClr val="50db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812640" y="1766520"/>
                  <a:ext cx="2160" cy="3009600"/>
                </a:xfrm>
                <a:prstGeom prst="rect">
                  <a:avLst/>
                </a:prstGeom>
                <a:solidFill>
                  <a:srgbClr val="4fd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815160" y="1766520"/>
                  <a:ext cx="4680" cy="3009600"/>
                </a:xfrm>
                <a:prstGeom prst="rect">
                  <a:avLst/>
                </a:prstGeom>
                <a:solidFill>
                  <a:srgbClr val="4dda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6820200" y="1766520"/>
                  <a:ext cx="3240" cy="3009600"/>
                </a:xfrm>
                <a:prstGeom prst="rect">
                  <a:avLst/>
                </a:prstGeom>
                <a:solidFill>
                  <a:srgbClr val="4cd9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823800" y="1766520"/>
                  <a:ext cx="4680" cy="3009600"/>
                </a:xfrm>
                <a:prstGeom prst="rect">
                  <a:avLst/>
                </a:prstGeom>
                <a:solidFill>
                  <a:srgbClr val="4bd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828480" y="1766520"/>
                  <a:ext cx="2160" cy="3009600"/>
                </a:xfrm>
                <a:prstGeom prst="rect">
                  <a:avLst/>
                </a:prstGeom>
                <a:solidFill>
                  <a:srgbClr val="49d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830640" y="1766520"/>
                  <a:ext cx="4680" cy="3009600"/>
                </a:xfrm>
                <a:prstGeom prst="rect">
                  <a:avLst/>
                </a:prstGeom>
                <a:solidFill>
                  <a:srgbClr val="48d8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835680" y="1766520"/>
                  <a:ext cx="3240" cy="3009600"/>
                </a:xfrm>
                <a:prstGeom prst="rect">
                  <a:avLst/>
                </a:prstGeom>
                <a:solidFill>
                  <a:srgbClr val="46d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839280" y="1766520"/>
                  <a:ext cx="4680" cy="3009600"/>
                </a:xfrm>
                <a:prstGeom prst="rect">
                  <a:avLst/>
                </a:prstGeom>
                <a:solidFill>
                  <a:srgbClr val="45d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844320" y="1766520"/>
                  <a:ext cx="2160" cy="3009600"/>
                </a:xfrm>
                <a:prstGeom prst="rect">
                  <a:avLst/>
                </a:prstGeom>
                <a:solidFill>
                  <a:srgbClr val="44d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846480" y="1766520"/>
                  <a:ext cx="4320" cy="3009600"/>
                </a:xfrm>
                <a:prstGeom prst="rect">
                  <a:avLst/>
                </a:prstGeom>
                <a:solidFill>
                  <a:srgbClr val="42d6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851160" y="1766520"/>
                  <a:ext cx="3600" cy="3009600"/>
                </a:xfrm>
                <a:prstGeom prst="rect">
                  <a:avLst/>
                </a:prstGeom>
                <a:solidFill>
                  <a:srgbClr val="41d6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855120" y="1766520"/>
                  <a:ext cx="4320" cy="3009600"/>
                </a:xfrm>
                <a:prstGeom prst="rect">
                  <a:avLst/>
                </a:prstGeom>
                <a:solidFill>
                  <a:srgbClr val="40d5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859800" y="1766520"/>
                  <a:ext cx="3240" cy="3009600"/>
                </a:xfrm>
                <a:prstGeom prst="rect">
                  <a:avLst/>
                </a:prstGeom>
                <a:solidFill>
                  <a:srgbClr val="3ed5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863400" y="1766520"/>
                  <a:ext cx="3600" cy="3009600"/>
                </a:xfrm>
                <a:prstGeom prst="rect">
                  <a:avLst/>
                </a:prstGeom>
                <a:solidFill>
                  <a:srgbClr val="3dd4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867000" y="1766520"/>
                  <a:ext cx="3240" cy="3009600"/>
                </a:xfrm>
                <a:prstGeom prst="rect">
                  <a:avLst/>
                </a:prstGeom>
                <a:solidFill>
                  <a:srgbClr val="3cd4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870600" y="1766520"/>
                  <a:ext cx="4680" cy="3009600"/>
                </a:xfrm>
                <a:prstGeom prst="rect">
                  <a:avLst/>
                </a:prstGeom>
                <a:solidFill>
                  <a:srgbClr val="3ad4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875640" y="1766520"/>
                  <a:ext cx="3240" cy="3009600"/>
                </a:xfrm>
                <a:prstGeom prst="rect">
                  <a:avLst/>
                </a:prstGeom>
                <a:solidFill>
                  <a:srgbClr val="39d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879240" y="1766520"/>
                  <a:ext cx="2160" cy="3009600"/>
                </a:xfrm>
                <a:prstGeom prst="rect">
                  <a:avLst/>
                </a:prstGeom>
                <a:solidFill>
                  <a:srgbClr val="38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881760" y="1766520"/>
                  <a:ext cx="4320" cy="3009600"/>
                </a:xfrm>
                <a:prstGeom prst="rect">
                  <a:avLst/>
                </a:prstGeom>
                <a:solidFill>
                  <a:srgbClr val="36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886080" y="1766520"/>
                  <a:ext cx="4680" cy="3009600"/>
                </a:xfrm>
                <a:prstGeom prst="rect">
                  <a:avLst/>
                </a:prstGeom>
                <a:solidFill>
                  <a:srgbClr val="35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891120" y="1766520"/>
                  <a:ext cx="3240" cy="3009600"/>
                </a:xfrm>
                <a:prstGeom prst="rect">
                  <a:avLst/>
                </a:prstGeom>
                <a:solidFill>
                  <a:srgbClr val="34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894720" y="1766520"/>
                  <a:ext cx="4680" cy="3009600"/>
                </a:xfrm>
                <a:prstGeom prst="rect">
                  <a:avLst/>
                </a:prstGeom>
                <a:solidFill>
                  <a:srgbClr val="32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899760" y="1766520"/>
                  <a:ext cx="2160" cy="3009600"/>
                </a:xfrm>
                <a:prstGeom prst="rect">
                  <a:avLst/>
                </a:prstGeom>
                <a:solidFill>
                  <a:srgbClr val="31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901920" y="1766520"/>
                  <a:ext cx="3240" cy="3009600"/>
                </a:xfrm>
                <a:prstGeom prst="rect">
                  <a:avLst/>
                </a:prstGeom>
                <a:solidFill>
                  <a:srgbClr val="30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905520" y="1766520"/>
                  <a:ext cx="4320" cy="3009600"/>
                </a:xfrm>
                <a:prstGeom prst="rect">
                  <a:avLst/>
                </a:prstGeom>
                <a:solidFill>
                  <a:srgbClr val="2e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910200" y="1766520"/>
                  <a:ext cx="3600" cy="3009600"/>
                </a:xfrm>
                <a:prstGeom prst="rect">
                  <a:avLst/>
                </a:prstGeom>
                <a:solidFill>
                  <a:srgbClr val="2e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6914160" y="1766520"/>
                  <a:ext cx="3240" cy="3009600"/>
                </a:xfrm>
                <a:prstGeom prst="rect">
                  <a:avLst/>
                </a:prstGeom>
                <a:solidFill>
                  <a:srgbClr val="2c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917760" y="1766520"/>
                  <a:ext cx="3240" cy="3009600"/>
                </a:xfrm>
                <a:prstGeom prst="rect">
                  <a:avLst/>
                </a:prstGeom>
                <a:solidFill>
                  <a:srgbClr val="2a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921000" y="1766520"/>
                  <a:ext cx="4680" cy="3009600"/>
                </a:xfrm>
                <a:prstGeom prst="rect">
                  <a:avLst/>
                </a:prstGeom>
                <a:solidFill>
                  <a:srgbClr val="2a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926040" y="1766520"/>
                  <a:ext cx="3240" cy="3009600"/>
                </a:xfrm>
                <a:prstGeom prst="rect">
                  <a:avLst/>
                </a:prstGeom>
                <a:solidFill>
                  <a:srgbClr val="28cf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929640" y="1766520"/>
                  <a:ext cx="3240" cy="3009600"/>
                </a:xfrm>
                <a:prstGeom prst="rect">
                  <a:avLst/>
                </a:prstGeom>
                <a:solidFill>
                  <a:srgbClr val="27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933240" y="1766520"/>
                  <a:ext cx="3240" cy="3009600"/>
                </a:xfrm>
                <a:prstGeom prst="rect">
                  <a:avLst/>
                </a:prstGeom>
                <a:solidFill>
                  <a:srgbClr val="26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936840" y="1766520"/>
                  <a:ext cx="4680" cy="3009600"/>
                </a:xfrm>
                <a:prstGeom prst="rect">
                  <a:avLst/>
                </a:prstGeom>
                <a:solidFill>
                  <a:srgbClr val="24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941520" y="1766520"/>
                  <a:ext cx="3240" cy="3009600"/>
                </a:xfrm>
                <a:prstGeom prst="rect">
                  <a:avLst/>
                </a:prstGeom>
                <a:solidFill>
                  <a:srgbClr val="23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6945120" y="1766520"/>
                  <a:ext cx="4680" cy="3009600"/>
                </a:xfrm>
                <a:prstGeom prst="rect">
                  <a:avLst/>
                </a:prstGeom>
                <a:solidFill>
                  <a:srgbClr val="22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950160" y="1766520"/>
                  <a:ext cx="2160" cy="3009600"/>
                </a:xfrm>
                <a:prstGeom prst="rect">
                  <a:avLst/>
                </a:prstGeom>
                <a:solidFill>
                  <a:srgbClr val="20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952680" y="1766520"/>
                  <a:ext cx="4320" cy="3009600"/>
                </a:xfrm>
                <a:prstGeom prst="rect">
                  <a:avLst/>
                </a:prstGeom>
                <a:solidFill>
                  <a:srgbClr val="1f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957360" y="1766520"/>
                  <a:ext cx="3600" cy="3009600"/>
                </a:xfrm>
                <a:prstGeom prst="rect">
                  <a:avLst/>
                </a:prstGeom>
                <a:solidFill>
                  <a:srgbClr val="1e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6960960" y="1766520"/>
                  <a:ext cx="4320" cy="3009600"/>
                </a:xfrm>
                <a:prstGeom prst="rect">
                  <a:avLst/>
                </a:prstGeom>
                <a:solidFill>
                  <a:srgbClr val="1d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965640" y="1766520"/>
                  <a:ext cx="2160" cy="3009600"/>
                </a:xfrm>
                <a:prstGeom prst="rect">
                  <a:avLst/>
                </a:prstGeom>
                <a:solidFill>
                  <a:srgbClr val="1b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968160" y="1766520"/>
                  <a:ext cx="4680" cy="3009600"/>
                </a:xfrm>
                <a:prstGeom prst="rect">
                  <a:avLst/>
                </a:prstGeom>
                <a:solidFill>
                  <a:srgbClr val="1a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973200" y="1766520"/>
                  <a:ext cx="3240" cy="3009600"/>
                </a:xfrm>
                <a:prstGeom prst="rect">
                  <a:avLst/>
                </a:prstGeom>
                <a:solidFill>
                  <a:srgbClr val="19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976440" y="1766520"/>
                  <a:ext cx="4680" cy="3009600"/>
                </a:xfrm>
                <a:prstGeom prst="rect">
                  <a:avLst/>
                </a:prstGeom>
                <a:solidFill>
                  <a:srgbClr val="17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981480" y="1766520"/>
                  <a:ext cx="3240" cy="3009600"/>
                </a:xfrm>
                <a:prstGeom prst="rect">
                  <a:avLst/>
                </a:prstGeom>
                <a:solidFill>
                  <a:srgbClr val="17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985080" y="1766520"/>
                  <a:ext cx="3240" cy="3009600"/>
                </a:xfrm>
                <a:prstGeom prst="rect">
                  <a:avLst/>
                </a:prstGeom>
                <a:solidFill>
                  <a:srgbClr val="15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6988680" y="1766520"/>
                  <a:ext cx="3240" cy="3009600"/>
                </a:xfrm>
                <a:prstGeom prst="rect">
                  <a:avLst/>
                </a:prstGeom>
                <a:solidFill>
                  <a:srgbClr val="1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992280" y="1766520"/>
                  <a:ext cx="4680" cy="3009600"/>
                </a:xfrm>
                <a:prstGeom prst="rect">
                  <a:avLst/>
                </a:prstGeom>
                <a:solidFill>
                  <a:srgbClr val="1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996960" y="1766520"/>
                  <a:ext cx="3240" cy="3009600"/>
                </a:xfrm>
                <a:prstGeom prst="rect">
                  <a:avLst/>
                </a:prstGeom>
                <a:solidFill>
                  <a:srgbClr val="11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000560" y="1766520"/>
                  <a:ext cx="3240" cy="3009600"/>
                </a:xfrm>
                <a:prstGeom prst="rect">
                  <a:avLst/>
                </a:prstGeom>
                <a:solidFill>
                  <a:srgbClr val="0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7004160" y="1766520"/>
                  <a:ext cx="3600" cy="3009600"/>
                </a:xfrm>
                <a:prstGeom prst="rect">
                  <a:avLst/>
                </a:prstGeom>
                <a:solidFill>
                  <a:srgbClr val="0e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008120" y="1766520"/>
                  <a:ext cx="4320" cy="3009600"/>
                </a:xfrm>
                <a:prstGeom prst="rect">
                  <a:avLst/>
                </a:prstGeom>
                <a:solidFill>
                  <a:srgbClr val="0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012800" y="1766520"/>
                  <a:ext cx="3600" cy="3009600"/>
                </a:xfrm>
                <a:prstGeom prst="rect">
                  <a:avLst/>
                </a:prstGeom>
                <a:solidFill>
                  <a:srgbClr val="0a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016400" y="1766520"/>
                  <a:ext cx="2160" cy="3009600"/>
                </a:xfrm>
                <a:prstGeom prst="rect">
                  <a:avLst/>
                </a:prstGeom>
                <a:solidFill>
                  <a:srgbClr val="0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018560" y="1766520"/>
                  <a:ext cx="4680" cy="3009600"/>
                </a:xfrm>
                <a:prstGeom prst="rect">
                  <a:avLst/>
                </a:prstGeom>
                <a:solidFill>
                  <a:srgbClr val="06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023600" y="1766520"/>
                  <a:ext cx="3240" cy="3009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7" name=""/>
            <p:cNvGrpSpPr/>
            <p:nvPr/>
          </p:nvGrpSpPr>
          <p:grpSpPr>
            <a:xfrm>
              <a:off x="6941880" y="1681200"/>
              <a:ext cx="2006280" cy="3094920"/>
              <a:chOff x="6941880" y="1681200"/>
              <a:chExt cx="2006280" cy="3094920"/>
            </a:xfrm>
          </p:grpSpPr>
          <p:grpSp>
            <p:nvGrpSpPr>
              <p:cNvPr id="1578" name=""/>
              <p:cNvGrpSpPr/>
              <p:nvPr/>
            </p:nvGrpSpPr>
            <p:grpSpPr>
              <a:xfrm>
                <a:off x="6941880" y="1681200"/>
                <a:ext cx="2006280" cy="3094920"/>
                <a:chOff x="6941880" y="1681200"/>
                <a:chExt cx="2006280" cy="309492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8894520" y="1681200"/>
                  <a:ext cx="53280" cy="3094920"/>
                </a:xfrm>
                <a:custGeom>
                  <a:avLst/>
                  <a:gdLst/>
                  <a:ahLst/>
                  <a:rect l="l" t="t" r="r" b="b"/>
                  <a:pathLst>
                    <a:path w="37" h="1744">
                      <a:moveTo>
                        <a:pt x="0" y="1744"/>
                      </a:moveTo>
                      <a:lnTo>
                        <a:pt x="0" y="39"/>
                      </a:lnTo>
                      <a:lnTo>
                        <a:pt x="37" y="0"/>
                      </a:lnTo>
                      <a:lnTo>
                        <a:pt x="37" y="1635"/>
                      </a:lnTo>
                      <a:lnTo>
                        <a:pt x="0" y="1744"/>
                      </a:lnTo>
                      <a:close/>
                    </a:path>
                  </a:pathLst>
                </a:custGeom>
                <a:solidFill>
                  <a:srgbClr val="e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941880" y="1681200"/>
                  <a:ext cx="2006280" cy="69120"/>
                </a:xfrm>
                <a:custGeom>
                  <a:avLst/>
                  <a:gdLst/>
                  <a:ahLst/>
                  <a:rect l="l" t="t" r="r" b="b"/>
                  <a:pathLst>
                    <a:path w="1391" h="39">
                      <a:moveTo>
                        <a:pt x="1354" y="39"/>
                      </a:moveTo>
                      <a:lnTo>
                        <a:pt x="0" y="39"/>
                      </a:lnTo>
                      <a:lnTo>
                        <a:pt x="93" y="0"/>
                      </a:lnTo>
                      <a:lnTo>
                        <a:pt x="1391" y="0"/>
                      </a:lnTo>
                      <a:lnTo>
                        <a:pt x="1354" y="39"/>
                      </a:lnTo>
                      <a:close/>
                    </a:path>
                  </a:pathLst>
                </a:custGeom>
                <a:solidFill>
                  <a:srgbClr val="98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941880" y="1750320"/>
                <a:ext cx="1952280" cy="3025800"/>
                <a:chOff x="6941880" y="1750320"/>
                <a:chExt cx="1952280" cy="302580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941880" y="17503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960240" y="1750320"/>
                  <a:ext cx="1872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6979320" y="17503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6998040" y="1750320"/>
                  <a:ext cx="1836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016760" y="1750320"/>
                  <a:ext cx="1872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035480" y="1750320"/>
                  <a:ext cx="183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054200" y="1750320"/>
                  <a:ext cx="201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74360" y="1750320"/>
                  <a:ext cx="1836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093080" y="1750320"/>
                  <a:ext cx="1836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111800" y="1750320"/>
                  <a:ext cx="18720" cy="302580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130880" y="1750320"/>
                  <a:ext cx="18360" cy="302580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149240" y="1750320"/>
                  <a:ext cx="18360" cy="302580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167960" y="1750320"/>
                  <a:ext cx="17280" cy="3025800"/>
                </a:xfrm>
                <a:prstGeom prst="rect">
                  <a:avLst/>
                </a:prstGeom>
                <a:solidFill>
                  <a:srgbClr val="ff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185240" y="1750320"/>
                  <a:ext cx="18360" cy="302580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7203960" y="1750320"/>
                  <a:ext cx="18720" cy="302580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7223040" y="1750320"/>
                  <a:ext cx="18360" cy="3025800"/>
                </a:xfrm>
                <a:prstGeom prst="rect">
                  <a:avLst/>
                </a:prstGeom>
                <a:solidFill>
                  <a:srgbClr val="ff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241760" y="1750320"/>
                  <a:ext cx="18360" cy="302580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7260120" y="1750320"/>
                  <a:ext cx="18720" cy="302580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7279200" y="1750320"/>
                  <a:ext cx="18360" cy="3025800"/>
                </a:xfrm>
                <a:prstGeom prst="rect">
                  <a:avLst/>
                </a:prstGeom>
                <a:solidFill>
                  <a:srgbClr val="ff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297920" y="1750320"/>
                  <a:ext cx="20160" cy="302580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7318080" y="1750320"/>
                  <a:ext cx="18360" cy="3025800"/>
                </a:xfrm>
                <a:prstGeom prst="rect">
                  <a:avLst/>
                </a:prstGeom>
                <a:solidFill>
                  <a:srgbClr val="ff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336800" y="1750320"/>
                  <a:ext cx="18360" cy="3025800"/>
                </a:xfrm>
                <a:prstGeom prst="rect">
                  <a:avLst/>
                </a:prstGeom>
                <a:solidFill>
                  <a:srgbClr val="ff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55520" y="1750320"/>
                  <a:ext cx="18720" cy="302580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374240" y="1750320"/>
                  <a:ext cx="18360" cy="3025800"/>
                </a:xfrm>
                <a:prstGeom prst="rect">
                  <a:avLst/>
                </a:prstGeom>
                <a:solidFill>
                  <a:srgbClr val="ff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392960" y="1750320"/>
                  <a:ext cx="18360" cy="302580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411680" y="1750320"/>
                  <a:ext cx="18720" cy="3025800"/>
                </a:xfrm>
                <a:prstGeom prst="rect">
                  <a:avLst/>
                </a:prstGeom>
                <a:solidFill>
                  <a:srgbClr val="ff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430760" y="1750320"/>
                  <a:ext cx="18360" cy="302580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449120" y="1750320"/>
                  <a:ext cx="18360" cy="302580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467840" y="1750320"/>
                  <a:ext cx="17280" cy="302580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485120" y="1750320"/>
                  <a:ext cx="18720" cy="302580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04200" y="1750320"/>
                  <a:ext cx="18360" cy="302580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522920" y="1750320"/>
                  <a:ext cx="18360" cy="3025800"/>
                </a:xfrm>
                <a:prstGeom prst="rect">
                  <a:avLst/>
                </a:prstGeom>
                <a:solidFill>
                  <a:srgbClr val="ff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541640" y="1750320"/>
                  <a:ext cx="20160" cy="302580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561800" y="1750320"/>
                  <a:ext cx="18360" cy="3025800"/>
                </a:xfrm>
                <a:prstGeom prst="rect">
                  <a:avLst/>
                </a:pr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580520" y="1750320"/>
                  <a:ext cx="18720" cy="302580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599240" y="1750320"/>
                  <a:ext cx="18360" cy="302580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617960" y="1750320"/>
                  <a:ext cx="18360" cy="3025800"/>
                </a:xfrm>
                <a:prstGeom prst="rect">
                  <a:avLst/>
                </a:prstGeom>
                <a:solidFill>
                  <a:srgbClr val="ff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36680" y="1750320"/>
                  <a:ext cx="18720" cy="302580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655760" y="1750320"/>
                  <a:ext cx="18360" cy="302580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7674120" y="1750320"/>
                  <a:ext cx="1836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2840" y="1750320"/>
                  <a:ext cx="1872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7711920" y="1750320"/>
                  <a:ext cx="18360" cy="302580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7730640" y="1750320"/>
                  <a:ext cx="1836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7749000" y="1750320"/>
                  <a:ext cx="1728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7766280" y="1750320"/>
                  <a:ext cx="18720" cy="302580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7785360" y="1750320"/>
                  <a:ext cx="1980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7805520" y="1750320"/>
                  <a:ext cx="1872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7824240" y="1750320"/>
                  <a:ext cx="1836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7842960" y="17503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7861680" y="1750320"/>
                  <a:ext cx="1872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7880760" y="17503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7899120" y="1750320"/>
                  <a:ext cx="18360" cy="302580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7917840" y="1750320"/>
                  <a:ext cx="18720" cy="302580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7936920" y="17503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7955640" y="17503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7974000" y="1750320"/>
                  <a:ext cx="1872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7993080" y="1750320"/>
                  <a:ext cx="1836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8011800" y="1750320"/>
                  <a:ext cx="1836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030520" y="1750320"/>
                  <a:ext cx="20160" cy="302580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8050680" y="1750320"/>
                  <a:ext cx="18360" cy="302580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8069400" y="1750320"/>
                  <a:ext cx="1872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088120" y="1750320"/>
                  <a:ext cx="1728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8105760" y="1750320"/>
                  <a:ext cx="18360" cy="302580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8124120" y="1750320"/>
                  <a:ext cx="1836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142840" y="1750320"/>
                  <a:ext cx="1872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8161920" y="1750320"/>
                  <a:ext cx="18360" cy="302580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8180640" y="1750320"/>
                  <a:ext cx="18360" cy="302580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199000" y="1750320"/>
                  <a:ext cx="18720" cy="3025800"/>
                </a:xfrm>
                <a:prstGeom prst="rect">
                  <a:avLst/>
                </a:prstGeom>
                <a:solidFill>
                  <a:srgbClr val="ff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218080" y="1750320"/>
                  <a:ext cx="18360" cy="302580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236800" y="1750320"/>
                  <a:ext cx="18360" cy="302580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255520" y="1750320"/>
                  <a:ext cx="18360" cy="3025800"/>
                </a:xfrm>
                <a:prstGeom prst="rect">
                  <a:avLst/>
                </a:pr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8273880" y="1750320"/>
                  <a:ext cx="20160" cy="302580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8294400" y="1750320"/>
                  <a:ext cx="18720" cy="3025800"/>
                </a:xfrm>
                <a:prstGeom prst="rect">
                  <a:avLst/>
                </a:prstGeom>
                <a:solidFill>
                  <a:srgbClr val="ff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313120" y="1750320"/>
                  <a:ext cx="18360" cy="302580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331840" y="1750320"/>
                  <a:ext cx="18360" cy="302580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8350560" y="1750320"/>
                  <a:ext cx="18720" cy="302580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369640" y="1750320"/>
                  <a:ext cx="18360" cy="302580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8388000" y="1750320"/>
                  <a:ext cx="17280" cy="302580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8405640" y="1750320"/>
                  <a:ext cx="18360" cy="3025800"/>
                </a:xfrm>
                <a:prstGeom prst="rect">
                  <a:avLst/>
                </a:prstGeom>
                <a:solidFill>
                  <a:srgbClr val="ff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8424000" y="1750320"/>
                  <a:ext cx="18360" cy="302580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8442720" y="1750320"/>
                  <a:ext cx="18720" cy="3025800"/>
                </a:xfrm>
                <a:prstGeom prst="rect">
                  <a:avLst/>
                </a:prstGeom>
                <a:solidFill>
                  <a:srgbClr val="ff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8461800" y="1750320"/>
                  <a:ext cx="18360" cy="302580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8480520" y="1750320"/>
                  <a:ext cx="18360" cy="3025800"/>
                </a:xfrm>
                <a:prstGeom prst="rect">
                  <a:avLst/>
                </a:prstGeom>
                <a:solidFill>
                  <a:srgbClr val="ff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498880" y="1750320"/>
                  <a:ext cx="18720" cy="3025800"/>
                </a:xfrm>
                <a:prstGeom prst="rect">
                  <a:avLst/>
                </a:prstGeom>
                <a:solidFill>
                  <a:srgbClr val="ff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517960" y="1750320"/>
                  <a:ext cx="19800" cy="302580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8537760" y="1750320"/>
                  <a:ext cx="18720" cy="3025800"/>
                </a:xfrm>
                <a:prstGeom prst="rect">
                  <a:avLst/>
                </a:prstGeom>
                <a:solidFill>
                  <a:srgbClr val="ff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8556840" y="1750320"/>
                  <a:ext cx="18360" cy="302580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8575560" y="1750320"/>
                  <a:ext cx="18360" cy="302580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8594280" y="1750320"/>
                  <a:ext cx="18720" cy="3025800"/>
                </a:xfrm>
                <a:prstGeom prst="rect">
                  <a:avLst/>
                </a:prstGeom>
                <a:solidFill>
                  <a:srgbClr val="ff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8613000" y="1750320"/>
                  <a:ext cx="18360" cy="302580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8631720" y="1750320"/>
                  <a:ext cx="18360" cy="302580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8650440" y="1750320"/>
                  <a:ext cx="18720" cy="3025800"/>
                </a:xfrm>
                <a:prstGeom prst="rect">
                  <a:avLst/>
                </a:prstGeom>
                <a:solidFill>
                  <a:srgbClr val="ff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8669520" y="1750320"/>
                  <a:ext cx="17280" cy="302580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8686800" y="1750320"/>
                  <a:ext cx="18360" cy="302580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8705520" y="1750320"/>
                  <a:ext cx="18360" cy="302580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8723880" y="1750320"/>
                  <a:ext cx="1872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8742960" y="1750320"/>
                  <a:ext cx="1836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8761680" y="1750320"/>
                  <a:ext cx="201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8781840" y="1750320"/>
                  <a:ext cx="183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8800560" y="1750320"/>
                  <a:ext cx="1836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8819280" y="1750320"/>
                  <a:ext cx="1872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8838000" y="17503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8856720" y="17503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8875440" y="1750320"/>
                  <a:ext cx="1872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6" name=""/>
            <p:cNvSpPr/>
            <p:nvPr/>
          </p:nvSpPr>
          <p:spPr>
            <a:xfrm>
              <a:off x="5819760" y="4370400"/>
              <a:ext cx="1383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z/V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64360" y="4303800"/>
              <a:ext cx="1339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62120" y="4168800"/>
              <a:ext cx="15919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009520" y="4168800"/>
              <a:ext cx="11826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363920" y="2151000"/>
              <a:ext cx="1245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Dedicad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ara Lin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57640" y="342900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983360" y="34956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5957640" y="2688840"/>
              <a:ext cx="17280" cy="9414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165720" y="1816200"/>
              <a:ext cx="96948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serv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818040" y="1816200"/>
              <a:ext cx="21175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2700" spc="-1" strike="noStrike">
                  <a:solidFill>
                    <a:srgbClr val="a2a2a2"/>
                  </a:solidFill>
                  <a:latin typeface="Arial"/>
                </a:rPr>
                <a:t>IF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8243640" y="2285640"/>
              <a:ext cx="14040" cy="13446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939680" y="2151000"/>
              <a:ext cx="1107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8" name=""/>
            <p:cNvGrpSpPr/>
            <p:nvPr/>
          </p:nvGrpSpPr>
          <p:grpSpPr>
            <a:xfrm>
              <a:off x="998280" y="4773600"/>
              <a:ext cx="7965000" cy="673200"/>
              <a:chOff x="998280" y="4773600"/>
              <a:chExt cx="7965000" cy="673200"/>
            </a:xfrm>
          </p:grpSpPr>
          <p:sp>
            <p:nvSpPr>
              <p:cNvPr id="1699" name=""/>
              <p:cNvSpPr/>
              <p:nvPr/>
            </p:nvSpPr>
            <p:spPr>
              <a:xfrm flipV="1">
                <a:off x="998280" y="4773240"/>
                <a:ext cx="7965000" cy="6732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4000a2"/>
                  </a:gs>
                  <a:gs pos="50000">
                    <a:srgbClr val="0062e1"/>
                  </a:gs>
                  <a:gs pos="100000">
                    <a:srgbClr val="4000a2"/>
                  </a:gs>
                </a:gsLst>
                <a:lin ang="5400000"/>
              </a:gradFill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671280" y="4789440"/>
                <a:ext cx="2800080" cy="637920"/>
              </a:xfrm>
              <a:custGeom>
                <a:avLst/>
                <a:gdLst/>
                <a:ahLst/>
                <a:rect l="l" t="t" r="r" b="b"/>
                <a:pathLst>
                  <a:path w="680" h="721">
                    <a:moveTo>
                      <a:pt x="162" y="0"/>
                    </a:moveTo>
                    <a:lnTo>
                      <a:pt x="159" y="0"/>
                    </a:lnTo>
                    <a:lnTo>
                      <a:pt x="128" y="155"/>
                    </a:lnTo>
                    <a:lnTo>
                      <a:pt x="443" y="155"/>
                    </a:lnTo>
                    <a:lnTo>
                      <a:pt x="26" y="575"/>
                    </a:lnTo>
                    <a:lnTo>
                      <a:pt x="0" y="720"/>
                    </a:lnTo>
                    <a:lnTo>
                      <a:pt x="560" y="720"/>
                    </a:lnTo>
                    <a:lnTo>
                      <a:pt x="589" y="561"/>
                    </a:lnTo>
                    <a:lnTo>
                      <a:pt x="254" y="561"/>
                    </a:lnTo>
                    <a:lnTo>
                      <a:pt x="654" y="151"/>
                    </a:lnTo>
                    <a:lnTo>
                      <a:pt x="679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gradFill rotWithShape="0">
                <a:gsLst>
                  <a:gs pos="0">
                    <a:srgbClr val="e26200"/>
                  </a:gs>
                  <a:gs pos="50000">
                    <a:srgbClr val="ffffd0"/>
                  </a:gs>
                  <a:gs pos="100000">
                    <a:srgbClr val="e26200"/>
                  </a:gs>
                </a:gsLst>
                <a:lin ang="81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"/>
            <p:cNvSpPr/>
            <p:nvPr/>
          </p:nvSpPr>
          <p:spPr>
            <a:xfrm>
              <a:off x="8105760" y="2151000"/>
              <a:ext cx="96948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serv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39320" y="1341360"/>
              <a:ext cx="835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077560" y="1341360"/>
              <a:ext cx="835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4720" y="1341360"/>
              <a:ext cx="1440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 (n&lt;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23880" y="5378400"/>
              <a:ext cx="623520" cy="40320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035920" y="5378400"/>
              <a:ext cx="623520" cy="40320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(n&lt;1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641840" y="5378400"/>
              <a:ext cx="623520" cy="40320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09880" y="5378400"/>
              <a:ext cx="623520" cy="40320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581520" y="5378400"/>
              <a:ext cx="622080" cy="40320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6621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0095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04776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39408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797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2604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71976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0657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17380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5201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5126040" y="3629880"/>
              <a:ext cx="3533400" cy="135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5400000"/>
            </a:gra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581520" y="3495600"/>
              <a:ext cx="117612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perSockets-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572000" y="1344600"/>
              <a:ext cx="1004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819760" y="1344600"/>
              <a:ext cx="1004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253680" y="2689200"/>
              <a:ext cx="629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29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957640" y="329400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957640" y="316080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983360" y="32940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983360" y="30924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983360" y="28908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983360" y="26892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983360" y="24876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983360" y="2286000"/>
              <a:ext cx="2599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7640" y="302580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57640" y="289080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957640" y="268920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1385640" y="3428280"/>
              <a:ext cx="3531960" cy="135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5400000"/>
            </a:gra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840040" y="3294000"/>
              <a:ext cx="9694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perSockets-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539680" y="5378400"/>
              <a:ext cx="629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29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Segurança para Redes Virtuais – Com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Conceitos Básicos do StoneGate com Mainframe </a:t>
            </a: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zSeries.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Rodar o StoneGate em uma LPAR dedicada é o melhor em alguns caso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ntretanto, na maioria das vezes faz mais sentido estabelecer múltiplos StoneGates Virtuais para servirem várias aplicaçõ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timiza recursos com performa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42" name="graph_1" descr="The image “file:///C:/Datat/Logoja%20ja%20kuvia/graph_1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093680" y="2050920"/>
            <a:ext cx="341496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/>
          <p:nvPr/>
        </p:nvSpPr>
        <p:spPr>
          <a:xfrm>
            <a:off x="3169800" y="1008000"/>
            <a:ext cx="6296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fi-FI" sz="29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677880" y="1371600"/>
            <a:ext cx="8313840" cy="5363640"/>
            <a:chOff x="677880" y="1371600"/>
            <a:chExt cx="8313840" cy="5363640"/>
          </a:xfrm>
        </p:grpSpPr>
        <p:sp>
          <p:nvSpPr>
            <p:cNvPr id="1745" name=""/>
            <p:cNvSpPr/>
            <p:nvPr/>
          </p:nvSpPr>
          <p:spPr>
            <a:xfrm>
              <a:off x="677880" y="4012920"/>
              <a:ext cx="159228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6" name=""/>
            <p:cNvGrpSpPr/>
            <p:nvPr/>
          </p:nvGrpSpPr>
          <p:grpSpPr>
            <a:xfrm>
              <a:off x="4071960" y="1709280"/>
              <a:ext cx="1739160" cy="3094560"/>
              <a:chOff x="4071960" y="1709280"/>
              <a:chExt cx="1739160" cy="3094560"/>
            </a:xfrm>
          </p:grpSpPr>
          <p:grpSp>
            <p:nvGrpSpPr>
              <p:cNvPr id="1747" name=""/>
              <p:cNvGrpSpPr/>
              <p:nvPr/>
            </p:nvGrpSpPr>
            <p:grpSpPr>
              <a:xfrm>
                <a:off x="4071960" y="1709280"/>
                <a:ext cx="1739160" cy="3094560"/>
                <a:chOff x="4071960" y="1709280"/>
                <a:chExt cx="1739160" cy="3094560"/>
              </a:xfrm>
            </p:grpSpPr>
            <p:sp>
              <p:nvSpPr>
                <p:cNvPr id="1748" name=""/>
                <p:cNvSpPr/>
                <p:nvPr/>
              </p:nvSpPr>
              <p:spPr>
                <a:xfrm>
                  <a:off x="5727960" y="1709280"/>
                  <a:ext cx="83160" cy="3094560"/>
                </a:xfrm>
                <a:custGeom>
                  <a:avLst/>
                  <a:gdLst/>
                  <a:ahLst/>
                  <a:rect l="l" t="t" r="r" b="b"/>
                  <a:pathLst>
                    <a:path w="37" h="985">
                      <a:moveTo>
                        <a:pt x="0" y="985"/>
                      </a:moveTo>
                      <a:lnTo>
                        <a:pt x="0" y="39"/>
                      </a:lnTo>
                      <a:lnTo>
                        <a:pt x="37" y="0"/>
                      </a:lnTo>
                      <a:lnTo>
                        <a:pt x="37" y="908"/>
                      </a:lnTo>
                      <a:lnTo>
                        <a:pt x="0" y="985"/>
                      </a:lnTo>
                      <a:close/>
                    </a:path>
                  </a:pathLst>
                </a:custGeom>
                <a:solidFill>
                  <a:srgbClr val="5a87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4071960" y="1709280"/>
                  <a:ext cx="1739160" cy="122400"/>
                </a:xfrm>
                <a:custGeom>
                  <a:avLst/>
                  <a:gdLst/>
                  <a:ahLst/>
                  <a:rect l="l" t="t" r="r" b="b"/>
                  <a:pathLst>
                    <a:path w="773" h="39">
                      <a:moveTo>
                        <a:pt x="736" y="39"/>
                      </a:moveTo>
                      <a:lnTo>
                        <a:pt x="0" y="39"/>
                      </a:lnTo>
                      <a:lnTo>
                        <a:pt x="67" y="0"/>
                      </a:lnTo>
                      <a:lnTo>
                        <a:pt x="773" y="0"/>
                      </a:lnTo>
                      <a:lnTo>
                        <a:pt x="736" y="39"/>
                      </a:lnTo>
                      <a:close/>
                    </a:path>
                  </a:pathLst>
                </a:custGeom>
                <a:solidFill>
                  <a:srgbClr val="3c5b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0" name=""/>
              <p:cNvGrpSpPr/>
              <p:nvPr/>
            </p:nvGrpSpPr>
            <p:grpSpPr>
              <a:xfrm>
                <a:off x="4071960" y="1831680"/>
                <a:ext cx="1655640" cy="2971800"/>
                <a:chOff x="4071960" y="1831680"/>
                <a:chExt cx="1655640" cy="297180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4071960" y="1831680"/>
                  <a:ext cx="15480" cy="297180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4087440" y="1831680"/>
                  <a:ext cx="15480" cy="297180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4103280" y="1831680"/>
                  <a:ext cx="15480" cy="297180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4119120" y="1831680"/>
                  <a:ext cx="15480" cy="297180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4134960" y="1831680"/>
                  <a:ext cx="15480" cy="297180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4150800" y="1831680"/>
                  <a:ext cx="15480" cy="297180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4166640" y="1831680"/>
                  <a:ext cx="15480" cy="297180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4182480" y="1831680"/>
                  <a:ext cx="15120" cy="2971800"/>
                </a:xfrm>
                <a:prstGeom prst="rect">
                  <a:avLst/>
                </a:prstGeom>
                <a:solidFill>
                  <a:srgbClr val="69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4197960" y="1831680"/>
                  <a:ext cx="15480" cy="2971800"/>
                </a:xfrm>
                <a:prstGeom prst="rect">
                  <a:avLst/>
                </a:prstGeom>
                <a:solidFill>
                  <a:srgbClr val="6a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4213800" y="1831680"/>
                  <a:ext cx="18360" cy="2971800"/>
                </a:xfrm>
                <a:prstGeom prst="rect">
                  <a:avLst/>
                </a:prstGeom>
                <a:solidFill>
                  <a:srgbClr val="6b9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232160" y="1831680"/>
                  <a:ext cx="15120" cy="2971800"/>
                </a:xfrm>
                <a:prstGeom prst="rect">
                  <a:avLst/>
                </a:prstGeom>
                <a:solidFill>
                  <a:srgbClr val="6b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4247280" y="1831680"/>
                  <a:ext cx="15480" cy="2971800"/>
                </a:xfrm>
                <a:prstGeom prst="rect">
                  <a:avLst/>
                </a:prstGeom>
                <a:solidFill>
                  <a:srgbClr val="6c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263120" y="1831680"/>
                  <a:ext cx="15480" cy="2971800"/>
                </a:xfrm>
                <a:prstGeom prst="rect">
                  <a:avLst/>
                </a:prstGeom>
                <a:solidFill>
                  <a:srgbClr val="6e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4278960" y="1831680"/>
                  <a:ext cx="15480" cy="2971800"/>
                </a:xfrm>
                <a:prstGeom prst="rect">
                  <a:avLst/>
                </a:prstGeom>
                <a:solidFill>
                  <a:srgbClr val="6f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4294800" y="1831680"/>
                  <a:ext cx="15480" cy="2971800"/>
                </a:xfrm>
                <a:prstGeom prst="rect">
                  <a:avLst/>
                </a:prstGeom>
                <a:solidFill>
                  <a:srgbClr val="70a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4310640" y="1831680"/>
                  <a:ext cx="15480" cy="2971800"/>
                </a:xfrm>
                <a:prstGeom prst="rect">
                  <a:avLst/>
                </a:prstGeom>
                <a:solidFill>
                  <a:srgbClr val="71a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4326480" y="1831680"/>
                  <a:ext cx="15480" cy="2971800"/>
                </a:xfrm>
                <a:prstGeom prst="rect">
                  <a:avLst/>
                </a:prstGeom>
                <a:solidFill>
                  <a:srgbClr val="73a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342320" y="1831680"/>
                  <a:ext cx="15480" cy="2971800"/>
                </a:xfrm>
                <a:prstGeom prst="rect">
                  <a:avLst/>
                </a:prstGeom>
                <a:solidFill>
                  <a:srgbClr val="74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4358160" y="1831680"/>
                  <a:ext cx="15120" cy="2971800"/>
                </a:xfrm>
                <a:prstGeom prst="rect">
                  <a:avLst/>
                </a:prstGeom>
                <a:solidFill>
                  <a:srgbClr val="76a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4373280" y="1831680"/>
                  <a:ext cx="15480" cy="2971800"/>
                </a:xfrm>
                <a:prstGeom prst="rect">
                  <a:avLst/>
                </a:prstGeom>
                <a:solidFill>
                  <a:srgbClr val="77a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4389120" y="1831680"/>
                  <a:ext cx="15480" cy="2971800"/>
                </a:xfrm>
                <a:prstGeom prst="rect">
                  <a:avLst/>
                </a:prstGeom>
                <a:solidFill>
                  <a:srgbClr val="78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404960" y="1831680"/>
                  <a:ext cx="15480" cy="2971800"/>
                </a:xfrm>
                <a:prstGeom prst="rect">
                  <a:avLst/>
                </a:prstGeom>
                <a:solidFill>
                  <a:srgbClr val="7aa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420800" y="1831680"/>
                  <a:ext cx="15480" cy="2971800"/>
                </a:xfrm>
                <a:prstGeom prst="rect">
                  <a:avLst/>
                </a:prstGeom>
                <a:solidFill>
                  <a:srgbClr val="7ca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436640" y="1831680"/>
                  <a:ext cx="15480" cy="2971800"/>
                </a:xfrm>
                <a:prstGeom prst="rect">
                  <a:avLst/>
                </a:prstGeom>
                <a:solidFill>
                  <a:srgbClr val="7db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4452480" y="1831680"/>
                  <a:ext cx="15480" cy="2971800"/>
                </a:xfrm>
                <a:prstGeom prst="rect">
                  <a:avLst/>
                </a:prstGeom>
                <a:solidFill>
                  <a:srgbClr val="7fb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4468320" y="1831680"/>
                  <a:ext cx="17640" cy="2971800"/>
                </a:xfrm>
                <a:prstGeom prst="rect">
                  <a:avLst/>
                </a:prstGeom>
                <a:solidFill>
                  <a:srgbClr val="81b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4485960" y="1831680"/>
                  <a:ext cx="17640" cy="2971800"/>
                </a:xfrm>
                <a:prstGeom prst="rect">
                  <a:avLst/>
                </a:prstGeom>
                <a:solidFill>
                  <a:srgbClr val="82b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4503960" y="1831680"/>
                  <a:ext cx="15480" cy="2971800"/>
                </a:xfrm>
                <a:prstGeom prst="rect">
                  <a:avLst/>
                </a:prstGeom>
                <a:solidFill>
                  <a:srgbClr val="84b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4519800" y="1831680"/>
                  <a:ext cx="15480" cy="2971800"/>
                </a:xfrm>
                <a:prstGeom prst="rect">
                  <a:avLst/>
                </a:prstGeom>
                <a:solidFill>
                  <a:srgbClr val="86b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4535640" y="1831680"/>
                  <a:ext cx="15480" cy="2971800"/>
                </a:xfrm>
                <a:prstGeom prst="rect">
                  <a:avLst/>
                </a:prstGeom>
                <a:solidFill>
                  <a:srgbClr val="87b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551480" y="1831680"/>
                  <a:ext cx="15480" cy="2971800"/>
                </a:xfrm>
                <a:prstGeom prst="rect">
                  <a:avLst/>
                </a:prstGeom>
                <a:solidFill>
                  <a:srgbClr val="89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567320" y="1831680"/>
                  <a:ext cx="15120" cy="2971800"/>
                </a:xfrm>
                <a:prstGeom prst="rect">
                  <a:avLst/>
                </a:prstGeom>
                <a:solidFill>
                  <a:srgbClr val="8a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4582440" y="1831680"/>
                  <a:ext cx="15480" cy="2971800"/>
                </a:xfrm>
                <a:prstGeom prst="rect">
                  <a:avLst/>
                </a:prstGeom>
                <a:solidFill>
                  <a:srgbClr val="8b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598280" y="1831680"/>
                  <a:ext cx="15480" cy="2971800"/>
                </a:xfrm>
                <a:prstGeom prst="rect">
                  <a:avLst/>
                </a:prstGeom>
                <a:solidFill>
                  <a:srgbClr val="8c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4614120" y="1831680"/>
                  <a:ext cx="15480" cy="2971800"/>
                </a:xfrm>
                <a:prstGeom prst="rect">
                  <a:avLst/>
                </a:prstGeom>
                <a:solidFill>
                  <a:srgbClr val="8e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4629960" y="1831680"/>
                  <a:ext cx="15480" cy="2971800"/>
                </a:xfrm>
                <a:prstGeom prst="rect">
                  <a:avLst/>
                </a:prstGeom>
                <a:solidFill>
                  <a:srgbClr val="8fc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645800" y="1831680"/>
                  <a:ext cx="15480" cy="2971800"/>
                </a:xfrm>
                <a:prstGeom prst="rect">
                  <a:avLst/>
                </a:prstGeom>
                <a:solidFill>
                  <a:srgbClr val="90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661640" y="1831680"/>
                  <a:ext cx="15480" cy="2971800"/>
                </a:xfrm>
                <a:prstGeom prst="rect">
                  <a:avLst/>
                </a:prstGeom>
                <a:solidFill>
                  <a:srgbClr val="91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4677480" y="1831680"/>
                  <a:ext cx="15480" cy="2971800"/>
                </a:xfrm>
                <a:prstGeom prst="rect">
                  <a:avLst/>
                </a:prstGeom>
                <a:solidFill>
                  <a:srgbClr val="92c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4693320" y="1831680"/>
                  <a:ext cx="15120" cy="2971800"/>
                </a:xfrm>
                <a:prstGeom prst="rect">
                  <a:avLst/>
                </a:prstGeom>
                <a:solidFill>
                  <a:srgbClr val="93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4708440" y="1831680"/>
                  <a:ext cx="15480" cy="2971800"/>
                </a:xfrm>
                <a:prstGeom prst="rect">
                  <a:avLst/>
                </a:prstGeom>
                <a:solidFill>
                  <a:srgbClr val="94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724280" y="1831680"/>
                  <a:ext cx="15480" cy="2971800"/>
                </a:xfrm>
                <a:prstGeom prst="rect">
                  <a:avLst/>
                </a:prstGeom>
                <a:solidFill>
                  <a:srgbClr val="94c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4740120" y="1831680"/>
                  <a:ext cx="15480" cy="2971800"/>
                </a:xfrm>
                <a:prstGeom prst="rect">
                  <a:avLst/>
                </a:prstGeom>
                <a:solidFill>
                  <a:srgbClr val="95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755960" y="1831680"/>
                  <a:ext cx="15480" cy="2971800"/>
                </a:xfrm>
                <a:prstGeom prst="rect">
                  <a:avLst/>
                </a:prstGeom>
                <a:solidFill>
                  <a:srgbClr val="96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4771800" y="1831680"/>
                  <a:ext cx="15480" cy="2971800"/>
                </a:xfrm>
                <a:prstGeom prst="rect">
                  <a:avLst/>
                </a:prstGeom>
                <a:solidFill>
                  <a:srgbClr val="96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4787640" y="1831680"/>
                  <a:ext cx="15480" cy="297180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4803480" y="1831680"/>
                  <a:ext cx="17640" cy="297180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4821480" y="1831680"/>
                  <a:ext cx="15480" cy="297180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836960" y="1831680"/>
                  <a:ext cx="15480" cy="297180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4852800" y="1831680"/>
                  <a:ext cx="15480" cy="297180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868640" y="1831680"/>
                  <a:ext cx="15120" cy="297180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4884120" y="1831680"/>
                  <a:ext cx="15480" cy="29718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4899960" y="1831680"/>
                  <a:ext cx="15480" cy="29718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4915800" y="1831680"/>
                  <a:ext cx="15480" cy="297180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4931640" y="1831680"/>
                  <a:ext cx="15480" cy="297180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4947480" y="1831680"/>
                  <a:ext cx="15480" cy="297180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4963320" y="1831680"/>
                  <a:ext cx="15480" cy="297180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4978800" y="1831680"/>
                  <a:ext cx="15120" cy="297180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4994280" y="1831680"/>
                  <a:ext cx="15480" cy="2971800"/>
                </a:xfrm>
                <a:prstGeom prst="rect">
                  <a:avLst/>
                </a:prstGeom>
                <a:solidFill>
                  <a:srgbClr val="97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010120" y="1831680"/>
                  <a:ext cx="15480" cy="2971800"/>
                </a:xfrm>
                <a:prstGeom prst="rect">
                  <a:avLst/>
                </a:prstGeom>
                <a:solidFill>
                  <a:srgbClr val="96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025960" y="1831680"/>
                  <a:ext cx="15480" cy="2971800"/>
                </a:xfrm>
                <a:prstGeom prst="rect">
                  <a:avLst/>
                </a:prstGeom>
                <a:solidFill>
                  <a:srgbClr val="96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041800" y="1831680"/>
                  <a:ext cx="15480" cy="2971800"/>
                </a:xfrm>
                <a:prstGeom prst="rect">
                  <a:avLst/>
                </a:prstGeom>
                <a:solidFill>
                  <a:srgbClr val="95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057640" y="1831680"/>
                  <a:ext cx="15480" cy="2971800"/>
                </a:xfrm>
                <a:prstGeom prst="rect">
                  <a:avLst/>
                </a:prstGeom>
                <a:solidFill>
                  <a:srgbClr val="94c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073480" y="1831680"/>
                  <a:ext cx="15480" cy="2971800"/>
                </a:xfrm>
                <a:prstGeom prst="rect">
                  <a:avLst/>
                </a:prstGeom>
                <a:solidFill>
                  <a:srgbClr val="94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5089320" y="1831680"/>
                  <a:ext cx="15480" cy="2971800"/>
                </a:xfrm>
                <a:prstGeom prst="rect">
                  <a:avLst/>
                </a:prstGeom>
                <a:solidFill>
                  <a:srgbClr val="93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105160" y="1831680"/>
                  <a:ext cx="15120" cy="2971800"/>
                </a:xfrm>
                <a:prstGeom prst="rect">
                  <a:avLst/>
                </a:prstGeom>
                <a:solidFill>
                  <a:srgbClr val="92c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120280" y="1831680"/>
                  <a:ext cx="18360" cy="2971800"/>
                </a:xfrm>
                <a:prstGeom prst="rect">
                  <a:avLst/>
                </a:prstGeom>
                <a:solidFill>
                  <a:srgbClr val="91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5138640" y="1831680"/>
                  <a:ext cx="15480" cy="2971800"/>
                </a:xfrm>
                <a:prstGeom prst="rect">
                  <a:avLst/>
                </a:prstGeom>
                <a:solidFill>
                  <a:srgbClr val="90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5154480" y="1831680"/>
                  <a:ext cx="15120" cy="2971800"/>
                </a:xfrm>
                <a:prstGeom prst="rect">
                  <a:avLst/>
                </a:prstGeom>
                <a:solidFill>
                  <a:srgbClr val="8fc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5169960" y="1831680"/>
                  <a:ext cx="15480" cy="2971800"/>
                </a:xfrm>
                <a:prstGeom prst="rect">
                  <a:avLst/>
                </a:prstGeom>
                <a:solidFill>
                  <a:srgbClr val="8e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5185440" y="1831680"/>
                  <a:ext cx="15480" cy="2971800"/>
                </a:xfrm>
                <a:prstGeom prst="rect">
                  <a:avLst/>
                </a:prstGeom>
                <a:solidFill>
                  <a:srgbClr val="8c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fi-FI" sz="1400" spc="-1" strike="noStrike">
                      <a:solidFill>
                        <a:srgbClr val="000000"/>
                      </a:solidFill>
                      <a:latin typeface="Times New Roman"/>
                    </a:rPr>
                    <a:t>SG as 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fi-FI" sz="1400" spc="-1" strike="noStrike">
                      <a:solidFill>
                        <a:srgbClr val="000000"/>
                      </a:solidFill>
                      <a:latin typeface="Times New Roman"/>
                    </a:rPr>
                    <a:t>replace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5201280" y="1831680"/>
                  <a:ext cx="15480" cy="2971800"/>
                </a:xfrm>
                <a:prstGeom prst="rect">
                  <a:avLst/>
                </a:prstGeom>
                <a:solidFill>
                  <a:srgbClr val="8b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217120" y="1831680"/>
                  <a:ext cx="15480" cy="2971800"/>
                </a:xfrm>
                <a:prstGeom prst="rect">
                  <a:avLst/>
                </a:prstGeom>
                <a:solidFill>
                  <a:srgbClr val="8a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232960" y="1831680"/>
                  <a:ext cx="15480" cy="2971800"/>
                </a:xfrm>
                <a:prstGeom prst="rect">
                  <a:avLst/>
                </a:prstGeom>
                <a:solidFill>
                  <a:srgbClr val="89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5248800" y="1831680"/>
                  <a:ext cx="15480" cy="2971800"/>
                </a:xfrm>
                <a:prstGeom prst="rect">
                  <a:avLst/>
                </a:prstGeom>
                <a:solidFill>
                  <a:srgbClr val="87b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64640" y="1831680"/>
                  <a:ext cx="15120" cy="2971800"/>
                </a:xfrm>
                <a:prstGeom prst="rect">
                  <a:avLst/>
                </a:prstGeom>
                <a:solidFill>
                  <a:srgbClr val="86b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5280120" y="1831680"/>
                  <a:ext cx="15480" cy="2971800"/>
                </a:xfrm>
                <a:prstGeom prst="rect">
                  <a:avLst/>
                </a:prstGeom>
                <a:solidFill>
                  <a:srgbClr val="84b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5295960" y="1831680"/>
                  <a:ext cx="18360" cy="2971800"/>
                </a:xfrm>
                <a:prstGeom prst="rect">
                  <a:avLst/>
                </a:prstGeom>
                <a:solidFill>
                  <a:srgbClr val="82b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5314320" y="1831680"/>
                  <a:ext cx="15480" cy="2971800"/>
                </a:xfrm>
                <a:prstGeom prst="rect">
                  <a:avLst/>
                </a:prstGeom>
                <a:solidFill>
                  <a:srgbClr val="81b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330160" y="1831680"/>
                  <a:ext cx="15120" cy="2971800"/>
                </a:xfrm>
                <a:prstGeom prst="rect">
                  <a:avLst/>
                </a:prstGeom>
                <a:solidFill>
                  <a:srgbClr val="7fb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345280" y="1831680"/>
                  <a:ext cx="15480" cy="2971800"/>
                </a:xfrm>
                <a:prstGeom prst="rect">
                  <a:avLst/>
                </a:prstGeom>
                <a:solidFill>
                  <a:srgbClr val="7db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5361120" y="1831680"/>
                  <a:ext cx="15480" cy="2971800"/>
                </a:xfrm>
                <a:prstGeom prst="rect">
                  <a:avLst/>
                </a:prstGeom>
                <a:solidFill>
                  <a:srgbClr val="7ca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5376960" y="1831680"/>
                  <a:ext cx="15480" cy="2971800"/>
                </a:xfrm>
                <a:prstGeom prst="rect">
                  <a:avLst/>
                </a:prstGeom>
                <a:solidFill>
                  <a:srgbClr val="7aa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392800" y="1831680"/>
                  <a:ext cx="17640" cy="2971800"/>
                </a:xfrm>
                <a:prstGeom prst="rect">
                  <a:avLst/>
                </a:prstGeom>
                <a:solidFill>
                  <a:srgbClr val="78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410800" y="1831680"/>
                  <a:ext cx="15480" cy="2971800"/>
                </a:xfrm>
                <a:prstGeom prst="rect">
                  <a:avLst/>
                </a:prstGeom>
                <a:solidFill>
                  <a:srgbClr val="77a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5426280" y="1831680"/>
                  <a:ext cx="15480" cy="2971800"/>
                </a:xfrm>
                <a:prstGeom prst="rect">
                  <a:avLst/>
                </a:prstGeom>
                <a:solidFill>
                  <a:srgbClr val="76a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5442120" y="1831680"/>
                  <a:ext cx="15480" cy="2971800"/>
                </a:xfrm>
                <a:prstGeom prst="rect">
                  <a:avLst/>
                </a:prstGeom>
                <a:solidFill>
                  <a:srgbClr val="74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457960" y="1831680"/>
                  <a:ext cx="15480" cy="2971800"/>
                </a:xfrm>
                <a:prstGeom prst="rect">
                  <a:avLst/>
                </a:prstGeom>
                <a:solidFill>
                  <a:srgbClr val="73a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473800" y="1831680"/>
                  <a:ext cx="15480" cy="2971800"/>
                </a:xfrm>
                <a:prstGeom prst="rect">
                  <a:avLst/>
                </a:prstGeom>
                <a:solidFill>
                  <a:srgbClr val="71a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489640" y="1831680"/>
                  <a:ext cx="15120" cy="2971800"/>
                </a:xfrm>
                <a:prstGeom prst="rect">
                  <a:avLst/>
                </a:prstGeom>
                <a:solidFill>
                  <a:srgbClr val="70a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505120" y="1831680"/>
                  <a:ext cx="15480" cy="2971800"/>
                </a:xfrm>
                <a:prstGeom prst="rect">
                  <a:avLst/>
                </a:prstGeom>
                <a:solidFill>
                  <a:srgbClr val="6f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5520960" y="1831680"/>
                  <a:ext cx="15480" cy="2971800"/>
                </a:xfrm>
                <a:prstGeom prst="rect">
                  <a:avLst/>
                </a:prstGeom>
                <a:solidFill>
                  <a:srgbClr val="6e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536800" y="1831680"/>
                  <a:ext cx="15480" cy="2971800"/>
                </a:xfrm>
                <a:prstGeom prst="rect">
                  <a:avLst/>
                </a:prstGeom>
                <a:solidFill>
                  <a:srgbClr val="6c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552640" y="1831680"/>
                  <a:ext cx="15480" cy="2971800"/>
                </a:xfrm>
                <a:prstGeom prst="rect">
                  <a:avLst/>
                </a:prstGeom>
                <a:solidFill>
                  <a:srgbClr val="6b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5568120" y="1831680"/>
                  <a:ext cx="15480" cy="2971800"/>
                </a:xfrm>
                <a:prstGeom prst="rect">
                  <a:avLst/>
                </a:prstGeom>
                <a:solidFill>
                  <a:srgbClr val="6b9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583960" y="1831680"/>
                  <a:ext cx="15480" cy="2971800"/>
                </a:xfrm>
                <a:prstGeom prst="rect">
                  <a:avLst/>
                </a:prstGeom>
                <a:solidFill>
                  <a:srgbClr val="6a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599800" y="1831680"/>
                  <a:ext cx="15480" cy="2971800"/>
                </a:xfrm>
                <a:prstGeom prst="rect">
                  <a:avLst/>
                </a:prstGeom>
                <a:solidFill>
                  <a:srgbClr val="69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615640" y="1831680"/>
                  <a:ext cx="15120" cy="297180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631120" y="1831680"/>
                  <a:ext cx="15480" cy="297180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646960" y="1831680"/>
                  <a:ext cx="15480" cy="297180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662800" y="1831680"/>
                  <a:ext cx="15480" cy="297180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678640" y="1831680"/>
                  <a:ext cx="15480" cy="297180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694480" y="1831680"/>
                  <a:ext cx="15480" cy="297180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709960" y="1831680"/>
                  <a:ext cx="17640" cy="297180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5" name=""/>
            <p:cNvGrpSpPr/>
            <p:nvPr/>
          </p:nvGrpSpPr>
          <p:grpSpPr>
            <a:xfrm>
              <a:off x="885960" y="1707840"/>
              <a:ext cx="1108080" cy="3094560"/>
              <a:chOff x="885960" y="1707840"/>
              <a:chExt cx="1108080" cy="3094560"/>
            </a:xfrm>
          </p:grpSpPr>
          <p:grpSp>
            <p:nvGrpSpPr>
              <p:cNvPr id="1856" name=""/>
              <p:cNvGrpSpPr/>
              <p:nvPr/>
            </p:nvGrpSpPr>
            <p:grpSpPr>
              <a:xfrm>
                <a:off x="885960" y="1707840"/>
                <a:ext cx="1108080" cy="3094560"/>
                <a:chOff x="885960" y="1707840"/>
                <a:chExt cx="1108080" cy="309456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1966680" y="1707840"/>
                  <a:ext cx="27000" cy="3094560"/>
                </a:xfrm>
                <a:custGeom>
                  <a:avLst/>
                  <a:gdLst/>
                  <a:ahLst/>
                  <a:rect l="l" t="t" r="r" b="b"/>
                  <a:pathLst>
                    <a:path w="38" h="1413">
                      <a:moveTo>
                        <a:pt x="0" y="1413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1318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e1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885960" y="1707840"/>
                  <a:ext cx="1108080" cy="85320"/>
                </a:xfrm>
                <a:custGeom>
                  <a:avLst/>
                  <a:gdLst/>
                  <a:ahLst/>
                  <a:rect l="l" t="t" r="r" b="b"/>
                  <a:pathLst>
                    <a:path w="1543" h="39">
                      <a:moveTo>
                        <a:pt x="1505" y="39"/>
                      </a:moveTo>
                      <a:lnTo>
                        <a:pt x="0" y="39"/>
                      </a:lnTo>
                      <a:lnTo>
                        <a:pt x="99" y="0"/>
                      </a:lnTo>
                      <a:lnTo>
                        <a:pt x="1543" y="0"/>
                      </a:lnTo>
                      <a:lnTo>
                        <a:pt x="1505" y="39"/>
                      </a:lnTo>
                      <a:close/>
                    </a:path>
                  </a:pathLst>
                </a:custGeom>
                <a:solidFill>
                  <a:srgbClr val="98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9" name=""/>
              <p:cNvGrpSpPr/>
              <p:nvPr/>
            </p:nvGrpSpPr>
            <p:grpSpPr>
              <a:xfrm>
                <a:off x="885960" y="1793160"/>
                <a:ext cx="1080720" cy="3009240"/>
                <a:chOff x="885960" y="1793160"/>
                <a:chExt cx="1080720" cy="3009240"/>
              </a:xfrm>
            </p:grpSpPr>
            <p:grpSp>
              <p:nvGrpSpPr>
                <p:cNvPr id="1860" name=""/>
                <p:cNvGrpSpPr/>
                <p:nvPr/>
              </p:nvGrpSpPr>
              <p:grpSpPr>
                <a:xfrm>
                  <a:off x="885960" y="1793160"/>
                  <a:ext cx="702000" cy="3008880"/>
                  <a:chOff x="885960" y="1793160"/>
                  <a:chExt cx="702000" cy="3008880"/>
                </a:xfrm>
              </p:grpSpPr>
              <p:sp>
                <p:nvSpPr>
                  <p:cNvPr id="1861" name=""/>
                  <p:cNvSpPr/>
                  <p:nvPr/>
                </p:nvSpPr>
                <p:spPr>
                  <a:xfrm>
                    <a:off x="885960" y="1793160"/>
                    <a:ext cx="3240" cy="3008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889200" y="1793160"/>
                    <a:ext cx="3240" cy="3008880"/>
                  </a:xfrm>
                  <a:prstGeom prst="rect">
                    <a:avLst/>
                  </a:prstGeom>
                  <a:solidFill>
                    <a:srgbClr val="ff99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892800" y="1793160"/>
                    <a:ext cx="2880" cy="3008880"/>
                  </a:xfrm>
                  <a:prstGeom prst="rect">
                    <a:avLst/>
                  </a:prstGeom>
                  <a:solidFill>
                    <a:srgbClr val="ff990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896040" y="1793160"/>
                    <a:ext cx="3960" cy="3008880"/>
                  </a:xfrm>
                  <a:prstGeom prst="rect">
                    <a:avLst/>
                  </a:prstGeom>
                  <a:solidFill>
                    <a:srgbClr val="ff990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900000" y="1793160"/>
                    <a:ext cx="3240" cy="3008880"/>
                  </a:xfrm>
                  <a:prstGeom prst="rect">
                    <a:avLst/>
                  </a:prstGeom>
                  <a:solidFill>
                    <a:srgbClr val="ff99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903600" y="1793160"/>
                    <a:ext cx="3240" cy="3008880"/>
                  </a:xfrm>
                  <a:prstGeom prst="rect">
                    <a:avLst/>
                  </a:prstGeom>
                  <a:solidFill>
                    <a:srgbClr val="ff9a0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907200" y="1793160"/>
                    <a:ext cx="2880" cy="3008880"/>
                  </a:xfrm>
                  <a:prstGeom prst="rect">
                    <a:avLst/>
                  </a:prstGeom>
                  <a:solidFill>
                    <a:srgbClr val="ff9a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910080" y="1793160"/>
                    <a:ext cx="3240" cy="3008880"/>
                  </a:xfrm>
                  <a:prstGeom prst="rect">
                    <a:avLst/>
                  </a:prstGeom>
                  <a:solidFill>
                    <a:srgbClr val="ff9a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913680" y="1793160"/>
                    <a:ext cx="3240" cy="3008880"/>
                  </a:xfrm>
                  <a:prstGeom prst="rect">
                    <a:avLst/>
                  </a:prstGeom>
                  <a:solidFill>
                    <a:srgbClr val="ff9b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917280" y="1793160"/>
                    <a:ext cx="4320" cy="3008880"/>
                  </a:xfrm>
                  <a:prstGeom prst="rect">
                    <a:avLst/>
                  </a:prstGeom>
                  <a:solidFill>
                    <a:srgbClr val="ff9b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921600" y="1793160"/>
                    <a:ext cx="2520" cy="3008880"/>
                  </a:xfrm>
                  <a:prstGeom prst="rect">
                    <a:avLst/>
                  </a:prstGeom>
                  <a:solidFill>
                    <a:srgbClr val="ff9b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>
                    <a:off x="924480" y="1793160"/>
                    <a:ext cx="3240" cy="3008880"/>
                  </a:xfrm>
                  <a:prstGeom prst="rect">
                    <a:avLst/>
                  </a:prstGeom>
                  <a:solidFill>
                    <a:srgbClr val="ff9c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>
                    <a:off x="928080" y="1793160"/>
                    <a:ext cx="3240" cy="3008880"/>
                  </a:xfrm>
                  <a:prstGeom prst="rect">
                    <a:avLst/>
                  </a:prstGeom>
                  <a:solidFill>
                    <a:srgbClr val="ff9c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931680" y="1793160"/>
                    <a:ext cx="2880" cy="3008880"/>
                  </a:xfrm>
                  <a:prstGeom prst="rect">
                    <a:avLst/>
                  </a:prstGeom>
                  <a:solidFill>
                    <a:srgbClr val="ff9c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934560" y="1793160"/>
                    <a:ext cx="3240" cy="3008880"/>
                  </a:xfrm>
                  <a:prstGeom prst="rect">
                    <a:avLst/>
                  </a:prstGeom>
                  <a:solidFill>
                    <a:srgbClr val="ff9d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938160" y="1793160"/>
                    <a:ext cx="3960" cy="3008880"/>
                  </a:xfrm>
                  <a:prstGeom prst="rect">
                    <a:avLst/>
                  </a:prstGeom>
                  <a:solidFill>
                    <a:srgbClr val="ff9d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942480" y="1793160"/>
                    <a:ext cx="3240" cy="3008880"/>
                  </a:xfrm>
                  <a:prstGeom prst="rect">
                    <a:avLst/>
                  </a:prstGeom>
                  <a:solidFill>
                    <a:srgbClr val="ff9d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946080" y="1793160"/>
                    <a:ext cx="2880" cy="3008880"/>
                  </a:xfrm>
                  <a:prstGeom prst="rect">
                    <a:avLst/>
                  </a:prstGeom>
                  <a:solidFill>
                    <a:srgbClr val="ff9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948960" y="1793160"/>
                    <a:ext cx="3240" cy="3008880"/>
                  </a:xfrm>
                  <a:prstGeom prst="rect">
                    <a:avLst/>
                  </a:prstGeom>
                  <a:solidFill>
                    <a:srgbClr val="ff9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952560" y="1793160"/>
                    <a:ext cx="3240" cy="3008880"/>
                  </a:xfrm>
                  <a:prstGeom prst="rect">
                    <a:avLst/>
                  </a:prstGeom>
                  <a:solidFill>
                    <a:srgbClr val="ff9f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956160" y="1793160"/>
                    <a:ext cx="2880" cy="3008880"/>
                  </a:xfrm>
                  <a:prstGeom prst="rect">
                    <a:avLst/>
                  </a:prstGeom>
                  <a:solidFill>
                    <a:srgbClr val="ff9f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959040" y="1793160"/>
                    <a:ext cx="3960" cy="3008880"/>
                  </a:xfrm>
                  <a:prstGeom prst="rect">
                    <a:avLst/>
                  </a:prstGeom>
                  <a:solidFill>
                    <a:srgbClr val="ffa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963360" y="1793160"/>
                    <a:ext cx="3240" cy="3008880"/>
                  </a:xfrm>
                  <a:prstGeom prst="rect">
                    <a:avLst/>
                  </a:prstGeom>
                  <a:solidFill>
                    <a:srgbClr val="ffa0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966960" y="1793160"/>
                    <a:ext cx="3240" cy="3008880"/>
                  </a:xfrm>
                  <a:prstGeom prst="rect">
                    <a:avLst/>
                  </a:prstGeom>
                  <a:solidFill>
                    <a:srgbClr val="ffa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>
                    <a:off x="970560" y="1793160"/>
                    <a:ext cx="2880" cy="3008880"/>
                  </a:xfrm>
                  <a:prstGeom prst="rect">
                    <a:avLst/>
                  </a:prstGeom>
                  <a:solidFill>
                    <a:srgbClr val="ffa1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973440" y="1793160"/>
                    <a:ext cx="3240" cy="3008880"/>
                  </a:xfrm>
                  <a:prstGeom prst="rect">
                    <a:avLst/>
                  </a:prstGeom>
                  <a:solidFill>
                    <a:srgbClr val="ffa2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977040" y="1793160"/>
                    <a:ext cx="3240" cy="3008880"/>
                  </a:xfrm>
                  <a:prstGeom prst="rect">
                    <a:avLst/>
                  </a:prstGeom>
                  <a:solidFill>
                    <a:srgbClr val="ffa2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980640" y="1793160"/>
                    <a:ext cx="2880" cy="3008880"/>
                  </a:xfrm>
                  <a:prstGeom prst="rect">
                    <a:avLst/>
                  </a:prstGeom>
                  <a:solidFill>
                    <a:srgbClr val="ffa3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983520" y="1793160"/>
                    <a:ext cx="3960" cy="3008880"/>
                  </a:xfrm>
                  <a:prstGeom prst="rect">
                    <a:avLst/>
                  </a:prstGeom>
                  <a:solidFill>
                    <a:srgbClr val="ffa4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987840" y="1793160"/>
                    <a:ext cx="3240" cy="3008880"/>
                  </a:xfrm>
                  <a:prstGeom prst="rect">
                    <a:avLst/>
                  </a:prstGeom>
                  <a:solidFill>
                    <a:srgbClr val="ffa4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991440" y="1793160"/>
                    <a:ext cx="3240" cy="3008880"/>
                  </a:xfrm>
                  <a:prstGeom prst="rect">
                    <a:avLst/>
                  </a:prstGeom>
                  <a:solidFill>
                    <a:srgbClr val="ffa5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995040" y="1793160"/>
                    <a:ext cx="2880" cy="3008880"/>
                  </a:xfrm>
                  <a:prstGeom prst="rect">
                    <a:avLst/>
                  </a:prstGeom>
                  <a:solidFill>
                    <a:srgbClr val="ffa6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997920" y="1793160"/>
                    <a:ext cx="3240" cy="3008880"/>
                  </a:xfrm>
                  <a:prstGeom prst="rect">
                    <a:avLst/>
                  </a:prstGeom>
                  <a:solidFill>
                    <a:srgbClr val="ffa6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1001520" y="1793160"/>
                    <a:ext cx="3240" cy="3008880"/>
                  </a:xfrm>
                  <a:prstGeom prst="rect">
                    <a:avLst/>
                  </a:prstGeom>
                  <a:solidFill>
                    <a:srgbClr val="ffa7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1005120" y="1793160"/>
                    <a:ext cx="4320" cy="3008880"/>
                  </a:xfrm>
                  <a:prstGeom prst="rect">
                    <a:avLst/>
                  </a:prstGeom>
                  <a:solidFill>
                    <a:srgbClr val="ffa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1009440" y="1793160"/>
                    <a:ext cx="2520" cy="3008880"/>
                  </a:xfrm>
                  <a:prstGeom prst="rect">
                    <a:avLst/>
                  </a:prstGeom>
                  <a:solidFill>
                    <a:srgbClr val="ffa9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1012320" y="1793160"/>
                    <a:ext cx="3240" cy="3008880"/>
                  </a:xfrm>
                  <a:prstGeom prst="rect">
                    <a:avLst/>
                  </a:prstGeom>
                  <a:solidFill>
                    <a:srgbClr val="ffa9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>
                    <a:off x="1015920" y="1793160"/>
                    <a:ext cx="3240" cy="3008880"/>
                  </a:xfrm>
                  <a:prstGeom prst="rect">
                    <a:avLst/>
                  </a:prstGeom>
                  <a:solidFill>
                    <a:srgbClr val="ffa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>
                    <a:off x="1019520" y="1793160"/>
                    <a:ext cx="3240" cy="3008880"/>
                  </a:xfrm>
                  <a:prstGeom prst="rect">
                    <a:avLst/>
                  </a:prstGeom>
                  <a:solidFill>
                    <a:srgbClr val="ffab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>
                    <a:off x="1022760" y="1793160"/>
                    <a:ext cx="2880" cy="3008880"/>
                  </a:xfrm>
                  <a:prstGeom prst="rect">
                    <a:avLst/>
                  </a:prstGeom>
                  <a:solidFill>
                    <a:srgbClr val="ffab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1026000" y="1793160"/>
                    <a:ext cx="3960" cy="3008880"/>
                  </a:xfrm>
                  <a:prstGeom prst="rect">
                    <a:avLst/>
                  </a:prstGeom>
                  <a:solidFill>
                    <a:srgbClr val="ffa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1029960" y="1793160"/>
                    <a:ext cx="3240" cy="3008880"/>
                  </a:xfrm>
                  <a:prstGeom prst="rect">
                    <a:avLst/>
                  </a:prstGeom>
                  <a:solidFill>
                    <a:srgbClr val="ffa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1033560" y="1793160"/>
                    <a:ext cx="2880" cy="3008880"/>
                  </a:xfrm>
                  <a:prstGeom prst="rect">
                    <a:avLst/>
                  </a:prstGeom>
                  <a:solidFill>
                    <a:srgbClr val="ffa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1036440" y="1793160"/>
                    <a:ext cx="3240" cy="3008880"/>
                  </a:xfrm>
                  <a:prstGeom prst="rect">
                    <a:avLst/>
                  </a:prstGeom>
                  <a:solidFill>
                    <a:srgbClr val="ffa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1040040" y="1793160"/>
                    <a:ext cx="3240" cy="3008880"/>
                  </a:xfrm>
                  <a:prstGeom prst="rect">
                    <a:avLst/>
                  </a:prstGeom>
                  <a:solidFill>
                    <a:srgbClr val="ffa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1043640" y="1793160"/>
                    <a:ext cx="3240" cy="3008880"/>
                  </a:xfrm>
                  <a:prstGeom prst="rect">
                    <a:avLst/>
                  </a:prstGeom>
                  <a:solidFill>
                    <a:srgbClr val="ffb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1047240" y="1793160"/>
                    <a:ext cx="2880" cy="3008880"/>
                  </a:xfrm>
                  <a:prstGeom prst="rect">
                    <a:avLst/>
                  </a:prstGeom>
                  <a:solidFill>
                    <a:srgbClr val="ffb2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1050480" y="1793160"/>
                    <a:ext cx="3960" cy="3008880"/>
                  </a:xfrm>
                  <a:prstGeom prst="rect">
                    <a:avLst/>
                  </a:prstGeom>
                  <a:solidFill>
                    <a:srgbClr val="ffb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1054440" y="1793160"/>
                    <a:ext cx="3240" cy="3008880"/>
                  </a:xfrm>
                  <a:prstGeom prst="rect">
                    <a:avLst/>
                  </a:prstGeom>
                  <a:solidFill>
                    <a:srgbClr val="ffb3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1058040" y="1793160"/>
                    <a:ext cx="3240" cy="3008880"/>
                  </a:xfrm>
                  <a:prstGeom prst="rect">
                    <a:avLst/>
                  </a:prstGeom>
                  <a:solidFill>
                    <a:srgbClr val="ffb5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1061640" y="1793160"/>
                    <a:ext cx="2880" cy="3008880"/>
                  </a:xfrm>
                  <a:prstGeom prst="rect">
                    <a:avLst/>
                  </a:prstGeom>
                  <a:solidFill>
                    <a:srgbClr val="ffb5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1064520" y="1793160"/>
                    <a:ext cx="3240" cy="3008880"/>
                  </a:xfrm>
                  <a:prstGeom prst="rect">
                    <a:avLst/>
                  </a:prstGeom>
                  <a:solidFill>
                    <a:srgbClr val="ffb6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1068120" y="1793160"/>
                    <a:ext cx="3240" cy="3008880"/>
                  </a:xfrm>
                  <a:prstGeom prst="rect">
                    <a:avLst/>
                  </a:prstGeom>
                  <a:solidFill>
                    <a:srgbClr val="ffb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1071720" y="1793160"/>
                    <a:ext cx="4320" cy="3008880"/>
                  </a:xfrm>
                  <a:prstGeom prst="rect">
                    <a:avLst/>
                  </a:prstGeom>
                  <a:solidFill>
                    <a:srgbClr val="ffb8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1076040" y="1793160"/>
                    <a:ext cx="2520" cy="3008880"/>
                  </a:xfrm>
                  <a:prstGeom prst="rect">
                    <a:avLst/>
                  </a:prstGeom>
                  <a:solidFill>
                    <a:srgbClr val="ffb9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1078920" y="1793160"/>
                    <a:ext cx="3240" cy="3008880"/>
                  </a:xfrm>
                  <a:prstGeom prst="rect">
                    <a:avLst/>
                  </a:prstGeom>
                  <a:solidFill>
                    <a:srgbClr val="ffbb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1082520" y="1793160"/>
                    <a:ext cx="3240" cy="3008880"/>
                  </a:xfrm>
                  <a:prstGeom prst="rect">
                    <a:avLst/>
                  </a:prstGeom>
                  <a:solidFill>
                    <a:srgbClr val="ffbb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1086120" y="1793160"/>
                    <a:ext cx="2880" cy="3008880"/>
                  </a:xfrm>
                  <a:prstGeom prst="rect">
                    <a:avLst/>
                  </a:prstGeom>
                  <a:solidFill>
                    <a:srgbClr val="ffbc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1089000" y="1793160"/>
                    <a:ext cx="3240" cy="3008880"/>
                  </a:xfrm>
                  <a:prstGeom prst="rect">
                    <a:avLst/>
                  </a:prstGeom>
                  <a:solidFill>
                    <a:srgbClr val="ffbe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1092600" y="1793160"/>
                    <a:ext cx="4320" cy="3008880"/>
                  </a:xfrm>
                  <a:prstGeom prst="rect">
                    <a:avLst/>
                  </a:prstGeom>
                  <a:solidFill>
                    <a:srgbClr val="ffbe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1096920" y="1793160"/>
                    <a:ext cx="3240" cy="3008880"/>
                  </a:xfrm>
                  <a:prstGeom prst="rect">
                    <a:avLst/>
                  </a:prstGeom>
                  <a:solidFill>
                    <a:srgbClr val="ffc0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100520" y="1793160"/>
                    <a:ext cx="2520" cy="3008880"/>
                  </a:xfrm>
                  <a:prstGeom prst="rect">
                    <a:avLst/>
                  </a:prstGeom>
                  <a:solidFill>
                    <a:srgbClr val="ffc1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103400" y="1793160"/>
                    <a:ext cx="3240" cy="3008880"/>
                  </a:xfrm>
                  <a:prstGeom prst="rect">
                    <a:avLst/>
                  </a:prstGeom>
                  <a:solidFill>
                    <a:srgbClr val="ffc2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1107000" y="1793160"/>
                    <a:ext cx="3240" cy="3008880"/>
                  </a:xfrm>
                  <a:prstGeom prst="rect">
                    <a:avLst/>
                  </a:prstGeom>
                  <a:solidFill>
                    <a:srgbClr val="ffc3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1110600" y="1793160"/>
                    <a:ext cx="2880" cy="3008880"/>
                  </a:xfrm>
                  <a:prstGeom prst="rect">
                    <a:avLst/>
                  </a:prstGeom>
                  <a:solidFill>
                    <a:srgbClr val="ffc4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1113480" y="1793160"/>
                    <a:ext cx="3960" cy="3008880"/>
                  </a:xfrm>
                  <a:prstGeom prst="rect">
                    <a:avLst/>
                  </a:prstGeom>
                  <a:solidFill>
                    <a:srgbClr val="ffc5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1117800" y="1793160"/>
                    <a:ext cx="3240" cy="3008880"/>
                  </a:xfrm>
                  <a:prstGeom prst="rect">
                    <a:avLst/>
                  </a:prstGeom>
                  <a:solidFill>
                    <a:srgbClr val="ffc6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1121400" y="1793160"/>
                    <a:ext cx="3600" cy="3008880"/>
                  </a:xfrm>
                  <a:prstGeom prst="rect">
                    <a:avLst/>
                  </a:prstGeom>
                  <a:solidFill>
                    <a:srgbClr val="ffc8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1125000" y="1793160"/>
                    <a:ext cx="2520" cy="3008880"/>
                  </a:xfrm>
                  <a:prstGeom prst="rect">
                    <a:avLst/>
                  </a:prstGeom>
                  <a:solidFill>
                    <a:srgbClr val="ffc8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1127880" y="1793160"/>
                    <a:ext cx="3240" cy="3008880"/>
                  </a:xfrm>
                  <a:prstGeom prst="rect">
                    <a:avLst/>
                  </a:prstGeom>
                  <a:solidFill>
                    <a:srgbClr val="ffca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1131480" y="1793160"/>
                    <a:ext cx="3240" cy="3008880"/>
                  </a:xfrm>
                  <a:prstGeom prst="rect">
                    <a:avLst/>
                  </a:prstGeom>
                  <a:solidFill>
                    <a:srgbClr val="ffcb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1135080" y="1793160"/>
                    <a:ext cx="2880" cy="3008880"/>
                  </a:xfrm>
                  <a:prstGeom prst="rect">
                    <a:avLst/>
                  </a:prstGeom>
                  <a:solidFill>
                    <a:srgbClr val="ffcc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1137960" y="1793160"/>
                    <a:ext cx="3960" cy="3008880"/>
                  </a:xfrm>
                  <a:prstGeom prst="rect">
                    <a:avLst/>
                  </a:prstGeom>
                  <a:solidFill>
                    <a:srgbClr val="ffcd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1142280" y="1793160"/>
                    <a:ext cx="3240" cy="3008880"/>
                  </a:xfrm>
                  <a:prstGeom prst="rect">
                    <a:avLst/>
                  </a:prstGeom>
                  <a:solidFill>
                    <a:srgbClr val="ffce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1145880" y="1793160"/>
                    <a:ext cx="3240" cy="3008880"/>
                  </a:xfrm>
                  <a:prstGeom prst="rect">
                    <a:avLst/>
                  </a:prstGeom>
                  <a:solidFill>
                    <a:srgbClr val="ffcf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1149480" y="1793160"/>
                    <a:ext cx="2880" cy="3008880"/>
                  </a:xfrm>
                  <a:prstGeom prst="rect">
                    <a:avLst/>
                  </a:prstGeom>
                  <a:solidFill>
                    <a:srgbClr val="ffd0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1152360" y="1793160"/>
                    <a:ext cx="3240" cy="3008880"/>
                  </a:xfrm>
                  <a:prstGeom prst="rect">
                    <a:avLst/>
                  </a:prstGeom>
                  <a:solidFill>
                    <a:srgbClr val="ffd1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1155960" y="1793160"/>
                    <a:ext cx="3240" cy="3008880"/>
                  </a:xfrm>
                  <a:prstGeom prst="rect">
                    <a:avLst/>
                  </a:prstGeom>
                  <a:solidFill>
                    <a:srgbClr val="ffd2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1159560" y="1793160"/>
                    <a:ext cx="4320" cy="3008880"/>
                  </a:xfrm>
                  <a:prstGeom prst="rect">
                    <a:avLst/>
                  </a:prstGeom>
                  <a:solidFill>
                    <a:srgbClr val="ffd3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1163880" y="1793160"/>
                    <a:ext cx="2520" cy="3008880"/>
                  </a:xfrm>
                  <a:prstGeom prst="rect">
                    <a:avLst/>
                  </a:prstGeom>
                  <a:solidFill>
                    <a:srgbClr val="ffd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1166760" y="1793160"/>
                    <a:ext cx="3240" cy="3008880"/>
                  </a:xfrm>
                  <a:prstGeom prst="rect">
                    <a:avLst/>
                  </a:prstGeom>
                  <a:solidFill>
                    <a:srgbClr val="ffd5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1170360" y="1793160"/>
                    <a:ext cx="3240" cy="3008880"/>
                  </a:xfrm>
                  <a:prstGeom prst="rect">
                    <a:avLst/>
                  </a:prstGeom>
                  <a:solidFill>
                    <a:srgbClr val="ffd7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1173600" y="1793160"/>
                    <a:ext cx="3240" cy="3008880"/>
                  </a:xfrm>
                  <a:prstGeom prst="rect">
                    <a:avLst/>
                  </a:prstGeom>
                  <a:solidFill>
                    <a:srgbClr val="ffd8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1177200" y="1793160"/>
                    <a:ext cx="2880" cy="3008880"/>
                  </a:xfrm>
                  <a:prstGeom prst="rect">
                    <a:avLst/>
                  </a:prstGeom>
                  <a:solidFill>
                    <a:srgbClr val="ffd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1180440" y="1793160"/>
                    <a:ext cx="4320" cy="3008880"/>
                  </a:xfrm>
                  <a:prstGeom prst="rect">
                    <a:avLst/>
                  </a:prstGeom>
                  <a:solidFill>
                    <a:srgbClr val="ffda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1184760" y="1793160"/>
                    <a:ext cx="3240" cy="3008880"/>
                  </a:xfrm>
                  <a:prstGeom prst="rect">
                    <a:avLst/>
                  </a:prstGeom>
                  <a:solidFill>
                    <a:srgbClr val="ffdb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1188360" y="1793160"/>
                    <a:ext cx="3240" cy="3008880"/>
                  </a:xfrm>
                  <a:prstGeom prst="rect">
                    <a:avLst/>
                  </a:prstGeom>
                  <a:solidFill>
                    <a:srgbClr val="ffdc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1191960" y="1793160"/>
                    <a:ext cx="2520" cy="3008880"/>
                  </a:xfrm>
                  <a:prstGeom prst="rect">
                    <a:avLst/>
                  </a:prstGeom>
                  <a:solidFill>
                    <a:srgbClr val="ffdd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1194480" y="1793160"/>
                    <a:ext cx="3240" cy="3008880"/>
                  </a:xfrm>
                  <a:prstGeom prst="rect">
                    <a:avLst/>
                  </a:prstGeom>
                  <a:solidFill>
                    <a:srgbClr val="ffd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1198080" y="1793160"/>
                    <a:ext cx="3240" cy="3008880"/>
                  </a:xfrm>
                  <a:prstGeom prst="rect">
                    <a:avLst/>
                  </a:prstGeom>
                  <a:solidFill>
                    <a:srgbClr val="ffd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1201680" y="1793160"/>
                    <a:ext cx="2880" cy="3008880"/>
                  </a:xfrm>
                  <a:prstGeom prst="rect">
                    <a:avLst/>
                  </a:prstGeom>
                  <a:solidFill>
                    <a:srgbClr val="ffe0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1204560" y="1793160"/>
                    <a:ext cx="3960" cy="3008880"/>
                  </a:xfrm>
                  <a:prstGeom prst="rect">
                    <a:avLst/>
                  </a:prstGeom>
                  <a:solidFill>
                    <a:srgbClr val="ffe1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1208880" y="1793160"/>
                    <a:ext cx="3600" cy="3008880"/>
                  </a:xfrm>
                  <a:prstGeom prst="rect">
                    <a:avLst/>
                  </a:prstGeom>
                  <a:solidFill>
                    <a:srgbClr val="ffe1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1212840" y="1793160"/>
                    <a:ext cx="3240" cy="3008880"/>
                  </a:xfrm>
                  <a:prstGeom prst="rect">
                    <a:avLst/>
                  </a:prstGeom>
                  <a:solidFill>
                    <a:srgbClr val="ffe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1216440" y="1793160"/>
                    <a:ext cx="2520" cy="3008880"/>
                  </a:xfrm>
                  <a:prstGeom prst="rect">
                    <a:avLst/>
                  </a:prstGeom>
                  <a:solidFill>
                    <a:srgbClr val="ffe4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1218960" y="1793160"/>
                    <a:ext cx="3240" cy="3008880"/>
                  </a:xfrm>
                  <a:prstGeom prst="rect">
                    <a:avLst/>
                  </a:prstGeom>
                  <a:solidFill>
                    <a:srgbClr val="ffe4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1222560" y="1793160"/>
                    <a:ext cx="3240" cy="3008880"/>
                  </a:xfrm>
                  <a:prstGeom prst="rect">
                    <a:avLst/>
                  </a:prstGeom>
                  <a:solidFill>
                    <a:srgbClr val="ffe5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1226160" y="1793160"/>
                    <a:ext cx="4320" cy="3008880"/>
                  </a:xfrm>
                  <a:prstGeom prst="rect">
                    <a:avLst/>
                  </a:prstGeom>
                  <a:solidFill>
                    <a:srgbClr val="ffe6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1230480" y="1793160"/>
                    <a:ext cx="2520" cy="3008880"/>
                  </a:xfrm>
                  <a:prstGeom prst="rect">
                    <a:avLst/>
                  </a:prstGeom>
                  <a:solidFill>
                    <a:srgbClr val="ffe7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1233360" y="1793160"/>
                    <a:ext cx="3240" cy="3008880"/>
                  </a:xfrm>
                  <a:prstGeom prst="rect">
                    <a:avLst/>
                  </a:prstGeom>
                  <a:solidFill>
                    <a:srgbClr val="ffe8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1236960" y="1793160"/>
                    <a:ext cx="3240" cy="3008880"/>
                  </a:xfrm>
                  <a:prstGeom prst="rect">
                    <a:avLst/>
                  </a:prstGeom>
                  <a:solidFill>
                    <a:srgbClr val="ffe9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1240560" y="1793160"/>
                    <a:ext cx="2880" cy="3008880"/>
                  </a:xfrm>
                  <a:prstGeom prst="rect">
                    <a:avLst/>
                  </a:prstGeom>
                  <a:solidFill>
                    <a:srgbClr val="ffe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1243440" y="1793160"/>
                    <a:ext cx="3240" cy="3008880"/>
                  </a:xfrm>
                  <a:prstGeom prst="rect">
                    <a:avLst/>
                  </a:prstGeom>
                  <a:solidFill>
                    <a:srgbClr val="ffea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1247040" y="1793160"/>
                    <a:ext cx="4320" cy="3008880"/>
                  </a:xfrm>
                  <a:prstGeom prst="rect">
                    <a:avLst/>
                  </a:prstGeom>
                  <a:solidFill>
                    <a:srgbClr val="ffeb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1251360" y="1793160"/>
                    <a:ext cx="3240" cy="3008880"/>
                  </a:xfrm>
                  <a:prstGeom prst="rect">
                    <a:avLst/>
                  </a:prstGeom>
                  <a:solidFill>
                    <a:srgbClr val="ffeb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1254960" y="1793160"/>
                    <a:ext cx="2520" cy="3008880"/>
                  </a:xfrm>
                  <a:prstGeom prst="rect">
                    <a:avLst/>
                  </a:prstGeom>
                  <a:solidFill>
                    <a:srgbClr val="ffec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1257840" y="1793160"/>
                    <a:ext cx="3240" cy="3008880"/>
                  </a:xfrm>
                  <a:prstGeom prst="rect">
                    <a:avLst/>
                  </a:prstGeom>
                  <a:solidFill>
                    <a:srgbClr val="ffed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1261440" y="1793160"/>
                    <a:ext cx="3240" cy="3008880"/>
                  </a:xfrm>
                  <a:prstGeom prst="rect">
                    <a:avLst/>
                  </a:prstGeom>
                  <a:solidFill>
                    <a:srgbClr val="ffee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1265040" y="1793160"/>
                    <a:ext cx="2880" cy="3008880"/>
                  </a:xfrm>
                  <a:prstGeom prst="rect">
                    <a:avLst/>
                  </a:prstGeom>
                  <a:solidFill>
                    <a:srgbClr val="ffee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1267920" y="1793160"/>
                    <a:ext cx="4320" cy="3008880"/>
                  </a:xfrm>
                  <a:prstGeom prst="rect">
                    <a:avLst/>
                  </a:prstGeom>
                  <a:solidFill>
                    <a:srgbClr val="ffe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1272240" y="1793160"/>
                    <a:ext cx="3240" cy="3008880"/>
                  </a:xfrm>
                  <a:prstGeom prst="rect">
                    <a:avLst/>
                  </a:prstGeom>
                  <a:solidFill>
                    <a:srgbClr val="fff0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1275840" y="1793160"/>
                    <a:ext cx="3240" cy="3008880"/>
                  </a:xfrm>
                  <a:prstGeom prst="rect">
                    <a:avLst/>
                  </a:prstGeom>
                  <a:solidFill>
                    <a:srgbClr val="fff0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1279440" y="1793160"/>
                    <a:ext cx="2520" cy="300888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1282320" y="1793160"/>
                    <a:ext cx="3240" cy="300888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1285920" y="1793160"/>
                    <a:ext cx="3240" cy="3008880"/>
                  </a:xfrm>
                  <a:prstGeom prst="rect">
                    <a:avLst/>
                  </a:prstGeom>
                  <a:solidFill>
                    <a:srgbClr val="fff2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1289520" y="1793160"/>
                    <a:ext cx="3240" cy="3008880"/>
                  </a:xfrm>
                  <a:prstGeom prst="rect">
                    <a:avLst/>
                  </a:prstGeom>
                  <a:solidFill>
                    <a:srgbClr val="fff3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1293120" y="1793160"/>
                    <a:ext cx="3240" cy="3008880"/>
                  </a:xfrm>
                  <a:prstGeom prst="rect">
                    <a:avLst/>
                  </a:prstGeom>
                  <a:solidFill>
                    <a:srgbClr val="fff3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1296720" y="1793160"/>
                    <a:ext cx="3240" cy="3008880"/>
                  </a:xfrm>
                  <a:prstGeom prst="rect">
                    <a:avLst/>
                  </a:prstGeom>
                  <a:solidFill>
                    <a:srgbClr val="fff4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1300320" y="1793160"/>
                    <a:ext cx="3600" cy="3008880"/>
                  </a:xfrm>
                  <a:prstGeom prst="rect">
                    <a:avLst/>
                  </a:prstGeom>
                  <a:solidFill>
                    <a:srgbClr val="fff4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1303920" y="1793160"/>
                    <a:ext cx="2520" cy="3008880"/>
                  </a:xfrm>
                  <a:prstGeom prst="rect">
                    <a:avLst/>
                  </a:prstGeom>
                  <a:solidFill>
                    <a:srgbClr val="fff5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1306800" y="1793160"/>
                    <a:ext cx="3240" cy="3008880"/>
                  </a:xfrm>
                  <a:prstGeom prst="rect">
                    <a:avLst/>
                  </a:prstGeom>
                  <a:solidFill>
                    <a:srgbClr val="fff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1310400" y="1793160"/>
                    <a:ext cx="3240" cy="3008880"/>
                  </a:xfrm>
                  <a:prstGeom prst="rect">
                    <a:avLst/>
                  </a:prstGeom>
                  <a:solidFill>
                    <a:srgbClr val="fff6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1314000" y="1793160"/>
                    <a:ext cx="4320" cy="3008880"/>
                  </a:xfrm>
                  <a:prstGeom prst="rect">
                    <a:avLst/>
                  </a:prstGeom>
                  <a:solidFill>
                    <a:srgbClr val="fff6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1318320" y="1793160"/>
                    <a:ext cx="2520" cy="300888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1321200" y="1793160"/>
                    <a:ext cx="3240" cy="300888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1324440" y="1793160"/>
                    <a:ext cx="3240" cy="300888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1328040" y="1793160"/>
                    <a:ext cx="3600" cy="300888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1332000" y="1793160"/>
                    <a:ext cx="2520" cy="3008880"/>
                  </a:xfrm>
                  <a:prstGeom prst="rect">
                    <a:avLst/>
                  </a:prstGeom>
                  <a:solidFill>
                    <a:srgbClr val="fff8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1334880" y="1793160"/>
                    <a:ext cx="4320" cy="300888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1339200" y="1793160"/>
                    <a:ext cx="3240" cy="300888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1342800" y="1793160"/>
                    <a:ext cx="3240" cy="3008880"/>
                  </a:xfrm>
                  <a:prstGeom prst="rect">
                    <a:avLst/>
                  </a:prstGeom>
                  <a:solidFill>
                    <a:srgbClr val="fff9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1346400" y="1793160"/>
                    <a:ext cx="2520" cy="300888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1348920" y="1793160"/>
                    <a:ext cx="3240" cy="300888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1352520" y="1793160"/>
                    <a:ext cx="3240" cy="3008880"/>
                  </a:xfrm>
                  <a:prstGeom prst="rect">
                    <a:avLst/>
                  </a:prstGeom>
                  <a:solidFill>
                    <a:srgbClr val="fffa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1356120" y="1793160"/>
                    <a:ext cx="2880" cy="300888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1359000" y="1793160"/>
                    <a:ext cx="4320" cy="300888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1363680" y="1793160"/>
                    <a:ext cx="3240" cy="300888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1367280" y="1793160"/>
                    <a:ext cx="324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1370880" y="1793160"/>
                    <a:ext cx="252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1373400" y="1793160"/>
                    <a:ext cx="324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1377000" y="1793160"/>
                    <a:ext cx="324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1380600" y="1793160"/>
                    <a:ext cx="432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1384920" y="1793160"/>
                    <a:ext cx="252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1387800" y="1793160"/>
                    <a:ext cx="360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1391400" y="1793160"/>
                    <a:ext cx="324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1395000" y="1793160"/>
                    <a:ext cx="252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1397880" y="1793160"/>
                    <a:ext cx="3240" cy="3008880"/>
                  </a:xfrm>
                  <a:prstGeom prst="rect">
                    <a:avLst/>
                  </a:prstGeom>
                  <a:solidFill>
                    <a:srgbClr val="fffd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1401480" y="1793160"/>
                    <a:ext cx="432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1405800" y="1793160"/>
                    <a:ext cx="324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1409400" y="1793160"/>
                    <a:ext cx="252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1412280" y="1793160"/>
                    <a:ext cx="324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1415880" y="1793160"/>
                    <a:ext cx="360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1419480" y="1793160"/>
                    <a:ext cx="252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1422360" y="1793160"/>
                    <a:ext cx="4320" cy="3008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1426680" y="1793160"/>
                    <a:ext cx="3240" cy="300888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1430280" y="1793160"/>
                    <a:ext cx="324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1433880" y="1793160"/>
                    <a:ext cx="252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1436760" y="1793160"/>
                    <a:ext cx="324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1440360" y="1793160"/>
                    <a:ext cx="324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1443960" y="1793160"/>
                    <a:ext cx="324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1447560" y="1793160"/>
                    <a:ext cx="3600" cy="300888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1451160" y="1793160"/>
                    <a:ext cx="3240" cy="3008880"/>
                  </a:xfrm>
                  <a:prstGeom prst="rect">
                    <a:avLst/>
                  </a:prstGeom>
                  <a:solidFill>
                    <a:srgbClr val="fffd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1454760" y="1793160"/>
                    <a:ext cx="324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1458360" y="1793160"/>
                    <a:ext cx="324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1461960" y="1793160"/>
                    <a:ext cx="252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1464840" y="1793160"/>
                    <a:ext cx="324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1468440" y="1793160"/>
                    <a:ext cx="4320" cy="300888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1472760" y="1793160"/>
                    <a:ext cx="252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1475280" y="1793160"/>
                    <a:ext cx="360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479240" y="1793160"/>
                    <a:ext cx="324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1482840" y="1793160"/>
                    <a:ext cx="3240" cy="300888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1486440" y="1793160"/>
                    <a:ext cx="2520" cy="300888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1488960" y="1793160"/>
                    <a:ext cx="4320" cy="300888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1493640" y="1793160"/>
                    <a:ext cx="3240" cy="300888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1497240" y="1793160"/>
                    <a:ext cx="3240" cy="3008880"/>
                  </a:xfrm>
                  <a:prstGeom prst="rect">
                    <a:avLst/>
                  </a:prstGeom>
                  <a:solidFill>
                    <a:srgbClr val="fffa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1500840" y="1793160"/>
                    <a:ext cx="2520" cy="300888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1503360" y="1793160"/>
                    <a:ext cx="3240" cy="300888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1506960" y="1793160"/>
                    <a:ext cx="3600" cy="3008880"/>
                  </a:xfrm>
                  <a:prstGeom prst="rect">
                    <a:avLst/>
                  </a:prstGeom>
                  <a:solidFill>
                    <a:srgbClr val="fff9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1510920" y="1793160"/>
                    <a:ext cx="2520" cy="300888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1513440" y="1793160"/>
                    <a:ext cx="4320" cy="300888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518120" y="1793160"/>
                    <a:ext cx="3240" cy="3008880"/>
                  </a:xfrm>
                  <a:prstGeom prst="rect">
                    <a:avLst/>
                  </a:prstGeom>
                  <a:solidFill>
                    <a:srgbClr val="fff8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521720" y="1793160"/>
                    <a:ext cx="3240" cy="300888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1524960" y="1793160"/>
                    <a:ext cx="2520" cy="300888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1527840" y="1793160"/>
                    <a:ext cx="3240" cy="300888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1531440" y="1793160"/>
                    <a:ext cx="3240" cy="300888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1535040" y="1793160"/>
                    <a:ext cx="4320" cy="3008880"/>
                  </a:xfrm>
                  <a:prstGeom prst="rect">
                    <a:avLst/>
                  </a:prstGeom>
                  <a:solidFill>
                    <a:srgbClr val="fff6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1539360" y="1793160"/>
                    <a:ext cx="2880" cy="3008880"/>
                  </a:xfrm>
                  <a:prstGeom prst="rect">
                    <a:avLst/>
                  </a:prstGeom>
                  <a:solidFill>
                    <a:srgbClr val="fff6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1542240" y="1793160"/>
                    <a:ext cx="3240" cy="3008880"/>
                  </a:xfrm>
                  <a:prstGeom prst="rect">
                    <a:avLst/>
                  </a:prstGeom>
                  <a:solidFill>
                    <a:srgbClr val="fff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1545840" y="1793160"/>
                    <a:ext cx="3240" cy="3008880"/>
                  </a:xfrm>
                  <a:prstGeom prst="rect">
                    <a:avLst/>
                  </a:prstGeom>
                  <a:solidFill>
                    <a:srgbClr val="fff5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1549440" y="1793160"/>
                    <a:ext cx="2520" cy="3008880"/>
                  </a:xfrm>
                  <a:prstGeom prst="rect">
                    <a:avLst/>
                  </a:prstGeom>
                  <a:solidFill>
                    <a:srgbClr val="fff4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1552320" y="1793160"/>
                    <a:ext cx="3240" cy="3008880"/>
                  </a:xfrm>
                  <a:prstGeom prst="rect">
                    <a:avLst/>
                  </a:prstGeom>
                  <a:solidFill>
                    <a:srgbClr val="fff4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1555920" y="1793160"/>
                    <a:ext cx="4320" cy="3008880"/>
                  </a:xfrm>
                  <a:prstGeom prst="rect">
                    <a:avLst/>
                  </a:prstGeom>
                  <a:solidFill>
                    <a:srgbClr val="fff3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1560240" y="1793160"/>
                    <a:ext cx="3240" cy="3008880"/>
                  </a:xfrm>
                  <a:prstGeom prst="rect">
                    <a:avLst/>
                  </a:prstGeom>
                  <a:solidFill>
                    <a:srgbClr val="fff3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1563840" y="1793160"/>
                    <a:ext cx="2520" cy="3008880"/>
                  </a:xfrm>
                  <a:prstGeom prst="rect">
                    <a:avLst/>
                  </a:prstGeom>
                  <a:solidFill>
                    <a:srgbClr val="fff2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1566720" y="1793160"/>
                    <a:ext cx="3600" cy="300888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1570320" y="1793160"/>
                    <a:ext cx="3240" cy="300888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1573920" y="1793160"/>
                    <a:ext cx="2520" cy="3008880"/>
                  </a:xfrm>
                  <a:prstGeom prst="rect">
                    <a:avLst/>
                  </a:prstGeom>
                  <a:solidFill>
                    <a:srgbClr val="fff0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1576800" y="1793160"/>
                    <a:ext cx="4320" cy="3008880"/>
                  </a:xfrm>
                  <a:prstGeom prst="rect">
                    <a:avLst/>
                  </a:prstGeom>
                  <a:solidFill>
                    <a:srgbClr val="fff0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1581120" y="1793160"/>
                    <a:ext cx="3240" cy="3008880"/>
                  </a:xfrm>
                  <a:prstGeom prst="rect">
                    <a:avLst/>
                  </a:prstGeom>
                  <a:solidFill>
                    <a:srgbClr val="ffe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1584720" y="1793160"/>
                    <a:ext cx="3240" cy="3008880"/>
                  </a:xfrm>
                  <a:prstGeom prst="rect">
                    <a:avLst/>
                  </a:prstGeom>
                  <a:solidFill>
                    <a:srgbClr val="ffee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1" name=""/>
                <p:cNvSpPr/>
                <p:nvPr/>
              </p:nvSpPr>
              <p:spPr>
                <a:xfrm>
                  <a:off x="1588320" y="1793160"/>
                  <a:ext cx="2520" cy="3009240"/>
                </a:xfrm>
                <a:prstGeom prst="rect">
                  <a:avLst/>
                </a:prstGeom>
                <a:solidFill>
                  <a:srgbClr val="ffe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>
                  <a:off x="1590840" y="1793160"/>
                  <a:ext cx="3240" cy="3009240"/>
                </a:xfrm>
                <a:prstGeom prst="rect">
                  <a:avLst/>
                </a:prstGeom>
                <a:solidFill>
                  <a:srgbClr val="ffe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1594440" y="1793160"/>
                  <a:ext cx="3600" cy="3009240"/>
                </a:xfrm>
                <a:prstGeom prst="rect">
                  <a:avLst/>
                </a:prstGeom>
                <a:solidFill>
                  <a:srgbClr val="ffec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1598400" y="1793160"/>
                  <a:ext cx="3240" cy="300924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>
                  <a:off x="1602000" y="1793160"/>
                  <a:ext cx="3240" cy="300924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1605600" y="1793160"/>
                  <a:ext cx="3240" cy="3009240"/>
                </a:xfrm>
                <a:prstGeom prst="rect">
                  <a:avLst/>
                </a:prstGeom>
                <a:solidFill>
                  <a:srgbClr val="ffea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>
                  <a:off x="1609200" y="1793160"/>
                  <a:ext cx="3240" cy="3009240"/>
                </a:xfrm>
                <a:prstGeom prst="rect">
                  <a:avLst/>
                </a:prstGeom>
                <a:solidFill>
                  <a:srgbClr val="ffe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>
                  <a:off x="1612800" y="1793160"/>
                  <a:ext cx="3240" cy="3009240"/>
                </a:xfrm>
                <a:prstGeom prst="rect">
                  <a:avLst/>
                </a:prstGeom>
                <a:solidFill>
                  <a:srgbClr val="ffe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1616040" y="1793160"/>
                  <a:ext cx="2520" cy="3009240"/>
                </a:xfrm>
                <a:prstGeom prst="rect">
                  <a:avLst/>
                </a:prstGeom>
                <a:solidFill>
                  <a:srgbClr val="ffe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1618920" y="1793160"/>
                  <a:ext cx="3240" cy="3009240"/>
                </a:xfrm>
                <a:prstGeom prst="rect">
                  <a:avLst/>
                </a:prstGeom>
                <a:solidFill>
                  <a:srgbClr val="ffe7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1622520" y="1793160"/>
                  <a:ext cx="4320" cy="3009240"/>
                </a:xfrm>
                <a:prstGeom prst="rect">
                  <a:avLst/>
                </a:prstGeom>
                <a:solidFill>
                  <a:srgbClr val="ffe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1626840" y="1793160"/>
                  <a:ext cx="2880" cy="3009240"/>
                </a:xfrm>
                <a:prstGeom prst="rect">
                  <a:avLst/>
                </a:prstGeom>
                <a:solidFill>
                  <a:srgbClr val="ffe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1629720" y="1793160"/>
                  <a:ext cx="3240" cy="3009240"/>
                </a:xfrm>
                <a:prstGeom prst="rect">
                  <a:avLst/>
                </a:prstGeom>
                <a:solidFill>
                  <a:srgbClr val="ffe4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1633320" y="1793160"/>
                  <a:ext cx="3240" cy="3009240"/>
                </a:xfrm>
                <a:prstGeom prst="rect">
                  <a:avLst/>
                </a:prstGeom>
                <a:solidFill>
                  <a:srgbClr val="ffe4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1636920" y="1793160"/>
                  <a:ext cx="3240" cy="3009240"/>
                </a:xfrm>
                <a:prstGeom prst="rect">
                  <a:avLst/>
                </a:prstGeom>
                <a:solidFill>
                  <a:srgbClr val="ffe2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1640520" y="1793160"/>
                  <a:ext cx="2520" cy="3009240"/>
                </a:xfrm>
                <a:prstGeom prst="rect">
                  <a:avLst/>
                </a:prstGeom>
                <a:solidFill>
                  <a:srgbClr val="ffe1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1643400" y="1793160"/>
                  <a:ext cx="4320" cy="3009240"/>
                </a:xfrm>
                <a:prstGeom prst="rect">
                  <a:avLst/>
                </a:prstGeom>
                <a:solidFill>
                  <a:srgbClr val="ffe1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1647720" y="1793160"/>
                  <a:ext cx="3240" cy="3009240"/>
                </a:xfrm>
                <a:prstGeom prst="rect">
                  <a:avLst/>
                </a:prstGeom>
                <a:solidFill>
                  <a:srgbClr val="ff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1651320" y="1793160"/>
                  <a:ext cx="3240" cy="3009240"/>
                </a:xfrm>
                <a:prstGeom prst="rect">
                  <a:avLst/>
                </a:prstGeom>
                <a:solidFill>
                  <a:srgbClr val="ffde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>
                  <a:off x="1654920" y="1793160"/>
                  <a:ext cx="2880" cy="3009240"/>
                </a:xfrm>
                <a:prstGeom prst="rect">
                  <a:avLst/>
                </a:prstGeom>
                <a:solidFill>
                  <a:srgbClr val="ffde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1657800" y="1793160"/>
                  <a:ext cx="3240" cy="3009240"/>
                </a:xfrm>
                <a:prstGeom prst="rect">
                  <a:avLst/>
                </a:prstGeom>
                <a:solidFill>
                  <a:srgbClr val="ffdd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1661400" y="1793160"/>
                  <a:ext cx="3240" cy="3009240"/>
                </a:xfrm>
                <a:prstGeom prst="rect">
                  <a:avLst/>
                </a:prstGeom>
                <a:solidFill>
                  <a:srgbClr val="ffdc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1665000" y="1793160"/>
                  <a:ext cx="2520" cy="3009240"/>
                </a:xfrm>
                <a:prstGeom prst="rect">
                  <a:avLst/>
                </a:prstGeom>
                <a:solidFill>
                  <a:srgbClr val="ffdb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1667880" y="1793160"/>
                  <a:ext cx="4320" cy="3009240"/>
                </a:xfrm>
                <a:prstGeom prst="rect">
                  <a:avLst/>
                </a:prstGeom>
                <a:solidFill>
                  <a:srgbClr val="ffd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1672200" y="1793160"/>
                  <a:ext cx="3240" cy="3009240"/>
                </a:xfrm>
                <a:prstGeom prst="rect">
                  <a:avLst/>
                </a:prstGeom>
                <a:solidFill>
                  <a:srgbClr val="ffd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1675800" y="1793160"/>
                  <a:ext cx="3240" cy="3009240"/>
                </a:xfrm>
                <a:prstGeom prst="rect">
                  <a:avLst/>
                </a:prstGeom>
                <a:solidFill>
                  <a:srgbClr val="ffd8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1679400" y="1793160"/>
                  <a:ext cx="2520" cy="3009240"/>
                </a:xfrm>
                <a:prstGeom prst="rect">
                  <a:avLst/>
                </a:prstGeom>
                <a:solidFill>
                  <a:srgbClr val="ffd7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1682280" y="1793160"/>
                  <a:ext cx="3600" cy="300924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1685880" y="1793160"/>
                  <a:ext cx="3240" cy="3009240"/>
                </a:xfrm>
                <a:prstGeom prst="rect">
                  <a:avLst/>
                </a:prstGeom>
                <a:solidFill>
                  <a:srgbClr val="ffd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1689480" y="1793160"/>
                  <a:ext cx="3960" cy="3009240"/>
                </a:xfrm>
                <a:prstGeom prst="rect">
                  <a:avLst/>
                </a:prstGeom>
                <a:solidFill>
                  <a:srgbClr val="ffd3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1693800" y="1793160"/>
                  <a:ext cx="2880" cy="300924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1696680" y="1793160"/>
                  <a:ext cx="3240" cy="3009240"/>
                </a:xfrm>
                <a:prstGeom prst="rect">
                  <a:avLst/>
                </a:prstGeom>
                <a:solidFill>
                  <a:srgbClr val="ffd1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700280" y="1793160"/>
                  <a:ext cx="3240" cy="3009240"/>
                </a:xfrm>
                <a:prstGeom prst="rect">
                  <a:avLst/>
                </a:prstGeom>
                <a:solidFill>
                  <a:srgbClr val="ffd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703880" y="1793160"/>
                  <a:ext cx="2520" cy="3009240"/>
                </a:xfrm>
                <a:prstGeom prst="rect">
                  <a:avLst/>
                </a:prstGeom>
                <a:solidFill>
                  <a:srgbClr val="ffcf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706760" y="1793160"/>
                  <a:ext cx="3240" cy="3009240"/>
                </a:xfrm>
                <a:prstGeom prst="rect">
                  <a:avLst/>
                </a:prstGeom>
                <a:solidFill>
                  <a:srgbClr val="ffce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710360" y="1793160"/>
                  <a:ext cx="4320" cy="3009240"/>
                </a:xfrm>
                <a:prstGeom prst="rect">
                  <a:avLst/>
                </a:prstGeom>
                <a:solidFill>
                  <a:srgbClr val="ffcd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714680" y="1793160"/>
                  <a:ext cx="3240" cy="3009240"/>
                </a:xfrm>
                <a:prstGeom prst="rect">
                  <a:avLst/>
                </a:prstGeom>
                <a:solidFill>
                  <a:srgbClr val="ffcc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718280" y="1793160"/>
                  <a:ext cx="2880" cy="3009240"/>
                </a:xfrm>
                <a:prstGeom prst="rect">
                  <a:avLst/>
                </a:prstGeom>
                <a:solidFill>
                  <a:srgbClr val="ffcb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721160" y="1793160"/>
                  <a:ext cx="3240" cy="3009240"/>
                </a:xfrm>
                <a:prstGeom prst="rect">
                  <a:avLst/>
                </a:prstGeom>
                <a:solidFill>
                  <a:srgbClr val="ffca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724760" y="1793160"/>
                  <a:ext cx="3240" cy="3009240"/>
                </a:xfrm>
                <a:prstGeom prst="rect">
                  <a:avLst/>
                </a:prstGeom>
                <a:solidFill>
                  <a:srgbClr val="ffc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728360" y="1793160"/>
                  <a:ext cx="2520" cy="3009240"/>
                </a:xfrm>
                <a:prstGeom prst="rect">
                  <a:avLst/>
                </a:prstGeom>
                <a:solidFill>
                  <a:srgbClr val="ffc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730880" y="1793160"/>
                  <a:ext cx="4320" cy="3009240"/>
                </a:xfrm>
                <a:prstGeom prst="rect">
                  <a:avLst/>
                </a:prstGeom>
                <a:solidFill>
                  <a:srgbClr val="ffc6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735560" y="1793160"/>
                  <a:ext cx="3240" cy="3009240"/>
                </a:xfrm>
                <a:prstGeom prst="rect">
                  <a:avLst/>
                </a:prstGeom>
                <a:solidFill>
                  <a:srgbClr val="ffc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39160" y="1793160"/>
                  <a:ext cx="3240" cy="3009240"/>
                </a:xfrm>
                <a:prstGeom prst="rect">
                  <a:avLst/>
                </a:prstGeom>
                <a:solidFill>
                  <a:srgbClr val="ffc4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42760" y="1793160"/>
                  <a:ext cx="2880" cy="3009240"/>
                </a:xfrm>
                <a:prstGeom prst="rect">
                  <a:avLst/>
                </a:prstGeom>
                <a:solidFill>
                  <a:srgbClr val="ffc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5640" y="1793160"/>
                  <a:ext cx="3240" cy="3009240"/>
                </a:xfrm>
                <a:prstGeom prst="rect">
                  <a:avLst/>
                </a:prstGeom>
                <a:solidFill>
                  <a:srgbClr val="ffc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49240" y="1793160"/>
                  <a:ext cx="3240" cy="3009240"/>
                </a:xfrm>
                <a:prstGeom prst="rect">
                  <a:avLst/>
                </a:prstGeom>
                <a:solidFill>
                  <a:srgbClr val="ffc1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52840" y="1793160"/>
                  <a:ext cx="3240" cy="3009240"/>
                </a:xfrm>
                <a:prstGeom prst="rect">
                  <a:avLst/>
                </a:prstGeom>
                <a:solidFill>
                  <a:srgbClr val="ffc0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756440" y="1793160"/>
                  <a:ext cx="3240" cy="3009240"/>
                </a:xfrm>
                <a:prstGeom prst="rect">
                  <a:avLst/>
                </a:prstGeom>
                <a:solidFill>
                  <a:srgbClr val="ffb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760040" y="1793160"/>
                  <a:ext cx="3240" cy="3009240"/>
                </a:xfrm>
                <a:prstGeom prst="rect">
                  <a:avLst/>
                </a:prstGeom>
                <a:solidFill>
                  <a:srgbClr val="ffbe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763280" y="1793160"/>
                  <a:ext cx="3240" cy="3009240"/>
                </a:xfrm>
                <a:prstGeom prst="rect">
                  <a:avLst/>
                </a:prstGeom>
                <a:solidFill>
                  <a:srgbClr val="ffbc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766880" y="1793160"/>
                  <a:ext cx="3240" cy="3009240"/>
                </a:xfrm>
                <a:prstGeom prst="rect">
                  <a:avLst/>
                </a:prstGeom>
                <a:solidFill>
                  <a:srgbClr val="ffbb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770480" y="1793160"/>
                  <a:ext cx="2520" cy="3009240"/>
                </a:xfrm>
                <a:prstGeom prst="rect">
                  <a:avLst/>
                </a:prstGeom>
                <a:solidFill>
                  <a:srgbClr val="ffbb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773360" y="1793160"/>
                  <a:ext cx="3600" cy="3009240"/>
                </a:xfrm>
                <a:prstGeom prst="rect">
                  <a:avLst/>
                </a:prstGeom>
                <a:solidFill>
                  <a:srgbClr val="ffb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776960" y="1793160"/>
                  <a:ext cx="3960" cy="3009240"/>
                </a:xfrm>
                <a:prstGeom prst="rect">
                  <a:avLst/>
                </a:prstGeom>
                <a:solidFill>
                  <a:srgbClr val="ffb8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781280" y="1793160"/>
                  <a:ext cx="3240" cy="3009240"/>
                </a:xfrm>
                <a:prstGeom prst="rect">
                  <a:avLst/>
                </a:prstGeom>
                <a:solidFill>
                  <a:srgbClr val="ffb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1784880" y="1793160"/>
                  <a:ext cx="2880" cy="3009240"/>
                </a:xfrm>
                <a:prstGeom prst="rect">
                  <a:avLst/>
                </a:prstGeom>
                <a:solidFill>
                  <a:srgbClr val="ffb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1787760" y="1793160"/>
                  <a:ext cx="3240" cy="3009240"/>
                </a:xfrm>
                <a:prstGeom prst="rect">
                  <a:avLst/>
                </a:prstGeom>
                <a:solidFill>
                  <a:srgbClr val="ffb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1791360" y="1793160"/>
                  <a:ext cx="3240" cy="3009240"/>
                </a:xfrm>
                <a:prstGeom prst="rect">
                  <a:avLst/>
                </a:prstGeom>
                <a:solidFill>
                  <a:srgbClr val="ffb5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1794960" y="1793160"/>
                  <a:ext cx="2520" cy="3009240"/>
                </a:xfrm>
                <a:prstGeom prst="rect">
                  <a:avLst/>
                </a:prstGeom>
                <a:solidFill>
                  <a:srgbClr val="ffb3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1797840" y="1793160"/>
                  <a:ext cx="4320" cy="3009240"/>
                </a:xfrm>
                <a:prstGeom prst="rect">
                  <a:avLst/>
                </a:prstGeom>
                <a:solidFill>
                  <a:srgbClr val="ffb2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802160" y="1793160"/>
                  <a:ext cx="3240" cy="3009240"/>
                </a:xfrm>
                <a:prstGeom prst="rect">
                  <a:avLst/>
                </a:prstGeom>
                <a:solidFill>
                  <a:srgbClr val="ffb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1805760" y="1793160"/>
                  <a:ext cx="3240" cy="3009240"/>
                </a:xfrm>
                <a:prstGeom prst="rect">
                  <a:avLst/>
                </a:prstGeom>
                <a:solidFill>
                  <a:srgbClr val="ffb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809360" y="1793160"/>
                  <a:ext cx="2880" cy="3009240"/>
                </a:xfrm>
                <a:prstGeom prst="rect">
                  <a:avLst/>
                </a:prstGeom>
                <a:solidFill>
                  <a:srgbClr val="ffb0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812240" y="1793160"/>
                  <a:ext cx="3240" cy="3009240"/>
                </a:xfrm>
                <a:prstGeom prst="rect">
                  <a:avLst/>
                </a:prstGeom>
                <a:solidFill>
                  <a:srgbClr val="ffa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815840" y="1793160"/>
                  <a:ext cx="3240" cy="3009240"/>
                </a:xfrm>
                <a:prstGeom prst="rect">
                  <a:avLst/>
                </a:prstGeom>
                <a:solidFill>
                  <a:srgbClr val="ffa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819440" y="1793160"/>
                  <a:ext cx="2520" cy="3009240"/>
                </a:xfrm>
                <a:prstGeom prst="rect">
                  <a:avLst/>
                </a:prstGeom>
                <a:solidFill>
                  <a:srgbClr val="ffa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822320" y="1793160"/>
                  <a:ext cx="4320" cy="3009240"/>
                </a:xfrm>
                <a:prstGeom prst="rect">
                  <a:avLst/>
                </a:prstGeom>
                <a:solidFill>
                  <a:srgbClr val="ffa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826640" y="1793160"/>
                  <a:ext cx="3240" cy="3009240"/>
                </a:xfrm>
                <a:prstGeom prst="rect">
                  <a:avLst/>
                </a:prstGeom>
                <a:solidFill>
                  <a:srgbClr val="ffab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830240" y="1793160"/>
                  <a:ext cx="3240" cy="3009240"/>
                </a:xfrm>
                <a:prstGeom prst="rect">
                  <a:avLst/>
                </a:prstGeom>
                <a:solidFill>
                  <a:srgbClr val="ffaa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1833840" y="1793160"/>
                  <a:ext cx="2880" cy="3009240"/>
                </a:xfrm>
                <a:prstGeom prst="rect">
                  <a:avLst/>
                </a:prstGeom>
                <a:solidFill>
                  <a:srgbClr val="ffa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836720" y="1793160"/>
                  <a:ext cx="3240" cy="3009240"/>
                </a:xfrm>
                <a:prstGeom prst="rect">
                  <a:avLst/>
                </a:prstGeom>
                <a:solidFill>
                  <a:srgbClr val="ffa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1840320" y="1793160"/>
                  <a:ext cx="3240" cy="3009240"/>
                </a:xfrm>
                <a:prstGeom prst="rect">
                  <a:avLst/>
                </a:prstGeom>
                <a:solidFill>
                  <a:srgbClr val="ffa9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1843920" y="1793160"/>
                  <a:ext cx="3960" cy="3009240"/>
                </a:xfrm>
                <a:prstGeom prst="rect">
                  <a:avLst/>
                </a:prstGeom>
                <a:solidFill>
                  <a:srgbClr val="ffa8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1848240" y="1793160"/>
                  <a:ext cx="2880" cy="3009240"/>
                </a:xfrm>
                <a:prstGeom prst="rect">
                  <a:avLst/>
                </a:prstGeom>
                <a:solidFill>
                  <a:srgbClr val="ffa7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1851120" y="1793160"/>
                  <a:ext cx="3240" cy="3009240"/>
                </a:xfrm>
                <a:prstGeom prst="rect">
                  <a:avLst/>
                </a:prstGeom>
                <a:solidFill>
                  <a:srgbClr val="ffa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1854720" y="1793160"/>
                  <a:ext cx="3240" cy="3009240"/>
                </a:xfrm>
                <a:prstGeom prst="rect">
                  <a:avLst/>
                </a:prstGeom>
                <a:solidFill>
                  <a:srgbClr val="ffa6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1858320" y="1793160"/>
                  <a:ext cx="2520" cy="3009240"/>
                </a:xfrm>
                <a:prstGeom prst="rect">
                  <a:avLst/>
                </a:prstGeom>
                <a:solidFill>
                  <a:srgbClr val="ffa5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1860840" y="1793160"/>
                  <a:ext cx="3600" cy="3009240"/>
                </a:xfrm>
                <a:prstGeom prst="rect">
                  <a:avLst/>
                </a:prstGeom>
                <a:solidFill>
                  <a:srgbClr val="ffa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1864800" y="1793160"/>
                  <a:ext cx="3960" cy="3009240"/>
                </a:xfrm>
                <a:prstGeom prst="rect">
                  <a:avLst/>
                </a:prstGeom>
                <a:solidFill>
                  <a:srgbClr val="ffa4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869120" y="1793160"/>
                  <a:ext cx="3240" cy="3009240"/>
                </a:xfrm>
                <a:prstGeom prst="rect">
                  <a:avLst/>
                </a:prstGeom>
                <a:solidFill>
                  <a:srgbClr val="ffa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1872720" y="1793160"/>
                  <a:ext cx="2880" cy="3009240"/>
                </a:xfrm>
                <a:prstGeom prst="rect">
                  <a:avLst/>
                </a:prstGeom>
                <a:solidFill>
                  <a:srgbClr val="ffa2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1875600" y="1793160"/>
                  <a:ext cx="3240" cy="3009240"/>
                </a:xfrm>
                <a:prstGeom prst="rect">
                  <a:avLst/>
                </a:prstGeom>
                <a:solidFill>
                  <a:srgbClr val="ffa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1879200" y="1793160"/>
                  <a:ext cx="3240" cy="3009240"/>
                </a:xfrm>
                <a:prstGeom prst="rect">
                  <a:avLst/>
                </a:prstGeom>
                <a:solidFill>
                  <a:srgbClr val="ffa1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1882800" y="1793160"/>
                  <a:ext cx="3240" cy="3009240"/>
                </a:xfrm>
                <a:prstGeom prst="rect">
                  <a:avLst/>
                </a:prstGeom>
                <a:solidFill>
                  <a:srgbClr val="ffa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1886400" y="1793160"/>
                  <a:ext cx="3240" cy="3009240"/>
                </a:xfrm>
                <a:prstGeom prst="rect">
                  <a:avLst/>
                </a:prstGeom>
                <a:solidFill>
                  <a:srgbClr val="ffa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1890000" y="1793160"/>
                  <a:ext cx="3240" cy="3009240"/>
                </a:xfrm>
                <a:prstGeom prst="rect">
                  <a:avLst/>
                </a:prstGeom>
                <a:solidFill>
                  <a:srgbClr val="ffa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1893240" y="1793160"/>
                  <a:ext cx="3240" cy="3009240"/>
                </a:xfrm>
                <a:prstGeom prst="rect">
                  <a:avLst/>
                </a:prstGeom>
                <a:solidFill>
                  <a:srgbClr val="ff9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1896840" y="1793160"/>
                  <a:ext cx="2880" cy="3009240"/>
                </a:xfrm>
                <a:prstGeom prst="rect">
                  <a:avLst/>
                </a:prstGeom>
                <a:solidFill>
                  <a:srgbClr val="ff9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1900080" y="1793160"/>
                  <a:ext cx="3240" cy="3009240"/>
                </a:xfrm>
                <a:prstGeom prst="rect">
                  <a:avLst/>
                </a:prstGeom>
                <a:solidFill>
                  <a:srgbClr val="ff9e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1903680" y="1793160"/>
                  <a:ext cx="3240" cy="3009240"/>
                </a:xfrm>
                <a:prstGeom prst="rect">
                  <a:avLst/>
                </a:prstGeom>
                <a:solidFill>
                  <a:srgbClr val="ff9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1906920" y="1793160"/>
                  <a:ext cx="3240" cy="3009240"/>
                </a:xfrm>
                <a:prstGeom prst="rect">
                  <a:avLst/>
                </a:prstGeom>
                <a:solidFill>
                  <a:srgbClr val="ff9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1910520" y="1793160"/>
                  <a:ext cx="3240" cy="3009240"/>
                </a:xfrm>
                <a:prstGeom prst="rect">
                  <a:avLst/>
                </a:prstGeom>
                <a:solidFill>
                  <a:srgbClr val="ff9d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1914120" y="1793160"/>
                  <a:ext cx="3240" cy="3009240"/>
                </a:xfrm>
                <a:prstGeom prst="rect">
                  <a:avLst/>
                </a:prstGeom>
                <a:solidFill>
                  <a:srgbClr val="ff9d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1917720" y="1793160"/>
                  <a:ext cx="3240" cy="3009240"/>
                </a:xfrm>
                <a:prstGeom prst="rect">
                  <a:avLst/>
                </a:prstGeom>
                <a:solidFill>
                  <a:srgbClr val="ff9c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1921320" y="1793160"/>
                  <a:ext cx="3240" cy="3009240"/>
                </a:xfrm>
                <a:prstGeom prst="rect">
                  <a:avLst/>
                </a:prstGeom>
                <a:solidFill>
                  <a:srgbClr val="ff9c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1924920" y="1793160"/>
                  <a:ext cx="2880" cy="3009240"/>
                </a:xfrm>
                <a:prstGeom prst="rect">
                  <a:avLst/>
                </a:prstGeom>
                <a:solidFill>
                  <a:srgbClr val="ff9c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1927800" y="1793160"/>
                  <a:ext cx="3240" cy="3009240"/>
                </a:xfrm>
                <a:prstGeom prst="rect">
                  <a:avLst/>
                </a:prstGeom>
                <a:solidFill>
                  <a:srgbClr val="ff9b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1931400" y="1793160"/>
                  <a:ext cx="3960" cy="3009240"/>
                </a:xfrm>
                <a:prstGeom prst="rect">
                  <a:avLst/>
                </a:prstGeom>
                <a:solidFill>
                  <a:srgbClr val="ff9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1935720" y="1793160"/>
                  <a:ext cx="3240" cy="3009240"/>
                </a:xfrm>
                <a:prstGeom prst="rect">
                  <a:avLst/>
                </a:prstGeom>
                <a:solidFill>
                  <a:srgbClr val="ff9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1939320" y="1793160"/>
                  <a:ext cx="2880" cy="3009240"/>
                </a:xfrm>
                <a:prstGeom prst="rect">
                  <a:avLst/>
                </a:prstGeom>
                <a:solidFill>
                  <a:srgbClr val="ff9a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1942200" y="1793160"/>
                  <a:ext cx="3240" cy="3009240"/>
                </a:xfrm>
                <a:prstGeom prst="rect">
                  <a:avLst/>
                </a:prstGeom>
                <a:solidFill>
                  <a:srgbClr val="ff9a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1945800" y="1793160"/>
                  <a:ext cx="3240" cy="3009240"/>
                </a:xfrm>
                <a:prstGeom prst="rect">
                  <a:avLst/>
                </a:prstGeom>
                <a:solidFill>
                  <a:srgbClr val="ff9a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1949400" y="1793160"/>
                  <a:ext cx="2880" cy="3009240"/>
                </a:xfrm>
                <a:prstGeom prst="rect">
                  <a:avLst/>
                </a:prstGeom>
                <a:solidFill>
                  <a:srgbClr val="ff99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1952280" y="1793160"/>
                  <a:ext cx="3960" cy="3009240"/>
                </a:xfrm>
                <a:prstGeom prst="rect">
                  <a:avLst/>
                </a:prstGeom>
                <a:solidFill>
                  <a:srgbClr val="ff99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1956600" y="1793160"/>
                  <a:ext cx="3240" cy="3009240"/>
                </a:xfrm>
                <a:prstGeom prst="rect">
                  <a:avLst/>
                </a:prstGeom>
                <a:solidFill>
                  <a:srgbClr val="ff99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960200" y="1793160"/>
                  <a:ext cx="3240" cy="3009240"/>
                </a:xfrm>
                <a:prstGeom prst="rect">
                  <a:avLst/>
                </a:prstGeom>
                <a:solidFill>
                  <a:srgbClr val="ff99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1963800" y="1793160"/>
                  <a:ext cx="2880" cy="30092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9" name=""/>
            <p:cNvGrpSpPr/>
            <p:nvPr/>
          </p:nvGrpSpPr>
          <p:grpSpPr>
            <a:xfrm>
              <a:off x="1994040" y="1709280"/>
              <a:ext cx="969840" cy="3103200"/>
              <a:chOff x="1994040" y="1709280"/>
              <a:chExt cx="969840" cy="3103200"/>
            </a:xfrm>
          </p:grpSpPr>
          <p:grpSp>
            <p:nvGrpSpPr>
              <p:cNvPr id="2170" name=""/>
              <p:cNvGrpSpPr/>
              <p:nvPr/>
            </p:nvGrpSpPr>
            <p:grpSpPr>
              <a:xfrm>
                <a:off x="1994040" y="1709280"/>
                <a:ext cx="969840" cy="3103200"/>
                <a:chOff x="1994040" y="1709280"/>
                <a:chExt cx="969840" cy="310320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2930400" y="1709280"/>
                  <a:ext cx="33120" cy="3103200"/>
                </a:xfrm>
                <a:custGeom>
                  <a:avLst/>
                  <a:gdLst/>
                  <a:ahLst/>
                  <a:rect l="l" t="t" r="r" b="b"/>
                  <a:pathLst>
                    <a:path w="38" h="2215">
                      <a:moveTo>
                        <a:pt x="0" y="2215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2088"/>
                      </a:lnTo>
                      <a:lnTo>
                        <a:pt x="0" y="2215"/>
                      </a:lnTo>
                      <a:close/>
                    </a:path>
                  </a:pathLst>
                </a:custGeom>
                <a:solidFill>
                  <a:srgbClr val="2db4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1994040" y="1709280"/>
                  <a:ext cx="969840" cy="54360"/>
                </a:xfrm>
                <a:custGeom>
                  <a:avLst/>
                  <a:gdLst/>
                  <a:ahLst/>
                  <a:rect l="l" t="t" r="r" b="b"/>
                  <a:pathLst>
                    <a:path w="1098" h="39">
                      <a:moveTo>
                        <a:pt x="1060" y="39"/>
                      </a:moveTo>
                      <a:lnTo>
                        <a:pt x="0" y="39"/>
                      </a:lnTo>
                      <a:lnTo>
                        <a:pt x="81" y="0"/>
                      </a:lnTo>
                      <a:lnTo>
                        <a:pt x="1098" y="0"/>
                      </a:lnTo>
                      <a:lnTo>
                        <a:pt x="1060" y="39"/>
                      </a:lnTo>
                      <a:close/>
                    </a:path>
                  </a:pathLst>
                </a:cu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3" name=""/>
              <p:cNvGrpSpPr/>
              <p:nvPr/>
            </p:nvGrpSpPr>
            <p:grpSpPr>
              <a:xfrm>
                <a:off x="1994040" y="1763640"/>
                <a:ext cx="936360" cy="3048480"/>
                <a:chOff x="1994040" y="1763640"/>
                <a:chExt cx="936360" cy="3048480"/>
              </a:xfrm>
            </p:grpSpPr>
            <p:grpSp>
              <p:nvGrpSpPr>
                <p:cNvPr id="2174" name=""/>
                <p:cNvGrpSpPr/>
                <p:nvPr/>
              </p:nvGrpSpPr>
              <p:grpSpPr>
                <a:xfrm>
                  <a:off x="1994040" y="1763640"/>
                  <a:ext cx="909000" cy="3048480"/>
                  <a:chOff x="1994040" y="1763640"/>
                  <a:chExt cx="909000" cy="3048480"/>
                </a:xfrm>
              </p:grpSpPr>
              <p:sp>
                <p:nvSpPr>
                  <p:cNvPr id="2175" name=""/>
                  <p:cNvSpPr/>
                  <p:nvPr/>
                </p:nvSpPr>
                <p:spPr>
                  <a:xfrm>
                    <a:off x="1994040" y="1763640"/>
                    <a:ext cx="4320" cy="3048480"/>
                  </a:xfrm>
                  <a:prstGeom prst="rect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1998360" y="1763640"/>
                    <a:ext cx="5040" cy="3048480"/>
                  </a:xfrm>
                  <a:prstGeom prst="rect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2003760" y="1763640"/>
                    <a:ext cx="3600" cy="3048480"/>
                  </a:xfrm>
                  <a:prstGeom prst="rect">
                    <a:avLst/>
                  </a:prstGeom>
                  <a:solidFill>
                    <a:srgbClr val="34cc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2007360" y="1763640"/>
                    <a:ext cx="5040" cy="3048480"/>
                  </a:xfrm>
                  <a:prstGeom prst="rect">
                    <a:avLst/>
                  </a:prstGeom>
                  <a:solidFill>
                    <a:srgbClr val="34cc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2012400" y="1763640"/>
                    <a:ext cx="4320" cy="3048480"/>
                  </a:xfrm>
                  <a:prstGeom prst="rect">
                    <a:avLst/>
                  </a:prstGeom>
                  <a:solidFill>
                    <a:srgbClr val="35c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2016720" y="1763640"/>
                    <a:ext cx="4320" cy="3048480"/>
                  </a:xfrm>
                  <a:prstGeom prst="rect">
                    <a:avLst/>
                  </a:prstGeom>
                  <a:solidFill>
                    <a:srgbClr val="35c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2021400" y="1763640"/>
                    <a:ext cx="5400" cy="3048480"/>
                  </a:xfrm>
                  <a:prstGeom prst="rect">
                    <a:avLst/>
                  </a:prstGeom>
                  <a:solidFill>
                    <a:srgbClr val="36cd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2026800" y="1763640"/>
                    <a:ext cx="3240" cy="3048480"/>
                  </a:xfrm>
                  <a:prstGeom prst="rect">
                    <a:avLst/>
                  </a:prstGeom>
                  <a:solidFill>
                    <a:srgbClr val="37cd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2030040" y="1763640"/>
                    <a:ext cx="4320" cy="304848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2034360" y="1763640"/>
                    <a:ext cx="5400" cy="304848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2039760" y="1763640"/>
                    <a:ext cx="4320" cy="3048480"/>
                  </a:xfrm>
                  <a:prstGeom prst="rect">
                    <a:avLst/>
                  </a:prstGeom>
                  <a:solidFill>
                    <a:srgbClr val="39cd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2044440" y="1763640"/>
                    <a:ext cx="4320" cy="3048480"/>
                  </a:xfrm>
                  <a:prstGeom prst="rect">
                    <a:avLst/>
                  </a:prstGeom>
                  <a:solidFill>
                    <a:srgbClr val="3ace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2048760" y="1763640"/>
                    <a:ext cx="4320" cy="3048480"/>
                  </a:xfrm>
                  <a:prstGeom prst="rect">
                    <a:avLst/>
                  </a:prstGeom>
                  <a:solidFill>
                    <a:srgbClr val="3bc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2053080" y="1763640"/>
                    <a:ext cx="4320" cy="3048480"/>
                  </a:xfrm>
                  <a:prstGeom prst="rect">
                    <a:avLst/>
                  </a:prstGeom>
                  <a:solidFill>
                    <a:srgbClr val="3cce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2057400" y="1763640"/>
                    <a:ext cx="5040" cy="3048480"/>
                  </a:xfrm>
                  <a:prstGeom prst="rect">
                    <a:avLst/>
                  </a:prstGeom>
                  <a:solidFill>
                    <a:srgbClr val="3d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2062800" y="1763640"/>
                    <a:ext cx="3600" cy="3048480"/>
                  </a:xfrm>
                  <a:prstGeom prst="rect">
                    <a:avLst/>
                  </a:prstGeom>
                  <a:solidFill>
                    <a:srgbClr val="3ec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2066400" y="1763640"/>
                    <a:ext cx="4320" cy="3048480"/>
                  </a:xfrm>
                  <a:prstGeom prst="rect">
                    <a:avLst/>
                  </a:prstGeom>
                  <a:solidFill>
                    <a:srgbClr val="3fc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2070720" y="1763640"/>
                    <a:ext cx="5400" cy="3048480"/>
                  </a:xfrm>
                  <a:prstGeom prst="rect">
                    <a:avLst/>
                  </a:prstGeom>
                  <a:solidFill>
                    <a:srgbClr val="40d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2076120" y="1763640"/>
                    <a:ext cx="4320" cy="3048480"/>
                  </a:xfrm>
                  <a:prstGeom prst="rect">
                    <a:avLst/>
                  </a:prstGeom>
                  <a:solidFill>
                    <a:srgbClr val="41d0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2080440" y="1763640"/>
                    <a:ext cx="5040" cy="3048480"/>
                  </a:xfrm>
                  <a:prstGeom prst="rect">
                    <a:avLst/>
                  </a:prstGeom>
                  <a:solidFill>
                    <a:srgbClr val="42d0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2085840" y="1763640"/>
                    <a:ext cx="3600" cy="3048480"/>
                  </a:xfrm>
                  <a:prstGeom prst="rect">
                    <a:avLst/>
                  </a:prstGeom>
                  <a:solidFill>
                    <a:srgbClr val="43d1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2089440" y="1763640"/>
                    <a:ext cx="4320" cy="3048480"/>
                  </a:xfrm>
                  <a:prstGeom prst="rect">
                    <a:avLst/>
                  </a:prstGeom>
                  <a:solidFill>
                    <a:srgbClr val="44d1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2093760" y="1763640"/>
                    <a:ext cx="5040" cy="3048480"/>
                  </a:xfrm>
                  <a:prstGeom prst="rect">
                    <a:avLst/>
                  </a:prstGeom>
                  <a:solidFill>
                    <a:srgbClr val="45d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2099160" y="1763640"/>
                    <a:ext cx="3600" cy="3048480"/>
                  </a:xfrm>
                  <a:prstGeom prst="rect">
                    <a:avLst/>
                  </a:prstGeom>
                  <a:solidFill>
                    <a:srgbClr val="47d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2102760" y="1763640"/>
                    <a:ext cx="4320" cy="3048480"/>
                  </a:xfrm>
                  <a:prstGeom prst="rect">
                    <a:avLst/>
                  </a:prstGeom>
                  <a:solidFill>
                    <a:srgbClr val="48d3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2107080" y="1763640"/>
                    <a:ext cx="5040" cy="3048480"/>
                  </a:xfrm>
                  <a:prstGeom prst="rect">
                    <a:avLst/>
                  </a:prstGeom>
                  <a:solidFill>
                    <a:srgbClr val="4ad3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2112120" y="1763640"/>
                    <a:ext cx="4320" cy="3048480"/>
                  </a:xfrm>
                  <a:prstGeom prst="rect">
                    <a:avLst/>
                  </a:prstGeom>
                  <a:solidFill>
                    <a:srgbClr val="4bd4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2116800" y="1763640"/>
                    <a:ext cx="5400" cy="3048480"/>
                  </a:xfrm>
                  <a:prstGeom prst="rect">
                    <a:avLst/>
                  </a:prstGeom>
                  <a:solidFill>
                    <a:srgbClr val="4cd4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2122200" y="1763640"/>
                    <a:ext cx="3600" cy="3048480"/>
                  </a:xfrm>
                  <a:prstGeom prst="rect">
                    <a:avLst/>
                  </a:prstGeom>
                  <a:solidFill>
                    <a:srgbClr val="4ed5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2125800" y="1763640"/>
                    <a:ext cx="4320" cy="3048480"/>
                  </a:xfrm>
                  <a:prstGeom prst="rect">
                    <a:avLst/>
                  </a:prstGeom>
                  <a:solidFill>
                    <a:srgbClr val="4fd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130120" y="1763640"/>
                    <a:ext cx="5040" cy="3048480"/>
                  </a:xfrm>
                  <a:prstGeom prst="rect">
                    <a:avLst/>
                  </a:prstGeom>
                  <a:solidFill>
                    <a:srgbClr val="51d6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2135160" y="1763640"/>
                    <a:ext cx="4320" cy="3048480"/>
                  </a:xfrm>
                  <a:prstGeom prst="rect">
                    <a:avLst/>
                  </a:prstGeom>
                  <a:solidFill>
                    <a:srgbClr val="52d7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2139840" y="1763640"/>
                    <a:ext cx="3600" cy="3048480"/>
                  </a:xfrm>
                  <a:prstGeom prst="rect">
                    <a:avLst/>
                  </a:prstGeom>
                  <a:solidFill>
                    <a:srgbClr val="54d7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2143440" y="1763640"/>
                    <a:ext cx="5040" cy="3048480"/>
                  </a:xfrm>
                  <a:prstGeom prst="rect">
                    <a:avLst/>
                  </a:prstGeom>
                  <a:solidFill>
                    <a:srgbClr val="55d8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2148480" y="1763640"/>
                    <a:ext cx="4320" cy="3048480"/>
                  </a:xfrm>
                  <a:prstGeom prst="rect">
                    <a:avLst/>
                  </a:prstGeom>
                  <a:solidFill>
                    <a:srgbClr val="57d9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2152800" y="1763640"/>
                    <a:ext cx="5400" cy="3048480"/>
                  </a:xfrm>
                  <a:prstGeom prst="rect">
                    <a:avLst/>
                  </a:prstGeom>
                  <a:solidFill>
                    <a:srgbClr val="59da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2158200" y="1763640"/>
                    <a:ext cx="3240" cy="3048480"/>
                  </a:xfrm>
                  <a:prstGeom prst="rect">
                    <a:avLst/>
                  </a:prstGeom>
                  <a:solidFill>
                    <a:srgbClr val="5ad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2161800" y="1763640"/>
                    <a:ext cx="4320" cy="3048480"/>
                  </a:xfrm>
                  <a:prstGeom prst="rect">
                    <a:avLst/>
                  </a:prstGeom>
                  <a:solidFill>
                    <a:srgbClr val="5c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2166120" y="1763640"/>
                    <a:ext cx="5400" cy="3048480"/>
                  </a:xfrm>
                  <a:prstGeom prst="rect">
                    <a:avLst/>
                  </a:prstGeom>
                  <a:solidFill>
                    <a:srgbClr val="5ddc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2171520" y="1763640"/>
                    <a:ext cx="4320" cy="3048480"/>
                  </a:xfrm>
                  <a:prstGeom prst="rect">
                    <a:avLst/>
                  </a:prstGeom>
                  <a:solidFill>
                    <a:srgbClr val="5fdd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2175840" y="1763640"/>
                    <a:ext cx="5040" cy="3048480"/>
                  </a:xfrm>
                  <a:prstGeom prst="rect">
                    <a:avLst/>
                  </a:prstGeom>
                  <a:solidFill>
                    <a:srgbClr val="60dd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2181240" y="1763640"/>
                    <a:ext cx="3600" cy="3048480"/>
                  </a:xfrm>
                  <a:prstGeom prst="rect">
                    <a:avLst/>
                  </a:prstGeom>
                  <a:solidFill>
                    <a:srgbClr val="62de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2184840" y="1763640"/>
                    <a:ext cx="4320" cy="3048480"/>
                  </a:xfrm>
                  <a:prstGeom prst="rect">
                    <a:avLst/>
                  </a:prstGeom>
                  <a:solidFill>
                    <a:srgbClr val="63df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2189160" y="1763640"/>
                    <a:ext cx="5400" cy="3048480"/>
                  </a:xfrm>
                  <a:prstGeom prst="rect">
                    <a:avLst/>
                  </a:prstGeom>
                  <a:solidFill>
                    <a:srgbClr val="65e0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2194560" y="1763640"/>
                    <a:ext cx="4320" cy="3048480"/>
                  </a:xfrm>
                  <a:prstGeom prst="rect">
                    <a:avLst/>
                  </a:prstGeom>
                  <a:solidFill>
                    <a:srgbClr val="67e1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2198880" y="1763640"/>
                    <a:ext cx="3240" cy="3048480"/>
                  </a:xfrm>
                  <a:prstGeom prst="rect">
                    <a:avLst/>
                  </a:prstGeom>
                  <a:solidFill>
                    <a:srgbClr val="69e2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2202480" y="1763640"/>
                    <a:ext cx="5400" cy="3048480"/>
                  </a:xfrm>
                  <a:prstGeom prst="rect">
                    <a:avLst/>
                  </a:prstGeom>
                  <a:solidFill>
                    <a:srgbClr val="6ae2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2207880" y="1763640"/>
                    <a:ext cx="4320" cy="3048480"/>
                  </a:xfrm>
                  <a:prstGeom prst="rect">
                    <a:avLst/>
                  </a:prstGeom>
                  <a:solidFill>
                    <a:srgbClr val="6ce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2212200" y="1763640"/>
                    <a:ext cx="5040" cy="3048480"/>
                  </a:xfrm>
                  <a:prstGeom prst="rect">
                    <a:avLst/>
                  </a:prstGeom>
                  <a:solidFill>
                    <a:srgbClr val="6de4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2217600" y="1763640"/>
                    <a:ext cx="3600" cy="3048480"/>
                  </a:xfrm>
                  <a:prstGeom prst="rect">
                    <a:avLst/>
                  </a:prstGeom>
                  <a:solidFill>
                    <a:srgbClr val="6fe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2221200" y="1763640"/>
                    <a:ext cx="4320" cy="3048480"/>
                  </a:xfrm>
                  <a:prstGeom prst="rect">
                    <a:avLst/>
                  </a:prstGeom>
                  <a:solidFill>
                    <a:srgbClr val="70e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2225520" y="1763640"/>
                    <a:ext cx="5040" cy="3048480"/>
                  </a:xfrm>
                  <a:prstGeom prst="rect">
                    <a:avLst/>
                  </a:prstGeom>
                  <a:solidFill>
                    <a:srgbClr val="72e7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2230560" y="1763640"/>
                    <a:ext cx="4320" cy="3048480"/>
                  </a:xfrm>
                  <a:prstGeom prst="rect">
                    <a:avLst/>
                  </a:prstGeom>
                  <a:solidFill>
                    <a:srgbClr val="73e7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2235240" y="1763640"/>
                    <a:ext cx="3600" cy="3048480"/>
                  </a:xfrm>
                  <a:prstGeom prst="rect">
                    <a:avLst/>
                  </a:prstGeom>
                  <a:solidFill>
                    <a:srgbClr val="74e8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2238840" y="1763640"/>
                    <a:ext cx="5040" cy="3048480"/>
                  </a:xfrm>
                  <a:prstGeom prst="rect">
                    <a:avLst/>
                  </a:prstGeom>
                  <a:solidFill>
                    <a:srgbClr val="76e9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2243880" y="1763640"/>
                    <a:ext cx="4320" cy="3048480"/>
                  </a:xfrm>
                  <a:prstGeom prst="rect">
                    <a:avLst/>
                  </a:prstGeom>
                  <a:solidFill>
                    <a:srgbClr val="77ea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2248200" y="1763640"/>
                    <a:ext cx="5400" cy="3048480"/>
                  </a:xfrm>
                  <a:prstGeom prst="rect">
                    <a:avLst/>
                  </a:prstGeom>
                  <a:solidFill>
                    <a:srgbClr val="79eb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2253600" y="1763640"/>
                    <a:ext cx="4320" cy="3048480"/>
                  </a:xfrm>
                  <a:prstGeom prst="rect">
                    <a:avLst/>
                  </a:prstGeom>
                  <a:solidFill>
                    <a:srgbClr val="7aeb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2258280" y="1763640"/>
                    <a:ext cx="3600" cy="3048480"/>
                  </a:xfrm>
                  <a:prstGeom prst="rect">
                    <a:avLst/>
                  </a:prstGeom>
                  <a:solidFill>
                    <a:srgbClr val="7bec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2261880" y="1763640"/>
                    <a:ext cx="5040" cy="3048480"/>
                  </a:xfrm>
                  <a:prstGeom prst="rect">
                    <a:avLst/>
                  </a:prstGeom>
                  <a:solidFill>
                    <a:srgbClr val="7ced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2266920" y="1763640"/>
                    <a:ext cx="4320" cy="3048480"/>
                  </a:xfrm>
                  <a:prstGeom prst="rect">
                    <a:avLst/>
                  </a:prstGeom>
                  <a:solidFill>
                    <a:srgbClr val="7ee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2271240" y="1763640"/>
                    <a:ext cx="4320" cy="3048480"/>
                  </a:xfrm>
                  <a:prstGeom prst="rect">
                    <a:avLst/>
                  </a:prstGeom>
                  <a:solidFill>
                    <a:srgbClr val="7fe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2275920" y="1763640"/>
                    <a:ext cx="4320" cy="3048480"/>
                  </a:xfrm>
                  <a:prstGeom prst="rect">
                    <a:avLst/>
                  </a:prstGeom>
                  <a:solidFill>
                    <a:srgbClr val="81e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2280240" y="1763640"/>
                    <a:ext cx="4320" cy="3048480"/>
                  </a:xfrm>
                  <a:prstGeom prst="rect">
                    <a:avLst/>
                  </a:prstGeom>
                  <a:solidFill>
                    <a:srgbClr val="81f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2284560" y="1763640"/>
                    <a:ext cx="5400" cy="3048480"/>
                  </a:xfrm>
                  <a:prstGeom prst="rect">
                    <a:avLst/>
                  </a:prstGeom>
                  <a:solidFill>
                    <a:srgbClr val="83f1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2289960" y="1763640"/>
                    <a:ext cx="4320" cy="3048480"/>
                  </a:xfrm>
                  <a:prstGeom prst="rect">
                    <a:avLst/>
                  </a:prstGeom>
                  <a:solidFill>
                    <a:srgbClr val="84f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2294280" y="1763640"/>
                    <a:ext cx="3240" cy="3048480"/>
                  </a:xfrm>
                  <a:prstGeom prst="rect">
                    <a:avLst/>
                  </a:prstGeom>
                  <a:solidFill>
                    <a:srgbClr val="85f2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2297880" y="1763640"/>
                    <a:ext cx="5400" cy="3048480"/>
                  </a:xfrm>
                  <a:prstGeom prst="rect">
                    <a:avLst/>
                  </a:prstGeom>
                  <a:solidFill>
                    <a:srgbClr val="86f2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2303280" y="1763640"/>
                    <a:ext cx="4320" cy="3048480"/>
                  </a:xfrm>
                  <a:prstGeom prst="rect">
                    <a:avLst/>
                  </a:prstGeom>
                  <a:solidFill>
                    <a:srgbClr val="87f3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2307600" y="1763640"/>
                    <a:ext cx="5040" cy="3048480"/>
                  </a:xfrm>
                  <a:prstGeom prst="rect">
                    <a:avLst/>
                  </a:prstGeom>
                  <a:solidFill>
                    <a:srgbClr val="88f4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2312640" y="1763640"/>
                    <a:ext cx="4320" cy="3048480"/>
                  </a:xfrm>
                  <a:prstGeom prst="rect">
                    <a:avLst/>
                  </a:prstGeom>
                  <a:solidFill>
                    <a:srgbClr val="89f4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2317320" y="1763640"/>
                    <a:ext cx="3600" cy="3048480"/>
                  </a:xfrm>
                  <a:prstGeom prst="rect">
                    <a:avLst/>
                  </a:prstGeom>
                  <a:solidFill>
                    <a:srgbClr val="8af5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2320920" y="1763640"/>
                    <a:ext cx="5400" cy="3048480"/>
                  </a:xfrm>
                  <a:prstGeom prst="rect">
                    <a:avLst/>
                  </a:prstGeom>
                  <a:solidFill>
                    <a:srgbClr val="8bf6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2326320" y="1763640"/>
                    <a:ext cx="4320" cy="3048480"/>
                  </a:xfrm>
                  <a:prstGeom prst="rect">
                    <a:avLst/>
                  </a:prstGeom>
                  <a:solidFill>
                    <a:srgbClr val="8cf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2330640" y="1763640"/>
                    <a:ext cx="3240" cy="304848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2333880" y="1763640"/>
                    <a:ext cx="5400" cy="304848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339280" y="1763640"/>
                    <a:ext cx="4320" cy="3048480"/>
                  </a:xfrm>
                  <a:prstGeom prst="rect">
                    <a:avLst/>
                  </a:prstGeom>
                  <a:solidFill>
                    <a:srgbClr val="8ef8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2343960" y="1763640"/>
                    <a:ext cx="5040" cy="3048480"/>
                  </a:xfrm>
                  <a:prstGeom prst="rect">
                    <a:avLst/>
                  </a:prstGeom>
                  <a:solidFill>
                    <a:srgbClr val="8ff8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2349000" y="1763640"/>
                    <a:ext cx="4320" cy="304848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2353320" y="1763640"/>
                    <a:ext cx="3600" cy="304848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2356920" y="1763640"/>
                    <a:ext cx="5040" cy="3048480"/>
                  </a:xfrm>
                  <a:prstGeom prst="rect">
                    <a:avLst/>
                  </a:prstGeom>
                  <a:solidFill>
                    <a:srgbClr val="91f9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2362320" y="1763640"/>
                    <a:ext cx="4320" cy="3048480"/>
                  </a:xfrm>
                  <a:prstGeom prst="rect">
                    <a:avLst/>
                  </a:prstGeom>
                  <a:solidFill>
                    <a:srgbClr val="91fa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2366640" y="1763640"/>
                    <a:ext cx="4320" cy="304848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2370960" y="1763640"/>
                    <a:ext cx="4320" cy="304848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2375640" y="1763640"/>
                    <a:ext cx="4320" cy="304848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2379960" y="1763640"/>
                    <a:ext cx="5040" cy="304848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2385360" y="1763640"/>
                    <a:ext cx="4320" cy="3048480"/>
                  </a:xfrm>
                  <a:prstGeom prst="rect">
                    <a:avLst/>
                  </a:prstGeom>
                  <a:solidFill>
                    <a:srgbClr val="94fb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2389680" y="1763640"/>
                    <a:ext cx="3600" cy="3048480"/>
                  </a:xfrm>
                  <a:prstGeom prst="rect">
                    <a:avLst/>
                  </a:prstGeom>
                  <a:solidFill>
                    <a:srgbClr val="94fc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2393280" y="1763640"/>
                    <a:ext cx="5040" cy="304848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2398680" y="1763640"/>
                    <a:ext cx="4320" cy="304848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2403000" y="1763640"/>
                    <a:ext cx="4320" cy="304848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2407320" y="1763640"/>
                    <a:ext cx="5400" cy="304848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2412720" y="1763640"/>
                    <a:ext cx="3240" cy="304848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2416320" y="1763640"/>
                    <a:ext cx="5400" cy="304848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2421720" y="1763640"/>
                    <a:ext cx="4320" cy="304848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2426040" y="1763640"/>
                    <a:ext cx="4320" cy="304848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2430360" y="1763640"/>
                    <a:ext cx="4320" cy="304848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2434680" y="1763640"/>
                    <a:ext cx="432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2439360" y="1763640"/>
                    <a:ext cx="432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2443680" y="1763640"/>
                    <a:ext cx="540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2449080" y="1763640"/>
                    <a:ext cx="324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2452320" y="1763640"/>
                    <a:ext cx="540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2457720" y="1763640"/>
                    <a:ext cx="4320" cy="304848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2462400" y="1763640"/>
                    <a:ext cx="4320" cy="304848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2466720" y="1763640"/>
                    <a:ext cx="504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2471760" y="1763640"/>
                    <a:ext cx="360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2475360" y="1763640"/>
                    <a:ext cx="504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2480760" y="1763640"/>
                    <a:ext cx="432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2485080" y="1763640"/>
                    <a:ext cx="4320" cy="304848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2489400" y="1763640"/>
                    <a:ext cx="4320" cy="304848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2494080" y="1763640"/>
                    <a:ext cx="4320" cy="304848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2498400" y="1763640"/>
                    <a:ext cx="4320" cy="304848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2502720" y="1763640"/>
                    <a:ext cx="5400" cy="304848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2508120" y="1763640"/>
                    <a:ext cx="3600" cy="304848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2511720" y="1763640"/>
                    <a:ext cx="5040" cy="304848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2517120" y="1763640"/>
                    <a:ext cx="4320" cy="304848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2521440" y="1763640"/>
                    <a:ext cx="4320" cy="304848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2525760" y="1763640"/>
                    <a:ext cx="5400" cy="304848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2531160" y="1763640"/>
                    <a:ext cx="3240" cy="3048480"/>
                  </a:xfrm>
                  <a:prstGeom prst="rect">
                    <a:avLst/>
                  </a:prstGeom>
                  <a:solidFill>
                    <a:srgbClr val="94fc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2534760" y="1763640"/>
                    <a:ext cx="4320" cy="3048480"/>
                  </a:xfrm>
                  <a:prstGeom prst="rect">
                    <a:avLst/>
                  </a:prstGeom>
                  <a:solidFill>
                    <a:srgbClr val="94fb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2539080" y="1763640"/>
                    <a:ext cx="5400" cy="304848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2544480" y="1763640"/>
                    <a:ext cx="4320" cy="304848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2548800" y="1763640"/>
                    <a:ext cx="4320" cy="304848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2553120" y="1763640"/>
                    <a:ext cx="4320" cy="304848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2557800" y="1763640"/>
                    <a:ext cx="4320" cy="3048480"/>
                  </a:xfrm>
                  <a:prstGeom prst="rect">
                    <a:avLst/>
                  </a:prstGeom>
                  <a:solidFill>
                    <a:srgbClr val="91fa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2562120" y="1763640"/>
                    <a:ext cx="5040" cy="3048480"/>
                  </a:xfrm>
                  <a:prstGeom prst="rect">
                    <a:avLst/>
                  </a:prstGeom>
                  <a:solidFill>
                    <a:srgbClr val="91f9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2567160" y="1763640"/>
                    <a:ext cx="3600" cy="304848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2570760" y="1763640"/>
                    <a:ext cx="4320" cy="304848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2575080" y="1763640"/>
                    <a:ext cx="5400" cy="3048480"/>
                  </a:xfrm>
                  <a:prstGeom prst="rect">
                    <a:avLst/>
                  </a:prstGeom>
                  <a:solidFill>
                    <a:srgbClr val="8ff8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2580840" y="1763640"/>
                    <a:ext cx="4320" cy="3048480"/>
                  </a:xfrm>
                  <a:prstGeom prst="rect">
                    <a:avLst/>
                  </a:prstGeom>
                  <a:solidFill>
                    <a:srgbClr val="8ef8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2585160" y="1763640"/>
                    <a:ext cx="5040" cy="304848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2590200" y="1763640"/>
                    <a:ext cx="3600" cy="304848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2593800" y="1763640"/>
                    <a:ext cx="4320" cy="3048480"/>
                  </a:xfrm>
                  <a:prstGeom prst="rect">
                    <a:avLst/>
                  </a:prstGeom>
                  <a:solidFill>
                    <a:srgbClr val="8cf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2598120" y="1763640"/>
                    <a:ext cx="5040" cy="3048480"/>
                  </a:xfrm>
                  <a:prstGeom prst="rect">
                    <a:avLst/>
                  </a:prstGeom>
                  <a:solidFill>
                    <a:srgbClr val="8bf6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2603520" y="1763640"/>
                    <a:ext cx="4320" cy="3048480"/>
                  </a:xfrm>
                  <a:prstGeom prst="rect">
                    <a:avLst/>
                  </a:prstGeom>
                  <a:solidFill>
                    <a:srgbClr val="8af5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2607840" y="1763640"/>
                    <a:ext cx="3600" cy="3048480"/>
                  </a:xfrm>
                  <a:prstGeom prst="rect">
                    <a:avLst/>
                  </a:prstGeom>
                  <a:solidFill>
                    <a:srgbClr val="89f4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2611440" y="1763640"/>
                    <a:ext cx="5040" cy="3048480"/>
                  </a:xfrm>
                  <a:prstGeom prst="rect">
                    <a:avLst/>
                  </a:prstGeom>
                  <a:solidFill>
                    <a:srgbClr val="88f4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2616840" y="1763640"/>
                    <a:ext cx="4320" cy="3048480"/>
                  </a:xfrm>
                  <a:prstGeom prst="rect">
                    <a:avLst/>
                  </a:prstGeom>
                  <a:solidFill>
                    <a:srgbClr val="87f3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2621160" y="1763640"/>
                    <a:ext cx="5400" cy="3048480"/>
                  </a:xfrm>
                  <a:prstGeom prst="rect">
                    <a:avLst/>
                  </a:prstGeom>
                  <a:solidFill>
                    <a:srgbClr val="86f2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2626560" y="1763640"/>
                    <a:ext cx="3240" cy="3048480"/>
                  </a:xfrm>
                  <a:prstGeom prst="rect">
                    <a:avLst/>
                  </a:prstGeom>
                  <a:solidFill>
                    <a:srgbClr val="85f2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2629800" y="1763640"/>
                    <a:ext cx="4320" cy="3048480"/>
                  </a:xfrm>
                  <a:prstGeom prst="rect">
                    <a:avLst/>
                  </a:prstGeom>
                  <a:solidFill>
                    <a:srgbClr val="84f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2634480" y="1763640"/>
                    <a:ext cx="5040" cy="3048480"/>
                  </a:xfrm>
                  <a:prstGeom prst="rect">
                    <a:avLst/>
                  </a:prstGeom>
                  <a:solidFill>
                    <a:srgbClr val="83f1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2639880" y="1763640"/>
                    <a:ext cx="4320" cy="3048480"/>
                  </a:xfrm>
                  <a:prstGeom prst="rect">
                    <a:avLst/>
                  </a:prstGeom>
                  <a:solidFill>
                    <a:srgbClr val="81f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2644200" y="1763640"/>
                    <a:ext cx="5400" cy="3048480"/>
                  </a:xfrm>
                  <a:prstGeom prst="rect">
                    <a:avLst/>
                  </a:prstGeom>
                  <a:solidFill>
                    <a:srgbClr val="81e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2649600" y="1763640"/>
                    <a:ext cx="3240" cy="3048480"/>
                  </a:xfrm>
                  <a:prstGeom prst="rect">
                    <a:avLst/>
                  </a:prstGeom>
                  <a:solidFill>
                    <a:srgbClr val="7fe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2652840" y="1763640"/>
                    <a:ext cx="4320" cy="3048480"/>
                  </a:xfrm>
                  <a:prstGeom prst="rect">
                    <a:avLst/>
                  </a:prstGeom>
                  <a:solidFill>
                    <a:srgbClr val="7ee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2657520" y="1763640"/>
                    <a:ext cx="5400" cy="3048480"/>
                  </a:xfrm>
                  <a:prstGeom prst="rect">
                    <a:avLst/>
                  </a:prstGeom>
                  <a:solidFill>
                    <a:srgbClr val="7ced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2662920" y="1763640"/>
                    <a:ext cx="3240" cy="3048480"/>
                  </a:xfrm>
                  <a:prstGeom prst="rect">
                    <a:avLst/>
                  </a:prstGeom>
                  <a:solidFill>
                    <a:srgbClr val="7bec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2666160" y="1763640"/>
                    <a:ext cx="4320" cy="3048480"/>
                  </a:xfrm>
                  <a:prstGeom prst="rect">
                    <a:avLst/>
                  </a:prstGeom>
                  <a:solidFill>
                    <a:srgbClr val="7aeb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2670480" y="1763640"/>
                    <a:ext cx="5400" cy="3048480"/>
                  </a:xfrm>
                  <a:prstGeom prst="rect">
                    <a:avLst/>
                  </a:prstGeom>
                  <a:solidFill>
                    <a:srgbClr val="79eb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2675880" y="1763640"/>
                    <a:ext cx="4320" cy="3048480"/>
                  </a:xfrm>
                  <a:prstGeom prst="rect">
                    <a:avLst/>
                  </a:prstGeom>
                  <a:solidFill>
                    <a:srgbClr val="77ea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2680560" y="1763640"/>
                    <a:ext cx="5040" cy="3048480"/>
                  </a:xfrm>
                  <a:prstGeom prst="rect">
                    <a:avLst/>
                  </a:prstGeom>
                  <a:solidFill>
                    <a:srgbClr val="76e9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2685600" y="1763640"/>
                    <a:ext cx="3600" cy="3048480"/>
                  </a:xfrm>
                  <a:prstGeom prst="rect">
                    <a:avLst/>
                  </a:prstGeom>
                  <a:solidFill>
                    <a:srgbClr val="74e8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2689200" y="1763640"/>
                    <a:ext cx="4320" cy="3048480"/>
                  </a:xfrm>
                  <a:prstGeom prst="rect">
                    <a:avLst/>
                  </a:prstGeom>
                  <a:solidFill>
                    <a:srgbClr val="73e7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2693520" y="1763640"/>
                    <a:ext cx="5040" cy="3048480"/>
                  </a:xfrm>
                  <a:prstGeom prst="rect">
                    <a:avLst/>
                  </a:prstGeom>
                  <a:solidFill>
                    <a:srgbClr val="71e6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2698920" y="1763640"/>
                    <a:ext cx="4320" cy="3048480"/>
                  </a:xfrm>
                  <a:prstGeom prst="rect">
                    <a:avLst/>
                  </a:prstGeom>
                  <a:solidFill>
                    <a:srgbClr val="70e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2703600" y="1763640"/>
                    <a:ext cx="3240" cy="3048480"/>
                  </a:xfrm>
                  <a:prstGeom prst="rect">
                    <a:avLst/>
                  </a:prstGeom>
                  <a:solidFill>
                    <a:srgbClr val="6fe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2706840" y="1763640"/>
                    <a:ext cx="5400" cy="3048480"/>
                  </a:xfrm>
                  <a:prstGeom prst="rect">
                    <a:avLst/>
                  </a:prstGeom>
                  <a:solidFill>
                    <a:srgbClr val="6de4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2712240" y="1763640"/>
                    <a:ext cx="4320" cy="3048480"/>
                  </a:xfrm>
                  <a:prstGeom prst="rect">
                    <a:avLst/>
                  </a:prstGeom>
                  <a:solidFill>
                    <a:srgbClr val="6ce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2716560" y="1763640"/>
                    <a:ext cx="5040" cy="3048480"/>
                  </a:xfrm>
                  <a:prstGeom prst="rect">
                    <a:avLst/>
                  </a:prstGeom>
                  <a:solidFill>
                    <a:srgbClr val="6ae2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2721960" y="1763640"/>
                    <a:ext cx="3600" cy="3048480"/>
                  </a:xfrm>
                  <a:prstGeom prst="rect">
                    <a:avLst/>
                  </a:prstGeom>
                  <a:solidFill>
                    <a:srgbClr val="69e2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2725560" y="1763640"/>
                    <a:ext cx="4320" cy="3048480"/>
                  </a:xfrm>
                  <a:prstGeom prst="rect">
                    <a:avLst/>
                  </a:prstGeom>
                  <a:solidFill>
                    <a:srgbClr val="67e1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2729880" y="1763640"/>
                    <a:ext cx="5040" cy="3048480"/>
                  </a:xfrm>
                  <a:prstGeom prst="rect">
                    <a:avLst/>
                  </a:prstGeom>
                  <a:solidFill>
                    <a:srgbClr val="65e0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2735280" y="1763640"/>
                    <a:ext cx="4320" cy="3048480"/>
                  </a:xfrm>
                  <a:prstGeom prst="rect">
                    <a:avLst/>
                  </a:prstGeom>
                  <a:solidFill>
                    <a:srgbClr val="63df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2739600" y="1763640"/>
                    <a:ext cx="3600" cy="3048480"/>
                  </a:xfrm>
                  <a:prstGeom prst="rect">
                    <a:avLst/>
                  </a:prstGeom>
                  <a:solidFill>
                    <a:srgbClr val="62de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2743200" y="1763640"/>
                    <a:ext cx="5040" cy="3048480"/>
                  </a:xfrm>
                  <a:prstGeom prst="rect">
                    <a:avLst/>
                  </a:prstGeom>
                  <a:solidFill>
                    <a:srgbClr val="60dd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2748240" y="1763640"/>
                    <a:ext cx="4320" cy="3048480"/>
                  </a:xfrm>
                  <a:prstGeom prst="rect">
                    <a:avLst/>
                  </a:prstGeom>
                  <a:solidFill>
                    <a:srgbClr val="5fdd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2752920" y="1763640"/>
                    <a:ext cx="5400" cy="3048480"/>
                  </a:xfrm>
                  <a:prstGeom prst="rect">
                    <a:avLst/>
                  </a:prstGeom>
                  <a:solidFill>
                    <a:srgbClr val="5ddc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2758320" y="1763640"/>
                    <a:ext cx="4320" cy="3048480"/>
                  </a:xfrm>
                  <a:prstGeom prst="rect">
                    <a:avLst/>
                  </a:prstGeom>
                  <a:solidFill>
                    <a:srgbClr val="5c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2762640" y="1763640"/>
                    <a:ext cx="3600" cy="3048480"/>
                  </a:xfrm>
                  <a:prstGeom prst="rect">
                    <a:avLst/>
                  </a:prstGeom>
                  <a:solidFill>
                    <a:srgbClr val="5ad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2766240" y="1763640"/>
                    <a:ext cx="5040" cy="3048480"/>
                  </a:xfrm>
                  <a:prstGeom prst="rect">
                    <a:avLst/>
                  </a:prstGeom>
                  <a:solidFill>
                    <a:srgbClr val="59da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2771280" y="1763640"/>
                    <a:ext cx="4320" cy="3048480"/>
                  </a:xfrm>
                  <a:prstGeom prst="rect">
                    <a:avLst/>
                  </a:prstGeom>
                  <a:solidFill>
                    <a:srgbClr val="57d9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2775960" y="1763640"/>
                    <a:ext cx="5400" cy="3048480"/>
                  </a:xfrm>
                  <a:prstGeom prst="rect">
                    <a:avLst/>
                  </a:prstGeom>
                  <a:solidFill>
                    <a:srgbClr val="55d8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2781360" y="1763640"/>
                    <a:ext cx="3240" cy="3048480"/>
                  </a:xfrm>
                  <a:prstGeom prst="rect">
                    <a:avLst/>
                  </a:prstGeom>
                  <a:solidFill>
                    <a:srgbClr val="54d7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2784600" y="1763640"/>
                    <a:ext cx="4320" cy="3048480"/>
                  </a:xfrm>
                  <a:prstGeom prst="rect">
                    <a:avLst/>
                  </a:prstGeom>
                  <a:solidFill>
                    <a:srgbClr val="52d7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2788920" y="1763640"/>
                    <a:ext cx="5400" cy="3048480"/>
                  </a:xfrm>
                  <a:prstGeom prst="rect">
                    <a:avLst/>
                  </a:prstGeom>
                  <a:solidFill>
                    <a:srgbClr val="51d6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2794320" y="1763640"/>
                    <a:ext cx="4320" cy="3048480"/>
                  </a:xfrm>
                  <a:prstGeom prst="rect">
                    <a:avLst/>
                  </a:prstGeom>
                  <a:solidFill>
                    <a:srgbClr val="4fd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2799000" y="1763640"/>
                    <a:ext cx="3240" cy="3048480"/>
                  </a:xfrm>
                  <a:prstGeom prst="rect">
                    <a:avLst/>
                  </a:prstGeom>
                  <a:solidFill>
                    <a:srgbClr val="4ed5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2802240" y="1763640"/>
                    <a:ext cx="5400" cy="3048480"/>
                  </a:xfrm>
                  <a:prstGeom prst="rect">
                    <a:avLst/>
                  </a:prstGeom>
                  <a:solidFill>
                    <a:srgbClr val="4cd4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2807640" y="1763640"/>
                    <a:ext cx="4320" cy="3048480"/>
                  </a:xfrm>
                  <a:prstGeom prst="rect">
                    <a:avLst/>
                  </a:prstGeom>
                  <a:solidFill>
                    <a:srgbClr val="4bd4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2811960" y="1763640"/>
                    <a:ext cx="5040" cy="3048480"/>
                  </a:xfrm>
                  <a:prstGeom prst="rect">
                    <a:avLst/>
                  </a:prstGeom>
                  <a:solidFill>
                    <a:srgbClr val="4ad3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2817360" y="1763640"/>
                    <a:ext cx="4320" cy="3048480"/>
                  </a:xfrm>
                  <a:prstGeom prst="rect">
                    <a:avLst/>
                  </a:prstGeom>
                  <a:solidFill>
                    <a:srgbClr val="48d3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2821680" y="1763640"/>
                    <a:ext cx="3600" cy="3048480"/>
                  </a:xfrm>
                  <a:prstGeom prst="rect">
                    <a:avLst/>
                  </a:prstGeom>
                  <a:solidFill>
                    <a:srgbClr val="47d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2825280" y="1763640"/>
                    <a:ext cx="5400" cy="3048480"/>
                  </a:xfrm>
                  <a:prstGeom prst="rect">
                    <a:avLst/>
                  </a:prstGeom>
                  <a:solidFill>
                    <a:srgbClr val="45d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2830680" y="1763640"/>
                    <a:ext cx="4320" cy="3048480"/>
                  </a:xfrm>
                  <a:prstGeom prst="rect">
                    <a:avLst/>
                  </a:prstGeom>
                  <a:solidFill>
                    <a:srgbClr val="44d1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2835000" y="1763640"/>
                    <a:ext cx="4320" cy="3048480"/>
                  </a:xfrm>
                  <a:prstGeom prst="rect">
                    <a:avLst/>
                  </a:prstGeom>
                  <a:solidFill>
                    <a:srgbClr val="43d1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2839680" y="1763640"/>
                    <a:ext cx="4320" cy="3048480"/>
                  </a:xfrm>
                  <a:prstGeom prst="rect">
                    <a:avLst/>
                  </a:prstGeom>
                  <a:solidFill>
                    <a:srgbClr val="42d0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2844000" y="1763640"/>
                    <a:ext cx="4320" cy="3048480"/>
                  </a:xfrm>
                  <a:prstGeom prst="rect">
                    <a:avLst/>
                  </a:prstGeom>
                  <a:solidFill>
                    <a:srgbClr val="41d0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2848320" y="1763640"/>
                    <a:ext cx="5040" cy="3048480"/>
                  </a:xfrm>
                  <a:prstGeom prst="rect">
                    <a:avLst/>
                  </a:prstGeom>
                  <a:solidFill>
                    <a:srgbClr val="40d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2853360" y="1763640"/>
                    <a:ext cx="4320" cy="3048480"/>
                  </a:xfrm>
                  <a:prstGeom prst="rect">
                    <a:avLst/>
                  </a:prstGeom>
                  <a:solidFill>
                    <a:srgbClr val="3fc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2858040" y="1763640"/>
                    <a:ext cx="3600" cy="3048480"/>
                  </a:xfrm>
                  <a:prstGeom prst="rect">
                    <a:avLst/>
                  </a:prstGeom>
                  <a:solidFill>
                    <a:srgbClr val="3ec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>
                    <a:off x="2861640" y="1763640"/>
                    <a:ext cx="5040" cy="3048480"/>
                  </a:xfrm>
                  <a:prstGeom prst="rect">
                    <a:avLst/>
                  </a:prstGeom>
                  <a:solidFill>
                    <a:srgbClr val="3d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>
                    <a:off x="2866680" y="1763640"/>
                    <a:ext cx="4320" cy="3048480"/>
                  </a:xfrm>
                  <a:prstGeom prst="rect">
                    <a:avLst/>
                  </a:prstGeom>
                  <a:solidFill>
                    <a:srgbClr val="3cce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>
                    <a:off x="2871000" y="1763640"/>
                    <a:ext cx="4320" cy="3048480"/>
                  </a:xfrm>
                  <a:prstGeom prst="rect">
                    <a:avLst/>
                  </a:prstGeom>
                  <a:solidFill>
                    <a:srgbClr val="3bc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>
                    <a:off x="2875680" y="1763640"/>
                    <a:ext cx="5400" cy="3048480"/>
                  </a:xfrm>
                  <a:prstGeom prst="rect">
                    <a:avLst/>
                  </a:prstGeom>
                  <a:solidFill>
                    <a:srgbClr val="3ace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>
                    <a:off x="2881080" y="1763640"/>
                    <a:ext cx="3240" cy="3048480"/>
                  </a:xfrm>
                  <a:prstGeom prst="rect">
                    <a:avLst/>
                  </a:prstGeom>
                  <a:solidFill>
                    <a:srgbClr val="39cd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1" name=""/>
                  <p:cNvSpPr/>
                  <p:nvPr/>
                </p:nvSpPr>
                <p:spPr>
                  <a:xfrm>
                    <a:off x="2884320" y="1763640"/>
                    <a:ext cx="5400" cy="304848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2" name=""/>
                  <p:cNvSpPr/>
                  <p:nvPr/>
                </p:nvSpPr>
                <p:spPr>
                  <a:xfrm>
                    <a:off x="2889720" y="1763640"/>
                    <a:ext cx="4320" cy="304848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3" name=""/>
                  <p:cNvSpPr/>
                  <p:nvPr/>
                </p:nvSpPr>
                <p:spPr>
                  <a:xfrm>
                    <a:off x="2894040" y="1763640"/>
                    <a:ext cx="4320" cy="3048480"/>
                  </a:xfrm>
                  <a:prstGeom prst="rect">
                    <a:avLst/>
                  </a:prstGeom>
                  <a:solidFill>
                    <a:srgbClr val="37cd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4" name=""/>
                  <p:cNvSpPr/>
                  <p:nvPr/>
                </p:nvSpPr>
                <p:spPr>
                  <a:xfrm>
                    <a:off x="2898720" y="1763640"/>
                    <a:ext cx="4320" cy="3048480"/>
                  </a:xfrm>
                  <a:prstGeom prst="rect">
                    <a:avLst/>
                  </a:prstGeom>
                  <a:solidFill>
                    <a:srgbClr val="36cd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5" name=""/>
                <p:cNvSpPr/>
                <p:nvPr/>
              </p:nvSpPr>
              <p:spPr>
                <a:xfrm>
                  <a:off x="2903040" y="1763640"/>
                  <a:ext cx="4320" cy="3048480"/>
                </a:xfrm>
                <a:prstGeom prst="rect">
                  <a:avLst/>
                </a:prstGeom>
                <a:solidFill>
                  <a:srgbClr val="35c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2907360" y="1763640"/>
                  <a:ext cx="4320" cy="3048480"/>
                </a:xfrm>
                <a:prstGeom prst="rect">
                  <a:avLst/>
                </a:prstGeom>
                <a:solidFill>
                  <a:srgbClr val="35c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2911680" y="1763640"/>
                  <a:ext cx="5400" cy="3048480"/>
                </a:xfrm>
                <a:prstGeom prst="rect">
                  <a:avLst/>
                </a:prstGeom>
                <a:solidFill>
                  <a:srgbClr val="34c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2917080" y="1763640"/>
                  <a:ext cx="3240" cy="3048480"/>
                </a:xfrm>
                <a:prstGeom prst="rect">
                  <a:avLst/>
                </a:prstGeom>
                <a:solidFill>
                  <a:srgbClr val="34c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2920680" y="1763640"/>
                  <a:ext cx="5400" cy="304848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2926080" y="1763640"/>
                  <a:ext cx="4320" cy="304848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81" name=""/>
            <p:cNvGrpSpPr/>
            <p:nvPr/>
          </p:nvGrpSpPr>
          <p:grpSpPr>
            <a:xfrm>
              <a:off x="5735520" y="1709280"/>
              <a:ext cx="1254240" cy="3094560"/>
              <a:chOff x="5735520" y="1709280"/>
              <a:chExt cx="1254240" cy="3094560"/>
            </a:xfrm>
          </p:grpSpPr>
          <p:grpSp>
            <p:nvGrpSpPr>
              <p:cNvPr id="2382" name=""/>
              <p:cNvGrpSpPr/>
              <p:nvPr/>
            </p:nvGrpSpPr>
            <p:grpSpPr>
              <a:xfrm>
                <a:off x="5735520" y="1709280"/>
                <a:ext cx="1254240" cy="3094560"/>
                <a:chOff x="5735520" y="1709280"/>
                <a:chExt cx="1254240" cy="309456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6943680" y="1709280"/>
                  <a:ext cx="45720" cy="3094560"/>
                </a:xfrm>
                <a:custGeom>
                  <a:avLst/>
                  <a:gdLst/>
                  <a:ahLst/>
                  <a:rect l="l" t="t" r="r" b="b"/>
                  <a:pathLst>
                    <a:path w="38" h="1413">
                      <a:moveTo>
                        <a:pt x="0" y="1413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1318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00b4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5735520" y="1709280"/>
                  <a:ext cx="1254240" cy="85320"/>
                </a:xfrm>
                <a:custGeom>
                  <a:avLst/>
                  <a:gdLst/>
                  <a:ahLst/>
                  <a:rect l="l" t="t" r="r" b="b"/>
                  <a:pathLst>
                    <a:path w="1041" h="39">
                      <a:moveTo>
                        <a:pt x="1003" y="39"/>
                      </a:moveTo>
                      <a:lnTo>
                        <a:pt x="0" y="39"/>
                      </a:lnTo>
                      <a:lnTo>
                        <a:pt x="79" y="0"/>
                      </a:lnTo>
                      <a:lnTo>
                        <a:pt x="1041" y="0"/>
                      </a:lnTo>
                      <a:lnTo>
                        <a:pt x="1003" y="39"/>
                      </a:lnTo>
                      <a:close/>
                    </a:path>
                  </a:pathLst>
                </a:custGeom>
                <a:solidFill>
                  <a:srgbClr val="007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5735520" y="1794600"/>
                <a:ext cx="1207800" cy="3009240"/>
                <a:chOff x="5735520" y="1794600"/>
                <a:chExt cx="1207800" cy="3009240"/>
              </a:xfrm>
            </p:grpSpPr>
            <p:grpSp>
              <p:nvGrpSpPr>
                <p:cNvPr id="2386" name=""/>
                <p:cNvGrpSpPr/>
                <p:nvPr/>
              </p:nvGrpSpPr>
              <p:grpSpPr>
                <a:xfrm>
                  <a:off x="5735520" y="1794600"/>
                  <a:ext cx="784800" cy="3008880"/>
                  <a:chOff x="5735520" y="1794600"/>
                  <a:chExt cx="784800" cy="3008880"/>
                </a:xfrm>
              </p:grpSpPr>
              <p:sp>
                <p:nvSpPr>
                  <p:cNvPr id="2387" name=""/>
                  <p:cNvSpPr/>
                  <p:nvPr/>
                </p:nvSpPr>
                <p:spPr>
                  <a:xfrm>
                    <a:off x="5735520" y="1794600"/>
                    <a:ext cx="4680" cy="30088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8" name=""/>
                  <p:cNvSpPr/>
                  <p:nvPr/>
                </p:nvSpPr>
                <p:spPr>
                  <a:xfrm>
                    <a:off x="5740200" y="1794600"/>
                    <a:ext cx="3240" cy="3008880"/>
                  </a:xfrm>
                  <a:prstGeom prst="rect">
                    <a:avLst/>
                  </a:prstGeom>
                  <a:solidFill>
                    <a:srgbClr val="06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9" name=""/>
                  <p:cNvSpPr/>
                  <p:nvPr/>
                </p:nvSpPr>
                <p:spPr>
                  <a:xfrm>
                    <a:off x="5743800" y="1794600"/>
                    <a:ext cx="2160" cy="3008880"/>
                  </a:xfrm>
                  <a:prstGeom prst="rect">
                    <a:avLst/>
                  </a:prstGeom>
                  <a:solidFill>
                    <a:srgbClr val="0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5746320" y="1794600"/>
                    <a:ext cx="4680" cy="3008880"/>
                  </a:xfrm>
                  <a:prstGeom prst="rect">
                    <a:avLst/>
                  </a:prstGeom>
                  <a:solidFill>
                    <a:srgbClr val="0a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5751360" y="1794600"/>
                    <a:ext cx="4320" cy="3008880"/>
                  </a:xfrm>
                  <a:prstGeom prst="rect">
                    <a:avLst/>
                  </a:prstGeom>
                  <a:solidFill>
                    <a:srgbClr val="0c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5755680" y="1794600"/>
                    <a:ext cx="3240" cy="3008880"/>
                  </a:xfrm>
                  <a:prstGeom prst="rect">
                    <a:avLst/>
                  </a:prstGeom>
                  <a:solidFill>
                    <a:srgbClr val="0e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>
                    <a:off x="5759280" y="1794600"/>
                    <a:ext cx="2160" cy="3008880"/>
                  </a:xfrm>
                  <a:prstGeom prst="rect">
                    <a:avLst/>
                  </a:prstGeom>
                  <a:solidFill>
                    <a:srgbClr val="0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4" name=""/>
                  <p:cNvSpPr/>
                  <p:nvPr/>
                </p:nvSpPr>
                <p:spPr>
                  <a:xfrm>
                    <a:off x="5761800" y="1794600"/>
                    <a:ext cx="4680" cy="3008880"/>
                  </a:xfrm>
                  <a:prstGeom prst="rect">
                    <a:avLst/>
                  </a:prstGeom>
                  <a:solidFill>
                    <a:srgbClr val="11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5766840" y="1794600"/>
                    <a:ext cx="3240" cy="3008880"/>
                  </a:xfrm>
                  <a:prstGeom prst="rect">
                    <a:avLst/>
                  </a:prstGeom>
                  <a:solidFill>
                    <a:srgbClr val="13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5770440" y="1794600"/>
                    <a:ext cx="4680" cy="3008880"/>
                  </a:xfrm>
                  <a:prstGeom prst="rect">
                    <a:avLst/>
                  </a:prstGeom>
                  <a:solidFill>
                    <a:srgbClr val="13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5775120" y="1794600"/>
                    <a:ext cx="3240" cy="3008880"/>
                  </a:xfrm>
                  <a:prstGeom prst="rect">
                    <a:avLst/>
                  </a:prstGeom>
                  <a:solidFill>
                    <a:srgbClr val="15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8" name=""/>
                  <p:cNvSpPr/>
                  <p:nvPr/>
                </p:nvSpPr>
                <p:spPr>
                  <a:xfrm>
                    <a:off x="5778720" y="1794600"/>
                    <a:ext cx="3240" cy="3008880"/>
                  </a:xfrm>
                  <a:prstGeom prst="rect">
                    <a:avLst/>
                  </a:prstGeom>
                  <a:solidFill>
                    <a:srgbClr val="17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>
                    <a:off x="5782320" y="1794600"/>
                    <a:ext cx="3240" cy="3008880"/>
                  </a:xfrm>
                  <a:prstGeom prst="rect">
                    <a:avLst/>
                  </a:prstGeom>
                  <a:solidFill>
                    <a:srgbClr val="17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0" name=""/>
                  <p:cNvSpPr/>
                  <p:nvPr/>
                </p:nvSpPr>
                <p:spPr>
                  <a:xfrm>
                    <a:off x="5785920" y="1794600"/>
                    <a:ext cx="4680" cy="3008880"/>
                  </a:xfrm>
                  <a:prstGeom prst="rect">
                    <a:avLst/>
                  </a:prstGeom>
                  <a:solidFill>
                    <a:srgbClr val="19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1" name=""/>
                  <p:cNvSpPr/>
                  <p:nvPr/>
                </p:nvSpPr>
                <p:spPr>
                  <a:xfrm>
                    <a:off x="5790960" y="1794600"/>
                    <a:ext cx="3240" cy="3008880"/>
                  </a:xfrm>
                  <a:prstGeom prst="rect">
                    <a:avLst/>
                  </a:prstGeom>
                  <a:solidFill>
                    <a:srgbClr val="1a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>
                    <a:off x="5794200" y="1794600"/>
                    <a:ext cx="3600" cy="3008880"/>
                  </a:xfrm>
                  <a:prstGeom prst="rect">
                    <a:avLst/>
                  </a:prstGeom>
                  <a:solidFill>
                    <a:srgbClr val="1b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3" name=""/>
                  <p:cNvSpPr/>
                  <p:nvPr/>
                </p:nvSpPr>
                <p:spPr>
                  <a:xfrm>
                    <a:off x="5798160" y="1794600"/>
                    <a:ext cx="3240" cy="3008880"/>
                  </a:xfrm>
                  <a:prstGeom prst="rect">
                    <a:avLst/>
                  </a:prstGeom>
                  <a:solidFill>
                    <a:srgbClr val="1d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"/>
                  <p:cNvSpPr/>
                  <p:nvPr/>
                </p:nvSpPr>
                <p:spPr>
                  <a:xfrm>
                    <a:off x="5801760" y="1794600"/>
                    <a:ext cx="4320" cy="3008880"/>
                  </a:xfrm>
                  <a:prstGeom prst="rect">
                    <a:avLst/>
                  </a:prstGeom>
                  <a:solidFill>
                    <a:srgbClr val="1e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>
                    <a:off x="5806440" y="1794600"/>
                    <a:ext cx="3600" cy="3008880"/>
                  </a:xfrm>
                  <a:prstGeom prst="rect">
                    <a:avLst/>
                  </a:prstGeom>
                  <a:solidFill>
                    <a:srgbClr val="1f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6" name=""/>
                  <p:cNvSpPr/>
                  <p:nvPr/>
                </p:nvSpPr>
                <p:spPr>
                  <a:xfrm>
                    <a:off x="5810040" y="1794600"/>
                    <a:ext cx="3240" cy="3008880"/>
                  </a:xfrm>
                  <a:prstGeom prst="rect">
                    <a:avLst/>
                  </a:prstGeom>
                  <a:solidFill>
                    <a:srgbClr val="20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7" name=""/>
                  <p:cNvSpPr/>
                  <p:nvPr/>
                </p:nvSpPr>
                <p:spPr>
                  <a:xfrm>
                    <a:off x="5813640" y="1794600"/>
                    <a:ext cx="3240" cy="3008880"/>
                  </a:xfrm>
                  <a:prstGeom prst="rect">
                    <a:avLst/>
                  </a:prstGeom>
                  <a:solidFill>
                    <a:srgbClr val="22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>
                    <a:off x="5817240" y="1794600"/>
                    <a:ext cx="4680" cy="3008880"/>
                  </a:xfrm>
                  <a:prstGeom prst="rect">
                    <a:avLst/>
                  </a:prstGeom>
                  <a:solidFill>
                    <a:srgbClr val="23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9" name=""/>
                  <p:cNvSpPr/>
                  <p:nvPr/>
                </p:nvSpPr>
                <p:spPr>
                  <a:xfrm>
                    <a:off x="5822280" y="1794600"/>
                    <a:ext cx="3240" cy="3008880"/>
                  </a:xfrm>
                  <a:prstGeom prst="rect">
                    <a:avLst/>
                  </a:prstGeom>
                  <a:solidFill>
                    <a:srgbClr val="24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0" name=""/>
                  <p:cNvSpPr/>
                  <p:nvPr/>
                </p:nvSpPr>
                <p:spPr>
                  <a:xfrm>
                    <a:off x="5825880" y="1794600"/>
                    <a:ext cx="4680" cy="3008880"/>
                  </a:xfrm>
                  <a:prstGeom prst="rect">
                    <a:avLst/>
                  </a:prstGeom>
                  <a:solidFill>
                    <a:srgbClr val="26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>
                    <a:off x="5830560" y="1794600"/>
                    <a:ext cx="2160" cy="3008880"/>
                  </a:xfrm>
                  <a:prstGeom prst="rect">
                    <a:avLst/>
                  </a:prstGeom>
                  <a:solidFill>
                    <a:srgbClr val="27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2" name=""/>
                  <p:cNvSpPr/>
                  <p:nvPr/>
                </p:nvSpPr>
                <p:spPr>
                  <a:xfrm>
                    <a:off x="5832720" y="1794600"/>
                    <a:ext cx="4680" cy="3008880"/>
                  </a:xfrm>
                  <a:prstGeom prst="rect">
                    <a:avLst/>
                  </a:prstGeom>
                  <a:solidFill>
                    <a:srgbClr val="28cf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3" name=""/>
                  <p:cNvSpPr/>
                  <p:nvPr/>
                </p:nvSpPr>
                <p:spPr>
                  <a:xfrm>
                    <a:off x="5837760" y="1794600"/>
                    <a:ext cx="3240" cy="3008880"/>
                  </a:xfrm>
                  <a:prstGeom prst="rect">
                    <a:avLst/>
                  </a:prstGeom>
                  <a:solidFill>
                    <a:srgbClr val="2a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>
                    <a:off x="5841360" y="1794600"/>
                    <a:ext cx="4680" cy="3008880"/>
                  </a:xfrm>
                  <a:prstGeom prst="rect">
                    <a:avLst/>
                  </a:prstGeom>
                  <a:solidFill>
                    <a:srgbClr val="2a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5" name=""/>
                  <p:cNvSpPr/>
                  <p:nvPr/>
                </p:nvSpPr>
                <p:spPr>
                  <a:xfrm>
                    <a:off x="5846400" y="1794600"/>
                    <a:ext cx="2160" cy="3008880"/>
                  </a:xfrm>
                  <a:prstGeom prst="rect">
                    <a:avLst/>
                  </a:prstGeom>
                  <a:solidFill>
                    <a:srgbClr val="2c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6" name=""/>
                  <p:cNvSpPr/>
                  <p:nvPr/>
                </p:nvSpPr>
                <p:spPr>
                  <a:xfrm>
                    <a:off x="5848560" y="1794600"/>
                    <a:ext cx="4320" cy="3008880"/>
                  </a:xfrm>
                  <a:prstGeom prst="rect">
                    <a:avLst/>
                  </a:prstGeom>
                  <a:solidFill>
                    <a:srgbClr val="2e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>
                    <a:off x="5853240" y="1794600"/>
                    <a:ext cx="3600" cy="3008880"/>
                  </a:xfrm>
                  <a:prstGeom prst="rect">
                    <a:avLst/>
                  </a:prstGeom>
                  <a:solidFill>
                    <a:srgbClr val="2e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>
                    <a:off x="5857200" y="1794600"/>
                    <a:ext cx="4320" cy="3008880"/>
                  </a:xfrm>
                  <a:prstGeom prst="rect">
                    <a:avLst/>
                  </a:prstGeom>
                  <a:solidFill>
                    <a:srgbClr val="30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9" name=""/>
                  <p:cNvSpPr/>
                  <p:nvPr/>
                </p:nvSpPr>
                <p:spPr>
                  <a:xfrm>
                    <a:off x="5861880" y="1794600"/>
                    <a:ext cx="3600" cy="3008880"/>
                  </a:xfrm>
                  <a:prstGeom prst="rect">
                    <a:avLst/>
                  </a:prstGeom>
                  <a:solidFill>
                    <a:srgbClr val="31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>
                    <a:off x="5865480" y="1794600"/>
                    <a:ext cx="3240" cy="3008880"/>
                  </a:xfrm>
                  <a:prstGeom prst="rect">
                    <a:avLst/>
                  </a:prstGeom>
                  <a:solidFill>
                    <a:srgbClr val="32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1" name=""/>
                  <p:cNvSpPr/>
                  <p:nvPr/>
                </p:nvSpPr>
                <p:spPr>
                  <a:xfrm>
                    <a:off x="5869080" y="1794600"/>
                    <a:ext cx="3240" cy="3008880"/>
                  </a:xfrm>
                  <a:prstGeom prst="rect">
                    <a:avLst/>
                  </a:prstGeom>
                  <a:solidFill>
                    <a:srgbClr val="34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2" name=""/>
                  <p:cNvSpPr/>
                  <p:nvPr/>
                </p:nvSpPr>
                <p:spPr>
                  <a:xfrm>
                    <a:off x="5872680" y="1794600"/>
                    <a:ext cx="4680" cy="3008880"/>
                  </a:xfrm>
                  <a:prstGeom prst="rect">
                    <a:avLst/>
                  </a:prstGeom>
                  <a:solidFill>
                    <a:srgbClr val="35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>
                    <a:off x="5877720" y="1794600"/>
                    <a:ext cx="3240" cy="3008880"/>
                  </a:xfrm>
                  <a:prstGeom prst="rect">
                    <a:avLst/>
                  </a:prstGeom>
                  <a:solidFill>
                    <a:srgbClr val="36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4" name=""/>
                  <p:cNvSpPr/>
                  <p:nvPr/>
                </p:nvSpPr>
                <p:spPr>
                  <a:xfrm>
                    <a:off x="5881320" y="1794600"/>
                    <a:ext cx="2160" cy="3008880"/>
                  </a:xfrm>
                  <a:prstGeom prst="rect">
                    <a:avLst/>
                  </a:prstGeom>
                  <a:solidFill>
                    <a:srgbClr val="38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5" name=""/>
                  <p:cNvSpPr/>
                  <p:nvPr/>
                </p:nvSpPr>
                <p:spPr>
                  <a:xfrm>
                    <a:off x="5883480" y="1794600"/>
                    <a:ext cx="4320" cy="3008880"/>
                  </a:xfrm>
                  <a:prstGeom prst="rect">
                    <a:avLst/>
                  </a:prstGeom>
                  <a:solidFill>
                    <a:srgbClr val="39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>
                    <a:off x="5888160" y="1794600"/>
                    <a:ext cx="3600" cy="3008880"/>
                  </a:xfrm>
                  <a:prstGeom prst="rect">
                    <a:avLst/>
                  </a:prstGeom>
                  <a:solidFill>
                    <a:srgbClr val="3a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7" name=""/>
                  <p:cNvSpPr/>
                  <p:nvPr/>
                </p:nvSpPr>
                <p:spPr>
                  <a:xfrm>
                    <a:off x="5892120" y="1794600"/>
                    <a:ext cx="4320" cy="3008880"/>
                  </a:xfrm>
                  <a:prstGeom prst="rect">
                    <a:avLst/>
                  </a:prstGeom>
                  <a:solidFill>
                    <a:srgbClr val="3c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8" name=""/>
                  <p:cNvSpPr/>
                  <p:nvPr/>
                </p:nvSpPr>
                <p:spPr>
                  <a:xfrm>
                    <a:off x="5896800" y="1794600"/>
                    <a:ext cx="2160" cy="3008880"/>
                  </a:xfrm>
                  <a:prstGeom prst="rect">
                    <a:avLst/>
                  </a:prstGeom>
                  <a:solidFill>
                    <a:srgbClr val="3dd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>
                    <a:off x="5899320" y="1794600"/>
                    <a:ext cx="4680" cy="3008880"/>
                  </a:xfrm>
                  <a:prstGeom prst="rect">
                    <a:avLst/>
                  </a:prstGeom>
                  <a:solidFill>
                    <a:srgbClr val="3ed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0" name=""/>
                  <p:cNvSpPr/>
                  <p:nvPr/>
                </p:nvSpPr>
                <p:spPr>
                  <a:xfrm>
                    <a:off x="5904000" y="1794600"/>
                    <a:ext cx="3240" cy="3008880"/>
                  </a:xfrm>
                  <a:prstGeom prst="rect">
                    <a:avLst/>
                  </a:prstGeom>
                  <a:solidFill>
                    <a:srgbClr val="40d5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1" name=""/>
                  <p:cNvSpPr/>
                  <p:nvPr/>
                </p:nvSpPr>
                <p:spPr>
                  <a:xfrm>
                    <a:off x="5907600" y="1794600"/>
                    <a:ext cx="4320" cy="3008880"/>
                  </a:xfrm>
                  <a:prstGeom prst="rect">
                    <a:avLst/>
                  </a:prstGeom>
                  <a:solidFill>
                    <a:srgbClr val="41d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>
                    <a:off x="5912280" y="1794600"/>
                    <a:ext cx="3600" cy="3008880"/>
                  </a:xfrm>
                  <a:prstGeom prst="rect">
                    <a:avLst/>
                  </a:prstGeom>
                  <a:solidFill>
                    <a:srgbClr val="42d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3" name=""/>
                  <p:cNvSpPr/>
                  <p:nvPr/>
                </p:nvSpPr>
                <p:spPr>
                  <a:xfrm>
                    <a:off x="5916240" y="1794600"/>
                    <a:ext cx="3240" cy="3008880"/>
                  </a:xfrm>
                  <a:prstGeom prst="rect">
                    <a:avLst/>
                  </a:prstGeom>
                  <a:solidFill>
                    <a:srgbClr val="44d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4" name=""/>
                  <p:cNvSpPr/>
                  <p:nvPr/>
                </p:nvSpPr>
                <p:spPr>
                  <a:xfrm>
                    <a:off x="5919840" y="1794600"/>
                    <a:ext cx="3240" cy="3008880"/>
                  </a:xfrm>
                  <a:prstGeom prst="rect">
                    <a:avLst/>
                  </a:prstGeom>
                  <a:solidFill>
                    <a:srgbClr val="45d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>
                    <a:off x="5923080" y="1794600"/>
                    <a:ext cx="4680" cy="3008880"/>
                  </a:xfrm>
                  <a:prstGeom prst="rect">
                    <a:avLst/>
                  </a:prstGeom>
                  <a:solidFill>
                    <a:srgbClr val="46d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6" name=""/>
                  <p:cNvSpPr/>
                  <p:nvPr/>
                </p:nvSpPr>
                <p:spPr>
                  <a:xfrm>
                    <a:off x="5928120" y="1794600"/>
                    <a:ext cx="3240" cy="3008880"/>
                  </a:xfrm>
                  <a:prstGeom prst="rect">
                    <a:avLst/>
                  </a:prstGeom>
                  <a:solidFill>
                    <a:srgbClr val="48d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7" name=""/>
                  <p:cNvSpPr/>
                  <p:nvPr/>
                </p:nvSpPr>
                <p:spPr>
                  <a:xfrm>
                    <a:off x="5931720" y="1794600"/>
                    <a:ext cx="3240" cy="3008880"/>
                  </a:xfrm>
                  <a:prstGeom prst="rect">
                    <a:avLst/>
                  </a:prstGeom>
                  <a:solidFill>
                    <a:srgbClr val="49d8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>
                    <a:off x="5935320" y="1794600"/>
                    <a:ext cx="3600" cy="3008880"/>
                  </a:xfrm>
                  <a:prstGeom prst="rect">
                    <a:avLst/>
                  </a:prstGeom>
                  <a:solidFill>
                    <a:srgbClr val="4bd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9" name=""/>
                  <p:cNvSpPr/>
                  <p:nvPr/>
                </p:nvSpPr>
                <p:spPr>
                  <a:xfrm>
                    <a:off x="5938920" y="1794600"/>
                    <a:ext cx="4320" cy="3008880"/>
                  </a:xfrm>
                  <a:prstGeom prst="rect">
                    <a:avLst/>
                  </a:prstGeom>
                  <a:solidFill>
                    <a:srgbClr val="4cd9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0" name=""/>
                  <p:cNvSpPr/>
                  <p:nvPr/>
                </p:nvSpPr>
                <p:spPr>
                  <a:xfrm>
                    <a:off x="5943600" y="1794600"/>
                    <a:ext cx="3240" cy="3008880"/>
                  </a:xfrm>
                  <a:prstGeom prst="rect">
                    <a:avLst/>
                  </a:prstGeom>
                  <a:solidFill>
                    <a:srgbClr val="4dda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>
                    <a:off x="5947200" y="1794600"/>
                    <a:ext cx="4680" cy="3008880"/>
                  </a:xfrm>
                  <a:prstGeom prst="rect">
                    <a:avLst/>
                  </a:prstGeom>
                  <a:solidFill>
                    <a:srgbClr val="4fda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5952240" y="1794600"/>
                    <a:ext cx="2160" cy="3008880"/>
                  </a:xfrm>
                  <a:prstGeom prst="rect">
                    <a:avLst/>
                  </a:prstGeom>
                  <a:solidFill>
                    <a:srgbClr val="50db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5954760" y="1794600"/>
                    <a:ext cx="4320" cy="3008880"/>
                  </a:xfrm>
                  <a:prstGeom prst="rect">
                    <a:avLst/>
                  </a:prstGeom>
                  <a:solidFill>
                    <a:srgbClr val="51db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5959440" y="1794600"/>
                    <a:ext cx="3600" cy="3008880"/>
                  </a:xfrm>
                  <a:prstGeom prst="rect">
                    <a:avLst/>
                  </a:prstGeom>
                  <a:solidFill>
                    <a:srgbClr val="53dc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5963040" y="1794600"/>
                    <a:ext cx="4320" cy="3008880"/>
                  </a:xfrm>
                  <a:prstGeom prst="rect">
                    <a:avLst/>
                  </a:prstGeom>
                  <a:solidFill>
                    <a:srgbClr val="54dc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5967720" y="1794600"/>
                    <a:ext cx="2160" cy="3008880"/>
                  </a:xfrm>
                  <a:prstGeom prst="rect">
                    <a:avLst/>
                  </a:prstGeom>
                  <a:solidFill>
                    <a:srgbClr val="55dd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5970240" y="1794600"/>
                    <a:ext cx="4680" cy="3008880"/>
                  </a:xfrm>
                  <a:prstGeom prst="rect">
                    <a:avLst/>
                  </a:prstGeom>
                  <a:solidFill>
                    <a:srgbClr val="57dd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5975280" y="1794600"/>
                    <a:ext cx="3240" cy="3008880"/>
                  </a:xfrm>
                  <a:prstGeom prst="rect">
                    <a:avLst/>
                  </a:prstGeom>
                  <a:solidFill>
                    <a:srgbClr val="58de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5978520" y="1794600"/>
                    <a:ext cx="4680" cy="3008880"/>
                  </a:xfrm>
                  <a:prstGeom prst="rect">
                    <a:avLst/>
                  </a:prstGeom>
                  <a:solidFill>
                    <a:srgbClr val="59de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5983560" y="1794600"/>
                    <a:ext cx="2160" cy="3008880"/>
                  </a:xfrm>
                  <a:prstGeom prst="rect">
                    <a:avLst/>
                  </a:prstGeom>
                  <a:solidFill>
                    <a:srgbClr val="5bdf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5985720" y="1794600"/>
                    <a:ext cx="4680" cy="3008880"/>
                  </a:xfrm>
                  <a:prstGeom prst="rect">
                    <a:avLst/>
                  </a:prstGeom>
                  <a:solidFill>
                    <a:srgbClr val="5ce0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5990760" y="1794600"/>
                    <a:ext cx="3240" cy="3008880"/>
                  </a:xfrm>
                  <a:prstGeom prst="rect">
                    <a:avLst/>
                  </a:prstGeom>
                  <a:solidFill>
                    <a:srgbClr val="5de0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5994360" y="1794600"/>
                    <a:ext cx="4680" cy="3008880"/>
                  </a:xfrm>
                  <a:prstGeom prst="rect">
                    <a:avLst/>
                  </a:prstGeom>
                  <a:solidFill>
                    <a:srgbClr val="5fe1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5999040" y="1794600"/>
                    <a:ext cx="3240" cy="3008880"/>
                  </a:xfrm>
                  <a:prstGeom prst="rect">
                    <a:avLst/>
                  </a:prstGeom>
                  <a:solidFill>
                    <a:srgbClr val="60e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6002640" y="1794600"/>
                    <a:ext cx="2160" cy="3008880"/>
                  </a:xfrm>
                  <a:prstGeom prst="rect">
                    <a:avLst/>
                  </a:prstGeom>
                  <a:solidFill>
                    <a:srgbClr val="61e2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6005160" y="1794600"/>
                    <a:ext cx="4680" cy="3008880"/>
                  </a:xfrm>
                  <a:prstGeom prst="rect">
                    <a:avLst/>
                  </a:prstGeom>
                  <a:solidFill>
                    <a:srgbClr val="62e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6010200" y="1794600"/>
                    <a:ext cx="4320" cy="3008880"/>
                  </a:xfrm>
                  <a:prstGeom prst="rect">
                    <a:avLst/>
                  </a:prstGeom>
                  <a:solidFill>
                    <a:srgbClr val="64e3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6014880" y="1794600"/>
                    <a:ext cx="3600" cy="3008880"/>
                  </a:xfrm>
                  <a:prstGeom prst="rect">
                    <a:avLst/>
                  </a:prstGeom>
                  <a:solidFill>
                    <a:srgbClr val="65e3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6018480" y="1794600"/>
                    <a:ext cx="2160" cy="3008880"/>
                  </a:xfrm>
                  <a:prstGeom prst="rect">
                    <a:avLst/>
                  </a:prstGeom>
                  <a:solidFill>
                    <a:srgbClr val="66e4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6020640" y="1794600"/>
                    <a:ext cx="4680" cy="3008880"/>
                  </a:xfrm>
                  <a:prstGeom prst="rect">
                    <a:avLst/>
                  </a:prstGeom>
                  <a:solidFill>
                    <a:srgbClr val="68e5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6025680" y="1794600"/>
                    <a:ext cx="3240" cy="3008880"/>
                  </a:xfrm>
                  <a:prstGeom prst="rect">
                    <a:avLst/>
                  </a:prstGeom>
                  <a:solidFill>
                    <a:srgbClr val="68e5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6029280" y="1794600"/>
                    <a:ext cx="4680" cy="3008880"/>
                  </a:xfrm>
                  <a:prstGeom prst="rect">
                    <a:avLst/>
                  </a:prstGeom>
                  <a:solidFill>
                    <a:srgbClr val="6ae6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6034320" y="1794600"/>
                    <a:ext cx="4680" cy="3008880"/>
                  </a:xfrm>
                  <a:prstGeom prst="rect">
                    <a:avLst/>
                  </a:prstGeom>
                  <a:solidFill>
                    <a:srgbClr val="6be6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6039000" y="1794600"/>
                    <a:ext cx="2160" cy="3008880"/>
                  </a:xfrm>
                  <a:prstGeom prst="rect">
                    <a:avLst/>
                  </a:prstGeom>
                  <a:solidFill>
                    <a:srgbClr val="6ce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6041160" y="1794600"/>
                    <a:ext cx="3600" cy="3008880"/>
                  </a:xfrm>
                  <a:prstGeom prst="rect">
                    <a:avLst/>
                  </a:prstGeom>
                  <a:solidFill>
                    <a:srgbClr val="6de7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6045120" y="1794600"/>
                    <a:ext cx="4320" cy="3008880"/>
                  </a:xfrm>
                  <a:prstGeom prst="rect">
                    <a:avLst/>
                  </a:prstGeom>
                  <a:solidFill>
                    <a:srgbClr val="6fe8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6049800" y="1794600"/>
                    <a:ext cx="3240" cy="3008880"/>
                  </a:xfrm>
                  <a:prstGeom prst="rect">
                    <a:avLst/>
                  </a:prstGeom>
                  <a:solidFill>
                    <a:srgbClr val="70e8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6053400" y="1794600"/>
                    <a:ext cx="3600" cy="3008880"/>
                  </a:xfrm>
                  <a:prstGeom prst="rect">
                    <a:avLst/>
                  </a:prstGeom>
                  <a:solidFill>
                    <a:srgbClr val="71e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6057000" y="1794600"/>
                    <a:ext cx="3240" cy="3008880"/>
                  </a:xfrm>
                  <a:prstGeom prst="rect">
                    <a:avLst/>
                  </a:prstGeom>
                  <a:solidFill>
                    <a:srgbClr val="72ea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6060600" y="1794600"/>
                    <a:ext cx="4680" cy="3008880"/>
                  </a:xfrm>
                  <a:prstGeom prst="rect">
                    <a:avLst/>
                  </a:prstGeom>
                  <a:solidFill>
                    <a:srgbClr val="73ea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6065640" y="1794600"/>
                    <a:ext cx="3240" cy="3008880"/>
                  </a:xfrm>
                  <a:prstGeom prst="rect">
                    <a:avLst/>
                  </a:prstGeom>
                  <a:solidFill>
                    <a:srgbClr val="74eb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6069240" y="1794600"/>
                    <a:ext cx="3240" cy="3008880"/>
                  </a:xfrm>
                  <a:prstGeom prst="rect">
                    <a:avLst/>
                  </a:prstGeom>
                  <a:solidFill>
                    <a:srgbClr val="75eb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6072480" y="1794600"/>
                    <a:ext cx="3240" cy="3008880"/>
                  </a:xfrm>
                  <a:prstGeom prst="rect">
                    <a:avLst/>
                  </a:prstGeom>
                  <a:solidFill>
                    <a:srgbClr val="76eb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6076080" y="1794600"/>
                    <a:ext cx="4680" cy="3008880"/>
                  </a:xfrm>
                  <a:prstGeom prst="rect">
                    <a:avLst/>
                  </a:prstGeom>
                  <a:solidFill>
                    <a:srgbClr val="77ec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6081120" y="1794600"/>
                    <a:ext cx="3240" cy="3008880"/>
                  </a:xfrm>
                  <a:prstGeom prst="rect">
                    <a:avLst/>
                  </a:prstGeom>
                  <a:solidFill>
                    <a:srgbClr val="79ed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6084720" y="1794600"/>
                    <a:ext cx="4680" cy="3008880"/>
                  </a:xfrm>
                  <a:prstGeom prst="rect">
                    <a:avLst/>
                  </a:prstGeom>
                  <a:solidFill>
                    <a:srgbClr val="79ed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6089760" y="1794600"/>
                    <a:ext cx="2160" cy="3008880"/>
                  </a:xfrm>
                  <a:prstGeom prst="rect">
                    <a:avLst/>
                  </a:prstGeom>
                  <a:solidFill>
                    <a:srgbClr val="7aee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6091920" y="1794600"/>
                    <a:ext cx="4320" cy="3008880"/>
                  </a:xfrm>
                  <a:prstGeom prst="rect">
                    <a:avLst/>
                  </a:prstGeom>
                  <a:solidFill>
                    <a:srgbClr val="7bee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6096600" y="1794600"/>
                    <a:ext cx="3240" cy="3008880"/>
                  </a:xfrm>
                  <a:prstGeom prst="rect">
                    <a:avLst/>
                  </a:prstGeom>
                  <a:solidFill>
                    <a:srgbClr val="7ce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6100200" y="1794600"/>
                    <a:ext cx="4680" cy="3008880"/>
                  </a:xfrm>
                  <a:prstGeom prst="rect">
                    <a:avLst/>
                  </a:prstGeom>
                  <a:solidFill>
                    <a:srgbClr val="7de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6105240" y="1794600"/>
                    <a:ext cx="2160" cy="3008880"/>
                  </a:xfrm>
                  <a:prstGeom prst="rect">
                    <a:avLst/>
                  </a:prstGeom>
                  <a:solidFill>
                    <a:srgbClr val="7ef0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6107760" y="1794600"/>
                    <a:ext cx="4680" cy="3008880"/>
                  </a:xfrm>
                  <a:prstGeom prst="rect">
                    <a:avLst/>
                  </a:prstGeom>
                  <a:solidFill>
                    <a:srgbClr val="7ff0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6112440" y="1794600"/>
                    <a:ext cx="3240" cy="3008880"/>
                  </a:xfrm>
                  <a:prstGeom prst="rect">
                    <a:avLst/>
                  </a:prstGeom>
                  <a:solidFill>
                    <a:srgbClr val="80f1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6116040" y="1794600"/>
                    <a:ext cx="4320" cy="3008880"/>
                  </a:xfrm>
                  <a:prstGeom prst="rect">
                    <a:avLst/>
                  </a:prstGeom>
                  <a:solidFill>
                    <a:srgbClr val="81f1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6120720" y="1794600"/>
                    <a:ext cx="3600" cy="3008880"/>
                  </a:xfrm>
                  <a:prstGeom prst="rect">
                    <a:avLst/>
                  </a:prstGeom>
                  <a:solidFill>
                    <a:srgbClr val="81f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6124680" y="1794600"/>
                    <a:ext cx="3240" cy="3008880"/>
                  </a:xfrm>
                  <a:prstGeom prst="rect">
                    <a:avLst/>
                  </a:prstGeom>
                  <a:solidFill>
                    <a:srgbClr val="82f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6128280" y="1794600"/>
                    <a:ext cx="3240" cy="3008880"/>
                  </a:xfrm>
                  <a:prstGeom prst="rect">
                    <a:avLst/>
                  </a:prstGeom>
                  <a:solidFill>
                    <a:srgbClr val="83f2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6131520" y="1794600"/>
                    <a:ext cx="4680" cy="3008880"/>
                  </a:xfrm>
                  <a:prstGeom prst="rect">
                    <a:avLst/>
                  </a:prstGeom>
                  <a:solidFill>
                    <a:srgbClr val="84f3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6136560" y="1794600"/>
                    <a:ext cx="3240" cy="3008880"/>
                  </a:xfrm>
                  <a:prstGeom prst="rect">
                    <a:avLst/>
                  </a:prstGeom>
                  <a:solidFill>
                    <a:srgbClr val="85f3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6140160" y="1794600"/>
                    <a:ext cx="2160" cy="3008880"/>
                  </a:xfrm>
                  <a:prstGeom prst="rect">
                    <a:avLst/>
                  </a:prstGeom>
                  <a:solidFill>
                    <a:srgbClr val="86f4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6142680" y="1794600"/>
                    <a:ext cx="4320" cy="3008880"/>
                  </a:xfrm>
                  <a:prstGeom prst="rect">
                    <a:avLst/>
                  </a:prstGeom>
                  <a:solidFill>
                    <a:srgbClr val="86f4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6147360" y="1794600"/>
                    <a:ext cx="4680" cy="3008880"/>
                  </a:xfrm>
                  <a:prstGeom prst="rect">
                    <a:avLst/>
                  </a:prstGeom>
                  <a:solidFill>
                    <a:srgbClr val="87f4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6152040" y="1794600"/>
                    <a:ext cx="3240" cy="3008880"/>
                  </a:xfrm>
                  <a:prstGeom prst="rect">
                    <a:avLst/>
                  </a:prstGeom>
                  <a:solidFill>
                    <a:srgbClr val="88f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6155640" y="1794600"/>
                    <a:ext cx="2160" cy="3008880"/>
                  </a:xfrm>
                  <a:prstGeom prst="rect">
                    <a:avLst/>
                  </a:prstGeom>
                  <a:solidFill>
                    <a:srgbClr val="88f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6158160" y="1794600"/>
                    <a:ext cx="4680" cy="3008880"/>
                  </a:xfrm>
                  <a:prstGeom prst="rect">
                    <a:avLst/>
                  </a:prstGeom>
                  <a:solidFill>
                    <a:srgbClr val="89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6163200" y="1794600"/>
                    <a:ext cx="3240" cy="300888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6166440" y="1794600"/>
                    <a:ext cx="4680" cy="300888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6171480" y="1794600"/>
                    <a:ext cx="3240" cy="3008880"/>
                  </a:xfrm>
                  <a:prstGeom prst="rect">
                    <a:avLst/>
                  </a:prstGeom>
                  <a:solidFill>
                    <a:srgbClr val="8b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6175080" y="1794600"/>
                    <a:ext cx="3240" cy="300888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6178680" y="1794600"/>
                    <a:ext cx="3240" cy="300888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6182280" y="1794600"/>
                    <a:ext cx="4680" cy="300888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6186960" y="1794600"/>
                    <a:ext cx="3240" cy="300888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6190560" y="1794600"/>
                    <a:ext cx="3240" cy="3008880"/>
                  </a:xfrm>
                  <a:prstGeom prst="rect">
                    <a:avLst/>
                  </a:prstGeom>
                  <a:solidFill>
                    <a:srgbClr val="8e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6194160" y="1794600"/>
                    <a:ext cx="3600" cy="3008880"/>
                  </a:xfrm>
                  <a:prstGeom prst="rect">
                    <a:avLst/>
                  </a:prstGeom>
                  <a:solidFill>
                    <a:srgbClr val="8e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6198120" y="1794600"/>
                    <a:ext cx="4320" cy="300888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6202800" y="1794600"/>
                    <a:ext cx="3240" cy="300888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6206040" y="1794600"/>
                    <a:ext cx="4680" cy="3008880"/>
                  </a:xfrm>
                  <a:prstGeom prst="rect">
                    <a:avLst/>
                  </a:prstGeom>
                  <a:solidFill>
                    <a:srgbClr val="90f9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6211080" y="1794600"/>
                    <a:ext cx="2160" cy="3008880"/>
                  </a:xfrm>
                  <a:prstGeom prst="rect">
                    <a:avLst/>
                  </a:prstGeom>
                  <a:solidFill>
                    <a:srgbClr val="90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6213600" y="1794600"/>
                    <a:ext cx="4680" cy="300888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6218640" y="1794600"/>
                    <a:ext cx="3240" cy="300888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6221880" y="1794600"/>
                    <a:ext cx="4320" cy="300888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6226560" y="1794600"/>
                    <a:ext cx="2160" cy="300888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6229080" y="1794600"/>
                    <a:ext cx="4680" cy="300888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6234120" y="1794600"/>
                    <a:ext cx="3240" cy="300888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6237720" y="1794600"/>
                    <a:ext cx="4680" cy="300888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6242400" y="1794600"/>
                    <a:ext cx="2160" cy="3008880"/>
                  </a:xfrm>
                  <a:prstGeom prst="rect">
                    <a:avLst/>
                  </a:prstGeom>
                  <a:solidFill>
                    <a:srgbClr val="93fb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6244920" y="1794600"/>
                    <a:ext cx="4320" cy="300888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6249600" y="1794600"/>
                    <a:ext cx="3240" cy="300888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6253200" y="1794600"/>
                    <a:ext cx="4680" cy="300888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6258240" y="1794600"/>
                    <a:ext cx="3240" cy="300888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6261840" y="1794600"/>
                    <a:ext cx="2160" cy="300888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6264000" y="1794600"/>
                    <a:ext cx="4680" cy="300888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6269040" y="1794600"/>
                    <a:ext cx="4320" cy="300888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6273720" y="1794600"/>
                    <a:ext cx="360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6277680" y="1794600"/>
                    <a:ext cx="216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6279840" y="1794600"/>
                    <a:ext cx="468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6284520" y="1794600"/>
                    <a:ext cx="324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6288120" y="1794600"/>
                    <a:ext cx="4680" cy="300888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6293160" y="1794600"/>
                    <a:ext cx="4680" cy="300888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6297840" y="1794600"/>
                    <a:ext cx="2160" cy="300888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6300000" y="1794600"/>
                    <a:ext cx="3600" cy="300888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6303960" y="1794600"/>
                    <a:ext cx="4320" cy="300888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6308640" y="1794600"/>
                    <a:ext cx="360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6312600" y="1794600"/>
                    <a:ext cx="324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6315840" y="1794600"/>
                    <a:ext cx="324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6319440" y="1794600"/>
                    <a:ext cx="468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6324480" y="1794600"/>
                    <a:ext cx="324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6328080" y="1794600"/>
                    <a:ext cx="324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6331680" y="1794600"/>
                    <a:ext cx="324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6335280" y="1794600"/>
                    <a:ext cx="4680" cy="300888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6339960" y="1794600"/>
                    <a:ext cx="3240" cy="300888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6343560" y="1794600"/>
                    <a:ext cx="468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6348600" y="1794600"/>
                    <a:ext cx="216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6351120" y="1794600"/>
                    <a:ext cx="432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6355440" y="1794600"/>
                    <a:ext cx="324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6359040" y="1794600"/>
                    <a:ext cx="468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6364080" y="1794600"/>
                    <a:ext cx="216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6366600" y="1794600"/>
                    <a:ext cx="4680" cy="300888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6371280" y="1794600"/>
                    <a:ext cx="3240" cy="300888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6374880" y="1794600"/>
                    <a:ext cx="4320" cy="300888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6379560" y="1794600"/>
                    <a:ext cx="3600" cy="300888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6383520" y="1794600"/>
                    <a:ext cx="3240" cy="300888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6387120" y="1794600"/>
                    <a:ext cx="3240" cy="300888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6390720" y="1794600"/>
                    <a:ext cx="468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6395400" y="1794600"/>
                    <a:ext cx="324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6399000" y="1794600"/>
                    <a:ext cx="216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6401520" y="1794600"/>
                    <a:ext cx="4320" cy="300888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6406200" y="1794600"/>
                    <a:ext cx="4680" cy="300888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6411240" y="1794600"/>
                    <a:ext cx="3240" cy="300888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6414480" y="1794600"/>
                    <a:ext cx="2160" cy="300888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6417000" y="1794600"/>
                    <a:ext cx="4680" cy="300888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6422040" y="1794600"/>
                    <a:ext cx="3240" cy="300888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6425640" y="1794600"/>
                    <a:ext cx="4680" cy="300888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6430320" y="1794600"/>
                    <a:ext cx="3240" cy="300888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6433920" y="1794600"/>
                    <a:ext cx="3240" cy="3008880"/>
                  </a:xfrm>
                  <a:prstGeom prst="rect">
                    <a:avLst/>
                  </a:prstGeom>
                  <a:solidFill>
                    <a:srgbClr val="93fb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437520" y="1794600"/>
                    <a:ext cx="3240" cy="300888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6441120" y="1794600"/>
                    <a:ext cx="4680" cy="300888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6446160" y="1794600"/>
                    <a:ext cx="3240" cy="300888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6449400" y="1794600"/>
                    <a:ext cx="3240" cy="300888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6453000" y="1794600"/>
                    <a:ext cx="3600" cy="300888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6456960" y="1794600"/>
                    <a:ext cx="4320" cy="300888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6461640" y="1794600"/>
                    <a:ext cx="3600" cy="300888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6465240" y="1794600"/>
                    <a:ext cx="4320" cy="3008880"/>
                  </a:xfrm>
                  <a:prstGeom prst="rect">
                    <a:avLst/>
                  </a:prstGeom>
                  <a:solidFill>
                    <a:srgbClr val="90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6469920" y="1794600"/>
                    <a:ext cx="2160" cy="3008880"/>
                  </a:xfrm>
                  <a:prstGeom prst="rect">
                    <a:avLst/>
                  </a:prstGeom>
                  <a:solidFill>
                    <a:srgbClr val="90f9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6472440" y="1794600"/>
                    <a:ext cx="4680" cy="300888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6477480" y="1794600"/>
                    <a:ext cx="3240" cy="300888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6481080" y="1794600"/>
                    <a:ext cx="4680" cy="3008880"/>
                  </a:xfrm>
                  <a:prstGeom prst="rect">
                    <a:avLst/>
                  </a:prstGeom>
                  <a:solidFill>
                    <a:srgbClr val="8e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6485760" y="1794600"/>
                    <a:ext cx="2160" cy="3008880"/>
                  </a:xfrm>
                  <a:prstGeom prst="rect">
                    <a:avLst/>
                  </a:prstGeom>
                  <a:solidFill>
                    <a:srgbClr val="8e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6487920" y="1794600"/>
                    <a:ext cx="4680" cy="300888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6492960" y="1794600"/>
                    <a:ext cx="3240" cy="300888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6496560" y="1794600"/>
                    <a:ext cx="4680" cy="300888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6501600" y="1794600"/>
                    <a:ext cx="2160" cy="300888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6503760" y="1794600"/>
                    <a:ext cx="4320" cy="3008880"/>
                  </a:xfrm>
                  <a:prstGeom prst="rect">
                    <a:avLst/>
                  </a:prstGeom>
                  <a:solidFill>
                    <a:srgbClr val="8b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6508440" y="1794600"/>
                    <a:ext cx="3600" cy="300888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6512400" y="1794600"/>
                    <a:ext cx="4320" cy="300888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6517080" y="1794600"/>
                    <a:ext cx="3240" cy="3008880"/>
                  </a:xfrm>
                  <a:prstGeom prst="rect">
                    <a:avLst/>
                  </a:prstGeom>
                  <a:solidFill>
                    <a:srgbClr val="89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7" name=""/>
                <p:cNvSpPr/>
                <p:nvPr/>
              </p:nvSpPr>
              <p:spPr>
                <a:xfrm>
                  <a:off x="6520680" y="1794600"/>
                  <a:ext cx="3600" cy="3009240"/>
                </a:xfrm>
                <a:prstGeom prst="rect">
                  <a:avLst/>
                </a:prstGeom>
                <a:solidFill>
                  <a:srgbClr val="88f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524640" y="1794600"/>
                  <a:ext cx="3240" cy="3009240"/>
                </a:xfrm>
                <a:prstGeom prst="rect">
                  <a:avLst/>
                </a:prstGeom>
                <a:solidFill>
                  <a:srgbClr val="88f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6528240" y="1794600"/>
                  <a:ext cx="4320" cy="3009240"/>
                </a:xfrm>
                <a:prstGeom prst="rect">
                  <a:avLst/>
                </a:prstGeom>
                <a:solidFill>
                  <a:srgbClr val="87f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532560" y="1794600"/>
                  <a:ext cx="3600" cy="3009240"/>
                </a:xfrm>
                <a:prstGeom prst="rect">
                  <a:avLst/>
                </a:prstGeom>
                <a:solidFill>
                  <a:srgbClr val="86f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536520" y="1794600"/>
                  <a:ext cx="2160" cy="3009240"/>
                </a:xfrm>
                <a:prstGeom prst="rect">
                  <a:avLst/>
                </a:prstGeom>
                <a:solidFill>
                  <a:srgbClr val="86f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6539040" y="1794600"/>
                  <a:ext cx="4320" cy="3009240"/>
                </a:xfrm>
                <a:prstGeom prst="rect">
                  <a:avLst/>
                </a:prstGeom>
                <a:solidFill>
                  <a:srgbClr val="85f3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543720" y="1794600"/>
                  <a:ext cx="3240" cy="3009240"/>
                </a:xfrm>
                <a:prstGeom prst="rect">
                  <a:avLst/>
                </a:prstGeom>
                <a:solidFill>
                  <a:srgbClr val="84f3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547320" y="1794600"/>
                  <a:ext cx="4680" cy="3009240"/>
                </a:xfrm>
                <a:prstGeom prst="rect">
                  <a:avLst/>
                </a:prstGeom>
                <a:solidFill>
                  <a:srgbClr val="83f2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552000" y="1794600"/>
                  <a:ext cx="4680" cy="3009240"/>
                </a:xfrm>
                <a:prstGeom prst="rect">
                  <a:avLst/>
                </a:prstGeom>
                <a:solidFill>
                  <a:srgbClr val="82f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6557040" y="1794600"/>
                  <a:ext cx="2160" cy="3009240"/>
                </a:xfrm>
                <a:prstGeom prst="rect">
                  <a:avLst/>
                </a:prstGeom>
                <a:solidFill>
                  <a:srgbClr val="81f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6559560" y="1794600"/>
                  <a:ext cx="3240" cy="3009240"/>
                </a:xfrm>
                <a:prstGeom prst="rect">
                  <a:avLst/>
                </a:prstGeom>
                <a:solidFill>
                  <a:srgbClr val="81f1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563160" y="1794600"/>
                  <a:ext cx="4320" cy="3009240"/>
                </a:xfrm>
                <a:prstGeom prst="rect">
                  <a:avLst/>
                </a:prstGeom>
                <a:solidFill>
                  <a:srgbClr val="80f1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>
                  <a:off x="6567840" y="1794600"/>
                  <a:ext cx="3600" cy="3009240"/>
                </a:xfrm>
                <a:prstGeom prst="rect">
                  <a:avLst/>
                </a:prstGeom>
                <a:solidFill>
                  <a:srgbClr val="7ff0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571440" y="1794600"/>
                  <a:ext cx="3240" cy="3009240"/>
                </a:xfrm>
                <a:prstGeom prst="rect">
                  <a:avLst/>
                </a:prstGeom>
                <a:solidFill>
                  <a:srgbClr val="7ef0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575040" y="1794600"/>
                  <a:ext cx="3240" cy="3009240"/>
                </a:xfrm>
                <a:prstGeom prst="rect">
                  <a:avLst/>
                </a:prstGeom>
                <a:solidFill>
                  <a:srgbClr val="7d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6578640" y="1794600"/>
                  <a:ext cx="4680" cy="3009240"/>
                </a:xfrm>
                <a:prstGeom prst="rect">
                  <a:avLst/>
                </a:prstGeom>
                <a:solidFill>
                  <a:srgbClr val="7c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583680" y="1794600"/>
                  <a:ext cx="3240" cy="3009240"/>
                </a:xfrm>
                <a:prstGeom prst="rect">
                  <a:avLst/>
                </a:prstGeom>
                <a:solidFill>
                  <a:srgbClr val="7be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586920" y="1794600"/>
                  <a:ext cx="3240" cy="3009240"/>
                </a:xfrm>
                <a:prstGeom prst="rect">
                  <a:avLst/>
                </a:prstGeom>
                <a:solidFill>
                  <a:srgbClr val="7aee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590520" y="1794600"/>
                  <a:ext cx="3240" cy="3009240"/>
                </a:xfrm>
                <a:prstGeom prst="rect">
                  <a:avLst/>
                </a:prstGeom>
                <a:solidFill>
                  <a:srgbClr val="79ed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594120" y="1794600"/>
                  <a:ext cx="4680" cy="3009240"/>
                </a:xfrm>
                <a:prstGeom prst="rect">
                  <a:avLst/>
                </a:prstGeom>
                <a:solidFill>
                  <a:srgbClr val="79ed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>
                  <a:off x="6599160" y="1794600"/>
                  <a:ext cx="3240" cy="3009240"/>
                </a:xfrm>
                <a:prstGeom prst="rect">
                  <a:avLst/>
                </a:prstGeom>
                <a:solidFill>
                  <a:srgbClr val="77ec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6602760" y="1794600"/>
                  <a:ext cx="4680" cy="3009240"/>
                </a:xfrm>
                <a:prstGeom prst="rect">
                  <a:avLst/>
                </a:prstGeom>
                <a:solidFill>
                  <a:srgbClr val="76eb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6607440" y="1794600"/>
                  <a:ext cx="2160" cy="3009240"/>
                </a:xfrm>
                <a:prstGeom prst="rect">
                  <a:avLst/>
                </a:prstGeom>
                <a:solidFill>
                  <a:srgbClr val="75eb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609960" y="1794600"/>
                  <a:ext cx="4320" cy="3009240"/>
                </a:xfrm>
                <a:prstGeom prst="rect">
                  <a:avLst/>
                </a:prstGeom>
                <a:solidFill>
                  <a:srgbClr val="74eb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6614640" y="1794600"/>
                  <a:ext cx="3600" cy="3009240"/>
                </a:xfrm>
                <a:prstGeom prst="rect">
                  <a:avLst/>
                </a:prstGeom>
                <a:solidFill>
                  <a:srgbClr val="73ea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6618600" y="1794600"/>
                  <a:ext cx="4320" cy="3009240"/>
                </a:xfrm>
                <a:prstGeom prst="rect">
                  <a:avLst/>
                </a:prstGeom>
                <a:solidFill>
                  <a:srgbClr val="72ea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6623280" y="1794600"/>
                  <a:ext cx="2160" cy="3009240"/>
                </a:xfrm>
                <a:prstGeom prst="rect">
                  <a:avLst/>
                </a:prstGeom>
                <a:solidFill>
                  <a:srgbClr val="71e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6625440" y="1794600"/>
                  <a:ext cx="4680" cy="3009240"/>
                </a:xfrm>
                <a:prstGeom prst="rect">
                  <a:avLst/>
                </a:prstGeom>
                <a:solidFill>
                  <a:srgbClr val="70e8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630480" y="1794600"/>
                  <a:ext cx="3240" cy="3009240"/>
                </a:xfrm>
                <a:prstGeom prst="rect">
                  <a:avLst/>
                </a:prstGeom>
                <a:solidFill>
                  <a:srgbClr val="6fe8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6634080" y="1794600"/>
                  <a:ext cx="4680" cy="3009240"/>
                </a:xfrm>
                <a:prstGeom prst="rect">
                  <a:avLst/>
                </a:prstGeom>
                <a:solidFill>
                  <a:srgbClr val="6de7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6639120" y="1794600"/>
                  <a:ext cx="3240" cy="3009240"/>
                </a:xfrm>
                <a:prstGeom prst="rect">
                  <a:avLst/>
                </a:prstGeom>
                <a:solidFill>
                  <a:srgbClr val="6ce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6642720" y="1794600"/>
                  <a:ext cx="3240" cy="3009240"/>
                </a:xfrm>
                <a:prstGeom prst="rect">
                  <a:avLst/>
                </a:prstGeom>
                <a:solidFill>
                  <a:srgbClr val="6be6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>
                  <a:off x="6645960" y="1794600"/>
                  <a:ext cx="3240" cy="3009240"/>
                </a:xfrm>
                <a:prstGeom prst="rect">
                  <a:avLst/>
                </a:prstGeom>
                <a:solidFill>
                  <a:srgbClr val="6a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649560" y="1794600"/>
                  <a:ext cx="4680" cy="3009240"/>
                </a:xfrm>
                <a:prstGeom prst="rect">
                  <a:avLst/>
                </a:prstGeom>
                <a:solidFill>
                  <a:srgbClr val="68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6654600" y="1794600"/>
                  <a:ext cx="3240" cy="3009240"/>
                </a:xfrm>
                <a:prstGeom prst="rect">
                  <a:avLst/>
                </a:prstGeom>
                <a:solidFill>
                  <a:srgbClr val="68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6658200" y="1794600"/>
                  <a:ext cx="2160" cy="3009240"/>
                </a:xfrm>
                <a:prstGeom prst="rect">
                  <a:avLst/>
                </a:prstGeom>
                <a:solidFill>
                  <a:srgbClr val="66e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6660720" y="1794600"/>
                  <a:ext cx="4680" cy="3009240"/>
                </a:xfrm>
                <a:prstGeom prst="rect">
                  <a:avLst/>
                </a:prstGeom>
                <a:solidFill>
                  <a:srgbClr val="65e3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6665400" y="1794600"/>
                  <a:ext cx="4320" cy="3009240"/>
                </a:xfrm>
                <a:prstGeom prst="rect">
                  <a:avLst/>
                </a:prstGeom>
                <a:solidFill>
                  <a:srgbClr val="64e3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670080" y="1794600"/>
                  <a:ext cx="3240" cy="3009240"/>
                </a:xfrm>
                <a:prstGeom prst="rect">
                  <a:avLst/>
                </a:prstGeom>
                <a:solidFill>
                  <a:srgbClr val="62e2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>
                  <a:off x="6673680" y="1794600"/>
                  <a:ext cx="2160" cy="3009240"/>
                </a:xfrm>
                <a:prstGeom prst="rect">
                  <a:avLst/>
                </a:prstGeom>
                <a:solidFill>
                  <a:srgbClr val="61e2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6676200" y="1794600"/>
                  <a:ext cx="4680" cy="3009240"/>
                </a:xfrm>
                <a:prstGeom prst="rect">
                  <a:avLst/>
                </a:prstGeom>
                <a:solidFill>
                  <a:srgbClr val="60e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6681240" y="1794600"/>
                  <a:ext cx="3240" cy="3009240"/>
                </a:xfrm>
                <a:prstGeom prst="rect">
                  <a:avLst/>
                </a:prstGeom>
                <a:solidFill>
                  <a:srgbClr val="5fe1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>
                  <a:off x="6684480" y="1794600"/>
                  <a:ext cx="4680" cy="3009240"/>
                </a:xfrm>
                <a:prstGeom prst="rect">
                  <a:avLst/>
                </a:prstGeom>
                <a:solidFill>
                  <a:srgbClr val="5de0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6689520" y="1794600"/>
                  <a:ext cx="4320" cy="3009240"/>
                </a:xfrm>
                <a:prstGeom prst="rect">
                  <a:avLst/>
                </a:prstGeom>
                <a:solidFill>
                  <a:srgbClr val="5ce0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6694200" y="1794600"/>
                  <a:ext cx="2160" cy="3009240"/>
                </a:xfrm>
                <a:prstGeom prst="rect">
                  <a:avLst/>
                </a:prstGeom>
                <a:solidFill>
                  <a:srgbClr val="5bdf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6696720" y="1794600"/>
                  <a:ext cx="3240" cy="3009240"/>
                </a:xfrm>
                <a:prstGeom prst="rect">
                  <a:avLst/>
                </a:prstGeom>
                <a:solidFill>
                  <a:srgbClr val="59de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6700320" y="1794600"/>
                  <a:ext cx="4680" cy="3009240"/>
                </a:xfrm>
                <a:prstGeom prst="rect">
                  <a:avLst/>
                </a:prstGeom>
                <a:solidFill>
                  <a:srgbClr val="58de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6705000" y="1794600"/>
                  <a:ext cx="3240" cy="3009240"/>
                </a:xfrm>
                <a:prstGeom prst="rect">
                  <a:avLst/>
                </a:prstGeom>
                <a:solidFill>
                  <a:srgbClr val="57dd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6708600" y="1794600"/>
                  <a:ext cx="3600" cy="3009240"/>
                </a:xfrm>
                <a:prstGeom prst="rect">
                  <a:avLst/>
                </a:prstGeom>
                <a:solidFill>
                  <a:srgbClr val="55dd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6712560" y="1794600"/>
                  <a:ext cx="3240" cy="3009240"/>
                </a:xfrm>
                <a:prstGeom prst="rect">
                  <a:avLst/>
                </a:prstGeom>
                <a:solidFill>
                  <a:srgbClr val="54dc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6716160" y="1794600"/>
                  <a:ext cx="4320" cy="3009240"/>
                </a:xfrm>
                <a:prstGeom prst="rect">
                  <a:avLst/>
                </a:prstGeom>
                <a:solidFill>
                  <a:srgbClr val="53d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6720840" y="1794600"/>
                  <a:ext cx="3600" cy="3009240"/>
                </a:xfrm>
                <a:prstGeom prst="rect">
                  <a:avLst/>
                </a:prstGeom>
                <a:solidFill>
                  <a:srgbClr val="51db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6724440" y="1794600"/>
                  <a:ext cx="4320" cy="3009240"/>
                </a:xfrm>
                <a:prstGeom prst="rect">
                  <a:avLst/>
                </a:prstGeom>
                <a:solidFill>
                  <a:srgbClr val="50db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6729120" y="1794600"/>
                  <a:ext cx="2160" cy="3009240"/>
                </a:xfrm>
                <a:prstGeom prst="rect">
                  <a:avLst/>
                </a:prstGeom>
                <a:solidFill>
                  <a:srgbClr val="4fd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6731640" y="1794600"/>
                  <a:ext cx="4680" cy="3009240"/>
                </a:xfrm>
                <a:prstGeom prst="rect">
                  <a:avLst/>
                </a:prstGeom>
                <a:solidFill>
                  <a:srgbClr val="4dda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6736680" y="1794600"/>
                  <a:ext cx="3240" cy="3009240"/>
                </a:xfrm>
                <a:prstGeom prst="rect">
                  <a:avLst/>
                </a:prstGeom>
                <a:solidFill>
                  <a:srgbClr val="4cd9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6739920" y="1794600"/>
                  <a:ext cx="4680" cy="3009240"/>
                </a:xfrm>
                <a:prstGeom prst="rect">
                  <a:avLst/>
                </a:prstGeom>
                <a:solidFill>
                  <a:srgbClr val="4bd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6744960" y="1794600"/>
                  <a:ext cx="2160" cy="3009240"/>
                </a:xfrm>
                <a:prstGeom prst="rect">
                  <a:avLst/>
                </a:prstGeom>
                <a:solidFill>
                  <a:srgbClr val="49d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6747120" y="1794600"/>
                  <a:ext cx="4680" cy="3009240"/>
                </a:xfrm>
                <a:prstGeom prst="rect">
                  <a:avLst/>
                </a:prstGeom>
                <a:solidFill>
                  <a:srgbClr val="48d8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6752160" y="1794600"/>
                  <a:ext cx="3240" cy="3009240"/>
                </a:xfrm>
                <a:prstGeom prst="rect">
                  <a:avLst/>
                </a:prstGeom>
                <a:solidFill>
                  <a:srgbClr val="46d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6755760" y="1794600"/>
                  <a:ext cx="4680" cy="3009240"/>
                </a:xfrm>
                <a:prstGeom prst="rect">
                  <a:avLst/>
                </a:prstGeom>
                <a:solidFill>
                  <a:srgbClr val="45d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6760440" y="1794600"/>
                  <a:ext cx="2160" cy="3009240"/>
                </a:xfrm>
                <a:prstGeom prst="rect">
                  <a:avLst/>
                </a:prstGeom>
                <a:solidFill>
                  <a:srgbClr val="44d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6762960" y="1794600"/>
                  <a:ext cx="4320" cy="3009240"/>
                </a:xfrm>
                <a:prstGeom prst="rect">
                  <a:avLst/>
                </a:prstGeom>
                <a:solidFill>
                  <a:srgbClr val="42d6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6767640" y="1794600"/>
                  <a:ext cx="3600" cy="3009240"/>
                </a:xfrm>
                <a:prstGeom prst="rect">
                  <a:avLst/>
                </a:prstGeom>
                <a:solidFill>
                  <a:srgbClr val="41d6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771600" y="1794600"/>
                  <a:ext cx="4320" cy="3009240"/>
                </a:xfrm>
                <a:prstGeom prst="rect">
                  <a:avLst/>
                </a:prstGeom>
                <a:solidFill>
                  <a:srgbClr val="40d5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6776280" y="1794600"/>
                  <a:ext cx="3240" cy="3009240"/>
                </a:xfrm>
                <a:prstGeom prst="rect">
                  <a:avLst/>
                </a:prstGeom>
                <a:solidFill>
                  <a:srgbClr val="3ed5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6779520" y="1794600"/>
                  <a:ext cx="3600" cy="3009240"/>
                </a:xfrm>
                <a:prstGeom prst="rect">
                  <a:avLst/>
                </a:prstGeom>
                <a:solidFill>
                  <a:srgbClr val="3dd4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783480" y="1794600"/>
                  <a:ext cx="3240" cy="3009240"/>
                </a:xfrm>
                <a:prstGeom prst="rect">
                  <a:avLst/>
                </a:prstGeom>
                <a:solidFill>
                  <a:srgbClr val="3cd4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6787080" y="1794600"/>
                  <a:ext cx="4680" cy="3009240"/>
                </a:xfrm>
                <a:prstGeom prst="rect">
                  <a:avLst/>
                </a:prstGeom>
                <a:solidFill>
                  <a:srgbClr val="3ad4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6792120" y="1794600"/>
                  <a:ext cx="3240" cy="3009240"/>
                </a:xfrm>
                <a:prstGeom prst="rect">
                  <a:avLst/>
                </a:prstGeom>
                <a:solidFill>
                  <a:srgbClr val="39d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6795360" y="1794600"/>
                  <a:ext cx="2160" cy="3009240"/>
                </a:xfrm>
                <a:prstGeom prst="rect">
                  <a:avLst/>
                </a:prstGeom>
                <a:solidFill>
                  <a:srgbClr val="38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6797880" y="1794600"/>
                  <a:ext cx="4320" cy="3009240"/>
                </a:xfrm>
                <a:prstGeom prst="rect">
                  <a:avLst/>
                </a:prstGeom>
                <a:solidFill>
                  <a:srgbClr val="36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6802560" y="1794600"/>
                  <a:ext cx="4680" cy="3009240"/>
                </a:xfrm>
                <a:prstGeom prst="rect">
                  <a:avLst/>
                </a:prstGeom>
                <a:solidFill>
                  <a:srgbClr val="35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6807600" y="1794600"/>
                  <a:ext cx="3240" cy="3009240"/>
                </a:xfrm>
                <a:prstGeom prst="rect">
                  <a:avLst/>
                </a:prstGeom>
                <a:solidFill>
                  <a:srgbClr val="34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6811200" y="1794600"/>
                  <a:ext cx="4680" cy="3009240"/>
                </a:xfrm>
                <a:prstGeom prst="rect">
                  <a:avLst/>
                </a:prstGeom>
                <a:solidFill>
                  <a:srgbClr val="32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6815880" y="1794600"/>
                  <a:ext cx="2160" cy="3009240"/>
                </a:xfrm>
                <a:prstGeom prst="rect">
                  <a:avLst/>
                </a:prstGeom>
                <a:solidFill>
                  <a:srgbClr val="31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6818400" y="1794600"/>
                  <a:ext cx="3240" cy="3009240"/>
                </a:xfrm>
                <a:prstGeom prst="rect">
                  <a:avLst/>
                </a:prstGeom>
                <a:solidFill>
                  <a:srgbClr val="30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6822000" y="1794600"/>
                  <a:ext cx="4320" cy="3009240"/>
                </a:xfrm>
                <a:prstGeom prst="rect">
                  <a:avLst/>
                </a:prstGeom>
                <a:solidFill>
                  <a:srgbClr val="2e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6826680" y="1794600"/>
                  <a:ext cx="3600" cy="3009240"/>
                </a:xfrm>
                <a:prstGeom prst="rect">
                  <a:avLst/>
                </a:prstGeom>
                <a:solidFill>
                  <a:srgbClr val="2e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6830640" y="1794600"/>
                  <a:ext cx="3240" cy="3009240"/>
                </a:xfrm>
                <a:prstGeom prst="rect">
                  <a:avLst/>
                </a:prstGeom>
                <a:solidFill>
                  <a:srgbClr val="2c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6833880" y="1794600"/>
                  <a:ext cx="3240" cy="3009240"/>
                </a:xfrm>
                <a:prstGeom prst="rect">
                  <a:avLst/>
                </a:prstGeom>
                <a:solidFill>
                  <a:srgbClr val="2a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6837480" y="1794600"/>
                  <a:ext cx="4680" cy="3009240"/>
                </a:xfrm>
                <a:prstGeom prst="rect">
                  <a:avLst/>
                </a:prstGeom>
                <a:solidFill>
                  <a:srgbClr val="2a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6842520" y="1794600"/>
                  <a:ext cx="3240" cy="3009240"/>
                </a:xfrm>
                <a:prstGeom prst="rect">
                  <a:avLst/>
                </a:prstGeom>
                <a:solidFill>
                  <a:srgbClr val="28cf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6846120" y="1794600"/>
                  <a:ext cx="3240" cy="3009240"/>
                </a:xfrm>
                <a:prstGeom prst="rect">
                  <a:avLst/>
                </a:prstGeom>
                <a:solidFill>
                  <a:srgbClr val="27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6849720" y="1794600"/>
                  <a:ext cx="3240" cy="3009240"/>
                </a:xfrm>
                <a:prstGeom prst="rect">
                  <a:avLst/>
                </a:prstGeom>
                <a:solidFill>
                  <a:srgbClr val="26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6853320" y="1794600"/>
                  <a:ext cx="4680" cy="3009240"/>
                </a:xfrm>
                <a:prstGeom prst="rect">
                  <a:avLst/>
                </a:prstGeom>
                <a:solidFill>
                  <a:srgbClr val="24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6858000" y="1794600"/>
                  <a:ext cx="3240" cy="3009240"/>
                </a:xfrm>
                <a:prstGeom prst="rect">
                  <a:avLst/>
                </a:prstGeom>
                <a:solidFill>
                  <a:srgbClr val="23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6861600" y="1794600"/>
                  <a:ext cx="4680" cy="3009240"/>
                </a:xfrm>
                <a:prstGeom prst="rect">
                  <a:avLst/>
                </a:prstGeom>
                <a:solidFill>
                  <a:srgbClr val="22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6866640" y="1794600"/>
                  <a:ext cx="2160" cy="3009240"/>
                </a:xfrm>
                <a:prstGeom prst="rect">
                  <a:avLst/>
                </a:prstGeom>
                <a:solidFill>
                  <a:srgbClr val="20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6869160" y="1794600"/>
                  <a:ext cx="4320" cy="3009240"/>
                </a:xfrm>
                <a:prstGeom prst="rect">
                  <a:avLst/>
                </a:prstGeom>
                <a:solidFill>
                  <a:srgbClr val="1f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6873480" y="1794600"/>
                  <a:ext cx="3600" cy="3009240"/>
                </a:xfrm>
                <a:prstGeom prst="rect">
                  <a:avLst/>
                </a:prstGeom>
                <a:solidFill>
                  <a:srgbClr val="1e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6877440" y="1794600"/>
                  <a:ext cx="4320" cy="3009240"/>
                </a:xfrm>
                <a:prstGeom prst="rect">
                  <a:avLst/>
                </a:prstGeom>
                <a:solidFill>
                  <a:srgbClr val="1d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6882120" y="1794600"/>
                  <a:ext cx="2160" cy="3009240"/>
                </a:xfrm>
                <a:prstGeom prst="rect">
                  <a:avLst/>
                </a:prstGeom>
                <a:solidFill>
                  <a:srgbClr val="1b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6884640" y="1794600"/>
                  <a:ext cx="4680" cy="3009240"/>
                </a:xfrm>
                <a:prstGeom prst="rect">
                  <a:avLst/>
                </a:prstGeom>
                <a:solidFill>
                  <a:srgbClr val="1a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6889320" y="1794600"/>
                  <a:ext cx="3240" cy="3009240"/>
                </a:xfrm>
                <a:prstGeom prst="rect">
                  <a:avLst/>
                </a:prstGeom>
                <a:solidFill>
                  <a:srgbClr val="19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6892920" y="1794600"/>
                  <a:ext cx="4680" cy="3009240"/>
                </a:xfrm>
                <a:prstGeom prst="rect">
                  <a:avLst/>
                </a:prstGeom>
                <a:solidFill>
                  <a:srgbClr val="17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6897960" y="1794600"/>
                  <a:ext cx="3240" cy="3009240"/>
                </a:xfrm>
                <a:prstGeom prst="rect">
                  <a:avLst/>
                </a:prstGeom>
                <a:solidFill>
                  <a:srgbClr val="17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6901560" y="1794600"/>
                  <a:ext cx="3240" cy="3009240"/>
                </a:xfrm>
                <a:prstGeom prst="rect">
                  <a:avLst/>
                </a:prstGeom>
                <a:solidFill>
                  <a:srgbClr val="15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6905160" y="1794600"/>
                  <a:ext cx="3240" cy="3009240"/>
                </a:xfrm>
                <a:prstGeom prst="rect">
                  <a:avLst/>
                </a:prstGeom>
                <a:solidFill>
                  <a:srgbClr val="1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6908760" y="1794600"/>
                  <a:ext cx="4680" cy="3009240"/>
                </a:xfrm>
                <a:prstGeom prst="rect">
                  <a:avLst/>
                </a:prstGeom>
                <a:solidFill>
                  <a:srgbClr val="1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6913440" y="1794600"/>
                  <a:ext cx="3240" cy="3009240"/>
                </a:xfrm>
                <a:prstGeom prst="rect">
                  <a:avLst/>
                </a:prstGeom>
                <a:solidFill>
                  <a:srgbClr val="11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6917040" y="1794600"/>
                  <a:ext cx="3240" cy="3009240"/>
                </a:xfrm>
                <a:prstGeom prst="rect">
                  <a:avLst/>
                </a:prstGeom>
                <a:solidFill>
                  <a:srgbClr val="0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6920640" y="1794600"/>
                  <a:ext cx="3600" cy="3009240"/>
                </a:xfrm>
                <a:prstGeom prst="rect">
                  <a:avLst/>
                </a:prstGeom>
                <a:solidFill>
                  <a:srgbClr val="0e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6924600" y="1794600"/>
                  <a:ext cx="4320" cy="3009240"/>
                </a:xfrm>
                <a:prstGeom prst="rect">
                  <a:avLst/>
                </a:prstGeom>
                <a:solidFill>
                  <a:srgbClr val="0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6929280" y="1794600"/>
                  <a:ext cx="3600" cy="3009240"/>
                </a:xfrm>
                <a:prstGeom prst="rect">
                  <a:avLst/>
                </a:prstGeom>
                <a:solidFill>
                  <a:srgbClr val="0a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6932880" y="1794600"/>
                  <a:ext cx="2160" cy="3009240"/>
                </a:xfrm>
                <a:prstGeom prst="rect">
                  <a:avLst/>
                </a:prstGeom>
                <a:solidFill>
                  <a:srgbClr val="0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6935040" y="1794600"/>
                  <a:ext cx="4680" cy="3009240"/>
                </a:xfrm>
                <a:prstGeom prst="rect">
                  <a:avLst/>
                </a:prstGeom>
                <a:solidFill>
                  <a:srgbClr val="06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6940080" y="1794600"/>
                  <a:ext cx="3240" cy="300924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5" name=""/>
            <p:cNvGrpSpPr/>
            <p:nvPr/>
          </p:nvGrpSpPr>
          <p:grpSpPr>
            <a:xfrm>
              <a:off x="6858000" y="1709280"/>
              <a:ext cx="2006640" cy="3094560"/>
              <a:chOff x="6858000" y="1709280"/>
              <a:chExt cx="2006640" cy="3094560"/>
            </a:xfrm>
          </p:grpSpPr>
          <p:grpSp>
            <p:nvGrpSpPr>
              <p:cNvPr id="2696" name=""/>
              <p:cNvGrpSpPr/>
              <p:nvPr/>
            </p:nvGrpSpPr>
            <p:grpSpPr>
              <a:xfrm>
                <a:off x="6858000" y="1709280"/>
                <a:ext cx="2006640" cy="3094560"/>
                <a:chOff x="6858000" y="1709280"/>
                <a:chExt cx="2006640" cy="309456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8811000" y="1709280"/>
                  <a:ext cx="53280" cy="3094560"/>
                </a:xfrm>
                <a:custGeom>
                  <a:avLst/>
                  <a:gdLst/>
                  <a:ahLst/>
                  <a:rect l="l" t="t" r="r" b="b"/>
                  <a:pathLst>
                    <a:path w="37" h="1744">
                      <a:moveTo>
                        <a:pt x="0" y="1744"/>
                      </a:moveTo>
                      <a:lnTo>
                        <a:pt x="0" y="39"/>
                      </a:lnTo>
                      <a:lnTo>
                        <a:pt x="37" y="0"/>
                      </a:lnTo>
                      <a:lnTo>
                        <a:pt x="37" y="1635"/>
                      </a:lnTo>
                      <a:lnTo>
                        <a:pt x="0" y="1744"/>
                      </a:lnTo>
                      <a:close/>
                    </a:path>
                  </a:pathLst>
                </a:custGeom>
                <a:solidFill>
                  <a:srgbClr val="e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>
                  <a:off x="6858000" y="1709280"/>
                  <a:ext cx="2006640" cy="69120"/>
                </a:xfrm>
                <a:custGeom>
                  <a:avLst/>
                  <a:gdLst/>
                  <a:ahLst/>
                  <a:rect l="l" t="t" r="r" b="b"/>
                  <a:pathLst>
                    <a:path w="1391" h="39">
                      <a:moveTo>
                        <a:pt x="1354" y="39"/>
                      </a:moveTo>
                      <a:lnTo>
                        <a:pt x="0" y="39"/>
                      </a:lnTo>
                      <a:lnTo>
                        <a:pt x="93" y="0"/>
                      </a:lnTo>
                      <a:lnTo>
                        <a:pt x="1391" y="0"/>
                      </a:lnTo>
                      <a:lnTo>
                        <a:pt x="1354" y="39"/>
                      </a:lnTo>
                      <a:close/>
                    </a:path>
                  </a:pathLst>
                </a:custGeom>
                <a:solidFill>
                  <a:srgbClr val="98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6858000" y="1778400"/>
                <a:ext cx="1952640" cy="3025440"/>
                <a:chOff x="6858000" y="1778400"/>
                <a:chExt cx="1952640" cy="302544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6858000" y="1778400"/>
                  <a:ext cx="18360" cy="30254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6876360" y="1778400"/>
                  <a:ext cx="18720" cy="30254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895440" y="1778400"/>
                  <a:ext cx="18360" cy="30254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6914160" y="1778400"/>
                  <a:ext cx="18360" cy="302544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6932880" y="1778400"/>
                  <a:ext cx="18720" cy="302544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6951600" y="1778400"/>
                  <a:ext cx="18360" cy="302544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6970320" y="1778400"/>
                  <a:ext cx="20160" cy="302544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6990480" y="1778400"/>
                  <a:ext cx="18360" cy="302544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7009200" y="1778400"/>
                  <a:ext cx="18360" cy="302544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7027920" y="1778400"/>
                  <a:ext cx="18720" cy="302544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7047000" y="1778400"/>
                  <a:ext cx="18360" cy="302544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7065360" y="1778400"/>
                  <a:ext cx="18360" cy="302544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7084080" y="1778400"/>
                  <a:ext cx="17280" cy="3025440"/>
                </a:xfrm>
                <a:prstGeom prst="rect">
                  <a:avLst/>
                </a:prstGeom>
                <a:solidFill>
                  <a:srgbClr val="ff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7101360" y="1778400"/>
                  <a:ext cx="18360" cy="302544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7120080" y="1778400"/>
                  <a:ext cx="18720" cy="302544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>
                  <a:off x="7139160" y="1778400"/>
                  <a:ext cx="18360" cy="3025440"/>
                </a:xfrm>
                <a:prstGeom prst="rect">
                  <a:avLst/>
                </a:prstGeom>
                <a:solidFill>
                  <a:srgbClr val="ff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>
                  <a:off x="7157880" y="1778400"/>
                  <a:ext cx="18360" cy="302544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7176240" y="1778400"/>
                  <a:ext cx="18720" cy="302544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7195320" y="1778400"/>
                  <a:ext cx="18360" cy="3025440"/>
                </a:xfrm>
                <a:prstGeom prst="rect">
                  <a:avLst/>
                </a:prstGeom>
                <a:solidFill>
                  <a:srgbClr val="ff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7214040" y="1778400"/>
                  <a:ext cx="20160" cy="302544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7234200" y="1778400"/>
                  <a:ext cx="18360" cy="3025440"/>
                </a:xfrm>
                <a:prstGeom prst="rect">
                  <a:avLst/>
                </a:prstGeom>
                <a:solidFill>
                  <a:srgbClr val="ff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7252920" y="1778400"/>
                  <a:ext cx="18360" cy="3025440"/>
                </a:xfrm>
                <a:prstGeom prst="rect">
                  <a:avLst/>
                </a:prstGeom>
                <a:solidFill>
                  <a:srgbClr val="ff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7271640" y="1778400"/>
                  <a:ext cx="18720" cy="302544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7290720" y="1778400"/>
                  <a:ext cx="18360" cy="3025440"/>
                </a:xfrm>
                <a:prstGeom prst="rect">
                  <a:avLst/>
                </a:prstGeom>
                <a:solidFill>
                  <a:srgbClr val="ff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7309080" y="1778400"/>
                  <a:ext cx="18360" cy="302544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7327800" y="1778400"/>
                  <a:ext cx="18720" cy="3025440"/>
                </a:xfrm>
                <a:prstGeom prst="rect">
                  <a:avLst/>
                </a:prstGeom>
                <a:solidFill>
                  <a:srgbClr val="ff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7346880" y="1778400"/>
                  <a:ext cx="18360" cy="302544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7365600" y="1778400"/>
                  <a:ext cx="18360" cy="302544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7383960" y="1778400"/>
                  <a:ext cx="17280" cy="302544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7401600" y="1778400"/>
                  <a:ext cx="18720" cy="302544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7420320" y="1778400"/>
                  <a:ext cx="18360" cy="302544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7439040" y="1778400"/>
                  <a:ext cx="18360" cy="3025440"/>
                </a:xfrm>
                <a:prstGeom prst="rect">
                  <a:avLst/>
                </a:prstGeom>
                <a:solidFill>
                  <a:srgbClr val="ff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7457760" y="1778400"/>
                  <a:ext cx="20160" cy="302544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7477920" y="1778400"/>
                  <a:ext cx="18360" cy="3025440"/>
                </a:xfrm>
                <a:prstGeom prst="rect">
                  <a:avLst/>
                </a:pr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7496640" y="1778400"/>
                  <a:ext cx="18720" cy="302544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7515720" y="1778400"/>
                  <a:ext cx="18360" cy="302544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7534080" y="1778400"/>
                  <a:ext cx="18360" cy="3025440"/>
                </a:xfrm>
                <a:prstGeom prst="rect">
                  <a:avLst/>
                </a:prstGeom>
                <a:solidFill>
                  <a:srgbClr val="ff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7552800" y="1778400"/>
                  <a:ext cx="18720" cy="302544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7571880" y="1778400"/>
                  <a:ext cx="18360" cy="302544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7590600" y="1778400"/>
                  <a:ext cx="18360" cy="302544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7608960" y="1778400"/>
                  <a:ext cx="18720" cy="302544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7628040" y="1778400"/>
                  <a:ext cx="18360" cy="302544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7646760" y="1778400"/>
                  <a:ext cx="18360" cy="302544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7665480" y="1778400"/>
                  <a:ext cx="17280" cy="302544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7682760" y="1778400"/>
                  <a:ext cx="18720" cy="302544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7701840" y="1778400"/>
                  <a:ext cx="19800" cy="302544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721640" y="1778400"/>
                  <a:ext cx="18720" cy="302544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7740720" y="1778400"/>
                  <a:ext cx="18360" cy="302544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7759440" y="1778400"/>
                  <a:ext cx="18360" cy="30254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7777800" y="1778400"/>
                  <a:ext cx="18720" cy="30254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7796880" y="1778400"/>
                  <a:ext cx="18360" cy="30254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7815600" y="1778400"/>
                  <a:ext cx="18360" cy="302544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7834320" y="1778400"/>
                  <a:ext cx="18720" cy="302544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7853040" y="1778400"/>
                  <a:ext cx="18360" cy="30254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7871760" y="1778400"/>
                  <a:ext cx="18360" cy="30254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7890480" y="1778400"/>
                  <a:ext cx="18720" cy="302544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7909560" y="1778400"/>
                  <a:ext cx="18360" cy="302544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7927920" y="1778400"/>
                  <a:ext cx="18360" cy="302544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7946640" y="1778400"/>
                  <a:ext cx="20160" cy="302544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7966800" y="1778400"/>
                  <a:ext cx="18360" cy="302544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7985520" y="1778400"/>
                  <a:ext cx="18720" cy="302544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8004600" y="1778400"/>
                  <a:ext cx="17280" cy="302544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8021880" y="1778400"/>
                  <a:ext cx="18360" cy="302544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8040600" y="1778400"/>
                  <a:ext cx="18360" cy="302544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8059320" y="1778400"/>
                  <a:ext cx="18720" cy="302544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8078040" y="1778400"/>
                  <a:ext cx="18360" cy="302544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8096760" y="1778400"/>
                  <a:ext cx="18360" cy="302544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8115480" y="1778400"/>
                  <a:ext cx="18720" cy="3025440"/>
                </a:xfrm>
                <a:prstGeom prst="rect">
                  <a:avLst/>
                </a:prstGeom>
                <a:solidFill>
                  <a:srgbClr val="ff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8134560" y="1778400"/>
                  <a:ext cx="18360" cy="302544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8152920" y="1778400"/>
                  <a:ext cx="18360" cy="302544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8171640" y="1778400"/>
                  <a:ext cx="18360" cy="3025440"/>
                </a:xfrm>
                <a:prstGeom prst="rect">
                  <a:avLst/>
                </a:pr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8190360" y="1778400"/>
                  <a:ext cx="20160" cy="302544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8210520" y="1778400"/>
                  <a:ext cx="18720" cy="3025440"/>
                </a:xfrm>
                <a:prstGeom prst="rect">
                  <a:avLst/>
                </a:prstGeom>
                <a:solidFill>
                  <a:srgbClr val="ff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8229600" y="1778400"/>
                  <a:ext cx="18360" cy="302544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8248320" y="1778400"/>
                  <a:ext cx="18360" cy="302544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8267040" y="1778400"/>
                  <a:ext cx="18720" cy="302544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8285760" y="1778400"/>
                  <a:ext cx="18360" cy="302544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8304480" y="1778400"/>
                  <a:ext cx="17280" cy="302544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8321760" y="1778400"/>
                  <a:ext cx="18360" cy="3025440"/>
                </a:xfrm>
                <a:prstGeom prst="rect">
                  <a:avLst/>
                </a:prstGeom>
                <a:solidFill>
                  <a:srgbClr val="ff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8340480" y="1778400"/>
                  <a:ext cx="18360" cy="302544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8359200" y="1778400"/>
                  <a:ext cx="18720" cy="3025440"/>
                </a:xfrm>
                <a:prstGeom prst="rect">
                  <a:avLst/>
                </a:prstGeom>
                <a:solidFill>
                  <a:srgbClr val="ff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8378280" y="1778400"/>
                  <a:ext cx="18360" cy="302544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8396640" y="1778400"/>
                  <a:ext cx="18360" cy="3025440"/>
                </a:xfrm>
                <a:prstGeom prst="rect">
                  <a:avLst/>
                </a:prstGeom>
                <a:solidFill>
                  <a:srgbClr val="ff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8415360" y="1778400"/>
                  <a:ext cx="18720" cy="3025440"/>
                </a:xfrm>
                <a:prstGeom prst="rect">
                  <a:avLst/>
                </a:prstGeom>
                <a:solidFill>
                  <a:srgbClr val="ff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8434440" y="1778400"/>
                  <a:ext cx="19800" cy="302544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8454240" y="1778400"/>
                  <a:ext cx="18720" cy="3025440"/>
                </a:xfrm>
                <a:prstGeom prst="rect">
                  <a:avLst/>
                </a:prstGeom>
                <a:solidFill>
                  <a:srgbClr val="ff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8473320" y="1778400"/>
                  <a:ext cx="18360" cy="302544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8492040" y="1778400"/>
                  <a:ext cx="18360" cy="302544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8510760" y="1778400"/>
                  <a:ext cx="18720" cy="3025440"/>
                </a:xfrm>
                <a:prstGeom prst="rect">
                  <a:avLst/>
                </a:prstGeom>
                <a:solidFill>
                  <a:srgbClr val="ff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8529480" y="1778400"/>
                  <a:ext cx="18360" cy="302544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8548200" y="1778400"/>
                  <a:ext cx="18360" cy="302544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8566920" y="1778400"/>
                  <a:ext cx="18720" cy="3025440"/>
                </a:xfrm>
                <a:prstGeom prst="rect">
                  <a:avLst/>
                </a:prstGeom>
                <a:solidFill>
                  <a:srgbClr val="ff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8585640" y="1778400"/>
                  <a:ext cx="17280" cy="302544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8603280" y="1778400"/>
                  <a:ext cx="18360" cy="302544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8621640" y="1778400"/>
                  <a:ext cx="18360" cy="302544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8640360" y="1778400"/>
                  <a:ext cx="18720" cy="302544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8659440" y="1778400"/>
                  <a:ext cx="18360" cy="302544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8678160" y="1778400"/>
                  <a:ext cx="20160" cy="302544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8698320" y="1778400"/>
                  <a:ext cx="18360" cy="302544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8717040" y="1778400"/>
                  <a:ext cx="18360" cy="302544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8735760" y="1778400"/>
                  <a:ext cx="18720" cy="302544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8754480" y="1778400"/>
                  <a:ext cx="18360" cy="30254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8773200" y="1778400"/>
                  <a:ext cx="18360" cy="30254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8791920" y="1778400"/>
                  <a:ext cx="18720" cy="302544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4" name=""/>
            <p:cNvSpPr/>
            <p:nvPr/>
          </p:nvSpPr>
          <p:spPr>
            <a:xfrm>
              <a:off x="5735520" y="4398840"/>
              <a:ext cx="138456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z/V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80120" y="4331880"/>
              <a:ext cx="133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925640" y="4197240"/>
              <a:ext cx="11826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280040" y="2180880"/>
              <a:ext cx="12459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Dedicad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somente para o</a:t>
              </a:r>
              <a:br>
                <a:rPr sz="1600"/>
              </a:b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Stone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873760" y="345888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899480" y="35254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 flipV="1">
              <a:off x="5873760" y="2315880"/>
              <a:ext cx="17280" cy="13442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081840" y="1844280"/>
              <a:ext cx="9698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serv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734160" y="1844280"/>
              <a:ext cx="211788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2700" spc="-1" strike="noStrike">
                  <a:solidFill>
                    <a:srgbClr val="a2a2a2"/>
                  </a:solidFill>
                  <a:latin typeface="Arial"/>
                </a:rPr>
                <a:t>IF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8159760" y="2315880"/>
              <a:ext cx="14400" cy="13442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855800" y="2180880"/>
              <a:ext cx="11080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5" name=""/>
            <p:cNvGrpSpPr/>
            <p:nvPr/>
          </p:nvGrpSpPr>
          <p:grpSpPr>
            <a:xfrm>
              <a:off x="885960" y="4803480"/>
              <a:ext cx="7965360" cy="671040"/>
              <a:chOff x="885960" y="4803480"/>
              <a:chExt cx="7965360" cy="671040"/>
            </a:xfrm>
          </p:grpSpPr>
          <p:sp>
            <p:nvSpPr>
              <p:cNvPr id="2816" name=""/>
              <p:cNvSpPr/>
              <p:nvPr/>
            </p:nvSpPr>
            <p:spPr>
              <a:xfrm flipV="1">
                <a:off x="885960" y="4803120"/>
                <a:ext cx="7965360" cy="67104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4000a2"/>
                  </a:gs>
                  <a:gs pos="50000">
                    <a:srgbClr val="0062e1"/>
                  </a:gs>
                  <a:gs pos="100000">
                    <a:srgbClr val="4000a2"/>
                  </a:gs>
                </a:gsLst>
                <a:lin ang="5400000"/>
              </a:gradFill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558960" y="4818960"/>
                <a:ext cx="2800080" cy="635760"/>
              </a:xfrm>
              <a:custGeom>
                <a:avLst/>
                <a:gdLst/>
                <a:ahLst/>
                <a:rect l="l" t="t" r="r" b="b"/>
                <a:pathLst>
                  <a:path w="680" h="721">
                    <a:moveTo>
                      <a:pt x="162" y="0"/>
                    </a:moveTo>
                    <a:lnTo>
                      <a:pt x="159" y="0"/>
                    </a:lnTo>
                    <a:lnTo>
                      <a:pt x="128" y="155"/>
                    </a:lnTo>
                    <a:lnTo>
                      <a:pt x="443" y="155"/>
                    </a:lnTo>
                    <a:lnTo>
                      <a:pt x="26" y="575"/>
                    </a:lnTo>
                    <a:lnTo>
                      <a:pt x="0" y="720"/>
                    </a:lnTo>
                    <a:lnTo>
                      <a:pt x="560" y="720"/>
                    </a:lnTo>
                    <a:lnTo>
                      <a:pt x="589" y="561"/>
                    </a:lnTo>
                    <a:lnTo>
                      <a:pt x="254" y="561"/>
                    </a:lnTo>
                    <a:lnTo>
                      <a:pt x="654" y="151"/>
                    </a:lnTo>
                    <a:lnTo>
                      <a:pt x="679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gradFill rotWithShape="0">
                <a:gsLst>
                  <a:gs pos="0">
                    <a:srgbClr val="e26200"/>
                  </a:gs>
                  <a:gs pos="50000">
                    <a:srgbClr val="ffffd0"/>
                  </a:gs>
                  <a:gs pos="100000">
                    <a:srgbClr val="e26200"/>
                  </a:gs>
                </a:gsLst>
                <a:lin ang="81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8" name=""/>
            <p:cNvSpPr/>
            <p:nvPr/>
          </p:nvSpPr>
          <p:spPr>
            <a:xfrm>
              <a:off x="8021520" y="2180880"/>
              <a:ext cx="9702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serv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955440" y="1371600"/>
              <a:ext cx="835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993680" y="1371600"/>
              <a:ext cx="835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080480" y="1371600"/>
              <a:ext cx="1440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 (n&lt;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951680" y="5408280"/>
              <a:ext cx="623880" cy="402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(n&lt;1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259760" y="5408280"/>
              <a:ext cx="622080" cy="402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863880" y="5811480"/>
              <a:ext cx="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21164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6568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11164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45796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580392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39764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74396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08992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35880" y="5811480"/>
              <a:ext cx="0" cy="20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V="1">
              <a:off x="5041800" y="3659760"/>
              <a:ext cx="3533760" cy="132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5400000"/>
            </a:gra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497640" y="3525480"/>
              <a:ext cx="74124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perSock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487760" y="1374480"/>
              <a:ext cx="1004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735520" y="1374480"/>
              <a:ext cx="1004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3169800" y="2719080"/>
              <a:ext cx="629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29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5873760" y="332388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873760" y="318888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99480" y="33238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899480" y="31222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99480" y="29206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899480" y="27190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899480" y="25174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899480" y="2315880"/>
              <a:ext cx="26028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873760" y="305424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873760" y="292068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873760" y="278568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1301760" y="3458160"/>
              <a:ext cx="3532320" cy="132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5400000"/>
            </a:gra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755800" y="3323880"/>
              <a:ext cx="825480" cy="4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perSock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V="1">
              <a:off x="5388120" y="3793320"/>
              <a:ext cx="0" cy="2012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487760" y="3591720"/>
              <a:ext cx="0" cy="4028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277040" y="35254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7535880" y="2315880"/>
              <a:ext cx="14400" cy="13442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277040" y="33238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277040" y="31222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277040" y="29206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277040" y="27190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277040" y="25174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277040" y="231588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211640" y="4936680"/>
              <a:ext cx="0" cy="53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765680" y="4936680"/>
              <a:ext cx="0" cy="53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457960" y="4936680"/>
              <a:ext cx="0" cy="53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717560" y="6332400"/>
              <a:ext cx="2354400" cy="402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erenciamento,  Log &amp;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6" name=""/>
            <p:cNvGrpSpPr/>
            <p:nvPr/>
          </p:nvGrpSpPr>
          <p:grpSpPr>
            <a:xfrm>
              <a:off x="4071960" y="3928680"/>
              <a:ext cx="1523520" cy="1017000"/>
              <a:chOff x="4071960" y="3928680"/>
              <a:chExt cx="1523520" cy="1017000"/>
            </a:xfrm>
          </p:grpSpPr>
          <p:sp>
            <p:nvSpPr>
              <p:cNvPr id="2867" name=""/>
              <p:cNvSpPr/>
              <p:nvPr/>
            </p:nvSpPr>
            <p:spPr>
              <a:xfrm>
                <a:off x="4141440" y="3945240"/>
                <a:ext cx="1454040" cy="1000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4071960" y="3928680"/>
                <a:ext cx="1501560" cy="72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SG substituindo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o firewall e a VP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de perímet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9" name=""/>
            <p:cNvSpPr/>
            <p:nvPr/>
          </p:nvSpPr>
          <p:spPr>
            <a:xfrm>
              <a:off x="3726000" y="5408280"/>
              <a:ext cx="623880" cy="40284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319720" y="5408280"/>
              <a:ext cx="623880" cy="40284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626000" y="5408280"/>
              <a:ext cx="623880" cy="40284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2" name="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Instância simples compartilhada do </a:t>
            </a: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StoneG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"/>
          <p:cNvSpPr/>
          <p:nvPr/>
        </p:nvSpPr>
        <p:spPr>
          <a:xfrm>
            <a:off x="2839680" y="1008000"/>
            <a:ext cx="6296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fi-FI" sz="29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4" name=""/>
          <p:cNvGrpSpPr/>
          <p:nvPr/>
        </p:nvGrpSpPr>
        <p:grpSpPr>
          <a:xfrm>
            <a:off x="685800" y="1341360"/>
            <a:ext cx="8313480" cy="5364000"/>
            <a:chOff x="685800" y="1341360"/>
            <a:chExt cx="8313480" cy="5364000"/>
          </a:xfrm>
        </p:grpSpPr>
        <p:grpSp>
          <p:nvGrpSpPr>
            <p:cNvPr id="2875" name=""/>
            <p:cNvGrpSpPr/>
            <p:nvPr/>
          </p:nvGrpSpPr>
          <p:grpSpPr>
            <a:xfrm>
              <a:off x="4079880" y="1679400"/>
              <a:ext cx="1739160" cy="3094920"/>
              <a:chOff x="4079880" y="1679400"/>
              <a:chExt cx="1739160" cy="3094920"/>
            </a:xfrm>
          </p:grpSpPr>
          <p:grpSp>
            <p:nvGrpSpPr>
              <p:cNvPr id="2876" name=""/>
              <p:cNvGrpSpPr/>
              <p:nvPr/>
            </p:nvGrpSpPr>
            <p:grpSpPr>
              <a:xfrm>
                <a:off x="4079880" y="1679400"/>
                <a:ext cx="1739160" cy="3094920"/>
                <a:chOff x="4079880" y="1679400"/>
                <a:chExt cx="1739160" cy="3094920"/>
              </a:xfrm>
            </p:grpSpPr>
            <p:sp>
              <p:nvSpPr>
                <p:cNvPr id="2877" name=""/>
                <p:cNvSpPr/>
                <p:nvPr/>
              </p:nvSpPr>
              <p:spPr>
                <a:xfrm>
                  <a:off x="5735880" y="1679400"/>
                  <a:ext cx="83160" cy="3094920"/>
                </a:xfrm>
                <a:custGeom>
                  <a:avLst/>
                  <a:gdLst/>
                  <a:ahLst/>
                  <a:rect l="l" t="t" r="r" b="b"/>
                  <a:pathLst>
                    <a:path w="37" h="985">
                      <a:moveTo>
                        <a:pt x="0" y="985"/>
                      </a:moveTo>
                      <a:lnTo>
                        <a:pt x="0" y="39"/>
                      </a:lnTo>
                      <a:lnTo>
                        <a:pt x="37" y="0"/>
                      </a:lnTo>
                      <a:lnTo>
                        <a:pt x="37" y="908"/>
                      </a:lnTo>
                      <a:lnTo>
                        <a:pt x="0" y="985"/>
                      </a:lnTo>
                      <a:close/>
                    </a:path>
                  </a:pathLst>
                </a:custGeom>
                <a:solidFill>
                  <a:srgbClr val="5a87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4079880" y="1679400"/>
                  <a:ext cx="1739160" cy="122400"/>
                </a:xfrm>
                <a:custGeom>
                  <a:avLst/>
                  <a:gdLst/>
                  <a:ahLst/>
                  <a:rect l="l" t="t" r="r" b="b"/>
                  <a:pathLst>
                    <a:path w="773" h="39">
                      <a:moveTo>
                        <a:pt x="736" y="39"/>
                      </a:moveTo>
                      <a:lnTo>
                        <a:pt x="0" y="39"/>
                      </a:lnTo>
                      <a:lnTo>
                        <a:pt x="67" y="0"/>
                      </a:lnTo>
                      <a:lnTo>
                        <a:pt x="773" y="0"/>
                      </a:lnTo>
                      <a:lnTo>
                        <a:pt x="736" y="39"/>
                      </a:lnTo>
                      <a:close/>
                    </a:path>
                  </a:pathLst>
                </a:custGeom>
                <a:solidFill>
                  <a:srgbClr val="3c5b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9" name=""/>
              <p:cNvGrpSpPr/>
              <p:nvPr/>
            </p:nvGrpSpPr>
            <p:grpSpPr>
              <a:xfrm>
                <a:off x="4079880" y="1801800"/>
                <a:ext cx="1655640" cy="2972160"/>
                <a:chOff x="4079880" y="1801800"/>
                <a:chExt cx="1655640" cy="2972160"/>
              </a:xfrm>
            </p:grpSpPr>
            <p:sp>
              <p:nvSpPr>
                <p:cNvPr id="2880" name=""/>
                <p:cNvSpPr/>
                <p:nvPr/>
              </p:nvSpPr>
              <p:spPr>
                <a:xfrm>
                  <a:off x="4079880" y="18018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4095360" y="18018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4111200" y="18018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4127040" y="18018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4142880" y="18018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4158720" y="1801800"/>
                  <a:ext cx="1548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4174560" y="1801800"/>
                  <a:ext cx="1548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4190400" y="1801800"/>
                  <a:ext cx="15120" cy="2972160"/>
                </a:xfrm>
                <a:prstGeom prst="rect">
                  <a:avLst/>
                </a:prstGeom>
                <a:solidFill>
                  <a:srgbClr val="69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4205880" y="1801800"/>
                  <a:ext cx="15480" cy="2972160"/>
                </a:xfrm>
                <a:prstGeom prst="rect">
                  <a:avLst/>
                </a:prstGeom>
                <a:solidFill>
                  <a:srgbClr val="6a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4221720" y="1801800"/>
                  <a:ext cx="18360" cy="2972160"/>
                </a:xfrm>
                <a:prstGeom prst="rect">
                  <a:avLst/>
                </a:prstGeom>
                <a:solidFill>
                  <a:srgbClr val="6b9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4240080" y="1801800"/>
                  <a:ext cx="15120" cy="2972160"/>
                </a:xfrm>
                <a:prstGeom prst="rect">
                  <a:avLst/>
                </a:prstGeom>
                <a:solidFill>
                  <a:srgbClr val="6b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4255200" y="1801800"/>
                  <a:ext cx="15480" cy="2972160"/>
                </a:xfrm>
                <a:prstGeom prst="rect">
                  <a:avLst/>
                </a:prstGeom>
                <a:solidFill>
                  <a:srgbClr val="6c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4271040" y="1801800"/>
                  <a:ext cx="15480" cy="2972160"/>
                </a:xfrm>
                <a:prstGeom prst="rect">
                  <a:avLst/>
                </a:prstGeom>
                <a:solidFill>
                  <a:srgbClr val="6e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4286880" y="1801800"/>
                  <a:ext cx="15480" cy="2972160"/>
                </a:xfrm>
                <a:prstGeom prst="rect">
                  <a:avLst/>
                </a:prstGeom>
                <a:solidFill>
                  <a:srgbClr val="6f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4302720" y="1801800"/>
                  <a:ext cx="15480" cy="2972160"/>
                </a:xfrm>
                <a:prstGeom prst="rect">
                  <a:avLst/>
                </a:prstGeom>
                <a:solidFill>
                  <a:srgbClr val="70a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4318560" y="1801800"/>
                  <a:ext cx="15480" cy="2972160"/>
                </a:xfrm>
                <a:prstGeom prst="rect">
                  <a:avLst/>
                </a:prstGeom>
                <a:solidFill>
                  <a:srgbClr val="71a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4334400" y="1801800"/>
                  <a:ext cx="15480" cy="2972160"/>
                </a:xfrm>
                <a:prstGeom prst="rect">
                  <a:avLst/>
                </a:prstGeom>
                <a:solidFill>
                  <a:srgbClr val="73a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4350240" y="1801800"/>
                  <a:ext cx="15480" cy="2972160"/>
                </a:xfrm>
                <a:prstGeom prst="rect">
                  <a:avLst/>
                </a:prstGeom>
                <a:solidFill>
                  <a:srgbClr val="74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4366080" y="1801800"/>
                  <a:ext cx="15120" cy="2972160"/>
                </a:xfrm>
                <a:prstGeom prst="rect">
                  <a:avLst/>
                </a:prstGeom>
                <a:solidFill>
                  <a:srgbClr val="76a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4381200" y="1801800"/>
                  <a:ext cx="15480" cy="2972160"/>
                </a:xfrm>
                <a:prstGeom prst="rect">
                  <a:avLst/>
                </a:prstGeom>
                <a:solidFill>
                  <a:srgbClr val="77a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4397040" y="1801800"/>
                  <a:ext cx="15480" cy="2972160"/>
                </a:xfrm>
                <a:prstGeom prst="rect">
                  <a:avLst/>
                </a:prstGeom>
                <a:solidFill>
                  <a:srgbClr val="78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4412880" y="1801800"/>
                  <a:ext cx="15480" cy="2972160"/>
                </a:xfrm>
                <a:prstGeom prst="rect">
                  <a:avLst/>
                </a:prstGeom>
                <a:solidFill>
                  <a:srgbClr val="7aa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4428720" y="1801800"/>
                  <a:ext cx="15480" cy="2972160"/>
                </a:xfrm>
                <a:prstGeom prst="rect">
                  <a:avLst/>
                </a:prstGeom>
                <a:solidFill>
                  <a:srgbClr val="7ca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4444560" y="1801800"/>
                  <a:ext cx="15480" cy="2972160"/>
                </a:xfrm>
                <a:prstGeom prst="rect">
                  <a:avLst/>
                </a:prstGeom>
                <a:solidFill>
                  <a:srgbClr val="7db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4460400" y="1801800"/>
                  <a:ext cx="15480" cy="2972160"/>
                </a:xfrm>
                <a:prstGeom prst="rect">
                  <a:avLst/>
                </a:prstGeom>
                <a:solidFill>
                  <a:srgbClr val="7fb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4476240" y="1801800"/>
                  <a:ext cx="17640" cy="2972160"/>
                </a:xfrm>
                <a:prstGeom prst="rect">
                  <a:avLst/>
                </a:prstGeom>
                <a:solidFill>
                  <a:srgbClr val="81b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4493880" y="1801800"/>
                  <a:ext cx="17640" cy="2972160"/>
                </a:xfrm>
                <a:prstGeom prst="rect">
                  <a:avLst/>
                </a:prstGeom>
                <a:solidFill>
                  <a:srgbClr val="82b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4511880" y="1801800"/>
                  <a:ext cx="15480" cy="2972160"/>
                </a:xfrm>
                <a:prstGeom prst="rect">
                  <a:avLst/>
                </a:prstGeom>
                <a:solidFill>
                  <a:srgbClr val="84b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4527720" y="1801800"/>
                  <a:ext cx="15480" cy="2972160"/>
                </a:xfrm>
                <a:prstGeom prst="rect">
                  <a:avLst/>
                </a:prstGeom>
                <a:solidFill>
                  <a:srgbClr val="86b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4543560" y="1801800"/>
                  <a:ext cx="15480" cy="2972160"/>
                </a:xfrm>
                <a:prstGeom prst="rect">
                  <a:avLst/>
                </a:prstGeom>
                <a:solidFill>
                  <a:srgbClr val="87b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4559400" y="1801800"/>
                  <a:ext cx="15480" cy="2972160"/>
                </a:xfrm>
                <a:prstGeom prst="rect">
                  <a:avLst/>
                </a:prstGeom>
                <a:solidFill>
                  <a:srgbClr val="89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4575240" y="1801800"/>
                  <a:ext cx="15120" cy="2972160"/>
                </a:xfrm>
                <a:prstGeom prst="rect">
                  <a:avLst/>
                </a:prstGeom>
                <a:solidFill>
                  <a:srgbClr val="8a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4590360" y="1801800"/>
                  <a:ext cx="15480" cy="2972160"/>
                </a:xfrm>
                <a:prstGeom prst="rect">
                  <a:avLst/>
                </a:prstGeom>
                <a:solidFill>
                  <a:srgbClr val="8b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4606200" y="1801800"/>
                  <a:ext cx="15480" cy="2972160"/>
                </a:xfrm>
                <a:prstGeom prst="rect">
                  <a:avLst/>
                </a:prstGeom>
                <a:solidFill>
                  <a:srgbClr val="8c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4622040" y="1801800"/>
                  <a:ext cx="15480" cy="2972160"/>
                </a:xfrm>
                <a:prstGeom prst="rect">
                  <a:avLst/>
                </a:prstGeom>
                <a:solidFill>
                  <a:srgbClr val="8e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4637880" y="1801800"/>
                  <a:ext cx="15480" cy="2972160"/>
                </a:xfrm>
                <a:prstGeom prst="rect">
                  <a:avLst/>
                </a:prstGeom>
                <a:solidFill>
                  <a:srgbClr val="8fc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4653720" y="1801800"/>
                  <a:ext cx="15480" cy="2972160"/>
                </a:xfrm>
                <a:prstGeom prst="rect">
                  <a:avLst/>
                </a:prstGeom>
                <a:solidFill>
                  <a:srgbClr val="90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4669560" y="1801800"/>
                  <a:ext cx="15480" cy="2972160"/>
                </a:xfrm>
                <a:prstGeom prst="rect">
                  <a:avLst/>
                </a:prstGeom>
                <a:solidFill>
                  <a:srgbClr val="91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4685400" y="1801800"/>
                  <a:ext cx="15480" cy="2972160"/>
                </a:xfrm>
                <a:prstGeom prst="rect">
                  <a:avLst/>
                </a:prstGeom>
                <a:solidFill>
                  <a:srgbClr val="92c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4701240" y="1801800"/>
                  <a:ext cx="15120" cy="2972160"/>
                </a:xfrm>
                <a:prstGeom prst="rect">
                  <a:avLst/>
                </a:prstGeom>
                <a:solidFill>
                  <a:srgbClr val="93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4716360" y="1801800"/>
                  <a:ext cx="15480" cy="2972160"/>
                </a:xfrm>
                <a:prstGeom prst="rect">
                  <a:avLst/>
                </a:prstGeom>
                <a:solidFill>
                  <a:srgbClr val="94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4732200" y="1801800"/>
                  <a:ext cx="15480" cy="2972160"/>
                </a:xfrm>
                <a:prstGeom prst="rect">
                  <a:avLst/>
                </a:prstGeom>
                <a:solidFill>
                  <a:srgbClr val="94c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4748040" y="1801800"/>
                  <a:ext cx="15480" cy="2972160"/>
                </a:xfrm>
                <a:prstGeom prst="rect">
                  <a:avLst/>
                </a:prstGeom>
                <a:solidFill>
                  <a:srgbClr val="95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4763880" y="1801800"/>
                  <a:ext cx="15480" cy="2972160"/>
                </a:xfrm>
                <a:prstGeom prst="rect">
                  <a:avLst/>
                </a:prstGeom>
                <a:solidFill>
                  <a:srgbClr val="96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4779720" y="1801800"/>
                  <a:ext cx="15480" cy="2972160"/>
                </a:xfrm>
                <a:prstGeom prst="rect">
                  <a:avLst/>
                </a:prstGeom>
                <a:solidFill>
                  <a:srgbClr val="96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4795560" y="1801800"/>
                  <a:ext cx="1548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811400" y="1801800"/>
                  <a:ext cx="1764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4829400" y="1801800"/>
                  <a:ext cx="1548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4844880" y="18018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4860720" y="18018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4876560" y="1801800"/>
                  <a:ext cx="1512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4892040" y="1801800"/>
                  <a:ext cx="15480" cy="29721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4907880" y="1801800"/>
                  <a:ext cx="15480" cy="29721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4923720" y="18018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>
                  <a:off x="4939560" y="18018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>
                  <a:off x="4955400" y="1801800"/>
                  <a:ext cx="15480" cy="2972160"/>
                </a:xfrm>
                <a:prstGeom prst="rect">
                  <a:avLst/>
                </a:prstGeom>
                <a:solidFill>
                  <a:srgbClr val="98c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4971240" y="1801800"/>
                  <a:ext cx="1548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4986720" y="1801800"/>
                  <a:ext cx="15120" cy="2972160"/>
                </a:xfrm>
                <a:prstGeom prst="rect">
                  <a:avLst/>
                </a:prstGeom>
                <a:solidFill>
                  <a:srgbClr val="97c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>
                  <a:off x="5002200" y="1801800"/>
                  <a:ext cx="15480" cy="2972160"/>
                </a:xfrm>
                <a:prstGeom prst="rect">
                  <a:avLst/>
                </a:prstGeom>
                <a:solidFill>
                  <a:srgbClr val="97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5018040" y="1801800"/>
                  <a:ext cx="15480" cy="2972160"/>
                </a:xfrm>
                <a:prstGeom prst="rect">
                  <a:avLst/>
                </a:prstGeom>
                <a:solidFill>
                  <a:srgbClr val="96c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>
                  <a:off x="5033880" y="1801800"/>
                  <a:ext cx="15480" cy="2972160"/>
                </a:xfrm>
                <a:prstGeom prst="rect">
                  <a:avLst/>
                </a:prstGeom>
                <a:solidFill>
                  <a:srgbClr val="96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5049720" y="1801800"/>
                  <a:ext cx="15480" cy="2972160"/>
                </a:xfrm>
                <a:prstGeom prst="rect">
                  <a:avLst/>
                </a:prstGeom>
                <a:solidFill>
                  <a:srgbClr val="95c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5065560" y="1801800"/>
                  <a:ext cx="15480" cy="2972160"/>
                </a:xfrm>
                <a:prstGeom prst="rect">
                  <a:avLst/>
                </a:prstGeom>
                <a:solidFill>
                  <a:srgbClr val="94c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>
                  <a:off x="5081400" y="1801800"/>
                  <a:ext cx="15480" cy="2972160"/>
                </a:xfrm>
                <a:prstGeom prst="rect">
                  <a:avLst/>
                </a:prstGeom>
                <a:solidFill>
                  <a:srgbClr val="94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5097240" y="1801800"/>
                  <a:ext cx="15480" cy="2972160"/>
                </a:xfrm>
                <a:prstGeom prst="rect">
                  <a:avLst/>
                </a:prstGeom>
                <a:solidFill>
                  <a:srgbClr val="93c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5113080" y="1801800"/>
                  <a:ext cx="15120" cy="2972160"/>
                </a:xfrm>
                <a:prstGeom prst="rect">
                  <a:avLst/>
                </a:prstGeom>
                <a:solidFill>
                  <a:srgbClr val="92c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>
                  <a:off x="5128200" y="1801800"/>
                  <a:ext cx="18360" cy="2972160"/>
                </a:xfrm>
                <a:prstGeom prst="rect">
                  <a:avLst/>
                </a:prstGeom>
                <a:solidFill>
                  <a:srgbClr val="91c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5146560" y="1801800"/>
                  <a:ext cx="15480" cy="2972160"/>
                </a:xfrm>
                <a:prstGeom prst="rect">
                  <a:avLst/>
                </a:prstGeom>
                <a:solidFill>
                  <a:srgbClr val="90c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5162400" y="1801800"/>
                  <a:ext cx="15120" cy="2972160"/>
                </a:xfrm>
                <a:prstGeom prst="rect">
                  <a:avLst/>
                </a:prstGeom>
                <a:solidFill>
                  <a:srgbClr val="8fc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5177880" y="1801800"/>
                  <a:ext cx="15480" cy="2972160"/>
                </a:xfrm>
                <a:prstGeom prst="rect">
                  <a:avLst/>
                </a:prstGeom>
                <a:solidFill>
                  <a:srgbClr val="8e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5193360" y="1801800"/>
                  <a:ext cx="15480" cy="2972160"/>
                </a:xfrm>
                <a:prstGeom prst="rect">
                  <a:avLst/>
                </a:prstGeom>
                <a:solidFill>
                  <a:srgbClr val="8cb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2080" rIns="82080" tIns="41040" bIns="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fi-FI" sz="1400" spc="-1" strike="noStrike">
                      <a:solidFill>
                        <a:srgbClr val="000000"/>
                      </a:solidFill>
                      <a:latin typeface="Times New Roman"/>
                    </a:rPr>
                    <a:t>SG as 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820800"/>
                      <a:tab algn="l" pos="1641600"/>
                      <a:tab algn="l" pos="2462040"/>
                      <a:tab algn="l" pos="3282840"/>
                      <a:tab algn="l" pos="4103640"/>
                      <a:tab algn="l" pos="4924440"/>
                      <a:tab algn="l" pos="5745240"/>
                      <a:tab algn="l" pos="6566040"/>
                      <a:tab algn="l" pos="7386480"/>
                      <a:tab algn="l" pos="8207280"/>
                      <a:tab algn="l" pos="9028080"/>
                      <a:tab algn="l" pos="9848880"/>
                      <a:tab algn="l" pos="10669680"/>
                    </a:tabLst>
                  </a:pPr>
                  <a:r>
                    <a:rPr b="0" lang="fi-FI" sz="1400" spc="-1" strike="noStrike">
                      <a:solidFill>
                        <a:srgbClr val="000000"/>
                      </a:solidFill>
                      <a:latin typeface="Times New Roman"/>
                    </a:rPr>
                    <a:t>replace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5209200" y="1801800"/>
                  <a:ext cx="15480" cy="2972160"/>
                </a:xfrm>
                <a:prstGeom prst="rect">
                  <a:avLst/>
                </a:prstGeom>
                <a:solidFill>
                  <a:srgbClr val="8bb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5225040" y="1801800"/>
                  <a:ext cx="15480" cy="2972160"/>
                </a:xfrm>
                <a:prstGeom prst="rect">
                  <a:avLst/>
                </a:prstGeom>
                <a:solidFill>
                  <a:srgbClr val="8ab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>
                  <a:off x="5240880" y="1801800"/>
                  <a:ext cx="15480" cy="2972160"/>
                </a:xfrm>
                <a:prstGeom prst="rect">
                  <a:avLst/>
                </a:prstGeom>
                <a:solidFill>
                  <a:srgbClr val="89b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5256720" y="1801800"/>
                  <a:ext cx="15480" cy="2972160"/>
                </a:xfrm>
                <a:prstGeom prst="rect">
                  <a:avLst/>
                </a:prstGeom>
                <a:solidFill>
                  <a:srgbClr val="87b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5272560" y="1801800"/>
                  <a:ext cx="15120" cy="2972160"/>
                </a:xfrm>
                <a:prstGeom prst="rect">
                  <a:avLst/>
                </a:prstGeom>
                <a:solidFill>
                  <a:srgbClr val="86b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5288040" y="1801800"/>
                  <a:ext cx="15480" cy="2972160"/>
                </a:xfrm>
                <a:prstGeom prst="rect">
                  <a:avLst/>
                </a:prstGeom>
                <a:solidFill>
                  <a:srgbClr val="84b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5303880" y="1801800"/>
                  <a:ext cx="18360" cy="2972160"/>
                </a:xfrm>
                <a:prstGeom prst="rect">
                  <a:avLst/>
                </a:prstGeom>
                <a:solidFill>
                  <a:srgbClr val="82b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5322240" y="1801800"/>
                  <a:ext cx="15480" cy="2972160"/>
                </a:xfrm>
                <a:prstGeom prst="rect">
                  <a:avLst/>
                </a:prstGeom>
                <a:solidFill>
                  <a:srgbClr val="81b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5338080" y="1801800"/>
                  <a:ext cx="15120" cy="2972160"/>
                </a:xfrm>
                <a:prstGeom prst="rect">
                  <a:avLst/>
                </a:prstGeom>
                <a:solidFill>
                  <a:srgbClr val="7fb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5353200" y="1801800"/>
                  <a:ext cx="15480" cy="2972160"/>
                </a:xfrm>
                <a:prstGeom prst="rect">
                  <a:avLst/>
                </a:prstGeom>
                <a:solidFill>
                  <a:srgbClr val="7db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>
                  <a:off x="5369040" y="1801800"/>
                  <a:ext cx="15480" cy="2972160"/>
                </a:xfrm>
                <a:prstGeom prst="rect">
                  <a:avLst/>
                </a:prstGeom>
                <a:solidFill>
                  <a:srgbClr val="7ca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>
                  <a:off x="5384880" y="1801800"/>
                  <a:ext cx="15480" cy="2972160"/>
                </a:xfrm>
                <a:prstGeom prst="rect">
                  <a:avLst/>
                </a:prstGeom>
                <a:solidFill>
                  <a:srgbClr val="7aa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5400720" y="1801800"/>
                  <a:ext cx="17640" cy="2972160"/>
                </a:xfrm>
                <a:prstGeom prst="rect">
                  <a:avLst/>
                </a:prstGeom>
                <a:solidFill>
                  <a:srgbClr val="78a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>
                  <a:off x="5418720" y="1801800"/>
                  <a:ext cx="15480" cy="2972160"/>
                </a:xfrm>
                <a:prstGeom prst="rect">
                  <a:avLst/>
                </a:prstGeom>
                <a:solidFill>
                  <a:srgbClr val="77a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434200" y="1801800"/>
                  <a:ext cx="15480" cy="2972160"/>
                </a:xfrm>
                <a:prstGeom prst="rect">
                  <a:avLst/>
                </a:prstGeom>
                <a:solidFill>
                  <a:srgbClr val="76a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5450040" y="1801800"/>
                  <a:ext cx="15480" cy="2972160"/>
                </a:xfrm>
                <a:prstGeom prst="rect">
                  <a:avLst/>
                </a:prstGeom>
                <a:solidFill>
                  <a:srgbClr val="74a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5465880" y="1801800"/>
                  <a:ext cx="15480" cy="2972160"/>
                </a:xfrm>
                <a:prstGeom prst="rect">
                  <a:avLst/>
                </a:prstGeom>
                <a:solidFill>
                  <a:srgbClr val="73a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>
                  <a:off x="5481720" y="1801800"/>
                  <a:ext cx="15480" cy="2972160"/>
                </a:xfrm>
                <a:prstGeom prst="rect">
                  <a:avLst/>
                </a:prstGeom>
                <a:solidFill>
                  <a:srgbClr val="71a4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5497560" y="1801800"/>
                  <a:ext cx="15120" cy="2972160"/>
                </a:xfrm>
                <a:prstGeom prst="rect">
                  <a:avLst/>
                </a:prstGeom>
                <a:solidFill>
                  <a:srgbClr val="70a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>
                  <a:off x="5513040" y="1801800"/>
                  <a:ext cx="15480" cy="2972160"/>
                </a:xfrm>
                <a:prstGeom prst="rect">
                  <a:avLst/>
                </a:prstGeom>
                <a:solidFill>
                  <a:srgbClr val="6fa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>
                  <a:off x="5528880" y="1801800"/>
                  <a:ext cx="15480" cy="2972160"/>
                </a:xfrm>
                <a:prstGeom prst="rect">
                  <a:avLst/>
                </a:prstGeom>
                <a:solidFill>
                  <a:srgbClr val="6ea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5544720" y="1801800"/>
                  <a:ext cx="15480" cy="2972160"/>
                </a:xfrm>
                <a:prstGeom prst="rect">
                  <a:avLst/>
                </a:prstGeom>
                <a:solidFill>
                  <a:srgbClr val="6c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5560560" y="1801800"/>
                  <a:ext cx="15480" cy="2972160"/>
                </a:xfrm>
                <a:prstGeom prst="rect">
                  <a:avLst/>
                </a:prstGeom>
                <a:solidFill>
                  <a:srgbClr val="6b9e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>
                  <a:off x="5576040" y="1801800"/>
                  <a:ext cx="15480" cy="2972160"/>
                </a:xfrm>
                <a:prstGeom prst="rect">
                  <a:avLst/>
                </a:prstGeom>
                <a:solidFill>
                  <a:srgbClr val="6b9d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5591880" y="1801800"/>
                  <a:ext cx="15480" cy="2972160"/>
                </a:xfrm>
                <a:prstGeom prst="rect">
                  <a:avLst/>
                </a:prstGeom>
                <a:solidFill>
                  <a:srgbClr val="6a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5607720" y="1801800"/>
                  <a:ext cx="15480" cy="2972160"/>
                </a:xfrm>
                <a:prstGeom prst="rect">
                  <a:avLst/>
                </a:prstGeom>
                <a:solidFill>
                  <a:srgbClr val="699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>
                  <a:off x="5623560" y="1801800"/>
                  <a:ext cx="1512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5639040" y="1801800"/>
                  <a:ext cx="15480" cy="2972160"/>
                </a:xfrm>
                <a:prstGeom prst="rect">
                  <a:avLst/>
                </a:prstGeom>
                <a:solidFill>
                  <a:srgbClr val="689b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5654880" y="18018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5670720" y="1801800"/>
                  <a:ext cx="15480" cy="2972160"/>
                </a:xfrm>
                <a:prstGeom prst="rect">
                  <a:avLst/>
                </a:prstGeom>
                <a:solidFill>
                  <a:srgbClr val="679a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5686560" y="18018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5702400" y="1801800"/>
                  <a:ext cx="1548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5717880" y="1801800"/>
                  <a:ext cx="17640" cy="2972160"/>
                </a:xfrm>
                <a:prstGeom prst="rect">
                  <a:avLst/>
                </a:pr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4" name=""/>
            <p:cNvGrpSpPr/>
            <p:nvPr/>
          </p:nvGrpSpPr>
          <p:grpSpPr>
            <a:xfrm>
              <a:off x="893520" y="1677600"/>
              <a:ext cx="1108080" cy="3094920"/>
              <a:chOff x="893520" y="1677600"/>
              <a:chExt cx="1108080" cy="3094920"/>
            </a:xfrm>
          </p:grpSpPr>
          <p:grpSp>
            <p:nvGrpSpPr>
              <p:cNvPr id="2985" name=""/>
              <p:cNvGrpSpPr/>
              <p:nvPr/>
            </p:nvGrpSpPr>
            <p:grpSpPr>
              <a:xfrm>
                <a:off x="893520" y="1677600"/>
                <a:ext cx="1108080" cy="3094920"/>
                <a:chOff x="893520" y="1677600"/>
                <a:chExt cx="1108080" cy="3094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1974240" y="1677600"/>
                  <a:ext cx="27000" cy="3094920"/>
                </a:xfrm>
                <a:custGeom>
                  <a:avLst/>
                  <a:gdLst/>
                  <a:ahLst/>
                  <a:rect l="l" t="t" r="r" b="b"/>
                  <a:pathLst>
                    <a:path w="38" h="1413">
                      <a:moveTo>
                        <a:pt x="0" y="1413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1318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e1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893520" y="1677600"/>
                  <a:ext cx="1108080" cy="85320"/>
                </a:xfrm>
                <a:custGeom>
                  <a:avLst/>
                  <a:gdLst/>
                  <a:ahLst/>
                  <a:rect l="l" t="t" r="r" b="b"/>
                  <a:pathLst>
                    <a:path w="1543" h="39">
                      <a:moveTo>
                        <a:pt x="1505" y="39"/>
                      </a:moveTo>
                      <a:lnTo>
                        <a:pt x="0" y="39"/>
                      </a:lnTo>
                      <a:lnTo>
                        <a:pt x="99" y="0"/>
                      </a:lnTo>
                      <a:lnTo>
                        <a:pt x="1543" y="0"/>
                      </a:lnTo>
                      <a:lnTo>
                        <a:pt x="1505" y="39"/>
                      </a:lnTo>
                      <a:close/>
                    </a:path>
                  </a:pathLst>
                </a:custGeom>
                <a:solidFill>
                  <a:srgbClr val="985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893520" y="1762920"/>
                <a:ext cx="1080720" cy="3009600"/>
                <a:chOff x="893520" y="1762920"/>
                <a:chExt cx="1080720" cy="3009600"/>
              </a:xfrm>
            </p:grpSpPr>
            <p:grpSp>
              <p:nvGrpSpPr>
                <p:cNvPr id="2989" name=""/>
                <p:cNvGrpSpPr/>
                <p:nvPr/>
              </p:nvGrpSpPr>
              <p:grpSpPr>
                <a:xfrm>
                  <a:off x="893520" y="1762920"/>
                  <a:ext cx="702000" cy="3009240"/>
                  <a:chOff x="893520" y="1762920"/>
                  <a:chExt cx="702000" cy="3009240"/>
                </a:xfrm>
              </p:grpSpPr>
              <p:sp>
                <p:nvSpPr>
                  <p:cNvPr id="2990" name=""/>
                  <p:cNvSpPr/>
                  <p:nvPr/>
                </p:nvSpPr>
                <p:spPr>
                  <a:xfrm>
                    <a:off x="893520" y="1762920"/>
                    <a:ext cx="3240" cy="300924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>
                    <a:off x="896760" y="1762920"/>
                    <a:ext cx="3240" cy="3009240"/>
                  </a:xfrm>
                  <a:prstGeom prst="rect">
                    <a:avLst/>
                  </a:prstGeom>
                  <a:solidFill>
                    <a:srgbClr val="ff99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>
                    <a:off x="900360" y="1762920"/>
                    <a:ext cx="2880" cy="3009240"/>
                  </a:xfrm>
                  <a:prstGeom prst="rect">
                    <a:avLst/>
                  </a:prstGeom>
                  <a:solidFill>
                    <a:srgbClr val="ff990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>
                    <a:off x="903600" y="1762920"/>
                    <a:ext cx="3960" cy="3009240"/>
                  </a:xfrm>
                  <a:prstGeom prst="rect">
                    <a:avLst/>
                  </a:prstGeom>
                  <a:solidFill>
                    <a:srgbClr val="ff990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>
                    <a:off x="907560" y="1762920"/>
                    <a:ext cx="3240" cy="3009240"/>
                  </a:xfrm>
                  <a:prstGeom prst="rect">
                    <a:avLst/>
                  </a:prstGeom>
                  <a:solidFill>
                    <a:srgbClr val="ff990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>
                    <a:off x="911160" y="1762920"/>
                    <a:ext cx="3240" cy="3009240"/>
                  </a:xfrm>
                  <a:prstGeom prst="rect">
                    <a:avLst/>
                  </a:prstGeom>
                  <a:solidFill>
                    <a:srgbClr val="ff9a0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914760" y="1762920"/>
                    <a:ext cx="2880" cy="3009240"/>
                  </a:xfrm>
                  <a:prstGeom prst="rect">
                    <a:avLst/>
                  </a:prstGeom>
                  <a:solidFill>
                    <a:srgbClr val="ff9a0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917640" y="1762920"/>
                    <a:ext cx="3240" cy="3009240"/>
                  </a:xfrm>
                  <a:prstGeom prst="rect">
                    <a:avLst/>
                  </a:prstGeom>
                  <a:solidFill>
                    <a:srgbClr val="ff9a1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921240" y="1762920"/>
                    <a:ext cx="3240" cy="3009240"/>
                  </a:xfrm>
                  <a:prstGeom prst="rect">
                    <a:avLst/>
                  </a:prstGeom>
                  <a:solidFill>
                    <a:srgbClr val="ff9b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924840" y="1762920"/>
                    <a:ext cx="4320" cy="3009240"/>
                  </a:xfrm>
                  <a:prstGeom prst="rect">
                    <a:avLst/>
                  </a:prstGeom>
                  <a:solidFill>
                    <a:srgbClr val="ff9b1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929160" y="1762920"/>
                    <a:ext cx="2520" cy="3009240"/>
                  </a:xfrm>
                  <a:prstGeom prst="rect">
                    <a:avLst/>
                  </a:prstGeom>
                  <a:solidFill>
                    <a:srgbClr val="ff9b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932040" y="1762920"/>
                    <a:ext cx="3240" cy="3009240"/>
                  </a:xfrm>
                  <a:prstGeom prst="rect">
                    <a:avLst/>
                  </a:prstGeom>
                  <a:solidFill>
                    <a:srgbClr val="ff9c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935640" y="1762920"/>
                    <a:ext cx="3240" cy="3009240"/>
                  </a:xfrm>
                  <a:prstGeom prst="rect">
                    <a:avLst/>
                  </a:prstGeom>
                  <a:solidFill>
                    <a:srgbClr val="ff9c1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939240" y="1762920"/>
                    <a:ext cx="2880" cy="3009240"/>
                  </a:xfrm>
                  <a:prstGeom prst="rect">
                    <a:avLst/>
                  </a:prstGeom>
                  <a:solidFill>
                    <a:srgbClr val="ff9c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942120" y="1762920"/>
                    <a:ext cx="3240" cy="3009240"/>
                  </a:xfrm>
                  <a:prstGeom prst="rect">
                    <a:avLst/>
                  </a:prstGeom>
                  <a:solidFill>
                    <a:srgbClr val="ff9d1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>
                    <a:off x="945720" y="1762920"/>
                    <a:ext cx="3960" cy="3009240"/>
                  </a:xfrm>
                  <a:prstGeom prst="rect">
                    <a:avLst/>
                  </a:prstGeom>
                  <a:solidFill>
                    <a:srgbClr val="ff9d1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>
                    <a:off x="950040" y="1762920"/>
                    <a:ext cx="3240" cy="3009240"/>
                  </a:xfrm>
                  <a:prstGeom prst="rect">
                    <a:avLst/>
                  </a:prstGeom>
                  <a:solidFill>
                    <a:srgbClr val="ff9d1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>
                    <a:off x="953640" y="1762920"/>
                    <a:ext cx="2880" cy="3009240"/>
                  </a:xfrm>
                  <a:prstGeom prst="rect">
                    <a:avLst/>
                  </a:prstGeom>
                  <a:solidFill>
                    <a:srgbClr val="ff9e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>
                    <a:off x="956520" y="1762920"/>
                    <a:ext cx="3240" cy="3009240"/>
                  </a:xfrm>
                  <a:prstGeom prst="rect">
                    <a:avLst/>
                  </a:prstGeom>
                  <a:solidFill>
                    <a:srgbClr val="ff9e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>
                    <a:off x="960120" y="1762920"/>
                    <a:ext cx="3240" cy="3009240"/>
                  </a:xfrm>
                  <a:prstGeom prst="rect">
                    <a:avLst/>
                  </a:prstGeom>
                  <a:solidFill>
                    <a:srgbClr val="ff9f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963720" y="1762920"/>
                    <a:ext cx="2880" cy="3009240"/>
                  </a:xfrm>
                  <a:prstGeom prst="rect">
                    <a:avLst/>
                  </a:prstGeom>
                  <a:solidFill>
                    <a:srgbClr val="ff9f2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966600" y="1762920"/>
                    <a:ext cx="3960" cy="3009240"/>
                  </a:xfrm>
                  <a:prstGeom prst="rect">
                    <a:avLst/>
                  </a:prstGeom>
                  <a:solidFill>
                    <a:srgbClr val="ffa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970920" y="1762920"/>
                    <a:ext cx="3240" cy="3009240"/>
                  </a:xfrm>
                  <a:prstGeom prst="rect">
                    <a:avLst/>
                  </a:prstGeom>
                  <a:solidFill>
                    <a:srgbClr val="ffa0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3" name=""/>
                  <p:cNvSpPr/>
                  <p:nvPr/>
                </p:nvSpPr>
                <p:spPr>
                  <a:xfrm>
                    <a:off x="974520" y="1762920"/>
                    <a:ext cx="3240" cy="3009240"/>
                  </a:xfrm>
                  <a:prstGeom prst="rect">
                    <a:avLst/>
                  </a:prstGeom>
                  <a:solidFill>
                    <a:srgbClr val="ffa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978120" y="1762920"/>
                    <a:ext cx="2880" cy="3009240"/>
                  </a:xfrm>
                  <a:prstGeom prst="rect">
                    <a:avLst/>
                  </a:prstGeom>
                  <a:solidFill>
                    <a:srgbClr val="ffa1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981000" y="1762920"/>
                    <a:ext cx="3240" cy="3009240"/>
                  </a:xfrm>
                  <a:prstGeom prst="rect">
                    <a:avLst/>
                  </a:prstGeom>
                  <a:solidFill>
                    <a:srgbClr val="ffa2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984600" y="1762920"/>
                    <a:ext cx="3240" cy="3009240"/>
                  </a:xfrm>
                  <a:prstGeom prst="rect">
                    <a:avLst/>
                  </a:prstGeom>
                  <a:solidFill>
                    <a:srgbClr val="ffa2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988200" y="1762920"/>
                    <a:ext cx="2880" cy="3009240"/>
                  </a:xfrm>
                  <a:prstGeom prst="rect">
                    <a:avLst/>
                  </a:prstGeom>
                  <a:solidFill>
                    <a:srgbClr val="ffa3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991080" y="1762920"/>
                    <a:ext cx="3960" cy="3009240"/>
                  </a:xfrm>
                  <a:prstGeom prst="rect">
                    <a:avLst/>
                  </a:prstGeom>
                  <a:solidFill>
                    <a:srgbClr val="ffa42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>
                    <a:off x="995400" y="1762920"/>
                    <a:ext cx="3240" cy="3009240"/>
                  </a:xfrm>
                  <a:prstGeom prst="rect">
                    <a:avLst/>
                  </a:prstGeom>
                  <a:solidFill>
                    <a:srgbClr val="ffa4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>
                    <a:off x="999000" y="1762920"/>
                    <a:ext cx="3240" cy="3009240"/>
                  </a:xfrm>
                  <a:prstGeom prst="rect">
                    <a:avLst/>
                  </a:prstGeom>
                  <a:solidFill>
                    <a:srgbClr val="ffa52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>
                    <a:off x="1002600" y="1762920"/>
                    <a:ext cx="2880" cy="3009240"/>
                  </a:xfrm>
                  <a:prstGeom prst="rect">
                    <a:avLst/>
                  </a:prstGeom>
                  <a:solidFill>
                    <a:srgbClr val="ffa6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>
                    <a:off x="1005480" y="1762920"/>
                    <a:ext cx="3240" cy="3009240"/>
                  </a:xfrm>
                  <a:prstGeom prst="rect">
                    <a:avLst/>
                  </a:prstGeom>
                  <a:solidFill>
                    <a:srgbClr val="ffa6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>
                    <a:off x="1009080" y="1762920"/>
                    <a:ext cx="3240" cy="3009240"/>
                  </a:xfrm>
                  <a:prstGeom prst="rect">
                    <a:avLst/>
                  </a:prstGeom>
                  <a:solidFill>
                    <a:srgbClr val="ffa73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1012680" y="1762920"/>
                    <a:ext cx="4320" cy="3009240"/>
                  </a:xfrm>
                  <a:prstGeom prst="rect">
                    <a:avLst/>
                  </a:prstGeom>
                  <a:solidFill>
                    <a:srgbClr val="ffa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1017000" y="1762920"/>
                    <a:ext cx="2520" cy="3009240"/>
                  </a:xfrm>
                  <a:prstGeom prst="rect">
                    <a:avLst/>
                  </a:prstGeom>
                  <a:solidFill>
                    <a:srgbClr val="ffa9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>
                    <a:off x="1019880" y="1762920"/>
                    <a:ext cx="3240" cy="3009240"/>
                  </a:xfrm>
                  <a:prstGeom prst="rect">
                    <a:avLst/>
                  </a:prstGeom>
                  <a:solidFill>
                    <a:srgbClr val="ffa9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1023480" y="1762920"/>
                    <a:ext cx="3240" cy="3009240"/>
                  </a:xfrm>
                  <a:prstGeom prst="rect">
                    <a:avLst/>
                  </a:prstGeom>
                  <a:solidFill>
                    <a:srgbClr val="ffaa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1027080" y="1762920"/>
                    <a:ext cx="3240" cy="3009240"/>
                  </a:xfrm>
                  <a:prstGeom prst="rect">
                    <a:avLst/>
                  </a:prstGeom>
                  <a:solidFill>
                    <a:srgbClr val="ffab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>
                    <a:off x="1030320" y="1762920"/>
                    <a:ext cx="2880" cy="3009240"/>
                  </a:xfrm>
                  <a:prstGeom prst="rect">
                    <a:avLst/>
                  </a:prstGeom>
                  <a:solidFill>
                    <a:srgbClr val="ffab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1033560" y="1762920"/>
                    <a:ext cx="3960" cy="3009240"/>
                  </a:xfrm>
                  <a:prstGeom prst="rect">
                    <a:avLst/>
                  </a:prstGeom>
                  <a:solidFill>
                    <a:srgbClr val="ffac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1037520" y="1762920"/>
                    <a:ext cx="3240" cy="3009240"/>
                  </a:xfrm>
                  <a:prstGeom prst="rect">
                    <a:avLst/>
                  </a:prstGeom>
                  <a:solidFill>
                    <a:srgbClr val="ffad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1041120" y="1762920"/>
                    <a:ext cx="2880" cy="3009240"/>
                  </a:xfrm>
                  <a:prstGeom prst="rect">
                    <a:avLst/>
                  </a:prstGeom>
                  <a:solidFill>
                    <a:srgbClr val="ffae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>
                    <a:off x="1044000" y="1762920"/>
                    <a:ext cx="3240" cy="3009240"/>
                  </a:xfrm>
                  <a:prstGeom prst="rect">
                    <a:avLst/>
                  </a:prstGeom>
                  <a:solidFill>
                    <a:srgbClr val="ffa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>
                    <a:off x="1047600" y="1762920"/>
                    <a:ext cx="3240" cy="3009240"/>
                  </a:xfrm>
                  <a:prstGeom prst="rect">
                    <a:avLst/>
                  </a:prstGeom>
                  <a:solidFill>
                    <a:srgbClr val="ffaf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>
                    <a:off x="1051200" y="1762920"/>
                    <a:ext cx="3240" cy="3009240"/>
                  </a:xfrm>
                  <a:prstGeom prst="rect">
                    <a:avLst/>
                  </a:prstGeom>
                  <a:solidFill>
                    <a:srgbClr val="ffb1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>
                    <a:off x="1054800" y="1762920"/>
                    <a:ext cx="2880" cy="3009240"/>
                  </a:xfrm>
                  <a:prstGeom prst="rect">
                    <a:avLst/>
                  </a:prstGeom>
                  <a:solidFill>
                    <a:srgbClr val="ffb2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>
                    <a:off x="1058040" y="1762920"/>
                    <a:ext cx="3960" cy="3009240"/>
                  </a:xfrm>
                  <a:prstGeom prst="rect">
                    <a:avLst/>
                  </a:prstGeom>
                  <a:solidFill>
                    <a:srgbClr val="ffb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1062000" y="1762920"/>
                    <a:ext cx="3240" cy="3009240"/>
                  </a:xfrm>
                  <a:prstGeom prst="rect">
                    <a:avLst/>
                  </a:prstGeom>
                  <a:solidFill>
                    <a:srgbClr val="ffb3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1065600" y="1762920"/>
                    <a:ext cx="3240" cy="3009240"/>
                  </a:xfrm>
                  <a:prstGeom prst="rect">
                    <a:avLst/>
                  </a:prstGeom>
                  <a:solidFill>
                    <a:srgbClr val="ffb5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1069200" y="1762920"/>
                    <a:ext cx="2880" cy="3009240"/>
                  </a:xfrm>
                  <a:prstGeom prst="rect">
                    <a:avLst/>
                  </a:prstGeom>
                  <a:solidFill>
                    <a:srgbClr val="ffb54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/>
                  <p:nvPr/>
                </p:nvSpPr>
                <p:spPr>
                  <a:xfrm>
                    <a:off x="1072080" y="1762920"/>
                    <a:ext cx="3240" cy="3009240"/>
                  </a:xfrm>
                  <a:prstGeom prst="rect">
                    <a:avLst/>
                  </a:prstGeom>
                  <a:solidFill>
                    <a:srgbClr val="ffb6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2" name=""/>
                  <p:cNvSpPr/>
                  <p:nvPr/>
                </p:nvSpPr>
                <p:spPr>
                  <a:xfrm>
                    <a:off x="1075680" y="1762920"/>
                    <a:ext cx="3240" cy="3009240"/>
                  </a:xfrm>
                  <a:prstGeom prst="rect">
                    <a:avLst/>
                  </a:prstGeom>
                  <a:solidFill>
                    <a:srgbClr val="ffb8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1079280" y="1762920"/>
                    <a:ext cx="4320" cy="3009240"/>
                  </a:xfrm>
                  <a:prstGeom prst="rect">
                    <a:avLst/>
                  </a:prstGeom>
                  <a:solidFill>
                    <a:srgbClr val="ffb8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1083600" y="1762920"/>
                    <a:ext cx="2520" cy="3009240"/>
                  </a:xfrm>
                  <a:prstGeom prst="rect">
                    <a:avLst/>
                  </a:prstGeom>
                  <a:solidFill>
                    <a:srgbClr val="ffb9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1086480" y="1762920"/>
                    <a:ext cx="3240" cy="3009240"/>
                  </a:xfrm>
                  <a:prstGeom prst="rect">
                    <a:avLst/>
                  </a:prstGeom>
                  <a:solidFill>
                    <a:srgbClr val="ffbb5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1090080" y="1762920"/>
                    <a:ext cx="3240" cy="3009240"/>
                  </a:xfrm>
                  <a:prstGeom prst="rect">
                    <a:avLst/>
                  </a:prstGeom>
                  <a:solidFill>
                    <a:srgbClr val="ffbb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1093680" y="1762920"/>
                    <a:ext cx="2880" cy="3009240"/>
                  </a:xfrm>
                  <a:prstGeom prst="rect">
                    <a:avLst/>
                  </a:prstGeom>
                  <a:solidFill>
                    <a:srgbClr val="ffbc5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1096560" y="1762920"/>
                    <a:ext cx="3240" cy="3009240"/>
                  </a:xfrm>
                  <a:prstGeom prst="rect">
                    <a:avLst/>
                  </a:prstGeom>
                  <a:solidFill>
                    <a:srgbClr val="ffbe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>
                    <a:off x="1100160" y="1762920"/>
                    <a:ext cx="4320" cy="3009240"/>
                  </a:xfrm>
                  <a:prstGeom prst="rect">
                    <a:avLst/>
                  </a:prstGeom>
                  <a:solidFill>
                    <a:srgbClr val="ffbe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1104480" y="1762920"/>
                    <a:ext cx="3240" cy="3009240"/>
                  </a:xfrm>
                  <a:prstGeom prst="rect">
                    <a:avLst/>
                  </a:prstGeom>
                  <a:solidFill>
                    <a:srgbClr val="ffc0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>
                    <a:off x="1108080" y="1762920"/>
                    <a:ext cx="2520" cy="3009240"/>
                  </a:xfrm>
                  <a:prstGeom prst="rect">
                    <a:avLst/>
                  </a:prstGeom>
                  <a:solidFill>
                    <a:srgbClr val="ffc1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>
                    <a:off x="1110960" y="1762920"/>
                    <a:ext cx="3240" cy="3009240"/>
                  </a:xfrm>
                  <a:prstGeom prst="rect">
                    <a:avLst/>
                  </a:prstGeom>
                  <a:solidFill>
                    <a:srgbClr val="ffc2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>
                    <a:off x="1114560" y="1762920"/>
                    <a:ext cx="3240" cy="3009240"/>
                  </a:xfrm>
                  <a:prstGeom prst="rect">
                    <a:avLst/>
                  </a:prstGeom>
                  <a:solidFill>
                    <a:srgbClr val="ffc35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>
                    <a:off x="1118160" y="1762920"/>
                    <a:ext cx="2880" cy="3009240"/>
                  </a:xfrm>
                  <a:prstGeom prst="rect">
                    <a:avLst/>
                  </a:prstGeom>
                  <a:solidFill>
                    <a:srgbClr val="ffc4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1121040" y="1762920"/>
                    <a:ext cx="3960" cy="3009240"/>
                  </a:xfrm>
                  <a:prstGeom prst="rect">
                    <a:avLst/>
                  </a:prstGeom>
                  <a:solidFill>
                    <a:srgbClr val="ffc5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1125360" y="1762920"/>
                    <a:ext cx="3240" cy="3009240"/>
                  </a:xfrm>
                  <a:prstGeom prst="rect">
                    <a:avLst/>
                  </a:prstGeom>
                  <a:solidFill>
                    <a:srgbClr val="ffc6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1128960" y="1762920"/>
                    <a:ext cx="3600" cy="3009240"/>
                  </a:xfrm>
                  <a:prstGeom prst="rect">
                    <a:avLst/>
                  </a:prstGeom>
                  <a:solidFill>
                    <a:srgbClr val="ffc8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1132560" y="1762920"/>
                    <a:ext cx="2520" cy="3009240"/>
                  </a:xfrm>
                  <a:prstGeom prst="rect">
                    <a:avLst/>
                  </a:prstGeom>
                  <a:solidFill>
                    <a:srgbClr val="ffc86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1135440" y="1762920"/>
                    <a:ext cx="3240" cy="3009240"/>
                  </a:xfrm>
                  <a:prstGeom prst="rect">
                    <a:avLst/>
                  </a:prstGeom>
                  <a:solidFill>
                    <a:srgbClr val="ffca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1139040" y="1762920"/>
                    <a:ext cx="3240" cy="3009240"/>
                  </a:xfrm>
                  <a:prstGeom prst="rect">
                    <a:avLst/>
                  </a:prstGeom>
                  <a:solidFill>
                    <a:srgbClr val="ffcb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1142640" y="1762920"/>
                    <a:ext cx="2880" cy="3009240"/>
                  </a:xfrm>
                  <a:prstGeom prst="rect">
                    <a:avLst/>
                  </a:prstGeom>
                  <a:solidFill>
                    <a:srgbClr val="ffcc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1145520" y="1762920"/>
                    <a:ext cx="3960" cy="3009240"/>
                  </a:xfrm>
                  <a:prstGeom prst="rect">
                    <a:avLst/>
                  </a:prstGeom>
                  <a:solidFill>
                    <a:srgbClr val="ffcd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>
                    <a:off x="1149840" y="1762920"/>
                    <a:ext cx="3240" cy="3009240"/>
                  </a:xfrm>
                  <a:prstGeom prst="rect">
                    <a:avLst/>
                  </a:prstGeom>
                  <a:solidFill>
                    <a:srgbClr val="ffce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>
                    <a:off x="1153440" y="1762920"/>
                    <a:ext cx="3240" cy="3009240"/>
                  </a:xfrm>
                  <a:prstGeom prst="rect">
                    <a:avLst/>
                  </a:prstGeom>
                  <a:solidFill>
                    <a:srgbClr val="ffcf6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1157040" y="1762920"/>
                    <a:ext cx="2880" cy="3009240"/>
                  </a:xfrm>
                  <a:prstGeom prst="rect">
                    <a:avLst/>
                  </a:prstGeom>
                  <a:solidFill>
                    <a:srgbClr val="ffd0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6" name=""/>
                  <p:cNvSpPr/>
                  <p:nvPr/>
                </p:nvSpPr>
                <p:spPr>
                  <a:xfrm>
                    <a:off x="1159920" y="1762920"/>
                    <a:ext cx="3240" cy="3009240"/>
                  </a:xfrm>
                  <a:prstGeom prst="rect">
                    <a:avLst/>
                  </a:prstGeom>
                  <a:solidFill>
                    <a:srgbClr val="ffd1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1163520" y="1762920"/>
                    <a:ext cx="3240" cy="3009240"/>
                  </a:xfrm>
                  <a:prstGeom prst="rect">
                    <a:avLst/>
                  </a:prstGeom>
                  <a:solidFill>
                    <a:srgbClr val="ffd2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1167120" y="1762920"/>
                    <a:ext cx="4320" cy="3009240"/>
                  </a:xfrm>
                  <a:prstGeom prst="rect">
                    <a:avLst/>
                  </a:prstGeom>
                  <a:solidFill>
                    <a:srgbClr val="ffd3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1171440" y="1762920"/>
                    <a:ext cx="2520" cy="3009240"/>
                  </a:xfrm>
                  <a:prstGeom prst="rect">
                    <a:avLst/>
                  </a:prstGeom>
                  <a:solidFill>
                    <a:srgbClr val="ffd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1174320" y="1762920"/>
                    <a:ext cx="3240" cy="3009240"/>
                  </a:xfrm>
                  <a:prstGeom prst="rect">
                    <a:avLst/>
                  </a:prstGeom>
                  <a:solidFill>
                    <a:srgbClr val="ffd5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1177920" y="1762920"/>
                    <a:ext cx="3240" cy="3009240"/>
                  </a:xfrm>
                  <a:prstGeom prst="rect">
                    <a:avLst/>
                  </a:prstGeom>
                  <a:solidFill>
                    <a:srgbClr val="ffd7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1181160" y="1762920"/>
                    <a:ext cx="3240" cy="3009240"/>
                  </a:xfrm>
                  <a:prstGeom prst="rect">
                    <a:avLst/>
                  </a:prstGeom>
                  <a:solidFill>
                    <a:srgbClr val="ffd8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1184760" y="1762920"/>
                    <a:ext cx="2880" cy="3009240"/>
                  </a:xfrm>
                  <a:prstGeom prst="rect">
                    <a:avLst/>
                  </a:prstGeom>
                  <a:solidFill>
                    <a:srgbClr val="ffd8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1188000" y="1762920"/>
                    <a:ext cx="4320" cy="3009240"/>
                  </a:xfrm>
                  <a:prstGeom prst="rect">
                    <a:avLst/>
                  </a:prstGeom>
                  <a:solidFill>
                    <a:srgbClr val="ffda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1192320" y="1762920"/>
                    <a:ext cx="3240" cy="3009240"/>
                  </a:xfrm>
                  <a:prstGeom prst="rect">
                    <a:avLst/>
                  </a:prstGeom>
                  <a:solidFill>
                    <a:srgbClr val="ffdb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1195920" y="1762920"/>
                    <a:ext cx="3240" cy="3009240"/>
                  </a:xfrm>
                  <a:prstGeom prst="rect">
                    <a:avLst/>
                  </a:prstGeom>
                  <a:solidFill>
                    <a:srgbClr val="ffdc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1199520" y="1762920"/>
                    <a:ext cx="2520" cy="3009240"/>
                  </a:xfrm>
                  <a:prstGeom prst="rect">
                    <a:avLst/>
                  </a:prstGeom>
                  <a:solidFill>
                    <a:srgbClr val="ffdd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>
                    <a:off x="1202040" y="1762920"/>
                    <a:ext cx="3240" cy="3009240"/>
                  </a:xfrm>
                  <a:prstGeom prst="rect">
                    <a:avLst/>
                  </a:prstGeom>
                  <a:solidFill>
                    <a:srgbClr val="ffd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>
                    <a:off x="1205640" y="1762920"/>
                    <a:ext cx="3240" cy="3009240"/>
                  </a:xfrm>
                  <a:prstGeom prst="rect">
                    <a:avLst/>
                  </a:prstGeom>
                  <a:solidFill>
                    <a:srgbClr val="ffde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1209240" y="1762920"/>
                    <a:ext cx="2880" cy="3009240"/>
                  </a:xfrm>
                  <a:prstGeom prst="rect">
                    <a:avLst/>
                  </a:prstGeom>
                  <a:solidFill>
                    <a:srgbClr val="ffe0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>
                    <a:off x="1212120" y="1762920"/>
                    <a:ext cx="3960" cy="3009240"/>
                  </a:xfrm>
                  <a:prstGeom prst="rect">
                    <a:avLst/>
                  </a:prstGeom>
                  <a:solidFill>
                    <a:srgbClr val="ffe1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1216440" y="1762920"/>
                    <a:ext cx="3600" cy="3009240"/>
                  </a:xfrm>
                  <a:prstGeom prst="rect">
                    <a:avLst/>
                  </a:prstGeom>
                  <a:solidFill>
                    <a:srgbClr val="ffe1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1220400" y="1762920"/>
                    <a:ext cx="3240" cy="3009240"/>
                  </a:xfrm>
                  <a:prstGeom prst="rect">
                    <a:avLst/>
                  </a:prstGeom>
                  <a:solidFill>
                    <a:srgbClr val="ffe2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>
                    <a:off x="1224000" y="1762920"/>
                    <a:ext cx="2520" cy="3009240"/>
                  </a:xfrm>
                  <a:prstGeom prst="rect">
                    <a:avLst/>
                  </a:prstGeom>
                  <a:solidFill>
                    <a:srgbClr val="ffe4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1226520" y="1762920"/>
                    <a:ext cx="3240" cy="3009240"/>
                  </a:xfrm>
                  <a:prstGeom prst="rect">
                    <a:avLst/>
                  </a:prstGeom>
                  <a:solidFill>
                    <a:srgbClr val="ffe4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1230120" y="1762920"/>
                    <a:ext cx="3240" cy="3009240"/>
                  </a:xfrm>
                  <a:prstGeom prst="rect">
                    <a:avLst/>
                  </a:prstGeom>
                  <a:solidFill>
                    <a:srgbClr val="ffe5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1233720" y="1762920"/>
                    <a:ext cx="4320" cy="3009240"/>
                  </a:xfrm>
                  <a:prstGeom prst="rect">
                    <a:avLst/>
                  </a:prstGeom>
                  <a:solidFill>
                    <a:srgbClr val="ffe6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1238040" y="1762920"/>
                    <a:ext cx="2520" cy="3009240"/>
                  </a:xfrm>
                  <a:prstGeom prst="rect">
                    <a:avLst/>
                  </a:prstGeom>
                  <a:solidFill>
                    <a:srgbClr val="ffe7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1240920" y="1762920"/>
                    <a:ext cx="3240" cy="3009240"/>
                  </a:xfrm>
                  <a:prstGeom prst="rect">
                    <a:avLst/>
                  </a:prstGeom>
                  <a:solidFill>
                    <a:srgbClr val="ffe88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1244520" y="1762920"/>
                    <a:ext cx="3240" cy="3009240"/>
                  </a:xfrm>
                  <a:prstGeom prst="rect">
                    <a:avLst/>
                  </a:prstGeom>
                  <a:solidFill>
                    <a:srgbClr val="ffe9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1248120" y="1762920"/>
                    <a:ext cx="2880" cy="3009240"/>
                  </a:xfrm>
                  <a:prstGeom prst="rect">
                    <a:avLst/>
                  </a:prstGeom>
                  <a:solidFill>
                    <a:srgbClr val="ffe9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1251000" y="1762920"/>
                    <a:ext cx="3240" cy="3009240"/>
                  </a:xfrm>
                  <a:prstGeom prst="rect">
                    <a:avLst/>
                  </a:prstGeom>
                  <a:solidFill>
                    <a:srgbClr val="ffea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>
                    <a:off x="1254600" y="1762920"/>
                    <a:ext cx="4320" cy="3009240"/>
                  </a:xfrm>
                  <a:prstGeom prst="rect">
                    <a:avLst/>
                  </a:prstGeom>
                  <a:solidFill>
                    <a:srgbClr val="ffeb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1258920" y="1762920"/>
                    <a:ext cx="3240" cy="3009240"/>
                  </a:xfrm>
                  <a:prstGeom prst="rect">
                    <a:avLst/>
                  </a:prstGeom>
                  <a:solidFill>
                    <a:srgbClr val="ffeb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1262520" y="1762920"/>
                    <a:ext cx="2520" cy="3009240"/>
                  </a:xfrm>
                  <a:prstGeom prst="rect">
                    <a:avLst/>
                  </a:prstGeom>
                  <a:solidFill>
                    <a:srgbClr val="ffec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1265400" y="1762920"/>
                    <a:ext cx="3240" cy="3009240"/>
                  </a:xfrm>
                  <a:prstGeom prst="rect">
                    <a:avLst/>
                  </a:prstGeom>
                  <a:solidFill>
                    <a:srgbClr val="ffed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1269000" y="1762920"/>
                    <a:ext cx="3240" cy="3009240"/>
                  </a:xfrm>
                  <a:prstGeom prst="rect">
                    <a:avLst/>
                  </a:prstGeom>
                  <a:solidFill>
                    <a:srgbClr val="ffee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>
                    <a:off x="1272600" y="1762920"/>
                    <a:ext cx="2880" cy="3009240"/>
                  </a:xfrm>
                  <a:prstGeom prst="rect">
                    <a:avLst/>
                  </a:prstGeom>
                  <a:solidFill>
                    <a:srgbClr val="ffee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>
                    <a:off x="1275480" y="1762920"/>
                    <a:ext cx="4320" cy="3009240"/>
                  </a:xfrm>
                  <a:prstGeom prst="rect">
                    <a:avLst/>
                  </a:prstGeom>
                  <a:solidFill>
                    <a:srgbClr val="ffe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1279800" y="1762920"/>
                    <a:ext cx="3240" cy="3009240"/>
                  </a:xfrm>
                  <a:prstGeom prst="rect">
                    <a:avLst/>
                  </a:prstGeom>
                  <a:solidFill>
                    <a:srgbClr val="fff0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1283400" y="1762920"/>
                    <a:ext cx="3240" cy="3009240"/>
                  </a:xfrm>
                  <a:prstGeom prst="rect">
                    <a:avLst/>
                  </a:prstGeom>
                  <a:solidFill>
                    <a:srgbClr val="fff0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1287000" y="1762920"/>
                    <a:ext cx="252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1289880" y="1762920"/>
                    <a:ext cx="324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1293480" y="1762920"/>
                    <a:ext cx="3240" cy="3009240"/>
                  </a:xfrm>
                  <a:prstGeom prst="rect">
                    <a:avLst/>
                  </a:prstGeom>
                  <a:solidFill>
                    <a:srgbClr val="fff2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1297080" y="1762920"/>
                    <a:ext cx="3240" cy="3009240"/>
                  </a:xfrm>
                  <a:prstGeom prst="rect">
                    <a:avLst/>
                  </a:prstGeom>
                  <a:solidFill>
                    <a:srgbClr val="fff3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1300680" y="1762920"/>
                    <a:ext cx="3240" cy="3009240"/>
                  </a:xfrm>
                  <a:prstGeom prst="rect">
                    <a:avLst/>
                  </a:prstGeom>
                  <a:solidFill>
                    <a:srgbClr val="fff3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1304280" y="1762920"/>
                    <a:ext cx="3240" cy="3009240"/>
                  </a:xfrm>
                  <a:prstGeom prst="rect">
                    <a:avLst/>
                  </a:prstGeom>
                  <a:solidFill>
                    <a:srgbClr val="fff4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1307880" y="1762920"/>
                    <a:ext cx="3600" cy="3009240"/>
                  </a:xfrm>
                  <a:prstGeom prst="rect">
                    <a:avLst/>
                  </a:prstGeom>
                  <a:solidFill>
                    <a:srgbClr val="fff4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>
                    <a:off x="1311480" y="1762920"/>
                    <a:ext cx="2520" cy="3009240"/>
                  </a:xfrm>
                  <a:prstGeom prst="rect">
                    <a:avLst/>
                  </a:prstGeom>
                  <a:solidFill>
                    <a:srgbClr val="fff5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1314360" y="1762920"/>
                    <a:ext cx="3240" cy="3009240"/>
                  </a:xfrm>
                  <a:prstGeom prst="rect">
                    <a:avLst/>
                  </a:prstGeom>
                  <a:solidFill>
                    <a:srgbClr val="fff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1317960" y="1762920"/>
                    <a:ext cx="3240" cy="3009240"/>
                  </a:xfrm>
                  <a:prstGeom prst="rect">
                    <a:avLst/>
                  </a:prstGeom>
                  <a:solidFill>
                    <a:srgbClr val="fff6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>
                    <a:off x="1321560" y="1762920"/>
                    <a:ext cx="4320" cy="3009240"/>
                  </a:xfrm>
                  <a:prstGeom prst="rect">
                    <a:avLst/>
                  </a:prstGeom>
                  <a:solidFill>
                    <a:srgbClr val="fff6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>
                    <a:off x="1325880" y="1762920"/>
                    <a:ext cx="252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>
                    <a:off x="1328760" y="1762920"/>
                    <a:ext cx="324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1332000" y="1762920"/>
                    <a:ext cx="324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1335600" y="1762920"/>
                    <a:ext cx="360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1339560" y="1762920"/>
                    <a:ext cx="2520" cy="3009240"/>
                  </a:xfrm>
                  <a:prstGeom prst="rect">
                    <a:avLst/>
                  </a:prstGeom>
                  <a:solidFill>
                    <a:srgbClr val="fff8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1342440" y="1762920"/>
                    <a:ext cx="432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9" name=""/>
                  <p:cNvSpPr/>
                  <p:nvPr/>
                </p:nvSpPr>
                <p:spPr>
                  <a:xfrm>
                    <a:off x="1346760" y="1762920"/>
                    <a:ext cx="324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>
                    <a:off x="1350360" y="1762920"/>
                    <a:ext cx="3240" cy="3009240"/>
                  </a:xfrm>
                  <a:prstGeom prst="rect">
                    <a:avLst/>
                  </a:prstGeom>
                  <a:solidFill>
                    <a:srgbClr val="fff9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>
                    <a:off x="1353960" y="1762920"/>
                    <a:ext cx="252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1356480" y="1762920"/>
                    <a:ext cx="324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>
                    <a:off x="1360080" y="1762920"/>
                    <a:ext cx="3240" cy="3009240"/>
                  </a:xfrm>
                  <a:prstGeom prst="rect">
                    <a:avLst/>
                  </a:prstGeom>
                  <a:solidFill>
                    <a:srgbClr val="fffa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1363680" y="1762920"/>
                    <a:ext cx="288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1366560" y="1762920"/>
                    <a:ext cx="432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6" name=""/>
                  <p:cNvSpPr/>
                  <p:nvPr/>
                </p:nvSpPr>
                <p:spPr>
                  <a:xfrm>
                    <a:off x="1371240" y="1762920"/>
                    <a:ext cx="324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7" name=""/>
                  <p:cNvSpPr/>
                  <p:nvPr/>
                </p:nvSpPr>
                <p:spPr>
                  <a:xfrm>
                    <a:off x="1374840" y="176292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8" name=""/>
                  <p:cNvSpPr/>
                  <p:nvPr/>
                </p:nvSpPr>
                <p:spPr>
                  <a:xfrm>
                    <a:off x="1378440" y="1762920"/>
                    <a:ext cx="252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9" name=""/>
                  <p:cNvSpPr/>
                  <p:nvPr/>
                </p:nvSpPr>
                <p:spPr>
                  <a:xfrm>
                    <a:off x="1380960" y="176292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1384560" y="176292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1388160" y="1762920"/>
                    <a:ext cx="43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1392480" y="1762920"/>
                    <a:ext cx="25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1395360" y="1762920"/>
                    <a:ext cx="360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4" name=""/>
                  <p:cNvSpPr/>
                  <p:nvPr/>
                </p:nvSpPr>
                <p:spPr>
                  <a:xfrm>
                    <a:off x="1398960" y="176292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5" name=""/>
                  <p:cNvSpPr/>
                  <p:nvPr/>
                </p:nvSpPr>
                <p:spPr>
                  <a:xfrm>
                    <a:off x="1402560" y="1762920"/>
                    <a:ext cx="25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6" name=""/>
                  <p:cNvSpPr/>
                  <p:nvPr/>
                </p:nvSpPr>
                <p:spPr>
                  <a:xfrm>
                    <a:off x="1405440" y="1762920"/>
                    <a:ext cx="3240" cy="3009240"/>
                  </a:xfrm>
                  <a:prstGeom prst="rect">
                    <a:avLst/>
                  </a:prstGeom>
                  <a:solidFill>
                    <a:srgbClr val="fffd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1409040" y="1762920"/>
                    <a:ext cx="43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1413360" y="176292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>
                    <a:off x="1416960" y="1762920"/>
                    <a:ext cx="25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>
                    <a:off x="1419840" y="176292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1" name=""/>
                  <p:cNvSpPr/>
                  <p:nvPr/>
                </p:nvSpPr>
                <p:spPr>
                  <a:xfrm>
                    <a:off x="1423440" y="1762920"/>
                    <a:ext cx="360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2" name=""/>
                  <p:cNvSpPr/>
                  <p:nvPr/>
                </p:nvSpPr>
                <p:spPr>
                  <a:xfrm>
                    <a:off x="1427040" y="1762920"/>
                    <a:ext cx="25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3" name=""/>
                  <p:cNvSpPr/>
                  <p:nvPr/>
                </p:nvSpPr>
                <p:spPr>
                  <a:xfrm>
                    <a:off x="1429920" y="1762920"/>
                    <a:ext cx="4320" cy="300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4" name=""/>
                  <p:cNvSpPr/>
                  <p:nvPr/>
                </p:nvSpPr>
                <p:spPr>
                  <a:xfrm>
                    <a:off x="1434240" y="1762920"/>
                    <a:ext cx="3240" cy="3009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1437840" y="176292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1441440" y="1762920"/>
                    <a:ext cx="252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7" name=""/>
                  <p:cNvSpPr/>
                  <p:nvPr/>
                </p:nvSpPr>
                <p:spPr>
                  <a:xfrm>
                    <a:off x="1444320" y="176292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>
                    <a:off x="1447920" y="176292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9" name=""/>
                  <p:cNvSpPr/>
                  <p:nvPr/>
                </p:nvSpPr>
                <p:spPr>
                  <a:xfrm>
                    <a:off x="1451520" y="1762920"/>
                    <a:ext cx="324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0" name=""/>
                  <p:cNvSpPr/>
                  <p:nvPr/>
                </p:nvSpPr>
                <p:spPr>
                  <a:xfrm>
                    <a:off x="1455120" y="1762920"/>
                    <a:ext cx="3600" cy="3009240"/>
                  </a:xfrm>
                  <a:prstGeom prst="rect">
                    <a:avLst/>
                  </a:prstGeom>
                  <a:solidFill>
                    <a:srgbClr val="ff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1" name=""/>
                  <p:cNvSpPr/>
                  <p:nvPr/>
                </p:nvSpPr>
                <p:spPr>
                  <a:xfrm>
                    <a:off x="1458720" y="1762920"/>
                    <a:ext cx="3240" cy="3009240"/>
                  </a:xfrm>
                  <a:prstGeom prst="rect">
                    <a:avLst/>
                  </a:prstGeom>
                  <a:solidFill>
                    <a:srgbClr val="fffd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1462320" y="176292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1465920" y="176292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4" name=""/>
                  <p:cNvSpPr/>
                  <p:nvPr/>
                </p:nvSpPr>
                <p:spPr>
                  <a:xfrm>
                    <a:off x="1469520" y="1762920"/>
                    <a:ext cx="25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1472400" y="1762920"/>
                    <a:ext cx="324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6" name=""/>
                  <p:cNvSpPr/>
                  <p:nvPr/>
                </p:nvSpPr>
                <p:spPr>
                  <a:xfrm>
                    <a:off x="1476000" y="1762920"/>
                    <a:ext cx="4320" cy="3009240"/>
                  </a:xfrm>
                  <a:prstGeom prst="rect">
                    <a:avLst/>
                  </a:prstGeom>
                  <a:solidFill>
                    <a:srgbClr val="ff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7" name=""/>
                  <p:cNvSpPr/>
                  <p:nvPr/>
                </p:nvSpPr>
                <p:spPr>
                  <a:xfrm>
                    <a:off x="1480320" y="1762920"/>
                    <a:ext cx="252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8" name=""/>
                  <p:cNvSpPr/>
                  <p:nvPr/>
                </p:nvSpPr>
                <p:spPr>
                  <a:xfrm>
                    <a:off x="1482840" y="1762920"/>
                    <a:ext cx="360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1486800" y="176292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1490400" y="1762920"/>
                    <a:ext cx="3240" cy="3009240"/>
                  </a:xfrm>
                  <a:prstGeom prst="rect">
                    <a:avLst/>
                  </a:prstGeom>
                  <a:solidFill>
                    <a:srgbClr val="fffc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1" name=""/>
                  <p:cNvSpPr/>
                  <p:nvPr/>
                </p:nvSpPr>
                <p:spPr>
                  <a:xfrm>
                    <a:off x="1494000" y="1762920"/>
                    <a:ext cx="252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2" name=""/>
                  <p:cNvSpPr/>
                  <p:nvPr/>
                </p:nvSpPr>
                <p:spPr>
                  <a:xfrm>
                    <a:off x="1496520" y="1762920"/>
                    <a:ext cx="432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3" name=""/>
                  <p:cNvSpPr/>
                  <p:nvPr/>
                </p:nvSpPr>
                <p:spPr>
                  <a:xfrm>
                    <a:off x="1501200" y="1762920"/>
                    <a:ext cx="3240" cy="3009240"/>
                  </a:xfrm>
                  <a:prstGeom prst="rect">
                    <a:avLst/>
                  </a:prstGeom>
                  <a:solidFill>
                    <a:srgbClr val="fffb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4" name=""/>
                  <p:cNvSpPr/>
                  <p:nvPr/>
                </p:nvSpPr>
                <p:spPr>
                  <a:xfrm>
                    <a:off x="1504800" y="1762920"/>
                    <a:ext cx="3240" cy="3009240"/>
                  </a:xfrm>
                  <a:prstGeom prst="rect">
                    <a:avLst/>
                  </a:prstGeom>
                  <a:solidFill>
                    <a:srgbClr val="fffa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5" name=""/>
                  <p:cNvSpPr/>
                  <p:nvPr/>
                </p:nvSpPr>
                <p:spPr>
                  <a:xfrm>
                    <a:off x="1508400" y="1762920"/>
                    <a:ext cx="252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1510920" y="1762920"/>
                    <a:ext cx="3240" cy="3009240"/>
                  </a:xfrm>
                  <a:prstGeom prst="rect">
                    <a:avLst/>
                  </a:prstGeom>
                  <a:solidFill>
                    <a:srgbClr val="fffa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1514520" y="1762920"/>
                    <a:ext cx="3600" cy="3009240"/>
                  </a:xfrm>
                  <a:prstGeom prst="rect">
                    <a:avLst/>
                  </a:prstGeom>
                  <a:solidFill>
                    <a:srgbClr val="fff9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8" name=""/>
                  <p:cNvSpPr/>
                  <p:nvPr/>
                </p:nvSpPr>
                <p:spPr>
                  <a:xfrm>
                    <a:off x="1518480" y="1762920"/>
                    <a:ext cx="252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9" name=""/>
                  <p:cNvSpPr/>
                  <p:nvPr/>
                </p:nvSpPr>
                <p:spPr>
                  <a:xfrm>
                    <a:off x="1521000" y="1762920"/>
                    <a:ext cx="4320" cy="3009240"/>
                  </a:xfrm>
                  <a:prstGeom prst="rect">
                    <a:avLst/>
                  </a:prstGeom>
                  <a:solidFill>
                    <a:srgbClr val="fff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0" name=""/>
                  <p:cNvSpPr/>
                  <p:nvPr/>
                </p:nvSpPr>
                <p:spPr>
                  <a:xfrm>
                    <a:off x="1525680" y="1762920"/>
                    <a:ext cx="3240" cy="3009240"/>
                  </a:xfrm>
                  <a:prstGeom prst="rect">
                    <a:avLst/>
                  </a:prstGeom>
                  <a:solidFill>
                    <a:srgbClr val="fff8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1" name=""/>
                  <p:cNvSpPr/>
                  <p:nvPr/>
                </p:nvSpPr>
                <p:spPr>
                  <a:xfrm>
                    <a:off x="1529280" y="1762920"/>
                    <a:ext cx="324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2" name=""/>
                  <p:cNvSpPr/>
                  <p:nvPr/>
                </p:nvSpPr>
                <p:spPr>
                  <a:xfrm>
                    <a:off x="1532520" y="1762920"/>
                    <a:ext cx="2520" cy="3009240"/>
                  </a:xfrm>
                  <a:prstGeom prst="rect">
                    <a:avLst/>
                  </a:prstGeom>
                  <a:solidFill>
                    <a:srgbClr val="fff8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1535400" y="1762920"/>
                    <a:ext cx="324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1539000" y="1762920"/>
                    <a:ext cx="3240" cy="3009240"/>
                  </a:xfrm>
                  <a:prstGeom prst="rect">
                    <a:avLst/>
                  </a:prstGeom>
                  <a:solidFill>
                    <a:srgbClr val="fff7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5" name=""/>
                  <p:cNvSpPr/>
                  <p:nvPr/>
                </p:nvSpPr>
                <p:spPr>
                  <a:xfrm>
                    <a:off x="1542600" y="1762920"/>
                    <a:ext cx="4320" cy="3009240"/>
                  </a:xfrm>
                  <a:prstGeom prst="rect">
                    <a:avLst/>
                  </a:prstGeom>
                  <a:solidFill>
                    <a:srgbClr val="fff6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1546920" y="1762920"/>
                    <a:ext cx="2880" cy="3009240"/>
                  </a:xfrm>
                  <a:prstGeom prst="rect">
                    <a:avLst/>
                  </a:prstGeom>
                  <a:solidFill>
                    <a:srgbClr val="fff6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>
                    <a:off x="1549800" y="1762920"/>
                    <a:ext cx="3240" cy="3009240"/>
                  </a:xfrm>
                  <a:prstGeom prst="rect">
                    <a:avLst/>
                  </a:prstGeom>
                  <a:solidFill>
                    <a:srgbClr val="fff5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1553400" y="1762920"/>
                    <a:ext cx="3240" cy="3009240"/>
                  </a:xfrm>
                  <a:prstGeom prst="rect">
                    <a:avLst/>
                  </a:prstGeom>
                  <a:solidFill>
                    <a:srgbClr val="fff5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1557000" y="1762920"/>
                    <a:ext cx="2520" cy="3009240"/>
                  </a:xfrm>
                  <a:prstGeom prst="rect">
                    <a:avLst/>
                  </a:prstGeom>
                  <a:solidFill>
                    <a:srgbClr val="fff4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1559880" y="1762920"/>
                    <a:ext cx="3240" cy="3009240"/>
                  </a:xfrm>
                  <a:prstGeom prst="rect">
                    <a:avLst/>
                  </a:prstGeom>
                  <a:solidFill>
                    <a:srgbClr val="fff4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1563480" y="1762920"/>
                    <a:ext cx="4320" cy="3009240"/>
                  </a:xfrm>
                  <a:prstGeom prst="rect">
                    <a:avLst/>
                  </a:prstGeom>
                  <a:solidFill>
                    <a:srgbClr val="fff3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>
                    <a:off x="1567800" y="1762920"/>
                    <a:ext cx="3240" cy="3009240"/>
                  </a:xfrm>
                  <a:prstGeom prst="rect">
                    <a:avLst/>
                  </a:prstGeom>
                  <a:solidFill>
                    <a:srgbClr val="fff3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>
                    <a:off x="1571400" y="1762920"/>
                    <a:ext cx="2520" cy="3009240"/>
                  </a:xfrm>
                  <a:prstGeom prst="rect">
                    <a:avLst/>
                  </a:prstGeom>
                  <a:solidFill>
                    <a:srgbClr val="fff2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>
                    <a:off x="1574280" y="1762920"/>
                    <a:ext cx="360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>
                    <a:off x="1577880" y="1762920"/>
                    <a:ext cx="3240" cy="3009240"/>
                  </a:xfrm>
                  <a:prstGeom prst="rect">
                    <a:avLst/>
                  </a:prstGeom>
                  <a:solidFill>
                    <a:srgbClr val="fff1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>
                    <a:off x="1581480" y="1762920"/>
                    <a:ext cx="2520" cy="3009240"/>
                  </a:xfrm>
                  <a:prstGeom prst="rect">
                    <a:avLst/>
                  </a:prstGeom>
                  <a:solidFill>
                    <a:srgbClr val="fff0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1584360" y="1762920"/>
                    <a:ext cx="4320" cy="3009240"/>
                  </a:xfrm>
                  <a:prstGeom prst="rect">
                    <a:avLst/>
                  </a:prstGeom>
                  <a:solidFill>
                    <a:srgbClr val="fff0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1588680" y="1762920"/>
                    <a:ext cx="3240" cy="3009240"/>
                  </a:xfrm>
                  <a:prstGeom prst="rect">
                    <a:avLst/>
                  </a:prstGeom>
                  <a:solidFill>
                    <a:srgbClr val="ffef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1592280" y="1762920"/>
                    <a:ext cx="3240" cy="3009240"/>
                  </a:xfrm>
                  <a:prstGeom prst="rect">
                    <a:avLst/>
                  </a:prstGeom>
                  <a:solidFill>
                    <a:srgbClr val="ffee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90" name=""/>
                <p:cNvSpPr/>
                <p:nvPr/>
              </p:nvSpPr>
              <p:spPr>
                <a:xfrm>
                  <a:off x="1595880" y="1762920"/>
                  <a:ext cx="2520" cy="3009600"/>
                </a:xfrm>
                <a:prstGeom prst="rect">
                  <a:avLst/>
                </a:prstGeom>
                <a:solidFill>
                  <a:srgbClr val="ffee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1598400" y="1762920"/>
                  <a:ext cx="3240" cy="3009600"/>
                </a:xfrm>
                <a:prstGeom prst="rect">
                  <a:avLst/>
                </a:prstGeom>
                <a:solidFill>
                  <a:srgbClr val="ffed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1602000" y="1762920"/>
                  <a:ext cx="3600" cy="3009600"/>
                </a:xfrm>
                <a:prstGeom prst="rect">
                  <a:avLst/>
                </a:prstGeom>
                <a:solidFill>
                  <a:srgbClr val="ffec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1605960" y="1762920"/>
                  <a:ext cx="3240" cy="300960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1609560" y="1762920"/>
                  <a:ext cx="3240" cy="3009600"/>
                </a:xfrm>
                <a:prstGeom prst="rect">
                  <a:avLst/>
                </a:prstGeom>
                <a:solidFill>
                  <a:srgbClr val="ffe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1613160" y="1762920"/>
                  <a:ext cx="3240" cy="3009600"/>
                </a:xfrm>
                <a:prstGeom prst="rect">
                  <a:avLst/>
                </a:prstGeom>
                <a:solidFill>
                  <a:srgbClr val="ffea8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1616760" y="1762920"/>
                  <a:ext cx="3240" cy="3009600"/>
                </a:xfrm>
                <a:prstGeom prst="rect">
                  <a:avLst/>
                </a:prstGeom>
                <a:solidFill>
                  <a:srgbClr val="ffe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1620360" y="1762920"/>
                  <a:ext cx="3240" cy="3009600"/>
                </a:xfrm>
                <a:prstGeom prst="rect">
                  <a:avLst/>
                </a:prstGeom>
                <a:solidFill>
                  <a:srgbClr val="ffe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1623600" y="1762920"/>
                  <a:ext cx="2520" cy="3009600"/>
                </a:xfrm>
                <a:prstGeom prst="rect">
                  <a:avLst/>
                </a:prstGeom>
                <a:solidFill>
                  <a:srgbClr val="ffe8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1626480" y="1762920"/>
                  <a:ext cx="3240" cy="3009600"/>
                </a:xfrm>
                <a:prstGeom prst="rect">
                  <a:avLst/>
                </a:prstGeom>
                <a:solidFill>
                  <a:srgbClr val="ffe7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1630080" y="1762920"/>
                  <a:ext cx="4320" cy="3009600"/>
                </a:xfrm>
                <a:prstGeom prst="rect">
                  <a:avLst/>
                </a:prstGeom>
                <a:solidFill>
                  <a:srgbClr val="ffe6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1634400" y="1762920"/>
                  <a:ext cx="2880" cy="3009600"/>
                </a:xfrm>
                <a:prstGeom prst="rect">
                  <a:avLst/>
                </a:prstGeom>
                <a:solidFill>
                  <a:srgbClr val="ffe5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1637280" y="1762920"/>
                  <a:ext cx="3240" cy="3009600"/>
                </a:xfrm>
                <a:prstGeom prst="rect">
                  <a:avLst/>
                </a:prstGeom>
                <a:solidFill>
                  <a:srgbClr val="ffe4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1640880" y="1762920"/>
                  <a:ext cx="3240" cy="3009600"/>
                </a:xfrm>
                <a:prstGeom prst="rect">
                  <a:avLst/>
                </a:prstGeom>
                <a:solidFill>
                  <a:srgbClr val="ffe4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1644480" y="1762920"/>
                  <a:ext cx="3240" cy="3009600"/>
                </a:xfrm>
                <a:prstGeom prst="rect">
                  <a:avLst/>
                </a:prstGeom>
                <a:solidFill>
                  <a:srgbClr val="ffe2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1648080" y="1762920"/>
                  <a:ext cx="2520" cy="3009600"/>
                </a:xfrm>
                <a:prstGeom prst="rect">
                  <a:avLst/>
                </a:prstGeom>
                <a:solidFill>
                  <a:srgbClr val="ffe1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1650960" y="1762920"/>
                  <a:ext cx="4320" cy="3009600"/>
                </a:xfrm>
                <a:prstGeom prst="rect">
                  <a:avLst/>
                </a:prstGeom>
                <a:solidFill>
                  <a:srgbClr val="ffe17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1655280" y="1762920"/>
                  <a:ext cx="3240" cy="3009600"/>
                </a:xfrm>
                <a:prstGeom prst="rect">
                  <a:avLst/>
                </a:prstGeom>
                <a:solidFill>
                  <a:srgbClr val="ffe0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1658880" y="1762920"/>
                  <a:ext cx="3240" cy="3009600"/>
                </a:xfrm>
                <a:prstGeom prst="rect">
                  <a:avLst/>
                </a:prstGeom>
                <a:solidFill>
                  <a:srgbClr val="ffde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1662480" y="1762920"/>
                  <a:ext cx="2880" cy="3009600"/>
                </a:xfrm>
                <a:prstGeom prst="rect">
                  <a:avLst/>
                </a:prstGeom>
                <a:solidFill>
                  <a:srgbClr val="ffde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1665360" y="1762920"/>
                  <a:ext cx="3240" cy="3009600"/>
                </a:xfrm>
                <a:prstGeom prst="rect">
                  <a:avLst/>
                </a:prstGeom>
                <a:solidFill>
                  <a:srgbClr val="ffdd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>
                  <a:off x="1668960" y="1762920"/>
                  <a:ext cx="3240" cy="3009600"/>
                </a:xfrm>
                <a:prstGeom prst="rect">
                  <a:avLst/>
                </a:prstGeom>
                <a:solidFill>
                  <a:srgbClr val="ffdc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1672560" y="1762920"/>
                  <a:ext cx="2520" cy="3009600"/>
                </a:xfrm>
                <a:prstGeom prst="rect">
                  <a:avLst/>
                </a:prstGeom>
                <a:solidFill>
                  <a:srgbClr val="ffdb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1675440" y="1762920"/>
                  <a:ext cx="4320" cy="3009600"/>
                </a:xfrm>
                <a:prstGeom prst="rect">
                  <a:avLst/>
                </a:prstGeom>
                <a:solidFill>
                  <a:srgbClr val="ffda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1679760" y="1762920"/>
                  <a:ext cx="3240" cy="3009600"/>
                </a:xfrm>
                <a:prstGeom prst="rect">
                  <a:avLst/>
                </a:prstGeom>
                <a:solidFill>
                  <a:srgbClr val="ffd8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1683360" y="1762920"/>
                  <a:ext cx="3240" cy="3009600"/>
                </a:xfrm>
                <a:prstGeom prst="rect">
                  <a:avLst/>
                </a:prstGeom>
                <a:solidFill>
                  <a:srgbClr val="ffd87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>
                  <a:off x="1686960" y="1762920"/>
                  <a:ext cx="2520" cy="3009600"/>
                </a:xfrm>
                <a:prstGeom prst="rect">
                  <a:avLst/>
                </a:prstGeom>
                <a:solidFill>
                  <a:srgbClr val="ffd77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1689840" y="1762920"/>
                  <a:ext cx="3600" cy="3009600"/>
                </a:xfrm>
                <a:prstGeom prst="rect">
                  <a:avLst/>
                </a:prstGeom>
                <a:solidFill>
                  <a:srgbClr val="ffd5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1693440" y="1762920"/>
                  <a:ext cx="3240" cy="3009600"/>
                </a:xfrm>
                <a:prstGeom prst="rect">
                  <a:avLst/>
                </a:prstGeom>
                <a:solidFill>
                  <a:srgbClr val="ffd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>
                  <a:off x="1697040" y="1762920"/>
                  <a:ext cx="3960" cy="3009600"/>
                </a:xfrm>
                <a:prstGeom prst="rect">
                  <a:avLst/>
                </a:prstGeom>
                <a:solidFill>
                  <a:srgbClr val="ffd3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>
                  <a:off x="1701360" y="1762920"/>
                  <a:ext cx="2880" cy="3009600"/>
                </a:xfrm>
                <a:prstGeom prst="rect">
                  <a:avLst/>
                </a:prstGeom>
                <a:solidFill>
                  <a:srgbClr val="ffd2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>
                  <a:off x="1704240" y="1762920"/>
                  <a:ext cx="3240" cy="3009600"/>
                </a:xfrm>
                <a:prstGeom prst="rect">
                  <a:avLst/>
                </a:prstGeom>
                <a:solidFill>
                  <a:srgbClr val="ffd1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1707840" y="1762920"/>
                  <a:ext cx="3240" cy="3009600"/>
                </a:xfrm>
                <a:prstGeom prst="rect">
                  <a:avLst/>
                </a:prstGeom>
                <a:solidFill>
                  <a:srgbClr val="ffd0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1711440" y="1762920"/>
                  <a:ext cx="2520" cy="3009600"/>
                </a:xfrm>
                <a:prstGeom prst="rect">
                  <a:avLst/>
                </a:prstGeom>
                <a:solidFill>
                  <a:srgbClr val="ffcf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1714320" y="1762920"/>
                  <a:ext cx="3240" cy="3009600"/>
                </a:xfrm>
                <a:prstGeom prst="rect">
                  <a:avLst/>
                </a:prstGeom>
                <a:solidFill>
                  <a:srgbClr val="ffce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1717920" y="1762920"/>
                  <a:ext cx="4320" cy="3009600"/>
                </a:xfrm>
                <a:prstGeom prst="rect">
                  <a:avLst/>
                </a:prstGeom>
                <a:solidFill>
                  <a:srgbClr val="ffcd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1722240" y="1762920"/>
                  <a:ext cx="3240" cy="3009600"/>
                </a:xfrm>
                <a:prstGeom prst="rect">
                  <a:avLst/>
                </a:prstGeom>
                <a:solidFill>
                  <a:srgbClr val="ffcc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>
                  <a:off x="1725840" y="1762920"/>
                  <a:ext cx="2880" cy="3009600"/>
                </a:xfrm>
                <a:prstGeom prst="rect">
                  <a:avLst/>
                </a:prstGeom>
                <a:solidFill>
                  <a:srgbClr val="ffcb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>
                  <a:off x="1728720" y="1762920"/>
                  <a:ext cx="3240" cy="3009600"/>
                </a:xfrm>
                <a:prstGeom prst="rect">
                  <a:avLst/>
                </a:prstGeom>
                <a:solidFill>
                  <a:srgbClr val="ffca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>
                  <a:off x="1732320" y="1762920"/>
                  <a:ext cx="3240" cy="3009600"/>
                </a:xfrm>
                <a:prstGeom prst="rect">
                  <a:avLst/>
                </a:prstGeom>
                <a:solidFill>
                  <a:srgbClr val="ffc86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>
                  <a:off x="1735920" y="1762920"/>
                  <a:ext cx="2520" cy="3009600"/>
                </a:xfrm>
                <a:prstGeom prst="rect">
                  <a:avLst/>
                </a:prstGeom>
                <a:solidFill>
                  <a:srgbClr val="ffc8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>
                  <a:off x="1738440" y="1762920"/>
                  <a:ext cx="4320" cy="3009600"/>
                </a:xfrm>
                <a:prstGeom prst="rect">
                  <a:avLst/>
                </a:prstGeom>
                <a:solidFill>
                  <a:srgbClr val="ffc6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1743120" y="1762920"/>
                  <a:ext cx="3240" cy="3009600"/>
                </a:xfrm>
                <a:prstGeom prst="rect">
                  <a:avLst/>
                </a:prstGeom>
                <a:solidFill>
                  <a:srgbClr val="ffc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1746720" y="1762920"/>
                  <a:ext cx="3240" cy="3009600"/>
                </a:xfrm>
                <a:prstGeom prst="rect">
                  <a:avLst/>
                </a:prstGeom>
                <a:solidFill>
                  <a:srgbClr val="ffc45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1750320" y="1762920"/>
                  <a:ext cx="2880" cy="3009600"/>
                </a:xfrm>
                <a:prstGeom prst="rect">
                  <a:avLst/>
                </a:prstGeom>
                <a:solidFill>
                  <a:srgbClr val="ffc3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1753200" y="1762920"/>
                  <a:ext cx="3240" cy="3009600"/>
                </a:xfrm>
                <a:prstGeom prst="rect">
                  <a:avLst/>
                </a:prstGeom>
                <a:solidFill>
                  <a:srgbClr val="ffc2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1756800" y="1762920"/>
                  <a:ext cx="3240" cy="3009600"/>
                </a:xfrm>
                <a:prstGeom prst="rect">
                  <a:avLst/>
                </a:prstGeom>
                <a:solidFill>
                  <a:srgbClr val="ffc1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1760400" y="1762920"/>
                  <a:ext cx="3240" cy="3009600"/>
                </a:xfrm>
                <a:prstGeom prst="rect">
                  <a:avLst/>
                </a:prstGeom>
                <a:solidFill>
                  <a:srgbClr val="ffc0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>
                  <a:off x="1764000" y="1762920"/>
                  <a:ext cx="3240" cy="3009600"/>
                </a:xfrm>
                <a:prstGeom prst="rect">
                  <a:avLst/>
                </a:prstGeom>
                <a:solidFill>
                  <a:srgbClr val="ffbe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767600" y="1762920"/>
                  <a:ext cx="3240" cy="3009600"/>
                </a:xfrm>
                <a:prstGeom prst="rect">
                  <a:avLst/>
                </a:prstGeom>
                <a:solidFill>
                  <a:srgbClr val="ffbe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1770840" y="1762920"/>
                  <a:ext cx="3240" cy="3009600"/>
                </a:xfrm>
                <a:prstGeom prst="rect">
                  <a:avLst/>
                </a:prstGeom>
                <a:solidFill>
                  <a:srgbClr val="ffbc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1774440" y="1762920"/>
                  <a:ext cx="3240" cy="3009600"/>
                </a:xfrm>
                <a:prstGeom prst="rect">
                  <a:avLst/>
                </a:prstGeom>
                <a:solidFill>
                  <a:srgbClr val="ffbb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1778040" y="1762920"/>
                  <a:ext cx="2520" cy="3009600"/>
                </a:xfrm>
                <a:prstGeom prst="rect">
                  <a:avLst/>
                </a:prstGeom>
                <a:solidFill>
                  <a:srgbClr val="ffbb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1780920" y="1762920"/>
                  <a:ext cx="3600" cy="3009600"/>
                </a:xfrm>
                <a:prstGeom prst="rect">
                  <a:avLst/>
                </a:prstGeom>
                <a:solidFill>
                  <a:srgbClr val="ffb9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1784520" y="1762920"/>
                  <a:ext cx="3960" cy="3009600"/>
                </a:xfrm>
                <a:prstGeom prst="rect">
                  <a:avLst/>
                </a:prstGeom>
                <a:solidFill>
                  <a:srgbClr val="ffb8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1788840" y="1762920"/>
                  <a:ext cx="3240" cy="3009600"/>
                </a:xfrm>
                <a:prstGeom prst="rect">
                  <a:avLst/>
                </a:prstGeom>
                <a:solidFill>
                  <a:srgbClr val="ffb8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1792440" y="1762920"/>
                  <a:ext cx="2880" cy="3009600"/>
                </a:xfrm>
                <a:prstGeom prst="rect">
                  <a:avLst/>
                </a:prstGeom>
                <a:solidFill>
                  <a:srgbClr val="ffb6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1795320" y="1762920"/>
                  <a:ext cx="3240" cy="3009600"/>
                </a:xfrm>
                <a:prstGeom prst="rect">
                  <a:avLst/>
                </a:prstGeom>
                <a:solidFill>
                  <a:srgbClr val="ffb5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1798920" y="1762920"/>
                  <a:ext cx="3240" cy="3009600"/>
                </a:xfrm>
                <a:prstGeom prst="rect">
                  <a:avLst/>
                </a:prstGeom>
                <a:solidFill>
                  <a:srgbClr val="ffb5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1802520" y="1762920"/>
                  <a:ext cx="2520" cy="3009600"/>
                </a:xfrm>
                <a:prstGeom prst="rect">
                  <a:avLst/>
                </a:prstGeom>
                <a:solidFill>
                  <a:srgbClr val="ffb3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1805400" y="1762920"/>
                  <a:ext cx="4320" cy="3009600"/>
                </a:xfrm>
                <a:prstGeom prst="rect">
                  <a:avLst/>
                </a:prstGeom>
                <a:solidFill>
                  <a:srgbClr val="ffb2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1809720" y="1762920"/>
                  <a:ext cx="3240" cy="3009600"/>
                </a:xfrm>
                <a:prstGeom prst="rect">
                  <a:avLst/>
                </a:prstGeom>
                <a:solidFill>
                  <a:srgbClr val="ffb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>
                  <a:off x="1813320" y="1762920"/>
                  <a:ext cx="3240" cy="3009600"/>
                </a:xfrm>
                <a:prstGeom prst="rect">
                  <a:avLst/>
                </a:prstGeom>
                <a:solidFill>
                  <a:srgbClr val="ffb1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1816920" y="1762920"/>
                  <a:ext cx="2880" cy="3009600"/>
                </a:xfrm>
                <a:prstGeom prst="rect">
                  <a:avLst/>
                </a:prstGeom>
                <a:solidFill>
                  <a:srgbClr val="ffb0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1819800" y="1762920"/>
                  <a:ext cx="3240" cy="3009600"/>
                </a:xfrm>
                <a:prstGeom prst="rect">
                  <a:avLst/>
                </a:prstGeom>
                <a:solidFill>
                  <a:srgbClr val="ffa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>
                  <a:off x="1823400" y="1762920"/>
                  <a:ext cx="3240" cy="3009600"/>
                </a:xfrm>
                <a:prstGeom prst="rect">
                  <a:avLst/>
                </a:prstGeom>
                <a:solidFill>
                  <a:srgbClr val="ffae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1827000" y="1762920"/>
                  <a:ext cx="2520" cy="3009600"/>
                </a:xfrm>
                <a:prstGeom prst="rect">
                  <a:avLst/>
                </a:prstGeom>
                <a:solidFill>
                  <a:srgbClr val="ffad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1829880" y="1762920"/>
                  <a:ext cx="4320" cy="3009600"/>
                </a:xfrm>
                <a:prstGeom prst="rect">
                  <a:avLst/>
                </a:prstGeom>
                <a:solidFill>
                  <a:srgbClr val="ffac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1834200" y="1762920"/>
                  <a:ext cx="3240" cy="3009600"/>
                </a:xfrm>
                <a:prstGeom prst="rect">
                  <a:avLst/>
                </a:prstGeom>
                <a:solidFill>
                  <a:srgbClr val="ffab3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1837800" y="1762920"/>
                  <a:ext cx="3240" cy="3009600"/>
                </a:xfrm>
                <a:prstGeom prst="rect">
                  <a:avLst/>
                </a:prstGeom>
                <a:solidFill>
                  <a:srgbClr val="ffaa3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1841400" y="1762920"/>
                  <a:ext cx="2880" cy="3009600"/>
                </a:xfrm>
                <a:prstGeom prst="rect">
                  <a:avLst/>
                </a:prstGeom>
                <a:solidFill>
                  <a:srgbClr val="ffa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1844280" y="1762920"/>
                  <a:ext cx="3240" cy="3009600"/>
                </a:xfrm>
                <a:prstGeom prst="rect">
                  <a:avLst/>
                </a:prstGeom>
                <a:solidFill>
                  <a:srgbClr val="ffa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847880" y="1762920"/>
                  <a:ext cx="3240" cy="3009600"/>
                </a:xfrm>
                <a:prstGeom prst="rect">
                  <a:avLst/>
                </a:prstGeom>
                <a:solidFill>
                  <a:srgbClr val="ffa9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1851480" y="1762920"/>
                  <a:ext cx="3960" cy="3009600"/>
                </a:xfrm>
                <a:prstGeom prst="rect">
                  <a:avLst/>
                </a:prstGeom>
                <a:solidFill>
                  <a:srgbClr val="ffa8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1855800" y="1762920"/>
                  <a:ext cx="2880" cy="3009600"/>
                </a:xfrm>
                <a:prstGeom prst="rect">
                  <a:avLst/>
                </a:prstGeom>
                <a:solidFill>
                  <a:srgbClr val="ffa7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1858680" y="1762920"/>
                  <a:ext cx="3240" cy="3009600"/>
                </a:xfrm>
                <a:prstGeom prst="rect">
                  <a:avLst/>
                </a:prstGeom>
                <a:solidFill>
                  <a:srgbClr val="ffa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1862280" y="1762920"/>
                  <a:ext cx="3240" cy="3009600"/>
                </a:xfrm>
                <a:prstGeom prst="rect">
                  <a:avLst/>
                </a:prstGeom>
                <a:solidFill>
                  <a:srgbClr val="ffa6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1865880" y="1762920"/>
                  <a:ext cx="2520" cy="3009600"/>
                </a:xfrm>
                <a:prstGeom prst="rect">
                  <a:avLst/>
                </a:prstGeom>
                <a:solidFill>
                  <a:srgbClr val="ffa5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1868400" y="1762920"/>
                  <a:ext cx="3600" cy="3009600"/>
                </a:xfrm>
                <a:prstGeom prst="rect">
                  <a:avLst/>
                </a:prstGeom>
                <a:solidFill>
                  <a:srgbClr val="ffa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1872360" y="1762920"/>
                  <a:ext cx="3960" cy="3009600"/>
                </a:xfrm>
                <a:prstGeom prst="rect">
                  <a:avLst/>
                </a:prstGeom>
                <a:solidFill>
                  <a:srgbClr val="ffa4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1876680" y="1762920"/>
                  <a:ext cx="3240" cy="3009600"/>
                </a:xfrm>
                <a:prstGeom prst="rect">
                  <a:avLst/>
                </a:prstGeom>
                <a:solidFill>
                  <a:srgbClr val="ffa3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1880280" y="1762920"/>
                  <a:ext cx="2880" cy="3009600"/>
                </a:xfrm>
                <a:prstGeom prst="rect">
                  <a:avLst/>
                </a:prstGeom>
                <a:solidFill>
                  <a:srgbClr val="ffa2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1883160" y="1762920"/>
                  <a:ext cx="3240" cy="3009600"/>
                </a:xfrm>
                <a:prstGeom prst="rect">
                  <a:avLst/>
                </a:prstGeom>
                <a:solidFill>
                  <a:srgbClr val="ffa2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1886760" y="1762920"/>
                  <a:ext cx="3240" cy="3009600"/>
                </a:xfrm>
                <a:prstGeom prst="rect">
                  <a:avLst/>
                </a:prstGeom>
                <a:solidFill>
                  <a:srgbClr val="ffa1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1890360" y="1762920"/>
                  <a:ext cx="3240" cy="3009600"/>
                </a:xfrm>
                <a:prstGeom prst="rect">
                  <a:avLst/>
                </a:prstGeom>
                <a:solidFill>
                  <a:srgbClr val="ffa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1893960" y="1762920"/>
                  <a:ext cx="3240" cy="3009600"/>
                </a:xfrm>
                <a:prstGeom prst="rect">
                  <a:avLst/>
                </a:prstGeom>
                <a:solidFill>
                  <a:srgbClr val="ffa02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1897560" y="1762920"/>
                  <a:ext cx="3240" cy="3009600"/>
                </a:xfrm>
                <a:prstGeom prst="rect">
                  <a:avLst/>
                </a:prstGeom>
                <a:solidFill>
                  <a:srgbClr val="ffa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1900800" y="1762920"/>
                  <a:ext cx="3240" cy="3009600"/>
                </a:xfrm>
                <a:prstGeom prst="rect">
                  <a:avLst/>
                </a:prstGeom>
                <a:solidFill>
                  <a:srgbClr val="ff9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1904400" y="1762920"/>
                  <a:ext cx="2880" cy="3009600"/>
                </a:xfrm>
                <a:prstGeom prst="rect">
                  <a:avLst/>
                </a:prstGeom>
                <a:solidFill>
                  <a:srgbClr val="ff9f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1907640" y="1762920"/>
                  <a:ext cx="3240" cy="3009600"/>
                </a:xfrm>
                <a:prstGeom prst="rect">
                  <a:avLst/>
                </a:prstGeom>
                <a:solidFill>
                  <a:srgbClr val="ff9e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1911240" y="1762920"/>
                  <a:ext cx="3240" cy="3009600"/>
                </a:xfrm>
                <a:prstGeom prst="rect">
                  <a:avLst/>
                </a:prstGeom>
                <a:solidFill>
                  <a:srgbClr val="ff9e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1914480" y="1762920"/>
                  <a:ext cx="3240" cy="3009600"/>
                </a:xfrm>
                <a:prstGeom prst="rect">
                  <a:avLst/>
                </a:prstGeom>
                <a:solidFill>
                  <a:srgbClr val="ff9d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1918080" y="1762920"/>
                  <a:ext cx="3240" cy="3009600"/>
                </a:xfrm>
                <a:prstGeom prst="rect">
                  <a:avLst/>
                </a:prstGeom>
                <a:solidFill>
                  <a:srgbClr val="ff9d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1921680" y="1762920"/>
                  <a:ext cx="3240" cy="3009600"/>
                </a:xfrm>
                <a:prstGeom prst="rect">
                  <a:avLst/>
                </a:prstGeom>
                <a:solidFill>
                  <a:srgbClr val="ff9d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1925280" y="1762920"/>
                  <a:ext cx="3240" cy="3009600"/>
                </a:xfrm>
                <a:prstGeom prst="rect">
                  <a:avLst/>
                </a:prstGeom>
                <a:solidFill>
                  <a:srgbClr val="ff9c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1928880" y="1762920"/>
                  <a:ext cx="3240" cy="3009600"/>
                </a:xfrm>
                <a:prstGeom prst="rect">
                  <a:avLst/>
                </a:prstGeom>
                <a:solidFill>
                  <a:srgbClr val="ff9c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1932480" y="1762920"/>
                  <a:ext cx="2880" cy="3009600"/>
                </a:xfrm>
                <a:prstGeom prst="rect">
                  <a:avLst/>
                </a:prstGeom>
                <a:solidFill>
                  <a:srgbClr val="ff9c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1935360" y="1762920"/>
                  <a:ext cx="3240" cy="3009600"/>
                </a:xfrm>
                <a:prstGeom prst="rect">
                  <a:avLst/>
                </a:prstGeom>
                <a:solidFill>
                  <a:srgbClr val="ff9b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1938960" y="1762920"/>
                  <a:ext cx="3960" cy="3009600"/>
                </a:xfrm>
                <a:prstGeom prst="rect">
                  <a:avLst/>
                </a:prstGeom>
                <a:solidFill>
                  <a:srgbClr val="ff9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1943280" y="1762920"/>
                  <a:ext cx="3240" cy="3009600"/>
                </a:xfrm>
                <a:prstGeom prst="rect">
                  <a:avLst/>
                </a:prstGeom>
                <a:solidFill>
                  <a:srgbClr val="ff9b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1946880" y="1762920"/>
                  <a:ext cx="2880" cy="3009600"/>
                </a:xfrm>
                <a:prstGeom prst="rect">
                  <a:avLst/>
                </a:prstGeom>
                <a:solidFill>
                  <a:srgbClr val="ff9a1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1949760" y="1762920"/>
                  <a:ext cx="3240" cy="3009600"/>
                </a:xfrm>
                <a:prstGeom prst="rect">
                  <a:avLst/>
                </a:prstGeom>
                <a:solidFill>
                  <a:srgbClr val="ff9a0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1953360" y="1762920"/>
                  <a:ext cx="3240" cy="3009600"/>
                </a:xfrm>
                <a:prstGeom prst="rect">
                  <a:avLst/>
                </a:prstGeom>
                <a:solidFill>
                  <a:srgbClr val="ff9a0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1956960" y="1762920"/>
                  <a:ext cx="2880" cy="3009600"/>
                </a:xfrm>
                <a:prstGeom prst="rect">
                  <a:avLst/>
                </a:prstGeom>
                <a:solidFill>
                  <a:srgbClr val="ff990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1959840" y="1762920"/>
                  <a:ext cx="3960" cy="3009600"/>
                </a:xfrm>
                <a:prstGeom prst="rect">
                  <a:avLst/>
                </a:prstGeom>
                <a:solidFill>
                  <a:srgbClr val="ff990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1964160" y="1762920"/>
                  <a:ext cx="3240" cy="3009600"/>
                </a:xfrm>
                <a:prstGeom prst="rect">
                  <a:avLst/>
                </a:prstGeom>
                <a:solidFill>
                  <a:srgbClr val="ff990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1967760" y="1762920"/>
                  <a:ext cx="3240" cy="3009600"/>
                </a:xfrm>
                <a:prstGeom prst="rect">
                  <a:avLst/>
                </a:prstGeom>
                <a:solidFill>
                  <a:srgbClr val="ff99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1971360" y="1762920"/>
                  <a:ext cx="2880" cy="3009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8" name=""/>
            <p:cNvGrpSpPr/>
            <p:nvPr/>
          </p:nvGrpSpPr>
          <p:grpSpPr>
            <a:xfrm>
              <a:off x="2001600" y="1679400"/>
              <a:ext cx="970200" cy="3103560"/>
              <a:chOff x="2001600" y="1679400"/>
              <a:chExt cx="970200" cy="3103560"/>
            </a:xfrm>
          </p:grpSpPr>
          <p:grpSp>
            <p:nvGrpSpPr>
              <p:cNvPr id="3299" name=""/>
              <p:cNvGrpSpPr/>
              <p:nvPr/>
            </p:nvGrpSpPr>
            <p:grpSpPr>
              <a:xfrm>
                <a:off x="2001600" y="1679400"/>
                <a:ext cx="970200" cy="3103560"/>
                <a:chOff x="2001600" y="1679400"/>
                <a:chExt cx="970200" cy="3103560"/>
              </a:xfrm>
            </p:grpSpPr>
            <p:sp>
              <p:nvSpPr>
                <p:cNvPr id="3300" name=""/>
                <p:cNvSpPr/>
                <p:nvPr/>
              </p:nvSpPr>
              <p:spPr>
                <a:xfrm>
                  <a:off x="2938320" y="1679400"/>
                  <a:ext cx="33120" cy="3103560"/>
                </a:xfrm>
                <a:custGeom>
                  <a:avLst/>
                  <a:gdLst/>
                  <a:ahLst/>
                  <a:rect l="l" t="t" r="r" b="b"/>
                  <a:pathLst>
                    <a:path w="38" h="2215">
                      <a:moveTo>
                        <a:pt x="0" y="2215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2088"/>
                      </a:lnTo>
                      <a:lnTo>
                        <a:pt x="0" y="2215"/>
                      </a:lnTo>
                      <a:close/>
                    </a:path>
                  </a:pathLst>
                </a:custGeom>
                <a:solidFill>
                  <a:srgbClr val="2db4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2001600" y="1679400"/>
                  <a:ext cx="970200" cy="54360"/>
                </a:xfrm>
                <a:custGeom>
                  <a:avLst/>
                  <a:gdLst/>
                  <a:ahLst/>
                  <a:rect l="l" t="t" r="r" b="b"/>
                  <a:pathLst>
                    <a:path w="1098" h="39">
                      <a:moveTo>
                        <a:pt x="1060" y="39"/>
                      </a:moveTo>
                      <a:lnTo>
                        <a:pt x="0" y="39"/>
                      </a:lnTo>
                      <a:lnTo>
                        <a:pt x="81" y="0"/>
                      </a:lnTo>
                      <a:lnTo>
                        <a:pt x="1098" y="0"/>
                      </a:lnTo>
                      <a:lnTo>
                        <a:pt x="1060" y="39"/>
                      </a:lnTo>
                      <a:close/>
                    </a:path>
                  </a:pathLst>
                </a:custGeom>
                <a:solidFill>
                  <a:srgbClr val="1e79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2" name=""/>
              <p:cNvGrpSpPr/>
              <p:nvPr/>
            </p:nvGrpSpPr>
            <p:grpSpPr>
              <a:xfrm>
                <a:off x="2001600" y="1733760"/>
                <a:ext cx="936720" cy="3048840"/>
                <a:chOff x="2001600" y="1733760"/>
                <a:chExt cx="936720" cy="3048840"/>
              </a:xfrm>
            </p:grpSpPr>
            <p:grpSp>
              <p:nvGrpSpPr>
                <p:cNvPr id="3303" name=""/>
                <p:cNvGrpSpPr/>
                <p:nvPr/>
              </p:nvGrpSpPr>
              <p:grpSpPr>
                <a:xfrm>
                  <a:off x="2001600" y="1733760"/>
                  <a:ext cx="909360" cy="3048840"/>
                  <a:chOff x="2001600" y="1733760"/>
                  <a:chExt cx="909360" cy="3048840"/>
                </a:xfrm>
              </p:grpSpPr>
              <p:sp>
                <p:nvSpPr>
                  <p:cNvPr id="3304" name=""/>
                  <p:cNvSpPr/>
                  <p:nvPr/>
                </p:nvSpPr>
                <p:spPr>
                  <a:xfrm>
                    <a:off x="2001600" y="1733760"/>
                    <a:ext cx="4320" cy="3048840"/>
                  </a:xfrm>
                  <a:prstGeom prst="rect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>
                    <a:off x="2005920" y="1733760"/>
                    <a:ext cx="5040" cy="3048840"/>
                  </a:xfrm>
                  <a:prstGeom prst="rect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2011320" y="1733760"/>
                    <a:ext cx="3600" cy="3048840"/>
                  </a:xfrm>
                  <a:prstGeom prst="rect">
                    <a:avLst/>
                  </a:prstGeom>
                  <a:solidFill>
                    <a:srgbClr val="34cc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2014920" y="1733760"/>
                    <a:ext cx="5040" cy="3048840"/>
                  </a:xfrm>
                  <a:prstGeom prst="rect">
                    <a:avLst/>
                  </a:prstGeom>
                  <a:solidFill>
                    <a:srgbClr val="34cc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2019960" y="1733760"/>
                    <a:ext cx="4320" cy="3048840"/>
                  </a:xfrm>
                  <a:prstGeom prst="rect">
                    <a:avLst/>
                  </a:prstGeom>
                  <a:solidFill>
                    <a:srgbClr val="35c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>
                    <a:off x="2024640" y="1733760"/>
                    <a:ext cx="4320" cy="3048840"/>
                  </a:xfrm>
                  <a:prstGeom prst="rect">
                    <a:avLst/>
                  </a:prstGeom>
                  <a:solidFill>
                    <a:srgbClr val="35cc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2028960" y="1733760"/>
                    <a:ext cx="5400" cy="3048840"/>
                  </a:xfrm>
                  <a:prstGeom prst="rect">
                    <a:avLst/>
                  </a:prstGeom>
                  <a:solidFill>
                    <a:srgbClr val="36cd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2034360" y="1733760"/>
                    <a:ext cx="3240" cy="3048840"/>
                  </a:xfrm>
                  <a:prstGeom prst="rect">
                    <a:avLst/>
                  </a:prstGeom>
                  <a:solidFill>
                    <a:srgbClr val="37cd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2037600" y="1733760"/>
                    <a:ext cx="4320" cy="30488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2042280" y="1733760"/>
                    <a:ext cx="5400" cy="30488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2047680" y="1733760"/>
                    <a:ext cx="4320" cy="3048840"/>
                  </a:xfrm>
                  <a:prstGeom prst="rect">
                    <a:avLst/>
                  </a:prstGeom>
                  <a:solidFill>
                    <a:srgbClr val="39cd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>
                    <a:off x="2052000" y="1733760"/>
                    <a:ext cx="4320" cy="3048840"/>
                  </a:xfrm>
                  <a:prstGeom prst="rect">
                    <a:avLst/>
                  </a:prstGeom>
                  <a:solidFill>
                    <a:srgbClr val="3ace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2056320" y="1733760"/>
                    <a:ext cx="4320" cy="3048840"/>
                  </a:xfrm>
                  <a:prstGeom prst="rect">
                    <a:avLst/>
                  </a:prstGeom>
                  <a:solidFill>
                    <a:srgbClr val="3bc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2060640" y="1733760"/>
                    <a:ext cx="4320" cy="3048840"/>
                  </a:xfrm>
                  <a:prstGeom prst="rect">
                    <a:avLst/>
                  </a:prstGeom>
                  <a:solidFill>
                    <a:srgbClr val="3cce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2065320" y="1733760"/>
                    <a:ext cx="5040" cy="3048840"/>
                  </a:xfrm>
                  <a:prstGeom prst="rect">
                    <a:avLst/>
                  </a:prstGeom>
                  <a:solidFill>
                    <a:srgbClr val="3d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2070360" y="1733760"/>
                    <a:ext cx="3600" cy="3048840"/>
                  </a:xfrm>
                  <a:prstGeom prst="rect">
                    <a:avLst/>
                  </a:prstGeom>
                  <a:solidFill>
                    <a:srgbClr val="3ec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2073960" y="1733760"/>
                    <a:ext cx="4320" cy="3048840"/>
                  </a:xfrm>
                  <a:prstGeom prst="rect">
                    <a:avLst/>
                  </a:prstGeom>
                  <a:solidFill>
                    <a:srgbClr val="3fc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2078280" y="1733760"/>
                    <a:ext cx="5400" cy="3048840"/>
                  </a:xfrm>
                  <a:prstGeom prst="rect">
                    <a:avLst/>
                  </a:prstGeom>
                  <a:solidFill>
                    <a:srgbClr val="40d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2083680" y="1733760"/>
                    <a:ext cx="4320" cy="3048840"/>
                  </a:xfrm>
                  <a:prstGeom prst="rect">
                    <a:avLst/>
                  </a:prstGeom>
                  <a:solidFill>
                    <a:srgbClr val="41d0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2088360" y="1733760"/>
                    <a:ext cx="5040" cy="3048840"/>
                  </a:xfrm>
                  <a:prstGeom prst="rect">
                    <a:avLst/>
                  </a:prstGeom>
                  <a:solidFill>
                    <a:srgbClr val="42d0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2093400" y="1733760"/>
                    <a:ext cx="3600" cy="3048840"/>
                  </a:xfrm>
                  <a:prstGeom prst="rect">
                    <a:avLst/>
                  </a:prstGeom>
                  <a:solidFill>
                    <a:srgbClr val="43d1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2097000" y="1733760"/>
                    <a:ext cx="4320" cy="3048840"/>
                  </a:xfrm>
                  <a:prstGeom prst="rect">
                    <a:avLst/>
                  </a:prstGeom>
                  <a:solidFill>
                    <a:srgbClr val="44d1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2101320" y="1733760"/>
                    <a:ext cx="5040" cy="3048840"/>
                  </a:xfrm>
                  <a:prstGeom prst="rect">
                    <a:avLst/>
                  </a:prstGeom>
                  <a:solidFill>
                    <a:srgbClr val="45d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2106720" y="1733760"/>
                    <a:ext cx="3600" cy="3048840"/>
                  </a:xfrm>
                  <a:prstGeom prst="rect">
                    <a:avLst/>
                  </a:prstGeom>
                  <a:solidFill>
                    <a:srgbClr val="47d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2110320" y="1733760"/>
                    <a:ext cx="4320" cy="3048840"/>
                  </a:xfrm>
                  <a:prstGeom prst="rect">
                    <a:avLst/>
                  </a:prstGeom>
                  <a:solidFill>
                    <a:srgbClr val="48d3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>
                    <a:off x="2114640" y="1733760"/>
                    <a:ext cx="5040" cy="3048840"/>
                  </a:xfrm>
                  <a:prstGeom prst="rect">
                    <a:avLst/>
                  </a:prstGeom>
                  <a:solidFill>
                    <a:srgbClr val="4ad3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2120040" y="1733760"/>
                    <a:ext cx="4320" cy="3048840"/>
                  </a:xfrm>
                  <a:prstGeom prst="rect">
                    <a:avLst/>
                  </a:prstGeom>
                  <a:solidFill>
                    <a:srgbClr val="4bd4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2124360" y="1733760"/>
                    <a:ext cx="5400" cy="3048840"/>
                  </a:xfrm>
                  <a:prstGeom prst="rect">
                    <a:avLst/>
                  </a:prstGeom>
                  <a:solidFill>
                    <a:srgbClr val="4cd4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2129760" y="1733760"/>
                    <a:ext cx="3600" cy="3048840"/>
                  </a:xfrm>
                  <a:prstGeom prst="rect">
                    <a:avLst/>
                  </a:prstGeom>
                  <a:solidFill>
                    <a:srgbClr val="4ed5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2133360" y="1733760"/>
                    <a:ext cx="4320" cy="3048840"/>
                  </a:xfrm>
                  <a:prstGeom prst="rect">
                    <a:avLst/>
                  </a:prstGeom>
                  <a:solidFill>
                    <a:srgbClr val="4fd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2137680" y="1733760"/>
                    <a:ext cx="5040" cy="3048840"/>
                  </a:xfrm>
                  <a:prstGeom prst="rect">
                    <a:avLst/>
                  </a:prstGeom>
                  <a:solidFill>
                    <a:srgbClr val="51d6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2143080" y="1733760"/>
                    <a:ext cx="4320" cy="3048840"/>
                  </a:xfrm>
                  <a:prstGeom prst="rect">
                    <a:avLst/>
                  </a:prstGeom>
                  <a:solidFill>
                    <a:srgbClr val="52d7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2147400" y="1733760"/>
                    <a:ext cx="3600" cy="3048840"/>
                  </a:xfrm>
                  <a:prstGeom prst="rect">
                    <a:avLst/>
                  </a:prstGeom>
                  <a:solidFill>
                    <a:srgbClr val="54d7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2151000" y="1733760"/>
                    <a:ext cx="5040" cy="3048840"/>
                  </a:xfrm>
                  <a:prstGeom prst="rect">
                    <a:avLst/>
                  </a:prstGeom>
                  <a:solidFill>
                    <a:srgbClr val="55d8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2156040" y="1733760"/>
                    <a:ext cx="4320" cy="3048840"/>
                  </a:xfrm>
                  <a:prstGeom prst="rect">
                    <a:avLst/>
                  </a:prstGeom>
                  <a:solidFill>
                    <a:srgbClr val="57d9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2160720" y="1733760"/>
                    <a:ext cx="5400" cy="3048840"/>
                  </a:xfrm>
                  <a:prstGeom prst="rect">
                    <a:avLst/>
                  </a:prstGeom>
                  <a:solidFill>
                    <a:srgbClr val="59da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2166120" y="1733760"/>
                    <a:ext cx="3240" cy="3048840"/>
                  </a:xfrm>
                  <a:prstGeom prst="rect">
                    <a:avLst/>
                  </a:prstGeom>
                  <a:solidFill>
                    <a:srgbClr val="5ad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2169360" y="1733760"/>
                    <a:ext cx="4320" cy="3048840"/>
                  </a:xfrm>
                  <a:prstGeom prst="rect">
                    <a:avLst/>
                  </a:prstGeom>
                  <a:solidFill>
                    <a:srgbClr val="5c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2173680" y="1733760"/>
                    <a:ext cx="5400" cy="3048840"/>
                  </a:xfrm>
                  <a:prstGeom prst="rect">
                    <a:avLst/>
                  </a:prstGeom>
                  <a:solidFill>
                    <a:srgbClr val="5ddc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2179080" y="1733760"/>
                    <a:ext cx="4320" cy="3048840"/>
                  </a:xfrm>
                  <a:prstGeom prst="rect">
                    <a:avLst/>
                  </a:prstGeom>
                  <a:solidFill>
                    <a:srgbClr val="5fdd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>
                    <a:off x="2183760" y="1733760"/>
                    <a:ext cx="5040" cy="3048840"/>
                  </a:xfrm>
                  <a:prstGeom prst="rect">
                    <a:avLst/>
                  </a:prstGeom>
                  <a:solidFill>
                    <a:srgbClr val="60dd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2188800" y="1733760"/>
                    <a:ext cx="3600" cy="3048840"/>
                  </a:xfrm>
                  <a:prstGeom prst="rect">
                    <a:avLst/>
                  </a:prstGeom>
                  <a:solidFill>
                    <a:srgbClr val="62de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2192400" y="1733760"/>
                    <a:ext cx="4320" cy="3048840"/>
                  </a:xfrm>
                  <a:prstGeom prst="rect">
                    <a:avLst/>
                  </a:prstGeom>
                  <a:solidFill>
                    <a:srgbClr val="63df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2196720" y="1733760"/>
                    <a:ext cx="5400" cy="3048840"/>
                  </a:xfrm>
                  <a:prstGeom prst="rect">
                    <a:avLst/>
                  </a:prstGeom>
                  <a:solidFill>
                    <a:srgbClr val="65e0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2202120" y="1733760"/>
                    <a:ext cx="4320" cy="3048840"/>
                  </a:xfrm>
                  <a:prstGeom prst="rect">
                    <a:avLst/>
                  </a:prstGeom>
                  <a:solidFill>
                    <a:srgbClr val="67e1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2206800" y="1733760"/>
                    <a:ext cx="3240" cy="3048840"/>
                  </a:xfrm>
                  <a:prstGeom prst="rect">
                    <a:avLst/>
                  </a:prstGeom>
                  <a:solidFill>
                    <a:srgbClr val="69e2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2210040" y="1733760"/>
                    <a:ext cx="5400" cy="3048840"/>
                  </a:xfrm>
                  <a:prstGeom prst="rect">
                    <a:avLst/>
                  </a:prstGeom>
                  <a:solidFill>
                    <a:srgbClr val="6ae2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2215440" y="1733760"/>
                    <a:ext cx="4320" cy="3048840"/>
                  </a:xfrm>
                  <a:prstGeom prst="rect">
                    <a:avLst/>
                  </a:prstGeom>
                  <a:solidFill>
                    <a:srgbClr val="6ce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2219760" y="1733760"/>
                    <a:ext cx="5040" cy="3048840"/>
                  </a:xfrm>
                  <a:prstGeom prst="rect">
                    <a:avLst/>
                  </a:prstGeom>
                  <a:solidFill>
                    <a:srgbClr val="6de4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2225160" y="1733760"/>
                    <a:ext cx="3600" cy="3048840"/>
                  </a:xfrm>
                  <a:prstGeom prst="rect">
                    <a:avLst/>
                  </a:prstGeom>
                  <a:solidFill>
                    <a:srgbClr val="6fe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2228760" y="1733760"/>
                    <a:ext cx="4320" cy="3048840"/>
                  </a:xfrm>
                  <a:prstGeom prst="rect">
                    <a:avLst/>
                  </a:prstGeom>
                  <a:solidFill>
                    <a:srgbClr val="70e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2233080" y="1733760"/>
                    <a:ext cx="5040" cy="3048840"/>
                  </a:xfrm>
                  <a:prstGeom prst="rect">
                    <a:avLst/>
                  </a:prstGeom>
                  <a:solidFill>
                    <a:srgbClr val="72e77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2238480" y="1733760"/>
                    <a:ext cx="4320" cy="3048840"/>
                  </a:xfrm>
                  <a:prstGeom prst="rect">
                    <a:avLst/>
                  </a:prstGeom>
                  <a:solidFill>
                    <a:srgbClr val="73e7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>
                    <a:off x="2242800" y="1733760"/>
                    <a:ext cx="3600" cy="3048840"/>
                  </a:xfrm>
                  <a:prstGeom prst="rect">
                    <a:avLst/>
                  </a:prstGeom>
                  <a:solidFill>
                    <a:srgbClr val="74e8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2246400" y="1733760"/>
                    <a:ext cx="5040" cy="3048840"/>
                  </a:xfrm>
                  <a:prstGeom prst="rect">
                    <a:avLst/>
                  </a:prstGeom>
                  <a:solidFill>
                    <a:srgbClr val="76e9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2251440" y="1733760"/>
                    <a:ext cx="4320" cy="3048840"/>
                  </a:xfrm>
                  <a:prstGeom prst="rect">
                    <a:avLst/>
                  </a:prstGeom>
                  <a:solidFill>
                    <a:srgbClr val="77ea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2256120" y="1733760"/>
                    <a:ext cx="5400" cy="3048840"/>
                  </a:xfrm>
                  <a:prstGeom prst="rect">
                    <a:avLst/>
                  </a:prstGeom>
                  <a:solidFill>
                    <a:srgbClr val="79eb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2261520" y="1733760"/>
                    <a:ext cx="4320" cy="3048840"/>
                  </a:xfrm>
                  <a:prstGeom prst="rect">
                    <a:avLst/>
                  </a:prstGeom>
                  <a:solidFill>
                    <a:srgbClr val="7aeb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>
                    <a:off x="2265840" y="1733760"/>
                    <a:ext cx="3600" cy="3048840"/>
                  </a:xfrm>
                  <a:prstGeom prst="rect">
                    <a:avLst/>
                  </a:prstGeom>
                  <a:solidFill>
                    <a:srgbClr val="7bec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>
                    <a:off x="2269440" y="1733760"/>
                    <a:ext cx="5040" cy="3048840"/>
                  </a:xfrm>
                  <a:prstGeom prst="rect">
                    <a:avLst/>
                  </a:prstGeom>
                  <a:solidFill>
                    <a:srgbClr val="7ced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2274480" y="1733760"/>
                    <a:ext cx="4320" cy="3048840"/>
                  </a:xfrm>
                  <a:prstGeom prst="rect">
                    <a:avLst/>
                  </a:prstGeom>
                  <a:solidFill>
                    <a:srgbClr val="7ee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2279160" y="1733760"/>
                    <a:ext cx="4320" cy="3048840"/>
                  </a:xfrm>
                  <a:prstGeom prst="rect">
                    <a:avLst/>
                  </a:prstGeom>
                  <a:solidFill>
                    <a:srgbClr val="7fe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2283480" y="1733760"/>
                    <a:ext cx="4320" cy="3048840"/>
                  </a:xfrm>
                  <a:prstGeom prst="rect">
                    <a:avLst/>
                  </a:prstGeom>
                  <a:solidFill>
                    <a:srgbClr val="81e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2287800" y="1733760"/>
                    <a:ext cx="4320" cy="3048840"/>
                  </a:xfrm>
                  <a:prstGeom prst="rect">
                    <a:avLst/>
                  </a:prstGeom>
                  <a:solidFill>
                    <a:srgbClr val="81f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2292120" y="1733760"/>
                    <a:ext cx="5400" cy="3048840"/>
                  </a:xfrm>
                  <a:prstGeom prst="rect">
                    <a:avLst/>
                  </a:prstGeom>
                  <a:solidFill>
                    <a:srgbClr val="83f1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>
                    <a:off x="2297520" y="1733760"/>
                    <a:ext cx="4320" cy="3048840"/>
                  </a:xfrm>
                  <a:prstGeom prst="rect">
                    <a:avLst/>
                  </a:prstGeom>
                  <a:solidFill>
                    <a:srgbClr val="84f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>
                    <a:off x="2302200" y="1733760"/>
                    <a:ext cx="3240" cy="3048840"/>
                  </a:xfrm>
                  <a:prstGeom prst="rect">
                    <a:avLst/>
                  </a:prstGeom>
                  <a:solidFill>
                    <a:srgbClr val="85f2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>
                    <a:off x="2305440" y="1733760"/>
                    <a:ext cx="5400" cy="3048840"/>
                  </a:xfrm>
                  <a:prstGeom prst="rect">
                    <a:avLst/>
                  </a:prstGeom>
                  <a:solidFill>
                    <a:srgbClr val="86f2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>
                    <a:off x="2310840" y="1733760"/>
                    <a:ext cx="4320" cy="3048840"/>
                  </a:xfrm>
                  <a:prstGeom prst="rect">
                    <a:avLst/>
                  </a:prstGeom>
                  <a:solidFill>
                    <a:srgbClr val="87f3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2315160" y="1733760"/>
                    <a:ext cx="5040" cy="3048840"/>
                  </a:xfrm>
                  <a:prstGeom prst="rect">
                    <a:avLst/>
                  </a:prstGeom>
                  <a:solidFill>
                    <a:srgbClr val="88f4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2320560" y="1733760"/>
                    <a:ext cx="4320" cy="3048840"/>
                  </a:xfrm>
                  <a:prstGeom prst="rect">
                    <a:avLst/>
                  </a:prstGeom>
                  <a:solidFill>
                    <a:srgbClr val="89f4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>
                    <a:off x="2324880" y="1733760"/>
                    <a:ext cx="3600" cy="3048840"/>
                  </a:xfrm>
                  <a:prstGeom prst="rect">
                    <a:avLst/>
                  </a:prstGeom>
                  <a:solidFill>
                    <a:srgbClr val="8af5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>
                    <a:off x="2328480" y="1733760"/>
                    <a:ext cx="5400" cy="3048840"/>
                  </a:xfrm>
                  <a:prstGeom prst="rect">
                    <a:avLst/>
                  </a:prstGeom>
                  <a:solidFill>
                    <a:srgbClr val="8bf6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>
                    <a:off x="2333880" y="1733760"/>
                    <a:ext cx="4320" cy="3048840"/>
                  </a:xfrm>
                  <a:prstGeom prst="rect">
                    <a:avLst/>
                  </a:prstGeom>
                  <a:solidFill>
                    <a:srgbClr val="8cf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8" name=""/>
                  <p:cNvSpPr/>
                  <p:nvPr/>
                </p:nvSpPr>
                <p:spPr>
                  <a:xfrm>
                    <a:off x="2338200" y="1733760"/>
                    <a:ext cx="3240" cy="30488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9" name=""/>
                  <p:cNvSpPr/>
                  <p:nvPr/>
                </p:nvSpPr>
                <p:spPr>
                  <a:xfrm>
                    <a:off x="2341800" y="1733760"/>
                    <a:ext cx="5400" cy="30488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2347200" y="1733760"/>
                    <a:ext cx="4320" cy="3048840"/>
                  </a:xfrm>
                  <a:prstGeom prst="rect">
                    <a:avLst/>
                  </a:prstGeom>
                  <a:solidFill>
                    <a:srgbClr val="8ef8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2351520" y="1733760"/>
                    <a:ext cx="5040" cy="3048840"/>
                  </a:xfrm>
                  <a:prstGeom prst="rect">
                    <a:avLst/>
                  </a:prstGeom>
                  <a:solidFill>
                    <a:srgbClr val="8ff8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2356920" y="1733760"/>
                    <a:ext cx="4320" cy="30488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2361240" y="1733760"/>
                    <a:ext cx="3600" cy="30488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>
                    <a:off x="2364840" y="1733760"/>
                    <a:ext cx="5040" cy="3048840"/>
                  </a:xfrm>
                  <a:prstGeom prst="rect">
                    <a:avLst/>
                  </a:prstGeom>
                  <a:solidFill>
                    <a:srgbClr val="91f9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>
                    <a:off x="2369880" y="1733760"/>
                    <a:ext cx="4320" cy="3048840"/>
                  </a:xfrm>
                  <a:prstGeom prst="rect">
                    <a:avLst/>
                  </a:prstGeom>
                  <a:solidFill>
                    <a:srgbClr val="91fa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>
                    <a:off x="2374560" y="1733760"/>
                    <a:ext cx="4320" cy="30488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>
                    <a:off x="2378880" y="1733760"/>
                    <a:ext cx="4320" cy="30488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>
                    <a:off x="2383200" y="1733760"/>
                    <a:ext cx="4320" cy="30488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>
                    <a:off x="2387880" y="1733760"/>
                    <a:ext cx="5040" cy="30488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>
                    <a:off x="2392920" y="1733760"/>
                    <a:ext cx="4320" cy="3048840"/>
                  </a:xfrm>
                  <a:prstGeom prst="rect">
                    <a:avLst/>
                  </a:prstGeom>
                  <a:solidFill>
                    <a:srgbClr val="94fb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>
                    <a:off x="2397600" y="1733760"/>
                    <a:ext cx="3600" cy="3048840"/>
                  </a:xfrm>
                  <a:prstGeom prst="rect">
                    <a:avLst/>
                  </a:prstGeom>
                  <a:solidFill>
                    <a:srgbClr val="94fc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>
                    <a:off x="2401200" y="1733760"/>
                    <a:ext cx="5040" cy="30488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>
                    <a:off x="2406240" y="1733760"/>
                    <a:ext cx="4320" cy="30488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>
                    <a:off x="2410560" y="1733760"/>
                    <a:ext cx="4320" cy="30488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2415240" y="1733760"/>
                    <a:ext cx="5400" cy="30488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2420640" y="1733760"/>
                    <a:ext cx="3240" cy="30488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>
                    <a:off x="2423880" y="1733760"/>
                    <a:ext cx="5400" cy="30488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>
                    <a:off x="2429280" y="1733760"/>
                    <a:ext cx="4320" cy="30488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2433600" y="1733760"/>
                    <a:ext cx="4320" cy="30488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>
                    <a:off x="2438280" y="1733760"/>
                    <a:ext cx="4320" cy="30488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>
                    <a:off x="2442600" y="1733760"/>
                    <a:ext cx="432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>
                    <a:off x="2446920" y="1733760"/>
                    <a:ext cx="432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>
                    <a:off x="2451240" y="1733760"/>
                    <a:ext cx="540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>
                    <a:off x="2456640" y="1733760"/>
                    <a:ext cx="324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>
                    <a:off x="2460240" y="1733760"/>
                    <a:ext cx="540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>
                    <a:off x="2465640" y="1733760"/>
                    <a:ext cx="4320" cy="3048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7" name=""/>
                  <p:cNvSpPr/>
                  <p:nvPr/>
                </p:nvSpPr>
                <p:spPr>
                  <a:xfrm>
                    <a:off x="2469960" y="1733760"/>
                    <a:ext cx="4320" cy="3048840"/>
                  </a:xfrm>
                  <a:prstGeom prst="rect">
                    <a:avLst/>
                  </a:pr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8" name=""/>
                  <p:cNvSpPr/>
                  <p:nvPr/>
                </p:nvSpPr>
                <p:spPr>
                  <a:xfrm>
                    <a:off x="2474280" y="1733760"/>
                    <a:ext cx="504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2479680" y="1733760"/>
                    <a:ext cx="360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2483280" y="1733760"/>
                    <a:ext cx="504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2488320" y="1733760"/>
                    <a:ext cx="432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2493000" y="1733760"/>
                    <a:ext cx="4320" cy="3048840"/>
                  </a:xfrm>
                  <a:prstGeom prst="rect">
                    <a:avLst/>
                  </a:prstGeom>
                  <a:solidFill>
                    <a:srgbClr val="98fe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2497320" y="1733760"/>
                    <a:ext cx="4320" cy="30488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2501640" y="1733760"/>
                    <a:ext cx="4320" cy="3048840"/>
                  </a:xfrm>
                  <a:prstGeom prst="rect">
                    <a:avLst/>
                  </a:prstGeom>
                  <a:solidFill>
                    <a:srgbClr val="97fe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>
                    <a:off x="2505960" y="1733760"/>
                    <a:ext cx="4320" cy="30488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>
                    <a:off x="2510640" y="1733760"/>
                    <a:ext cx="5400" cy="3048840"/>
                  </a:xfrm>
                  <a:prstGeom prst="rect">
                    <a:avLst/>
                  </a:prstGeom>
                  <a:solidFill>
                    <a:srgbClr val="97fd9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2516040" y="1733760"/>
                    <a:ext cx="3600" cy="30488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2519640" y="1733760"/>
                    <a:ext cx="5040" cy="3048840"/>
                  </a:xfrm>
                  <a:prstGeom prst="rect">
                    <a:avLst/>
                  </a:prstGeom>
                  <a:solidFill>
                    <a:srgbClr val="96f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>
                    <a:off x="2524680" y="1733760"/>
                    <a:ext cx="4320" cy="30488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>
                    <a:off x="2529000" y="1733760"/>
                    <a:ext cx="4320" cy="30488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>
                    <a:off x="2533680" y="1733760"/>
                    <a:ext cx="5400" cy="3048840"/>
                  </a:xfrm>
                  <a:prstGeom prst="rect">
                    <a:avLst/>
                  </a:prstGeom>
                  <a:solidFill>
                    <a:srgbClr val="95fc9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2539080" y="1733760"/>
                    <a:ext cx="3240" cy="3048840"/>
                  </a:xfrm>
                  <a:prstGeom prst="rect">
                    <a:avLst/>
                  </a:prstGeom>
                  <a:solidFill>
                    <a:srgbClr val="94fc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2542320" y="1733760"/>
                    <a:ext cx="4320" cy="3048840"/>
                  </a:xfrm>
                  <a:prstGeom prst="rect">
                    <a:avLst/>
                  </a:prstGeom>
                  <a:solidFill>
                    <a:srgbClr val="94fb9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2546640" y="1733760"/>
                    <a:ext cx="5400" cy="30488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2552040" y="1733760"/>
                    <a:ext cx="4320" cy="3048840"/>
                  </a:xfrm>
                  <a:prstGeom prst="rect">
                    <a:avLst/>
                  </a:prstGeom>
                  <a:solidFill>
                    <a:srgbClr val="93fb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2556720" y="1733760"/>
                    <a:ext cx="4320" cy="30488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2561040" y="1733760"/>
                    <a:ext cx="4320" cy="3048840"/>
                  </a:xfrm>
                  <a:prstGeom prst="rect">
                    <a:avLst/>
                  </a:prstGeom>
                  <a:solidFill>
                    <a:srgbClr val="92fa9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2565360" y="1733760"/>
                    <a:ext cx="4320" cy="3048840"/>
                  </a:xfrm>
                  <a:prstGeom prst="rect">
                    <a:avLst/>
                  </a:prstGeom>
                  <a:solidFill>
                    <a:srgbClr val="91fa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>
                    <a:off x="2569680" y="1733760"/>
                    <a:ext cx="5040" cy="3048840"/>
                  </a:xfrm>
                  <a:prstGeom prst="rect">
                    <a:avLst/>
                  </a:prstGeom>
                  <a:solidFill>
                    <a:srgbClr val="91f99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>
                    <a:off x="2575080" y="1733760"/>
                    <a:ext cx="3600" cy="30488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2578680" y="1733760"/>
                    <a:ext cx="4320" cy="3048840"/>
                  </a:xfrm>
                  <a:prstGeom prst="rect">
                    <a:avLst/>
                  </a:prstGeom>
                  <a:solidFill>
                    <a:srgbClr val="90f99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2583000" y="1733760"/>
                    <a:ext cx="5400" cy="3048840"/>
                  </a:xfrm>
                  <a:prstGeom prst="rect">
                    <a:avLst/>
                  </a:prstGeom>
                  <a:solidFill>
                    <a:srgbClr val="8ff88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>
                    <a:off x="2588400" y="1733760"/>
                    <a:ext cx="4320" cy="3048840"/>
                  </a:xfrm>
                  <a:prstGeom prst="rect">
                    <a:avLst/>
                  </a:prstGeom>
                  <a:solidFill>
                    <a:srgbClr val="8ef88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>
                    <a:off x="2592720" y="1733760"/>
                    <a:ext cx="5040" cy="30488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>
                    <a:off x="2598120" y="1733760"/>
                    <a:ext cx="3600" cy="3048840"/>
                  </a:xfrm>
                  <a:prstGeom prst="rect">
                    <a:avLst/>
                  </a:prstGeom>
                  <a:solidFill>
                    <a:srgbClr val="8df7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>
                    <a:off x="2601720" y="1733760"/>
                    <a:ext cx="4320" cy="3048840"/>
                  </a:xfrm>
                  <a:prstGeom prst="rect">
                    <a:avLst/>
                  </a:prstGeom>
                  <a:solidFill>
                    <a:srgbClr val="8cf68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>
                    <a:off x="2606040" y="1733760"/>
                    <a:ext cx="5040" cy="3048840"/>
                  </a:xfrm>
                  <a:prstGeom prst="rect">
                    <a:avLst/>
                  </a:prstGeom>
                  <a:solidFill>
                    <a:srgbClr val="8bf68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2611440" y="1733760"/>
                    <a:ext cx="4320" cy="3048840"/>
                  </a:xfrm>
                  <a:prstGeom prst="rect">
                    <a:avLst/>
                  </a:prstGeom>
                  <a:solidFill>
                    <a:srgbClr val="8af58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2615760" y="1733760"/>
                    <a:ext cx="3600" cy="3048840"/>
                  </a:xfrm>
                  <a:prstGeom prst="rect">
                    <a:avLst/>
                  </a:prstGeom>
                  <a:solidFill>
                    <a:srgbClr val="89f4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>
                    <a:off x="2619360" y="1733760"/>
                    <a:ext cx="5040" cy="3048840"/>
                  </a:xfrm>
                  <a:prstGeom prst="rect">
                    <a:avLst/>
                  </a:prstGeom>
                  <a:solidFill>
                    <a:srgbClr val="88f4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>
                    <a:off x="2624400" y="1733760"/>
                    <a:ext cx="4320" cy="3048840"/>
                  </a:xfrm>
                  <a:prstGeom prst="rect">
                    <a:avLst/>
                  </a:prstGeom>
                  <a:solidFill>
                    <a:srgbClr val="87f3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>
                    <a:off x="2629080" y="1733760"/>
                    <a:ext cx="5400" cy="3048840"/>
                  </a:xfrm>
                  <a:prstGeom prst="rect">
                    <a:avLst/>
                  </a:prstGeom>
                  <a:solidFill>
                    <a:srgbClr val="86f28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3" name=""/>
                  <p:cNvSpPr/>
                  <p:nvPr/>
                </p:nvSpPr>
                <p:spPr>
                  <a:xfrm>
                    <a:off x="2634480" y="1733760"/>
                    <a:ext cx="3240" cy="3048840"/>
                  </a:xfrm>
                  <a:prstGeom prst="rect">
                    <a:avLst/>
                  </a:prstGeom>
                  <a:solidFill>
                    <a:srgbClr val="85f28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4" name=""/>
                  <p:cNvSpPr/>
                  <p:nvPr/>
                </p:nvSpPr>
                <p:spPr>
                  <a:xfrm>
                    <a:off x="2637720" y="1733760"/>
                    <a:ext cx="4320" cy="3048840"/>
                  </a:xfrm>
                  <a:prstGeom prst="rect">
                    <a:avLst/>
                  </a:prstGeom>
                  <a:solidFill>
                    <a:srgbClr val="84f1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>
                    <a:off x="2642400" y="1733760"/>
                    <a:ext cx="5040" cy="3048840"/>
                  </a:xfrm>
                  <a:prstGeom prst="rect">
                    <a:avLst/>
                  </a:prstGeom>
                  <a:solidFill>
                    <a:srgbClr val="83f18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2647440" y="1733760"/>
                    <a:ext cx="4320" cy="3048840"/>
                  </a:xfrm>
                  <a:prstGeom prst="rect">
                    <a:avLst/>
                  </a:prstGeom>
                  <a:solidFill>
                    <a:srgbClr val="81f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7" name=""/>
                  <p:cNvSpPr/>
                  <p:nvPr/>
                </p:nvSpPr>
                <p:spPr>
                  <a:xfrm>
                    <a:off x="2652120" y="1733760"/>
                    <a:ext cx="5400" cy="3048840"/>
                  </a:xfrm>
                  <a:prstGeom prst="rect">
                    <a:avLst/>
                  </a:prstGeom>
                  <a:solidFill>
                    <a:srgbClr val="81e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8" name=""/>
                  <p:cNvSpPr/>
                  <p:nvPr/>
                </p:nvSpPr>
                <p:spPr>
                  <a:xfrm>
                    <a:off x="2657520" y="1733760"/>
                    <a:ext cx="3240" cy="3048840"/>
                  </a:xfrm>
                  <a:prstGeom prst="rect">
                    <a:avLst/>
                  </a:prstGeom>
                  <a:solidFill>
                    <a:srgbClr val="7fee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9" name=""/>
                  <p:cNvSpPr/>
                  <p:nvPr/>
                </p:nvSpPr>
                <p:spPr>
                  <a:xfrm>
                    <a:off x="2660760" y="1733760"/>
                    <a:ext cx="4320" cy="3048840"/>
                  </a:xfrm>
                  <a:prstGeom prst="rect">
                    <a:avLst/>
                  </a:prstGeom>
                  <a:solidFill>
                    <a:srgbClr val="7eee7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0" name=""/>
                  <p:cNvSpPr/>
                  <p:nvPr/>
                </p:nvSpPr>
                <p:spPr>
                  <a:xfrm>
                    <a:off x="2665080" y="1733760"/>
                    <a:ext cx="5400" cy="3048840"/>
                  </a:xfrm>
                  <a:prstGeom prst="rect">
                    <a:avLst/>
                  </a:prstGeom>
                  <a:solidFill>
                    <a:srgbClr val="7ced7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1" name=""/>
                  <p:cNvSpPr/>
                  <p:nvPr/>
                </p:nvSpPr>
                <p:spPr>
                  <a:xfrm>
                    <a:off x="2670480" y="1733760"/>
                    <a:ext cx="3240" cy="3048840"/>
                  </a:xfrm>
                  <a:prstGeom prst="rect">
                    <a:avLst/>
                  </a:prstGeom>
                  <a:solidFill>
                    <a:srgbClr val="7bec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>
                    <a:off x="2674080" y="1733760"/>
                    <a:ext cx="4320" cy="3048840"/>
                  </a:xfrm>
                  <a:prstGeom prst="rect">
                    <a:avLst/>
                  </a:prstGeom>
                  <a:solidFill>
                    <a:srgbClr val="7aeb7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>
                    <a:off x="2678400" y="1733760"/>
                    <a:ext cx="5400" cy="3048840"/>
                  </a:xfrm>
                  <a:prstGeom prst="rect">
                    <a:avLst/>
                  </a:prstGeom>
                  <a:solidFill>
                    <a:srgbClr val="79eb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>
                    <a:off x="2683800" y="1733760"/>
                    <a:ext cx="4320" cy="3048840"/>
                  </a:xfrm>
                  <a:prstGeom prst="rect">
                    <a:avLst/>
                  </a:prstGeom>
                  <a:solidFill>
                    <a:srgbClr val="77ea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>
                    <a:off x="2688120" y="1733760"/>
                    <a:ext cx="5040" cy="3048840"/>
                  </a:xfrm>
                  <a:prstGeom prst="rect">
                    <a:avLst/>
                  </a:prstGeom>
                  <a:solidFill>
                    <a:srgbClr val="76e9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>
                    <a:off x="2693520" y="1733760"/>
                    <a:ext cx="3600" cy="3048840"/>
                  </a:xfrm>
                  <a:prstGeom prst="rect">
                    <a:avLst/>
                  </a:prstGeom>
                  <a:solidFill>
                    <a:srgbClr val="74e8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>
                    <a:off x="2697120" y="1733760"/>
                    <a:ext cx="4320" cy="3048840"/>
                  </a:xfrm>
                  <a:prstGeom prst="rect">
                    <a:avLst/>
                  </a:prstGeom>
                  <a:solidFill>
                    <a:srgbClr val="73e7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>
                    <a:off x="2701440" y="1733760"/>
                    <a:ext cx="5040" cy="3048840"/>
                  </a:xfrm>
                  <a:prstGeom prst="rect">
                    <a:avLst/>
                  </a:prstGeom>
                  <a:solidFill>
                    <a:srgbClr val="71e67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>
                    <a:off x="2706840" y="1733760"/>
                    <a:ext cx="4320" cy="3048840"/>
                  </a:xfrm>
                  <a:prstGeom prst="rect">
                    <a:avLst/>
                  </a:prstGeom>
                  <a:solidFill>
                    <a:srgbClr val="70e6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2711160" y="1733760"/>
                    <a:ext cx="3240" cy="3048840"/>
                  </a:xfrm>
                  <a:prstGeom prst="rect">
                    <a:avLst/>
                  </a:prstGeom>
                  <a:solidFill>
                    <a:srgbClr val="6fe5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>
                    <a:off x="2714760" y="1733760"/>
                    <a:ext cx="5400" cy="3048840"/>
                  </a:xfrm>
                  <a:prstGeom prst="rect">
                    <a:avLst/>
                  </a:prstGeom>
                  <a:solidFill>
                    <a:srgbClr val="6de4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>
                    <a:off x="2720160" y="1733760"/>
                    <a:ext cx="4320" cy="3048840"/>
                  </a:xfrm>
                  <a:prstGeom prst="rect">
                    <a:avLst/>
                  </a:prstGeom>
                  <a:solidFill>
                    <a:srgbClr val="6ce36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>
                    <a:off x="2724480" y="1733760"/>
                    <a:ext cx="5040" cy="3048840"/>
                  </a:xfrm>
                  <a:prstGeom prst="rect">
                    <a:avLst/>
                  </a:prstGeom>
                  <a:solidFill>
                    <a:srgbClr val="6ae26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2729880" y="1733760"/>
                    <a:ext cx="3600" cy="3048840"/>
                  </a:xfrm>
                  <a:prstGeom prst="rect">
                    <a:avLst/>
                  </a:prstGeom>
                  <a:solidFill>
                    <a:srgbClr val="69e26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2733480" y="1733760"/>
                    <a:ext cx="4320" cy="3048840"/>
                  </a:xfrm>
                  <a:prstGeom prst="rect">
                    <a:avLst/>
                  </a:prstGeom>
                  <a:solidFill>
                    <a:srgbClr val="67e1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2737800" y="1733760"/>
                    <a:ext cx="5040" cy="3048840"/>
                  </a:xfrm>
                  <a:prstGeom prst="rect">
                    <a:avLst/>
                  </a:prstGeom>
                  <a:solidFill>
                    <a:srgbClr val="65e06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2742840" y="1733760"/>
                    <a:ext cx="4320" cy="3048840"/>
                  </a:xfrm>
                  <a:prstGeom prst="rect">
                    <a:avLst/>
                  </a:prstGeom>
                  <a:solidFill>
                    <a:srgbClr val="63df6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2747520" y="1733760"/>
                    <a:ext cx="3600" cy="3048840"/>
                  </a:xfrm>
                  <a:prstGeom prst="rect">
                    <a:avLst/>
                  </a:prstGeom>
                  <a:solidFill>
                    <a:srgbClr val="62de6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>
                    <a:off x="2751120" y="1733760"/>
                    <a:ext cx="5040" cy="3048840"/>
                  </a:xfrm>
                  <a:prstGeom prst="rect">
                    <a:avLst/>
                  </a:prstGeom>
                  <a:solidFill>
                    <a:srgbClr val="60dd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>
                    <a:off x="2756160" y="1733760"/>
                    <a:ext cx="4320" cy="3048840"/>
                  </a:xfrm>
                  <a:prstGeom prst="rect">
                    <a:avLst/>
                  </a:prstGeom>
                  <a:solidFill>
                    <a:srgbClr val="5fdd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2760480" y="1733760"/>
                    <a:ext cx="5400" cy="3048840"/>
                  </a:xfrm>
                  <a:prstGeom prst="rect">
                    <a:avLst/>
                  </a:prstGeom>
                  <a:solidFill>
                    <a:srgbClr val="5ddc5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2" name=""/>
                  <p:cNvSpPr/>
                  <p:nvPr/>
                </p:nvSpPr>
                <p:spPr>
                  <a:xfrm>
                    <a:off x="2765880" y="1733760"/>
                    <a:ext cx="4320" cy="3048840"/>
                  </a:xfrm>
                  <a:prstGeom prst="rect">
                    <a:avLst/>
                  </a:prstGeom>
                  <a:solidFill>
                    <a:srgbClr val="5cdb5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2770560" y="1733760"/>
                    <a:ext cx="3600" cy="3048840"/>
                  </a:xfrm>
                  <a:prstGeom prst="rect">
                    <a:avLst/>
                  </a:prstGeom>
                  <a:solidFill>
                    <a:srgbClr val="5ada5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2774160" y="1733760"/>
                    <a:ext cx="5040" cy="3048840"/>
                  </a:xfrm>
                  <a:prstGeom prst="rect">
                    <a:avLst/>
                  </a:prstGeom>
                  <a:solidFill>
                    <a:srgbClr val="59da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5" name=""/>
                  <p:cNvSpPr/>
                  <p:nvPr/>
                </p:nvSpPr>
                <p:spPr>
                  <a:xfrm>
                    <a:off x="2779200" y="1733760"/>
                    <a:ext cx="4320" cy="3048840"/>
                  </a:xfrm>
                  <a:prstGeom prst="rect">
                    <a:avLst/>
                  </a:prstGeom>
                  <a:solidFill>
                    <a:srgbClr val="57d95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6" name=""/>
                  <p:cNvSpPr/>
                  <p:nvPr/>
                </p:nvSpPr>
                <p:spPr>
                  <a:xfrm>
                    <a:off x="2783520" y="1733760"/>
                    <a:ext cx="5400" cy="3048840"/>
                  </a:xfrm>
                  <a:prstGeom prst="rect">
                    <a:avLst/>
                  </a:prstGeom>
                  <a:solidFill>
                    <a:srgbClr val="55d85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7" name=""/>
                  <p:cNvSpPr/>
                  <p:nvPr/>
                </p:nvSpPr>
                <p:spPr>
                  <a:xfrm>
                    <a:off x="2788920" y="1733760"/>
                    <a:ext cx="3240" cy="3048840"/>
                  </a:xfrm>
                  <a:prstGeom prst="rect">
                    <a:avLst/>
                  </a:prstGeom>
                  <a:solidFill>
                    <a:srgbClr val="54d75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8" name=""/>
                  <p:cNvSpPr/>
                  <p:nvPr/>
                </p:nvSpPr>
                <p:spPr>
                  <a:xfrm>
                    <a:off x="2792520" y="1733760"/>
                    <a:ext cx="4320" cy="3048840"/>
                  </a:xfrm>
                  <a:prstGeom prst="rect">
                    <a:avLst/>
                  </a:prstGeom>
                  <a:solidFill>
                    <a:srgbClr val="52d75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9" name=""/>
                  <p:cNvSpPr/>
                  <p:nvPr/>
                </p:nvSpPr>
                <p:spPr>
                  <a:xfrm>
                    <a:off x="2796840" y="1733760"/>
                    <a:ext cx="5400" cy="3048840"/>
                  </a:xfrm>
                  <a:prstGeom prst="rect">
                    <a:avLst/>
                  </a:prstGeom>
                  <a:solidFill>
                    <a:srgbClr val="51d65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>
                    <a:off x="2802240" y="1733760"/>
                    <a:ext cx="4320" cy="3048840"/>
                  </a:xfrm>
                  <a:prstGeom prst="rect">
                    <a:avLst/>
                  </a:prstGeom>
                  <a:solidFill>
                    <a:srgbClr val="4fd64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2806560" y="1733760"/>
                    <a:ext cx="3240" cy="3048840"/>
                  </a:xfrm>
                  <a:prstGeom prst="rect">
                    <a:avLst/>
                  </a:prstGeom>
                  <a:solidFill>
                    <a:srgbClr val="4ed54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2" name=""/>
                  <p:cNvSpPr/>
                  <p:nvPr/>
                </p:nvSpPr>
                <p:spPr>
                  <a:xfrm>
                    <a:off x="2810160" y="1733760"/>
                    <a:ext cx="5400" cy="3048840"/>
                  </a:xfrm>
                  <a:prstGeom prst="rect">
                    <a:avLst/>
                  </a:prstGeom>
                  <a:solidFill>
                    <a:srgbClr val="4cd44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3" name=""/>
                  <p:cNvSpPr/>
                  <p:nvPr/>
                </p:nvSpPr>
                <p:spPr>
                  <a:xfrm>
                    <a:off x="2815560" y="1733760"/>
                    <a:ext cx="4320" cy="3048840"/>
                  </a:xfrm>
                  <a:prstGeom prst="rect">
                    <a:avLst/>
                  </a:prstGeom>
                  <a:solidFill>
                    <a:srgbClr val="4bd44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4" name=""/>
                  <p:cNvSpPr/>
                  <p:nvPr/>
                </p:nvSpPr>
                <p:spPr>
                  <a:xfrm>
                    <a:off x="2819880" y="1733760"/>
                    <a:ext cx="5040" cy="3048840"/>
                  </a:xfrm>
                  <a:prstGeom prst="rect">
                    <a:avLst/>
                  </a:prstGeom>
                  <a:solidFill>
                    <a:srgbClr val="4ad34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5" name=""/>
                  <p:cNvSpPr/>
                  <p:nvPr/>
                </p:nvSpPr>
                <p:spPr>
                  <a:xfrm>
                    <a:off x="2825280" y="1733760"/>
                    <a:ext cx="4320" cy="3048840"/>
                  </a:xfrm>
                  <a:prstGeom prst="rect">
                    <a:avLst/>
                  </a:prstGeom>
                  <a:solidFill>
                    <a:srgbClr val="48d34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6" name=""/>
                  <p:cNvSpPr/>
                  <p:nvPr/>
                </p:nvSpPr>
                <p:spPr>
                  <a:xfrm>
                    <a:off x="2829600" y="1733760"/>
                    <a:ext cx="3600" cy="3048840"/>
                  </a:xfrm>
                  <a:prstGeom prst="rect">
                    <a:avLst/>
                  </a:prstGeom>
                  <a:solidFill>
                    <a:srgbClr val="47d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>
                    <a:off x="2833200" y="1733760"/>
                    <a:ext cx="5400" cy="3048840"/>
                  </a:xfrm>
                  <a:prstGeom prst="rect">
                    <a:avLst/>
                  </a:prstGeom>
                  <a:solidFill>
                    <a:srgbClr val="45d2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>
                    <a:off x="2838600" y="1733760"/>
                    <a:ext cx="4320" cy="3048840"/>
                  </a:xfrm>
                  <a:prstGeom prst="rect">
                    <a:avLst/>
                  </a:prstGeom>
                  <a:solidFill>
                    <a:srgbClr val="44d14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9" name=""/>
                  <p:cNvSpPr/>
                  <p:nvPr/>
                </p:nvSpPr>
                <p:spPr>
                  <a:xfrm>
                    <a:off x="2842920" y="1733760"/>
                    <a:ext cx="4320" cy="3048840"/>
                  </a:xfrm>
                  <a:prstGeom prst="rect">
                    <a:avLst/>
                  </a:prstGeom>
                  <a:solidFill>
                    <a:srgbClr val="43d14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0" name=""/>
                  <p:cNvSpPr/>
                  <p:nvPr/>
                </p:nvSpPr>
                <p:spPr>
                  <a:xfrm>
                    <a:off x="2847240" y="1733760"/>
                    <a:ext cx="4320" cy="3048840"/>
                  </a:xfrm>
                  <a:prstGeom prst="rect">
                    <a:avLst/>
                  </a:prstGeom>
                  <a:solidFill>
                    <a:srgbClr val="42d0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1" name=""/>
                  <p:cNvSpPr/>
                  <p:nvPr/>
                </p:nvSpPr>
                <p:spPr>
                  <a:xfrm>
                    <a:off x="2851920" y="1733760"/>
                    <a:ext cx="4320" cy="3048840"/>
                  </a:xfrm>
                  <a:prstGeom prst="rect">
                    <a:avLst/>
                  </a:prstGeom>
                  <a:solidFill>
                    <a:srgbClr val="41d0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2" name=""/>
                  <p:cNvSpPr/>
                  <p:nvPr/>
                </p:nvSpPr>
                <p:spPr>
                  <a:xfrm>
                    <a:off x="2856240" y="1733760"/>
                    <a:ext cx="5040" cy="3048840"/>
                  </a:xfrm>
                  <a:prstGeom prst="rect">
                    <a:avLst/>
                  </a:prstGeom>
                  <a:solidFill>
                    <a:srgbClr val="40d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3" name=""/>
                  <p:cNvSpPr/>
                  <p:nvPr/>
                </p:nvSpPr>
                <p:spPr>
                  <a:xfrm>
                    <a:off x="2861280" y="1733760"/>
                    <a:ext cx="4320" cy="3048840"/>
                  </a:xfrm>
                  <a:prstGeom prst="rect">
                    <a:avLst/>
                  </a:prstGeom>
                  <a:solidFill>
                    <a:srgbClr val="3fc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2865960" y="1733760"/>
                    <a:ext cx="3600" cy="3048840"/>
                  </a:xfrm>
                  <a:prstGeom prst="rect">
                    <a:avLst/>
                  </a:prstGeom>
                  <a:solidFill>
                    <a:srgbClr val="3ecf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2869560" y="1733760"/>
                    <a:ext cx="5040" cy="3048840"/>
                  </a:xfrm>
                  <a:prstGeom prst="rect">
                    <a:avLst/>
                  </a:prstGeom>
                  <a:solidFill>
                    <a:srgbClr val="3dcf3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6" name=""/>
                  <p:cNvSpPr/>
                  <p:nvPr/>
                </p:nvSpPr>
                <p:spPr>
                  <a:xfrm>
                    <a:off x="2874600" y="1733760"/>
                    <a:ext cx="4320" cy="3048840"/>
                  </a:xfrm>
                  <a:prstGeom prst="rect">
                    <a:avLst/>
                  </a:prstGeom>
                  <a:solidFill>
                    <a:srgbClr val="3cce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7" name=""/>
                  <p:cNvSpPr/>
                  <p:nvPr/>
                </p:nvSpPr>
                <p:spPr>
                  <a:xfrm>
                    <a:off x="2878920" y="1733760"/>
                    <a:ext cx="4320" cy="3048840"/>
                  </a:xfrm>
                  <a:prstGeom prst="rect">
                    <a:avLst/>
                  </a:prstGeom>
                  <a:solidFill>
                    <a:srgbClr val="3bce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2883600" y="1733760"/>
                    <a:ext cx="5400" cy="3048840"/>
                  </a:xfrm>
                  <a:prstGeom prst="rect">
                    <a:avLst/>
                  </a:prstGeom>
                  <a:solidFill>
                    <a:srgbClr val="3ace3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9" name=""/>
                  <p:cNvSpPr/>
                  <p:nvPr/>
                </p:nvSpPr>
                <p:spPr>
                  <a:xfrm>
                    <a:off x="2889000" y="1733760"/>
                    <a:ext cx="3240" cy="3048840"/>
                  </a:xfrm>
                  <a:prstGeom prst="rect">
                    <a:avLst/>
                  </a:prstGeom>
                  <a:solidFill>
                    <a:srgbClr val="39cd3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0" name=""/>
                  <p:cNvSpPr/>
                  <p:nvPr/>
                </p:nvSpPr>
                <p:spPr>
                  <a:xfrm>
                    <a:off x="2892240" y="1733760"/>
                    <a:ext cx="5400" cy="30488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2897640" y="1733760"/>
                    <a:ext cx="4320" cy="3048840"/>
                  </a:xfrm>
                  <a:prstGeom prst="rect">
                    <a:avLst/>
                  </a:prstGeom>
                  <a:solidFill>
                    <a:srgbClr val="38cd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>
                    <a:off x="2901960" y="1733760"/>
                    <a:ext cx="4320" cy="3048840"/>
                  </a:xfrm>
                  <a:prstGeom prst="rect">
                    <a:avLst/>
                  </a:prstGeom>
                  <a:solidFill>
                    <a:srgbClr val="37cd3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3" name=""/>
                  <p:cNvSpPr/>
                  <p:nvPr/>
                </p:nvSpPr>
                <p:spPr>
                  <a:xfrm>
                    <a:off x="2906640" y="1733760"/>
                    <a:ext cx="4320" cy="3048840"/>
                  </a:xfrm>
                  <a:prstGeom prst="rect">
                    <a:avLst/>
                  </a:prstGeom>
                  <a:solidFill>
                    <a:srgbClr val="36cd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4" name=""/>
                <p:cNvSpPr/>
                <p:nvPr/>
              </p:nvSpPr>
              <p:spPr>
                <a:xfrm>
                  <a:off x="2910960" y="1733760"/>
                  <a:ext cx="4320" cy="3048840"/>
                </a:xfrm>
                <a:prstGeom prst="rect">
                  <a:avLst/>
                </a:prstGeom>
                <a:solidFill>
                  <a:srgbClr val="35c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2915280" y="1733760"/>
                  <a:ext cx="4320" cy="3048840"/>
                </a:xfrm>
                <a:prstGeom prst="rect">
                  <a:avLst/>
                </a:prstGeom>
                <a:solidFill>
                  <a:srgbClr val="35cc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2919600" y="1733760"/>
                  <a:ext cx="5400" cy="3048840"/>
                </a:xfrm>
                <a:prstGeom prst="rect">
                  <a:avLst/>
                </a:prstGeom>
                <a:solidFill>
                  <a:srgbClr val="34c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2925000" y="1733760"/>
                  <a:ext cx="3240" cy="3048840"/>
                </a:xfrm>
                <a:prstGeom prst="rect">
                  <a:avLst/>
                </a:prstGeom>
                <a:solidFill>
                  <a:srgbClr val="34cc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2928600" y="1733760"/>
                  <a:ext cx="5400" cy="304884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>
                  <a:off x="2934000" y="1733760"/>
                  <a:ext cx="4320" cy="3048840"/>
                </a:xfrm>
                <a:prstGeom prst="rect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0" name=""/>
            <p:cNvGrpSpPr/>
            <p:nvPr/>
          </p:nvGrpSpPr>
          <p:grpSpPr>
            <a:xfrm>
              <a:off x="5743440" y="1679400"/>
              <a:ext cx="1254240" cy="3094920"/>
              <a:chOff x="5743440" y="1679400"/>
              <a:chExt cx="1254240" cy="3094920"/>
            </a:xfrm>
          </p:grpSpPr>
          <p:grpSp>
            <p:nvGrpSpPr>
              <p:cNvPr id="3511" name=""/>
              <p:cNvGrpSpPr/>
              <p:nvPr/>
            </p:nvGrpSpPr>
            <p:grpSpPr>
              <a:xfrm>
                <a:off x="5743440" y="1679400"/>
                <a:ext cx="1254240" cy="3094920"/>
                <a:chOff x="5743440" y="1679400"/>
                <a:chExt cx="1254240" cy="3094920"/>
              </a:xfrm>
            </p:grpSpPr>
            <p:sp>
              <p:nvSpPr>
                <p:cNvPr id="3512" name=""/>
                <p:cNvSpPr/>
                <p:nvPr/>
              </p:nvSpPr>
              <p:spPr>
                <a:xfrm>
                  <a:off x="6951600" y="1679400"/>
                  <a:ext cx="45720" cy="3094920"/>
                </a:xfrm>
                <a:custGeom>
                  <a:avLst/>
                  <a:gdLst/>
                  <a:ahLst/>
                  <a:rect l="l" t="t" r="r" b="b"/>
                  <a:pathLst>
                    <a:path w="38" h="1413">
                      <a:moveTo>
                        <a:pt x="0" y="1413"/>
                      </a:moveTo>
                      <a:lnTo>
                        <a:pt x="0" y="39"/>
                      </a:lnTo>
                      <a:lnTo>
                        <a:pt x="38" y="0"/>
                      </a:lnTo>
                      <a:lnTo>
                        <a:pt x="38" y="1318"/>
                      </a:lnTo>
                      <a:lnTo>
                        <a:pt x="0" y="1413"/>
                      </a:lnTo>
                      <a:close/>
                    </a:path>
                  </a:pathLst>
                </a:custGeom>
                <a:solidFill>
                  <a:srgbClr val="00b4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>
                  <a:off x="5743440" y="1679400"/>
                  <a:ext cx="1254240" cy="85320"/>
                </a:xfrm>
                <a:custGeom>
                  <a:avLst/>
                  <a:gdLst/>
                  <a:ahLst/>
                  <a:rect l="l" t="t" r="r" b="b"/>
                  <a:pathLst>
                    <a:path w="1041" h="39">
                      <a:moveTo>
                        <a:pt x="1003" y="39"/>
                      </a:moveTo>
                      <a:lnTo>
                        <a:pt x="0" y="39"/>
                      </a:lnTo>
                      <a:lnTo>
                        <a:pt x="79" y="0"/>
                      </a:lnTo>
                      <a:lnTo>
                        <a:pt x="1041" y="0"/>
                      </a:lnTo>
                      <a:lnTo>
                        <a:pt x="1003" y="39"/>
                      </a:lnTo>
                      <a:close/>
                    </a:path>
                  </a:pathLst>
                </a:custGeom>
                <a:solidFill>
                  <a:srgbClr val="0079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4" name=""/>
              <p:cNvGrpSpPr/>
              <p:nvPr/>
            </p:nvGrpSpPr>
            <p:grpSpPr>
              <a:xfrm>
                <a:off x="5743440" y="1764720"/>
                <a:ext cx="1207800" cy="3009600"/>
                <a:chOff x="5743440" y="1764720"/>
                <a:chExt cx="1207800" cy="3009600"/>
              </a:xfrm>
            </p:grpSpPr>
            <p:grpSp>
              <p:nvGrpSpPr>
                <p:cNvPr id="3515" name=""/>
                <p:cNvGrpSpPr/>
                <p:nvPr/>
              </p:nvGrpSpPr>
              <p:grpSpPr>
                <a:xfrm>
                  <a:off x="5743440" y="1764720"/>
                  <a:ext cx="784800" cy="3009240"/>
                  <a:chOff x="5743440" y="1764720"/>
                  <a:chExt cx="784800" cy="3009240"/>
                </a:xfrm>
              </p:grpSpPr>
              <p:sp>
                <p:nvSpPr>
                  <p:cNvPr id="3516" name=""/>
                  <p:cNvSpPr/>
                  <p:nvPr/>
                </p:nvSpPr>
                <p:spPr>
                  <a:xfrm>
                    <a:off x="5743440" y="1764720"/>
                    <a:ext cx="4680" cy="300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5748120" y="1764720"/>
                    <a:ext cx="3240" cy="3009240"/>
                  </a:xfrm>
                  <a:prstGeom prst="rect">
                    <a:avLst/>
                  </a:prstGeom>
                  <a:solidFill>
                    <a:srgbClr val="06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8" name=""/>
                  <p:cNvSpPr/>
                  <p:nvPr/>
                </p:nvSpPr>
                <p:spPr>
                  <a:xfrm>
                    <a:off x="5751720" y="1764720"/>
                    <a:ext cx="2160" cy="3009240"/>
                  </a:xfrm>
                  <a:prstGeom prst="rect">
                    <a:avLst/>
                  </a:prstGeom>
                  <a:solidFill>
                    <a:srgbClr val="09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9" name=""/>
                  <p:cNvSpPr/>
                  <p:nvPr/>
                </p:nvSpPr>
                <p:spPr>
                  <a:xfrm>
                    <a:off x="5754240" y="1764720"/>
                    <a:ext cx="4680" cy="3009240"/>
                  </a:xfrm>
                  <a:prstGeom prst="rect">
                    <a:avLst/>
                  </a:prstGeom>
                  <a:solidFill>
                    <a:srgbClr val="0a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0" name=""/>
                  <p:cNvSpPr/>
                  <p:nvPr/>
                </p:nvSpPr>
                <p:spPr>
                  <a:xfrm>
                    <a:off x="5759280" y="1764720"/>
                    <a:ext cx="4320" cy="3009240"/>
                  </a:xfrm>
                  <a:prstGeom prst="rect">
                    <a:avLst/>
                  </a:prstGeom>
                  <a:solidFill>
                    <a:srgbClr val="0c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1" name=""/>
                  <p:cNvSpPr/>
                  <p:nvPr/>
                </p:nvSpPr>
                <p:spPr>
                  <a:xfrm>
                    <a:off x="5763600" y="1764720"/>
                    <a:ext cx="3240" cy="3009240"/>
                  </a:xfrm>
                  <a:prstGeom prst="rect">
                    <a:avLst/>
                  </a:prstGeom>
                  <a:solidFill>
                    <a:srgbClr val="0e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>
                    <a:off x="5767200" y="1764720"/>
                    <a:ext cx="2160" cy="3009240"/>
                  </a:xfrm>
                  <a:prstGeom prst="rect">
                    <a:avLst/>
                  </a:prstGeom>
                  <a:solidFill>
                    <a:srgbClr val="0f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5769720" y="1764720"/>
                    <a:ext cx="4680" cy="3009240"/>
                  </a:xfrm>
                  <a:prstGeom prst="rect">
                    <a:avLst/>
                  </a:prstGeom>
                  <a:solidFill>
                    <a:srgbClr val="11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>
                    <a:off x="5774760" y="1764720"/>
                    <a:ext cx="3240" cy="3009240"/>
                  </a:xfrm>
                  <a:prstGeom prst="rect">
                    <a:avLst/>
                  </a:prstGeom>
                  <a:solidFill>
                    <a:srgbClr val="13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>
                    <a:off x="5778360" y="1764720"/>
                    <a:ext cx="4680" cy="3009240"/>
                  </a:xfrm>
                  <a:prstGeom prst="rect">
                    <a:avLst/>
                  </a:prstGeom>
                  <a:solidFill>
                    <a:srgbClr val="13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5783040" y="1764720"/>
                    <a:ext cx="3240" cy="3009240"/>
                  </a:xfrm>
                  <a:prstGeom prst="rect">
                    <a:avLst/>
                  </a:prstGeom>
                  <a:solidFill>
                    <a:srgbClr val="15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>
                    <a:off x="5786640" y="1764720"/>
                    <a:ext cx="3240" cy="3009240"/>
                  </a:xfrm>
                  <a:prstGeom prst="rect">
                    <a:avLst/>
                  </a:prstGeom>
                  <a:solidFill>
                    <a:srgbClr val="17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5790240" y="1764720"/>
                    <a:ext cx="3240" cy="3009240"/>
                  </a:xfrm>
                  <a:prstGeom prst="rect">
                    <a:avLst/>
                  </a:prstGeom>
                  <a:solidFill>
                    <a:srgbClr val="17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5793840" y="1764720"/>
                    <a:ext cx="4680" cy="3009240"/>
                  </a:xfrm>
                  <a:prstGeom prst="rect">
                    <a:avLst/>
                  </a:prstGeom>
                  <a:solidFill>
                    <a:srgbClr val="19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5798880" y="1764720"/>
                    <a:ext cx="3240" cy="3009240"/>
                  </a:xfrm>
                  <a:prstGeom prst="rect">
                    <a:avLst/>
                  </a:prstGeom>
                  <a:solidFill>
                    <a:srgbClr val="1a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5802120" y="1764720"/>
                    <a:ext cx="3600" cy="3009240"/>
                  </a:xfrm>
                  <a:prstGeom prst="rect">
                    <a:avLst/>
                  </a:prstGeom>
                  <a:solidFill>
                    <a:srgbClr val="1bcd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5806080" y="1764720"/>
                    <a:ext cx="3240" cy="3009240"/>
                  </a:xfrm>
                  <a:prstGeom prst="rect">
                    <a:avLst/>
                  </a:prstGeom>
                  <a:solidFill>
                    <a:srgbClr val="1d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5809680" y="1764720"/>
                    <a:ext cx="4320" cy="3009240"/>
                  </a:xfrm>
                  <a:prstGeom prst="rect">
                    <a:avLst/>
                  </a:prstGeom>
                  <a:solidFill>
                    <a:srgbClr val="1e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>
                    <a:off x="5814360" y="1764720"/>
                    <a:ext cx="3600" cy="3009240"/>
                  </a:xfrm>
                  <a:prstGeom prst="rect">
                    <a:avLst/>
                  </a:prstGeom>
                  <a:solidFill>
                    <a:srgbClr val="1f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5817960" y="1764720"/>
                    <a:ext cx="3240" cy="3009240"/>
                  </a:xfrm>
                  <a:prstGeom prst="rect">
                    <a:avLst/>
                  </a:prstGeom>
                  <a:solidFill>
                    <a:srgbClr val="20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5821560" y="1764720"/>
                    <a:ext cx="3240" cy="3009240"/>
                  </a:xfrm>
                  <a:prstGeom prst="rect">
                    <a:avLst/>
                  </a:prstGeom>
                  <a:solidFill>
                    <a:srgbClr val="22c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5825160" y="1764720"/>
                    <a:ext cx="4680" cy="3009240"/>
                  </a:xfrm>
                  <a:prstGeom prst="rect">
                    <a:avLst/>
                  </a:prstGeom>
                  <a:solidFill>
                    <a:srgbClr val="23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5830200" y="1764720"/>
                    <a:ext cx="3240" cy="3009240"/>
                  </a:xfrm>
                  <a:prstGeom prst="rect">
                    <a:avLst/>
                  </a:prstGeom>
                  <a:solidFill>
                    <a:srgbClr val="24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5833800" y="1764720"/>
                    <a:ext cx="4680" cy="3009240"/>
                  </a:xfrm>
                  <a:prstGeom prst="rect">
                    <a:avLst/>
                  </a:prstGeom>
                  <a:solidFill>
                    <a:srgbClr val="26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5838480" y="1764720"/>
                    <a:ext cx="2160" cy="3009240"/>
                  </a:xfrm>
                  <a:prstGeom prst="rect">
                    <a:avLst/>
                  </a:prstGeom>
                  <a:solidFill>
                    <a:srgbClr val="27cf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5840640" y="1764720"/>
                    <a:ext cx="4680" cy="3009240"/>
                  </a:xfrm>
                  <a:prstGeom prst="rect">
                    <a:avLst/>
                  </a:prstGeom>
                  <a:solidFill>
                    <a:srgbClr val="28cf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5845680" y="1764720"/>
                    <a:ext cx="3240" cy="3009240"/>
                  </a:xfrm>
                  <a:prstGeom prst="rect">
                    <a:avLst/>
                  </a:prstGeom>
                  <a:solidFill>
                    <a:srgbClr val="2a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5849280" y="1764720"/>
                    <a:ext cx="4680" cy="3009240"/>
                  </a:xfrm>
                  <a:prstGeom prst="rect">
                    <a:avLst/>
                  </a:prstGeom>
                  <a:solidFill>
                    <a:srgbClr val="2a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5854320" y="1764720"/>
                    <a:ext cx="2160" cy="3009240"/>
                  </a:xfrm>
                  <a:prstGeom prst="rect">
                    <a:avLst/>
                  </a:prstGeom>
                  <a:solidFill>
                    <a:srgbClr val="2cd0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5856480" y="1764720"/>
                    <a:ext cx="4320" cy="3009240"/>
                  </a:xfrm>
                  <a:prstGeom prst="rect">
                    <a:avLst/>
                  </a:prstGeom>
                  <a:solidFill>
                    <a:srgbClr val="2e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5861160" y="1764720"/>
                    <a:ext cx="3600" cy="3009240"/>
                  </a:xfrm>
                  <a:prstGeom prst="rect">
                    <a:avLst/>
                  </a:prstGeom>
                  <a:solidFill>
                    <a:srgbClr val="2e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5865120" y="1764720"/>
                    <a:ext cx="4320" cy="3009240"/>
                  </a:xfrm>
                  <a:prstGeom prst="rect">
                    <a:avLst/>
                  </a:prstGeom>
                  <a:solidFill>
                    <a:srgbClr val="30d1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5869800" y="1764720"/>
                    <a:ext cx="3600" cy="3009240"/>
                  </a:xfrm>
                  <a:prstGeom prst="rect">
                    <a:avLst/>
                  </a:prstGeom>
                  <a:solidFill>
                    <a:srgbClr val="31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5873400" y="1764720"/>
                    <a:ext cx="3240" cy="3009240"/>
                  </a:xfrm>
                  <a:prstGeom prst="rect">
                    <a:avLst/>
                  </a:prstGeom>
                  <a:solidFill>
                    <a:srgbClr val="32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5877000" y="1764720"/>
                    <a:ext cx="3240" cy="3009240"/>
                  </a:xfrm>
                  <a:prstGeom prst="rect">
                    <a:avLst/>
                  </a:prstGeom>
                  <a:solidFill>
                    <a:srgbClr val="34d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5880600" y="1764720"/>
                    <a:ext cx="4680" cy="3009240"/>
                  </a:xfrm>
                  <a:prstGeom prst="rect">
                    <a:avLst/>
                  </a:prstGeom>
                  <a:solidFill>
                    <a:srgbClr val="35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5885640" y="1764720"/>
                    <a:ext cx="3240" cy="3009240"/>
                  </a:xfrm>
                  <a:prstGeom prst="rect">
                    <a:avLst/>
                  </a:prstGeom>
                  <a:solidFill>
                    <a:srgbClr val="36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5889240" y="1764720"/>
                    <a:ext cx="2160" cy="3009240"/>
                  </a:xfrm>
                  <a:prstGeom prst="rect">
                    <a:avLst/>
                  </a:prstGeom>
                  <a:solidFill>
                    <a:srgbClr val="38d3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5891400" y="1764720"/>
                    <a:ext cx="4320" cy="3009240"/>
                  </a:xfrm>
                  <a:prstGeom prst="rect">
                    <a:avLst/>
                  </a:prstGeom>
                  <a:solidFill>
                    <a:srgbClr val="39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5896080" y="1764720"/>
                    <a:ext cx="3600" cy="3009240"/>
                  </a:xfrm>
                  <a:prstGeom prst="rect">
                    <a:avLst/>
                  </a:prstGeom>
                  <a:solidFill>
                    <a:srgbClr val="3a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5900040" y="1764720"/>
                    <a:ext cx="4320" cy="3009240"/>
                  </a:xfrm>
                  <a:prstGeom prst="rect">
                    <a:avLst/>
                  </a:prstGeom>
                  <a:solidFill>
                    <a:srgbClr val="3cd4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5904720" y="1764720"/>
                    <a:ext cx="2160" cy="3009240"/>
                  </a:xfrm>
                  <a:prstGeom prst="rect">
                    <a:avLst/>
                  </a:prstGeom>
                  <a:solidFill>
                    <a:srgbClr val="3dd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5907240" y="1764720"/>
                    <a:ext cx="4680" cy="3009240"/>
                  </a:xfrm>
                  <a:prstGeom prst="rect">
                    <a:avLst/>
                  </a:prstGeom>
                  <a:solidFill>
                    <a:srgbClr val="3ed5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5911920" y="1764720"/>
                    <a:ext cx="3240" cy="3009240"/>
                  </a:xfrm>
                  <a:prstGeom prst="rect">
                    <a:avLst/>
                  </a:prstGeom>
                  <a:solidFill>
                    <a:srgbClr val="40d5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5915520" y="1764720"/>
                    <a:ext cx="4320" cy="3009240"/>
                  </a:xfrm>
                  <a:prstGeom prst="rect">
                    <a:avLst/>
                  </a:prstGeom>
                  <a:solidFill>
                    <a:srgbClr val="41d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>
                    <a:off x="5920200" y="1764720"/>
                    <a:ext cx="3600" cy="3009240"/>
                  </a:xfrm>
                  <a:prstGeom prst="rect">
                    <a:avLst/>
                  </a:prstGeom>
                  <a:solidFill>
                    <a:srgbClr val="42d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>
                    <a:off x="5924160" y="1764720"/>
                    <a:ext cx="3240" cy="3009240"/>
                  </a:xfrm>
                  <a:prstGeom prst="rect">
                    <a:avLst/>
                  </a:prstGeom>
                  <a:solidFill>
                    <a:srgbClr val="44d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>
                    <a:off x="5927760" y="1764720"/>
                    <a:ext cx="3240" cy="3009240"/>
                  </a:xfrm>
                  <a:prstGeom prst="rect">
                    <a:avLst/>
                  </a:prstGeom>
                  <a:solidFill>
                    <a:srgbClr val="45d7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>
                    <a:off x="5931000" y="1764720"/>
                    <a:ext cx="4680" cy="3009240"/>
                  </a:xfrm>
                  <a:prstGeom prst="rect">
                    <a:avLst/>
                  </a:prstGeom>
                  <a:solidFill>
                    <a:srgbClr val="46d7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5936040" y="1764720"/>
                    <a:ext cx="3240" cy="3009240"/>
                  </a:xfrm>
                  <a:prstGeom prst="rect">
                    <a:avLst/>
                  </a:prstGeom>
                  <a:solidFill>
                    <a:srgbClr val="48d8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5939640" y="1764720"/>
                    <a:ext cx="3240" cy="3009240"/>
                  </a:xfrm>
                  <a:prstGeom prst="rect">
                    <a:avLst/>
                  </a:prstGeom>
                  <a:solidFill>
                    <a:srgbClr val="49d8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5943240" y="1764720"/>
                    <a:ext cx="3600" cy="3009240"/>
                  </a:xfrm>
                  <a:prstGeom prst="rect">
                    <a:avLst/>
                  </a:prstGeom>
                  <a:solidFill>
                    <a:srgbClr val="4bd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5946840" y="1764720"/>
                    <a:ext cx="4320" cy="3009240"/>
                  </a:xfrm>
                  <a:prstGeom prst="rect">
                    <a:avLst/>
                  </a:prstGeom>
                  <a:solidFill>
                    <a:srgbClr val="4cd9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5951520" y="1764720"/>
                    <a:ext cx="3240" cy="3009240"/>
                  </a:xfrm>
                  <a:prstGeom prst="rect">
                    <a:avLst/>
                  </a:prstGeom>
                  <a:solidFill>
                    <a:srgbClr val="4dda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>
                    <a:off x="5955120" y="1764720"/>
                    <a:ext cx="4680" cy="3009240"/>
                  </a:xfrm>
                  <a:prstGeom prst="rect">
                    <a:avLst/>
                  </a:prstGeom>
                  <a:solidFill>
                    <a:srgbClr val="4fda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5960160" y="1764720"/>
                    <a:ext cx="2160" cy="3009240"/>
                  </a:xfrm>
                  <a:prstGeom prst="rect">
                    <a:avLst/>
                  </a:prstGeom>
                  <a:solidFill>
                    <a:srgbClr val="50db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5962680" y="1764720"/>
                    <a:ext cx="4320" cy="3009240"/>
                  </a:xfrm>
                  <a:prstGeom prst="rect">
                    <a:avLst/>
                  </a:prstGeom>
                  <a:solidFill>
                    <a:srgbClr val="51db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5967360" y="1764720"/>
                    <a:ext cx="3600" cy="3009240"/>
                  </a:xfrm>
                  <a:prstGeom prst="rect">
                    <a:avLst/>
                  </a:prstGeom>
                  <a:solidFill>
                    <a:srgbClr val="53dc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5970960" y="1764720"/>
                    <a:ext cx="4320" cy="3009240"/>
                  </a:xfrm>
                  <a:prstGeom prst="rect">
                    <a:avLst/>
                  </a:prstGeom>
                  <a:solidFill>
                    <a:srgbClr val="54dc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>
                    <a:off x="5975640" y="1764720"/>
                    <a:ext cx="2160" cy="3009240"/>
                  </a:xfrm>
                  <a:prstGeom prst="rect">
                    <a:avLst/>
                  </a:prstGeom>
                  <a:solidFill>
                    <a:srgbClr val="55dd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>
                    <a:off x="5978160" y="1764720"/>
                    <a:ext cx="4680" cy="3009240"/>
                  </a:xfrm>
                  <a:prstGeom prst="rect">
                    <a:avLst/>
                  </a:prstGeom>
                  <a:solidFill>
                    <a:srgbClr val="57dd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>
                    <a:off x="5983200" y="1764720"/>
                    <a:ext cx="3240" cy="3009240"/>
                  </a:xfrm>
                  <a:prstGeom prst="rect">
                    <a:avLst/>
                  </a:prstGeom>
                  <a:solidFill>
                    <a:srgbClr val="58de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>
                    <a:off x="5986440" y="1764720"/>
                    <a:ext cx="4680" cy="3009240"/>
                  </a:xfrm>
                  <a:prstGeom prst="rect">
                    <a:avLst/>
                  </a:prstGeom>
                  <a:solidFill>
                    <a:srgbClr val="59de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>
                    <a:off x="5991480" y="1764720"/>
                    <a:ext cx="2160" cy="3009240"/>
                  </a:xfrm>
                  <a:prstGeom prst="rect">
                    <a:avLst/>
                  </a:prstGeom>
                  <a:solidFill>
                    <a:srgbClr val="5bdf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5993640" y="1764720"/>
                    <a:ext cx="4680" cy="3009240"/>
                  </a:xfrm>
                  <a:prstGeom prst="rect">
                    <a:avLst/>
                  </a:prstGeom>
                  <a:solidFill>
                    <a:srgbClr val="5ce0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5998680" y="1764720"/>
                    <a:ext cx="3240" cy="3009240"/>
                  </a:xfrm>
                  <a:prstGeom prst="rect">
                    <a:avLst/>
                  </a:prstGeom>
                  <a:solidFill>
                    <a:srgbClr val="5de0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6002280" y="1764720"/>
                    <a:ext cx="4680" cy="3009240"/>
                  </a:xfrm>
                  <a:prstGeom prst="rect">
                    <a:avLst/>
                  </a:prstGeom>
                  <a:solidFill>
                    <a:srgbClr val="5fe1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6006960" y="1764720"/>
                    <a:ext cx="3240" cy="3009240"/>
                  </a:xfrm>
                  <a:prstGeom prst="rect">
                    <a:avLst/>
                  </a:prstGeom>
                  <a:solidFill>
                    <a:srgbClr val="60e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>
                    <a:off x="6010560" y="1764720"/>
                    <a:ext cx="2160" cy="3009240"/>
                  </a:xfrm>
                  <a:prstGeom prst="rect">
                    <a:avLst/>
                  </a:prstGeom>
                  <a:solidFill>
                    <a:srgbClr val="61e2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>
                    <a:off x="6013080" y="1764720"/>
                    <a:ext cx="4680" cy="3009240"/>
                  </a:xfrm>
                  <a:prstGeom prst="rect">
                    <a:avLst/>
                  </a:prstGeom>
                  <a:solidFill>
                    <a:srgbClr val="62e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6018120" y="1764720"/>
                    <a:ext cx="4320" cy="3009240"/>
                  </a:xfrm>
                  <a:prstGeom prst="rect">
                    <a:avLst/>
                  </a:prstGeom>
                  <a:solidFill>
                    <a:srgbClr val="64e3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6022800" y="1764720"/>
                    <a:ext cx="3600" cy="3009240"/>
                  </a:xfrm>
                  <a:prstGeom prst="rect">
                    <a:avLst/>
                  </a:prstGeom>
                  <a:solidFill>
                    <a:srgbClr val="65e3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6026400" y="1764720"/>
                    <a:ext cx="2160" cy="3009240"/>
                  </a:xfrm>
                  <a:prstGeom prst="rect">
                    <a:avLst/>
                  </a:prstGeom>
                  <a:solidFill>
                    <a:srgbClr val="66e4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>
                    <a:off x="6028560" y="1764720"/>
                    <a:ext cx="4680" cy="3009240"/>
                  </a:xfrm>
                  <a:prstGeom prst="rect">
                    <a:avLst/>
                  </a:prstGeom>
                  <a:solidFill>
                    <a:srgbClr val="68e5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>
                    <a:off x="6033600" y="1764720"/>
                    <a:ext cx="3240" cy="3009240"/>
                  </a:xfrm>
                  <a:prstGeom prst="rect">
                    <a:avLst/>
                  </a:prstGeom>
                  <a:solidFill>
                    <a:srgbClr val="68e5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>
                    <a:off x="6037200" y="1764720"/>
                    <a:ext cx="4680" cy="3009240"/>
                  </a:xfrm>
                  <a:prstGeom prst="rect">
                    <a:avLst/>
                  </a:prstGeom>
                  <a:solidFill>
                    <a:srgbClr val="6ae6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6042240" y="1764720"/>
                    <a:ext cx="4680" cy="3009240"/>
                  </a:xfrm>
                  <a:prstGeom prst="rect">
                    <a:avLst/>
                  </a:prstGeom>
                  <a:solidFill>
                    <a:srgbClr val="6be6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>
                    <a:off x="6046920" y="1764720"/>
                    <a:ext cx="2160" cy="3009240"/>
                  </a:xfrm>
                  <a:prstGeom prst="rect">
                    <a:avLst/>
                  </a:prstGeom>
                  <a:solidFill>
                    <a:srgbClr val="6ce7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6049080" y="1764720"/>
                    <a:ext cx="3600" cy="3009240"/>
                  </a:xfrm>
                  <a:prstGeom prst="rect">
                    <a:avLst/>
                  </a:prstGeom>
                  <a:solidFill>
                    <a:srgbClr val="6de7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6053040" y="1764720"/>
                    <a:ext cx="4320" cy="3009240"/>
                  </a:xfrm>
                  <a:prstGeom prst="rect">
                    <a:avLst/>
                  </a:prstGeom>
                  <a:solidFill>
                    <a:srgbClr val="6fe8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6057720" y="1764720"/>
                    <a:ext cx="3240" cy="3009240"/>
                  </a:xfrm>
                  <a:prstGeom prst="rect">
                    <a:avLst/>
                  </a:prstGeom>
                  <a:solidFill>
                    <a:srgbClr val="70e8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6061320" y="1764720"/>
                    <a:ext cx="3600" cy="3009240"/>
                  </a:xfrm>
                  <a:prstGeom prst="rect">
                    <a:avLst/>
                  </a:prstGeom>
                  <a:solidFill>
                    <a:srgbClr val="71e9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>
                    <a:off x="6064920" y="1764720"/>
                    <a:ext cx="3240" cy="3009240"/>
                  </a:xfrm>
                  <a:prstGeom prst="rect">
                    <a:avLst/>
                  </a:prstGeom>
                  <a:solidFill>
                    <a:srgbClr val="72ea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6068520" y="1764720"/>
                    <a:ext cx="4680" cy="3009240"/>
                  </a:xfrm>
                  <a:prstGeom prst="rect">
                    <a:avLst/>
                  </a:prstGeom>
                  <a:solidFill>
                    <a:srgbClr val="73ea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6073560" y="1764720"/>
                    <a:ext cx="3240" cy="3009240"/>
                  </a:xfrm>
                  <a:prstGeom prst="rect">
                    <a:avLst/>
                  </a:prstGeom>
                  <a:solidFill>
                    <a:srgbClr val="74eb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6077160" y="1764720"/>
                    <a:ext cx="3240" cy="3009240"/>
                  </a:xfrm>
                  <a:prstGeom prst="rect">
                    <a:avLst/>
                  </a:prstGeom>
                  <a:solidFill>
                    <a:srgbClr val="75eb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6080400" y="1764720"/>
                    <a:ext cx="3240" cy="3009240"/>
                  </a:xfrm>
                  <a:prstGeom prst="rect">
                    <a:avLst/>
                  </a:prstGeom>
                  <a:solidFill>
                    <a:srgbClr val="76eb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>
                    <a:off x="6084000" y="1764720"/>
                    <a:ext cx="4680" cy="3009240"/>
                  </a:xfrm>
                  <a:prstGeom prst="rect">
                    <a:avLst/>
                  </a:prstGeom>
                  <a:solidFill>
                    <a:srgbClr val="77ec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6089040" y="1764720"/>
                    <a:ext cx="3240" cy="3009240"/>
                  </a:xfrm>
                  <a:prstGeom prst="rect">
                    <a:avLst/>
                  </a:prstGeom>
                  <a:solidFill>
                    <a:srgbClr val="79ed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6092640" y="1764720"/>
                    <a:ext cx="4680" cy="3009240"/>
                  </a:xfrm>
                  <a:prstGeom prst="rect">
                    <a:avLst/>
                  </a:prstGeom>
                  <a:solidFill>
                    <a:srgbClr val="79ed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6097680" y="1764720"/>
                    <a:ext cx="2160" cy="3009240"/>
                  </a:xfrm>
                  <a:prstGeom prst="rect">
                    <a:avLst/>
                  </a:prstGeom>
                  <a:solidFill>
                    <a:srgbClr val="7aee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6099840" y="1764720"/>
                    <a:ext cx="4320" cy="3009240"/>
                  </a:xfrm>
                  <a:prstGeom prst="rect">
                    <a:avLst/>
                  </a:prstGeom>
                  <a:solidFill>
                    <a:srgbClr val="7bee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6104520" y="1764720"/>
                    <a:ext cx="3240" cy="3009240"/>
                  </a:xfrm>
                  <a:prstGeom prst="rect">
                    <a:avLst/>
                  </a:prstGeom>
                  <a:solidFill>
                    <a:srgbClr val="7ce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6108120" y="1764720"/>
                    <a:ext cx="4680" cy="3009240"/>
                  </a:xfrm>
                  <a:prstGeom prst="rect">
                    <a:avLst/>
                  </a:prstGeom>
                  <a:solidFill>
                    <a:srgbClr val="7def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6113160" y="1764720"/>
                    <a:ext cx="2160" cy="3009240"/>
                  </a:xfrm>
                  <a:prstGeom prst="rect">
                    <a:avLst/>
                  </a:prstGeom>
                  <a:solidFill>
                    <a:srgbClr val="7ef0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6115680" y="1764720"/>
                    <a:ext cx="4680" cy="3009240"/>
                  </a:xfrm>
                  <a:prstGeom prst="rect">
                    <a:avLst/>
                  </a:prstGeom>
                  <a:solidFill>
                    <a:srgbClr val="7ff0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>
                    <a:off x="6120360" y="1764720"/>
                    <a:ext cx="3240" cy="3009240"/>
                  </a:xfrm>
                  <a:prstGeom prst="rect">
                    <a:avLst/>
                  </a:prstGeom>
                  <a:solidFill>
                    <a:srgbClr val="80f1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6123960" y="1764720"/>
                    <a:ext cx="4320" cy="3009240"/>
                  </a:xfrm>
                  <a:prstGeom prst="rect">
                    <a:avLst/>
                  </a:prstGeom>
                  <a:solidFill>
                    <a:srgbClr val="81f1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6128640" y="1764720"/>
                    <a:ext cx="3600" cy="3009240"/>
                  </a:xfrm>
                  <a:prstGeom prst="rect">
                    <a:avLst/>
                  </a:prstGeom>
                  <a:solidFill>
                    <a:srgbClr val="81f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6132600" y="1764720"/>
                    <a:ext cx="3240" cy="3009240"/>
                  </a:xfrm>
                  <a:prstGeom prst="rect">
                    <a:avLst/>
                  </a:prstGeom>
                  <a:solidFill>
                    <a:srgbClr val="82f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6136200" y="1764720"/>
                    <a:ext cx="3240" cy="3009240"/>
                  </a:xfrm>
                  <a:prstGeom prst="rect">
                    <a:avLst/>
                  </a:prstGeom>
                  <a:solidFill>
                    <a:srgbClr val="83f2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6139440" y="1764720"/>
                    <a:ext cx="4680" cy="3009240"/>
                  </a:xfrm>
                  <a:prstGeom prst="rect">
                    <a:avLst/>
                  </a:prstGeom>
                  <a:solidFill>
                    <a:srgbClr val="84f3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>
                    <a:off x="6144480" y="1764720"/>
                    <a:ext cx="3240" cy="3009240"/>
                  </a:xfrm>
                  <a:prstGeom prst="rect">
                    <a:avLst/>
                  </a:prstGeom>
                  <a:solidFill>
                    <a:srgbClr val="85f3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>
                    <a:off x="6148080" y="1764720"/>
                    <a:ext cx="2160" cy="3009240"/>
                  </a:xfrm>
                  <a:prstGeom prst="rect">
                    <a:avLst/>
                  </a:prstGeom>
                  <a:solidFill>
                    <a:srgbClr val="86f4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6150600" y="1764720"/>
                    <a:ext cx="4320" cy="3009240"/>
                  </a:xfrm>
                  <a:prstGeom prst="rect">
                    <a:avLst/>
                  </a:prstGeom>
                  <a:solidFill>
                    <a:srgbClr val="86f4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>
                    <a:off x="6155280" y="1764720"/>
                    <a:ext cx="4680" cy="3009240"/>
                  </a:xfrm>
                  <a:prstGeom prst="rect">
                    <a:avLst/>
                  </a:prstGeom>
                  <a:solidFill>
                    <a:srgbClr val="87f4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6159960" y="1764720"/>
                    <a:ext cx="3240" cy="3009240"/>
                  </a:xfrm>
                  <a:prstGeom prst="rect">
                    <a:avLst/>
                  </a:prstGeom>
                  <a:solidFill>
                    <a:srgbClr val="88f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6163560" y="1764720"/>
                    <a:ext cx="2160" cy="3009240"/>
                  </a:xfrm>
                  <a:prstGeom prst="rect">
                    <a:avLst/>
                  </a:prstGeom>
                  <a:solidFill>
                    <a:srgbClr val="88f5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6166080" y="1764720"/>
                    <a:ext cx="4680" cy="3009240"/>
                  </a:xfrm>
                  <a:prstGeom prst="rect">
                    <a:avLst/>
                  </a:prstGeom>
                  <a:solidFill>
                    <a:srgbClr val="89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6171120" y="1764720"/>
                    <a:ext cx="324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>
                    <a:off x="6174360" y="1764720"/>
                    <a:ext cx="468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>
                    <a:off x="6179400" y="1764720"/>
                    <a:ext cx="3240" cy="3009240"/>
                  </a:xfrm>
                  <a:prstGeom prst="rect">
                    <a:avLst/>
                  </a:prstGeom>
                  <a:solidFill>
                    <a:srgbClr val="8b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>
                    <a:off x="6183000" y="1764720"/>
                    <a:ext cx="324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6186600" y="1764720"/>
                    <a:ext cx="324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6190200" y="1764720"/>
                    <a:ext cx="468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6194880" y="1764720"/>
                    <a:ext cx="324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6198480" y="1764720"/>
                    <a:ext cx="3240" cy="3009240"/>
                  </a:xfrm>
                  <a:prstGeom prst="rect">
                    <a:avLst/>
                  </a:prstGeom>
                  <a:solidFill>
                    <a:srgbClr val="8e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6202080" y="1764720"/>
                    <a:ext cx="3600" cy="3009240"/>
                  </a:xfrm>
                  <a:prstGeom prst="rect">
                    <a:avLst/>
                  </a:prstGeom>
                  <a:solidFill>
                    <a:srgbClr val="8e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>
                    <a:off x="6206040" y="1764720"/>
                    <a:ext cx="432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>
                    <a:off x="6210720" y="1764720"/>
                    <a:ext cx="324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>
                    <a:off x="6213960" y="1764720"/>
                    <a:ext cx="4680" cy="3009240"/>
                  </a:xfrm>
                  <a:prstGeom prst="rect">
                    <a:avLst/>
                  </a:prstGeom>
                  <a:solidFill>
                    <a:srgbClr val="90f9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6219000" y="1764720"/>
                    <a:ext cx="2160" cy="3009240"/>
                  </a:xfrm>
                  <a:prstGeom prst="rect">
                    <a:avLst/>
                  </a:prstGeom>
                  <a:solidFill>
                    <a:srgbClr val="90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8" name=""/>
                  <p:cNvSpPr/>
                  <p:nvPr/>
                </p:nvSpPr>
                <p:spPr>
                  <a:xfrm>
                    <a:off x="6221520" y="1764720"/>
                    <a:ext cx="468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>
                    <a:off x="6226560" y="1764720"/>
                    <a:ext cx="324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>
                    <a:off x="6229800" y="1764720"/>
                    <a:ext cx="432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6234480" y="1764720"/>
                    <a:ext cx="216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6237000" y="1764720"/>
                    <a:ext cx="468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6242040" y="1764720"/>
                    <a:ext cx="324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6245640" y="1764720"/>
                    <a:ext cx="468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6250320" y="1764720"/>
                    <a:ext cx="2160" cy="3009240"/>
                  </a:xfrm>
                  <a:prstGeom prst="rect">
                    <a:avLst/>
                  </a:prstGeom>
                  <a:solidFill>
                    <a:srgbClr val="93fb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6252840" y="1764720"/>
                    <a:ext cx="432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6257520" y="1764720"/>
                    <a:ext cx="324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6261120" y="1764720"/>
                    <a:ext cx="468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>
                    <a:off x="6266160" y="1764720"/>
                    <a:ext cx="324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6269760" y="1764720"/>
                    <a:ext cx="216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6271920" y="1764720"/>
                    <a:ext cx="468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>
                    <a:off x="6276960" y="1764720"/>
                    <a:ext cx="432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>
                    <a:off x="6281640" y="1764720"/>
                    <a:ext cx="360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4" name=""/>
                  <p:cNvSpPr/>
                  <p:nvPr/>
                </p:nvSpPr>
                <p:spPr>
                  <a:xfrm>
                    <a:off x="6285600" y="1764720"/>
                    <a:ext cx="216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5" name=""/>
                  <p:cNvSpPr/>
                  <p:nvPr/>
                </p:nvSpPr>
                <p:spPr>
                  <a:xfrm>
                    <a:off x="6287760" y="1764720"/>
                    <a:ext cx="468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>
                    <a:off x="6292440" y="1764720"/>
                    <a:ext cx="324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6296040" y="1764720"/>
                    <a:ext cx="468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6301080" y="1764720"/>
                    <a:ext cx="468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6305760" y="1764720"/>
                    <a:ext cx="216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>
                    <a:off x="6307920" y="1764720"/>
                    <a:ext cx="360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>
                    <a:off x="6311880" y="1764720"/>
                    <a:ext cx="432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>
                    <a:off x="6316560" y="1764720"/>
                    <a:ext cx="360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>
                    <a:off x="6320520" y="17647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>
                    <a:off x="6323760" y="17647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6327360" y="17647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>
                    <a:off x="6332400" y="17647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>
                    <a:off x="6336000" y="17647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"/>
                  <p:cNvSpPr/>
                  <p:nvPr/>
                </p:nvSpPr>
                <p:spPr>
                  <a:xfrm>
                    <a:off x="6339600" y="17647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6343200" y="1764720"/>
                    <a:ext cx="4680" cy="300924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>
                    <a:off x="6347880" y="1764720"/>
                    <a:ext cx="3240" cy="3009240"/>
                  </a:xfrm>
                  <a:prstGeom prst="rect">
                    <a:avLst/>
                  </a:prstGeom>
                  <a:solidFill>
                    <a:srgbClr val="99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>
                    <a:off x="6351480" y="17647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>
                    <a:off x="6356520" y="1764720"/>
                    <a:ext cx="216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3" name=""/>
                  <p:cNvSpPr/>
                  <p:nvPr/>
                </p:nvSpPr>
                <p:spPr>
                  <a:xfrm>
                    <a:off x="6359040" y="1764720"/>
                    <a:ext cx="432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6363360" y="1764720"/>
                    <a:ext cx="324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>
                    <a:off x="6366960" y="17647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>
                    <a:off x="6372000" y="1764720"/>
                    <a:ext cx="216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>
                    <a:off x="6374520" y="1764720"/>
                    <a:ext cx="4680" cy="3009240"/>
                  </a:xfrm>
                  <a:prstGeom prst="rect">
                    <a:avLst/>
                  </a:prstGeom>
                  <a:solidFill>
                    <a:srgbClr val="98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>
                    <a:off x="6379200" y="1764720"/>
                    <a:ext cx="324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>
                    <a:off x="6382800" y="1764720"/>
                    <a:ext cx="432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>
                    <a:off x="6387480" y="1764720"/>
                    <a:ext cx="3600" cy="3009240"/>
                  </a:xfrm>
                  <a:prstGeom prst="rect">
                    <a:avLst/>
                  </a:prstGeom>
                  <a:solidFill>
                    <a:srgbClr val="97fe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6391440" y="1764720"/>
                    <a:ext cx="324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6395040" y="1764720"/>
                    <a:ext cx="3240" cy="3009240"/>
                  </a:xfrm>
                  <a:prstGeom prst="rect">
                    <a:avLst/>
                  </a:prstGeom>
                  <a:solidFill>
                    <a:srgbClr val="97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6398640" y="1764720"/>
                    <a:ext cx="468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6403320" y="1764720"/>
                    <a:ext cx="324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6406920" y="1764720"/>
                    <a:ext cx="216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6409440" y="1764720"/>
                    <a:ext cx="4320" cy="3009240"/>
                  </a:xfrm>
                  <a:prstGeom prst="rect">
                    <a:avLst/>
                  </a:prstGeom>
                  <a:solidFill>
                    <a:srgbClr val="96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6414120" y="1764720"/>
                    <a:ext cx="468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6419160" y="1764720"/>
                    <a:ext cx="3240" cy="3009240"/>
                  </a:xfrm>
                  <a:prstGeom prst="rect">
                    <a:avLst/>
                  </a:prstGeom>
                  <a:solidFill>
                    <a:srgbClr val="95fd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6422400" y="1764720"/>
                    <a:ext cx="216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>
                    <a:off x="6424920" y="1764720"/>
                    <a:ext cx="4680" cy="3009240"/>
                  </a:xfrm>
                  <a:prstGeom prst="rect">
                    <a:avLst/>
                  </a:prstGeom>
                  <a:solidFill>
                    <a:srgbClr val="95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6429960" y="1764720"/>
                    <a:ext cx="324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>
                    <a:off x="6433560" y="1764720"/>
                    <a:ext cx="468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>
                    <a:off x="6438240" y="1764720"/>
                    <a:ext cx="3240" cy="3009240"/>
                  </a:xfrm>
                  <a:prstGeom prst="rect">
                    <a:avLst/>
                  </a:prstGeom>
                  <a:solidFill>
                    <a:srgbClr val="94fc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>
                    <a:off x="6441840" y="1764720"/>
                    <a:ext cx="3240" cy="3009240"/>
                  </a:xfrm>
                  <a:prstGeom prst="rect">
                    <a:avLst/>
                  </a:prstGeom>
                  <a:solidFill>
                    <a:srgbClr val="93fb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>
                    <a:off x="6445440" y="1764720"/>
                    <a:ext cx="324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6449040" y="1764720"/>
                    <a:ext cx="4680" cy="3009240"/>
                  </a:xfrm>
                  <a:prstGeom prst="rect">
                    <a:avLst/>
                  </a:prstGeom>
                  <a:solidFill>
                    <a:srgbClr val="93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>
                    <a:off x="6454080" y="1764720"/>
                    <a:ext cx="324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6457320" y="1764720"/>
                    <a:ext cx="3240" cy="3009240"/>
                  </a:xfrm>
                  <a:prstGeom prst="rect">
                    <a:avLst/>
                  </a:prstGeom>
                  <a:solidFill>
                    <a:srgbClr val="92fb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>
                    <a:off x="6460920" y="1764720"/>
                    <a:ext cx="360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6464880" y="1764720"/>
                    <a:ext cx="432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6469560" y="1764720"/>
                    <a:ext cx="3600" cy="3009240"/>
                  </a:xfrm>
                  <a:prstGeom prst="rect">
                    <a:avLst/>
                  </a:prstGeom>
                  <a:solidFill>
                    <a:srgbClr val="91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6473160" y="1764720"/>
                    <a:ext cx="4320" cy="3009240"/>
                  </a:xfrm>
                  <a:prstGeom prst="rect">
                    <a:avLst/>
                  </a:prstGeom>
                  <a:solidFill>
                    <a:srgbClr val="90fa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6477840" y="1764720"/>
                    <a:ext cx="2160" cy="3009240"/>
                  </a:xfrm>
                  <a:prstGeom prst="rect">
                    <a:avLst/>
                  </a:prstGeom>
                  <a:solidFill>
                    <a:srgbClr val="90f9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6480360" y="1764720"/>
                    <a:ext cx="468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6485400" y="1764720"/>
                    <a:ext cx="3240" cy="3009240"/>
                  </a:xfrm>
                  <a:prstGeom prst="rect">
                    <a:avLst/>
                  </a:prstGeom>
                  <a:solidFill>
                    <a:srgbClr val="8f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6489000" y="1764720"/>
                    <a:ext cx="4680" cy="3009240"/>
                  </a:xfrm>
                  <a:prstGeom prst="rect">
                    <a:avLst/>
                  </a:prstGeom>
                  <a:solidFill>
                    <a:srgbClr val="8ef9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>
                    <a:off x="6493680" y="1764720"/>
                    <a:ext cx="2160" cy="3009240"/>
                  </a:xfrm>
                  <a:prstGeom prst="rect">
                    <a:avLst/>
                  </a:prstGeom>
                  <a:solidFill>
                    <a:srgbClr val="8e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6495840" y="1764720"/>
                    <a:ext cx="468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9" name=""/>
                  <p:cNvSpPr/>
                  <p:nvPr/>
                </p:nvSpPr>
                <p:spPr>
                  <a:xfrm>
                    <a:off x="6500880" y="1764720"/>
                    <a:ext cx="3240" cy="3009240"/>
                  </a:xfrm>
                  <a:prstGeom prst="rect">
                    <a:avLst/>
                  </a:prstGeom>
                  <a:solidFill>
                    <a:srgbClr val="8df8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6504480" y="1764720"/>
                    <a:ext cx="468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6509520" y="1764720"/>
                    <a:ext cx="2160" cy="3009240"/>
                  </a:xfrm>
                  <a:prstGeom prst="rect">
                    <a:avLst/>
                  </a:prstGeom>
                  <a:solidFill>
                    <a:srgbClr val="8c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6511680" y="1764720"/>
                    <a:ext cx="4320" cy="3009240"/>
                  </a:xfrm>
                  <a:prstGeom prst="rect">
                    <a:avLst/>
                  </a:prstGeom>
                  <a:solidFill>
                    <a:srgbClr val="8bf7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>
                    <a:off x="6516360" y="1764720"/>
                    <a:ext cx="360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6520320" y="1764720"/>
                    <a:ext cx="4320" cy="3009240"/>
                  </a:xfrm>
                  <a:prstGeom prst="rect">
                    <a:avLst/>
                  </a:prstGeom>
                  <a:solidFill>
                    <a:srgbClr val="8a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6525000" y="1764720"/>
                    <a:ext cx="3240" cy="3009240"/>
                  </a:xfrm>
                  <a:prstGeom prst="rect">
                    <a:avLst/>
                  </a:prstGeom>
                  <a:solidFill>
                    <a:srgbClr val="89f6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16" name=""/>
                <p:cNvSpPr/>
                <p:nvPr/>
              </p:nvSpPr>
              <p:spPr>
                <a:xfrm>
                  <a:off x="6528600" y="1764720"/>
                  <a:ext cx="3600" cy="3009600"/>
                </a:xfrm>
                <a:prstGeom prst="rect">
                  <a:avLst/>
                </a:prstGeom>
                <a:solidFill>
                  <a:srgbClr val="88f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6532560" y="1764720"/>
                  <a:ext cx="3240" cy="3009600"/>
                </a:xfrm>
                <a:prstGeom prst="rect">
                  <a:avLst/>
                </a:prstGeom>
                <a:solidFill>
                  <a:srgbClr val="88f5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6536160" y="1764720"/>
                  <a:ext cx="4320" cy="3009600"/>
                </a:xfrm>
                <a:prstGeom prst="rect">
                  <a:avLst/>
                </a:prstGeom>
                <a:solidFill>
                  <a:srgbClr val="87f4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6540480" y="1764720"/>
                  <a:ext cx="3600" cy="3009600"/>
                </a:xfrm>
                <a:prstGeom prst="rect">
                  <a:avLst/>
                </a:prstGeom>
                <a:solidFill>
                  <a:srgbClr val="86f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6544440" y="1764720"/>
                  <a:ext cx="2160" cy="3009600"/>
                </a:xfrm>
                <a:prstGeom prst="rect">
                  <a:avLst/>
                </a:prstGeom>
                <a:solidFill>
                  <a:srgbClr val="86f4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6546960" y="1764720"/>
                  <a:ext cx="4320" cy="3009600"/>
                </a:xfrm>
                <a:prstGeom prst="rect">
                  <a:avLst/>
                </a:prstGeom>
                <a:solidFill>
                  <a:srgbClr val="85f3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6551640" y="1764720"/>
                  <a:ext cx="3240" cy="3009600"/>
                </a:xfrm>
                <a:prstGeom prst="rect">
                  <a:avLst/>
                </a:prstGeom>
                <a:solidFill>
                  <a:srgbClr val="84f3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6555240" y="1764720"/>
                  <a:ext cx="4680" cy="3009600"/>
                </a:xfrm>
                <a:prstGeom prst="rect">
                  <a:avLst/>
                </a:prstGeom>
                <a:solidFill>
                  <a:srgbClr val="83f2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6559920" y="1764720"/>
                  <a:ext cx="4680" cy="3009600"/>
                </a:xfrm>
                <a:prstGeom prst="rect">
                  <a:avLst/>
                </a:prstGeom>
                <a:solidFill>
                  <a:srgbClr val="82f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6564960" y="1764720"/>
                  <a:ext cx="2160" cy="3009600"/>
                </a:xfrm>
                <a:prstGeom prst="rect">
                  <a:avLst/>
                </a:prstGeom>
                <a:solidFill>
                  <a:srgbClr val="81f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6567480" y="1764720"/>
                  <a:ext cx="3240" cy="3009600"/>
                </a:xfrm>
                <a:prstGeom prst="rect">
                  <a:avLst/>
                </a:prstGeom>
                <a:solidFill>
                  <a:srgbClr val="81f1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6571080" y="1764720"/>
                  <a:ext cx="4320" cy="3009600"/>
                </a:xfrm>
                <a:prstGeom prst="rect">
                  <a:avLst/>
                </a:prstGeom>
                <a:solidFill>
                  <a:srgbClr val="80f1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6575760" y="1764720"/>
                  <a:ext cx="3600" cy="3009600"/>
                </a:xfrm>
                <a:prstGeom prst="rect">
                  <a:avLst/>
                </a:prstGeom>
                <a:solidFill>
                  <a:srgbClr val="7ff0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6579360" y="1764720"/>
                  <a:ext cx="3240" cy="3009600"/>
                </a:xfrm>
                <a:prstGeom prst="rect">
                  <a:avLst/>
                </a:prstGeom>
                <a:solidFill>
                  <a:srgbClr val="7ef0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6582960" y="1764720"/>
                  <a:ext cx="3240" cy="3009600"/>
                </a:xfrm>
                <a:prstGeom prst="rect">
                  <a:avLst/>
                </a:prstGeom>
                <a:solidFill>
                  <a:srgbClr val="7d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6586560" y="1764720"/>
                  <a:ext cx="4680" cy="3009600"/>
                </a:xfrm>
                <a:prstGeom prst="rect">
                  <a:avLst/>
                </a:prstGeom>
                <a:solidFill>
                  <a:srgbClr val="7ce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6591600" y="1764720"/>
                  <a:ext cx="3240" cy="3009600"/>
                </a:xfrm>
                <a:prstGeom prst="rect">
                  <a:avLst/>
                </a:prstGeom>
                <a:solidFill>
                  <a:srgbClr val="7bee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6594840" y="1764720"/>
                  <a:ext cx="3240" cy="3009600"/>
                </a:xfrm>
                <a:prstGeom prst="rect">
                  <a:avLst/>
                </a:prstGeom>
                <a:solidFill>
                  <a:srgbClr val="7aee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598440" y="1764720"/>
                  <a:ext cx="3240" cy="3009600"/>
                </a:xfrm>
                <a:prstGeom prst="rect">
                  <a:avLst/>
                </a:prstGeom>
                <a:solidFill>
                  <a:srgbClr val="79ed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6602040" y="1764720"/>
                  <a:ext cx="4680" cy="3009600"/>
                </a:xfrm>
                <a:prstGeom prst="rect">
                  <a:avLst/>
                </a:prstGeom>
                <a:solidFill>
                  <a:srgbClr val="79ed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6607080" y="1764720"/>
                  <a:ext cx="3240" cy="3009600"/>
                </a:xfrm>
                <a:prstGeom prst="rect">
                  <a:avLst/>
                </a:prstGeom>
                <a:solidFill>
                  <a:srgbClr val="77ec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6610680" y="1764720"/>
                  <a:ext cx="4680" cy="3009600"/>
                </a:xfrm>
                <a:prstGeom prst="rect">
                  <a:avLst/>
                </a:prstGeom>
                <a:solidFill>
                  <a:srgbClr val="76eb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6615360" y="1764720"/>
                  <a:ext cx="2160" cy="3009600"/>
                </a:xfrm>
                <a:prstGeom prst="rect">
                  <a:avLst/>
                </a:prstGeom>
                <a:solidFill>
                  <a:srgbClr val="75eb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6617880" y="1764720"/>
                  <a:ext cx="4320" cy="3009600"/>
                </a:xfrm>
                <a:prstGeom prst="rect">
                  <a:avLst/>
                </a:prstGeom>
                <a:solidFill>
                  <a:srgbClr val="74eb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6622560" y="1764720"/>
                  <a:ext cx="3600" cy="3009600"/>
                </a:xfrm>
                <a:prstGeom prst="rect">
                  <a:avLst/>
                </a:prstGeom>
                <a:solidFill>
                  <a:srgbClr val="73ea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6626520" y="1764720"/>
                  <a:ext cx="4320" cy="3009600"/>
                </a:xfrm>
                <a:prstGeom prst="rect">
                  <a:avLst/>
                </a:prstGeom>
                <a:solidFill>
                  <a:srgbClr val="72ea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6631200" y="1764720"/>
                  <a:ext cx="2160" cy="3009600"/>
                </a:xfrm>
                <a:prstGeom prst="rect">
                  <a:avLst/>
                </a:prstGeom>
                <a:solidFill>
                  <a:srgbClr val="71e9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6633360" y="1764720"/>
                  <a:ext cx="4680" cy="3009600"/>
                </a:xfrm>
                <a:prstGeom prst="rect">
                  <a:avLst/>
                </a:prstGeom>
                <a:solidFill>
                  <a:srgbClr val="70e8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6638400" y="1764720"/>
                  <a:ext cx="3240" cy="3009600"/>
                </a:xfrm>
                <a:prstGeom prst="rect">
                  <a:avLst/>
                </a:prstGeom>
                <a:solidFill>
                  <a:srgbClr val="6fe8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6642000" y="1764720"/>
                  <a:ext cx="4680" cy="3009600"/>
                </a:xfrm>
                <a:prstGeom prst="rect">
                  <a:avLst/>
                </a:prstGeom>
                <a:solidFill>
                  <a:srgbClr val="6de7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6647040" y="1764720"/>
                  <a:ext cx="3240" cy="3009600"/>
                </a:xfrm>
                <a:prstGeom prst="rect">
                  <a:avLst/>
                </a:prstGeom>
                <a:solidFill>
                  <a:srgbClr val="6ce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6650640" y="1764720"/>
                  <a:ext cx="3240" cy="3009600"/>
                </a:xfrm>
                <a:prstGeom prst="rect">
                  <a:avLst/>
                </a:prstGeom>
                <a:solidFill>
                  <a:srgbClr val="6be6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6653880" y="1764720"/>
                  <a:ext cx="3240" cy="3009600"/>
                </a:xfrm>
                <a:prstGeom prst="rect">
                  <a:avLst/>
                </a:prstGeom>
                <a:solidFill>
                  <a:srgbClr val="6ae6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6657480" y="1764720"/>
                  <a:ext cx="4680" cy="3009600"/>
                </a:xfrm>
                <a:prstGeom prst="rect">
                  <a:avLst/>
                </a:prstGeom>
                <a:solidFill>
                  <a:srgbClr val="68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6662520" y="1764720"/>
                  <a:ext cx="3240" cy="3009600"/>
                </a:xfrm>
                <a:prstGeom prst="rect">
                  <a:avLst/>
                </a:prstGeom>
                <a:solidFill>
                  <a:srgbClr val="68e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6666120" y="1764720"/>
                  <a:ext cx="2160" cy="3009600"/>
                </a:xfrm>
                <a:prstGeom prst="rect">
                  <a:avLst/>
                </a:prstGeom>
                <a:solidFill>
                  <a:srgbClr val="66e4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6668640" y="1764720"/>
                  <a:ext cx="4680" cy="3009600"/>
                </a:xfrm>
                <a:prstGeom prst="rect">
                  <a:avLst/>
                </a:prstGeom>
                <a:solidFill>
                  <a:srgbClr val="65e3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6673320" y="1764720"/>
                  <a:ext cx="4320" cy="3009600"/>
                </a:xfrm>
                <a:prstGeom prst="rect">
                  <a:avLst/>
                </a:prstGeom>
                <a:solidFill>
                  <a:srgbClr val="64e3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6678000" y="1764720"/>
                  <a:ext cx="3240" cy="3009600"/>
                </a:xfrm>
                <a:prstGeom prst="rect">
                  <a:avLst/>
                </a:prstGeom>
                <a:solidFill>
                  <a:srgbClr val="62e2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6681600" y="1764720"/>
                  <a:ext cx="2160" cy="3009600"/>
                </a:xfrm>
                <a:prstGeom prst="rect">
                  <a:avLst/>
                </a:prstGeom>
                <a:solidFill>
                  <a:srgbClr val="61e2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>
                  <a:off x="6684120" y="1764720"/>
                  <a:ext cx="4680" cy="3009600"/>
                </a:xfrm>
                <a:prstGeom prst="rect">
                  <a:avLst/>
                </a:prstGeom>
                <a:solidFill>
                  <a:srgbClr val="60e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6689160" y="1764720"/>
                  <a:ext cx="3240" cy="3009600"/>
                </a:xfrm>
                <a:prstGeom prst="rect">
                  <a:avLst/>
                </a:prstGeom>
                <a:solidFill>
                  <a:srgbClr val="5fe1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6692400" y="1764720"/>
                  <a:ext cx="4680" cy="3009600"/>
                </a:xfrm>
                <a:prstGeom prst="rect">
                  <a:avLst/>
                </a:prstGeom>
                <a:solidFill>
                  <a:srgbClr val="5de0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6697440" y="1764720"/>
                  <a:ext cx="4320" cy="3009600"/>
                </a:xfrm>
                <a:prstGeom prst="rect">
                  <a:avLst/>
                </a:prstGeom>
                <a:solidFill>
                  <a:srgbClr val="5ce0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6702120" y="1764720"/>
                  <a:ext cx="2160" cy="3009600"/>
                </a:xfrm>
                <a:prstGeom prst="rect">
                  <a:avLst/>
                </a:prstGeom>
                <a:solidFill>
                  <a:srgbClr val="5bdf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6704640" y="1764720"/>
                  <a:ext cx="3240" cy="3009600"/>
                </a:xfrm>
                <a:prstGeom prst="rect">
                  <a:avLst/>
                </a:prstGeom>
                <a:solidFill>
                  <a:srgbClr val="59de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6708240" y="1764720"/>
                  <a:ext cx="4680" cy="3009600"/>
                </a:xfrm>
                <a:prstGeom prst="rect">
                  <a:avLst/>
                </a:prstGeom>
                <a:solidFill>
                  <a:srgbClr val="58de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6712920" y="1764720"/>
                  <a:ext cx="3240" cy="3009600"/>
                </a:xfrm>
                <a:prstGeom prst="rect">
                  <a:avLst/>
                </a:prstGeom>
                <a:solidFill>
                  <a:srgbClr val="57dd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6716520" y="1764720"/>
                  <a:ext cx="3600" cy="3009600"/>
                </a:xfrm>
                <a:prstGeom prst="rect">
                  <a:avLst/>
                </a:prstGeom>
                <a:solidFill>
                  <a:srgbClr val="55dd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6720480" y="1764720"/>
                  <a:ext cx="3240" cy="3009600"/>
                </a:xfrm>
                <a:prstGeom prst="rect">
                  <a:avLst/>
                </a:prstGeom>
                <a:solidFill>
                  <a:srgbClr val="54dc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6724080" y="1764720"/>
                  <a:ext cx="4320" cy="3009600"/>
                </a:xfrm>
                <a:prstGeom prst="rect">
                  <a:avLst/>
                </a:prstGeom>
                <a:solidFill>
                  <a:srgbClr val="53dc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6728760" y="1764720"/>
                  <a:ext cx="3600" cy="3009600"/>
                </a:xfrm>
                <a:prstGeom prst="rect">
                  <a:avLst/>
                </a:prstGeom>
                <a:solidFill>
                  <a:srgbClr val="51db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6732360" y="1764720"/>
                  <a:ext cx="4320" cy="3009600"/>
                </a:xfrm>
                <a:prstGeom prst="rect">
                  <a:avLst/>
                </a:prstGeom>
                <a:solidFill>
                  <a:srgbClr val="50db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6737040" y="1764720"/>
                  <a:ext cx="2160" cy="3009600"/>
                </a:xfrm>
                <a:prstGeom prst="rect">
                  <a:avLst/>
                </a:prstGeom>
                <a:solidFill>
                  <a:srgbClr val="4fda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6739560" y="1764720"/>
                  <a:ext cx="4680" cy="3009600"/>
                </a:xfrm>
                <a:prstGeom prst="rect">
                  <a:avLst/>
                </a:prstGeom>
                <a:solidFill>
                  <a:srgbClr val="4dda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>
                  <a:off x="6744600" y="1764720"/>
                  <a:ext cx="3240" cy="3009600"/>
                </a:xfrm>
                <a:prstGeom prst="rect">
                  <a:avLst/>
                </a:prstGeom>
                <a:solidFill>
                  <a:srgbClr val="4cd9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6747840" y="1764720"/>
                  <a:ext cx="4680" cy="3009600"/>
                </a:xfrm>
                <a:prstGeom prst="rect">
                  <a:avLst/>
                </a:prstGeom>
                <a:solidFill>
                  <a:srgbClr val="4bd9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6752880" y="1764720"/>
                  <a:ext cx="2160" cy="3009600"/>
                </a:xfrm>
                <a:prstGeom prst="rect">
                  <a:avLst/>
                </a:prstGeom>
                <a:solidFill>
                  <a:srgbClr val="49d8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6755040" y="1764720"/>
                  <a:ext cx="4680" cy="3009600"/>
                </a:xfrm>
                <a:prstGeom prst="rect">
                  <a:avLst/>
                </a:prstGeom>
                <a:solidFill>
                  <a:srgbClr val="48d8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6760080" y="1764720"/>
                  <a:ext cx="3240" cy="3009600"/>
                </a:xfrm>
                <a:prstGeom prst="rect">
                  <a:avLst/>
                </a:prstGeom>
                <a:solidFill>
                  <a:srgbClr val="46d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6763680" y="1764720"/>
                  <a:ext cx="4680" cy="3009600"/>
                </a:xfrm>
                <a:prstGeom prst="rect">
                  <a:avLst/>
                </a:prstGeom>
                <a:solidFill>
                  <a:srgbClr val="45d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6768360" y="1764720"/>
                  <a:ext cx="2160" cy="3009600"/>
                </a:xfrm>
                <a:prstGeom prst="rect">
                  <a:avLst/>
                </a:prstGeom>
                <a:solidFill>
                  <a:srgbClr val="44d7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6770880" y="1764720"/>
                  <a:ext cx="4320" cy="3009600"/>
                </a:xfrm>
                <a:prstGeom prst="rect">
                  <a:avLst/>
                </a:prstGeom>
                <a:solidFill>
                  <a:srgbClr val="42d6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6775560" y="1764720"/>
                  <a:ext cx="3600" cy="3009600"/>
                </a:xfrm>
                <a:prstGeom prst="rect">
                  <a:avLst/>
                </a:prstGeom>
                <a:solidFill>
                  <a:srgbClr val="41d6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6779520" y="1764720"/>
                  <a:ext cx="4320" cy="3009600"/>
                </a:xfrm>
                <a:prstGeom prst="rect">
                  <a:avLst/>
                </a:prstGeom>
                <a:solidFill>
                  <a:srgbClr val="40d5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>
                  <a:off x="6784200" y="1764720"/>
                  <a:ext cx="3240" cy="3009600"/>
                </a:xfrm>
                <a:prstGeom prst="rect">
                  <a:avLst/>
                </a:prstGeom>
                <a:solidFill>
                  <a:srgbClr val="3ed5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>
                  <a:off x="6787440" y="1764720"/>
                  <a:ext cx="3600" cy="3009600"/>
                </a:xfrm>
                <a:prstGeom prst="rect">
                  <a:avLst/>
                </a:prstGeom>
                <a:solidFill>
                  <a:srgbClr val="3dd4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>
                  <a:off x="6791400" y="1764720"/>
                  <a:ext cx="3240" cy="3009600"/>
                </a:xfrm>
                <a:prstGeom prst="rect">
                  <a:avLst/>
                </a:prstGeom>
                <a:solidFill>
                  <a:srgbClr val="3cd4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>
                  <a:off x="6795000" y="1764720"/>
                  <a:ext cx="4680" cy="3009600"/>
                </a:xfrm>
                <a:prstGeom prst="rect">
                  <a:avLst/>
                </a:prstGeom>
                <a:solidFill>
                  <a:srgbClr val="3ad4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>
                  <a:off x="6800040" y="1764720"/>
                  <a:ext cx="3240" cy="3009600"/>
                </a:xfrm>
                <a:prstGeom prst="rect">
                  <a:avLst/>
                </a:prstGeom>
                <a:solidFill>
                  <a:srgbClr val="39d3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>
                  <a:off x="6803280" y="1764720"/>
                  <a:ext cx="2160" cy="3009600"/>
                </a:xfrm>
                <a:prstGeom prst="rect">
                  <a:avLst/>
                </a:prstGeom>
                <a:solidFill>
                  <a:srgbClr val="38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6805800" y="1764720"/>
                  <a:ext cx="4320" cy="3009600"/>
                </a:xfrm>
                <a:prstGeom prst="rect">
                  <a:avLst/>
                </a:prstGeom>
                <a:solidFill>
                  <a:srgbClr val="36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>
                  <a:off x="6810480" y="1764720"/>
                  <a:ext cx="4680" cy="3009600"/>
                </a:xfrm>
                <a:prstGeom prst="rect">
                  <a:avLst/>
                </a:prstGeom>
                <a:solidFill>
                  <a:srgbClr val="35d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>
                  <a:off x="6815520" y="1764720"/>
                  <a:ext cx="3240" cy="3009600"/>
                </a:xfrm>
                <a:prstGeom prst="rect">
                  <a:avLst/>
                </a:prstGeom>
                <a:solidFill>
                  <a:srgbClr val="34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>
                  <a:off x="6819120" y="1764720"/>
                  <a:ext cx="4680" cy="3009600"/>
                </a:xfrm>
                <a:prstGeom prst="rect">
                  <a:avLst/>
                </a:prstGeom>
                <a:solidFill>
                  <a:srgbClr val="32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>
                  <a:off x="6823800" y="1764720"/>
                  <a:ext cx="2160" cy="3009600"/>
                </a:xfrm>
                <a:prstGeom prst="rect">
                  <a:avLst/>
                </a:prstGeom>
                <a:solidFill>
                  <a:srgbClr val="31d2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6826320" y="1764720"/>
                  <a:ext cx="3240" cy="3009600"/>
                </a:xfrm>
                <a:prstGeom prst="rect">
                  <a:avLst/>
                </a:prstGeom>
                <a:solidFill>
                  <a:srgbClr val="30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>
                  <a:off x="6829920" y="1764720"/>
                  <a:ext cx="4320" cy="3009600"/>
                </a:xfrm>
                <a:prstGeom prst="rect">
                  <a:avLst/>
                </a:prstGeom>
                <a:solidFill>
                  <a:srgbClr val="2e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>
                  <a:off x="6834600" y="1764720"/>
                  <a:ext cx="3600" cy="3009600"/>
                </a:xfrm>
                <a:prstGeom prst="rect">
                  <a:avLst/>
                </a:prstGeom>
                <a:solidFill>
                  <a:srgbClr val="2ed1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>
                  <a:off x="6838560" y="1764720"/>
                  <a:ext cx="3240" cy="3009600"/>
                </a:xfrm>
                <a:prstGeom prst="rect">
                  <a:avLst/>
                </a:prstGeom>
                <a:solidFill>
                  <a:srgbClr val="2c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>
                  <a:off x="6841800" y="1764720"/>
                  <a:ext cx="3240" cy="3009600"/>
                </a:xfrm>
                <a:prstGeom prst="rect">
                  <a:avLst/>
                </a:prstGeom>
                <a:solidFill>
                  <a:srgbClr val="2a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6845400" y="1764720"/>
                  <a:ext cx="4680" cy="3009600"/>
                </a:xfrm>
                <a:prstGeom prst="rect">
                  <a:avLst/>
                </a:prstGeom>
                <a:solidFill>
                  <a:srgbClr val="2ad0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>
                  <a:off x="6850440" y="1764720"/>
                  <a:ext cx="3240" cy="3009600"/>
                </a:xfrm>
                <a:prstGeom prst="rect">
                  <a:avLst/>
                </a:prstGeom>
                <a:solidFill>
                  <a:srgbClr val="28cf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>
                  <a:off x="6854040" y="1764720"/>
                  <a:ext cx="3240" cy="3009600"/>
                </a:xfrm>
                <a:prstGeom prst="rect">
                  <a:avLst/>
                </a:prstGeom>
                <a:solidFill>
                  <a:srgbClr val="27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>
                  <a:off x="6857640" y="1764720"/>
                  <a:ext cx="3240" cy="3009600"/>
                </a:xfrm>
                <a:prstGeom prst="rect">
                  <a:avLst/>
                </a:prstGeom>
                <a:solidFill>
                  <a:srgbClr val="26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>
                  <a:off x="6861240" y="1764720"/>
                  <a:ext cx="4680" cy="3009600"/>
                </a:xfrm>
                <a:prstGeom prst="rect">
                  <a:avLst/>
                </a:prstGeom>
                <a:solidFill>
                  <a:srgbClr val="24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6865920" y="1764720"/>
                  <a:ext cx="3240" cy="3009600"/>
                </a:xfrm>
                <a:prstGeom prst="rect">
                  <a:avLst/>
                </a:prstGeom>
                <a:solidFill>
                  <a:srgbClr val="23c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>
                  <a:off x="6869520" y="1764720"/>
                  <a:ext cx="4680" cy="3009600"/>
                </a:xfrm>
                <a:prstGeom prst="rect">
                  <a:avLst/>
                </a:prstGeom>
                <a:solidFill>
                  <a:srgbClr val="22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>
                  <a:off x="6874560" y="1764720"/>
                  <a:ext cx="2160" cy="3009600"/>
                </a:xfrm>
                <a:prstGeom prst="rect">
                  <a:avLst/>
                </a:prstGeom>
                <a:solidFill>
                  <a:srgbClr val="20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>
                  <a:off x="6877080" y="1764720"/>
                  <a:ext cx="4320" cy="3009600"/>
                </a:xfrm>
                <a:prstGeom prst="rect">
                  <a:avLst/>
                </a:prstGeom>
                <a:solidFill>
                  <a:srgbClr val="1f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>
                  <a:off x="6881400" y="1764720"/>
                  <a:ext cx="3600" cy="3009600"/>
                </a:xfrm>
                <a:prstGeom prst="rect">
                  <a:avLst/>
                </a:prstGeom>
                <a:solidFill>
                  <a:srgbClr val="1e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>
                  <a:off x="6885360" y="1764720"/>
                  <a:ext cx="4320" cy="3009600"/>
                </a:xfrm>
                <a:prstGeom prst="rect">
                  <a:avLst/>
                </a:prstGeom>
                <a:solidFill>
                  <a:srgbClr val="1dce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>
                  <a:off x="6890040" y="1764720"/>
                  <a:ext cx="2160" cy="3009600"/>
                </a:xfrm>
                <a:prstGeom prst="rect">
                  <a:avLst/>
                </a:prstGeom>
                <a:solidFill>
                  <a:srgbClr val="1b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>
                  <a:off x="6892560" y="1764720"/>
                  <a:ext cx="4680" cy="3009600"/>
                </a:xfrm>
                <a:prstGeom prst="rect">
                  <a:avLst/>
                </a:prstGeom>
                <a:solidFill>
                  <a:srgbClr val="1a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>
                  <a:off x="6897240" y="1764720"/>
                  <a:ext cx="3240" cy="3009600"/>
                </a:xfrm>
                <a:prstGeom prst="rect">
                  <a:avLst/>
                </a:prstGeom>
                <a:solidFill>
                  <a:srgbClr val="19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>
                  <a:off x="6900840" y="1764720"/>
                  <a:ext cx="4680" cy="3009600"/>
                </a:xfrm>
                <a:prstGeom prst="rect">
                  <a:avLst/>
                </a:prstGeom>
                <a:solidFill>
                  <a:srgbClr val="17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6905880" y="1764720"/>
                  <a:ext cx="3240" cy="3009600"/>
                </a:xfrm>
                <a:prstGeom prst="rect">
                  <a:avLst/>
                </a:prstGeom>
                <a:solidFill>
                  <a:srgbClr val="17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>
                  <a:off x="6909480" y="1764720"/>
                  <a:ext cx="3240" cy="3009600"/>
                </a:xfrm>
                <a:prstGeom prst="rect">
                  <a:avLst/>
                </a:prstGeom>
                <a:solidFill>
                  <a:srgbClr val="15cd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>
                  <a:off x="6913080" y="1764720"/>
                  <a:ext cx="3240" cy="3009600"/>
                </a:xfrm>
                <a:prstGeom prst="rect">
                  <a:avLst/>
                </a:prstGeom>
                <a:solidFill>
                  <a:srgbClr val="1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>
                  <a:off x="6916680" y="1764720"/>
                  <a:ext cx="4680" cy="3009600"/>
                </a:xfrm>
                <a:prstGeom prst="rect">
                  <a:avLst/>
                </a:prstGeom>
                <a:solidFill>
                  <a:srgbClr val="1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>
                  <a:off x="6921360" y="1764720"/>
                  <a:ext cx="3240" cy="3009600"/>
                </a:xfrm>
                <a:prstGeom prst="rect">
                  <a:avLst/>
                </a:prstGeom>
                <a:solidFill>
                  <a:srgbClr val="11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6924960" y="1764720"/>
                  <a:ext cx="3240" cy="3009600"/>
                </a:xfrm>
                <a:prstGeom prst="rect">
                  <a:avLst/>
                </a:prstGeom>
                <a:solidFill>
                  <a:srgbClr val="0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>
                  <a:off x="6928560" y="1764720"/>
                  <a:ext cx="3600" cy="3009600"/>
                </a:xfrm>
                <a:prstGeom prst="rect">
                  <a:avLst/>
                </a:prstGeom>
                <a:solidFill>
                  <a:srgbClr val="0e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>
                  <a:off x="6932520" y="1764720"/>
                  <a:ext cx="4320" cy="3009600"/>
                </a:xfrm>
                <a:prstGeom prst="rect">
                  <a:avLst/>
                </a:prstGeom>
                <a:solidFill>
                  <a:srgbClr val="0c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>
                  <a:off x="6937200" y="1764720"/>
                  <a:ext cx="3600" cy="3009600"/>
                </a:xfrm>
                <a:prstGeom prst="rect">
                  <a:avLst/>
                </a:prstGeom>
                <a:solidFill>
                  <a:srgbClr val="0a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>
                  <a:off x="6940800" y="1764720"/>
                  <a:ext cx="2160" cy="3009600"/>
                </a:xfrm>
                <a:prstGeom prst="rect">
                  <a:avLst/>
                </a:prstGeom>
                <a:solidFill>
                  <a:srgbClr val="09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6942960" y="1764720"/>
                  <a:ext cx="4680" cy="3009600"/>
                </a:xfrm>
                <a:prstGeom prst="rect">
                  <a:avLst/>
                </a:prstGeom>
                <a:solidFill>
                  <a:srgbClr val="06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>
                  <a:off x="6948000" y="1764720"/>
                  <a:ext cx="3240" cy="3009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4" name=""/>
            <p:cNvGrpSpPr/>
            <p:nvPr/>
          </p:nvGrpSpPr>
          <p:grpSpPr>
            <a:xfrm>
              <a:off x="6865920" y="1679400"/>
              <a:ext cx="2006640" cy="3094920"/>
              <a:chOff x="6865920" y="1679400"/>
              <a:chExt cx="2006640" cy="3094920"/>
            </a:xfrm>
          </p:grpSpPr>
          <p:grpSp>
            <p:nvGrpSpPr>
              <p:cNvPr id="3825" name=""/>
              <p:cNvGrpSpPr/>
              <p:nvPr/>
            </p:nvGrpSpPr>
            <p:grpSpPr>
              <a:xfrm>
                <a:off x="6865920" y="1679400"/>
                <a:ext cx="2006640" cy="3094920"/>
                <a:chOff x="6865920" y="1679400"/>
                <a:chExt cx="2006640" cy="3094920"/>
              </a:xfrm>
            </p:grpSpPr>
            <p:sp>
              <p:nvSpPr>
                <p:cNvPr id="3826" name=""/>
                <p:cNvSpPr/>
                <p:nvPr/>
              </p:nvSpPr>
              <p:spPr>
                <a:xfrm>
                  <a:off x="8818920" y="1679400"/>
                  <a:ext cx="53280" cy="3094920"/>
                </a:xfrm>
                <a:custGeom>
                  <a:avLst/>
                  <a:gdLst/>
                  <a:ahLst/>
                  <a:rect l="l" t="t" r="r" b="b"/>
                  <a:pathLst>
                    <a:path w="37" h="1744">
                      <a:moveTo>
                        <a:pt x="0" y="1744"/>
                      </a:moveTo>
                      <a:lnTo>
                        <a:pt x="0" y="39"/>
                      </a:lnTo>
                      <a:lnTo>
                        <a:pt x="37" y="0"/>
                      </a:lnTo>
                      <a:lnTo>
                        <a:pt x="37" y="1635"/>
                      </a:lnTo>
                      <a:lnTo>
                        <a:pt x="0" y="1744"/>
                      </a:lnTo>
                      <a:close/>
                    </a:path>
                  </a:pathLst>
                </a:custGeom>
                <a:solidFill>
                  <a:srgbClr val="e1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6865920" y="1679400"/>
                  <a:ext cx="2006640" cy="69120"/>
                </a:xfrm>
                <a:custGeom>
                  <a:avLst/>
                  <a:gdLst/>
                  <a:ahLst/>
                  <a:rect l="l" t="t" r="r" b="b"/>
                  <a:pathLst>
                    <a:path w="1391" h="39">
                      <a:moveTo>
                        <a:pt x="1354" y="39"/>
                      </a:moveTo>
                      <a:lnTo>
                        <a:pt x="0" y="39"/>
                      </a:lnTo>
                      <a:lnTo>
                        <a:pt x="93" y="0"/>
                      </a:lnTo>
                      <a:lnTo>
                        <a:pt x="1391" y="0"/>
                      </a:lnTo>
                      <a:lnTo>
                        <a:pt x="1354" y="39"/>
                      </a:lnTo>
                      <a:close/>
                    </a:path>
                  </a:pathLst>
                </a:custGeom>
                <a:solidFill>
                  <a:srgbClr val="985b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8" name=""/>
              <p:cNvGrpSpPr/>
              <p:nvPr/>
            </p:nvGrpSpPr>
            <p:grpSpPr>
              <a:xfrm>
                <a:off x="6865920" y="1748520"/>
                <a:ext cx="1952640" cy="3025800"/>
                <a:chOff x="6865920" y="1748520"/>
                <a:chExt cx="1952640" cy="3025800"/>
              </a:xfrm>
            </p:grpSpPr>
            <p:sp>
              <p:nvSpPr>
                <p:cNvPr id="3829" name=""/>
                <p:cNvSpPr/>
                <p:nvPr/>
              </p:nvSpPr>
              <p:spPr>
                <a:xfrm>
                  <a:off x="6865920" y="17485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6884280" y="1748520"/>
                  <a:ext cx="1872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6903360" y="17485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6922080" y="1748520"/>
                  <a:ext cx="1836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>
                  <a:off x="6940800" y="1748520"/>
                  <a:ext cx="1872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>
                  <a:off x="6959520" y="1748520"/>
                  <a:ext cx="183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6978240" y="1748520"/>
                  <a:ext cx="201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6998400" y="1748520"/>
                  <a:ext cx="1836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7017120" y="1748520"/>
                  <a:ext cx="1836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7035840" y="1748520"/>
                  <a:ext cx="18720" cy="302580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7054920" y="1748520"/>
                  <a:ext cx="18360" cy="302580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>
                  <a:off x="7073280" y="1748520"/>
                  <a:ext cx="18360" cy="302580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7092000" y="1748520"/>
                  <a:ext cx="17280" cy="3025800"/>
                </a:xfrm>
                <a:prstGeom prst="rect">
                  <a:avLst/>
                </a:prstGeom>
                <a:solidFill>
                  <a:srgbClr val="ff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7109280" y="1748520"/>
                  <a:ext cx="18360" cy="302580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>
                  <a:off x="7128000" y="1748520"/>
                  <a:ext cx="18720" cy="302580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7147080" y="1748520"/>
                  <a:ext cx="18360" cy="3025800"/>
                </a:xfrm>
                <a:prstGeom prst="rect">
                  <a:avLst/>
                </a:prstGeom>
                <a:solidFill>
                  <a:srgbClr val="ff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>
                  <a:off x="7165800" y="1748520"/>
                  <a:ext cx="18360" cy="302580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7184160" y="1748520"/>
                  <a:ext cx="18720" cy="302580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7203240" y="1748520"/>
                  <a:ext cx="18360" cy="3025800"/>
                </a:xfrm>
                <a:prstGeom prst="rect">
                  <a:avLst/>
                </a:prstGeom>
                <a:solidFill>
                  <a:srgbClr val="ff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>
                  <a:off x="7221960" y="1748520"/>
                  <a:ext cx="20160" cy="302580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>
                  <a:off x="7242120" y="1748520"/>
                  <a:ext cx="18360" cy="3025800"/>
                </a:xfrm>
                <a:prstGeom prst="rect">
                  <a:avLst/>
                </a:prstGeom>
                <a:solidFill>
                  <a:srgbClr val="ff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7260840" y="1748520"/>
                  <a:ext cx="18360" cy="3025800"/>
                </a:xfrm>
                <a:prstGeom prst="rect">
                  <a:avLst/>
                </a:prstGeom>
                <a:solidFill>
                  <a:srgbClr val="ff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>
                  <a:off x="7279560" y="1748520"/>
                  <a:ext cx="18720" cy="302580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7298640" y="1748520"/>
                  <a:ext cx="18360" cy="3025800"/>
                </a:xfrm>
                <a:prstGeom prst="rect">
                  <a:avLst/>
                </a:prstGeom>
                <a:solidFill>
                  <a:srgbClr val="ff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7317000" y="1748520"/>
                  <a:ext cx="18360" cy="302580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>
                  <a:off x="7335720" y="1748520"/>
                  <a:ext cx="18720" cy="3025800"/>
                </a:xfrm>
                <a:prstGeom prst="rect">
                  <a:avLst/>
                </a:prstGeom>
                <a:solidFill>
                  <a:srgbClr val="ff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>
                  <a:off x="7354800" y="1748520"/>
                  <a:ext cx="18360" cy="302580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>
                  <a:off x="7373520" y="1748520"/>
                  <a:ext cx="18360" cy="302580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7391880" y="1748520"/>
                  <a:ext cx="17280" cy="302580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>
                  <a:off x="7409520" y="1748520"/>
                  <a:ext cx="18720" cy="302580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>
                  <a:off x="7428240" y="1748520"/>
                  <a:ext cx="18360" cy="302580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>
                  <a:off x="7446960" y="1748520"/>
                  <a:ext cx="18360" cy="3025800"/>
                </a:xfrm>
                <a:prstGeom prst="rect">
                  <a:avLst/>
                </a:prstGeom>
                <a:solidFill>
                  <a:srgbClr val="ff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>
                  <a:off x="7465680" y="1748520"/>
                  <a:ext cx="20160" cy="302580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7485840" y="1748520"/>
                  <a:ext cx="18360" cy="3025800"/>
                </a:xfrm>
                <a:prstGeom prst="rect">
                  <a:avLst/>
                </a:pr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>
                  <a:off x="7504560" y="1748520"/>
                  <a:ext cx="18720" cy="302580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>
                  <a:off x="7523640" y="1748520"/>
                  <a:ext cx="18360" cy="302580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>
                  <a:off x="7542000" y="1748520"/>
                  <a:ext cx="18360" cy="3025800"/>
                </a:xfrm>
                <a:prstGeom prst="rect">
                  <a:avLst/>
                </a:prstGeom>
                <a:solidFill>
                  <a:srgbClr val="ff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>
                  <a:off x="7560720" y="1748520"/>
                  <a:ext cx="18720" cy="302580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7579800" y="1748520"/>
                  <a:ext cx="18360" cy="302580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7598520" y="1748520"/>
                  <a:ext cx="1836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7616880" y="1748520"/>
                  <a:ext cx="1872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7635960" y="1748520"/>
                  <a:ext cx="18360" cy="302580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7654680" y="1748520"/>
                  <a:ext cx="1836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7673400" y="1748520"/>
                  <a:ext cx="1728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7690680" y="1748520"/>
                  <a:ext cx="18720" cy="302580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>
                  <a:off x="7709760" y="1748520"/>
                  <a:ext cx="1980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>
                  <a:off x="7729560" y="1748520"/>
                  <a:ext cx="1872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7748640" y="1748520"/>
                  <a:ext cx="1836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7767360" y="17485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7785720" y="1748520"/>
                  <a:ext cx="1872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7804800" y="17485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7823520" y="1748520"/>
                  <a:ext cx="18360" cy="302580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7842240" y="1748520"/>
                  <a:ext cx="18720" cy="302580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7860960" y="17485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7879680" y="1748520"/>
                  <a:ext cx="1836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7898400" y="1748520"/>
                  <a:ext cx="18720" cy="3025800"/>
                </a:xfrm>
                <a:prstGeom prst="rect">
                  <a:avLst/>
                </a:prstGeom>
                <a:solidFill>
                  <a:srgbClr val="ff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7917480" y="1748520"/>
                  <a:ext cx="1836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7935840" y="1748520"/>
                  <a:ext cx="18360" cy="3025800"/>
                </a:xfrm>
                <a:prstGeom prst="rect">
                  <a:avLst/>
                </a:prstGeom>
                <a:solidFill>
                  <a:srgbClr val="ff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7954560" y="1748520"/>
                  <a:ext cx="20160" cy="302580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7974720" y="1748520"/>
                  <a:ext cx="18360" cy="3025800"/>
                </a:xfrm>
                <a:prstGeom prst="rect">
                  <a:avLst/>
                </a:prstGeom>
                <a:solidFill>
                  <a:srgbClr val="ff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>
                  <a:off x="7993440" y="1748520"/>
                  <a:ext cx="1872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>
                  <a:off x="8012520" y="1748520"/>
                  <a:ext cx="17280" cy="3025800"/>
                </a:xfrm>
                <a:prstGeom prst="rect">
                  <a:avLst/>
                </a:prstGeom>
                <a:solidFill>
                  <a:srgbClr val="ff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>
                  <a:off x="8029800" y="1748520"/>
                  <a:ext cx="18360" cy="3025800"/>
                </a:xfrm>
                <a:prstGeom prst="rect">
                  <a:avLst/>
                </a:prstGeom>
                <a:solidFill>
                  <a:srgbClr val="ff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8048520" y="1748520"/>
                  <a:ext cx="1836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>
                  <a:off x="8067240" y="1748520"/>
                  <a:ext cx="18720" cy="3025800"/>
                </a:xfrm>
                <a:prstGeom prst="rect">
                  <a:avLst/>
                </a:prstGeom>
                <a:solidFill>
                  <a:srgbClr val="ff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>
                  <a:off x="8085960" y="1748520"/>
                  <a:ext cx="18360" cy="3025800"/>
                </a:xfrm>
                <a:prstGeom prst="rect">
                  <a:avLst/>
                </a:prstGeom>
                <a:solidFill>
                  <a:srgbClr val="ff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>
                  <a:off x="8104680" y="1748520"/>
                  <a:ext cx="18360" cy="3025800"/>
                </a:xfrm>
                <a:prstGeom prst="rect">
                  <a:avLst/>
                </a:prstGeom>
                <a:solidFill>
                  <a:srgbClr val="ff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>
                  <a:off x="8123400" y="1748520"/>
                  <a:ext cx="18720" cy="3025800"/>
                </a:xfrm>
                <a:prstGeom prst="rect">
                  <a:avLst/>
                </a:prstGeom>
                <a:solidFill>
                  <a:srgbClr val="ff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8142480" y="1748520"/>
                  <a:ext cx="18360" cy="3025800"/>
                </a:xfrm>
                <a:prstGeom prst="rect">
                  <a:avLst/>
                </a:prstGeom>
                <a:solidFill>
                  <a:srgbClr val="ff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>
                  <a:off x="8160840" y="1748520"/>
                  <a:ext cx="18360" cy="3025800"/>
                </a:xfrm>
                <a:prstGeom prst="rect">
                  <a:avLst/>
                </a:prstGeom>
                <a:solidFill>
                  <a:srgbClr val="ff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>
                  <a:off x="8179560" y="1748520"/>
                  <a:ext cx="18360" cy="3025800"/>
                </a:xfrm>
                <a:prstGeom prst="rect">
                  <a:avLst/>
                </a:prstGeom>
                <a:solidFill>
                  <a:srgbClr val="f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>
                  <a:off x="8198280" y="1748520"/>
                  <a:ext cx="20160" cy="3025800"/>
                </a:xfrm>
                <a:prstGeom prst="rect">
                  <a:avLst/>
                </a:prstGeom>
                <a:solidFill>
                  <a:srgbClr val="ff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>
                  <a:off x="8218440" y="1748520"/>
                  <a:ext cx="18720" cy="3025800"/>
                </a:xfrm>
                <a:prstGeom prst="rect">
                  <a:avLst/>
                </a:prstGeom>
                <a:solidFill>
                  <a:srgbClr val="ff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8237520" y="1748520"/>
                  <a:ext cx="18360" cy="3025800"/>
                </a:xfrm>
                <a:prstGeom prst="rect">
                  <a:avLst/>
                </a:prstGeom>
                <a:solidFill>
                  <a:srgbClr val="ff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>
                  <a:off x="8256240" y="1748520"/>
                  <a:ext cx="18360" cy="3025800"/>
                </a:xfrm>
                <a:prstGeom prst="rect">
                  <a:avLst/>
                </a:prstGeom>
                <a:solidFill>
                  <a:srgbClr val="ff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>
                  <a:off x="8274960" y="1748520"/>
                  <a:ext cx="18720" cy="3025800"/>
                </a:xfrm>
                <a:prstGeom prst="rect">
                  <a:avLst/>
                </a:prstGeom>
                <a:solidFill>
                  <a:srgbClr val="ff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>
                  <a:off x="8293680" y="1748520"/>
                  <a:ext cx="18360" cy="3025800"/>
                </a:xfrm>
                <a:prstGeom prst="rect">
                  <a:avLst/>
                </a:prstGeom>
                <a:solidFill>
                  <a:srgbClr val="ff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>
                  <a:off x="8312400" y="1748520"/>
                  <a:ext cx="17280" cy="3025800"/>
                </a:xfrm>
                <a:prstGeom prst="rect">
                  <a:avLst/>
                </a:prstGeom>
                <a:solidFill>
                  <a:srgbClr val="ff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8329680" y="1748520"/>
                  <a:ext cx="18360" cy="3025800"/>
                </a:xfrm>
                <a:prstGeom prst="rect">
                  <a:avLst/>
                </a:prstGeom>
                <a:solidFill>
                  <a:srgbClr val="ff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8" name=""/>
                <p:cNvSpPr/>
                <p:nvPr/>
              </p:nvSpPr>
              <p:spPr>
                <a:xfrm>
                  <a:off x="8348400" y="1748520"/>
                  <a:ext cx="18360" cy="3025800"/>
                </a:xfrm>
                <a:prstGeom prst="rect">
                  <a:avLst/>
                </a:prstGeom>
                <a:solidFill>
                  <a:srgbClr val="ffb1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9" name=""/>
                <p:cNvSpPr/>
                <p:nvPr/>
              </p:nvSpPr>
              <p:spPr>
                <a:xfrm>
                  <a:off x="8367120" y="1748520"/>
                  <a:ext cx="18720" cy="3025800"/>
                </a:xfrm>
                <a:prstGeom prst="rect">
                  <a:avLst/>
                </a:prstGeom>
                <a:solidFill>
                  <a:srgbClr val="ff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>
                  <a:off x="8386200" y="1748520"/>
                  <a:ext cx="18360" cy="3025800"/>
                </a:xfrm>
                <a:prstGeom prst="rect">
                  <a:avLst/>
                </a:prstGeom>
                <a:solidFill>
                  <a:srgbClr val="ff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>
                  <a:off x="8404560" y="1748520"/>
                  <a:ext cx="18360" cy="3025800"/>
                </a:xfrm>
                <a:prstGeom prst="rect">
                  <a:avLst/>
                </a:prstGeom>
                <a:solidFill>
                  <a:srgbClr val="ff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8423280" y="1748520"/>
                  <a:ext cx="18720" cy="3025800"/>
                </a:xfrm>
                <a:prstGeom prst="rect">
                  <a:avLst/>
                </a:prstGeom>
                <a:solidFill>
                  <a:srgbClr val="ff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>
                  <a:off x="8442360" y="1748520"/>
                  <a:ext cx="19800" cy="3025800"/>
                </a:xfrm>
                <a:prstGeom prst="rect">
                  <a:avLst/>
                </a:prstGeom>
                <a:solidFill>
                  <a:srgbClr val="ff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>
                  <a:off x="8462160" y="1748520"/>
                  <a:ext cx="18720" cy="3025800"/>
                </a:xfrm>
                <a:prstGeom prst="rect">
                  <a:avLst/>
                </a:prstGeom>
                <a:solidFill>
                  <a:srgbClr val="ff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>
                  <a:off x="8481240" y="1748520"/>
                  <a:ext cx="18360" cy="3025800"/>
                </a:xfrm>
                <a:prstGeom prst="rect">
                  <a:avLst/>
                </a:prstGeom>
                <a:solidFill>
                  <a:srgbClr val="ffa6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>
                  <a:off x="8499960" y="1748520"/>
                  <a:ext cx="18360" cy="3025800"/>
                </a:xfrm>
                <a:prstGeom prst="rect">
                  <a:avLst/>
                </a:prstGeom>
                <a:solidFill>
                  <a:srgbClr val="ff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8518680" y="1748520"/>
                  <a:ext cx="18720" cy="3025800"/>
                </a:xfrm>
                <a:prstGeom prst="rect">
                  <a:avLst/>
                </a:prstGeom>
                <a:solidFill>
                  <a:srgbClr val="ff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>
                  <a:off x="8537400" y="1748520"/>
                  <a:ext cx="18360" cy="3025800"/>
                </a:xfrm>
                <a:prstGeom prst="rect">
                  <a:avLst/>
                </a:prstGeom>
                <a:solidFill>
                  <a:srgbClr val="ff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>
                  <a:off x="8556120" y="1748520"/>
                  <a:ext cx="18360" cy="3025800"/>
                </a:xfrm>
                <a:prstGeom prst="rect">
                  <a:avLst/>
                </a:prstGeom>
                <a:solidFill>
                  <a:srgbClr val="ff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>
                  <a:off x="8574840" y="1748520"/>
                  <a:ext cx="18720" cy="3025800"/>
                </a:xfrm>
                <a:prstGeom prst="rect">
                  <a:avLst/>
                </a:prstGeom>
                <a:solidFill>
                  <a:srgbClr val="ff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>
                  <a:off x="8593560" y="1748520"/>
                  <a:ext cx="17280" cy="3025800"/>
                </a:xfrm>
                <a:prstGeom prst="rect">
                  <a:avLst/>
                </a:pr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8611200" y="1748520"/>
                  <a:ext cx="18360" cy="3025800"/>
                </a:xfrm>
                <a:prstGeom prst="rect">
                  <a:avLst/>
                </a:prstGeom>
                <a:solidFill>
                  <a:srgbClr val="ff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8629560" y="1748520"/>
                  <a:ext cx="18360" cy="3025800"/>
                </a:xfrm>
                <a:prstGeom prst="rect">
                  <a:avLst/>
                </a:prstGeom>
                <a:solidFill>
                  <a:srgbClr val="ff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>
                  <a:off x="8648280" y="1748520"/>
                  <a:ext cx="1872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>
                  <a:off x="8667360" y="1748520"/>
                  <a:ext cx="18360" cy="3025800"/>
                </a:xfrm>
                <a:prstGeom prst="rect">
                  <a:avLst/>
                </a:prstGeom>
                <a:solidFill>
                  <a:srgbClr val="ff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>
                  <a:off x="8686080" y="1748520"/>
                  <a:ext cx="201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8706240" y="1748520"/>
                  <a:ext cx="18360" cy="3025800"/>
                </a:xfrm>
                <a:prstGeom prst="rect">
                  <a:avLst/>
                </a:prstGeom>
                <a:solidFill>
                  <a:srgbClr val="ff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>
                  <a:off x="8724960" y="1748520"/>
                  <a:ext cx="1836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>
                  <a:off x="8743680" y="1748520"/>
                  <a:ext cx="18720" cy="3025800"/>
                </a:xfrm>
                <a:prstGeom prst="rect">
                  <a:avLst/>
                </a:prstGeom>
                <a:solidFill>
                  <a:srgbClr val="ff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>
                  <a:off x="8762400" y="17485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>
                  <a:off x="8781120" y="1748520"/>
                  <a:ext cx="1836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>
                  <a:off x="8799840" y="1748520"/>
                  <a:ext cx="18720" cy="3025800"/>
                </a:xfrm>
                <a:prstGeom prst="rect">
                  <a:avLst/>
                </a:prstGeom>
                <a:solidFill>
                  <a:srgbClr val="ff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3" name=""/>
            <p:cNvSpPr/>
            <p:nvPr/>
          </p:nvSpPr>
          <p:spPr>
            <a:xfrm>
              <a:off x="5743440" y="4368600"/>
              <a:ext cx="13842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z/V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7127640" y="4151160"/>
              <a:ext cx="1341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V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685800" y="4167000"/>
              <a:ext cx="15922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933560" y="4167000"/>
              <a:ext cx="118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/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4287600" y="2151000"/>
              <a:ext cx="12463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Dedica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1600" spc="-1" strike="noStrike">
                  <a:solidFill>
                    <a:srgbClr val="000000"/>
                  </a:solidFill>
                  <a:latin typeface="Arial"/>
                </a:rPr>
                <a:t>for StoneGate  on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5881680" y="3411360"/>
              <a:ext cx="0" cy="2016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5881680" y="2285640"/>
              <a:ext cx="0" cy="99072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089400" y="1814400"/>
              <a:ext cx="9702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serv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6713280" y="1796760"/>
              <a:ext cx="21178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2700" spc="-1" strike="noStrike">
                  <a:solidFill>
                    <a:srgbClr val="a2a2a2"/>
                  </a:solidFill>
                  <a:latin typeface="Arial"/>
                </a:rPr>
                <a:t>IF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V="1">
              <a:off x="8167680" y="2285280"/>
              <a:ext cx="14040" cy="92412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863720" y="2151000"/>
              <a:ext cx="110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4" name=""/>
            <p:cNvGrpSpPr/>
            <p:nvPr/>
          </p:nvGrpSpPr>
          <p:grpSpPr>
            <a:xfrm>
              <a:off x="893520" y="4773240"/>
              <a:ext cx="7965360" cy="671760"/>
              <a:chOff x="893520" y="4773240"/>
              <a:chExt cx="7965360" cy="671760"/>
            </a:xfrm>
          </p:grpSpPr>
          <p:sp>
            <p:nvSpPr>
              <p:cNvPr id="3945" name=""/>
              <p:cNvSpPr/>
              <p:nvPr/>
            </p:nvSpPr>
            <p:spPr>
              <a:xfrm flipV="1">
                <a:off x="893520" y="4772880"/>
                <a:ext cx="7965360" cy="67176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4000a2"/>
                  </a:gs>
                  <a:gs pos="50000">
                    <a:srgbClr val="0062e1"/>
                  </a:gs>
                  <a:gs pos="100000">
                    <a:srgbClr val="4000a2"/>
                  </a:gs>
                </a:gsLst>
                <a:lin ang="5400000"/>
              </a:gradFill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566520" y="4788720"/>
                <a:ext cx="2800080" cy="636480"/>
              </a:xfrm>
              <a:custGeom>
                <a:avLst/>
                <a:gdLst/>
                <a:ahLst/>
                <a:rect l="l" t="t" r="r" b="b"/>
                <a:pathLst>
                  <a:path w="680" h="721">
                    <a:moveTo>
                      <a:pt x="162" y="0"/>
                    </a:moveTo>
                    <a:lnTo>
                      <a:pt x="159" y="0"/>
                    </a:lnTo>
                    <a:lnTo>
                      <a:pt x="128" y="155"/>
                    </a:lnTo>
                    <a:lnTo>
                      <a:pt x="443" y="155"/>
                    </a:lnTo>
                    <a:lnTo>
                      <a:pt x="26" y="575"/>
                    </a:lnTo>
                    <a:lnTo>
                      <a:pt x="0" y="720"/>
                    </a:lnTo>
                    <a:lnTo>
                      <a:pt x="560" y="720"/>
                    </a:lnTo>
                    <a:lnTo>
                      <a:pt x="589" y="561"/>
                    </a:lnTo>
                    <a:lnTo>
                      <a:pt x="254" y="561"/>
                    </a:lnTo>
                    <a:lnTo>
                      <a:pt x="654" y="151"/>
                    </a:lnTo>
                    <a:lnTo>
                      <a:pt x="679" y="0"/>
                    </a:lnTo>
                    <a:lnTo>
                      <a:pt x="159" y="0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gradFill rotWithShape="0">
                <a:gsLst>
                  <a:gs pos="0">
                    <a:srgbClr val="e26200"/>
                  </a:gs>
                  <a:gs pos="50000">
                    <a:srgbClr val="ffffd0"/>
                  </a:gs>
                  <a:gs pos="100000">
                    <a:srgbClr val="e26200"/>
                  </a:gs>
                </a:gsLst>
                <a:lin ang="8100000"/>
              </a:gradFill>
              <a:ln w="18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7" name=""/>
            <p:cNvSpPr/>
            <p:nvPr/>
          </p:nvSpPr>
          <p:spPr>
            <a:xfrm>
              <a:off x="8029440" y="2151000"/>
              <a:ext cx="96984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br>
                <a:rPr sz="1100"/>
              </a:b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servido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0" lang="fi-FI" sz="1100" spc="-1" strike="noStrike">
                  <a:solidFill>
                    <a:srgbClr val="000000"/>
                  </a:solidFill>
                  <a:latin typeface="Arial"/>
                </a:rPr>
                <a:t>virtuai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963360" y="1341360"/>
              <a:ext cx="835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001600" y="1341360"/>
              <a:ext cx="8355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7088400" y="1341360"/>
              <a:ext cx="14403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 (n&lt;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7959600" y="5378040"/>
              <a:ext cx="623880" cy="40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(n&lt;1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7267320" y="5378040"/>
              <a:ext cx="622440" cy="403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871800" y="5781600"/>
              <a:ext cx="0" cy="52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21956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77360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11956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4655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81184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740556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775152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809784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8443800" y="5781600"/>
              <a:ext cx="0" cy="201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4495680" y="1344240"/>
              <a:ext cx="1004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743440" y="1344240"/>
              <a:ext cx="1004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LPAR 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177720" y="2688840"/>
              <a:ext cx="629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29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5881680" y="287316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7907040" y="3092040"/>
              <a:ext cx="2606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907040" y="2890440"/>
              <a:ext cx="2606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7907040" y="2688840"/>
              <a:ext cx="2606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7907040" y="2487240"/>
              <a:ext cx="2606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7907040" y="2285640"/>
              <a:ext cx="2606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881680" y="267156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5881680" y="246996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5881680" y="2268360"/>
              <a:ext cx="27612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V="1">
              <a:off x="1309680" y="3427920"/>
              <a:ext cx="3531960" cy="1335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5400000"/>
            </a:gra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763720" y="3294000"/>
              <a:ext cx="8175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perSock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V="1">
              <a:off x="5395680" y="3763800"/>
              <a:ext cx="0" cy="2016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4495680" y="3562200"/>
              <a:ext cx="0" cy="40320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V="1">
              <a:off x="7543800" y="3411360"/>
              <a:ext cx="0" cy="2858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V="1">
              <a:off x="7543800" y="2285280"/>
              <a:ext cx="14040" cy="92412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7284960" y="309204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7284960" y="289044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7284960" y="268884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7284960" y="248724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7284960" y="2285640"/>
              <a:ext cx="258840" cy="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4219560" y="468936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773600" y="468936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465520" y="468936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5480" y="6302160"/>
              <a:ext cx="2354400" cy="403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erenciamento,  Log &amp; G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0" name=""/>
            <p:cNvGrpSpPr/>
            <p:nvPr/>
          </p:nvGrpSpPr>
          <p:grpSpPr>
            <a:xfrm>
              <a:off x="5744160" y="3209760"/>
              <a:ext cx="343080" cy="268200"/>
              <a:chOff x="5744160" y="3209760"/>
              <a:chExt cx="343080" cy="268200"/>
            </a:xfrm>
          </p:grpSpPr>
          <p:sp>
            <p:nvSpPr>
              <p:cNvPr id="3991" name=""/>
              <p:cNvSpPr/>
              <p:nvPr/>
            </p:nvSpPr>
            <p:spPr>
              <a:xfrm>
                <a:off x="5776560" y="3209760"/>
                <a:ext cx="295200" cy="268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5744160" y="3225240"/>
                <a:ext cx="34308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100" spc="-1" strike="noStrike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3" name=""/>
            <p:cNvSpPr/>
            <p:nvPr/>
          </p:nvSpPr>
          <p:spPr>
            <a:xfrm flipV="1">
              <a:off x="8167680" y="3411360"/>
              <a:ext cx="0" cy="285840"/>
            </a:xfrm>
            <a:prstGeom prst="line">
              <a:avLst/>
            </a:prstGeom>
            <a:ln w="31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4" name=""/>
            <p:cNvGrpSpPr/>
            <p:nvPr/>
          </p:nvGrpSpPr>
          <p:grpSpPr>
            <a:xfrm>
              <a:off x="7960320" y="3209760"/>
              <a:ext cx="343080" cy="268200"/>
              <a:chOff x="7960320" y="3209760"/>
              <a:chExt cx="343080" cy="268200"/>
            </a:xfrm>
          </p:grpSpPr>
          <p:sp>
            <p:nvSpPr>
              <p:cNvPr id="3995" name=""/>
              <p:cNvSpPr/>
              <p:nvPr/>
            </p:nvSpPr>
            <p:spPr>
              <a:xfrm>
                <a:off x="7992720" y="3209760"/>
                <a:ext cx="295200" cy="268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7960320" y="3225240"/>
                <a:ext cx="34308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100" spc="-1" strike="noStrike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7" name=""/>
            <p:cNvGrpSpPr/>
            <p:nvPr/>
          </p:nvGrpSpPr>
          <p:grpSpPr>
            <a:xfrm>
              <a:off x="7268040" y="3209760"/>
              <a:ext cx="343080" cy="268200"/>
              <a:chOff x="7268040" y="3209760"/>
              <a:chExt cx="343080" cy="268200"/>
            </a:xfrm>
          </p:grpSpPr>
          <p:sp>
            <p:nvSpPr>
              <p:cNvPr id="3998" name=""/>
              <p:cNvSpPr/>
              <p:nvPr/>
            </p:nvSpPr>
            <p:spPr>
              <a:xfrm>
                <a:off x="7300440" y="3209760"/>
                <a:ext cx="295200" cy="268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7268040" y="3225240"/>
                <a:ext cx="343080" cy="24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100" spc="-1" strike="noStrike">
                    <a:solidFill>
                      <a:srgbClr val="000000"/>
                    </a:solidFill>
                    <a:latin typeface="Times New Roman"/>
                  </a:rPr>
                  <a:t>SG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0" name=""/>
            <p:cNvSpPr/>
            <p:nvPr/>
          </p:nvSpPr>
          <p:spPr>
            <a:xfrm flipV="1">
              <a:off x="5049720" y="3612960"/>
              <a:ext cx="3533760" cy="1332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bf18"/>
                </a:gs>
                <a:gs pos="50000">
                  <a:srgbClr val="ffffff"/>
                </a:gs>
                <a:gs pos="100000">
                  <a:srgbClr val="ffbf18"/>
                </a:gs>
              </a:gsLst>
              <a:lin ang="5400000"/>
            </a:gra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6505560" y="3477960"/>
              <a:ext cx="8096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98520"/>
                  <a:tab algn="l" pos="797040"/>
                  <a:tab algn="l" pos="1195560"/>
                  <a:tab algn="l" pos="1593720"/>
                  <a:tab algn="l" pos="1992240"/>
                  <a:tab algn="l" pos="2390760"/>
                  <a:tab algn="l" pos="2789280"/>
                  <a:tab algn="l" pos="3187800"/>
                  <a:tab algn="l" pos="3586320"/>
                  <a:tab algn="l" pos="3984480"/>
                  <a:tab algn="l" pos="4383000"/>
                  <a:tab algn="l" pos="4781520"/>
                  <a:tab algn="l" pos="5180040"/>
                  <a:tab algn="l" pos="5578560"/>
                  <a:tab algn="l" pos="5977080"/>
                  <a:tab algn="l" pos="6375240"/>
                  <a:tab algn="l" pos="6773760"/>
                  <a:tab algn="l" pos="7172280"/>
                  <a:tab algn="l" pos="7570800"/>
                  <a:tab algn="l" pos="7969320"/>
                </a:tabLst>
              </a:pPr>
              <a:r>
                <a:rPr b="1" lang="fi-FI" sz="900" spc="-1" strike="noStrike">
                  <a:solidFill>
                    <a:srgbClr val="000000"/>
                  </a:solidFill>
                  <a:latin typeface="Arial"/>
                </a:rPr>
                <a:t>HiperSock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6363720" y="5294160"/>
              <a:ext cx="6296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29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4149720" y="3881160"/>
              <a:ext cx="1523880" cy="807840"/>
              <a:chOff x="4149720" y="3881160"/>
              <a:chExt cx="1523880" cy="807840"/>
            </a:xfrm>
          </p:grpSpPr>
          <p:sp>
            <p:nvSpPr>
              <p:cNvPr id="4004" name=""/>
              <p:cNvSpPr/>
              <p:nvPr/>
            </p:nvSpPr>
            <p:spPr>
              <a:xfrm>
                <a:off x="4149720" y="3894120"/>
                <a:ext cx="1523880" cy="794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4241880" y="3881160"/>
                <a:ext cx="1243800" cy="72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SG como um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firewall e VP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fi-FI" sz="1400" spc="-1" strike="noStrike">
                    <a:solidFill>
                      <a:srgbClr val="000000"/>
                    </a:solidFill>
                    <a:latin typeface="Times New Roman"/>
                  </a:rPr>
                  <a:t>de perímet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6" name=""/>
            <p:cNvSpPr/>
            <p:nvPr/>
          </p:nvSpPr>
          <p:spPr>
            <a:xfrm>
              <a:off x="3733560" y="5378040"/>
              <a:ext cx="623880" cy="40356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327640" y="5378040"/>
              <a:ext cx="623880" cy="40356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4633920" y="5378040"/>
              <a:ext cx="623880" cy="403560"/>
            </a:xfrm>
            <a:prstGeom prst="rect">
              <a:avLst/>
            </a:prstGeom>
            <a:solidFill>
              <a:srgbClr val="45ea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imes New Roman"/>
                </a:rPr>
                <a:t>Gb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9" name="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Múltiplas Instâncias StoneG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Novas oportunidades de c</a:t>
            </a: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onsolidação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5016240" y="1600200"/>
            <a:ext cx="367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lhores resultados são atingidos combinando as melhores features do StoneGate e do zSe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lanceamento de servidores virtuai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lanceamento de múltiplos link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últiplas instâncias do StoneGate para melhor performance e utilização de recurso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12" name="graph_2" descr="The image “file:///C:/Datat/Logoja%20ja%20kuvia/graph_2.pn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447920" y="1447920"/>
            <a:ext cx="2971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StoneGate para </a:t>
            </a:r>
            <a:br>
              <a:rPr sz="3800"/>
            </a:b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Mainframe zSeries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4014" name="PlaceHolder 2"/>
          <p:cNvSpPr>
            <a:spLocks noGrp="1"/>
          </p:cNvSpPr>
          <p:nvPr>
            <p:ph/>
          </p:nvPr>
        </p:nvSpPr>
        <p:spPr>
          <a:xfrm>
            <a:off x="2895120" y="15235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rebuchet MS"/>
              </a:rPr>
              <a:t>Segurança para a consolidação de servidores com significantes reduções e avanç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bilita os serviços de hospedagem segur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m sistema físico pode ter dezenas de segmentos de redes virtuais que podem estar isolados entre si, da mesma forma que uma rede tradicional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nhuma necessidade de servidores externos de seguranç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formance de I/O configurada conforme as necessidades, e nenhum roteamento externo é necessário para interligar os sistemas virtuais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rebuchet MS"/>
              </a:rPr>
              <a:t>Plataforma eficiente que habilita a rápida reação do departamento de TI para as mudanças contínuas que são exigidas pelos ambientes de negócio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15" name="" descr=""/>
          <p:cNvPicPr/>
          <p:nvPr/>
        </p:nvPicPr>
        <p:blipFill>
          <a:blip r:embed="rId1"/>
          <a:stretch/>
        </p:blipFill>
        <p:spPr>
          <a:xfrm>
            <a:off x="841320" y="1905120"/>
            <a:ext cx="22068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Trebuchet MS"/>
              </a:rPr>
              <a:t>Solução de Segurança para Redes Distribuídas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subTitle"/>
          </p:nvPr>
        </p:nvSpPr>
        <p:spPr>
          <a:xfrm>
            <a:off x="2057400" y="14479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3333"/>
                </a:solidFill>
                <a:latin typeface="Trebuchet MS"/>
              </a:rPr>
              <a:t>Fabyan Augusto de Oliveira</a:t>
            </a: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Agenda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Solução de segurança para processos de consolidação de servidores com Mainframes IBM zSe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Solução de segurança para Redes Distribuíd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"/>
          <p:cNvSpPr/>
          <p:nvPr/>
        </p:nvSpPr>
        <p:spPr>
          <a:xfrm>
            <a:off x="1674720" y="2819520"/>
            <a:ext cx="129564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7618320" y="4876920"/>
            <a:ext cx="38124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3899880" y="29718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one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1" name="StoneGate%20ISP&amp;VPN1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462800" cy="5154840"/>
          </a:xfrm>
          <a:prstGeom prst="rect">
            <a:avLst/>
          </a:prstGeom>
          <a:ln w="0">
            <a:noFill/>
          </a:ln>
        </p:spPr>
      </p:pic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Topologia de Rede Tradicional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Topologia de VPN Tradicional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pic>
        <p:nvPicPr>
          <p:cNvPr id="4024" name="" descr=""/>
          <p:cNvPicPr/>
          <p:nvPr/>
        </p:nvPicPr>
        <p:blipFill>
          <a:blip r:embed="rId1"/>
          <a:stretch/>
        </p:blipFill>
        <p:spPr>
          <a:xfrm>
            <a:off x="1523880" y="1363680"/>
            <a:ext cx="62485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O problema agora…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pic>
        <p:nvPicPr>
          <p:cNvPr id="4026" name="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2485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Tecnologia Multi-Link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grpSp>
        <p:nvGrpSpPr>
          <p:cNvPr id="4028" name=""/>
          <p:cNvGrpSpPr/>
          <p:nvPr/>
        </p:nvGrpSpPr>
        <p:grpSpPr>
          <a:xfrm>
            <a:off x="914400" y="2309760"/>
            <a:ext cx="7623000" cy="3575160"/>
            <a:chOff x="914400" y="2309760"/>
            <a:chExt cx="7623000" cy="3575160"/>
          </a:xfrm>
        </p:grpSpPr>
        <p:grpSp>
          <p:nvGrpSpPr>
            <p:cNvPr id="4029" name=""/>
            <p:cNvGrpSpPr/>
            <p:nvPr/>
          </p:nvGrpSpPr>
          <p:grpSpPr>
            <a:xfrm>
              <a:off x="4120920" y="3016080"/>
              <a:ext cx="438120" cy="755640"/>
              <a:chOff x="4120920" y="3016080"/>
              <a:chExt cx="438120" cy="755640"/>
            </a:xfrm>
          </p:grpSpPr>
          <p:sp>
            <p:nvSpPr>
              <p:cNvPr id="4030" name=""/>
              <p:cNvSpPr/>
              <p:nvPr/>
            </p:nvSpPr>
            <p:spPr>
              <a:xfrm>
                <a:off x="4333680" y="3016080"/>
                <a:ext cx="225360" cy="706320"/>
              </a:xfrm>
              <a:custGeom>
                <a:avLst/>
                <a:gdLst/>
                <a:ahLst/>
                <a:rect l="l" t="t" r="r" b="b"/>
                <a:pathLst>
                  <a:path w="142" h="445">
                    <a:moveTo>
                      <a:pt x="0" y="445"/>
                    </a:moveTo>
                    <a:lnTo>
                      <a:pt x="0" y="0"/>
                    </a:lnTo>
                    <a:lnTo>
                      <a:pt x="14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31" name=""/>
              <p:cNvGrpSpPr/>
              <p:nvPr/>
            </p:nvGrpSpPr>
            <p:grpSpPr>
              <a:xfrm>
                <a:off x="4120920" y="3671640"/>
                <a:ext cx="212760" cy="100080"/>
                <a:chOff x="4120920" y="3671640"/>
                <a:chExt cx="212760" cy="100080"/>
              </a:xfrm>
            </p:grpSpPr>
            <p:sp>
              <p:nvSpPr>
                <p:cNvPr id="4032" name=""/>
                <p:cNvSpPr/>
                <p:nvPr/>
              </p:nvSpPr>
              <p:spPr>
                <a:xfrm flipH="1">
                  <a:off x="4186080" y="3722400"/>
                  <a:ext cx="1476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4120920" y="3671640"/>
                  <a:ext cx="9864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62" y="0"/>
                      </a:moveTo>
                      <a:lnTo>
                        <a:pt x="0" y="32"/>
                      </a:lnTo>
                      <a:lnTo>
                        <a:pt x="62" y="63"/>
                      </a:lnTo>
                      <a:lnTo>
                        <a:pt x="43" y="32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4" name=""/>
            <p:cNvGrpSpPr/>
            <p:nvPr/>
          </p:nvGrpSpPr>
          <p:grpSpPr>
            <a:xfrm>
              <a:off x="914400" y="2462040"/>
              <a:ext cx="2439360" cy="2211480"/>
              <a:chOff x="914400" y="2462040"/>
              <a:chExt cx="2439360" cy="2211480"/>
            </a:xfrm>
          </p:grpSpPr>
          <p:sp>
            <p:nvSpPr>
              <p:cNvPr id="4035" name=""/>
              <p:cNvSpPr/>
              <p:nvPr/>
            </p:nvSpPr>
            <p:spPr>
              <a:xfrm>
                <a:off x="914400" y="2757240"/>
                <a:ext cx="1155600" cy="15350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1587240" y="2462040"/>
                <a:ext cx="1063440" cy="15350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2226960" y="2774880"/>
                <a:ext cx="1126800" cy="15350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1274400" y="3070080"/>
                <a:ext cx="1082520" cy="15746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1952280" y="3070080"/>
                <a:ext cx="1069920" cy="1603440"/>
              </a:xfrm>
              <a:prstGeom prst="ellipse">
                <a:avLst/>
              </a:prstGeom>
              <a:solidFill>
                <a:srgbClr val="f8f8f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1233360" y="2985840"/>
                <a:ext cx="1831680" cy="10778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1596960" y="2917440"/>
                <a:ext cx="1017000" cy="1390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1633320" y="2894040"/>
              <a:ext cx="8542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845000" y="2901960"/>
              <a:ext cx="5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707840" y="3146400"/>
              <a:ext cx="77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5" name=""/>
            <p:cNvGrpSpPr/>
            <p:nvPr/>
          </p:nvGrpSpPr>
          <p:grpSpPr>
            <a:xfrm>
              <a:off x="1369800" y="4282920"/>
              <a:ext cx="461880" cy="461880"/>
              <a:chOff x="1369800" y="4282920"/>
              <a:chExt cx="461880" cy="461880"/>
            </a:xfrm>
          </p:grpSpPr>
          <p:sp>
            <p:nvSpPr>
              <p:cNvPr id="4046" name=""/>
              <p:cNvSpPr/>
              <p:nvPr/>
            </p:nvSpPr>
            <p:spPr>
              <a:xfrm>
                <a:off x="1369800" y="4282920"/>
                <a:ext cx="461880" cy="461880"/>
              </a:xfrm>
              <a:custGeom>
                <a:avLst/>
                <a:gdLst/>
                <a:ahLst/>
                <a:rect l="l" t="t" r="r" b="b"/>
                <a:pathLst>
                  <a:path w="291" h="291">
                    <a:moveTo>
                      <a:pt x="0" y="174"/>
                    </a:moveTo>
                    <a:lnTo>
                      <a:pt x="39" y="174"/>
                    </a:lnTo>
                    <a:lnTo>
                      <a:pt x="39" y="0"/>
                    </a:lnTo>
                    <a:lnTo>
                      <a:pt x="248" y="0"/>
                    </a:lnTo>
                    <a:lnTo>
                      <a:pt x="248" y="174"/>
                    </a:lnTo>
                    <a:lnTo>
                      <a:pt x="291" y="174"/>
                    </a:lnTo>
                    <a:lnTo>
                      <a:pt x="291" y="291"/>
                    </a:lnTo>
                    <a:lnTo>
                      <a:pt x="0" y="291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1388880" y="4582800"/>
                <a:ext cx="423720" cy="144720"/>
              </a:xfrm>
              <a:custGeom>
                <a:avLst/>
                <a:gdLst/>
                <a:ahLst/>
                <a:rect l="l" t="t" r="r" b="b"/>
                <a:pathLst>
                  <a:path w="267" h="91">
                    <a:moveTo>
                      <a:pt x="0" y="91"/>
                    </a:moveTo>
                    <a:lnTo>
                      <a:pt x="0" y="0"/>
                    </a:lnTo>
                    <a:lnTo>
                      <a:pt x="267" y="0"/>
                    </a:lnTo>
                    <a:lnTo>
                      <a:pt x="252" y="11"/>
                    </a:lnTo>
                    <a:lnTo>
                      <a:pt x="8" y="11"/>
                    </a:lnTo>
                    <a:lnTo>
                      <a:pt x="8" y="80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fdf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1388880" y="4582800"/>
                <a:ext cx="423720" cy="144720"/>
              </a:xfrm>
              <a:custGeom>
                <a:avLst/>
                <a:gdLst/>
                <a:ahLst/>
                <a:rect l="l" t="t" r="r" b="b"/>
                <a:pathLst>
                  <a:path w="267" h="91">
                    <a:moveTo>
                      <a:pt x="267" y="0"/>
                    </a:moveTo>
                    <a:lnTo>
                      <a:pt x="267" y="91"/>
                    </a:lnTo>
                    <a:lnTo>
                      <a:pt x="0" y="91"/>
                    </a:lnTo>
                    <a:lnTo>
                      <a:pt x="8" y="80"/>
                    </a:lnTo>
                    <a:lnTo>
                      <a:pt x="252" y="80"/>
                    </a:lnTo>
                    <a:lnTo>
                      <a:pt x="252" y="11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ca9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1401480" y="4600440"/>
                <a:ext cx="387360" cy="109440"/>
              </a:xfrm>
              <a:prstGeom prst="rect">
                <a:avLst/>
              </a:prstGeom>
              <a:solidFill>
                <a:srgbClr val="ffcb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1450800" y="4300200"/>
                <a:ext cx="295200" cy="258840"/>
              </a:xfrm>
              <a:custGeom>
                <a:avLst/>
                <a:gdLst/>
                <a:ahLst/>
                <a:rect l="l" t="t" r="r" b="b"/>
                <a:pathLst>
                  <a:path w="186" h="163">
                    <a:moveTo>
                      <a:pt x="0" y="163"/>
                    </a:moveTo>
                    <a:lnTo>
                      <a:pt x="0" y="0"/>
                    </a:lnTo>
                    <a:lnTo>
                      <a:pt x="186" y="0"/>
                    </a:lnTo>
                    <a:lnTo>
                      <a:pt x="174" y="14"/>
                    </a:lnTo>
                    <a:lnTo>
                      <a:pt x="11" y="14"/>
                    </a:lnTo>
                    <a:lnTo>
                      <a:pt x="11" y="152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939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1450800" y="4300200"/>
                <a:ext cx="295200" cy="258840"/>
              </a:xfrm>
              <a:custGeom>
                <a:avLst/>
                <a:gdLst/>
                <a:ahLst/>
                <a:rect l="l" t="t" r="r" b="b"/>
                <a:pathLst>
                  <a:path w="186" h="163">
                    <a:moveTo>
                      <a:pt x="186" y="0"/>
                    </a:moveTo>
                    <a:lnTo>
                      <a:pt x="186" y="163"/>
                    </a:lnTo>
                    <a:lnTo>
                      <a:pt x="0" y="163"/>
                    </a:lnTo>
                    <a:lnTo>
                      <a:pt x="11" y="152"/>
                    </a:lnTo>
                    <a:lnTo>
                      <a:pt x="174" y="152"/>
                    </a:lnTo>
                    <a:lnTo>
                      <a:pt x="174" y="14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5e6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1468080" y="4322520"/>
                <a:ext cx="258840" cy="219240"/>
              </a:xfrm>
              <a:prstGeom prst="rect">
                <a:avLst/>
              </a:prstGeom>
              <a:solidFill>
                <a:srgbClr val="95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1450800" y="4633560"/>
                <a:ext cx="42840" cy="4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1653840" y="4633560"/>
                <a:ext cx="24120" cy="4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1690560" y="4633560"/>
                <a:ext cx="23760" cy="4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1726920" y="4633560"/>
                <a:ext cx="25560" cy="4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1616040" y="4633560"/>
                <a:ext cx="25200" cy="4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1579320" y="4633560"/>
                <a:ext cx="25560" cy="4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9" name=""/>
            <p:cNvGrpSpPr/>
            <p:nvPr/>
          </p:nvGrpSpPr>
          <p:grpSpPr>
            <a:xfrm>
              <a:off x="1590480" y="3638520"/>
              <a:ext cx="2041560" cy="652320"/>
              <a:chOff x="1590480" y="3638520"/>
              <a:chExt cx="2041560" cy="652320"/>
            </a:xfrm>
          </p:grpSpPr>
          <p:sp>
            <p:nvSpPr>
              <p:cNvPr id="4060" name=""/>
              <p:cNvSpPr/>
              <p:nvPr/>
            </p:nvSpPr>
            <p:spPr>
              <a:xfrm>
                <a:off x="1590480" y="426528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1590480" y="421452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1590480" y="416376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1590480" y="411300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1590480" y="406224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1590480" y="401148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1590480" y="396072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1590480" y="3909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1590480" y="385884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1590480" y="380808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1590480" y="375732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1590480" y="3706560"/>
                <a:ext cx="25560" cy="25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162864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167940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173016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178092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183168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188244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193356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198432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203508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208584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213660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218736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223812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228888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233964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239076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244152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249228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254304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259380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264456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269532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274608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279684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284796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289872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294948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300024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305100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310176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315252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320328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3254040" y="3693960"/>
                <a:ext cx="2556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330516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335592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40668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3457440" y="3693960"/>
                <a:ext cx="25200" cy="25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3493800" y="36385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7" y="43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0" name=""/>
            <p:cNvGrpSpPr/>
            <p:nvPr/>
          </p:nvGrpSpPr>
          <p:grpSpPr>
            <a:xfrm>
              <a:off x="5182920" y="2309760"/>
              <a:ext cx="3049560" cy="2730240"/>
              <a:chOff x="5182920" y="2309760"/>
              <a:chExt cx="3049560" cy="2730240"/>
            </a:xfrm>
          </p:grpSpPr>
          <p:sp>
            <p:nvSpPr>
              <p:cNvPr id="4111" name=""/>
              <p:cNvSpPr/>
              <p:nvPr/>
            </p:nvSpPr>
            <p:spPr>
              <a:xfrm>
                <a:off x="5182920" y="2674800"/>
                <a:ext cx="1443240" cy="1895400"/>
              </a:xfrm>
              <a:prstGeom prst="ellipse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024240" y="2309760"/>
                <a:ext cx="1330560" cy="1895400"/>
              </a:xfrm>
              <a:prstGeom prst="ellipse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822720" y="2697120"/>
                <a:ext cx="1409760" cy="1895400"/>
              </a:xfrm>
              <a:prstGeom prst="ellipse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5634000" y="3060360"/>
                <a:ext cx="1352520" cy="1944720"/>
              </a:xfrm>
              <a:prstGeom prst="ellipse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480000" y="3060360"/>
                <a:ext cx="1338120" cy="1979640"/>
              </a:xfrm>
              <a:prstGeom prst="ellipse">
                <a:avLst/>
              </a:prstGeom>
              <a:solidFill>
                <a:srgbClr val="ddddd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5582880" y="2955600"/>
                <a:ext cx="2289240" cy="1332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037200" y="2871720"/>
                <a:ext cx="1271520" cy="1719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8" name=""/>
            <p:cNvGrpSpPr/>
            <p:nvPr/>
          </p:nvGrpSpPr>
          <p:grpSpPr>
            <a:xfrm>
              <a:off x="7588080" y="2986200"/>
              <a:ext cx="476280" cy="460080"/>
              <a:chOff x="7588080" y="2986200"/>
              <a:chExt cx="476280" cy="460080"/>
            </a:xfrm>
          </p:grpSpPr>
          <p:sp>
            <p:nvSpPr>
              <p:cNvPr id="4119" name=""/>
              <p:cNvSpPr/>
              <p:nvPr/>
            </p:nvSpPr>
            <p:spPr>
              <a:xfrm>
                <a:off x="7588080" y="2986200"/>
                <a:ext cx="476280" cy="460080"/>
              </a:xfrm>
              <a:custGeom>
                <a:avLst/>
                <a:gdLst/>
                <a:ahLst/>
                <a:rect l="l" t="t" r="r" b="b"/>
                <a:pathLst>
                  <a:path w="300" h="290">
                    <a:moveTo>
                      <a:pt x="0" y="174"/>
                    </a:moveTo>
                    <a:lnTo>
                      <a:pt x="40" y="174"/>
                    </a:lnTo>
                    <a:lnTo>
                      <a:pt x="40" y="0"/>
                    </a:lnTo>
                    <a:lnTo>
                      <a:pt x="256" y="0"/>
                    </a:lnTo>
                    <a:lnTo>
                      <a:pt x="256" y="174"/>
                    </a:lnTo>
                    <a:lnTo>
                      <a:pt x="300" y="174"/>
                    </a:lnTo>
                    <a:lnTo>
                      <a:pt x="300" y="290"/>
                    </a:lnTo>
                    <a:lnTo>
                      <a:pt x="0" y="29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7607160" y="3286080"/>
                <a:ext cx="438120" cy="142200"/>
              </a:xfrm>
              <a:custGeom>
                <a:avLst/>
                <a:gdLst/>
                <a:ahLst/>
                <a:rect l="l" t="t" r="r" b="b"/>
                <a:pathLst>
                  <a:path w="276" h="90">
                    <a:moveTo>
                      <a:pt x="0" y="90"/>
                    </a:moveTo>
                    <a:lnTo>
                      <a:pt x="0" y="0"/>
                    </a:lnTo>
                    <a:lnTo>
                      <a:pt x="276" y="0"/>
                    </a:lnTo>
                    <a:lnTo>
                      <a:pt x="260" y="10"/>
                    </a:lnTo>
                    <a:lnTo>
                      <a:pt x="8" y="10"/>
                    </a:lnTo>
                    <a:lnTo>
                      <a:pt x="8" y="79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df5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7607160" y="3286080"/>
                <a:ext cx="438120" cy="142200"/>
              </a:xfrm>
              <a:custGeom>
                <a:avLst/>
                <a:gdLst/>
                <a:ahLst/>
                <a:rect l="l" t="t" r="r" b="b"/>
                <a:pathLst>
                  <a:path w="276" h="90">
                    <a:moveTo>
                      <a:pt x="276" y="0"/>
                    </a:moveTo>
                    <a:lnTo>
                      <a:pt x="276" y="90"/>
                    </a:lnTo>
                    <a:lnTo>
                      <a:pt x="0" y="90"/>
                    </a:lnTo>
                    <a:lnTo>
                      <a:pt x="8" y="79"/>
                    </a:lnTo>
                    <a:lnTo>
                      <a:pt x="260" y="79"/>
                    </a:lnTo>
                    <a:lnTo>
                      <a:pt x="260" y="10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ca99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7619760" y="3301920"/>
                <a:ext cx="399960" cy="109080"/>
              </a:xfrm>
              <a:prstGeom prst="rect">
                <a:avLst/>
              </a:prstGeom>
              <a:solidFill>
                <a:srgbClr val="ffcb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7670520" y="3003480"/>
                <a:ext cx="304920" cy="258120"/>
              </a:xfrm>
              <a:custGeom>
                <a:avLst/>
                <a:gdLst/>
                <a:ahLst/>
                <a:rect l="l" t="t" r="r" b="b"/>
                <a:pathLst>
                  <a:path w="192" h="163">
                    <a:moveTo>
                      <a:pt x="0" y="163"/>
                    </a:moveTo>
                    <a:lnTo>
                      <a:pt x="0" y="0"/>
                    </a:lnTo>
                    <a:lnTo>
                      <a:pt x="192" y="0"/>
                    </a:lnTo>
                    <a:lnTo>
                      <a:pt x="180" y="14"/>
                    </a:lnTo>
                    <a:lnTo>
                      <a:pt x="12" y="14"/>
                    </a:lnTo>
                    <a:lnTo>
                      <a:pt x="12" y="152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939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7670520" y="3003480"/>
                <a:ext cx="304920" cy="258120"/>
              </a:xfrm>
              <a:custGeom>
                <a:avLst/>
                <a:gdLst/>
                <a:ahLst/>
                <a:rect l="l" t="t" r="r" b="b"/>
                <a:pathLst>
                  <a:path w="192" h="163">
                    <a:moveTo>
                      <a:pt x="192" y="0"/>
                    </a:moveTo>
                    <a:lnTo>
                      <a:pt x="192" y="163"/>
                    </a:lnTo>
                    <a:lnTo>
                      <a:pt x="0" y="163"/>
                    </a:lnTo>
                    <a:lnTo>
                      <a:pt x="12" y="152"/>
                    </a:lnTo>
                    <a:lnTo>
                      <a:pt x="180" y="152"/>
                    </a:lnTo>
                    <a:lnTo>
                      <a:pt x="180" y="1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5e67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7689600" y="3025440"/>
                <a:ext cx="266760" cy="218880"/>
              </a:xfrm>
              <a:prstGeom prst="rect">
                <a:avLst/>
              </a:prstGeom>
              <a:solidFill>
                <a:srgbClr val="95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7670520" y="3336840"/>
                <a:ext cx="44640" cy="4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7880040" y="3336840"/>
                <a:ext cx="25560" cy="4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7918200" y="3336840"/>
                <a:ext cx="25560" cy="4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7956360" y="3336840"/>
                <a:ext cx="25560" cy="4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7842240" y="3336840"/>
                <a:ext cx="25200" cy="4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7804080" y="3336840"/>
                <a:ext cx="25200" cy="4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2" name=""/>
            <p:cNvSpPr/>
            <p:nvPr/>
          </p:nvSpPr>
          <p:spPr>
            <a:xfrm>
              <a:off x="6173640" y="2690640"/>
              <a:ext cx="895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237000" y="2698560"/>
              <a:ext cx="83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4" name=""/>
            <p:cNvGrpSpPr/>
            <p:nvPr/>
          </p:nvGrpSpPr>
          <p:grpSpPr>
            <a:xfrm>
              <a:off x="4419360" y="2784600"/>
              <a:ext cx="792720" cy="2185920"/>
              <a:chOff x="4419360" y="2784600"/>
              <a:chExt cx="792720" cy="2185920"/>
            </a:xfrm>
          </p:grpSpPr>
          <p:grpSp>
            <p:nvGrpSpPr>
              <p:cNvPr id="4135" name=""/>
              <p:cNvGrpSpPr/>
              <p:nvPr/>
            </p:nvGrpSpPr>
            <p:grpSpPr>
              <a:xfrm>
                <a:off x="4419360" y="2784600"/>
                <a:ext cx="792720" cy="593640"/>
                <a:chOff x="4419360" y="2784600"/>
                <a:chExt cx="792720" cy="593640"/>
              </a:xfrm>
            </p:grpSpPr>
            <p:grpSp>
              <p:nvGrpSpPr>
                <p:cNvPr id="4136" name=""/>
                <p:cNvGrpSpPr/>
                <p:nvPr/>
              </p:nvGrpSpPr>
              <p:grpSpPr>
                <a:xfrm>
                  <a:off x="4543200" y="2784600"/>
                  <a:ext cx="403200" cy="399960"/>
                  <a:chOff x="4543200" y="2784600"/>
                  <a:chExt cx="403200" cy="399960"/>
                </a:xfrm>
              </p:grpSpPr>
              <p:sp>
                <p:nvSpPr>
                  <p:cNvPr id="4137" name=""/>
                  <p:cNvSpPr/>
                  <p:nvPr/>
                </p:nvSpPr>
                <p:spPr>
                  <a:xfrm>
                    <a:off x="4543200" y="2784600"/>
                    <a:ext cx="403200" cy="399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4562280" y="2802240"/>
                    <a:ext cx="36504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230">
                        <a:moveTo>
                          <a:pt x="0" y="230"/>
                        </a:moveTo>
                        <a:lnTo>
                          <a:pt x="0" y="0"/>
                        </a:lnTo>
                        <a:lnTo>
                          <a:pt x="230" y="0"/>
                        </a:lnTo>
                        <a:lnTo>
                          <a:pt x="218" y="15"/>
                        </a:lnTo>
                        <a:lnTo>
                          <a:pt x="12" y="15"/>
                        </a:lnTo>
                        <a:lnTo>
                          <a:pt x="12" y="218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b475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>
                    <a:off x="4562280" y="2802240"/>
                    <a:ext cx="36504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230">
                        <a:moveTo>
                          <a:pt x="230" y="0"/>
                        </a:moveTo>
                        <a:lnTo>
                          <a:pt x="230" y="230"/>
                        </a:lnTo>
                        <a:lnTo>
                          <a:pt x="0" y="230"/>
                        </a:lnTo>
                        <a:lnTo>
                          <a:pt x="12" y="218"/>
                        </a:lnTo>
                        <a:lnTo>
                          <a:pt x="218" y="218"/>
                        </a:lnTo>
                        <a:lnTo>
                          <a:pt x="218" y="15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241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>
                    <a:off x="4581360" y="2826000"/>
                    <a:ext cx="326880" cy="322200"/>
                  </a:xfrm>
                  <a:prstGeom prst="rect">
                    <a:avLst/>
                  </a:prstGeom>
                  <a:solidFill>
                    <a:srgbClr val="8937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4593960" y="2916360"/>
                    <a:ext cx="12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6">
                        <a:moveTo>
                          <a:pt x="33" y="0"/>
                        </a:moveTo>
                        <a:lnTo>
                          <a:pt x="81" y="45"/>
                        </a:lnTo>
                        <a:lnTo>
                          <a:pt x="33" y="86"/>
                        </a:lnTo>
                        <a:lnTo>
                          <a:pt x="33" y="56"/>
                        </a:lnTo>
                        <a:lnTo>
                          <a:pt x="0" y="56"/>
                        </a:lnTo>
                        <a:lnTo>
                          <a:pt x="0" y="26"/>
                        </a:lnTo>
                        <a:lnTo>
                          <a:pt x="33" y="26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4767120" y="2916360"/>
                    <a:ext cx="12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6">
                        <a:moveTo>
                          <a:pt x="48" y="86"/>
                        </a:moveTo>
                        <a:lnTo>
                          <a:pt x="0" y="45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81" y="26"/>
                        </a:lnTo>
                        <a:lnTo>
                          <a:pt x="81" y="56"/>
                        </a:lnTo>
                        <a:lnTo>
                          <a:pt x="48" y="56"/>
                        </a:lnTo>
                        <a:lnTo>
                          <a:pt x="48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4678200" y="3005280"/>
                    <a:ext cx="1332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0">
                        <a:moveTo>
                          <a:pt x="84" y="38"/>
                        </a:moveTo>
                        <a:lnTo>
                          <a:pt x="44" y="90"/>
                        </a:lnTo>
                        <a:lnTo>
                          <a:pt x="0" y="38"/>
                        </a:lnTo>
                        <a:lnTo>
                          <a:pt x="24" y="38"/>
                        </a:lnTo>
                        <a:lnTo>
                          <a:pt x="24" y="0"/>
                        </a:lnTo>
                        <a:lnTo>
                          <a:pt x="60" y="0"/>
                        </a:lnTo>
                        <a:lnTo>
                          <a:pt x="60" y="38"/>
                        </a:lnTo>
                        <a:lnTo>
                          <a:pt x="84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4" name=""/>
                  <p:cNvSpPr/>
                  <p:nvPr/>
                </p:nvSpPr>
                <p:spPr>
                  <a:xfrm>
                    <a:off x="4678200" y="2826000"/>
                    <a:ext cx="1332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83">
                        <a:moveTo>
                          <a:pt x="0" y="49"/>
                        </a:moveTo>
                        <a:lnTo>
                          <a:pt x="44" y="0"/>
                        </a:lnTo>
                        <a:lnTo>
                          <a:pt x="84" y="49"/>
                        </a:lnTo>
                        <a:lnTo>
                          <a:pt x="60" y="49"/>
                        </a:lnTo>
                        <a:lnTo>
                          <a:pt x="60" y="83"/>
                        </a:lnTo>
                        <a:lnTo>
                          <a:pt x="24" y="83"/>
                        </a:lnTo>
                        <a:lnTo>
                          <a:pt x="24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4600440" y="2940120"/>
                    <a:ext cx="109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37" y="19"/>
                        </a:moveTo>
                        <a:lnTo>
                          <a:pt x="37" y="0"/>
                        </a:lnTo>
                        <a:lnTo>
                          <a:pt x="69" y="30"/>
                        </a:lnTo>
                        <a:lnTo>
                          <a:pt x="37" y="56"/>
                        </a:lnTo>
                        <a:lnTo>
                          <a:pt x="37" y="37"/>
                        </a:lnTo>
                        <a:lnTo>
                          <a:pt x="0" y="37"/>
                        </a:lnTo>
                        <a:lnTo>
                          <a:pt x="0" y="19"/>
                        </a:lnTo>
                        <a:lnTo>
                          <a:pt x="37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4779720" y="2940120"/>
                    <a:ext cx="109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32" y="37"/>
                        </a:moveTo>
                        <a:lnTo>
                          <a:pt x="32" y="56"/>
                        </a:lnTo>
                        <a:lnTo>
                          <a:pt x="0" y="30"/>
                        </a:lnTo>
                        <a:lnTo>
                          <a:pt x="32" y="0"/>
                        </a:lnTo>
                        <a:lnTo>
                          <a:pt x="32" y="19"/>
                        </a:lnTo>
                        <a:lnTo>
                          <a:pt x="69" y="19"/>
                        </a:lnTo>
                        <a:lnTo>
                          <a:pt x="69" y="37"/>
                        </a:lnTo>
                        <a:lnTo>
                          <a:pt x="32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7" name=""/>
                  <p:cNvSpPr/>
                  <p:nvPr/>
                </p:nvSpPr>
                <p:spPr>
                  <a:xfrm>
                    <a:off x="4697280" y="301788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40" y="33"/>
                        </a:moveTo>
                        <a:lnTo>
                          <a:pt x="60" y="33"/>
                        </a:lnTo>
                        <a:lnTo>
                          <a:pt x="32" y="67"/>
                        </a:lnTo>
                        <a:lnTo>
                          <a:pt x="0" y="33"/>
                        </a:lnTo>
                        <a:lnTo>
                          <a:pt x="20" y="33"/>
                        </a:lnTo>
                        <a:lnTo>
                          <a:pt x="20" y="0"/>
                        </a:lnTo>
                        <a:lnTo>
                          <a:pt x="40" y="0"/>
                        </a:lnTo>
                        <a:lnTo>
                          <a:pt x="4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8" name=""/>
                  <p:cNvSpPr/>
                  <p:nvPr/>
                </p:nvSpPr>
                <p:spPr>
                  <a:xfrm>
                    <a:off x="4697280" y="2838600"/>
                    <a:ext cx="950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20" y="34"/>
                        </a:moveTo>
                        <a:lnTo>
                          <a:pt x="0" y="34"/>
                        </a:lnTo>
                        <a:lnTo>
                          <a:pt x="32" y="0"/>
                        </a:lnTo>
                        <a:lnTo>
                          <a:pt x="60" y="34"/>
                        </a:lnTo>
                        <a:lnTo>
                          <a:pt x="40" y="34"/>
                        </a:lnTo>
                        <a:lnTo>
                          <a:pt x="40" y="71"/>
                        </a:lnTo>
                        <a:lnTo>
                          <a:pt x="20" y="71"/>
                        </a:lnTo>
                        <a:lnTo>
                          <a:pt x="2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9" name=""/>
                <p:cNvSpPr/>
                <p:nvPr/>
              </p:nvSpPr>
              <p:spPr>
                <a:xfrm>
                  <a:off x="4419360" y="3168720"/>
                  <a:ext cx="72864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"/>
                <p:cNvSpPr/>
                <p:nvPr/>
              </p:nvSpPr>
              <p:spPr>
                <a:xfrm>
                  <a:off x="4470840" y="3178440"/>
                  <a:ext cx="741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NetLink 1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1" name=""/>
              <p:cNvGrpSpPr/>
              <p:nvPr/>
            </p:nvGrpSpPr>
            <p:grpSpPr>
              <a:xfrm>
                <a:off x="4419360" y="4361040"/>
                <a:ext cx="792720" cy="609480"/>
                <a:chOff x="4419360" y="4361040"/>
                <a:chExt cx="792720" cy="609480"/>
              </a:xfrm>
            </p:grpSpPr>
            <p:grpSp>
              <p:nvGrpSpPr>
                <p:cNvPr id="4152" name=""/>
                <p:cNvGrpSpPr/>
                <p:nvPr/>
              </p:nvGrpSpPr>
              <p:grpSpPr>
                <a:xfrm>
                  <a:off x="4543200" y="4361040"/>
                  <a:ext cx="403200" cy="399960"/>
                  <a:chOff x="4543200" y="4361040"/>
                  <a:chExt cx="403200" cy="399960"/>
                </a:xfrm>
              </p:grpSpPr>
              <p:sp>
                <p:nvSpPr>
                  <p:cNvPr id="4153" name=""/>
                  <p:cNvSpPr/>
                  <p:nvPr/>
                </p:nvSpPr>
                <p:spPr>
                  <a:xfrm>
                    <a:off x="4543200" y="4361040"/>
                    <a:ext cx="403200" cy="399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4562280" y="4378320"/>
                    <a:ext cx="36504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230">
                        <a:moveTo>
                          <a:pt x="0" y="230"/>
                        </a:moveTo>
                        <a:lnTo>
                          <a:pt x="0" y="0"/>
                        </a:lnTo>
                        <a:lnTo>
                          <a:pt x="230" y="0"/>
                        </a:lnTo>
                        <a:lnTo>
                          <a:pt x="218" y="15"/>
                        </a:lnTo>
                        <a:lnTo>
                          <a:pt x="12" y="15"/>
                        </a:lnTo>
                        <a:lnTo>
                          <a:pt x="12" y="218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b475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5" name=""/>
                  <p:cNvSpPr/>
                  <p:nvPr/>
                </p:nvSpPr>
                <p:spPr>
                  <a:xfrm>
                    <a:off x="4562280" y="4378320"/>
                    <a:ext cx="36504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230">
                        <a:moveTo>
                          <a:pt x="230" y="0"/>
                        </a:moveTo>
                        <a:lnTo>
                          <a:pt x="230" y="230"/>
                        </a:lnTo>
                        <a:lnTo>
                          <a:pt x="0" y="230"/>
                        </a:lnTo>
                        <a:lnTo>
                          <a:pt x="12" y="218"/>
                        </a:lnTo>
                        <a:lnTo>
                          <a:pt x="218" y="218"/>
                        </a:lnTo>
                        <a:lnTo>
                          <a:pt x="218" y="15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241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4581360" y="4402440"/>
                    <a:ext cx="326880" cy="322200"/>
                  </a:xfrm>
                  <a:prstGeom prst="rect">
                    <a:avLst/>
                  </a:prstGeom>
                  <a:solidFill>
                    <a:srgbClr val="8937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4593960" y="4492800"/>
                    <a:ext cx="12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6">
                        <a:moveTo>
                          <a:pt x="33" y="0"/>
                        </a:moveTo>
                        <a:lnTo>
                          <a:pt x="81" y="45"/>
                        </a:lnTo>
                        <a:lnTo>
                          <a:pt x="33" y="86"/>
                        </a:lnTo>
                        <a:lnTo>
                          <a:pt x="33" y="56"/>
                        </a:lnTo>
                        <a:lnTo>
                          <a:pt x="0" y="56"/>
                        </a:lnTo>
                        <a:lnTo>
                          <a:pt x="0" y="26"/>
                        </a:lnTo>
                        <a:lnTo>
                          <a:pt x="33" y="26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4767120" y="4492800"/>
                    <a:ext cx="12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6">
                        <a:moveTo>
                          <a:pt x="48" y="86"/>
                        </a:moveTo>
                        <a:lnTo>
                          <a:pt x="0" y="45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81" y="26"/>
                        </a:lnTo>
                        <a:lnTo>
                          <a:pt x="81" y="56"/>
                        </a:lnTo>
                        <a:lnTo>
                          <a:pt x="48" y="56"/>
                        </a:lnTo>
                        <a:lnTo>
                          <a:pt x="48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4678200" y="4581720"/>
                    <a:ext cx="1332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0">
                        <a:moveTo>
                          <a:pt x="84" y="38"/>
                        </a:moveTo>
                        <a:lnTo>
                          <a:pt x="44" y="90"/>
                        </a:lnTo>
                        <a:lnTo>
                          <a:pt x="0" y="38"/>
                        </a:lnTo>
                        <a:lnTo>
                          <a:pt x="24" y="38"/>
                        </a:lnTo>
                        <a:lnTo>
                          <a:pt x="24" y="0"/>
                        </a:lnTo>
                        <a:lnTo>
                          <a:pt x="60" y="0"/>
                        </a:lnTo>
                        <a:lnTo>
                          <a:pt x="60" y="38"/>
                        </a:lnTo>
                        <a:lnTo>
                          <a:pt x="84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4678200" y="4402440"/>
                    <a:ext cx="1332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83">
                        <a:moveTo>
                          <a:pt x="0" y="49"/>
                        </a:moveTo>
                        <a:lnTo>
                          <a:pt x="44" y="0"/>
                        </a:lnTo>
                        <a:lnTo>
                          <a:pt x="84" y="49"/>
                        </a:lnTo>
                        <a:lnTo>
                          <a:pt x="60" y="49"/>
                        </a:lnTo>
                        <a:lnTo>
                          <a:pt x="60" y="83"/>
                        </a:lnTo>
                        <a:lnTo>
                          <a:pt x="24" y="83"/>
                        </a:lnTo>
                        <a:lnTo>
                          <a:pt x="24" y="49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4600440" y="4516560"/>
                    <a:ext cx="109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37" y="18"/>
                        </a:moveTo>
                        <a:lnTo>
                          <a:pt x="37" y="0"/>
                        </a:lnTo>
                        <a:lnTo>
                          <a:pt x="69" y="30"/>
                        </a:lnTo>
                        <a:lnTo>
                          <a:pt x="37" y="56"/>
                        </a:lnTo>
                        <a:lnTo>
                          <a:pt x="37" y="37"/>
                        </a:ln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37" y="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4779720" y="4516560"/>
                    <a:ext cx="109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32" y="37"/>
                        </a:moveTo>
                        <a:lnTo>
                          <a:pt x="32" y="56"/>
                        </a:lnTo>
                        <a:lnTo>
                          <a:pt x="0" y="30"/>
                        </a:lnTo>
                        <a:lnTo>
                          <a:pt x="32" y="0"/>
                        </a:lnTo>
                        <a:lnTo>
                          <a:pt x="32" y="18"/>
                        </a:lnTo>
                        <a:lnTo>
                          <a:pt x="69" y="18"/>
                        </a:lnTo>
                        <a:lnTo>
                          <a:pt x="69" y="37"/>
                        </a:lnTo>
                        <a:lnTo>
                          <a:pt x="32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4697280" y="459432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40" y="33"/>
                        </a:moveTo>
                        <a:lnTo>
                          <a:pt x="60" y="33"/>
                        </a:lnTo>
                        <a:lnTo>
                          <a:pt x="32" y="67"/>
                        </a:lnTo>
                        <a:lnTo>
                          <a:pt x="0" y="33"/>
                        </a:lnTo>
                        <a:lnTo>
                          <a:pt x="20" y="33"/>
                        </a:lnTo>
                        <a:lnTo>
                          <a:pt x="20" y="0"/>
                        </a:lnTo>
                        <a:lnTo>
                          <a:pt x="40" y="0"/>
                        </a:lnTo>
                        <a:lnTo>
                          <a:pt x="40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4697280" y="4415040"/>
                    <a:ext cx="9504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1">
                        <a:moveTo>
                          <a:pt x="20" y="34"/>
                        </a:moveTo>
                        <a:lnTo>
                          <a:pt x="0" y="34"/>
                        </a:lnTo>
                        <a:lnTo>
                          <a:pt x="32" y="0"/>
                        </a:lnTo>
                        <a:lnTo>
                          <a:pt x="60" y="34"/>
                        </a:lnTo>
                        <a:lnTo>
                          <a:pt x="40" y="34"/>
                        </a:lnTo>
                        <a:lnTo>
                          <a:pt x="40" y="71"/>
                        </a:lnTo>
                        <a:lnTo>
                          <a:pt x="20" y="71"/>
                        </a:lnTo>
                        <a:lnTo>
                          <a:pt x="2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5" name=""/>
                <p:cNvSpPr/>
                <p:nvPr/>
              </p:nvSpPr>
              <p:spPr>
                <a:xfrm>
                  <a:off x="4419360" y="4761000"/>
                  <a:ext cx="72864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4470840" y="4770720"/>
                  <a:ext cx="741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NetLink 3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7" name=""/>
              <p:cNvGrpSpPr/>
              <p:nvPr/>
            </p:nvGrpSpPr>
            <p:grpSpPr>
              <a:xfrm>
                <a:off x="4419360" y="3602160"/>
                <a:ext cx="792720" cy="593640"/>
                <a:chOff x="4419360" y="3602160"/>
                <a:chExt cx="792720" cy="593640"/>
              </a:xfrm>
            </p:grpSpPr>
            <p:grpSp>
              <p:nvGrpSpPr>
                <p:cNvPr id="4168" name=""/>
                <p:cNvGrpSpPr/>
                <p:nvPr/>
              </p:nvGrpSpPr>
              <p:grpSpPr>
                <a:xfrm>
                  <a:off x="4543200" y="3602160"/>
                  <a:ext cx="403200" cy="399960"/>
                  <a:chOff x="4543200" y="3602160"/>
                  <a:chExt cx="403200" cy="399960"/>
                </a:xfrm>
              </p:grpSpPr>
              <p:sp>
                <p:nvSpPr>
                  <p:cNvPr id="4169" name=""/>
                  <p:cNvSpPr/>
                  <p:nvPr/>
                </p:nvSpPr>
                <p:spPr>
                  <a:xfrm>
                    <a:off x="4543200" y="3602160"/>
                    <a:ext cx="403200" cy="3999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4562280" y="3619800"/>
                    <a:ext cx="36504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230">
                        <a:moveTo>
                          <a:pt x="0" y="230"/>
                        </a:moveTo>
                        <a:lnTo>
                          <a:pt x="0" y="0"/>
                        </a:lnTo>
                        <a:lnTo>
                          <a:pt x="230" y="0"/>
                        </a:lnTo>
                        <a:lnTo>
                          <a:pt x="218" y="16"/>
                        </a:lnTo>
                        <a:lnTo>
                          <a:pt x="12" y="16"/>
                        </a:lnTo>
                        <a:lnTo>
                          <a:pt x="12" y="219"/>
                        </a:lnTo>
                        <a:lnTo>
                          <a:pt x="0" y="230"/>
                        </a:lnTo>
                        <a:close/>
                      </a:path>
                    </a:pathLst>
                  </a:custGeom>
                  <a:solidFill>
                    <a:srgbClr val="b475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4562280" y="3619800"/>
                    <a:ext cx="365040" cy="36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230">
                        <a:moveTo>
                          <a:pt x="230" y="0"/>
                        </a:moveTo>
                        <a:lnTo>
                          <a:pt x="230" y="230"/>
                        </a:lnTo>
                        <a:lnTo>
                          <a:pt x="0" y="230"/>
                        </a:lnTo>
                        <a:lnTo>
                          <a:pt x="12" y="219"/>
                        </a:lnTo>
                        <a:lnTo>
                          <a:pt x="218" y="219"/>
                        </a:lnTo>
                        <a:lnTo>
                          <a:pt x="218" y="1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241f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>
                    <a:off x="4581360" y="3645000"/>
                    <a:ext cx="326880" cy="322200"/>
                  </a:xfrm>
                  <a:prstGeom prst="rect">
                    <a:avLst/>
                  </a:prstGeom>
                  <a:solidFill>
                    <a:srgbClr val="8937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4593960" y="3733920"/>
                    <a:ext cx="12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6">
                        <a:moveTo>
                          <a:pt x="33" y="0"/>
                        </a:moveTo>
                        <a:lnTo>
                          <a:pt x="81" y="45"/>
                        </a:lnTo>
                        <a:lnTo>
                          <a:pt x="33" y="86"/>
                        </a:lnTo>
                        <a:lnTo>
                          <a:pt x="33" y="56"/>
                        </a:lnTo>
                        <a:lnTo>
                          <a:pt x="0" y="56"/>
                        </a:lnTo>
                        <a:lnTo>
                          <a:pt x="0" y="26"/>
                        </a:lnTo>
                        <a:lnTo>
                          <a:pt x="33" y="26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4767120" y="3733920"/>
                    <a:ext cx="128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6">
                        <a:moveTo>
                          <a:pt x="48" y="86"/>
                        </a:moveTo>
                        <a:lnTo>
                          <a:pt x="0" y="45"/>
                        </a:lnTo>
                        <a:lnTo>
                          <a:pt x="48" y="0"/>
                        </a:lnTo>
                        <a:lnTo>
                          <a:pt x="48" y="26"/>
                        </a:lnTo>
                        <a:lnTo>
                          <a:pt x="81" y="26"/>
                        </a:lnTo>
                        <a:lnTo>
                          <a:pt x="81" y="56"/>
                        </a:lnTo>
                        <a:lnTo>
                          <a:pt x="48" y="56"/>
                        </a:lnTo>
                        <a:lnTo>
                          <a:pt x="48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4678200" y="3822840"/>
                    <a:ext cx="1332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1">
                        <a:moveTo>
                          <a:pt x="84" y="38"/>
                        </a:moveTo>
                        <a:lnTo>
                          <a:pt x="44" y="91"/>
                        </a:lnTo>
                        <a:lnTo>
                          <a:pt x="0" y="38"/>
                        </a:lnTo>
                        <a:lnTo>
                          <a:pt x="24" y="38"/>
                        </a:lnTo>
                        <a:lnTo>
                          <a:pt x="24" y="0"/>
                        </a:lnTo>
                        <a:lnTo>
                          <a:pt x="60" y="0"/>
                        </a:lnTo>
                        <a:lnTo>
                          <a:pt x="60" y="38"/>
                        </a:lnTo>
                        <a:lnTo>
                          <a:pt x="84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4678200" y="3645000"/>
                    <a:ext cx="13320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82">
                        <a:moveTo>
                          <a:pt x="0" y="48"/>
                        </a:moveTo>
                        <a:lnTo>
                          <a:pt x="44" y="0"/>
                        </a:lnTo>
                        <a:lnTo>
                          <a:pt x="84" y="48"/>
                        </a:lnTo>
                        <a:lnTo>
                          <a:pt x="60" y="48"/>
                        </a:lnTo>
                        <a:lnTo>
                          <a:pt x="60" y="82"/>
                        </a:lnTo>
                        <a:lnTo>
                          <a:pt x="24" y="82"/>
                        </a:lnTo>
                        <a:lnTo>
                          <a:pt x="24" y="48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4600440" y="3757680"/>
                    <a:ext cx="109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37" y="19"/>
                        </a:moveTo>
                        <a:lnTo>
                          <a:pt x="37" y="0"/>
                        </a:lnTo>
                        <a:lnTo>
                          <a:pt x="69" y="30"/>
                        </a:lnTo>
                        <a:lnTo>
                          <a:pt x="37" y="56"/>
                        </a:lnTo>
                        <a:lnTo>
                          <a:pt x="37" y="38"/>
                        </a:lnTo>
                        <a:lnTo>
                          <a:pt x="0" y="38"/>
                        </a:lnTo>
                        <a:lnTo>
                          <a:pt x="0" y="19"/>
                        </a:lnTo>
                        <a:lnTo>
                          <a:pt x="37" y="1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4779720" y="3757680"/>
                    <a:ext cx="1094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6">
                        <a:moveTo>
                          <a:pt x="32" y="38"/>
                        </a:moveTo>
                        <a:lnTo>
                          <a:pt x="32" y="56"/>
                        </a:lnTo>
                        <a:lnTo>
                          <a:pt x="0" y="30"/>
                        </a:lnTo>
                        <a:lnTo>
                          <a:pt x="32" y="0"/>
                        </a:lnTo>
                        <a:lnTo>
                          <a:pt x="32" y="19"/>
                        </a:lnTo>
                        <a:lnTo>
                          <a:pt x="69" y="19"/>
                        </a:lnTo>
                        <a:lnTo>
                          <a:pt x="69" y="38"/>
                        </a:lnTo>
                        <a:lnTo>
                          <a:pt x="32" y="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4697280" y="3835440"/>
                    <a:ext cx="95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8">
                        <a:moveTo>
                          <a:pt x="40" y="34"/>
                        </a:moveTo>
                        <a:lnTo>
                          <a:pt x="60" y="34"/>
                        </a:lnTo>
                        <a:lnTo>
                          <a:pt x="32" y="68"/>
                        </a:lnTo>
                        <a:lnTo>
                          <a:pt x="0" y="34"/>
                        </a:lnTo>
                        <a:lnTo>
                          <a:pt x="20" y="34"/>
                        </a:lnTo>
                        <a:lnTo>
                          <a:pt x="20" y="0"/>
                        </a:lnTo>
                        <a:lnTo>
                          <a:pt x="40" y="0"/>
                        </a:lnTo>
                        <a:lnTo>
                          <a:pt x="4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0" name=""/>
                  <p:cNvSpPr/>
                  <p:nvPr/>
                </p:nvSpPr>
                <p:spPr>
                  <a:xfrm>
                    <a:off x="4697280" y="3656160"/>
                    <a:ext cx="950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72">
                        <a:moveTo>
                          <a:pt x="20" y="34"/>
                        </a:moveTo>
                        <a:lnTo>
                          <a:pt x="0" y="34"/>
                        </a:lnTo>
                        <a:lnTo>
                          <a:pt x="32" y="0"/>
                        </a:lnTo>
                        <a:lnTo>
                          <a:pt x="60" y="34"/>
                        </a:lnTo>
                        <a:lnTo>
                          <a:pt x="40" y="34"/>
                        </a:lnTo>
                        <a:lnTo>
                          <a:pt x="40" y="72"/>
                        </a:lnTo>
                        <a:lnTo>
                          <a:pt x="20" y="72"/>
                        </a:lnTo>
                        <a:lnTo>
                          <a:pt x="20" y="3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81" name=""/>
                <p:cNvSpPr/>
                <p:nvPr/>
              </p:nvSpPr>
              <p:spPr>
                <a:xfrm>
                  <a:off x="4419360" y="3986280"/>
                  <a:ext cx="72864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2" name=""/>
                <p:cNvSpPr/>
                <p:nvPr/>
              </p:nvSpPr>
              <p:spPr>
                <a:xfrm>
                  <a:off x="4470840" y="3996000"/>
                  <a:ext cx="741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NetLink 2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3" name=""/>
            <p:cNvGrpSpPr/>
            <p:nvPr/>
          </p:nvGrpSpPr>
          <p:grpSpPr>
            <a:xfrm>
              <a:off x="3516120" y="3448080"/>
              <a:ext cx="665280" cy="920160"/>
              <a:chOff x="3516120" y="3448080"/>
              <a:chExt cx="665280" cy="920160"/>
            </a:xfrm>
          </p:grpSpPr>
          <p:sp>
            <p:nvSpPr>
              <p:cNvPr id="4184" name=""/>
              <p:cNvSpPr/>
              <p:nvPr/>
            </p:nvSpPr>
            <p:spPr>
              <a:xfrm>
                <a:off x="3516120" y="3960720"/>
                <a:ext cx="66528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567960" y="3968640"/>
                <a:ext cx="613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615840" y="4167000"/>
                <a:ext cx="540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lust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7" name=""/>
              <p:cNvGrpSpPr/>
              <p:nvPr/>
            </p:nvGrpSpPr>
            <p:grpSpPr>
              <a:xfrm>
                <a:off x="3632040" y="3448080"/>
                <a:ext cx="476280" cy="512280"/>
                <a:chOff x="3632040" y="3448080"/>
                <a:chExt cx="476280" cy="512280"/>
              </a:xfrm>
            </p:grpSpPr>
            <p:sp>
              <p:nvSpPr>
                <p:cNvPr id="4188" name=""/>
                <p:cNvSpPr/>
                <p:nvPr/>
              </p:nvSpPr>
              <p:spPr>
                <a:xfrm>
                  <a:off x="3632040" y="3448080"/>
                  <a:ext cx="342720" cy="36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3816000" y="3466800"/>
                  <a:ext cx="133560" cy="95040"/>
                </a:xfrm>
                <a:custGeom>
                  <a:avLst/>
                  <a:gdLst/>
                  <a:ahLst/>
                  <a:rect l="l" t="t" r="r" b="b"/>
                  <a:pathLst>
                    <a:path w="84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72" y="16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0" name=""/>
                <p:cNvSpPr/>
                <p:nvPr/>
              </p:nvSpPr>
              <p:spPr>
                <a:xfrm>
                  <a:off x="3816000" y="3466800"/>
                  <a:ext cx="133560" cy="95040"/>
                </a:xfrm>
                <a:custGeom>
                  <a:avLst/>
                  <a:gdLst/>
                  <a:ahLst/>
                  <a:rect l="l" t="t" r="r" b="b"/>
                  <a:pathLst>
                    <a:path w="84" h="60">
                      <a:moveTo>
                        <a:pt x="84" y="0"/>
                      </a:moveTo>
                      <a:lnTo>
                        <a:pt x="84" y="60"/>
                      </a:lnTo>
                      <a:lnTo>
                        <a:pt x="0" y="60"/>
                      </a:lnTo>
                      <a:lnTo>
                        <a:pt x="8" y="48"/>
                      </a:lnTo>
                      <a:lnTo>
                        <a:pt x="72" y="48"/>
                      </a:lnTo>
                      <a:lnTo>
                        <a:pt x="72" y="16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1" name=""/>
                <p:cNvSpPr/>
                <p:nvPr/>
              </p:nvSpPr>
              <p:spPr>
                <a:xfrm>
                  <a:off x="3828960" y="3492360"/>
                  <a:ext cx="10152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2" name=""/>
                <p:cNvSpPr/>
                <p:nvPr/>
              </p:nvSpPr>
              <p:spPr>
                <a:xfrm>
                  <a:off x="3657240" y="3466800"/>
                  <a:ext cx="140040" cy="9504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76" y="16"/>
                      </a:lnTo>
                      <a:lnTo>
                        <a:pt x="12" y="16"/>
                      </a:lnTo>
                      <a:lnTo>
                        <a:pt x="12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3" name=""/>
                <p:cNvSpPr/>
                <p:nvPr/>
              </p:nvSpPr>
              <p:spPr>
                <a:xfrm>
                  <a:off x="3657240" y="3466800"/>
                  <a:ext cx="140040" cy="9504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88" y="0"/>
                      </a:moveTo>
                      <a:lnTo>
                        <a:pt x="88" y="60"/>
                      </a:lnTo>
                      <a:lnTo>
                        <a:pt x="0" y="60"/>
                      </a:lnTo>
                      <a:lnTo>
                        <a:pt x="12" y="48"/>
                      </a:lnTo>
                      <a:lnTo>
                        <a:pt x="76" y="48"/>
                      </a:lnTo>
                      <a:lnTo>
                        <a:pt x="76" y="16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3676320" y="3492360"/>
                  <a:ext cx="10188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5" name=""/>
                <p:cNvSpPr/>
                <p:nvPr/>
              </p:nvSpPr>
              <p:spPr>
                <a:xfrm>
                  <a:off x="3733560" y="3581280"/>
                  <a:ext cx="139680" cy="946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76" y="16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6" name=""/>
                <p:cNvSpPr/>
                <p:nvPr/>
              </p:nvSpPr>
              <p:spPr>
                <a:xfrm>
                  <a:off x="3733560" y="3581280"/>
                  <a:ext cx="139680" cy="946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88" y="0"/>
                      </a:moveTo>
                      <a:lnTo>
                        <a:pt x="88" y="60"/>
                      </a:lnTo>
                      <a:lnTo>
                        <a:pt x="0" y="60"/>
                      </a:lnTo>
                      <a:lnTo>
                        <a:pt x="8" y="48"/>
                      </a:lnTo>
                      <a:lnTo>
                        <a:pt x="76" y="48"/>
                      </a:lnTo>
                      <a:lnTo>
                        <a:pt x="76" y="16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7" name=""/>
                <p:cNvSpPr/>
                <p:nvPr/>
              </p:nvSpPr>
              <p:spPr>
                <a:xfrm>
                  <a:off x="3746160" y="3606480"/>
                  <a:ext cx="10800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8" name=""/>
                <p:cNvSpPr/>
                <p:nvPr/>
              </p:nvSpPr>
              <p:spPr>
                <a:xfrm>
                  <a:off x="3657240" y="3581280"/>
                  <a:ext cx="57240" cy="9468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24" y="16"/>
                      </a:lnTo>
                      <a:lnTo>
                        <a:pt x="12" y="16"/>
                      </a:lnTo>
                      <a:lnTo>
                        <a:pt x="12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3657240" y="3581280"/>
                  <a:ext cx="57240" cy="94680"/>
                </a:xfrm>
                <a:custGeom>
                  <a:avLst/>
                  <a:gdLst/>
                  <a:ahLst/>
                  <a:rect l="l" t="t" r="r" b="b"/>
                  <a:pathLst>
                    <a:path w="36" h="60">
                      <a:moveTo>
                        <a:pt x="36" y="0"/>
                      </a:moveTo>
                      <a:lnTo>
                        <a:pt x="36" y="60"/>
                      </a:lnTo>
                      <a:lnTo>
                        <a:pt x="0" y="60"/>
                      </a:lnTo>
                      <a:lnTo>
                        <a:pt x="12" y="48"/>
                      </a:lnTo>
                      <a:lnTo>
                        <a:pt x="24" y="48"/>
                      </a:lnTo>
                      <a:lnTo>
                        <a:pt x="24" y="16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0" name=""/>
                <p:cNvSpPr/>
                <p:nvPr/>
              </p:nvSpPr>
              <p:spPr>
                <a:xfrm>
                  <a:off x="3676320" y="3606480"/>
                  <a:ext cx="1908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1" name=""/>
                <p:cNvSpPr/>
                <p:nvPr/>
              </p:nvSpPr>
              <p:spPr>
                <a:xfrm>
                  <a:off x="3898800" y="3581280"/>
                  <a:ext cx="50760" cy="94680"/>
                </a:xfrm>
                <a:custGeom>
                  <a:avLst/>
                  <a:gdLst/>
                  <a:ahLst/>
                  <a:rect l="l" t="t" r="r" b="b"/>
                  <a:pathLst>
                    <a:path w="32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32" y="0"/>
                      </a:lnTo>
                      <a:lnTo>
                        <a:pt x="20" y="16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2" name=""/>
                <p:cNvSpPr/>
                <p:nvPr/>
              </p:nvSpPr>
              <p:spPr>
                <a:xfrm>
                  <a:off x="3898800" y="3581280"/>
                  <a:ext cx="50760" cy="94680"/>
                </a:xfrm>
                <a:custGeom>
                  <a:avLst/>
                  <a:gdLst/>
                  <a:ahLst/>
                  <a:rect l="l" t="t" r="r" b="b"/>
                  <a:pathLst>
                    <a:path w="32" h="60">
                      <a:moveTo>
                        <a:pt x="32" y="0"/>
                      </a:moveTo>
                      <a:lnTo>
                        <a:pt x="32" y="60"/>
                      </a:lnTo>
                      <a:lnTo>
                        <a:pt x="0" y="60"/>
                      </a:lnTo>
                      <a:lnTo>
                        <a:pt x="12" y="48"/>
                      </a:lnTo>
                      <a:lnTo>
                        <a:pt x="20" y="48"/>
                      </a:lnTo>
                      <a:lnTo>
                        <a:pt x="20" y="16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3" name=""/>
                <p:cNvSpPr/>
                <p:nvPr/>
              </p:nvSpPr>
              <p:spPr>
                <a:xfrm>
                  <a:off x="3911400" y="3606480"/>
                  <a:ext cx="1908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3816000" y="3689280"/>
                  <a:ext cx="133560" cy="94680"/>
                </a:xfrm>
                <a:custGeom>
                  <a:avLst/>
                  <a:gdLst/>
                  <a:ahLst/>
                  <a:rect l="l" t="t" r="r" b="b"/>
                  <a:pathLst>
                    <a:path w="84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84" y="0"/>
                      </a:lnTo>
                      <a:lnTo>
                        <a:pt x="72" y="16"/>
                      </a:lnTo>
                      <a:lnTo>
                        <a:pt x="8" y="16"/>
                      </a:lnTo>
                      <a:lnTo>
                        <a:pt x="8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5" name=""/>
                <p:cNvSpPr/>
                <p:nvPr/>
              </p:nvSpPr>
              <p:spPr>
                <a:xfrm>
                  <a:off x="3816000" y="3689280"/>
                  <a:ext cx="133560" cy="94680"/>
                </a:xfrm>
                <a:custGeom>
                  <a:avLst/>
                  <a:gdLst/>
                  <a:ahLst/>
                  <a:rect l="l" t="t" r="r" b="b"/>
                  <a:pathLst>
                    <a:path w="84" h="60">
                      <a:moveTo>
                        <a:pt x="84" y="0"/>
                      </a:moveTo>
                      <a:lnTo>
                        <a:pt x="84" y="60"/>
                      </a:lnTo>
                      <a:lnTo>
                        <a:pt x="0" y="60"/>
                      </a:lnTo>
                      <a:lnTo>
                        <a:pt x="8" y="48"/>
                      </a:lnTo>
                      <a:lnTo>
                        <a:pt x="72" y="48"/>
                      </a:lnTo>
                      <a:lnTo>
                        <a:pt x="72" y="16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6" name=""/>
                <p:cNvSpPr/>
                <p:nvPr/>
              </p:nvSpPr>
              <p:spPr>
                <a:xfrm>
                  <a:off x="3828960" y="3714480"/>
                  <a:ext cx="10152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7" name=""/>
                <p:cNvSpPr/>
                <p:nvPr/>
              </p:nvSpPr>
              <p:spPr>
                <a:xfrm>
                  <a:off x="3657240" y="3689280"/>
                  <a:ext cx="140040" cy="946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0" y="60"/>
                      </a:moveTo>
                      <a:lnTo>
                        <a:pt x="0" y="0"/>
                      </a:lnTo>
                      <a:lnTo>
                        <a:pt x="88" y="0"/>
                      </a:lnTo>
                      <a:lnTo>
                        <a:pt x="76" y="16"/>
                      </a:lnTo>
                      <a:lnTo>
                        <a:pt x="12" y="16"/>
                      </a:lnTo>
                      <a:lnTo>
                        <a:pt x="12" y="48"/>
                      </a:lnTo>
                      <a:lnTo>
                        <a:pt x="0" y="60"/>
                      </a:lnTo>
                      <a:close/>
                    </a:path>
                  </a:pathLst>
                </a:custGeom>
                <a:solidFill>
                  <a:srgbClr val="ef67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8" name=""/>
                <p:cNvSpPr/>
                <p:nvPr/>
              </p:nvSpPr>
              <p:spPr>
                <a:xfrm>
                  <a:off x="3657240" y="3689280"/>
                  <a:ext cx="140040" cy="946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88" y="0"/>
                      </a:moveTo>
                      <a:lnTo>
                        <a:pt x="88" y="60"/>
                      </a:lnTo>
                      <a:lnTo>
                        <a:pt x="0" y="60"/>
                      </a:lnTo>
                      <a:lnTo>
                        <a:pt x="12" y="48"/>
                      </a:lnTo>
                      <a:lnTo>
                        <a:pt x="76" y="48"/>
                      </a:lnTo>
                      <a:lnTo>
                        <a:pt x="76" y="16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8927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3676320" y="3714480"/>
                  <a:ext cx="101880" cy="50400"/>
                </a:xfrm>
                <a:prstGeom prst="rect">
                  <a:avLst/>
                </a:prstGeom>
                <a:solidFill>
                  <a:srgbClr val="c1272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0" name=""/>
                <p:cNvSpPr/>
                <p:nvPr/>
              </p:nvSpPr>
              <p:spPr>
                <a:xfrm>
                  <a:off x="3759120" y="3536640"/>
                  <a:ext cx="196920" cy="323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1" name=""/>
                <p:cNvSpPr/>
                <p:nvPr/>
              </p:nvSpPr>
              <p:spPr>
                <a:xfrm>
                  <a:off x="3784320" y="3555720"/>
                  <a:ext cx="146160" cy="279000"/>
                </a:xfrm>
                <a:custGeom>
                  <a:avLst/>
                  <a:gdLst/>
                  <a:ahLst/>
                  <a:rect l="l" t="t" r="r" b="b"/>
                  <a:pathLst>
                    <a:path w="92" h="176">
                      <a:moveTo>
                        <a:pt x="92" y="0"/>
                      </a:moveTo>
                      <a:lnTo>
                        <a:pt x="0" y="0"/>
                      </a:lnTo>
                      <a:lnTo>
                        <a:pt x="0" y="176"/>
                      </a:lnTo>
                      <a:lnTo>
                        <a:pt x="8" y="160"/>
                      </a:lnTo>
                      <a:lnTo>
                        <a:pt x="8" y="8"/>
                      </a:lnTo>
                      <a:lnTo>
                        <a:pt x="80" y="8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2" name=""/>
                <p:cNvSpPr/>
                <p:nvPr/>
              </p:nvSpPr>
              <p:spPr>
                <a:xfrm>
                  <a:off x="3784320" y="3555720"/>
                  <a:ext cx="146160" cy="279000"/>
                </a:xfrm>
                <a:custGeom>
                  <a:avLst/>
                  <a:gdLst/>
                  <a:ahLst/>
                  <a:rect l="l" t="t" r="r" b="b"/>
                  <a:pathLst>
                    <a:path w="92" h="176">
                      <a:moveTo>
                        <a:pt x="0" y="176"/>
                      </a:moveTo>
                      <a:lnTo>
                        <a:pt x="92" y="176"/>
                      </a:lnTo>
                      <a:lnTo>
                        <a:pt x="92" y="0"/>
                      </a:lnTo>
                      <a:lnTo>
                        <a:pt x="80" y="8"/>
                      </a:lnTo>
                      <a:lnTo>
                        <a:pt x="80" y="160"/>
                      </a:lnTo>
                      <a:lnTo>
                        <a:pt x="8" y="16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638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3" name=""/>
                <p:cNvSpPr/>
                <p:nvPr/>
              </p:nvSpPr>
              <p:spPr>
                <a:xfrm>
                  <a:off x="3797280" y="3568320"/>
                  <a:ext cx="114120" cy="241200"/>
                </a:xfrm>
                <a:prstGeom prst="rect">
                  <a:avLst/>
                </a:prstGeom>
                <a:solidFill>
                  <a:srgbClr val="9dc6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3828960" y="3612960"/>
                  <a:ext cx="56880" cy="50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5" name=""/>
                <p:cNvSpPr/>
                <p:nvPr/>
              </p:nvSpPr>
              <p:spPr>
                <a:xfrm>
                  <a:off x="3828960" y="3727080"/>
                  <a:ext cx="56880" cy="18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6" name=""/>
                <p:cNvSpPr/>
                <p:nvPr/>
              </p:nvSpPr>
              <p:spPr>
                <a:xfrm>
                  <a:off x="3828960" y="3765240"/>
                  <a:ext cx="5688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7" name=""/>
                <p:cNvSpPr/>
                <p:nvPr/>
              </p:nvSpPr>
              <p:spPr>
                <a:xfrm>
                  <a:off x="3714480" y="3765240"/>
                  <a:ext cx="44640" cy="88560"/>
                </a:xfrm>
                <a:custGeom>
                  <a:avLst/>
                  <a:gdLst/>
                  <a:ahLst/>
                  <a:rect l="l" t="t" r="r" b="b"/>
                  <a:pathLst>
                    <a:path w="28" h="56">
                      <a:moveTo>
                        <a:pt x="28" y="0"/>
                      </a:moveTo>
                      <a:lnTo>
                        <a:pt x="28" y="56"/>
                      </a:lnTo>
                      <a:lnTo>
                        <a:pt x="0" y="5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8" name=""/>
                <p:cNvSpPr/>
                <p:nvPr/>
              </p:nvSpPr>
              <p:spPr>
                <a:xfrm>
                  <a:off x="3949560" y="3765240"/>
                  <a:ext cx="44280" cy="88560"/>
                </a:xfrm>
                <a:custGeom>
                  <a:avLst/>
                  <a:gdLst/>
                  <a:ahLst/>
                  <a:rect l="l" t="t" r="r" b="b"/>
                  <a:pathLst>
                    <a:path w="28" h="56">
                      <a:moveTo>
                        <a:pt x="0" y="0"/>
                      </a:moveTo>
                      <a:lnTo>
                        <a:pt x="28" y="56"/>
                      </a:lnTo>
                      <a:lnTo>
                        <a:pt x="0" y="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3746160" y="3803400"/>
                  <a:ext cx="12960" cy="3132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20"/>
                      </a:moveTo>
                      <a:lnTo>
                        <a:pt x="0" y="20"/>
                      </a:lnTo>
                      <a:lnTo>
                        <a:pt x="8" y="0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5e6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0" name=""/>
                <p:cNvSpPr/>
                <p:nvPr/>
              </p:nvSpPr>
              <p:spPr>
                <a:xfrm>
                  <a:off x="3949560" y="3803400"/>
                  <a:ext cx="12600" cy="3132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20"/>
                      </a:move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5e6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1" name=""/>
                <p:cNvSpPr/>
                <p:nvPr/>
              </p:nvSpPr>
              <p:spPr>
                <a:xfrm>
                  <a:off x="3816000" y="3581280"/>
                  <a:ext cx="203400" cy="329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2" name=""/>
                <p:cNvSpPr/>
                <p:nvPr/>
              </p:nvSpPr>
              <p:spPr>
                <a:xfrm>
                  <a:off x="3835080" y="3606480"/>
                  <a:ext cx="152640" cy="27900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96" y="0"/>
                      </a:moveTo>
                      <a:lnTo>
                        <a:pt x="0" y="0"/>
                      </a:lnTo>
                      <a:lnTo>
                        <a:pt x="0" y="176"/>
                      </a:lnTo>
                      <a:lnTo>
                        <a:pt x="12" y="160"/>
                      </a:lnTo>
                      <a:lnTo>
                        <a:pt x="12" y="8"/>
                      </a:lnTo>
                      <a:lnTo>
                        <a:pt x="84" y="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3" name=""/>
                <p:cNvSpPr/>
                <p:nvPr/>
              </p:nvSpPr>
              <p:spPr>
                <a:xfrm>
                  <a:off x="3835080" y="3606480"/>
                  <a:ext cx="152640" cy="279000"/>
                </a:xfrm>
                <a:custGeom>
                  <a:avLst/>
                  <a:gdLst/>
                  <a:ahLst/>
                  <a:rect l="l" t="t" r="r" b="b"/>
                  <a:pathLst>
                    <a:path w="96" h="176">
                      <a:moveTo>
                        <a:pt x="0" y="176"/>
                      </a:moveTo>
                      <a:lnTo>
                        <a:pt x="96" y="176"/>
                      </a:lnTo>
                      <a:lnTo>
                        <a:pt x="96" y="0"/>
                      </a:lnTo>
                      <a:lnTo>
                        <a:pt x="84" y="8"/>
                      </a:lnTo>
                      <a:lnTo>
                        <a:pt x="84" y="160"/>
                      </a:lnTo>
                      <a:lnTo>
                        <a:pt x="12" y="160"/>
                      </a:lnTo>
                      <a:lnTo>
                        <a:pt x="0" y="176"/>
                      </a:lnTo>
                      <a:close/>
                    </a:path>
                  </a:pathLst>
                </a:custGeom>
                <a:solidFill>
                  <a:srgbClr val="0638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>
                  <a:off x="3854160" y="3619440"/>
                  <a:ext cx="114480" cy="240840"/>
                </a:xfrm>
                <a:prstGeom prst="rect">
                  <a:avLst/>
                </a:prstGeom>
                <a:solidFill>
                  <a:srgbClr val="9dc6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5" name=""/>
                <p:cNvSpPr/>
                <p:nvPr/>
              </p:nvSpPr>
              <p:spPr>
                <a:xfrm>
                  <a:off x="3879720" y="3663720"/>
                  <a:ext cx="69840" cy="50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6" name=""/>
                <p:cNvSpPr/>
                <p:nvPr/>
              </p:nvSpPr>
              <p:spPr>
                <a:xfrm>
                  <a:off x="3879720" y="3778200"/>
                  <a:ext cx="6984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7" name=""/>
                <p:cNvSpPr/>
                <p:nvPr/>
              </p:nvSpPr>
              <p:spPr>
                <a:xfrm>
                  <a:off x="3879720" y="3809880"/>
                  <a:ext cx="69840" cy="3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8" name=""/>
                <p:cNvSpPr/>
                <p:nvPr/>
              </p:nvSpPr>
              <p:spPr>
                <a:xfrm>
                  <a:off x="3765240" y="3809880"/>
                  <a:ext cx="50760" cy="94680"/>
                </a:xfrm>
                <a:custGeom>
                  <a:avLst/>
                  <a:gdLst/>
                  <a:ahLst/>
                  <a:rect l="l" t="t" r="r" b="b"/>
                  <a:pathLst>
                    <a:path w="32" h="60">
                      <a:moveTo>
                        <a:pt x="32" y="0"/>
                      </a:moveTo>
                      <a:lnTo>
                        <a:pt x="32" y="60"/>
                      </a:lnTo>
                      <a:lnTo>
                        <a:pt x="0" y="6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>
                  <a:off x="4012920" y="3809880"/>
                  <a:ext cx="44640" cy="94680"/>
                </a:xfrm>
                <a:custGeom>
                  <a:avLst/>
                  <a:gdLst/>
                  <a:ahLst/>
                  <a:rect l="l" t="t" r="r" b="b"/>
                  <a:pathLst>
                    <a:path w="28" h="60">
                      <a:moveTo>
                        <a:pt x="0" y="0"/>
                      </a:moveTo>
                      <a:lnTo>
                        <a:pt x="28" y="60"/>
                      </a:lnTo>
                      <a:lnTo>
                        <a:pt x="0" y="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0" name=""/>
                <p:cNvSpPr/>
                <p:nvPr/>
              </p:nvSpPr>
              <p:spPr>
                <a:xfrm>
                  <a:off x="3803400" y="3854160"/>
                  <a:ext cx="12600" cy="3132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20"/>
                      </a:moveTo>
                      <a:lnTo>
                        <a:pt x="0" y="20"/>
                      </a:lnTo>
                      <a:lnTo>
                        <a:pt x="8" y="0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5e6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1" name=""/>
                <p:cNvSpPr/>
                <p:nvPr/>
              </p:nvSpPr>
              <p:spPr>
                <a:xfrm>
                  <a:off x="4012920" y="3854160"/>
                  <a:ext cx="12960" cy="31320"/>
                </a:xfrm>
                <a:custGeom>
                  <a:avLst/>
                  <a:gdLst/>
                  <a:ahLst/>
                  <a:rect l="l" t="t" r="r" b="b"/>
                  <a:pathLst>
                    <a:path w="8" h="20">
                      <a:moveTo>
                        <a:pt x="8" y="20"/>
                      </a:moveTo>
                      <a:lnTo>
                        <a:pt x="0" y="20"/>
                      </a:lnTo>
                      <a:lnTo>
                        <a:pt x="0" y="0"/>
                      </a:lnTo>
                      <a:lnTo>
                        <a:pt x="8" y="20"/>
                      </a:lnTo>
                      <a:close/>
                    </a:path>
                  </a:pathLst>
                </a:custGeom>
                <a:solidFill>
                  <a:srgbClr val="5e6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2" name=""/>
                <p:cNvSpPr/>
                <p:nvPr/>
              </p:nvSpPr>
              <p:spPr>
                <a:xfrm>
                  <a:off x="3873240" y="3632040"/>
                  <a:ext cx="196920" cy="328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3" name=""/>
                <p:cNvSpPr/>
                <p:nvPr/>
              </p:nvSpPr>
              <p:spPr>
                <a:xfrm>
                  <a:off x="3898800" y="3657240"/>
                  <a:ext cx="145800" cy="277560"/>
                </a:xfrm>
                <a:custGeom>
                  <a:avLst/>
                  <a:gdLst/>
                  <a:ahLst/>
                  <a:rect l="l" t="t" r="r" b="b"/>
                  <a:pathLst>
                    <a:path w="92" h="175">
                      <a:moveTo>
                        <a:pt x="92" y="0"/>
                      </a:moveTo>
                      <a:lnTo>
                        <a:pt x="0" y="0"/>
                      </a:lnTo>
                      <a:lnTo>
                        <a:pt x="0" y="175"/>
                      </a:lnTo>
                      <a:lnTo>
                        <a:pt x="8" y="164"/>
                      </a:lnTo>
                      <a:lnTo>
                        <a:pt x="8" y="12"/>
                      </a:lnTo>
                      <a:lnTo>
                        <a:pt x="80" y="12"/>
                      </a:lnTo>
                      <a:lnTo>
                        <a:pt x="92" y="0"/>
                      </a:lnTo>
                      <a:close/>
                    </a:path>
                  </a:pathLst>
                </a:cu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>
                  <a:off x="3898800" y="3657240"/>
                  <a:ext cx="145800" cy="277560"/>
                </a:xfrm>
                <a:custGeom>
                  <a:avLst/>
                  <a:gdLst/>
                  <a:ahLst/>
                  <a:rect l="l" t="t" r="r" b="b"/>
                  <a:pathLst>
                    <a:path w="92" h="175">
                      <a:moveTo>
                        <a:pt x="0" y="175"/>
                      </a:moveTo>
                      <a:lnTo>
                        <a:pt x="92" y="175"/>
                      </a:lnTo>
                      <a:lnTo>
                        <a:pt x="92" y="0"/>
                      </a:lnTo>
                      <a:lnTo>
                        <a:pt x="80" y="12"/>
                      </a:lnTo>
                      <a:lnTo>
                        <a:pt x="80" y="164"/>
                      </a:lnTo>
                      <a:lnTo>
                        <a:pt x="8" y="164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06385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5" name=""/>
                <p:cNvSpPr/>
                <p:nvPr/>
              </p:nvSpPr>
              <p:spPr>
                <a:xfrm>
                  <a:off x="3911400" y="3676320"/>
                  <a:ext cx="114480" cy="241200"/>
                </a:xfrm>
                <a:prstGeom prst="rect">
                  <a:avLst/>
                </a:prstGeom>
                <a:solidFill>
                  <a:srgbClr val="9dc6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6" name=""/>
                <p:cNvSpPr/>
                <p:nvPr/>
              </p:nvSpPr>
              <p:spPr>
                <a:xfrm>
                  <a:off x="3943080" y="3714480"/>
                  <a:ext cx="5724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7" name=""/>
                <p:cNvSpPr/>
                <p:nvPr/>
              </p:nvSpPr>
              <p:spPr>
                <a:xfrm>
                  <a:off x="3943080" y="3828960"/>
                  <a:ext cx="57240" cy="24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8" name=""/>
                <p:cNvSpPr/>
                <p:nvPr/>
              </p:nvSpPr>
              <p:spPr>
                <a:xfrm>
                  <a:off x="3943080" y="3860640"/>
                  <a:ext cx="57240" cy="31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>
                  <a:off x="3828960" y="3860640"/>
                  <a:ext cx="44280" cy="93240"/>
                </a:xfrm>
                <a:custGeom>
                  <a:avLst/>
                  <a:gdLst/>
                  <a:ahLst/>
                  <a:rect l="l" t="t" r="r" b="b"/>
                  <a:pathLst>
                    <a:path w="28" h="59">
                      <a:moveTo>
                        <a:pt x="28" y="0"/>
                      </a:moveTo>
                      <a:lnTo>
                        <a:pt x="28" y="59"/>
                      </a:lnTo>
                      <a:lnTo>
                        <a:pt x="0" y="5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0" name=""/>
                <p:cNvSpPr/>
                <p:nvPr/>
              </p:nvSpPr>
              <p:spPr>
                <a:xfrm>
                  <a:off x="4063680" y="3860640"/>
                  <a:ext cx="44640" cy="93240"/>
                </a:xfrm>
                <a:custGeom>
                  <a:avLst/>
                  <a:gdLst/>
                  <a:ahLst/>
                  <a:rect l="l" t="t" r="r" b="b"/>
                  <a:pathLst>
                    <a:path w="28" h="59">
                      <a:moveTo>
                        <a:pt x="0" y="0"/>
                      </a:moveTo>
                      <a:lnTo>
                        <a:pt x="28" y="59"/>
                      </a:lnTo>
                      <a:lnTo>
                        <a:pt x="0" y="5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1" name=""/>
                <p:cNvSpPr/>
                <p:nvPr/>
              </p:nvSpPr>
              <p:spPr>
                <a:xfrm>
                  <a:off x="3860640" y="3904920"/>
                  <a:ext cx="12600" cy="298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9"/>
                      </a:moveTo>
                      <a:lnTo>
                        <a:pt x="0" y="19"/>
                      </a:lnTo>
                      <a:lnTo>
                        <a:pt x="8" y="0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5e6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2" name=""/>
                <p:cNvSpPr/>
                <p:nvPr/>
              </p:nvSpPr>
              <p:spPr>
                <a:xfrm>
                  <a:off x="4063680" y="3904920"/>
                  <a:ext cx="12960" cy="29880"/>
                </a:xfrm>
                <a:custGeom>
                  <a:avLst/>
                  <a:gdLst/>
                  <a:ahLst/>
                  <a:rect l="l" t="t" r="r" b="b"/>
                  <a:pathLst>
                    <a:path w="8" h="19">
                      <a:moveTo>
                        <a:pt x="8" y="19"/>
                      </a:moveTo>
                      <a:lnTo>
                        <a:pt x="0" y="19"/>
                      </a:lnTo>
                      <a:lnTo>
                        <a:pt x="0" y="0"/>
                      </a:lnTo>
                      <a:lnTo>
                        <a:pt x="8" y="19"/>
                      </a:lnTo>
                      <a:close/>
                    </a:path>
                  </a:pathLst>
                </a:custGeom>
                <a:solidFill>
                  <a:srgbClr val="5e6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43" name=""/>
            <p:cNvSpPr/>
            <p:nvPr/>
          </p:nvSpPr>
          <p:spPr>
            <a:xfrm>
              <a:off x="1066680" y="4778280"/>
              <a:ext cx="1144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240200" y="483228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rce h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392960" y="2386080"/>
              <a:ext cx="11444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597440" y="2440080"/>
              <a:ext cx="83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840440" y="262260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o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581280" y="5129280"/>
              <a:ext cx="1832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879360" y="517680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ep 2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273920" y="5181480"/>
              <a:ext cx="92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W sends SY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692520" y="5334120"/>
              <a:ext cx="1730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ckets through all avail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880800" y="5486400"/>
              <a:ext cx="137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SP and measures R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021360" y="5129280"/>
              <a:ext cx="175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200280" y="517680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ep 3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573240" y="5181480"/>
              <a:ext cx="113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W selects fast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226920" y="5334120"/>
              <a:ext cx="1430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ute and connection 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253560" y="5486400"/>
              <a:ext cx="136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ned between ho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218960" y="5129280"/>
              <a:ext cx="1677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550520" y="517680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ep 1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927080" y="5181480"/>
              <a:ext cx="73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290240" y="5334120"/>
              <a:ext cx="1628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quest to destination ho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658520" y="5486400"/>
              <a:ext cx="88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n the Inter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4949640" y="2887560"/>
              <a:ext cx="2724120" cy="534960"/>
              <a:chOff x="4949640" y="2887560"/>
              <a:chExt cx="2724120" cy="534960"/>
            </a:xfrm>
          </p:grpSpPr>
          <p:sp>
            <p:nvSpPr>
              <p:cNvPr id="4264" name=""/>
              <p:cNvSpPr/>
              <p:nvPr/>
            </p:nvSpPr>
            <p:spPr>
              <a:xfrm>
                <a:off x="5087880" y="2943000"/>
                <a:ext cx="2446200" cy="422280"/>
              </a:xfrm>
              <a:custGeom>
                <a:avLst/>
                <a:gdLst/>
                <a:ahLst/>
                <a:rect l="l" t="t" r="r" b="b"/>
                <a:pathLst>
                  <a:path w="1541" h="266">
                    <a:moveTo>
                      <a:pt x="0" y="0"/>
                    </a:moveTo>
                    <a:lnTo>
                      <a:pt x="0" y="16"/>
                    </a:lnTo>
                    <a:lnTo>
                      <a:pt x="74" y="18"/>
                    </a:lnTo>
                    <a:lnTo>
                      <a:pt x="147" y="21"/>
                    </a:lnTo>
                    <a:lnTo>
                      <a:pt x="219" y="26"/>
                    </a:lnTo>
                    <a:lnTo>
                      <a:pt x="288" y="31"/>
                    </a:lnTo>
                    <a:lnTo>
                      <a:pt x="355" y="37"/>
                    </a:lnTo>
                    <a:lnTo>
                      <a:pt x="419" y="44"/>
                    </a:lnTo>
                    <a:lnTo>
                      <a:pt x="449" y="48"/>
                    </a:lnTo>
                    <a:lnTo>
                      <a:pt x="479" y="51"/>
                    </a:lnTo>
                    <a:lnTo>
                      <a:pt x="507" y="56"/>
                    </a:lnTo>
                    <a:lnTo>
                      <a:pt x="535" y="60"/>
                    </a:lnTo>
                    <a:lnTo>
                      <a:pt x="561" y="64"/>
                    </a:lnTo>
                    <a:lnTo>
                      <a:pt x="586" y="69"/>
                    </a:lnTo>
                    <a:lnTo>
                      <a:pt x="610" y="73"/>
                    </a:lnTo>
                    <a:lnTo>
                      <a:pt x="610" y="65"/>
                    </a:lnTo>
                    <a:lnTo>
                      <a:pt x="607" y="73"/>
                    </a:lnTo>
                    <a:lnTo>
                      <a:pt x="629" y="78"/>
                    </a:lnTo>
                    <a:lnTo>
                      <a:pt x="650" y="82"/>
                    </a:lnTo>
                    <a:lnTo>
                      <a:pt x="669" y="87"/>
                    </a:lnTo>
                    <a:lnTo>
                      <a:pt x="687" y="93"/>
                    </a:lnTo>
                    <a:lnTo>
                      <a:pt x="704" y="98"/>
                    </a:lnTo>
                    <a:lnTo>
                      <a:pt x="718" y="103"/>
                    </a:lnTo>
                    <a:lnTo>
                      <a:pt x="731" y="108"/>
                    </a:lnTo>
                    <a:lnTo>
                      <a:pt x="742" y="113"/>
                    </a:lnTo>
                    <a:lnTo>
                      <a:pt x="751" y="119"/>
                    </a:lnTo>
                    <a:lnTo>
                      <a:pt x="754" y="111"/>
                    </a:lnTo>
                    <a:lnTo>
                      <a:pt x="749" y="117"/>
                    </a:lnTo>
                    <a:lnTo>
                      <a:pt x="756" y="122"/>
                    </a:lnTo>
                    <a:lnTo>
                      <a:pt x="761" y="128"/>
                    </a:lnTo>
                    <a:lnTo>
                      <a:pt x="767" y="122"/>
                    </a:lnTo>
                    <a:lnTo>
                      <a:pt x="759" y="125"/>
                    </a:lnTo>
                    <a:lnTo>
                      <a:pt x="762" y="131"/>
                    </a:lnTo>
                    <a:lnTo>
                      <a:pt x="770" y="128"/>
                    </a:lnTo>
                    <a:lnTo>
                      <a:pt x="762" y="128"/>
                    </a:lnTo>
                    <a:lnTo>
                      <a:pt x="763" y="133"/>
                    </a:lnTo>
                    <a:lnTo>
                      <a:pt x="764" y="138"/>
                    </a:lnTo>
                    <a:lnTo>
                      <a:pt x="765" y="141"/>
                    </a:lnTo>
                    <a:lnTo>
                      <a:pt x="768" y="147"/>
                    </a:lnTo>
                    <a:lnTo>
                      <a:pt x="770" y="149"/>
                    </a:lnTo>
                    <a:lnTo>
                      <a:pt x="775" y="155"/>
                    </a:lnTo>
                    <a:lnTo>
                      <a:pt x="782" y="160"/>
                    </a:lnTo>
                    <a:lnTo>
                      <a:pt x="785" y="162"/>
                    </a:lnTo>
                    <a:lnTo>
                      <a:pt x="794" y="168"/>
                    </a:lnTo>
                    <a:lnTo>
                      <a:pt x="805" y="173"/>
                    </a:lnTo>
                    <a:lnTo>
                      <a:pt x="818" y="178"/>
                    </a:lnTo>
                    <a:lnTo>
                      <a:pt x="832" y="183"/>
                    </a:lnTo>
                    <a:lnTo>
                      <a:pt x="849" y="189"/>
                    </a:lnTo>
                    <a:lnTo>
                      <a:pt x="866" y="194"/>
                    </a:lnTo>
                    <a:lnTo>
                      <a:pt x="886" y="199"/>
                    </a:lnTo>
                    <a:lnTo>
                      <a:pt x="907" y="203"/>
                    </a:lnTo>
                    <a:lnTo>
                      <a:pt x="929" y="208"/>
                    </a:lnTo>
                    <a:lnTo>
                      <a:pt x="932" y="209"/>
                    </a:lnTo>
                    <a:lnTo>
                      <a:pt x="956" y="213"/>
                    </a:lnTo>
                    <a:lnTo>
                      <a:pt x="981" y="218"/>
                    </a:lnTo>
                    <a:lnTo>
                      <a:pt x="1007" y="222"/>
                    </a:lnTo>
                    <a:lnTo>
                      <a:pt x="1034" y="227"/>
                    </a:lnTo>
                    <a:lnTo>
                      <a:pt x="1063" y="231"/>
                    </a:lnTo>
                    <a:lnTo>
                      <a:pt x="1092" y="235"/>
                    </a:lnTo>
                    <a:lnTo>
                      <a:pt x="1122" y="238"/>
                    </a:lnTo>
                    <a:lnTo>
                      <a:pt x="1186" y="245"/>
                    </a:lnTo>
                    <a:lnTo>
                      <a:pt x="1253" y="251"/>
                    </a:lnTo>
                    <a:lnTo>
                      <a:pt x="1322" y="256"/>
                    </a:lnTo>
                    <a:lnTo>
                      <a:pt x="1394" y="261"/>
                    </a:lnTo>
                    <a:lnTo>
                      <a:pt x="1467" y="264"/>
                    </a:lnTo>
                    <a:lnTo>
                      <a:pt x="1541" y="266"/>
                    </a:lnTo>
                    <a:lnTo>
                      <a:pt x="1541" y="250"/>
                    </a:lnTo>
                    <a:lnTo>
                      <a:pt x="1467" y="248"/>
                    </a:lnTo>
                    <a:lnTo>
                      <a:pt x="1394" y="245"/>
                    </a:lnTo>
                    <a:lnTo>
                      <a:pt x="1322" y="240"/>
                    </a:lnTo>
                    <a:lnTo>
                      <a:pt x="1253" y="235"/>
                    </a:lnTo>
                    <a:lnTo>
                      <a:pt x="1186" y="229"/>
                    </a:lnTo>
                    <a:lnTo>
                      <a:pt x="1122" y="222"/>
                    </a:lnTo>
                    <a:lnTo>
                      <a:pt x="1092" y="219"/>
                    </a:lnTo>
                    <a:lnTo>
                      <a:pt x="1063" y="215"/>
                    </a:lnTo>
                    <a:lnTo>
                      <a:pt x="1034" y="211"/>
                    </a:lnTo>
                    <a:lnTo>
                      <a:pt x="1007" y="206"/>
                    </a:lnTo>
                    <a:lnTo>
                      <a:pt x="981" y="202"/>
                    </a:lnTo>
                    <a:lnTo>
                      <a:pt x="956" y="197"/>
                    </a:lnTo>
                    <a:lnTo>
                      <a:pt x="932" y="193"/>
                    </a:lnTo>
                    <a:lnTo>
                      <a:pt x="932" y="201"/>
                    </a:lnTo>
                    <a:lnTo>
                      <a:pt x="935" y="193"/>
                    </a:lnTo>
                    <a:lnTo>
                      <a:pt x="913" y="188"/>
                    </a:lnTo>
                    <a:lnTo>
                      <a:pt x="892" y="184"/>
                    </a:lnTo>
                    <a:lnTo>
                      <a:pt x="872" y="179"/>
                    </a:lnTo>
                    <a:lnTo>
                      <a:pt x="855" y="174"/>
                    </a:lnTo>
                    <a:lnTo>
                      <a:pt x="838" y="168"/>
                    </a:lnTo>
                    <a:lnTo>
                      <a:pt x="824" y="163"/>
                    </a:lnTo>
                    <a:lnTo>
                      <a:pt x="811" y="158"/>
                    </a:lnTo>
                    <a:lnTo>
                      <a:pt x="800" y="153"/>
                    </a:lnTo>
                    <a:lnTo>
                      <a:pt x="791" y="147"/>
                    </a:lnTo>
                    <a:lnTo>
                      <a:pt x="788" y="155"/>
                    </a:lnTo>
                    <a:lnTo>
                      <a:pt x="793" y="149"/>
                    </a:lnTo>
                    <a:lnTo>
                      <a:pt x="786" y="144"/>
                    </a:lnTo>
                    <a:lnTo>
                      <a:pt x="781" y="138"/>
                    </a:lnTo>
                    <a:lnTo>
                      <a:pt x="775" y="144"/>
                    </a:lnTo>
                    <a:lnTo>
                      <a:pt x="783" y="141"/>
                    </a:lnTo>
                    <a:lnTo>
                      <a:pt x="780" y="135"/>
                    </a:lnTo>
                    <a:lnTo>
                      <a:pt x="772" y="138"/>
                    </a:lnTo>
                    <a:lnTo>
                      <a:pt x="780" y="138"/>
                    </a:lnTo>
                    <a:lnTo>
                      <a:pt x="779" y="133"/>
                    </a:lnTo>
                    <a:lnTo>
                      <a:pt x="778" y="128"/>
                    </a:lnTo>
                    <a:lnTo>
                      <a:pt x="777" y="125"/>
                    </a:lnTo>
                    <a:lnTo>
                      <a:pt x="774" y="119"/>
                    </a:lnTo>
                    <a:lnTo>
                      <a:pt x="772" y="117"/>
                    </a:lnTo>
                    <a:lnTo>
                      <a:pt x="767" y="111"/>
                    </a:lnTo>
                    <a:lnTo>
                      <a:pt x="760" y="106"/>
                    </a:lnTo>
                    <a:lnTo>
                      <a:pt x="757" y="104"/>
                    </a:lnTo>
                    <a:lnTo>
                      <a:pt x="748" y="98"/>
                    </a:lnTo>
                    <a:lnTo>
                      <a:pt x="737" y="93"/>
                    </a:lnTo>
                    <a:lnTo>
                      <a:pt x="724" y="88"/>
                    </a:lnTo>
                    <a:lnTo>
                      <a:pt x="710" y="83"/>
                    </a:lnTo>
                    <a:lnTo>
                      <a:pt x="693" y="78"/>
                    </a:lnTo>
                    <a:lnTo>
                      <a:pt x="675" y="72"/>
                    </a:lnTo>
                    <a:lnTo>
                      <a:pt x="656" y="67"/>
                    </a:lnTo>
                    <a:lnTo>
                      <a:pt x="635" y="63"/>
                    </a:lnTo>
                    <a:lnTo>
                      <a:pt x="613" y="58"/>
                    </a:lnTo>
                    <a:lnTo>
                      <a:pt x="610" y="57"/>
                    </a:lnTo>
                    <a:lnTo>
                      <a:pt x="586" y="53"/>
                    </a:lnTo>
                    <a:lnTo>
                      <a:pt x="561" y="48"/>
                    </a:lnTo>
                    <a:lnTo>
                      <a:pt x="535" y="44"/>
                    </a:lnTo>
                    <a:lnTo>
                      <a:pt x="507" y="40"/>
                    </a:lnTo>
                    <a:lnTo>
                      <a:pt x="479" y="35"/>
                    </a:lnTo>
                    <a:lnTo>
                      <a:pt x="449" y="32"/>
                    </a:lnTo>
                    <a:lnTo>
                      <a:pt x="419" y="28"/>
                    </a:lnTo>
                    <a:lnTo>
                      <a:pt x="355" y="21"/>
                    </a:lnTo>
                    <a:lnTo>
                      <a:pt x="288" y="15"/>
                    </a:lnTo>
                    <a:lnTo>
                      <a:pt x="219" y="10"/>
                    </a:lnTo>
                    <a:lnTo>
                      <a:pt x="147" y="5"/>
                    </a:lnTo>
                    <a:lnTo>
                      <a:pt x="7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949640" y="288756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0"/>
                    </a:moveTo>
                    <a:lnTo>
                      <a:pt x="0" y="43"/>
                    </a:lnTo>
                    <a:lnTo>
                      <a:pt x="87" y="87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7535520" y="328428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7" y="44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7" name=""/>
            <p:cNvGrpSpPr/>
            <p:nvPr/>
          </p:nvGrpSpPr>
          <p:grpSpPr>
            <a:xfrm>
              <a:off x="4951440" y="2989080"/>
              <a:ext cx="2639520" cy="1579680"/>
              <a:chOff x="4951440" y="2989080"/>
              <a:chExt cx="2639520" cy="1579680"/>
            </a:xfrm>
          </p:grpSpPr>
          <p:grpSp>
            <p:nvGrpSpPr>
              <p:cNvPr id="4268" name=""/>
              <p:cNvGrpSpPr/>
              <p:nvPr/>
            </p:nvGrpSpPr>
            <p:grpSpPr>
              <a:xfrm>
                <a:off x="4951440" y="2989080"/>
                <a:ext cx="2633040" cy="433440"/>
                <a:chOff x="4951440" y="2989080"/>
                <a:chExt cx="2633040" cy="433440"/>
              </a:xfrm>
            </p:grpSpPr>
            <p:sp>
              <p:nvSpPr>
                <p:cNvPr id="4269" name=""/>
                <p:cNvSpPr/>
                <p:nvPr/>
              </p:nvSpPr>
              <p:spPr>
                <a:xfrm>
                  <a:off x="4951440" y="2989080"/>
                  <a:ext cx="2563560" cy="380880"/>
                </a:xfrm>
                <a:custGeom>
                  <a:avLst/>
                  <a:gdLst/>
                  <a:ahLst/>
                  <a:rect l="l" t="t" r="r" b="b"/>
                  <a:pathLst>
                    <a:path w="1615" h="240">
                      <a:moveTo>
                        <a:pt x="1615" y="240"/>
                      </a:moveTo>
                      <a:lnTo>
                        <a:pt x="1540" y="239"/>
                      </a:lnTo>
                      <a:lnTo>
                        <a:pt x="1467" y="236"/>
                      </a:lnTo>
                      <a:lnTo>
                        <a:pt x="1394" y="232"/>
                      </a:lnTo>
                      <a:lnTo>
                        <a:pt x="1324" y="228"/>
                      </a:lnTo>
                      <a:lnTo>
                        <a:pt x="1256" y="222"/>
                      </a:lnTo>
                      <a:lnTo>
                        <a:pt x="1191" y="216"/>
                      </a:lnTo>
                      <a:lnTo>
                        <a:pt x="1160" y="212"/>
                      </a:lnTo>
                      <a:lnTo>
                        <a:pt x="1130" y="208"/>
                      </a:lnTo>
                      <a:lnTo>
                        <a:pt x="1101" y="204"/>
                      </a:lnTo>
                      <a:lnTo>
                        <a:pt x="1073" y="200"/>
                      </a:lnTo>
                      <a:lnTo>
                        <a:pt x="1046" y="196"/>
                      </a:lnTo>
                      <a:lnTo>
                        <a:pt x="1020" y="192"/>
                      </a:lnTo>
                      <a:lnTo>
                        <a:pt x="996" y="187"/>
                      </a:lnTo>
                      <a:lnTo>
                        <a:pt x="973" y="182"/>
                      </a:lnTo>
                      <a:lnTo>
                        <a:pt x="952" y="178"/>
                      </a:lnTo>
                      <a:lnTo>
                        <a:pt x="932" y="173"/>
                      </a:lnTo>
                      <a:lnTo>
                        <a:pt x="913" y="168"/>
                      </a:lnTo>
                      <a:lnTo>
                        <a:pt x="897" y="163"/>
                      </a:lnTo>
                      <a:lnTo>
                        <a:pt x="882" y="158"/>
                      </a:lnTo>
                      <a:lnTo>
                        <a:pt x="868" y="152"/>
                      </a:lnTo>
                      <a:lnTo>
                        <a:pt x="857" y="147"/>
                      </a:lnTo>
                      <a:lnTo>
                        <a:pt x="847" y="142"/>
                      </a:lnTo>
                      <a:lnTo>
                        <a:pt x="840" y="136"/>
                      </a:lnTo>
                      <a:lnTo>
                        <a:pt x="834" y="131"/>
                      </a:lnTo>
                      <a:lnTo>
                        <a:pt x="831" y="125"/>
                      </a:lnTo>
                      <a:lnTo>
                        <a:pt x="830" y="120"/>
                      </a:lnTo>
                      <a:lnTo>
                        <a:pt x="829" y="114"/>
                      </a:lnTo>
                      <a:lnTo>
                        <a:pt x="825" y="109"/>
                      </a:lnTo>
                      <a:lnTo>
                        <a:pt x="819" y="103"/>
                      </a:lnTo>
                      <a:lnTo>
                        <a:pt x="811" y="98"/>
                      </a:lnTo>
                      <a:lnTo>
                        <a:pt x="801" y="92"/>
                      </a:lnTo>
                      <a:lnTo>
                        <a:pt x="789" y="87"/>
                      </a:lnTo>
                      <a:lnTo>
                        <a:pt x="775" y="81"/>
                      </a:lnTo>
                      <a:lnTo>
                        <a:pt x="759" y="76"/>
                      </a:lnTo>
                      <a:lnTo>
                        <a:pt x="741" y="71"/>
                      </a:lnTo>
                      <a:lnTo>
                        <a:pt x="721" y="66"/>
                      </a:lnTo>
                      <a:lnTo>
                        <a:pt x="700" y="61"/>
                      </a:lnTo>
                      <a:lnTo>
                        <a:pt x="677" y="56"/>
                      </a:lnTo>
                      <a:lnTo>
                        <a:pt x="652" y="51"/>
                      </a:lnTo>
                      <a:lnTo>
                        <a:pt x="626" y="46"/>
                      </a:lnTo>
                      <a:lnTo>
                        <a:pt x="599" y="42"/>
                      </a:lnTo>
                      <a:lnTo>
                        <a:pt x="571" y="38"/>
                      </a:lnTo>
                      <a:lnTo>
                        <a:pt x="541" y="33"/>
                      </a:lnTo>
                      <a:lnTo>
                        <a:pt x="510" y="29"/>
                      </a:lnTo>
                      <a:lnTo>
                        <a:pt x="478" y="26"/>
                      </a:lnTo>
                      <a:lnTo>
                        <a:pt x="445" y="22"/>
                      </a:lnTo>
                      <a:lnTo>
                        <a:pt x="376" y="16"/>
                      </a:lnTo>
                      <a:lnTo>
                        <a:pt x="305" y="10"/>
                      </a:lnTo>
                      <a:lnTo>
                        <a:pt x="231" y="6"/>
                      </a:lnTo>
                      <a:lnTo>
                        <a:pt x="155" y="3"/>
                      </a:lnTo>
                      <a:lnTo>
                        <a:pt x="78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7486560" y="3322440"/>
                  <a:ext cx="9792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0" y="63"/>
                      </a:moveTo>
                      <a:lnTo>
                        <a:pt x="62" y="31"/>
                      </a:lnTo>
                      <a:lnTo>
                        <a:pt x="0" y="0"/>
                      </a:lnTo>
                      <a:lnTo>
                        <a:pt x="19" y="31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1" name=""/>
              <p:cNvGrpSpPr/>
              <p:nvPr/>
            </p:nvGrpSpPr>
            <p:grpSpPr>
              <a:xfrm>
                <a:off x="4951440" y="3331800"/>
                <a:ext cx="2639520" cy="1236960"/>
                <a:chOff x="4951440" y="3331800"/>
                <a:chExt cx="2639520" cy="1236960"/>
              </a:xfrm>
            </p:grpSpPr>
            <p:sp>
              <p:nvSpPr>
                <p:cNvPr id="4272" name=""/>
                <p:cNvSpPr/>
                <p:nvPr/>
              </p:nvSpPr>
              <p:spPr>
                <a:xfrm>
                  <a:off x="4951440" y="3379680"/>
                  <a:ext cx="2570040" cy="1189080"/>
                </a:xfrm>
                <a:custGeom>
                  <a:avLst/>
                  <a:gdLst/>
                  <a:ahLst/>
                  <a:rect l="l" t="t" r="r" b="b"/>
                  <a:pathLst>
                    <a:path w="1619" h="749">
                      <a:moveTo>
                        <a:pt x="1619" y="0"/>
                      </a:moveTo>
                      <a:lnTo>
                        <a:pt x="1544" y="4"/>
                      </a:lnTo>
                      <a:lnTo>
                        <a:pt x="1470" y="12"/>
                      </a:lnTo>
                      <a:lnTo>
                        <a:pt x="1397" y="24"/>
                      </a:lnTo>
                      <a:lnTo>
                        <a:pt x="1327" y="39"/>
                      </a:lnTo>
                      <a:lnTo>
                        <a:pt x="1259" y="56"/>
                      </a:lnTo>
                      <a:lnTo>
                        <a:pt x="1194" y="76"/>
                      </a:lnTo>
                      <a:lnTo>
                        <a:pt x="1163" y="87"/>
                      </a:lnTo>
                      <a:lnTo>
                        <a:pt x="1132" y="99"/>
                      </a:lnTo>
                      <a:lnTo>
                        <a:pt x="1103" y="111"/>
                      </a:lnTo>
                      <a:lnTo>
                        <a:pt x="1075" y="124"/>
                      </a:lnTo>
                      <a:lnTo>
                        <a:pt x="1048" y="137"/>
                      </a:lnTo>
                      <a:lnTo>
                        <a:pt x="1023" y="151"/>
                      </a:lnTo>
                      <a:lnTo>
                        <a:pt x="998" y="165"/>
                      </a:lnTo>
                      <a:lnTo>
                        <a:pt x="975" y="180"/>
                      </a:lnTo>
                      <a:lnTo>
                        <a:pt x="954" y="194"/>
                      </a:lnTo>
                      <a:lnTo>
                        <a:pt x="934" y="210"/>
                      </a:lnTo>
                      <a:lnTo>
                        <a:pt x="915" y="225"/>
                      </a:lnTo>
                      <a:lnTo>
                        <a:pt x="899" y="241"/>
                      </a:lnTo>
                      <a:lnTo>
                        <a:pt x="884" y="257"/>
                      </a:lnTo>
                      <a:lnTo>
                        <a:pt x="870" y="273"/>
                      </a:lnTo>
                      <a:lnTo>
                        <a:pt x="859" y="290"/>
                      </a:lnTo>
                      <a:lnTo>
                        <a:pt x="849" y="307"/>
                      </a:lnTo>
                      <a:lnTo>
                        <a:pt x="842" y="323"/>
                      </a:lnTo>
                      <a:lnTo>
                        <a:pt x="836" y="340"/>
                      </a:lnTo>
                      <a:lnTo>
                        <a:pt x="833" y="357"/>
                      </a:lnTo>
                      <a:lnTo>
                        <a:pt x="832" y="374"/>
                      </a:lnTo>
                      <a:lnTo>
                        <a:pt x="831" y="392"/>
                      </a:lnTo>
                      <a:lnTo>
                        <a:pt x="827" y="409"/>
                      </a:lnTo>
                      <a:lnTo>
                        <a:pt x="821" y="427"/>
                      </a:lnTo>
                      <a:lnTo>
                        <a:pt x="813" y="444"/>
                      </a:lnTo>
                      <a:lnTo>
                        <a:pt x="803" y="461"/>
                      </a:lnTo>
                      <a:lnTo>
                        <a:pt x="791" y="478"/>
                      </a:lnTo>
                      <a:lnTo>
                        <a:pt x="777" y="495"/>
                      </a:lnTo>
                      <a:lnTo>
                        <a:pt x="761" y="512"/>
                      </a:lnTo>
                      <a:lnTo>
                        <a:pt x="743" y="528"/>
                      </a:lnTo>
                      <a:lnTo>
                        <a:pt x="723" y="544"/>
                      </a:lnTo>
                      <a:lnTo>
                        <a:pt x="701" y="560"/>
                      </a:lnTo>
                      <a:lnTo>
                        <a:pt x="678" y="575"/>
                      </a:lnTo>
                      <a:lnTo>
                        <a:pt x="654" y="590"/>
                      </a:lnTo>
                      <a:lnTo>
                        <a:pt x="628" y="605"/>
                      </a:lnTo>
                      <a:lnTo>
                        <a:pt x="601" y="619"/>
                      </a:lnTo>
                      <a:lnTo>
                        <a:pt x="572" y="632"/>
                      </a:lnTo>
                      <a:lnTo>
                        <a:pt x="542" y="645"/>
                      </a:lnTo>
                      <a:lnTo>
                        <a:pt x="511" y="657"/>
                      </a:lnTo>
                      <a:lnTo>
                        <a:pt x="479" y="669"/>
                      </a:lnTo>
                      <a:lnTo>
                        <a:pt x="446" y="680"/>
                      </a:lnTo>
                      <a:lnTo>
                        <a:pt x="377" y="700"/>
                      </a:lnTo>
                      <a:lnTo>
                        <a:pt x="306" y="717"/>
                      </a:lnTo>
                      <a:lnTo>
                        <a:pt x="231" y="731"/>
                      </a:lnTo>
                      <a:lnTo>
                        <a:pt x="155" y="741"/>
                      </a:lnTo>
                      <a:lnTo>
                        <a:pt x="117" y="744"/>
                      </a:lnTo>
                      <a:lnTo>
                        <a:pt x="78" y="747"/>
                      </a:lnTo>
                      <a:lnTo>
                        <a:pt x="39" y="748"/>
                      </a:lnTo>
                      <a:lnTo>
                        <a:pt x="0" y="74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7491240" y="3331800"/>
                  <a:ext cx="99720" cy="100080"/>
                </a:xfrm>
                <a:custGeom>
                  <a:avLst/>
                  <a:gdLst/>
                  <a:ahLst/>
                  <a:rect l="l" t="t" r="r" b="b"/>
                  <a:pathLst>
                    <a:path w="63" h="63">
                      <a:moveTo>
                        <a:pt x="2" y="63"/>
                      </a:moveTo>
                      <a:lnTo>
                        <a:pt x="63" y="30"/>
                      </a:lnTo>
                      <a:lnTo>
                        <a:pt x="0" y="0"/>
                      </a:lnTo>
                      <a:lnTo>
                        <a:pt x="20" y="31"/>
                      </a:lnTo>
                      <a:lnTo>
                        <a:pt x="2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4" name=""/>
              <p:cNvGrpSpPr/>
              <p:nvPr/>
            </p:nvGrpSpPr>
            <p:grpSpPr>
              <a:xfrm>
                <a:off x="4951440" y="3327120"/>
                <a:ext cx="2593440" cy="479520"/>
                <a:chOff x="4951440" y="3327120"/>
                <a:chExt cx="2593440" cy="479520"/>
              </a:xfrm>
            </p:grpSpPr>
            <p:sp>
              <p:nvSpPr>
                <p:cNvPr id="4275" name=""/>
                <p:cNvSpPr/>
                <p:nvPr/>
              </p:nvSpPr>
              <p:spPr>
                <a:xfrm>
                  <a:off x="4951440" y="3376440"/>
                  <a:ext cx="2523960" cy="430200"/>
                </a:xfrm>
                <a:custGeom>
                  <a:avLst/>
                  <a:gdLst/>
                  <a:ahLst/>
                  <a:rect l="l" t="t" r="r" b="b"/>
                  <a:pathLst>
                    <a:path w="1590" h="271">
                      <a:moveTo>
                        <a:pt x="0" y="271"/>
                      </a:moveTo>
                      <a:lnTo>
                        <a:pt x="76" y="270"/>
                      </a:lnTo>
                      <a:lnTo>
                        <a:pt x="152" y="268"/>
                      </a:lnTo>
                      <a:lnTo>
                        <a:pt x="227" y="264"/>
                      </a:lnTo>
                      <a:lnTo>
                        <a:pt x="300" y="259"/>
                      </a:lnTo>
                      <a:lnTo>
                        <a:pt x="370" y="253"/>
                      </a:lnTo>
                      <a:lnTo>
                        <a:pt x="438" y="246"/>
                      </a:lnTo>
                      <a:lnTo>
                        <a:pt x="470" y="242"/>
                      </a:lnTo>
                      <a:lnTo>
                        <a:pt x="502" y="238"/>
                      </a:lnTo>
                      <a:lnTo>
                        <a:pt x="532" y="233"/>
                      </a:lnTo>
                      <a:lnTo>
                        <a:pt x="562" y="229"/>
                      </a:lnTo>
                      <a:lnTo>
                        <a:pt x="590" y="224"/>
                      </a:lnTo>
                      <a:lnTo>
                        <a:pt x="617" y="219"/>
                      </a:lnTo>
                      <a:lnTo>
                        <a:pt x="642" y="213"/>
                      </a:lnTo>
                      <a:lnTo>
                        <a:pt x="666" y="208"/>
                      </a:lnTo>
                      <a:lnTo>
                        <a:pt x="689" y="202"/>
                      </a:lnTo>
                      <a:lnTo>
                        <a:pt x="710" y="197"/>
                      </a:lnTo>
                      <a:lnTo>
                        <a:pt x="729" y="191"/>
                      </a:lnTo>
                      <a:lnTo>
                        <a:pt x="747" y="185"/>
                      </a:lnTo>
                      <a:lnTo>
                        <a:pt x="763" y="179"/>
                      </a:lnTo>
                      <a:lnTo>
                        <a:pt x="777" y="173"/>
                      </a:lnTo>
                      <a:lnTo>
                        <a:pt x="789" y="167"/>
                      </a:lnTo>
                      <a:lnTo>
                        <a:pt x="799" y="160"/>
                      </a:lnTo>
                      <a:lnTo>
                        <a:pt x="807" y="154"/>
                      </a:lnTo>
                      <a:lnTo>
                        <a:pt x="812" y="148"/>
                      </a:lnTo>
                      <a:lnTo>
                        <a:pt x="816" y="141"/>
                      </a:lnTo>
                      <a:lnTo>
                        <a:pt x="817" y="135"/>
                      </a:lnTo>
                      <a:lnTo>
                        <a:pt x="818" y="129"/>
                      </a:lnTo>
                      <a:lnTo>
                        <a:pt x="821" y="123"/>
                      </a:lnTo>
                      <a:lnTo>
                        <a:pt x="827" y="117"/>
                      </a:lnTo>
                      <a:lnTo>
                        <a:pt x="834" y="111"/>
                      </a:lnTo>
                      <a:lnTo>
                        <a:pt x="843" y="105"/>
                      </a:lnTo>
                      <a:lnTo>
                        <a:pt x="855" y="99"/>
                      </a:lnTo>
                      <a:lnTo>
                        <a:pt x="868" y="93"/>
                      </a:lnTo>
                      <a:lnTo>
                        <a:pt x="882" y="87"/>
                      </a:lnTo>
                      <a:lnTo>
                        <a:pt x="899" y="81"/>
                      </a:lnTo>
                      <a:lnTo>
                        <a:pt x="917" y="76"/>
                      </a:lnTo>
                      <a:lnTo>
                        <a:pt x="937" y="70"/>
                      </a:lnTo>
                      <a:lnTo>
                        <a:pt x="958" y="65"/>
                      </a:lnTo>
                      <a:lnTo>
                        <a:pt x="980" y="60"/>
                      </a:lnTo>
                      <a:lnTo>
                        <a:pt x="1004" y="54"/>
                      </a:lnTo>
                      <a:lnTo>
                        <a:pt x="1029" y="49"/>
                      </a:lnTo>
                      <a:lnTo>
                        <a:pt x="1056" y="45"/>
                      </a:lnTo>
                      <a:lnTo>
                        <a:pt x="1083" y="40"/>
                      </a:lnTo>
                      <a:lnTo>
                        <a:pt x="1112" y="36"/>
                      </a:lnTo>
                      <a:lnTo>
                        <a:pt x="1142" y="31"/>
                      </a:lnTo>
                      <a:lnTo>
                        <a:pt x="1172" y="27"/>
                      </a:lnTo>
                      <a:lnTo>
                        <a:pt x="1236" y="20"/>
                      </a:lnTo>
                      <a:lnTo>
                        <a:pt x="1303" y="14"/>
                      </a:lnTo>
                      <a:lnTo>
                        <a:pt x="1372" y="8"/>
                      </a:lnTo>
                      <a:lnTo>
                        <a:pt x="1444" y="4"/>
                      </a:lnTo>
                      <a:lnTo>
                        <a:pt x="1516" y="1"/>
                      </a:lnTo>
                      <a:lnTo>
                        <a:pt x="159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>
                  <a:off x="7446600" y="3327120"/>
                  <a:ext cx="9828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0" y="63"/>
                      </a:moveTo>
                      <a:lnTo>
                        <a:pt x="62" y="31"/>
                      </a:lnTo>
                      <a:lnTo>
                        <a:pt x="0" y="0"/>
                      </a:lnTo>
                      <a:lnTo>
                        <a:pt x="19" y="31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77" name=""/>
            <p:cNvGrpSpPr/>
            <p:nvPr/>
          </p:nvGrpSpPr>
          <p:grpSpPr>
            <a:xfrm>
              <a:off x="1523880" y="5746680"/>
              <a:ext cx="609480" cy="137880"/>
              <a:chOff x="1523880" y="5746680"/>
              <a:chExt cx="609480" cy="137880"/>
            </a:xfrm>
          </p:grpSpPr>
          <p:sp>
            <p:nvSpPr>
              <p:cNvPr id="4278" name=""/>
              <p:cNvSpPr/>
              <p:nvPr/>
            </p:nvSpPr>
            <p:spPr>
              <a:xfrm>
                <a:off x="1523880" y="5802120"/>
                <a:ext cx="2520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1574640" y="5802120"/>
                <a:ext cx="2520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1625400" y="5802120"/>
                <a:ext cx="2556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1676160" y="5802120"/>
                <a:ext cx="2556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1726920" y="5802120"/>
                <a:ext cx="2556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1777680" y="5802120"/>
                <a:ext cx="2556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1828440" y="5802120"/>
                <a:ext cx="2556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1879560" y="5802120"/>
                <a:ext cx="2520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1930320" y="5802120"/>
                <a:ext cx="2520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1981080" y="5802120"/>
                <a:ext cx="17280" cy="25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1995480" y="5746680"/>
                <a:ext cx="13788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7" y="43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9" name=""/>
            <p:cNvGrpSpPr/>
            <p:nvPr/>
          </p:nvGrpSpPr>
          <p:grpSpPr>
            <a:xfrm>
              <a:off x="3962160" y="5764320"/>
              <a:ext cx="609480" cy="101520"/>
              <a:chOff x="3962160" y="5764320"/>
              <a:chExt cx="609480" cy="101520"/>
            </a:xfrm>
          </p:grpSpPr>
          <p:sp>
            <p:nvSpPr>
              <p:cNvPr id="4290" name=""/>
              <p:cNvSpPr/>
              <p:nvPr/>
            </p:nvSpPr>
            <p:spPr>
              <a:xfrm>
                <a:off x="4027320" y="5815080"/>
                <a:ext cx="479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3962160" y="576432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0"/>
                    </a:moveTo>
                    <a:lnTo>
                      <a:pt x="0" y="32"/>
                    </a:lnTo>
                    <a:lnTo>
                      <a:pt x="62" y="63"/>
                    </a:lnTo>
                    <a:lnTo>
                      <a:pt x="43" y="3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473360" y="5766120"/>
                <a:ext cx="98280" cy="9972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0" y="63"/>
                    </a:moveTo>
                    <a:lnTo>
                      <a:pt x="62" y="31"/>
                    </a:lnTo>
                    <a:lnTo>
                      <a:pt x="0" y="0"/>
                    </a:lnTo>
                    <a:lnTo>
                      <a:pt x="19" y="31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3" name=""/>
            <p:cNvGrpSpPr/>
            <p:nvPr/>
          </p:nvGrpSpPr>
          <p:grpSpPr>
            <a:xfrm>
              <a:off x="6325920" y="5745240"/>
              <a:ext cx="609840" cy="139680"/>
              <a:chOff x="6325920" y="5745240"/>
              <a:chExt cx="609840" cy="139680"/>
            </a:xfrm>
          </p:grpSpPr>
          <p:sp>
            <p:nvSpPr>
              <p:cNvPr id="4294" name=""/>
              <p:cNvSpPr/>
              <p:nvPr/>
            </p:nvSpPr>
            <p:spPr>
              <a:xfrm>
                <a:off x="6460920" y="5802480"/>
                <a:ext cx="339840" cy="255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325920" y="574524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0"/>
                    </a:moveTo>
                    <a:lnTo>
                      <a:pt x="0" y="44"/>
                    </a:lnTo>
                    <a:lnTo>
                      <a:pt x="87" y="87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797520" y="574704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7" y="43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7" name=""/>
            <p:cNvGrpSpPr/>
            <p:nvPr/>
          </p:nvGrpSpPr>
          <p:grpSpPr>
            <a:xfrm>
              <a:off x="1501560" y="3602160"/>
              <a:ext cx="2109960" cy="710640"/>
              <a:chOff x="1501560" y="3602160"/>
              <a:chExt cx="2109960" cy="710640"/>
            </a:xfrm>
          </p:grpSpPr>
          <p:sp>
            <p:nvSpPr>
              <p:cNvPr id="4298" name=""/>
              <p:cNvSpPr/>
              <p:nvPr/>
            </p:nvSpPr>
            <p:spPr>
              <a:xfrm>
                <a:off x="1558800" y="3657240"/>
                <a:ext cx="1917720" cy="520560"/>
              </a:xfrm>
              <a:custGeom>
                <a:avLst/>
                <a:gdLst/>
                <a:ahLst/>
                <a:rect l="l" t="t" r="r" b="b"/>
                <a:pathLst>
                  <a:path w="1208" h="328">
                    <a:moveTo>
                      <a:pt x="1208" y="16"/>
                    </a:moveTo>
                    <a:lnTo>
                      <a:pt x="120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328"/>
                    </a:lnTo>
                    <a:lnTo>
                      <a:pt x="16" y="32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1208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473280" y="360216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7" y="43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1501560" y="41749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0"/>
                    </a:moveTo>
                    <a:lnTo>
                      <a:pt x="44" y="87"/>
                    </a:lnTo>
                    <a:lnTo>
                      <a:pt x="8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1" name=""/>
            <p:cNvGrpSpPr/>
            <p:nvPr/>
          </p:nvGrpSpPr>
          <p:grpSpPr>
            <a:xfrm>
              <a:off x="4949640" y="3376440"/>
              <a:ext cx="2633760" cy="1238040"/>
              <a:chOff x="4949640" y="3376440"/>
              <a:chExt cx="2633760" cy="1238040"/>
            </a:xfrm>
          </p:grpSpPr>
          <p:grpSp>
            <p:nvGrpSpPr>
              <p:cNvPr id="4302" name=""/>
              <p:cNvGrpSpPr/>
              <p:nvPr/>
            </p:nvGrpSpPr>
            <p:grpSpPr>
              <a:xfrm>
                <a:off x="4949640" y="3379680"/>
                <a:ext cx="2633760" cy="1234800"/>
                <a:chOff x="4949640" y="3379680"/>
                <a:chExt cx="2633760" cy="1234800"/>
              </a:xfrm>
            </p:grpSpPr>
            <p:sp>
              <p:nvSpPr>
                <p:cNvPr id="4303" name=""/>
                <p:cNvSpPr/>
                <p:nvPr/>
              </p:nvSpPr>
              <p:spPr>
                <a:xfrm>
                  <a:off x="5018040" y="3379680"/>
                  <a:ext cx="2565360" cy="1185840"/>
                </a:xfrm>
                <a:custGeom>
                  <a:avLst/>
                  <a:gdLst/>
                  <a:ahLst/>
                  <a:rect l="l" t="t" r="r" b="b"/>
                  <a:pathLst>
                    <a:path w="1616" h="747">
                      <a:moveTo>
                        <a:pt x="1616" y="0"/>
                      </a:moveTo>
                      <a:lnTo>
                        <a:pt x="1577" y="1"/>
                      </a:lnTo>
                      <a:lnTo>
                        <a:pt x="1538" y="2"/>
                      </a:lnTo>
                      <a:lnTo>
                        <a:pt x="1500" y="5"/>
                      </a:lnTo>
                      <a:lnTo>
                        <a:pt x="1462" y="8"/>
                      </a:lnTo>
                      <a:lnTo>
                        <a:pt x="1386" y="19"/>
                      </a:lnTo>
                      <a:lnTo>
                        <a:pt x="1312" y="32"/>
                      </a:lnTo>
                      <a:lnTo>
                        <a:pt x="1240" y="49"/>
                      </a:lnTo>
                      <a:lnTo>
                        <a:pt x="1172" y="69"/>
                      </a:lnTo>
                      <a:lnTo>
                        <a:pt x="1139" y="80"/>
                      </a:lnTo>
                      <a:lnTo>
                        <a:pt x="1107" y="92"/>
                      </a:lnTo>
                      <a:lnTo>
                        <a:pt x="1076" y="104"/>
                      </a:lnTo>
                      <a:lnTo>
                        <a:pt x="1046" y="117"/>
                      </a:lnTo>
                      <a:lnTo>
                        <a:pt x="1018" y="130"/>
                      </a:lnTo>
                      <a:lnTo>
                        <a:pt x="990" y="144"/>
                      </a:lnTo>
                      <a:lnTo>
                        <a:pt x="965" y="159"/>
                      </a:lnTo>
                      <a:lnTo>
                        <a:pt x="940" y="174"/>
                      </a:lnTo>
                      <a:lnTo>
                        <a:pt x="917" y="189"/>
                      </a:lnTo>
                      <a:lnTo>
                        <a:pt x="896" y="204"/>
                      </a:lnTo>
                      <a:lnTo>
                        <a:pt x="876" y="220"/>
                      </a:lnTo>
                      <a:lnTo>
                        <a:pt x="858" y="237"/>
                      </a:lnTo>
                      <a:lnTo>
                        <a:pt x="842" y="253"/>
                      </a:lnTo>
                      <a:lnTo>
                        <a:pt x="828" y="270"/>
                      </a:lnTo>
                      <a:lnTo>
                        <a:pt x="816" y="287"/>
                      </a:lnTo>
                      <a:lnTo>
                        <a:pt x="806" y="304"/>
                      </a:lnTo>
                      <a:lnTo>
                        <a:pt x="798" y="322"/>
                      </a:lnTo>
                      <a:lnTo>
                        <a:pt x="792" y="339"/>
                      </a:lnTo>
                      <a:lnTo>
                        <a:pt x="788" y="357"/>
                      </a:lnTo>
                      <a:lnTo>
                        <a:pt x="787" y="374"/>
                      </a:lnTo>
                      <a:lnTo>
                        <a:pt x="786" y="391"/>
                      </a:lnTo>
                      <a:lnTo>
                        <a:pt x="783" y="408"/>
                      </a:lnTo>
                      <a:lnTo>
                        <a:pt x="777" y="425"/>
                      </a:lnTo>
                      <a:lnTo>
                        <a:pt x="770" y="441"/>
                      </a:lnTo>
                      <a:lnTo>
                        <a:pt x="760" y="458"/>
                      </a:lnTo>
                      <a:lnTo>
                        <a:pt x="749" y="474"/>
                      </a:lnTo>
                      <a:lnTo>
                        <a:pt x="735" y="490"/>
                      </a:lnTo>
                      <a:lnTo>
                        <a:pt x="720" y="506"/>
                      </a:lnTo>
                      <a:lnTo>
                        <a:pt x="704" y="522"/>
                      </a:lnTo>
                      <a:lnTo>
                        <a:pt x="685" y="538"/>
                      </a:lnTo>
                      <a:lnTo>
                        <a:pt x="665" y="553"/>
                      </a:lnTo>
                      <a:lnTo>
                        <a:pt x="643" y="568"/>
                      </a:lnTo>
                      <a:lnTo>
                        <a:pt x="620" y="582"/>
                      </a:lnTo>
                      <a:lnTo>
                        <a:pt x="596" y="596"/>
                      </a:lnTo>
                      <a:lnTo>
                        <a:pt x="570" y="610"/>
                      </a:lnTo>
                      <a:lnTo>
                        <a:pt x="544" y="623"/>
                      </a:lnTo>
                      <a:lnTo>
                        <a:pt x="515" y="636"/>
                      </a:lnTo>
                      <a:lnTo>
                        <a:pt x="486" y="648"/>
                      </a:lnTo>
                      <a:lnTo>
                        <a:pt x="456" y="660"/>
                      </a:lnTo>
                      <a:lnTo>
                        <a:pt x="425" y="671"/>
                      </a:lnTo>
                      <a:lnTo>
                        <a:pt x="360" y="691"/>
                      </a:lnTo>
                      <a:lnTo>
                        <a:pt x="292" y="709"/>
                      </a:lnTo>
                      <a:lnTo>
                        <a:pt x="221" y="723"/>
                      </a:lnTo>
                      <a:lnTo>
                        <a:pt x="149" y="735"/>
                      </a:lnTo>
                      <a:lnTo>
                        <a:pt x="75" y="743"/>
                      </a:lnTo>
                      <a:lnTo>
                        <a:pt x="0" y="747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4949640" y="4514760"/>
                  <a:ext cx="100080" cy="99720"/>
                </a:xfrm>
                <a:custGeom>
                  <a:avLst/>
                  <a:gdLst/>
                  <a:ahLst/>
                  <a:rect l="l" t="t" r="r" b="b"/>
                  <a:pathLst>
                    <a:path w="63" h="63">
                      <a:moveTo>
                        <a:pt x="61" y="0"/>
                      </a:moveTo>
                      <a:lnTo>
                        <a:pt x="0" y="33"/>
                      </a:lnTo>
                      <a:lnTo>
                        <a:pt x="63" y="63"/>
                      </a:lnTo>
                      <a:lnTo>
                        <a:pt x="43" y="32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5" name=""/>
              <p:cNvGrpSpPr/>
              <p:nvPr/>
            </p:nvGrpSpPr>
            <p:grpSpPr>
              <a:xfrm>
                <a:off x="4949640" y="3376440"/>
                <a:ext cx="2587680" cy="477720"/>
                <a:chOff x="4949640" y="3376440"/>
                <a:chExt cx="2587680" cy="477720"/>
              </a:xfrm>
            </p:grpSpPr>
            <p:sp>
              <p:nvSpPr>
                <p:cNvPr id="4306" name=""/>
                <p:cNvSpPr/>
                <p:nvPr/>
              </p:nvSpPr>
              <p:spPr>
                <a:xfrm>
                  <a:off x="5016240" y="3376440"/>
                  <a:ext cx="2521080" cy="426960"/>
                </a:xfrm>
                <a:custGeom>
                  <a:avLst/>
                  <a:gdLst/>
                  <a:ahLst/>
                  <a:rect l="l" t="t" r="r" b="b"/>
                  <a:pathLst>
                    <a:path w="1588" h="269">
                      <a:moveTo>
                        <a:pt x="0" y="269"/>
                      </a:moveTo>
                      <a:lnTo>
                        <a:pt x="73" y="268"/>
                      </a:lnTo>
                      <a:lnTo>
                        <a:pt x="146" y="265"/>
                      </a:lnTo>
                      <a:lnTo>
                        <a:pt x="217" y="261"/>
                      </a:lnTo>
                      <a:lnTo>
                        <a:pt x="287" y="255"/>
                      </a:lnTo>
                      <a:lnTo>
                        <a:pt x="353" y="249"/>
                      </a:lnTo>
                      <a:lnTo>
                        <a:pt x="417" y="242"/>
                      </a:lnTo>
                      <a:lnTo>
                        <a:pt x="448" y="238"/>
                      </a:lnTo>
                      <a:lnTo>
                        <a:pt x="478" y="234"/>
                      </a:lnTo>
                      <a:lnTo>
                        <a:pt x="506" y="229"/>
                      </a:lnTo>
                      <a:lnTo>
                        <a:pt x="534" y="225"/>
                      </a:lnTo>
                      <a:lnTo>
                        <a:pt x="560" y="220"/>
                      </a:lnTo>
                      <a:lnTo>
                        <a:pt x="586" y="215"/>
                      </a:lnTo>
                      <a:lnTo>
                        <a:pt x="609" y="210"/>
                      </a:lnTo>
                      <a:lnTo>
                        <a:pt x="632" y="205"/>
                      </a:lnTo>
                      <a:lnTo>
                        <a:pt x="653" y="199"/>
                      </a:lnTo>
                      <a:lnTo>
                        <a:pt x="673" y="194"/>
                      </a:lnTo>
                      <a:lnTo>
                        <a:pt x="691" y="188"/>
                      </a:lnTo>
                      <a:lnTo>
                        <a:pt x="708" y="182"/>
                      </a:lnTo>
                      <a:lnTo>
                        <a:pt x="722" y="177"/>
                      </a:lnTo>
                      <a:lnTo>
                        <a:pt x="735" y="171"/>
                      </a:lnTo>
                      <a:lnTo>
                        <a:pt x="747" y="165"/>
                      </a:lnTo>
                      <a:lnTo>
                        <a:pt x="756" y="159"/>
                      </a:lnTo>
                      <a:lnTo>
                        <a:pt x="763" y="153"/>
                      </a:lnTo>
                      <a:lnTo>
                        <a:pt x="769" y="147"/>
                      </a:lnTo>
                      <a:lnTo>
                        <a:pt x="772" y="141"/>
                      </a:lnTo>
                      <a:lnTo>
                        <a:pt x="773" y="135"/>
                      </a:lnTo>
                      <a:lnTo>
                        <a:pt x="774" y="129"/>
                      </a:lnTo>
                      <a:lnTo>
                        <a:pt x="778" y="122"/>
                      </a:lnTo>
                      <a:lnTo>
                        <a:pt x="783" y="116"/>
                      </a:lnTo>
                      <a:lnTo>
                        <a:pt x="791" y="110"/>
                      </a:lnTo>
                      <a:lnTo>
                        <a:pt x="801" y="103"/>
                      </a:lnTo>
                      <a:lnTo>
                        <a:pt x="813" y="97"/>
                      </a:lnTo>
                      <a:lnTo>
                        <a:pt x="827" y="91"/>
                      </a:lnTo>
                      <a:lnTo>
                        <a:pt x="843" y="85"/>
                      </a:lnTo>
                      <a:lnTo>
                        <a:pt x="861" y="79"/>
                      </a:lnTo>
                      <a:lnTo>
                        <a:pt x="880" y="74"/>
                      </a:lnTo>
                      <a:lnTo>
                        <a:pt x="901" y="68"/>
                      </a:lnTo>
                      <a:lnTo>
                        <a:pt x="923" y="62"/>
                      </a:lnTo>
                      <a:lnTo>
                        <a:pt x="947" y="57"/>
                      </a:lnTo>
                      <a:lnTo>
                        <a:pt x="973" y="52"/>
                      </a:lnTo>
                      <a:lnTo>
                        <a:pt x="1000" y="47"/>
                      </a:lnTo>
                      <a:lnTo>
                        <a:pt x="1028" y="42"/>
                      </a:lnTo>
                      <a:lnTo>
                        <a:pt x="1057" y="37"/>
                      </a:lnTo>
                      <a:lnTo>
                        <a:pt x="1087" y="33"/>
                      </a:lnTo>
                      <a:lnTo>
                        <a:pt x="1118" y="29"/>
                      </a:lnTo>
                      <a:lnTo>
                        <a:pt x="1151" y="25"/>
                      </a:lnTo>
                      <a:lnTo>
                        <a:pt x="1218" y="18"/>
                      </a:lnTo>
                      <a:lnTo>
                        <a:pt x="1289" y="12"/>
                      </a:lnTo>
                      <a:lnTo>
                        <a:pt x="1361" y="7"/>
                      </a:lnTo>
                      <a:lnTo>
                        <a:pt x="1436" y="3"/>
                      </a:lnTo>
                      <a:lnTo>
                        <a:pt x="1512" y="1"/>
                      </a:lnTo>
                      <a:lnTo>
                        <a:pt x="158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>
                  <a:off x="4949640" y="3754080"/>
                  <a:ext cx="9828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62" y="0"/>
                      </a:moveTo>
                      <a:lnTo>
                        <a:pt x="0" y="32"/>
                      </a:lnTo>
                      <a:lnTo>
                        <a:pt x="62" y="63"/>
                      </a:lnTo>
                      <a:lnTo>
                        <a:pt x="43" y="32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8" name=""/>
            <p:cNvGrpSpPr/>
            <p:nvPr/>
          </p:nvGrpSpPr>
          <p:grpSpPr>
            <a:xfrm>
              <a:off x="4120920" y="2948040"/>
              <a:ext cx="438120" cy="853560"/>
              <a:chOff x="4120920" y="2948040"/>
              <a:chExt cx="438120" cy="853560"/>
            </a:xfrm>
          </p:grpSpPr>
          <p:sp>
            <p:nvSpPr>
              <p:cNvPr id="4309" name=""/>
              <p:cNvSpPr/>
              <p:nvPr/>
            </p:nvSpPr>
            <p:spPr>
              <a:xfrm>
                <a:off x="4255920" y="3003480"/>
                <a:ext cx="168120" cy="742320"/>
              </a:xfrm>
              <a:custGeom>
                <a:avLst/>
                <a:gdLst/>
                <a:ahLst/>
                <a:rect l="l" t="t" r="r" b="b"/>
                <a:pathLst>
                  <a:path w="106" h="468">
                    <a:moveTo>
                      <a:pt x="0" y="452"/>
                    </a:moveTo>
                    <a:lnTo>
                      <a:pt x="0" y="468"/>
                    </a:lnTo>
                    <a:lnTo>
                      <a:pt x="36" y="468"/>
                    </a:lnTo>
                    <a:lnTo>
                      <a:pt x="44" y="468"/>
                    </a:lnTo>
                    <a:lnTo>
                      <a:pt x="44" y="460"/>
                    </a:lnTo>
                    <a:lnTo>
                      <a:pt x="44" y="8"/>
                    </a:lnTo>
                    <a:lnTo>
                      <a:pt x="36" y="8"/>
                    </a:lnTo>
                    <a:lnTo>
                      <a:pt x="36" y="16"/>
                    </a:lnTo>
                    <a:lnTo>
                      <a:pt x="106" y="16"/>
                    </a:lnTo>
                    <a:lnTo>
                      <a:pt x="106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8" y="8"/>
                    </a:lnTo>
                    <a:lnTo>
                      <a:pt x="28" y="460"/>
                    </a:lnTo>
                    <a:lnTo>
                      <a:pt x="36" y="460"/>
                    </a:lnTo>
                    <a:lnTo>
                      <a:pt x="36" y="452"/>
                    </a:lnTo>
                    <a:lnTo>
                      <a:pt x="0" y="45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120920" y="36637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0"/>
                    </a:moveTo>
                    <a:lnTo>
                      <a:pt x="0" y="44"/>
                    </a:lnTo>
                    <a:lnTo>
                      <a:pt x="87" y="87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4421160" y="2948040"/>
                <a:ext cx="13788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7" y="43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2" name=""/>
            <p:cNvGrpSpPr/>
            <p:nvPr/>
          </p:nvGrpSpPr>
          <p:grpSpPr>
            <a:xfrm>
              <a:off x="1498320" y="3657600"/>
              <a:ext cx="2082960" cy="655200"/>
              <a:chOff x="1498320" y="3657600"/>
              <a:chExt cx="2082960" cy="655200"/>
            </a:xfrm>
          </p:grpSpPr>
          <p:sp>
            <p:nvSpPr>
              <p:cNvPr id="4313" name=""/>
              <p:cNvSpPr/>
              <p:nvPr/>
            </p:nvSpPr>
            <p:spPr>
              <a:xfrm>
                <a:off x="1555560" y="3657600"/>
                <a:ext cx="2025720" cy="520560"/>
              </a:xfrm>
              <a:custGeom>
                <a:avLst/>
                <a:gdLst/>
                <a:ahLst/>
                <a:rect l="l" t="t" r="r" b="b"/>
                <a:pathLst>
                  <a:path w="1276" h="328">
                    <a:moveTo>
                      <a:pt x="1276" y="16"/>
                    </a:moveTo>
                    <a:lnTo>
                      <a:pt x="127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328"/>
                    </a:lnTo>
                    <a:lnTo>
                      <a:pt x="16" y="328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1276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1498320" y="4173480"/>
                <a:ext cx="138240" cy="139320"/>
              </a:xfrm>
              <a:custGeom>
                <a:avLst/>
                <a:gdLst/>
                <a:ahLst/>
                <a:rect l="l" t="t" r="r" b="b"/>
                <a:pathLst>
                  <a:path w="87" h="88">
                    <a:moveTo>
                      <a:pt x="0" y="2"/>
                    </a:moveTo>
                    <a:lnTo>
                      <a:pt x="46" y="88"/>
                    </a:lnTo>
                    <a:lnTo>
                      <a:pt x="8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5" name=""/>
            <p:cNvGrpSpPr/>
            <p:nvPr/>
          </p:nvGrpSpPr>
          <p:grpSpPr>
            <a:xfrm>
              <a:off x="4120920" y="3672000"/>
              <a:ext cx="438120" cy="912240"/>
              <a:chOff x="4120920" y="3672000"/>
              <a:chExt cx="438120" cy="912240"/>
            </a:xfrm>
          </p:grpSpPr>
          <p:sp>
            <p:nvSpPr>
              <p:cNvPr id="4316" name=""/>
              <p:cNvSpPr/>
              <p:nvPr/>
            </p:nvSpPr>
            <p:spPr>
              <a:xfrm>
                <a:off x="4120920" y="3722400"/>
                <a:ext cx="438120" cy="99720"/>
              </a:xfrm>
              <a:custGeom>
                <a:avLst/>
                <a:gdLst/>
                <a:ahLst/>
                <a:rect l="l" t="t" r="r" b="b"/>
                <a:pathLst>
                  <a:path w="276" h="63">
                    <a:moveTo>
                      <a:pt x="276" y="63"/>
                    </a:moveTo>
                    <a:lnTo>
                      <a:pt x="138" y="63"/>
                    </a:lnTo>
                    <a:lnTo>
                      <a:pt x="138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17" name=""/>
              <p:cNvGrpSpPr/>
              <p:nvPr/>
            </p:nvGrpSpPr>
            <p:grpSpPr>
              <a:xfrm>
                <a:off x="4120920" y="3672000"/>
                <a:ext cx="438120" cy="912240"/>
                <a:chOff x="4120920" y="3672000"/>
                <a:chExt cx="438120" cy="912240"/>
              </a:xfrm>
            </p:grpSpPr>
            <p:sp>
              <p:nvSpPr>
                <p:cNvPr id="4318" name=""/>
                <p:cNvSpPr/>
                <p:nvPr/>
              </p:nvSpPr>
              <p:spPr>
                <a:xfrm>
                  <a:off x="4186080" y="3722400"/>
                  <a:ext cx="372960" cy="861840"/>
                </a:xfrm>
                <a:custGeom>
                  <a:avLst/>
                  <a:gdLst/>
                  <a:ahLst/>
                  <a:rect l="l" t="t" r="r" b="b"/>
                  <a:pathLst>
                    <a:path w="235" h="543">
                      <a:moveTo>
                        <a:pt x="0" y="0"/>
                      </a:moveTo>
                      <a:lnTo>
                        <a:pt x="97" y="0"/>
                      </a:lnTo>
                      <a:lnTo>
                        <a:pt x="97" y="543"/>
                      </a:lnTo>
                      <a:lnTo>
                        <a:pt x="235" y="54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>
                  <a:off x="4120920" y="3672000"/>
                  <a:ext cx="98640" cy="9972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62" y="0"/>
                      </a:moveTo>
                      <a:lnTo>
                        <a:pt x="0" y="32"/>
                      </a:lnTo>
                      <a:lnTo>
                        <a:pt x="62" y="63"/>
                      </a:lnTo>
                      <a:lnTo>
                        <a:pt x="43" y="32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20" name=""/>
            <p:cNvGrpSpPr/>
            <p:nvPr/>
          </p:nvGrpSpPr>
          <p:grpSpPr>
            <a:xfrm>
              <a:off x="4951440" y="2938320"/>
              <a:ext cx="2626920" cy="434880"/>
              <a:chOff x="4951440" y="2938320"/>
              <a:chExt cx="2626920" cy="434880"/>
            </a:xfrm>
          </p:grpSpPr>
          <p:sp>
            <p:nvSpPr>
              <p:cNvPr id="4321" name=""/>
              <p:cNvSpPr/>
              <p:nvPr/>
            </p:nvSpPr>
            <p:spPr>
              <a:xfrm>
                <a:off x="5019480" y="2989080"/>
                <a:ext cx="2558880" cy="384120"/>
              </a:xfrm>
              <a:custGeom>
                <a:avLst/>
                <a:gdLst/>
                <a:ahLst/>
                <a:rect l="l" t="t" r="r" b="b"/>
                <a:pathLst>
                  <a:path w="1612" h="242">
                    <a:moveTo>
                      <a:pt x="1612" y="242"/>
                    </a:moveTo>
                    <a:lnTo>
                      <a:pt x="1535" y="241"/>
                    </a:lnTo>
                    <a:lnTo>
                      <a:pt x="1458" y="239"/>
                    </a:lnTo>
                    <a:lnTo>
                      <a:pt x="1382" y="236"/>
                    </a:lnTo>
                    <a:lnTo>
                      <a:pt x="1309" y="232"/>
                    </a:lnTo>
                    <a:lnTo>
                      <a:pt x="1237" y="226"/>
                    </a:lnTo>
                    <a:lnTo>
                      <a:pt x="1169" y="220"/>
                    </a:lnTo>
                    <a:lnTo>
                      <a:pt x="1136" y="216"/>
                    </a:lnTo>
                    <a:lnTo>
                      <a:pt x="1104" y="212"/>
                    </a:lnTo>
                    <a:lnTo>
                      <a:pt x="1073" y="208"/>
                    </a:lnTo>
                    <a:lnTo>
                      <a:pt x="1044" y="204"/>
                    </a:lnTo>
                    <a:lnTo>
                      <a:pt x="1015" y="200"/>
                    </a:lnTo>
                    <a:lnTo>
                      <a:pt x="988" y="195"/>
                    </a:lnTo>
                    <a:lnTo>
                      <a:pt x="962" y="190"/>
                    </a:lnTo>
                    <a:lnTo>
                      <a:pt x="938" y="186"/>
                    </a:lnTo>
                    <a:lnTo>
                      <a:pt x="915" y="181"/>
                    </a:lnTo>
                    <a:lnTo>
                      <a:pt x="894" y="176"/>
                    </a:lnTo>
                    <a:lnTo>
                      <a:pt x="874" y="171"/>
                    </a:lnTo>
                    <a:lnTo>
                      <a:pt x="856" y="165"/>
                    </a:lnTo>
                    <a:lnTo>
                      <a:pt x="840" y="160"/>
                    </a:lnTo>
                    <a:lnTo>
                      <a:pt x="826" y="154"/>
                    </a:lnTo>
                    <a:lnTo>
                      <a:pt x="814" y="149"/>
                    </a:lnTo>
                    <a:lnTo>
                      <a:pt x="804" y="143"/>
                    </a:lnTo>
                    <a:lnTo>
                      <a:pt x="796" y="138"/>
                    </a:lnTo>
                    <a:lnTo>
                      <a:pt x="790" y="132"/>
                    </a:lnTo>
                    <a:lnTo>
                      <a:pt x="786" y="127"/>
                    </a:lnTo>
                    <a:lnTo>
                      <a:pt x="785" y="121"/>
                    </a:lnTo>
                    <a:lnTo>
                      <a:pt x="784" y="116"/>
                    </a:lnTo>
                    <a:lnTo>
                      <a:pt x="781" y="110"/>
                    </a:lnTo>
                    <a:lnTo>
                      <a:pt x="775" y="105"/>
                    </a:lnTo>
                    <a:lnTo>
                      <a:pt x="768" y="99"/>
                    </a:lnTo>
                    <a:lnTo>
                      <a:pt x="758" y="94"/>
                    </a:lnTo>
                    <a:lnTo>
                      <a:pt x="747" y="88"/>
                    </a:lnTo>
                    <a:lnTo>
                      <a:pt x="734" y="83"/>
                    </a:lnTo>
                    <a:lnTo>
                      <a:pt x="718" y="78"/>
                    </a:lnTo>
                    <a:lnTo>
                      <a:pt x="702" y="73"/>
                    </a:lnTo>
                    <a:lnTo>
                      <a:pt x="683" y="68"/>
                    </a:lnTo>
                    <a:lnTo>
                      <a:pt x="663" y="63"/>
                    </a:lnTo>
                    <a:lnTo>
                      <a:pt x="642" y="58"/>
                    </a:lnTo>
                    <a:lnTo>
                      <a:pt x="619" y="53"/>
                    </a:lnTo>
                    <a:lnTo>
                      <a:pt x="595" y="49"/>
                    </a:lnTo>
                    <a:lnTo>
                      <a:pt x="569" y="44"/>
                    </a:lnTo>
                    <a:lnTo>
                      <a:pt x="542" y="40"/>
                    </a:lnTo>
                    <a:lnTo>
                      <a:pt x="514" y="36"/>
                    </a:lnTo>
                    <a:lnTo>
                      <a:pt x="485" y="32"/>
                    </a:lnTo>
                    <a:lnTo>
                      <a:pt x="455" y="28"/>
                    </a:lnTo>
                    <a:lnTo>
                      <a:pt x="424" y="25"/>
                    </a:lnTo>
                    <a:lnTo>
                      <a:pt x="359" y="18"/>
                    </a:lnTo>
                    <a:lnTo>
                      <a:pt x="291" y="12"/>
                    </a:lnTo>
                    <a:lnTo>
                      <a:pt x="221" y="8"/>
                    </a:lnTo>
                    <a:lnTo>
                      <a:pt x="148" y="4"/>
                    </a:lnTo>
                    <a:lnTo>
                      <a:pt x="75" y="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951440" y="2938320"/>
                <a:ext cx="98280" cy="100080"/>
              </a:xfrm>
              <a:custGeom>
                <a:avLst/>
                <a:gdLst/>
                <a:ahLst/>
                <a:rect l="l" t="t" r="r" b="b"/>
                <a:pathLst>
                  <a:path w="62" h="63">
                    <a:moveTo>
                      <a:pt x="62" y="0"/>
                    </a:moveTo>
                    <a:lnTo>
                      <a:pt x="0" y="32"/>
                    </a:lnTo>
                    <a:lnTo>
                      <a:pt x="62" y="63"/>
                    </a:lnTo>
                    <a:lnTo>
                      <a:pt x="43" y="3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3" name=""/>
            <p:cNvGrpSpPr/>
            <p:nvPr/>
          </p:nvGrpSpPr>
          <p:grpSpPr>
            <a:xfrm>
              <a:off x="4108320" y="2967120"/>
              <a:ext cx="438120" cy="1674720"/>
              <a:chOff x="4108320" y="2967120"/>
              <a:chExt cx="438120" cy="1674720"/>
            </a:xfrm>
          </p:grpSpPr>
          <p:grpSp>
            <p:nvGrpSpPr>
              <p:cNvPr id="4324" name=""/>
              <p:cNvGrpSpPr/>
              <p:nvPr/>
            </p:nvGrpSpPr>
            <p:grpSpPr>
              <a:xfrm>
                <a:off x="4108320" y="3729240"/>
                <a:ext cx="438120" cy="150840"/>
                <a:chOff x="4108320" y="3729240"/>
                <a:chExt cx="438120" cy="150840"/>
              </a:xfrm>
            </p:grpSpPr>
            <p:sp>
              <p:nvSpPr>
                <p:cNvPr id="4325" name=""/>
                <p:cNvSpPr/>
                <p:nvPr/>
              </p:nvSpPr>
              <p:spPr>
                <a:xfrm>
                  <a:off x="4108320" y="3729240"/>
                  <a:ext cx="372960" cy="100080"/>
                </a:xfrm>
                <a:custGeom>
                  <a:avLst/>
                  <a:gdLst/>
                  <a:ahLst/>
                  <a:rect l="l" t="t" r="r" b="b"/>
                  <a:pathLst>
                    <a:path w="235" h="63">
                      <a:moveTo>
                        <a:pt x="235" y="63"/>
                      </a:moveTo>
                      <a:lnTo>
                        <a:pt x="138" y="63"/>
                      </a:lnTo>
                      <a:lnTo>
                        <a:pt x="138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>
                  <a:off x="4448160" y="3780000"/>
                  <a:ext cx="9828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0" y="63"/>
                      </a:moveTo>
                      <a:lnTo>
                        <a:pt x="62" y="31"/>
                      </a:lnTo>
                      <a:lnTo>
                        <a:pt x="0" y="0"/>
                      </a:lnTo>
                      <a:lnTo>
                        <a:pt x="19" y="31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7" name=""/>
              <p:cNvGrpSpPr/>
              <p:nvPr/>
            </p:nvGrpSpPr>
            <p:grpSpPr>
              <a:xfrm>
                <a:off x="4108320" y="3729240"/>
                <a:ext cx="438120" cy="912600"/>
                <a:chOff x="4108320" y="3729240"/>
                <a:chExt cx="438120" cy="912600"/>
              </a:xfrm>
            </p:grpSpPr>
            <p:sp>
              <p:nvSpPr>
                <p:cNvPr id="4328" name=""/>
                <p:cNvSpPr/>
                <p:nvPr/>
              </p:nvSpPr>
              <p:spPr>
                <a:xfrm>
                  <a:off x="4108320" y="3729240"/>
                  <a:ext cx="372960" cy="861840"/>
                </a:xfrm>
                <a:custGeom>
                  <a:avLst/>
                  <a:gdLst/>
                  <a:ahLst/>
                  <a:rect l="l" t="t" r="r" b="b"/>
                  <a:pathLst>
                    <a:path w="235" h="543">
                      <a:moveTo>
                        <a:pt x="0" y="0"/>
                      </a:moveTo>
                      <a:lnTo>
                        <a:pt x="138" y="0"/>
                      </a:lnTo>
                      <a:lnTo>
                        <a:pt x="138" y="543"/>
                      </a:lnTo>
                      <a:lnTo>
                        <a:pt x="235" y="543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>
                  <a:off x="4448160" y="4542120"/>
                  <a:ext cx="98280" cy="9972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0" y="63"/>
                      </a:moveTo>
                      <a:lnTo>
                        <a:pt x="62" y="31"/>
                      </a:lnTo>
                      <a:lnTo>
                        <a:pt x="0" y="0"/>
                      </a:lnTo>
                      <a:lnTo>
                        <a:pt x="19" y="31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0" name=""/>
              <p:cNvGrpSpPr/>
              <p:nvPr/>
            </p:nvGrpSpPr>
            <p:grpSpPr>
              <a:xfrm>
                <a:off x="4321080" y="2967120"/>
                <a:ext cx="225360" cy="755640"/>
                <a:chOff x="4321080" y="2967120"/>
                <a:chExt cx="225360" cy="755640"/>
              </a:xfrm>
            </p:grpSpPr>
            <p:sp>
              <p:nvSpPr>
                <p:cNvPr id="4331" name=""/>
                <p:cNvSpPr/>
                <p:nvPr/>
              </p:nvSpPr>
              <p:spPr>
                <a:xfrm>
                  <a:off x="4321080" y="3016440"/>
                  <a:ext cx="160200" cy="706320"/>
                </a:xfrm>
                <a:custGeom>
                  <a:avLst/>
                  <a:gdLst/>
                  <a:ahLst/>
                  <a:rect l="l" t="t" r="r" b="b"/>
                  <a:pathLst>
                    <a:path w="101" h="445">
                      <a:moveTo>
                        <a:pt x="0" y="445"/>
                      </a:moveTo>
                      <a:lnTo>
                        <a:pt x="0" y="0"/>
                      </a:lnTo>
                      <a:lnTo>
                        <a:pt x="10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>
                  <a:off x="4448160" y="2967120"/>
                  <a:ext cx="98280" cy="100080"/>
                </a:xfrm>
                <a:custGeom>
                  <a:avLst/>
                  <a:gdLst/>
                  <a:ahLst/>
                  <a:rect l="l" t="t" r="r" b="b"/>
                  <a:pathLst>
                    <a:path w="62" h="63">
                      <a:moveTo>
                        <a:pt x="0" y="63"/>
                      </a:moveTo>
                      <a:lnTo>
                        <a:pt x="62" y="31"/>
                      </a:lnTo>
                      <a:lnTo>
                        <a:pt x="0" y="0"/>
                      </a:lnTo>
                      <a:lnTo>
                        <a:pt x="19" y="31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Multi-Link ISP/VPN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nefício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crementa a performance (link mais rápido é escolhido para cada conexão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ta Disponibilidade de conexões Intern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ta Disponibilidade de túneis VP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33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últiplos túneis físicos formam um túnel VPN lógic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33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úneis VPN de linhas dedicadas podem ser utilizados como linhas backup, em modo standb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3333"/>
                </a:solidFill>
                <a:latin typeface="Trebuchet MS"/>
              </a:rPr>
              <a:t>StoneGate – Com a Alta Disponibilidade de ISPs…</a:t>
            </a:r>
            <a:endParaRPr b="0" lang="en-US" sz="3400" spc="-1" strike="noStrike">
              <a:solidFill>
                <a:srgbClr val="993333"/>
              </a:solidFill>
              <a:latin typeface="Trebuchet MS"/>
            </a:endParaRPr>
          </a:p>
        </p:txBody>
      </p:sp>
      <p:pic>
        <p:nvPicPr>
          <p:cNvPr id="4336" name="" descr=""/>
          <p:cNvPicPr/>
          <p:nvPr/>
        </p:nvPicPr>
        <p:blipFill>
          <a:blip r:embed="rId1"/>
          <a:stretch/>
        </p:blipFill>
        <p:spPr>
          <a:xfrm>
            <a:off x="1676520" y="1363680"/>
            <a:ext cx="63244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…</a:t>
            </a:r>
            <a:r>
              <a:rPr b="0" lang="en-US" sz="3800" spc="-1" strike="noStrike">
                <a:solidFill>
                  <a:srgbClr val="993333"/>
                </a:solidFill>
                <a:latin typeface="Trebuchet MS"/>
              </a:rPr>
              <a:t>links permanecem Ativos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pic>
        <p:nvPicPr>
          <p:cNvPr id="4338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64677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/>
          </p:nvPr>
        </p:nvSpPr>
        <p:spPr>
          <a:xfrm>
            <a:off x="2286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i="1" lang="en-GB" sz="2800" spc="-1" strike="noStrike">
                <a:solidFill>
                  <a:srgbClr val="000000"/>
                </a:solidFill>
                <a:latin typeface="Lucida Sans"/>
              </a:rPr>
              <a:t>Using StoneGate with dual broadband connections saves us $300.00 per month per location,“</a:t>
            </a: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- Charles Smith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"/>
              </a:rPr>
              <a:t>Management Information Systems Director, Plaza Construction Corpor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O que nossos clientes estão dizendo...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"/>
          <p:cNvSpPr/>
          <p:nvPr/>
        </p:nvSpPr>
        <p:spPr>
          <a:xfrm>
            <a:off x="1066680" y="22860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Segurança para Redes Distribuida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 flipV="1">
            <a:off x="5791320" y="2009880"/>
            <a:ext cx="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 flipV="1">
            <a:off x="5334120" y="2009880"/>
            <a:ext cx="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 flipV="1">
            <a:off x="6324480" y="2009880"/>
            <a:ext cx="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 flipV="1">
            <a:off x="4800600" y="2009880"/>
            <a:ext cx="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 flipV="1">
            <a:off x="4343400" y="2009880"/>
            <a:ext cx="0" cy="67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4952880" y="46000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4800600" y="4600080"/>
            <a:ext cx="46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9" name="z900_model" descr=""/>
          <p:cNvPicPr/>
          <p:nvPr/>
        </p:nvPicPr>
        <p:blipFill>
          <a:blip r:embed="rId1"/>
          <a:stretch/>
        </p:blipFill>
        <p:spPr>
          <a:xfrm>
            <a:off x="1219320" y="1400040"/>
            <a:ext cx="979200" cy="790560"/>
          </a:xfrm>
          <a:prstGeom prst="rect">
            <a:avLst/>
          </a:prstGeom>
          <a:ln w="0">
            <a:noFill/>
          </a:ln>
        </p:spPr>
      </p:pic>
      <p:pic>
        <p:nvPicPr>
          <p:cNvPr id="4350" name="" descr=""/>
          <p:cNvPicPr/>
          <p:nvPr/>
        </p:nvPicPr>
        <p:blipFill>
          <a:blip r:embed="rId2"/>
          <a:stretch/>
        </p:blipFill>
        <p:spPr>
          <a:xfrm>
            <a:off x="2365200" y="1400040"/>
            <a:ext cx="358920" cy="965160"/>
          </a:xfrm>
          <a:prstGeom prst="rect">
            <a:avLst/>
          </a:prstGeom>
          <a:ln w="0">
            <a:noFill/>
          </a:ln>
        </p:spPr>
      </p:pic>
      <p:grpSp>
        <p:nvGrpSpPr>
          <p:cNvPr id="4351" name=""/>
          <p:cNvGrpSpPr/>
          <p:nvPr/>
        </p:nvGrpSpPr>
        <p:grpSpPr>
          <a:xfrm>
            <a:off x="4084920" y="5195160"/>
            <a:ext cx="1503000" cy="1027440"/>
            <a:chOff x="4084920" y="5195160"/>
            <a:chExt cx="1503000" cy="1027440"/>
          </a:xfrm>
        </p:grpSpPr>
        <p:sp>
          <p:nvSpPr>
            <p:cNvPr id="4352" name=""/>
            <p:cNvSpPr/>
            <p:nvPr/>
          </p:nvSpPr>
          <p:spPr>
            <a:xfrm rot="10800000">
              <a:off x="4880160" y="5376240"/>
              <a:ext cx="707760" cy="706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rot="10800000">
              <a:off x="4519800" y="5514840"/>
              <a:ext cx="651600" cy="7077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 rot="10800000">
              <a:off x="4084920" y="5366880"/>
              <a:ext cx="690480" cy="7066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rot="10800000">
              <a:off x="4702680" y="5209200"/>
              <a:ext cx="662400" cy="72540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rot="10800000">
              <a:off x="4290840" y="5195160"/>
              <a:ext cx="654840" cy="73944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rot="10800000">
              <a:off x="4259520" y="5474880"/>
              <a:ext cx="1133280" cy="508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rot="10800000">
              <a:off x="4538520" y="5357520"/>
              <a:ext cx="629640" cy="6577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9" name=""/>
          <p:cNvSpPr/>
          <p:nvPr/>
        </p:nvSpPr>
        <p:spPr>
          <a:xfrm>
            <a:off x="4443480" y="5580000"/>
            <a:ext cx="94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2795760" y="4292640"/>
            <a:ext cx="1290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onexões Internet Redundantes utiliando Multi-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5567400" y="4037040"/>
            <a:ext cx="1290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luster de alta performance para o Perímetro da 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computr2"/>
          <p:cNvSpPr/>
          <p:nvPr/>
        </p:nvSpPr>
        <p:spPr>
          <a:xfrm>
            <a:off x="2293920" y="4808520"/>
            <a:ext cx="492120" cy="506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computr2"/>
          <p:cNvSpPr/>
          <p:nvPr/>
        </p:nvSpPr>
        <p:spPr>
          <a:xfrm>
            <a:off x="2436840" y="3457440"/>
            <a:ext cx="492120" cy="506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1447920" y="4808520"/>
            <a:ext cx="857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Escritório  remoto  com StoneGate 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1447920" y="5775480"/>
            <a:ext cx="857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Ponto de vendas com StoneGate 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computr2"/>
          <p:cNvSpPr/>
          <p:nvPr/>
        </p:nvSpPr>
        <p:spPr>
          <a:xfrm>
            <a:off x="6662880" y="5643720"/>
            <a:ext cx="287280" cy="322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computr2"/>
          <p:cNvSpPr/>
          <p:nvPr/>
        </p:nvSpPr>
        <p:spPr>
          <a:xfrm>
            <a:off x="6662880" y="5129280"/>
            <a:ext cx="287280" cy="322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7023240" y="5710320"/>
            <a:ext cx="120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Ponto de Vendas com VPN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7023240" y="4952880"/>
            <a:ext cx="120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Cliente remoto com VPN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0" name=""/>
          <p:cNvGraphicFramePr/>
          <p:nvPr/>
        </p:nvGraphicFramePr>
        <p:xfrm>
          <a:off x="6305400" y="5129280"/>
          <a:ext cx="428760" cy="2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5400" y="5129280"/>
                    <a:ext cx="4287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2" name=""/>
          <p:cNvSpPr/>
          <p:nvPr/>
        </p:nvSpPr>
        <p:spPr>
          <a:xfrm flipV="1">
            <a:off x="3295800" y="5772240"/>
            <a:ext cx="788760" cy="25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3295800" y="5708160"/>
            <a:ext cx="788760" cy="2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3295800" y="5129280"/>
            <a:ext cx="100332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3295800" y="5065560"/>
            <a:ext cx="100332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2724120" y="5129280"/>
            <a:ext cx="2858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computr2"/>
          <p:cNvSpPr/>
          <p:nvPr/>
        </p:nvSpPr>
        <p:spPr>
          <a:xfrm>
            <a:off x="2293920" y="5708520"/>
            <a:ext cx="492120" cy="506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2724120" y="6029280"/>
            <a:ext cx="285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4800600" y="3780000"/>
            <a:ext cx="179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server"/>
          <p:cNvSpPr/>
          <p:nvPr/>
        </p:nvSpPr>
        <p:spPr>
          <a:xfrm>
            <a:off x="6591240" y="3457440"/>
            <a:ext cx="420840" cy="506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server"/>
          <p:cNvSpPr/>
          <p:nvPr/>
        </p:nvSpPr>
        <p:spPr>
          <a:xfrm>
            <a:off x="6734160" y="3586320"/>
            <a:ext cx="42084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server"/>
          <p:cNvSpPr/>
          <p:nvPr/>
        </p:nvSpPr>
        <p:spPr>
          <a:xfrm>
            <a:off x="6877080" y="3714840"/>
            <a:ext cx="42228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server"/>
          <p:cNvSpPr/>
          <p:nvPr/>
        </p:nvSpPr>
        <p:spPr>
          <a:xfrm>
            <a:off x="7021440" y="3843360"/>
            <a:ext cx="420840" cy="5065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7523280" y="3908520"/>
            <a:ext cx="85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rviços DM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1935000" y="2685960"/>
            <a:ext cx="469440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 flipH="1" flipV="1">
            <a:off x="4876920" y="2685600"/>
            <a:ext cx="7920" cy="39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2867040" y="3762000"/>
            <a:ext cx="208584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cddrive"/>
          <p:cNvSpPr/>
          <p:nvPr/>
        </p:nvSpPr>
        <p:spPr>
          <a:xfrm>
            <a:off x="1649520" y="3394080"/>
            <a:ext cx="357120" cy="25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cddrive"/>
          <p:cNvSpPr/>
          <p:nvPr/>
        </p:nvSpPr>
        <p:spPr>
          <a:xfrm>
            <a:off x="1792440" y="3522600"/>
            <a:ext cx="358560" cy="257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cddrive"/>
          <p:cNvSpPr/>
          <p:nvPr/>
        </p:nvSpPr>
        <p:spPr>
          <a:xfrm>
            <a:off x="1935000" y="3651120"/>
            <a:ext cx="358920" cy="257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cddrive"/>
          <p:cNvSpPr/>
          <p:nvPr/>
        </p:nvSpPr>
        <p:spPr>
          <a:xfrm>
            <a:off x="2077920" y="3780000"/>
            <a:ext cx="358920" cy="2570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>
            <a:off x="1362240" y="3006720"/>
            <a:ext cx="114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Gerenciamento e Servidores de 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2006640" y="2364840"/>
            <a:ext cx="144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2508120" y="2364840"/>
            <a:ext cx="1800" cy="32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5" name=""/>
          <p:cNvGraphicFramePr/>
          <p:nvPr/>
        </p:nvGraphicFramePr>
        <p:xfrm>
          <a:off x="6305400" y="5708520"/>
          <a:ext cx="428760" cy="29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5400" y="5708520"/>
                    <a:ext cx="4287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7" name=""/>
          <p:cNvSpPr/>
          <p:nvPr/>
        </p:nvSpPr>
        <p:spPr>
          <a:xfrm>
            <a:off x="5587920" y="5708520"/>
            <a:ext cx="789120" cy="1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5516640" y="5257800"/>
            <a:ext cx="860400" cy="25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computr2"/>
          <p:cNvSpPr/>
          <p:nvPr/>
        </p:nvSpPr>
        <p:spPr>
          <a:xfrm>
            <a:off x="4084560" y="1579680"/>
            <a:ext cx="49212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computr2"/>
          <p:cNvSpPr/>
          <p:nvPr/>
        </p:nvSpPr>
        <p:spPr>
          <a:xfrm>
            <a:off x="4586400" y="1579680"/>
            <a:ext cx="49212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1" name=""/>
          <p:cNvGraphicFramePr/>
          <p:nvPr/>
        </p:nvGraphicFramePr>
        <p:xfrm>
          <a:off x="5587920" y="2139840"/>
          <a:ext cx="430200" cy="29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87920" y="213984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3" name="computr2"/>
          <p:cNvSpPr/>
          <p:nvPr/>
        </p:nvSpPr>
        <p:spPr>
          <a:xfrm>
            <a:off x="5086440" y="1579680"/>
            <a:ext cx="49356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computr2"/>
          <p:cNvSpPr/>
          <p:nvPr/>
        </p:nvSpPr>
        <p:spPr>
          <a:xfrm>
            <a:off x="5587920" y="1579680"/>
            <a:ext cx="49392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2819520" y="1247760"/>
            <a:ext cx="121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Mainframes com Firewalls dentro podem representar dezenas de servidores e segmentos de redes  consolid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2151000" y="2300400"/>
            <a:ext cx="214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6781680" y="1465200"/>
            <a:ext cx="18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gmentos de rede protegidos por Firewalls departamenta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 flipH="1">
            <a:off x="6552720" y="193356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9" name=""/>
          <p:cNvGrpSpPr/>
          <p:nvPr/>
        </p:nvGrpSpPr>
        <p:grpSpPr>
          <a:xfrm>
            <a:off x="4419720" y="3067200"/>
            <a:ext cx="914400" cy="552240"/>
            <a:chOff x="4419720" y="3067200"/>
            <a:chExt cx="914400" cy="552240"/>
          </a:xfrm>
        </p:grpSpPr>
        <p:sp>
          <p:nvSpPr>
            <p:cNvPr id="4410" name=""/>
            <p:cNvSpPr/>
            <p:nvPr/>
          </p:nvSpPr>
          <p:spPr>
            <a:xfrm>
              <a:off x="4419720" y="30765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flipV="1">
              <a:off x="4419720" y="30672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4419720" y="3610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flipV="1">
              <a:off x="5334120" y="307656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4876920" y="307656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15" name=""/>
          <p:cNvGraphicFramePr/>
          <p:nvPr/>
        </p:nvGraphicFramePr>
        <p:xfrm>
          <a:off x="4657680" y="3200400"/>
          <a:ext cx="428760" cy="2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57680" y="3200400"/>
                    <a:ext cx="4287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7" name=""/>
          <p:cNvGraphicFramePr/>
          <p:nvPr/>
        </p:nvGraphicFramePr>
        <p:xfrm>
          <a:off x="4227480" y="3200400"/>
          <a:ext cx="430200" cy="2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27480" y="320040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9" name=""/>
          <p:cNvGraphicFramePr/>
          <p:nvPr/>
        </p:nvGraphicFramePr>
        <p:xfrm>
          <a:off x="5086440" y="3200400"/>
          <a:ext cx="430200" cy="298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2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86440" y="320040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21" name=""/>
          <p:cNvGrpSpPr/>
          <p:nvPr/>
        </p:nvGrpSpPr>
        <p:grpSpPr>
          <a:xfrm>
            <a:off x="4419720" y="4048200"/>
            <a:ext cx="914400" cy="552240"/>
            <a:chOff x="4419720" y="4048200"/>
            <a:chExt cx="914400" cy="552240"/>
          </a:xfrm>
        </p:grpSpPr>
        <p:sp>
          <p:nvSpPr>
            <p:cNvPr id="4422" name=""/>
            <p:cNvSpPr/>
            <p:nvPr/>
          </p:nvSpPr>
          <p:spPr>
            <a:xfrm>
              <a:off x="4419720" y="40575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flipV="1">
              <a:off x="4419720" y="404820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4419720" y="459108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flipV="1">
              <a:off x="5334120" y="405756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 flipV="1">
              <a:off x="4876920" y="405756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427" name=""/>
          <p:cNvGraphicFramePr/>
          <p:nvPr/>
        </p:nvGraphicFramePr>
        <p:xfrm>
          <a:off x="4703760" y="4165560"/>
          <a:ext cx="428760" cy="298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2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03760" y="4165560"/>
                    <a:ext cx="42876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9" name=""/>
          <p:cNvGraphicFramePr/>
          <p:nvPr/>
        </p:nvGraphicFramePr>
        <p:xfrm>
          <a:off x="4273560" y="4165560"/>
          <a:ext cx="430200" cy="298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3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73560" y="416556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1" name=""/>
          <p:cNvGraphicFramePr/>
          <p:nvPr/>
        </p:nvGraphicFramePr>
        <p:xfrm>
          <a:off x="5132520" y="4165560"/>
          <a:ext cx="430200" cy="29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43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32520" y="416556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3" name=""/>
          <p:cNvSpPr/>
          <p:nvPr/>
        </p:nvSpPr>
        <p:spPr>
          <a:xfrm flipH="1" flipV="1">
            <a:off x="4876920" y="3610080"/>
            <a:ext cx="7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computr2"/>
          <p:cNvSpPr/>
          <p:nvPr/>
        </p:nvSpPr>
        <p:spPr>
          <a:xfrm>
            <a:off x="6095880" y="1579680"/>
            <a:ext cx="493920" cy="5061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5" name=""/>
          <p:cNvGraphicFramePr/>
          <p:nvPr/>
        </p:nvGraphicFramePr>
        <p:xfrm>
          <a:off x="6122880" y="2133720"/>
          <a:ext cx="430200" cy="298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4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22880" y="213372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7" name=""/>
          <p:cNvGraphicFramePr/>
          <p:nvPr/>
        </p:nvGraphicFramePr>
        <p:xfrm>
          <a:off x="2293920" y="2108160"/>
          <a:ext cx="430200" cy="29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93920" y="210816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9" name=""/>
          <p:cNvGraphicFramePr/>
          <p:nvPr/>
        </p:nvGraphicFramePr>
        <p:xfrm>
          <a:off x="1792440" y="2108160"/>
          <a:ext cx="430200" cy="298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4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92440" y="210816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1" name=""/>
          <p:cNvGraphicFramePr/>
          <p:nvPr/>
        </p:nvGraphicFramePr>
        <p:xfrm>
          <a:off x="2938320" y="4937040"/>
          <a:ext cx="430200" cy="298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4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38320" y="493704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3" name=""/>
          <p:cNvGraphicFramePr/>
          <p:nvPr/>
        </p:nvGraphicFramePr>
        <p:xfrm>
          <a:off x="2938320" y="5837400"/>
          <a:ext cx="430200" cy="298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4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938320" y="5837400"/>
                    <a:ext cx="430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"/>
          <p:cNvSpPr/>
          <p:nvPr/>
        </p:nvSpPr>
        <p:spPr>
          <a:xfrm>
            <a:off x="1752480" y="3809880"/>
            <a:ext cx="25146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6547c"/>
                </a:solidFill>
                <a:latin typeface="Lucida Sans"/>
              </a:rPr>
              <a:t>Americas 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Stonesof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115 Perimeter Center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South Terraces, Suite 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Atlanta, Georgia 303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+1-770-668 1125 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+1-770-668 1131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>
            <a:off x="2590920" y="5715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ww.stonesof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>
            <a:off x="1143000" y="4495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ed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1905120" y="838080"/>
            <a:ext cx="57150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547c"/>
                </a:solidFill>
                <a:latin typeface="Lucida Sans"/>
              </a:rPr>
              <a:t>Stonesoft no Braz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Stonesoft Lt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Edificio Imperial Berrini Off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Rua Alcides Ricardini Neves 12, Cj. 802-8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Brooklin, São Pa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SP, 04575-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Tel.  (011) 5505 89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547c"/>
                </a:solidFill>
                <a:latin typeface="Lucida Sans"/>
              </a:rPr>
              <a:t>Fax. (011) 5507 57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5025960" y="3809880"/>
            <a:ext cx="25941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6547c"/>
                </a:solidFill>
                <a:latin typeface="Lucida Sans"/>
              </a:rPr>
              <a:t>International 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Stonesoft Cor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It</a:t>
            </a:r>
            <a:r>
              <a:rPr b="0" sz="1400" spc="-1" strike="noStrike">
                <a:solidFill>
                  <a:srgbClr val="26547c"/>
                </a:solidFill>
                <a:latin typeface="Lucida Sans"/>
              </a:rPr>
              <a:t>ä</a:t>
            </a: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lahdenkatu 22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FIN-00210 Helsi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Fin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+358-9-4767 11 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6547c"/>
                </a:solidFill>
                <a:latin typeface="Lucida Sans"/>
              </a:rPr>
              <a:t>+358-9-4767 1234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3440" y="3276720"/>
            <a:ext cx="4570560" cy="28130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Sobre a Stonesoft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Fundada em 199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Headquarters em Helsinki, Atlanta, e Cingapor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Listada na Bolsa de Helsinki, Finlând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320 Empregad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rebuchet MS"/>
              </a:rPr>
              <a:t>Presença Mundi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609480"/>
            <a:ext cx="3886200" cy="2667240"/>
          </a:xfrm>
          <a:prstGeom prst="rect">
            <a:avLst/>
          </a:prstGeom>
          <a:solidFill>
            <a:srgbClr val="ead7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609480"/>
            <a:ext cx="38862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276720"/>
            <a:ext cx="3886200" cy="2666880"/>
          </a:xfrm>
          <a:prstGeom prst="rect">
            <a:avLst/>
          </a:prstGeom>
          <a:solidFill>
            <a:srgbClr val="ead7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276720"/>
            <a:ext cx="38862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362320"/>
            <a:ext cx="3886200" cy="1828800"/>
          </a:xfrm>
          <a:prstGeom prst="ellipse">
            <a:avLst/>
          </a:prstGeom>
          <a:solidFill>
            <a:srgbClr val="104068"/>
          </a:solidFill>
          <a:ln w="19080">
            <a:solidFill>
              <a:srgbClr val="99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048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"/>
              </a:rPr>
              <a:t>We believe in and understand simple, real life solutions to complex problems, promoting economic worth for customers through vision driven developme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99640" y="327672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vision driven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8640" y="6094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real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8160" y="60948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simple solutions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to complex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44640" y="32767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economic worth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Trebuchet MS"/>
              </a:rPr>
              <a:t>for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1066680"/>
            <a:ext cx="3886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Stonesoft solutions are designed for customers’ needs and situations, not just for hypothetical lab exerci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We apply years of experience assisting customers with network security problems, integrating solu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We know real lif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1219320"/>
            <a:ext cx="38098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At Stonesoft, we believe in providing the simplest solution possible to even the most complex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Because simple solutions mean better security, less work for you, and fewer headach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Real life solutions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to real life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962520"/>
            <a:ext cx="38098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Our vision: secure, manageable</a:t>
            </a: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networks that are available, reliable, and scal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A passion to do things in an innovative, responsive way, without bounda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Development for real l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038480"/>
            <a:ext cx="388620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Solutions should be economical.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Stonesoft’s solutions reduce costs, extend hardware and software investments, and increase employee produ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Real life value for real life customer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04920"/>
            <a:ext cx="7620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993333"/>
                </a:solidFill>
                <a:latin typeface="Trebuchet MS"/>
              </a:rPr>
              <a:t>Filosofia Stoneso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O que é o StoneGate?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2317680"/>
            <a:ext cx="5027760" cy="3503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23920" y="1535040"/>
            <a:ext cx="4286160" cy="25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35160" y="1828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181320" y="1676520"/>
            <a:ext cx="299088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99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VP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Balanceamento de Car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Alta Disponibil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Tecnologia Multi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rebuchet MS"/>
              </a:rPr>
              <a:t>Sistema Opera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3049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Arquitetura do StoneG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2560" y="2438280"/>
            <a:ext cx="2227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rebuchet MS"/>
              </a:rPr>
              <a:t>O Management System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Trebuchet MS"/>
              </a:rPr>
              <a:t>armazena as configurações,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Trebuchet MS"/>
              </a:rPr>
              <a:t>logs, e as informações sobre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Trebuchet MS"/>
              </a:rPr>
              <a:t>a rede. Ele comunica-se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Trebuchet MS"/>
              </a:rPr>
              <a:t>continuamente com os</a:t>
            </a:r>
            <a:br>
              <a:rPr sz="1200"/>
            </a:br>
            <a:r>
              <a:rPr b="0" lang="fi-FI" sz="1200" spc="-1" strike="noStrike">
                <a:solidFill>
                  <a:srgbClr val="000000"/>
                </a:solidFill>
                <a:latin typeface="Trebuchet MS"/>
              </a:rPr>
              <a:t>firewalls eng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45680" y="1539720"/>
            <a:ext cx="2456280" cy="1658160"/>
            <a:chOff x="445680" y="1539720"/>
            <a:chExt cx="2456280" cy="1658160"/>
          </a:xfrm>
        </p:grpSpPr>
        <p:sp>
          <p:nvSpPr>
            <p:cNvPr id="138" name=""/>
            <p:cNvSpPr/>
            <p:nvPr/>
          </p:nvSpPr>
          <p:spPr>
            <a:xfrm>
              <a:off x="445680" y="1539720"/>
              <a:ext cx="2067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O GUI conecta com o 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Management System para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administrar e monitorar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a seguranç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40" idx="0"/>
              <a:endCxn id="141" idx="0"/>
            </p:cNvCxnSpPr>
            <p:nvPr/>
          </p:nvCxnSpPr>
          <p:spPr>
            <a:xfrm flipV="1" rot="10800000">
              <a:off x="2891880" y="1876680"/>
              <a:ext cx="10080" cy="1321200"/>
            </a:xfrm>
            <a:prstGeom prst="curvedConnector5">
              <a:avLst>
                <a:gd name="adj1" fmla="val 4014814"/>
                <a:gd name="adj2" fmla="val 49986"/>
                <a:gd name="adj3" fmla="val 40148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625320" y="3198960"/>
            <a:ext cx="2246760" cy="1800000"/>
            <a:chOff x="625320" y="3198960"/>
            <a:chExt cx="2246760" cy="1800000"/>
          </a:xfrm>
        </p:grpSpPr>
        <p:sp>
          <p:nvSpPr>
            <p:cNvPr id="143" name=""/>
            <p:cNvSpPr/>
            <p:nvPr/>
          </p:nvSpPr>
          <p:spPr>
            <a:xfrm>
              <a:off x="625320" y="3809880"/>
              <a:ext cx="18068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Firewalls engines rece-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bem e implementam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politicas do 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Management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System e enviam seus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dados de lo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5" idx="0"/>
            </p:cNvCxnSpPr>
            <p:nvPr/>
          </p:nvCxnSpPr>
          <p:spPr>
            <a:xfrm flipH="1" flipV="1" rot="10800000">
              <a:off x="2862000" y="3198600"/>
              <a:ext cx="10080" cy="1203840"/>
            </a:xfrm>
            <a:prstGeom prst="curvedConnector5">
              <a:avLst>
                <a:gd name="adj1" fmla="val -3781481"/>
                <a:gd name="adj2" fmla="val 49985"/>
                <a:gd name="adj3" fmla="val -37814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6" name=""/>
          <p:cNvGrpSpPr/>
          <p:nvPr/>
        </p:nvGrpSpPr>
        <p:grpSpPr>
          <a:xfrm>
            <a:off x="948960" y="3197880"/>
            <a:ext cx="2076840" cy="3431520"/>
            <a:chOff x="948960" y="3197880"/>
            <a:chExt cx="2076840" cy="3431520"/>
          </a:xfrm>
        </p:grpSpPr>
        <p:sp>
          <p:nvSpPr>
            <p:cNvPr id="147" name=""/>
            <p:cNvSpPr/>
            <p:nvPr/>
          </p:nvSpPr>
          <p:spPr>
            <a:xfrm>
              <a:off x="948960" y="5257800"/>
              <a:ext cx="14882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Host level engines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armazenam e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implementam 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políticas de VPN 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recebidas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do Management</a:t>
              </a:r>
              <a:br>
                <a:rPr sz="1200"/>
              </a:br>
              <a:r>
                <a:rPr b="0" lang="fi-FI" sz="1200" spc="-1" strike="noStrike">
                  <a:solidFill>
                    <a:srgbClr val="000000"/>
                  </a:solidFill>
                  <a:latin typeface="Trebuchet MS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1" idx="1"/>
            </p:cNvCxnSpPr>
            <p:nvPr/>
          </p:nvCxnSpPr>
          <p:spPr>
            <a:xfrm flipH="1" flipV="1" rot="10800000">
              <a:off x="2892600" y="3197880"/>
              <a:ext cx="133560" cy="2718360"/>
            </a:xfrm>
            <a:prstGeom prst="curvedConnector5">
              <a:avLst>
                <a:gd name="adj1" fmla="val -272162"/>
                <a:gd name="adj2" fmla="val 50000"/>
                <a:gd name="adj3" fmla="val -2721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9" name=""/>
          <p:cNvSpPr/>
          <p:nvPr/>
        </p:nvSpPr>
        <p:spPr>
          <a:xfrm>
            <a:off x="2720880" y="5019840"/>
            <a:ext cx="6172200" cy="9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69200" y="2833560"/>
            <a:ext cx="162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Management</a:t>
            </a:r>
            <a:br>
              <a:rPr sz="1800"/>
            </a:b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0320" y="1598760"/>
            <a:ext cx="14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GUI Cl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21640" y="3989520"/>
            <a:ext cx="12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Network</a:t>
            </a:r>
            <a:br>
              <a:rPr sz="1800"/>
            </a:b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Security</a:t>
            </a:r>
            <a:br>
              <a:rPr sz="1800"/>
            </a:b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21640" y="5154480"/>
            <a:ext cx="12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Host</a:t>
            </a:r>
            <a:br>
              <a:rPr sz="1800"/>
            </a:b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Security</a:t>
            </a:r>
            <a:br>
              <a:rPr sz="1800"/>
            </a:br>
            <a:r>
              <a:rPr b="1" lang="fi-FI" sz="1800" spc="-1" strike="noStrike">
                <a:solidFill>
                  <a:srgbClr val="000000"/>
                </a:solidFill>
                <a:latin typeface="Trebuchet MS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64920" y="607680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Personal FW &amp; V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341520" y="1447920"/>
            <a:ext cx="696960" cy="672840"/>
            <a:chOff x="3341520" y="1447920"/>
            <a:chExt cx="696960" cy="672840"/>
          </a:xfrm>
        </p:grpSpPr>
        <p:sp>
          <p:nvSpPr>
            <p:cNvPr id="156" name=""/>
            <p:cNvSpPr/>
            <p:nvPr/>
          </p:nvSpPr>
          <p:spPr>
            <a:xfrm>
              <a:off x="3341520" y="1447920"/>
              <a:ext cx="696960" cy="6728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0" y="57"/>
                  </a:moveTo>
                  <a:lnTo>
                    <a:pt x="14" y="57"/>
                  </a:lnTo>
                  <a:lnTo>
                    <a:pt x="14" y="0"/>
                  </a:lnTo>
                  <a:lnTo>
                    <a:pt x="82" y="0"/>
                  </a:lnTo>
                  <a:lnTo>
                    <a:pt x="82" y="57"/>
                  </a:lnTo>
                  <a:lnTo>
                    <a:pt x="95" y="57"/>
                  </a:lnTo>
                  <a:lnTo>
                    <a:pt x="95" y="94"/>
                  </a:lnTo>
                  <a:lnTo>
                    <a:pt x="0" y="94"/>
                  </a:lnTo>
                  <a:lnTo>
                    <a:pt x="0" y="5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71040" y="1877040"/>
              <a:ext cx="637920" cy="221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0" y="31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3" y="4"/>
                  </a:lnTo>
                  <a:lnTo>
                    <a:pt x="4" y="4"/>
                  </a:lnTo>
                  <a:lnTo>
                    <a:pt x="4" y="27"/>
                  </a:lnTo>
                  <a:lnTo>
                    <a:pt x="0" y="31"/>
                  </a:lnTo>
                </a:path>
              </a:pathLst>
            </a:custGeom>
            <a:solidFill>
              <a:srgbClr val="f3e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71040" y="1877040"/>
              <a:ext cx="637920" cy="221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87" y="0"/>
                  </a:moveTo>
                  <a:lnTo>
                    <a:pt x="87" y="31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3" y="27"/>
                  </a:lnTo>
                  <a:lnTo>
                    <a:pt x="83" y="4"/>
                  </a:lnTo>
                  <a:lnTo>
                    <a:pt x="87" y="0"/>
                  </a:lnTo>
                </a:path>
              </a:pathLst>
            </a:custGeom>
            <a:solidFill>
              <a:srgbClr val="e3a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00200" y="1905840"/>
              <a:ext cx="579240" cy="164520"/>
            </a:xfrm>
            <a:prstGeom prst="rect">
              <a:avLst/>
            </a:prstGeom>
            <a:solidFill>
              <a:srgbClr val="fbc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66080" y="1476360"/>
              <a:ext cx="447120" cy="3794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0" y="53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4" y="4"/>
                  </a:lnTo>
                  <a:lnTo>
                    <a:pt x="4" y="49"/>
                  </a:lnTo>
                  <a:lnTo>
                    <a:pt x="0" y="53"/>
                  </a:lnTo>
                </a:path>
              </a:pathLst>
            </a:custGeom>
            <a:solidFill>
              <a:srgbClr val="a5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66080" y="1476360"/>
              <a:ext cx="447120" cy="3794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0"/>
                  </a:moveTo>
                  <a:lnTo>
                    <a:pt x="61" y="53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57" y="49"/>
                  </a:lnTo>
                  <a:lnTo>
                    <a:pt x="57" y="4"/>
                  </a:lnTo>
                  <a:lnTo>
                    <a:pt x="61" y="0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95240" y="1504800"/>
              <a:ext cx="388800" cy="322200"/>
            </a:xfrm>
            <a:prstGeom prst="rect">
              <a:avLst/>
            </a:prstGeom>
            <a:solidFill>
              <a:srgbClr val="7f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6080" y="1963080"/>
              <a:ext cx="5868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74240" y="1963080"/>
              <a:ext cx="2952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32920" y="1963080"/>
              <a:ext cx="2160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440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556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6444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788000" y="1447920"/>
            <a:ext cx="698400" cy="672840"/>
            <a:chOff x="4788000" y="1447920"/>
            <a:chExt cx="698400" cy="672840"/>
          </a:xfrm>
        </p:grpSpPr>
        <p:sp>
          <p:nvSpPr>
            <p:cNvPr id="169" name=""/>
            <p:cNvSpPr/>
            <p:nvPr/>
          </p:nvSpPr>
          <p:spPr>
            <a:xfrm>
              <a:off x="4788000" y="1447920"/>
              <a:ext cx="698400" cy="6728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0" y="57"/>
                  </a:moveTo>
                  <a:lnTo>
                    <a:pt x="14" y="57"/>
                  </a:lnTo>
                  <a:lnTo>
                    <a:pt x="14" y="0"/>
                  </a:lnTo>
                  <a:lnTo>
                    <a:pt x="82" y="0"/>
                  </a:lnTo>
                  <a:lnTo>
                    <a:pt x="82" y="57"/>
                  </a:lnTo>
                  <a:lnTo>
                    <a:pt x="95" y="57"/>
                  </a:lnTo>
                  <a:lnTo>
                    <a:pt x="95" y="94"/>
                  </a:lnTo>
                  <a:lnTo>
                    <a:pt x="0" y="94"/>
                  </a:lnTo>
                  <a:lnTo>
                    <a:pt x="0" y="5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17520" y="1877040"/>
              <a:ext cx="639360" cy="221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0" y="31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3" y="4"/>
                  </a:lnTo>
                  <a:lnTo>
                    <a:pt x="4" y="4"/>
                  </a:lnTo>
                  <a:lnTo>
                    <a:pt x="4" y="27"/>
                  </a:lnTo>
                  <a:lnTo>
                    <a:pt x="0" y="31"/>
                  </a:lnTo>
                </a:path>
              </a:pathLst>
            </a:custGeom>
            <a:solidFill>
              <a:srgbClr val="f3e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17520" y="1877040"/>
              <a:ext cx="639360" cy="221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87" y="0"/>
                  </a:moveTo>
                  <a:lnTo>
                    <a:pt x="87" y="31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3" y="27"/>
                  </a:lnTo>
                  <a:lnTo>
                    <a:pt x="83" y="4"/>
                  </a:lnTo>
                  <a:lnTo>
                    <a:pt x="87" y="0"/>
                  </a:lnTo>
                </a:path>
              </a:pathLst>
            </a:custGeom>
            <a:solidFill>
              <a:srgbClr val="e3a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46680" y="1905840"/>
              <a:ext cx="580680" cy="164520"/>
            </a:xfrm>
            <a:prstGeom prst="rect">
              <a:avLst/>
            </a:prstGeom>
            <a:solidFill>
              <a:srgbClr val="fbc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12920" y="1476360"/>
              <a:ext cx="448200" cy="3794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0" y="53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4" y="4"/>
                  </a:lnTo>
                  <a:lnTo>
                    <a:pt x="4" y="49"/>
                  </a:lnTo>
                  <a:lnTo>
                    <a:pt x="0" y="53"/>
                  </a:lnTo>
                </a:path>
              </a:pathLst>
            </a:custGeom>
            <a:solidFill>
              <a:srgbClr val="a5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12920" y="1476360"/>
              <a:ext cx="448200" cy="3794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0"/>
                  </a:moveTo>
                  <a:lnTo>
                    <a:pt x="61" y="53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57" y="49"/>
                  </a:lnTo>
                  <a:lnTo>
                    <a:pt x="57" y="4"/>
                  </a:lnTo>
                  <a:lnTo>
                    <a:pt x="61" y="0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42080" y="1504800"/>
              <a:ext cx="389520" cy="322200"/>
            </a:xfrm>
            <a:prstGeom prst="rect">
              <a:avLst/>
            </a:prstGeom>
            <a:solidFill>
              <a:srgbClr val="7f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12920" y="1963080"/>
              <a:ext cx="5868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1440" y="1963080"/>
              <a:ext cx="2952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80480" y="1963080"/>
              <a:ext cx="219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196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6276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1164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246720" y="1447920"/>
            <a:ext cx="698760" cy="672840"/>
            <a:chOff x="6246720" y="1447920"/>
            <a:chExt cx="698760" cy="672840"/>
          </a:xfrm>
        </p:grpSpPr>
        <p:sp>
          <p:nvSpPr>
            <p:cNvPr id="183" name=""/>
            <p:cNvSpPr/>
            <p:nvPr/>
          </p:nvSpPr>
          <p:spPr>
            <a:xfrm>
              <a:off x="6246720" y="1447920"/>
              <a:ext cx="698760" cy="6728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0" y="57"/>
                  </a:moveTo>
                  <a:lnTo>
                    <a:pt x="14" y="57"/>
                  </a:lnTo>
                  <a:lnTo>
                    <a:pt x="14" y="0"/>
                  </a:lnTo>
                  <a:lnTo>
                    <a:pt x="82" y="0"/>
                  </a:lnTo>
                  <a:lnTo>
                    <a:pt x="82" y="57"/>
                  </a:lnTo>
                  <a:lnTo>
                    <a:pt x="95" y="57"/>
                  </a:lnTo>
                  <a:lnTo>
                    <a:pt x="95" y="94"/>
                  </a:lnTo>
                  <a:lnTo>
                    <a:pt x="0" y="94"/>
                  </a:lnTo>
                  <a:lnTo>
                    <a:pt x="0" y="57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76240" y="1877040"/>
              <a:ext cx="639720" cy="221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0" y="31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3" y="4"/>
                  </a:lnTo>
                  <a:lnTo>
                    <a:pt x="4" y="4"/>
                  </a:lnTo>
                  <a:lnTo>
                    <a:pt x="4" y="27"/>
                  </a:lnTo>
                  <a:lnTo>
                    <a:pt x="0" y="31"/>
                  </a:lnTo>
                </a:path>
              </a:pathLst>
            </a:custGeom>
            <a:solidFill>
              <a:srgbClr val="f3e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6240" y="1877040"/>
              <a:ext cx="639720" cy="22176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87" y="0"/>
                  </a:moveTo>
                  <a:lnTo>
                    <a:pt x="87" y="31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3" y="27"/>
                  </a:lnTo>
                  <a:lnTo>
                    <a:pt x="83" y="4"/>
                  </a:lnTo>
                  <a:lnTo>
                    <a:pt x="87" y="0"/>
                  </a:lnTo>
                </a:path>
              </a:pathLst>
            </a:custGeom>
            <a:solidFill>
              <a:srgbClr val="e3a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5400" y="1905840"/>
              <a:ext cx="581040" cy="164520"/>
            </a:xfrm>
            <a:prstGeom prst="rect">
              <a:avLst/>
            </a:prstGeom>
            <a:solidFill>
              <a:srgbClr val="fbc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1640" y="1476360"/>
              <a:ext cx="448560" cy="3794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0" y="53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57" y="4"/>
                  </a:lnTo>
                  <a:lnTo>
                    <a:pt x="4" y="4"/>
                  </a:lnTo>
                  <a:lnTo>
                    <a:pt x="4" y="49"/>
                  </a:lnTo>
                  <a:lnTo>
                    <a:pt x="0" y="53"/>
                  </a:lnTo>
                </a:path>
              </a:pathLst>
            </a:custGeom>
            <a:solidFill>
              <a:srgbClr val="a5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71640" y="1476360"/>
              <a:ext cx="448560" cy="3794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1" y="0"/>
                  </a:moveTo>
                  <a:lnTo>
                    <a:pt x="61" y="53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57" y="49"/>
                  </a:lnTo>
                  <a:lnTo>
                    <a:pt x="57" y="4"/>
                  </a:lnTo>
                  <a:lnTo>
                    <a:pt x="61" y="0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00800" y="1504800"/>
              <a:ext cx="389880" cy="322200"/>
            </a:xfrm>
            <a:prstGeom prst="rect">
              <a:avLst/>
            </a:prstGeom>
            <a:solidFill>
              <a:srgbClr val="7f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71640" y="1963080"/>
              <a:ext cx="5868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0520" y="1963080"/>
              <a:ext cx="2952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39560" y="1963080"/>
              <a:ext cx="219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9104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2184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70360" y="1963080"/>
              <a:ext cx="29160" cy="4968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325760" y="2684520"/>
            <a:ext cx="696600" cy="678960"/>
            <a:chOff x="4325760" y="2684520"/>
            <a:chExt cx="696600" cy="678960"/>
          </a:xfrm>
        </p:grpSpPr>
        <p:sp>
          <p:nvSpPr>
            <p:cNvPr id="197" name=""/>
            <p:cNvSpPr/>
            <p:nvPr/>
          </p:nvSpPr>
          <p:spPr>
            <a:xfrm>
              <a:off x="4325760" y="2684520"/>
              <a:ext cx="498600" cy="43596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354920" y="2713320"/>
              <a:ext cx="439920" cy="37872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53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57" y="4"/>
                  </a:lnTo>
                  <a:lnTo>
                    <a:pt x="4" y="4"/>
                  </a:lnTo>
                  <a:lnTo>
                    <a:pt x="4" y="49"/>
                  </a:lnTo>
                  <a:lnTo>
                    <a:pt x="0" y="53"/>
                  </a:lnTo>
                </a:path>
              </a:pathLst>
            </a:custGeom>
            <a:solidFill>
              <a:srgbClr val="a5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4920" y="2713320"/>
              <a:ext cx="439920" cy="37872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60" y="0"/>
                  </a:moveTo>
                  <a:lnTo>
                    <a:pt x="60" y="53"/>
                  </a:lnTo>
                  <a:lnTo>
                    <a:pt x="0" y="53"/>
                  </a:lnTo>
                  <a:lnTo>
                    <a:pt x="4" y="49"/>
                  </a:lnTo>
                  <a:lnTo>
                    <a:pt x="57" y="49"/>
                  </a:lnTo>
                  <a:lnTo>
                    <a:pt x="57" y="4"/>
                  </a:lnTo>
                  <a:lnTo>
                    <a:pt x="60" y="0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84440" y="2741760"/>
              <a:ext cx="388440" cy="321480"/>
            </a:xfrm>
            <a:prstGeom prst="rect">
              <a:avLst/>
            </a:prstGeom>
            <a:solidFill>
              <a:srgbClr val="7fc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89640" y="2849040"/>
              <a:ext cx="329760" cy="5144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9160" y="2877480"/>
              <a:ext cx="278640" cy="45720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3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4" y="60"/>
                  </a:lnTo>
                  <a:lnTo>
                    <a:pt x="4" y="3"/>
                  </a:lnTo>
                  <a:lnTo>
                    <a:pt x="34" y="3"/>
                  </a:lnTo>
                  <a:lnTo>
                    <a:pt x="38" y="0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19160" y="2877480"/>
              <a:ext cx="278640" cy="45720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4"/>
                  </a:moveTo>
                  <a:lnTo>
                    <a:pt x="38" y="64"/>
                  </a:lnTo>
                  <a:lnTo>
                    <a:pt x="38" y="0"/>
                  </a:lnTo>
                  <a:lnTo>
                    <a:pt x="34" y="3"/>
                  </a:lnTo>
                  <a:lnTo>
                    <a:pt x="34" y="60"/>
                  </a:lnTo>
                  <a:lnTo>
                    <a:pt x="4" y="60"/>
                  </a:lnTo>
                  <a:lnTo>
                    <a:pt x="0" y="64"/>
                  </a:lnTo>
                </a:path>
              </a:pathLst>
            </a:custGeom>
            <a:solidFill>
              <a:srgbClr val="324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8320" y="2899080"/>
              <a:ext cx="219960" cy="407520"/>
            </a:xfrm>
            <a:prstGeom prst="rect">
              <a:avLst/>
            </a:prstGeom>
            <a:solidFill>
              <a:srgbClr val="88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5040" y="2955960"/>
              <a:ext cx="138960" cy="572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85040" y="3134880"/>
              <a:ext cx="138960" cy="2160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5040" y="3184920"/>
              <a:ext cx="138960" cy="284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5040" y="3242160"/>
              <a:ext cx="138960" cy="212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4240" y="3199320"/>
              <a:ext cx="95400" cy="164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13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19760" y="3199320"/>
              <a:ext cx="102600" cy="1641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0" y="0"/>
                  </a:moveTo>
                  <a:lnTo>
                    <a:pt x="14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45720" y="3256200"/>
              <a:ext cx="43560" cy="78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6" y="11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19760" y="3256200"/>
              <a:ext cx="51120" cy="784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7" y="11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73800" y="2684520"/>
            <a:ext cx="698040" cy="678960"/>
            <a:chOff x="5473800" y="2684520"/>
            <a:chExt cx="698040" cy="678960"/>
          </a:xfrm>
        </p:grpSpPr>
        <p:sp>
          <p:nvSpPr>
            <p:cNvPr id="214" name=""/>
            <p:cNvSpPr/>
            <p:nvPr/>
          </p:nvSpPr>
          <p:spPr>
            <a:xfrm>
              <a:off x="5473800" y="2684520"/>
              <a:ext cx="500040" cy="43596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3320" y="2713320"/>
              <a:ext cx="448200" cy="378720"/>
            </a:xfrm>
            <a:prstGeom prst="rect">
              <a:avLst/>
            </a:prstGeom>
            <a:solidFill>
              <a:srgbClr val="ece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62000" y="2770200"/>
              <a:ext cx="330480" cy="212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62000" y="2849040"/>
              <a:ext cx="330480" cy="284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62000" y="2927520"/>
              <a:ext cx="330480" cy="284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2000" y="3013560"/>
              <a:ext cx="330480" cy="212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38400" y="2849040"/>
              <a:ext cx="338040" cy="5144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67560" y="2877480"/>
              <a:ext cx="279360" cy="45720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38" y="0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4" y="60"/>
                  </a:lnTo>
                  <a:lnTo>
                    <a:pt x="4" y="3"/>
                  </a:lnTo>
                  <a:lnTo>
                    <a:pt x="34" y="3"/>
                  </a:lnTo>
                  <a:lnTo>
                    <a:pt x="38" y="0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67560" y="2877480"/>
              <a:ext cx="279360" cy="45720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0" y="64"/>
                  </a:moveTo>
                  <a:lnTo>
                    <a:pt x="38" y="64"/>
                  </a:lnTo>
                  <a:lnTo>
                    <a:pt x="38" y="0"/>
                  </a:lnTo>
                  <a:lnTo>
                    <a:pt x="34" y="3"/>
                  </a:lnTo>
                  <a:lnTo>
                    <a:pt x="34" y="60"/>
                  </a:lnTo>
                  <a:lnTo>
                    <a:pt x="4" y="60"/>
                  </a:lnTo>
                  <a:lnTo>
                    <a:pt x="0" y="64"/>
                  </a:lnTo>
                </a:path>
              </a:pathLst>
            </a:custGeom>
            <a:solidFill>
              <a:srgbClr val="324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97440" y="2899080"/>
              <a:ext cx="220320" cy="407520"/>
            </a:xfrm>
            <a:prstGeom prst="rect">
              <a:avLst/>
            </a:prstGeom>
            <a:solidFill>
              <a:srgbClr val="88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34160" y="2955960"/>
              <a:ext cx="139680" cy="572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34160" y="3134880"/>
              <a:ext cx="139680" cy="2160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34160" y="3184920"/>
              <a:ext cx="139680" cy="284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34160" y="3242160"/>
              <a:ext cx="139680" cy="21240"/>
            </a:xfrm>
            <a:prstGeom prst="rect">
              <a:avLst/>
            </a:pr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3000" y="3199320"/>
              <a:ext cx="95040" cy="164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13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76440" y="3199320"/>
              <a:ext cx="95400" cy="1641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3" y="23"/>
                  </a:lnTo>
                  <a:lnTo>
                    <a:pt x="0" y="23"/>
                  </a:lnTo>
                  <a:lnTo>
                    <a:pt x="0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94480" y="3256200"/>
              <a:ext cx="43920" cy="78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11"/>
                  </a:lnTo>
                  <a:lnTo>
                    <a:pt x="6" y="0"/>
                  </a:lnTo>
                  <a:lnTo>
                    <a:pt x="6" y="11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76440" y="3256200"/>
              <a:ext cx="44280" cy="784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6" y="11"/>
                  </a:lnTo>
                </a:path>
              </a:pathLst>
            </a:custGeom>
            <a:solidFill>
              <a:srgbClr val="7777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701880" y="2684520"/>
            <a:ext cx="559080" cy="622080"/>
            <a:chOff x="3701880" y="2684520"/>
            <a:chExt cx="559080" cy="622080"/>
          </a:xfrm>
        </p:grpSpPr>
        <p:sp>
          <p:nvSpPr>
            <p:cNvPr id="145" name=""/>
            <p:cNvSpPr/>
            <p:nvPr/>
          </p:nvSpPr>
          <p:spPr>
            <a:xfrm>
              <a:off x="3701880" y="2684520"/>
              <a:ext cx="559080" cy="622080"/>
            </a:xfrm>
            <a:custGeom>
              <a:avLst/>
              <a:gdLst/>
              <a:ahLst/>
              <a:rect l="l" t="t" r="r" b="b"/>
              <a:pathLst>
                <a:path w="76" h="87">
                  <a:moveTo>
                    <a:pt x="76" y="15"/>
                  </a:moveTo>
                  <a:lnTo>
                    <a:pt x="76" y="72"/>
                  </a:lnTo>
                  <a:lnTo>
                    <a:pt x="76" y="72"/>
                  </a:lnTo>
                  <a:cubicBezTo>
                    <a:pt x="76" y="80"/>
                    <a:pt x="59" y="87"/>
                    <a:pt x="38" y="87"/>
                  </a:cubicBezTo>
                  <a:cubicBezTo>
                    <a:pt x="17" y="87"/>
                    <a:pt x="0" y="80"/>
                    <a:pt x="0" y="72"/>
                  </a:cubicBezTo>
                  <a:lnTo>
                    <a:pt x="0" y="72"/>
                  </a:lnTo>
                  <a:lnTo>
                    <a:pt x="0" y="15"/>
                  </a:lnTo>
                  <a:lnTo>
                    <a:pt x="0" y="15"/>
                  </a:lnTo>
                  <a:cubicBezTo>
                    <a:pt x="0" y="7"/>
                    <a:pt x="17" y="0"/>
                    <a:pt x="38" y="0"/>
                  </a:cubicBezTo>
                  <a:cubicBezTo>
                    <a:pt x="59" y="0"/>
                    <a:pt x="76" y="7"/>
                    <a:pt x="76" y="15"/>
                  </a:cubicBez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31040" y="2712960"/>
              <a:ext cx="500040" cy="164160"/>
            </a:xfrm>
            <a:prstGeom prst="ellipse">
              <a:avLst/>
            </a:prstGeom>
            <a:solidFill>
              <a:srgbClr val="88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46160" y="2870280"/>
              <a:ext cx="470520" cy="393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56" y="52"/>
                  </a:moveTo>
                  <a:cubicBezTo>
                    <a:pt x="50" y="54"/>
                    <a:pt x="41" y="55"/>
                    <a:pt x="32" y="55"/>
                  </a:cubicBezTo>
                  <a:cubicBezTo>
                    <a:pt x="23" y="55"/>
                    <a:pt x="15" y="54"/>
                    <a:pt x="9" y="52"/>
                  </a:cubicBezTo>
                  <a:cubicBezTo>
                    <a:pt x="6" y="51"/>
                    <a:pt x="4" y="50"/>
                    <a:pt x="2" y="49"/>
                  </a:cubicBezTo>
                  <a:cubicBezTo>
                    <a:pt x="1" y="48"/>
                    <a:pt x="1" y="48"/>
                    <a:pt x="1" y="47"/>
                  </a:cubicBezTo>
                  <a:lnTo>
                    <a:pt x="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ubicBezTo>
                    <a:pt x="10" y="4"/>
                    <a:pt x="21" y="6"/>
                    <a:pt x="32" y="6"/>
                  </a:cubicBezTo>
                  <a:cubicBezTo>
                    <a:pt x="44" y="6"/>
                    <a:pt x="54" y="4"/>
                    <a:pt x="62" y="1"/>
                  </a:cubicBezTo>
                  <a:lnTo>
                    <a:pt x="62" y="1"/>
                  </a:lnTo>
                  <a:lnTo>
                    <a:pt x="64" y="0"/>
                  </a:lnTo>
                  <a:lnTo>
                    <a:pt x="64" y="47"/>
                  </a:lnTo>
                  <a:lnTo>
                    <a:pt x="64" y="47"/>
                  </a:lnTo>
                  <a:lnTo>
                    <a:pt x="64" y="47"/>
                  </a:lnTo>
                  <a:cubicBezTo>
                    <a:pt x="64" y="47"/>
                    <a:pt x="63" y="48"/>
                    <a:pt x="62" y="49"/>
                  </a:cubicBezTo>
                  <a:cubicBezTo>
                    <a:pt x="61" y="50"/>
                    <a:pt x="59" y="51"/>
                    <a:pt x="56" y="52"/>
                  </a:cubicBezTo>
                </a:path>
              </a:pathLst>
            </a:custGeom>
            <a:solidFill>
              <a:srgbClr val="fbc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4840" y="2970360"/>
              <a:ext cx="360000" cy="21420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3"/>
                  </a:moveTo>
                  <a:cubicBezTo>
                    <a:pt x="6" y="25"/>
                    <a:pt x="15" y="26"/>
                    <a:pt x="24" y="26"/>
                  </a:cubicBezTo>
                  <a:cubicBezTo>
                    <a:pt x="34" y="26"/>
                    <a:pt x="43" y="25"/>
                    <a:pt x="49" y="23"/>
                  </a:cubicBezTo>
                  <a:lnTo>
                    <a:pt x="49" y="23"/>
                  </a:lnTo>
                  <a:lnTo>
                    <a:pt x="49" y="27"/>
                  </a:lnTo>
                  <a:lnTo>
                    <a:pt x="49" y="27"/>
                  </a:lnTo>
                  <a:cubicBezTo>
                    <a:pt x="42" y="29"/>
                    <a:pt x="34" y="30"/>
                    <a:pt x="24" y="30"/>
                  </a:cubicBezTo>
                  <a:cubicBezTo>
                    <a:pt x="15" y="30"/>
                    <a:pt x="6" y="29"/>
                    <a:pt x="0" y="27"/>
                  </a:cubicBezTo>
                  <a:lnTo>
                    <a:pt x="0" y="27"/>
                  </a:lnTo>
                  <a:lnTo>
                    <a:pt x="0" y="23"/>
                  </a:lnTo>
                  <a:moveTo>
                    <a:pt x="0" y="12"/>
                  </a:moveTo>
                  <a:cubicBezTo>
                    <a:pt x="6" y="14"/>
                    <a:pt x="15" y="15"/>
                    <a:pt x="24" y="15"/>
                  </a:cubicBezTo>
                  <a:cubicBezTo>
                    <a:pt x="34" y="15"/>
                    <a:pt x="43" y="14"/>
                    <a:pt x="49" y="12"/>
                  </a:cubicBezTo>
                  <a:lnTo>
                    <a:pt x="49" y="12"/>
                  </a:lnTo>
                  <a:lnTo>
                    <a:pt x="49" y="15"/>
                  </a:lnTo>
                  <a:lnTo>
                    <a:pt x="49" y="15"/>
                  </a:lnTo>
                  <a:cubicBezTo>
                    <a:pt x="42" y="17"/>
                    <a:pt x="34" y="19"/>
                    <a:pt x="24" y="19"/>
                  </a:cubicBezTo>
                  <a:cubicBezTo>
                    <a:pt x="15" y="19"/>
                    <a:pt x="6" y="17"/>
                    <a:pt x="0" y="15"/>
                  </a:cubicBezTo>
                  <a:lnTo>
                    <a:pt x="0" y="15"/>
                  </a:lnTo>
                  <a:lnTo>
                    <a:pt x="0" y="12"/>
                  </a:lnTo>
                  <a:moveTo>
                    <a:pt x="0" y="0"/>
                  </a:moveTo>
                  <a:cubicBezTo>
                    <a:pt x="6" y="2"/>
                    <a:pt x="15" y="4"/>
                    <a:pt x="24" y="4"/>
                  </a:cubicBezTo>
                  <a:cubicBezTo>
                    <a:pt x="34" y="4"/>
                    <a:pt x="43" y="2"/>
                    <a:pt x="49" y="0"/>
                  </a:cubicBez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cubicBezTo>
                    <a:pt x="42" y="6"/>
                    <a:pt x="34" y="7"/>
                    <a:pt x="24" y="7"/>
                  </a:cubicBezTo>
                  <a:cubicBezTo>
                    <a:pt x="15" y="7"/>
                    <a:pt x="6" y="6"/>
                    <a:pt x="0" y="4"/>
                  </a:cubicBez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31040" y="2841480"/>
              <a:ext cx="500040" cy="43596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0"/>
                  </a:moveTo>
                  <a:lnTo>
                    <a:pt x="68" y="50"/>
                  </a:lnTo>
                  <a:lnTo>
                    <a:pt x="68" y="50"/>
                  </a:lnTo>
                  <a:cubicBezTo>
                    <a:pt x="68" y="56"/>
                    <a:pt x="53" y="61"/>
                    <a:pt x="34" y="61"/>
                  </a:cubicBezTo>
                  <a:cubicBezTo>
                    <a:pt x="15" y="61"/>
                    <a:pt x="0" y="56"/>
                    <a:pt x="0" y="50"/>
                  </a:cubicBez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cubicBezTo>
                    <a:pt x="4" y="51"/>
                    <a:pt x="5" y="51"/>
                    <a:pt x="5" y="51"/>
                  </a:cubicBezTo>
                  <a:cubicBezTo>
                    <a:pt x="6" y="52"/>
                    <a:pt x="9" y="54"/>
                    <a:pt x="11" y="54"/>
                  </a:cubicBezTo>
                  <a:cubicBezTo>
                    <a:pt x="17" y="56"/>
                    <a:pt x="25" y="58"/>
                    <a:pt x="34" y="58"/>
                  </a:cubicBezTo>
                  <a:cubicBezTo>
                    <a:pt x="43" y="58"/>
                    <a:pt x="51" y="56"/>
                    <a:pt x="57" y="54"/>
                  </a:cubicBezTo>
                  <a:cubicBezTo>
                    <a:pt x="60" y="54"/>
                    <a:pt x="62" y="52"/>
                    <a:pt x="63" y="51"/>
                  </a:cubicBezTo>
                  <a:cubicBezTo>
                    <a:pt x="64" y="51"/>
                    <a:pt x="64" y="50"/>
                    <a:pt x="64" y="50"/>
                  </a:cubicBezTo>
                  <a:lnTo>
                    <a:pt x="64" y="50"/>
                  </a:lnTo>
                  <a:lnTo>
                    <a:pt x="65" y="7"/>
                  </a:lnTo>
                  <a:lnTo>
                    <a:pt x="68" y="0"/>
                  </a:lnTo>
                </a:path>
              </a:pathLst>
            </a:custGeom>
            <a:solidFill>
              <a:srgbClr val="e3a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31040" y="2841480"/>
              <a:ext cx="500040" cy="3571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64" y="7"/>
                  </a:moveTo>
                  <a:cubicBezTo>
                    <a:pt x="57" y="10"/>
                    <a:pt x="46" y="12"/>
                    <a:pt x="34" y="12"/>
                  </a:cubicBezTo>
                  <a:cubicBezTo>
                    <a:pt x="23" y="12"/>
                    <a:pt x="12" y="10"/>
                    <a:pt x="4" y="7"/>
                  </a:cubicBezTo>
                  <a:lnTo>
                    <a:pt x="4" y="7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0" y="0"/>
                  </a:lnTo>
                  <a:cubicBezTo>
                    <a:pt x="6" y="5"/>
                    <a:pt x="19" y="8"/>
                    <a:pt x="34" y="8"/>
                  </a:cubicBezTo>
                  <a:cubicBezTo>
                    <a:pt x="49" y="8"/>
                    <a:pt x="62" y="5"/>
                    <a:pt x="68" y="0"/>
                  </a:cubicBezTo>
                  <a:lnTo>
                    <a:pt x="68" y="0"/>
                  </a:lnTo>
                  <a:lnTo>
                    <a:pt x="64" y="7"/>
                  </a:lnTo>
                </a:path>
              </a:pathLst>
            </a:custGeom>
            <a:solidFill>
              <a:srgbClr val="f3e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4840" y="2734200"/>
              <a:ext cx="426600" cy="14292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6" y="14"/>
                  </a:moveTo>
                  <a:cubicBezTo>
                    <a:pt x="11" y="15"/>
                    <a:pt x="17" y="16"/>
                    <a:pt x="24" y="16"/>
                  </a:cubicBezTo>
                  <a:cubicBezTo>
                    <a:pt x="41" y="16"/>
                    <a:pt x="54" y="12"/>
                    <a:pt x="54" y="8"/>
                  </a:cubicBezTo>
                  <a:cubicBezTo>
                    <a:pt x="54" y="5"/>
                    <a:pt x="51" y="3"/>
                    <a:pt x="45" y="2"/>
                  </a:cubicBezTo>
                  <a:lnTo>
                    <a:pt x="45" y="2"/>
                  </a:lnTo>
                  <a:lnTo>
                    <a:pt x="49" y="0"/>
                  </a:lnTo>
                  <a:lnTo>
                    <a:pt x="49" y="0"/>
                  </a:lnTo>
                  <a:cubicBezTo>
                    <a:pt x="55" y="2"/>
                    <a:pt x="58" y="5"/>
                    <a:pt x="58" y="8"/>
                  </a:cubicBezTo>
                  <a:cubicBezTo>
                    <a:pt x="58" y="15"/>
                    <a:pt x="43" y="20"/>
                    <a:pt x="24" y="20"/>
                  </a:cubicBezTo>
                  <a:cubicBezTo>
                    <a:pt x="15" y="20"/>
                    <a:pt x="6" y="18"/>
                    <a:pt x="0" y="16"/>
                  </a:cubicBezTo>
                  <a:lnTo>
                    <a:pt x="0" y="16"/>
                  </a:lnTo>
                  <a:lnTo>
                    <a:pt x="6" y="14"/>
                  </a:lnTo>
                </a:path>
              </a:pathLst>
            </a:custGeom>
            <a:solidFill>
              <a:srgbClr val="007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1040" y="2712960"/>
              <a:ext cx="433800" cy="13572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10" y="19"/>
                  </a:moveTo>
                  <a:cubicBezTo>
                    <a:pt x="4" y="17"/>
                    <a:pt x="0" y="14"/>
                    <a:pt x="0" y="11"/>
                  </a:cubicBezTo>
                  <a:cubicBezTo>
                    <a:pt x="0" y="5"/>
                    <a:pt x="15" y="0"/>
                    <a:pt x="34" y="0"/>
                  </a:cubicBezTo>
                  <a:cubicBezTo>
                    <a:pt x="44" y="0"/>
                    <a:pt x="53" y="1"/>
                    <a:pt x="59" y="3"/>
                  </a:cubicBezTo>
                  <a:lnTo>
                    <a:pt x="59" y="3"/>
                  </a:lnTo>
                  <a:lnTo>
                    <a:pt x="55" y="5"/>
                  </a:lnTo>
                  <a:lnTo>
                    <a:pt x="55" y="5"/>
                  </a:lnTo>
                  <a:cubicBezTo>
                    <a:pt x="49" y="3"/>
                    <a:pt x="42" y="3"/>
                    <a:pt x="34" y="3"/>
                  </a:cubicBezTo>
                  <a:cubicBezTo>
                    <a:pt x="18" y="3"/>
                    <a:pt x="4" y="6"/>
                    <a:pt x="4" y="11"/>
                  </a:cubicBezTo>
                  <a:cubicBezTo>
                    <a:pt x="4" y="13"/>
                    <a:pt x="9" y="16"/>
                    <a:pt x="16" y="17"/>
                  </a:cubicBezTo>
                  <a:lnTo>
                    <a:pt x="16" y="17"/>
                  </a:lnTo>
                  <a:lnTo>
                    <a:pt x="10" y="19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149880" y="2684520"/>
            <a:ext cx="557280" cy="622080"/>
            <a:chOff x="6149880" y="2684520"/>
            <a:chExt cx="557280" cy="622080"/>
          </a:xfrm>
        </p:grpSpPr>
        <p:sp>
          <p:nvSpPr>
            <p:cNvPr id="240" name=""/>
            <p:cNvSpPr/>
            <p:nvPr/>
          </p:nvSpPr>
          <p:spPr>
            <a:xfrm>
              <a:off x="6149880" y="2684520"/>
              <a:ext cx="557280" cy="622080"/>
            </a:xfrm>
            <a:custGeom>
              <a:avLst/>
              <a:gdLst/>
              <a:ahLst/>
              <a:rect l="l" t="t" r="r" b="b"/>
              <a:pathLst>
                <a:path w="76" h="87">
                  <a:moveTo>
                    <a:pt x="76" y="15"/>
                  </a:moveTo>
                  <a:lnTo>
                    <a:pt x="76" y="72"/>
                  </a:lnTo>
                  <a:lnTo>
                    <a:pt x="76" y="72"/>
                  </a:lnTo>
                  <a:cubicBezTo>
                    <a:pt x="76" y="80"/>
                    <a:pt x="59" y="87"/>
                    <a:pt x="38" y="87"/>
                  </a:cubicBezTo>
                  <a:cubicBezTo>
                    <a:pt x="17" y="87"/>
                    <a:pt x="0" y="80"/>
                    <a:pt x="0" y="72"/>
                  </a:cubicBezTo>
                  <a:lnTo>
                    <a:pt x="0" y="72"/>
                  </a:lnTo>
                  <a:lnTo>
                    <a:pt x="0" y="15"/>
                  </a:lnTo>
                  <a:lnTo>
                    <a:pt x="0" y="15"/>
                  </a:lnTo>
                  <a:cubicBezTo>
                    <a:pt x="0" y="7"/>
                    <a:pt x="17" y="0"/>
                    <a:pt x="38" y="0"/>
                  </a:cubicBezTo>
                  <a:cubicBezTo>
                    <a:pt x="59" y="0"/>
                    <a:pt x="76" y="7"/>
                    <a:pt x="76" y="15"/>
                  </a:cubicBez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79040" y="2712960"/>
              <a:ext cx="498600" cy="164160"/>
            </a:xfrm>
            <a:prstGeom prst="ellipse">
              <a:avLst/>
            </a:prstGeom>
            <a:solidFill>
              <a:srgbClr val="88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3800" y="2870280"/>
              <a:ext cx="469080" cy="39312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56" y="52"/>
                  </a:moveTo>
                  <a:cubicBezTo>
                    <a:pt x="50" y="54"/>
                    <a:pt x="41" y="55"/>
                    <a:pt x="32" y="55"/>
                  </a:cubicBezTo>
                  <a:cubicBezTo>
                    <a:pt x="23" y="55"/>
                    <a:pt x="15" y="54"/>
                    <a:pt x="9" y="52"/>
                  </a:cubicBezTo>
                  <a:cubicBezTo>
                    <a:pt x="6" y="51"/>
                    <a:pt x="4" y="50"/>
                    <a:pt x="2" y="49"/>
                  </a:cubicBezTo>
                  <a:cubicBezTo>
                    <a:pt x="1" y="48"/>
                    <a:pt x="1" y="48"/>
                    <a:pt x="1" y="47"/>
                  </a:cubicBezTo>
                  <a:lnTo>
                    <a:pt x="1" y="47"/>
                  </a:lnTo>
                  <a:lnTo>
                    <a:pt x="0" y="47"/>
                  </a:lnTo>
                  <a:lnTo>
                    <a:pt x="0" y="0"/>
                  </a:lnTo>
                  <a:lnTo>
                    <a:pt x="3" y="1"/>
                  </a:lnTo>
                  <a:lnTo>
                    <a:pt x="3" y="1"/>
                  </a:lnTo>
                  <a:cubicBezTo>
                    <a:pt x="10" y="4"/>
                    <a:pt x="21" y="6"/>
                    <a:pt x="32" y="6"/>
                  </a:cubicBezTo>
                  <a:cubicBezTo>
                    <a:pt x="44" y="6"/>
                    <a:pt x="54" y="4"/>
                    <a:pt x="62" y="1"/>
                  </a:cubicBezTo>
                  <a:lnTo>
                    <a:pt x="62" y="1"/>
                  </a:lnTo>
                  <a:lnTo>
                    <a:pt x="64" y="0"/>
                  </a:lnTo>
                  <a:lnTo>
                    <a:pt x="64" y="47"/>
                  </a:lnTo>
                  <a:lnTo>
                    <a:pt x="64" y="47"/>
                  </a:lnTo>
                  <a:lnTo>
                    <a:pt x="64" y="47"/>
                  </a:lnTo>
                  <a:cubicBezTo>
                    <a:pt x="64" y="47"/>
                    <a:pt x="63" y="48"/>
                    <a:pt x="62" y="49"/>
                  </a:cubicBezTo>
                  <a:cubicBezTo>
                    <a:pt x="61" y="50"/>
                    <a:pt x="59" y="51"/>
                    <a:pt x="56" y="52"/>
                  </a:cubicBezTo>
                </a:path>
              </a:pathLst>
            </a:custGeom>
            <a:solidFill>
              <a:srgbClr val="fbc6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52480" y="2970360"/>
              <a:ext cx="358920" cy="21420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0" y="23"/>
                  </a:moveTo>
                  <a:cubicBezTo>
                    <a:pt x="6" y="25"/>
                    <a:pt x="15" y="26"/>
                    <a:pt x="24" y="26"/>
                  </a:cubicBezTo>
                  <a:cubicBezTo>
                    <a:pt x="34" y="26"/>
                    <a:pt x="43" y="25"/>
                    <a:pt x="49" y="23"/>
                  </a:cubicBezTo>
                  <a:lnTo>
                    <a:pt x="49" y="23"/>
                  </a:lnTo>
                  <a:lnTo>
                    <a:pt x="49" y="27"/>
                  </a:lnTo>
                  <a:lnTo>
                    <a:pt x="49" y="27"/>
                  </a:lnTo>
                  <a:cubicBezTo>
                    <a:pt x="42" y="29"/>
                    <a:pt x="34" y="30"/>
                    <a:pt x="24" y="30"/>
                  </a:cubicBezTo>
                  <a:cubicBezTo>
                    <a:pt x="15" y="30"/>
                    <a:pt x="6" y="29"/>
                    <a:pt x="0" y="27"/>
                  </a:cubicBezTo>
                  <a:lnTo>
                    <a:pt x="0" y="27"/>
                  </a:lnTo>
                  <a:lnTo>
                    <a:pt x="0" y="23"/>
                  </a:lnTo>
                  <a:moveTo>
                    <a:pt x="0" y="12"/>
                  </a:moveTo>
                  <a:cubicBezTo>
                    <a:pt x="6" y="14"/>
                    <a:pt x="15" y="15"/>
                    <a:pt x="24" y="15"/>
                  </a:cubicBezTo>
                  <a:cubicBezTo>
                    <a:pt x="34" y="15"/>
                    <a:pt x="43" y="14"/>
                    <a:pt x="49" y="12"/>
                  </a:cubicBezTo>
                  <a:lnTo>
                    <a:pt x="49" y="12"/>
                  </a:lnTo>
                  <a:lnTo>
                    <a:pt x="49" y="15"/>
                  </a:lnTo>
                  <a:lnTo>
                    <a:pt x="49" y="15"/>
                  </a:lnTo>
                  <a:cubicBezTo>
                    <a:pt x="42" y="17"/>
                    <a:pt x="34" y="19"/>
                    <a:pt x="24" y="19"/>
                  </a:cubicBezTo>
                  <a:cubicBezTo>
                    <a:pt x="15" y="19"/>
                    <a:pt x="6" y="17"/>
                    <a:pt x="0" y="15"/>
                  </a:cubicBezTo>
                  <a:lnTo>
                    <a:pt x="0" y="15"/>
                  </a:lnTo>
                  <a:lnTo>
                    <a:pt x="0" y="12"/>
                  </a:lnTo>
                  <a:moveTo>
                    <a:pt x="0" y="0"/>
                  </a:moveTo>
                  <a:cubicBezTo>
                    <a:pt x="6" y="2"/>
                    <a:pt x="15" y="4"/>
                    <a:pt x="24" y="4"/>
                  </a:cubicBezTo>
                  <a:cubicBezTo>
                    <a:pt x="34" y="4"/>
                    <a:pt x="43" y="2"/>
                    <a:pt x="49" y="0"/>
                  </a:cubicBez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cubicBezTo>
                    <a:pt x="42" y="6"/>
                    <a:pt x="34" y="7"/>
                    <a:pt x="24" y="7"/>
                  </a:cubicBezTo>
                  <a:cubicBezTo>
                    <a:pt x="15" y="7"/>
                    <a:pt x="6" y="6"/>
                    <a:pt x="0" y="4"/>
                  </a:cubicBez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2c2d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9040" y="2841480"/>
              <a:ext cx="498600" cy="43596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0"/>
                  </a:moveTo>
                  <a:lnTo>
                    <a:pt x="68" y="50"/>
                  </a:lnTo>
                  <a:lnTo>
                    <a:pt x="68" y="50"/>
                  </a:lnTo>
                  <a:cubicBezTo>
                    <a:pt x="68" y="56"/>
                    <a:pt x="53" y="61"/>
                    <a:pt x="34" y="61"/>
                  </a:cubicBezTo>
                  <a:cubicBezTo>
                    <a:pt x="15" y="61"/>
                    <a:pt x="0" y="56"/>
                    <a:pt x="0" y="50"/>
                  </a:cubicBezTo>
                  <a:lnTo>
                    <a:pt x="0" y="50"/>
                  </a:lnTo>
                  <a:lnTo>
                    <a:pt x="4" y="50"/>
                  </a:lnTo>
                  <a:lnTo>
                    <a:pt x="4" y="50"/>
                  </a:lnTo>
                  <a:cubicBezTo>
                    <a:pt x="4" y="51"/>
                    <a:pt x="5" y="51"/>
                    <a:pt x="5" y="51"/>
                  </a:cubicBezTo>
                  <a:cubicBezTo>
                    <a:pt x="6" y="52"/>
                    <a:pt x="9" y="54"/>
                    <a:pt x="11" y="54"/>
                  </a:cubicBezTo>
                  <a:cubicBezTo>
                    <a:pt x="17" y="56"/>
                    <a:pt x="25" y="58"/>
                    <a:pt x="34" y="58"/>
                  </a:cubicBezTo>
                  <a:cubicBezTo>
                    <a:pt x="43" y="58"/>
                    <a:pt x="51" y="56"/>
                    <a:pt x="57" y="54"/>
                  </a:cubicBezTo>
                  <a:cubicBezTo>
                    <a:pt x="60" y="54"/>
                    <a:pt x="62" y="52"/>
                    <a:pt x="63" y="51"/>
                  </a:cubicBezTo>
                  <a:cubicBezTo>
                    <a:pt x="64" y="51"/>
                    <a:pt x="64" y="50"/>
                    <a:pt x="64" y="50"/>
                  </a:cubicBezTo>
                  <a:lnTo>
                    <a:pt x="64" y="50"/>
                  </a:lnTo>
                  <a:lnTo>
                    <a:pt x="65" y="7"/>
                  </a:lnTo>
                  <a:lnTo>
                    <a:pt x="68" y="0"/>
                  </a:lnTo>
                </a:path>
              </a:pathLst>
            </a:custGeom>
            <a:solidFill>
              <a:srgbClr val="e3a5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79040" y="2841480"/>
              <a:ext cx="498600" cy="357120"/>
            </a:xfrm>
            <a:custGeom>
              <a:avLst/>
              <a:gdLst/>
              <a:ahLst/>
              <a:rect l="l" t="t" r="r" b="b"/>
              <a:pathLst>
                <a:path w="68" h="50">
                  <a:moveTo>
                    <a:pt x="64" y="7"/>
                  </a:moveTo>
                  <a:cubicBezTo>
                    <a:pt x="57" y="10"/>
                    <a:pt x="46" y="12"/>
                    <a:pt x="34" y="12"/>
                  </a:cubicBezTo>
                  <a:cubicBezTo>
                    <a:pt x="23" y="12"/>
                    <a:pt x="12" y="10"/>
                    <a:pt x="4" y="7"/>
                  </a:cubicBezTo>
                  <a:lnTo>
                    <a:pt x="4" y="7"/>
                  </a:lnTo>
                  <a:lnTo>
                    <a:pt x="4" y="50"/>
                  </a:lnTo>
                  <a:lnTo>
                    <a:pt x="0" y="50"/>
                  </a:lnTo>
                  <a:lnTo>
                    <a:pt x="0" y="0"/>
                  </a:lnTo>
                  <a:lnTo>
                    <a:pt x="0" y="0"/>
                  </a:lnTo>
                  <a:cubicBezTo>
                    <a:pt x="6" y="5"/>
                    <a:pt x="19" y="8"/>
                    <a:pt x="34" y="8"/>
                  </a:cubicBezTo>
                  <a:cubicBezTo>
                    <a:pt x="49" y="8"/>
                    <a:pt x="62" y="5"/>
                    <a:pt x="68" y="0"/>
                  </a:cubicBezTo>
                  <a:lnTo>
                    <a:pt x="68" y="0"/>
                  </a:lnTo>
                  <a:lnTo>
                    <a:pt x="64" y="7"/>
                  </a:lnTo>
                </a:path>
              </a:pathLst>
            </a:custGeom>
            <a:solidFill>
              <a:srgbClr val="f3ee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52480" y="2734200"/>
              <a:ext cx="425160" cy="142920"/>
            </a:xfrm>
            <a:custGeom>
              <a:avLst/>
              <a:gdLst/>
              <a:ahLst/>
              <a:rect l="l" t="t" r="r" b="b"/>
              <a:pathLst>
                <a:path w="58" h="20">
                  <a:moveTo>
                    <a:pt x="6" y="14"/>
                  </a:moveTo>
                  <a:cubicBezTo>
                    <a:pt x="11" y="15"/>
                    <a:pt x="17" y="16"/>
                    <a:pt x="24" y="16"/>
                  </a:cubicBezTo>
                  <a:cubicBezTo>
                    <a:pt x="41" y="16"/>
                    <a:pt x="54" y="12"/>
                    <a:pt x="54" y="8"/>
                  </a:cubicBezTo>
                  <a:cubicBezTo>
                    <a:pt x="54" y="5"/>
                    <a:pt x="51" y="3"/>
                    <a:pt x="45" y="2"/>
                  </a:cubicBezTo>
                  <a:lnTo>
                    <a:pt x="45" y="2"/>
                  </a:lnTo>
                  <a:lnTo>
                    <a:pt x="49" y="0"/>
                  </a:lnTo>
                  <a:lnTo>
                    <a:pt x="49" y="0"/>
                  </a:lnTo>
                  <a:cubicBezTo>
                    <a:pt x="55" y="2"/>
                    <a:pt x="58" y="5"/>
                    <a:pt x="58" y="8"/>
                  </a:cubicBezTo>
                  <a:cubicBezTo>
                    <a:pt x="58" y="15"/>
                    <a:pt x="43" y="20"/>
                    <a:pt x="24" y="20"/>
                  </a:cubicBezTo>
                  <a:cubicBezTo>
                    <a:pt x="15" y="20"/>
                    <a:pt x="6" y="18"/>
                    <a:pt x="0" y="16"/>
                  </a:cubicBezTo>
                  <a:lnTo>
                    <a:pt x="0" y="16"/>
                  </a:lnTo>
                  <a:lnTo>
                    <a:pt x="6" y="14"/>
                  </a:lnTo>
                </a:path>
              </a:pathLst>
            </a:custGeom>
            <a:solidFill>
              <a:srgbClr val="0073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9040" y="2712960"/>
              <a:ext cx="432360" cy="13572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10" y="19"/>
                  </a:moveTo>
                  <a:cubicBezTo>
                    <a:pt x="4" y="17"/>
                    <a:pt x="0" y="14"/>
                    <a:pt x="0" y="11"/>
                  </a:cubicBezTo>
                  <a:cubicBezTo>
                    <a:pt x="0" y="5"/>
                    <a:pt x="15" y="0"/>
                    <a:pt x="34" y="0"/>
                  </a:cubicBezTo>
                  <a:cubicBezTo>
                    <a:pt x="44" y="0"/>
                    <a:pt x="53" y="1"/>
                    <a:pt x="59" y="3"/>
                  </a:cubicBezTo>
                  <a:lnTo>
                    <a:pt x="59" y="3"/>
                  </a:lnTo>
                  <a:lnTo>
                    <a:pt x="55" y="5"/>
                  </a:lnTo>
                  <a:lnTo>
                    <a:pt x="55" y="5"/>
                  </a:lnTo>
                  <a:cubicBezTo>
                    <a:pt x="49" y="3"/>
                    <a:pt x="42" y="3"/>
                    <a:pt x="34" y="3"/>
                  </a:cubicBezTo>
                  <a:cubicBezTo>
                    <a:pt x="18" y="3"/>
                    <a:pt x="4" y="6"/>
                    <a:pt x="4" y="11"/>
                  </a:cubicBezTo>
                  <a:cubicBezTo>
                    <a:pt x="4" y="13"/>
                    <a:pt x="9" y="16"/>
                    <a:pt x="16" y="17"/>
                  </a:cubicBezTo>
                  <a:lnTo>
                    <a:pt x="16" y="17"/>
                  </a:lnTo>
                  <a:lnTo>
                    <a:pt x="10" y="19"/>
                  </a:lnTo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600160" y="3370320"/>
            <a:ext cx="98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Log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15400" y="3370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Managemen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88280" y="477216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Firewall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48960" y="477216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VPN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377040" y="3989520"/>
            <a:ext cx="825480" cy="823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69640" y="4772160"/>
            <a:ext cx="20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Firewall &amp; VPN in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919680" y="5295960"/>
            <a:ext cx="738000" cy="75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3919680" y="5791320"/>
          <a:ext cx="330120" cy="24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9680" y="5791320"/>
                    <a:ext cx="33012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5740560" y="5294160"/>
            <a:ext cx="738000" cy="754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293800" y="607680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Trebuchet MS"/>
              </a:rPr>
              <a:t>Personal FW &amp; VP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0880" y="3724200"/>
            <a:ext cx="6172200" cy="9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20880" y="23623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327480" y="4111560"/>
          <a:ext cx="711000" cy="5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27480" y="4111560"/>
                    <a:ext cx="7110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775040" y="4114800"/>
          <a:ext cx="711360" cy="536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75040" y="4114800"/>
                    <a:ext cx="71136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738760" y="5791320"/>
          <a:ext cx="330120" cy="249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38760" y="5791320"/>
                    <a:ext cx="330120" cy="2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6782040" cy="5086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Inspeção Multi-Layer</a:t>
            </a:r>
            <a:endParaRPr b="0" lang="en-US" sz="38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000000"/>
                </a:solidFill>
                <a:latin typeface="Trebuchet MS"/>
              </a:rPr>
              <a:t>Solução de Segurança para</a:t>
            </a:r>
            <a:br>
              <a:rPr sz="3800"/>
            </a:br>
            <a:r>
              <a:rPr b="0" lang="fi-FI" sz="3800" spc="-1" strike="noStrike">
                <a:solidFill>
                  <a:srgbClr val="000000"/>
                </a:solidFill>
                <a:latin typeface="Trebuchet MS"/>
              </a:rPr>
              <a:t> Projetos de Consolidação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057400" y="144792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3333"/>
                </a:solidFill>
                <a:latin typeface="Trebuchet MS"/>
              </a:rPr>
              <a:t>Fabyan Augusto de Oliveira</a:t>
            </a: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33520" y="304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800" spc="-1" strike="noStrike">
                <a:solidFill>
                  <a:srgbClr val="993333"/>
                </a:solidFill>
                <a:latin typeface="Trebuchet MS"/>
              </a:rPr>
              <a:t>Exemplo de Consolidaçã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116360" y="1676160"/>
            <a:ext cx="6690960" cy="4757040"/>
            <a:chOff x="1116360" y="1676160"/>
            <a:chExt cx="6690960" cy="4757040"/>
          </a:xfrm>
        </p:grpSpPr>
        <p:sp>
          <p:nvSpPr>
            <p:cNvPr id="273" name=""/>
            <p:cNvSpPr/>
            <p:nvPr/>
          </p:nvSpPr>
          <p:spPr>
            <a:xfrm>
              <a:off x="5544000" y="5791320"/>
              <a:ext cx="153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CRM, ERP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1640" y="5334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1"/>
            <a:stretch/>
          </p:blipFill>
          <p:spPr>
            <a:xfrm>
              <a:off x="5234040" y="548640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5691240" y="548640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6148440" y="548640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6605640" y="5486400"/>
              <a:ext cx="2872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flipV="1">
              <a:off x="544500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5292720" y="495288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 flipV="1">
              <a:off x="590220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35940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816600" y="51814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6"/>
            <a:stretch/>
          </p:blipFill>
          <p:spPr>
            <a:xfrm>
              <a:off x="5749920" y="495288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7"/>
            <a:stretch/>
          </p:blipFill>
          <p:spPr>
            <a:xfrm>
              <a:off x="6207120" y="495288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 flipV="1">
              <a:off x="536904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82624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28344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740640" y="53337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" descr=""/>
            <p:cNvPicPr/>
            <p:nvPr/>
          </p:nvPicPr>
          <p:blipFill>
            <a:blip r:embed="rId8"/>
            <a:stretch/>
          </p:blipFill>
          <p:spPr>
            <a:xfrm>
              <a:off x="2928960" y="5181480"/>
              <a:ext cx="5904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318560" y="609588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Sto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7040" y="579132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Application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" descr=""/>
            <p:cNvPicPr/>
            <p:nvPr/>
          </p:nvPicPr>
          <p:blipFill>
            <a:blip r:embed="rId9"/>
            <a:stretch/>
          </p:blipFill>
          <p:spPr>
            <a:xfrm>
              <a:off x="6664320" y="4952880"/>
              <a:ext cx="45720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648320" y="2286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9720" y="2286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466800" y="1676160"/>
              <a:ext cx="2095560" cy="822240"/>
              <a:chOff x="3466800" y="1676160"/>
              <a:chExt cx="2095560" cy="82224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3466800" y="1676160"/>
                <a:ext cx="2095560" cy="822240"/>
                <a:chOff x="3466800" y="1676160"/>
                <a:chExt cx="2095560" cy="822240"/>
              </a:xfrm>
            </p:grpSpPr>
            <p:sp>
              <p:nvSpPr>
                <p:cNvPr id="298" name=""/>
                <p:cNvSpPr/>
                <p:nvPr/>
              </p:nvSpPr>
              <p:spPr>
                <a:xfrm rot="10800000">
                  <a:off x="3466800" y="1785960"/>
                  <a:ext cx="991080" cy="570600"/>
                </a:xfrm>
                <a:prstGeom prst="ellipse">
                  <a:avLst/>
                </a:prstGeom>
                <a:solidFill>
                  <a:srgbClr val="b2b2b2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0800000">
                  <a:off x="4044600" y="1676160"/>
                  <a:ext cx="913320" cy="570600"/>
                </a:xfrm>
                <a:prstGeom prst="ellipse">
                  <a:avLst/>
                </a:prstGeom>
                <a:solidFill>
                  <a:srgbClr val="b2b2b2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0800000">
                  <a:off x="4594680" y="1792440"/>
                  <a:ext cx="967680" cy="570600"/>
                </a:xfrm>
                <a:prstGeom prst="ellipse">
                  <a:avLst/>
                </a:prstGeom>
                <a:solidFill>
                  <a:srgbClr val="b2b2b2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0800000">
                  <a:off x="3776760" y="1902600"/>
                  <a:ext cx="928800" cy="585000"/>
                </a:xfrm>
                <a:prstGeom prst="ellipse">
                  <a:avLst/>
                </a:prstGeom>
                <a:solidFill>
                  <a:srgbClr val="b2b2b2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0800000">
                  <a:off x="4358520" y="1902600"/>
                  <a:ext cx="918360" cy="595800"/>
                </a:xfrm>
                <a:prstGeom prst="ellipse">
                  <a:avLst/>
                </a:prstGeom>
                <a:solidFill>
                  <a:srgbClr val="b2b2b2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0800000">
                  <a:off x="3741840" y="1870920"/>
                  <a:ext cx="1573920" cy="401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0800000">
                  <a:off x="4053600" y="1845720"/>
                  <a:ext cx="873720" cy="5176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953520" y="1904760"/>
                <a:ext cx="1155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i-FI" sz="2000" spc="-1" strike="noStrike">
                    <a:solidFill>
                      <a:srgbClr val="000000"/>
                    </a:solidFill>
                    <a:latin typeface="Trebuchet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4572000" y="34480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048120" y="3448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09680" y="4114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175280" y="2743200"/>
              <a:ext cx="320400" cy="304920"/>
              <a:chOff x="4175280" y="2743200"/>
              <a:chExt cx="320400" cy="304920"/>
            </a:xfrm>
          </p:grpSpPr>
          <p:sp>
            <p:nvSpPr>
              <p:cNvPr id="310" name=""/>
              <p:cNvSpPr/>
              <p:nvPr/>
            </p:nvSpPr>
            <p:spPr>
              <a:xfrm>
                <a:off x="4175280" y="2743200"/>
                <a:ext cx="320400" cy="304920"/>
              </a:xfrm>
              <a:prstGeom prst="rect">
                <a:avLst/>
              </a:pr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91120" y="2754720"/>
                <a:ext cx="288360" cy="2779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8" y="4"/>
                    </a:lnTo>
                    <a:lnTo>
                      <a:pt x="4" y="4"/>
                    </a:lnTo>
                    <a:lnTo>
                      <a:pt x="4" y="68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a7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191120" y="2754720"/>
                <a:ext cx="288360" cy="2779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4" y="68"/>
                    </a:lnTo>
                    <a:lnTo>
                      <a:pt x="68" y="68"/>
                    </a:lnTo>
                    <a:lnTo>
                      <a:pt x="68" y="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42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06960" y="2770200"/>
                <a:ext cx="256320" cy="246960"/>
              </a:xfrm>
              <a:prstGeom prst="rect">
                <a:avLst/>
              </a:prstGeom>
              <a:solidFill>
                <a:srgbClr val="a24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219200" y="2843640"/>
                <a:ext cx="100080" cy="1040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9" y="0"/>
                    </a:moveTo>
                    <a:lnTo>
                      <a:pt x="25" y="13"/>
                    </a:lnTo>
                    <a:lnTo>
                      <a:pt x="9" y="2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51320" y="2843640"/>
                <a:ext cx="100080" cy="1040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6" y="27"/>
                    </a:moveTo>
                    <a:lnTo>
                      <a:pt x="0" y="13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25" y="9"/>
                    </a:lnTo>
                    <a:lnTo>
                      <a:pt x="25" y="18"/>
                    </a:lnTo>
                    <a:lnTo>
                      <a:pt x="16" y="18"/>
                    </a:lnTo>
                    <a:lnTo>
                      <a:pt x="16" y="27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283280" y="2913120"/>
                <a:ext cx="104040" cy="1040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1"/>
                    </a:moveTo>
                    <a:lnTo>
                      <a:pt x="13" y="27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18" y="11"/>
                    </a:lnTo>
                    <a:lnTo>
                      <a:pt x="26" y="11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283280" y="2774160"/>
                <a:ext cx="104040" cy="1040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15"/>
                    </a:moveTo>
                    <a:lnTo>
                      <a:pt x="13" y="0"/>
                    </a:lnTo>
                    <a:lnTo>
                      <a:pt x="26" y="15"/>
                    </a:lnTo>
                    <a:lnTo>
                      <a:pt x="18" y="15"/>
                    </a:lnTo>
                    <a:lnTo>
                      <a:pt x="18" y="27"/>
                    </a:lnTo>
                    <a:lnTo>
                      <a:pt x="8" y="27"/>
                    </a:lnTo>
                    <a:lnTo>
                      <a:pt x="8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27120" y="2859120"/>
                <a:ext cx="79920" cy="73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9" y="6"/>
                    </a:moveTo>
                    <a:lnTo>
                      <a:pt x="9" y="0"/>
                    </a:lnTo>
                    <a:lnTo>
                      <a:pt x="20" y="9"/>
                    </a:lnTo>
                    <a:lnTo>
                      <a:pt x="9" y="19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3560" y="2859120"/>
                <a:ext cx="79920" cy="73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1" y="12"/>
                    </a:moveTo>
                    <a:lnTo>
                      <a:pt x="11" y="19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0" y="6"/>
                    </a:lnTo>
                    <a:lnTo>
                      <a:pt x="20" y="12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99120" y="2920680"/>
                <a:ext cx="72000" cy="846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2" y="11"/>
                    </a:moveTo>
                    <a:lnTo>
                      <a:pt x="18" y="11"/>
                    </a:lnTo>
                    <a:lnTo>
                      <a:pt x="9" y="22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11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99120" y="278172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6" y="11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1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2" name="" descr=""/>
            <p:cNvPicPr/>
            <p:nvPr/>
          </p:nvPicPr>
          <p:blipFill>
            <a:blip r:embed="rId10"/>
            <a:stretch/>
          </p:blipFill>
          <p:spPr>
            <a:xfrm>
              <a:off x="4952880" y="3352680"/>
              <a:ext cx="381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1"/>
            <a:stretch/>
          </p:blipFill>
          <p:spPr>
            <a:xfrm>
              <a:off x="3581280" y="3352680"/>
              <a:ext cx="381240" cy="1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4" name=""/>
            <p:cNvGrpSpPr/>
            <p:nvPr/>
          </p:nvGrpSpPr>
          <p:grpSpPr>
            <a:xfrm>
              <a:off x="5594400" y="3187800"/>
              <a:ext cx="501480" cy="546120"/>
              <a:chOff x="5594400" y="3187800"/>
              <a:chExt cx="501480" cy="54612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94400" y="3492360"/>
                <a:ext cx="501480" cy="24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94400" y="3340080"/>
                <a:ext cx="50148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94400" y="3187800"/>
                <a:ext cx="501480" cy="241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8" name=""/>
            <p:cNvGrpSpPr/>
            <p:nvPr/>
          </p:nvGrpSpPr>
          <p:grpSpPr>
            <a:xfrm>
              <a:off x="2895480" y="3124080"/>
              <a:ext cx="457200" cy="574560"/>
              <a:chOff x="2895480" y="3124080"/>
              <a:chExt cx="457200" cy="574560"/>
            </a:xfrm>
          </p:grpSpPr>
          <p:pic>
            <p:nvPicPr>
              <p:cNvPr id="32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95480" y="3428640"/>
                <a:ext cx="4572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895480" y="3276360"/>
                <a:ext cx="4572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95480" y="3124080"/>
                <a:ext cx="457200" cy="269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2" name=""/>
            <p:cNvSpPr/>
            <p:nvPr/>
          </p:nvSpPr>
          <p:spPr>
            <a:xfrm>
              <a:off x="5787360" y="289548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DMZ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4680" y="2819520"/>
              <a:ext cx="79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DMZ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43828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89548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35268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380988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16360" y="3809880"/>
              <a:ext cx="15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Departmen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63640" y="327672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Email, E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2578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7150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1722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629400" y="41144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97840" y="3809880"/>
              <a:ext cx="15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Departmen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33680" y="3276720"/>
              <a:ext cx="143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600" spc="-1" strike="noStrike">
                  <a:solidFill>
                    <a:srgbClr val="000000"/>
                  </a:solidFill>
                  <a:latin typeface="Trebuchet MS"/>
                </a:rPr>
                <a:t>Web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4572000" y="2743200"/>
              <a:ext cx="320760" cy="304920"/>
              <a:chOff x="4572000" y="2743200"/>
              <a:chExt cx="320760" cy="304920"/>
            </a:xfrm>
          </p:grpSpPr>
          <p:sp>
            <p:nvSpPr>
              <p:cNvPr id="347" name=""/>
              <p:cNvSpPr/>
              <p:nvPr/>
            </p:nvSpPr>
            <p:spPr>
              <a:xfrm>
                <a:off x="4572000" y="2743200"/>
                <a:ext cx="320760" cy="304920"/>
              </a:xfrm>
              <a:prstGeom prst="rect">
                <a:avLst/>
              </a:pr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87840" y="2754720"/>
                <a:ext cx="288720" cy="2779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68" y="4"/>
                    </a:lnTo>
                    <a:lnTo>
                      <a:pt x="4" y="4"/>
                    </a:lnTo>
                    <a:lnTo>
                      <a:pt x="4" y="68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a7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587840" y="2754720"/>
                <a:ext cx="288720" cy="2779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4" y="68"/>
                    </a:lnTo>
                    <a:lnTo>
                      <a:pt x="68" y="68"/>
                    </a:lnTo>
                    <a:lnTo>
                      <a:pt x="68" y="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4236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603680" y="2770200"/>
                <a:ext cx="256680" cy="246960"/>
              </a:xfrm>
              <a:prstGeom prst="rect">
                <a:avLst/>
              </a:prstGeom>
              <a:solidFill>
                <a:srgbClr val="a24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615920" y="2843640"/>
                <a:ext cx="100080" cy="1040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9" y="0"/>
                    </a:moveTo>
                    <a:lnTo>
                      <a:pt x="25" y="13"/>
                    </a:lnTo>
                    <a:lnTo>
                      <a:pt x="9" y="27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48400" y="2843640"/>
                <a:ext cx="100080" cy="10404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6" y="27"/>
                    </a:moveTo>
                    <a:lnTo>
                      <a:pt x="0" y="13"/>
                    </a:lnTo>
                    <a:lnTo>
                      <a:pt x="16" y="0"/>
                    </a:lnTo>
                    <a:lnTo>
                      <a:pt x="16" y="9"/>
                    </a:lnTo>
                    <a:lnTo>
                      <a:pt x="25" y="9"/>
                    </a:lnTo>
                    <a:lnTo>
                      <a:pt x="25" y="18"/>
                    </a:lnTo>
                    <a:lnTo>
                      <a:pt x="16" y="18"/>
                    </a:lnTo>
                    <a:lnTo>
                      <a:pt x="16" y="27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80000" y="2913120"/>
                <a:ext cx="104040" cy="1040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1"/>
                    </a:moveTo>
                    <a:lnTo>
                      <a:pt x="13" y="27"/>
                    </a:lnTo>
                    <a:lnTo>
                      <a:pt x="0" y="11"/>
                    </a:lnTo>
                    <a:lnTo>
                      <a:pt x="8" y="11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18" y="11"/>
                    </a:lnTo>
                    <a:lnTo>
                      <a:pt x="26" y="11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0000" y="2774160"/>
                <a:ext cx="104040" cy="1040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0" y="15"/>
                    </a:moveTo>
                    <a:lnTo>
                      <a:pt x="13" y="0"/>
                    </a:lnTo>
                    <a:lnTo>
                      <a:pt x="26" y="15"/>
                    </a:lnTo>
                    <a:lnTo>
                      <a:pt x="18" y="15"/>
                    </a:lnTo>
                    <a:lnTo>
                      <a:pt x="18" y="27"/>
                    </a:lnTo>
                    <a:lnTo>
                      <a:pt x="8" y="27"/>
                    </a:lnTo>
                    <a:lnTo>
                      <a:pt x="8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2c2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23840" y="2859120"/>
                <a:ext cx="80280" cy="73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9" y="6"/>
                    </a:moveTo>
                    <a:lnTo>
                      <a:pt x="9" y="0"/>
                    </a:lnTo>
                    <a:lnTo>
                      <a:pt x="20" y="9"/>
                    </a:lnTo>
                    <a:lnTo>
                      <a:pt x="9" y="19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60280" y="2859120"/>
                <a:ext cx="80280" cy="730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1" y="12"/>
                    </a:moveTo>
                    <a:lnTo>
                      <a:pt x="11" y="19"/>
                    </a:lnTo>
                    <a:lnTo>
                      <a:pt x="0" y="9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0" y="6"/>
                    </a:lnTo>
                    <a:lnTo>
                      <a:pt x="20" y="12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696200" y="2920680"/>
                <a:ext cx="72000" cy="84600"/>
              </a:xfrm>
              <a:custGeom>
                <a:avLst/>
                <a:gdLst/>
                <a:ahLst/>
                <a:rect l="l" t="t" r="r" b="b"/>
                <a:pathLst>
                  <a:path w="18" h="22">
                    <a:moveTo>
                      <a:pt x="12" y="11"/>
                    </a:moveTo>
                    <a:lnTo>
                      <a:pt x="18" y="11"/>
                    </a:lnTo>
                    <a:lnTo>
                      <a:pt x="9" y="22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11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96200" y="2781720"/>
                <a:ext cx="72000" cy="885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6" y="11"/>
                    </a:moveTo>
                    <a:lnTo>
                      <a:pt x="0" y="11"/>
                    </a:lnTo>
                    <a:lnTo>
                      <a:pt x="9" y="0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1"/>
                    </a:lnTo>
                  </a:path>
                </a:pathLst>
              </a:cu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193840" y="4218120"/>
              <a:ext cx="1768320" cy="353880"/>
              <a:chOff x="2193840" y="4218120"/>
              <a:chExt cx="1768320" cy="353880"/>
            </a:xfrm>
          </p:grpSpPr>
          <p:sp>
            <p:nvSpPr>
              <p:cNvPr id="360" name="computr2"/>
              <p:cNvSpPr/>
              <p:nvPr/>
            </p:nvSpPr>
            <p:spPr>
              <a:xfrm>
                <a:off x="2193840" y="4218120"/>
                <a:ext cx="43560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computr2"/>
              <p:cNvSpPr/>
              <p:nvPr/>
            </p:nvSpPr>
            <p:spPr>
              <a:xfrm>
                <a:off x="2637720" y="4218120"/>
                <a:ext cx="43560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computr2"/>
              <p:cNvSpPr/>
              <p:nvPr/>
            </p:nvSpPr>
            <p:spPr>
              <a:xfrm>
                <a:off x="3080880" y="4218120"/>
                <a:ext cx="43740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computr2"/>
              <p:cNvSpPr/>
              <p:nvPr/>
            </p:nvSpPr>
            <p:spPr>
              <a:xfrm>
                <a:off x="3525120" y="4218120"/>
                <a:ext cx="43704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013360" y="4218120"/>
              <a:ext cx="1768320" cy="353880"/>
              <a:chOff x="5013360" y="4218120"/>
              <a:chExt cx="1768320" cy="353880"/>
            </a:xfrm>
          </p:grpSpPr>
          <p:sp>
            <p:nvSpPr>
              <p:cNvPr id="365" name="computr2"/>
              <p:cNvSpPr/>
              <p:nvPr/>
            </p:nvSpPr>
            <p:spPr>
              <a:xfrm>
                <a:off x="5013360" y="4218120"/>
                <a:ext cx="43560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computr2"/>
              <p:cNvSpPr/>
              <p:nvPr/>
            </p:nvSpPr>
            <p:spPr>
              <a:xfrm>
                <a:off x="5457240" y="4218120"/>
                <a:ext cx="43560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computr2"/>
              <p:cNvSpPr/>
              <p:nvPr/>
            </p:nvSpPr>
            <p:spPr>
              <a:xfrm>
                <a:off x="5900040" y="4218120"/>
                <a:ext cx="43704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computr2"/>
              <p:cNvSpPr/>
              <p:nvPr/>
            </p:nvSpPr>
            <p:spPr>
              <a:xfrm>
                <a:off x="6344640" y="4218120"/>
                <a:ext cx="437040" cy="3538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495680" y="350532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18"/>
            <a:stretch/>
          </p:blipFill>
          <p:spPr>
            <a:xfrm>
              <a:off x="4267080" y="4038480"/>
              <a:ext cx="381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19"/>
            <a:stretch/>
          </p:blipFill>
          <p:spPr>
            <a:xfrm>
              <a:off x="4343400" y="3219480"/>
              <a:ext cx="241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0"/>
            <a:stretch/>
          </p:blipFill>
          <p:spPr>
            <a:xfrm>
              <a:off x="4483080" y="3219480"/>
              <a:ext cx="24120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21"/>
            <a:stretch/>
          </p:blipFill>
          <p:spPr>
            <a:xfrm>
              <a:off x="3997440" y="5638680"/>
              <a:ext cx="5904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2"/>
            <a:stretch/>
          </p:blipFill>
          <p:spPr>
            <a:xfrm>
              <a:off x="4226040" y="5267160"/>
              <a:ext cx="380880" cy="18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23"/>
            <a:stretch/>
          </p:blipFill>
          <p:spPr>
            <a:xfrm>
              <a:off x="4330800" y="4438800"/>
              <a:ext cx="24120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" descr=""/>
            <p:cNvPicPr/>
            <p:nvPr/>
          </p:nvPicPr>
          <p:blipFill>
            <a:blip r:embed="rId24"/>
            <a:stretch/>
          </p:blipFill>
          <p:spPr>
            <a:xfrm>
              <a:off x="4483080" y="4438800"/>
              <a:ext cx="241200" cy="51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"/>
          <p:cNvSpPr/>
          <p:nvPr/>
        </p:nvSpPr>
        <p:spPr>
          <a:xfrm>
            <a:off x="1676520" y="5029200"/>
            <a:ext cx="6095880" cy="121932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7T14:38:18Z</dcterms:created>
  <dc:creator>VMJ</dc:creator>
  <dc:description/>
  <dc:language>en-US</dc:language>
  <cp:lastModifiedBy>Fabyan Augusto</cp:lastModifiedBy>
  <dcterms:modified xsi:type="dcterms:W3CDTF">2003-05-19T14:18:26Z</dcterms:modified>
  <cp:revision>471</cp:revision>
  <dc:subject/>
  <dc:title>No Slide Title</dc:title>
</cp:coreProperties>
</file>