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600" y="68544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085-5A5F-4BBB-8552-ECDCC681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CD link Service on Demand &amp; Capacity on Demand to mp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C12-C766-435A-9AC4-5A8DC1CF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86630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960" y="4540320"/>
            <a:ext cx="86630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639-723B-4F69-970E-A3A42297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120" y="213804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0960" y="454032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120" y="454032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6EE-F0B8-4246-BC6C-C15B9A0A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2789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9920" y="2138040"/>
            <a:ext cx="2789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9240" y="2138040"/>
            <a:ext cx="2789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960" y="4540320"/>
            <a:ext cx="2789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9920" y="4540320"/>
            <a:ext cx="2789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9240" y="4540320"/>
            <a:ext cx="2789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452-367A-48CC-89CB-FD17B061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0960" y="2138040"/>
            <a:ext cx="86630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CE3-B8B3-4EF7-97F8-3E1807F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86630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49D-4A91-4113-B9E8-D0185402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42274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120" y="2138040"/>
            <a:ext cx="42274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FD7-7F8B-44F6-BD97-036C3B7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3EF-D33D-41F6-89B8-C7E0785F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0960" y="480600"/>
            <a:ext cx="866304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7AA-BCD3-415D-AF9E-5343548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120" y="2138040"/>
            <a:ext cx="42274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0960" y="454032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AF0-29FE-403E-83C0-FFF883F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42274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120" y="213804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120" y="454032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AF0-6B44-4FEC-9DE8-FDD49F2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0960" y="213804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120" y="2138040"/>
            <a:ext cx="42274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960" y="4540320"/>
            <a:ext cx="86630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C16-D122-430D-9C6F-8E7C19C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0960" y="480600"/>
            <a:ext cx="86630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960" y="2138040"/>
            <a:ext cx="86630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398B-5B63-4859-B9FE-41CF5EEA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171880" y="826920"/>
            <a:ext cx="7418160" cy="5294520"/>
            <a:chOff x="2171880" y="826920"/>
            <a:chExt cx="7418160" cy="5294520"/>
          </a:xfrm>
        </p:grpSpPr>
        <p:sp>
          <p:nvSpPr>
            <p:cNvPr id="49" name=""/>
            <p:cNvSpPr/>
            <p:nvPr/>
          </p:nvSpPr>
          <p:spPr>
            <a:xfrm flipV="1">
              <a:off x="2173320" y="4952880"/>
              <a:ext cx="0" cy="116856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171880" y="1645920"/>
              <a:ext cx="0" cy="384120"/>
            </a:xfrm>
            <a:prstGeom prst="line">
              <a:avLst/>
            </a:prstGeom>
            <a:ln w="187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8516880" y="826920"/>
              <a:ext cx="1073160" cy="489240"/>
              <a:chOff x="8516880" y="826920"/>
              <a:chExt cx="1073160" cy="489240"/>
            </a:xfrm>
          </p:grpSpPr>
          <p:sp>
            <p:nvSpPr>
              <p:cNvPr id="52" name=""/>
              <p:cNvSpPr/>
              <p:nvPr/>
            </p:nvSpPr>
            <p:spPr>
              <a:xfrm>
                <a:off x="9408960" y="826920"/>
                <a:ext cx="18108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113" y="20"/>
                    </a:moveTo>
                    <a:lnTo>
                      <a:pt x="0" y="20"/>
                    </a:lnTo>
                    <a:lnTo>
                      <a:pt x="8" y="0"/>
                    </a:lnTo>
                    <a:lnTo>
                      <a:pt x="113" y="0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3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2320" y="826920"/>
                <a:ext cx="179280" cy="33480"/>
              </a:xfrm>
              <a:custGeom>
                <a:avLst/>
                <a:gdLst/>
                <a:ahLst/>
                <a:rect l="l" t="t" r="r" b="b"/>
                <a:pathLst>
                  <a:path w="113" h="21">
                    <a:moveTo>
                      <a:pt x="0" y="0"/>
                    </a:moveTo>
                    <a:lnTo>
                      <a:pt x="105" y="0"/>
                    </a:lnTo>
                    <a:lnTo>
                      <a:pt x="112" y="20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0"/>
                    </a:lnTo>
                    <a:lnTo>
                      <a:pt x="93" y="20"/>
                    </a:lnTo>
                    <a:lnTo>
                      <a:pt x="84" y="20"/>
                    </a:lnTo>
                    <a:lnTo>
                      <a:pt x="75" y="20"/>
                    </a:lnTo>
                    <a:lnTo>
                      <a:pt x="65" y="20"/>
                    </a:lnTo>
                    <a:lnTo>
                      <a:pt x="55" y="20"/>
                    </a:lnTo>
                    <a:lnTo>
                      <a:pt x="44" y="20"/>
                    </a:lnTo>
                    <a:lnTo>
                      <a:pt x="34" y="20"/>
                    </a:lnTo>
                    <a:lnTo>
                      <a:pt x="25" y="20"/>
                    </a:lnTo>
                    <a:lnTo>
                      <a:pt x="17" y="20"/>
                    </a:lnTo>
                    <a:lnTo>
                      <a:pt x="9" y="20"/>
                    </a:lnTo>
                    <a:lnTo>
                      <a:pt x="4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751960" y="826920"/>
                <a:ext cx="301680" cy="33480"/>
              </a:xfrm>
              <a:custGeom>
                <a:avLst/>
                <a:gdLst/>
                <a:ahLst/>
                <a:rect l="l" t="t" r="r" b="b"/>
                <a:pathLst>
                  <a:path w="190" h="21">
                    <a:moveTo>
                      <a:pt x="144" y="0"/>
                    </a:moveTo>
                    <a:lnTo>
                      <a:pt x="146" y="2"/>
                    </a:lnTo>
                    <a:lnTo>
                      <a:pt x="150" y="2"/>
                    </a:lnTo>
                    <a:lnTo>
                      <a:pt x="152" y="2"/>
                    </a:lnTo>
                    <a:lnTo>
                      <a:pt x="156" y="2"/>
                    </a:lnTo>
                    <a:lnTo>
                      <a:pt x="158" y="4"/>
                    </a:lnTo>
                    <a:lnTo>
                      <a:pt x="162" y="4"/>
                    </a:lnTo>
                    <a:lnTo>
                      <a:pt x="164" y="6"/>
                    </a:lnTo>
                    <a:lnTo>
                      <a:pt x="168" y="6"/>
                    </a:lnTo>
                    <a:lnTo>
                      <a:pt x="170" y="8"/>
                    </a:lnTo>
                    <a:lnTo>
                      <a:pt x="172" y="10"/>
                    </a:lnTo>
                    <a:lnTo>
                      <a:pt x="175" y="12"/>
                    </a:lnTo>
                    <a:lnTo>
                      <a:pt x="178" y="13"/>
                    </a:lnTo>
                    <a:lnTo>
                      <a:pt x="180" y="15"/>
                    </a:lnTo>
                    <a:lnTo>
                      <a:pt x="183" y="17"/>
                    </a:lnTo>
                    <a:lnTo>
                      <a:pt x="185" y="19"/>
                    </a:lnTo>
                    <a:lnTo>
                      <a:pt x="189" y="20"/>
                    </a:lnTo>
                    <a:lnTo>
                      <a:pt x="186" y="20"/>
                    </a:lnTo>
                    <a:lnTo>
                      <a:pt x="180" y="20"/>
                    </a:lnTo>
                    <a:lnTo>
                      <a:pt x="171" y="20"/>
                    </a:lnTo>
                    <a:lnTo>
                      <a:pt x="159" y="20"/>
                    </a:lnTo>
                    <a:lnTo>
                      <a:pt x="144" y="20"/>
                    </a:lnTo>
                    <a:lnTo>
                      <a:pt x="129" y="20"/>
                    </a:lnTo>
                    <a:lnTo>
                      <a:pt x="111" y="20"/>
                    </a:lnTo>
                    <a:lnTo>
                      <a:pt x="95" y="20"/>
                    </a:lnTo>
                    <a:lnTo>
                      <a:pt x="76" y="20"/>
                    </a:lnTo>
                    <a:lnTo>
                      <a:pt x="60" y="20"/>
                    </a:lnTo>
                    <a:lnTo>
                      <a:pt x="43" y="20"/>
                    </a:lnTo>
                    <a:lnTo>
                      <a:pt x="29" y="20"/>
                    </a:lnTo>
                    <a:lnTo>
                      <a:pt x="16" y="20"/>
                    </a:lnTo>
                    <a:lnTo>
                      <a:pt x="8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516880" y="826920"/>
                <a:ext cx="209520" cy="33480"/>
              </a:xfrm>
              <a:custGeom>
                <a:avLst/>
                <a:gdLst/>
                <a:ahLst/>
                <a:rect l="l" t="t" r="r" b="b"/>
                <a:pathLst>
                  <a:path w="132" h="21">
                    <a:moveTo>
                      <a:pt x="131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31" y="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390240" y="888840"/>
                <a:ext cx="199800" cy="36720"/>
              </a:xfrm>
              <a:custGeom>
                <a:avLst/>
                <a:gdLst/>
                <a:ahLst/>
                <a:rect l="l" t="t" r="r" b="b"/>
                <a:pathLst>
                  <a:path w="126" h="23">
                    <a:moveTo>
                      <a:pt x="125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25" y="0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112320" y="888840"/>
                <a:ext cx="199800" cy="36720"/>
              </a:xfrm>
              <a:custGeom>
                <a:avLst/>
                <a:gdLst/>
                <a:ahLst/>
                <a:rect l="l" t="t" r="r" b="b"/>
                <a:pathLst>
                  <a:path w="126" h="23">
                    <a:moveTo>
                      <a:pt x="125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51960" y="888840"/>
                <a:ext cx="334800" cy="36720"/>
              </a:xfrm>
              <a:custGeom>
                <a:avLst/>
                <a:gdLst/>
                <a:ahLst/>
                <a:rect l="l" t="t" r="r" b="b"/>
                <a:pathLst>
                  <a:path w="211" h="23">
                    <a:moveTo>
                      <a:pt x="204" y="0"/>
                    </a:moveTo>
                    <a:lnTo>
                      <a:pt x="204" y="2"/>
                    </a:lnTo>
                    <a:lnTo>
                      <a:pt x="204" y="4"/>
                    </a:lnTo>
                    <a:lnTo>
                      <a:pt x="204" y="6"/>
                    </a:lnTo>
                    <a:lnTo>
                      <a:pt x="205" y="6"/>
                    </a:lnTo>
                    <a:lnTo>
                      <a:pt x="205" y="8"/>
                    </a:lnTo>
                    <a:lnTo>
                      <a:pt x="205" y="10"/>
                    </a:lnTo>
                    <a:lnTo>
                      <a:pt x="205" y="12"/>
                    </a:lnTo>
                    <a:lnTo>
                      <a:pt x="207" y="12"/>
                    </a:lnTo>
                    <a:lnTo>
                      <a:pt x="207" y="14"/>
                    </a:lnTo>
                    <a:lnTo>
                      <a:pt x="207" y="16"/>
                    </a:lnTo>
                    <a:lnTo>
                      <a:pt x="207" y="18"/>
                    </a:lnTo>
                    <a:lnTo>
                      <a:pt x="208" y="18"/>
                    </a:lnTo>
                    <a:lnTo>
                      <a:pt x="208" y="20"/>
                    </a:lnTo>
                    <a:lnTo>
                      <a:pt x="208" y="21"/>
                    </a:lnTo>
                    <a:lnTo>
                      <a:pt x="208" y="22"/>
                    </a:lnTo>
                    <a:lnTo>
                      <a:pt x="21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516880" y="888840"/>
                <a:ext cx="209520" cy="36720"/>
              </a:xfrm>
              <a:custGeom>
                <a:avLst/>
                <a:gdLst/>
                <a:ahLst/>
                <a:rect l="l" t="t" r="r" b="b"/>
                <a:pathLst>
                  <a:path w="132" h="23">
                    <a:moveTo>
                      <a:pt x="131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31" y="0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369360" y="957240"/>
                <a:ext cx="160560" cy="34920"/>
              </a:xfrm>
              <a:custGeom>
                <a:avLst/>
                <a:gdLst/>
                <a:ahLst/>
                <a:rect l="l" t="t" r="r" b="b"/>
                <a:pathLst>
                  <a:path w="101" h="22">
                    <a:moveTo>
                      <a:pt x="0" y="21"/>
                    </a:moveTo>
                    <a:lnTo>
                      <a:pt x="7" y="0"/>
                    </a:lnTo>
                    <a:lnTo>
                      <a:pt x="100" y="0"/>
                    </a:lnTo>
                    <a:lnTo>
                      <a:pt x="10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72440" y="957240"/>
                <a:ext cx="160560" cy="34920"/>
              </a:xfrm>
              <a:custGeom>
                <a:avLst/>
                <a:gdLst/>
                <a:ahLst/>
                <a:rect l="l" t="t" r="r" b="b"/>
                <a:pathLst>
                  <a:path w="101" h="22">
                    <a:moveTo>
                      <a:pt x="92" y="0"/>
                    </a:moveTo>
                    <a:lnTo>
                      <a:pt x="10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991720" y="95580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60" y="0"/>
                    </a:moveTo>
                    <a:lnTo>
                      <a:pt x="59" y="2"/>
                    </a:lnTo>
                    <a:lnTo>
                      <a:pt x="59" y="4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572680" y="957240"/>
                <a:ext cx="91800" cy="3492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7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12080" y="95580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7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72440" y="1019160"/>
                <a:ext cx="357480" cy="36360"/>
              </a:xfrm>
              <a:custGeom>
                <a:avLst/>
                <a:gdLst/>
                <a:ahLst/>
                <a:rect l="l" t="t" r="r" b="b"/>
                <a:pathLst>
                  <a:path w="225" h="23">
                    <a:moveTo>
                      <a:pt x="55" y="6"/>
                    </a:moveTo>
                    <a:lnTo>
                      <a:pt x="55" y="7"/>
                    </a:lnTo>
                    <a:lnTo>
                      <a:pt x="55" y="7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7"/>
                    </a:lnTo>
                    <a:lnTo>
                      <a:pt x="55" y="19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12" y="21"/>
                    </a:lnTo>
                    <a:lnTo>
                      <a:pt x="112" y="21"/>
                    </a:lnTo>
                    <a:lnTo>
                      <a:pt x="112" y="21"/>
                    </a:lnTo>
                    <a:lnTo>
                      <a:pt x="112" y="20"/>
                    </a:lnTo>
                    <a:lnTo>
                      <a:pt x="113" y="18"/>
                    </a:lnTo>
                    <a:lnTo>
                      <a:pt x="113" y="17"/>
                    </a:lnTo>
                    <a:lnTo>
                      <a:pt x="113" y="14"/>
                    </a:lnTo>
                    <a:lnTo>
                      <a:pt x="113" y="13"/>
                    </a:lnTo>
                    <a:lnTo>
                      <a:pt x="115" y="11"/>
                    </a:lnTo>
                    <a:lnTo>
                      <a:pt x="115" y="9"/>
                    </a:lnTo>
                    <a:lnTo>
                      <a:pt x="115" y="7"/>
                    </a:lnTo>
                    <a:lnTo>
                      <a:pt x="115" y="6"/>
                    </a:lnTo>
                    <a:lnTo>
                      <a:pt x="116" y="3"/>
                    </a:lnTo>
                    <a:lnTo>
                      <a:pt x="116" y="3"/>
                    </a:lnTo>
                    <a:lnTo>
                      <a:pt x="116" y="1"/>
                    </a:lnTo>
                    <a:lnTo>
                      <a:pt x="116" y="1"/>
                    </a:lnTo>
                    <a:lnTo>
                      <a:pt x="118" y="0"/>
                    </a:lnTo>
                    <a:lnTo>
                      <a:pt x="224" y="0"/>
                    </a:lnTo>
                    <a:lnTo>
                      <a:pt x="224" y="22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0" y="21"/>
                    </a:lnTo>
                    <a:lnTo>
                      <a:pt x="170" y="21"/>
                    </a:lnTo>
                    <a:lnTo>
                      <a:pt x="170" y="19"/>
                    </a:lnTo>
                    <a:lnTo>
                      <a:pt x="170" y="17"/>
                    </a:lnTo>
                    <a:lnTo>
                      <a:pt x="170" y="14"/>
                    </a:lnTo>
                    <a:lnTo>
                      <a:pt x="170" y="14"/>
                    </a:lnTo>
                    <a:lnTo>
                      <a:pt x="170" y="13"/>
                    </a:lnTo>
                    <a:lnTo>
                      <a:pt x="170" y="11"/>
                    </a:lnTo>
                    <a:lnTo>
                      <a:pt x="170" y="9"/>
                    </a:lnTo>
                    <a:lnTo>
                      <a:pt x="170" y="9"/>
                    </a:lnTo>
                    <a:lnTo>
                      <a:pt x="170" y="7"/>
                    </a:lnTo>
                    <a:lnTo>
                      <a:pt x="170" y="7"/>
                    </a:lnTo>
                    <a:lnTo>
                      <a:pt x="170" y="6"/>
                    </a:lnTo>
                    <a:lnTo>
                      <a:pt x="164" y="22"/>
                    </a:lnTo>
                    <a:lnTo>
                      <a:pt x="60" y="22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12080" y="1019160"/>
                <a:ext cx="258840" cy="3636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0"/>
                    </a:moveTo>
                    <a:lnTo>
                      <a:pt x="162" y="0"/>
                    </a:lnTo>
                    <a:lnTo>
                      <a:pt x="162" y="0"/>
                    </a:lnTo>
                    <a:lnTo>
                      <a:pt x="160" y="2"/>
                    </a:lnTo>
                    <a:lnTo>
                      <a:pt x="160" y="4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56" y="8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2" y="14"/>
                    </a:lnTo>
                    <a:lnTo>
                      <a:pt x="152" y="16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8" y="20"/>
                    </a:lnTo>
                    <a:lnTo>
                      <a:pt x="148" y="21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44" y="22"/>
                    </a:lnTo>
                    <a:lnTo>
                      <a:pt x="139" y="22"/>
                    </a:lnTo>
                    <a:lnTo>
                      <a:pt x="131" y="22"/>
                    </a:lnTo>
                    <a:lnTo>
                      <a:pt x="123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85" y="22"/>
                    </a:lnTo>
                    <a:lnTo>
                      <a:pt x="72" y="22"/>
                    </a:lnTo>
                    <a:lnTo>
                      <a:pt x="58" y="22"/>
                    </a:lnTo>
                    <a:lnTo>
                      <a:pt x="44" y="22"/>
                    </a:lnTo>
                    <a:lnTo>
                      <a:pt x="32" y="22"/>
                    </a:lnTo>
                    <a:lnTo>
                      <a:pt x="22" y="22"/>
                    </a:lnTo>
                    <a:lnTo>
                      <a:pt x="12" y="22"/>
                    </a:lnTo>
                    <a:lnTo>
                      <a:pt x="5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72680" y="1019160"/>
                <a:ext cx="9180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7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442440" y="1084320"/>
                <a:ext cx="87480" cy="349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54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172440" y="1084320"/>
                <a:ext cx="88920" cy="3492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55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7" y="21"/>
                    </a:lnTo>
                    <a:lnTo>
                      <a:pt x="31" y="21"/>
                    </a:lnTo>
                    <a:lnTo>
                      <a:pt x="36" y="21"/>
                    </a:lnTo>
                    <a:lnTo>
                      <a:pt x="40" y="21"/>
                    </a:lnTo>
                    <a:lnTo>
                      <a:pt x="46" y="21"/>
                    </a:lnTo>
                    <a:lnTo>
                      <a:pt x="48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0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8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279000" y="1084320"/>
                <a:ext cx="146160" cy="3492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1" y="0"/>
                    </a:moveTo>
                    <a:lnTo>
                      <a:pt x="89" y="2"/>
                    </a:lnTo>
                    <a:lnTo>
                      <a:pt x="89" y="2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8" y="6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88" y="11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6" y="17"/>
                    </a:lnTo>
                    <a:lnTo>
                      <a:pt x="86" y="18"/>
                    </a:lnTo>
                    <a:lnTo>
                      <a:pt x="85" y="20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12080" y="1084320"/>
                <a:ext cx="262080" cy="34920"/>
              </a:xfrm>
              <a:custGeom>
                <a:avLst/>
                <a:gdLst/>
                <a:ahLst/>
                <a:rect l="l" t="t" r="r" b="b"/>
                <a:pathLst>
                  <a:path w="165" h="22">
                    <a:moveTo>
                      <a:pt x="0" y="0"/>
                    </a:moveTo>
                    <a:lnTo>
                      <a:pt x="146" y="0"/>
                    </a:lnTo>
                    <a:lnTo>
                      <a:pt x="146" y="2"/>
                    </a:lnTo>
                    <a:lnTo>
                      <a:pt x="148" y="4"/>
                    </a:lnTo>
                    <a:lnTo>
                      <a:pt x="148" y="6"/>
                    </a:lnTo>
                    <a:lnTo>
                      <a:pt x="150" y="6"/>
                    </a:lnTo>
                    <a:lnTo>
                      <a:pt x="150" y="8"/>
                    </a:lnTo>
                    <a:lnTo>
                      <a:pt x="152" y="9"/>
                    </a:lnTo>
                    <a:lnTo>
                      <a:pt x="152" y="11"/>
                    </a:lnTo>
                    <a:lnTo>
                      <a:pt x="154" y="11"/>
                    </a:lnTo>
                    <a:lnTo>
                      <a:pt x="154" y="13"/>
                    </a:lnTo>
                    <a:lnTo>
                      <a:pt x="156" y="15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9"/>
                    </a:lnTo>
                    <a:lnTo>
                      <a:pt x="160" y="20"/>
                    </a:lnTo>
                    <a:lnTo>
                      <a:pt x="161" y="21"/>
                    </a:lnTo>
                    <a:lnTo>
                      <a:pt x="164" y="21"/>
                    </a:lnTo>
                    <a:lnTo>
                      <a:pt x="161" y="21"/>
                    </a:lnTo>
                    <a:lnTo>
                      <a:pt x="156" y="21"/>
                    </a:lnTo>
                    <a:lnTo>
                      <a:pt x="148" y="21"/>
                    </a:lnTo>
                    <a:lnTo>
                      <a:pt x="137" y="21"/>
                    </a:lnTo>
                    <a:lnTo>
                      <a:pt x="124" y="21"/>
                    </a:lnTo>
                    <a:lnTo>
                      <a:pt x="110" y="21"/>
                    </a:lnTo>
                    <a:lnTo>
                      <a:pt x="95" y="21"/>
                    </a:lnTo>
                    <a:lnTo>
                      <a:pt x="81" y="21"/>
                    </a:lnTo>
                    <a:lnTo>
                      <a:pt x="65" y="21"/>
                    </a:lnTo>
                    <a:lnTo>
                      <a:pt x="51" y="21"/>
                    </a:lnTo>
                    <a:lnTo>
                      <a:pt x="37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6" y="21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72680" y="1084320"/>
                <a:ext cx="91800" cy="3492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7" y="21"/>
                    </a:moveTo>
                    <a:lnTo>
                      <a:pt x="57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8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442440" y="1149480"/>
                <a:ext cx="87480" cy="36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4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172440" y="1149480"/>
                <a:ext cx="88920" cy="3636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55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296280" y="1149480"/>
                <a:ext cx="109800" cy="3780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61" y="23"/>
                    </a:moveTo>
                    <a:lnTo>
                      <a:pt x="61" y="23"/>
                    </a:lnTo>
                    <a:lnTo>
                      <a:pt x="61" y="23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4" y="12"/>
                    </a:lnTo>
                    <a:lnTo>
                      <a:pt x="64" y="11"/>
                    </a:lnTo>
                    <a:lnTo>
                      <a:pt x="64" y="9"/>
                    </a:lnTo>
                    <a:lnTo>
                      <a:pt x="64" y="7"/>
                    </a:lnTo>
                    <a:lnTo>
                      <a:pt x="66" y="5"/>
                    </a:lnTo>
                    <a:lnTo>
                      <a:pt x="66" y="4"/>
                    </a:lnTo>
                    <a:lnTo>
                      <a:pt x="67" y="2"/>
                    </a:lnTo>
                    <a:lnTo>
                      <a:pt x="67" y="1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4" y="23"/>
                    </a:lnTo>
                    <a:lnTo>
                      <a:pt x="28" y="23"/>
                    </a:lnTo>
                    <a:lnTo>
                      <a:pt x="34" y="23"/>
                    </a:lnTo>
                    <a:lnTo>
                      <a:pt x="38" y="23"/>
                    </a:lnTo>
                    <a:lnTo>
                      <a:pt x="43" y="23"/>
                    </a:lnTo>
                    <a:lnTo>
                      <a:pt x="47" y="23"/>
                    </a:lnTo>
                    <a:lnTo>
                      <a:pt x="51" y="23"/>
                    </a:lnTo>
                    <a:lnTo>
                      <a:pt x="54" y="23"/>
                    </a:lnTo>
                    <a:lnTo>
                      <a:pt x="58" y="23"/>
                    </a:lnTo>
                    <a:lnTo>
                      <a:pt x="59" y="23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1" y="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12080" y="1149480"/>
                <a:ext cx="93960" cy="378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0" y="22"/>
                    </a:move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8" y="15"/>
                    </a:lnTo>
                    <a:lnTo>
                      <a:pt x="58" y="17"/>
                    </a:lnTo>
                    <a:lnTo>
                      <a:pt x="58" y="19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57" y="22"/>
                    </a:lnTo>
                    <a:lnTo>
                      <a:pt x="54" y="22"/>
                    </a:lnTo>
                    <a:lnTo>
                      <a:pt x="51" y="22"/>
                    </a:lnTo>
                    <a:lnTo>
                      <a:pt x="49" y="22"/>
                    </a:lnTo>
                    <a:lnTo>
                      <a:pt x="43" y="22"/>
                    </a:lnTo>
                    <a:lnTo>
                      <a:pt x="38" y="22"/>
                    </a:lnTo>
                    <a:lnTo>
                      <a:pt x="33" y="22"/>
                    </a:lnTo>
                    <a:lnTo>
                      <a:pt x="29" y="22"/>
                    </a:lnTo>
                    <a:lnTo>
                      <a:pt x="23" y="22"/>
                    </a:lnTo>
                    <a:lnTo>
                      <a:pt x="18" y="22"/>
                    </a:lnTo>
                    <a:lnTo>
                      <a:pt x="12" y="22"/>
                    </a:lnTo>
                    <a:lnTo>
                      <a:pt x="9" y="22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993160" y="1149480"/>
                <a:ext cx="96840" cy="3780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58" y="0"/>
                    </a:moveTo>
                    <a:lnTo>
                      <a:pt x="58" y="2"/>
                    </a:lnTo>
                    <a:lnTo>
                      <a:pt x="58" y="4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6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20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60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572680" y="1149480"/>
                <a:ext cx="9180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7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442440" y="1214280"/>
                <a:ext cx="147600" cy="36720"/>
              </a:xfrm>
              <a:custGeom>
                <a:avLst/>
                <a:gdLst/>
                <a:ahLst/>
                <a:rect l="l" t="t" r="r" b="b"/>
                <a:pathLst>
                  <a:path w="93" h="23">
                    <a:moveTo>
                      <a:pt x="92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112320" y="1214280"/>
                <a:ext cx="149040" cy="36720"/>
              </a:xfrm>
              <a:custGeom>
                <a:avLst/>
                <a:gdLst/>
                <a:ahLst/>
                <a:rect l="l" t="t" r="r" b="b"/>
                <a:pathLst>
                  <a:path w="94" h="23">
                    <a:moveTo>
                      <a:pt x="93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17160" y="1214280"/>
                <a:ext cx="68040" cy="3672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35" y="22"/>
                    </a:moveTo>
                    <a:lnTo>
                      <a:pt x="7" y="2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16880" y="1214280"/>
                <a:ext cx="209520" cy="36720"/>
              </a:xfrm>
              <a:custGeom>
                <a:avLst/>
                <a:gdLst/>
                <a:ahLst/>
                <a:rect l="l" t="t" r="r" b="b"/>
                <a:pathLst>
                  <a:path w="132" h="23">
                    <a:moveTo>
                      <a:pt x="0" y="0"/>
                    </a:moveTo>
                    <a:lnTo>
                      <a:pt x="0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1"/>
                    </a:lnTo>
                    <a:lnTo>
                      <a:pt x="131" y="20"/>
                    </a:lnTo>
                    <a:lnTo>
                      <a:pt x="131" y="19"/>
                    </a:lnTo>
                    <a:lnTo>
                      <a:pt x="131" y="17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31" y="11"/>
                    </a:lnTo>
                    <a:lnTo>
                      <a:pt x="131" y="10"/>
                    </a:lnTo>
                    <a:lnTo>
                      <a:pt x="131" y="8"/>
                    </a:lnTo>
                    <a:lnTo>
                      <a:pt x="131" y="6"/>
                    </a:lnTo>
                    <a:lnTo>
                      <a:pt x="131" y="4"/>
                    </a:lnTo>
                    <a:lnTo>
                      <a:pt x="131" y="4"/>
                    </a:lnTo>
                    <a:lnTo>
                      <a:pt x="131" y="2"/>
                    </a:lnTo>
                    <a:lnTo>
                      <a:pt x="131" y="1"/>
                    </a:lnTo>
                    <a:lnTo>
                      <a:pt x="131" y="0"/>
                    </a:lnTo>
                    <a:lnTo>
                      <a:pt x="129" y="0"/>
                    </a:lnTo>
                    <a:lnTo>
                      <a:pt x="124" y="0"/>
                    </a:lnTo>
                    <a:lnTo>
                      <a:pt x="118" y="0"/>
                    </a:lnTo>
                    <a:lnTo>
                      <a:pt x="110" y="0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40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751960" y="1214280"/>
                <a:ext cx="336600" cy="36720"/>
              </a:xfrm>
              <a:custGeom>
                <a:avLst/>
                <a:gdLst/>
                <a:ahLst/>
                <a:rect l="l" t="t" r="r" b="b"/>
                <a:pathLst>
                  <a:path w="212" h="23">
                    <a:moveTo>
                      <a:pt x="211" y="0"/>
                    </a:moveTo>
                    <a:lnTo>
                      <a:pt x="209" y="2"/>
                    </a:lnTo>
                    <a:lnTo>
                      <a:pt x="209" y="4"/>
                    </a:lnTo>
                    <a:lnTo>
                      <a:pt x="209" y="6"/>
                    </a:lnTo>
                    <a:lnTo>
                      <a:pt x="209" y="6"/>
                    </a:lnTo>
                    <a:lnTo>
                      <a:pt x="207" y="8"/>
                    </a:lnTo>
                    <a:lnTo>
                      <a:pt x="207" y="9"/>
                    </a:lnTo>
                    <a:lnTo>
                      <a:pt x="207" y="11"/>
                    </a:lnTo>
                    <a:lnTo>
                      <a:pt x="207" y="11"/>
                    </a:lnTo>
                    <a:lnTo>
                      <a:pt x="205" y="13"/>
                    </a:lnTo>
                    <a:lnTo>
                      <a:pt x="205" y="15"/>
                    </a:lnTo>
                    <a:lnTo>
                      <a:pt x="205" y="17"/>
                    </a:lnTo>
                    <a:lnTo>
                      <a:pt x="205" y="17"/>
                    </a:lnTo>
                    <a:lnTo>
                      <a:pt x="204" y="19"/>
                    </a:lnTo>
                    <a:lnTo>
                      <a:pt x="204" y="20"/>
                    </a:lnTo>
                    <a:lnTo>
                      <a:pt x="203" y="22"/>
                    </a:lnTo>
                    <a:lnTo>
                      <a:pt x="203" y="22"/>
                    </a:lnTo>
                    <a:lnTo>
                      <a:pt x="202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11" y="0"/>
                    </a:lnTo>
                    <a:lnTo>
                      <a:pt x="211" y="0"/>
                    </a:lnTo>
                    <a:lnTo>
                      <a:pt x="2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339120" y="127944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8" y="22"/>
                    </a:moveTo>
                    <a:lnTo>
                      <a:pt x="6" y="2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442440" y="1279440"/>
                <a:ext cx="147600" cy="36720"/>
              </a:xfrm>
              <a:custGeom>
                <a:avLst/>
                <a:gdLst/>
                <a:ahLst/>
                <a:rect l="l" t="t" r="r" b="b"/>
                <a:pathLst>
                  <a:path w="93" h="23">
                    <a:moveTo>
                      <a:pt x="92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51960" y="1279440"/>
                <a:ext cx="303120" cy="36720"/>
              </a:xfrm>
              <a:custGeom>
                <a:avLst/>
                <a:gdLst/>
                <a:ahLst/>
                <a:rect l="l" t="t" r="r" b="b"/>
                <a:pathLst>
                  <a:path w="191" h="23">
                    <a:moveTo>
                      <a:pt x="0" y="2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60" y="0"/>
                    </a:lnTo>
                    <a:lnTo>
                      <a:pt x="76" y="0"/>
                    </a:lnTo>
                    <a:lnTo>
                      <a:pt x="95" y="0"/>
                    </a:lnTo>
                    <a:lnTo>
                      <a:pt x="111" y="0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9" y="0"/>
                    </a:lnTo>
                    <a:lnTo>
                      <a:pt x="171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0"/>
                    </a:lnTo>
                    <a:lnTo>
                      <a:pt x="175" y="12"/>
                    </a:lnTo>
                    <a:lnTo>
                      <a:pt x="173" y="14"/>
                    </a:lnTo>
                    <a:lnTo>
                      <a:pt x="169" y="16"/>
                    </a:lnTo>
                    <a:lnTo>
                      <a:pt x="167" y="17"/>
                    </a:lnTo>
                    <a:lnTo>
                      <a:pt x="163" y="19"/>
                    </a:lnTo>
                    <a:lnTo>
                      <a:pt x="160" y="19"/>
                    </a:lnTo>
                    <a:lnTo>
                      <a:pt x="156" y="21"/>
                    </a:lnTo>
                    <a:lnTo>
                      <a:pt x="154" y="21"/>
                    </a:lnTo>
                    <a:lnTo>
                      <a:pt x="150" y="22"/>
                    </a:lnTo>
                    <a:lnTo>
                      <a:pt x="147" y="22"/>
                    </a:lnTo>
                    <a:lnTo>
                      <a:pt x="143" y="22"/>
                    </a:lnTo>
                    <a:lnTo>
                      <a:pt x="141" y="22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112320" y="1279440"/>
                <a:ext cx="149040" cy="36720"/>
              </a:xfrm>
              <a:custGeom>
                <a:avLst/>
                <a:gdLst/>
                <a:ahLst/>
                <a:rect l="l" t="t" r="r" b="b"/>
                <a:pathLst>
                  <a:path w="94" h="23">
                    <a:moveTo>
                      <a:pt x="93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516880" y="1279440"/>
                <a:ext cx="209520" cy="36720"/>
              </a:xfrm>
              <a:custGeom>
                <a:avLst/>
                <a:gdLst/>
                <a:ahLst/>
                <a:rect l="l" t="t" r="r" b="b"/>
                <a:pathLst>
                  <a:path w="132" h="23">
                    <a:moveTo>
                      <a:pt x="131" y="0"/>
                    </a:moveTo>
                    <a:lnTo>
                      <a:pt x="131" y="1"/>
                    </a:lnTo>
                    <a:lnTo>
                      <a:pt x="131" y="2"/>
                    </a:lnTo>
                    <a:lnTo>
                      <a:pt x="131" y="4"/>
                    </a:lnTo>
                    <a:lnTo>
                      <a:pt x="131" y="5"/>
                    </a:lnTo>
                    <a:lnTo>
                      <a:pt x="131" y="6"/>
                    </a:lnTo>
                    <a:lnTo>
                      <a:pt x="131" y="8"/>
                    </a:lnTo>
                    <a:lnTo>
                      <a:pt x="131" y="10"/>
                    </a:lnTo>
                    <a:lnTo>
                      <a:pt x="131" y="12"/>
                    </a:lnTo>
                    <a:lnTo>
                      <a:pt x="131" y="13"/>
                    </a:lnTo>
                    <a:lnTo>
                      <a:pt x="131" y="15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29" y="22"/>
                    </a:lnTo>
                    <a:lnTo>
                      <a:pt x="124" y="22"/>
                    </a:lnTo>
                    <a:lnTo>
                      <a:pt x="118" y="22"/>
                    </a:lnTo>
                    <a:lnTo>
                      <a:pt x="110" y="22"/>
                    </a:lnTo>
                    <a:lnTo>
                      <a:pt x="99" y="22"/>
                    </a:lnTo>
                    <a:lnTo>
                      <a:pt x="89" y="22"/>
                    </a:lnTo>
                    <a:lnTo>
                      <a:pt x="77" y="22"/>
                    </a:lnTo>
                    <a:lnTo>
                      <a:pt x="65" y="22"/>
                    </a:lnTo>
                    <a:lnTo>
                      <a:pt x="52" y="22"/>
                    </a:lnTo>
                    <a:lnTo>
                      <a:pt x="40" y="22"/>
                    </a:lnTo>
                    <a:lnTo>
                      <a:pt x="29" y="22"/>
                    </a:lnTo>
                    <a:lnTo>
                      <a:pt x="20" y="22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99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8000" y="3379680"/>
            <a:ext cx="2558880" cy="1341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00200" y="3319560"/>
            <a:ext cx="9347040" cy="14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eServer z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oday’s On Dem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0240" y="4908600"/>
            <a:ext cx="8173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000" spc="-1" strike="noStrike">
                <a:solidFill>
                  <a:srgbClr val="6181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499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502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31800" y="1842840"/>
            <a:ext cx="819792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Broad Range of Scalability Optimized to Meet High Performanc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8000" y="1308240"/>
            <a:ext cx="9951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Autonomic Systems that Sca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765440" y="2344680"/>
            <a:ext cx="7005600" cy="48736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5267160" y="3043080"/>
            <a:ext cx="330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oad range of sca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to 32-way S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Sysplex® Clus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Blad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lanced Design for High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estments in I/O, Memory, and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lar Design; Non disruptive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OD; On/Off Capacity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mized to meet the needs of on demand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23920" y="2585880"/>
            <a:ext cx="684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68760" y="6232680"/>
            <a:ext cx="1371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utonom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546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549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31800" y="1842840"/>
            <a:ext cx="819792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Security and high availability to build customer conf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8000" y="1308240"/>
            <a:ext cx="9951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Autonomic Systems that Sca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757520" y="2374920"/>
            <a:ext cx="7005600" cy="48243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5243400" y="2865600"/>
            <a:ext cx="32338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ability designed across server, operating system, and middle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n Time Between Failures measured in dec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ng system recoverability;  z/OS™, z/VM™, and Linux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s automation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stering for high availability; Parallel Sys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-Site Business Continuity Solutions; Capacity Backup and GDPS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urity designed to repel external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23920" y="2585880"/>
            <a:ext cx="684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68760" y="6232680"/>
            <a:ext cx="1371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utonom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593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596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Autonomic Systems that Sc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5320" y="1833480"/>
            <a:ext cx="8901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Automatic sense and respond capabilities for Fluid Management of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822320" y="2352600"/>
            <a:ext cx="7005600" cy="485784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023920" y="2585880"/>
            <a:ext cx="684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89480" y="2941560"/>
            <a:ext cx="33163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ynamic resource sharing across mixed application workl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load Manager (W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lligent Resource Director (I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to end prioritization of work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lligent load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itization by transaction type, user, time of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fficient server utilization drives low T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me-shift utilization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Main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-15% UNIX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-10%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91280" y="6621480"/>
            <a:ext cx="33829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* Source: IBM Scorpion Whitepaper: Simplifying the Corporate IT Infrastructu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68760" y="6232680"/>
            <a:ext cx="1371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utonom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641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644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1405080" y="2382840"/>
            <a:ext cx="7007040" cy="4824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378000" y="1307880"/>
            <a:ext cx="99518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Open Middleware and Integrated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320" y="1833480"/>
            <a:ext cx="8901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Seamless Integration and Maximum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89400" y="2571840"/>
            <a:ext cx="31528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pen Standard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mbracing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inux, WSDL, OGSA, XML, SO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pletely Common Middlewa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B2® V8 – 64-bit high performance data serv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bSphere® V5 utilizing z/OS to help integrate your business with the transaction processing qualities required to keep it running smoothl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dustry Solu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P, PeopleSoft, and Sie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solidation of UNIX and Microsoft® Windows® NT® databa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ility to handle large databases because of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2200" indent="-12060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"/>
              <a:tabLst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B2 exploitation of 64-bit z/Architecture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2200" indent="-12060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"/>
              <a:tabLst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current backup and reorgan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2200" indent="-12060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"/>
              <a:tabLst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ess physical DASD with IBM Enterprise Storage Server™ data compression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2200" indent="-12060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"/>
              <a:tabLst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lashCopy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gnificant thruput enhancements for Batch and on-line transaction proces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everage the best of all worlds with hybrid solutions using IBM eServer xSeries™, IBM eServer pSeries™, and Linux on zSe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79800" y="6202440"/>
            <a:ext cx="1699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Open Middle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nd Integr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82640" y="2595600"/>
            <a:ext cx="194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am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688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691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378000" y="1307880"/>
            <a:ext cx="995184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Multi-dimensional Virtual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6600" y="1808280"/>
            <a:ext cx="8940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Comprehensive Support for an Effective “Scale Out” Virtual Blad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700280" y="2354400"/>
            <a:ext cx="7007040" cy="48798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2023920" y="2585880"/>
            <a:ext cx="684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22600" y="6296040"/>
            <a:ext cx="15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ulti-Dimens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irtual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83200" y="2922480"/>
            <a:ext cx="3460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lication Support Dimen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ux Distribution Partners – SuSE, Red 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range of Linux management and ISV application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ypervisor Dimen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unlimited partition granu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 sharing and device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up to 100s of virtual servers from single code base – update o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erv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tion and Data isolation 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loyment in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rdware Dimen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namic Logical Partitions – no fixed  boundaries (sub engin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s and Channel Subsystems to enable server conso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735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738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Multi-dimensional Virtual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0120" y="1793880"/>
            <a:ext cx="8953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Efficient, Cost Effective Consolidation a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1784520" y="2421000"/>
            <a:ext cx="7005600" cy="48099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2023920" y="2585880"/>
            <a:ext cx="35848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Farms and Linux Virtual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22600" y="6296040"/>
            <a:ext cx="15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ulti-Dimens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irtual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41960" y="3110040"/>
            <a:ext cx="318924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conso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 servers conso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l processor-based, file, proxy, firewall, D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ributed applications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154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–"/>
              <a:tabLst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X based, Sendmail, Ora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h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 hosting, messaging, e-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lication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olidation of middle tier UNIX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rage z/OS data server back-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ies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782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785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08200" y="2440080"/>
            <a:ext cx="7005600" cy="45417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599760" y="1793880"/>
            <a:ext cx="895356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More Choices to Meet Challenging Business De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78000" y="1308240"/>
            <a:ext cx="9951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Investment Flexibility for the On Deman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30680" y="3387600"/>
            <a:ext cx="372888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vestment Prot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serve previous investment when moving to new generations of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oice of Investment op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bcapacity pricing for software (WL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ariable pricing for traditional and new workloads with On/Off C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alue Unit Pricing and Entry Option for key e-business middle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prehensive and flexible "bottom line" solutions with Open Infrastructure Offerings (O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ncing flexibility with Total Usage Financing (TUF) from IG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960" indent="-18576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"/>
              <a:tabLst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GS Managed Hosting with Linux Virtual  Servi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ffff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mitment to lower TCO and continued price/performance improvemen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40160" y="2840040"/>
            <a:ext cx="98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122960" y="2865600"/>
            <a:ext cx="917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14680" y="5961240"/>
            <a:ext cx="8445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99200" y="5964120"/>
            <a:ext cx="917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56040" y="6696000"/>
            <a:ext cx="2805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RASTRUCTURE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21520" y="6696000"/>
            <a:ext cx="14558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077920" y="6696000"/>
            <a:ext cx="14558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1554120" y="6389280"/>
            <a:ext cx="850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1694520" y="2709000"/>
            <a:ext cx="57168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t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6200000">
            <a:off x="785880" y="4512960"/>
            <a:ext cx="24685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RASTRUCTURE OW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837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840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599760" y="1793880"/>
            <a:ext cx="895356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Outstanding versatility, efficiency, and resil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8000" y="1308240"/>
            <a:ext cx="9951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IBM eServer zSer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53240" y="3048120"/>
            <a:ext cx="243360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ility to “scale up” to support large data serving application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ut” using virtualization technology and Linux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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ntegrate your on demand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1338120" y="2421000"/>
            <a:ext cx="5253120" cy="430668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2068560" y="6218280"/>
            <a:ext cx="21225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ALE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6200000">
            <a:off x="950760" y="5111280"/>
            <a:ext cx="17319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AL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406600" y="5854680"/>
            <a:ext cx="3776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Virtual Blade Technology and Lin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782640" y="4271760"/>
            <a:ext cx="3041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Support Large Data Serving 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886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889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2077920" y="5275440"/>
            <a:ext cx="6423120" cy="209232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378000" y="1307880"/>
            <a:ext cx="9951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There are Profound Differences in Architecture and System Design that Distinguish zSeries as the server for today’s On Dem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49280" y="2797200"/>
            <a:ext cx="7526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g Iron retains lustre: Demand for hefty computing power is still healthy and innovations continue apace”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04000" y="3246480"/>
            <a:ext cx="2373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ncial Times; April 4th,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349280" y="3724200"/>
            <a:ext cx="7526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inframes are Still a Mainstay; …support for Linux, autonomic computing, and Capacity on Demand is attractive”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05680" y="4154400"/>
            <a:ext cx="3012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rmationWeek, October 21st , 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349280" y="4678200"/>
            <a:ext cx="7526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BM Service Will Test Vision of Computing Power as Utility”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205680" y="5008680"/>
            <a:ext cx="30128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l Street Journal, July 1, 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24160" y="5676840"/>
            <a:ext cx="247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Autonomic systems that sc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63920" y="6070680"/>
            <a:ext cx="2030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Multi-Dimensional Virtualiz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51160" y="6469200"/>
            <a:ext cx="2352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Open Middleware and Integrated solu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11680" y="6813720"/>
            <a:ext cx="29271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nvestment Flexib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2171880" y="826920"/>
            <a:ext cx="7418160" cy="5294520"/>
            <a:chOff x="2171880" y="826920"/>
            <a:chExt cx="7418160" cy="5294520"/>
          </a:xfrm>
        </p:grpSpPr>
        <p:sp>
          <p:nvSpPr>
            <p:cNvPr id="939" name=""/>
            <p:cNvSpPr/>
            <p:nvPr/>
          </p:nvSpPr>
          <p:spPr>
            <a:xfrm flipV="1">
              <a:off x="2173320" y="4952880"/>
              <a:ext cx="0" cy="116856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71880" y="1645920"/>
              <a:ext cx="0" cy="384120"/>
            </a:xfrm>
            <a:prstGeom prst="line">
              <a:avLst/>
            </a:prstGeom>
            <a:ln w="187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8516880" y="826920"/>
              <a:ext cx="1073160" cy="489240"/>
              <a:chOff x="8516880" y="826920"/>
              <a:chExt cx="1073160" cy="489240"/>
            </a:xfrm>
          </p:grpSpPr>
          <p:sp>
            <p:nvSpPr>
              <p:cNvPr id="942" name=""/>
              <p:cNvSpPr/>
              <p:nvPr/>
            </p:nvSpPr>
            <p:spPr>
              <a:xfrm>
                <a:off x="9408960" y="826920"/>
                <a:ext cx="18108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113" y="20"/>
                    </a:moveTo>
                    <a:lnTo>
                      <a:pt x="0" y="20"/>
                    </a:lnTo>
                    <a:lnTo>
                      <a:pt x="8" y="0"/>
                    </a:lnTo>
                    <a:lnTo>
                      <a:pt x="113" y="0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3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112320" y="826920"/>
                <a:ext cx="179280" cy="33480"/>
              </a:xfrm>
              <a:custGeom>
                <a:avLst/>
                <a:gdLst/>
                <a:ahLst/>
                <a:rect l="l" t="t" r="r" b="b"/>
                <a:pathLst>
                  <a:path w="113" h="21">
                    <a:moveTo>
                      <a:pt x="0" y="0"/>
                    </a:moveTo>
                    <a:lnTo>
                      <a:pt x="105" y="0"/>
                    </a:lnTo>
                    <a:lnTo>
                      <a:pt x="112" y="20"/>
                    </a:lnTo>
                    <a:lnTo>
                      <a:pt x="110" y="20"/>
                    </a:lnTo>
                    <a:lnTo>
                      <a:pt x="106" y="20"/>
                    </a:lnTo>
                    <a:lnTo>
                      <a:pt x="100" y="20"/>
                    </a:lnTo>
                    <a:lnTo>
                      <a:pt x="93" y="20"/>
                    </a:lnTo>
                    <a:lnTo>
                      <a:pt x="84" y="20"/>
                    </a:lnTo>
                    <a:lnTo>
                      <a:pt x="75" y="20"/>
                    </a:lnTo>
                    <a:lnTo>
                      <a:pt x="65" y="20"/>
                    </a:lnTo>
                    <a:lnTo>
                      <a:pt x="55" y="20"/>
                    </a:lnTo>
                    <a:lnTo>
                      <a:pt x="44" y="20"/>
                    </a:lnTo>
                    <a:lnTo>
                      <a:pt x="34" y="20"/>
                    </a:lnTo>
                    <a:lnTo>
                      <a:pt x="25" y="20"/>
                    </a:lnTo>
                    <a:lnTo>
                      <a:pt x="17" y="20"/>
                    </a:lnTo>
                    <a:lnTo>
                      <a:pt x="9" y="20"/>
                    </a:lnTo>
                    <a:lnTo>
                      <a:pt x="4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751960" y="826920"/>
                <a:ext cx="301680" cy="33480"/>
              </a:xfrm>
              <a:custGeom>
                <a:avLst/>
                <a:gdLst/>
                <a:ahLst/>
                <a:rect l="l" t="t" r="r" b="b"/>
                <a:pathLst>
                  <a:path w="190" h="21">
                    <a:moveTo>
                      <a:pt x="144" y="0"/>
                    </a:moveTo>
                    <a:lnTo>
                      <a:pt x="146" y="2"/>
                    </a:lnTo>
                    <a:lnTo>
                      <a:pt x="150" y="2"/>
                    </a:lnTo>
                    <a:lnTo>
                      <a:pt x="152" y="2"/>
                    </a:lnTo>
                    <a:lnTo>
                      <a:pt x="156" y="2"/>
                    </a:lnTo>
                    <a:lnTo>
                      <a:pt x="158" y="4"/>
                    </a:lnTo>
                    <a:lnTo>
                      <a:pt x="162" y="4"/>
                    </a:lnTo>
                    <a:lnTo>
                      <a:pt x="164" y="6"/>
                    </a:lnTo>
                    <a:lnTo>
                      <a:pt x="168" y="6"/>
                    </a:lnTo>
                    <a:lnTo>
                      <a:pt x="170" y="8"/>
                    </a:lnTo>
                    <a:lnTo>
                      <a:pt x="172" y="10"/>
                    </a:lnTo>
                    <a:lnTo>
                      <a:pt x="175" y="12"/>
                    </a:lnTo>
                    <a:lnTo>
                      <a:pt x="178" y="13"/>
                    </a:lnTo>
                    <a:lnTo>
                      <a:pt x="180" y="15"/>
                    </a:lnTo>
                    <a:lnTo>
                      <a:pt x="183" y="17"/>
                    </a:lnTo>
                    <a:lnTo>
                      <a:pt x="185" y="19"/>
                    </a:lnTo>
                    <a:lnTo>
                      <a:pt x="189" y="20"/>
                    </a:lnTo>
                    <a:lnTo>
                      <a:pt x="186" y="20"/>
                    </a:lnTo>
                    <a:lnTo>
                      <a:pt x="180" y="20"/>
                    </a:lnTo>
                    <a:lnTo>
                      <a:pt x="171" y="20"/>
                    </a:lnTo>
                    <a:lnTo>
                      <a:pt x="159" y="20"/>
                    </a:lnTo>
                    <a:lnTo>
                      <a:pt x="144" y="20"/>
                    </a:lnTo>
                    <a:lnTo>
                      <a:pt x="129" y="20"/>
                    </a:lnTo>
                    <a:lnTo>
                      <a:pt x="111" y="20"/>
                    </a:lnTo>
                    <a:lnTo>
                      <a:pt x="95" y="20"/>
                    </a:lnTo>
                    <a:lnTo>
                      <a:pt x="76" y="20"/>
                    </a:lnTo>
                    <a:lnTo>
                      <a:pt x="60" y="20"/>
                    </a:lnTo>
                    <a:lnTo>
                      <a:pt x="43" y="20"/>
                    </a:lnTo>
                    <a:lnTo>
                      <a:pt x="29" y="20"/>
                    </a:lnTo>
                    <a:lnTo>
                      <a:pt x="16" y="20"/>
                    </a:lnTo>
                    <a:lnTo>
                      <a:pt x="8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516880" y="826920"/>
                <a:ext cx="209520" cy="33480"/>
              </a:xfrm>
              <a:custGeom>
                <a:avLst/>
                <a:gdLst/>
                <a:ahLst/>
                <a:rect l="l" t="t" r="r" b="b"/>
                <a:pathLst>
                  <a:path w="132" h="21">
                    <a:moveTo>
                      <a:pt x="131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31" y="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390240" y="888840"/>
                <a:ext cx="199800" cy="36720"/>
              </a:xfrm>
              <a:custGeom>
                <a:avLst/>
                <a:gdLst/>
                <a:ahLst/>
                <a:rect l="l" t="t" r="r" b="b"/>
                <a:pathLst>
                  <a:path w="126" h="23">
                    <a:moveTo>
                      <a:pt x="125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25" y="0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9112320" y="888840"/>
                <a:ext cx="199800" cy="36720"/>
              </a:xfrm>
              <a:custGeom>
                <a:avLst/>
                <a:gdLst/>
                <a:ahLst/>
                <a:rect l="l" t="t" r="r" b="b"/>
                <a:pathLst>
                  <a:path w="126" h="23">
                    <a:moveTo>
                      <a:pt x="125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751960" y="888840"/>
                <a:ext cx="334800" cy="36720"/>
              </a:xfrm>
              <a:custGeom>
                <a:avLst/>
                <a:gdLst/>
                <a:ahLst/>
                <a:rect l="l" t="t" r="r" b="b"/>
                <a:pathLst>
                  <a:path w="211" h="23">
                    <a:moveTo>
                      <a:pt x="204" y="0"/>
                    </a:moveTo>
                    <a:lnTo>
                      <a:pt x="204" y="2"/>
                    </a:lnTo>
                    <a:lnTo>
                      <a:pt x="204" y="4"/>
                    </a:lnTo>
                    <a:lnTo>
                      <a:pt x="204" y="6"/>
                    </a:lnTo>
                    <a:lnTo>
                      <a:pt x="205" y="6"/>
                    </a:lnTo>
                    <a:lnTo>
                      <a:pt x="205" y="8"/>
                    </a:lnTo>
                    <a:lnTo>
                      <a:pt x="205" y="10"/>
                    </a:lnTo>
                    <a:lnTo>
                      <a:pt x="205" y="12"/>
                    </a:lnTo>
                    <a:lnTo>
                      <a:pt x="207" y="12"/>
                    </a:lnTo>
                    <a:lnTo>
                      <a:pt x="207" y="14"/>
                    </a:lnTo>
                    <a:lnTo>
                      <a:pt x="207" y="16"/>
                    </a:lnTo>
                    <a:lnTo>
                      <a:pt x="207" y="18"/>
                    </a:lnTo>
                    <a:lnTo>
                      <a:pt x="208" y="18"/>
                    </a:lnTo>
                    <a:lnTo>
                      <a:pt x="208" y="20"/>
                    </a:lnTo>
                    <a:lnTo>
                      <a:pt x="208" y="21"/>
                    </a:lnTo>
                    <a:lnTo>
                      <a:pt x="208" y="22"/>
                    </a:lnTo>
                    <a:lnTo>
                      <a:pt x="21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516880" y="888840"/>
                <a:ext cx="209520" cy="36720"/>
              </a:xfrm>
              <a:custGeom>
                <a:avLst/>
                <a:gdLst/>
                <a:ahLst/>
                <a:rect l="l" t="t" r="r" b="b"/>
                <a:pathLst>
                  <a:path w="132" h="23">
                    <a:moveTo>
                      <a:pt x="131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31" y="0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9369360" y="957240"/>
                <a:ext cx="160560" cy="34920"/>
              </a:xfrm>
              <a:custGeom>
                <a:avLst/>
                <a:gdLst/>
                <a:ahLst/>
                <a:rect l="l" t="t" r="r" b="b"/>
                <a:pathLst>
                  <a:path w="101" h="22">
                    <a:moveTo>
                      <a:pt x="0" y="21"/>
                    </a:moveTo>
                    <a:lnTo>
                      <a:pt x="7" y="0"/>
                    </a:lnTo>
                    <a:lnTo>
                      <a:pt x="100" y="0"/>
                    </a:lnTo>
                    <a:lnTo>
                      <a:pt x="10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9172440" y="957240"/>
                <a:ext cx="160560" cy="34920"/>
              </a:xfrm>
              <a:custGeom>
                <a:avLst/>
                <a:gdLst/>
                <a:ahLst/>
                <a:rect l="l" t="t" r="r" b="b"/>
                <a:pathLst>
                  <a:path w="101" h="22">
                    <a:moveTo>
                      <a:pt x="92" y="0"/>
                    </a:moveTo>
                    <a:lnTo>
                      <a:pt x="10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991720" y="95580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60" y="0"/>
                    </a:moveTo>
                    <a:lnTo>
                      <a:pt x="59" y="2"/>
                    </a:lnTo>
                    <a:lnTo>
                      <a:pt x="59" y="4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572680" y="957240"/>
                <a:ext cx="91800" cy="3492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7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812080" y="95580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7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9172440" y="1019160"/>
                <a:ext cx="357480" cy="36360"/>
              </a:xfrm>
              <a:custGeom>
                <a:avLst/>
                <a:gdLst/>
                <a:ahLst/>
                <a:rect l="l" t="t" r="r" b="b"/>
                <a:pathLst>
                  <a:path w="225" h="23">
                    <a:moveTo>
                      <a:pt x="55" y="6"/>
                    </a:moveTo>
                    <a:lnTo>
                      <a:pt x="55" y="7"/>
                    </a:lnTo>
                    <a:lnTo>
                      <a:pt x="55" y="7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7"/>
                    </a:lnTo>
                    <a:lnTo>
                      <a:pt x="55" y="19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12" y="21"/>
                    </a:lnTo>
                    <a:lnTo>
                      <a:pt x="112" y="21"/>
                    </a:lnTo>
                    <a:lnTo>
                      <a:pt x="112" y="21"/>
                    </a:lnTo>
                    <a:lnTo>
                      <a:pt x="112" y="20"/>
                    </a:lnTo>
                    <a:lnTo>
                      <a:pt x="113" y="18"/>
                    </a:lnTo>
                    <a:lnTo>
                      <a:pt x="113" y="17"/>
                    </a:lnTo>
                    <a:lnTo>
                      <a:pt x="113" y="14"/>
                    </a:lnTo>
                    <a:lnTo>
                      <a:pt x="113" y="13"/>
                    </a:lnTo>
                    <a:lnTo>
                      <a:pt x="115" y="11"/>
                    </a:lnTo>
                    <a:lnTo>
                      <a:pt x="115" y="9"/>
                    </a:lnTo>
                    <a:lnTo>
                      <a:pt x="115" y="7"/>
                    </a:lnTo>
                    <a:lnTo>
                      <a:pt x="115" y="6"/>
                    </a:lnTo>
                    <a:lnTo>
                      <a:pt x="116" y="3"/>
                    </a:lnTo>
                    <a:lnTo>
                      <a:pt x="116" y="3"/>
                    </a:lnTo>
                    <a:lnTo>
                      <a:pt x="116" y="1"/>
                    </a:lnTo>
                    <a:lnTo>
                      <a:pt x="116" y="1"/>
                    </a:lnTo>
                    <a:lnTo>
                      <a:pt x="118" y="0"/>
                    </a:lnTo>
                    <a:lnTo>
                      <a:pt x="224" y="0"/>
                    </a:lnTo>
                    <a:lnTo>
                      <a:pt x="224" y="22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0" y="21"/>
                    </a:lnTo>
                    <a:lnTo>
                      <a:pt x="170" y="21"/>
                    </a:lnTo>
                    <a:lnTo>
                      <a:pt x="170" y="19"/>
                    </a:lnTo>
                    <a:lnTo>
                      <a:pt x="170" y="17"/>
                    </a:lnTo>
                    <a:lnTo>
                      <a:pt x="170" y="14"/>
                    </a:lnTo>
                    <a:lnTo>
                      <a:pt x="170" y="14"/>
                    </a:lnTo>
                    <a:lnTo>
                      <a:pt x="170" y="13"/>
                    </a:lnTo>
                    <a:lnTo>
                      <a:pt x="170" y="11"/>
                    </a:lnTo>
                    <a:lnTo>
                      <a:pt x="170" y="9"/>
                    </a:lnTo>
                    <a:lnTo>
                      <a:pt x="170" y="9"/>
                    </a:lnTo>
                    <a:lnTo>
                      <a:pt x="170" y="7"/>
                    </a:lnTo>
                    <a:lnTo>
                      <a:pt x="170" y="7"/>
                    </a:lnTo>
                    <a:lnTo>
                      <a:pt x="170" y="6"/>
                    </a:lnTo>
                    <a:lnTo>
                      <a:pt x="164" y="22"/>
                    </a:lnTo>
                    <a:lnTo>
                      <a:pt x="60" y="22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812080" y="1019160"/>
                <a:ext cx="258840" cy="3636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0"/>
                    </a:moveTo>
                    <a:lnTo>
                      <a:pt x="162" y="0"/>
                    </a:lnTo>
                    <a:lnTo>
                      <a:pt x="162" y="0"/>
                    </a:lnTo>
                    <a:lnTo>
                      <a:pt x="160" y="2"/>
                    </a:lnTo>
                    <a:lnTo>
                      <a:pt x="160" y="4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56" y="8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52" y="14"/>
                    </a:lnTo>
                    <a:lnTo>
                      <a:pt x="152" y="16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8" y="20"/>
                    </a:lnTo>
                    <a:lnTo>
                      <a:pt x="148" y="21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44" y="22"/>
                    </a:lnTo>
                    <a:lnTo>
                      <a:pt x="139" y="22"/>
                    </a:lnTo>
                    <a:lnTo>
                      <a:pt x="131" y="22"/>
                    </a:lnTo>
                    <a:lnTo>
                      <a:pt x="123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85" y="22"/>
                    </a:lnTo>
                    <a:lnTo>
                      <a:pt x="72" y="22"/>
                    </a:lnTo>
                    <a:lnTo>
                      <a:pt x="58" y="22"/>
                    </a:lnTo>
                    <a:lnTo>
                      <a:pt x="44" y="22"/>
                    </a:lnTo>
                    <a:lnTo>
                      <a:pt x="32" y="22"/>
                    </a:lnTo>
                    <a:lnTo>
                      <a:pt x="22" y="22"/>
                    </a:lnTo>
                    <a:lnTo>
                      <a:pt x="12" y="22"/>
                    </a:lnTo>
                    <a:lnTo>
                      <a:pt x="5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572680" y="1019160"/>
                <a:ext cx="9180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7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9442440" y="1084320"/>
                <a:ext cx="87480" cy="349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54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172440" y="1084320"/>
                <a:ext cx="88920" cy="3492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55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7" y="21"/>
                    </a:lnTo>
                    <a:lnTo>
                      <a:pt x="31" y="21"/>
                    </a:lnTo>
                    <a:lnTo>
                      <a:pt x="36" y="21"/>
                    </a:lnTo>
                    <a:lnTo>
                      <a:pt x="40" y="21"/>
                    </a:lnTo>
                    <a:lnTo>
                      <a:pt x="46" y="21"/>
                    </a:lnTo>
                    <a:lnTo>
                      <a:pt x="48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0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8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9279000" y="1084320"/>
                <a:ext cx="146160" cy="3492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1" y="0"/>
                    </a:moveTo>
                    <a:lnTo>
                      <a:pt x="89" y="2"/>
                    </a:lnTo>
                    <a:lnTo>
                      <a:pt x="89" y="2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8" y="6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88" y="11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6" y="17"/>
                    </a:lnTo>
                    <a:lnTo>
                      <a:pt x="86" y="18"/>
                    </a:lnTo>
                    <a:lnTo>
                      <a:pt x="85" y="20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812080" y="1084320"/>
                <a:ext cx="262080" cy="34920"/>
              </a:xfrm>
              <a:custGeom>
                <a:avLst/>
                <a:gdLst/>
                <a:ahLst/>
                <a:rect l="l" t="t" r="r" b="b"/>
                <a:pathLst>
                  <a:path w="165" h="22">
                    <a:moveTo>
                      <a:pt x="0" y="0"/>
                    </a:moveTo>
                    <a:lnTo>
                      <a:pt x="146" y="0"/>
                    </a:lnTo>
                    <a:lnTo>
                      <a:pt x="146" y="2"/>
                    </a:lnTo>
                    <a:lnTo>
                      <a:pt x="148" y="4"/>
                    </a:lnTo>
                    <a:lnTo>
                      <a:pt x="148" y="6"/>
                    </a:lnTo>
                    <a:lnTo>
                      <a:pt x="150" y="6"/>
                    </a:lnTo>
                    <a:lnTo>
                      <a:pt x="150" y="8"/>
                    </a:lnTo>
                    <a:lnTo>
                      <a:pt x="152" y="9"/>
                    </a:lnTo>
                    <a:lnTo>
                      <a:pt x="152" y="11"/>
                    </a:lnTo>
                    <a:lnTo>
                      <a:pt x="154" y="11"/>
                    </a:lnTo>
                    <a:lnTo>
                      <a:pt x="154" y="13"/>
                    </a:lnTo>
                    <a:lnTo>
                      <a:pt x="156" y="15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9"/>
                    </a:lnTo>
                    <a:lnTo>
                      <a:pt x="160" y="20"/>
                    </a:lnTo>
                    <a:lnTo>
                      <a:pt x="161" y="21"/>
                    </a:lnTo>
                    <a:lnTo>
                      <a:pt x="164" y="21"/>
                    </a:lnTo>
                    <a:lnTo>
                      <a:pt x="161" y="21"/>
                    </a:lnTo>
                    <a:lnTo>
                      <a:pt x="156" y="21"/>
                    </a:lnTo>
                    <a:lnTo>
                      <a:pt x="148" y="21"/>
                    </a:lnTo>
                    <a:lnTo>
                      <a:pt x="137" y="21"/>
                    </a:lnTo>
                    <a:lnTo>
                      <a:pt x="124" y="21"/>
                    </a:lnTo>
                    <a:lnTo>
                      <a:pt x="110" y="21"/>
                    </a:lnTo>
                    <a:lnTo>
                      <a:pt x="95" y="21"/>
                    </a:lnTo>
                    <a:lnTo>
                      <a:pt x="81" y="21"/>
                    </a:lnTo>
                    <a:lnTo>
                      <a:pt x="65" y="21"/>
                    </a:lnTo>
                    <a:lnTo>
                      <a:pt x="51" y="21"/>
                    </a:lnTo>
                    <a:lnTo>
                      <a:pt x="37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6" y="21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572680" y="1084320"/>
                <a:ext cx="91800" cy="3492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7" y="21"/>
                    </a:moveTo>
                    <a:lnTo>
                      <a:pt x="57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8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9442440" y="1149480"/>
                <a:ext cx="87480" cy="36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4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9172440" y="1149480"/>
                <a:ext cx="88920" cy="3636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55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9296280" y="1149480"/>
                <a:ext cx="109800" cy="3780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61" y="23"/>
                    </a:moveTo>
                    <a:lnTo>
                      <a:pt x="61" y="23"/>
                    </a:lnTo>
                    <a:lnTo>
                      <a:pt x="61" y="23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4" y="12"/>
                    </a:lnTo>
                    <a:lnTo>
                      <a:pt x="64" y="11"/>
                    </a:lnTo>
                    <a:lnTo>
                      <a:pt x="64" y="9"/>
                    </a:lnTo>
                    <a:lnTo>
                      <a:pt x="64" y="7"/>
                    </a:lnTo>
                    <a:lnTo>
                      <a:pt x="66" y="5"/>
                    </a:lnTo>
                    <a:lnTo>
                      <a:pt x="66" y="4"/>
                    </a:lnTo>
                    <a:lnTo>
                      <a:pt x="67" y="2"/>
                    </a:lnTo>
                    <a:lnTo>
                      <a:pt x="67" y="1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4" y="23"/>
                    </a:lnTo>
                    <a:lnTo>
                      <a:pt x="28" y="23"/>
                    </a:lnTo>
                    <a:lnTo>
                      <a:pt x="34" y="23"/>
                    </a:lnTo>
                    <a:lnTo>
                      <a:pt x="38" y="23"/>
                    </a:lnTo>
                    <a:lnTo>
                      <a:pt x="43" y="23"/>
                    </a:lnTo>
                    <a:lnTo>
                      <a:pt x="47" y="23"/>
                    </a:lnTo>
                    <a:lnTo>
                      <a:pt x="51" y="23"/>
                    </a:lnTo>
                    <a:lnTo>
                      <a:pt x="54" y="23"/>
                    </a:lnTo>
                    <a:lnTo>
                      <a:pt x="58" y="23"/>
                    </a:lnTo>
                    <a:lnTo>
                      <a:pt x="59" y="23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1" y="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812080" y="1149480"/>
                <a:ext cx="93960" cy="378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0" y="22"/>
                    </a:move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8" y="15"/>
                    </a:lnTo>
                    <a:lnTo>
                      <a:pt x="58" y="17"/>
                    </a:lnTo>
                    <a:lnTo>
                      <a:pt x="58" y="19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57" y="22"/>
                    </a:lnTo>
                    <a:lnTo>
                      <a:pt x="54" y="22"/>
                    </a:lnTo>
                    <a:lnTo>
                      <a:pt x="51" y="22"/>
                    </a:lnTo>
                    <a:lnTo>
                      <a:pt x="49" y="22"/>
                    </a:lnTo>
                    <a:lnTo>
                      <a:pt x="43" y="22"/>
                    </a:lnTo>
                    <a:lnTo>
                      <a:pt x="38" y="22"/>
                    </a:lnTo>
                    <a:lnTo>
                      <a:pt x="33" y="22"/>
                    </a:lnTo>
                    <a:lnTo>
                      <a:pt x="29" y="22"/>
                    </a:lnTo>
                    <a:lnTo>
                      <a:pt x="23" y="22"/>
                    </a:lnTo>
                    <a:lnTo>
                      <a:pt x="18" y="22"/>
                    </a:lnTo>
                    <a:lnTo>
                      <a:pt x="12" y="22"/>
                    </a:lnTo>
                    <a:lnTo>
                      <a:pt x="9" y="22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993160" y="1149480"/>
                <a:ext cx="96840" cy="3780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58" y="0"/>
                    </a:moveTo>
                    <a:lnTo>
                      <a:pt x="58" y="2"/>
                    </a:lnTo>
                    <a:lnTo>
                      <a:pt x="58" y="4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6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20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60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572680" y="1149480"/>
                <a:ext cx="9180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7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9442440" y="1214280"/>
                <a:ext cx="147600" cy="36720"/>
              </a:xfrm>
              <a:custGeom>
                <a:avLst/>
                <a:gdLst/>
                <a:ahLst/>
                <a:rect l="l" t="t" r="r" b="b"/>
                <a:pathLst>
                  <a:path w="93" h="23">
                    <a:moveTo>
                      <a:pt x="92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9112320" y="1214280"/>
                <a:ext cx="149040" cy="36720"/>
              </a:xfrm>
              <a:custGeom>
                <a:avLst/>
                <a:gdLst/>
                <a:ahLst/>
                <a:rect l="l" t="t" r="r" b="b"/>
                <a:pathLst>
                  <a:path w="94" h="23">
                    <a:moveTo>
                      <a:pt x="93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9317160" y="1214280"/>
                <a:ext cx="68040" cy="3672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35" y="22"/>
                    </a:moveTo>
                    <a:lnTo>
                      <a:pt x="7" y="2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516880" y="1214280"/>
                <a:ext cx="209520" cy="36720"/>
              </a:xfrm>
              <a:custGeom>
                <a:avLst/>
                <a:gdLst/>
                <a:ahLst/>
                <a:rect l="l" t="t" r="r" b="b"/>
                <a:pathLst>
                  <a:path w="132" h="23">
                    <a:moveTo>
                      <a:pt x="0" y="0"/>
                    </a:moveTo>
                    <a:lnTo>
                      <a:pt x="0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1"/>
                    </a:lnTo>
                    <a:lnTo>
                      <a:pt x="131" y="20"/>
                    </a:lnTo>
                    <a:lnTo>
                      <a:pt x="131" y="19"/>
                    </a:lnTo>
                    <a:lnTo>
                      <a:pt x="131" y="17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31" y="11"/>
                    </a:lnTo>
                    <a:lnTo>
                      <a:pt x="131" y="10"/>
                    </a:lnTo>
                    <a:lnTo>
                      <a:pt x="131" y="8"/>
                    </a:lnTo>
                    <a:lnTo>
                      <a:pt x="131" y="6"/>
                    </a:lnTo>
                    <a:lnTo>
                      <a:pt x="131" y="4"/>
                    </a:lnTo>
                    <a:lnTo>
                      <a:pt x="131" y="4"/>
                    </a:lnTo>
                    <a:lnTo>
                      <a:pt x="131" y="2"/>
                    </a:lnTo>
                    <a:lnTo>
                      <a:pt x="131" y="1"/>
                    </a:lnTo>
                    <a:lnTo>
                      <a:pt x="131" y="0"/>
                    </a:lnTo>
                    <a:lnTo>
                      <a:pt x="129" y="0"/>
                    </a:lnTo>
                    <a:lnTo>
                      <a:pt x="124" y="0"/>
                    </a:lnTo>
                    <a:lnTo>
                      <a:pt x="118" y="0"/>
                    </a:lnTo>
                    <a:lnTo>
                      <a:pt x="110" y="0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40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751960" y="1214280"/>
                <a:ext cx="336600" cy="36720"/>
              </a:xfrm>
              <a:custGeom>
                <a:avLst/>
                <a:gdLst/>
                <a:ahLst/>
                <a:rect l="l" t="t" r="r" b="b"/>
                <a:pathLst>
                  <a:path w="212" h="23">
                    <a:moveTo>
                      <a:pt x="211" y="0"/>
                    </a:moveTo>
                    <a:lnTo>
                      <a:pt x="209" y="2"/>
                    </a:lnTo>
                    <a:lnTo>
                      <a:pt x="209" y="4"/>
                    </a:lnTo>
                    <a:lnTo>
                      <a:pt x="209" y="6"/>
                    </a:lnTo>
                    <a:lnTo>
                      <a:pt x="209" y="6"/>
                    </a:lnTo>
                    <a:lnTo>
                      <a:pt x="207" y="8"/>
                    </a:lnTo>
                    <a:lnTo>
                      <a:pt x="207" y="9"/>
                    </a:lnTo>
                    <a:lnTo>
                      <a:pt x="207" y="11"/>
                    </a:lnTo>
                    <a:lnTo>
                      <a:pt x="207" y="11"/>
                    </a:lnTo>
                    <a:lnTo>
                      <a:pt x="205" y="13"/>
                    </a:lnTo>
                    <a:lnTo>
                      <a:pt x="205" y="15"/>
                    </a:lnTo>
                    <a:lnTo>
                      <a:pt x="205" y="17"/>
                    </a:lnTo>
                    <a:lnTo>
                      <a:pt x="205" y="17"/>
                    </a:lnTo>
                    <a:lnTo>
                      <a:pt x="204" y="19"/>
                    </a:lnTo>
                    <a:lnTo>
                      <a:pt x="204" y="20"/>
                    </a:lnTo>
                    <a:lnTo>
                      <a:pt x="203" y="22"/>
                    </a:lnTo>
                    <a:lnTo>
                      <a:pt x="203" y="22"/>
                    </a:lnTo>
                    <a:lnTo>
                      <a:pt x="202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11" y="0"/>
                    </a:lnTo>
                    <a:lnTo>
                      <a:pt x="211" y="0"/>
                    </a:lnTo>
                    <a:lnTo>
                      <a:pt x="2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9339120" y="127944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8" y="22"/>
                    </a:moveTo>
                    <a:lnTo>
                      <a:pt x="6" y="2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9442440" y="1279440"/>
                <a:ext cx="147600" cy="36720"/>
              </a:xfrm>
              <a:custGeom>
                <a:avLst/>
                <a:gdLst/>
                <a:ahLst/>
                <a:rect l="l" t="t" r="r" b="b"/>
                <a:pathLst>
                  <a:path w="93" h="23">
                    <a:moveTo>
                      <a:pt x="92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751960" y="1279440"/>
                <a:ext cx="303120" cy="36720"/>
              </a:xfrm>
              <a:custGeom>
                <a:avLst/>
                <a:gdLst/>
                <a:ahLst/>
                <a:rect l="l" t="t" r="r" b="b"/>
                <a:pathLst>
                  <a:path w="191" h="23">
                    <a:moveTo>
                      <a:pt x="0" y="2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60" y="0"/>
                    </a:lnTo>
                    <a:lnTo>
                      <a:pt x="76" y="0"/>
                    </a:lnTo>
                    <a:lnTo>
                      <a:pt x="95" y="0"/>
                    </a:lnTo>
                    <a:lnTo>
                      <a:pt x="111" y="0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9" y="0"/>
                    </a:lnTo>
                    <a:lnTo>
                      <a:pt x="171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0"/>
                    </a:lnTo>
                    <a:lnTo>
                      <a:pt x="175" y="12"/>
                    </a:lnTo>
                    <a:lnTo>
                      <a:pt x="173" y="14"/>
                    </a:lnTo>
                    <a:lnTo>
                      <a:pt x="169" y="16"/>
                    </a:lnTo>
                    <a:lnTo>
                      <a:pt x="167" y="17"/>
                    </a:lnTo>
                    <a:lnTo>
                      <a:pt x="163" y="19"/>
                    </a:lnTo>
                    <a:lnTo>
                      <a:pt x="160" y="19"/>
                    </a:lnTo>
                    <a:lnTo>
                      <a:pt x="156" y="21"/>
                    </a:lnTo>
                    <a:lnTo>
                      <a:pt x="154" y="21"/>
                    </a:lnTo>
                    <a:lnTo>
                      <a:pt x="150" y="22"/>
                    </a:lnTo>
                    <a:lnTo>
                      <a:pt x="147" y="22"/>
                    </a:lnTo>
                    <a:lnTo>
                      <a:pt x="143" y="22"/>
                    </a:lnTo>
                    <a:lnTo>
                      <a:pt x="141" y="22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9112320" y="1279440"/>
                <a:ext cx="149040" cy="36720"/>
              </a:xfrm>
              <a:custGeom>
                <a:avLst/>
                <a:gdLst/>
                <a:ahLst/>
                <a:rect l="l" t="t" r="r" b="b"/>
                <a:pathLst>
                  <a:path w="94" h="23">
                    <a:moveTo>
                      <a:pt x="93" y="2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516880" y="1279440"/>
                <a:ext cx="209520" cy="36720"/>
              </a:xfrm>
              <a:custGeom>
                <a:avLst/>
                <a:gdLst/>
                <a:ahLst/>
                <a:rect l="l" t="t" r="r" b="b"/>
                <a:pathLst>
                  <a:path w="132" h="23">
                    <a:moveTo>
                      <a:pt x="131" y="0"/>
                    </a:moveTo>
                    <a:lnTo>
                      <a:pt x="131" y="1"/>
                    </a:lnTo>
                    <a:lnTo>
                      <a:pt x="131" y="2"/>
                    </a:lnTo>
                    <a:lnTo>
                      <a:pt x="131" y="4"/>
                    </a:lnTo>
                    <a:lnTo>
                      <a:pt x="131" y="5"/>
                    </a:lnTo>
                    <a:lnTo>
                      <a:pt x="131" y="6"/>
                    </a:lnTo>
                    <a:lnTo>
                      <a:pt x="131" y="8"/>
                    </a:lnTo>
                    <a:lnTo>
                      <a:pt x="131" y="10"/>
                    </a:lnTo>
                    <a:lnTo>
                      <a:pt x="131" y="12"/>
                    </a:lnTo>
                    <a:lnTo>
                      <a:pt x="131" y="13"/>
                    </a:lnTo>
                    <a:lnTo>
                      <a:pt x="131" y="15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29" y="22"/>
                    </a:lnTo>
                    <a:lnTo>
                      <a:pt x="124" y="22"/>
                    </a:lnTo>
                    <a:lnTo>
                      <a:pt x="118" y="22"/>
                    </a:lnTo>
                    <a:lnTo>
                      <a:pt x="110" y="22"/>
                    </a:lnTo>
                    <a:lnTo>
                      <a:pt x="99" y="22"/>
                    </a:lnTo>
                    <a:lnTo>
                      <a:pt x="89" y="22"/>
                    </a:lnTo>
                    <a:lnTo>
                      <a:pt x="77" y="22"/>
                    </a:lnTo>
                    <a:lnTo>
                      <a:pt x="65" y="22"/>
                    </a:lnTo>
                    <a:lnTo>
                      <a:pt x="52" y="22"/>
                    </a:lnTo>
                    <a:lnTo>
                      <a:pt x="40" y="22"/>
                    </a:lnTo>
                    <a:lnTo>
                      <a:pt x="29" y="22"/>
                    </a:lnTo>
                    <a:lnTo>
                      <a:pt x="20" y="22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99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108000" y="3379680"/>
            <a:ext cx="2558880" cy="13417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700200" y="3319560"/>
            <a:ext cx="9347040" cy="14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eServer z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oday’s On Dem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70240" y="4908600"/>
            <a:ext cx="8173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000" spc="-1" strike="noStrike">
                <a:solidFill>
                  <a:srgbClr val="6181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93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96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1751040" y="496800"/>
            <a:ext cx="0" cy="258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480" y="2241360"/>
            <a:ext cx="265752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B2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business on de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erprise Storage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DPS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M Business Partner logo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M e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M logo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2255760"/>
            <a:ext cx="2658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llel Sysplex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e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Sphere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Se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/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/V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e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137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140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An On Deman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3760" y="1984320"/>
            <a:ext cx="80708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500" spc="-1" strike="noStrike">
                <a:solidFill>
                  <a:srgbClr val="6181ff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6181ff"/>
                </a:solidFill>
                <a:latin typeface="Arial"/>
              </a:rPr>
              <a:t>An enterprise whose business processes – integrated end-to-end across the company and with key partners, suppliers and customers – can respond with speed to any customer demand, market opportunity or external threat”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85080" y="2809800"/>
            <a:ext cx="23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Palmisano, Oct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30360" y="3219480"/>
            <a:ext cx="4670640" cy="3746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64040" y="3732120"/>
            <a:ext cx="950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ll business will become ON DEMAND to gain economic scale of large enterpri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64040" y="4767120"/>
            <a:ext cx="950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rge enterprises will deploy it to become as nimble and responsive as small busi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184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187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Stages of e-business on demand™ Ad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92160" y="2776680"/>
            <a:ext cx="2136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2280" y="2776680"/>
            <a:ext cx="2273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66000" y="2782800"/>
            <a:ext cx="223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824120" y="3151080"/>
            <a:ext cx="6421320" cy="33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230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233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And Our Customers are Res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633680" y="2243160"/>
            <a:ext cx="7034040" cy="4421160"/>
            <a:chOff x="1633680" y="2243160"/>
            <a:chExt cx="7034040" cy="442116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1633680" y="2243160"/>
              <a:ext cx="703404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128680" y="2503440"/>
              <a:ext cx="2186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2280" y="2495520"/>
              <a:ext cx="21700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ENTERPR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NTEG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78400" y="2486160"/>
              <a:ext cx="2159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ON DE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16120" y="6010200"/>
              <a:ext cx="1436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tal IT 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76760" y="5994360"/>
              <a:ext cx="14479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. Size 1,000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3240" y="5994360"/>
              <a:ext cx="1601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BM's TOP 400 Cu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280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283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89240" y="2297160"/>
            <a:ext cx="7007040" cy="4483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Changing Business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50960" y="3251160"/>
            <a:ext cx="51516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Increasing Business Model and Process complex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97160" y="4086360"/>
            <a:ext cx="31622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Increasing Workload Unpredict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08200" y="4935600"/>
            <a:ext cx="4276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Increased Alignment of Costs to Business Resul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6440" y="5707080"/>
            <a:ext cx="5018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Movement from Internal to External Foc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45680" y="3225960"/>
            <a:ext cx="1042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6181ff"/>
                </a:solidFill>
                <a:latin typeface="Arial"/>
              </a:rPr>
              <a:t>Foc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1280" y="4084560"/>
            <a:ext cx="1496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6181ff"/>
                </a:solidFill>
                <a:latin typeface="Arial"/>
              </a:rPr>
              <a:t>Respo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534520" y="4915080"/>
            <a:ext cx="1244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6181ff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35960" y="5692680"/>
            <a:ext cx="1071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6181ff"/>
                </a:solidFill>
                <a:latin typeface="Arial"/>
              </a:rPr>
              <a:t>Resi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37680" y="7683480"/>
            <a:ext cx="1638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332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335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271680" y="5514840"/>
            <a:ext cx="6423120" cy="1711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Scope of Business Requirements fo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958680" y="2096280"/>
            <a:ext cx="2210040" cy="351972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3519720"/>
              <a:gd name="textAreaBottom" fmla="*/ 3519720 h 3519720"/>
            </a:gdLst>
            <a:ahLst/>
            <a:rect l="textAreaLeft" t="textAreaTop" r="textAreaRight" b="textAreaBottom"/>
            <a:pathLst>
              <a:path w="21600" h="34398">
                <a:moveTo>
                  <a:pt x="0" y="0"/>
                </a:moveTo>
                <a:arcTo wR="0" hR="0" stAng="16200000" swAng="-5400000"/>
                <a:lnTo>
                  <a:pt x="0" y="34398"/>
                </a:lnTo>
                <a:arcTo wR="0" hR="0" stAng="10800000" swAng="-5400000"/>
                <a:lnTo>
                  <a:pt x="21600" y="3439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f6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30240" y="8061480"/>
            <a:ext cx="180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7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900" spc="-1" strike="noStrike">
                <a:solidFill>
                  <a:srgbClr val="e26200"/>
                </a:solidFill>
                <a:latin typeface="?l?r ?¾?©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65160" y="2103480"/>
            <a:ext cx="2306520" cy="5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7760" indent="-77760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6181ff"/>
                </a:solidFill>
                <a:latin typeface="Arial"/>
              </a:rPr>
              <a:t>End-to-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7760" indent="-77760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6181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65160" y="2697120"/>
            <a:ext cx="23065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7760" indent="-77760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6181ff"/>
                </a:solidFill>
                <a:latin typeface="Arial"/>
              </a:rPr>
              <a:t>Manag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65160" y="3289320"/>
            <a:ext cx="230652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7760" indent="-77760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6181ff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5160" y="4070520"/>
            <a:ext cx="23065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7760" indent="-77760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6181ff"/>
                </a:solidFill>
                <a:latin typeface="Arial"/>
              </a:rPr>
              <a:t>Downtime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129120" y="2096280"/>
            <a:ext cx="2209680" cy="3519720"/>
          </a:xfrm>
          <a:custGeom>
            <a:avLst/>
            <a:gdLst>
              <a:gd name="textAreaLeft" fmla="*/ 0 w 2209680"/>
              <a:gd name="textAreaRight" fmla="*/ 2210040 w 2209680"/>
              <a:gd name="textAreaTop" fmla="*/ -360 h 3519720"/>
              <a:gd name="textAreaBottom" fmla="*/ 3519720 h 3519720"/>
            </a:gdLst>
            <a:ahLst/>
            <a:rect l="textAreaLeft" t="textAreaTop" r="textAreaRight" b="textAreaBottom"/>
            <a:pathLst>
              <a:path w="21600" h="34404">
                <a:moveTo>
                  <a:pt x="0" y="0"/>
                </a:moveTo>
                <a:arcTo wR="0" hR="0" stAng="16200000" swAng="-5400000"/>
                <a:lnTo>
                  <a:pt x="0" y="34404"/>
                </a:lnTo>
                <a:arcTo wR="0" hR="0" stAng="10800000" swAng="-5400000"/>
                <a:lnTo>
                  <a:pt x="21600" y="3440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f6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35240" y="2103480"/>
            <a:ext cx="2306880" cy="5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r single busines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5240" y="2697120"/>
            <a:ext cx="230688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35240" y="3289320"/>
            <a:ext cx="23068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of single database o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35240" y="4070520"/>
            <a:ext cx="230688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re business process; lost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35240" y="4948200"/>
            <a:ext cx="230688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costs within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2160" y="2096280"/>
            <a:ext cx="2208240" cy="3519720"/>
          </a:xfrm>
          <a:custGeom>
            <a:avLst/>
            <a:gdLst>
              <a:gd name="textAreaLeft" fmla="*/ 0 w 2208240"/>
              <a:gd name="textAreaRight" fmla="*/ 2208600 w 2208240"/>
              <a:gd name="textAreaTop" fmla="*/ -360 h 3519720"/>
              <a:gd name="textAreaBottom" fmla="*/ 3519720 h 3519720"/>
            </a:gdLst>
            <a:ahLst/>
            <a:rect l="textAreaLeft" t="textAreaTop" r="textAreaRight" b="textAreaBottom"/>
            <a:pathLst>
              <a:path w="21600" h="34426">
                <a:moveTo>
                  <a:pt x="0" y="0"/>
                </a:moveTo>
                <a:arcTo wR="0" hR="0" stAng="16200000" swAng="-5400000"/>
                <a:lnTo>
                  <a:pt x="0" y="34426"/>
                </a:lnTo>
                <a:arcTo wR="0" hR="0" stAng="10800000" swAng="-5400000"/>
                <a:lnTo>
                  <a:pt x="21600" y="3442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f6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07200" y="2103480"/>
            <a:ext cx="2306520" cy="5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07200" y="2697120"/>
            <a:ext cx="23065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 systems management and conso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07200" y="3289320"/>
            <a:ext cx="230652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of integrated applications or databases; more dyna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07200" y="4070520"/>
            <a:ext cx="23065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business processes across enterprise; lost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07200" y="4948200"/>
            <a:ext cx="2306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d investment;    low T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688160" y="2096280"/>
            <a:ext cx="2210040" cy="351972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3519720"/>
              <a:gd name="textAreaBottom" fmla="*/ 3519720 h 3519720"/>
            </a:gdLst>
            <a:ahLst/>
            <a:rect l="textAreaLeft" t="textAreaTop" r="textAreaRight" b="textAreaBottom"/>
            <a:pathLst>
              <a:path w="21600" h="34398">
                <a:moveTo>
                  <a:pt x="0" y="0"/>
                </a:moveTo>
                <a:arcTo wR="0" hR="0" stAng="16200000" swAng="-5400000"/>
                <a:lnTo>
                  <a:pt x="0" y="34398"/>
                </a:lnTo>
                <a:arcTo wR="0" hR="0" stAng="10800000" swAng="-5400000"/>
                <a:lnTo>
                  <a:pt x="21600" y="3439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f6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2103480"/>
            <a:ext cx="2306880" cy="5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to all external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96080" y="2697120"/>
            <a:ext cx="230688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96080" y="3289320"/>
            <a:ext cx="23068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must scale across infrastructure dynamically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4070520"/>
            <a:ext cx="230688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entire infrastructure; Impact to revenue, customer satisfaction, and imag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96080" y="4948200"/>
            <a:ext cx="230688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6200" indent="-376200">
              <a:lnSpc>
                <a:spcPct val="100000"/>
              </a:lnSpc>
              <a:buClr>
                <a:srgbClr val="8080ff"/>
              </a:buClr>
              <a:buSzPct val="46000"/>
              <a:buFont typeface="Monotype Sorts" charset="2"/>
              <a:buChar char="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costs aligned to workload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399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402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78000" y="1308240"/>
            <a:ext cx="99518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As Your Business Becomes More Integ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8280" y="1852560"/>
            <a:ext cx="7377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i="1" lang="en-US" sz="1800" spc="-1" strike="noStrike">
                <a:solidFill>
                  <a:srgbClr val="8080ff"/>
                </a:solidFill>
                <a:latin typeface="Arial"/>
              </a:rPr>
              <a:t>Your IT Needs to be Integrated to Support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59000" y="2687760"/>
            <a:ext cx="5254560" cy="43862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389320" y="6672240"/>
            <a:ext cx="5217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-TO-END BUSINESS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2058120" y="5652360"/>
            <a:ext cx="11844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fe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8060000">
            <a:off x="2386800" y="4127760"/>
            <a:ext cx="1530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120000">
            <a:off x="3895560" y="2927520"/>
            <a:ext cx="1540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men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chan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3360000">
            <a:off x="5654160" y="3768840"/>
            <a:ext cx="1541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M /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5460000">
            <a:off x="6351480" y="5580000"/>
            <a:ext cx="1468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m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38440" y="6272280"/>
            <a:ext cx="14637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CALE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60000">
            <a:off x="3005640" y="5766480"/>
            <a:ext cx="12240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CALE 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751040" y="371520"/>
            <a:ext cx="8291520" cy="7250040"/>
            <a:chOff x="1751040" y="371520"/>
            <a:chExt cx="8291520" cy="7250040"/>
          </a:xfrm>
        </p:grpSpPr>
        <p:sp>
          <p:nvSpPr>
            <p:cNvPr id="451" name=""/>
            <p:cNvSpPr/>
            <p:nvPr/>
          </p:nvSpPr>
          <p:spPr>
            <a:xfrm>
              <a:off x="1751040" y="496800"/>
              <a:ext cx="0" cy="2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51040" y="7412040"/>
              <a:ext cx="0" cy="20952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9385200" y="371520"/>
              <a:ext cx="657360" cy="290520"/>
              <a:chOff x="9385200" y="371520"/>
              <a:chExt cx="657360" cy="290520"/>
            </a:xfrm>
          </p:grpSpPr>
          <p:sp>
            <p:nvSpPr>
              <p:cNvPr id="454" name=""/>
              <p:cNvSpPr/>
              <p:nvPr/>
            </p:nvSpPr>
            <p:spPr>
              <a:xfrm>
                <a:off x="9931320" y="3715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69" y="12"/>
                    </a:moveTo>
                    <a:lnTo>
                      <a:pt x="0" y="12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752040" y="37152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0"/>
                    </a:moveTo>
                    <a:lnTo>
                      <a:pt x="64" y="0"/>
                    </a:lnTo>
                    <a:lnTo>
                      <a:pt x="67" y="12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0" y="12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531360" y="371520"/>
                <a:ext cx="184320" cy="20520"/>
              </a:xfrm>
              <a:custGeom>
                <a:avLst/>
                <a:gdLst/>
                <a:ahLst/>
                <a:rect l="l" t="t" r="r" b="b"/>
                <a:pathLst>
                  <a:path w="116" h="13">
                    <a:moveTo>
                      <a:pt x="88" y="0"/>
                    </a:moveTo>
                    <a:lnTo>
                      <a:pt x="88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8"/>
                    </a:lnTo>
                    <a:lnTo>
                      <a:pt x="108" y="8"/>
                    </a:lnTo>
                    <a:lnTo>
                      <a:pt x="109" y="9"/>
                    </a:lnTo>
                    <a:lnTo>
                      <a:pt x="111" y="10"/>
                    </a:lnTo>
                    <a:lnTo>
                      <a:pt x="113" y="12"/>
                    </a:lnTo>
                    <a:lnTo>
                      <a:pt x="115" y="12"/>
                    </a:lnTo>
                    <a:lnTo>
                      <a:pt x="113" y="12"/>
                    </a:lnTo>
                    <a:lnTo>
                      <a:pt x="110" y="12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7" y="12"/>
                    </a:lnTo>
                    <a:lnTo>
                      <a:pt x="78" y="12"/>
                    </a:lnTo>
                    <a:lnTo>
                      <a:pt x="67" y="12"/>
                    </a:lnTo>
                    <a:lnTo>
                      <a:pt x="57" y="12"/>
                    </a:lnTo>
                    <a:lnTo>
                      <a:pt x="45" y="12"/>
                    </a:lnTo>
                    <a:lnTo>
                      <a:pt x="36" y="12"/>
                    </a:lnTo>
                    <a:lnTo>
                      <a:pt x="26" y="12"/>
                    </a:lnTo>
                    <a:lnTo>
                      <a:pt x="17" y="12"/>
                    </a:lnTo>
                    <a:lnTo>
                      <a:pt x="9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385200" y="37152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18720" y="40968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7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7" y="0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752040" y="4096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5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5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531360" y="409680"/>
                <a:ext cx="203040" cy="2052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4" y="0"/>
                    </a:moveTo>
                    <a:lnTo>
                      <a:pt x="124" y="2"/>
                    </a:lnTo>
                    <a:lnTo>
                      <a:pt x="124" y="2"/>
                    </a:lnTo>
                    <a:lnTo>
                      <a:pt x="124" y="4"/>
                    </a:lnTo>
                    <a:lnTo>
                      <a:pt x="124" y="4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27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385200" y="409680"/>
                <a:ext cx="130320" cy="205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07560" y="44784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13"/>
                    </a:moveTo>
                    <a:lnTo>
                      <a:pt x="5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786960" y="447840"/>
                <a:ext cx="100080" cy="219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7" y="0"/>
                    </a:move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677520" y="44784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423360" y="44784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567720" y="4478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786960" y="485640"/>
                <a:ext cx="21888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34" y="3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137" y="0"/>
                    </a:lnTo>
                    <a:lnTo>
                      <a:pt x="13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0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4" y="9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3"/>
                    </a:lnTo>
                    <a:lnTo>
                      <a:pt x="101" y="13"/>
                    </a:lnTo>
                    <a:lnTo>
                      <a:pt x="38" y="1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567720" y="48564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100" h="14">
                    <a:moveTo>
                      <a:pt x="0" y="0"/>
                    </a:moveTo>
                    <a:lnTo>
                      <a:pt x="99" y="0"/>
                    </a:lnTo>
                    <a:lnTo>
                      <a:pt x="99" y="0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44" y="13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19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423360" y="48564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952200" y="5238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786960" y="5238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8" y="13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852120" y="5238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5" y="0"/>
                    </a:moveTo>
                    <a:lnTo>
                      <a:pt x="54" y="1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5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567720" y="523800"/>
                <a:ext cx="160560" cy="2232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9"/>
                    </a:lnTo>
                    <a:lnTo>
                      <a:pt x="94" y="9"/>
                    </a:lnTo>
                    <a:lnTo>
                      <a:pt x="94" y="11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8" y="13"/>
                    </a:lnTo>
                    <a:lnTo>
                      <a:pt x="98" y="13"/>
                    </a:lnTo>
                    <a:lnTo>
                      <a:pt x="100" y="13"/>
                    </a:lnTo>
                    <a:lnTo>
                      <a:pt x="98" y="13"/>
                    </a:lnTo>
                    <a:lnTo>
                      <a:pt x="95" y="13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67" y="13"/>
                    </a:lnTo>
                    <a:lnTo>
                      <a:pt x="57" y="13"/>
                    </a:lnTo>
                    <a:lnTo>
                      <a:pt x="49" y="13"/>
                    </a:lnTo>
                    <a:lnTo>
                      <a:pt x="40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5" y="13"/>
                    </a:lnTo>
                    <a:lnTo>
                      <a:pt x="8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9423360" y="5238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9952200" y="563400"/>
                <a:ext cx="536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9786960" y="5634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4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863280" y="56340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36" y="13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567720" y="56340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677520" y="5634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423360" y="5634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95220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752040" y="60156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56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9875880" y="60156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2" y="12"/>
                    </a:moveTo>
                    <a:lnTo>
                      <a:pt x="5" y="12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9385200" y="601560"/>
                <a:ext cx="130320" cy="2088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0" y="0"/>
                    </a:moveTo>
                    <a:lnTo>
                      <a:pt x="0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8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531360" y="601560"/>
                <a:ext cx="203040" cy="20880"/>
              </a:xfrm>
              <a:custGeom>
                <a:avLst/>
                <a:gdLst/>
                <a:ahLst/>
                <a:rect l="l" t="t" r="r" b="b"/>
                <a:pathLst>
                  <a:path w="128" h="13">
                    <a:moveTo>
                      <a:pt x="127" y="0"/>
                    </a:moveTo>
                    <a:lnTo>
                      <a:pt x="126" y="2"/>
                    </a:lnTo>
                    <a:lnTo>
                      <a:pt x="126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7"/>
                    </a:lnTo>
                    <a:lnTo>
                      <a:pt x="126" y="7"/>
                    </a:lnTo>
                    <a:lnTo>
                      <a:pt x="124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10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9888480" y="6397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95220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9531360" y="639720"/>
                <a:ext cx="18576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0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4"/>
                    </a:lnTo>
                    <a:lnTo>
                      <a:pt x="110" y="6"/>
                    </a:lnTo>
                    <a:lnTo>
                      <a:pt x="108" y="7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3" y="10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7" y="13"/>
                    </a:lnTo>
                    <a:lnTo>
                      <a:pt x="95" y="13"/>
                    </a:lnTo>
                    <a:lnTo>
                      <a:pt x="93" y="13"/>
                    </a:lnTo>
                    <a:lnTo>
                      <a:pt x="92" y="13"/>
                    </a:lnTo>
                    <a:lnTo>
                      <a:pt x="89" y="13"/>
                    </a:lnTo>
                    <a:lnTo>
                      <a:pt x="87" y="13"/>
                    </a:lnTo>
                    <a:lnTo>
                      <a:pt x="86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752040" y="639720"/>
                <a:ext cx="90360" cy="2232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385200" y="63972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1" y="0"/>
                    </a:moveTo>
                    <a:lnTo>
                      <a:pt x="81" y="1"/>
                    </a:lnTo>
                    <a:lnTo>
                      <a:pt x="81" y="1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5"/>
                    </a:lnTo>
                    <a:lnTo>
                      <a:pt x="81" y="5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1" y="9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1" y="13"/>
                    </a:lnTo>
                    <a:lnTo>
                      <a:pt x="54" y="13"/>
                    </a:lnTo>
                    <a:lnTo>
                      <a:pt x="46" y="13"/>
                    </a:lnTo>
                    <a:lnTo>
                      <a:pt x="40" y="13"/>
                    </a:lnTo>
                    <a:lnTo>
                      <a:pt x="32" y="13"/>
                    </a:lnTo>
                    <a:lnTo>
                      <a:pt x="24" y="13"/>
                    </a:lnTo>
                    <a:lnTo>
                      <a:pt x="18" y="13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78000" y="1307880"/>
            <a:ext cx="99518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US" sz="2800" spc="-1" strike="noStrike">
                <a:solidFill>
                  <a:srgbClr val="6181ff"/>
                </a:solidFill>
                <a:latin typeface="Arial"/>
              </a:rPr>
              <a:t>There are Profound Differences in Architecture and System Design that Distinguish IBM eServer™ zSeries™ as the server for On Dem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163600" y="2951280"/>
            <a:ext cx="6266160" cy="3981240"/>
            <a:chOff x="2163600" y="2951280"/>
            <a:chExt cx="6266160" cy="398124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2163600" y="2951280"/>
              <a:ext cx="6266160" cy="39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3025800" y="3786120"/>
              <a:ext cx="473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</a:rPr>
                <a:t>Autonomic systems that sc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27360" y="4540320"/>
              <a:ext cx="3608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</a:rPr>
                <a:t>Multi-Dimensional Virtualiz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97080" y="5297400"/>
              <a:ext cx="4594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</a:rPr>
                <a:t>Open Middleware and Integrated solu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55840" y="6035760"/>
              <a:ext cx="4038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80960"/>
                  <a:tab algn="l" pos="961920"/>
                  <a:tab algn="l" pos="1442880"/>
                  <a:tab algn="l" pos="1924200"/>
                  <a:tab algn="l" pos="2405160"/>
                  <a:tab algn="l" pos="2886120"/>
                  <a:tab algn="l" pos="3367080"/>
                  <a:tab algn="l" pos="3848040"/>
                  <a:tab algn="l" pos="4329000"/>
                  <a:tab algn="l" pos="4809960"/>
                  <a:tab algn="l" pos="5291280"/>
                  <a:tab algn="l" pos="5772240"/>
                  <a:tab algn="l" pos="6253200"/>
                  <a:tab algn="l" pos="6734160"/>
                  <a:tab algn="l" pos="7215120"/>
                  <a:tab algn="l" pos="7696080"/>
                  <a:tab algn="l" pos="8177040"/>
                  <a:tab algn="l" pos="8658360"/>
                  <a:tab algn="l" pos="9139320"/>
                  <a:tab algn="l" pos="962028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</a:rPr>
                <a:t>Investment Flexibil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16:48:31Z</dcterms:created>
  <dc:creator>IBM_User</dc:creator>
  <dc:description/>
  <dc:language>en-US</dc:language>
  <cp:lastModifiedBy>IBM_User</cp:lastModifiedBy>
  <dcterms:modified xsi:type="dcterms:W3CDTF">2003-06-04T16:48:56Z</dcterms:modified>
  <cp:revision>1</cp:revision>
  <dc:subject/>
  <dc:title>PowerPoint Presentation</dc:title>
</cp:coreProperties>
</file>