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png" ContentType="image/png"/>
  <Override PartName="/ppt/media/image4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86328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920" y="4399200"/>
            <a:ext cx="86328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8920" y="439920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2600" y="439920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7800" y="205704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6680" y="205704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8920" y="439920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7800" y="439920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6680" y="439920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8920" y="2057040"/>
            <a:ext cx="86328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86328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8920" y="439920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58920" y="2057040"/>
            <a:ext cx="86328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82600" y="439920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920" y="4399200"/>
            <a:ext cx="86328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86328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920" y="4399200"/>
            <a:ext cx="86328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8920" y="439920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82600" y="439920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7800" y="205704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96680" y="205704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8920" y="439920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7800" y="439920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96680" y="4399200"/>
            <a:ext cx="277956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86328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8920" y="439920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2600" y="439920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2600" y="2057040"/>
            <a:ext cx="421272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920" y="4399200"/>
            <a:ext cx="8632800" cy="21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2057040"/>
            <a:ext cx="86328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8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6535800"/>
            <a:ext cx="52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2"/>
                </a:solidFill>
                <a:latin typeface="Arial"/>
              </a:rPr>
              <a:t>Alta Disponibilidade com CICS Web Support - SI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11240" y="646920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1800" y="3886200"/>
            <a:ext cx="5486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  <a:p>
            <a:pPr lvl="2" marL="914400" algn="ctr">
              <a:lnSpc>
                <a:spcPct val="120000"/>
              </a:lnSpc>
              <a:spcBef>
                <a:spcPts val="451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12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aixa.gov.br/_redirect/barra/r_index.asp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aixa.gov.br/_redirect/barra/r_index.asp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749760" y="2438280"/>
            <a:ext cx="857160" cy="1643040"/>
          </a:xfrm>
          <a:custGeom>
            <a:avLst/>
            <a:gdLst/>
            <a:ahLst/>
            <a:rect l="l" t="t" r="r" b="b"/>
            <a:pathLst>
              <a:path w="159" h="305">
                <a:moveTo>
                  <a:pt x="48" y="0"/>
                </a:moveTo>
                <a:lnTo>
                  <a:pt x="159" y="0"/>
                </a:lnTo>
                <a:lnTo>
                  <a:pt x="111" y="305"/>
                </a:lnTo>
                <a:lnTo>
                  <a:pt x="0" y="305"/>
                </a:lnTo>
                <a:lnTo>
                  <a:pt x="48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411280"/>
            <a:ext cx="1387440" cy="1692360"/>
          </a:xfrm>
          <a:custGeom>
            <a:avLst/>
            <a:gdLst/>
            <a:ahLst/>
            <a:rect l="l" t="t" r="r" b="b"/>
            <a:pathLst>
              <a:path w="258" h="314">
                <a:moveTo>
                  <a:pt x="243" y="129"/>
                </a:moveTo>
                <a:lnTo>
                  <a:pt x="238" y="122"/>
                </a:lnTo>
                <a:lnTo>
                  <a:pt x="231" y="117"/>
                </a:lnTo>
                <a:lnTo>
                  <a:pt x="224" y="111"/>
                </a:lnTo>
                <a:lnTo>
                  <a:pt x="217" y="107"/>
                </a:lnTo>
                <a:lnTo>
                  <a:pt x="209" y="103"/>
                </a:lnTo>
                <a:lnTo>
                  <a:pt x="201" y="101"/>
                </a:lnTo>
                <a:lnTo>
                  <a:pt x="192" y="98"/>
                </a:lnTo>
                <a:lnTo>
                  <a:pt x="183" y="98"/>
                </a:lnTo>
                <a:lnTo>
                  <a:pt x="171" y="99"/>
                </a:lnTo>
                <a:lnTo>
                  <a:pt x="158" y="102"/>
                </a:lnTo>
                <a:lnTo>
                  <a:pt x="148" y="107"/>
                </a:lnTo>
                <a:lnTo>
                  <a:pt x="138" y="115"/>
                </a:lnTo>
                <a:lnTo>
                  <a:pt x="129" y="123"/>
                </a:lnTo>
                <a:lnTo>
                  <a:pt x="122" y="134"/>
                </a:lnTo>
                <a:lnTo>
                  <a:pt x="117" y="145"/>
                </a:lnTo>
                <a:lnTo>
                  <a:pt x="113" y="157"/>
                </a:lnTo>
                <a:lnTo>
                  <a:pt x="113" y="169"/>
                </a:lnTo>
                <a:lnTo>
                  <a:pt x="115" y="180"/>
                </a:lnTo>
                <a:lnTo>
                  <a:pt x="120" y="190"/>
                </a:lnTo>
                <a:lnTo>
                  <a:pt x="125" y="200"/>
                </a:lnTo>
                <a:lnTo>
                  <a:pt x="133" y="206"/>
                </a:lnTo>
                <a:lnTo>
                  <a:pt x="144" y="212"/>
                </a:lnTo>
                <a:lnTo>
                  <a:pt x="154" y="214"/>
                </a:lnTo>
                <a:lnTo>
                  <a:pt x="166" y="216"/>
                </a:lnTo>
                <a:lnTo>
                  <a:pt x="176" y="216"/>
                </a:lnTo>
                <a:lnTo>
                  <a:pt x="184" y="214"/>
                </a:lnTo>
                <a:lnTo>
                  <a:pt x="193" y="212"/>
                </a:lnTo>
                <a:lnTo>
                  <a:pt x="201" y="209"/>
                </a:lnTo>
                <a:lnTo>
                  <a:pt x="209" y="205"/>
                </a:lnTo>
                <a:lnTo>
                  <a:pt x="217" y="200"/>
                </a:lnTo>
                <a:lnTo>
                  <a:pt x="226" y="194"/>
                </a:lnTo>
                <a:lnTo>
                  <a:pt x="234" y="188"/>
                </a:lnTo>
                <a:lnTo>
                  <a:pt x="212" y="302"/>
                </a:lnTo>
                <a:lnTo>
                  <a:pt x="204" y="304"/>
                </a:lnTo>
                <a:lnTo>
                  <a:pt x="195" y="307"/>
                </a:lnTo>
                <a:lnTo>
                  <a:pt x="184" y="310"/>
                </a:lnTo>
                <a:lnTo>
                  <a:pt x="172" y="311"/>
                </a:lnTo>
                <a:lnTo>
                  <a:pt x="161" y="312"/>
                </a:lnTo>
                <a:lnTo>
                  <a:pt x="150" y="314"/>
                </a:lnTo>
                <a:lnTo>
                  <a:pt x="140" y="314"/>
                </a:lnTo>
                <a:lnTo>
                  <a:pt x="132" y="314"/>
                </a:lnTo>
                <a:lnTo>
                  <a:pt x="115" y="312"/>
                </a:lnTo>
                <a:lnTo>
                  <a:pt x="101" y="311"/>
                </a:lnTo>
                <a:lnTo>
                  <a:pt x="86" y="307"/>
                </a:lnTo>
                <a:lnTo>
                  <a:pt x="73" y="302"/>
                </a:lnTo>
                <a:lnTo>
                  <a:pt x="60" y="295"/>
                </a:lnTo>
                <a:lnTo>
                  <a:pt x="48" y="288"/>
                </a:lnTo>
                <a:lnTo>
                  <a:pt x="39" y="279"/>
                </a:lnTo>
                <a:lnTo>
                  <a:pt x="30" y="269"/>
                </a:lnTo>
                <a:lnTo>
                  <a:pt x="22" y="259"/>
                </a:lnTo>
                <a:lnTo>
                  <a:pt x="13" y="247"/>
                </a:lnTo>
                <a:lnTo>
                  <a:pt x="8" y="233"/>
                </a:lnTo>
                <a:lnTo>
                  <a:pt x="4" y="220"/>
                </a:lnTo>
                <a:lnTo>
                  <a:pt x="1" y="206"/>
                </a:lnTo>
                <a:lnTo>
                  <a:pt x="0" y="192"/>
                </a:lnTo>
                <a:lnTo>
                  <a:pt x="0" y="176"/>
                </a:lnTo>
                <a:lnTo>
                  <a:pt x="1" y="160"/>
                </a:lnTo>
                <a:lnTo>
                  <a:pt x="5" y="143"/>
                </a:lnTo>
                <a:lnTo>
                  <a:pt x="9" y="127"/>
                </a:lnTo>
                <a:lnTo>
                  <a:pt x="16" y="113"/>
                </a:lnTo>
                <a:lnTo>
                  <a:pt x="24" y="98"/>
                </a:lnTo>
                <a:lnTo>
                  <a:pt x="32" y="83"/>
                </a:lnTo>
                <a:lnTo>
                  <a:pt x="43" y="70"/>
                </a:lnTo>
                <a:lnTo>
                  <a:pt x="54" y="58"/>
                </a:lnTo>
                <a:lnTo>
                  <a:pt x="66" y="47"/>
                </a:lnTo>
                <a:lnTo>
                  <a:pt x="78" y="36"/>
                </a:lnTo>
                <a:lnTo>
                  <a:pt x="93" y="27"/>
                </a:lnTo>
                <a:lnTo>
                  <a:pt x="106" y="19"/>
                </a:lnTo>
                <a:lnTo>
                  <a:pt x="122" y="12"/>
                </a:lnTo>
                <a:lnTo>
                  <a:pt x="137" y="7"/>
                </a:lnTo>
                <a:lnTo>
                  <a:pt x="153" y="3"/>
                </a:lnTo>
                <a:lnTo>
                  <a:pt x="169" y="1"/>
                </a:lnTo>
                <a:lnTo>
                  <a:pt x="187" y="0"/>
                </a:lnTo>
                <a:lnTo>
                  <a:pt x="196" y="0"/>
                </a:lnTo>
                <a:lnTo>
                  <a:pt x="205" y="1"/>
                </a:lnTo>
                <a:lnTo>
                  <a:pt x="213" y="1"/>
                </a:lnTo>
                <a:lnTo>
                  <a:pt x="223" y="3"/>
                </a:lnTo>
                <a:lnTo>
                  <a:pt x="232" y="5"/>
                </a:lnTo>
                <a:lnTo>
                  <a:pt x="242" y="7"/>
                </a:lnTo>
                <a:lnTo>
                  <a:pt x="250" y="9"/>
                </a:lnTo>
                <a:lnTo>
                  <a:pt x="258" y="12"/>
                </a:lnTo>
                <a:lnTo>
                  <a:pt x="243" y="12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6720" y="2438280"/>
            <a:ext cx="1819440" cy="1632240"/>
          </a:xfrm>
          <a:custGeom>
            <a:avLst/>
            <a:gdLst/>
            <a:ahLst/>
            <a:rect l="l" t="t" r="r" b="b"/>
            <a:pathLst>
              <a:path w="337" h="303">
                <a:moveTo>
                  <a:pt x="117" y="303"/>
                </a:moveTo>
                <a:lnTo>
                  <a:pt x="0" y="303"/>
                </a:lnTo>
                <a:lnTo>
                  <a:pt x="153" y="0"/>
                </a:lnTo>
                <a:lnTo>
                  <a:pt x="277" y="0"/>
                </a:lnTo>
                <a:lnTo>
                  <a:pt x="337" y="303"/>
                </a:lnTo>
                <a:lnTo>
                  <a:pt x="219" y="303"/>
                </a:lnTo>
                <a:lnTo>
                  <a:pt x="215" y="266"/>
                </a:lnTo>
                <a:lnTo>
                  <a:pt x="132" y="266"/>
                </a:lnTo>
                <a:lnTo>
                  <a:pt x="117" y="303"/>
                </a:lnTo>
                <a:close/>
                <a:moveTo>
                  <a:pt x="207" y="193"/>
                </a:moveTo>
                <a:lnTo>
                  <a:pt x="203" y="140"/>
                </a:lnTo>
                <a:lnTo>
                  <a:pt x="203" y="136"/>
                </a:lnTo>
                <a:lnTo>
                  <a:pt x="203" y="130"/>
                </a:lnTo>
                <a:lnTo>
                  <a:pt x="202" y="125"/>
                </a:lnTo>
                <a:lnTo>
                  <a:pt x="202" y="121"/>
                </a:lnTo>
                <a:lnTo>
                  <a:pt x="202" y="116"/>
                </a:lnTo>
                <a:lnTo>
                  <a:pt x="202" y="110"/>
                </a:lnTo>
                <a:lnTo>
                  <a:pt x="202" y="106"/>
                </a:lnTo>
                <a:lnTo>
                  <a:pt x="202" y="101"/>
                </a:lnTo>
                <a:lnTo>
                  <a:pt x="198" y="101"/>
                </a:lnTo>
                <a:lnTo>
                  <a:pt x="163" y="193"/>
                </a:lnTo>
                <a:lnTo>
                  <a:pt x="207" y="19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484520" y="2438280"/>
            <a:ext cx="2294640" cy="1641600"/>
            <a:chOff x="4484520" y="2438280"/>
            <a:chExt cx="2294640" cy="1641600"/>
          </a:xfrm>
        </p:grpSpPr>
        <p:sp>
          <p:nvSpPr>
            <p:cNvPr id="82" name=""/>
            <p:cNvSpPr/>
            <p:nvPr/>
          </p:nvSpPr>
          <p:spPr>
            <a:xfrm>
              <a:off x="5772240" y="2438280"/>
              <a:ext cx="1006920" cy="77328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6" y="144"/>
                  </a:moveTo>
                  <a:lnTo>
                    <a:pt x="187" y="0"/>
                  </a:lnTo>
                  <a:lnTo>
                    <a:pt x="53" y="2"/>
                  </a:lnTo>
                  <a:lnTo>
                    <a:pt x="0" y="53"/>
                  </a:lnTo>
                  <a:lnTo>
                    <a:pt x="46" y="14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20840" y="2449440"/>
              <a:ext cx="1100880" cy="762120"/>
            </a:xfrm>
            <a:custGeom>
              <a:avLst/>
              <a:gdLst/>
              <a:ahLst/>
              <a:rect l="l" t="t" r="r" b="b"/>
              <a:pathLst>
                <a:path w="204" h="142">
                  <a:moveTo>
                    <a:pt x="71" y="142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204" y="142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6480" y="3295440"/>
              <a:ext cx="883800" cy="773280"/>
            </a:xfrm>
            <a:custGeom>
              <a:avLst/>
              <a:gdLst/>
              <a:ahLst/>
              <a:rect l="l" t="t" r="r" b="b"/>
              <a:pathLst>
                <a:path w="164" h="144">
                  <a:moveTo>
                    <a:pt x="31" y="144"/>
                  </a:moveTo>
                  <a:lnTo>
                    <a:pt x="0" y="87"/>
                  </a:lnTo>
                  <a:lnTo>
                    <a:pt x="89" y="0"/>
                  </a:lnTo>
                  <a:lnTo>
                    <a:pt x="164" y="144"/>
                  </a:lnTo>
                  <a:lnTo>
                    <a:pt x="31" y="14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4520" y="3295440"/>
              <a:ext cx="1493280" cy="784440"/>
            </a:xfrm>
            <a:custGeom>
              <a:avLst/>
              <a:gdLst/>
              <a:ahLst/>
              <a:rect l="l" t="t" r="r" b="b"/>
              <a:pathLst>
                <a:path w="277" h="146">
                  <a:moveTo>
                    <a:pt x="131" y="146"/>
                  </a:moveTo>
                  <a:lnTo>
                    <a:pt x="277" y="0"/>
                  </a:lnTo>
                  <a:lnTo>
                    <a:pt x="144" y="0"/>
                  </a:lnTo>
                  <a:lnTo>
                    <a:pt x="0" y="146"/>
                  </a:lnTo>
                  <a:lnTo>
                    <a:pt x="131" y="14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86480" y="2438280"/>
            <a:ext cx="1819440" cy="1632240"/>
          </a:xfrm>
          <a:custGeom>
            <a:avLst/>
            <a:gdLst/>
            <a:ahLst/>
            <a:rect l="l" t="t" r="r" b="b"/>
            <a:pathLst>
              <a:path w="337" h="303">
                <a:moveTo>
                  <a:pt x="117" y="303"/>
                </a:moveTo>
                <a:lnTo>
                  <a:pt x="0" y="303"/>
                </a:lnTo>
                <a:lnTo>
                  <a:pt x="154" y="0"/>
                </a:lnTo>
                <a:lnTo>
                  <a:pt x="277" y="0"/>
                </a:lnTo>
                <a:lnTo>
                  <a:pt x="337" y="303"/>
                </a:lnTo>
                <a:lnTo>
                  <a:pt x="220" y="303"/>
                </a:lnTo>
                <a:lnTo>
                  <a:pt x="216" y="266"/>
                </a:lnTo>
                <a:lnTo>
                  <a:pt x="132" y="266"/>
                </a:lnTo>
                <a:lnTo>
                  <a:pt x="117" y="303"/>
                </a:lnTo>
                <a:close/>
                <a:moveTo>
                  <a:pt x="208" y="193"/>
                </a:moveTo>
                <a:lnTo>
                  <a:pt x="203" y="140"/>
                </a:lnTo>
                <a:lnTo>
                  <a:pt x="203" y="136"/>
                </a:lnTo>
                <a:lnTo>
                  <a:pt x="203" y="130"/>
                </a:lnTo>
                <a:lnTo>
                  <a:pt x="203" y="125"/>
                </a:lnTo>
                <a:lnTo>
                  <a:pt x="203" y="121"/>
                </a:lnTo>
                <a:lnTo>
                  <a:pt x="203" y="116"/>
                </a:lnTo>
                <a:lnTo>
                  <a:pt x="203" y="110"/>
                </a:lnTo>
                <a:lnTo>
                  <a:pt x="203" y="106"/>
                </a:lnTo>
                <a:lnTo>
                  <a:pt x="203" y="101"/>
                </a:lnTo>
                <a:lnTo>
                  <a:pt x="199" y="101"/>
                </a:lnTo>
                <a:lnTo>
                  <a:pt x="164" y="193"/>
                </a:lnTo>
                <a:lnTo>
                  <a:pt x="208" y="19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48657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eorgia"/>
              </a:rPr>
              <a:t>Aqui o Brasil acont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9800" y="3276720"/>
            <a:ext cx="806472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face via Terminal 3270 - </a:t>
            </a:r>
            <a:r>
              <a:rPr b="1" lang="pt-BR" sz="2600" spc="-1" strike="noStrike">
                <a:solidFill>
                  <a:srgbClr val="cc3300"/>
                </a:solidFill>
                <a:latin typeface="Arial"/>
              </a:rPr>
              <a:t>OK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face via Browser – Qual o melhor caminho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esso via uma máquina intermediária (Intel, Sun) responsável por montar as páginas HTML </a:t>
            </a:r>
            <a:r>
              <a:rPr b="1" i="1" lang="pt-BR" sz="2200" spc="-1" strike="noStrike">
                <a:solidFill>
                  <a:srgbClr val="ff33cc"/>
                </a:solidFill>
                <a:latin typeface="Arial"/>
              </a:rPr>
              <a:t>(EASY?)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e Web do CICS (CW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72640" y="16668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ção Tec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990720"/>
            <a:ext cx="2057400" cy="2057400"/>
            <a:chOff x="457200" y="990720"/>
            <a:chExt cx="2057400" cy="2057400"/>
          </a:xfrm>
        </p:grpSpPr>
        <p:sp>
          <p:nvSpPr>
            <p:cNvPr id="121" name=""/>
            <p:cNvSpPr/>
            <p:nvPr/>
          </p:nvSpPr>
          <p:spPr>
            <a:xfrm>
              <a:off x="457200" y="990720"/>
              <a:ext cx="2057400" cy="762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27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2286000"/>
              <a:ext cx="2057400" cy="762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E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90920" y="990720"/>
            <a:ext cx="2971800" cy="2057400"/>
            <a:chOff x="2590920" y="990720"/>
            <a:chExt cx="2971800" cy="2057400"/>
          </a:xfrm>
        </p:grpSpPr>
        <p:sp>
          <p:nvSpPr>
            <p:cNvPr id="124" name=""/>
            <p:cNvSpPr/>
            <p:nvPr/>
          </p:nvSpPr>
          <p:spPr>
            <a:xfrm>
              <a:off x="3733920" y="990720"/>
              <a:ext cx="1828800" cy="2057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ÓG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NEGÓ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OBOL/CIC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590920" y="1143000"/>
              <a:ext cx="990360" cy="1752840"/>
              <a:chOff x="2590920" y="1143000"/>
              <a:chExt cx="990360" cy="1752840"/>
            </a:xfrm>
          </p:grpSpPr>
          <p:sp>
            <p:nvSpPr>
              <p:cNvPr id="126" name=""/>
              <p:cNvSpPr/>
              <p:nvPr/>
            </p:nvSpPr>
            <p:spPr>
              <a:xfrm>
                <a:off x="2590920" y="2362320"/>
                <a:ext cx="990360" cy="533520"/>
              </a:xfrm>
              <a:prstGeom prst="leftRightArrow">
                <a:avLst>
                  <a:gd name="adj1" fmla="val 50000"/>
                  <a:gd name="adj2" fmla="val 369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90920" y="1143000"/>
                <a:ext cx="990360" cy="533520"/>
              </a:xfrm>
              <a:prstGeom prst="leftRightArrow">
                <a:avLst>
                  <a:gd name="adj1" fmla="val 50000"/>
                  <a:gd name="adj2" fmla="val 369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5638680" y="990720"/>
            <a:ext cx="2895840" cy="2057400"/>
            <a:chOff x="5638680" y="990720"/>
            <a:chExt cx="2895840" cy="2057400"/>
          </a:xfrm>
        </p:grpSpPr>
        <p:sp>
          <p:nvSpPr>
            <p:cNvPr id="129" name=""/>
            <p:cNvSpPr/>
            <p:nvPr/>
          </p:nvSpPr>
          <p:spPr>
            <a:xfrm>
              <a:off x="6705720" y="990720"/>
              <a:ext cx="1828800" cy="2057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B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38680" y="1752840"/>
              <a:ext cx="990720" cy="533160"/>
            </a:xfrm>
            <a:prstGeom prst="leftRightArrow">
              <a:avLst>
                <a:gd name="adj1" fmla="val 50000"/>
                <a:gd name="adj2" fmla="val 3699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28600" y="5791320"/>
            <a:ext cx="860436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da vez que você adiciona um elo na corrente, ela, no máximo, mantém sua resistência.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ôni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1066680"/>
            <a:ext cx="7920000" cy="49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 vantagens do Uso de CW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dade de Gerenciamento e Manuten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dade de Integr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dade de Desenvolvimento (Reaproveitamento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urança Centraliza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ção de Cust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ance e Escalabilidad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87560" y="16668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ICS Web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4589640"/>
            <a:ext cx="8604360" cy="1793520"/>
            <a:chOff x="228600" y="4589640"/>
            <a:chExt cx="8604360" cy="1793520"/>
          </a:xfrm>
        </p:grpSpPr>
        <p:sp>
          <p:nvSpPr>
            <p:cNvPr id="135" name=""/>
            <p:cNvSpPr/>
            <p:nvPr/>
          </p:nvSpPr>
          <p:spPr>
            <a:xfrm>
              <a:off x="228600" y="6014880"/>
              <a:ext cx="860436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ICS: Robustez, Escalabilidade e Performanc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6084720" y="4589640"/>
              <a:ext cx="2737080" cy="143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1571760"/>
            <a:ext cx="792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cesso ao CICS, via “Web”, está disponível desde o CICS/ESA V 4.1, com o nome de CICS Web Interf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ICS TS 1.3 introduziu uma interface de programação  (API) consistente que simplificava muito o tratamento de requisições HTT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a API, que é uma parte integrante do produto, permite o uso do suporte à “Web” oferecido pelo CICS (CW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87560" y="16668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ICS Web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5942160"/>
            <a:ext cx="82090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construa pontes onde não há rios”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o Tsé-Tung 1883-197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00200"/>
            <a:ext cx="7920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sa forma, o CICS passa a ter funcionalidades similares às de um servidor HTTP e de um servidor de aplic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so tornou possível o desenvolvimento de aplicações do tipo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endendo requisições HTTP e retornando HTML, PDF, XML, Applet, Flash, etc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ICS TS 1.3 também permite que aplicações Java sejam executadas numa JVM sobre CICS, proporcionando a integração do “legado” e a nova geração de aplicações num mesm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7560" y="16668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ICS Web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881680"/>
            <a:ext cx="82090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ocesse seus Dados onde Eles estão”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. Sall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87560" y="16668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ICS Web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8800" y="3809880"/>
            <a:ext cx="563868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O quê muda?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52480" y="1752480"/>
            <a:ext cx="56390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Como fazer isto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81920" y="16668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ICS Web Support - 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760" y="762120"/>
            <a:ext cx="4037040" cy="1142640"/>
            <a:chOff x="77760" y="762120"/>
            <a:chExt cx="4037040" cy="1142640"/>
          </a:xfrm>
        </p:grpSpPr>
        <p:grpSp>
          <p:nvGrpSpPr>
            <p:cNvPr id="148" name=""/>
            <p:cNvGrpSpPr/>
            <p:nvPr/>
          </p:nvGrpSpPr>
          <p:grpSpPr>
            <a:xfrm>
              <a:off x="1066680" y="914400"/>
              <a:ext cx="3048120" cy="990360"/>
              <a:chOff x="1066680" y="914400"/>
              <a:chExt cx="3048120" cy="990360"/>
            </a:xfrm>
          </p:grpSpPr>
          <p:sp>
            <p:nvSpPr>
              <p:cNvPr id="149" name=""/>
              <p:cNvSpPr/>
              <p:nvPr/>
            </p:nvSpPr>
            <p:spPr>
              <a:xfrm>
                <a:off x="1066680" y="914400"/>
                <a:ext cx="3048120" cy="990360"/>
              </a:xfrm>
              <a:prstGeom prst="foldedCorner">
                <a:avLst>
                  <a:gd name="adj" fmla="val 125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66680" y="115704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utuário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33360" y="1143000"/>
                <a:ext cx="18288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rcos Cés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7760" y="7621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320" y="1965240"/>
            <a:ext cx="8534160" cy="3819600"/>
            <a:chOff x="76320" y="1965240"/>
            <a:chExt cx="8534160" cy="3819600"/>
          </a:xfrm>
        </p:grpSpPr>
        <p:sp>
          <p:nvSpPr>
            <p:cNvPr id="154" name=""/>
            <p:cNvSpPr/>
            <p:nvPr/>
          </p:nvSpPr>
          <p:spPr>
            <a:xfrm>
              <a:off x="533520" y="2336760"/>
              <a:ext cx="8076960" cy="34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MOVE "TXTMUTUARIO"           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TO NOME-DO-CAMPO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MOVE 11 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                  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TO TAM-NOME-DO-CA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MOVE SPACES                  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TO CONTEUDO-DO-CA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MOVE LENGTH OF CONTEUDO-DO-CAMPO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TO TAM-CONTEUDO-DO-CA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EXEC CICS     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WEB R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	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FORMFIELD(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NOME-DO-CAMPO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)</a:t>
              </a: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	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NAMELENGTH(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TAM-NOME-DO-CAMPO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)</a:t>
              </a: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	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VALUE(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CONTEUDO-DO-CAMPO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)</a:t>
              </a: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	</a:t>
              </a:r>
              <a:r>
                <a:rPr b="0" lang="pt-BR" sz="2000" spc="-1" strike="noStrike">
                  <a:solidFill>
                    <a:srgbClr val="cc3300"/>
                  </a:solidFill>
                  <a:latin typeface="Arial Narrow"/>
                </a:rPr>
                <a:t>	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VALUELENGTH(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TAM-CONTEUDO-DO-CAMPO</a:t>
              </a:r>
              <a:r>
                <a:rPr b="1" lang="pt-BR" sz="2000" spc="-1" strike="noStrike">
                  <a:solidFill>
                    <a:srgbClr val="cc3300"/>
                  </a:solidFill>
                  <a:latin typeface="Arial Narrow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END-EXE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20" y="196524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191120" y="1219320"/>
            <a:ext cx="4597200" cy="3809880"/>
          </a:xfrm>
          <a:custGeom>
            <a:avLst/>
            <a:gdLst/>
            <a:ahLst/>
            <a:rect l="l" t="t" r="r" b="b"/>
            <a:pathLst>
              <a:path w="2896" h="2400">
                <a:moveTo>
                  <a:pt x="1008" y="2400"/>
                </a:moveTo>
                <a:cubicBezTo>
                  <a:pt x="1792" y="2288"/>
                  <a:pt x="2576" y="2176"/>
                  <a:pt x="2736" y="1824"/>
                </a:cubicBezTo>
                <a:cubicBezTo>
                  <a:pt x="2896" y="1472"/>
                  <a:pt x="2424" y="576"/>
                  <a:pt x="1968" y="288"/>
                </a:cubicBezTo>
                <a:cubicBezTo>
                  <a:pt x="1512" y="0"/>
                  <a:pt x="756" y="48"/>
                  <a:pt x="0" y="96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057400" y="990720"/>
            <a:ext cx="3884760" cy="685800"/>
            <a:chOff x="2057400" y="990720"/>
            <a:chExt cx="3884760" cy="685800"/>
          </a:xfrm>
        </p:grpSpPr>
        <p:sp>
          <p:nvSpPr>
            <p:cNvPr id="158" name=""/>
            <p:cNvSpPr/>
            <p:nvPr/>
          </p:nvSpPr>
          <p:spPr>
            <a:xfrm>
              <a:off x="2057400" y="1066680"/>
              <a:ext cx="205740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97160" y="99072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TXTMUT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81920" y="16668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ICS Web Support - 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5791320"/>
            <a:ext cx="82090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da vez que você adiciona um elo na corrente, ela, no máximo, mantém sua resistência.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ôni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914400"/>
            <a:ext cx="7920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PI oferece cerca de 20 novos comandos para tratamento de requisições 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programa típico só precisa usar quatro de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WEB READ  FORMFIEL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Lê o conteúdo de um campo de formulário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WEB WRITE HTTPHEAD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grava um campo/valor no cabeçalho HTTP. Ex.: Content-Type: text/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CUMENT CREA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Cria o documento (HTML, XML, PDF, imagem, etc) a ser devolvi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WEB SEN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Envia o documento para o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012000" y="1359000"/>
            <a:ext cx="2735280" cy="1800000"/>
            <a:chOff x="6012000" y="1359000"/>
            <a:chExt cx="2735280" cy="1800000"/>
          </a:xfrm>
        </p:grpSpPr>
        <p:sp>
          <p:nvSpPr>
            <p:cNvPr id="164" name=""/>
            <p:cNvSpPr/>
            <p:nvPr/>
          </p:nvSpPr>
          <p:spPr>
            <a:xfrm>
              <a:off x="7812000" y="2079360"/>
              <a:ext cx="935280" cy="36000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Analiz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12000" y="1359000"/>
              <a:ext cx="935280" cy="360000"/>
            </a:xfrm>
            <a:prstGeom prst="rect">
              <a:avLst/>
            </a:prstGeom>
            <a:noFill/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DFHCCN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heade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12000" y="2798640"/>
              <a:ext cx="935280" cy="360000"/>
            </a:xfrm>
            <a:prstGeom prst="rect">
              <a:avLst/>
            </a:prstGeom>
            <a:noFill/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DFHCCN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User Dat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2000" y="1359000"/>
              <a:ext cx="1081080" cy="1800000"/>
            </a:xfrm>
            <a:prstGeom prst="rect">
              <a:avLst/>
            </a:prstGeom>
            <a:noFill/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At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93080" y="15030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3080" y="2222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93080" y="29430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12000" y="3159000"/>
            <a:ext cx="2736720" cy="3024000"/>
            <a:chOff x="6012000" y="3159000"/>
            <a:chExt cx="2736720" cy="3024000"/>
          </a:xfrm>
        </p:grpSpPr>
        <p:grpSp>
          <p:nvGrpSpPr>
            <p:cNvPr id="172" name=""/>
            <p:cNvGrpSpPr/>
            <p:nvPr/>
          </p:nvGrpSpPr>
          <p:grpSpPr>
            <a:xfrm>
              <a:off x="6012000" y="3519360"/>
              <a:ext cx="2736720" cy="2663640"/>
              <a:chOff x="6012000" y="3519360"/>
              <a:chExt cx="2736720" cy="2663640"/>
            </a:xfrm>
          </p:grpSpPr>
          <p:sp>
            <p:nvSpPr>
              <p:cNvPr id="173" name=""/>
              <p:cNvSpPr/>
              <p:nvPr/>
            </p:nvSpPr>
            <p:spPr>
              <a:xfrm>
                <a:off x="7812000" y="3519360"/>
                <a:ext cx="935280" cy="360360"/>
              </a:xfrm>
              <a:prstGeom prst="rect">
                <a:avLst/>
              </a:prstGeom>
              <a:noFill/>
              <a:ln w="190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Conver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Decod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2000" y="4200120"/>
                <a:ext cx="935280" cy="4986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gra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o Siste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3800" y="5822640"/>
                <a:ext cx="934920" cy="360360"/>
              </a:xfrm>
              <a:prstGeom prst="rect">
                <a:avLst/>
              </a:prstGeom>
              <a:noFill/>
              <a:ln w="190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FHCCN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13800" y="5030640"/>
                <a:ext cx="934920" cy="360360"/>
              </a:xfrm>
              <a:prstGeom prst="rect">
                <a:avLst/>
              </a:prstGeom>
              <a:noFill/>
              <a:ln w="190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Conver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Encod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12000" y="3590640"/>
                <a:ext cx="1081080" cy="2592360"/>
              </a:xfrm>
              <a:prstGeom prst="rect">
                <a:avLst/>
              </a:prstGeom>
              <a:noFill/>
              <a:ln w="190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093080" y="366192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93080" y="445428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93080" y="524628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93080" y="596700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516720" y="315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40360" y="1359000"/>
            <a:ext cx="1081080" cy="35272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24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443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1430280"/>
            <a:ext cx="1657440" cy="47530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3670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638680"/>
            <a:ext cx="2664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140360" y="1000080"/>
            <a:ext cx="4752720" cy="5400720"/>
            <a:chOff x="4140360" y="1000080"/>
            <a:chExt cx="4752720" cy="5400720"/>
          </a:xfrm>
        </p:grpSpPr>
        <p:sp>
          <p:nvSpPr>
            <p:cNvPr id="190" name=""/>
            <p:cNvSpPr/>
            <p:nvPr/>
          </p:nvSpPr>
          <p:spPr>
            <a:xfrm>
              <a:off x="4140360" y="1000080"/>
              <a:ext cx="4752720" cy="540072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3640" y="1000080"/>
              <a:ext cx="31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9933"/>
                  </a:solidFill>
                  <a:latin typeface="Arial"/>
                </a:rPr>
                <a:t>CICS Transacti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332000" y="933480"/>
            <a:ext cx="7632720" cy="5543640"/>
            <a:chOff x="1332000" y="933480"/>
            <a:chExt cx="7632720" cy="5543640"/>
          </a:xfrm>
        </p:grpSpPr>
        <p:sp>
          <p:nvSpPr>
            <p:cNvPr id="193" name=""/>
            <p:cNvSpPr/>
            <p:nvPr/>
          </p:nvSpPr>
          <p:spPr>
            <a:xfrm>
              <a:off x="1332000" y="933480"/>
              <a:ext cx="7632720" cy="5543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36720" y="1004040"/>
              <a:ext cx="21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S/3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79280" y="2852640"/>
            <a:ext cx="1513080" cy="398520"/>
            <a:chOff x="179280" y="2852640"/>
            <a:chExt cx="1513080" cy="398520"/>
          </a:xfrm>
        </p:grpSpPr>
        <p:sp>
          <p:nvSpPr>
            <p:cNvPr id="196" name=""/>
            <p:cNvSpPr/>
            <p:nvPr/>
          </p:nvSpPr>
          <p:spPr>
            <a:xfrm>
              <a:off x="179280" y="2852640"/>
              <a:ext cx="1513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diamond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00" y="2852640"/>
              <a:ext cx="79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equest from Cli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78920" y="4941720"/>
            <a:ext cx="1513080" cy="398520"/>
            <a:chOff x="178920" y="4941720"/>
            <a:chExt cx="1513080" cy="398520"/>
          </a:xfrm>
        </p:grpSpPr>
        <p:sp>
          <p:nvSpPr>
            <p:cNvPr id="199" name=""/>
            <p:cNvSpPr/>
            <p:nvPr/>
          </p:nvSpPr>
          <p:spPr>
            <a:xfrm flipH="1">
              <a:off x="178920" y="4941720"/>
              <a:ext cx="1513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diamond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000" y="4941720"/>
              <a:ext cx="79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eply to Cli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129040" y="1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WS – Fluxo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1287360"/>
            <a:ext cx="3025800" cy="2016360"/>
          </a:xfrm>
          <a:prstGeom prst="ellipse">
            <a:avLst/>
          </a:prstGeom>
          <a:solidFill>
            <a:srgbClr val="33cccc">
              <a:alpha val="6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alida Usuári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elece Sess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67640" y="3873600"/>
            <a:ext cx="1297080" cy="1079280"/>
          </a:xfrm>
          <a:prstGeom prst="ellipse">
            <a:avLst/>
          </a:prstGeom>
          <a:solidFill>
            <a:srgbClr val="33cccc">
              <a:alpha val="6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ógic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óc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61880" y="16668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PON – Acessibilidade/Dispon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4920" y="3070080"/>
            <a:ext cx="2220840" cy="1220760"/>
            <a:chOff x="34920" y="3070080"/>
            <a:chExt cx="2220840" cy="1220760"/>
          </a:xfrm>
        </p:grpSpPr>
        <p:grpSp>
          <p:nvGrpSpPr>
            <p:cNvPr id="206" name=""/>
            <p:cNvGrpSpPr/>
            <p:nvPr/>
          </p:nvGrpSpPr>
          <p:grpSpPr>
            <a:xfrm>
              <a:off x="34920" y="3162240"/>
              <a:ext cx="936720" cy="1128600"/>
              <a:chOff x="34920" y="3162240"/>
              <a:chExt cx="936720" cy="1128600"/>
            </a:xfrm>
          </p:grpSpPr>
          <p:sp>
            <p:nvSpPr>
              <p:cNvPr id="207" name=""/>
              <p:cNvSpPr/>
              <p:nvPr/>
            </p:nvSpPr>
            <p:spPr>
              <a:xfrm>
                <a:off x="34920" y="374004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</a:rPr>
                  <a:t>CLI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</a:rPr>
                  <a:t>Browser/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</a:rPr>
                  <a:t>TN32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" y="3162240"/>
                <a:ext cx="635040" cy="62712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209" name=""/>
            <p:cNvCxnSpPr>
              <a:stCxn id="208" idx="3"/>
            </p:cNvCxnSpPr>
            <p:nvPr/>
          </p:nvCxnSpPr>
          <p:spPr>
            <a:xfrm>
              <a:off x="669600" y="3476520"/>
              <a:ext cx="375480" cy="164160"/>
            </a:xfrm>
            <a:prstGeom prst="curvedConnector5">
              <a:avLst>
                <a:gd name="adj1" fmla="val 50000"/>
                <a:gd name="adj2" fmla="val 49890"/>
                <a:gd name="adj3" fmla="val 50000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971640" y="3070080"/>
              <a:ext cx="1008000" cy="1079640"/>
            </a:xfrm>
            <a:prstGeom prst="irregularSeal2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IX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>
              <a:stCxn id="210" idx="3"/>
              <a:endCxn id="212" idx="1"/>
            </p:cNvCxnSpPr>
            <p:nvPr/>
          </p:nvCxnSpPr>
          <p:spPr>
            <a:xfrm flipV="1">
              <a:off x="1979280" y="3104280"/>
              <a:ext cx="276840" cy="297720"/>
            </a:xfrm>
            <a:prstGeom prst="curvedConnector5">
              <a:avLst>
                <a:gd name="adj1" fmla="val 52213"/>
                <a:gd name="adj2" fmla="val 50000"/>
                <a:gd name="adj3" fmla="val 5221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3" name=""/>
            <p:cNvCxnSpPr>
              <a:stCxn id="210" idx="3"/>
              <a:endCxn id="214" idx="1"/>
            </p:cNvCxnSpPr>
            <p:nvPr/>
          </p:nvCxnSpPr>
          <p:spPr>
            <a:xfrm>
              <a:off x="1979280" y="3401640"/>
              <a:ext cx="276840" cy="424440"/>
            </a:xfrm>
            <a:prstGeom prst="curvedConnector5">
              <a:avLst>
                <a:gd name="adj1" fmla="val 52213"/>
                <a:gd name="adj2" fmla="val 50000"/>
                <a:gd name="adj3" fmla="val 5221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15" name=""/>
          <p:cNvGrpSpPr/>
          <p:nvPr/>
        </p:nvGrpSpPr>
        <p:grpSpPr>
          <a:xfrm>
            <a:off x="3490920" y="914400"/>
            <a:ext cx="5545080" cy="5467320"/>
            <a:chOff x="3490920" y="914400"/>
            <a:chExt cx="5545080" cy="5467320"/>
          </a:xfrm>
        </p:grpSpPr>
        <p:sp>
          <p:nvSpPr>
            <p:cNvPr id="216" name=""/>
            <p:cNvSpPr/>
            <p:nvPr/>
          </p:nvSpPr>
          <p:spPr>
            <a:xfrm>
              <a:off x="3490920" y="3719520"/>
              <a:ext cx="5545080" cy="266220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5320" y="594216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ff"/>
                  </a:solidFill>
                  <a:latin typeface="Arial"/>
                </a:rPr>
                <a:t>OS/390 - PROD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90920" y="914400"/>
              <a:ext cx="5545080" cy="258588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5320" y="92880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ff"/>
                  </a:solidFill>
                  <a:latin typeface="Arial"/>
                </a:rPr>
                <a:t>OS/390 - PROD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784600" y="3104640"/>
            <a:ext cx="770040" cy="720720"/>
            <a:chOff x="2784600" y="3104640"/>
            <a:chExt cx="770040" cy="720720"/>
          </a:xfrm>
        </p:grpSpPr>
        <p:cxnSp>
          <p:nvCxnSpPr>
            <p:cNvPr id="221" name=""/>
            <p:cNvCxnSpPr/>
            <p:nvPr/>
          </p:nvCxnSpPr>
          <p:spPr>
            <a:xfrm flipV="1">
              <a:off x="2784600" y="3501360"/>
              <a:ext cx="770400" cy="324360"/>
            </a:xfrm>
            <a:prstGeom prst="curvedConnector5">
              <a:avLst>
                <a:gd name="adj1" fmla="val 49649"/>
                <a:gd name="adj2" fmla="val 50000"/>
                <a:gd name="adj3" fmla="val 49649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>
              <a:off x="2784600" y="3104640"/>
              <a:ext cx="770400" cy="397800"/>
            </a:xfrm>
            <a:prstGeom prst="curvedConnector5">
              <a:avLst>
                <a:gd name="adj1" fmla="val 49649"/>
                <a:gd name="adj2" fmla="val 50000"/>
                <a:gd name="adj3" fmla="val 49649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23" name=""/>
          <p:cNvGrpSpPr/>
          <p:nvPr/>
        </p:nvGrpSpPr>
        <p:grpSpPr>
          <a:xfrm>
            <a:off x="2268360" y="1831680"/>
            <a:ext cx="1440360" cy="3338640"/>
            <a:chOff x="2268360" y="1831680"/>
            <a:chExt cx="1440360" cy="3338640"/>
          </a:xfrm>
        </p:grpSpPr>
        <p:cxnSp>
          <p:nvCxnSpPr>
            <p:cNvPr id="224" name=""/>
            <p:cNvCxnSpPr/>
            <p:nvPr/>
          </p:nvCxnSpPr>
          <p:spPr>
            <a:xfrm flipV="1">
              <a:off x="2784600" y="2050560"/>
              <a:ext cx="924480" cy="1054800"/>
            </a:xfrm>
            <a:prstGeom prst="curvedConnector5">
              <a:avLst>
                <a:gd name="adj1" fmla="val 41371"/>
                <a:gd name="adj2" fmla="val 60361"/>
                <a:gd name="adj3" fmla="val 41371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2268360" y="2924280"/>
              <a:ext cx="503280" cy="360360"/>
            </a:xfrm>
            <a:prstGeom prst="rect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D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68360" y="3645000"/>
              <a:ext cx="503280" cy="360360"/>
            </a:xfrm>
            <a:prstGeom prst="rect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D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S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/>
            <p:nvPr/>
          </p:nvCxnSpPr>
          <p:spPr>
            <a:xfrm>
              <a:off x="2784600" y="3825360"/>
              <a:ext cx="924480" cy="1126440"/>
            </a:xfrm>
            <a:prstGeom prst="curvedConnector5">
              <a:avLst>
                <a:gd name="adj1" fmla="val 41371"/>
                <a:gd name="adj2" fmla="val 59718"/>
                <a:gd name="adj3" fmla="val 41371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26" name=""/>
          <p:cNvGrpSpPr/>
          <p:nvPr/>
        </p:nvGrpSpPr>
        <p:grpSpPr>
          <a:xfrm>
            <a:off x="3564000" y="967680"/>
            <a:ext cx="1011600" cy="5211000"/>
            <a:chOff x="3564000" y="967680"/>
            <a:chExt cx="1011600" cy="5211000"/>
          </a:xfrm>
        </p:grpSpPr>
        <p:sp>
          <p:nvSpPr>
            <p:cNvPr id="227" name=""/>
            <p:cNvSpPr/>
            <p:nvPr/>
          </p:nvSpPr>
          <p:spPr>
            <a:xfrm>
              <a:off x="3564000" y="2060640"/>
              <a:ext cx="287280" cy="288108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ff"/>
                  </a:solidFill>
                  <a:latin typeface="Arial"/>
                </a:rPr>
                <a:t>VTAM Generic Resource/WL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"/>
            <p:cNvCxnSpPr>
              <a:stCxn id="229" idx="3"/>
              <a:endCxn id="230" idx="3"/>
            </p:cNvCxnSpPr>
            <p:nvPr/>
          </p:nvCxnSpPr>
          <p:spPr>
            <a:xfrm>
              <a:off x="4149720" y="3502080"/>
              <a:ext cx="426240" cy="1769040"/>
            </a:xfrm>
            <a:prstGeom prst="curvedConnector5">
              <a:avLst>
                <a:gd name="adj1" fmla="val 31276"/>
                <a:gd name="adj2" fmla="val 75656"/>
                <a:gd name="adj3" fmla="val 31276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1" name=""/>
            <p:cNvCxnSpPr>
              <a:stCxn id="229" idx="3"/>
              <a:endCxn id="230" idx="1"/>
            </p:cNvCxnSpPr>
            <p:nvPr/>
          </p:nvCxnSpPr>
          <p:spPr>
            <a:xfrm flipV="1">
              <a:off x="4149720" y="1875960"/>
              <a:ext cx="426240" cy="1626480"/>
            </a:xfrm>
            <a:prstGeom prst="curvedConnector5">
              <a:avLst>
                <a:gd name="adj1" fmla="val 31276"/>
                <a:gd name="adj2" fmla="val 77927"/>
                <a:gd name="adj3" fmla="val 31276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3852720" y="2060640"/>
              <a:ext cx="287640" cy="288108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CP/IP Port Sha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427640" y="1197000"/>
            <a:ext cx="1800000" cy="4753080"/>
            <a:chOff x="4427640" y="1197000"/>
            <a:chExt cx="1800000" cy="4753080"/>
          </a:xfrm>
        </p:grpSpPr>
        <p:grpSp>
          <p:nvGrpSpPr>
            <p:cNvPr id="233" name=""/>
            <p:cNvGrpSpPr/>
            <p:nvPr/>
          </p:nvGrpSpPr>
          <p:grpSpPr>
            <a:xfrm>
              <a:off x="4427640" y="1197000"/>
              <a:ext cx="1008000" cy="4753080"/>
              <a:chOff x="4427640" y="1197000"/>
              <a:chExt cx="1008000" cy="4753080"/>
            </a:xfrm>
          </p:grpSpPr>
          <p:sp>
            <p:nvSpPr>
              <p:cNvPr id="230" name=""/>
              <p:cNvSpPr/>
              <p:nvPr/>
            </p:nvSpPr>
            <p:spPr>
              <a:xfrm>
                <a:off x="4427640" y="1197000"/>
                <a:ext cx="1008000" cy="4753080"/>
              </a:xfrm>
              <a:prstGeom prst="ellipse">
                <a:avLst/>
              </a:prstGeom>
              <a:solidFill>
                <a:srgbClr val="cc3300">
                  <a:alpha val="25000"/>
                </a:srgbClr>
              </a:solidFill>
              <a:ln w="316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43280" y="4797360"/>
                <a:ext cx="576360" cy="432000"/>
              </a:xfrm>
              <a:prstGeom prst="rect">
                <a:avLst/>
              </a:prstGeom>
              <a:solidFill>
                <a:srgbClr val="cc3300">
                  <a:alpha val="50000"/>
                </a:srgbClr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OR2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3280" y="4005360"/>
                <a:ext cx="576360" cy="431640"/>
              </a:xfrm>
              <a:prstGeom prst="rect">
                <a:avLst/>
              </a:prstGeom>
              <a:solidFill>
                <a:srgbClr val="cc3300">
                  <a:alpha val="50000"/>
                </a:srgbClr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OR2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43280" y="1916280"/>
                <a:ext cx="576360" cy="431640"/>
              </a:xfrm>
              <a:prstGeom prst="rect">
                <a:avLst/>
              </a:prstGeom>
              <a:solidFill>
                <a:srgbClr val="cc3300">
                  <a:alpha val="50000"/>
                </a:srgbClr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OR1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43280" y="2637000"/>
                <a:ext cx="576360" cy="431640"/>
              </a:xfrm>
              <a:prstGeom prst="rect">
                <a:avLst/>
              </a:prstGeom>
              <a:solidFill>
                <a:srgbClr val="cc3300">
                  <a:alpha val="50000"/>
                </a:srgbClr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OR1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364000" y="3068640"/>
              <a:ext cx="863640" cy="792000"/>
            </a:xfrm>
            <a:prstGeom prst="triangle">
              <a:avLst>
                <a:gd name="adj" fmla="val 50000"/>
              </a:avLst>
            </a:prstGeom>
            <a:solidFill>
              <a:srgbClr val="993300">
                <a:alpha val="50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essão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219640" y="3860280"/>
              <a:ext cx="576360" cy="360360"/>
            </a:xfrm>
            <a:prstGeom prst="line">
              <a:avLst/>
            </a:prstGeom>
            <a:ln w="158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9640" y="2781360"/>
              <a:ext cx="432000" cy="576360"/>
            </a:xfrm>
            <a:prstGeom prst="line">
              <a:avLst/>
            </a:prstGeom>
            <a:ln w="158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4000" y="4797360"/>
              <a:ext cx="792360" cy="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64000" y="2492280"/>
              <a:ext cx="792360" cy="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84720" y="1197000"/>
            <a:ext cx="1727280" cy="4753080"/>
            <a:chOff x="6084720" y="1197000"/>
            <a:chExt cx="1727280" cy="4753080"/>
          </a:xfrm>
        </p:grpSpPr>
        <p:grpSp>
          <p:nvGrpSpPr>
            <p:cNvPr id="244" name=""/>
            <p:cNvGrpSpPr/>
            <p:nvPr/>
          </p:nvGrpSpPr>
          <p:grpSpPr>
            <a:xfrm>
              <a:off x="6084720" y="1197000"/>
              <a:ext cx="1079640" cy="4753080"/>
              <a:chOff x="6084720" y="1197000"/>
              <a:chExt cx="1079640" cy="4753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084720" y="1197000"/>
                <a:ext cx="1079640" cy="4753080"/>
              </a:xfrm>
              <a:prstGeom prst="ellipse">
                <a:avLst/>
              </a:prstGeom>
              <a:solidFill>
                <a:srgbClr val="ffcc00">
                  <a:alpha val="25000"/>
                </a:srgbClr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23040" y="5013360"/>
                <a:ext cx="576000" cy="43164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OR6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23040" y="4365720"/>
                <a:ext cx="576000" cy="43164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OR5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23040" y="1701720"/>
                <a:ext cx="576000" cy="43200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OR1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23040" y="2276640"/>
                <a:ext cx="576000" cy="43164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OR2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00720" y="3789360"/>
                <a:ext cx="576360" cy="43164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OR4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300720" y="2852640"/>
                <a:ext cx="576360" cy="43200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OR3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7020000" y="5084640"/>
              <a:ext cx="792000" cy="0"/>
            </a:xfrm>
            <a:prstGeom prst="line">
              <a:avLst/>
            </a:prstGeom>
            <a:ln w="31680">
              <a:solidFill>
                <a:srgbClr val="33cc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20000" y="1989000"/>
              <a:ext cx="792000" cy="0"/>
            </a:xfrm>
            <a:prstGeom prst="line">
              <a:avLst/>
            </a:prstGeom>
            <a:ln w="31680">
              <a:solidFill>
                <a:srgbClr val="33cc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812000" y="1773360"/>
            <a:ext cx="1187640" cy="3527280"/>
            <a:chOff x="7812000" y="1773360"/>
            <a:chExt cx="1187640" cy="3527280"/>
          </a:xfrm>
        </p:grpSpPr>
        <p:sp>
          <p:nvSpPr>
            <p:cNvPr id="255" name=""/>
            <p:cNvSpPr/>
            <p:nvPr/>
          </p:nvSpPr>
          <p:spPr>
            <a:xfrm>
              <a:off x="8172360" y="3068640"/>
              <a:ext cx="827280" cy="863640"/>
            </a:xfrm>
            <a:prstGeom prst="can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a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12000" y="4869000"/>
              <a:ext cx="576360" cy="43164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12000" y="1773360"/>
              <a:ext cx="576360" cy="43164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"/>
            <p:cNvCxnSpPr>
              <a:stCxn id="257" idx="3"/>
              <a:endCxn id="255" idx="1"/>
            </p:cNvCxnSpPr>
            <p:nvPr/>
          </p:nvCxnSpPr>
          <p:spPr>
            <a:xfrm>
              <a:off x="8397360" y="1988640"/>
              <a:ext cx="189720" cy="10803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259" name=""/>
            <p:cNvCxnSpPr>
              <a:stCxn id="256" idx="3"/>
              <a:endCxn id="255" idx="3"/>
            </p:cNvCxnSpPr>
            <p:nvPr/>
          </p:nvCxnSpPr>
          <p:spPr>
            <a:xfrm flipV="1">
              <a:off x="8397360" y="3931920"/>
              <a:ext cx="189720" cy="11527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16000" y="3573360"/>
            <a:ext cx="7920000" cy="2808360"/>
          </a:xfrm>
          <a:prstGeom prst="rect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914400"/>
            <a:ext cx="7920000" cy="2514600"/>
          </a:xfrm>
          <a:prstGeom prst="rect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268280"/>
            <a:ext cx="7848720" cy="4681800"/>
          </a:xfrm>
          <a:prstGeom prst="ellipse">
            <a:avLst/>
          </a:prstGeom>
          <a:solidFill>
            <a:srgbClr val="33cccc">
              <a:alpha val="20000"/>
            </a:srgbClr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33cccc"/>
                </a:solidFill>
                <a:latin typeface="Arial"/>
              </a:rPr>
              <a:t>RACF Protec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19640" y="2205000"/>
            <a:ext cx="3384360" cy="25192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Lista – Racf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67440" y="166680"/>
            <a:ext cx="60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PON – Controle de Sessão/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PROD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4920" y="3174840"/>
            <a:ext cx="936720" cy="976320"/>
            <a:chOff x="34920" y="3174840"/>
            <a:chExt cx="936720" cy="976320"/>
          </a:xfrm>
        </p:grpSpPr>
        <p:sp>
          <p:nvSpPr>
            <p:cNvPr id="267" name=""/>
            <p:cNvSpPr/>
            <p:nvPr/>
          </p:nvSpPr>
          <p:spPr>
            <a:xfrm>
              <a:off x="34920" y="3752640"/>
              <a:ext cx="93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Brow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34920" y="3174840"/>
              <a:ext cx="6350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1187280" y="928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PRO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010280" y="1197000"/>
            <a:ext cx="1079640" cy="4753080"/>
            <a:chOff x="7010280" y="1197000"/>
            <a:chExt cx="1079640" cy="4753080"/>
          </a:xfrm>
        </p:grpSpPr>
        <p:sp>
          <p:nvSpPr>
            <p:cNvPr id="271" name=""/>
            <p:cNvSpPr/>
            <p:nvPr/>
          </p:nvSpPr>
          <p:spPr>
            <a:xfrm>
              <a:off x="7010280" y="1197000"/>
              <a:ext cx="1079640" cy="4753080"/>
            </a:xfrm>
            <a:prstGeom prst="ellipse">
              <a:avLst/>
            </a:prstGeom>
            <a:solidFill>
              <a:srgbClr val="ffcc00">
                <a:alpha val="25000"/>
              </a:srgbClr>
            </a:solidFill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48600" y="5013360"/>
              <a:ext cx="576000" cy="431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 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OR6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48600" y="4365720"/>
              <a:ext cx="576000" cy="431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 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OR5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48600" y="1701720"/>
              <a:ext cx="576000" cy="43200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 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OR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48600" y="2276640"/>
              <a:ext cx="576000" cy="431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 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OR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6280" y="3789360"/>
              <a:ext cx="576360" cy="431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 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OR4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6280" y="2852640"/>
              <a:ext cx="576360" cy="43200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 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OR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187280" y="1197000"/>
            <a:ext cx="2016000" cy="4753080"/>
            <a:chOff x="1187280" y="1197000"/>
            <a:chExt cx="2016000" cy="4753080"/>
          </a:xfrm>
        </p:grpSpPr>
        <p:grpSp>
          <p:nvGrpSpPr>
            <p:cNvPr id="279" name=""/>
            <p:cNvGrpSpPr/>
            <p:nvPr/>
          </p:nvGrpSpPr>
          <p:grpSpPr>
            <a:xfrm>
              <a:off x="2195280" y="1197000"/>
              <a:ext cx="1008000" cy="4753080"/>
              <a:chOff x="2195280" y="1197000"/>
              <a:chExt cx="1008000" cy="4753080"/>
            </a:xfrm>
          </p:grpSpPr>
          <p:sp>
            <p:nvSpPr>
              <p:cNvPr id="280" name=""/>
              <p:cNvSpPr/>
              <p:nvPr/>
            </p:nvSpPr>
            <p:spPr>
              <a:xfrm>
                <a:off x="2195280" y="1197000"/>
                <a:ext cx="1008000" cy="4753080"/>
              </a:xfrm>
              <a:prstGeom prst="ellipse">
                <a:avLst/>
              </a:prstGeom>
              <a:solidFill>
                <a:srgbClr val="cc3300">
                  <a:alpha val="25000"/>
                </a:srgbClr>
              </a:solidFill>
              <a:ln w="316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10920" y="4797360"/>
                <a:ext cx="576360" cy="432000"/>
              </a:xfrm>
              <a:prstGeom prst="rect">
                <a:avLst/>
              </a:prstGeom>
              <a:solidFill>
                <a:srgbClr val="cc3300">
                  <a:alpha val="50000"/>
                </a:srgbClr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R2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10920" y="4005360"/>
                <a:ext cx="576360" cy="431640"/>
              </a:xfrm>
              <a:prstGeom prst="rect">
                <a:avLst/>
              </a:prstGeom>
              <a:solidFill>
                <a:srgbClr val="cc3300">
                  <a:alpha val="50000"/>
                </a:srgbClr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OR2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10920" y="1916280"/>
                <a:ext cx="576360" cy="431640"/>
              </a:xfrm>
              <a:prstGeom prst="rect">
                <a:avLst/>
              </a:prstGeom>
              <a:solidFill>
                <a:srgbClr val="cc3300">
                  <a:alpha val="50000"/>
                </a:srgbClr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R1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10920" y="2637000"/>
                <a:ext cx="576360" cy="431640"/>
              </a:xfrm>
              <a:prstGeom prst="rect">
                <a:avLst/>
              </a:prstGeom>
              <a:solidFill>
                <a:srgbClr val="cc3300">
                  <a:alpha val="50000"/>
                </a:srgbClr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ICS 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OR1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85" name=""/>
            <p:cNvCxnSpPr>
              <a:stCxn id="286" idx="3"/>
              <a:endCxn id="280" idx="3"/>
            </p:cNvCxnSpPr>
            <p:nvPr/>
          </p:nvCxnSpPr>
          <p:spPr>
            <a:xfrm>
              <a:off x="1771200" y="3502080"/>
              <a:ext cx="572400" cy="1769040"/>
            </a:xfrm>
            <a:prstGeom prst="curvedConnector5">
              <a:avLst>
                <a:gd name="adj1" fmla="val 36060"/>
                <a:gd name="adj2" fmla="val 50519"/>
                <a:gd name="adj3" fmla="val 3606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7" name=""/>
            <p:cNvCxnSpPr>
              <a:stCxn id="286" idx="3"/>
              <a:endCxn id="280" idx="1"/>
            </p:cNvCxnSpPr>
            <p:nvPr/>
          </p:nvCxnSpPr>
          <p:spPr>
            <a:xfrm flipV="1">
              <a:off x="1771200" y="1875960"/>
              <a:ext cx="572400" cy="1626480"/>
            </a:xfrm>
            <a:prstGeom prst="curvedConnector5">
              <a:avLst>
                <a:gd name="adj1" fmla="val 36060"/>
                <a:gd name="adj2" fmla="val 50630"/>
                <a:gd name="adj3" fmla="val 3606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288" name=""/>
            <p:cNvGrpSpPr/>
            <p:nvPr/>
          </p:nvGrpSpPr>
          <p:grpSpPr>
            <a:xfrm>
              <a:off x="1187280" y="2060640"/>
              <a:ext cx="574560" cy="2881080"/>
              <a:chOff x="1187280" y="2060640"/>
              <a:chExt cx="574560" cy="2881080"/>
            </a:xfrm>
          </p:grpSpPr>
          <p:sp>
            <p:nvSpPr>
              <p:cNvPr id="289" name=""/>
              <p:cNvSpPr/>
              <p:nvPr/>
            </p:nvSpPr>
            <p:spPr>
              <a:xfrm>
                <a:off x="1187280" y="2060640"/>
                <a:ext cx="287280" cy="28810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ff"/>
                    </a:solidFill>
                    <a:latin typeface="Arial"/>
                  </a:rPr>
                  <a:t>VTAM Generic Resource/WL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74560" y="2060640"/>
                <a:ext cx="287280" cy="28810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1908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TCP/IP Port Sha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 flipV="1">
            <a:off x="2987640" y="3499920"/>
            <a:ext cx="1224000" cy="793800"/>
          </a:xfrm>
          <a:prstGeom prst="line">
            <a:avLst/>
          </a:prstGeom>
          <a:ln w="158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2924280"/>
            <a:ext cx="1224000" cy="576000"/>
          </a:xfrm>
          <a:prstGeom prst="line">
            <a:avLst/>
          </a:prstGeom>
          <a:ln w="158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5661000"/>
            <a:ext cx="4321080" cy="73080"/>
          </a:xfrm>
          <a:prstGeom prst="line">
            <a:avLst/>
          </a:prstGeom>
          <a:ln w="31680">
            <a:solidFill>
              <a:srgbClr val="ffcc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1628640"/>
            <a:ext cx="4249800" cy="0"/>
          </a:xfrm>
          <a:prstGeom prst="line">
            <a:avLst/>
          </a:prstGeom>
          <a:ln w="31680">
            <a:solidFill>
              <a:srgbClr val="ffcc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381880" y="3284640"/>
            <a:ext cx="666720" cy="431640"/>
          </a:xfrm>
          <a:prstGeom prst="rect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77320" y="3500280"/>
            <a:ext cx="30456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0280"/>
            <a:ext cx="576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4282920"/>
            <a:ext cx="252108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IP;Userid;TimeStamp;t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78400" y="120600"/>
            <a:ext cx="20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8960" y="1447920"/>
            <a:ext cx="836784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indent="-274320">
              <a:lnSpc>
                <a:spcPct val="115000"/>
              </a:lnSpc>
              <a:spcBef>
                <a:spcPts val="15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CAIX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15000"/>
              </a:lnSpc>
              <a:spcBef>
                <a:spcPts val="15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Desafi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15000"/>
              </a:lnSpc>
              <a:spcBef>
                <a:spcPts val="15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CICS Web Suppo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15000"/>
              </a:lnSpc>
              <a:spcBef>
                <a:spcPts val="15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nto Eletrônico(Estudo de Cas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15000"/>
              </a:lnSpc>
              <a:spcBef>
                <a:spcPts val="15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rspectiv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15000"/>
              </a:lnSpc>
              <a:spcBef>
                <a:spcPts val="15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t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351080" y="16668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WS – Segurança, Robustez e Escala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4920" y="4206960"/>
            <a:ext cx="936720" cy="824040"/>
            <a:chOff x="34920" y="4206960"/>
            <a:chExt cx="936720" cy="824040"/>
          </a:xfrm>
        </p:grpSpPr>
        <p:sp>
          <p:nvSpPr>
            <p:cNvPr id="300" name=""/>
            <p:cNvSpPr/>
            <p:nvPr/>
          </p:nvSpPr>
          <p:spPr>
            <a:xfrm>
              <a:off x="34920" y="4784760"/>
              <a:ext cx="93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BROW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34920" y="4206960"/>
              <a:ext cx="635040" cy="62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3490920" y="919080"/>
            <a:ext cx="5545080" cy="2662200"/>
            <a:chOff x="3490920" y="919080"/>
            <a:chExt cx="5545080" cy="2662200"/>
          </a:xfrm>
        </p:grpSpPr>
        <p:sp>
          <p:nvSpPr>
            <p:cNvPr id="303" name=""/>
            <p:cNvSpPr/>
            <p:nvPr/>
          </p:nvSpPr>
          <p:spPr>
            <a:xfrm>
              <a:off x="3490920" y="925200"/>
              <a:ext cx="5545080" cy="265608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05320" y="919080"/>
              <a:ext cx="990360" cy="64260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ff"/>
                  </a:solidFill>
                  <a:latin typeface="Arial"/>
                </a:rPr>
                <a:t>S/390 LP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490920" y="3886200"/>
            <a:ext cx="5545080" cy="2656800"/>
            <a:chOff x="3490920" y="3886200"/>
            <a:chExt cx="5545080" cy="2656800"/>
          </a:xfrm>
        </p:grpSpPr>
        <p:sp>
          <p:nvSpPr>
            <p:cNvPr id="306" name=""/>
            <p:cNvSpPr/>
            <p:nvPr/>
          </p:nvSpPr>
          <p:spPr>
            <a:xfrm>
              <a:off x="3490920" y="3886200"/>
              <a:ext cx="5545080" cy="265680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5320" y="5873040"/>
              <a:ext cx="990360" cy="64260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ff"/>
                  </a:solidFill>
                  <a:latin typeface="Arial"/>
                </a:rPr>
                <a:t>S/390 LP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324480" y="3581280"/>
            <a:ext cx="2667240" cy="312840"/>
          </a:xfrm>
          <a:prstGeom prst="rect">
            <a:avLst/>
          </a:prstGeom>
          <a:solidFill>
            <a:srgbClr val="33cccc">
              <a:alpha val="50000"/>
            </a:srgbClr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NA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143000" y="2819520"/>
            <a:ext cx="1447560" cy="1098360"/>
            <a:chOff x="1143000" y="2819520"/>
            <a:chExt cx="1447560" cy="1098360"/>
          </a:xfrm>
        </p:grpSpPr>
        <p:graphicFrame>
          <p:nvGraphicFramePr>
            <p:cNvPr id="310" name=""/>
            <p:cNvGraphicFramePr/>
            <p:nvPr/>
          </p:nvGraphicFramePr>
          <p:xfrm>
            <a:off x="1143000" y="2819520"/>
            <a:ext cx="1447560" cy="109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2819520"/>
                      <a:ext cx="144756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>
              <a:off x="1371600" y="3214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514600" y="2286000"/>
            <a:ext cx="914400" cy="83808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576"/>
                </a:moveTo>
                <a:lnTo>
                  <a:pt x="240" y="144"/>
                </a:lnTo>
                <a:lnTo>
                  <a:pt x="192" y="384"/>
                </a:lnTo>
                <a:lnTo>
                  <a:pt x="384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809880"/>
            <a:ext cx="914400" cy="83844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576"/>
                </a:moveTo>
                <a:lnTo>
                  <a:pt x="240" y="144"/>
                </a:lnTo>
                <a:lnTo>
                  <a:pt x="192" y="384"/>
                </a:lnTo>
                <a:lnTo>
                  <a:pt x="384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05320" y="1593720"/>
            <a:ext cx="5028840" cy="1987560"/>
            <a:chOff x="3505320" y="1593720"/>
            <a:chExt cx="5028840" cy="1987560"/>
          </a:xfrm>
        </p:grpSpPr>
        <p:sp>
          <p:nvSpPr>
            <p:cNvPr id="316" name=""/>
            <p:cNvSpPr/>
            <p:nvPr/>
          </p:nvSpPr>
          <p:spPr>
            <a:xfrm>
              <a:off x="3505320" y="1593720"/>
              <a:ext cx="422280" cy="198756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CP/IP Port Sha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629400" y="1672920"/>
              <a:ext cx="1904760" cy="1298160"/>
              <a:chOff x="6629400" y="1672920"/>
              <a:chExt cx="1904760" cy="1298160"/>
            </a:xfrm>
          </p:grpSpPr>
          <p:sp>
            <p:nvSpPr>
              <p:cNvPr id="318" name=""/>
              <p:cNvSpPr/>
              <p:nvPr/>
            </p:nvSpPr>
            <p:spPr>
              <a:xfrm>
                <a:off x="7062480" y="1672920"/>
                <a:ext cx="1471680" cy="1298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W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Own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Reg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29400" y="1672920"/>
                <a:ext cx="433080" cy="1298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3962520" y="2209680"/>
              <a:ext cx="2666880" cy="144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 flipV="1">
            <a:off x="7620120" y="2895120"/>
            <a:ext cx="0" cy="685800"/>
          </a:xfrm>
          <a:prstGeom prst="line">
            <a:avLst/>
          </a:prstGeom>
          <a:ln w="31680">
            <a:solidFill>
              <a:srgbClr val="339966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31680">
            <a:solidFill>
              <a:srgbClr val="339966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809880" y="4272120"/>
            <a:ext cx="5105520" cy="2035080"/>
            <a:chOff x="3809880" y="4272120"/>
            <a:chExt cx="5105520" cy="2035080"/>
          </a:xfrm>
        </p:grpSpPr>
        <p:sp>
          <p:nvSpPr>
            <p:cNvPr id="324" name=""/>
            <p:cNvSpPr/>
            <p:nvPr/>
          </p:nvSpPr>
          <p:spPr>
            <a:xfrm>
              <a:off x="6388200" y="4470480"/>
              <a:ext cx="2527200" cy="1404720"/>
            </a:xfrm>
            <a:prstGeom prst="ellipse">
              <a:avLst/>
            </a:prstGeom>
            <a:solidFill>
              <a:srgbClr val="ffcc00">
                <a:alpha val="25000"/>
              </a:srgbClr>
            </a:solidFill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57800" y="5873760"/>
              <a:ext cx="576360" cy="43344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6" name=""/>
            <p:cNvCxnSpPr>
              <a:stCxn id="325" idx="1"/>
              <a:endCxn id="327" idx="3"/>
            </p:cNvCxnSpPr>
            <p:nvPr/>
          </p:nvCxnSpPr>
          <p:spPr>
            <a:xfrm flipH="1" flipV="1">
              <a:off x="4376160" y="5290920"/>
              <a:ext cx="872280" cy="80064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</p:cxnSp>
        <p:grpSp>
          <p:nvGrpSpPr>
            <p:cNvPr id="328" name=""/>
            <p:cNvGrpSpPr/>
            <p:nvPr/>
          </p:nvGrpSpPr>
          <p:grpSpPr>
            <a:xfrm>
              <a:off x="3809880" y="4272120"/>
              <a:ext cx="979200" cy="1018800"/>
              <a:chOff x="3809880" y="4272120"/>
              <a:chExt cx="979200" cy="1018800"/>
            </a:xfrm>
          </p:grpSpPr>
          <p:sp>
            <p:nvSpPr>
              <p:cNvPr id="329" name=""/>
              <p:cNvSpPr/>
              <p:nvPr/>
            </p:nvSpPr>
            <p:spPr>
              <a:xfrm>
                <a:off x="3809880" y="4272120"/>
                <a:ext cx="826920" cy="866160"/>
              </a:xfrm>
              <a:prstGeom prst="can">
                <a:avLst>
                  <a:gd name="adj" fmla="val 25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62160" y="4424760"/>
                <a:ext cx="826920" cy="866160"/>
              </a:xfrm>
              <a:prstGeom prst="can">
                <a:avLst>
                  <a:gd name="adj" fmla="val 25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V="1">
              <a:off x="5867280" y="5874840"/>
              <a:ext cx="1600200" cy="22860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048120" y="2209680"/>
            <a:ext cx="15228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707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707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200400" y="1498680"/>
            <a:ext cx="2570040" cy="1701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388620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o de Java sob CICS, com JVM Persist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o de Enterprise Java Beans (EJ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imento com uso de SOAP e IIO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ponibilizar interface HTTP para os aplicativos OS/39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58720" y="1666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p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5791320"/>
            <a:ext cx="82090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 impossível é tudo que é possível, mas você ainda não descobriu como fazê-lo.”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ôni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476880" y="30240"/>
            <a:ext cx="21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1197000"/>
            <a:ext cx="763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RETORIA DE 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emir Mangueira – Dir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ec@caix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Página Principal">
            <a:hlinkClick r:id="rId2"/>
          </p:cNvPr>
          <p:cNvPicPr/>
          <p:nvPr/>
        </p:nvPicPr>
        <p:blipFill>
          <a:blip r:embed="rId3"/>
          <a:srcRect l="0" t="-8570" r="57605" b="0"/>
          <a:stretch/>
        </p:blipFill>
        <p:spPr>
          <a:xfrm>
            <a:off x="1077840" y="1066680"/>
            <a:ext cx="1104840" cy="408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71640" y="2890800"/>
            <a:ext cx="7632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olução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amar Fer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amar@caix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lio Cesar de Oliveiros Tavares(Infra-estrutura Tecnológ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lio.tavares@caix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lson de Almeida Rodrigues(Desenvolvi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lson.rodrigues@caix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749760" y="2438280"/>
            <a:ext cx="857160" cy="1643040"/>
          </a:xfrm>
          <a:custGeom>
            <a:avLst/>
            <a:gdLst/>
            <a:ahLst/>
            <a:rect l="l" t="t" r="r" b="b"/>
            <a:pathLst>
              <a:path w="159" h="305">
                <a:moveTo>
                  <a:pt x="48" y="0"/>
                </a:moveTo>
                <a:lnTo>
                  <a:pt x="159" y="0"/>
                </a:lnTo>
                <a:lnTo>
                  <a:pt x="111" y="305"/>
                </a:lnTo>
                <a:lnTo>
                  <a:pt x="0" y="305"/>
                </a:lnTo>
                <a:lnTo>
                  <a:pt x="48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2411280"/>
            <a:ext cx="1387440" cy="1692360"/>
          </a:xfrm>
          <a:custGeom>
            <a:avLst/>
            <a:gdLst/>
            <a:ahLst/>
            <a:rect l="l" t="t" r="r" b="b"/>
            <a:pathLst>
              <a:path w="258" h="314">
                <a:moveTo>
                  <a:pt x="243" y="129"/>
                </a:moveTo>
                <a:lnTo>
                  <a:pt x="238" y="122"/>
                </a:lnTo>
                <a:lnTo>
                  <a:pt x="231" y="117"/>
                </a:lnTo>
                <a:lnTo>
                  <a:pt x="224" y="111"/>
                </a:lnTo>
                <a:lnTo>
                  <a:pt x="217" y="107"/>
                </a:lnTo>
                <a:lnTo>
                  <a:pt x="209" y="103"/>
                </a:lnTo>
                <a:lnTo>
                  <a:pt x="201" y="101"/>
                </a:lnTo>
                <a:lnTo>
                  <a:pt x="192" y="98"/>
                </a:lnTo>
                <a:lnTo>
                  <a:pt x="183" y="98"/>
                </a:lnTo>
                <a:lnTo>
                  <a:pt x="171" y="99"/>
                </a:lnTo>
                <a:lnTo>
                  <a:pt x="158" y="102"/>
                </a:lnTo>
                <a:lnTo>
                  <a:pt x="148" y="107"/>
                </a:lnTo>
                <a:lnTo>
                  <a:pt x="138" y="115"/>
                </a:lnTo>
                <a:lnTo>
                  <a:pt x="129" y="123"/>
                </a:lnTo>
                <a:lnTo>
                  <a:pt x="122" y="134"/>
                </a:lnTo>
                <a:lnTo>
                  <a:pt x="117" y="145"/>
                </a:lnTo>
                <a:lnTo>
                  <a:pt x="113" y="157"/>
                </a:lnTo>
                <a:lnTo>
                  <a:pt x="113" y="169"/>
                </a:lnTo>
                <a:lnTo>
                  <a:pt x="115" y="180"/>
                </a:lnTo>
                <a:lnTo>
                  <a:pt x="120" y="190"/>
                </a:lnTo>
                <a:lnTo>
                  <a:pt x="125" y="200"/>
                </a:lnTo>
                <a:lnTo>
                  <a:pt x="133" y="206"/>
                </a:lnTo>
                <a:lnTo>
                  <a:pt x="144" y="212"/>
                </a:lnTo>
                <a:lnTo>
                  <a:pt x="154" y="214"/>
                </a:lnTo>
                <a:lnTo>
                  <a:pt x="166" y="216"/>
                </a:lnTo>
                <a:lnTo>
                  <a:pt x="176" y="216"/>
                </a:lnTo>
                <a:lnTo>
                  <a:pt x="184" y="214"/>
                </a:lnTo>
                <a:lnTo>
                  <a:pt x="193" y="212"/>
                </a:lnTo>
                <a:lnTo>
                  <a:pt x="201" y="209"/>
                </a:lnTo>
                <a:lnTo>
                  <a:pt x="209" y="205"/>
                </a:lnTo>
                <a:lnTo>
                  <a:pt x="217" y="200"/>
                </a:lnTo>
                <a:lnTo>
                  <a:pt x="226" y="194"/>
                </a:lnTo>
                <a:lnTo>
                  <a:pt x="234" y="188"/>
                </a:lnTo>
                <a:lnTo>
                  <a:pt x="212" y="302"/>
                </a:lnTo>
                <a:lnTo>
                  <a:pt x="204" y="304"/>
                </a:lnTo>
                <a:lnTo>
                  <a:pt x="195" y="307"/>
                </a:lnTo>
                <a:lnTo>
                  <a:pt x="184" y="310"/>
                </a:lnTo>
                <a:lnTo>
                  <a:pt x="172" y="311"/>
                </a:lnTo>
                <a:lnTo>
                  <a:pt x="161" y="312"/>
                </a:lnTo>
                <a:lnTo>
                  <a:pt x="150" y="314"/>
                </a:lnTo>
                <a:lnTo>
                  <a:pt x="140" y="314"/>
                </a:lnTo>
                <a:lnTo>
                  <a:pt x="132" y="314"/>
                </a:lnTo>
                <a:lnTo>
                  <a:pt x="115" y="312"/>
                </a:lnTo>
                <a:lnTo>
                  <a:pt x="101" y="311"/>
                </a:lnTo>
                <a:lnTo>
                  <a:pt x="86" y="307"/>
                </a:lnTo>
                <a:lnTo>
                  <a:pt x="73" y="302"/>
                </a:lnTo>
                <a:lnTo>
                  <a:pt x="60" y="295"/>
                </a:lnTo>
                <a:lnTo>
                  <a:pt x="48" y="288"/>
                </a:lnTo>
                <a:lnTo>
                  <a:pt x="39" y="279"/>
                </a:lnTo>
                <a:lnTo>
                  <a:pt x="30" y="269"/>
                </a:lnTo>
                <a:lnTo>
                  <a:pt x="22" y="259"/>
                </a:lnTo>
                <a:lnTo>
                  <a:pt x="13" y="247"/>
                </a:lnTo>
                <a:lnTo>
                  <a:pt x="8" y="233"/>
                </a:lnTo>
                <a:lnTo>
                  <a:pt x="4" y="220"/>
                </a:lnTo>
                <a:lnTo>
                  <a:pt x="1" y="206"/>
                </a:lnTo>
                <a:lnTo>
                  <a:pt x="0" y="192"/>
                </a:lnTo>
                <a:lnTo>
                  <a:pt x="0" y="176"/>
                </a:lnTo>
                <a:lnTo>
                  <a:pt x="1" y="160"/>
                </a:lnTo>
                <a:lnTo>
                  <a:pt x="5" y="143"/>
                </a:lnTo>
                <a:lnTo>
                  <a:pt x="9" y="127"/>
                </a:lnTo>
                <a:lnTo>
                  <a:pt x="16" y="113"/>
                </a:lnTo>
                <a:lnTo>
                  <a:pt x="24" y="98"/>
                </a:lnTo>
                <a:lnTo>
                  <a:pt x="32" y="83"/>
                </a:lnTo>
                <a:lnTo>
                  <a:pt x="43" y="70"/>
                </a:lnTo>
                <a:lnTo>
                  <a:pt x="54" y="58"/>
                </a:lnTo>
                <a:lnTo>
                  <a:pt x="66" y="47"/>
                </a:lnTo>
                <a:lnTo>
                  <a:pt x="78" y="36"/>
                </a:lnTo>
                <a:lnTo>
                  <a:pt x="93" y="27"/>
                </a:lnTo>
                <a:lnTo>
                  <a:pt x="106" y="19"/>
                </a:lnTo>
                <a:lnTo>
                  <a:pt x="122" y="12"/>
                </a:lnTo>
                <a:lnTo>
                  <a:pt x="137" y="7"/>
                </a:lnTo>
                <a:lnTo>
                  <a:pt x="153" y="3"/>
                </a:lnTo>
                <a:lnTo>
                  <a:pt x="169" y="1"/>
                </a:lnTo>
                <a:lnTo>
                  <a:pt x="187" y="0"/>
                </a:lnTo>
                <a:lnTo>
                  <a:pt x="196" y="0"/>
                </a:lnTo>
                <a:lnTo>
                  <a:pt x="205" y="1"/>
                </a:lnTo>
                <a:lnTo>
                  <a:pt x="213" y="1"/>
                </a:lnTo>
                <a:lnTo>
                  <a:pt x="223" y="3"/>
                </a:lnTo>
                <a:lnTo>
                  <a:pt x="232" y="5"/>
                </a:lnTo>
                <a:lnTo>
                  <a:pt x="242" y="7"/>
                </a:lnTo>
                <a:lnTo>
                  <a:pt x="250" y="9"/>
                </a:lnTo>
                <a:lnTo>
                  <a:pt x="258" y="12"/>
                </a:lnTo>
                <a:lnTo>
                  <a:pt x="243" y="12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6720" y="2438280"/>
            <a:ext cx="1819440" cy="1632240"/>
          </a:xfrm>
          <a:custGeom>
            <a:avLst/>
            <a:gdLst/>
            <a:ahLst/>
            <a:rect l="l" t="t" r="r" b="b"/>
            <a:pathLst>
              <a:path w="337" h="303">
                <a:moveTo>
                  <a:pt x="117" y="303"/>
                </a:moveTo>
                <a:lnTo>
                  <a:pt x="0" y="303"/>
                </a:lnTo>
                <a:lnTo>
                  <a:pt x="153" y="0"/>
                </a:lnTo>
                <a:lnTo>
                  <a:pt x="277" y="0"/>
                </a:lnTo>
                <a:lnTo>
                  <a:pt x="337" y="303"/>
                </a:lnTo>
                <a:lnTo>
                  <a:pt x="219" y="303"/>
                </a:lnTo>
                <a:lnTo>
                  <a:pt x="215" y="266"/>
                </a:lnTo>
                <a:lnTo>
                  <a:pt x="132" y="266"/>
                </a:lnTo>
                <a:lnTo>
                  <a:pt x="117" y="303"/>
                </a:lnTo>
                <a:close/>
                <a:moveTo>
                  <a:pt x="207" y="193"/>
                </a:moveTo>
                <a:lnTo>
                  <a:pt x="203" y="140"/>
                </a:lnTo>
                <a:lnTo>
                  <a:pt x="203" y="136"/>
                </a:lnTo>
                <a:lnTo>
                  <a:pt x="203" y="130"/>
                </a:lnTo>
                <a:lnTo>
                  <a:pt x="202" y="125"/>
                </a:lnTo>
                <a:lnTo>
                  <a:pt x="202" y="121"/>
                </a:lnTo>
                <a:lnTo>
                  <a:pt x="202" y="116"/>
                </a:lnTo>
                <a:lnTo>
                  <a:pt x="202" y="110"/>
                </a:lnTo>
                <a:lnTo>
                  <a:pt x="202" y="106"/>
                </a:lnTo>
                <a:lnTo>
                  <a:pt x="202" y="101"/>
                </a:lnTo>
                <a:lnTo>
                  <a:pt x="198" y="101"/>
                </a:lnTo>
                <a:lnTo>
                  <a:pt x="163" y="193"/>
                </a:lnTo>
                <a:lnTo>
                  <a:pt x="207" y="19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484520" y="2438280"/>
            <a:ext cx="2294640" cy="1641600"/>
            <a:chOff x="4484520" y="2438280"/>
            <a:chExt cx="2294640" cy="1641600"/>
          </a:xfrm>
        </p:grpSpPr>
        <p:sp>
          <p:nvSpPr>
            <p:cNvPr id="344" name=""/>
            <p:cNvSpPr/>
            <p:nvPr/>
          </p:nvSpPr>
          <p:spPr>
            <a:xfrm>
              <a:off x="5772240" y="2438280"/>
              <a:ext cx="1006920" cy="77328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6" y="144"/>
                  </a:moveTo>
                  <a:lnTo>
                    <a:pt x="187" y="0"/>
                  </a:lnTo>
                  <a:lnTo>
                    <a:pt x="53" y="2"/>
                  </a:lnTo>
                  <a:lnTo>
                    <a:pt x="0" y="53"/>
                  </a:lnTo>
                  <a:lnTo>
                    <a:pt x="46" y="14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20840" y="2449440"/>
              <a:ext cx="1100880" cy="762120"/>
            </a:xfrm>
            <a:custGeom>
              <a:avLst/>
              <a:gdLst/>
              <a:ahLst/>
              <a:rect l="l" t="t" r="r" b="b"/>
              <a:pathLst>
                <a:path w="204" h="142">
                  <a:moveTo>
                    <a:pt x="71" y="142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204" y="142"/>
                  </a:lnTo>
                  <a:lnTo>
                    <a:pt x="71" y="14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6480" y="3295440"/>
              <a:ext cx="883800" cy="773280"/>
            </a:xfrm>
            <a:custGeom>
              <a:avLst/>
              <a:gdLst/>
              <a:ahLst/>
              <a:rect l="l" t="t" r="r" b="b"/>
              <a:pathLst>
                <a:path w="164" h="144">
                  <a:moveTo>
                    <a:pt x="31" y="144"/>
                  </a:moveTo>
                  <a:lnTo>
                    <a:pt x="0" y="87"/>
                  </a:lnTo>
                  <a:lnTo>
                    <a:pt x="89" y="0"/>
                  </a:lnTo>
                  <a:lnTo>
                    <a:pt x="164" y="144"/>
                  </a:lnTo>
                  <a:lnTo>
                    <a:pt x="31" y="14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4520" y="3295440"/>
              <a:ext cx="1493280" cy="784440"/>
            </a:xfrm>
            <a:custGeom>
              <a:avLst/>
              <a:gdLst/>
              <a:ahLst/>
              <a:rect l="l" t="t" r="r" b="b"/>
              <a:pathLst>
                <a:path w="277" h="146">
                  <a:moveTo>
                    <a:pt x="131" y="146"/>
                  </a:moveTo>
                  <a:lnTo>
                    <a:pt x="277" y="0"/>
                  </a:lnTo>
                  <a:lnTo>
                    <a:pt x="144" y="0"/>
                  </a:lnTo>
                  <a:lnTo>
                    <a:pt x="0" y="146"/>
                  </a:lnTo>
                  <a:lnTo>
                    <a:pt x="131" y="14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486480" y="2438280"/>
            <a:ext cx="1819440" cy="1632240"/>
          </a:xfrm>
          <a:custGeom>
            <a:avLst/>
            <a:gdLst/>
            <a:ahLst/>
            <a:rect l="l" t="t" r="r" b="b"/>
            <a:pathLst>
              <a:path w="337" h="303">
                <a:moveTo>
                  <a:pt x="117" y="303"/>
                </a:moveTo>
                <a:lnTo>
                  <a:pt x="0" y="303"/>
                </a:lnTo>
                <a:lnTo>
                  <a:pt x="154" y="0"/>
                </a:lnTo>
                <a:lnTo>
                  <a:pt x="277" y="0"/>
                </a:lnTo>
                <a:lnTo>
                  <a:pt x="337" y="303"/>
                </a:lnTo>
                <a:lnTo>
                  <a:pt x="220" y="303"/>
                </a:lnTo>
                <a:lnTo>
                  <a:pt x="216" y="266"/>
                </a:lnTo>
                <a:lnTo>
                  <a:pt x="132" y="266"/>
                </a:lnTo>
                <a:lnTo>
                  <a:pt x="117" y="303"/>
                </a:lnTo>
                <a:close/>
                <a:moveTo>
                  <a:pt x="208" y="193"/>
                </a:moveTo>
                <a:lnTo>
                  <a:pt x="203" y="140"/>
                </a:lnTo>
                <a:lnTo>
                  <a:pt x="203" y="136"/>
                </a:lnTo>
                <a:lnTo>
                  <a:pt x="203" y="130"/>
                </a:lnTo>
                <a:lnTo>
                  <a:pt x="203" y="125"/>
                </a:lnTo>
                <a:lnTo>
                  <a:pt x="203" y="121"/>
                </a:lnTo>
                <a:lnTo>
                  <a:pt x="203" y="116"/>
                </a:lnTo>
                <a:lnTo>
                  <a:pt x="203" y="110"/>
                </a:lnTo>
                <a:lnTo>
                  <a:pt x="203" y="106"/>
                </a:lnTo>
                <a:lnTo>
                  <a:pt x="203" y="101"/>
                </a:lnTo>
                <a:lnTo>
                  <a:pt x="199" y="101"/>
                </a:lnTo>
                <a:lnTo>
                  <a:pt x="164" y="193"/>
                </a:lnTo>
                <a:lnTo>
                  <a:pt x="208" y="19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48657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eorgia"/>
              </a:rPr>
              <a:t>Aqui o Brasil acont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973080"/>
            <a:ext cx="79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mover a melhoria contínua da qualidade de vida da sociedade, intermediando recursos e negócios financeiros de qualquer natureza, atuando, prioritariamente, no fomento ao desenvolvimento urbano e nos segmentos de habitação, saneamento e infra-estrutura, e na administração de fundos, programas e serviços de caráter social, tendo como valores fundament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ionamento de ações para o atendimento das expectativas da sociedade e dos client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 permanente de excelência na qualidade de serviç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íbrio financeiro em todos os negóc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ta ética pautada exclusivamente nos valores da socie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buClr>
                <a:srgbClr val="ff07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ito e valorização do ser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3600" y="16668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SA MI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9640" y="5942160"/>
            <a:ext cx="8209080" cy="368280"/>
            <a:chOff x="539640" y="5942160"/>
            <a:chExt cx="8209080" cy="368280"/>
          </a:xfrm>
        </p:grpSpPr>
        <p:sp>
          <p:nvSpPr>
            <p:cNvPr id="93" name=""/>
            <p:cNvSpPr/>
            <p:nvPr/>
          </p:nvSpPr>
          <p:spPr>
            <a:xfrm>
              <a:off x="539640" y="5942160"/>
              <a:ext cx="820908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É O MAIOR BANCO BRASILEIRO EM VOLUME DE DEPÓSITO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Página Principal">
              <a:hlinkClick r:id="rId2"/>
            </p:cNvPr>
            <p:cNvPicPr/>
            <p:nvPr/>
          </p:nvPicPr>
          <p:blipFill>
            <a:blip r:embed="rId3"/>
            <a:srcRect l="0" t="-8570" r="57605" b="0"/>
            <a:stretch/>
          </p:blipFill>
          <p:spPr>
            <a:xfrm>
              <a:off x="853920" y="5950080"/>
              <a:ext cx="909720" cy="34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5040" y="1666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E OPERACIONAL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1704960"/>
          <a:ext cx="7932600" cy="2212920"/>
        </p:xfrm>
        <a:graphic>
          <a:graphicData uri="http://schemas.openxmlformats.org/drawingml/2006/table">
            <a:tbl>
              <a:tblPr/>
              <a:tblGrid>
                <a:gridCol w="2736720"/>
                <a:gridCol w="1905120"/>
                <a:gridCol w="1454040"/>
                <a:gridCol w="1836720"/>
              </a:tblGrid>
              <a:tr h="581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Equip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e Mainfr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es In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s Servi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mento em Dis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539640" y="4724280"/>
            <a:ext cx="806472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 Médio de Transações CICS/Mês: + 5 b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300640"/>
            <a:ext cx="806472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 de Sistemas Aplicativos Corporativos: +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872320"/>
            <a:ext cx="806472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 de Pontos de Rede Ativos: + 10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1413000"/>
            <a:ext cx="7920000" cy="15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ponibilizar Solução Tecnológica para Registro e Controle de Ponto para todos os 55 mil empregados da CAIXA, a qualquer hora e em qualquer dia da semana (SIPON)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5600" y="166680"/>
            <a:ext cx="17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AF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943600"/>
            <a:ext cx="82090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ponibilidade – A Palavra C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0480" y="350532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ntos Crít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úmero de Usuários Simultâne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rangência Nac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ponibilidade 24X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abilidade da Solução (leg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1539720"/>
            <a:ext cx="7920000" cy="33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por Solução At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tilizar Ambiente de “Novas Carga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essibilidade Máx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cilidade de U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piciar Reuso de Códi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roveitar “expertise” e Recursos Disponíve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car Alta Perform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rantir Alta Disponibi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rir Leque de Soluções Tecnológ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9400" y="16668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6033960"/>
            <a:ext cx="860400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eja realista: exija o impossível.”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(Grafitti nos muros de Paris - 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1501920"/>
            <a:ext cx="792000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2 IBM z/Series 2064-1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/390 V2.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B2 V 5.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CS TS V1.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3080" y="166680"/>
            <a:ext cx="34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e Prop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8600" y="4603680"/>
            <a:ext cx="8604360" cy="1798560"/>
            <a:chOff x="228600" y="4603680"/>
            <a:chExt cx="8604360" cy="1798560"/>
          </a:xfrm>
        </p:grpSpPr>
        <p:sp>
          <p:nvSpPr>
            <p:cNvPr id="110" name=""/>
            <p:cNvSpPr/>
            <p:nvPr/>
          </p:nvSpPr>
          <p:spPr>
            <a:xfrm>
              <a:off x="228600" y="6033960"/>
              <a:ext cx="860436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ICS: Se reinventando a cada tempo. A velha novidade, em e-business!”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6084720" y="4603680"/>
              <a:ext cx="2737080" cy="143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1511280"/>
            <a:ext cx="8064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ponibilidade/Performanc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esso por caminhos distintos, SNA e TCP/I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dundância de Recurs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versa do Browser direto com o CIC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o de CICSPlex, DB2Plex, Parallel Sysplex e correlat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tribuição de Cargas via Local Director (rede) &amp; W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72640" y="16668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ção Tec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033960"/>
            <a:ext cx="860436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ponibilidade – Uma busca ininterrupta, Uma obrigação l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511280"/>
            <a:ext cx="829476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nvolvi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s via Terminal 3270 e Brows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ção em Camadas para Reaproveitamento da Lógica de Negóc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ação em COBOL/VisualAge Generat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 de sessão de usuário via TS em Coupling Fac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72640" y="15228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ção Tec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6033960"/>
            <a:ext cx="860400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ara quem não sabe onde ir, qualquer caminho serve. Use Unix!”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. Sall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6:48:00Z</dcterms:created>
  <dc:creator>CAIXA</dc:creator>
  <dc:description/>
  <dc:language>en-US</dc:language>
  <cp:lastModifiedBy>CAIXA</cp:lastModifiedBy>
  <dcterms:modified xsi:type="dcterms:W3CDTF">2003-04-24T14:49:42Z</dcterms:modified>
  <cp:revision>1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6811684</vt:r8>
  </property>
  <property fmtid="{D5CDD505-2E9C-101B-9397-08002B2CF9AE}" pid="3" name="_AuthorEmail">
    <vt:lpwstr>alexandre.walter@caixa.gov.br</vt:lpwstr>
  </property>
  <property fmtid="{D5CDD505-2E9C-101B-9397-08002B2CF9AE}" pid="4" name="_AuthorEmailDisplayName">
    <vt:lpwstr>Alexandre Walter</vt:lpwstr>
  </property>
  <property fmtid="{D5CDD505-2E9C-101B-9397-08002B2CF9AE}" pid="5" name="_EmailSubject">
    <vt:lpwstr>RES: </vt:lpwstr>
  </property>
  <property fmtid="{D5CDD505-2E9C-101B-9397-08002B2CF9AE}" pid="6" name="_PreviousAdHocReviewCycleID">
    <vt:r8>1402486570</vt:r8>
  </property>
</Properties>
</file>