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move the slide</a:t>
            </a:r>
            <a:endParaRPr b="0" lang="en-US" sz="4800" spc="-1" strike="noStrike">
              <a:solidFill>
                <a:srgbClr val="cc9900"/>
              </a:solidFill>
              <a:latin typeface="Tahom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EC14462-2440-468F-AD09-3FFEDCE8F27F}" type="slidenum">
              <a:rPr b="0" lang="pt-B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oa tar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u sou o Claudio e pretendo dividir hoje com vcs a experi6encia que nós tivemos na serasa na implementação do cics ts 1.3 e o que foi, o que é o early support program, o e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u trabalho como analista de suporte, sou o cara que que instala mvs ...instala cpu...analisa dump...e vive enchendo o saco do pessoal que toma conta do cics com aquelas perguntinhas clássicas “mas tá certo o cics gastar isso tudo de cpu ? Ele não está em loop ?” Acho que o cics tá acabando c/ a máquina etc e 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m, de tanto espinafrar o produto , eu acabei conhecendo o produto. E em função do tamanho reduzido da nossa equipe na serasa - somos em 4 pessoas p/ tomar conta de tudo, menos vtam  e db2 - bem, o nosso grupo então ficou bastante eclético, todo mundo mexe com tudo, mvs , cics, racf, jes o que apare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sa é uma apresentação leve, que não  gasta muito tempo com  conceitos, principalmente daquilo que não é novidade no mundo cics, como cpsm por exemplo, mas ao invés disso  contar como aconteceu a implantaçã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iquem à vontade p/ me interromper à qq momento, fazer alguma pergunta, algum comentário, o que for. Ok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etapas de migração foram clássica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gora vou contar um pouco dos recursos do cts 1.3 que nós começamos a u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uem já não quis isso, um 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finido através da sit ou também via cemt, esqueci de colocar isso no foil, cemt  s autoinstall console(progauto / fulla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nsando em termos de autoinstall convencional, para terminais lu2 lu3...o pgm de autoinstall recebe o controle tendo como argumento, entre outras coisas, o primeiro de uma lista de modelos elegíveis p/ o install. O seu pgm então,  seleciona algum outro modelo , faz qq processamento adicional e devolve o controle ou simplesmente acata o modelo suger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ois então , a opção aicons=auto é exatamente isso , sem chamar o seu pgm de autoinstall. O cics instala sem mais considerações aquele modelo que ele julga adequado. Estamos trabalhando dessa maneira na Serasa. Se isso não bastar “ah eu queria outro modelo, com outras características”, codifique tal lógica no seu próprio pgm de autoinstall e ponha aicons=yes na sit. Preset security traz uma novidade agora *first e *every. *first : pega o nome do usuário que está signedn on pelo racf no primeiro modify cics,ddd que gerar o install dessa console. *every faz com que o cics pegue essa informação a todo modify que for emitido contra esse cic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se mandar as tss p/ a cf, é necessário criar um tsmodel no ceda, associando uma ts id ( ou grupo de ts ids , genérico ) a uma dada residência, que pode ser main, aux, ou um tspool definido. Percebam que agora  onde a ts vai residir é uma decisão do system programmer e não mais do programador de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Vc pode segmentar área de ts na cf em até 8 pools diferentes, cada um deles atendido por uma instância de um novo address space, o tsqsr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 agora o mais interessante...vc grava uma ts de controle de qq coisa, o cics sai do ar, e qdo volta...a ts continua lá ! Não adianta startar o cics com cold, cancelar o tsqsrvr,, sequer ipl nesse mvs vai deletar a ts. Ela só vai sumir se vc deletá-la, explicitamente, ou dar um setxcf force,structure=sssss  ou se houver um ipl da cf .Por isso é interessante desenvolver um pgm exorcista de tss  e rodá-lo com alguma periodicidade, sob pena de estourar essa área rapidament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Já tinha dito algo p/ vcs do problema com os enqueues...pois bem, quem resolve isso agora é o grs. Se vc definir um enqmodel no csd que case com request de enqueue que vá ser emitido, então o nome real do recurdo serializado será como qname dfhe + enqscope e p/ rname, o enqname que foi codificado originaria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É a implementação mais tranquila de todas e ainda assim, se vc perceber que fez bobagem e quiser voltar à situação anterior , bast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ambém fácil de sair  usando mas com alguns cuidados programaciona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ternamente as identificações de tss ficam alinhadas em 16 bytes, completadas à direita com espaç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erigo é o programador se acostumar com o uso de QNAME, contando com uma área de 16 posições , e depois codificar essa opção com  uma área de 8 posições. Então o nome da ts vai ficar muitas vezes imprevisível...mas uma vez justificando a codificaçõ do pgm exorcista de t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telas de definição  no racf até o v2r5m0 supõe que o nome do recurso protegido é nome-da-classe ”." nome-da-profile  o que dá 17 posiçõ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u seja, se vc quiser proteger essas novas tss pelo racf vc vai precisar de um campo com 25 posições, o que só existe no racf do os/390 v2r6m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roblema da cebr até agora não resolvido é que ela  foi  modificada p/ usar incondicionalmente a opção qname, então se vc emitir cebr nome-da-ts com até 8 posições ela vai concatenar esse nome com 8 bytes de zeros binários e responder graciosamente que a ts não existe. a única maneira de driblar isso é tentar  especificar o nome em hexa, sufixando com  16 bytes de x’00'. Isso foi reportado durante o esp, o cara do dese. tinha até uma idéia p/ resolver mas até agora ela não foi implement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isponível desde o cics 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 começar a usar, defina um tcpip service via ceda e reserve um port number que tb deverá ser definido na configuração do tcpip. Suba seu cics com tcp=yes e tb web=yes na sit. Escolha uma aplicação 3270 qq e recompile seu mapa, especificando que vc quer tb gerar o html. Esses cartões ficarão armazenaddos num pds que deverá estar no startup do cics com o dd df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Recompile seu pgm...e pronto. Já dá p/ sair  us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aso vc modifique seu mapa html, um ceci ou cemt discard doctemplate(nome do mapa) bastará p/ refrescá-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É possível tb via macros bms-  mas aí vc já começa a mexer no map - bom, é possível mudar a cor de fundo, mudar cor, tamanho e tipo do fonte e também acrescentar botões p/ simular pressionamento de pfs ou pas. Em alguns casos nem dá p/ saber que originariamente era um mapa p/ 32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que precisa ser pensado é a questão da segurança. Cada transação roda numa facility diferente, criada dinâmicamente a cada enter que vc dá no browser, assim sendo cada signon só vale enquanto a transação ainda estiver rodando...se vc vê algum resultado é pq ela já acabou, ou pseudo-conversou, e nesse instante está sem nenhum usuário signe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melhor maneira de resolver isso, senão a única, é começar a usar o racf pass-ticket. Sugiro enfaticamente que todos que queiram usar essa facilidade pesquisem isso, ent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amed counter server é isso mesmo que vcs estão lendo...um address space parecido com aquele servidor de ts, operando tb com pools, usando o subsistema axm, e cuja única função é incrementar ou decrementar contadores. Qdo ouvi isso pela primeira vez, achei uma grande bobagem embora sempre tenha havido a necessidade da utilização e geração de números sequenciais em qq site. O que não parecia ter cabimento era o esforço de desenvolvimento envolvido nessa feature e o alardeamento que fez encima disso. Depois pensando melhor pensei num problema que eu tinha que talvez a única solução fosso o named-counter server ...trivial até. Algumas tss minhas são nomeadas concatenando-se o eibtaskn p/ se gerar  unicidade...mas qdo essas transações estivessem rodando com dynamic transaction routing, ora num cics, ora em outro, era fatal que houvesse alguma colisão de tasknumber em algum momento. Então criei um  contador dei nome p/ ele até 32 posições e passei a usá-lo como o meu eibtaskn válido p/ todo o sysplex. Esse contador mora na cf, então o acesso é bastante rápido, a api é bem simples. Pgms batch tb podem se beneficiar dessa solução mas através de calls no pgm dfhnc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va rct  online e sua equivalência com as macros antig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u tinha uma modalidade de operação que dava dsnc stop numa rct e dsnc start em outra, com outros valores de threads e outras conveniências de produção, isso se dava principalmente no momento de duplicação de bases, a base a ser duplicada era fechada e outra espelho,read-only era disponibilizada nesse ínterim. Como agora só pode existir  1 db2conn instalada a coisa ficou mais chata. Ou eu tenho que instalar outra db2conn ou então eu mudo o db2ssid e altero a qtde de threads via comando explíc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s novos comandos p/ fehar, abrir e fechar com force são os segui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alterar o número de th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h e não é mais necessário um pgm na pltpi p/ abrir a conexão com o db2, basta especificar db2conn=yes na 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495288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datatables que já existiam há um certo tempo, foram agora incrementadas com a possibilidade de residirem na cf. de novo, a implementação se assemelha a do tsqsrvr, digo, existe um address space, conversando via subsistema axm, e que controla um poolid de cf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ão há reflexo das atualizações dessa datatable p/ algum dataset, tendo aqui um comportamento bastante parecido com com as user-maintened datatables ou seja, é acesso puro em memória , mas é possível especificar um arquivo vsam, source, que será lido p/ popular essa tabela quando ela estiver na condição de vaz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modelo de atualização é especificado na definição da tabela via ce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ocking model é aquilo que a gente já conhece, o registro atualizado é bloqueado enquanto quem está fazendo update ainda não termi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s o contention model é bem interess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ele, todo mundo pode ler ao mesmo tempo, e na hora de fazer a atualização vc recebe um eibresp dizendo que o arquivo foi lido por uma outra transação nesse meio tempo. Então vc pode tomar alguma atitude, como reler o registro em questão e re-apresentá-lo ao usuário p/ saber se ele continua querendo fazer a alteração original. Essa ausência de locks torna a aplicação bastante mais eficiente, consumindo menos recursos do cics, mas em compensação exige que o pgm seja reescrito p/ lidar com essas novas condições. A sugestão é: se for uma nova transação, e uma nova tabela, evidente, tentem usar o contention model. Senão, em tempo de conversão, especifiquem locking model mesmo e vão em fr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Vcs devem conhecer a Serasa mais pela associação de idéia com lista negra, cheque sem fundo, esse tipo de coisa. Eu mesmo, antes de trabalhar lá, tinha essa idéia. Que não é falsa, só não diz tu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la pertence aos bancos. Grandes decisões de diretoria têm de ser aprovadas pelo conselho da Febraban.  Isso não faz com que as consultas à Serasa não sejam cobradas. Apenas as regras e as tarifas são diferentes daquelas que são colocadas p/ outros setores da economia, como comércio ou indúst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número de transações é bem maior do que isso. Dependendo do caso, cada consulta pode gerar 4 ou 5 transações.  E mais de 300 mil clientes diretos e indiretos, por exemplo, nós vendemos consultas p/ diversas associações comercias que por sua vez repassam as informações p/ o comércio regional, seus associados enf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Visitem o site da Seras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PSM é um produto bastante amplo, mas nesse momento nós só tínhamos  interesse no controle de dynamic transaction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se é um assunto enorme, que demandaria treinamento , ou p/ resolver, um curso , só a propósito por uns  2 anos eu quis fazer  um curso de cpsm mas a ibm sempre cancelava dizendo que não tinha quórum. Não sei hoje como est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k, falando então bem superficialmente e rapidamente sobre is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regiões são conceitualmente  p/ o cpsm, de 3  tipo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uas topologias possív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ub model  é a clássica, papéis bem definidos de tor ou aor onde o tor atua como req. E routing region e o aor , como tar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 modelo distribuído, qq região pode atuar como requesting ou routing ou target...em termos práticos, significa que um e.c. start transid com ou sem terminal pode passar pelo pgm de dtr e acabar efetivamente rodando em alguma outra região desse cics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ém de várias regras que vc pode definir p/ o cpsm, tipo essa trans não roteie p/ nenhum outro cics, nunca ou então essa trans têm que rodar na mesma região que tal outra ou mesmo só faça dtr p/ userid 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2 algoritmos  p/ se configurar a distribuição de carga : o queue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menor fila de trans. Dependendo do max task de cada região , menos afetada por sos, sysudump, transdump, e a região que tem a menor probabilidade de abendar a tr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u então, a região com o melhor desempenho, sob o ponto de vista do wlm.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que causou dor de cabeça, de uma forma geral, foi a implementação do le, o que deveria ser  uma estrutura única de serviços p/ todas as linguagens ficou bastante tempo parecendo mais uma torre de babel...com uma performance medonha e vários outros problemas. Meu cics começou a entrar em sos logo na pltpi, entrava e saía, entrava e saía, dezenas e dezenas de ve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eguindo o missário de implementação que está no próprio material de instalação não é suficiente. Mas precisa ser fe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ém disso é obrigatório codificar ruwapool=yes na sit ( sua ausência inicial e foi a principal razão dos s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ecisei compilar e disponibilizar via ceedopt, que é a macro de runtime p/ o le, com cics, a user exit handler ceewucha cujo fonte vem na samplib do le. Sem  isso , quando algum programa for abendar asra, por exmplo, o le assume o controle , lista no dump dataset alguns blocos de controle que só dizem respeito a ele, se tanto, e troca o código de abend por outro, de significado absolutamente misterioso. Não dá p se chegar a nenhuma conclusão com ess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user exit handler restaura o que devia ser desde o princípio : o abend code original. Além disso, peçam todo o nível de serviço disponível p/ le , um psp mesmo, e não se assustem com a qtde de ptfs que vierem. Pensando bem, acho melhor vcs se assustarem e pedirem de uma vez um os/390 fresquinho, com poucos remendos de smp. Tenho pavor de aplicar alguns serviço que tenha centenas de ptfs...se alguma der pau, como descobrir qual foi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suporte foi excelente pq era uma relação de parceria, coisa que nem sempre se sente qdo abrimos um chamado através dos canais convencionais. Aliás uma pessoa do cac de são paulo tb foi p/ hursley obter treinamento assim que foi definida a participação de uma empresa brasileira,  caracterizando bem o comprometimento da ibm em que o projeto desse certo.</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resultado dessa esperiência foi entre outras coisas, aquela satisfação passional que normalmente o analista de suporte tem qdo domina uma tecnologia nova. O gosto do novo, do pioneiro. Isso é muito subjetivo mas p/ nós foi bastante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se item foi um resultado estatístico do relatório de encerramento do esp. Praticamente todos os participantes tiveram essa impressão, que o cts 1.3 veio melhor do que vieram outros releases do cics. Mais redondo, com menos manutenção e fazendo grande parte do que promet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agora em diante, não dá mais p/ o analista que conhece só cics instalar o produto sozinho. Ele vai precisar de muita ajuda de outros grupos principalmente da equipe de mvs e dependendo dos recursos explorados, de mais equipes ai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 de novo, uma opinião comum dos participantes do esp é que o ponto com maior demanda de aprendizado foi a utilização adequada dos serviços de system logging, algo que ocorre de maneira bem definida p/ quem ainda não tem cics ts rodando...quem vem de v4 por ex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palavra final então, é, podem migrar, o cics ts 1. dá trabalho mas no final o crime compens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É claro que tenho outros ambientes ( desen. por ex. )  mas o que interessa é a produ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izemos um mess  recentemente , esses aí são os novos tamanhos de cf   ...mas a implantação ocorreu inicialmente com uma cf de 700 mega num r45 e outra de 256 mega num r63. Aguentou perfeitamente b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ses discos Shark são o enterprise storage server...é um disco bastante novo e bastante bom também. Ele virtualmente acaba com o problema de contenção de ucb, entre outras facilidades, através de algo chamado ucb alias. Dessa maneira consegue-se um verdadeiro paralelismo de operações de io a volumes os/390 dentro do shark e priorizados pelo wl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v2r5 entrou em janeiro alavancado por exigências do cics ts 1.3 e rodamos em goal-mode basicamente desde a data em que foi liber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Rodamos //sysplex de produ. com 4 mvss e dentre as poucas coisas que podiam  estar na cf  e ainda não foram  db2 datasharing.é a mais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s vai começar jájá com um projeto piloto que o nosso dba está conduzi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qseries ainda embrionário no mainframe mas com bastante utilização nas plataformas baixas. Isso deve mudar a médio prazo com o treinamento que as equipes de desenvolvimento estão tendo visando o domínio de programaçao com mq. Em verdade eu penso que o mais dificil p/ mqseries é a idéia da programação e não a codificação propriamente d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 14 regiões de produção de cics ts 1.3 . Não tenho mais nada rodando de cics 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Early Support Program é , em poucas palavras, o  beta-teste que a ibm faz rodar nos sites de alguns clientes, selecionados pela capacidade de avaliar determinadas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ssa participação no esp do cics foi razoavelmente  acidental. Um dia eu navegava pela internet, à toa, li umas coisas sobre cics, e preenchi  um formulário de interesse em participar no  esp de maneira bem descompromissada . Contava mais em ter acesso a alguma documentação mais aprofundada do que qq outra coi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om mesmo assim, algumas semanas depois  recebi  um  questionário por email  - um questionário enorme - onde eles perguntavam tudo da instalação  e mais tarde eu recebi numa reunião o Fadel, Helcio , quando  houve uma formalização de interesses mútuos em que a Serasa participasse do esp p/ o cics ts 1.3. E a brincadeira começou. Tenho impressão que foi particularmente interessante p/ a ibm que nós participásssemos pois nunca ninguém da américa latina havia ou mostrado interesse ou ter sido envolvido no programa. Daí, com a globalização...entramos nes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principais idéias do esp são essas...inovação tecnológica. Oportunidade de mexer com isso antes de todo mundo.Treinamento na casa do Cics onde ele sai quentinho do forno. Em todas as fases do projeto, os problemas eram reportados diretamente ao pessoal que codificou a feature em questão. Isso é bárbaro. E o contato com  outros particip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nqueue : temos diversos pgms que p/ evitarem deadlocks de db2, usam a lógica de enq/deq no segmento crítico navegacional do pgm. Como eu poderia clonar as minhas regiões de cics ? Como eu poderia rodar a mesma transação que dá enqueue em imagens diferentes de mvs ?não seria  possível sem essa característica do ts 1.3, que usa o grs p/ resolver tu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ss morarem na cf. esse tb é um negócio que mata a pau o problema de afinidades. Long ts queue names : expande o nome da ts p/ até 16 posições. Isso já estava tão complicado na serasa que a gente já estava usando bit de sinal p/ armazenar informações.Cics web interface. Named counter parece bobagem mas + tarde explico pq é tão interessante. Ele é em mínimas palavras um addr space que incrementa e decrementa contad. O nome já diz tudo e o maior benefício é facilitar a vida do db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psm era um desejo antigo mas eu achei muito chato de implementar sozinho, e de novo apelei p/ essa facilidade de suporte que o esp me proporcionav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u e o Helcio tivemos diversas reuniões p/ bolar alguma estratégia p/ projeto mas ele começou a acontecer mesmo com  o treinamento em Hurs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pós isso, pesquisa, leitura de documentação, reuniões, conference calls com o líder do esp e interações com outros participantes num forum , pela internet. O planejamento acho que não acabou até hoje, mas começou naquela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instalação do v2r5 foi uma grande correria p/ que os tempos do cronograma vingassem, e de novo essa tarefa sobrou p/ mim e p/ um colega que trabalha comigo.. Enfim, em fevereiro chegou a versão  L.A.  do ts 1.3. Mei o careca, com nem tudo disponível, mas funcional. Os manuais tb diziam uma coisa e na prática era outra, às vezes o contrário, mas a justificativa era exatamente tratar-se de um esp. Brincamos bastante, adquirimos confiança no produto e acabamos fazendo o desenvolvimento de cobaias, migrando as regiões de teste p/ cts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junho já tínhamos a versão g.a . E apesar de não registrado, acreditamos que tenhamos sido o primeiro site do mundo a colocar essa versão p/ rodar e em agosto já tínhamos tudo convertido e em produça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foi possível alocando dois técnicos com um bom conhecimento de cics, eu e um coleg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is a equipe de mvs que de novo, eu e esse amigo. Principalmente p/ cobrir as definições de recursos junto ao sistema opera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essoal de banco de dados, aí sim era outro grupo mas que trabalha em grande sincronismo cono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 o time de desenvolvimento na parte de exploração das novas estruturas programaciona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 mínimo v2r5 precisa estar rodando com sms tb pq parte da instalação usa pdses e tb hfs do 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83A28-7806-491A-A0DE-E5628E53C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837720" y="1295280"/>
            <a:ext cx="754380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31" name="PlaceHolder 3"/>
          <p:cNvSpPr>
            <a:spLocks noGrp="1"/>
          </p:cNvSpPr>
          <p:nvPr>
            <p:ph/>
          </p:nvPr>
        </p:nvSpPr>
        <p:spPr>
          <a:xfrm>
            <a:off x="837720" y="3205800"/>
            <a:ext cx="754380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8C635-1AEC-4D5A-AD0A-EB35DB828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83772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34" name="PlaceHolder 3"/>
          <p:cNvSpPr>
            <a:spLocks noGrp="1"/>
          </p:cNvSpPr>
          <p:nvPr>
            <p:ph/>
          </p:nvPr>
        </p:nvSpPr>
        <p:spPr>
          <a:xfrm>
            <a:off x="470340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35" name="PlaceHolder 4"/>
          <p:cNvSpPr>
            <a:spLocks noGrp="1"/>
          </p:cNvSpPr>
          <p:nvPr>
            <p:ph/>
          </p:nvPr>
        </p:nvSpPr>
        <p:spPr>
          <a:xfrm>
            <a:off x="837720" y="320580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36" name="PlaceHolder 5"/>
          <p:cNvSpPr>
            <a:spLocks noGrp="1"/>
          </p:cNvSpPr>
          <p:nvPr>
            <p:ph/>
          </p:nvPr>
        </p:nvSpPr>
        <p:spPr>
          <a:xfrm>
            <a:off x="4703400" y="320580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B56C6-AC61-4147-837E-B783F957B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837720" y="129528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39" name="PlaceHolder 3"/>
          <p:cNvSpPr>
            <a:spLocks noGrp="1"/>
          </p:cNvSpPr>
          <p:nvPr>
            <p:ph/>
          </p:nvPr>
        </p:nvSpPr>
        <p:spPr>
          <a:xfrm>
            <a:off x="3388320" y="129528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0" name="PlaceHolder 4"/>
          <p:cNvSpPr>
            <a:spLocks noGrp="1"/>
          </p:cNvSpPr>
          <p:nvPr>
            <p:ph/>
          </p:nvPr>
        </p:nvSpPr>
        <p:spPr>
          <a:xfrm>
            <a:off x="5939280" y="129528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1" name="PlaceHolder 5"/>
          <p:cNvSpPr>
            <a:spLocks noGrp="1"/>
          </p:cNvSpPr>
          <p:nvPr>
            <p:ph/>
          </p:nvPr>
        </p:nvSpPr>
        <p:spPr>
          <a:xfrm>
            <a:off x="837720" y="320580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2" name="PlaceHolder 6"/>
          <p:cNvSpPr>
            <a:spLocks noGrp="1"/>
          </p:cNvSpPr>
          <p:nvPr>
            <p:ph/>
          </p:nvPr>
        </p:nvSpPr>
        <p:spPr>
          <a:xfrm>
            <a:off x="3388320" y="320580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3" name="PlaceHolder 7"/>
          <p:cNvSpPr>
            <a:spLocks noGrp="1"/>
          </p:cNvSpPr>
          <p:nvPr>
            <p:ph/>
          </p:nvPr>
        </p:nvSpPr>
        <p:spPr>
          <a:xfrm>
            <a:off x="5939280" y="320580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C0FB1-4E14-4D23-86F8-60CF91CEC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0F884-65EC-4539-80B1-248652BB9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837720" y="1295280"/>
            <a:ext cx="7543800" cy="3657600"/>
          </a:xfrm>
          <a:prstGeom prst="rect">
            <a:avLst/>
          </a:prstGeom>
          <a:noFill/>
          <a:ln w="0">
            <a:noFill/>
          </a:ln>
        </p:spPr>
        <p:txBody>
          <a:bodyPr lIns="0" rIns="0" tIns="0" bIns="0" anchor="ctr">
            <a:no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AB415-38AE-4871-A5BA-261FBED97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FEA9A-D550-49F8-B02E-7C8BB4B64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837720" y="1295280"/>
            <a:ext cx="368136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58" name="PlaceHolder 3"/>
          <p:cNvSpPr>
            <a:spLocks noGrp="1"/>
          </p:cNvSpPr>
          <p:nvPr>
            <p:ph/>
          </p:nvPr>
        </p:nvSpPr>
        <p:spPr>
          <a:xfrm>
            <a:off x="4703400" y="1295280"/>
            <a:ext cx="368136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D51F0-EEBD-4182-A6ED-2F18909AD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0F4A8-BD5D-4928-9AEC-11D8377AD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360"/>
            <a:ext cx="7315200" cy="5299560"/>
          </a:xfrm>
          <a:prstGeom prst="rect">
            <a:avLst/>
          </a:prstGeom>
          <a:noFill/>
          <a:ln w="0">
            <a:noFill/>
          </a:ln>
        </p:spPr>
        <p:txBody>
          <a:bodyPr lIns="0" rIns="0" tIns="0" bIns="0" anchor="ctr">
            <a:noAutofit/>
          </a:bodyPr>
          <a:p>
            <a:endParaRPr b="0" lang="en-US" sz="2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2CD0B-1291-4453-A680-CABD206B6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83772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3" name="PlaceHolder 3"/>
          <p:cNvSpPr>
            <a:spLocks noGrp="1"/>
          </p:cNvSpPr>
          <p:nvPr>
            <p:ph/>
          </p:nvPr>
        </p:nvSpPr>
        <p:spPr>
          <a:xfrm>
            <a:off x="4703400" y="1295280"/>
            <a:ext cx="368136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4" name="PlaceHolder 4"/>
          <p:cNvSpPr>
            <a:spLocks noGrp="1"/>
          </p:cNvSpPr>
          <p:nvPr>
            <p:ph/>
          </p:nvPr>
        </p:nvSpPr>
        <p:spPr>
          <a:xfrm>
            <a:off x="837720" y="320580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DF936-CE62-47B9-AFA3-945BA6CEC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837720" y="1295280"/>
            <a:ext cx="7543800" cy="3657600"/>
          </a:xfrm>
          <a:prstGeom prst="rect">
            <a:avLst/>
          </a:prstGeom>
          <a:noFill/>
          <a:ln w="0">
            <a:noFill/>
          </a:ln>
        </p:spPr>
        <p:txBody>
          <a:bodyPr lIns="0" rIns="0" tIns="0" bIns="0" anchor="ctr">
            <a:no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C87B-B656-4290-AD3F-A1BDF54B8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837720" y="1295280"/>
            <a:ext cx="368136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7" name="PlaceHolder 3"/>
          <p:cNvSpPr>
            <a:spLocks noGrp="1"/>
          </p:cNvSpPr>
          <p:nvPr>
            <p:ph/>
          </p:nvPr>
        </p:nvSpPr>
        <p:spPr>
          <a:xfrm>
            <a:off x="470340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8" name="PlaceHolder 4"/>
          <p:cNvSpPr>
            <a:spLocks noGrp="1"/>
          </p:cNvSpPr>
          <p:nvPr>
            <p:ph/>
          </p:nvPr>
        </p:nvSpPr>
        <p:spPr>
          <a:xfrm>
            <a:off x="4703400" y="320580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153E4-333C-4211-86AF-C75F2B893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83772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71" name="PlaceHolder 3"/>
          <p:cNvSpPr>
            <a:spLocks noGrp="1"/>
          </p:cNvSpPr>
          <p:nvPr>
            <p:ph/>
          </p:nvPr>
        </p:nvSpPr>
        <p:spPr>
          <a:xfrm>
            <a:off x="470340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72" name="PlaceHolder 4"/>
          <p:cNvSpPr>
            <a:spLocks noGrp="1"/>
          </p:cNvSpPr>
          <p:nvPr>
            <p:ph/>
          </p:nvPr>
        </p:nvSpPr>
        <p:spPr>
          <a:xfrm>
            <a:off x="837720" y="3205800"/>
            <a:ext cx="754380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C88A3-2D0A-426F-8338-A2EF98F0A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837720" y="1295280"/>
            <a:ext cx="754380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75" name="PlaceHolder 3"/>
          <p:cNvSpPr>
            <a:spLocks noGrp="1"/>
          </p:cNvSpPr>
          <p:nvPr>
            <p:ph/>
          </p:nvPr>
        </p:nvSpPr>
        <p:spPr>
          <a:xfrm>
            <a:off x="837720" y="3205800"/>
            <a:ext cx="754380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C67E7-5B50-47AB-ABF5-54D0B3A63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83772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78" name="PlaceHolder 3"/>
          <p:cNvSpPr>
            <a:spLocks noGrp="1"/>
          </p:cNvSpPr>
          <p:nvPr>
            <p:ph/>
          </p:nvPr>
        </p:nvSpPr>
        <p:spPr>
          <a:xfrm>
            <a:off x="470340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79" name="PlaceHolder 4"/>
          <p:cNvSpPr>
            <a:spLocks noGrp="1"/>
          </p:cNvSpPr>
          <p:nvPr>
            <p:ph/>
          </p:nvPr>
        </p:nvSpPr>
        <p:spPr>
          <a:xfrm>
            <a:off x="837720" y="320580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80" name="PlaceHolder 5"/>
          <p:cNvSpPr>
            <a:spLocks noGrp="1"/>
          </p:cNvSpPr>
          <p:nvPr>
            <p:ph/>
          </p:nvPr>
        </p:nvSpPr>
        <p:spPr>
          <a:xfrm>
            <a:off x="4703400" y="320580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57F52-56DC-44F7-B39F-F34D07F7B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837720" y="129528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83" name="PlaceHolder 3"/>
          <p:cNvSpPr>
            <a:spLocks noGrp="1"/>
          </p:cNvSpPr>
          <p:nvPr>
            <p:ph/>
          </p:nvPr>
        </p:nvSpPr>
        <p:spPr>
          <a:xfrm>
            <a:off x="3388320" y="129528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84" name="PlaceHolder 4"/>
          <p:cNvSpPr>
            <a:spLocks noGrp="1"/>
          </p:cNvSpPr>
          <p:nvPr>
            <p:ph/>
          </p:nvPr>
        </p:nvSpPr>
        <p:spPr>
          <a:xfrm>
            <a:off x="5939280" y="129528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85" name="PlaceHolder 5"/>
          <p:cNvSpPr>
            <a:spLocks noGrp="1"/>
          </p:cNvSpPr>
          <p:nvPr>
            <p:ph/>
          </p:nvPr>
        </p:nvSpPr>
        <p:spPr>
          <a:xfrm>
            <a:off x="837720" y="320580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86" name="PlaceHolder 6"/>
          <p:cNvSpPr>
            <a:spLocks noGrp="1"/>
          </p:cNvSpPr>
          <p:nvPr>
            <p:ph/>
          </p:nvPr>
        </p:nvSpPr>
        <p:spPr>
          <a:xfrm>
            <a:off x="3388320" y="320580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87" name="PlaceHolder 7"/>
          <p:cNvSpPr>
            <a:spLocks noGrp="1"/>
          </p:cNvSpPr>
          <p:nvPr>
            <p:ph/>
          </p:nvPr>
        </p:nvSpPr>
        <p:spPr>
          <a:xfrm>
            <a:off x="5939280" y="3205800"/>
            <a:ext cx="242892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59710C-568D-4C4E-B167-476022FD8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C0335-E7B5-44B0-881C-648334F71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837720" y="1295280"/>
            <a:ext cx="368136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4" name="PlaceHolder 3"/>
          <p:cNvSpPr>
            <a:spLocks noGrp="1"/>
          </p:cNvSpPr>
          <p:nvPr>
            <p:ph/>
          </p:nvPr>
        </p:nvSpPr>
        <p:spPr>
          <a:xfrm>
            <a:off x="4703400" y="1295280"/>
            <a:ext cx="368136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6845-B9E2-4822-95EC-B7C440E42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7040B-E54B-47BE-BF14-DCAD9AF4E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0"/>
            <a:ext cx="7315200" cy="5299560"/>
          </a:xfrm>
          <a:prstGeom prst="rect">
            <a:avLst/>
          </a:prstGeom>
          <a:noFill/>
          <a:ln w="0">
            <a:noFill/>
          </a:ln>
        </p:spPr>
        <p:txBody>
          <a:bodyPr lIns="0" rIns="0" tIns="0" bIns="0" anchor="ctr">
            <a:noAutofit/>
          </a:bodyPr>
          <a:p>
            <a:endParaRPr b="0" lang="en-US" sz="2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D921E-6EEA-4306-9912-D7625F305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83772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9" name="PlaceHolder 3"/>
          <p:cNvSpPr>
            <a:spLocks noGrp="1"/>
          </p:cNvSpPr>
          <p:nvPr>
            <p:ph/>
          </p:nvPr>
        </p:nvSpPr>
        <p:spPr>
          <a:xfrm>
            <a:off x="4703400" y="1295280"/>
            <a:ext cx="368136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20" name="PlaceHolder 4"/>
          <p:cNvSpPr>
            <a:spLocks noGrp="1"/>
          </p:cNvSpPr>
          <p:nvPr>
            <p:ph/>
          </p:nvPr>
        </p:nvSpPr>
        <p:spPr>
          <a:xfrm>
            <a:off x="837720" y="320580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07B9-6431-442A-86C3-E90ABFCA4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837720" y="1295280"/>
            <a:ext cx="3681360" cy="365760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23" name="PlaceHolder 3"/>
          <p:cNvSpPr>
            <a:spLocks noGrp="1"/>
          </p:cNvSpPr>
          <p:nvPr>
            <p:ph/>
          </p:nvPr>
        </p:nvSpPr>
        <p:spPr>
          <a:xfrm>
            <a:off x="470340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24" name="PlaceHolder 4"/>
          <p:cNvSpPr>
            <a:spLocks noGrp="1"/>
          </p:cNvSpPr>
          <p:nvPr>
            <p:ph/>
          </p:nvPr>
        </p:nvSpPr>
        <p:spPr>
          <a:xfrm>
            <a:off x="4703400" y="320580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8B15-5D68-41B1-A16C-6BF32296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83772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27" name="PlaceHolder 3"/>
          <p:cNvSpPr>
            <a:spLocks noGrp="1"/>
          </p:cNvSpPr>
          <p:nvPr>
            <p:ph/>
          </p:nvPr>
        </p:nvSpPr>
        <p:spPr>
          <a:xfrm>
            <a:off x="4703400" y="1295280"/>
            <a:ext cx="368136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28" name="PlaceHolder 4"/>
          <p:cNvSpPr>
            <a:spLocks noGrp="1"/>
          </p:cNvSpPr>
          <p:nvPr>
            <p:ph/>
          </p:nvPr>
        </p:nvSpPr>
        <p:spPr>
          <a:xfrm>
            <a:off x="837720" y="3205800"/>
            <a:ext cx="7543800" cy="17445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2F7F-4EA1-4FE1-96EE-EB1B3C07B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837720" y="1295280"/>
            <a:ext cx="7543800" cy="3657600"/>
          </a:xfrm>
          <a:prstGeom prst="rect">
            <a:avLst/>
          </a:prstGeom>
          <a:noFill/>
          <a:ln w="0">
            <a:noFill/>
          </a:ln>
        </p:spPr>
        <p:txBody>
          <a:bodyPr lIns="90000" rIns="90000" tIns="46800" bIns="46800" anchor="t">
            <a:normAutofit fontScale="83000"/>
          </a:bodyPr>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lick to edit the outline text format</a:t>
            </a:r>
            <a:endParaRPr b="0" lang="en-US" sz="2600" spc="-1" strike="noStrike">
              <a:solidFill>
                <a:srgbClr val="ffffff"/>
              </a:solidFill>
              <a:latin typeface="Tahoma"/>
            </a:endParaRPr>
          </a:p>
          <a:p>
            <a:pPr lvl="1" marL="616680" indent="-2372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48600" indent="-1897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rd Outline Level</a:t>
            </a:r>
            <a:endParaRPr b="0" lang="en-US" sz="2600" spc="-1" strike="noStrike">
              <a:solidFill>
                <a:srgbClr val="ffffff"/>
              </a:solidFill>
              <a:latin typeface="Tahoma"/>
            </a:endParaRPr>
          </a:p>
          <a:p>
            <a:pPr lvl="3" marL="1328040" indent="-1897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ourth Outline Level</a:t>
            </a:r>
            <a:endParaRPr b="0" lang="en-US" sz="2600" spc="-1" strike="noStrike">
              <a:solidFill>
                <a:srgbClr val="ffffff"/>
              </a:solidFill>
              <a:latin typeface="Tahoma"/>
            </a:endParaRPr>
          </a:p>
          <a:p>
            <a:pPr lvl="4" marL="1707480" indent="-1897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fth Outline Level</a:t>
            </a:r>
            <a:endParaRPr b="0" lang="en-US" sz="2600" spc="-1" strike="noStrike">
              <a:solidFill>
                <a:srgbClr val="ffffff"/>
              </a:solidFill>
              <a:latin typeface="Tahoma"/>
            </a:endParaRPr>
          </a:p>
          <a:p>
            <a:pPr lvl="5" marL="1707480" indent="-1897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ixth Outline Level</a:t>
            </a:r>
            <a:endParaRPr b="0" lang="en-US" sz="2600" spc="-1" strike="noStrike">
              <a:solidFill>
                <a:srgbClr val="ffffff"/>
              </a:solidFill>
              <a:latin typeface="Tahoma"/>
            </a:endParaRPr>
          </a:p>
          <a:p>
            <a:pPr lvl="6" marL="1707480" indent="-1897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venth Outline Level</a:t>
            </a:r>
            <a:endParaRPr b="0" lang="en-US" sz="26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52574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B0A5-5663-4CC9-BB75-1AACCBD2275D}" type="slidenum">
              <a:rPr b="0" lang="pt-BR"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352C-F0A4-43B4-A436-3CA5361A4AE1}" type="slidenum">
              <a:rPr b="0" lang="pt-BR"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lick to edit the outline text format</a:t>
            </a:r>
            <a:endParaRPr b="0" lang="en-US" sz="2600" spc="-1" strike="noStrike">
              <a:solidFill>
                <a:srgbClr val="ffffff"/>
              </a:solidFill>
              <a:latin typeface="Tahoma"/>
            </a:endParaRPr>
          </a:p>
          <a:p>
            <a:pPr lvl="1" marL="457200"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cc9900"/>
                </a:solidFill>
                <a:latin typeface="Tahoma"/>
              </a:rPr>
              <a:t>Implementação do CICS TS 1.3         Early Support Program</a:t>
            </a:r>
            <a:endParaRPr b="0" lang="en-US" sz="4000" spc="-1" strike="noStrike">
              <a:solidFill>
                <a:srgbClr val="cc9900"/>
              </a:solidFill>
              <a:latin typeface="Tahoma"/>
            </a:endParaRPr>
          </a:p>
        </p:txBody>
      </p:sp>
      <p:sp>
        <p:nvSpPr>
          <p:cNvPr id="96" name=""/>
          <p:cNvSpPr/>
          <p:nvPr/>
        </p:nvSpPr>
        <p:spPr>
          <a:xfrm>
            <a:off x="867240" y="5035680"/>
            <a:ext cx="369828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Claudio Martins Pae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Consultor de Suporte Técnic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email: paes@serasa.com.br</a:t>
            </a:r>
            <a:endParaRPr b="0" lang="en-US" sz="2000" spc="-1" strike="noStrike">
              <a:solidFill>
                <a:srgbClr val="ffffff"/>
              </a:solidFill>
              <a:latin typeface="Times New Roman"/>
            </a:endParaRPr>
          </a:p>
        </p:txBody>
      </p:sp>
      <p:pic>
        <p:nvPicPr>
          <p:cNvPr id="97" name="internet1d" descr=""/>
          <p:cNvPicPr/>
          <p:nvPr/>
        </p:nvPicPr>
        <p:blipFill>
          <a:blip r:embed="rId1"/>
          <a:stretch/>
        </p:blipFill>
        <p:spPr>
          <a:xfrm>
            <a:off x="3048120" y="3276720"/>
            <a:ext cx="3097080" cy="107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Etapas da Migração         CICS 4.1             CICS TS 1.3</a:t>
            </a:r>
            <a:endParaRPr b="0" lang="en-US" sz="4200" spc="-1" strike="noStrike">
              <a:solidFill>
                <a:srgbClr val="cc9900"/>
              </a:solidFill>
              <a:latin typeface="Tahoma"/>
            </a:endParaRPr>
          </a:p>
        </p:txBody>
      </p:sp>
      <p:sp>
        <p:nvSpPr>
          <p:cNvPr id="115"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72000"/>
          </a:bodyPr>
          <a:p>
            <a:pPr marL="246960" indent="-2469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Recompilar exits</a:t>
            </a:r>
            <a:endParaRPr b="0" lang="en-US" sz="2600" spc="-1" strike="noStrike">
              <a:solidFill>
                <a:srgbClr val="ffffff"/>
              </a:solidFill>
              <a:latin typeface="Tahoma"/>
            </a:endParaRPr>
          </a:p>
          <a:p>
            <a:pPr marL="246960" indent="-2469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Mudanças na SIT</a:t>
            </a:r>
            <a:endParaRPr b="0" lang="en-US" sz="2600" spc="-1" strike="noStrike">
              <a:solidFill>
                <a:srgbClr val="ffffff"/>
              </a:solidFill>
              <a:latin typeface="Tahoma"/>
            </a:endParaRPr>
          </a:p>
          <a:p>
            <a:pPr marL="246960" indent="-2469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Upgrade do CSD</a:t>
            </a:r>
            <a:endParaRPr b="0" lang="en-US" sz="2600" spc="-1" strike="noStrike">
              <a:solidFill>
                <a:srgbClr val="ffffff"/>
              </a:solidFill>
              <a:latin typeface="Tahoma"/>
            </a:endParaRPr>
          </a:p>
          <a:p>
            <a:pPr marL="246960" indent="-2469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Definição dos Logstreams</a:t>
            </a:r>
            <a:endParaRPr b="0" lang="en-US" sz="2600" spc="-1" strike="noStrike">
              <a:solidFill>
                <a:srgbClr val="ffffff"/>
              </a:solidFill>
              <a:latin typeface="Tahoma"/>
            </a:endParaRPr>
          </a:p>
          <a:p>
            <a:pPr marL="246960" indent="-2469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RCT</a:t>
            </a:r>
            <a:endParaRPr b="0" lang="en-US" sz="2600" spc="-1" strike="noStrike">
              <a:solidFill>
                <a:srgbClr val="ffffff"/>
              </a:solidFill>
              <a:latin typeface="Tahoma"/>
            </a:endParaRPr>
          </a:p>
          <a:p>
            <a:pPr marL="246960" indent="-2469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omandos</a:t>
            </a:r>
            <a:endParaRPr b="0" lang="en-US" sz="2600" spc="-1" strike="noStrike">
              <a:solidFill>
                <a:srgbClr val="ffffff"/>
              </a:solidFill>
              <a:latin typeface="Tahoma"/>
            </a:endParaRPr>
          </a:p>
          <a:p>
            <a:pPr marL="246960" indent="-2469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API</a:t>
            </a:r>
            <a:endParaRPr b="0" lang="en-US" sz="2600" spc="-1" strike="noStrike">
              <a:solidFill>
                <a:srgbClr val="ffffff"/>
              </a:solidFill>
              <a:latin typeface="Tahoma"/>
            </a:endParaRPr>
          </a:p>
          <a:p>
            <a:pPr marL="24696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116" name=""/>
          <p:cNvSpPr/>
          <p:nvPr/>
        </p:nvSpPr>
        <p:spPr>
          <a:xfrm>
            <a:off x="3657600" y="609480"/>
            <a:ext cx="976320" cy="486000"/>
          </a:xfrm>
          <a:prstGeom prst="rightArrow">
            <a:avLst>
              <a:gd name="adj1" fmla="val 50000"/>
              <a:gd name="adj2" fmla="val 50222"/>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5E5FAD79-FF5A-41D2-9226-58488737D5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Autoinstall para consoles</a:t>
            </a:r>
            <a:endParaRPr b="0" lang="en-US" sz="4200" spc="-1" strike="noStrike">
              <a:solidFill>
                <a:srgbClr val="cc9900"/>
              </a:solidFill>
              <a:latin typeface="Tahoma"/>
            </a:endParaRPr>
          </a:p>
        </p:txBody>
      </p:sp>
      <p:sp>
        <p:nvSpPr>
          <p:cNvPr id="118"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80000"/>
          </a:bodyPr>
          <a:p>
            <a:pPr marL="274320" indent="-2743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implifica a vida do system programmer</a:t>
            </a:r>
            <a:endParaRPr b="0" lang="en-US" sz="2600" spc="-1" strike="noStrike">
              <a:solidFill>
                <a:srgbClr val="ffffff"/>
              </a:solidFill>
              <a:latin typeface="Tahoma"/>
            </a:endParaRPr>
          </a:p>
          <a:p>
            <a:pPr marL="274320" indent="-2743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IT AICONS=YES                                       Usa o mesmo pgm de autoinstall de terminais</a:t>
            </a:r>
            <a:endParaRPr b="0" lang="en-US" sz="2600" spc="-1" strike="noStrike">
              <a:solidFill>
                <a:srgbClr val="ffffff"/>
              </a:solidFill>
              <a:latin typeface="Tahoma"/>
            </a:endParaRPr>
          </a:p>
          <a:p>
            <a:pPr marL="274320" indent="-2743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IT AICONS=AUTO                                          Gera terminal automaticamente, termid começa com “¬” </a:t>
            </a:r>
            <a:endParaRPr b="0" lang="en-US" sz="2600" spc="-1" strike="noStrike">
              <a:solidFill>
                <a:srgbClr val="ffffff"/>
              </a:solidFill>
              <a:latin typeface="Tahoma"/>
            </a:endParaRPr>
          </a:p>
          <a:p>
            <a:pPr marL="274320" indent="-2743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Preset security</a:t>
            </a:r>
            <a:endParaRPr b="0" lang="en-US" sz="2600" spc="-1" strike="noStrike">
              <a:solidFill>
                <a:srgbClr val="ffffff"/>
              </a:solidFill>
              <a:latin typeface="Tahoma"/>
            </a:endParaRPr>
          </a:p>
          <a:p>
            <a:pPr marL="27432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USERID( *FIRST / *EVERY / userid )</a:t>
            </a:r>
            <a:endParaRPr b="0" lang="en-US" sz="2600" spc="-1" strike="noStrike">
              <a:solidFill>
                <a:srgbClr val="ffffff"/>
              </a:solidFill>
              <a:latin typeface="Tahoma"/>
            </a:endParaRPr>
          </a:p>
          <a:p>
            <a:pPr marL="274320" indent="-2743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imeout automático de 60 minutos</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603E2B64-586F-4E0B-8B40-36C2D73C5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Shared Temporary Storage</a:t>
            </a:r>
            <a:endParaRPr b="0" lang="en-US" sz="4200" spc="-1" strike="noStrike">
              <a:solidFill>
                <a:srgbClr val="cc9900"/>
              </a:solidFill>
              <a:latin typeface="Tahoma"/>
            </a:endParaRPr>
          </a:p>
        </p:txBody>
      </p:sp>
      <p:sp>
        <p:nvSpPr>
          <p:cNvPr id="120"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64000"/>
          </a:bodyPr>
          <a:p>
            <a:pPr marL="219240" indent="-2192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smodels no CSD                                           LOCATION( MAIN / AUX / poolname )</a:t>
            </a:r>
            <a:endParaRPr b="0" lang="en-US" sz="2600" spc="-1" strike="noStrike">
              <a:solidFill>
                <a:srgbClr val="ffffff"/>
              </a:solidFill>
              <a:latin typeface="Tahoma"/>
            </a:endParaRPr>
          </a:p>
          <a:p>
            <a:pPr marL="219240" indent="-2192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Novo address space servidor                                                             TSQSRVR</a:t>
            </a:r>
            <a:endParaRPr b="0" lang="en-US" sz="2600" spc="-1" strike="noStrike">
              <a:solidFill>
                <a:srgbClr val="ffffff"/>
              </a:solidFill>
              <a:latin typeface="Tahoma"/>
            </a:endParaRPr>
          </a:p>
          <a:p>
            <a:pPr marL="219240" indent="-2192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FRM policy ativa, com nova(s) estrutura(s)</a:t>
            </a:r>
            <a:endParaRPr b="0" lang="en-US" sz="2600" spc="-1" strike="noStrike">
              <a:solidFill>
                <a:srgbClr val="ffffff"/>
              </a:solidFill>
              <a:latin typeface="Tahoma"/>
            </a:endParaRPr>
          </a:p>
          <a:p>
            <a:pPr marL="219240" indent="-2192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Novo subsistema                                   SUBSYS SUBNAME(AXM) INITRTN(AXMSI)</a:t>
            </a:r>
            <a:endParaRPr b="0" lang="en-US" sz="2600" spc="-1" strike="noStrike">
              <a:solidFill>
                <a:srgbClr val="ffffff"/>
              </a:solidFill>
              <a:latin typeface="Tahoma"/>
            </a:endParaRPr>
          </a:p>
          <a:p>
            <a:pPr marL="219240" indent="-2192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Mudança de paradigma                                As TS’s continuam mesmo após o CICS sair</a:t>
            </a:r>
            <a:endParaRPr b="0" lang="en-US" sz="2600" spc="-1" strike="noStrike">
              <a:solidFill>
                <a:srgbClr val="ffffff"/>
              </a:solidFill>
              <a:latin typeface="Tahoma"/>
            </a:endParaRPr>
          </a:p>
          <a:p>
            <a:pPr marL="21924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1924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4804E553-1458-4923-B2BD-086B7B0E68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Sysplex-wide enq / deq</a:t>
            </a:r>
            <a:endParaRPr b="0" lang="en-US" sz="4200" spc="-1" strike="noStrike">
              <a:solidFill>
                <a:srgbClr val="cc9900"/>
              </a:solidFill>
              <a:latin typeface="Tahoma"/>
            </a:endParaRPr>
          </a:p>
        </p:txBody>
      </p:sp>
      <p:sp>
        <p:nvSpPr>
          <p:cNvPr id="122"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59000"/>
          </a:bodyPr>
          <a:p>
            <a:pPr marL="202320" indent="-2023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Usa GRS para propagar a serialização entre múltiplas regiões e / ou imagens de MVS</a:t>
            </a:r>
            <a:endParaRPr b="0" lang="en-US" sz="2600" spc="-1" strike="noStrike">
              <a:solidFill>
                <a:srgbClr val="ffffff"/>
              </a:solidFill>
              <a:latin typeface="Tahoma"/>
            </a:endParaRPr>
          </a:p>
          <a:p>
            <a:pPr marL="202320" indent="-2023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EDA DEFINE ENQMODEL(ENQMD1) ENQNAME(name*) ENQSCOPE(PROD)</a:t>
            </a:r>
            <a:endParaRPr b="0" lang="en-US" sz="2600" spc="-1" strike="noStrike">
              <a:solidFill>
                <a:srgbClr val="ffffff"/>
              </a:solidFill>
              <a:latin typeface="Tahoma"/>
            </a:endParaRPr>
          </a:p>
          <a:p>
            <a:pPr marL="202320" indent="-2023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Nome do recurso para o GRS :</a:t>
            </a:r>
            <a:endParaRPr b="0" lang="en-US" sz="2600" spc="-1" strike="noStrike">
              <a:solidFill>
                <a:srgbClr val="ffffff"/>
              </a:solidFill>
              <a:latin typeface="Tahoma"/>
            </a:endParaRPr>
          </a:p>
          <a:p>
            <a:pPr marL="20232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QNAME : “DFHE” + enqscope</a:t>
            </a:r>
            <a:endParaRPr b="0" lang="en-US" sz="2600" spc="-1" strike="noStrike">
              <a:solidFill>
                <a:srgbClr val="ffffff"/>
              </a:solidFill>
              <a:latin typeface="Tahoma"/>
            </a:endParaRPr>
          </a:p>
          <a:p>
            <a:pPr marL="20232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RNAME : enqname</a:t>
            </a:r>
            <a:endParaRPr b="0" lang="en-US" sz="2600" spc="-1" strike="noStrike">
              <a:solidFill>
                <a:srgbClr val="ffffff"/>
              </a:solidFill>
              <a:latin typeface="Tahoma"/>
            </a:endParaRPr>
          </a:p>
          <a:p>
            <a:pPr marL="202320" indent="-2023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Problemas ?</a:t>
            </a:r>
            <a:endParaRPr b="0" lang="en-US" sz="2600" spc="-1" strike="noStrike">
              <a:solidFill>
                <a:srgbClr val="ffffff"/>
              </a:solidFill>
              <a:latin typeface="Tahoma"/>
            </a:endParaRPr>
          </a:p>
          <a:p>
            <a:pPr marL="20232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CECI DISCARD ENQMODEL(xxxx)</a:t>
            </a:r>
            <a:endParaRPr b="0" lang="en-US" sz="2600" spc="-1" strike="noStrike">
              <a:solidFill>
                <a:srgbClr val="ffffff"/>
              </a:solidFill>
              <a:latin typeface="Tahoma"/>
            </a:endParaRPr>
          </a:p>
          <a:p>
            <a:pPr marL="20232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0232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EDCC5434-96EF-4175-A908-A4DB7EC32A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Long TS queue names</a:t>
            </a:r>
            <a:endParaRPr b="0" lang="en-US" sz="4200" spc="-1" strike="noStrike">
              <a:solidFill>
                <a:srgbClr val="cc9900"/>
              </a:solidFill>
              <a:latin typeface="Tahoma"/>
            </a:endParaRPr>
          </a:p>
        </p:txBody>
      </p:sp>
      <p:sp>
        <p:nvSpPr>
          <p:cNvPr id="124"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Para queue names de até 8 bytes                               E. C. READQ TS QUEUE(“short_id”)</a:t>
            </a:r>
            <a:endParaRPr b="0" lang="en-US" sz="2600" spc="-1" strike="noStrike">
              <a:solidFill>
                <a:srgbClr val="ffffff"/>
              </a:solidFill>
              <a:latin typeface="Tahoma"/>
            </a:endParaRPr>
          </a:p>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Para queue names de até 16 bytes                      E. C. READQ TS QNAME(“long_ts_qname_id”)</a:t>
            </a:r>
            <a:endParaRPr b="0" lang="en-US" sz="2600" spc="-1" strike="noStrike">
              <a:solidFill>
                <a:srgbClr val="ffffff"/>
              </a:solidFill>
              <a:latin typeface="Tahoma"/>
            </a:endParaRPr>
          </a:p>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e as TS’s são protegidas por RACF                       </a:t>
            </a:r>
            <a:endParaRPr b="0" lang="en-US" sz="2600" spc="-1" strike="noStrike">
              <a:solidFill>
                <a:srgbClr val="ffffff"/>
              </a:solidFill>
              <a:latin typeface="Tahoma"/>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125" name=""/>
          <p:cNvSpPr/>
          <p:nvPr/>
        </p:nvSpPr>
        <p:spPr>
          <a:xfrm>
            <a:off x="1600200" y="3809880"/>
            <a:ext cx="976320" cy="486000"/>
          </a:xfrm>
          <a:prstGeom prst="rightArrow">
            <a:avLst>
              <a:gd name="adj1" fmla="val 50000"/>
              <a:gd name="adj2" fmla="val 50222"/>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703960" y="3767040"/>
            <a:ext cx="2483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Tahoma"/>
              </a:rPr>
              <a:t>OS/390 V2R6</a:t>
            </a: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15D040B0-EDCD-4C1B-8018-0EAB70F003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CICS WEB interface</a:t>
            </a:r>
            <a:endParaRPr b="0" lang="en-US" sz="4200" spc="-1" strike="noStrike">
              <a:solidFill>
                <a:srgbClr val="cc9900"/>
              </a:solidFill>
              <a:latin typeface="Tahoma"/>
            </a:endParaRPr>
          </a:p>
        </p:txBody>
      </p:sp>
      <p:sp>
        <p:nvSpPr>
          <p:cNvPr id="128"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60000"/>
          </a:bodyPr>
          <a:p>
            <a:pPr marL="205560" indent="-2055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Fácil disponibilização                                  Definir TCPIP SERVICE e SIT TCP=YES                                    Recompilar mapa gerando html                        Conferir configuração do TcpIP</a:t>
            </a:r>
            <a:endParaRPr b="0" lang="en-US" sz="2600" spc="-1" strike="noStrike">
              <a:solidFill>
                <a:srgbClr val="ffffff"/>
              </a:solidFill>
              <a:latin typeface="Tahoma"/>
            </a:endParaRPr>
          </a:p>
          <a:p>
            <a:pPr marL="205560" indent="-2055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Newcopy do mapa html                                             CECI DISCARD DOCTEMPLATE(xxxxxxxx)</a:t>
            </a:r>
            <a:endParaRPr b="0" lang="en-US" sz="2600" spc="-1" strike="noStrike">
              <a:solidFill>
                <a:srgbClr val="ffffff"/>
              </a:solidFill>
              <a:latin typeface="Tahoma"/>
            </a:endParaRPr>
          </a:p>
          <a:p>
            <a:pPr marL="205560" indent="-2055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ustomização de cores, botões, fonte etc</a:t>
            </a:r>
            <a:endParaRPr b="0" lang="en-US" sz="2600" spc="-1" strike="noStrike">
              <a:solidFill>
                <a:srgbClr val="ffffff"/>
              </a:solidFill>
              <a:latin typeface="Tahoma"/>
            </a:endParaRPr>
          </a:p>
          <a:p>
            <a:pPr marL="205560" indent="-2055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ecurity considerations                                   Analyzer DFH$WBSA / RACF pass-ticket</a:t>
            </a:r>
            <a:endParaRPr b="0" lang="en-US" sz="2600" spc="-1" strike="noStrike">
              <a:solidFill>
                <a:srgbClr val="ffffff"/>
              </a:solidFill>
              <a:latin typeface="Tahoma"/>
            </a:endParaRPr>
          </a:p>
          <a:p>
            <a:pPr marL="205560" indent="-20556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Runtime precisa ser LE</a:t>
            </a:r>
            <a:endParaRPr b="0" lang="en-US" sz="2600" spc="-1" strike="noStrike">
              <a:solidFill>
                <a:srgbClr val="ffffff"/>
              </a:solidFill>
              <a:latin typeface="Tahoma"/>
            </a:endParaRPr>
          </a:p>
          <a:p>
            <a:pPr marL="20556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a:p>
            <a:pPr marL="20556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817E7FF2-394D-458B-8BC1-A41CE12594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Named-counter server</a:t>
            </a:r>
            <a:endParaRPr b="0" lang="en-US" sz="4200" spc="-1" strike="noStrike">
              <a:solidFill>
                <a:srgbClr val="cc9900"/>
              </a:solidFill>
              <a:latin typeface="Tahoma"/>
            </a:endParaRPr>
          </a:p>
        </p:txBody>
      </p:sp>
      <p:sp>
        <p:nvSpPr>
          <p:cNvPr id="130"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78000"/>
          </a:bodyPr>
          <a:p>
            <a:pPr marL="267480" indent="-2674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Address-space para incrementar / decrementar contadores</a:t>
            </a:r>
            <a:endParaRPr b="0" lang="en-US" sz="2600" spc="-1" strike="noStrike">
              <a:solidFill>
                <a:srgbClr val="ffffff"/>
              </a:solidFill>
              <a:latin typeface="Tahoma"/>
            </a:endParaRPr>
          </a:p>
          <a:p>
            <a:pPr marL="267480" indent="-2674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ontadores residem na Coupling Facility</a:t>
            </a:r>
            <a:endParaRPr b="0" lang="en-US" sz="2600" spc="-1" strike="noStrike">
              <a:solidFill>
                <a:srgbClr val="ffffff"/>
              </a:solidFill>
              <a:latin typeface="Tahoma"/>
            </a:endParaRPr>
          </a:p>
          <a:p>
            <a:pPr marL="267480" indent="-2674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ransações acessam via API simples                E.C. DEFINE / DEL / GET / REWIND / UPDATE</a:t>
            </a:r>
            <a:endParaRPr b="0" lang="en-US" sz="2600" spc="-1" strike="noStrike">
              <a:solidFill>
                <a:srgbClr val="ffffff"/>
              </a:solidFill>
              <a:latin typeface="Tahoma"/>
            </a:endParaRPr>
          </a:p>
          <a:p>
            <a:pPr marL="267480" indent="-2674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Pgms batch acessam via “call interface”                        CALL “DFHNCTR” USING PARM-LIST</a:t>
            </a:r>
            <a:endParaRPr b="0" lang="en-US" sz="2600" spc="-1" strike="noStrike">
              <a:solidFill>
                <a:srgbClr val="ffffff"/>
              </a:solidFill>
              <a:latin typeface="Tahoma"/>
            </a:endParaRPr>
          </a:p>
          <a:p>
            <a:pPr marL="267480" indent="-2674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Exemplo de utilização                          Substituição do EIBTASKN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76F94122-4BCD-47BC-9B1E-BF262B6C64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RCT Online</a:t>
            </a:r>
            <a:endParaRPr b="0" lang="en-US" sz="4200" spc="-1" strike="noStrike">
              <a:solidFill>
                <a:srgbClr val="cc9900"/>
              </a:solidFill>
              <a:latin typeface="Tahoma"/>
            </a:endParaRPr>
          </a:p>
        </p:txBody>
      </p:sp>
      <p:sp>
        <p:nvSpPr>
          <p:cNvPr id="132"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83000"/>
          </a:bodyPr>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EDA DEFINE DB2CONN </a:t>
            </a:r>
            <a:endParaRPr b="0" lang="en-US" sz="2600" spc="-1" strike="noStrike">
              <a:solidFill>
                <a:srgbClr val="ffffff"/>
              </a:solidFill>
              <a:latin typeface="Tahoma"/>
            </a:endParaRPr>
          </a:p>
          <a:p>
            <a:pPr marL="2844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DSNCRCT TYPE=INIT / POOL / COMD</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EDA DEFINE DB2ENTRY </a:t>
            </a:r>
            <a:endParaRPr b="0" lang="en-US" sz="2600" spc="-1" strike="noStrike">
              <a:solidFill>
                <a:srgbClr val="ffffff"/>
              </a:solidFill>
              <a:latin typeface="Tahoma"/>
            </a:endParaRPr>
          </a:p>
          <a:p>
            <a:pPr marL="2844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DSNCRCT TYPE=ENTRY</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EDA DEFINE DB2TRAN   </a:t>
            </a:r>
            <a:endParaRPr b="0" lang="en-US" sz="2600" spc="-1" strike="noStrike">
              <a:solidFill>
                <a:srgbClr val="ffffff"/>
              </a:solidFill>
              <a:latin typeface="Tahoma"/>
            </a:endParaRPr>
          </a:p>
          <a:p>
            <a:pPr marL="2844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DSNCRCT TYPE=ENTRY,TXID=(xxxx,yyyy etc)</a:t>
            </a:r>
            <a:endParaRPr b="0" lang="en-US" sz="2600" spc="-1" strike="noStrike">
              <a:solidFill>
                <a:srgbClr val="ffffff"/>
              </a:solidFill>
              <a:latin typeface="Tahoma"/>
            </a:endParaRPr>
          </a:p>
          <a:p>
            <a:pPr marL="2844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9F8180CD-7412-4B2D-A222-5C52F50C5A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RCT Online</a:t>
            </a:r>
            <a:endParaRPr b="0" lang="en-US" sz="4200" spc="-1" strike="noStrike">
              <a:solidFill>
                <a:srgbClr val="cc9900"/>
              </a:solidFill>
              <a:latin typeface="Tahoma"/>
            </a:endParaRPr>
          </a:p>
        </p:txBody>
      </p:sp>
      <p:sp>
        <p:nvSpPr>
          <p:cNvPr id="134"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99000"/>
          </a:bodyPr>
          <a:p>
            <a:pPr marL="339480" indent="-3394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ó pode haver 1 DB2CONN instalada</a:t>
            </a:r>
            <a:endParaRPr b="0" lang="en-US" sz="2600" spc="-1" strike="noStrike">
              <a:solidFill>
                <a:srgbClr val="ffffff"/>
              </a:solidFill>
              <a:latin typeface="Tahoma"/>
            </a:endParaRPr>
          </a:p>
          <a:p>
            <a:pPr marL="339480" indent="-3394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Operação                                                        CEMT SET DB2CONN NOTCONNECTED                                      “                             CONNECTED                          “                             FORCENOTCONN</a:t>
            </a:r>
            <a:endParaRPr b="0" lang="en-US" sz="2600" spc="-1" strike="noStrike">
              <a:solidFill>
                <a:srgbClr val="ffffff"/>
              </a:solidFill>
              <a:latin typeface="Tahoma"/>
            </a:endParaRPr>
          </a:p>
          <a:p>
            <a:pPr marL="3394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CEMT SET DB2ENTRY(x) THREADLIMIT(999)</a:t>
            </a:r>
            <a:endParaRPr b="0" lang="en-US" sz="2600" spc="-1" strike="noStrike">
              <a:solidFill>
                <a:srgbClr val="ffffff"/>
              </a:solidFill>
              <a:latin typeface="Tahoma"/>
            </a:endParaRPr>
          </a:p>
          <a:p>
            <a:pPr marL="339480" indent="-3394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IT DB2CONN=YES</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65D481DD-80A1-483E-8B7B-30F6FB29AB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CFDT                       Coupling Facility Data Tables</a:t>
            </a:r>
            <a:endParaRPr b="0" lang="en-US" sz="4200" spc="-1" strike="noStrike">
              <a:solidFill>
                <a:srgbClr val="cc9900"/>
              </a:solidFill>
              <a:latin typeface="Tahoma"/>
            </a:endParaRPr>
          </a:p>
        </p:txBody>
      </p:sp>
      <p:sp>
        <p:nvSpPr>
          <p:cNvPr id="136"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75000"/>
          </a:bodyPr>
          <a:p>
            <a:pPr marL="257040" indent="-2570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Rápido acesso no compartilhamento de tabelas dentro de um sysplex</a:t>
            </a:r>
            <a:endParaRPr b="0" lang="en-US" sz="2600" spc="-1" strike="noStrike">
              <a:solidFill>
                <a:srgbClr val="ffffff"/>
              </a:solidFill>
              <a:latin typeface="Tahoma"/>
            </a:endParaRPr>
          </a:p>
          <a:p>
            <a:pPr marL="257040" indent="-2570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imilar a user-maintened datatables</a:t>
            </a:r>
            <a:endParaRPr b="0" lang="en-US" sz="2600" spc="-1" strike="noStrike">
              <a:solidFill>
                <a:srgbClr val="ffffff"/>
              </a:solidFill>
              <a:latin typeface="Tahoma"/>
            </a:endParaRPr>
          </a:p>
          <a:p>
            <a:pPr marL="257040" indent="-2570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API de File-Control, com 2 modos de update   LOCKING MODEL                                                   CONTENTION MODEL</a:t>
            </a:r>
            <a:endParaRPr b="0" lang="en-US" sz="2600" spc="-1" strike="noStrike">
              <a:solidFill>
                <a:srgbClr val="ffffff"/>
              </a:solidFill>
              <a:latin typeface="Tahoma"/>
            </a:endParaRPr>
          </a:p>
          <a:p>
            <a:pPr marL="257040" indent="-2570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Performance                                                         Read = Update !</a:t>
            </a:r>
            <a:endParaRPr b="0" lang="en-US" sz="2600" spc="-1" strike="noStrike">
              <a:solidFill>
                <a:srgbClr val="ffffff"/>
              </a:solidFill>
              <a:latin typeface="Tahoma"/>
            </a:endParaRPr>
          </a:p>
          <a:p>
            <a:pPr marL="257040" indent="-2570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Alta disponibilidade, sem afinidades</a:t>
            </a:r>
            <a:endParaRPr b="0" lang="en-US" sz="2600" spc="-1" strike="noStrike">
              <a:solidFill>
                <a:srgbClr val="ffffff"/>
              </a:solidFill>
              <a:latin typeface="Tahoma"/>
            </a:endParaRPr>
          </a:p>
          <a:p>
            <a:pPr marL="25704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60F61427-2157-4F9E-9DFA-CB5B6E6CA5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Serasa</a:t>
            </a:r>
            <a:endParaRPr b="0" lang="en-US" sz="4200" spc="-1" strike="noStrike">
              <a:solidFill>
                <a:srgbClr val="cc9900"/>
              </a:solidFill>
              <a:latin typeface="Tahoma"/>
            </a:endParaRPr>
          </a:p>
        </p:txBody>
      </p:sp>
      <p:sp>
        <p:nvSpPr>
          <p:cNvPr id="99" name="PlaceHolder 2"/>
          <p:cNvSpPr>
            <a:spLocks noGrp="1"/>
          </p:cNvSpPr>
          <p:nvPr>
            <p:ph/>
          </p:nvPr>
        </p:nvSpPr>
        <p:spPr>
          <a:xfrm>
            <a:off x="914040" y="1523880"/>
            <a:ext cx="7543800" cy="464832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riada em 1968 pelos bancos p/ centralizar informações</a:t>
            </a:r>
            <a:endParaRPr b="0" lang="en-US" sz="2600" spc="-1" strike="noStrike">
              <a:solidFill>
                <a:srgbClr val="ffffff"/>
              </a:solidFill>
              <a:latin typeface="Tahoma"/>
            </a:endParaRPr>
          </a:p>
          <a:p>
            <a:pPr marL="339480" indent="-339480">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Análises e dados econômico-financeiros e cadastrais</a:t>
            </a:r>
            <a:endParaRPr b="0" lang="en-US" sz="2600" spc="-1" strike="noStrike">
              <a:solidFill>
                <a:srgbClr val="ffffff"/>
              </a:solidFill>
              <a:latin typeface="Tahoma"/>
            </a:endParaRPr>
          </a:p>
          <a:p>
            <a:pPr marL="339480" indent="-339480">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uporte às decisões de crédito e de negócios </a:t>
            </a:r>
            <a:endParaRPr b="0" lang="en-US" sz="2600" spc="-1" strike="noStrike">
              <a:solidFill>
                <a:srgbClr val="ffffff"/>
              </a:solidFill>
              <a:latin typeface="Tahoma"/>
            </a:endParaRPr>
          </a:p>
          <a:p>
            <a:pPr marL="339480" indent="-339480">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Mais de 1 milhão de consultas / dia para mais de 300 mil clientes</a:t>
            </a:r>
            <a:endParaRPr b="0" lang="en-US" sz="2600" spc="-1" strike="noStrike">
              <a:solidFill>
                <a:srgbClr val="ffffff"/>
              </a:solidFill>
              <a:latin typeface="Tahoma"/>
            </a:endParaRPr>
          </a:p>
          <a:p>
            <a:pPr marL="339480" indent="-339480">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Atuação nacional e internacional com padrão  24 x 7 de disponibilidade</a:t>
            </a:r>
            <a:endParaRPr b="0" lang="en-US" sz="2600" spc="-1" strike="noStrike">
              <a:solidFill>
                <a:srgbClr val="ffffff"/>
              </a:solidFill>
              <a:latin typeface="Tahoma"/>
            </a:endParaRPr>
          </a:p>
          <a:p>
            <a:pPr marL="339480" indent="-339480">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Visite www.serasa.com.br</a:t>
            </a:r>
            <a:endParaRPr b="0" lang="en-US" sz="2600" spc="-1" strike="noStrike">
              <a:solidFill>
                <a:srgbClr val="ffffff"/>
              </a:solidFill>
              <a:latin typeface="Tahoma"/>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948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E34F534D-7D9F-4079-B2D4-876B6B96B1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CPSM</a:t>
            </a:r>
            <a:endParaRPr b="0" lang="en-US" sz="4200" spc="-1" strike="noStrike">
              <a:solidFill>
                <a:srgbClr val="cc9900"/>
              </a:solidFill>
              <a:latin typeface="Tahoma"/>
            </a:endParaRPr>
          </a:p>
        </p:txBody>
      </p:sp>
      <p:sp>
        <p:nvSpPr>
          <p:cNvPr id="138"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91000"/>
          </a:bodyPr>
          <a:p>
            <a:pPr marL="312120" indent="-3121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Requesting region - onde o request é emitido     TOR                                                              Região que emite E.C. START TRANSID             DPL E.C. LINK PGM                                         EXCI Receiving region</a:t>
            </a:r>
            <a:endParaRPr b="0" lang="en-US" sz="2600" spc="-1" strike="noStrike">
              <a:solidFill>
                <a:srgbClr val="ffffff"/>
              </a:solidFill>
              <a:latin typeface="Tahoma"/>
            </a:endParaRPr>
          </a:p>
          <a:p>
            <a:pPr marL="312120" indent="-3121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Routing region - onde o roteamento acontece     Requesting region = Routing region       EXCETO se ROUTABLE(YES) for especificado</a:t>
            </a:r>
            <a:endParaRPr b="0" lang="en-US" sz="2600" spc="-1" strike="noStrike">
              <a:solidFill>
                <a:srgbClr val="ffffff"/>
              </a:solidFill>
              <a:latin typeface="Tahoma"/>
            </a:endParaRPr>
          </a:p>
          <a:p>
            <a:pPr marL="312120" indent="-31212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arget region - onde o request roda efetivamente</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81B78782-1497-49AF-B81A-3F33FB9CD1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CPSM</a:t>
            </a:r>
            <a:endParaRPr b="0" lang="en-US" sz="4200" spc="-1" strike="noStrike">
              <a:solidFill>
                <a:srgbClr val="cc9900"/>
              </a:solidFill>
              <a:latin typeface="Tahoma"/>
            </a:endParaRPr>
          </a:p>
        </p:txBody>
      </p:sp>
      <p:sp>
        <p:nvSpPr>
          <p:cNvPr id="140"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75000"/>
          </a:bodyPr>
          <a:p>
            <a:pPr marL="257040" indent="-2570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Hub Model                                                    Cada região atua somente como TOR ou AOR     O TOR é req. / rout. region e o AOR, target</a:t>
            </a:r>
            <a:endParaRPr b="0" lang="en-US" sz="2600" spc="-1" strike="noStrike">
              <a:solidFill>
                <a:srgbClr val="ffffff"/>
              </a:solidFill>
              <a:latin typeface="Tahoma"/>
            </a:endParaRPr>
          </a:p>
          <a:p>
            <a:pPr marL="257040" indent="-2570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Distributed Model                                           Qualquer região pode disparar transações por Dynamic Transaction Routing                           Qualquer região pode ser requesting / routing / target</a:t>
            </a:r>
            <a:endParaRPr b="0" lang="en-US" sz="2600" spc="-1" strike="noStrike">
              <a:solidFill>
                <a:srgbClr val="ffffff"/>
              </a:solidFill>
              <a:latin typeface="Tahoma"/>
            </a:endParaRPr>
          </a:p>
          <a:p>
            <a:pPr marL="257040" indent="-25704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Algoritmos de distribuição de carga</a:t>
            </a:r>
            <a:endParaRPr b="0" lang="en-US" sz="2600" spc="-1" strike="noStrike">
              <a:solidFill>
                <a:srgbClr val="ffffff"/>
              </a:solidFill>
              <a:latin typeface="Tahoma"/>
            </a:endParaRPr>
          </a:p>
          <a:p>
            <a:pPr marL="25704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Queue method                                                   WLM-Based method</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B2FB4AD2-FF2B-4D4B-A125-04EFEC10D9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Aspectos Negativos</a:t>
            </a:r>
            <a:endParaRPr b="0" lang="en-US" sz="4200" spc="-1" strike="noStrike">
              <a:solidFill>
                <a:srgbClr val="cc9900"/>
              </a:solidFill>
              <a:latin typeface="Tahoma"/>
            </a:endParaRPr>
          </a:p>
        </p:txBody>
      </p:sp>
      <p:sp>
        <p:nvSpPr>
          <p:cNvPr id="142" name="PlaceHolder 2"/>
          <p:cNvSpPr>
            <a:spLocks noGrp="1"/>
          </p:cNvSpPr>
          <p:nvPr>
            <p:ph/>
          </p:nvPr>
        </p:nvSpPr>
        <p:spPr>
          <a:xfrm>
            <a:off x="837720" y="1828800"/>
            <a:ext cx="7543800" cy="2743200"/>
          </a:xfrm>
          <a:prstGeom prst="rect">
            <a:avLst/>
          </a:prstGeom>
          <a:noFill/>
          <a:ln w="0">
            <a:noFill/>
          </a:ln>
        </p:spPr>
        <p:txBody>
          <a:bodyPr lIns="90000" rIns="90000" tIns="46800" bIns="46800" anchor="t">
            <a:normAutofit/>
          </a:bodyPr>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Implementação do LE                                     SIT RUWAPOOL=YES                                                Revisão do CEEDOPT , USRHDLR CEEWUCHA Pedir TODAS as ptfs disponíveis</a:t>
            </a:r>
            <a:endParaRPr b="0" lang="en-US" sz="2600" spc="-1" strike="noStrike">
              <a:solidFill>
                <a:srgbClr val="ffffff"/>
              </a:solidFill>
              <a:latin typeface="Tahoma"/>
            </a:endParaRPr>
          </a:p>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S na CF                                                        CSP e  XPED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2DBFE30E-3FB3-40D5-BD83-BE82653098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Aspectos Positivos</a:t>
            </a:r>
            <a:endParaRPr b="0" lang="en-US" sz="4200" spc="-1" strike="noStrike">
              <a:solidFill>
                <a:srgbClr val="cc9900"/>
              </a:solidFill>
              <a:latin typeface="Tahoma"/>
            </a:endParaRPr>
          </a:p>
        </p:txBody>
      </p:sp>
      <p:sp>
        <p:nvSpPr>
          <p:cNvPr id="144" name="PlaceHolder 2"/>
          <p:cNvSpPr>
            <a:spLocks noGrp="1"/>
          </p:cNvSpPr>
          <p:nvPr>
            <p:ph/>
          </p:nvPr>
        </p:nvSpPr>
        <p:spPr>
          <a:xfrm>
            <a:off x="837720" y="1600200"/>
            <a:ext cx="7543800" cy="3657600"/>
          </a:xfrm>
          <a:prstGeom prst="rect">
            <a:avLst/>
          </a:prstGeom>
          <a:noFill/>
          <a:ln w="0">
            <a:noFill/>
          </a:ln>
        </p:spPr>
        <p:txBody>
          <a:bodyPr lIns="90000" rIns="90000" tIns="46800" bIns="46800" anchor="t">
            <a:normAutofit fontScale="94000"/>
          </a:bodyPr>
          <a:p>
            <a:pPr marL="322200" indent="-3222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uporte IBM                                                      Tanto Local quanto Hursley</a:t>
            </a:r>
            <a:endParaRPr b="0" lang="en-US" sz="2600" spc="-1" strike="noStrike">
              <a:solidFill>
                <a:srgbClr val="ffffff"/>
              </a:solidFill>
              <a:latin typeface="Tahoma"/>
            </a:endParaRPr>
          </a:p>
          <a:p>
            <a:pPr marL="322200" indent="-3222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Performance                                                    Aumento de 10% na internal transaction rate</a:t>
            </a:r>
            <a:endParaRPr b="0" lang="en-US" sz="2600" spc="-1" strike="noStrike">
              <a:solidFill>
                <a:srgbClr val="ffffff"/>
              </a:solidFill>
              <a:latin typeface="Tahoma"/>
            </a:endParaRPr>
          </a:p>
          <a:p>
            <a:pPr marL="322200" indent="-3222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Orientação para WEB, SSL, Java, IIOP</a:t>
            </a:r>
            <a:endParaRPr b="0" lang="en-US" sz="2600" spc="-1" strike="noStrike">
              <a:solidFill>
                <a:srgbClr val="ffffff"/>
              </a:solidFill>
              <a:latin typeface="Tahoma"/>
            </a:endParaRPr>
          </a:p>
          <a:p>
            <a:pPr marL="322200" indent="-3222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ransação CEDX</a:t>
            </a:r>
            <a:endParaRPr b="0" lang="en-US" sz="2600" spc="-1" strike="noStrike">
              <a:solidFill>
                <a:srgbClr val="ffffff"/>
              </a:solidFill>
              <a:latin typeface="Tahoma"/>
            </a:endParaRPr>
          </a:p>
          <a:p>
            <a:pPr marL="3222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98CA8203-68A1-4EB6-B1BF-0C86F9E2A8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Conclusão</a:t>
            </a:r>
            <a:endParaRPr b="0" lang="en-US" sz="4200" spc="-1" strike="noStrike">
              <a:solidFill>
                <a:srgbClr val="cc9900"/>
              </a:solidFill>
              <a:latin typeface="Tahoma"/>
            </a:endParaRPr>
          </a:p>
        </p:txBody>
      </p:sp>
      <p:sp>
        <p:nvSpPr>
          <p:cNvPr id="146"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83000"/>
          </a:bodyPr>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atisfação                                                      Tecnologia de ponta</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Qualidade do software melhor que releases anteriores</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Instalação envolve equipe multi-disciplinar                                  ( OS/390, RACF, TCP/IP etc )</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ystem Logger                                            Maior curva de aprendizado p/ quem vem de CICS V4 ou anterior</a:t>
            </a:r>
            <a:endParaRPr b="0" lang="en-US" sz="2600" spc="-1" strike="noStrike">
              <a:solidFill>
                <a:srgbClr val="ffffff"/>
              </a:solidFill>
              <a:latin typeface="Tahoma"/>
            </a:endParaRPr>
          </a:p>
          <a:p>
            <a:pPr marL="2844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9CA65339-FCA3-40E3-AD6F-EB623733D9B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Hardware - Produção</a:t>
            </a:r>
            <a:endParaRPr b="0" lang="en-US" sz="4200" spc="-1" strike="noStrike">
              <a:solidFill>
                <a:srgbClr val="cc9900"/>
              </a:solidFill>
              <a:latin typeface="Tahoma"/>
            </a:endParaRPr>
          </a:p>
        </p:txBody>
      </p:sp>
      <p:sp>
        <p:nvSpPr>
          <p:cNvPr id="101" name="PlaceHolder 2"/>
          <p:cNvSpPr>
            <a:spLocks noGrp="1"/>
          </p:cNvSpPr>
          <p:nvPr>
            <p:ph/>
          </p:nvPr>
        </p:nvSpPr>
        <p:spPr>
          <a:xfrm>
            <a:off x="914040" y="1828440"/>
            <a:ext cx="7543800" cy="4419720"/>
          </a:xfrm>
          <a:prstGeom prst="rect">
            <a:avLst/>
          </a:prstGeom>
          <a:noFill/>
          <a:ln w="0">
            <a:noFill/>
          </a:ln>
        </p:spPr>
        <p:txBody>
          <a:bodyPr lIns="90000" rIns="90000" tIns="46800" bIns="46800" anchor="t">
            <a:normAutofit/>
          </a:bodyPr>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2 cpus 9672</a:t>
            </a:r>
            <a:endParaRPr b="0" lang="en-US" sz="2600" spc="-1" strike="noStrike">
              <a:solidFill>
                <a:srgbClr val="ffffff"/>
              </a:solidFill>
              <a:latin typeface="Tahoma"/>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R36 - 350 mips  MVS : 2G, CFCC : 2G</a:t>
            </a:r>
            <a:endParaRPr b="0" lang="en-US" sz="2600" spc="-1" strike="noStrike">
              <a:solidFill>
                <a:srgbClr val="ffffff"/>
              </a:solidFill>
              <a:latin typeface="Tahoma"/>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R75 - 340 mips  MVS : 2G, CFCC : 2G</a:t>
            </a:r>
            <a:endParaRPr b="0" lang="en-US" sz="2600" spc="-1" strike="noStrike">
              <a:solidFill>
                <a:srgbClr val="ffffff"/>
              </a:solidFill>
              <a:latin typeface="Tahoma"/>
            </a:endParaRPr>
          </a:p>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torage : 2,5 Terabytes em RVAs , Symmetrix, Shark</a:t>
            </a:r>
            <a:endParaRPr b="0" lang="en-US" sz="2600" spc="-1" strike="noStrike">
              <a:solidFill>
                <a:srgbClr val="ffffff"/>
              </a:solidFill>
              <a:latin typeface="Tahoma"/>
            </a:endParaRPr>
          </a:p>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VTS, MagStar 3590, 3490e, 3480 e 3420</a:t>
            </a:r>
            <a:endParaRPr b="0" lang="en-US" sz="2600" spc="-1" strike="noStrike">
              <a:solidFill>
                <a:srgbClr val="ffffff"/>
              </a:solidFill>
              <a:latin typeface="Tahoma"/>
            </a:endParaRPr>
          </a:p>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2 x 3745/6 , placas OSA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41A83A66-C6F9-4208-8E1F-5E4AABBD94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Software - Produção</a:t>
            </a:r>
            <a:endParaRPr b="0" lang="en-US" sz="4200" spc="-1" strike="noStrike">
              <a:solidFill>
                <a:srgbClr val="cc9900"/>
              </a:solidFill>
              <a:latin typeface="Tahoma"/>
            </a:endParaRPr>
          </a:p>
        </p:txBody>
      </p:sp>
      <p:sp>
        <p:nvSpPr>
          <p:cNvPr id="103" name="PlaceHolder 2"/>
          <p:cNvSpPr>
            <a:spLocks noGrp="1"/>
          </p:cNvSpPr>
          <p:nvPr>
            <p:ph/>
          </p:nvPr>
        </p:nvSpPr>
        <p:spPr>
          <a:xfrm>
            <a:off x="914040" y="1828800"/>
            <a:ext cx="7543800" cy="3657600"/>
          </a:xfrm>
          <a:prstGeom prst="rect">
            <a:avLst/>
          </a:prstGeom>
          <a:noFill/>
          <a:ln w="0">
            <a:noFill/>
          </a:ln>
        </p:spPr>
        <p:txBody>
          <a:bodyPr lIns="90000" rIns="90000" tIns="46800" bIns="46800" anchor="t">
            <a:normAutofit fontScale="94000"/>
          </a:bodyPr>
          <a:p>
            <a:pPr marL="322200" indent="-3222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OS/390 V2R5M0, WLM Goal-mode</a:t>
            </a:r>
            <a:endParaRPr b="0" lang="en-US" sz="2600" spc="-1" strike="noStrike">
              <a:solidFill>
                <a:srgbClr val="ffffff"/>
              </a:solidFill>
              <a:latin typeface="Tahoma"/>
            </a:endParaRPr>
          </a:p>
          <a:p>
            <a:pPr marL="322200" indent="-3222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Parallel Sysplex : Tape sharing, Racf DataBase, Jes2 Checkpoint, Operlog e diversas estruturas de CICS </a:t>
            </a:r>
            <a:endParaRPr b="0" lang="en-US" sz="2600" spc="-1" strike="noStrike">
              <a:solidFill>
                <a:srgbClr val="ffffff"/>
              </a:solidFill>
              <a:latin typeface="Tahoma"/>
            </a:endParaRPr>
          </a:p>
          <a:p>
            <a:pPr marL="322200" indent="-3222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DB2 V5 - começando com DataSharing</a:t>
            </a:r>
            <a:endParaRPr b="0" lang="en-US" sz="2600" spc="-1" strike="noStrike">
              <a:solidFill>
                <a:srgbClr val="ffffff"/>
              </a:solidFill>
              <a:latin typeface="Tahoma"/>
            </a:endParaRPr>
          </a:p>
          <a:p>
            <a:pPr marL="322200" indent="-3222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MqSeries V2</a:t>
            </a:r>
            <a:endParaRPr b="0" lang="en-US" sz="2600" spc="-1" strike="noStrike">
              <a:solidFill>
                <a:srgbClr val="ffffff"/>
              </a:solidFill>
              <a:latin typeface="Tahoma"/>
            </a:endParaRPr>
          </a:p>
          <a:p>
            <a:pPr marL="322200" indent="-3222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14 regiões de CICS TS 1.3</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4BF76144-E4ED-4FED-A113-AFE47E66F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CICS TS 1.3 ESP                     ( Early Support Program )</a:t>
            </a:r>
            <a:endParaRPr b="0" lang="en-US" sz="4200" spc="-1" strike="noStrike">
              <a:solidFill>
                <a:srgbClr val="cc9900"/>
              </a:solidFill>
              <a:latin typeface="Tahoma"/>
            </a:endParaRPr>
          </a:p>
        </p:txBody>
      </p:sp>
      <p:sp>
        <p:nvSpPr>
          <p:cNvPr id="105" name="PlaceHolder 2"/>
          <p:cNvSpPr>
            <a:spLocks noGrp="1"/>
          </p:cNvSpPr>
          <p:nvPr>
            <p:ph/>
          </p:nvPr>
        </p:nvSpPr>
        <p:spPr>
          <a:xfrm>
            <a:off x="914040" y="1828800"/>
            <a:ext cx="7543800" cy="3657600"/>
          </a:xfrm>
          <a:prstGeom prst="rect">
            <a:avLst/>
          </a:prstGeom>
          <a:noFill/>
          <a:ln w="0">
            <a:noFill/>
          </a:ln>
        </p:spPr>
        <p:txBody>
          <a:bodyPr lIns="90000" rIns="90000" tIns="46800" bIns="46800" anchor="t">
            <a:normAutofit fontScale="85000"/>
          </a:bodyPr>
          <a:p>
            <a:pPr marL="291600" indent="-2916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ontato / experiência antecipados com novas funções e facilidades </a:t>
            </a:r>
            <a:endParaRPr b="0" lang="en-US" sz="2600" spc="-1" strike="noStrike">
              <a:solidFill>
                <a:srgbClr val="ffffff"/>
              </a:solidFill>
              <a:latin typeface="Tahoma"/>
            </a:endParaRPr>
          </a:p>
          <a:p>
            <a:pPr marL="291600" indent="-2916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Auxílio na instalação e exploração dos recursos</a:t>
            </a:r>
            <a:endParaRPr b="0" lang="en-US" sz="2600" spc="-1" strike="noStrike">
              <a:solidFill>
                <a:srgbClr val="ffffff"/>
              </a:solidFill>
              <a:latin typeface="Tahoma"/>
            </a:endParaRPr>
          </a:p>
          <a:p>
            <a:pPr marL="291600" indent="-2916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reinamento de 1 semana no laboratório de Hursley, Inglaterra</a:t>
            </a:r>
            <a:endParaRPr b="0" lang="en-US" sz="2600" spc="-1" strike="noStrike">
              <a:solidFill>
                <a:srgbClr val="ffffff"/>
              </a:solidFill>
              <a:latin typeface="Tahoma"/>
            </a:endParaRPr>
          </a:p>
          <a:p>
            <a:pPr marL="291600" indent="-2916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Feedback direto ao CICS Development Team</a:t>
            </a:r>
            <a:endParaRPr b="0" lang="en-US" sz="2600" spc="-1" strike="noStrike">
              <a:solidFill>
                <a:srgbClr val="ffffff"/>
              </a:solidFill>
              <a:latin typeface="Tahoma"/>
            </a:endParaRPr>
          </a:p>
          <a:p>
            <a:pPr marL="291600" indent="-2916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Interação / discussão / colaboração junto aos outros participantes do programa</a:t>
            </a:r>
            <a:endParaRPr b="0" lang="en-US" sz="2600" spc="-1" strike="noStrike">
              <a:solidFill>
                <a:srgbClr val="ffffff"/>
              </a:solidFill>
              <a:latin typeface="Tahoma"/>
            </a:endParaRPr>
          </a:p>
          <a:p>
            <a:pPr marL="29160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805CC49B-8D84-4290-AFA1-6A55C57DA3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Motivação para o ESP</a:t>
            </a:r>
            <a:endParaRPr b="0" lang="en-US" sz="4200" spc="-1" strike="noStrike">
              <a:solidFill>
                <a:srgbClr val="cc9900"/>
              </a:solidFill>
              <a:latin typeface="Tahoma"/>
            </a:endParaRPr>
          </a:p>
        </p:txBody>
      </p:sp>
      <p:sp>
        <p:nvSpPr>
          <p:cNvPr id="107" name="PlaceHolder 2"/>
          <p:cNvSpPr>
            <a:spLocks noGrp="1"/>
          </p:cNvSpPr>
          <p:nvPr>
            <p:ph/>
          </p:nvPr>
        </p:nvSpPr>
        <p:spPr>
          <a:xfrm>
            <a:off x="837720" y="1676520"/>
            <a:ext cx="7543800" cy="3657600"/>
          </a:xfrm>
          <a:prstGeom prst="rect">
            <a:avLst/>
          </a:prstGeom>
          <a:noFill/>
          <a:ln w="0">
            <a:noFill/>
          </a:ln>
        </p:spPr>
        <p:txBody>
          <a:bodyPr lIns="90000" rIns="90000" tIns="46800" bIns="46800" anchor="t">
            <a:normAutofit fontScale="83000"/>
          </a:bodyPr>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Sysplex-wide enqueue / dequeue</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emporary Storage Data Sharing</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Long TS queue names</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Facilidades para a WEB</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Named-counter Server</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RCT Online</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PSM</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2BB04E05-8A8D-4863-9A1C-940345A03E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CTS 1.3 - Fases</a:t>
            </a:r>
            <a:endParaRPr b="0" lang="en-US" sz="4200" spc="-1" strike="noStrike">
              <a:solidFill>
                <a:srgbClr val="cc9900"/>
              </a:solidFill>
              <a:latin typeface="Tahoma"/>
            </a:endParaRPr>
          </a:p>
        </p:txBody>
      </p:sp>
      <p:sp>
        <p:nvSpPr>
          <p:cNvPr id="109"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83000"/>
          </a:bodyPr>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Educação em Hursley - out  98</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Pesquisa e planejamento - a partir de nov 98</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Instalação do OS/390 V2R5M0 -  nov / dez 98</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Instalação do CTS 1.3 L.A.  - fev 99</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estes e migração do CICS 4.1 - mar / mai 99</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Instalação do CTS 1.3 G.A.  - jun 99     </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onversão da produção - ago 99</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208EEE2F-6FDD-427B-A73E-7D5D990B2A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Equipes envolvidas</a:t>
            </a:r>
            <a:endParaRPr b="0" lang="en-US" sz="4200" spc="-1" strike="noStrike">
              <a:solidFill>
                <a:srgbClr val="cc9900"/>
              </a:solidFill>
              <a:latin typeface="Tahoma"/>
            </a:endParaRPr>
          </a:p>
        </p:txBody>
      </p:sp>
      <p:sp>
        <p:nvSpPr>
          <p:cNvPr id="111"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83000"/>
          </a:bodyPr>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2 técnicos com bom background de CICS</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Equipe MVS</a:t>
            </a:r>
            <a:endParaRPr b="0" lang="en-US" sz="2600" spc="-1" strike="noStrike">
              <a:solidFill>
                <a:srgbClr val="ffffff"/>
              </a:solidFill>
              <a:latin typeface="Tahoma"/>
            </a:endParaRPr>
          </a:p>
          <a:p>
            <a:pPr marL="2844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MVS, SMS, GRS, OEdition, CF resources</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Equipe DBA</a:t>
            </a:r>
            <a:endParaRPr b="0" lang="en-US" sz="2600" spc="-1" strike="noStrike">
              <a:solidFill>
                <a:srgbClr val="ffffff"/>
              </a:solidFill>
              <a:latin typeface="Tahoma"/>
            </a:endParaRPr>
          </a:p>
          <a:p>
            <a:pPr marL="2844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RCT Online, novos comandos</a:t>
            </a:r>
            <a:endParaRPr b="0" lang="en-US" sz="2600" spc="-1" strike="noStrike">
              <a:solidFill>
                <a:srgbClr val="ffffff"/>
              </a:solidFill>
              <a:latin typeface="Tahoma"/>
            </a:endParaRPr>
          </a:p>
          <a:p>
            <a:pPr marL="284400" indent="-2844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Equipe de Desenvolvimento</a:t>
            </a:r>
            <a:endParaRPr b="0" lang="en-US" sz="2600" spc="-1" strike="noStrike">
              <a:solidFill>
                <a:srgbClr val="ffffff"/>
              </a:solidFill>
              <a:latin typeface="Tahoma"/>
            </a:endParaRPr>
          </a:p>
          <a:p>
            <a:pPr marL="2844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r>
              <a:rPr b="0" lang="pt-BR" sz="2600" spc="-1" strike="noStrike">
                <a:solidFill>
                  <a:srgbClr val="ffffff"/>
                </a:solidFill>
                <a:latin typeface="Tahoma"/>
              </a:rPr>
              <a:t>Novas estruturas de programação, nova API</a:t>
            </a:r>
            <a:endParaRPr b="0" lang="en-US" sz="2600" spc="-1" strike="noStrike">
              <a:solidFill>
                <a:srgbClr val="ffffff"/>
              </a:solidFill>
              <a:latin typeface="Tahoma"/>
            </a:endParaRPr>
          </a:p>
          <a:p>
            <a:pPr marL="28440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4F4D03BB-B663-4739-8AAE-BC2930D19F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cc9900"/>
                </a:solidFill>
                <a:latin typeface="Tahoma"/>
              </a:rPr>
              <a:t>Requisitos para CTS 1.3</a:t>
            </a:r>
            <a:endParaRPr b="0" lang="en-US" sz="4200" spc="-1" strike="noStrike">
              <a:solidFill>
                <a:srgbClr val="cc9900"/>
              </a:solidFill>
              <a:latin typeface="Tahoma"/>
            </a:endParaRPr>
          </a:p>
        </p:txBody>
      </p:sp>
      <p:sp>
        <p:nvSpPr>
          <p:cNvPr id="113" name="PlaceHolder 2"/>
          <p:cNvSpPr>
            <a:spLocks noGrp="1"/>
          </p:cNvSpPr>
          <p:nvPr>
            <p:ph/>
          </p:nvPr>
        </p:nvSpPr>
        <p:spPr>
          <a:xfrm>
            <a:off x="837720" y="1295280"/>
            <a:ext cx="7543800" cy="3657600"/>
          </a:xfrm>
          <a:prstGeom prst="rect">
            <a:avLst/>
          </a:prstGeom>
          <a:noFill/>
          <a:ln w="0">
            <a:noFill/>
          </a:ln>
        </p:spPr>
        <p:txBody>
          <a:bodyPr lIns="90000" rIns="90000" tIns="46800" bIns="46800" anchor="t">
            <a:normAutofit fontScale="74000"/>
          </a:bodyPr>
          <a:p>
            <a:pPr marL="253800" indent="-2538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OS/390 V2R5M0 com SMS ativo                PDSEs e HFS</a:t>
            </a:r>
            <a:endParaRPr b="0" lang="en-US" sz="2600" spc="-1" strike="noStrike">
              <a:solidFill>
                <a:srgbClr val="ffffff"/>
              </a:solidFill>
              <a:latin typeface="Tahoma"/>
            </a:endParaRPr>
          </a:p>
          <a:p>
            <a:pPr marL="253800" indent="-2538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GRS                                                        Sysplex-wide enq / deq</a:t>
            </a:r>
            <a:endParaRPr b="0" lang="en-US" sz="2600" spc="-1" strike="noStrike">
              <a:solidFill>
                <a:srgbClr val="ffffff"/>
              </a:solidFill>
              <a:latin typeface="Tahoma"/>
            </a:endParaRPr>
          </a:p>
          <a:p>
            <a:pPr marL="253800" indent="-2538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TCP/IP                                                    Funções WEB</a:t>
            </a:r>
            <a:endParaRPr b="0" lang="en-US" sz="2600" spc="-1" strike="noStrike">
              <a:solidFill>
                <a:srgbClr val="ffffff"/>
              </a:solidFill>
              <a:latin typeface="Tahoma"/>
            </a:endParaRPr>
          </a:p>
          <a:p>
            <a:pPr marL="253800" indent="-2538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CF                                                          Named-counter Server, CFDT, TS queue server</a:t>
            </a:r>
            <a:endParaRPr b="0" lang="en-US" sz="2600" spc="-1" strike="noStrike">
              <a:solidFill>
                <a:srgbClr val="ffffff"/>
              </a:solidFill>
              <a:latin typeface="Tahoma"/>
            </a:endParaRPr>
          </a:p>
          <a:p>
            <a:pPr marL="253800" indent="-25380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LE                                                          Java, WEB Services                                                                                                                                              </a:t>
            </a:r>
            <a:endParaRPr b="0" lang="en-US" sz="2600" spc="-1" strike="noStrike">
              <a:solidFill>
                <a:srgbClr val="ffffff"/>
              </a:solidFill>
              <a:latin typeface="Tahoma"/>
            </a:endParaRPr>
          </a:p>
          <a:p>
            <a:pPr marL="25380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ahoma"/>
              </a:rPr>
              <a:t>   </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Serasa - Centralização dos Serviços dos Bancos</a:t>
            </a:r>
          </a:p>
        </p:txBody>
      </p:sp>
      <p:sp>
        <p:nvSpPr>
          <p:cNvPr id="5" name="PlaceHolder 4"/>
          <p:cNvSpPr>
            <a:spLocks noGrp="1"/>
          </p:cNvSpPr>
          <p:nvPr>
            <p:ph type="sldNum" idx="3"/>
          </p:nvPr>
        </p:nvSpPr>
        <p:spPr/>
        <p:txBody>
          <a:bodyPr/>
          <a:p>
            <a:fld id="{3E9B2B37-2762-4FD1-B8D6-B8542B072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9T14:59:39Z</dcterms:created>
  <dc:creator>Claudio</dc:creator>
  <dc:description/>
  <dc:language>en-US</dc:language>
  <cp:lastModifiedBy>SERASA</cp:lastModifiedBy>
  <cp:lastPrinted>1999-10-06T15:39:38Z</cp:lastPrinted>
  <dcterms:modified xsi:type="dcterms:W3CDTF">1999-10-13T19:47:53Z</dcterms:modified>
  <cp:revision>42</cp:revision>
  <dc:subject/>
  <dc:title>Implementação do CICS TS 1.3         Early Support Program</dc:title>
</cp:coreProperties>
</file>