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502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502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502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35252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35252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502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502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502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35252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77240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35252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502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502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35252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502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440" y="914400"/>
            <a:ext cx="9010800" cy="0"/>
          </a:xfrm>
          <a:prstGeom prst="line">
            <a:avLst/>
          </a:prstGeom>
          <a:ln w="572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067680" cy="5331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Univers (WN)"/>
              </a:rPr>
              <a:t>Click to edit the title text format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14ffb"/>
              </a:buClr>
              <a:buSzPct val="6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14ffb"/>
              </a:buClr>
              <a:buSzPct val="6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14ffb"/>
              </a:buClr>
              <a:buSzPct val="6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300320" y="6108840"/>
            <a:ext cx="2511360" cy="293400"/>
            <a:chOff x="1300320" y="6108840"/>
            <a:chExt cx="2511360" cy="293400"/>
          </a:xfrm>
        </p:grpSpPr>
        <p:grpSp>
          <p:nvGrpSpPr>
            <p:cNvPr id="5" name=""/>
            <p:cNvGrpSpPr/>
            <p:nvPr/>
          </p:nvGrpSpPr>
          <p:grpSpPr>
            <a:xfrm>
              <a:off x="1300320" y="6108840"/>
              <a:ext cx="377640" cy="293400"/>
              <a:chOff x="1300320" y="6108840"/>
              <a:chExt cx="377640" cy="293400"/>
            </a:xfrm>
          </p:grpSpPr>
          <p:sp>
            <p:nvSpPr>
              <p:cNvPr id="6" name=""/>
              <p:cNvSpPr/>
              <p:nvPr/>
            </p:nvSpPr>
            <p:spPr>
              <a:xfrm>
                <a:off x="1544760" y="622620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34"/>
                    </a:moveTo>
                    <a:lnTo>
                      <a:pt x="13" y="42"/>
                    </a:lnTo>
                    <a:lnTo>
                      <a:pt x="82" y="1"/>
                    </a:lnTo>
                    <a:lnTo>
                      <a:pt x="54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00320" y="6211800"/>
                <a:ext cx="161640" cy="17640"/>
              </a:xfrm>
              <a:custGeom>
                <a:avLst/>
                <a:gdLst/>
                <a:ahLst/>
                <a:rect l="l" t="t" r="r" b="b"/>
                <a:pathLst>
                  <a:path w="102" h="11">
                    <a:moveTo>
                      <a:pt x="0" y="0"/>
                    </a:moveTo>
                    <a:lnTo>
                      <a:pt x="15" y="10"/>
                    </a:lnTo>
                    <a:lnTo>
                      <a:pt x="101" y="1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33520" y="6108840"/>
                <a:ext cx="66600" cy="12060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6" y="75"/>
                    </a:moveTo>
                    <a:lnTo>
                      <a:pt x="41" y="9"/>
                    </a:lnTo>
                    <a:lnTo>
                      <a:pt x="26" y="0"/>
                    </a:lnTo>
                    <a:lnTo>
                      <a:pt x="0" y="65"/>
                    </a:lnTo>
                    <a:lnTo>
                      <a:pt x="16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33600" y="6211800"/>
                <a:ext cx="144360" cy="176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5" y="10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90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371600" y="6319800"/>
                <a:ext cx="133200" cy="79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0" y="40"/>
                    </a:moveTo>
                    <a:lnTo>
                      <a:pt x="14" y="49"/>
                    </a:lnTo>
                    <a:lnTo>
                      <a:pt x="83" y="8"/>
                    </a:lnTo>
                    <a:lnTo>
                      <a:pt x="6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42960" y="6280200"/>
                <a:ext cx="63720" cy="1220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2" y="62"/>
                    </a:moveTo>
                    <a:lnTo>
                      <a:pt x="39" y="76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22" y="6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70160" y="6278400"/>
                <a:ext cx="66600" cy="12096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5" y="75"/>
                    </a:moveTo>
                    <a:lnTo>
                      <a:pt x="41" y="9"/>
                    </a:lnTo>
                    <a:lnTo>
                      <a:pt x="25" y="0"/>
                    </a:lnTo>
                    <a:lnTo>
                      <a:pt x="0" y="66"/>
                    </a:lnTo>
                    <a:lnTo>
                      <a:pt x="15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322280" y="6122880"/>
                <a:ext cx="309600" cy="255600"/>
              </a:xfrm>
              <a:custGeom>
                <a:avLst/>
                <a:gdLst/>
                <a:ahLst/>
                <a:rect l="l" t="t" r="r" b="b"/>
                <a:pathLst>
                  <a:path w="195" h="161">
                    <a:moveTo>
                      <a:pt x="111" y="0"/>
                    </a:moveTo>
                    <a:lnTo>
                      <a:pt x="86" y="66"/>
                    </a:lnTo>
                    <a:lnTo>
                      <a:pt x="0" y="65"/>
                    </a:lnTo>
                    <a:lnTo>
                      <a:pt x="71" y="107"/>
                    </a:lnTo>
                    <a:lnTo>
                      <a:pt x="54" y="151"/>
                    </a:lnTo>
                    <a:lnTo>
                      <a:pt x="100" y="123"/>
                    </a:lnTo>
                    <a:lnTo>
                      <a:pt x="162" y="160"/>
                    </a:lnTo>
                    <a:lnTo>
                      <a:pt x="139" y="99"/>
                    </a:lnTo>
                    <a:lnTo>
                      <a:pt x="194" y="66"/>
                    </a:lnTo>
                    <a:lnTo>
                      <a:pt x="137" y="6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1833480" y="6108840"/>
              <a:ext cx="378000" cy="293400"/>
              <a:chOff x="1833480" y="6108840"/>
              <a:chExt cx="378000" cy="293400"/>
            </a:xfrm>
          </p:grpSpPr>
          <p:sp>
            <p:nvSpPr>
              <p:cNvPr id="15" name=""/>
              <p:cNvSpPr/>
              <p:nvPr/>
            </p:nvSpPr>
            <p:spPr>
              <a:xfrm>
                <a:off x="2077920" y="622620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34"/>
                    </a:moveTo>
                    <a:lnTo>
                      <a:pt x="13" y="42"/>
                    </a:lnTo>
                    <a:lnTo>
                      <a:pt x="82" y="1"/>
                    </a:lnTo>
                    <a:lnTo>
                      <a:pt x="54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833480" y="6211800"/>
                <a:ext cx="162000" cy="17640"/>
              </a:xfrm>
              <a:custGeom>
                <a:avLst/>
                <a:gdLst/>
                <a:ahLst/>
                <a:rect l="l" t="t" r="r" b="b"/>
                <a:pathLst>
                  <a:path w="102" h="11">
                    <a:moveTo>
                      <a:pt x="0" y="0"/>
                    </a:moveTo>
                    <a:lnTo>
                      <a:pt x="15" y="10"/>
                    </a:lnTo>
                    <a:lnTo>
                      <a:pt x="101" y="1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967040" y="6108840"/>
                <a:ext cx="66600" cy="12060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6" y="75"/>
                    </a:moveTo>
                    <a:lnTo>
                      <a:pt x="41" y="9"/>
                    </a:lnTo>
                    <a:lnTo>
                      <a:pt x="26" y="0"/>
                    </a:lnTo>
                    <a:lnTo>
                      <a:pt x="0" y="65"/>
                    </a:lnTo>
                    <a:lnTo>
                      <a:pt x="16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66760" y="6211800"/>
                <a:ext cx="144720" cy="176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5" y="10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90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905120" y="6319800"/>
                <a:ext cx="133200" cy="79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0" y="40"/>
                    </a:moveTo>
                    <a:lnTo>
                      <a:pt x="14" y="49"/>
                    </a:lnTo>
                    <a:lnTo>
                      <a:pt x="83" y="8"/>
                    </a:lnTo>
                    <a:lnTo>
                      <a:pt x="6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076480" y="6280200"/>
                <a:ext cx="63360" cy="1220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2" y="62"/>
                    </a:moveTo>
                    <a:lnTo>
                      <a:pt x="39" y="76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22" y="6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03320" y="6278400"/>
                <a:ext cx="66600" cy="12096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5" y="75"/>
                    </a:moveTo>
                    <a:lnTo>
                      <a:pt x="41" y="9"/>
                    </a:lnTo>
                    <a:lnTo>
                      <a:pt x="25" y="0"/>
                    </a:lnTo>
                    <a:lnTo>
                      <a:pt x="0" y="66"/>
                    </a:lnTo>
                    <a:lnTo>
                      <a:pt x="15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855800" y="6122880"/>
                <a:ext cx="309600" cy="255600"/>
              </a:xfrm>
              <a:custGeom>
                <a:avLst/>
                <a:gdLst/>
                <a:ahLst/>
                <a:rect l="l" t="t" r="r" b="b"/>
                <a:pathLst>
                  <a:path w="195" h="161">
                    <a:moveTo>
                      <a:pt x="111" y="0"/>
                    </a:moveTo>
                    <a:lnTo>
                      <a:pt x="86" y="66"/>
                    </a:lnTo>
                    <a:lnTo>
                      <a:pt x="0" y="65"/>
                    </a:lnTo>
                    <a:lnTo>
                      <a:pt x="71" y="107"/>
                    </a:lnTo>
                    <a:lnTo>
                      <a:pt x="54" y="151"/>
                    </a:lnTo>
                    <a:lnTo>
                      <a:pt x="100" y="123"/>
                    </a:lnTo>
                    <a:lnTo>
                      <a:pt x="162" y="160"/>
                    </a:lnTo>
                    <a:lnTo>
                      <a:pt x="139" y="99"/>
                    </a:lnTo>
                    <a:lnTo>
                      <a:pt x="194" y="66"/>
                    </a:lnTo>
                    <a:lnTo>
                      <a:pt x="137" y="6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" name=""/>
            <p:cNvGrpSpPr/>
            <p:nvPr/>
          </p:nvGrpSpPr>
          <p:grpSpPr>
            <a:xfrm>
              <a:off x="2367000" y="6108840"/>
              <a:ext cx="377640" cy="293400"/>
              <a:chOff x="2367000" y="6108840"/>
              <a:chExt cx="377640" cy="293400"/>
            </a:xfrm>
          </p:grpSpPr>
          <p:sp>
            <p:nvSpPr>
              <p:cNvPr id="24" name=""/>
              <p:cNvSpPr/>
              <p:nvPr/>
            </p:nvSpPr>
            <p:spPr>
              <a:xfrm>
                <a:off x="2611440" y="622620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34"/>
                    </a:moveTo>
                    <a:lnTo>
                      <a:pt x="13" y="42"/>
                    </a:lnTo>
                    <a:lnTo>
                      <a:pt x="82" y="1"/>
                    </a:lnTo>
                    <a:lnTo>
                      <a:pt x="54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367000" y="6211800"/>
                <a:ext cx="162000" cy="17640"/>
              </a:xfrm>
              <a:custGeom>
                <a:avLst/>
                <a:gdLst/>
                <a:ahLst/>
                <a:rect l="l" t="t" r="r" b="b"/>
                <a:pathLst>
                  <a:path w="102" h="11">
                    <a:moveTo>
                      <a:pt x="0" y="0"/>
                    </a:moveTo>
                    <a:lnTo>
                      <a:pt x="15" y="10"/>
                    </a:lnTo>
                    <a:lnTo>
                      <a:pt x="101" y="1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500200" y="6108840"/>
                <a:ext cx="66960" cy="12060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6" y="75"/>
                    </a:moveTo>
                    <a:lnTo>
                      <a:pt x="41" y="9"/>
                    </a:lnTo>
                    <a:lnTo>
                      <a:pt x="26" y="0"/>
                    </a:lnTo>
                    <a:lnTo>
                      <a:pt x="0" y="65"/>
                    </a:lnTo>
                    <a:lnTo>
                      <a:pt x="16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600280" y="6211800"/>
                <a:ext cx="144360" cy="176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5" y="10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90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438280" y="6319800"/>
                <a:ext cx="133560" cy="79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0" y="40"/>
                    </a:moveTo>
                    <a:lnTo>
                      <a:pt x="14" y="49"/>
                    </a:lnTo>
                    <a:lnTo>
                      <a:pt x="83" y="8"/>
                    </a:lnTo>
                    <a:lnTo>
                      <a:pt x="6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610000" y="6280200"/>
                <a:ext cx="63360" cy="1220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2" y="62"/>
                    </a:moveTo>
                    <a:lnTo>
                      <a:pt x="39" y="76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22" y="6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436840" y="6278400"/>
                <a:ext cx="66600" cy="12096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5" y="75"/>
                    </a:moveTo>
                    <a:lnTo>
                      <a:pt x="41" y="9"/>
                    </a:lnTo>
                    <a:lnTo>
                      <a:pt x="25" y="0"/>
                    </a:lnTo>
                    <a:lnTo>
                      <a:pt x="0" y="66"/>
                    </a:lnTo>
                    <a:lnTo>
                      <a:pt x="15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89320" y="6122880"/>
                <a:ext cx="309600" cy="255600"/>
              </a:xfrm>
              <a:custGeom>
                <a:avLst/>
                <a:gdLst/>
                <a:ahLst/>
                <a:rect l="l" t="t" r="r" b="b"/>
                <a:pathLst>
                  <a:path w="195" h="161">
                    <a:moveTo>
                      <a:pt x="111" y="0"/>
                    </a:moveTo>
                    <a:lnTo>
                      <a:pt x="86" y="66"/>
                    </a:lnTo>
                    <a:lnTo>
                      <a:pt x="0" y="65"/>
                    </a:lnTo>
                    <a:lnTo>
                      <a:pt x="71" y="107"/>
                    </a:lnTo>
                    <a:lnTo>
                      <a:pt x="54" y="151"/>
                    </a:lnTo>
                    <a:lnTo>
                      <a:pt x="100" y="123"/>
                    </a:lnTo>
                    <a:lnTo>
                      <a:pt x="162" y="160"/>
                    </a:lnTo>
                    <a:lnTo>
                      <a:pt x="139" y="99"/>
                    </a:lnTo>
                    <a:lnTo>
                      <a:pt x="194" y="66"/>
                    </a:lnTo>
                    <a:lnTo>
                      <a:pt x="137" y="6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2900520" y="6108840"/>
              <a:ext cx="377640" cy="293400"/>
              <a:chOff x="2900520" y="6108840"/>
              <a:chExt cx="377640" cy="293400"/>
            </a:xfrm>
          </p:grpSpPr>
          <p:sp>
            <p:nvSpPr>
              <p:cNvPr id="33" name=""/>
              <p:cNvSpPr/>
              <p:nvPr/>
            </p:nvSpPr>
            <p:spPr>
              <a:xfrm>
                <a:off x="3144960" y="622620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34"/>
                    </a:moveTo>
                    <a:lnTo>
                      <a:pt x="13" y="42"/>
                    </a:lnTo>
                    <a:lnTo>
                      <a:pt x="82" y="1"/>
                    </a:lnTo>
                    <a:lnTo>
                      <a:pt x="54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900520" y="6211800"/>
                <a:ext cx="161640" cy="17640"/>
              </a:xfrm>
              <a:custGeom>
                <a:avLst/>
                <a:gdLst/>
                <a:ahLst/>
                <a:rect l="l" t="t" r="r" b="b"/>
                <a:pathLst>
                  <a:path w="102" h="11">
                    <a:moveTo>
                      <a:pt x="0" y="0"/>
                    </a:moveTo>
                    <a:lnTo>
                      <a:pt x="15" y="10"/>
                    </a:lnTo>
                    <a:lnTo>
                      <a:pt x="101" y="1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033720" y="6108840"/>
                <a:ext cx="66600" cy="12060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6" y="75"/>
                    </a:moveTo>
                    <a:lnTo>
                      <a:pt x="41" y="9"/>
                    </a:lnTo>
                    <a:lnTo>
                      <a:pt x="26" y="0"/>
                    </a:lnTo>
                    <a:lnTo>
                      <a:pt x="0" y="65"/>
                    </a:lnTo>
                    <a:lnTo>
                      <a:pt x="16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133800" y="6211800"/>
                <a:ext cx="144360" cy="176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5" y="10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90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971800" y="6319800"/>
                <a:ext cx="133200" cy="79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0" y="40"/>
                    </a:moveTo>
                    <a:lnTo>
                      <a:pt x="14" y="49"/>
                    </a:lnTo>
                    <a:lnTo>
                      <a:pt x="83" y="8"/>
                    </a:lnTo>
                    <a:lnTo>
                      <a:pt x="6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143160" y="6280200"/>
                <a:ext cx="63720" cy="1220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2" y="62"/>
                    </a:moveTo>
                    <a:lnTo>
                      <a:pt x="39" y="76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22" y="6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970360" y="6278400"/>
                <a:ext cx="66600" cy="12096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5" y="75"/>
                    </a:moveTo>
                    <a:lnTo>
                      <a:pt x="41" y="9"/>
                    </a:lnTo>
                    <a:lnTo>
                      <a:pt x="25" y="0"/>
                    </a:lnTo>
                    <a:lnTo>
                      <a:pt x="0" y="66"/>
                    </a:lnTo>
                    <a:lnTo>
                      <a:pt x="15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922480" y="6122880"/>
                <a:ext cx="309600" cy="255600"/>
              </a:xfrm>
              <a:custGeom>
                <a:avLst/>
                <a:gdLst/>
                <a:ahLst/>
                <a:rect l="l" t="t" r="r" b="b"/>
                <a:pathLst>
                  <a:path w="195" h="161">
                    <a:moveTo>
                      <a:pt x="111" y="0"/>
                    </a:moveTo>
                    <a:lnTo>
                      <a:pt x="86" y="66"/>
                    </a:lnTo>
                    <a:lnTo>
                      <a:pt x="0" y="65"/>
                    </a:lnTo>
                    <a:lnTo>
                      <a:pt x="71" y="107"/>
                    </a:lnTo>
                    <a:lnTo>
                      <a:pt x="54" y="151"/>
                    </a:lnTo>
                    <a:lnTo>
                      <a:pt x="100" y="123"/>
                    </a:lnTo>
                    <a:lnTo>
                      <a:pt x="162" y="160"/>
                    </a:lnTo>
                    <a:lnTo>
                      <a:pt x="139" y="99"/>
                    </a:lnTo>
                    <a:lnTo>
                      <a:pt x="194" y="66"/>
                    </a:lnTo>
                    <a:lnTo>
                      <a:pt x="137" y="6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3433680" y="6108840"/>
              <a:ext cx="378000" cy="293400"/>
              <a:chOff x="3433680" y="6108840"/>
              <a:chExt cx="378000" cy="293400"/>
            </a:xfrm>
          </p:grpSpPr>
          <p:sp>
            <p:nvSpPr>
              <p:cNvPr id="42" name=""/>
              <p:cNvSpPr/>
              <p:nvPr/>
            </p:nvSpPr>
            <p:spPr>
              <a:xfrm>
                <a:off x="3678120" y="622620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34"/>
                    </a:moveTo>
                    <a:lnTo>
                      <a:pt x="13" y="42"/>
                    </a:lnTo>
                    <a:lnTo>
                      <a:pt x="82" y="1"/>
                    </a:lnTo>
                    <a:lnTo>
                      <a:pt x="54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433680" y="6211800"/>
                <a:ext cx="162000" cy="17640"/>
              </a:xfrm>
              <a:custGeom>
                <a:avLst/>
                <a:gdLst/>
                <a:ahLst/>
                <a:rect l="l" t="t" r="r" b="b"/>
                <a:pathLst>
                  <a:path w="102" h="11">
                    <a:moveTo>
                      <a:pt x="0" y="0"/>
                    </a:moveTo>
                    <a:lnTo>
                      <a:pt x="15" y="10"/>
                    </a:lnTo>
                    <a:lnTo>
                      <a:pt x="101" y="1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567240" y="6108840"/>
                <a:ext cx="66600" cy="12060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6" y="75"/>
                    </a:moveTo>
                    <a:lnTo>
                      <a:pt x="41" y="9"/>
                    </a:lnTo>
                    <a:lnTo>
                      <a:pt x="26" y="0"/>
                    </a:lnTo>
                    <a:lnTo>
                      <a:pt x="0" y="65"/>
                    </a:lnTo>
                    <a:lnTo>
                      <a:pt x="16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666960" y="6211800"/>
                <a:ext cx="144720" cy="176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5" y="10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90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05320" y="6319800"/>
                <a:ext cx="133200" cy="79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0" y="40"/>
                    </a:moveTo>
                    <a:lnTo>
                      <a:pt x="14" y="49"/>
                    </a:lnTo>
                    <a:lnTo>
                      <a:pt x="83" y="8"/>
                    </a:lnTo>
                    <a:lnTo>
                      <a:pt x="6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76680" y="6280200"/>
                <a:ext cx="63360" cy="1220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2" y="62"/>
                    </a:moveTo>
                    <a:lnTo>
                      <a:pt x="39" y="76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22" y="6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03520" y="6278400"/>
                <a:ext cx="66600" cy="12096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5" y="75"/>
                    </a:moveTo>
                    <a:lnTo>
                      <a:pt x="41" y="9"/>
                    </a:lnTo>
                    <a:lnTo>
                      <a:pt x="25" y="0"/>
                    </a:lnTo>
                    <a:lnTo>
                      <a:pt x="0" y="66"/>
                    </a:lnTo>
                    <a:lnTo>
                      <a:pt x="15" y="75"/>
                    </a:lnTo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56000" y="6122880"/>
                <a:ext cx="309600" cy="255600"/>
              </a:xfrm>
              <a:custGeom>
                <a:avLst/>
                <a:gdLst/>
                <a:ahLst/>
                <a:rect l="l" t="t" r="r" b="b"/>
                <a:pathLst>
                  <a:path w="195" h="161">
                    <a:moveTo>
                      <a:pt x="111" y="0"/>
                    </a:moveTo>
                    <a:lnTo>
                      <a:pt x="86" y="66"/>
                    </a:lnTo>
                    <a:lnTo>
                      <a:pt x="0" y="65"/>
                    </a:lnTo>
                    <a:lnTo>
                      <a:pt x="71" y="107"/>
                    </a:lnTo>
                    <a:lnTo>
                      <a:pt x="54" y="151"/>
                    </a:lnTo>
                    <a:lnTo>
                      <a:pt x="100" y="123"/>
                    </a:lnTo>
                    <a:lnTo>
                      <a:pt x="162" y="160"/>
                    </a:lnTo>
                    <a:lnTo>
                      <a:pt x="139" y="99"/>
                    </a:lnTo>
                    <a:lnTo>
                      <a:pt x="194" y="66"/>
                    </a:lnTo>
                    <a:lnTo>
                      <a:pt x="137" y="6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360" y="565956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76560" y="6081840"/>
            <a:ext cx="299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to para o Fu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64400" y="6575400"/>
            <a:ext cx="43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D09-B415-4BA2-AF13-0B4D33ABFC7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ogo4" descr=""/>
          <p:cNvPicPr/>
          <p:nvPr/>
        </p:nvPicPr>
        <p:blipFill>
          <a:blip r:embed="rId1"/>
          <a:stretch/>
        </p:blipFill>
        <p:spPr>
          <a:xfrm>
            <a:off x="442800" y="812880"/>
            <a:ext cx="8415360" cy="564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96760" y="4322880"/>
            <a:ext cx="4137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asília/DF - Março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6120" y="1741320"/>
            <a:ext cx="519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577"/>
                </a:solidFill>
                <a:latin typeface="Arial"/>
              </a:rPr>
              <a:t>Exploração da arquite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44520" y="2978280"/>
            <a:ext cx="670572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allel Sysplex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43760" y="28512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0577"/>
                </a:solidFill>
                <a:latin typeface="Arial"/>
              </a:rPr>
              <a:t>Pronto para o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00" y="229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arallel Sysplex - Escalabilidade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086520" y="1674720"/>
            <a:ext cx="2111400" cy="1254240"/>
            <a:chOff x="6086520" y="1674720"/>
            <a:chExt cx="2111400" cy="1254240"/>
          </a:xfrm>
        </p:grpSpPr>
        <p:sp>
          <p:nvSpPr>
            <p:cNvPr id="290" name=""/>
            <p:cNvSpPr/>
            <p:nvPr/>
          </p:nvSpPr>
          <p:spPr>
            <a:xfrm>
              <a:off x="6194520" y="1793880"/>
              <a:ext cx="1895400" cy="41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4520" y="2390760"/>
              <a:ext cx="487440" cy="41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6520" y="1674720"/>
              <a:ext cx="2111400" cy="125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94520" y="2414160"/>
              <a:ext cx="5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30840" y="1817280"/>
              <a:ext cx="11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02480" y="2390760"/>
              <a:ext cx="487440" cy="41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8480" y="2414160"/>
              <a:ext cx="5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27960" y="2348640"/>
              <a:ext cx="9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. .  .  .  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683240" y="4567320"/>
            <a:ext cx="1549440" cy="1253880"/>
            <a:chOff x="4683240" y="4567320"/>
            <a:chExt cx="1549440" cy="1253880"/>
          </a:xfrm>
        </p:grpSpPr>
        <p:sp>
          <p:nvSpPr>
            <p:cNvPr id="299" name=""/>
            <p:cNvSpPr/>
            <p:nvPr/>
          </p:nvSpPr>
          <p:spPr>
            <a:xfrm>
              <a:off x="4762440" y="4686120"/>
              <a:ext cx="139068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62440" y="5283000"/>
              <a:ext cx="48096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83240" y="4567320"/>
              <a:ext cx="1549440" cy="125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62440" y="5306400"/>
              <a:ext cx="4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81520" y="5283000"/>
              <a:ext cx="47160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61000" y="5306400"/>
              <a:ext cx="5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9960" y="5302800"/>
              <a:ext cx="70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. 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7200" y="4754160"/>
              <a:ext cx="11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112160" y="4567320"/>
            <a:ext cx="1549080" cy="1253880"/>
            <a:chOff x="7112160" y="4567320"/>
            <a:chExt cx="1549080" cy="1253880"/>
          </a:xfrm>
        </p:grpSpPr>
        <p:sp>
          <p:nvSpPr>
            <p:cNvPr id="308" name=""/>
            <p:cNvSpPr/>
            <p:nvPr/>
          </p:nvSpPr>
          <p:spPr>
            <a:xfrm>
              <a:off x="7191000" y="4686120"/>
              <a:ext cx="139032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1000" y="5283000"/>
              <a:ext cx="48060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12160" y="4567320"/>
              <a:ext cx="1549080" cy="125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1000" y="5306400"/>
              <a:ext cx="4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10080" y="5283000"/>
              <a:ext cx="471240" cy="41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89560" y="5306400"/>
              <a:ext cx="53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08520" y="5302800"/>
              <a:ext cx="70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. 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5760" y="4754160"/>
              <a:ext cx="11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170760" y="4968000"/>
            <a:ext cx="9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. .  .  . 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1800" y="3790800"/>
            <a:ext cx="2190600" cy="51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0960" y="38919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upl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14200" y="124848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quitetura tradi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332496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llel Syspl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00560" y="4057560"/>
            <a:ext cx="400320" cy="533520"/>
          </a:xfrm>
          <a:custGeom>
            <a:avLst/>
            <a:gdLst/>
            <a:ahLst/>
            <a:rect l="l" t="t" r="r" b="b"/>
            <a:pathLst>
              <a:path w="252" h="336">
                <a:moveTo>
                  <a:pt x="25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4095720"/>
            <a:ext cx="285840" cy="476280"/>
          </a:xfrm>
          <a:custGeom>
            <a:avLst/>
            <a:gdLst/>
            <a:ahLst/>
            <a:rect l="l" t="t" r="r" b="b"/>
            <a:pathLst>
              <a:path w="180" h="300">
                <a:moveTo>
                  <a:pt x="0" y="0"/>
                </a:moveTo>
                <a:lnTo>
                  <a:pt x="180" y="0"/>
                </a:lnTo>
                <a:lnTo>
                  <a:pt x="180" y="3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4360" y="1428840"/>
            <a:ext cx="325764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333440" y="1409760"/>
            <a:ext cx="3238560" cy="323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314360" y="2076120"/>
            <a:ext cx="3257640" cy="25909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3352680"/>
            <a:ext cx="3314880" cy="1333800"/>
          </a:xfrm>
          <a:custGeom>
            <a:avLst/>
            <a:gdLst/>
            <a:ahLst/>
            <a:rect l="l" t="t" r="r" b="b"/>
            <a:pathLst>
              <a:path w="2088" h="840">
                <a:moveTo>
                  <a:pt x="0" y="840"/>
                </a:moveTo>
                <a:cubicBezTo>
                  <a:pt x="192" y="718"/>
                  <a:pt x="804" y="216"/>
                  <a:pt x="1152" y="108"/>
                </a:cubicBezTo>
                <a:cubicBezTo>
                  <a:pt x="1500" y="0"/>
                  <a:pt x="1893" y="174"/>
                  <a:pt x="2088" y="19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9303200">
            <a:off x="2835720" y="258192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8859800">
            <a:off x="3009960" y="2253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1558000">
            <a:off x="2835720" y="35690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27600">
            <a:off x="345240" y="284724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5440" y="46490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º de CP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0120" y="198000"/>
            <a:ext cx="6202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arallel Sysplex - Facilidade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omatic Tap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 Access Spool (Shared S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inâmic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omatic Restar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4880" y="2462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arallel Sysplex - Benefício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disponibilidade (24x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 uso de recursos através de 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tivos não precisam ser alt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capacidade de processamento em imagem ú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em custos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granularidade para cre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facilidade para distribuição de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agilidade na recuperação dos ambientes (AR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14400" y="246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arallel Sysplex - Disponi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ando maior disponibilidade, é altamente recomendáv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plicidade de Coupling Fac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plicidade de Coupling Lin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plicidade de Sysplex Ti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as estruturas entre os coupling fac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sponibilidade do ambiente é mantida no caso de queda de qualquer componente do sysple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63400" y="2602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rodutos que exploram Parallel Sys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1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B2 - a partir da V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CS - a partir da V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S - a partir da V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S/TM - shared message queue a partir da V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F - a partir da V1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LM - Workload Manager - Permite distribuir dinamicamente o workload entre os membros do Parallel Syspl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6320" y="200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mpartilhamento de Dado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0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compartilhamento de dados para leitura e gra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disponíveis para qualquer transação em execução em qualquer sistema do syspl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B2 e IMS nos diversos sistemas do sysplex podem compartilhar as mesmas bases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idade dos dados proporcionada por estruturas no Coupling Facility (lock, list e ca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095880" y="4495680"/>
            <a:ext cx="2438640" cy="381240"/>
          </a:xfrm>
          <a:prstGeom prst="cube">
            <a:avLst>
              <a:gd name="adj" fmla="val 348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1419120"/>
            <a:ext cx="1904760" cy="1038240"/>
          </a:xfrm>
          <a:prstGeom prst="cube">
            <a:avLst>
              <a:gd name="adj" fmla="val 1468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4267080"/>
            <a:ext cx="2438640" cy="381240"/>
          </a:xfrm>
          <a:prstGeom prst="cube">
            <a:avLst>
              <a:gd name="adj" fmla="val 348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4495680"/>
            <a:ext cx="2438280" cy="381240"/>
          </a:xfrm>
          <a:prstGeom prst="cube">
            <a:avLst>
              <a:gd name="adj" fmla="val 348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4267080"/>
            <a:ext cx="2438280" cy="381240"/>
          </a:xfrm>
          <a:prstGeom prst="cube">
            <a:avLst>
              <a:gd name="adj" fmla="val 348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038480"/>
            <a:ext cx="7315200" cy="381240"/>
          </a:xfrm>
          <a:prstGeom prst="cube">
            <a:avLst>
              <a:gd name="adj" fmla="val 348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30240" y="200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mpartilhamento de Dado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349" name=""/>
          <p:cNvSpPr/>
          <p:nvPr/>
        </p:nvSpPr>
        <p:spPr>
          <a:xfrm>
            <a:off x="3848040" y="5200560"/>
            <a:ext cx="1676520" cy="6098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19320" y="2038320"/>
            <a:ext cx="2438280" cy="2133360"/>
            <a:chOff x="1219320" y="2038320"/>
            <a:chExt cx="2438280" cy="2133360"/>
          </a:xfrm>
        </p:grpSpPr>
        <p:sp>
          <p:nvSpPr>
            <p:cNvPr id="351" name=""/>
            <p:cNvSpPr/>
            <p:nvPr/>
          </p:nvSpPr>
          <p:spPr>
            <a:xfrm>
              <a:off x="1219320" y="2038320"/>
              <a:ext cx="2438280" cy="2133360"/>
            </a:xfrm>
            <a:prstGeom prst="cube">
              <a:avLst>
                <a:gd name="adj" fmla="val 654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438280" y="3047760"/>
              <a:ext cx="742680" cy="895320"/>
              <a:chOff x="2438280" y="3047760"/>
              <a:chExt cx="742680" cy="895320"/>
            </a:xfrm>
          </p:grpSpPr>
          <p:sp>
            <p:nvSpPr>
              <p:cNvPr id="353" name=""/>
              <p:cNvSpPr/>
              <p:nvPr/>
            </p:nvSpPr>
            <p:spPr>
              <a:xfrm>
                <a:off x="2438280" y="304776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85960" y="304776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33280" y="304776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8280" y="327168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85960" y="327168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33280" y="327168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38280" y="349560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85960" y="349560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438280" y="3719520"/>
                <a:ext cx="24768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33280" y="349560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5960" y="3719520"/>
                <a:ext cx="24732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33280" y="3719520"/>
                <a:ext cx="24768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1371600" y="3352680"/>
              <a:ext cx="838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95280" y="2286000"/>
              <a:ext cx="221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enciadores de Bancos de Dad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38280" y="2819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1600" y="304776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ock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95880" y="2038320"/>
            <a:ext cx="2438280" cy="2133360"/>
            <a:chOff x="6095880" y="2038320"/>
            <a:chExt cx="2438280" cy="2133360"/>
          </a:xfrm>
        </p:grpSpPr>
        <p:sp>
          <p:nvSpPr>
            <p:cNvPr id="370" name=""/>
            <p:cNvSpPr/>
            <p:nvPr/>
          </p:nvSpPr>
          <p:spPr>
            <a:xfrm>
              <a:off x="6095880" y="2038320"/>
              <a:ext cx="2438280" cy="2133360"/>
            </a:xfrm>
            <a:prstGeom prst="cube">
              <a:avLst>
                <a:gd name="adj" fmla="val 654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314840" y="3047760"/>
              <a:ext cx="742680" cy="895320"/>
              <a:chOff x="7314840" y="3047760"/>
              <a:chExt cx="742680" cy="895320"/>
            </a:xfrm>
          </p:grpSpPr>
          <p:sp>
            <p:nvSpPr>
              <p:cNvPr id="372" name=""/>
              <p:cNvSpPr/>
              <p:nvPr/>
            </p:nvSpPr>
            <p:spPr>
              <a:xfrm>
                <a:off x="7314840" y="304776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62520" y="304776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809840" y="304776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4840" y="327168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62520" y="327168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809840" y="327168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14840" y="349560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62520" y="3495600"/>
                <a:ext cx="24732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14840" y="3719520"/>
                <a:ext cx="24768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09840" y="3495600"/>
                <a:ext cx="247680" cy="2239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62520" y="3719520"/>
                <a:ext cx="24732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09840" y="3719520"/>
                <a:ext cx="247680" cy="223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6248160" y="3352680"/>
              <a:ext cx="838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171840" y="2286000"/>
              <a:ext cx="221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enciadores de Bancos de Dad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4840" y="2819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48160" y="304776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ock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657600" y="41450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rviços de Sysplex do MV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0076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24200" y="4419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0076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3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4602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3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576440"/>
            <a:ext cx="12765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Cac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L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Global buff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103824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upl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43240" y="171468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1320" y="1714680"/>
            <a:ext cx="1485720" cy="399960"/>
          </a:xfrm>
          <a:custGeom>
            <a:avLst/>
            <a:gdLst/>
            <a:ahLst/>
            <a:rect l="l" t="t" r="r" b="b"/>
            <a:pathLst>
              <a:path w="936" h="300">
                <a:moveTo>
                  <a:pt x="0" y="0"/>
                </a:moveTo>
                <a:lnTo>
                  <a:pt x="936" y="0"/>
                </a:lnTo>
                <a:lnTo>
                  <a:pt x="936" y="3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0" y="4857840"/>
            <a:ext cx="4952880" cy="190440"/>
          </a:xfrm>
          <a:custGeom>
            <a:avLst/>
            <a:gdLst/>
            <a:ahLst/>
            <a:rect l="l" t="t" r="r" b="b"/>
            <a:pathLst>
              <a:path w="3120" h="120">
                <a:moveTo>
                  <a:pt x="0" y="12"/>
                </a:moveTo>
                <a:lnTo>
                  <a:pt x="0" y="120"/>
                </a:lnTo>
                <a:lnTo>
                  <a:pt x="3120" y="120"/>
                </a:lnTo>
                <a:lnTo>
                  <a:pt x="31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5048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08480" y="3097800"/>
            <a:ext cx="418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6000">
                <a:solidFill>
                  <a:srgbClr val="000000"/>
                </a:solidFill>
                <a:latin typeface="Arial"/>
              </a:rPr>
              <a:t>Implementação no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6000">
                <a:solidFill>
                  <a:srgbClr val="000000"/>
                </a:solidFill>
                <a:latin typeface="Arial"/>
              </a:rPr>
              <a:t>Banco Ita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909800" y="2038320"/>
            <a:ext cx="4943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allel Sysple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2462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or que Parallel Sysplex?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71720" y="1442520"/>
            <a:ext cx="7772400" cy="32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dade de maior capacidade de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constante do porte dos ambi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e atual dos ambientes limitado à capacidade da maior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xidade para segmentar workloads e distribuí-los em divers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lhamento de dados é o principal obje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mbientes IMS/DB2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18680" y="1442880"/>
            <a:ext cx="6496200" cy="37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iente Op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600 tabelas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0 Bancos de Dados 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 Ware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00 tabelas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 alo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S/DB: 205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B2: 1,2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Tópico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1147320"/>
            <a:ext cx="7105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guração do Ita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 - Conceitos G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 - Implementação no Banco Ita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ê Parallel Sys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 Sharing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 Sharing 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óximos Pa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973920" y="2060640"/>
            <a:ext cx="1619280" cy="3128760"/>
            <a:chOff x="6973920" y="2060640"/>
            <a:chExt cx="1619280" cy="3128760"/>
          </a:xfrm>
        </p:grpSpPr>
        <p:sp>
          <p:nvSpPr>
            <p:cNvPr id="98" name=""/>
            <p:cNvSpPr/>
            <p:nvPr/>
          </p:nvSpPr>
          <p:spPr>
            <a:xfrm>
              <a:off x="7380360" y="2060640"/>
              <a:ext cx="1212840" cy="3128760"/>
            </a:xfrm>
            <a:custGeom>
              <a:avLst/>
              <a:gdLst/>
              <a:ahLst/>
              <a:rect l="l" t="t" r="r" b="b"/>
              <a:pathLst>
                <a:path w="764" h="1971">
                  <a:moveTo>
                    <a:pt x="602" y="669"/>
                  </a:moveTo>
                  <a:lnTo>
                    <a:pt x="600" y="665"/>
                  </a:lnTo>
                  <a:lnTo>
                    <a:pt x="589" y="649"/>
                  </a:lnTo>
                  <a:lnTo>
                    <a:pt x="577" y="633"/>
                  </a:lnTo>
                  <a:lnTo>
                    <a:pt x="573" y="626"/>
                  </a:lnTo>
                  <a:lnTo>
                    <a:pt x="571" y="624"/>
                  </a:lnTo>
                  <a:lnTo>
                    <a:pt x="561" y="642"/>
                  </a:lnTo>
                  <a:lnTo>
                    <a:pt x="555" y="657"/>
                  </a:lnTo>
                  <a:lnTo>
                    <a:pt x="555" y="662"/>
                  </a:lnTo>
                  <a:lnTo>
                    <a:pt x="555" y="673"/>
                  </a:lnTo>
                  <a:lnTo>
                    <a:pt x="559" y="699"/>
                  </a:lnTo>
                  <a:lnTo>
                    <a:pt x="563" y="723"/>
                  </a:lnTo>
                  <a:lnTo>
                    <a:pt x="566" y="733"/>
                  </a:lnTo>
                  <a:lnTo>
                    <a:pt x="566" y="737"/>
                  </a:lnTo>
                  <a:lnTo>
                    <a:pt x="571" y="730"/>
                  </a:lnTo>
                  <a:lnTo>
                    <a:pt x="575" y="721"/>
                  </a:lnTo>
                  <a:lnTo>
                    <a:pt x="589" y="701"/>
                  </a:lnTo>
                  <a:lnTo>
                    <a:pt x="600" y="680"/>
                  </a:lnTo>
                  <a:lnTo>
                    <a:pt x="605" y="673"/>
                  </a:lnTo>
                  <a:lnTo>
                    <a:pt x="605" y="671"/>
                  </a:lnTo>
                  <a:lnTo>
                    <a:pt x="602" y="669"/>
                  </a:lnTo>
                  <a:lnTo>
                    <a:pt x="557" y="1868"/>
                  </a:lnTo>
                  <a:lnTo>
                    <a:pt x="559" y="1880"/>
                  </a:lnTo>
                  <a:lnTo>
                    <a:pt x="563" y="1891"/>
                  </a:lnTo>
                  <a:lnTo>
                    <a:pt x="571" y="1902"/>
                  </a:lnTo>
                  <a:lnTo>
                    <a:pt x="577" y="1911"/>
                  </a:lnTo>
                  <a:lnTo>
                    <a:pt x="582" y="1918"/>
                  </a:lnTo>
                  <a:lnTo>
                    <a:pt x="584" y="1925"/>
                  </a:lnTo>
                  <a:lnTo>
                    <a:pt x="582" y="1934"/>
                  </a:lnTo>
                  <a:lnTo>
                    <a:pt x="579" y="1943"/>
                  </a:lnTo>
                  <a:lnTo>
                    <a:pt x="571" y="1952"/>
                  </a:lnTo>
                  <a:lnTo>
                    <a:pt x="559" y="1961"/>
                  </a:lnTo>
                  <a:lnTo>
                    <a:pt x="545" y="1965"/>
                  </a:lnTo>
                  <a:lnTo>
                    <a:pt x="532" y="1970"/>
                  </a:lnTo>
                  <a:lnTo>
                    <a:pt x="516" y="1968"/>
                  </a:lnTo>
                  <a:lnTo>
                    <a:pt x="500" y="1963"/>
                  </a:lnTo>
                  <a:lnTo>
                    <a:pt x="487" y="1957"/>
                  </a:lnTo>
                  <a:lnTo>
                    <a:pt x="476" y="1947"/>
                  </a:lnTo>
                  <a:lnTo>
                    <a:pt x="462" y="1921"/>
                  </a:lnTo>
                  <a:lnTo>
                    <a:pt x="455" y="1909"/>
                  </a:lnTo>
                  <a:lnTo>
                    <a:pt x="446" y="1902"/>
                  </a:lnTo>
                  <a:lnTo>
                    <a:pt x="442" y="1900"/>
                  </a:lnTo>
                  <a:lnTo>
                    <a:pt x="437" y="1895"/>
                  </a:lnTo>
                  <a:lnTo>
                    <a:pt x="432" y="1880"/>
                  </a:lnTo>
                  <a:lnTo>
                    <a:pt x="432" y="1862"/>
                  </a:lnTo>
                  <a:lnTo>
                    <a:pt x="434" y="1850"/>
                  </a:lnTo>
                  <a:lnTo>
                    <a:pt x="416" y="1846"/>
                  </a:lnTo>
                  <a:lnTo>
                    <a:pt x="412" y="1839"/>
                  </a:lnTo>
                  <a:lnTo>
                    <a:pt x="410" y="1830"/>
                  </a:lnTo>
                  <a:lnTo>
                    <a:pt x="412" y="1826"/>
                  </a:lnTo>
                  <a:lnTo>
                    <a:pt x="412" y="1819"/>
                  </a:lnTo>
                  <a:lnTo>
                    <a:pt x="414" y="1808"/>
                  </a:lnTo>
                  <a:lnTo>
                    <a:pt x="414" y="1792"/>
                  </a:lnTo>
                  <a:lnTo>
                    <a:pt x="416" y="1758"/>
                  </a:lnTo>
                  <a:lnTo>
                    <a:pt x="419" y="1719"/>
                  </a:lnTo>
                  <a:lnTo>
                    <a:pt x="419" y="1679"/>
                  </a:lnTo>
                  <a:lnTo>
                    <a:pt x="421" y="1645"/>
                  </a:lnTo>
                  <a:lnTo>
                    <a:pt x="421" y="1631"/>
                  </a:lnTo>
                  <a:lnTo>
                    <a:pt x="421" y="1620"/>
                  </a:lnTo>
                  <a:lnTo>
                    <a:pt x="421" y="1613"/>
                  </a:lnTo>
                  <a:lnTo>
                    <a:pt x="421" y="1609"/>
                  </a:lnTo>
                  <a:lnTo>
                    <a:pt x="421" y="1607"/>
                  </a:lnTo>
                  <a:lnTo>
                    <a:pt x="421" y="1599"/>
                  </a:lnTo>
                  <a:lnTo>
                    <a:pt x="419" y="1581"/>
                  </a:lnTo>
                  <a:lnTo>
                    <a:pt x="416" y="1554"/>
                  </a:lnTo>
                  <a:lnTo>
                    <a:pt x="416" y="1528"/>
                  </a:lnTo>
                  <a:lnTo>
                    <a:pt x="414" y="1498"/>
                  </a:lnTo>
                  <a:lnTo>
                    <a:pt x="414" y="1471"/>
                  </a:lnTo>
                  <a:lnTo>
                    <a:pt x="414" y="1450"/>
                  </a:lnTo>
                  <a:lnTo>
                    <a:pt x="414" y="1446"/>
                  </a:lnTo>
                  <a:lnTo>
                    <a:pt x="416" y="1442"/>
                  </a:lnTo>
                  <a:lnTo>
                    <a:pt x="416" y="1434"/>
                  </a:lnTo>
                  <a:lnTo>
                    <a:pt x="416" y="1428"/>
                  </a:lnTo>
                  <a:lnTo>
                    <a:pt x="410" y="1414"/>
                  </a:lnTo>
                  <a:lnTo>
                    <a:pt x="408" y="1412"/>
                  </a:lnTo>
                  <a:lnTo>
                    <a:pt x="408" y="1405"/>
                  </a:lnTo>
                  <a:lnTo>
                    <a:pt x="403" y="1390"/>
                  </a:lnTo>
                  <a:lnTo>
                    <a:pt x="400" y="1367"/>
                  </a:lnTo>
                  <a:lnTo>
                    <a:pt x="396" y="1340"/>
                  </a:lnTo>
                  <a:lnTo>
                    <a:pt x="389" y="1288"/>
                  </a:lnTo>
                  <a:lnTo>
                    <a:pt x="385" y="1267"/>
                  </a:lnTo>
                  <a:lnTo>
                    <a:pt x="385" y="1254"/>
                  </a:lnTo>
                  <a:lnTo>
                    <a:pt x="381" y="1243"/>
                  </a:lnTo>
                  <a:lnTo>
                    <a:pt x="378" y="1225"/>
                  </a:lnTo>
                  <a:lnTo>
                    <a:pt x="367" y="1180"/>
                  </a:lnTo>
                  <a:lnTo>
                    <a:pt x="360" y="1157"/>
                  </a:lnTo>
                  <a:lnTo>
                    <a:pt x="355" y="1136"/>
                  </a:lnTo>
                  <a:lnTo>
                    <a:pt x="351" y="1121"/>
                  </a:lnTo>
                  <a:lnTo>
                    <a:pt x="349" y="1114"/>
                  </a:lnTo>
                  <a:lnTo>
                    <a:pt x="349" y="1123"/>
                  </a:lnTo>
                  <a:lnTo>
                    <a:pt x="347" y="1136"/>
                  </a:lnTo>
                  <a:lnTo>
                    <a:pt x="344" y="1152"/>
                  </a:lnTo>
                  <a:lnTo>
                    <a:pt x="342" y="1170"/>
                  </a:lnTo>
                  <a:lnTo>
                    <a:pt x="337" y="1214"/>
                  </a:lnTo>
                  <a:lnTo>
                    <a:pt x="331" y="1261"/>
                  </a:lnTo>
                  <a:lnTo>
                    <a:pt x="324" y="1304"/>
                  </a:lnTo>
                  <a:lnTo>
                    <a:pt x="319" y="1345"/>
                  </a:lnTo>
                  <a:lnTo>
                    <a:pt x="317" y="1360"/>
                  </a:lnTo>
                  <a:lnTo>
                    <a:pt x="315" y="1371"/>
                  </a:lnTo>
                  <a:lnTo>
                    <a:pt x="313" y="1381"/>
                  </a:lnTo>
                  <a:lnTo>
                    <a:pt x="310" y="1385"/>
                  </a:lnTo>
                  <a:lnTo>
                    <a:pt x="305" y="1394"/>
                  </a:lnTo>
                  <a:lnTo>
                    <a:pt x="305" y="1403"/>
                  </a:lnTo>
                  <a:lnTo>
                    <a:pt x="310" y="1421"/>
                  </a:lnTo>
                  <a:lnTo>
                    <a:pt x="310" y="1430"/>
                  </a:lnTo>
                  <a:lnTo>
                    <a:pt x="313" y="1448"/>
                  </a:lnTo>
                  <a:lnTo>
                    <a:pt x="315" y="1473"/>
                  </a:lnTo>
                  <a:lnTo>
                    <a:pt x="315" y="1500"/>
                  </a:lnTo>
                  <a:lnTo>
                    <a:pt x="317" y="1554"/>
                  </a:lnTo>
                  <a:lnTo>
                    <a:pt x="315" y="1579"/>
                  </a:lnTo>
                  <a:lnTo>
                    <a:pt x="313" y="1597"/>
                  </a:lnTo>
                  <a:lnTo>
                    <a:pt x="310" y="1615"/>
                  </a:lnTo>
                  <a:lnTo>
                    <a:pt x="308" y="1643"/>
                  </a:lnTo>
                  <a:lnTo>
                    <a:pt x="303" y="1704"/>
                  </a:lnTo>
                  <a:lnTo>
                    <a:pt x="301" y="1733"/>
                  </a:lnTo>
                  <a:lnTo>
                    <a:pt x="301" y="1760"/>
                  </a:lnTo>
                  <a:lnTo>
                    <a:pt x="301" y="1778"/>
                  </a:lnTo>
                  <a:lnTo>
                    <a:pt x="301" y="1785"/>
                  </a:lnTo>
                  <a:lnTo>
                    <a:pt x="301" y="1787"/>
                  </a:lnTo>
                  <a:lnTo>
                    <a:pt x="283" y="1790"/>
                  </a:lnTo>
                  <a:lnTo>
                    <a:pt x="285" y="1794"/>
                  </a:lnTo>
                  <a:lnTo>
                    <a:pt x="285" y="1803"/>
                  </a:lnTo>
                  <a:lnTo>
                    <a:pt x="285" y="1826"/>
                  </a:lnTo>
                  <a:lnTo>
                    <a:pt x="283" y="1848"/>
                  </a:lnTo>
                  <a:lnTo>
                    <a:pt x="281" y="1857"/>
                  </a:lnTo>
                  <a:lnTo>
                    <a:pt x="279" y="1864"/>
                  </a:lnTo>
                  <a:lnTo>
                    <a:pt x="269" y="1864"/>
                  </a:lnTo>
                  <a:lnTo>
                    <a:pt x="260" y="1864"/>
                  </a:lnTo>
                  <a:lnTo>
                    <a:pt x="237" y="1866"/>
                  </a:lnTo>
                  <a:lnTo>
                    <a:pt x="218" y="1866"/>
                  </a:lnTo>
                  <a:lnTo>
                    <a:pt x="210" y="1866"/>
                  </a:lnTo>
                  <a:lnTo>
                    <a:pt x="208" y="1866"/>
                  </a:lnTo>
                  <a:lnTo>
                    <a:pt x="208" y="1848"/>
                  </a:lnTo>
                  <a:lnTo>
                    <a:pt x="199" y="1855"/>
                  </a:lnTo>
                  <a:lnTo>
                    <a:pt x="186" y="1860"/>
                  </a:lnTo>
                  <a:lnTo>
                    <a:pt x="172" y="1864"/>
                  </a:lnTo>
                  <a:lnTo>
                    <a:pt x="161" y="1868"/>
                  </a:lnTo>
                  <a:lnTo>
                    <a:pt x="152" y="1868"/>
                  </a:lnTo>
                  <a:lnTo>
                    <a:pt x="138" y="1871"/>
                  </a:lnTo>
                  <a:lnTo>
                    <a:pt x="97" y="1868"/>
                  </a:lnTo>
                  <a:lnTo>
                    <a:pt x="79" y="1868"/>
                  </a:lnTo>
                  <a:lnTo>
                    <a:pt x="61" y="1868"/>
                  </a:lnTo>
                  <a:lnTo>
                    <a:pt x="47" y="1868"/>
                  </a:lnTo>
                  <a:lnTo>
                    <a:pt x="41" y="1868"/>
                  </a:lnTo>
                  <a:lnTo>
                    <a:pt x="32" y="1866"/>
                  </a:lnTo>
                  <a:lnTo>
                    <a:pt x="23" y="1864"/>
                  </a:lnTo>
                  <a:lnTo>
                    <a:pt x="18" y="1857"/>
                  </a:lnTo>
                  <a:lnTo>
                    <a:pt x="16" y="1850"/>
                  </a:lnTo>
                  <a:lnTo>
                    <a:pt x="16" y="1842"/>
                  </a:lnTo>
                  <a:lnTo>
                    <a:pt x="18" y="1834"/>
                  </a:lnTo>
                  <a:lnTo>
                    <a:pt x="27" y="1830"/>
                  </a:lnTo>
                  <a:lnTo>
                    <a:pt x="39" y="1826"/>
                  </a:lnTo>
                  <a:lnTo>
                    <a:pt x="66" y="1821"/>
                  </a:lnTo>
                  <a:lnTo>
                    <a:pt x="86" y="1814"/>
                  </a:lnTo>
                  <a:lnTo>
                    <a:pt x="104" y="1805"/>
                  </a:lnTo>
                  <a:lnTo>
                    <a:pt x="118" y="1794"/>
                  </a:lnTo>
                  <a:lnTo>
                    <a:pt x="131" y="1785"/>
                  </a:lnTo>
                  <a:lnTo>
                    <a:pt x="145" y="1776"/>
                  </a:lnTo>
                  <a:lnTo>
                    <a:pt x="152" y="1771"/>
                  </a:lnTo>
                  <a:lnTo>
                    <a:pt x="156" y="1771"/>
                  </a:lnTo>
                  <a:lnTo>
                    <a:pt x="147" y="1769"/>
                  </a:lnTo>
                  <a:lnTo>
                    <a:pt x="142" y="1769"/>
                  </a:lnTo>
                  <a:lnTo>
                    <a:pt x="138" y="1769"/>
                  </a:lnTo>
                  <a:lnTo>
                    <a:pt x="140" y="1762"/>
                  </a:lnTo>
                  <a:lnTo>
                    <a:pt x="142" y="1751"/>
                  </a:lnTo>
                  <a:lnTo>
                    <a:pt x="145" y="1737"/>
                  </a:lnTo>
                  <a:lnTo>
                    <a:pt x="147" y="1722"/>
                  </a:lnTo>
                  <a:lnTo>
                    <a:pt x="152" y="1681"/>
                  </a:lnTo>
                  <a:lnTo>
                    <a:pt x="158" y="1636"/>
                  </a:lnTo>
                  <a:lnTo>
                    <a:pt x="168" y="1539"/>
                  </a:lnTo>
                  <a:lnTo>
                    <a:pt x="170" y="1494"/>
                  </a:lnTo>
                  <a:lnTo>
                    <a:pt x="170" y="1455"/>
                  </a:lnTo>
                  <a:lnTo>
                    <a:pt x="168" y="1424"/>
                  </a:lnTo>
                  <a:lnTo>
                    <a:pt x="168" y="1403"/>
                  </a:lnTo>
                  <a:lnTo>
                    <a:pt x="168" y="1387"/>
                  </a:lnTo>
                  <a:lnTo>
                    <a:pt x="168" y="1379"/>
                  </a:lnTo>
                  <a:lnTo>
                    <a:pt x="170" y="1371"/>
                  </a:lnTo>
                  <a:lnTo>
                    <a:pt x="170" y="1369"/>
                  </a:lnTo>
                  <a:lnTo>
                    <a:pt x="172" y="1363"/>
                  </a:lnTo>
                  <a:lnTo>
                    <a:pt x="172" y="1358"/>
                  </a:lnTo>
                  <a:lnTo>
                    <a:pt x="172" y="1345"/>
                  </a:lnTo>
                  <a:lnTo>
                    <a:pt x="172" y="1327"/>
                  </a:lnTo>
                  <a:lnTo>
                    <a:pt x="172" y="1301"/>
                  </a:lnTo>
                  <a:lnTo>
                    <a:pt x="174" y="1274"/>
                  </a:lnTo>
                  <a:lnTo>
                    <a:pt x="174" y="1243"/>
                  </a:lnTo>
                  <a:lnTo>
                    <a:pt x="176" y="1175"/>
                  </a:lnTo>
                  <a:lnTo>
                    <a:pt x="179" y="1107"/>
                  </a:lnTo>
                  <a:lnTo>
                    <a:pt x="179" y="1076"/>
                  </a:lnTo>
                  <a:lnTo>
                    <a:pt x="181" y="1049"/>
                  </a:lnTo>
                  <a:lnTo>
                    <a:pt x="181" y="1024"/>
                  </a:lnTo>
                  <a:lnTo>
                    <a:pt x="184" y="1003"/>
                  </a:lnTo>
                  <a:lnTo>
                    <a:pt x="184" y="987"/>
                  </a:lnTo>
                  <a:lnTo>
                    <a:pt x="184" y="981"/>
                  </a:lnTo>
                  <a:lnTo>
                    <a:pt x="163" y="974"/>
                  </a:lnTo>
                  <a:lnTo>
                    <a:pt x="152" y="971"/>
                  </a:lnTo>
                  <a:lnTo>
                    <a:pt x="147" y="967"/>
                  </a:lnTo>
                  <a:lnTo>
                    <a:pt x="147" y="963"/>
                  </a:lnTo>
                  <a:lnTo>
                    <a:pt x="150" y="953"/>
                  </a:lnTo>
                  <a:lnTo>
                    <a:pt x="152" y="933"/>
                  </a:lnTo>
                  <a:lnTo>
                    <a:pt x="156" y="906"/>
                  </a:lnTo>
                  <a:lnTo>
                    <a:pt x="161" y="877"/>
                  </a:lnTo>
                  <a:lnTo>
                    <a:pt x="165" y="848"/>
                  </a:lnTo>
                  <a:lnTo>
                    <a:pt x="168" y="822"/>
                  </a:lnTo>
                  <a:lnTo>
                    <a:pt x="170" y="802"/>
                  </a:lnTo>
                  <a:lnTo>
                    <a:pt x="172" y="796"/>
                  </a:lnTo>
                  <a:lnTo>
                    <a:pt x="172" y="791"/>
                  </a:lnTo>
                  <a:lnTo>
                    <a:pt x="154" y="788"/>
                  </a:lnTo>
                  <a:lnTo>
                    <a:pt x="129" y="782"/>
                  </a:lnTo>
                  <a:lnTo>
                    <a:pt x="73" y="768"/>
                  </a:lnTo>
                  <a:lnTo>
                    <a:pt x="45" y="762"/>
                  </a:lnTo>
                  <a:lnTo>
                    <a:pt x="21" y="754"/>
                  </a:lnTo>
                  <a:lnTo>
                    <a:pt x="5" y="750"/>
                  </a:lnTo>
                  <a:lnTo>
                    <a:pt x="0" y="750"/>
                  </a:lnTo>
                  <a:lnTo>
                    <a:pt x="0" y="741"/>
                  </a:lnTo>
                  <a:lnTo>
                    <a:pt x="5" y="725"/>
                  </a:lnTo>
                  <a:lnTo>
                    <a:pt x="7" y="705"/>
                  </a:lnTo>
                  <a:lnTo>
                    <a:pt x="11" y="683"/>
                  </a:lnTo>
                  <a:lnTo>
                    <a:pt x="18" y="639"/>
                  </a:lnTo>
                  <a:lnTo>
                    <a:pt x="21" y="624"/>
                  </a:lnTo>
                  <a:lnTo>
                    <a:pt x="21" y="615"/>
                  </a:lnTo>
                  <a:lnTo>
                    <a:pt x="43" y="621"/>
                  </a:lnTo>
                  <a:lnTo>
                    <a:pt x="68" y="628"/>
                  </a:lnTo>
                  <a:lnTo>
                    <a:pt x="93" y="635"/>
                  </a:lnTo>
                  <a:lnTo>
                    <a:pt x="111" y="637"/>
                  </a:lnTo>
                  <a:lnTo>
                    <a:pt x="138" y="642"/>
                  </a:lnTo>
                  <a:lnTo>
                    <a:pt x="152" y="642"/>
                  </a:lnTo>
                  <a:lnTo>
                    <a:pt x="154" y="639"/>
                  </a:lnTo>
                  <a:lnTo>
                    <a:pt x="154" y="637"/>
                  </a:lnTo>
                  <a:lnTo>
                    <a:pt x="150" y="631"/>
                  </a:lnTo>
                  <a:lnTo>
                    <a:pt x="147" y="628"/>
                  </a:lnTo>
                  <a:lnTo>
                    <a:pt x="147" y="624"/>
                  </a:lnTo>
                  <a:lnTo>
                    <a:pt x="150" y="619"/>
                  </a:lnTo>
                  <a:lnTo>
                    <a:pt x="156" y="613"/>
                  </a:lnTo>
                  <a:lnTo>
                    <a:pt x="163" y="610"/>
                  </a:lnTo>
                  <a:lnTo>
                    <a:pt x="165" y="608"/>
                  </a:lnTo>
                  <a:lnTo>
                    <a:pt x="161" y="605"/>
                  </a:lnTo>
                  <a:lnTo>
                    <a:pt x="156" y="599"/>
                  </a:lnTo>
                  <a:lnTo>
                    <a:pt x="156" y="587"/>
                  </a:lnTo>
                  <a:lnTo>
                    <a:pt x="161" y="554"/>
                  </a:lnTo>
                  <a:lnTo>
                    <a:pt x="168" y="520"/>
                  </a:lnTo>
                  <a:lnTo>
                    <a:pt x="170" y="508"/>
                  </a:lnTo>
                  <a:lnTo>
                    <a:pt x="172" y="502"/>
                  </a:lnTo>
                  <a:lnTo>
                    <a:pt x="170" y="495"/>
                  </a:lnTo>
                  <a:lnTo>
                    <a:pt x="170" y="488"/>
                  </a:lnTo>
                  <a:lnTo>
                    <a:pt x="168" y="463"/>
                  </a:lnTo>
                  <a:lnTo>
                    <a:pt x="165" y="440"/>
                  </a:lnTo>
                  <a:lnTo>
                    <a:pt x="165" y="432"/>
                  </a:lnTo>
                  <a:lnTo>
                    <a:pt x="163" y="427"/>
                  </a:lnTo>
                  <a:lnTo>
                    <a:pt x="163" y="422"/>
                  </a:lnTo>
                  <a:lnTo>
                    <a:pt x="165" y="416"/>
                  </a:lnTo>
                  <a:lnTo>
                    <a:pt x="179" y="396"/>
                  </a:lnTo>
                  <a:lnTo>
                    <a:pt x="195" y="377"/>
                  </a:lnTo>
                  <a:lnTo>
                    <a:pt x="202" y="371"/>
                  </a:lnTo>
                  <a:lnTo>
                    <a:pt x="206" y="366"/>
                  </a:lnTo>
                  <a:lnTo>
                    <a:pt x="213" y="362"/>
                  </a:lnTo>
                  <a:lnTo>
                    <a:pt x="222" y="355"/>
                  </a:lnTo>
                  <a:lnTo>
                    <a:pt x="240" y="341"/>
                  </a:lnTo>
                  <a:lnTo>
                    <a:pt x="260" y="325"/>
                  </a:lnTo>
                  <a:lnTo>
                    <a:pt x="267" y="319"/>
                  </a:lnTo>
                  <a:lnTo>
                    <a:pt x="269" y="317"/>
                  </a:lnTo>
                  <a:lnTo>
                    <a:pt x="271" y="307"/>
                  </a:lnTo>
                  <a:lnTo>
                    <a:pt x="271" y="299"/>
                  </a:lnTo>
                  <a:lnTo>
                    <a:pt x="269" y="291"/>
                  </a:lnTo>
                  <a:lnTo>
                    <a:pt x="258" y="287"/>
                  </a:lnTo>
                  <a:lnTo>
                    <a:pt x="245" y="283"/>
                  </a:lnTo>
                  <a:lnTo>
                    <a:pt x="240" y="273"/>
                  </a:lnTo>
                  <a:lnTo>
                    <a:pt x="240" y="262"/>
                  </a:lnTo>
                  <a:lnTo>
                    <a:pt x="242" y="251"/>
                  </a:lnTo>
                  <a:lnTo>
                    <a:pt x="245" y="246"/>
                  </a:lnTo>
                  <a:lnTo>
                    <a:pt x="240" y="240"/>
                  </a:lnTo>
                  <a:lnTo>
                    <a:pt x="240" y="231"/>
                  </a:lnTo>
                  <a:lnTo>
                    <a:pt x="245" y="220"/>
                  </a:lnTo>
                  <a:lnTo>
                    <a:pt x="245" y="204"/>
                  </a:lnTo>
                  <a:lnTo>
                    <a:pt x="245" y="199"/>
                  </a:lnTo>
                  <a:lnTo>
                    <a:pt x="237" y="199"/>
                  </a:lnTo>
                  <a:lnTo>
                    <a:pt x="233" y="197"/>
                  </a:lnTo>
                  <a:lnTo>
                    <a:pt x="229" y="194"/>
                  </a:lnTo>
                  <a:lnTo>
                    <a:pt x="229" y="186"/>
                  </a:lnTo>
                  <a:lnTo>
                    <a:pt x="231" y="181"/>
                  </a:lnTo>
                  <a:lnTo>
                    <a:pt x="237" y="176"/>
                  </a:lnTo>
                  <a:lnTo>
                    <a:pt x="242" y="170"/>
                  </a:lnTo>
                  <a:lnTo>
                    <a:pt x="245" y="158"/>
                  </a:lnTo>
                  <a:lnTo>
                    <a:pt x="249" y="149"/>
                  </a:lnTo>
                  <a:lnTo>
                    <a:pt x="251" y="142"/>
                  </a:lnTo>
                  <a:lnTo>
                    <a:pt x="249" y="142"/>
                  </a:lnTo>
                  <a:lnTo>
                    <a:pt x="247" y="140"/>
                  </a:lnTo>
                  <a:lnTo>
                    <a:pt x="245" y="136"/>
                  </a:lnTo>
                  <a:lnTo>
                    <a:pt x="245" y="129"/>
                  </a:lnTo>
                  <a:lnTo>
                    <a:pt x="247" y="111"/>
                  </a:lnTo>
                  <a:lnTo>
                    <a:pt x="253" y="93"/>
                  </a:lnTo>
                  <a:lnTo>
                    <a:pt x="260" y="79"/>
                  </a:lnTo>
                  <a:lnTo>
                    <a:pt x="249" y="68"/>
                  </a:lnTo>
                  <a:lnTo>
                    <a:pt x="245" y="52"/>
                  </a:lnTo>
                  <a:lnTo>
                    <a:pt x="245" y="45"/>
                  </a:lnTo>
                  <a:lnTo>
                    <a:pt x="247" y="39"/>
                  </a:lnTo>
                  <a:lnTo>
                    <a:pt x="253" y="37"/>
                  </a:lnTo>
                  <a:lnTo>
                    <a:pt x="263" y="34"/>
                  </a:lnTo>
                  <a:lnTo>
                    <a:pt x="287" y="30"/>
                  </a:lnTo>
                  <a:lnTo>
                    <a:pt x="310" y="19"/>
                  </a:lnTo>
                  <a:lnTo>
                    <a:pt x="331" y="7"/>
                  </a:lnTo>
                  <a:lnTo>
                    <a:pt x="342" y="3"/>
                  </a:lnTo>
                  <a:lnTo>
                    <a:pt x="355" y="0"/>
                  </a:lnTo>
                  <a:lnTo>
                    <a:pt x="373" y="0"/>
                  </a:lnTo>
                  <a:lnTo>
                    <a:pt x="385" y="5"/>
                  </a:lnTo>
                  <a:lnTo>
                    <a:pt x="394" y="9"/>
                  </a:lnTo>
                  <a:lnTo>
                    <a:pt x="403" y="16"/>
                  </a:lnTo>
                  <a:lnTo>
                    <a:pt x="410" y="30"/>
                  </a:lnTo>
                  <a:lnTo>
                    <a:pt x="434" y="32"/>
                  </a:lnTo>
                  <a:lnTo>
                    <a:pt x="444" y="37"/>
                  </a:lnTo>
                  <a:lnTo>
                    <a:pt x="446" y="45"/>
                  </a:lnTo>
                  <a:lnTo>
                    <a:pt x="448" y="59"/>
                  </a:lnTo>
                  <a:lnTo>
                    <a:pt x="455" y="71"/>
                  </a:lnTo>
                  <a:lnTo>
                    <a:pt x="460" y="79"/>
                  </a:lnTo>
                  <a:lnTo>
                    <a:pt x="466" y="86"/>
                  </a:lnTo>
                  <a:lnTo>
                    <a:pt x="468" y="90"/>
                  </a:lnTo>
                  <a:lnTo>
                    <a:pt x="471" y="97"/>
                  </a:lnTo>
                  <a:lnTo>
                    <a:pt x="476" y="118"/>
                  </a:lnTo>
                  <a:lnTo>
                    <a:pt x="478" y="140"/>
                  </a:lnTo>
                  <a:lnTo>
                    <a:pt x="478" y="149"/>
                  </a:lnTo>
                  <a:lnTo>
                    <a:pt x="476" y="156"/>
                  </a:lnTo>
                  <a:lnTo>
                    <a:pt x="473" y="170"/>
                  </a:lnTo>
                  <a:lnTo>
                    <a:pt x="476" y="192"/>
                  </a:lnTo>
                  <a:lnTo>
                    <a:pt x="473" y="204"/>
                  </a:lnTo>
                  <a:lnTo>
                    <a:pt x="468" y="215"/>
                  </a:lnTo>
                  <a:lnTo>
                    <a:pt x="457" y="228"/>
                  </a:lnTo>
                  <a:lnTo>
                    <a:pt x="439" y="240"/>
                  </a:lnTo>
                  <a:lnTo>
                    <a:pt x="430" y="251"/>
                  </a:lnTo>
                  <a:lnTo>
                    <a:pt x="428" y="262"/>
                  </a:lnTo>
                  <a:lnTo>
                    <a:pt x="426" y="273"/>
                  </a:lnTo>
                  <a:lnTo>
                    <a:pt x="421" y="278"/>
                  </a:lnTo>
                  <a:lnTo>
                    <a:pt x="446" y="299"/>
                  </a:lnTo>
                  <a:lnTo>
                    <a:pt x="460" y="307"/>
                  </a:lnTo>
                  <a:lnTo>
                    <a:pt x="464" y="314"/>
                  </a:lnTo>
                  <a:lnTo>
                    <a:pt x="468" y="319"/>
                  </a:lnTo>
                  <a:lnTo>
                    <a:pt x="478" y="323"/>
                  </a:lnTo>
                  <a:lnTo>
                    <a:pt x="507" y="335"/>
                  </a:lnTo>
                  <a:lnTo>
                    <a:pt x="539" y="343"/>
                  </a:lnTo>
                  <a:lnTo>
                    <a:pt x="550" y="348"/>
                  </a:lnTo>
                  <a:lnTo>
                    <a:pt x="557" y="348"/>
                  </a:lnTo>
                  <a:lnTo>
                    <a:pt x="563" y="351"/>
                  </a:lnTo>
                  <a:lnTo>
                    <a:pt x="575" y="355"/>
                  </a:lnTo>
                  <a:lnTo>
                    <a:pt x="589" y="362"/>
                  </a:lnTo>
                  <a:lnTo>
                    <a:pt x="611" y="369"/>
                  </a:lnTo>
                  <a:lnTo>
                    <a:pt x="618" y="375"/>
                  </a:lnTo>
                  <a:lnTo>
                    <a:pt x="625" y="380"/>
                  </a:lnTo>
                  <a:lnTo>
                    <a:pt x="627" y="391"/>
                  </a:lnTo>
                  <a:lnTo>
                    <a:pt x="625" y="400"/>
                  </a:lnTo>
                  <a:lnTo>
                    <a:pt x="623" y="403"/>
                  </a:lnTo>
                  <a:lnTo>
                    <a:pt x="625" y="407"/>
                  </a:lnTo>
                  <a:lnTo>
                    <a:pt x="627" y="416"/>
                  </a:lnTo>
                  <a:lnTo>
                    <a:pt x="636" y="438"/>
                  </a:lnTo>
                  <a:lnTo>
                    <a:pt x="650" y="468"/>
                  </a:lnTo>
                  <a:lnTo>
                    <a:pt x="665" y="500"/>
                  </a:lnTo>
                  <a:lnTo>
                    <a:pt x="695" y="565"/>
                  </a:lnTo>
                  <a:lnTo>
                    <a:pt x="708" y="594"/>
                  </a:lnTo>
                  <a:lnTo>
                    <a:pt x="718" y="615"/>
                  </a:lnTo>
                  <a:lnTo>
                    <a:pt x="731" y="644"/>
                  </a:lnTo>
                  <a:lnTo>
                    <a:pt x="742" y="669"/>
                  </a:lnTo>
                  <a:lnTo>
                    <a:pt x="749" y="689"/>
                  </a:lnTo>
                  <a:lnTo>
                    <a:pt x="756" y="701"/>
                  </a:lnTo>
                  <a:lnTo>
                    <a:pt x="760" y="712"/>
                  </a:lnTo>
                  <a:lnTo>
                    <a:pt x="763" y="730"/>
                  </a:lnTo>
                  <a:lnTo>
                    <a:pt x="760" y="739"/>
                  </a:lnTo>
                  <a:lnTo>
                    <a:pt x="756" y="746"/>
                  </a:lnTo>
                  <a:lnTo>
                    <a:pt x="747" y="752"/>
                  </a:lnTo>
                  <a:lnTo>
                    <a:pt x="734" y="759"/>
                  </a:lnTo>
                  <a:lnTo>
                    <a:pt x="734" y="762"/>
                  </a:lnTo>
                  <a:lnTo>
                    <a:pt x="729" y="766"/>
                  </a:lnTo>
                  <a:lnTo>
                    <a:pt x="718" y="782"/>
                  </a:lnTo>
                  <a:lnTo>
                    <a:pt x="699" y="802"/>
                  </a:lnTo>
                  <a:lnTo>
                    <a:pt x="677" y="825"/>
                  </a:lnTo>
                  <a:lnTo>
                    <a:pt x="627" y="872"/>
                  </a:lnTo>
                  <a:lnTo>
                    <a:pt x="605" y="890"/>
                  </a:lnTo>
                  <a:lnTo>
                    <a:pt x="586" y="902"/>
                  </a:lnTo>
                  <a:lnTo>
                    <a:pt x="586" y="913"/>
                  </a:lnTo>
                  <a:lnTo>
                    <a:pt x="586" y="929"/>
                  </a:lnTo>
                  <a:lnTo>
                    <a:pt x="589" y="960"/>
                  </a:lnTo>
                  <a:lnTo>
                    <a:pt x="589" y="992"/>
                  </a:lnTo>
                  <a:lnTo>
                    <a:pt x="589" y="1005"/>
                  </a:lnTo>
                  <a:lnTo>
                    <a:pt x="586" y="1017"/>
                  </a:lnTo>
                  <a:lnTo>
                    <a:pt x="582" y="1024"/>
                  </a:lnTo>
                  <a:lnTo>
                    <a:pt x="579" y="1028"/>
                  </a:lnTo>
                  <a:lnTo>
                    <a:pt x="577" y="1033"/>
                  </a:lnTo>
                  <a:lnTo>
                    <a:pt x="566" y="1026"/>
                  </a:lnTo>
                  <a:lnTo>
                    <a:pt x="555" y="1017"/>
                  </a:lnTo>
                  <a:lnTo>
                    <a:pt x="552" y="1013"/>
                  </a:lnTo>
                  <a:lnTo>
                    <a:pt x="552" y="1028"/>
                  </a:lnTo>
                  <a:lnTo>
                    <a:pt x="552" y="1046"/>
                  </a:lnTo>
                  <a:lnTo>
                    <a:pt x="552" y="1071"/>
                  </a:lnTo>
                  <a:lnTo>
                    <a:pt x="552" y="1096"/>
                  </a:lnTo>
                  <a:lnTo>
                    <a:pt x="555" y="1157"/>
                  </a:lnTo>
                  <a:lnTo>
                    <a:pt x="555" y="1222"/>
                  </a:lnTo>
                  <a:lnTo>
                    <a:pt x="555" y="1285"/>
                  </a:lnTo>
                  <a:lnTo>
                    <a:pt x="555" y="1315"/>
                  </a:lnTo>
                  <a:lnTo>
                    <a:pt x="555" y="1340"/>
                  </a:lnTo>
                  <a:lnTo>
                    <a:pt x="555" y="1363"/>
                  </a:lnTo>
                  <a:lnTo>
                    <a:pt x="555" y="1379"/>
                  </a:lnTo>
                  <a:lnTo>
                    <a:pt x="552" y="1390"/>
                  </a:lnTo>
                  <a:lnTo>
                    <a:pt x="552" y="1396"/>
                  </a:lnTo>
                  <a:lnTo>
                    <a:pt x="545" y="1412"/>
                  </a:lnTo>
                  <a:lnTo>
                    <a:pt x="543" y="1419"/>
                  </a:lnTo>
                  <a:lnTo>
                    <a:pt x="543" y="1424"/>
                  </a:lnTo>
                  <a:lnTo>
                    <a:pt x="545" y="1428"/>
                  </a:lnTo>
                  <a:lnTo>
                    <a:pt x="548" y="1439"/>
                  </a:lnTo>
                  <a:lnTo>
                    <a:pt x="548" y="1457"/>
                  </a:lnTo>
                  <a:lnTo>
                    <a:pt x="550" y="1482"/>
                  </a:lnTo>
                  <a:lnTo>
                    <a:pt x="552" y="1510"/>
                  </a:lnTo>
                  <a:lnTo>
                    <a:pt x="555" y="1541"/>
                  </a:lnTo>
                  <a:lnTo>
                    <a:pt x="559" y="1609"/>
                  </a:lnTo>
                  <a:lnTo>
                    <a:pt x="563" y="1677"/>
                  </a:lnTo>
                  <a:lnTo>
                    <a:pt x="566" y="1708"/>
                  </a:lnTo>
                  <a:lnTo>
                    <a:pt x="568" y="1735"/>
                  </a:lnTo>
                  <a:lnTo>
                    <a:pt x="568" y="1760"/>
                  </a:lnTo>
                  <a:lnTo>
                    <a:pt x="571" y="1780"/>
                  </a:lnTo>
                  <a:lnTo>
                    <a:pt x="571" y="1794"/>
                  </a:lnTo>
                  <a:lnTo>
                    <a:pt x="571" y="1801"/>
                  </a:lnTo>
                  <a:lnTo>
                    <a:pt x="573" y="1821"/>
                  </a:lnTo>
                  <a:lnTo>
                    <a:pt x="573" y="1834"/>
                  </a:lnTo>
                  <a:lnTo>
                    <a:pt x="573" y="1846"/>
                  </a:lnTo>
                  <a:lnTo>
                    <a:pt x="573" y="1853"/>
                  </a:lnTo>
                  <a:lnTo>
                    <a:pt x="568" y="1862"/>
                  </a:lnTo>
                  <a:lnTo>
                    <a:pt x="559" y="1866"/>
                  </a:lnTo>
                  <a:lnTo>
                    <a:pt x="550" y="1868"/>
                  </a:lnTo>
                  <a:lnTo>
                    <a:pt x="557" y="1868"/>
                  </a:lnTo>
                  <a:lnTo>
                    <a:pt x="602" y="6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3920" y="2752560"/>
              <a:ext cx="441360" cy="475920"/>
            </a:xfrm>
            <a:custGeom>
              <a:avLst/>
              <a:gdLst/>
              <a:ahLst/>
              <a:rect l="l" t="t" r="r" b="b"/>
              <a:pathLst>
                <a:path w="278" h="300">
                  <a:moveTo>
                    <a:pt x="258" y="299"/>
                  </a:moveTo>
                  <a:lnTo>
                    <a:pt x="247" y="292"/>
                  </a:lnTo>
                  <a:lnTo>
                    <a:pt x="240" y="288"/>
                  </a:lnTo>
                  <a:lnTo>
                    <a:pt x="238" y="286"/>
                  </a:lnTo>
                  <a:lnTo>
                    <a:pt x="240" y="258"/>
                  </a:lnTo>
                  <a:lnTo>
                    <a:pt x="236" y="260"/>
                  </a:lnTo>
                  <a:lnTo>
                    <a:pt x="229" y="260"/>
                  </a:lnTo>
                  <a:lnTo>
                    <a:pt x="206" y="265"/>
                  </a:lnTo>
                  <a:lnTo>
                    <a:pt x="186" y="267"/>
                  </a:lnTo>
                  <a:lnTo>
                    <a:pt x="177" y="267"/>
                  </a:lnTo>
                  <a:lnTo>
                    <a:pt x="175" y="267"/>
                  </a:lnTo>
                  <a:lnTo>
                    <a:pt x="166" y="270"/>
                  </a:lnTo>
                  <a:lnTo>
                    <a:pt x="154" y="267"/>
                  </a:lnTo>
                  <a:lnTo>
                    <a:pt x="139" y="263"/>
                  </a:lnTo>
                  <a:lnTo>
                    <a:pt x="132" y="258"/>
                  </a:lnTo>
                  <a:lnTo>
                    <a:pt x="129" y="254"/>
                  </a:lnTo>
                  <a:lnTo>
                    <a:pt x="125" y="244"/>
                  </a:lnTo>
                  <a:lnTo>
                    <a:pt x="127" y="242"/>
                  </a:lnTo>
                  <a:lnTo>
                    <a:pt x="132" y="240"/>
                  </a:lnTo>
                  <a:lnTo>
                    <a:pt x="121" y="236"/>
                  </a:lnTo>
                  <a:lnTo>
                    <a:pt x="111" y="229"/>
                  </a:lnTo>
                  <a:lnTo>
                    <a:pt x="111" y="224"/>
                  </a:lnTo>
                  <a:lnTo>
                    <a:pt x="111" y="222"/>
                  </a:lnTo>
                  <a:lnTo>
                    <a:pt x="116" y="218"/>
                  </a:lnTo>
                  <a:lnTo>
                    <a:pt x="123" y="218"/>
                  </a:lnTo>
                  <a:lnTo>
                    <a:pt x="109" y="215"/>
                  </a:lnTo>
                  <a:lnTo>
                    <a:pt x="100" y="208"/>
                  </a:lnTo>
                  <a:lnTo>
                    <a:pt x="100" y="204"/>
                  </a:lnTo>
                  <a:lnTo>
                    <a:pt x="100" y="199"/>
                  </a:lnTo>
                  <a:lnTo>
                    <a:pt x="105" y="197"/>
                  </a:lnTo>
                  <a:lnTo>
                    <a:pt x="114" y="195"/>
                  </a:lnTo>
                  <a:lnTo>
                    <a:pt x="103" y="190"/>
                  </a:lnTo>
                  <a:lnTo>
                    <a:pt x="95" y="184"/>
                  </a:lnTo>
                  <a:lnTo>
                    <a:pt x="95" y="179"/>
                  </a:lnTo>
                  <a:lnTo>
                    <a:pt x="98" y="174"/>
                  </a:lnTo>
                  <a:lnTo>
                    <a:pt x="107" y="172"/>
                  </a:lnTo>
                  <a:lnTo>
                    <a:pt x="118" y="170"/>
                  </a:lnTo>
                  <a:lnTo>
                    <a:pt x="114" y="166"/>
                  </a:lnTo>
                  <a:lnTo>
                    <a:pt x="109" y="158"/>
                  </a:lnTo>
                  <a:lnTo>
                    <a:pt x="95" y="138"/>
                  </a:lnTo>
                  <a:lnTo>
                    <a:pt x="75" y="111"/>
                  </a:lnTo>
                  <a:lnTo>
                    <a:pt x="55" y="81"/>
                  </a:lnTo>
                  <a:lnTo>
                    <a:pt x="35" y="52"/>
                  </a:lnTo>
                  <a:lnTo>
                    <a:pt x="16" y="27"/>
                  </a:lnTo>
                  <a:lnTo>
                    <a:pt x="9" y="18"/>
                  </a:lnTo>
                  <a:lnTo>
                    <a:pt x="5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2" y="161"/>
                  </a:lnTo>
                  <a:lnTo>
                    <a:pt x="132" y="152"/>
                  </a:lnTo>
                  <a:lnTo>
                    <a:pt x="134" y="150"/>
                  </a:lnTo>
                  <a:lnTo>
                    <a:pt x="140" y="152"/>
                  </a:lnTo>
                  <a:lnTo>
                    <a:pt x="156" y="158"/>
                  </a:lnTo>
                  <a:lnTo>
                    <a:pt x="163" y="158"/>
                  </a:lnTo>
                  <a:lnTo>
                    <a:pt x="168" y="158"/>
                  </a:lnTo>
                  <a:lnTo>
                    <a:pt x="175" y="156"/>
                  </a:lnTo>
                  <a:lnTo>
                    <a:pt x="182" y="161"/>
                  </a:lnTo>
                  <a:lnTo>
                    <a:pt x="190" y="163"/>
                  </a:lnTo>
                  <a:lnTo>
                    <a:pt x="204" y="163"/>
                  </a:lnTo>
                  <a:lnTo>
                    <a:pt x="213" y="166"/>
                  </a:lnTo>
                  <a:lnTo>
                    <a:pt x="227" y="172"/>
                  </a:lnTo>
                  <a:lnTo>
                    <a:pt x="240" y="181"/>
                  </a:lnTo>
                  <a:lnTo>
                    <a:pt x="247" y="190"/>
                  </a:lnTo>
                  <a:lnTo>
                    <a:pt x="250" y="192"/>
                  </a:lnTo>
                  <a:lnTo>
                    <a:pt x="250" y="190"/>
                  </a:lnTo>
                  <a:lnTo>
                    <a:pt x="250" y="186"/>
                  </a:lnTo>
                  <a:lnTo>
                    <a:pt x="252" y="179"/>
                  </a:lnTo>
                  <a:lnTo>
                    <a:pt x="258" y="181"/>
                  </a:lnTo>
                  <a:lnTo>
                    <a:pt x="266" y="184"/>
                  </a:lnTo>
                  <a:lnTo>
                    <a:pt x="274" y="186"/>
                  </a:lnTo>
                  <a:lnTo>
                    <a:pt x="277" y="188"/>
                  </a:lnTo>
                  <a:lnTo>
                    <a:pt x="277" y="192"/>
                  </a:lnTo>
                  <a:lnTo>
                    <a:pt x="274" y="204"/>
                  </a:lnTo>
                  <a:lnTo>
                    <a:pt x="272" y="220"/>
                  </a:lnTo>
                  <a:lnTo>
                    <a:pt x="268" y="240"/>
                  </a:lnTo>
                  <a:lnTo>
                    <a:pt x="266" y="260"/>
                  </a:lnTo>
                  <a:lnTo>
                    <a:pt x="261" y="278"/>
                  </a:lnTo>
                  <a:lnTo>
                    <a:pt x="258" y="290"/>
                  </a:lnTo>
                  <a:lnTo>
                    <a:pt x="258" y="297"/>
                  </a:lnTo>
                  <a:lnTo>
                    <a:pt x="258" y="2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7600" y="3065400"/>
              <a:ext cx="77760" cy="3276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34" y="0"/>
                  </a:moveTo>
                  <a:lnTo>
                    <a:pt x="43" y="5"/>
                  </a:lnTo>
                  <a:lnTo>
                    <a:pt x="48" y="11"/>
                  </a:lnTo>
                  <a:lnTo>
                    <a:pt x="48" y="15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14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6400" y="3128760"/>
              <a:ext cx="68040" cy="345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30" y="0"/>
                  </a:moveTo>
                  <a:lnTo>
                    <a:pt x="37" y="3"/>
                  </a:lnTo>
                  <a:lnTo>
                    <a:pt x="42" y="7"/>
                  </a:lnTo>
                  <a:lnTo>
                    <a:pt x="39" y="14"/>
                  </a:lnTo>
                  <a:lnTo>
                    <a:pt x="33" y="16"/>
                  </a:lnTo>
                  <a:lnTo>
                    <a:pt x="12" y="21"/>
                  </a:lnTo>
                  <a:lnTo>
                    <a:pt x="0" y="21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H="1">
            <a:off x="2555640" y="338616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011200" y="2205000"/>
            <a:ext cx="65268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4844880" y="2222640"/>
            <a:ext cx="640080" cy="63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740040" y="2205000"/>
            <a:ext cx="66204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927600" y="2192040"/>
            <a:ext cx="67284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700440" y="40226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7840" y="24768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figuração Anterior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412" name=""/>
          <p:cNvSpPr/>
          <p:nvPr/>
        </p:nvSpPr>
        <p:spPr>
          <a:xfrm>
            <a:off x="3208320" y="2868480"/>
            <a:ext cx="1108080" cy="115740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30640" y="3141720"/>
            <a:ext cx="10476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1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29000" y="337968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11560" y="2868480"/>
            <a:ext cx="1087560" cy="115740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84920" y="3165480"/>
            <a:ext cx="1069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29000" y="357336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535720" y="4030560"/>
            <a:ext cx="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83040" y="3666960"/>
            <a:ext cx="1374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06800" y="3022560"/>
            <a:ext cx="1374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62040" y="3081240"/>
            <a:ext cx="1020960" cy="6159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3211560"/>
            <a:ext cx="1199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80320" y="3081240"/>
            <a:ext cx="1022400" cy="6177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48560" y="3193920"/>
            <a:ext cx="1199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7680" y="3394080"/>
            <a:ext cx="78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29280" y="1062000"/>
            <a:ext cx="1087200" cy="115560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4240" y="1522440"/>
            <a:ext cx="1069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3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27280" y="1327320"/>
            <a:ext cx="1020960" cy="61740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90840" y="1427040"/>
            <a:ext cx="12016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642840" y="162576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2249640"/>
            <a:ext cx="1374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27440" y="2546280"/>
            <a:ext cx="1374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38640" y="2349360"/>
            <a:ext cx="12049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80040" y="2527200"/>
            <a:ext cx="13744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29080" y="1614600"/>
            <a:ext cx="74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033800" y="5451480"/>
            <a:ext cx="5160960" cy="631800"/>
            <a:chOff x="4033800" y="5451480"/>
            <a:chExt cx="5160960" cy="63180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4033800" y="5451480"/>
              <a:ext cx="51609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041360" y="5497560"/>
              <a:ext cx="5095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afd00"/>
                  </a:solidFill>
                  <a:latin typeface="Arial"/>
                </a:rPr>
                <a:t>DDF: Cerca de 500 mil threads remotas/d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afd00"/>
                  </a:solidFill>
                  <a:latin typeface="Arial"/>
                </a:rPr>
                <a:t>MSC: Cerca de 2,6 milhões transações remotas/d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073920" y="1349280"/>
            <a:ext cx="919080" cy="573120"/>
            <a:chOff x="6073920" y="1349280"/>
            <a:chExt cx="919080" cy="573120"/>
          </a:xfrm>
        </p:grpSpPr>
        <p:sp>
          <p:nvSpPr>
            <p:cNvPr id="440" name=""/>
            <p:cNvSpPr/>
            <p:nvPr/>
          </p:nvSpPr>
          <p:spPr>
            <a:xfrm>
              <a:off x="6073920" y="134928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73920" y="1440000"/>
              <a:ext cx="919080" cy="9036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270240" y="4700520"/>
            <a:ext cx="919080" cy="573120"/>
            <a:chOff x="3270240" y="4700520"/>
            <a:chExt cx="919080" cy="573120"/>
          </a:xfrm>
        </p:grpSpPr>
        <p:sp>
          <p:nvSpPr>
            <p:cNvPr id="443" name=""/>
            <p:cNvSpPr/>
            <p:nvPr/>
          </p:nvSpPr>
          <p:spPr>
            <a:xfrm>
              <a:off x="3270240" y="470052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0240" y="4791240"/>
              <a:ext cx="919080" cy="9036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097600" y="4746600"/>
            <a:ext cx="919080" cy="573120"/>
            <a:chOff x="5097600" y="4746600"/>
            <a:chExt cx="919080" cy="573120"/>
          </a:xfrm>
        </p:grpSpPr>
        <p:sp>
          <p:nvSpPr>
            <p:cNvPr id="446" name=""/>
            <p:cNvSpPr/>
            <p:nvPr/>
          </p:nvSpPr>
          <p:spPr>
            <a:xfrm>
              <a:off x="5097600" y="474660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97600" y="4836960"/>
              <a:ext cx="919080" cy="9072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H="1" flipV="1">
            <a:off x="4828680" y="2368440"/>
            <a:ext cx="80172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494320" y="4068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584080" y="3471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673440" y="181944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97560" y="4894200"/>
            <a:ext cx="165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73520" y="4514760"/>
            <a:ext cx="3535200" cy="855720"/>
          </a:xfrm>
          <a:prstGeom prst="rect">
            <a:avLst/>
          </a:prstGeom>
          <a:solidFill>
            <a:srgbClr val="ffdd9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Configuração Parallel Sysplex Atual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455" name=""/>
          <p:cNvSpPr/>
          <p:nvPr/>
        </p:nvSpPr>
        <p:spPr>
          <a:xfrm>
            <a:off x="3481560" y="5435640"/>
            <a:ext cx="533844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Arial"/>
              </a:rPr>
              <a:t>IMS/DB2 Data Sharing - DSN=(DB1G,DB2G,DB3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Arial"/>
              </a:rPr>
              <a:t>MSC: Cerca de 2,6 milhões  transações remotas/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701880" y="407052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6240" y="2986200"/>
            <a:ext cx="1089000" cy="108576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43240"/>
            <a:ext cx="10303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1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89600" y="2986200"/>
            <a:ext cx="1068480" cy="108576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2600" y="3265560"/>
            <a:ext cx="1050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17840" y="3719520"/>
            <a:ext cx="6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22640" y="3780000"/>
            <a:ext cx="13510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98760" y="3186000"/>
            <a:ext cx="1003320" cy="57780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86080" y="3308400"/>
            <a:ext cx="117936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58080" y="34718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9560" y="1290600"/>
            <a:ext cx="1068480" cy="108432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14880" y="1722600"/>
            <a:ext cx="10522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3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54280" y="1536840"/>
            <a:ext cx="1003320" cy="57924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5880" y="1650960"/>
            <a:ext cx="118116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3040" y="2405160"/>
            <a:ext cx="1350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736800" y="2374560"/>
            <a:ext cx="83376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13440" y="2498760"/>
            <a:ext cx="1184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238560" y="4670280"/>
            <a:ext cx="919080" cy="573120"/>
            <a:chOff x="3238560" y="4670280"/>
            <a:chExt cx="919080" cy="573120"/>
          </a:xfrm>
        </p:grpSpPr>
        <p:sp>
          <p:nvSpPr>
            <p:cNvPr id="474" name=""/>
            <p:cNvSpPr/>
            <p:nvPr/>
          </p:nvSpPr>
          <p:spPr>
            <a:xfrm>
              <a:off x="3238560" y="467028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38560" y="4761000"/>
              <a:ext cx="919080" cy="9036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829560" y="3181320"/>
            <a:ext cx="1003320" cy="57960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42080" y="3295800"/>
            <a:ext cx="1182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89480" y="1809720"/>
            <a:ext cx="276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061480" y="1809360"/>
            <a:ext cx="0" cy="30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667600" y="932040"/>
            <a:ext cx="4009320" cy="417240"/>
            <a:chOff x="2667600" y="932040"/>
            <a:chExt cx="4009320" cy="417240"/>
          </a:xfrm>
        </p:grpSpPr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2670120" y="932040"/>
              <a:ext cx="4006800" cy="4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667600" y="977760"/>
              <a:ext cx="396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afd00"/>
                  </a:solidFill>
                  <a:latin typeface="Arial"/>
                </a:rPr>
                <a:t>DDF substituído pelo Data Sha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006880" y="4686480"/>
            <a:ext cx="919080" cy="572760"/>
            <a:chOff x="5006880" y="4686480"/>
            <a:chExt cx="919080" cy="572760"/>
          </a:xfrm>
        </p:grpSpPr>
        <p:sp>
          <p:nvSpPr>
            <p:cNvPr id="484" name=""/>
            <p:cNvSpPr/>
            <p:nvPr/>
          </p:nvSpPr>
          <p:spPr>
            <a:xfrm>
              <a:off x="5006880" y="4686480"/>
              <a:ext cx="919080" cy="57276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06880" y="4776840"/>
              <a:ext cx="919080" cy="9036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 flipV="1">
            <a:off x="4230720" y="421128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041880" y="4169880"/>
            <a:ext cx="0" cy="5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428920" y="2422440"/>
            <a:ext cx="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257720" y="2403000"/>
            <a:ext cx="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Configuração Parallel Sysplex Futura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448080" y="1162080"/>
            <a:ext cx="2031840" cy="630360"/>
            <a:chOff x="3448080" y="1162080"/>
            <a:chExt cx="2031840" cy="630360"/>
          </a:xfrm>
        </p:grpSpPr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3448080" y="1162080"/>
              <a:ext cx="203184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556080" y="1208160"/>
              <a:ext cx="1762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afd00"/>
                  </a:solidFill>
                  <a:latin typeface="Arial"/>
                </a:rPr>
                <a:t>IMS V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886040" y="2014560"/>
            <a:ext cx="4724280" cy="42372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5011b"/>
                </a:solidFill>
                <a:latin typeface="Arial"/>
              </a:rPr>
              <a:t>Shared Message Que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0280" y="5664240"/>
            <a:ext cx="5643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hared Message Queue - IMSZ=(IMSA,IMSB,IMS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405160" y="421308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13040" y="3059280"/>
            <a:ext cx="1108080" cy="115704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35000" y="3332160"/>
            <a:ext cx="10479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1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16280" y="3059280"/>
            <a:ext cx="1087560" cy="115704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89280" y="3355920"/>
            <a:ext cx="1069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35720" y="3048120"/>
            <a:ext cx="1087200" cy="1155600"/>
          </a:xfrm>
          <a:prstGeom prst="cube">
            <a:avLst>
              <a:gd name="adj" fmla="val 6509"/>
            </a:avLst>
          </a:prstGeom>
          <a:gradFill rotWithShape="0">
            <a:gsLst>
              <a:gs pos="0">
                <a:srgbClr val="33cccc"/>
              </a:gs>
              <a:gs pos="100000">
                <a:srgbClr val="ace9e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38960" y="3332160"/>
            <a:ext cx="1069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3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44720" y="4687920"/>
            <a:ext cx="4503600" cy="91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086520" y="244440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871720" y="4869000"/>
            <a:ext cx="919080" cy="573120"/>
            <a:chOff x="2871720" y="4869000"/>
            <a:chExt cx="919080" cy="573120"/>
          </a:xfrm>
        </p:grpSpPr>
        <p:sp>
          <p:nvSpPr>
            <p:cNvPr id="506" name=""/>
            <p:cNvSpPr/>
            <p:nvPr/>
          </p:nvSpPr>
          <p:spPr>
            <a:xfrm>
              <a:off x="2871720" y="486900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71720" y="4959360"/>
              <a:ext cx="919080" cy="9036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672080" y="4854600"/>
            <a:ext cx="919080" cy="573120"/>
            <a:chOff x="4672080" y="4854600"/>
            <a:chExt cx="919080" cy="573120"/>
          </a:xfrm>
        </p:grpSpPr>
        <p:sp>
          <p:nvSpPr>
            <p:cNvPr id="509" name=""/>
            <p:cNvSpPr/>
            <p:nvPr/>
          </p:nvSpPr>
          <p:spPr>
            <a:xfrm>
              <a:off x="4672080" y="4854600"/>
              <a:ext cx="919080" cy="573120"/>
            </a:xfrm>
            <a:custGeom>
              <a:avLst/>
              <a:gdLst/>
              <a:ahLst/>
              <a:rect l="l" t="t" r="r" b="b"/>
              <a:pathLst>
                <a:path w="579" h="361">
                  <a:moveTo>
                    <a:pt x="289" y="0"/>
                  </a:moveTo>
                  <a:lnTo>
                    <a:pt x="259" y="0"/>
                  </a:lnTo>
                  <a:lnTo>
                    <a:pt x="231" y="1"/>
                  </a:lnTo>
                  <a:lnTo>
                    <a:pt x="203" y="3"/>
                  </a:lnTo>
                  <a:lnTo>
                    <a:pt x="176" y="4"/>
                  </a:lnTo>
                  <a:lnTo>
                    <a:pt x="151" y="7"/>
                  </a:lnTo>
                  <a:lnTo>
                    <a:pt x="127" y="10"/>
                  </a:lnTo>
                  <a:lnTo>
                    <a:pt x="105" y="13"/>
                  </a:lnTo>
                  <a:lnTo>
                    <a:pt x="85" y="17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5" y="30"/>
                  </a:lnTo>
                  <a:lnTo>
                    <a:pt x="23" y="35"/>
                  </a:lnTo>
                  <a:lnTo>
                    <a:pt x="13" y="40"/>
                  </a:lnTo>
                  <a:lnTo>
                    <a:pt x="6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303"/>
                  </a:lnTo>
                  <a:lnTo>
                    <a:pt x="2" y="309"/>
                  </a:lnTo>
                  <a:lnTo>
                    <a:pt x="6" y="315"/>
                  </a:lnTo>
                  <a:lnTo>
                    <a:pt x="13" y="320"/>
                  </a:lnTo>
                  <a:lnTo>
                    <a:pt x="23" y="325"/>
                  </a:lnTo>
                  <a:lnTo>
                    <a:pt x="35" y="330"/>
                  </a:lnTo>
                  <a:lnTo>
                    <a:pt x="49" y="335"/>
                  </a:lnTo>
                  <a:lnTo>
                    <a:pt x="66" y="340"/>
                  </a:lnTo>
                  <a:lnTo>
                    <a:pt x="85" y="344"/>
                  </a:lnTo>
                  <a:lnTo>
                    <a:pt x="105" y="347"/>
                  </a:lnTo>
                  <a:lnTo>
                    <a:pt x="127" y="350"/>
                  </a:lnTo>
                  <a:lnTo>
                    <a:pt x="151" y="353"/>
                  </a:lnTo>
                  <a:lnTo>
                    <a:pt x="176" y="356"/>
                  </a:lnTo>
                  <a:lnTo>
                    <a:pt x="203" y="358"/>
                  </a:lnTo>
                  <a:lnTo>
                    <a:pt x="231" y="359"/>
                  </a:lnTo>
                  <a:lnTo>
                    <a:pt x="259" y="360"/>
                  </a:lnTo>
                  <a:lnTo>
                    <a:pt x="289" y="360"/>
                  </a:lnTo>
                  <a:lnTo>
                    <a:pt x="319" y="360"/>
                  </a:lnTo>
                  <a:lnTo>
                    <a:pt x="347" y="359"/>
                  </a:lnTo>
                  <a:lnTo>
                    <a:pt x="375" y="358"/>
                  </a:lnTo>
                  <a:lnTo>
                    <a:pt x="402" y="356"/>
                  </a:lnTo>
                  <a:lnTo>
                    <a:pt x="427" y="353"/>
                  </a:lnTo>
                  <a:lnTo>
                    <a:pt x="451" y="350"/>
                  </a:lnTo>
                  <a:lnTo>
                    <a:pt x="473" y="347"/>
                  </a:lnTo>
                  <a:lnTo>
                    <a:pt x="494" y="344"/>
                  </a:lnTo>
                  <a:lnTo>
                    <a:pt x="512" y="340"/>
                  </a:lnTo>
                  <a:lnTo>
                    <a:pt x="529" y="335"/>
                  </a:lnTo>
                  <a:lnTo>
                    <a:pt x="543" y="330"/>
                  </a:lnTo>
                  <a:lnTo>
                    <a:pt x="555" y="325"/>
                  </a:lnTo>
                  <a:lnTo>
                    <a:pt x="565" y="320"/>
                  </a:lnTo>
                  <a:lnTo>
                    <a:pt x="572" y="315"/>
                  </a:lnTo>
                  <a:lnTo>
                    <a:pt x="577" y="309"/>
                  </a:lnTo>
                  <a:lnTo>
                    <a:pt x="578" y="303"/>
                  </a:lnTo>
                  <a:lnTo>
                    <a:pt x="578" y="57"/>
                  </a:lnTo>
                  <a:lnTo>
                    <a:pt x="577" y="51"/>
                  </a:lnTo>
                  <a:lnTo>
                    <a:pt x="572" y="45"/>
                  </a:lnTo>
                  <a:lnTo>
                    <a:pt x="565" y="40"/>
                  </a:lnTo>
                  <a:lnTo>
                    <a:pt x="555" y="35"/>
                  </a:lnTo>
                  <a:lnTo>
                    <a:pt x="543" y="30"/>
                  </a:lnTo>
                  <a:lnTo>
                    <a:pt x="529" y="25"/>
                  </a:lnTo>
                  <a:lnTo>
                    <a:pt x="512" y="21"/>
                  </a:lnTo>
                  <a:lnTo>
                    <a:pt x="494" y="17"/>
                  </a:lnTo>
                  <a:lnTo>
                    <a:pt x="473" y="13"/>
                  </a:lnTo>
                  <a:lnTo>
                    <a:pt x="451" y="10"/>
                  </a:lnTo>
                  <a:lnTo>
                    <a:pt x="427" y="7"/>
                  </a:lnTo>
                  <a:lnTo>
                    <a:pt x="402" y="4"/>
                  </a:lnTo>
                  <a:lnTo>
                    <a:pt x="375" y="3"/>
                  </a:lnTo>
                  <a:lnTo>
                    <a:pt x="347" y="1"/>
                  </a:lnTo>
                  <a:lnTo>
                    <a:pt x="319" y="0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72080" y="4944960"/>
              <a:ext cx="919080" cy="90720"/>
            </a:xfrm>
            <a:custGeom>
              <a:avLst/>
              <a:gdLst/>
              <a:ahLst/>
              <a:rect l="l" t="t" r="r" b="b"/>
              <a:pathLst>
                <a:path w="579" h="57">
                  <a:moveTo>
                    <a:pt x="0" y="0"/>
                  </a:moveTo>
                  <a:lnTo>
                    <a:pt x="2" y="6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23" y="22"/>
                  </a:lnTo>
                  <a:lnTo>
                    <a:pt x="35" y="27"/>
                  </a:lnTo>
                  <a:lnTo>
                    <a:pt x="49" y="31"/>
                  </a:lnTo>
                  <a:lnTo>
                    <a:pt x="66" y="36"/>
                  </a:lnTo>
                  <a:lnTo>
                    <a:pt x="85" y="40"/>
                  </a:lnTo>
                  <a:lnTo>
                    <a:pt x="105" y="43"/>
                  </a:lnTo>
                  <a:lnTo>
                    <a:pt x="127" y="46"/>
                  </a:lnTo>
                  <a:lnTo>
                    <a:pt x="151" y="49"/>
                  </a:lnTo>
                  <a:lnTo>
                    <a:pt x="176" y="52"/>
                  </a:lnTo>
                  <a:lnTo>
                    <a:pt x="203" y="54"/>
                  </a:lnTo>
                  <a:lnTo>
                    <a:pt x="231" y="55"/>
                  </a:lnTo>
                  <a:lnTo>
                    <a:pt x="259" y="56"/>
                  </a:lnTo>
                  <a:lnTo>
                    <a:pt x="289" y="56"/>
                  </a:lnTo>
                  <a:lnTo>
                    <a:pt x="319" y="56"/>
                  </a:lnTo>
                  <a:lnTo>
                    <a:pt x="347" y="55"/>
                  </a:lnTo>
                  <a:lnTo>
                    <a:pt x="375" y="54"/>
                  </a:lnTo>
                  <a:lnTo>
                    <a:pt x="402" y="52"/>
                  </a:lnTo>
                  <a:lnTo>
                    <a:pt x="427" y="49"/>
                  </a:lnTo>
                  <a:lnTo>
                    <a:pt x="451" y="46"/>
                  </a:lnTo>
                  <a:lnTo>
                    <a:pt x="473" y="43"/>
                  </a:lnTo>
                  <a:lnTo>
                    <a:pt x="494" y="40"/>
                  </a:lnTo>
                  <a:lnTo>
                    <a:pt x="512" y="36"/>
                  </a:lnTo>
                  <a:lnTo>
                    <a:pt x="529" y="31"/>
                  </a:lnTo>
                  <a:lnTo>
                    <a:pt x="543" y="27"/>
                  </a:lnTo>
                  <a:lnTo>
                    <a:pt x="555" y="22"/>
                  </a:lnTo>
                  <a:lnTo>
                    <a:pt x="565" y="17"/>
                  </a:lnTo>
                  <a:lnTo>
                    <a:pt x="572" y="11"/>
                  </a:lnTo>
                  <a:lnTo>
                    <a:pt x="577" y="6"/>
                  </a:lnTo>
                  <a:lnTo>
                    <a:pt x="57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 flipV="1">
            <a:off x="1797120" y="4570560"/>
            <a:ext cx="48096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467160" y="2271240"/>
            <a:ext cx="54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09760" y="3998880"/>
            <a:ext cx="506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49760" y="3328920"/>
            <a:ext cx="1409760" cy="11667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Estrutura Parallel Sysplex - Desenvolviment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16" name=""/>
          <p:cNvSpPr/>
          <p:nvPr/>
        </p:nvSpPr>
        <p:spPr>
          <a:xfrm>
            <a:off x="1943280" y="1633680"/>
            <a:ext cx="1542960" cy="126180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19400" y="1976400"/>
            <a:ext cx="914400" cy="5763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43640" y="1747800"/>
            <a:ext cx="1409760" cy="11667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52640" y="4724280"/>
          <a:ext cx="8841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4724280"/>
                    <a:ext cx="8841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7929720" y="1201680"/>
          <a:ext cx="88416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1201680"/>
                    <a:ext cx="8841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4038480" y="3648240"/>
            <a:ext cx="914400" cy="57600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6080" y="225252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05400" y="1914480"/>
            <a:ext cx="1623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M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.A. I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nk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SE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95840" y="3619440"/>
            <a:ext cx="1262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A. 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G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2114640"/>
            <a:ext cx="976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14720" y="3797280"/>
            <a:ext cx="976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38240" y="1892160"/>
            <a:ext cx="1548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ê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FB 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ner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939080" y="2459160"/>
            <a:ext cx="976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265440" y="2921040"/>
            <a:ext cx="180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28800" y="1339920"/>
          <a:ext cx="88416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8800" y="1339920"/>
                    <a:ext cx="88416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1609560" y="1620720"/>
            <a:ext cx="30960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10600" y="2324160"/>
            <a:ext cx="1466640" cy="221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804000" y="1432080"/>
            <a:ext cx="13651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29600" y="2444760"/>
            <a:ext cx="976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48360" y="247644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70680" y="363528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59520" y="41338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24200" y="3328920"/>
            <a:ext cx="1542960" cy="1262160"/>
          </a:xfrm>
          <a:prstGeom prst="cube">
            <a:avLst>
              <a:gd name="adj" fmla="val 65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19160" y="3625920"/>
            <a:ext cx="1548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ê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59240" y="39625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64040" y="394344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40280" y="225900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07920" y="2004840"/>
            <a:ext cx="552600" cy="405000"/>
            <a:chOff x="907920" y="2004840"/>
            <a:chExt cx="552600" cy="405000"/>
          </a:xfrm>
        </p:grpSpPr>
        <p:sp>
          <p:nvSpPr>
            <p:cNvPr id="547" name=""/>
            <p:cNvSpPr/>
            <p:nvPr/>
          </p:nvSpPr>
          <p:spPr>
            <a:xfrm>
              <a:off x="907920" y="2004840"/>
              <a:ext cx="552600" cy="40500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07920" y="2068560"/>
              <a:ext cx="55260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47800" y="3787920"/>
            <a:ext cx="552240" cy="404640"/>
            <a:chOff x="847800" y="3787920"/>
            <a:chExt cx="552240" cy="404640"/>
          </a:xfrm>
        </p:grpSpPr>
        <p:sp>
          <p:nvSpPr>
            <p:cNvPr id="550" name=""/>
            <p:cNvSpPr/>
            <p:nvPr/>
          </p:nvSpPr>
          <p:spPr>
            <a:xfrm>
              <a:off x="847800" y="3787920"/>
              <a:ext cx="552240" cy="40464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7800" y="3851280"/>
              <a:ext cx="55224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07440" y="2857680"/>
            <a:ext cx="552240" cy="404640"/>
            <a:chOff x="7507440" y="2857680"/>
            <a:chExt cx="552240" cy="404640"/>
          </a:xfrm>
        </p:grpSpPr>
        <p:sp>
          <p:nvSpPr>
            <p:cNvPr id="553" name=""/>
            <p:cNvSpPr/>
            <p:nvPr/>
          </p:nvSpPr>
          <p:spPr>
            <a:xfrm>
              <a:off x="7507440" y="2857680"/>
              <a:ext cx="552240" cy="40464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07440" y="2921040"/>
              <a:ext cx="55224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193240" y="2873520"/>
            <a:ext cx="552240" cy="404640"/>
            <a:chOff x="8193240" y="2873520"/>
            <a:chExt cx="552240" cy="404640"/>
          </a:xfrm>
        </p:grpSpPr>
        <p:sp>
          <p:nvSpPr>
            <p:cNvPr id="556" name=""/>
            <p:cNvSpPr/>
            <p:nvPr/>
          </p:nvSpPr>
          <p:spPr>
            <a:xfrm>
              <a:off x="8193240" y="2873520"/>
              <a:ext cx="552240" cy="40464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2936880"/>
              <a:ext cx="55224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507440" y="3436920"/>
            <a:ext cx="552240" cy="405000"/>
            <a:chOff x="7507440" y="3436920"/>
            <a:chExt cx="552240" cy="405000"/>
          </a:xfrm>
        </p:grpSpPr>
        <p:sp>
          <p:nvSpPr>
            <p:cNvPr id="559" name=""/>
            <p:cNvSpPr/>
            <p:nvPr/>
          </p:nvSpPr>
          <p:spPr>
            <a:xfrm>
              <a:off x="7507440" y="3436920"/>
              <a:ext cx="552240" cy="40500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07440" y="3500280"/>
              <a:ext cx="55224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8193240" y="3436920"/>
            <a:ext cx="552240" cy="434880"/>
            <a:chOff x="8193240" y="3436920"/>
            <a:chExt cx="552240" cy="434880"/>
          </a:xfrm>
        </p:grpSpPr>
        <p:sp>
          <p:nvSpPr>
            <p:cNvPr id="562" name=""/>
            <p:cNvSpPr/>
            <p:nvPr/>
          </p:nvSpPr>
          <p:spPr>
            <a:xfrm>
              <a:off x="8193240" y="3436920"/>
              <a:ext cx="552240" cy="434880"/>
            </a:xfrm>
            <a:custGeom>
              <a:avLst/>
              <a:gdLst/>
              <a:ahLst/>
              <a:rect l="l" t="t" r="r" b="b"/>
              <a:pathLst>
                <a:path w="348" h="274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8"/>
                  </a:lnTo>
                  <a:lnTo>
                    <a:pt x="63" y="10"/>
                  </a:lnTo>
                  <a:lnTo>
                    <a:pt x="51" y="13"/>
                  </a:lnTo>
                  <a:lnTo>
                    <a:pt x="40" y="16"/>
                  </a:lnTo>
                  <a:lnTo>
                    <a:pt x="29" y="19"/>
                  </a:lnTo>
                  <a:lnTo>
                    <a:pt x="21" y="23"/>
                  </a:lnTo>
                  <a:lnTo>
                    <a:pt x="14" y="27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230"/>
                  </a:lnTo>
                  <a:lnTo>
                    <a:pt x="1" y="234"/>
                  </a:lnTo>
                  <a:lnTo>
                    <a:pt x="4" y="239"/>
                  </a:lnTo>
                  <a:lnTo>
                    <a:pt x="8" y="243"/>
                  </a:lnTo>
                  <a:lnTo>
                    <a:pt x="14" y="246"/>
                  </a:lnTo>
                  <a:lnTo>
                    <a:pt x="21" y="250"/>
                  </a:lnTo>
                  <a:lnTo>
                    <a:pt x="29" y="254"/>
                  </a:lnTo>
                  <a:lnTo>
                    <a:pt x="40" y="258"/>
                  </a:lnTo>
                  <a:lnTo>
                    <a:pt x="51" y="261"/>
                  </a:lnTo>
                  <a:lnTo>
                    <a:pt x="63" y="263"/>
                  </a:lnTo>
                  <a:lnTo>
                    <a:pt x="76" y="265"/>
                  </a:lnTo>
                  <a:lnTo>
                    <a:pt x="91" y="268"/>
                  </a:lnTo>
                  <a:lnTo>
                    <a:pt x="106" y="270"/>
                  </a:lnTo>
                  <a:lnTo>
                    <a:pt x="122" y="271"/>
                  </a:lnTo>
                  <a:lnTo>
                    <a:pt x="139" y="272"/>
                  </a:lnTo>
                  <a:lnTo>
                    <a:pt x="155" y="273"/>
                  </a:lnTo>
                  <a:lnTo>
                    <a:pt x="173" y="273"/>
                  </a:lnTo>
                  <a:lnTo>
                    <a:pt x="192" y="273"/>
                  </a:lnTo>
                  <a:lnTo>
                    <a:pt x="208" y="272"/>
                  </a:lnTo>
                  <a:lnTo>
                    <a:pt x="225" y="271"/>
                  </a:lnTo>
                  <a:lnTo>
                    <a:pt x="241" y="270"/>
                  </a:lnTo>
                  <a:lnTo>
                    <a:pt x="256" y="268"/>
                  </a:lnTo>
                  <a:lnTo>
                    <a:pt x="271" y="265"/>
                  </a:lnTo>
                  <a:lnTo>
                    <a:pt x="284" y="263"/>
                  </a:lnTo>
                  <a:lnTo>
                    <a:pt x="297" y="261"/>
                  </a:lnTo>
                  <a:lnTo>
                    <a:pt x="307" y="258"/>
                  </a:lnTo>
                  <a:lnTo>
                    <a:pt x="318" y="254"/>
                  </a:lnTo>
                  <a:lnTo>
                    <a:pt x="326" y="250"/>
                  </a:lnTo>
                  <a:lnTo>
                    <a:pt x="333" y="246"/>
                  </a:lnTo>
                  <a:lnTo>
                    <a:pt x="339" y="243"/>
                  </a:lnTo>
                  <a:lnTo>
                    <a:pt x="343" y="239"/>
                  </a:lnTo>
                  <a:lnTo>
                    <a:pt x="346" y="234"/>
                  </a:lnTo>
                  <a:lnTo>
                    <a:pt x="347" y="230"/>
                  </a:lnTo>
                  <a:lnTo>
                    <a:pt x="347" y="43"/>
                  </a:lnTo>
                  <a:lnTo>
                    <a:pt x="346" y="39"/>
                  </a:lnTo>
                  <a:lnTo>
                    <a:pt x="343" y="34"/>
                  </a:lnTo>
                  <a:lnTo>
                    <a:pt x="339" y="30"/>
                  </a:lnTo>
                  <a:lnTo>
                    <a:pt x="333" y="27"/>
                  </a:lnTo>
                  <a:lnTo>
                    <a:pt x="326" y="23"/>
                  </a:lnTo>
                  <a:lnTo>
                    <a:pt x="318" y="19"/>
                  </a:lnTo>
                  <a:lnTo>
                    <a:pt x="307" y="16"/>
                  </a:lnTo>
                  <a:lnTo>
                    <a:pt x="297" y="13"/>
                  </a:lnTo>
                  <a:lnTo>
                    <a:pt x="284" y="10"/>
                  </a:lnTo>
                  <a:lnTo>
                    <a:pt x="271" y="8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93240" y="3505320"/>
              <a:ext cx="55224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0"/>
                  </a:moveTo>
                  <a:lnTo>
                    <a:pt x="1" y="5"/>
                  </a:lnTo>
                  <a:lnTo>
                    <a:pt x="4" y="8"/>
                  </a:lnTo>
                  <a:lnTo>
                    <a:pt x="8" y="13"/>
                  </a:lnTo>
                  <a:lnTo>
                    <a:pt x="14" y="17"/>
                  </a:lnTo>
                  <a:lnTo>
                    <a:pt x="21" y="21"/>
                  </a:lnTo>
                  <a:lnTo>
                    <a:pt x="29" y="24"/>
                  </a:lnTo>
                  <a:lnTo>
                    <a:pt x="40" y="28"/>
                  </a:lnTo>
                  <a:lnTo>
                    <a:pt x="51" y="31"/>
                  </a:lnTo>
                  <a:lnTo>
                    <a:pt x="63" y="33"/>
                  </a:lnTo>
                  <a:lnTo>
                    <a:pt x="76" y="35"/>
                  </a:lnTo>
                  <a:lnTo>
                    <a:pt x="91" y="38"/>
                  </a:lnTo>
                  <a:lnTo>
                    <a:pt x="106" y="40"/>
                  </a:lnTo>
                  <a:lnTo>
                    <a:pt x="122" y="41"/>
                  </a:lnTo>
                  <a:lnTo>
                    <a:pt x="139" y="42"/>
                  </a:lnTo>
                  <a:lnTo>
                    <a:pt x="155" y="43"/>
                  </a:lnTo>
                  <a:lnTo>
                    <a:pt x="173" y="43"/>
                  </a:lnTo>
                  <a:lnTo>
                    <a:pt x="192" y="43"/>
                  </a:lnTo>
                  <a:lnTo>
                    <a:pt x="208" y="42"/>
                  </a:lnTo>
                  <a:lnTo>
                    <a:pt x="225" y="41"/>
                  </a:lnTo>
                  <a:lnTo>
                    <a:pt x="241" y="40"/>
                  </a:lnTo>
                  <a:lnTo>
                    <a:pt x="256" y="38"/>
                  </a:lnTo>
                  <a:lnTo>
                    <a:pt x="271" y="35"/>
                  </a:lnTo>
                  <a:lnTo>
                    <a:pt x="284" y="33"/>
                  </a:lnTo>
                  <a:lnTo>
                    <a:pt x="297" y="31"/>
                  </a:lnTo>
                  <a:lnTo>
                    <a:pt x="307" y="28"/>
                  </a:lnTo>
                  <a:lnTo>
                    <a:pt x="318" y="24"/>
                  </a:lnTo>
                  <a:lnTo>
                    <a:pt x="326" y="21"/>
                  </a:lnTo>
                  <a:lnTo>
                    <a:pt x="333" y="17"/>
                  </a:lnTo>
                  <a:lnTo>
                    <a:pt x="339" y="13"/>
                  </a:lnTo>
                  <a:lnTo>
                    <a:pt x="343" y="8"/>
                  </a:lnTo>
                  <a:lnTo>
                    <a:pt x="346" y="5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523280" y="3987720"/>
            <a:ext cx="552240" cy="405000"/>
            <a:chOff x="7523280" y="3987720"/>
            <a:chExt cx="552240" cy="405000"/>
          </a:xfrm>
        </p:grpSpPr>
        <p:sp>
          <p:nvSpPr>
            <p:cNvPr id="565" name=""/>
            <p:cNvSpPr/>
            <p:nvPr/>
          </p:nvSpPr>
          <p:spPr>
            <a:xfrm>
              <a:off x="7523280" y="3987720"/>
              <a:ext cx="552240" cy="40500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3280" y="4051440"/>
              <a:ext cx="552240" cy="6480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8209080" y="3986280"/>
            <a:ext cx="552240" cy="404640"/>
            <a:chOff x="8209080" y="3986280"/>
            <a:chExt cx="552240" cy="404640"/>
          </a:xfrm>
        </p:grpSpPr>
        <p:sp>
          <p:nvSpPr>
            <p:cNvPr id="568" name=""/>
            <p:cNvSpPr/>
            <p:nvPr/>
          </p:nvSpPr>
          <p:spPr>
            <a:xfrm>
              <a:off x="8209080" y="3986280"/>
              <a:ext cx="552240" cy="404640"/>
            </a:xfrm>
            <a:custGeom>
              <a:avLst/>
              <a:gdLst/>
              <a:ahLst/>
              <a:rect l="l" t="t" r="r" b="b"/>
              <a:pathLst>
                <a:path w="348" h="255">
                  <a:moveTo>
                    <a:pt x="173" y="0"/>
                  </a:moveTo>
                  <a:lnTo>
                    <a:pt x="155" y="0"/>
                  </a:lnTo>
                  <a:lnTo>
                    <a:pt x="139" y="1"/>
                  </a:lnTo>
                  <a:lnTo>
                    <a:pt x="122" y="2"/>
                  </a:lnTo>
                  <a:lnTo>
                    <a:pt x="106" y="3"/>
                  </a:lnTo>
                  <a:lnTo>
                    <a:pt x="91" y="5"/>
                  </a:lnTo>
                  <a:lnTo>
                    <a:pt x="76" y="7"/>
                  </a:lnTo>
                  <a:lnTo>
                    <a:pt x="63" y="9"/>
                  </a:lnTo>
                  <a:lnTo>
                    <a:pt x="51" y="12"/>
                  </a:lnTo>
                  <a:lnTo>
                    <a:pt x="40" y="15"/>
                  </a:lnTo>
                  <a:lnTo>
                    <a:pt x="29" y="18"/>
                  </a:lnTo>
                  <a:lnTo>
                    <a:pt x="21" y="21"/>
                  </a:lnTo>
                  <a:lnTo>
                    <a:pt x="14" y="25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4" y="222"/>
                  </a:lnTo>
                  <a:lnTo>
                    <a:pt x="8" y="226"/>
                  </a:lnTo>
                  <a:lnTo>
                    <a:pt x="14" y="229"/>
                  </a:lnTo>
                  <a:lnTo>
                    <a:pt x="21" y="233"/>
                  </a:lnTo>
                  <a:lnTo>
                    <a:pt x="29" y="236"/>
                  </a:lnTo>
                  <a:lnTo>
                    <a:pt x="40" y="240"/>
                  </a:lnTo>
                  <a:lnTo>
                    <a:pt x="51" y="243"/>
                  </a:lnTo>
                  <a:lnTo>
                    <a:pt x="63" y="245"/>
                  </a:lnTo>
                  <a:lnTo>
                    <a:pt x="76" y="247"/>
                  </a:lnTo>
                  <a:lnTo>
                    <a:pt x="91" y="249"/>
                  </a:lnTo>
                  <a:lnTo>
                    <a:pt x="106" y="251"/>
                  </a:lnTo>
                  <a:lnTo>
                    <a:pt x="122" y="253"/>
                  </a:lnTo>
                  <a:lnTo>
                    <a:pt x="139" y="253"/>
                  </a:lnTo>
                  <a:lnTo>
                    <a:pt x="155" y="254"/>
                  </a:lnTo>
                  <a:lnTo>
                    <a:pt x="173" y="254"/>
                  </a:lnTo>
                  <a:lnTo>
                    <a:pt x="192" y="254"/>
                  </a:lnTo>
                  <a:lnTo>
                    <a:pt x="208" y="253"/>
                  </a:lnTo>
                  <a:lnTo>
                    <a:pt x="225" y="253"/>
                  </a:lnTo>
                  <a:lnTo>
                    <a:pt x="241" y="251"/>
                  </a:lnTo>
                  <a:lnTo>
                    <a:pt x="256" y="249"/>
                  </a:lnTo>
                  <a:lnTo>
                    <a:pt x="271" y="247"/>
                  </a:lnTo>
                  <a:lnTo>
                    <a:pt x="284" y="245"/>
                  </a:lnTo>
                  <a:lnTo>
                    <a:pt x="297" y="243"/>
                  </a:lnTo>
                  <a:lnTo>
                    <a:pt x="307" y="240"/>
                  </a:lnTo>
                  <a:lnTo>
                    <a:pt x="318" y="236"/>
                  </a:lnTo>
                  <a:lnTo>
                    <a:pt x="326" y="233"/>
                  </a:lnTo>
                  <a:lnTo>
                    <a:pt x="333" y="229"/>
                  </a:lnTo>
                  <a:lnTo>
                    <a:pt x="339" y="226"/>
                  </a:lnTo>
                  <a:lnTo>
                    <a:pt x="343" y="222"/>
                  </a:lnTo>
                  <a:lnTo>
                    <a:pt x="346" y="218"/>
                  </a:lnTo>
                  <a:lnTo>
                    <a:pt x="347" y="214"/>
                  </a:lnTo>
                  <a:lnTo>
                    <a:pt x="347" y="40"/>
                  </a:lnTo>
                  <a:lnTo>
                    <a:pt x="346" y="36"/>
                  </a:lnTo>
                  <a:lnTo>
                    <a:pt x="343" y="32"/>
                  </a:lnTo>
                  <a:lnTo>
                    <a:pt x="339" y="28"/>
                  </a:lnTo>
                  <a:lnTo>
                    <a:pt x="333" y="25"/>
                  </a:lnTo>
                  <a:lnTo>
                    <a:pt x="326" y="21"/>
                  </a:lnTo>
                  <a:lnTo>
                    <a:pt x="318" y="18"/>
                  </a:lnTo>
                  <a:lnTo>
                    <a:pt x="307" y="15"/>
                  </a:lnTo>
                  <a:lnTo>
                    <a:pt x="297" y="12"/>
                  </a:lnTo>
                  <a:lnTo>
                    <a:pt x="284" y="9"/>
                  </a:lnTo>
                  <a:lnTo>
                    <a:pt x="271" y="7"/>
                  </a:lnTo>
                  <a:lnTo>
                    <a:pt x="256" y="5"/>
                  </a:lnTo>
                  <a:lnTo>
                    <a:pt x="241" y="3"/>
                  </a:lnTo>
                  <a:lnTo>
                    <a:pt x="225" y="2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09080" y="4049640"/>
              <a:ext cx="552240" cy="65160"/>
            </a:xfrm>
            <a:custGeom>
              <a:avLst/>
              <a:gdLst/>
              <a:ahLst/>
              <a:rect l="l" t="t" r="r" b="b"/>
              <a:pathLst>
                <a:path w="348" h="41">
                  <a:moveTo>
                    <a:pt x="0" y="0"/>
                  </a:moveTo>
                  <a:lnTo>
                    <a:pt x="1" y="4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1" y="19"/>
                  </a:lnTo>
                  <a:lnTo>
                    <a:pt x="29" y="22"/>
                  </a:lnTo>
                  <a:lnTo>
                    <a:pt x="40" y="26"/>
                  </a:lnTo>
                  <a:lnTo>
                    <a:pt x="51" y="29"/>
                  </a:lnTo>
                  <a:lnTo>
                    <a:pt x="63" y="31"/>
                  </a:lnTo>
                  <a:lnTo>
                    <a:pt x="76" y="33"/>
                  </a:lnTo>
                  <a:lnTo>
                    <a:pt x="91" y="35"/>
                  </a:lnTo>
                  <a:lnTo>
                    <a:pt x="106" y="37"/>
                  </a:lnTo>
                  <a:lnTo>
                    <a:pt x="122" y="39"/>
                  </a:lnTo>
                  <a:lnTo>
                    <a:pt x="139" y="39"/>
                  </a:lnTo>
                  <a:lnTo>
                    <a:pt x="155" y="40"/>
                  </a:lnTo>
                  <a:lnTo>
                    <a:pt x="173" y="40"/>
                  </a:lnTo>
                  <a:lnTo>
                    <a:pt x="192" y="40"/>
                  </a:lnTo>
                  <a:lnTo>
                    <a:pt x="208" y="39"/>
                  </a:lnTo>
                  <a:lnTo>
                    <a:pt x="225" y="39"/>
                  </a:lnTo>
                  <a:lnTo>
                    <a:pt x="241" y="37"/>
                  </a:lnTo>
                  <a:lnTo>
                    <a:pt x="256" y="35"/>
                  </a:lnTo>
                  <a:lnTo>
                    <a:pt x="271" y="33"/>
                  </a:lnTo>
                  <a:lnTo>
                    <a:pt x="284" y="31"/>
                  </a:lnTo>
                  <a:lnTo>
                    <a:pt x="297" y="29"/>
                  </a:lnTo>
                  <a:lnTo>
                    <a:pt x="307" y="26"/>
                  </a:lnTo>
                  <a:lnTo>
                    <a:pt x="318" y="22"/>
                  </a:lnTo>
                  <a:lnTo>
                    <a:pt x="326" y="19"/>
                  </a:lnTo>
                  <a:lnTo>
                    <a:pt x="333" y="16"/>
                  </a:lnTo>
                  <a:lnTo>
                    <a:pt x="339" y="12"/>
                  </a:lnTo>
                  <a:lnTo>
                    <a:pt x="343" y="8"/>
                  </a:lnTo>
                  <a:lnTo>
                    <a:pt x="346" y="4"/>
                  </a:lnTo>
                  <a:lnTo>
                    <a:pt x="34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lanejament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71" name=""/>
          <p:cNvSpPr/>
          <p:nvPr/>
        </p:nvSpPr>
        <p:spPr>
          <a:xfrm>
            <a:off x="498600" y="1674720"/>
            <a:ext cx="1984320" cy="37054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76400" y="1631880"/>
            <a:ext cx="2028960" cy="371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78400" y="1647720"/>
            <a:ext cx="3295800" cy="37054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3360" y="2588040"/>
            <a:ext cx="1800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hecimento básico da tecn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bil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ão preliminar 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8120" y="10976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Estu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17800" y="1832400"/>
            <a:ext cx="210996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namento Téc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ção com 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quação aos pré-requisitos de S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ação dos HW específ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09800" y="10846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Pré-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82920" y="3429000"/>
            <a:ext cx="41112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40280" y="3430440"/>
            <a:ext cx="441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2120" y="10958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Implemen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94240" y="1609200"/>
            <a:ext cx="2193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paração do ambiente de te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ática para identificação de candidatos e análise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ção dos aplicativos candid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vantamento do perfil sem Parallel Sys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437600" y="1812960"/>
            <a:ext cx="1096920" cy="914400"/>
          </a:xfrm>
          <a:prstGeom prst="rect">
            <a:avLst/>
          </a:prstGeom>
          <a:solidFill>
            <a:srgbClr val="ffdd9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50200" y="2970360"/>
            <a:ext cx="1112760" cy="944280"/>
          </a:xfrm>
          <a:prstGeom prst="rect">
            <a:avLst/>
          </a:prstGeom>
          <a:solidFill>
            <a:srgbClr val="ffdd9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66040" y="4114800"/>
            <a:ext cx="1100160" cy="1050840"/>
          </a:xfrm>
          <a:prstGeom prst="rect">
            <a:avLst/>
          </a:prstGeom>
          <a:solidFill>
            <a:srgbClr val="ffdd9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58120" y="30949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7760" y="4358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lanejamento - continuaçã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588" name=""/>
          <p:cNvSpPr/>
          <p:nvPr/>
        </p:nvSpPr>
        <p:spPr>
          <a:xfrm>
            <a:off x="987480" y="1674720"/>
            <a:ext cx="1984320" cy="37054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81480" y="1616040"/>
            <a:ext cx="2028600" cy="371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51440" y="1633680"/>
            <a:ext cx="2259000" cy="3705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92240" y="2286360"/>
            <a:ext cx="180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ção TP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liação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ão  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ão do Planej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64480" y="1097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Te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06680" y="2705760"/>
            <a:ext cx="21099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sic Sys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lel Sys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as facil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080" y="11149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71800" y="3429000"/>
            <a:ext cx="41112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29160" y="3430440"/>
            <a:ext cx="441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04600" y="1127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c0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83120" y="3255840"/>
            <a:ext cx="219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89600" y="2736000"/>
            <a:ext cx="2232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8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ção mais gradual dos passos seguidos no desenvolvim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74680" y="200160"/>
            <a:ext cx="9678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plem. Data Sharing DB2 - Te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tuados testes em Campi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ic Syspl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 com data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ulação de transações IMS/DB2 via TP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es de reco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einamento de 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ultados satisfató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duction Readiness Review com IBM/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da implantação em produção no CTO - São Pa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ção: Outubro/96 a Maio/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246240"/>
            <a:ext cx="9433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plem. Data Sharing DB2 - Produçã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65160" y="124452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em três 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ic Sys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ação dos sistemas SCCC e SGCC como singl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 DB2 Data Sharing One-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tação do DB2 EA I (SCCC) a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llel Sysplex DB2 Data Sharing Thre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tação do DB2 EA II (SGCC) a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são do DB2 EA II no grupo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são do DB2 Bankline no grupo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ção: Junho a Outubro/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2880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DB2 Data Sharing - Resultado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iminados acessos via D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verhead causado pelo DDF é bastante superior ao causado pelo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e 45 % de CPU para transações que utilizavam DDF (representam 8 % do amb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vação de 13 a 17 % para transações com grande volume de acessos sob DB2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geral, verificada elevação de 5 % no consumo IMS DB2, o que representa por volta de 3 % d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188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Estrutura no Itaú c/ DB2 Data Sharing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07" name=""/>
          <p:cNvSpPr/>
          <p:nvPr/>
        </p:nvSpPr>
        <p:spPr>
          <a:xfrm>
            <a:off x="1886040" y="1843200"/>
            <a:ext cx="971640" cy="82368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47840" y="2419200"/>
            <a:ext cx="833760" cy="11480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19720" y="184320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15000" y="1747800"/>
            <a:ext cx="1238400" cy="900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52640" y="2095560"/>
            <a:ext cx="38088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44080" y="287640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052640" y="4724280"/>
          <a:ext cx="83340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472428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7929720" y="1201680"/>
          <a:ext cx="83340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120168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5715000" y="2895480"/>
            <a:ext cx="1238400" cy="9716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44080" y="351936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071960"/>
            <a:ext cx="1238400" cy="9716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19720" y="269568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414828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86040" y="3567240"/>
            <a:ext cx="971640" cy="82368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400480" y="2819520"/>
            <a:ext cx="114120" cy="600120"/>
            <a:chOff x="2400480" y="2819520"/>
            <a:chExt cx="114120" cy="600120"/>
          </a:xfrm>
        </p:grpSpPr>
        <p:sp>
          <p:nvSpPr>
            <p:cNvPr id="624" name=""/>
            <p:cNvSpPr/>
            <p:nvPr/>
          </p:nvSpPr>
          <p:spPr>
            <a:xfrm>
              <a:off x="2400480" y="28195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00480" y="30672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00480" y="33051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8362800" y="4210200"/>
            <a:ext cx="38124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52640" y="382428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33520" y="40006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33520" y="226692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900840" y="5232240"/>
          <a:ext cx="83340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0840" y="523224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5805360" y="1990800"/>
            <a:ext cx="97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 E.A.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05360" y="3086280"/>
            <a:ext cx="97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 E.A. 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15000" y="4400640"/>
            <a:ext cx="11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nk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95960" y="19810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5960" y="28447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43200" y="38116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81360" y="21016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86280" y="2514600"/>
            <a:ext cx="975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53560" y="2444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24480" y="2647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928800" y="1339920"/>
          <a:ext cx="83340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800" y="133992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1603440" y="1614600"/>
            <a:ext cx="3157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746360" y="4373640"/>
            <a:ext cx="50472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03832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10600" y="3005280"/>
            <a:ext cx="38088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429680" y="4191120"/>
            <a:ext cx="38088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191440" y="2324160"/>
            <a:ext cx="685800" cy="24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0080" y="27496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800760" y="1428480"/>
            <a:ext cx="137160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20080" y="17780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20080" y="3911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6648120" y="5029200"/>
            <a:ext cx="476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953400" y="2190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72480" y="2476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934320" y="3147840"/>
            <a:ext cx="4730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953400" y="4381560"/>
            <a:ext cx="49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72480" y="3524400"/>
            <a:ext cx="12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53400" y="4705200"/>
            <a:ext cx="12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838600" y="3486240"/>
            <a:ext cx="30456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8600" y="2438280"/>
            <a:ext cx="31572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981600" y="2266920"/>
            <a:ext cx="438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962520" y="2990520"/>
            <a:ext cx="4381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334120" y="2114280"/>
            <a:ext cx="3618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315040" y="2514600"/>
            <a:ext cx="3808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443880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3543480"/>
            <a:ext cx="53352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95960" y="42926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 Empresa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2160" y="1147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maior banco privado da América 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a com unidades em Nova Iorque e Grand Cay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 no Mercosul e na Comunidade Européia através do Banco Itaú Argentina S.A. e Banco Itaú Europa S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5000 funcio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92 ag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de 8000 pontos de auto atendimento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,2 milhões de transações IMS DB2 por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0 milhões de transações Banco Eletrônico por 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088040" y="1851120"/>
            <a:ext cx="1619280" cy="3128760"/>
            <a:chOff x="7088040" y="1851120"/>
            <a:chExt cx="1619280" cy="3128760"/>
          </a:xfrm>
        </p:grpSpPr>
        <p:sp>
          <p:nvSpPr>
            <p:cNvPr id="105" name=""/>
            <p:cNvSpPr/>
            <p:nvPr/>
          </p:nvSpPr>
          <p:spPr>
            <a:xfrm>
              <a:off x="7494480" y="1851120"/>
              <a:ext cx="1212840" cy="3128760"/>
            </a:xfrm>
            <a:custGeom>
              <a:avLst/>
              <a:gdLst/>
              <a:ahLst/>
              <a:rect l="l" t="t" r="r" b="b"/>
              <a:pathLst>
                <a:path w="764" h="1971">
                  <a:moveTo>
                    <a:pt x="602" y="669"/>
                  </a:moveTo>
                  <a:lnTo>
                    <a:pt x="600" y="665"/>
                  </a:lnTo>
                  <a:lnTo>
                    <a:pt x="589" y="649"/>
                  </a:lnTo>
                  <a:lnTo>
                    <a:pt x="577" y="633"/>
                  </a:lnTo>
                  <a:lnTo>
                    <a:pt x="573" y="626"/>
                  </a:lnTo>
                  <a:lnTo>
                    <a:pt x="571" y="624"/>
                  </a:lnTo>
                  <a:lnTo>
                    <a:pt x="561" y="642"/>
                  </a:lnTo>
                  <a:lnTo>
                    <a:pt x="555" y="657"/>
                  </a:lnTo>
                  <a:lnTo>
                    <a:pt x="555" y="662"/>
                  </a:lnTo>
                  <a:lnTo>
                    <a:pt x="555" y="673"/>
                  </a:lnTo>
                  <a:lnTo>
                    <a:pt x="559" y="699"/>
                  </a:lnTo>
                  <a:lnTo>
                    <a:pt x="563" y="723"/>
                  </a:lnTo>
                  <a:lnTo>
                    <a:pt x="566" y="733"/>
                  </a:lnTo>
                  <a:lnTo>
                    <a:pt x="566" y="737"/>
                  </a:lnTo>
                  <a:lnTo>
                    <a:pt x="571" y="730"/>
                  </a:lnTo>
                  <a:lnTo>
                    <a:pt x="575" y="721"/>
                  </a:lnTo>
                  <a:lnTo>
                    <a:pt x="589" y="701"/>
                  </a:lnTo>
                  <a:lnTo>
                    <a:pt x="600" y="680"/>
                  </a:lnTo>
                  <a:lnTo>
                    <a:pt x="605" y="673"/>
                  </a:lnTo>
                  <a:lnTo>
                    <a:pt x="605" y="671"/>
                  </a:lnTo>
                  <a:lnTo>
                    <a:pt x="602" y="669"/>
                  </a:lnTo>
                  <a:lnTo>
                    <a:pt x="557" y="1868"/>
                  </a:lnTo>
                  <a:lnTo>
                    <a:pt x="559" y="1880"/>
                  </a:lnTo>
                  <a:lnTo>
                    <a:pt x="563" y="1891"/>
                  </a:lnTo>
                  <a:lnTo>
                    <a:pt x="571" y="1902"/>
                  </a:lnTo>
                  <a:lnTo>
                    <a:pt x="577" y="1911"/>
                  </a:lnTo>
                  <a:lnTo>
                    <a:pt x="582" y="1918"/>
                  </a:lnTo>
                  <a:lnTo>
                    <a:pt x="584" y="1925"/>
                  </a:lnTo>
                  <a:lnTo>
                    <a:pt x="582" y="1934"/>
                  </a:lnTo>
                  <a:lnTo>
                    <a:pt x="579" y="1943"/>
                  </a:lnTo>
                  <a:lnTo>
                    <a:pt x="571" y="1952"/>
                  </a:lnTo>
                  <a:lnTo>
                    <a:pt x="559" y="1961"/>
                  </a:lnTo>
                  <a:lnTo>
                    <a:pt x="545" y="1965"/>
                  </a:lnTo>
                  <a:lnTo>
                    <a:pt x="532" y="1970"/>
                  </a:lnTo>
                  <a:lnTo>
                    <a:pt x="516" y="1968"/>
                  </a:lnTo>
                  <a:lnTo>
                    <a:pt x="500" y="1963"/>
                  </a:lnTo>
                  <a:lnTo>
                    <a:pt x="487" y="1957"/>
                  </a:lnTo>
                  <a:lnTo>
                    <a:pt x="476" y="1947"/>
                  </a:lnTo>
                  <a:lnTo>
                    <a:pt x="462" y="1921"/>
                  </a:lnTo>
                  <a:lnTo>
                    <a:pt x="455" y="1909"/>
                  </a:lnTo>
                  <a:lnTo>
                    <a:pt x="446" y="1902"/>
                  </a:lnTo>
                  <a:lnTo>
                    <a:pt x="442" y="1900"/>
                  </a:lnTo>
                  <a:lnTo>
                    <a:pt x="437" y="1895"/>
                  </a:lnTo>
                  <a:lnTo>
                    <a:pt x="432" y="1880"/>
                  </a:lnTo>
                  <a:lnTo>
                    <a:pt x="432" y="1862"/>
                  </a:lnTo>
                  <a:lnTo>
                    <a:pt x="434" y="1850"/>
                  </a:lnTo>
                  <a:lnTo>
                    <a:pt x="416" y="1846"/>
                  </a:lnTo>
                  <a:lnTo>
                    <a:pt x="412" y="1839"/>
                  </a:lnTo>
                  <a:lnTo>
                    <a:pt x="410" y="1830"/>
                  </a:lnTo>
                  <a:lnTo>
                    <a:pt x="412" y="1826"/>
                  </a:lnTo>
                  <a:lnTo>
                    <a:pt x="412" y="1819"/>
                  </a:lnTo>
                  <a:lnTo>
                    <a:pt x="414" y="1808"/>
                  </a:lnTo>
                  <a:lnTo>
                    <a:pt x="414" y="1792"/>
                  </a:lnTo>
                  <a:lnTo>
                    <a:pt x="416" y="1758"/>
                  </a:lnTo>
                  <a:lnTo>
                    <a:pt x="419" y="1719"/>
                  </a:lnTo>
                  <a:lnTo>
                    <a:pt x="419" y="1679"/>
                  </a:lnTo>
                  <a:lnTo>
                    <a:pt x="421" y="1645"/>
                  </a:lnTo>
                  <a:lnTo>
                    <a:pt x="421" y="1631"/>
                  </a:lnTo>
                  <a:lnTo>
                    <a:pt x="421" y="1620"/>
                  </a:lnTo>
                  <a:lnTo>
                    <a:pt x="421" y="1613"/>
                  </a:lnTo>
                  <a:lnTo>
                    <a:pt x="421" y="1609"/>
                  </a:lnTo>
                  <a:lnTo>
                    <a:pt x="421" y="1607"/>
                  </a:lnTo>
                  <a:lnTo>
                    <a:pt x="421" y="1599"/>
                  </a:lnTo>
                  <a:lnTo>
                    <a:pt x="419" y="1581"/>
                  </a:lnTo>
                  <a:lnTo>
                    <a:pt x="416" y="1554"/>
                  </a:lnTo>
                  <a:lnTo>
                    <a:pt x="416" y="1528"/>
                  </a:lnTo>
                  <a:lnTo>
                    <a:pt x="414" y="1498"/>
                  </a:lnTo>
                  <a:lnTo>
                    <a:pt x="414" y="1471"/>
                  </a:lnTo>
                  <a:lnTo>
                    <a:pt x="414" y="1450"/>
                  </a:lnTo>
                  <a:lnTo>
                    <a:pt x="414" y="1446"/>
                  </a:lnTo>
                  <a:lnTo>
                    <a:pt x="416" y="1442"/>
                  </a:lnTo>
                  <a:lnTo>
                    <a:pt x="416" y="1434"/>
                  </a:lnTo>
                  <a:lnTo>
                    <a:pt x="416" y="1428"/>
                  </a:lnTo>
                  <a:lnTo>
                    <a:pt x="410" y="1414"/>
                  </a:lnTo>
                  <a:lnTo>
                    <a:pt x="408" y="1412"/>
                  </a:lnTo>
                  <a:lnTo>
                    <a:pt x="408" y="1405"/>
                  </a:lnTo>
                  <a:lnTo>
                    <a:pt x="403" y="1390"/>
                  </a:lnTo>
                  <a:lnTo>
                    <a:pt x="400" y="1367"/>
                  </a:lnTo>
                  <a:lnTo>
                    <a:pt x="396" y="1340"/>
                  </a:lnTo>
                  <a:lnTo>
                    <a:pt x="389" y="1288"/>
                  </a:lnTo>
                  <a:lnTo>
                    <a:pt x="385" y="1267"/>
                  </a:lnTo>
                  <a:lnTo>
                    <a:pt x="385" y="1254"/>
                  </a:lnTo>
                  <a:lnTo>
                    <a:pt x="381" y="1243"/>
                  </a:lnTo>
                  <a:lnTo>
                    <a:pt x="378" y="1225"/>
                  </a:lnTo>
                  <a:lnTo>
                    <a:pt x="367" y="1180"/>
                  </a:lnTo>
                  <a:lnTo>
                    <a:pt x="360" y="1157"/>
                  </a:lnTo>
                  <a:lnTo>
                    <a:pt x="355" y="1136"/>
                  </a:lnTo>
                  <a:lnTo>
                    <a:pt x="351" y="1121"/>
                  </a:lnTo>
                  <a:lnTo>
                    <a:pt x="349" y="1114"/>
                  </a:lnTo>
                  <a:lnTo>
                    <a:pt x="349" y="1123"/>
                  </a:lnTo>
                  <a:lnTo>
                    <a:pt x="347" y="1136"/>
                  </a:lnTo>
                  <a:lnTo>
                    <a:pt x="344" y="1152"/>
                  </a:lnTo>
                  <a:lnTo>
                    <a:pt x="342" y="1170"/>
                  </a:lnTo>
                  <a:lnTo>
                    <a:pt x="337" y="1214"/>
                  </a:lnTo>
                  <a:lnTo>
                    <a:pt x="331" y="1261"/>
                  </a:lnTo>
                  <a:lnTo>
                    <a:pt x="324" y="1304"/>
                  </a:lnTo>
                  <a:lnTo>
                    <a:pt x="319" y="1345"/>
                  </a:lnTo>
                  <a:lnTo>
                    <a:pt x="317" y="1360"/>
                  </a:lnTo>
                  <a:lnTo>
                    <a:pt x="315" y="1371"/>
                  </a:lnTo>
                  <a:lnTo>
                    <a:pt x="313" y="1381"/>
                  </a:lnTo>
                  <a:lnTo>
                    <a:pt x="310" y="1385"/>
                  </a:lnTo>
                  <a:lnTo>
                    <a:pt x="305" y="1394"/>
                  </a:lnTo>
                  <a:lnTo>
                    <a:pt x="305" y="1403"/>
                  </a:lnTo>
                  <a:lnTo>
                    <a:pt x="310" y="1421"/>
                  </a:lnTo>
                  <a:lnTo>
                    <a:pt x="310" y="1430"/>
                  </a:lnTo>
                  <a:lnTo>
                    <a:pt x="313" y="1448"/>
                  </a:lnTo>
                  <a:lnTo>
                    <a:pt x="315" y="1473"/>
                  </a:lnTo>
                  <a:lnTo>
                    <a:pt x="315" y="1500"/>
                  </a:lnTo>
                  <a:lnTo>
                    <a:pt x="317" y="1554"/>
                  </a:lnTo>
                  <a:lnTo>
                    <a:pt x="315" y="1579"/>
                  </a:lnTo>
                  <a:lnTo>
                    <a:pt x="313" y="1597"/>
                  </a:lnTo>
                  <a:lnTo>
                    <a:pt x="310" y="1615"/>
                  </a:lnTo>
                  <a:lnTo>
                    <a:pt x="308" y="1643"/>
                  </a:lnTo>
                  <a:lnTo>
                    <a:pt x="303" y="1704"/>
                  </a:lnTo>
                  <a:lnTo>
                    <a:pt x="301" y="1733"/>
                  </a:lnTo>
                  <a:lnTo>
                    <a:pt x="301" y="1760"/>
                  </a:lnTo>
                  <a:lnTo>
                    <a:pt x="301" y="1778"/>
                  </a:lnTo>
                  <a:lnTo>
                    <a:pt x="301" y="1785"/>
                  </a:lnTo>
                  <a:lnTo>
                    <a:pt x="301" y="1787"/>
                  </a:lnTo>
                  <a:lnTo>
                    <a:pt x="283" y="1790"/>
                  </a:lnTo>
                  <a:lnTo>
                    <a:pt x="285" y="1794"/>
                  </a:lnTo>
                  <a:lnTo>
                    <a:pt x="285" y="1803"/>
                  </a:lnTo>
                  <a:lnTo>
                    <a:pt x="285" y="1826"/>
                  </a:lnTo>
                  <a:lnTo>
                    <a:pt x="283" y="1848"/>
                  </a:lnTo>
                  <a:lnTo>
                    <a:pt x="281" y="1857"/>
                  </a:lnTo>
                  <a:lnTo>
                    <a:pt x="279" y="1864"/>
                  </a:lnTo>
                  <a:lnTo>
                    <a:pt x="269" y="1864"/>
                  </a:lnTo>
                  <a:lnTo>
                    <a:pt x="260" y="1864"/>
                  </a:lnTo>
                  <a:lnTo>
                    <a:pt x="237" y="1866"/>
                  </a:lnTo>
                  <a:lnTo>
                    <a:pt x="218" y="1866"/>
                  </a:lnTo>
                  <a:lnTo>
                    <a:pt x="210" y="1866"/>
                  </a:lnTo>
                  <a:lnTo>
                    <a:pt x="208" y="1866"/>
                  </a:lnTo>
                  <a:lnTo>
                    <a:pt x="208" y="1848"/>
                  </a:lnTo>
                  <a:lnTo>
                    <a:pt x="199" y="1855"/>
                  </a:lnTo>
                  <a:lnTo>
                    <a:pt x="186" y="1860"/>
                  </a:lnTo>
                  <a:lnTo>
                    <a:pt x="172" y="1864"/>
                  </a:lnTo>
                  <a:lnTo>
                    <a:pt x="161" y="1868"/>
                  </a:lnTo>
                  <a:lnTo>
                    <a:pt x="152" y="1868"/>
                  </a:lnTo>
                  <a:lnTo>
                    <a:pt x="138" y="1871"/>
                  </a:lnTo>
                  <a:lnTo>
                    <a:pt x="97" y="1868"/>
                  </a:lnTo>
                  <a:lnTo>
                    <a:pt x="79" y="1868"/>
                  </a:lnTo>
                  <a:lnTo>
                    <a:pt x="61" y="1868"/>
                  </a:lnTo>
                  <a:lnTo>
                    <a:pt x="47" y="1868"/>
                  </a:lnTo>
                  <a:lnTo>
                    <a:pt x="41" y="1868"/>
                  </a:lnTo>
                  <a:lnTo>
                    <a:pt x="32" y="1866"/>
                  </a:lnTo>
                  <a:lnTo>
                    <a:pt x="23" y="1864"/>
                  </a:lnTo>
                  <a:lnTo>
                    <a:pt x="18" y="1857"/>
                  </a:lnTo>
                  <a:lnTo>
                    <a:pt x="16" y="1850"/>
                  </a:lnTo>
                  <a:lnTo>
                    <a:pt x="16" y="1842"/>
                  </a:lnTo>
                  <a:lnTo>
                    <a:pt x="18" y="1834"/>
                  </a:lnTo>
                  <a:lnTo>
                    <a:pt x="27" y="1830"/>
                  </a:lnTo>
                  <a:lnTo>
                    <a:pt x="39" y="1826"/>
                  </a:lnTo>
                  <a:lnTo>
                    <a:pt x="66" y="1821"/>
                  </a:lnTo>
                  <a:lnTo>
                    <a:pt x="86" y="1814"/>
                  </a:lnTo>
                  <a:lnTo>
                    <a:pt x="104" y="1805"/>
                  </a:lnTo>
                  <a:lnTo>
                    <a:pt x="118" y="1794"/>
                  </a:lnTo>
                  <a:lnTo>
                    <a:pt x="131" y="1785"/>
                  </a:lnTo>
                  <a:lnTo>
                    <a:pt x="145" y="1776"/>
                  </a:lnTo>
                  <a:lnTo>
                    <a:pt x="152" y="1771"/>
                  </a:lnTo>
                  <a:lnTo>
                    <a:pt x="156" y="1771"/>
                  </a:lnTo>
                  <a:lnTo>
                    <a:pt x="147" y="1769"/>
                  </a:lnTo>
                  <a:lnTo>
                    <a:pt x="142" y="1769"/>
                  </a:lnTo>
                  <a:lnTo>
                    <a:pt x="138" y="1769"/>
                  </a:lnTo>
                  <a:lnTo>
                    <a:pt x="140" y="1762"/>
                  </a:lnTo>
                  <a:lnTo>
                    <a:pt x="142" y="1751"/>
                  </a:lnTo>
                  <a:lnTo>
                    <a:pt x="145" y="1737"/>
                  </a:lnTo>
                  <a:lnTo>
                    <a:pt x="147" y="1722"/>
                  </a:lnTo>
                  <a:lnTo>
                    <a:pt x="152" y="1681"/>
                  </a:lnTo>
                  <a:lnTo>
                    <a:pt x="158" y="1636"/>
                  </a:lnTo>
                  <a:lnTo>
                    <a:pt x="168" y="1539"/>
                  </a:lnTo>
                  <a:lnTo>
                    <a:pt x="170" y="1494"/>
                  </a:lnTo>
                  <a:lnTo>
                    <a:pt x="170" y="1455"/>
                  </a:lnTo>
                  <a:lnTo>
                    <a:pt x="168" y="1424"/>
                  </a:lnTo>
                  <a:lnTo>
                    <a:pt x="168" y="1403"/>
                  </a:lnTo>
                  <a:lnTo>
                    <a:pt x="168" y="1387"/>
                  </a:lnTo>
                  <a:lnTo>
                    <a:pt x="168" y="1379"/>
                  </a:lnTo>
                  <a:lnTo>
                    <a:pt x="170" y="1371"/>
                  </a:lnTo>
                  <a:lnTo>
                    <a:pt x="170" y="1369"/>
                  </a:lnTo>
                  <a:lnTo>
                    <a:pt x="172" y="1363"/>
                  </a:lnTo>
                  <a:lnTo>
                    <a:pt x="172" y="1358"/>
                  </a:lnTo>
                  <a:lnTo>
                    <a:pt x="172" y="1345"/>
                  </a:lnTo>
                  <a:lnTo>
                    <a:pt x="172" y="1327"/>
                  </a:lnTo>
                  <a:lnTo>
                    <a:pt x="172" y="1301"/>
                  </a:lnTo>
                  <a:lnTo>
                    <a:pt x="174" y="1274"/>
                  </a:lnTo>
                  <a:lnTo>
                    <a:pt x="174" y="1243"/>
                  </a:lnTo>
                  <a:lnTo>
                    <a:pt x="176" y="1175"/>
                  </a:lnTo>
                  <a:lnTo>
                    <a:pt x="179" y="1107"/>
                  </a:lnTo>
                  <a:lnTo>
                    <a:pt x="179" y="1076"/>
                  </a:lnTo>
                  <a:lnTo>
                    <a:pt x="181" y="1049"/>
                  </a:lnTo>
                  <a:lnTo>
                    <a:pt x="181" y="1024"/>
                  </a:lnTo>
                  <a:lnTo>
                    <a:pt x="184" y="1003"/>
                  </a:lnTo>
                  <a:lnTo>
                    <a:pt x="184" y="987"/>
                  </a:lnTo>
                  <a:lnTo>
                    <a:pt x="184" y="981"/>
                  </a:lnTo>
                  <a:lnTo>
                    <a:pt x="163" y="974"/>
                  </a:lnTo>
                  <a:lnTo>
                    <a:pt x="152" y="971"/>
                  </a:lnTo>
                  <a:lnTo>
                    <a:pt x="147" y="967"/>
                  </a:lnTo>
                  <a:lnTo>
                    <a:pt x="147" y="963"/>
                  </a:lnTo>
                  <a:lnTo>
                    <a:pt x="150" y="953"/>
                  </a:lnTo>
                  <a:lnTo>
                    <a:pt x="152" y="933"/>
                  </a:lnTo>
                  <a:lnTo>
                    <a:pt x="156" y="906"/>
                  </a:lnTo>
                  <a:lnTo>
                    <a:pt x="161" y="877"/>
                  </a:lnTo>
                  <a:lnTo>
                    <a:pt x="165" y="848"/>
                  </a:lnTo>
                  <a:lnTo>
                    <a:pt x="168" y="822"/>
                  </a:lnTo>
                  <a:lnTo>
                    <a:pt x="170" y="802"/>
                  </a:lnTo>
                  <a:lnTo>
                    <a:pt x="172" y="796"/>
                  </a:lnTo>
                  <a:lnTo>
                    <a:pt x="172" y="791"/>
                  </a:lnTo>
                  <a:lnTo>
                    <a:pt x="154" y="788"/>
                  </a:lnTo>
                  <a:lnTo>
                    <a:pt x="129" y="782"/>
                  </a:lnTo>
                  <a:lnTo>
                    <a:pt x="73" y="768"/>
                  </a:lnTo>
                  <a:lnTo>
                    <a:pt x="45" y="762"/>
                  </a:lnTo>
                  <a:lnTo>
                    <a:pt x="21" y="754"/>
                  </a:lnTo>
                  <a:lnTo>
                    <a:pt x="5" y="750"/>
                  </a:lnTo>
                  <a:lnTo>
                    <a:pt x="0" y="750"/>
                  </a:lnTo>
                  <a:lnTo>
                    <a:pt x="0" y="741"/>
                  </a:lnTo>
                  <a:lnTo>
                    <a:pt x="5" y="725"/>
                  </a:lnTo>
                  <a:lnTo>
                    <a:pt x="7" y="705"/>
                  </a:lnTo>
                  <a:lnTo>
                    <a:pt x="11" y="683"/>
                  </a:lnTo>
                  <a:lnTo>
                    <a:pt x="18" y="639"/>
                  </a:lnTo>
                  <a:lnTo>
                    <a:pt x="21" y="624"/>
                  </a:lnTo>
                  <a:lnTo>
                    <a:pt x="21" y="615"/>
                  </a:lnTo>
                  <a:lnTo>
                    <a:pt x="43" y="621"/>
                  </a:lnTo>
                  <a:lnTo>
                    <a:pt x="68" y="628"/>
                  </a:lnTo>
                  <a:lnTo>
                    <a:pt x="93" y="635"/>
                  </a:lnTo>
                  <a:lnTo>
                    <a:pt x="111" y="637"/>
                  </a:lnTo>
                  <a:lnTo>
                    <a:pt x="138" y="642"/>
                  </a:lnTo>
                  <a:lnTo>
                    <a:pt x="152" y="642"/>
                  </a:lnTo>
                  <a:lnTo>
                    <a:pt x="154" y="639"/>
                  </a:lnTo>
                  <a:lnTo>
                    <a:pt x="154" y="637"/>
                  </a:lnTo>
                  <a:lnTo>
                    <a:pt x="150" y="631"/>
                  </a:lnTo>
                  <a:lnTo>
                    <a:pt x="147" y="628"/>
                  </a:lnTo>
                  <a:lnTo>
                    <a:pt x="147" y="624"/>
                  </a:lnTo>
                  <a:lnTo>
                    <a:pt x="150" y="619"/>
                  </a:lnTo>
                  <a:lnTo>
                    <a:pt x="156" y="613"/>
                  </a:lnTo>
                  <a:lnTo>
                    <a:pt x="163" y="610"/>
                  </a:lnTo>
                  <a:lnTo>
                    <a:pt x="165" y="608"/>
                  </a:lnTo>
                  <a:lnTo>
                    <a:pt x="161" y="605"/>
                  </a:lnTo>
                  <a:lnTo>
                    <a:pt x="156" y="599"/>
                  </a:lnTo>
                  <a:lnTo>
                    <a:pt x="156" y="587"/>
                  </a:lnTo>
                  <a:lnTo>
                    <a:pt x="161" y="554"/>
                  </a:lnTo>
                  <a:lnTo>
                    <a:pt x="168" y="520"/>
                  </a:lnTo>
                  <a:lnTo>
                    <a:pt x="170" y="508"/>
                  </a:lnTo>
                  <a:lnTo>
                    <a:pt x="172" y="502"/>
                  </a:lnTo>
                  <a:lnTo>
                    <a:pt x="170" y="495"/>
                  </a:lnTo>
                  <a:lnTo>
                    <a:pt x="170" y="488"/>
                  </a:lnTo>
                  <a:lnTo>
                    <a:pt x="168" y="463"/>
                  </a:lnTo>
                  <a:lnTo>
                    <a:pt x="165" y="440"/>
                  </a:lnTo>
                  <a:lnTo>
                    <a:pt x="165" y="432"/>
                  </a:lnTo>
                  <a:lnTo>
                    <a:pt x="163" y="427"/>
                  </a:lnTo>
                  <a:lnTo>
                    <a:pt x="163" y="422"/>
                  </a:lnTo>
                  <a:lnTo>
                    <a:pt x="165" y="416"/>
                  </a:lnTo>
                  <a:lnTo>
                    <a:pt x="179" y="396"/>
                  </a:lnTo>
                  <a:lnTo>
                    <a:pt x="195" y="377"/>
                  </a:lnTo>
                  <a:lnTo>
                    <a:pt x="202" y="371"/>
                  </a:lnTo>
                  <a:lnTo>
                    <a:pt x="206" y="366"/>
                  </a:lnTo>
                  <a:lnTo>
                    <a:pt x="213" y="362"/>
                  </a:lnTo>
                  <a:lnTo>
                    <a:pt x="222" y="355"/>
                  </a:lnTo>
                  <a:lnTo>
                    <a:pt x="240" y="341"/>
                  </a:lnTo>
                  <a:lnTo>
                    <a:pt x="260" y="325"/>
                  </a:lnTo>
                  <a:lnTo>
                    <a:pt x="267" y="319"/>
                  </a:lnTo>
                  <a:lnTo>
                    <a:pt x="269" y="317"/>
                  </a:lnTo>
                  <a:lnTo>
                    <a:pt x="271" y="307"/>
                  </a:lnTo>
                  <a:lnTo>
                    <a:pt x="271" y="299"/>
                  </a:lnTo>
                  <a:lnTo>
                    <a:pt x="269" y="291"/>
                  </a:lnTo>
                  <a:lnTo>
                    <a:pt x="258" y="287"/>
                  </a:lnTo>
                  <a:lnTo>
                    <a:pt x="245" y="283"/>
                  </a:lnTo>
                  <a:lnTo>
                    <a:pt x="240" y="273"/>
                  </a:lnTo>
                  <a:lnTo>
                    <a:pt x="240" y="262"/>
                  </a:lnTo>
                  <a:lnTo>
                    <a:pt x="242" y="251"/>
                  </a:lnTo>
                  <a:lnTo>
                    <a:pt x="245" y="246"/>
                  </a:lnTo>
                  <a:lnTo>
                    <a:pt x="240" y="240"/>
                  </a:lnTo>
                  <a:lnTo>
                    <a:pt x="240" y="231"/>
                  </a:lnTo>
                  <a:lnTo>
                    <a:pt x="245" y="220"/>
                  </a:lnTo>
                  <a:lnTo>
                    <a:pt x="245" y="204"/>
                  </a:lnTo>
                  <a:lnTo>
                    <a:pt x="245" y="199"/>
                  </a:lnTo>
                  <a:lnTo>
                    <a:pt x="237" y="199"/>
                  </a:lnTo>
                  <a:lnTo>
                    <a:pt x="233" y="197"/>
                  </a:lnTo>
                  <a:lnTo>
                    <a:pt x="229" y="194"/>
                  </a:lnTo>
                  <a:lnTo>
                    <a:pt x="229" y="186"/>
                  </a:lnTo>
                  <a:lnTo>
                    <a:pt x="231" y="181"/>
                  </a:lnTo>
                  <a:lnTo>
                    <a:pt x="237" y="176"/>
                  </a:lnTo>
                  <a:lnTo>
                    <a:pt x="242" y="170"/>
                  </a:lnTo>
                  <a:lnTo>
                    <a:pt x="245" y="158"/>
                  </a:lnTo>
                  <a:lnTo>
                    <a:pt x="249" y="149"/>
                  </a:lnTo>
                  <a:lnTo>
                    <a:pt x="251" y="142"/>
                  </a:lnTo>
                  <a:lnTo>
                    <a:pt x="249" y="142"/>
                  </a:lnTo>
                  <a:lnTo>
                    <a:pt x="247" y="140"/>
                  </a:lnTo>
                  <a:lnTo>
                    <a:pt x="245" y="136"/>
                  </a:lnTo>
                  <a:lnTo>
                    <a:pt x="245" y="129"/>
                  </a:lnTo>
                  <a:lnTo>
                    <a:pt x="247" y="111"/>
                  </a:lnTo>
                  <a:lnTo>
                    <a:pt x="253" y="93"/>
                  </a:lnTo>
                  <a:lnTo>
                    <a:pt x="260" y="79"/>
                  </a:lnTo>
                  <a:lnTo>
                    <a:pt x="249" y="68"/>
                  </a:lnTo>
                  <a:lnTo>
                    <a:pt x="245" y="52"/>
                  </a:lnTo>
                  <a:lnTo>
                    <a:pt x="245" y="45"/>
                  </a:lnTo>
                  <a:lnTo>
                    <a:pt x="247" y="39"/>
                  </a:lnTo>
                  <a:lnTo>
                    <a:pt x="253" y="37"/>
                  </a:lnTo>
                  <a:lnTo>
                    <a:pt x="263" y="34"/>
                  </a:lnTo>
                  <a:lnTo>
                    <a:pt x="287" y="30"/>
                  </a:lnTo>
                  <a:lnTo>
                    <a:pt x="310" y="19"/>
                  </a:lnTo>
                  <a:lnTo>
                    <a:pt x="331" y="7"/>
                  </a:lnTo>
                  <a:lnTo>
                    <a:pt x="342" y="3"/>
                  </a:lnTo>
                  <a:lnTo>
                    <a:pt x="355" y="0"/>
                  </a:lnTo>
                  <a:lnTo>
                    <a:pt x="373" y="0"/>
                  </a:lnTo>
                  <a:lnTo>
                    <a:pt x="385" y="5"/>
                  </a:lnTo>
                  <a:lnTo>
                    <a:pt x="394" y="9"/>
                  </a:lnTo>
                  <a:lnTo>
                    <a:pt x="403" y="16"/>
                  </a:lnTo>
                  <a:lnTo>
                    <a:pt x="410" y="30"/>
                  </a:lnTo>
                  <a:lnTo>
                    <a:pt x="434" y="32"/>
                  </a:lnTo>
                  <a:lnTo>
                    <a:pt x="444" y="37"/>
                  </a:lnTo>
                  <a:lnTo>
                    <a:pt x="446" y="45"/>
                  </a:lnTo>
                  <a:lnTo>
                    <a:pt x="448" y="59"/>
                  </a:lnTo>
                  <a:lnTo>
                    <a:pt x="455" y="71"/>
                  </a:lnTo>
                  <a:lnTo>
                    <a:pt x="460" y="79"/>
                  </a:lnTo>
                  <a:lnTo>
                    <a:pt x="466" y="86"/>
                  </a:lnTo>
                  <a:lnTo>
                    <a:pt x="468" y="90"/>
                  </a:lnTo>
                  <a:lnTo>
                    <a:pt x="471" y="97"/>
                  </a:lnTo>
                  <a:lnTo>
                    <a:pt x="476" y="118"/>
                  </a:lnTo>
                  <a:lnTo>
                    <a:pt x="478" y="140"/>
                  </a:lnTo>
                  <a:lnTo>
                    <a:pt x="478" y="149"/>
                  </a:lnTo>
                  <a:lnTo>
                    <a:pt x="476" y="156"/>
                  </a:lnTo>
                  <a:lnTo>
                    <a:pt x="473" y="170"/>
                  </a:lnTo>
                  <a:lnTo>
                    <a:pt x="476" y="192"/>
                  </a:lnTo>
                  <a:lnTo>
                    <a:pt x="473" y="204"/>
                  </a:lnTo>
                  <a:lnTo>
                    <a:pt x="468" y="215"/>
                  </a:lnTo>
                  <a:lnTo>
                    <a:pt x="457" y="228"/>
                  </a:lnTo>
                  <a:lnTo>
                    <a:pt x="439" y="240"/>
                  </a:lnTo>
                  <a:lnTo>
                    <a:pt x="430" y="251"/>
                  </a:lnTo>
                  <a:lnTo>
                    <a:pt x="428" y="262"/>
                  </a:lnTo>
                  <a:lnTo>
                    <a:pt x="426" y="273"/>
                  </a:lnTo>
                  <a:lnTo>
                    <a:pt x="421" y="278"/>
                  </a:lnTo>
                  <a:lnTo>
                    <a:pt x="446" y="299"/>
                  </a:lnTo>
                  <a:lnTo>
                    <a:pt x="460" y="307"/>
                  </a:lnTo>
                  <a:lnTo>
                    <a:pt x="464" y="314"/>
                  </a:lnTo>
                  <a:lnTo>
                    <a:pt x="468" y="319"/>
                  </a:lnTo>
                  <a:lnTo>
                    <a:pt x="478" y="323"/>
                  </a:lnTo>
                  <a:lnTo>
                    <a:pt x="507" y="335"/>
                  </a:lnTo>
                  <a:lnTo>
                    <a:pt x="539" y="343"/>
                  </a:lnTo>
                  <a:lnTo>
                    <a:pt x="550" y="348"/>
                  </a:lnTo>
                  <a:lnTo>
                    <a:pt x="557" y="348"/>
                  </a:lnTo>
                  <a:lnTo>
                    <a:pt x="563" y="351"/>
                  </a:lnTo>
                  <a:lnTo>
                    <a:pt x="575" y="355"/>
                  </a:lnTo>
                  <a:lnTo>
                    <a:pt x="589" y="362"/>
                  </a:lnTo>
                  <a:lnTo>
                    <a:pt x="611" y="369"/>
                  </a:lnTo>
                  <a:lnTo>
                    <a:pt x="618" y="375"/>
                  </a:lnTo>
                  <a:lnTo>
                    <a:pt x="625" y="380"/>
                  </a:lnTo>
                  <a:lnTo>
                    <a:pt x="627" y="391"/>
                  </a:lnTo>
                  <a:lnTo>
                    <a:pt x="625" y="400"/>
                  </a:lnTo>
                  <a:lnTo>
                    <a:pt x="623" y="403"/>
                  </a:lnTo>
                  <a:lnTo>
                    <a:pt x="625" y="407"/>
                  </a:lnTo>
                  <a:lnTo>
                    <a:pt x="627" y="416"/>
                  </a:lnTo>
                  <a:lnTo>
                    <a:pt x="636" y="438"/>
                  </a:lnTo>
                  <a:lnTo>
                    <a:pt x="650" y="468"/>
                  </a:lnTo>
                  <a:lnTo>
                    <a:pt x="665" y="500"/>
                  </a:lnTo>
                  <a:lnTo>
                    <a:pt x="695" y="565"/>
                  </a:lnTo>
                  <a:lnTo>
                    <a:pt x="708" y="594"/>
                  </a:lnTo>
                  <a:lnTo>
                    <a:pt x="718" y="615"/>
                  </a:lnTo>
                  <a:lnTo>
                    <a:pt x="731" y="644"/>
                  </a:lnTo>
                  <a:lnTo>
                    <a:pt x="742" y="669"/>
                  </a:lnTo>
                  <a:lnTo>
                    <a:pt x="749" y="689"/>
                  </a:lnTo>
                  <a:lnTo>
                    <a:pt x="756" y="701"/>
                  </a:lnTo>
                  <a:lnTo>
                    <a:pt x="760" y="712"/>
                  </a:lnTo>
                  <a:lnTo>
                    <a:pt x="763" y="730"/>
                  </a:lnTo>
                  <a:lnTo>
                    <a:pt x="760" y="739"/>
                  </a:lnTo>
                  <a:lnTo>
                    <a:pt x="756" y="746"/>
                  </a:lnTo>
                  <a:lnTo>
                    <a:pt x="747" y="752"/>
                  </a:lnTo>
                  <a:lnTo>
                    <a:pt x="734" y="759"/>
                  </a:lnTo>
                  <a:lnTo>
                    <a:pt x="734" y="762"/>
                  </a:lnTo>
                  <a:lnTo>
                    <a:pt x="729" y="766"/>
                  </a:lnTo>
                  <a:lnTo>
                    <a:pt x="718" y="782"/>
                  </a:lnTo>
                  <a:lnTo>
                    <a:pt x="699" y="802"/>
                  </a:lnTo>
                  <a:lnTo>
                    <a:pt x="677" y="825"/>
                  </a:lnTo>
                  <a:lnTo>
                    <a:pt x="627" y="872"/>
                  </a:lnTo>
                  <a:lnTo>
                    <a:pt x="605" y="890"/>
                  </a:lnTo>
                  <a:lnTo>
                    <a:pt x="586" y="902"/>
                  </a:lnTo>
                  <a:lnTo>
                    <a:pt x="586" y="913"/>
                  </a:lnTo>
                  <a:lnTo>
                    <a:pt x="586" y="929"/>
                  </a:lnTo>
                  <a:lnTo>
                    <a:pt x="589" y="960"/>
                  </a:lnTo>
                  <a:lnTo>
                    <a:pt x="589" y="992"/>
                  </a:lnTo>
                  <a:lnTo>
                    <a:pt x="589" y="1005"/>
                  </a:lnTo>
                  <a:lnTo>
                    <a:pt x="586" y="1017"/>
                  </a:lnTo>
                  <a:lnTo>
                    <a:pt x="582" y="1024"/>
                  </a:lnTo>
                  <a:lnTo>
                    <a:pt x="579" y="1028"/>
                  </a:lnTo>
                  <a:lnTo>
                    <a:pt x="577" y="1033"/>
                  </a:lnTo>
                  <a:lnTo>
                    <a:pt x="566" y="1026"/>
                  </a:lnTo>
                  <a:lnTo>
                    <a:pt x="555" y="1017"/>
                  </a:lnTo>
                  <a:lnTo>
                    <a:pt x="552" y="1013"/>
                  </a:lnTo>
                  <a:lnTo>
                    <a:pt x="552" y="1028"/>
                  </a:lnTo>
                  <a:lnTo>
                    <a:pt x="552" y="1046"/>
                  </a:lnTo>
                  <a:lnTo>
                    <a:pt x="552" y="1071"/>
                  </a:lnTo>
                  <a:lnTo>
                    <a:pt x="552" y="1096"/>
                  </a:lnTo>
                  <a:lnTo>
                    <a:pt x="555" y="1157"/>
                  </a:lnTo>
                  <a:lnTo>
                    <a:pt x="555" y="1222"/>
                  </a:lnTo>
                  <a:lnTo>
                    <a:pt x="555" y="1285"/>
                  </a:lnTo>
                  <a:lnTo>
                    <a:pt x="555" y="1315"/>
                  </a:lnTo>
                  <a:lnTo>
                    <a:pt x="555" y="1340"/>
                  </a:lnTo>
                  <a:lnTo>
                    <a:pt x="555" y="1363"/>
                  </a:lnTo>
                  <a:lnTo>
                    <a:pt x="555" y="1379"/>
                  </a:lnTo>
                  <a:lnTo>
                    <a:pt x="552" y="1390"/>
                  </a:lnTo>
                  <a:lnTo>
                    <a:pt x="552" y="1396"/>
                  </a:lnTo>
                  <a:lnTo>
                    <a:pt x="545" y="1412"/>
                  </a:lnTo>
                  <a:lnTo>
                    <a:pt x="543" y="1419"/>
                  </a:lnTo>
                  <a:lnTo>
                    <a:pt x="543" y="1424"/>
                  </a:lnTo>
                  <a:lnTo>
                    <a:pt x="545" y="1428"/>
                  </a:lnTo>
                  <a:lnTo>
                    <a:pt x="548" y="1439"/>
                  </a:lnTo>
                  <a:lnTo>
                    <a:pt x="548" y="1457"/>
                  </a:lnTo>
                  <a:lnTo>
                    <a:pt x="550" y="1482"/>
                  </a:lnTo>
                  <a:lnTo>
                    <a:pt x="552" y="1510"/>
                  </a:lnTo>
                  <a:lnTo>
                    <a:pt x="555" y="1541"/>
                  </a:lnTo>
                  <a:lnTo>
                    <a:pt x="559" y="1609"/>
                  </a:lnTo>
                  <a:lnTo>
                    <a:pt x="563" y="1677"/>
                  </a:lnTo>
                  <a:lnTo>
                    <a:pt x="566" y="1708"/>
                  </a:lnTo>
                  <a:lnTo>
                    <a:pt x="568" y="1735"/>
                  </a:lnTo>
                  <a:lnTo>
                    <a:pt x="568" y="1760"/>
                  </a:lnTo>
                  <a:lnTo>
                    <a:pt x="571" y="1780"/>
                  </a:lnTo>
                  <a:lnTo>
                    <a:pt x="571" y="1794"/>
                  </a:lnTo>
                  <a:lnTo>
                    <a:pt x="571" y="1801"/>
                  </a:lnTo>
                  <a:lnTo>
                    <a:pt x="573" y="1821"/>
                  </a:lnTo>
                  <a:lnTo>
                    <a:pt x="573" y="1834"/>
                  </a:lnTo>
                  <a:lnTo>
                    <a:pt x="573" y="1846"/>
                  </a:lnTo>
                  <a:lnTo>
                    <a:pt x="573" y="1853"/>
                  </a:lnTo>
                  <a:lnTo>
                    <a:pt x="568" y="1862"/>
                  </a:lnTo>
                  <a:lnTo>
                    <a:pt x="559" y="1866"/>
                  </a:lnTo>
                  <a:lnTo>
                    <a:pt x="550" y="1868"/>
                  </a:lnTo>
                  <a:lnTo>
                    <a:pt x="557" y="1868"/>
                  </a:lnTo>
                  <a:lnTo>
                    <a:pt x="602" y="6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8040" y="2543040"/>
              <a:ext cx="441360" cy="475920"/>
            </a:xfrm>
            <a:custGeom>
              <a:avLst/>
              <a:gdLst/>
              <a:ahLst/>
              <a:rect l="l" t="t" r="r" b="b"/>
              <a:pathLst>
                <a:path w="278" h="300">
                  <a:moveTo>
                    <a:pt x="258" y="299"/>
                  </a:moveTo>
                  <a:lnTo>
                    <a:pt x="247" y="292"/>
                  </a:lnTo>
                  <a:lnTo>
                    <a:pt x="240" y="288"/>
                  </a:lnTo>
                  <a:lnTo>
                    <a:pt x="238" y="286"/>
                  </a:lnTo>
                  <a:lnTo>
                    <a:pt x="240" y="258"/>
                  </a:lnTo>
                  <a:lnTo>
                    <a:pt x="236" y="260"/>
                  </a:lnTo>
                  <a:lnTo>
                    <a:pt x="229" y="260"/>
                  </a:lnTo>
                  <a:lnTo>
                    <a:pt x="206" y="265"/>
                  </a:lnTo>
                  <a:lnTo>
                    <a:pt x="186" y="267"/>
                  </a:lnTo>
                  <a:lnTo>
                    <a:pt x="177" y="267"/>
                  </a:lnTo>
                  <a:lnTo>
                    <a:pt x="175" y="267"/>
                  </a:lnTo>
                  <a:lnTo>
                    <a:pt x="166" y="270"/>
                  </a:lnTo>
                  <a:lnTo>
                    <a:pt x="154" y="267"/>
                  </a:lnTo>
                  <a:lnTo>
                    <a:pt x="139" y="263"/>
                  </a:lnTo>
                  <a:lnTo>
                    <a:pt x="132" y="258"/>
                  </a:lnTo>
                  <a:lnTo>
                    <a:pt x="129" y="254"/>
                  </a:lnTo>
                  <a:lnTo>
                    <a:pt x="125" y="244"/>
                  </a:lnTo>
                  <a:lnTo>
                    <a:pt x="127" y="242"/>
                  </a:lnTo>
                  <a:lnTo>
                    <a:pt x="132" y="240"/>
                  </a:lnTo>
                  <a:lnTo>
                    <a:pt x="121" y="236"/>
                  </a:lnTo>
                  <a:lnTo>
                    <a:pt x="111" y="229"/>
                  </a:lnTo>
                  <a:lnTo>
                    <a:pt x="111" y="224"/>
                  </a:lnTo>
                  <a:lnTo>
                    <a:pt x="111" y="222"/>
                  </a:lnTo>
                  <a:lnTo>
                    <a:pt x="116" y="218"/>
                  </a:lnTo>
                  <a:lnTo>
                    <a:pt x="123" y="218"/>
                  </a:lnTo>
                  <a:lnTo>
                    <a:pt x="109" y="215"/>
                  </a:lnTo>
                  <a:lnTo>
                    <a:pt x="100" y="208"/>
                  </a:lnTo>
                  <a:lnTo>
                    <a:pt x="100" y="204"/>
                  </a:lnTo>
                  <a:lnTo>
                    <a:pt x="100" y="199"/>
                  </a:lnTo>
                  <a:lnTo>
                    <a:pt x="105" y="197"/>
                  </a:lnTo>
                  <a:lnTo>
                    <a:pt x="114" y="195"/>
                  </a:lnTo>
                  <a:lnTo>
                    <a:pt x="103" y="190"/>
                  </a:lnTo>
                  <a:lnTo>
                    <a:pt x="95" y="184"/>
                  </a:lnTo>
                  <a:lnTo>
                    <a:pt x="95" y="179"/>
                  </a:lnTo>
                  <a:lnTo>
                    <a:pt x="98" y="174"/>
                  </a:lnTo>
                  <a:lnTo>
                    <a:pt x="107" y="172"/>
                  </a:lnTo>
                  <a:lnTo>
                    <a:pt x="118" y="170"/>
                  </a:lnTo>
                  <a:lnTo>
                    <a:pt x="114" y="166"/>
                  </a:lnTo>
                  <a:lnTo>
                    <a:pt x="109" y="158"/>
                  </a:lnTo>
                  <a:lnTo>
                    <a:pt x="95" y="138"/>
                  </a:lnTo>
                  <a:lnTo>
                    <a:pt x="75" y="111"/>
                  </a:lnTo>
                  <a:lnTo>
                    <a:pt x="55" y="81"/>
                  </a:lnTo>
                  <a:lnTo>
                    <a:pt x="35" y="52"/>
                  </a:lnTo>
                  <a:lnTo>
                    <a:pt x="16" y="27"/>
                  </a:lnTo>
                  <a:lnTo>
                    <a:pt x="9" y="18"/>
                  </a:lnTo>
                  <a:lnTo>
                    <a:pt x="5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2" y="161"/>
                  </a:lnTo>
                  <a:lnTo>
                    <a:pt x="132" y="152"/>
                  </a:lnTo>
                  <a:lnTo>
                    <a:pt x="134" y="150"/>
                  </a:lnTo>
                  <a:lnTo>
                    <a:pt x="140" y="152"/>
                  </a:lnTo>
                  <a:lnTo>
                    <a:pt x="156" y="158"/>
                  </a:lnTo>
                  <a:lnTo>
                    <a:pt x="163" y="158"/>
                  </a:lnTo>
                  <a:lnTo>
                    <a:pt x="168" y="158"/>
                  </a:lnTo>
                  <a:lnTo>
                    <a:pt x="175" y="156"/>
                  </a:lnTo>
                  <a:lnTo>
                    <a:pt x="182" y="161"/>
                  </a:lnTo>
                  <a:lnTo>
                    <a:pt x="190" y="163"/>
                  </a:lnTo>
                  <a:lnTo>
                    <a:pt x="204" y="163"/>
                  </a:lnTo>
                  <a:lnTo>
                    <a:pt x="213" y="166"/>
                  </a:lnTo>
                  <a:lnTo>
                    <a:pt x="227" y="172"/>
                  </a:lnTo>
                  <a:lnTo>
                    <a:pt x="240" y="181"/>
                  </a:lnTo>
                  <a:lnTo>
                    <a:pt x="247" y="190"/>
                  </a:lnTo>
                  <a:lnTo>
                    <a:pt x="250" y="192"/>
                  </a:lnTo>
                  <a:lnTo>
                    <a:pt x="250" y="190"/>
                  </a:lnTo>
                  <a:lnTo>
                    <a:pt x="250" y="186"/>
                  </a:lnTo>
                  <a:lnTo>
                    <a:pt x="252" y="179"/>
                  </a:lnTo>
                  <a:lnTo>
                    <a:pt x="258" y="181"/>
                  </a:lnTo>
                  <a:lnTo>
                    <a:pt x="266" y="184"/>
                  </a:lnTo>
                  <a:lnTo>
                    <a:pt x="274" y="186"/>
                  </a:lnTo>
                  <a:lnTo>
                    <a:pt x="277" y="188"/>
                  </a:lnTo>
                  <a:lnTo>
                    <a:pt x="277" y="192"/>
                  </a:lnTo>
                  <a:lnTo>
                    <a:pt x="274" y="204"/>
                  </a:lnTo>
                  <a:lnTo>
                    <a:pt x="272" y="220"/>
                  </a:lnTo>
                  <a:lnTo>
                    <a:pt x="268" y="240"/>
                  </a:lnTo>
                  <a:lnTo>
                    <a:pt x="266" y="260"/>
                  </a:lnTo>
                  <a:lnTo>
                    <a:pt x="261" y="278"/>
                  </a:lnTo>
                  <a:lnTo>
                    <a:pt x="258" y="290"/>
                  </a:lnTo>
                  <a:lnTo>
                    <a:pt x="258" y="297"/>
                  </a:lnTo>
                  <a:lnTo>
                    <a:pt x="258" y="2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81720" y="2855880"/>
              <a:ext cx="77760" cy="3276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34" y="0"/>
                  </a:moveTo>
                  <a:lnTo>
                    <a:pt x="43" y="5"/>
                  </a:lnTo>
                  <a:lnTo>
                    <a:pt x="48" y="11"/>
                  </a:lnTo>
                  <a:lnTo>
                    <a:pt x="48" y="15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14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10520" y="2919240"/>
              <a:ext cx="68040" cy="345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30" y="0"/>
                  </a:moveTo>
                  <a:lnTo>
                    <a:pt x="37" y="3"/>
                  </a:lnTo>
                  <a:lnTo>
                    <a:pt x="42" y="7"/>
                  </a:lnTo>
                  <a:lnTo>
                    <a:pt x="39" y="14"/>
                  </a:lnTo>
                  <a:lnTo>
                    <a:pt x="33" y="16"/>
                  </a:lnTo>
                  <a:lnTo>
                    <a:pt x="12" y="21"/>
                  </a:lnTo>
                  <a:lnTo>
                    <a:pt x="0" y="21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76280" y="262080"/>
            <a:ext cx="819936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plem. Data Sharing IMS - Produçã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o Parallel Sysplex Desenvolvimento em Campi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B2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IMS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es IMS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ulação de transações via T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tuados e documentados testes de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e carga através do GRBE-Fron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ibilização do ambiente para as áreas de 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tivos IMS/DB2 já são homologados sob data sharing antes de entrarem em produ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duction Readiness Review com IBM/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antação do IMS 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são dos demais sistemas no Parallel Sysplex, preparando a exploração de outras fac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es com Tape Sharing com resultados satisfatórios e implantação nos sistemas do 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 plano para implementar IMS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IMS Data Sharing nos três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stituição PI por IR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LM local - SHR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LM global - SHR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HRLEV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gradativa de carga de carga via GRBE-Front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ção: Junho a Outubro/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97128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plem. Data Sharing IMS - Produção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  <p:transition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458280"/>
            <a:ext cx="8352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S Data Sharing - Resultados esperados</a:t>
            </a:r>
            <a:r>
              <a:rPr b="1" i="1" lang="pt-BR" sz="3200" spc="-1" strike="noStrike">
                <a:solidFill>
                  <a:srgbClr val="000000"/>
                </a:solidFill>
                <a:latin typeface="Univers (WN)"/>
              </a:rPr>
              <a:t>	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verhead causado pelo IMS Data Sharing deve situar-se entre 10 e 15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ide apenas sobre o workload IMS/DB (por volta de 10 % do ambiente IMS/DB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facilidade para distribuiçã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exibilidade para crescimento do ambiente sem a necessidade de segmentá-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47720" y="2318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Estrutura no Itaú c/ IMS Data Sharing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678" name=""/>
          <p:cNvSpPr/>
          <p:nvPr/>
        </p:nvSpPr>
        <p:spPr>
          <a:xfrm>
            <a:off x="1886040" y="1843200"/>
            <a:ext cx="971640" cy="82368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47840" y="2419200"/>
            <a:ext cx="833760" cy="11480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19720" y="184320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5000" y="1747800"/>
            <a:ext cx="1238400" cy="900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52640" y="2095560"/>
            <a:ext cx="38088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44080" y="287640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052640" y="4724280"/>
          <a:ext cx="83340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472428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7929720" y="1201680"/>
          <a:ext cx="83340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120168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5715000" y="2895480"/>
            <a:ext cx="1238400" cy="9716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44080" y="351936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15000" y="4071960"/>
            <a:ext cx="1238400" cy="97164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69568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4148280"/>
            <a:ext cx="914400" cy="57600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86040" y="3567240"/>
            <a:ext cx="971640" cy="82368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400480" y="2819520"/>
            <a:ext cx="114120" cy="600120"/>
            <a:chOff x="2400480" y="2819520"/>
            <a:chExt cx="114120" cy="600120"/>
          </a:xfrm>
        </p:grpSpPr>
        <p:sp>
          <p:nvSpPr>
            <p:cNvPr id="695" name=""/>
            <p:cNvSpPr/>
            <p:nvPr/>
          </p:nvSpPr>
          <p:spPr>
            <a:xfrm>
              <a:off x="2400480" y="28195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00480" y="30672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00480" y="33051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8362800" y="4210200"/>
            <a:ext cx="38124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52640" y="382428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33520" y="40006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33520" y="226692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900840" y="5232240"/>
          <a:ext cx="83340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0840" y="5232240"/>
                    <a:ext cx="833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5805360" y="1990800"/>
            <a:ext cx="97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 E.A.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05360" y="3086280"/>
            <a:ext cx="97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 E.A. 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4400640"/>
            <a:ext cx="11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nk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95960" y="19810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95960" y="28447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3200" y="38116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81360" y="21016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86280" y="2514600"/>
            <a:ext cx="975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53560" y="2444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24480" y="2647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928800" y="1339920"/>
          <a:ext cx="83340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800" y="133992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1603440" y="1614600"/>
            <a:ext cx="3157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746360" y="4373640"/>
            <a:ext cx="50472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10600" y="2324160"/>
            <a:ext cx="1466640" cy="24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800760" y="1428480"/>
            <a:ext cx="137160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6648120" y="5029200"/>
            <a:ext cx="476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838600" y="3486240"/>
            <a:ext cx="30456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838600" y="2438280"/>
            <a:ext cx="285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981600" y="2266920"/>
            <a:ext cx="438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3962520" y="2990520"/>
            <a:ext cx="4381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334120" y="2114280"/>
            <a:ext cx="3618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315040" y="2514600"/>
            <a:ext cx="3808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34120" y="443880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24360" y="3543480"/>
            <a:ext cx="53352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95960" y="42926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20120" y="287640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0120" y="3519360"/>
            <a:ext cx="380880" cy="3240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39200" y="4210200"/>
            <a:ext cx="380880" cy="32364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29600" y="2444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934320" y="2476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3390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34320" y="4514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3438360"/>
            <a:ext cx="914400" cy="576360"/>
          </a:xfrm>
          <a:prstGeom prst="cube">
            <a:avLst>
              <a:gd name="adj" fmla="val 654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95960" y="3587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32767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315040" y="3524400"/>
            <a:ext cx="41904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WLM em Goal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Multi Access S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inâmica de transações através da Exit USERVAR (já testada em Camp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shared message queue (IMS 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3192480" y="4979880"/>
          <a:ext cx="275112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4979880"/>
                    <a:ext cx="27511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óximos passos ...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144600" y="3128400"/>
            <a:ext cx="29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6000">
                <a:solidFill>
                  <a:srgbClr val="000000"/>
                </a:solidFill>
                <a:latin typeface="Arial"/>
              </a:rPr>
              <a:t>Recomendaçõ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100240" y="2190600"/>
            <a:ext cx="48672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allel Sysple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4960" y="247680"/>
            <a:ext cx="641988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lanejamento - Recomendaçõe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48" name=""/>
          <p:cNvSpPr/>
          <p:nvPr/>
        </p:nvSpPr>
        <p:spPr>
          <a:xfrm>
            <a:off x="757080" y="1220760"/>
            <a:ext cx="773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Planejamento correto é essencial, devido complexidade e mudança profunda na arquite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Antecipar envolvimento das áreas de produção, devido mudança de proc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Treinamento/conhecimento da tecnolo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Manter o mais alto nível de correções dos softwares envolvidos - rever antes de cada f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Readiness Review - checklist com IBM antes de cada grande f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Só explorar o que é necessário na instal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Começar pequeno e evoluir gradual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Conhecer os hotspots d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021a"/>
                </a:solidFill>
                <a:latin typeface="Arial"/>
              </a:rPr>
              <a:t>Medir e comparar resultados após cad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356fd"/>
              </a:buClr>
              <a:buSzPct val="8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720" y="25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DB2 Data Sharing - Recomendaçõe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vante o perfil de seu ambiente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hot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e commit point para os programas batch com elapsed no DB2 acima de 1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e índice tipo 2 para redução de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vise parâmetros de BIND que afetam significativamente nº de locks ret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olation level: Recomendado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ease - recomendado: Deallo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Data - recomendado: ‘N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valie distribuição e tamanho de buffer pools lo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e o uso de DDF por tabela: forma de acesso, frequência e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caso de cancelamento de programa de atualização é desencadeado um roll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izações desde o último ponto de sincronismo até o ponto do cancelamento são desfei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para desfazer: de 2 a 3 vezes o tempo gasto no process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iente fica degradado durante o processo de desfazer (os recursos envolvidos ficam indisponíve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ticidade maior em processamentos b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lementação de pontos de sincronismo minimiza o impacto causado por cancel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Commit Point - Recomendações</a:t>
            </a: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tálogo DB2 passa a ser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colocado identificador do DB2 DSN, significa que pode ser processado por qualquer DB2 d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informado DB1G, DB2G ou DB3G, será processado necessariamente no DB2 espec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batch IMS/DB2 e utilitários não podem especificar identificação do grupo (DS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mit point passa a ser altamente recomendável para evitar indisponibilidade d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1885680" y="409680"/>
            <a:ext cx="45529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DB2 - O que mudou ...</a:t>
            </a:r>
            <a:r>
              <a:rPr b="1" i="1" lang="en-US" sz="3200" spc="-1" strike="noStrike">
                <a:solidFill>
                  <a:srgbClr val="fafd00"/>
                </a:solidFill>
                <a:latin typeface="Univers (WN)"/>
              </a:rPr>
              <a:t>	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90920" y="2857680"/>
            <a:ext cx="34272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5240" y="3933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9160" y="3162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162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62560" y="23716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14960" y="31622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31622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14880" y="1806480"/>
            <a:ext cx="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9160" y="154152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X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542960"/>
            <a:ext cx="8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X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3560" y="155268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78440" y="155268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5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83320" y="155268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5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9120" y="155268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5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57760" y="1546200"/>
            <a:ext cx="8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6600" y="154620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figuração do Itaú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126" name=""/>
          <p:cNvSpPr/>
          <p:nvPr/>
        </p:nvSpPr>
        <p:spPr>
          <a:xfrm>
            <a:off x="6862680" y="4795920"/>
            <a:ext cx="194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2.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S V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V3/V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40560" y="4105440"/>
            <a:ext cx="1011240" cy="54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95760" y="4179960"/>
            <a:ext cx="1009440" cy="55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03880" y="2695680"/>
            <a:ext cx="549360" cy="479160"/>
          </a:xfrm>
          <a:prstGeom prst="rect">
            <a:avLst/>
          </a:prstGeom>
          <a:solidFill>
            <a:srgbClr val="ffd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05200" y="2664000"/>
            <a:ext cx="549360" cy="51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75040" y="2770200"/>
            <a:ext cx="727200" cy="419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1560" y="2754360"/>
            <a:ext cx="714600" cy="4204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2800" y="3040200"/>
            <a:ext cx="407880" cy="49500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5560" y="4390920"/>
            <a:ext cx="576360" cy="390600"/>
          </a:xfrm>
          <a:prstGeom prst="flowChartMagneticDisk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40360" y="4390920"/>
            <a:ext cx="585720" cy="390600"/>
          </a:xfrm>
          <a:prstGeom prst="flowChartMagneticDisk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4720" y="153036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5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3080" y="1539720"/>
            <a:ext cx="8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5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240" y="2362320"/>
            <a:ext cx="73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7176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240" y="214272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6692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6244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59100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20048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91524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23880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5300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81320" y="237168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9560" y="23716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34080" y="2952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3440" y="3571920"/>
            <a:ext cx="51444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86440" y="3600360"/>
            <a:ext cx="514440" cy="362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14800" y="3162240"/>
            <a:ext cx="114300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14960" y="3171600"/>
            <a:ext cx="11142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171960"/>
            <a:ext cx="11430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14960" y="3181320"/>
            <a:ext cx="11142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5720" y="39337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4844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29160" y="396252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76720" y="3076200"/>
            <a:ext cx="63792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7760" y="3086280"/>
            <a:ext cx="5810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83360" y="275256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374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2733840"/>
            <a:ext cx="5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317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640" y="283860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ESC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11560" y="28195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ESC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06720" y="359100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3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9720" y="3619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3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30760" y="4476600"/>
            <a:ext cx="7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DAS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73760" y="4476600"/>
            <a:ext cx="7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011b"/>
                </a:solidFill>
                <a:latin typeface="Arial"/>
              </a:rPr>
              <a:t>DAS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3360" y="24433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1814"/>
                </a:solidFill>
                <a:latin typeface="Arial"/>
              </a:rPr>
              <a:t>5100 MI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1280" y="44625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1814"/>
                </a:solidFill>
                <a:latin typeface="Arial"/>
              </a:rPr>
              <a:t>32 Si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74640" y="48052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1814"/>
                </a:solidFill>
                <a:latin typeface="Arial"/>
              </a:rPr>
              <a:t>11,3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9760" y="106668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ão Paulo - Campinas - Rio de Jan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S390" descr=""/>
          <p:cNvPicPr/>
          <p:nvPr/>
        </p:nvPicPr>
        <p:blipFill>
          <a:blip r:embed="rId3"/>
          <a:stretch/>
        </p:blipFill>
        <p:spPr>
          <a:xfrm>
            <a:off x="70488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77" name="S390" descr=""/>
          <p:cNvPicPr/>
          <p:nvPr/>
        </p:nvPicPr>
        <p:blipFill>
          <a:blip r:embed="rId4"/>
          <a:stretch/>
        </p:blipFill>
        <p:spPr>
          <a:xfrm>
            <a:off x="139068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S390" descr=""/>
          <p:cNvPicPr/>
          <p:nvPr/>
        </p:nvPicPr>
        <p:blipFill>
          <a:blip r:embed="rId5"/>
          <a:stretch/>
        </p:blipFill>
        <p:spPr>
          <a:xfrm>
            <a:off x="209556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79" name="S390" descr=""/>
          <p:cNvPicPr/>
          <p:nvPr/>
        </p:nvPicPr>
        <p:blipFill>
          <a:blip r:embed="rId6"/>
          <a:stretch/>
        </p:blipFill>
        <p:spPr>
          <a:xfrm>
            <a:off x="274320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S390" descr=""/>
          <p:cNvPicPr/>
          <p:nvPr/>
        </p:nvPicPr>
        <p:blipFill>
          <a:blip r:embed="rId7"/>
          <a:stretch/>
        </p:blipFill>
        <p:spPr>
          <a:xfrm>
            <a:off x="3400560" y="1762200"/>
            <a:ext cx="390240" cy="514440"/>
          </a:xfrm>
          <a:prstGeom prst="rect">
            <a:avLst/>
          </a:prstGeom>
          <a:ln w="0">
            <a:noFill/>
          </a:ln>
        </p:spPr>
      </p:pic>
      <p:pic>
        <p:nvPicPr>
          <p:cNvPr id="181" name="S390" descr=""/>
          <p:cNvPicPr/>
          <p:nvPr/>
        </p:nvPicPr>
        <p:blipFill>
          <a:blip r:embed="rId8"/>
          <a:stretch/>
        </p:blipFill>
        <p:spPr>
          <a:xfrm>
            <a:off x="401940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S390" descr=""/>
          <p:cNvPicPr/>
          <p:nvPr/>
        </p:nvPicPr>
        <p:blipFill>
          <a:blip r:embed="rId9"/>
          <a:stretch/>
        </p:blipFill>
        <p:spPr>
          <a:xfrm>
            <a:off x="469584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3" name="S390" descr=""/>
          <p:cNvPicPr/>
          <p:nvPr/>
        </p:nvPicPr>
        <p:blipFill>
          <a:blip r:embed="rId10"/>
          <a:stretch/>
        </p:blipFill>
        <p:spPr>
          <a:xfrm>
            <a:off x="534348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S390" descr=""/>
          <p:cNvPicPr/>
          <p:nvPr/>
        </p:nvPicPr>
        <p:blipFill>
          <a:blip r:embed="rId11"/>
          <a:stretch/>
        </p:blipFill>
        <p:spPr>
          <a:xfrm>
            <a:off x="604836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5" name="S390" descr=""/>
          <p:cNvPicPr/>
          <p:nvPr/>
        </p:nvPicPr>
        <p:blipFill>
          <a:blip r:embed="rId12"/>
          <a:stretch/>
        </p:blipFill>
        <p:spPr>
          <a:xfrm>
            <a:off x="6715080" y="1762200"/>
            <a:ext cx="39060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S390" descr=""/>
          <p:cNvPicPr/>
          <p:nvPr/>
        </p:nvPicPr>
        <p:blipFill>
          <a:blip r:embed="rId13"/>
          <a:stretch/>
        </p:blipFill>
        <p:spPr>
          <a:xfrm>
            <a:off x="7410600" y="1762200"/>
            <a:ext cx="390240" cy="51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09760" y="1542960"/>
            <a:ext cx="85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72-RY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07400" y="1552680"/>
            <a:ext cx="8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DS-58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248680" y="21337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S390" descr=""/>
          <p:cNvPicPr/>
          <p:nvPr/>
        </p:nvPicPr>
        <p:blipFill>
          <a:blip r:embed="rId14"/>
          <a:stretch/>
        </p:blipFill>
        <p:spPr>
          <a:xfrm>
            <a:off x="8048520" y="1762200"/>
            <a:ext cx="3906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 ser avaliado o impacto para transações que fazem grande número de atualizações (hotspos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ckpoint passa a ser altamente recomendável para evitar indisponibilidade d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e leitura sem integridade sempre que possível (não causa overhead no coup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valie o intervalo de checkpoint das BM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S Data Sharing - Considerações</a:t>
            </a: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90720" y="27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IMS Data Sharing - Consideraçõe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9560" y="1458720"/>
            <a:ext cx="77724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vante o perfil de seu ambiente 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hot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 nível de locks em PI (Program Iso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 nível de locks em IRLM local e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e o volume de atualizações por banc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za o CI size dos índices muito atu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a prioridade elevada para o IR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r DEADLOCK=(1,1) agiliza a detecção e resolução de dead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066320" y="1352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biliotecas e objetos IMS (PSB’s, ACB’s e formatos) passam a ser compartilh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set RECON passa a ser compartilh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very passa a ler logs de todos os sistemas d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ações podem ser executadas em qualquer membro do grupo Data Sharing (MS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caso de cancelamentos, há necessidade de se determinar onde foi processada a transação (Abend Ai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ações que não admitem paralelismo: devem ser direcionadas a um único sistema, pois um membro do Data Sharing não ‘sabe’ o que o outro está processando. Avisar DBD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990720" y="294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IMS - O que mudou ...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17880" y="30639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490920" y="2781360"/>
            <a:ext cx="248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98160" y="3128400"/>
            <a:ext cx="30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6000">
                <a:solidFill>
                  <a:srgbClr val="000000"/>
                </a:solidFill>
                <a:latin typeface="Arial"/>
              </a:rPr>
              <a:t>Conceitos Gerai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481120" y="2133720"/>
            <a:ext cx="4105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allel Sysple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920" y="200160"/>
            <a:ext cx="85485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Arquitetura Tradicional X Parallel Sysplex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4076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quitetura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sistema (MVS) é visto como um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magem iso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lexidade para gerenci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ári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capacidad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que o necess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e atual dos ambientes limitado à capacidade da maior máqu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cessidade d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ação de  workloa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medida em que seu porte au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orkload restrito a uma máqu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638680" y="3048120"/>
            <a:ext cx="762120" cy="1447200"/>
            <a:chOff x="5638680" y="3048120"/>
            <a:chExt cx="762120" cy="1447200"/>
          </a:xfrm>
        </p:grpSpPr>
        <p:sp>
          <p:nvSpPr>
            <p:cNvPr id="196" name=""/>
            <p:cNvSpPr/>
            <p:nvPr/>
          </p:nvSpPr>
          <p:spPr>
            <a:xfrm>
              <a:off x="5638680" y="3048120"/>
              <a:ext cx="76212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38680" y="4038480"/>
              <a:ext cx="762120" cy="456840"/>
            </a:xfrm>
            <a:prstGeom prst="flowChartOnlineStorag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9560" y="3504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781680" y="3048120"/>
            <a:ext cx="762120" cy="1447200"/>
            <a:chOff x="6781680" y="3048120"/>
            <a:chExt cx="762120" cy="1447200"/>
          </a:xfrm>
        </p:grpSpPr>
        <p:sp>
          <p:nvSpPr>
            <p:cNvPr id="200" name=""/>
            <p:cNvSpPr/>
            <p:nvPr/>
          </p:nvSpPr>
          <p:spPr>
            <a:xfrm>
              <a:off x="6781680" y="3048120"/>
              <a:ext cx="76212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81680" y="4038480"/>
              <a:ext cx="762120" cy="456840"/>
            </a:xfrm>
            <a:prstGeom prst="flowChartOnlineStorag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504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848720" y="3048120"/>
            <a:ext cx="761760" cy="1447200"/>
            <a:chOff x="7848720" y="3048120"/>
            <a:chExt cx="761760" cy="1447200"/>
          </a:xfrm>
        </p:grpSpPr>
        <p:sp>
          <p:nvSpPr>
            <p:cNvPr id="204" name=""/>
            <p:cNvSpPr/>
            <p:nvPr/>
          </p:nvSpPr>
          <p:spPr>
            <a:xfrm>
              <a:off x="7848720" y="3048120"/>
              <a:ext cx="76176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8720" y="4038480"/>
              <a:ext cx="761760" cy="456840"/>
            </a:xfrm>
            <a:prstGeom prst="flowChartOnlineStorag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29240" y="3504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3868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686640" y="1638360"/>
          <a:ext cx="833400" cy="64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6640" y="163836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72360" y="2286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2266920"/>
            <a:ext cx="0" cy="78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791480" y="1657440"/>
          <a:ext cx="83340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91480" y="165744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00880" y="1657440"/>
          <a:ext cx="833400" cy="64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165744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172200" y="1295280"/>
            <a:ext cx="1066680" cy="1447920"/>
            <a:chOff x="6172200" y="1295280"/>
            <a:chExt cx="1066680" cy="1447920"/>
          </a:xfrm>
        </p:grpSpPr>
        <p:sp>
          <p:nvSpPr>
            <p:cNvPr id="220" name=""/>
            <p:cNvSpPr/>
            <p:nvPr/>
          </p:nvSpPr>
          <p:spPr>
            <a:xfrm>
              <a:off x="6324480" y="1371600"/>
              <a:ext cx="83844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2133720"/>
              <a:ext cx="83844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8520" y="1295280"/>
              <a:ext cx="99036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2209320"/>
              <a:ext cx="73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2200" y="14475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81480" y="3809880"/>
            <a:ext cx="2971800" cy="1600200"/>
            <a:chOff x="5181480" y="3809880"/>
            <a:chExt cx="2971800" cy="1600200"/>
          </a:xfrm>
        </p:grpSpPr>
        <p:sp>
          <p:nvSpPr>
            <p:cNvPr id="226" name=""/>
            <p:cNvSpPr/>
            <p:nvPr/>
          </p:nvSpPr>
          <p:spPr>
            <a:xfrm>
              <a:off x="5333760" y="3962160"/>
              <a:ext cx="266724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3760" y="472428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1480" y="3809880"/>
              <a:ext cx="2971800" cy="160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3760" y="4800240"/>
              <a:ext cx="73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03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72428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8880" y="4800240"/>
              <a:ext cx="73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4723200"/>
              <a:ext cx="134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.  .  .  . 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047600" y="20383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ória ú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ador ú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nhum overh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3962520"/>
            <a:ext cx="3657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ória ú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ários processadores competindo pela mesma memó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to maior a quantidade de processadores, maior o overh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066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quitetu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dicional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noprocess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rocess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2920" y="200160"/>
            <a:ext cx="8548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Arquitetura Tradicional X Parallel Sys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2640" y="1467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vários sistemas do sysplex são vistos como uma única im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ngle imag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gerenciamento mai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rescimento horizont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capacidade de proces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or granularida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res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escimen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m segmentação d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ribuição dinâmic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3429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4724280"/>
            <a:ext cx="762120" cy="457200"/>
          </a:xfrm>
          <a:prstGeom prst="flowChartOnlineStora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38862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3429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4724280"/>
            <a:ext cx="762120" cy="457200"/>
          </a:xfrm>
          <a:prstGeom prst="flowChartOnlineStora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48720" y="3429000"/>
            <a:ext cx="7617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4724280"/>
            <a:ext cx="761760" cy="457200"/>
          </a:xfrm>
          <a:prstGeom prst="flowChartOnlineStora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019920" y="38862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562720" y="1447920"/>
          <a:ext cx="833400" cy="64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8334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5612400" y="2422080"/>
            <a:ext cx="775800" cy="525960"/>
            <a:chOff x="5612400" y="2422080"/>
            <a:chExt cx="775800" cy="525960"/>
          </a:xfrm>
        </p:grpSpPr>
        <p:sp>
          <p:nvSpPr>
            <p:cNvPr id="255" name=""/>
            <p:cNvSpPr/>
            <p:nvPr/>
          </p:nvSpPr>
          <p:spPr>
            <a:xfrm rot="20152200">
              <a:off x="5630400" y="2660400"/>
              <a:ext cx="226080" cy="13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693400" y="2534760"/>
              <a:ext cx="498960" cy="413280"/>
              <a:chOff x="5693400" y="2534760"/>
              <a:chExt cx="498960" cy="413280"/>
            </a:xfrm>
          </p:grpSpPr>
          <p:sp>
            <p:nvSpPr>
              <p:cNvPr id="257" name=""/>
              <p:cNvSpPr/>
              <p:nvPr/>
            </p:nvSpPr>
            <p:spPr>
              <a:xfrm rot="20152200">
                <a:off x="5728320" y="2611080"/>
                <a:ext cx="429480" cy="260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152200">
                <a:off x="5703480" y="2722320"/>
                <a:ext cx="88560" cy="69120"/>
              </a:xfrm>
              <a:custGeom>
                <a:avLst/>
                <a:gdLst/>
                <a:ahLst/>
                <a:rect l="l" t="t" r="r" b="b"/>
                <a:pathLst>
                  <a:path w="248" h="320">
                    <a:moveTo>
                      <a:pt x="212" y="0"/>
                    </a:moveTo>
                    <a:lnTo>
                      <a:pt x="0" y="280"/>
                    </a:lnTo>
                    <a:lnTo>
                      <a:pt x="105" y="320"/>
                    </a:lnTo>
                    <a:lnTo>
                      <a:pt x="248" y="2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rot="20152200">
              <a:off x="5879880" y="2576520"/>
              <a:ext cx="429120" cy="26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152200">
              <a:off x="6223680" y="2527560"/>
              <a:ext cx="149760" cy="9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152200">
              <a:off x="6230160" y="2686680"/>
              <a:ext cx="99360" cy="60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152200">
              <a:off x="6161040" y="2532240"/>
              <a:ext cx="99360" cy="60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0152200">
              <a:off x="6226200" y="2594160"/>
              <a:ext cx="149760" cy="9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152200">
              <a:off x="5733360" y="2580840"/>
              <a:ext cx="226080" cy="13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152200">
              <a:off x="5954400" y="2515320"/>
              <a:ext cx="226080" cy="13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0152200">
              <a:off x="5849280" y="2529000"/>
              <a:ext cx="226080" cy="13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152200">
              <a:off x="5848920" y="2714400"/>
              <a:ext cx="226080" cy="13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152200">
              <a:off x="5763600" y="2524680"/>
              <a:ext cx="565200" cy="294840"/>
            </a:xfrm>
            <a:custGeom>
              <a:avLst/>
              <a:gdLst/>
              <a:ahLst/>
              <a:rect l="l" t="t" r="r" b="b"/>
              <a:pathLst>
                <a:path w="1582" h="1363">
                  <a:moveTo>
                    <a:pt x="373" y="0"/>
                  </a:moveTo>
                  <a:lnTo>
                    <a:pt x="660" y="169"/>
                  </a:lnTo>
                  <a:lnTo>
                    <a:pt x="1006" y="125"/>
                  </a:lnTo>
                  <a:lnTo>
                    <a:pt x="1227" y="453"/>
                  </a:lnTo>
                  <a:lnTo>
                    <a:pt x="1285" y="479"/>
                  </a:lnTo>
                  <a:lnTo>
                    <a:pt x="1440" y="582"/>
                  </a:lnTo>
                  <a:lnTo>
                    <a:pt x="1480" y="666"/>
                  </a:lnTo>
                  <a:lnTo>
                    <a:pt x="1582" y="817"/>
                  </a:lnTo>
                  <a:lnTo>
                    <a:pt x="1565" y="866"/>
                  </a:lnTo>
                  <a:lnTo>
                    <a:pt x="1325" y="1310"/>
                  </a:lnTo>
                  <a:lnTo>
                    <a:pt x="1157" y="1363"/>
                  </a:lnTo>
                  <a:lnTo>
                    <a:pt x="607" y="1314"/>
                  </a:lnTo>
                  <a:lnTo>
                    <a:pt x="567" y="1243"/>
                  </a:lnTo>
                  <a:lnTo>
                    <a:pt x="204" y="1163"/>
                  </a:lnTo>
                  <a:lnTo>
                    <a:pt x="137" y="1194"/>
                  </a:lnTo>
                  <a:lnTo>
                    <a:pt x="0" y="461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01992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274320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743200"/>
            <a:ext cx="1828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2819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940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upl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190512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236232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362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019560" y="2362320"/>
            <a:ext cx="10666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886200"/>
            <a:ext cx="1219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943240" y="3886200"/>
            <a:ext cx="1219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3886200"/>
            <a:ext cx="10666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162560" y="3886200"/>
            <a:ext cx="10666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90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llel Syspl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Arquitetura Tradicional X Parallel Sysplex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1fe"/>
            </a:gs>
            <a:gs pos="50000">
              <a:srgbClr val="f4f7fd"/>
            </a:gs>
            <a:gs pos="100000">
              <a:srgbClr val="a2c1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 arquitetura de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da através de software 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ias no compartilhamento de recursos 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ra dos sistemas sincronizada através do Sysplex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ximiza a disponibilidade dos ambientes (24x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é 32 MVS’s (imagem ún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ns MVS conectadas através do Coupling Facility (novo hard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12920" y="200160"/>
            <a:ext cx="85485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afd00"/>
                </a:solidFill>
                <a:latin typeface="Arial"/>
              </a:rPr>
              <a:t>Parallel Sysplex - Características</a:t>
            </a:r>
            <a:endParaRPr b="1" i="1" lang="en-US" sz="3200" spc="-1" strike="noStrike">
              <a:solidFill>
                <a:srgbClr val="fafd00"/>
              </a:solidFill>
              <a:latin typeface="Univers (WN)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1T14:06:52Z</dcterms:created>
  <dc:creator/>
  <dc:description/>
  <dc:language>en-US</dc:language>
  <cp:lastModifiedBy>IBM User</cp:lastModifiedBy>
  <cp:lastPrinted>1998-09-10T16:11:48Z</cp:lastPrinted>
  <dcterms:modified xsi:type="dcterms:W3CDTF">1999-03-22T17:27:19Z</dcterms:modified>
  <cp:revision>83</cp:revision>
  <dc:subject>Apresentação na GUIDE</dc:subject>
  <dc:title>HDC - Hardware Data Compression</dc:title>
</cp:coreProperties>
</file>