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8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1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75200" y="0"/>
            <a:ext cx="2361600" cy="6858000"/>
            <a:chOff x="6775200" y="0"/>
            <a:chExt cx="2361600" cy="6858000"/>
          </a:xfrm>
        </p:grpSpPr>
        <p:sp>
          <p:nvSpPr>
            <p:cNvPr id="1" name=""/>
            <p:cNvSpPr/>
            <p:nvPr/>
          </p:nvSpPr>
          <p:spPr>
            <a:xfrm flipH="1" flipV="1">
              <a:off x="7231680" y="0"/>
              <a:ext cx="1904760" cy="685800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774840" y="0"/>
              <a:ext cx="2355480" cy="6858000"/>
            </a:xfrm>
            <a:prstGeom prst="rtTriangl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LOGO_MSA1" descr=""/>
            <p:cNvPicPr/>
            <p:nvPr/>
          </p:nvPicPr>
          <p:blipFill>
            <a:blip r:embed="rId2"/>
            <a:stretch/>
          </p:blipFill>
          <p:spPr>
            <a:xfrm>
              <a:off x="7232400" y="5943600"/>
              <a:ext cx="1676160" cy="6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2796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79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7EBA-2FD0-4F4F-89FA-28658826BF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Tahoma"/>
              </a:rPr>
              <a:t>Utilizando o UNIX System Services do OS/390 como plataforma</a:t>
            </a:r>
            <a:br>
              <a:rPr sz="3600"/>
            </a:br>
            <a:r>
              <a:rPr b="0" lang="pt-BR" sz="3600" spc="-1" strike="noStrike">
                <a:solidFill>
                  <a:srgbClr val="ff3300"/>
                </a:solidFill>
                <a:latin typeface="Tahoma"/>
              </a:rPr>
              <a:t>de integração para ambientes</a:t>
            </a:r>
            <a:br>
              <a:rPr sz="3600"/>
            </a:br>
            <a:r>
              <a:rPr b="0" lang="pt-BR" sz="3600" spc="-1" strike="noStrike">
                <a:solidFill>
                  <a:srgbClr val="ff3300"/>
                </a:solidFill>
                <a:latin typeface="Tahoma"/>
              </a:rPr>
              <a:t>distribuído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berto Márcio Ferreira de Souza e Riccardo Lanzuol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SA-IN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715000" y="2666880"/>
            <a:ext cx="1415880" cy="25592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523880"/>
            <a:ext cx="5168880" cy="5209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1447920"/>
            <a:ext cx="917640" cy="672840"/>
            <a:chOff x="0" y="1447920"/>
            <a:chExt cx="917640" cy="672840"/>
          </a:xfrm>
        </p:grpSpPr>
        <p:grpSp>
          <p:nvGrpSpPr>
            <p:cNvPr id="120" name=""/>
            <p:cNvGrpSpPr/>
            <p:nvPr/>
          </p:nvGrpSpPr>
          <p:grpSpPr>
            <a:xfrm>
              <a:off x="0" y="1973160"/>
              <a:ext cx="917640" cy="147600"/>
              <a:chOff x="0" y="1973160"/>
              <a:chExt cx="917640" cy="14760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0" y="1973160"/>
                <a:ext cx="917640" cy="147600"/>
                <a:chOff x="0" y="1973160"/>
                <a:chExt cx="917640" cy="1476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480" y="2101680"/>
                  <a:ext cx="903240" cy="1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973160"/>
                  <a:ext cx="917640" cy="127080"/>
                </a:xfrm>
                <a:custGeom>
                  <a:avLst/>
                  <a:gdLst/>
                  <a:ahLst/>
                  <a:rect l="l" t="t" r="r" b="b"/>
                  <a:pathLst>
                    <a:path w="578" h="80">
                      <a:moveTo>
                        <a:pt x="0" y="79"/>
                      </a:moveTo>
                      <a:lnTo>
                        <a:pt x="577" y="79"/>
                      </a:lnTo>
                      <a:lnTo>
                        <a:pt x="543" y="1"/>
                      </a:lnTo>
                      <a:lnTo>
                        <a:pt x="42" y="0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000" y="1986120"/>
                  <a:ext cx="858960" cy="98280"/>
                </a:xfrm>
                <a:custGeom>
                  <a:avLst/>
                  <a:gdLst/>
                  <a:ahLst/>
                  <a:rect l="l" t="t" r="r" b="b"/>
                  <a:pathLst>
                    <a:path w="541" h="62">
                      <a:moveTo>
                        <a:pt x="31" y="0"/>
                      </a:moveTo>
                      <a:lnTo>
                        <a:pt x="0" y="61"/>
                      </a:lnTo>
                      <a:lnTo>
                        <a:pt x="540" y="61"/>
                      </a:lnTo>
                      <a:lnTo>
                        <a:pt x="51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03320" y="1984320"/>
                <a:ext cx="722160" cy="28800"/>
                <a:chOff x="103320" y="1984320"/>
                <a:chExt cx="722160" cy="28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03320" y="198432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4" y="0"/>
                      </a:moveTo>
                      <a:lnTo>
                        <a:pt x="16" y="0"/>
                      </a:lnTo>
                      <a:lnTo>
                        <a:pt x="12" y="11"/>
                      </a:lnTo>
                      <a:lnTo>
                        <a:pt x="0" y="1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71360" y="1984320"/>
                  <a:ext cx="114480" cy="17640"/>
                </a:xfrm>
                <a:custGeom>
                  <a:avLst/>
                  <a:gdLst/>
                  <a:ahLst/>
                  <a:rect l="l" t="t" r="r" b="b"/>
                  <a:pathLst>
                    <a:path w="72" h="11">
                      <a:moveTo>
                        <a:pt x="3" y="0"/>
                      </a:moveTo>
                      <a:lnTo>
                        <a:pt x="71" y="0"/>
                      </a:lnTo>
                      <a:lnTo>
                        <a:pt x="68" y="10"/>
                      </a:lnTo>
                      <a:lnTo>
                        <a:pt x="0" y="1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18960" y="1984320"/>
                  <a:ext cx="109800" cy="19080"/>
                </a:xfrm>
                <a:custGeom>
                  <a:avLst/>
                  <a:gdLst/>
                  <a:ahLst/>
                  <a:rect l="l" t="t" r="r" b="b"/>
                  <a:pathLst>
                    <a:path w="69" h="12">
                      <a:moveTo>
                        <a:pt x="2" y="0"/>
                      </a:moveTo>
                      <a:lnTo>
                        <a:pt x="68" y="0"/>
                      </a:lnTo>
                      <a:lnTo>
                        <a:pt x="68" y="11"/>
                      </a:lnTo>
                      <a:lnTo>
                        <a:pt x="0" y="1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47480" y="1984320"/>
                  <a:ext cx="113040" cy="19080"/>
                </a:xfrm>
                <a:custGeom>
                  <a:avLst/>
                  <a:gdLst/>
                  <a:ahLst/>
                  <a:rect l="l" t="t" r="r" b="b"/>
                  <a:pathLst>
                    <a:path w="71" h="12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0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82480" y="1984320"/>
                  <a:ext cx="100080" cy="20520"/>
                </a:xfrm>
                <a:custGeom>
                  <a:avLst/>
                  <a:gdLst/>
                  <a:ahLst/>
                  <a:rect l="l" t="t" r="r" b="b"/>
                  <a:pathLst>
                    <a:path w="63" h="13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2" y="12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01640" y="1994040"/>
                  <a:ext cx="123840" cy="19080"/>
                </a:xfrm>
                <a:custGeom>
                  <a:avLst/>
                  <a:gdLst/>
                  <a:ahLst/>
                  <a:rect l="l" t="t" r="r" b="b"/>
                  <a:pathLst>
                    <a:path w="78" h="12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7" y="11"/>
                      </a:lnTo>
                      <a:lnTo>
                        <a:pt x="3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200" y="2016000"/>
                <a:ext cx="749520" cy="50760"/>
                <a:chOff x="79200" y="2016000"/>
                <a:chExt cx="749520" cy="5076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44360" y="2019240"/>
                  <a:ext cx="363600" cy="44640"/>
                  <a:chOff x="144360" y="2019240"/>
                  <a:chExt cx="363600" cy="446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144360" y="2019240"/>
                    <a:ext cx="343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60200" y="2035080"/>
                    <a:ext cx="34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65240" y="2048040"/>
                    <a:ext cx="30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71360" y="2063880"/>
                    <a:ext cx="28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9200" y="2025720"/>
                  <a:ext cx="51120" cy="28440"/>
                  <a:chOff x="79200" y="2025720"/>
                  <a:chExt cx="51120" cy="284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95400" y="2025720"/>
                    <a:ext cx="23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88920" y="2041560"/>
                    <a:ext cx="23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79200" y="2054160"/>
                    <a:ext cx="5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225360" y="2016000"/>
                  <a:ext cx="331920" cy="47880"/>
                  <a:chOff x="225360" y="2016000"/>
                  <a:chExt cx="331920" cy="478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225360" y="2063880"/>
                    <a:ext cx="201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17320" y="2016000"/>
                    <a:ext cx="3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31720" y="203508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06520" y="2048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49280" y="2063880"/>
                    <a:ext cx="19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95360" y="2063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587520" y="2025720"/>
                  <a:ext cx="96840" cy="38160"/>
                  <a:chOff x="587520" y="2025720"/>
                  <a:chExt cx="96840" cy="38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587520" y="2025720"/>
                    <a:ext cx="88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01560" y="2044800"/>
                    <a:ext cx="7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03360" y="2063880"/>
                    <a:ext cx="81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11000" y="2025720"/>
                  <a:ext cx="117720" cy="41040"/>
                  <a:chOff x="711000" y="2025720"/>
                  <a:chExt cx="117720" cy="410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22160" y="202572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11000" y="20415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22160" y="2054160"/>
                    <a:ext cx="59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19280" y="20667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804960" y="204300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816120" y="2062080"/>
                    <a:ext cx="12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0" name=""/>
            <p:cNvGrpSpPr/>
            <p:nvPr/>
          </p:nvGrpSpPr>
          <p:grpSpPr>
            <a:xfrm>
              <a:off x="228600" y="1447920"/>
              <a:ext cx="480960" cy="517320"/>
              <a:chOff x="228600" y="1447920"/>
              <a:chExt cx="480960" cy="5173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270000" y="1873080"/>
                <a:ext cx="401400" cy="92160"/>
                <a:chOff x="270000" y="1873080"/>
                <a:chExt cx="401400" cy="9216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270000" y="1901880"/>
                  <a:ext cx="401400" cy="63360"/>
                  <a:chOff x="270000" y="1901880"/>
                  <a:chExt cx="401400" cy="6336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270000" y="1901880"/>
                    <a:ext cx="4014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4">
                        <a:moveTo>
                          <a:pt x="0" y="23"/>
                        </a:moveTo>
                        <a:lnTo>
                          <a:pt x="252" y="23"/>
                        </a:lnTo>
                        <a:lnTo>
                          <a:pt x="237" y="0"/>
                        </a:lnTo>
                        <a:lnTo>
                          <a:pt x="15" y="0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76120" y="1942920"/>
                    <a:ext cx="384120" cy="22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3600" y="1873080"/>
                  <a:ext cx="212760" cy="66960"/>
                </a:xfrm>
                <a:custGeom>
                  <a:avLst/>
                  <a:gdLst/>
                  <a:ahLst/>
                  <a:rect l="l" t="t" r="r" b="b"/>
                  <a:pathLst>
                    <a:path w="134" h="42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133" y="24"/>
                      </a:lnTo>
                      <a:lnTo>
                        <a:pt x="132" y="26"/>
                      </a:lnTo>
                      <a:lnTo>
                        <a:pt x="131" y="28"/>
                      </a:lnTo>
                      <a:lnTo>
                        <a:pt x="129" y="30"/>
                      </a:lnTo>
                      <a:lnTo>
                        <a:pt x="126" y="31"/>
                      </a:lnTo>
                      <a:lnTo>
                        <a:pt x="122" y="33"/>
                      </a:lnTo>
                      <a:lnTo>
                        <a:pt x="118" y="34"/>
                      </a:lnTo>
                      <a:lnTo>
                        <a:pt x="114" y="36"/>
                      </a:lnTo>
                      <a:lnTo>
                        <a:pt x="109" y="37"/>
                      </a:lnTo>
                      <a:lnTo>
                        <a:pt x="105" y="38"/>
                      </a:lnTo>
                      <a:lnTo>
                        <a:pt x="98" y="39"/>
                      </a:lnTo>
                      <a:lnTo>
                        <a:pt x="92" y="40"/>
                      </a:lnTo>
                      <a:lnTo>
                        <a:pt x="86" y="40"/>
                      </a:lnTo>
                      <a:lnTo>
                        <a:pt x="80" y="41"/>
                      </a:lnTo>
                      <a:lnTo>
                        <a:pt x="73" y="41"/>
                      </a:lnTo>
                      <a:lnTo>
                        <a:pt x="63" y="41"/>
                      </a:lnTo>
                      <a:lnTo>
                        <a:pt x="54" y="41"/>
                      </a:lnTo>
                      <a:lnTo>
                        <a:pt x="46" y="40"/>
                      </a:lnTo>
                      <a:lnTo>
                        <a:pt x="39" y="40"/>
                      </a:lnTo>
                      <a:lnTo>
                        <a:pt x="33" y="39"/>
                      </a:lnTo>
                      <a:lnTo>
                        <a:pt x="28" y="38"/>
                      </a:lnTo>
                      <a:lnTo>
                        <a:pt x="22" y="36"/>
                      </a:lnTo>
                      <a:lnTo>
                        <a:pt x="17" y="35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30"/>
                      </a:lnTo>
                      <a:lnTo>
                        <a:pt x="3" y="29"/>
                      </a:lnTo>
                      <a:lnTo>
                        <a:pt x="2" y="27"/>
                      </a:lnTo>
                      <a:lnTo>
                        <a:pt x="1" y="25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28600" y="1447920"/>
                <a:ext cx="480960" cy="430200"/>
                <a:chOff x="228600" y="1447920"/>
                <a:chExt cx="480960" cy="43020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228600" y="1447920"/>
                  <a:ext cx="480960" cy="430200"/>
                  <a:chOff x="228600" y="1447920"/>
                  <a:chExt cx="480960" cy="4302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228600" y="1447920"/>
                    <a:ext cx="480960" cy="430200"/>
                  </a:xfrm>
                  <a:prstGeom prst="roundRect">
                    <a:avLst>
                      <a:gd name="adj" fmla="val 12250"/>
                    </a:avLst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80800" y="1496880"/>
                    <a:ext cx="374760" cy="331920"/>
                  </a:xfrm>
                  <a:prstGeom prst="roundRect">
                    <a:avLst>
                      <a:gd name="adj" fmla="val 12167"/>
                    </a:avLst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01680" y="1514520"/>
                    <a:ext cx="331560" cy="295200"/>
                  </a:xfrm>
                  <a:prstGeom prst="roundRect">
                    <a:avLst>
                      <a:gd name="adj" fmla="val 12199"/>
                    </a:avLst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39720" y="1859040"/>
                  <a:ext cx="1440" cy="46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"/>
          <p:cNvSpPr/>
          <p:nvPr/>
        </p:nvSpPr>
        <p:spPr>
          <a:xfrm>
            <a:off x="3665520" y="3054240"/>
            <a:ext cx="1282680" cy="1511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98960" y="38862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2133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36600" y="3622680"/>
            <a:ext cx="81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10600" y="1523880"/>
            <a:ext cx="90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60480" y="38862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38862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648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86728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0040" y="1670040"/>
            <a:ext cx="525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09720" y="1676520"/>
            <a:ext cx="766440" cy="151920"/>
            <a:chOff x="909720" y="1676520"/>
            <a:chExt cx="766440" cy="151920"/>
          </a:xfrm>
        </p:grpSpPr>
        <p:sp>
          <p:nvSpPr>
            <p:cNvPr id="183" name=""/>
            <p:cNvSpPr/>
            <p:nvPr/>
          </p:nvSpPr>
          <p:spPr>
            <a:xfrm flipH="1">
              <a:off x="909720" y="1676520"/>
              <a:ext cx="35496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3760" y="18284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5400" y="3298680"/>
            <a:ext cx="745920" cy="1198800"/>
            <a:chOff x="95400" y="3298680"/>
            <a:chExt cx="745920" cy="1198800"/>
          </a:xfrm>
        </p:grpSpPr>
        <p:sp>
          <p:nvSpPr>
            <p:cNvPr id="186" name=""/>
            <p:cNvSpPr/>
            <p:nvPr/>
          </p:nvSpPr>
          <p:spPr>
            <a:xfrm>
              <a:off x="104760" y="3490920"/>
              <a:ext cx="736560" cy="1006560"/>
            </a:xfrm>
            <a:custGeom>
              <a:avLst/>
              <a:gdLst/>
              <a:ahLst/>
              <a:rect l="l" t="t" r="r" b="b"/>
              <a:pathLst>
                <a:path w="464" h="634">
                  <a:moveTo>
                    <a:pt x="463" y="7"/>
                  </a:moveTo>
                  <a:lnTo>
                    <a:pt x="463" y="522"/>
                  </a:lnTo>
                  <a:lnTo>
                    <a:pt x="456" y="542"/>
                  </a:lnTo>
                  <a:lnTo>
                    <a:pt x="445" y="560"/>
                  </a:lnTo>
                  <a:lnTo>
                    <a:pt x="428" y="576"/>
                  </a:lnTo>
                  <a:lnTo>
                    <a:pt x="406" y="592"/>
                  </a:lnTo>
                  <a:lnTo>
                    <a:pt x="377" y="606"/>
                  </a:lnTo>
                  <a:lnTo>
                    <a:pt x="345" y="617"/>
                  </a:lnTo>
                  <a:lnTo>
                    <a:pt x="312" y="624"/>
                  </a:lnTo>
                  <a:lnTo>
                    <a:pt x="281" y="629"/>
                  </a:lnTo>
                  <a:lnTo>
                    <a:pt x="252" y="633"/>
                  </a:lnTo>
                  <a:lnTo>
                    <a:pt x="220" y="633"/>
                  </a:lnTo>
                  <a:lnTo>
                    <a:pt x="184" y="629"/>
                  </a:lnTo>
                  <a:lnTo>
                    <a:pt x="152" y="626"/>
                  </a:lnTo>
                  <a:lnTo>
                    <a:pt x="119" y="619"/>
                  </a:lnTo>
                  <a:lnTo>
                    <a:pt x="90" y="608"/>
                  </a:lnTo>
                  <a:lnTo>
                    <a:pt x="66" y="597"/>
                  </a:lnTo>
                  <a:lnTo>
                    <a:pt x="42" y="583"/>
                  </a:lnTo>
                  <a:lnTo>
                    <a:pt x="24" y="567"/>
                  </a:lnTo>
                  <a:lnTo>
                    <a:pt x="15" y="556"/>
                  </a:lnTo>
                  <a:lnTo>
                    <a:pt x="6" y="540"/>
                  </a:lnTo>
                  <a:lnTo>
                    <a:pt x="0" y="520"/>
                  </a:lnTo>
                  <a:lnTo>
                    <a:pt x="0" y="0"/>
                  </a:lnTo>
                  <a:lnTo>
                    <a:pt x="463" y="7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5400" y="3298680"/>
              <a:ext cx="733320" cy="355680"/>
            </a:xfrm>
            <a:prstGeom prst="ellipse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001000" y="3352680"/>
            <a:ext cx="746280" cy="1198440"/>
            <a:chOff x="8001000" y="3352680"/>
            <a:chExt cx="746280" cy="1198440"/>
          </a:xfrm>
        </p:grpSpPr>
        <p:sp>
          <p:nvSpPr>
            <p:cNvPr id="189" name=""/>
            <p:cNvSpPr/>
            <p:nvPr/>
          </p:nvSpPr>
          <p:spPr>
            <a:xfrm>
              <a:off x="8010720" y="3544560"/>
              <a:ext cx="736560" cy="1006560"/>
            </a:xfrm>
            <a:custGeom>
              <a:avLst/>
              <a:gdLst/>
              <a:ahLst/>
              <a:rect l="l" t="t" r="r" b="b"/>
              <a:pathLst>
                <a:path w="464" h="634">
                  <a:moveTo>
                    <a:pt x="463" y="7"/>
                  </a:moveTo>
                  <a:lnTo>
                    <a:pt x="463" y="522"/>
                  </a:lnTo>
                  <a:lnTo>
                    <a:pt x="456" y="542"/>
                  </a:lnTo>
                  <a:lnTo>
                    <a:pt x="445" y="560"/>
                  </a:lnTo>
                  <a:lnTo>
                    <a:pt x="428" y="576"/>
                  </a:lnTo>
                  <a:lnTo>
                    <a:pt x="406" y="592"/>
                  </a:lnTo>
                  <a:lnTo>
                    <a:pt x="377" y="606"/>
                  </a:lnTo>
                  <a:lnTo>
                    <a:pt x="345" y="617"/>
                  </a:lnTo>
                  <a:lnTo>
                    <a:pt x="312" y="624"/>
                  </a:lnTo>
                  <a:lnTo>
                    <a:pt x="281" y="629"/>
                  </a:lnTo>
                  <a:lnTo>
                    <a:pt x="252" y="633"/>
                  </a:lnTo>
                  <a:lnTo>
                    <a:pt x="220" y="633"/>
                  </a:lnTo>
                  <a:lnTo>
                    <a:pt x="184" y="629"/>
                  </a:lnTo>
                  <a:lnTo>
                    <a:pt x="152" y="626"/>
                  </a:lnTo>
                  <a:lnTo>
                    <a:pt x="119" y="619"/>
                  </a:lnTo>
                  <a:lnTo>
                    <a:pt x="90" y="608"/>
                  </a:lnTo>
                  <a:lnTo>
                    <a:pt x="66" y="597"/>
                  </a:lnTo>
                  <a:lnTo>
                    <a:pt x="42" y="583"/>
                  </a:lnTo>
                  <a:lnTo>
                    <a:pt x="24" y="567"/>
                  </a:lnTo>
                  <a:lnTo>
                    <a:pt x="15" y="556"/>
                  </a:lnTo>
                  <a:lnTo>
                    <a:pt x="6" y="540"/>
                  </a:lnTo>
                  <a:lnTo>
                    <a:pt x="0" y="520"/>
                  </a:lnTo>
                  <a:lnTo>
                    <a:pt x="0" y="0"/>
                  </a:lnTo>
                  <a:lnTo>
                    <a:pt x="463" y="7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01000" y="3352680"/>
              <a:ext cx="733680" cy="355680"/>
            </a:xfrm>
            <a:prstGeom prst="ellipse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88200" y="3679920"/>
            <a:ext cx="804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l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37800" y="3860640"/>
            <a:ext cx="51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4720" y="2720880"/>
            <a:ext cx="1206720" cy="25113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3400" y="2860560"/>
            <a:ext cx="101196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Prog.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3400" y="3375000"/>
            <a:ext cx="101196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Prog.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28000" y="4746600"/>
            <a:ext cx="106092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Prog. #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33400" y="3946680"/>
            <a:ext cx="101196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Prog.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57560" y="2736720"/>
            <a:ext cx="60372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81960" y="3218040"/>
            <a:ext cx="130464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Naveg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8880" y="3692520"/>
            <a:ext cx="124524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Seguranç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22640" y="4191120"/>
            <a:ext cx="97848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Cons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5562720"/>
            <a:ext cx="5168880" cy="5968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2720" y="5656320"/>
            <a:ext cx="130320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P. Batch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6600" y="5656320"/>
            <a:ext cx="130320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P. Batch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40560" y="5608800"/>
            <a:ext cx="50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90000" y="5656320"/>
            <a:ext cx="135180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P. Batch #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1680" y="4327560"/>
            <a:ext cx="50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87360" y="4707000"/>
            <a:ext cx="1226880" cy="33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G Times (WN)"/>
              </a:rPr>
              <a:t>Pagin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SADS / IB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OS/390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600200"/>
            <a:ext cx="7619760" cy="4343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600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2971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1952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54800" y="385524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/390 Super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360" y="47232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un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1240" y="472284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880" y="47232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274284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hell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tilit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22960" y="304704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ICS / IMS / TSO / B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159912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ões OS/3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277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ões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8640" y="516456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VT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31200" y="52567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A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2209680"/>
            <a:ext cx="106668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Necessidade de Integraçã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DS le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taforma ba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indows /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38080" y="685800"/>
            <a:ext cx="7620120" cy="4648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4038480"/>
            <a:ext cx="762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352680"/>
            <a:ext cx="762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4038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038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685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281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895480" y="2057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2057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8480" y="342828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/390 Super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320" y="41137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un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7560" y="411336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840" y="41137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213300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hell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tilit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8920" y="281844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ICS / IMS / TSO / B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13520" y="60840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ões OS/3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560" y="6084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ões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4960" y="455508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VT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7520" y="4647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A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952880" y="1371600"/>
            <a:ext cx="2565720" cy="1312200"/>
            <a:chOff x="4952880" y="1371600"/>
            <a:chExt cx="2565720" cy="1312200"/>
          </a:xfrm>
        </p:grpSpPr>
        <p:grpSp>
          <p:nvGrpSpPr>
            <p:cNvPr id="254" name=""/>
            <p:cNvGrpSpPr/>
            <p:nvPr/>
          </p:nvGrpSpPr>
          <p:grpSpPr>
            <a:xfrm>
              <a:off x="4952880" y="1371600"/>
              <a:ext cx="854280" cy="1143000"/>
              <a:chOff x="4952880" y="1371600"/>
              <a:chExt cx="854280" cy="1143000"/>
            </a:xfrm>
          </p:grpSpPr>
          <p:sp>
            <p:nvSpPr>
              <p:cNvPr id="255" name=""/>
              <p:cNvSpPr/>
              <p:nvPr/>
            </p:nvSpPr>
            <p:spPr>
              <a:xfrm>
                <a:off x="4952880" y="1371600"/>
                <a:ext cx="838440" cy="11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54320" y="16758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Hos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246720" y="1371600"/>
              <a:ext cx="1271880" cy="1312200"/>
              <a:chOff x="6246720" y="1371600"/>
              <a:chExt cx="1271880" cy="13122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6248520" y="1371600"/>
                <a:ext cx="1143000" cy="685080"/>
                <a:chOff x="6248520" y="1371600"/>
                <a:chExt cx="1143000" cy="685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248520" y="1371600"/>
                  <a:ext cx="68580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400800" y="1523520"/>
                  <a:ext cx="68580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553080" y="1675800"/>
                  <a:ext cx="68580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705720" y="1828440"/>
                  <a:ext cx="68580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246720" y="1980000"/>
                <a:ext cx="1271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Program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SA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447920" y="761400"/>
            <a:ext cx="6019560" cy="4953600"/>
            <a:chOff x="1447920" y="761400"/>
            <a:chExt cx="6019560" cy="4953600"/>
          </a:xfrm>
        </p:grpSpPr>
        <p:sp>
          <p:nvSpPr>
            <p:cNvPr id="265" name=""/>
            <p:cNvSpPr/>
            <p:nvPr/>
          </p:nvSpPr>
          <p:spPr>
            <a:xfrm>
              <a:off x="1447920" y="762120"/>
              <a:ext cx="6019560" cy="4952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7920" y="41148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886200" y="4343400"/>
              <a:ext cx="746280" cy="1198440"/>
              <a:chOff x="3886200" y="4343400"/>
              <a:chExt cx="746280" cy="1198440"/>
            </a:xfrm>
          </p:grpSpPr>
          <p:sp>
            <p:nvSpPr>
              <p:cNvPr id="268" name=""/>
              <p:cNvSpPr/>
              <p:nvPr/>
            </p:nvSpPr>
            <p:spPr>
              <a:xfrm>
                <a:off x="3895920" y="4535280"/>
                <a:ext cx="736560" cy="1006560"/>
              </a:xfrm>
              <a:custGeom>
                <a:avLst/>
                <a:gdLst/>
                <a:ahLst/>
                <a:rect l="l" t="t" r="r" b="b"/>
                <a:pathLst>
                  <a:path w="464" h="634">
                    <a:moveTo>
                      <a:pt x="463" y="7"/>
                    </a:moveTo>
                    <a:lnTo>
                      <a:pt x="463" y="522"/>
                    </a:lnTo>
                    <a:lnTo>
                      <a:pt x="456" y="542"/>
                    </a:lnTo>
                    <a:lnTo>
                      <a:pt x="445" y="560"/>
                    </a:lnTo>
                    <a:lnTo>
                      <a:pt x="428" y="576"/>
                    </a:lnTo>
                    <a:lnTo>
                      <a:pt x="406" y="592"/>
                    </a:lnTo>
                    <a:lnTo>
                      <a:pt x="377" y="606"/>
                    </a:lnTo>
                    <a:lnTo>
                      <a:pt x="345" y="617"/>
                    </a:lnTo>
                    <a:lnTo>
                      <a:pt x="312" y="624"/>
                    </a:lnTo>
                    <a:lnTo>
                      <a:pt x="281" y="629"/>
                    </a:lnTo>
                    <a:lnTo>
                      <a:pt x="252" y="633"/>
                    </a:lnTo>
                    <a:lnTo>
                      <a:pt x="220" y="633"/>
                    </a:lnTo>
                    <a:lnTo>
                      <a:pt x="184" y="629"/>
                    </a:lnTo>
                    <a:lnTo>
                      <a:pt x="152" y="626"/>
                    </a:lnTo>
                    <a:lnTo>
                      <a:pt x="119" y="619"/>
                    </a:lnTo>
                    <a:lnTo>
                      <a:pt x="90" y="608"/>
                    </a:lnTo>
                    <a:lnTo>
                      <a:pt x="66" y="597"/>
                    </a:lnTo>
                    <a:lnTo>
                      <a:pt x="42" y="583"/>
                    </a:lnTo>
                    <a:lnTo>
                      <a:pt x="24" y="567"/>
                    </a:lnTo>
                    <a:lnTo>
                      <a:pt x="15" y="556"/>
                    </a:lnTo>
                    <a:lnTo>
                      <a:pt x="6" y="540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463" y="7"/>
                    </a:lnTo>
                  </a:path>
                </a:pathLst>
              </a:custGeom>
              <a:solidFill>
                <a:srgbClr val="cccc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86200" y="4343400"/>
                <a:ext cx="733680" cy="3556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935160" y="481068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1280" y="7621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4800600" y="1752480"/>
              <a:ext cx="2565720" cy="1312200"/>
              <a:chOff x="4800600" y="1752480"/>
              <a:chExt cx="2565720" cy="13122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4800600" y="1752480"/>
                <a:ext cx="854280" cy="1143000"/>
                <a:chOff x="4800600" y="1752480"/>
                <a:chExt cx="854280" cy="1143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800600" y="1752480"/>
                  <a:ext cx="838440" cy="11430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802040" y="20566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000000"/>
                      </a:solidFill>
                      <a:latin typeface="Times New Roman"/>
                    </a:rPr>
                    <a:t>Hos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094440" y="1752480"/>
                <a:ext cx="1271880" cy="1312200"/>
                <a:chOff x="6094440" y="1752480"/>
                <a:chExt cx="1271880" cy="131220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6096240" y="1752480"/>
                  <a:ext cx="1143000" cy="685080"/>
                  <a:chOff x="6096240" y="1752480"/>
                  <a:chExt cx="1143000" cy="6850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6096240" y="1752480"/>
                    <a:ext cx="68580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248520" y="1904400"/>
                    <a:ext cx="68580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400800" y="2056680"/>
                    <a:ext cx="68580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553440" y="2209320"/>
                    <a:ext cx="68580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>
                  <a:off x="6094440" y="2360880"/>
                  <a:ext cx="12718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SA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883320" y="1295280"/>
              <a:ext cx="402480" cy="2133720"/>
              <a:chOff x="3883320" y="1295280"/>
              <a:chExt cx="402480" cy="2133720"/>
            </a:xfrm>
          </p:grpSpPr>
          <p:sp>
            <p:nvSpPr>
              <p:cNvPr id="284" name=""/>
              <p:cNvSpPr/>
              <p:nvPr/>
            </p:nvSpPr>
            <p:spPr>
              <a:xfrm>
                <a:off x="3886200" y="1295280"/>
                <a:ext cx="380880" cy="213372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216800">
                <a:off x="3711240" y="2156400"/>
                <a:ext cx="74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267080" y="2286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8680" y="2286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571640" y="3048120"/>
              <a:ext cx="2057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31000" y="76140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cc3300"/>
                  </a:solidFill>
                  <a:latin typeface="Times New Roman"/>
                </a:rPr>
                <a:t>OS/3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5160" y="7614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cc3300"/>
                  </a:solidFill>
                  <a:latin typeface="Times New Roman"/>
                </a:rPr>
                <a:t>Un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52880" y="2133720"/>
            <a:ext cx="3124440" cy="2209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6291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218280" y="3732120"/>
            <a:ext cx="387360" cy="533520"/>
            <a:chOff x="6218280" y="3732120"/>
            <a:chExt cx="387360" cy="533520"/>
          </a:xfrm>
        </p:grpSpPr>
        <p:sp>
          <p:nvSpPr>
            <p:cNvPr id="294" name=""/>
            <p:cNvSpPr/>
            <p:nvPr/>
          </p:nvSpPr>
          <p:spPr>
            <a:xfrm>
              <a:off x="6223320" y="3817440"/>
              <a:ext cx="382320" cy="448200"/>
            </a:xfrm>
            <a:custGeom>
              <a:avLst/>
              <a:gdLst/>
              <a:ahLst/>
              <a:rect l="l" t="t" r="r" b="b"/>
              <a:pathLst>
                <a:path w="464" h="634">
                  <a:moveTo>
                    <a:pt x="463" y="7"/>
                  </a:moveTo>
                  <a:lnTo>
                    <a:pt x="463" y="522"/>
                  </a:lnTo>
                  <a:lnTo>
                    <a:pt x="456" y="542"/>
                  </a:lnTo>
                  <a:lnTo>
                    <a:pt x="445" y="560"/>
                  </a:lnTo>
                  <a:lnTo>
                    <a:pt x="428" y="576"/>
                  </a:lnTo>
                  <a:lnTo>
                    <a:pt x="406" y="592"/>
                  </a:lnTo>
                  <a:lnTo>
                    <a:pt x="377" y="606"/>
                  </a:lnTo>
                  <a:lnTo>
                    <a:pt x="345" y="617"/>
                  </a:lnTo>
                  <a:lnTo>
                    <a:pt x="312" y="624"/>
                  </a:lnTo>
                  <a:lnTo>
                    <a:pt x="281" y="629"/>
                  </a:lnTo>
                  <a:lnTo>
                    <a:pt x="252" y="633"/>
                  </a:lnTo>
                  <a:lnTo>
                    <a:pt x="220" y="633"/>
                  </a:lnTo>
                  <a:lnTo>
                    <a:pt x="184" y="629"/>
                  </a:lnTo>
                  <a:lnTo>
                    <a:pt x="152" y="626"/>
                  </a:lnTo>
                  <a:lnTo>
                    <a:pt x="119" y="619"/>
                  </a:lnTo>
                  <a:lnTo>
                    <a:pt x="90" y="608"/>
                  </a:lnTo>
                  <a:lnTo>
                    <a:pt x="66" y="597"/>
                  </a:lnTo>
                  <a:lnTo>
                    <a:pt x="42" y="583"/>
                  </a:lnTo>
                  <a:lnTo>
                    <a:pt x="24" y="567"/>
                  </a:lnTo>
                  <a:lnTo>
                    <a:pt x="15" y="556"/>
                  </a:lnTo>
                  <a:lnTo>
                    <a:pt x="6" y="540"/>
                  </a:lnTo>
                  <a:lnTo>
                    <a:pt x="0" y="520"/>
                  </a:lnTo>
                  <a:lnTo>
                    <a:pt x="0" y="0"/>
                  </a:lnTo>
                  <a:lnTo>
                    <a:pt x="463" y="7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8280" y="3732120"/>
              <a:ext cx="380880" cy="158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154560" y="38739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0960" y="21337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632280" y="2575080"/>
            <a:ext cx="1367280" cy="598680"/>
            <a:chOff x="6632280" y="2575080"/>
            <a:chExt cx="1367280" cy="598680"/>
          </a:xfrm>
        </p:grpSpPr>
        <p:grpSp>
          <p:nvGrpSpPr>
            <p:cNvPr id="299" name=""/>
            <p:cNvGrpSpPr/>
            <p:nvPr/>
          </p:nvGrpSpPr>
          <p:grpSpPr>
            <a:xfrm>
              <a:off x="6632280" y="2575080"/>
              <a:ext cx="564840" cy="510480"/>
              <a:chOff x="6632280" y="2575080"/>
              <a:chExt cx="564840" cy="510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693120" y="2575080"/>
                <a:ext cx="434880" cy="510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32280" y="265680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365600" y="2575080"/>
              <a:ext cx="633960" cy="598680"/>
              <a:chOff x="7365600" y="2575080"/>
              <a:chExt cx="633960" cy="5986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7365600" y="2575080"/>
                <a:ext cx="592560" cy="306000"/>
                <a:chOff x="7365600" y="2575080"/>
                <a:chExt cx="592560" cy="306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365600" y="2575080"/>
                  <a:ext cx="355680" cy="101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44440" y="2642760"/>
                  <a:ext cx="355680" cy="101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523280" y="2710800"/>
                  <a:ext cx="355680" cy="101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602480" y="2779200"/>
                  <a:ext cx="355680" cy="101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7381440" y="2836440"/>
                <a:ext cx="61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Times New Roman"/>
                  </a:rPr>
                  <a:t>Programa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Times New Roman"/>
                  </a:rPr>
                  <a:t>SA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6146640" y="2371680"/>
            <a:ext cx="340560" cy="952560"/>
            <a:chOff x="6146640" y="2371680"/>
            <a:chExt cx="340560" cy="952560"/>
          </a:xfrm>
        </p:grpSpPr>
        <p:sp>
          <p:nvSpPr>
            <p:cNvPr id="310" name=""/>
            <p:cNvSpPr/>
            <p:nvPr/>
          </p:nvSpPr>
          <p:spPr>
            <a:xfrm>
              <a:off x="6218280" y="2371680"/>
              <a:ext cx="198000" cy="952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16800">
              <a:off x="6000840" y="26733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C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416640" y="281304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0" y="281304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573600" y="3152880"/>
            <a:ext cx="1068120" cy="6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09480" y="2133720"/>
            <a:ext cx="2286000" cy="2133360"/>
            <a:chOff x="609480" y="2133720"/>
            <a:chExt cx="2286000" cy="2133360"/>
          </a:xfrm>
        </p:grpSpPr>
        <p:sp>
          <p:nvSpPr>
            <p:cNvPr id="316" name=""/>
            <p:cNvSpPr/>
            <p:nvPr/>
          </p:nvSpPr>
          <p:spPr>
            <a:xfrm>
              <a:off x="609480" y="2133720"/>
              <a:ext cx="2286000" cy="2133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21120" y="289440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Unis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66880" y="312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2895480"/>
            <a:ext cx="609840" cy="381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3276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720" y="2133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27560" y="213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25909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66880" y="762120"/>
            <a:ext cx="6019920" cy="4952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4114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105520" y="4343400"/>
            <a:ext cx="745560" cy="1198440"/>
            <a:chOff x="5105520" y="4343400"/>
            <a:chExt cx="745560" cy="1198440"/>
          </a:xfrm>
        </p:grpSpPr>
        <p:sp>
          <p:nvSpPr>
            <p:cNvPr id="329" name=""/>
            <p:cNvSpPr/>
            <p:nvPr/>
          </p:nvSpPr>
          <p:spPr>
            <a:xfrm>
              <a:off x="5114880" y="4535280"/>
              <a:ext cx="736200" cy="1006560"/>
            </a:xfrm>
            <a:custGeom>
              <a:avLst/>
              <a:gdLst/>
              <a:ahLst/>
              <a:rect l="l" t="t" r="r" b="b"/>
              <a:pathLst>
                <a:path w="464" h="634">
                  <a:moveTo>
                    <a:pt x="463" y="7"/>
                  </a:moveTo>
                  <a:lnTo>
                    <a:pt x="463" y="522"/>
                  </a:lnTo>
                  <a:lnTo>
                    <a:pt x="456" y="542"/>
                  </a:lnTo>
                  <a:lnTo>
                    <a:pt x="445" y="560"/>
                  </a:lnTo>
                  <a:lnTo>
                    <a:pt x="428" y="576"/>
                  </a:lnTo>
                  <a:lnTo>
                    <a:pt x="406" y="592"/>
                  </a:lnTo>
                  <a:lnTo>
                    <a:pt x="377" y="606"/>
                  </a:lnTo>
                  <a:lnTo>
                    <a:pt x="345" y="617"/>
                  </a:lnTo>
                  <a:lnTo>
                    <a:pt x="312" y="624"/>
                  </a:lnTo>
                  <a:lnTo>
                    <a:pt x="281" y="629"/>
                  </a:lnTo>
                  <a:lnTo>
                    <a:pt x="252" y="633"/>
                  </a:lnTo>
                  <a:lnTo>
                    <a:pt x="220" y="633"/>
                  </a:lnTo>
                  <a:lnTo>
                    <a:pt x="184" y="629"/>
                  </a:lnTo>
                  <a:lnTo>
                    <a:pt x="152" y="626"/>
                  </a:lnTo>
                  <a:lnTo>
                    <a:pt x="119" y="619"/>
                  </a:lnTo>
                  <a:lnTo>
                    <a:pt x="90" y="608"/>
                  </a:lnTo>
                  <a:lnTo>
                    <a:pt x="66" y="597"/>
                  </a:lnTo>
                  <a:lnTo>
                    <a:pt x="42" y="583"/>
                  </a:lnTo>
                  <a:lnTo>
                    <a:pt x="24" y="567"/>
                  </a:lnTo>
                  <a:lnTo>
                    <a:pt x="15" y="556"/>
                  </a:lnTo>
                  <a:lnTo>
                    <a:pt x="6" y="540"/>
                  </a:lnTo>
                  <a:lnTo>
                    <a:pt x="0" y="520"/>
                  </a:lnTo>
                  <a:lnTo>
                    <a:pt x="0" y="0"/>
                  </a:lnTo>
                  <a:lnTo>
                    <a:pt x="463" y="7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05520" y="4343400"/>
              <a:ext cx="733320" cy="35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154480" y="4810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762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019920" y="1752480"/>
            <a:ext cx="2565360" cy="1312200"/>
            <a:chOff x="6019920" y="1752480"/>
            <a:chExt cx="2565360" cy="1312200"/>
          </a:xfrm>
        </p:grpSpPr>
        <p:grpSp>
          <p:nvGrpSpPr>
            <p:cNvPr id="334" name=""/>
            <p:cNvGrpSpPr/>
            <p:nvPr/>
          </p:nvGrpSpPr>
          <p:grpSpPr>
            <a:xfrm>
              <a:off x="6019920" y="1752480"/>
              <a:ext cx="853920" cy="1143000"/>
              <a:chOff x="6019920" y="1752480"/>
              <a:chExt cx="853920" cy="1143000"/>
            </a:xfrm>
          </p:grpSpPr>
          <p:sp>
            <p:nvSpPr>
              <p:cNvPr id="335" name=""/>
              <p:cNvSpPr/>
              <p:nvPr/>
            </p:nvSpPr>
            <p:spPr>
              <a:xfrm>
                <a:off x="6019920" y="1752480"/>
                <a:ext cx="838080" cy="11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21000" y="2056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Hos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313400" y="1752480"/>
              <a:ext cx="1271880" cy="1312200"/>
              <a:chOff x="7313400" y="1752480"/>
              <a:chExt cx="1271880" cy="13122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7315200" y="1752480"/>
                <a:ext cx="1142280" cy="685080"/>
                <a:chOff x="7315200" y="1752480"/>
                <a:chExt cx="1142280" cy="6850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315200" y="1752480"/>
                  <a:ext cx="6854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467120" y="1904400"/>
                  <a:ext cx="6854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19400" y="2056680"/>
                  <a:ext cx="6854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772040" y="2209320"/>
                  <a:ext cx="6854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7313400" y="2360880"/>
                <a:ext cx="1271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Program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SA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5102640" y="1295280"/>
            <a:ext cx="402480" cy="2133720"/>
            <a:chOff x="5102640" y="1295280"/>
            <a:chExt cx="402480" cy="2133720"/>
          </a:xfrm>
        </p:grpSpPr>
        <p:sp>
          <p:nvSpPr>
            <p:cNvPr id="345" name=""/>
            <p:cNvSpPr/>
            <p:nvPr/>
          </p:nvSpPr>
          <p:spPr>
            <a:xfrm>
              <a:off x="5105520" y="1295280"/>
              <a:ext cx="380880" cy="2133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16800">
              <a:off x="4930560" y="215640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486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790960" y="30481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53880" y="762120"/>
            <a:ext cx="1067040" cy="4952160"/>
            <a:chOff x="353880" y="762120"/>
            <a:chExt cx="1067040" cy="4952160"/>
          </a:xfrm>
        </p:grpSpPr>
        <p:sp>
          <p:nvSpPr>
            <p:cNvPr id="351" name=""/>
            <p:cNvSpPr/>
            <p:nvPr/>
          </p:nvSpPr>
          <p:spPr>
            <a:xfrm>
              <a:off x="353880" y="762120"/>
              <a:ext cx="1067040" cy="495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9720" y="283464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Unis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895480" y="2057400"/>
            <a:ext cx="1143000" cy="838080"/>
            <a:chOff x="2895480" y="2057400"/>
            <a:chExt cx="1143000" cy="838080"/>
          </a:xfrm>
        </p:grpSpPr>
        <p:sp>
          <p:nvSpPr>
            <p:cNvPr id="354" name=""/>
            <p:cNvSpPr/>
            <p:nvPr/>
          </p:nvSpPr>
          <p:spPr>
            <a:xfrm>
              <a:off x="2895480" y="2057400"/>
              <a:ext cx="1143000" cy="838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24800" y="228492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505320" y="2895480"/>
            <a:ext cx="160020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974200">
            <a:off x="4233240" y="4301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267080" y="1828800"/>
            <a:ext cx="380880" cy="1295280"/>
            <a:chOff x="4267080" y="1828800"/>
            <a:chExt cx="380880" cy="1295280"/>
          </a:xfrm>
        </p:grpSpPr>
        <p:sp>
          <p:nvSpPr>
            <p:cNvPr id="359" name=""/>
            <p:cNvSpPr/>
            <p:nvPr/>
          </p:nvSpPr>
          <p:spPr>
            <a:xfrm>
              <a:off x="4267080" y="1828800"/>
              <a:ext cx="380880" cy="12952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929760" y="230040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ICS 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038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2438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77960" y="2056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50320" y="761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98760" y="761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685800" y="2895480"/>
            <a:ext cx="2666520" cy="2133360"/>
            <a:chOff x="685800" y="2895480"/>
            <a:chExt cx="2666520" cy="2133360"/>
          </a:xfrm>
        </p:grpSpPr>
        <p:sp>
          <p:nvSpPr>
            <p:cNvPr id="368" name=""/>
            <p:cNvSpPr/>
            <p:nvPr/>
          </p:nvSpPr>
          <p:spPr>
            <a:xfrm>
              <a:off x="685800" y="2895480"/>
              <a:ext cx="2666520" cy="2133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26600" y="3659400"/>
              <a:ext cx="134964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Wind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952880" y="2894760"/>
            <a:ext cx="3124440" cy="2210760"/>
            <a:chOff x="4952880" y="2894760"/>
            <a:chExt cx="3124440" cy="2210760"/>
          </a:xfrm>
        </p:grpSpPr>
        <p:sp>
          <p:nvSpPr>
            <p:cNvPr id="371" name=""/>
            <p:cNvSpPr/>
            <p:nvPr/>
          </p:nvSpPr>
          <p:spPr>
            <a:xfrm>
              <a:off x="4952880" y="2895480"/>
              <a:ext cx="3124440" cy="2210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43909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6218280" y="4494240"/>
              <a:ext cx="387360" cy="533520"/>
              <a:chOff x="6218280" y="4494240"/>
              <a:chExt cx="387360" cy="533520"/>
            </a:xfrm>
          </p:grpSpPr>
          <p:sp>
            <p:nvSpPr>
              <p:cNvPr id="374" name=""/>
              <p:cNvSpPr/>
              <p:nvPr/>
            </p:nvSpPr>
            <p:spPr>
              <a:xfrm>
                <a:off x="6223320" y="4579560"/>
                <a:ext cx="382320" cy="448200"/>
              </a:xfrm>
              <a:custGeom>
                <a:avLst/>
                <a:gdLst/>
                <a:ahLst/>
                <a:rect l="l" t="t" r="r" b="b"/>
                <a:pathLst>
                  <a:path w="464" h="634">
                    <a:moveTo>
                      <a:pt x="463" y="7"/>
                    </a:moveTo>
                    <a:lnTo>
                      <a:pt x="463" y="522"/>
                    </a:lnTo>
                    <a:lnTo>
                      <a:pt x="456" y="542"/>
                    </a:lnTo>
                    <a:lnTo>
                      <a:pt x="445" y="560"/>
                    </a:lnTo>
                    <a:lnTo>
                      <a:pt x="428" y="576"/>
                    </a:lnTo>
                    <a:lnTo>
                      <a:pt x="406" y="592"/>
                    </a:lnTo>
                    <a:lnTo>
                      <a:pt x="377" y="606"/>
                    </a:lnTo>
                    <a:lnTo>
                      <a:pt x="345" y="617"/>
                    </a:lnTo>
                    <a:lnTo>
                      <a:pt x="312" y="624"/>
                    </a:lnTo>
                    <a:lnTo>
                      <a:pt x="281" y="629"/>
                    </a:lnTo>
                    <a:lnTo>
                      <a:pt x="252" y="633"/>
                    </a:lnTo>
                    <a:lnTo>
                      <a:pt x="220" y="633"/>
                    </a:lnTo>
                    <a:lnTo>
                      <a:pt x="184" y="629"/>
                    </a:lnTo>
                    <a:lnTo>
                      <a:pt x="152" y="626"/>
                    </a:lnTo>
                    <a:lnTo>
                      <a:pt x="119" y="619"/>
                    </a:lnTo>
                    <a:lnTo>
                      <a:pt x="90" y="608"/>
                    </a:lnTo>
                    <a:lnTo>
                      <a:pt x="66" y="597"/>
                    </a:lnTo>
                    <a:lnTo>
                      <a:pt x="42" y="583"/>
                    </a:lnTo>
                    <a:lnTo>
                      <a:pt x="24" y="567"/>
                    </a:lnTo>
                    <a:lnTo>
                      <a:pt x="15" y="556"/>
                    </a:lnTo>
                    <a:lnTo>
                      <a:pt x="6" y="540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463" y="7"/>
                    </a:lnTo>
                  </a:path>
                </a:pathLst>
              </a:custGeom>
              <a:solidFill>
                <a:srgbClr val="cccc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18280" y="4494240"/>
                <a:ext cx="38088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154560" y="46360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60960" y="289548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6632280" y="3336840"/>
              <a:ext cx="1367280" cy="598680"/>
              <a:chOff x="6632280" y="3336840"/>
              <a:chExt cx="1367280" cy="59868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6632280" y="3336840"/>
                <a:ext cx="564840" cy="510840"/>
                <a:chOff x="6632280" y="3336840"/>
                <a:chExt cx="564840" cy="510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693120" y="3336840"/>
                  <a:ext cx="434880" cy="5108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632280" y="3418920"/>
                  <a:ext cx="56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Times New Roman"/>
                    </a:rPr>
                    <a:t>Hos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365600" y="3336840"/>
                <a:ext cx="633960" cy="598680"/>
                <a:chOff x="7365600" y="3336840"/>
                <a:chExt cx="633960" cy="59868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365600" y="3336840"/>
                  <a:ext cx="592560" cy="306000"/>
                  <a:chOff x="7365600" y="3336840"/>
                  <a:chExt cx="592560" cy="30600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365600" y="3336840"/>
                    <a:ext cx="355680" cy="101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444440" y="3404880"/>
                    <a:ext cx="355680" cy="101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523280" y="3472920"/>
                    <a:ext cx="355680" cy="101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602480" y="3540960"/>
                    <a:ext cx="355680" cy="101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>
                  <a:off x="7381440" y="3598200"/>
                  <a:ext cx="618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800" spc="-1" strike="noStrike">
                      <a:solidFill>
                        <a:srgbClr val="000000"/>
                      </a:solidFill>
                      <a:latin typeface="Times New Roman"/>
                    </a:rPr>
                    <a:t>Program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800" spc="-1" strike="noStrike">
                      <a:solidFill>
                        <a:srgbClr val="000000"/>
                      </a:solidFill>
                      <a:latin typeface="Times New Roman"/>
                    </a:rPr>
                    <a:t>SAD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9" name=""/>
            <p:cNvGrpSpPr/>
            <p:nvPr/>
          </p:nvGrpSpPr>
          <p:grpSpPr>
            <a:xfrm>
              <a:off x="6146640" y="3133800"/>
              <a:ext cx="340560" cy="952560"/>
              <a:chOff x="6146640" y="3133800"/>
              <a:chExt cx="340560" cy="952560"/>
            </a:xfrm>
          </p:grpSpPr>
          <p:sp>
            <p:nvSpPr>
              <p:cNvPr id="390" name=""/>
              <p:cNvSpPr/>
              <p:nvPr/>
            </p:nvSpPr>
            <p:spPr>
              <a:xfrm>
                <a:off x="6218280" y="3133800"/>
                <a:ext cx="198000" cy="95256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16800">
                <a:off x="6000840" y="343548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416640" y="357516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28000" y="35751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73600" y="3914640"/>
              <a:ext cx="106812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3657600"/>
              <a:ext cx="60984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91320" y="380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62720" y="403848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64720" y="289476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cc3300"/>
                  </a:solidFill>
                  <a:latin typeface="Times New Roman"/>
                </a:rPr>
                <a:t>OS/3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83280" y="28947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cc3300"/>
                  </a:solidFill>
                  <a:latin typeface="Times New Roman"/>
                </a:rPr>
                <a:t>Un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352680" y="3962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3429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666880" y="762120"/>
            <a:ext cx="6019920" cy="4952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4114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105520" y="4343400"/>
            <a:ext cx="745560" cy="1198440"/>
            <a:chOff x="5105520" y="4343400"/>
            <a:chExt cx="745560" cy="1198440"/>
          </a:xfrm>
        </p:grpSpPr>
        <p:sp>
          <p:nvSpPr>
            <p:cNvPr id="406" name=""/>
            <p:cNvSpPr/>
            <p:nvPr/>
          </p:nvSpPr>
          <p:spPr>
            <a:xfrm>
              <a:off x="5114880" y="4535280"/>
              <a:ext cx="736200" cy="1006560"/>
            </a:xfrm>
            <a:custGeom>
              <a:avLst/>
              <a:gdLst/>
              <a:ahLst/>
              <a:rect l="l" t="t" r="r" b="b"/>
              <a:pathLst>
                <a:path w="464" h="634">
                  <a:moveTo>
                    <a:pt x="463" y="7"/>
                  </a:moveTo>
                  <a:lnTo>
                    <a:pt x="463" y="522"/>
                  </a:lnTo>
                  <a:lnTo>
                    <a:pt x="456" y="542"/>
                  </a:lnTo>
                  <a:lnTo>
                    <a:pt x="445" y="560"/>
                  </a:lnTo>
                  <a:lnTo>
                    <a:pt x="428" y="576"/>
                  </a:lnTo>
                  <a:lnTo>
                    <a:pt x="406" y="592"/>
                  </a:lnTo>
                  <a:lnTo>
                    <a:pt x="377" y="606"/>
                  </a:lnTo>
                  <a:lnTo>
                    <a:pt x="345" y="617"/>
                  </a:lnTo>
                  <a:lnTo>
                    <a:pt x="312" y="624"/>
                  </a:lnTo>
                  <a:lnTo>
                    <a:pt x="281" y="629"/>
                  </a:lnTo>
                  <a:lnTo>
                    <a:pt x="252" y="633"/>
                  </a:lnTo>
                  <a:lnTo>
                    <a:pt x="220" y="633"/>
                  </a:lnTo>
                  <a:lnTo>
                    <a:pt x="184" y="629"/>
                  </a:lnTo>
                  <a:lnTo>
                    <a:pt x="152" y="626"/>
                  </a:lnTo>
                  <a:lnTo>
                    <a:pt x="119" y="619"/>
                  </a:lnTo>
                  <a:lnTo>
                    <a:pt x="90" y="608"/>
                  </a:lnTo>
                  <a:lnTo>
                    <a:pt x="66" y="597"/>
                  </a:lnTo>
                  <a:lnTo>
                    <a:pt x="42" y="583"/>
                  </a:lnTo>
                  <a:lnTo>
                    <a:pt x="24" y="567"/>
                  </a:lnTo>
                  <a:lnTo>
                    <a:pt x="15" y="556"/>
                  </a:lnTo>
                  <a:lnTo>
                    <a:pt x="6" y="540"/>
                  </a:lnTo>
                  <a:lnTo>
                    <a:pt x="0" y="520"/>
                  </a:lnTo>
                  <a:lnTo>
                    <a:pt x="0" y="0"/>
                  </a:lnTo>
                  <a:lnTo>
                    <a:pt x="463" y="7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05520" y="4343400"/>
              <a:ext cx="733320" cy="35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154480" y="4810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762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019920" y="1752480"/>
            <a:ext cx="2565360" cy="1312200"/>
            <a:chOff x="6019920" y="1752480"/>
            <a:chExt cx="2565360" cy="1312200"/>
          </a:xfrm>
        </p:grpSpPr>
        <p:grpSp>
          <p:nvGrpSpPr>
            <p:cNvPr id="411" name=""/>
            <p:cNvGrpSpPr/>
            <p:nvPr/>
          </p:nvGrpSpPr>
          <p:grpSpPr>
            <a:xfrm>
              <a:off x="6019920" y="1752480"/>
              <a:ext cx="853920" cy="1143000"/>
              <a:chOff x="6019920" y="1752480"/>
              <a:chExt cx="853920" cy="1143000"/>
            </a:xfrm>
          </p:grpSpPr>
          <p:sp>
            <p:nvSpPr>
              <p:cNvPr id="412" name=""/>
              <p:cNvSpPr/>
              <p:nvPr/>
            </p:nvSpPr>
            <p:spPr>
              <a:xfrm>
                <a:off x="6019920" y="1752480"/>
                <a:ext cx="838080" cy="11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21000" y="2056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Hos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313400" y="1752480"/>
              <a:ext cx="1271880" cy="1312200"/>
              <a:chOff x="7313400" y="1752480"/>
              <a:chExt cx="1271880" cy="131220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7315200" y="1752480"/>
                <a:ext cx="1142280" cy="685080"/>
                <a:chOff x="7315200" y="1752480"/>
                <a:chExt cx="1142280" cy="685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315200" y="1752480"/>
                  <a:ext cx="6854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467120" y="1904400"/>
                  <a:ext cx="6854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619400" y="2056680"/>
                  <a:ext cx="6854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772040" y="2209320"/>
                  <a:ext cx="6854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7313400" y="2360880"/>
                <a:ext cx="1271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Program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SA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5102640" y="1295280"/>
            <a:ext cx="402480" cy="2133720"/>
            <a:chOff x="5102640" y="1295280"/>
            <a:chExt cx="402480" cy="2133720"/>
          </a:xfrm>
        </p:grpSpPr>
        <p:sp>
          <p:nvSpPr>
            <p:cNvPr id="422" name=""/>
            <p:cNvSpPr/>
            <p:nvPr/>
          </p:nvSpPr>
          <p:spPr>
            <a:xfrm>
              <a:off x="5105520" y="1295280"/>
              <a:ext cx="380880" cy="2133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6216800">
              <a:off x="4930560" y="215640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5486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790960" y="30481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41200" y="762120"/>
            <a:ext cx="1349640" cy="4952160"/>
            <a:chOff x="241200" y="762120"/>
            <a:chExt cx="1349640" cy="4952160"/>
          </a:xfrm>
        </p:grpSpPr>
        <p:sp>
          <p:nvSpPr>
            <p:cNvPr id="428" name=""/>
            <p:cNvSpPr/>
            <p:nvPr/>
          </p:nvSpPr>
          <p:spPr>
            <a:xfrm>
              <a:off x="322920" y="762120"/>
              <a:ext cx="1199880" cy="495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1200" y="283464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Wind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2057400"/>
            <a:ext cx="1143000" cy="838080"/>
            <a:chOff x="2895480" y="2057400"/>
            <a:chExt cx="1143000" cy="838080"/>
          </a:xfrm>
        </p:grpSpPr>
        <p:sp>
          <p:nvSpPr>
            <p:cNvPr id="431" name=""/>
            <p:cNvSpPr/>
            <p:nvPr/>
          </p:nvSpPr>
          <p:spPr>
            <a:xfrm>
              <a:off x="2895480" y="2057400"/>
              <a:ext cx="1143000" cy="838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4800" y="228492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505320" y="2895480"/>
            <a:ext cx="160020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974200">
            <a:off x="4233240" y="4301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267080" y="1828800"/>
            <a:ext cx="380880" cy="1295280"/>
            <a:chOff x="4267080" y="1828800"/>
            <a:chExt cx="380880" cy="1295280"/>
          </a:xfrm>
        </p:grpSpPr>
        <p:sp>
          <p:nvSpPr>
            <p:cNvPr id="436" name=""/>
            <p:cNvSpPr/>
            <p:nvPr/>
          </p:nvSpPr>
          <p:spPr>
            <a:xfrm>
              <a:off x="4267080" y="1828800"/>
              <a:ext cx="380880" cy="12952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3929760" y="230040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ICS 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038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483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27920" y="2056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49528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219320"/>
            <a:ext cx="27432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30960" y="5028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732000">
            <a:off x="1753920" y="1065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326280" y="761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75080" y="761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3315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Estrutura Empresarial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90920" y="1131840"/>
          <a:ext cx="655308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31840"/>
                    <a:ext cx="65530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33520" y="274680"/>
          <a:ext cx="113652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680"/>
                    <a:ext cx="1136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398600"/>
            <a:ext cx="283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apital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Áreas de at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ineração, refratários, engenharia, cerâmicos, agropecuária e informá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UA, Europa,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mérica do Sul e Á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Faturamento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$ 390 Milh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mpre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2.5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55640" y="60958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Magnesita S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93400" y="696960"/>
            <a:ext cx="487764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SA-INFOR é uma empresa Magnesita S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971800" y="3733920"/>
            <a:ext cx="3124080" cy="2209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522936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237200" y="5332320"/>
            <a:ext cx="387360" cy="533520"/>
            <a:chOff x="4237200" y="5332320"/>
            <a:chExt cx="387360" cy="533520"/>
          </a:xfrm>
        </p:grpSpPr>
        <p:sp>
          <p:nvSpPr>
            <p:cNvPr id="451" name=""/>
            <p:cNvSpPr/>
            <p:nvPr/>
          </p:nvSpPr>
          <p:spPr>
            <a:xfrm>
              <a:off x="4242240" y="5417640"/>
              <a:ext cx="382320" cy="448200"/>
            </a:xfrm>
            <a:custGeom>
              <a:avLst/>
              <a:gdLst/>
              <a:ahLst/>
              <a:rect l="l" t="t" r="r" b="b"/>
              <a:pathLst>
                <a:path w="464" h="634">
                  <a:moveTo>
                    <a:pt x="463" y="7"/>
                  </a:moveTo>
                  <a:lnTo>
                    <a:pt x="463" y="522"/>
                  </a:lnTo>
                  <a:lnTo>
                    <a:pt x="456" y="542"/>
                  </a:lnTo>
                  <a:lnTo>
                    <a:pt x="445" y="560"/>
                  </a:lnTo>
                  <a:lnTo>
                    <a:pt x="428" y="576"/>
                  </a:lnTo>
                  <a:lnTo>
                    <a:pt x="406" y="592"/>
                  </a:lnTo>
                  <a:lnTo>
                    <a:pt x="377" y="606"/>
                  </a:lnTo>
                  <a:lnTo>
                    <a:pt x="345" y="617"/>
                  </a:lnTo>
                  <a:lnTo>
                    <a:pt x="312" y="624"/>
                  </a:lnTo>
                  <a:lnTo>
                    <a:pt x="281" y="629"/>
                  </a:lnTo>
                  <a:lnTo>
                    <a:pt x="252" y="633"/>
                  </a:lnTo>
                  <a:lnTo>
                    <a:pt x="220" y="633"/>
                  </a:lnTo>
                  <a:lnTo>
                    <a:pt x="184" y="629"/>
                  </a:lnTo>
                  <a:lnTo>
                    <a:pt x="152" y="626"/>
                  </a:lnTo>
                  <a:lnTo>
                    <a:pt x="119" y="619"/>
                  </a:lnTo>
                  <a:lnTo>
                    <a:pt x="90" y="608"/>
                  </a:lnTo>
                  <a:lnTo>
                    <a:pt x="66" y="597"/>
                  </a:lnTo>
                  <a:lnTo>
                    <a:pt x="42" y="583"/>
                  </a:lnTo>
                  <a:lnTo>
                    <a:pt x="24" y="567"/>
                  </a:lnTo>
                  <a:lnTo>
                    <a:pt x="15" y="556"/>
                  </a:lnTo>
                  <a:lnTo>
                    <a:pt x="6" y="540"/>
                  </a:lnTo>
                  <a:lnTo>
                    <a:pt x="0" y="520"/>
                  </a:lnTo>
                  <a:lnTo>
                    <a:pt x="0" y="0"/>
                  </a:lnTo>
                  <a:lnTo>
                    <a:pt x="463" y="7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37200" y="5332320"/>
              <a:ext cx="380880" cy="158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173480" y="54741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9880" y="37339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651200" y="4175280"/>
            <a:ext cx="1366920" cy="598680"/>
            <a:chOff x="4651200" y="4175280"/>
            <a:chExt cx="1366920" cy="598680"/>
          </a:xfrm>
        </p:grpSpPr>
        <p:grpSp>
          <p:nvGrpSpPr>
            <p:cNvPr id="456" name=""/>
            <p:cNvGrpSpPr/>
            <p:nvPr/>
          </p:nvGrpSpPr>
          <p:grpSpPr>
            <a:xfrm>
              <a:off x="4651200" y="4175280"/>
              <a:ext cx="564840" cy="510480"/>
              <a:chOff x="4651200" y="4175280"/>
              <a:chExt cx="564840" cy="510480"/>
            </a:xfrm>
          </p:grpSpPr>
          <p:sp>
            <p:nvSpPr>
              <p:cNvPr id="457" name=""/>
              <p:cNvSpPr/>
              <p:nvPr/>
            </p:nvSpPr>
            <p:spPr>
              <a:xfrm>
                <a:off x="4712040" y="4175280"/>
                <a:ext cx="434880" cy="510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651200" y="425700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384160" y="4175280"/>
              <a:ext cx="633960" cy="598680"/>
              <a:chOff x="5384160" y="4175280"/>
              <a:chExt cx="633960" cy="59868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5384160" y="4175280"/>
                <a:ext cx="592200" cy="306000"/>
                <a:chOff x="5384160" y="4175280"/>
                <a:chExt cx="592200" cy="306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384160" y="4175280"/>
                  <a:ext cx="355320" cy="101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463000" y="4242960"/>
                  <a:ext cx="355320" cy="101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541840" y="4311000"/>
                  <a:ext cx="355320" cy="101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621040" y="4379400"/>
                  <a:ext cx="355320" cy="101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5400000" y="4436640"/>
                <a:ext cx="61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Times New Roman"/>
                  </a:rPr>
                  <a:t>Programa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Times New Roman"/>
                  </a:rPr>
                  <a:t>SA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4165560" y="3971880"/>
            <a:ext cx="340560" cy="952560"/>
            <a:chOff x="4165560" y="3971880"/>
            <a:chExt cx="340560" cy="952560"/>
          </a:xfrm>
        </p:grpSpPr>
        <p:sp>
          <p:nvSpPr>
            <p:cNvPr id="467" name=""/>
            <p:cNvSpPr/>
            <p:nvPr/>
          </p:nvSpPr>
          <p:spPr>
            <a:xfrm>
              <a:off x="4237200" y="3971880"/>
              <a:ext cx="198000" cy="952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16800">
              <a:off x="4019760" y="42735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C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435560" y="441324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46560" y="441324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592520" y="4753080"/>
            <a:ext cx="1068480" cy="6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4495680"/>
            <a:ext cx="609480" cy="381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4876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355920" y="3733920"/>
            <a:ext cx="709560" cy="580680"/>
            <a:chOff x="3355920" y="3733920"/>
            <a:chExt cx="709560" cy="580680"/>
          </a:xfrm>
        </p:grpSpPr>
        <p:sp>
          <p:nvSpPr>
            <p:cNvPr id="476" name=""/>
            <p:cNvSpPr/>
            <p:nvPr/>
          </p:nvSpPr>
          <p:spPr>
            <a:xfrm>
              <a:off x="3358440" y="3812040"/>
              <a:ext cx="685800" cy="461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55920" y="3733920"/>
              <a:ext cx="70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We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H="1">
            <a:off x="3504960" y="4267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83280" y="3733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338600">
            <a:off x="2836080" y="3870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581280" y="380880"/>
            <a:ext cx="2666880" cy="2133360"/>
            <a:chOff x="3581280" y="380880"/>
            <a:chExt cx="2666880" cy="2133360"/>
          </a:xfrm>
        </p:grpSpPr>
        <p:sp>
          <p:nvSpPr>
            <p:cNvPr id="482" name=""/>
            <p:cNvSpPr/>
            <p:nvPr/>
          </p:nvSpPr>
          <p:spPr>
            <a:xfrm>
              <a:off x="3581280" y="380880"/>
              <a:ext cx="2666880" cy="2133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92640" y="961920"/>
              <a:ext cx="1213920" cy="825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H="1">
            <a:off x="4343040" y="251460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733560" y="251460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04920" y="1752480"/>
            <a:ext cx="7162560" cy="4648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48988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06880" y="5113440"/>
            <a:ext cx="887040" cy="1125000"/>
            <a:chOff x="3206880" y="5113440"/>
            <a:chExt cx="887040" cy="1125000"/>
          </a:xfrm>
        </p:grpSpPr>
        <p:sp>
          <p:nvSpPr>
            <p:cNvPr id="489" name=""/>
            <p:cNvSpPr/>
            <p:nvPr/>
          </p:nvSpPr>
          <p:spPr>
            <a:xfrm>
              <a:off x="3218400" y="5293440"/>
              <a:ext cx="875520" cy="945000"/>
            </a:xfrm>
            <a:custGeom>
              <a:avLst/>
              <a:gdLst/>
              <a:ahLst/>
              <a:rect l="l" t="t" r="r" b="b"/>
              <a:pathLst>
                <a:path w="464" h="634">
                  <a:moveTo>
                    <a:pt x="463" y="7"/>
                  </a:moveTo>
                  <a:lnTo>
                    <a:pt x="463" y="522"/>
                  </a:lnTo>
                  <a:lnTo>
                    <a:pt x="456" y="542"/>
                  </a:lnTo>
                  <a:lnTo>
                    <a:pt x="445" y="560"/>
                  </a:lnTo>
                  <a:lnTo>
                    <a:pt x="428" y="576"/>
                  </a:lnTo>
                  <a:lnTo>
                    <a:pt x="406" y="592"/>
                  </a:lnTo>
                  <a:lnTo>
                    <a:pt x="377" y="606"/>
                  </a:lnTo>
                  <a:lnTo>
                    <a:pt x="345" y="617"/>
                  </a:lnTo>
                  <a:lnTo>
                    <a:pt x="312" y="624"/>
                  </a:lnTo>
                  <a:lnTo>
                    <a:pt x="281" y="629"/>
                  </a:lnTo>
                  <a:lnTo>
                    <a:pt x="252" y="633"/>
                  </a:lnTo>
                  <a:lnTo>
                    <a:pt x="220" y="633"/>
                  </a:lnTo>
                  <a:lnTo>
                    <a:pt x="184" y="629"/>
                  </a:lnTo>
                  <a:lnTo>
                    <a:pt x="152" y="626"/>
                  </a:lnTo>
                  <a:lnTo>
                    <a:pt x="119" y="619"/>
                  </a:lnTo>
                  <a:lnTo>
                    <a:pt x="90" y="608"/>
                  </a:lnTo>
                  <a:lnTo>
                    <a:pt x="66" y="597"/>
                  </a:lnTo>
                  <a:lnTo>
                    <a:pt x="42" y="583"/>
                  </a:lnTo>
                  <a:lnTo>
                    <a:pt x="24" y="567"/>
                  </a:lnTo>
                  <a:lnTo>
                    <a:pt x="15" y="556"/>
                  </a:lnTo>
                  <a:lnTo>
                    <a:pt x="6" y="540"/>
                  </a:lnTo>
                  <a:lnTo>
                    <a:pt x="0" y="520"/>
                  </a:lnTo>
                  <a:lnTo>
                    <a:pt x="0" y="0"/>
                  </a:lnTo>
                  <a:lnTo>
                    <a:pt x="463" y="7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06880" y="5113440"/>
              <a:ext cx="872280" cy="333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3327120" y="5541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43280" y="1752480"/>
            <a:ext cx="0" cy="31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294080" y="2682720"/>
            <a:ext cx="2934000" cy="1250640"/>
            <a:chOff x="4294080" y="2682720"/>
            <a:chExt cx="2934000" cy="1250640"/>
          </a:xfrm>
        </p:grpSpPr>
        <p:grpSp>
          <p:nvGrpSpPr>
            <p:cNvPr id="494" name=""/>
            <p:cNvGrpSpPr/>
            <p:nvPr/>
          </p:nvGrpSpPr>
          <p:grpSpPr>
            <a:xfrm>
              <a:off x="4294080" y="2682720"/>
              <a:ext cx="997200" cy="1072080"/>
              <a:chOff x="4294080" y="2682720"/>
              <a:chExt cx="997200" cy="1072080"/>
            </a:xfrm>
          </p:grpSpPr>
          <p:sp>
            <p:nvSpPr>
              <p:cNvPr id="495" name=""/>
              <p:cNvSpPr/>
              <p:nvPr/>
            </p:nvSpPr>
            <p:spPr>
              <a:xfrm>
                <a:off x="4294080" y="2682720"/>
                <a:ext cx="997200" cy="1072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378320" y="29534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Hos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835960" y="2682720"/>
              <a:ext cx="1392120" cy="1250640"/>
              <a:chOff x="5835960" y="2682720"/>
              <a:chExt cx="1392120" cy="12506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5835960" y="2682720"/>
                <a:ext cx="1359360" cy="642960"/>
                <a:chOff x="5835960" y="2682720"/>
                <a:chExt cx="1359360" cy="642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5960" y="2682720"/>
                  <a:ext cx="815760" cy="2142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017040" y="2825280"/>
                  <a:ext cx="815760" cy="2142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198120" y="2968200"/>
                  <a:ext cx="815760" cy="2142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379560" y="3111480"/>
                  <a:ext cx="815760" cy="2142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5956200" y="3229560"/>
                <a:ext cx="1271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Program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SA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3206880" y="2252520"/>
            <a:ext cx="451800" cy="2003400"/>
            <a:chOff x="3206880" y="2252520"/>
            <a:chExt cx="451800" cy="2003400"/>
          </a:xfrm>
        </p:grpSpPr>
        <p:sp>
          <p:nvSpPr>
            <p:cNvPr id="505" name=""/>
            <p:cNvSpPr/>
            <p:nvPr/>
          </p:nvSpPr>
          <p:spPr>
            <a:xfrm>
              <a:off x="3206880" y="2252520"/>
              <a:ext cx="451800" cy="200340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16800">
              <a:off x="2877840" y="30362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ICS 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659040" y="31827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91280" y="31827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022640" y="3897360"/>
            <a:ext cx="2448000" cy="1287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90920" y="228600"/>
            <a:ext cx="3352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27560" y="53244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9480" y="3733920"/>
            <a:ext cx="1143000" cy="838080"/>
            <a:chOff x="609480" y="3733920"/>
            <a:chExt cx="1143000" cy="838080"/>
          </a:xfrm>
        </p:grpSpPr>
        <p:sp>
          <p:nvSpPr>
            <p:cNvPr id="513" name=""/>
            <p:cNvSpPr/>
            <p:nvPr/>
          </p:nvSpPr>
          <p:spPr>
            <a:xfrm>
              <a:off x="609480" y="3733920"/>
              <a:ext cx="1143000" cy="838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8800" y="396144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219320" y="457200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863600">
            <a:off x="2176920" y="5367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209680" y="3505320"/>
            <a:ext cx="380880" cy="1295280"/>
            <a:chOff x="2209680" y="3505320"/>
            <a:chExt cx="380880" cy="1295280"/>
          </a:xfrm>
        </p:grpSpPr>
        <p:sp>
          <p:nvSpPr>
            <p:cNvPr id="518" name=""/>
            <p:cNvSpPr/>
            <p:nvPr/>
          </p:nvSpPr>
          <p:spPr>
            <a:xfrm>
              <a:off x="2209680" y="3505320"/>
              <a:ext cx="380880" cy="12952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872360" y="397692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ICS 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7524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09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56000" y="2268720"/>
            <a:ext cx="1306800" cy="648720"/>
            <a:chOff x="756000" y="2268720"/>
            <a:chExt cx="1306800" cy="648720"/>
          </a:xfrm>
        </p:grpSpPr>
        <p:sp>
          <p:nvSpPr>
            <p:cNvPr id="523" name=""/>
            <p:cNvSpPr/>
            <p:nvPr/>
          </p:nvSpPr>
          <p:spPr>
            <a:xfrm>
              <a:off x="848880" y="2313000"/>
              <a:ext cx="1094040" cy="604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6000" y="2268720"/>
              <a:ext cx="130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WebSp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 flipH="1">
            <a:off x="1371600" y="12952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6266000">
            <a:off x="972360" y="2989800"/>
            <a:ext cx="8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21566400">
            <a:off x="3049560" y="1370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02400" y="17517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960" y="175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429000" y="12952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1371600" y="685800"/>
            <a:ext cx="6552720" cy="4952520"/>
            <a:chOff x="1371600" y="685800"/>
            <a:chExt cx="6552720" cy="4952520"/>
          </a:xfrm>
        </p:grpSpPr>
        <p:sp>
          <p:nvSpPr>
            <p:cNvPr id="533" name=""/>
            <p:cNvSpPr/>
            <p:nvPr/>
          </p:nvSpPr>
          <p:spPr>
            <a:xfrm>
              <a:off x="4293720" y="2928600"/>
              <a:ext cx="3630600" cy="270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93720" y="4762440"/>
              <a:ext cx="36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764320" y="4889160"/>
              <a:ext cx="450000" cy="653400"/>
              <a:chOff x="5764320" y="4889160"/>
              <a:chExt cx="450000" cy="653400"/>
            </a:xfrm>
          </p:grpSpPr>
          <p:sp>
            <p:nvSpPr>
              <p:cNvPr id="536" name=""/>
              <p:cNvSpPr/>
              <p:nvPr/>
            </p:nvSpPr>
            <p:spPr>
              <a:xfrm>
                <a:off x="5770080" y="4993560"/>
                <a:ext cx="444240" cy="549000"/>
              </a:xfrm>
              <a:custGeom>
                <a:avLst/>
                <a:gdLst/>
                <a:ahLst/>
                <a:rect l="l" t="t" r="r" b="b"/>
                <a:pathLst>
                  <a:path w="464" h="634">
                    <a:moveTo>
                      <a:pt x="463" y="7"/>
                    </a:moveTo>
                    <a:lnTo>
                      <a:pt x="463" y="522"/>
                    </a:lnTo>
                    <a:lnTo>
                      <a:pt x="456" y="542"/>
                    </a:lnTo>
                    <a:lnTo>
                      <a:pt x="445" y="560"/>
                    </a:lnTo>
                    <a:lnTo>
                      <a:pt x="428" y="576"/>
                    </a:lnTo>
                    <a:lnTo>
                      <a:pt x="406" y="592"/>
                    </a:lnTo>
                    <a:lnTo>
                      <a:pt x="377" y="606"/>
                    </a:lnTo>
                    <a:lnTo>
                      <a:pt x="345" y="617"/>
                    </a:lnTo>
                    <a:lnTo>
                      <a:pt x="312" y="624"/>
                    </a:lnTo>
                    <a:lnTo>
                      <a:pt x="281" y="629"/>
                    </a:lnTo>
                    <a:lnTo>
                      <a:pt x="252" y="633"/>
                    </a:lnTo>
                    <a:lnTo>
                      <a:pt x="220" y="633"/>
                    </a:lnTo>
                    <a:lnTo>
                      <a:pt x="184" y="629"/>
                    </a:lnTo>
                    <a:lnTo>
                      <a:pt x="152" y="626"/>
                    </a:lnTo>
                    <a:lnTo>
                      <a:pt x="119" y="619"/>
                    </a:lnTo>
                    <a:lnTo>
                      <a:pt x="90" y="608"/>
                    </a:lnTo>
                    <a:lnTo>
                      <a:pt x="66" y="597"/>
                    </a:lnTo>
                    <a:lnTo>
                      <a:pt x="42" y="583"/>
                    </a:lnTo>
                    <a:lnTo>
                      <a:pt x="24" y="567"/>
                    </a:lnTo>
                    <a:lnTo>
                      <a:pt x="15" y="556"/>
                    </a:lnTo>
                    <a:lnTo>
                      <a:pt x="6" y="540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463" y="7"/>
                    </a:lnTo>
                  </a:path>
                </a:pathLst>
              </a:custGeom>
              <a:solidFill>
                <a:srgbClr val="cccc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64320" y="4889160"/>
                <a:ext cx="442440" cy="194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5730480" y="5097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1440" y="2928600"/>
              <a:ext cx="0" cy="183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289200" y="3469680"/>
              <a:ext cx="1496520" cy="696960"/>
              <a:chOff x="6289200" y="3469680"/>
              <a:chExt cx="1496520" cy="69696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6289200" y="3469680"/>
                <a:ext cx="564840" cy="626400"/>
                <a:chOff x="6289200" y="3469680"/>
                <a:chExt cx="564840" cy="626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6315840" y="3469680"/>
                  <a:ext cx="505080" cy="6264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289200" y="3609360"/>
                  <a:ext cx="56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Times New Roman"/>
                    </a:rPr>
                    <a:t>Hos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7097040" y="3469680"/>
                <a:ext cx="688680" cy="696960"/>
                <a:chOff x="7097040" y="3469680"/>
                <a:chExt cx="688680" cy="69696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7097040" y="3469680"/>
                  <a:ext cx="688680" cy="375840"/>
                  <a:chOff x="7097040" y="3469680"/>
                  <a:chExt cx="688680" cy="37584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7097040" y="3469680"/>
                    <a:ext cx="413280" cy="1252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188840" y="3552840"/>
                    <a:ext cx="413280" cy="1252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280640" y="3636360"/>
                    <a:ext cx="413280" cy="1252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372440" y="3720240"/>
                    <a:ext cx="413280" cy="1252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>
                  <a:off x="7165440" y="3829320"/>
                  <a:ext cx="618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800" spc="-1" strike="noStrike">
                      <a:solidFill>
                        <a:srgbClr val="000000"/>
                      </a:solidFill>
                      <a:latin typeface="Times New Roman"/>
                    </a:rPr>
                    <a:t>Program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800" spc="-1" strike="noStrike">
                      <a:solidFill>
                        <a:srgbClr val="000000"/>
                      </a:solidFill>
                      <a:latin typeface="Times New Roman"/>
                    </a:rPr>
                    <a:t>SAD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5704920" y="3220200"/>
              <a:ext cx="340560" cy="1168200"/>
              <a:chOff x="5704920" y="3220200"/>
              <a:chExt cx="340560" cy="1168200"/>
            </a:xfrm>
          </p:grpSpPr>
          <p:sp>
            <p:nvSpPr>
              <p:cNvPr id="552" name=""/>
              <p:cNvSpPr/>
              <p:nvPr/>
            </p:nvSpPr>
            <p:spPr>
              <a:xfrm>
                <a:off x="5764320" y="3220200"/>
                <a:ext cx="230040" cy="116820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16800">
                <a:off x="5559120" y="362628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5994720" y="376164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21280" y="3761640"/>
              <a:ext cx="4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176880" y="4178520"/>
              <a:ext cx="1241640" cy="75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59400" y="3863160"/>
              <a:ext cx="708120" cy="466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67880" y="4050000"/>
              <a:ext cx="53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02200" y="4330080"/>
              <a:ext cx="796680" cy="84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4080" y="3024000"/>
              <a:ext cx="796680" cy="566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96640" y="2995200"/>
              <a:ext cx="70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We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913280" y="3582720"/>
              <a:ext cx="17676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34320" y="296928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cc3300"/>
                  </a:solidFill>
                  <a:latin typeface="Times New Roman"/>
                </a:rPr>
                <a:t>OS/3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6338600">
              <a:off x="4187880" y="31345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cc3300"/>
                  </a:solidFill>
                  <a:latin typeface="Times New Roman"/>
                </a:rPr>
                <a:t>Un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1371600" y="2554560"/>
              <a:ext cx="1859400" cy="1308600"/>
              <a:chOff x="1371600" y="2554560"/>
              <a:chExt cx="1859400" cy="1308600"/>
            </a:xfrm>
          </p:grpSpPr>
          <p:sp>
            <p:nvSpPr>
              <p:cNvPr id="566" name=""/>
              <p:cNvSpPr/>
              <p:nvPr/>
            </p:nvSpPr>
            <p:spPr>
              <a:xfrm>
                <a:off x="1371600" y="2554560"/>
                <a:ext cx="1859400" cy="1308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747080" y="2935080"/>
                <a:ext cx="1095120" cy="459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Leg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231000" y="3208680"/>
              <a:ext cx="13280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371600" y="4330080"/>
              <a:ext cx="1859400" cy="1307880"/>
              <a:chOff x="1371600" y="4330080"/>
              <a:chExt cx="1859400" cy="1307880"/>
            </a:xfrm>
          </p:grpSpPr>
          <p:sp>
            <p:nvSpPr>
              <p:cNvPr id="570" name=""/>
              <p:cNvSpPr/>
              <p:nvPr/>
            </p:nvSpPr>
            <p:spPr>
              <a:xfrm>
                <a:off x="1371600" y="4330080"/>
                <a:ext cx="1859400" cy="1307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16760" y="4710240"/>
                <a:ext cx="1349640" cy="459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Window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flipV="1">
              <a:off x="3231000" y="4236120"/>
              <a:ext cx="1328040" cy="74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178960" y="1993680"/>
              <a:ext cx="442440" cy="10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5002200" y="685800"/>
              <a:ext cx="1859400" cy="1307880"/>
              <a:chOff x="5002200" y="685800"/>
              <a:chExt cx="1859400" cy="1307880"/>
            </a:xfrm>
          </p:grpSpPr>
          <p:sp>
            <p:nvSpPr>
              <p:cNvPr id="575" name=""/>
              <p:cNvSpPr/>
              <p:nvPr/>
            </p:nvSpPr>
            <p:spPr>
              <a:xfrm>
                <a:off x="5002200" y="685800"/>
                <a:ext cx="1859400" cy="1307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15040" y="880200"/>
                <a:ext cx="1213920" cy="825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7" name=""/>
          <p:cNvGrpSpPr/>
          <p:nvPr/>
        </p:nvGrpSpPr>
        <p:grpSpPr>
          <a:xfrm>
            <a:off x="2590920" y="1600200"/>
            <a:ext cx="4876560" cy="3429000"/>
            <a:chOff x="2590920" y="1600200"/>
            <a:chExt cx="4876560" cy="3429000"/>
          </a:xfrm>
        </p:grpSpPr>
        <p:sp>
          <p:nvSpPr>
            <p:cNvPr id="578" name=""/>
            <p:cNvSpPr/>
            <p:nvPr/>
          </p:nvSpPr>
          <p:spPr>
            <a:xfrm>
              <a:off x="2590920" y="1600200"/>
              <a:ext cx="4876560" cy="3429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3657600" y="2362320"/>
              <a:ext cx="2714760" cy="17510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Complexidad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Integraçã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Nosso “pequeno” mund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t &gt;&gt;&gt;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mento p/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s e Lingu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de Desen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itores de 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BA/COM+/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JB - Servelts/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2520" y="175212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“pequeno” l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uário : “será que não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hefe: “você sabe qto isto é importante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., etc., etc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O tempo passa ...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3249720" cy="58798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533520" y="1854360"/>
            <a:ext cx="3063600" cy="31478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52280" y="5486400"/>
            <a:ext cx="80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ook Antiqua"/>
              </a:rPr>
              <a:t>E ainda temos sistemas sobre a “arquitetura atual” para manter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Tudo isto leva ao ...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362320" y="2438280"/>
            <a:ext cx="426708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Organização contra o Ca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esso + Arquite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t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..Todos autores, concordam é necessário um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A minha arquitetura para desenv. de OD é suficiente?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guagem OO (Java, C++, VB, Delphi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DBMS / ODB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ramentas de Desenvolv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agem, Requisitos, CM, Testes, Bug Tracking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 rot="20867400">
            <a:off x="837720" y="2209680"/>
            <a:ext cx="3810240" cy="27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 Integr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651120" y="3733920"/>
            <a:ext cx="5264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dutividade 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Necessidade de Framework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ecnologia de Objetos, sozinha, chegou a conseguir um maior grau de reuso, mas em pequena 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busca por reuso em escala maior, com o uso de componentes mais abstratos e/ou abrangentes levou ao desenvolvimento de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We believe that OO app. Frameworks will be at the core of leading-edge sw technology of the 21st. Century”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[Fayad-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Frameworks Definiçã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É um conjunto de classes que engloba um projeto abstrato para soluções de uma família de problemas relacionados”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[Johnson-Foote 198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Imagine um framework como um sub-sistema totalmente testado o qual você pode customizar para criar suas próprias aplicações”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[Orfali e outros 199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Atuação em todo Brasi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ritó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Paulo (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lo Horizonte (M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itiba (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sília (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io de Janeiro (R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tória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orianópolis (S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Vantagen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36160" y="290484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vado grau de abstração - se você não gosta de uma parte de seu sub-sistema, troque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usa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tividade - tim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ção da manute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ientação arquitetural como conseqü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ção de codificação e te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3840" y="1720800"/>
            <a:ext cx="82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A linha de código mais barata é a linha de código que voc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não escre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Stev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Diversidade de Frameworks</a:t>
            </a: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75212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desenho de interfaces com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persistência de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rança e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viços Gera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-24840" y="5656320"/>
            <a:ext cx="892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Ótimo ... E agora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Como eu organizo todos estes framework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Precisamos de uma Arquitetur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exidade dos sistemas, impacto de mudança constante de tecnologias, diferentes plataformas e necessidade de uso de diversos frameworks: promovem a organização de uma arquite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" y="3733920"/>
            <a:ext cx="81597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Book Antiqua"/>
              </a:rPr>
              <a:t>Uma arquitetura de sw define a organização estática do sw em subsistemas interconectados através de interfaces, e define como nodos executam subsistemas de sw que interagem entre si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Jacobson e outros [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OS/390 oferece uma arquitetur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WebSphere(EJB, JSP, WebDesign, Amb. Java), C++, DB2, ferramenta CASE, etc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ormam um Framework de desenvolvimento com alto grau de reu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609480" y="913320"/>
            <a:ext cx="7945920" cy="5438880"/>
            <a:chOff x="609480" y="913320"/>
            <a:chExt cx="7945920" cy="5438880"/>
          </a:xfrm>
        </p:grpSpPr>
        <p:grpSp>
          <p:nvGrpSpPr>
            <p:cNvPr id="611" name=""/>
            <p:cNvGrpSpPr/>
            <p:nvPr/>
          </p:nvGrpSpPr>
          <p:grpSpPr>
            <a:xfrm>
              <a:off x="685800" y="4555080"/>
              <a:ext cx="7778880" cy="1797120"/>
              <a:chOff x="685800" y="4555080"/>
              <a:chExt cx="7778880" cy="1797120"/>
            </a:xfrm>
          </p:grpSpPr>
          <p:sp>
            <p:nvSpPr>
              <p:cNvPr id="612" name=""/>
              <p:cNvSpPr/>
              <p:nvPr/>
            </p:nvSpPr>
            <p:spPr>
              <a:xfrm>
                <a:off x="685800" y="4555080"/>
                <a:ext cx="731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6870600" y="4902840"/>
                <a:ext cx="990720" cy="752400"/>
                <a:chOff x="6870600" y="4902840"/>
                <a:chExt cx="990720" cy="75240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6870600" y="5091120"/>
                  <a:ext cx="990720" cy="56412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511760" y="4902840"/>
                  <a:ext cx="349560" cy="188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181480" y="4897080"/>
                <a:ext cx="1143000" cy="752040"/>
                <a:chOff x="5181480" y="4897080"/>
                <a:chExt cx="1143000" cy="7520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81480" y="5085360"/>
                  <a:ext cx="1143000" cy="56376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920920" y="4897080"/>
                  <a:ext cx="403200" cy="188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3255840" y="4834440"/>
                <a:ext cx="1371240" cy="752040"/>
                <a:chOff x="3255840" y="4834440"/>
                <a:chExt cx="1371240" cy="7520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3255840" y="5022720"/>
                  <a:ext cx="1371240" cy="56376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143240" y="4834440"/>
                  <a:ext cx="483840" cy="188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990720" y="4828680"/>
                <a:ext cx="1218960" cy="752040"/>
                <a:chOff x="990720" y="4828680"/>
                <a:chExt cx="1218960" cy="75204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990720" y="5016960"/>
                  <a:ext cx="1218960" cy="56376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779480" y="4828680"/>
                  <a:ext cx="429840" cy="188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3733920" y="5923800"/>
                <a:ext cx="1066680" cy="410040"/>
                <a:chOff x="3733920" y="5923800"/>
                <a:chExt cx="1066680" cy="4100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733920" y="6026400"/>
                  <a:ext cx="1066680" cy="30744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424040" y="5923800"/>
                  <a:ext cx="376200" cy="10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990720" y="4997880"/>
                <a:ext cx="12873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Compone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Visua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742560" y="6045120"/>
                <a:ext cx="104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Linguag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306600" y="4998960"/>
                <a:ext cx="12765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Mecanismo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Distribui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19920" y="5067720"/>
                <a:ext cx="116964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Biblioteca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Tercei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886440" y="5067720"/>
                <a:ext cx="88632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Datab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Engi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08440" y="5838120"/>
                <a:ext cx="1956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ystem Software Lay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"/>
              <p:cNvCxnSpPr>
                <a:stCxn id="623" idx="3"/>
                <a:endCxn id="626" idx="1"/>
              </p:cNvCxnSpPr>
              <p:nvPr/>
            </p:nvCxnSpPr>
            <p:spPr>
              <a:xfrm>
                <a:off x="2222640" y="5298840"/>
                <a:ext cx="1499040" cy="881640"/>
              </a:xfrm>
              <a:prstGeom prst="straightConnector1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arrow" w="med"/>
              </a:ln>
            </p:spPr>
          </p:cxnSp>
          <p:cxnSp>
            <p:nvCxnSpPr>
              <p:cNvPr id="635" name=""/>
              <p:cNvCxnSpPr>
                <a:stCxn id="630" idx="2"/>
                <a:endCxn id="626" idx="0"/>
              </p:cNvCxnSpPr>
              <p:nvPr/>
            </p:nvCxnSpPr>
            <p:spPr>
              <a:xfrm>
                <a:off x="3944520" y="5594400"/>
                <a:ext cx="322920" cy="421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36" name=""/>
              <p:cNvCxnSpPr>
                <a:stCxn id="617" idx="2"/>
                <a:endCxn id="626" idx="3"/>
              </p:cNvCxnSpPr>
              <p:nvPr/>
            </p:nvCxnSpPr>
            <p:spPr>
              <a:xfrm flipH="1">
                <a:off x="4812480" y="5660640"/>
                <a:ext cx="940680" cy="5194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</p:grpSp>
        <p:grpSp>
          <p:nvGrpSpPr>
            <p:cNvPr id="637" name=""/>
            <p:cNvGrpSpPr/>
            <p:nvPr/>
          </p:nvGrpSpPr>
          <p:grpSpPr>
            <a:xfrm>
              <a:off x="1218960" y="928440"/>
              <a:ext cx="3276720" cy="2348640"/>
              <a:chOff x="1218960" y="928440"/>
              <a:chExt cx="3276720" cy="2348640"/>
            </a:xfrm>
          </p:grpSpPr>
          <p:sp>
            <p:nvSpPr>
              <p:cNvPr id="638" name=""/>
              <p:cNvSpPr/>
              <p:nvPr/>
            </p:nvSpPr>
            <p:spPr>
              <a:xfrm>
                <a:off x="4495680" y="928440"/>
                <a:ext cx="0" cy="109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1218960" y="981360"/>
                <a:ext cx="3125160" cy="2295720"/>
                <a:chOff x="1218960" y="981360"/>
                <a:chExt cx="3125160" cy="229572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1981080" y="1475280"/>
                  <a:ext cx="990720" cy="410040"/>
                  <a:chOff x="1981080" y="1475280"/>
                  <a:chExt cx="990720" cy="4100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1981080" y="1577880"/>
                    <a:ext cx="990720" cy="307440"/>
                  </a:xfrm>
                  <a:prstGeom prst="flowChartProcess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622240" y="1475280"/>
                    <a:ext cx="349560" cy="10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2211120" y="159516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198600" y="981360"/>
                  <a:ext cx="114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pplic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45" name=""/>
                <p:cNvCxnSpPr>
                  <a:stCxn id="641" idx="2"/>
                  <a:endCxn id="646" idx="0"/>
                </p:cNvCxnSpPr>
                <p:nvPr/>
              </p:nvCxnSpPr>
              <p:spPr>
                <a:xfrm flipH="1">
                  <a:off x="1218960" y="1897200"/>
                  <a:ext cx="1257840" cy="9014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prstDash val="sysDot"/>
                  <a:miter/>
                  <a:tailEnd len="med" type="arrow" w="med"/>
                </a:ln>
              </p:spPr>
            </p:cxnSp>
            <p:cxnSp>
              <p:nvCxnSpPr>
                <p:cNvPr id="647" name=""/>
                <p:cNvCxnSpPr>
                  <a:stCxn id="641" idx="2"/>
                  <a:endCxn id="648" idx="0"/>
                </p:cNvCxnSpPr>
                <p:nvPr/>
              </p:nvCxnSpPr>
              <p:spPr>
                <a:xfrm flipH="1">
                  <a:off x="2018880" y="1897200"/>
                  <a:ext cx="457920" cy="13802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prstDash val="sysDot"/>
                  <a:miter/>
                  <a:tailEnd len="med" type="arrow" w="med"/>
                </a:ln>
              </p:spPr>
            </p:cxnSp>
          </p:grpSp>
        </p:grpSp>
        <p:grpSp>
          <p:nvGrpSpPr>
            <p:cNvPr id="649" name=""/>
            <p:cNvGrpSpPr/>
            <p:nvPr/>
          </p:nvGrpSpPr>
          <p:grpSpPr>
            <a:xfrm>
              <a:off x="609480" y="2023200"/>
              <a:ext cx="7945920" cy="2986920"/>
              <a:chOff x="609480" y="2023200"/>
              <a:chExt cx="7945920" cy="2986920"/>
            </a:xfrm>
          </p:grpSpPr>
          <p:sp>
            <p:nvSpPr>
              <p:cNvPr id="650" name=""/>
              <p:cNvSpPr/>
              <p:nvPr/>
            </p:nvSpPr>
            <p:spPr>
              <a:xfrm>
                <a:off x="685800" y="2023200"/>
                <a:ext cx="731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685800" y="2707200"/>
                <a:ext cx="1066680" cy="410040"/>
                <a:chOff x="685800" y="2707200"/>
                <a:chExt cx="1066680" cy="4100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685800" y="2809800"/>
                  <a:ext cx="1066680" cy="30744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375920" y="2707200"/>
                  <a:ext cx="376200" cy="10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2438280" y="3801960"/>
                <a:ext cx="990720" cy="684000"/>
                <a:chOff x="2438280" y="3801960"/>
                <a:chExt cx="990720" cy="68400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2438280" y="3972960"/>
                  <a:ext cx="990720" cy="51300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79440" y="3801960"/>
                  <a:ext cx="349560" cy="171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447920" y="3117600"/>
                <a:ext cx="1143000" cy="684000"/>
                <a:chOff x="1447920" y="3117600"/>
                <a:chExt cx="1143000" cy="6840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447920" y="3288600"/>
                  <a:ext cx="1143000" cy="51300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187360" y="3117600"/>
                  <a:ext cx="403200" cy="171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3581280" y="2023200"/>
                <a:ext cx="0" cy="253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9480" y="28288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Formulár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71600" y="3294720"/>
                <a:ext cx="1295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Object-aware</a:t>
                </a:r>
                <a:br>
                  <a:rPr sz="1400"/>
                </a:b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Compon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438280" y="3903840"/>
                <a:ext cx="9730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Acesso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Obj.Dist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51240" y="2896920"/>
                <a:ext cx="160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Middleware Lay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3" name=""/>
              <p:cNvCxnSpPr>
                <a:stCxn id="648" idx="2"/>
                <a:endCxn id="623" idx="0"/>
              </p:cNvCxnSpPr>
              <p:nvPr/>
            </p:nvCxnSpPr>
            <p:spPr>
              <a:xfrm flipH="1">
                <a:off x="1599840" y="3813120"/>
                <a:ext cx="419760" cy="11923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64" name=""/>
              <p:cNvCxnSpPr>
                <a:stCxn id="661" idx="2"/>
                <a:endCxn id="620" idx="0"/>
              </p:cNvCxnSpPr>
              <p:nvPr/>
            </p:nvCxnSpPr>
            <p:spPr>
              <a:xfrm>
                <a:off x="2925720" y="4498560"/>
                <a:ext cx="1016640" cy="511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65" name=""/>
              <p:cNvCxnSpPr>
                <a:stCxn id="659" idx="2"/>
                <a:endCxn id="623" idx="0"/>
              </p:cNvCxnSpPr>
              <p:nvPr/>
            </p:nvCxnSpPr>
            <p:spPr>
              <a:xfrm>
                <a:off x="1181160" y="3117240"/>
                <a:ext cx="419760" cy="1888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66" name=""/>
              <p:cNvCxnSpPr>
                <a:stCxn id="646" idx="3"/>
                <a:endCxn id="648" idx="0"/>
              </p:cNvCxnSpPr>
              <p:nvPr/>
            </p:nvCxnSpPr>
            <p:spPr>
              <a:xfrm>
                <a:off x="1765080" y="2963520"/>
                <a:ext cx="254520" cy="3142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67" name=""/>
              <p:cNvCxnSpPr>
                <a:stCxn id="648" idx="3"/>
                <a:endCxn id="654" idx="0"/>
              </p:cNvCxnSpPr>
              <p:nvPr/>
            </p:nvCxnSpPr>
            <p:spPr>
              <a:xfrm>
                <a:off x="2603160" y="3545280"/>
                <a:ext cx="330840" cy="416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sp>
            <p:nvSpPr>
              <p:cNvPr id="668" name=""/>
              <p:cNvSpPr/>
              <p:nvPr/>
            </p:nvSpPr>
            <p:spPr>
              <a:xfrm>
                <a:off x="844920" y="207468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603160" y="2023200"/>
              <a:ext cx="3150360" cy="3050280"/>
              <a:chOff x="2603160" y="2023200"/>
              <a:chExt cx="3150360" cy="305028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4038480" y="3391560"/>
                <a:ext cx="990720" cy="410040"/>
                <a:chOff x="4038480" y="3391560"/>
                <a:chExt cx="990720" cy="4100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4038480" y="3494160"/>
                  <a:ext cx="990720" cy="30744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679640" y="3391560"/>
                  <a:ext cx="349560" cy="10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4038480" y="2707200"/>
                <a:ext cx="990720" cy="410040"/>
                <a:chOff x="4038480" y="2707200"/>
                <a:chExt cx="990720" cy="4100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038480" y="2809800"/>
                  <a:ext cx="990720" cy="30744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679640" y="2707200"/>
                  <a:ext cx="349560" cy="10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3886200" y="4007160"/>
                <a:ext cx="1143000" cy="410040"/>
                <a:chOff x="3886200" y="4007160"/>
                <a:chExt cx="1143000" cy="41004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886200" y="4109760"/>
                  <a:ext cx="1143000" cy="30744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625640" y="4007160"/>
                  <a:ext cx="403200" cy="10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5257800" y="2023200"/>
                <a:ext cx="0" cy="253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066920" y="2828880"/>
                <a:ext cx="98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eguranç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052520" y="3512880"/>
                <a:ext cx="90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Domín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06720" y="4127400"/>
                <a:ext cx="104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Data Typ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83" name=""/>
              <p:cNvCxnSpPr>
                <a:stCxn id="677" idx="3"/>
                <a:endCxn id="617" idx="0"/>
              </p:cNvCxnSpPr>
              <p:nvPr/>
            </p:nvCxnSpPr>
            <p:spPr>
              <a:xfrm>
                <a:off x="5041800" y="4263840"/>
                <a:ext cx="712080" cy="8100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84" name=""/>
              <p:cNvCxnSpPr>
                <a:stCxn id="648" idx="3"/>
                <a:endCxn id="671" idx="1"/>
              </p:cNvCxnSpPr>
              <p:nvPr/>
            </p:nvCxnSpPr>
            <p:spPr>
              <a:xfrm>
                <a:off x="2603160" y="3544920"/>
                <a:ext cx="1423080" cy="1033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85" name=""/>
              <p:cNvCxnSpPr>
                <a:stCxn id="648" idx="3"/>
                <a:endCxn id="674" idx="1"/>
              </p:cNvCxnSpPr>
              <p:nvPr/>
            </p:nvCxnSpPr>
            <p:spPr>
              <a:xfrm flipV="1">
                <a:off x="2603160" y="2963160"/>
                <a:ext cx="1423080" cy="582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sp>
            <p:nvSpPr>
              <p:cNvPr id="686" name=""/>
              <p:cNvSpPr/>
              <p:nvPr/>
            </p:nvSpPr>
            <p:spPr>
              <a:xfrm>
                <a:off x="3636720" y="2074680"/>
                <a:ext cx="95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Utilitár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533480" y="913320"/>
              <a:ext cx="3844080" cy="2735280"/>
              <a:chOff x="4533480" y="913320"/>
              <a:chExt cx="3844080" cy="273528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5105520" y="1475640"/>
                <a:ext cx="990360" cy="410040"/>
                <a:chOff x="5105520" y="1475640"/>
                <a:chExt cx="990360" cy="41004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5105520" y="1578240"/>
                  <a:ext cx="990360" cy="30744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746320" y="1475640"/>
                  <a:ext cx="349200" cy="10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" name=""/>
              <p:cNvSpPr/>
              <p:nvPr/>
            </p:nvSpPr>
            <p:spPr>
              <a:xfrm>
                <a:off x="5368320" y="1597680"/>
                <a:ext cx="38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38720" y="913320"/>
                <a:ext cx="133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Business Lay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93" name=""/>
              <p:cNvCxnSpPr>
                <a:stCxn id="689" idx="2"/>
                <a:endCxn id="674" idx="0"/>
              </p:cNvCxnSpPr>
              <p:nvPr/>
            </p:nvCxnSpPr>
            <p:spPr>
              <a:xfrm flipH="1">
                <a:off x="4533480" y="1897920"/>
                <a:ext cx="1067760" cy="9014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94" name=""/>
              <p:cNvCxnSpPr>
                <a:stCxn id="691" idx="2"/>
                <a:endCxn id="695" idx="0"/>
              </p:cNvCxnSpPr>
              <p:nvPr/>
            </p:nvCxnSpPr>
            <p:spPr>
              <a:xfrm>
                <a:off x="5564160" y="1886400"/>
                <a:ext cx="494640" cy="10497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96" name=""/>
              <p:cNvCxnSpPr>
                <a:stCxn id="691" idx="2"/>
                <a:endCxn id="697" idx="0"/>
              </p:cNvCxnSpPr>
              <p:nvPr/>
            </p:nvCxnSpPr>
            <p:spPr>
              <a:xfrm>
                <a:off x="5563800" y="1886040"/>
                <a:ext cx="1599480" cy="15973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698" name=""/>
              <p:cNvCxnSpPr>
                <a:stCxn id="689" idx="2"/>
                <a:endCxn id="671" idx="3"/>
              </p:cNvCxnSpPr>
              <p:nvPr/>
            </p:nvCxnSpPr>
            <p:spPr>
              <a:xfrm flipH="1">
                <a:off x="5041080" y="1897920"/>
                <a:ext cx="559800" cy="17510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</p:grpSp>
        <p:grpSp>
          <p:nvGrpSpPr>
            <p:cNvPr id="699" name=""/>
            <p:cNvGrpSpPr/>
            <p:nvPr/>
          </p:nvGrpSpPr>
          <p:grpSpPr>
            <a:xfrm>
              <a:off x="4613040" y="2076120"/>
              <a:ext cx="3256560" cy="3238560"/>
              <a:chOff x="4613040" y="2076120"/>
              <a:chExt cx="3256560" cy="323856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6629400" y="3391560"/>
                <a:ext cx="1066680" cy="410040"/>
                <a:chOff x="6629400" y="3391560"/>
                <a:chExt cx="1066680" cy="4100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629400" y="3494160"/>
                  <a:ext cx="1066680" cy="30744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319520" y="3391560"/>
                  <a:ext cx="376200" cy="10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486400" y="2844000"/>
                <a:ext cx="1143000" cy="410040"/>
                <a:chOff x="5486400" y="2844000"/>
                <a:chExt cx="1143000" cy="4100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486400" y="2946600"/>
                  <a:ext cx="1143000" cy="307440"/>
                </a:xfrm>
                <a:prstGeom prst="flowChartProcess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225840" y="2844000"/>
                  <a:ext cx="403200" cy="10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" name=""/>
              <p:cNvSpPr/>
              <p:nvPr/>
            </p:nvSpPr>
            <p:spPr>
              <a:xfrm>
                <a:off x="5479920" y="2965680"/>
                <a:ext cx="112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Distribui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619320" y="3511440"/>
                <a:ext cx="109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Persistê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6" name=""/>
              <p:cNvCxnSpPr>
                <a:stCxn id="697" idx="1"/>
                <a:endCxn id="677" idx="3"/>
              </p:cNvCxnSpPr>
              <p:nvPr/>
            </p:nvCxnSpPr>
            <p:spPr>
              <a:xfrm flipH="1">
                <a:off x="5041080" y="3648240"/>
                <a:ext cx="1575720" cy="615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707" name=""/>
              <p:cNvCxnSpPr>
                <a:stCxn id="697" idx="2"/>
                <a:endCxn id="630" idx="3"/>
              </p:cNvCxnSpPr>
              <p:nvPr/>
            </p:nvCxnSpPr>
            <p:spPr>
              <a:xfrm flipH="1">
                <a:off x="4613040" y="3813120"/>
                <a:ext cx="2550240" cy="1501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708" name=""/>
              <p:cNvCxnSpPr>
                <a:stCxn id="697" idx="2"/>
                <a:endCxn id="614" idx="0"/>
              </p:cNvCxnSpPr>
              <p:nvPr/>
            </p:nvCxnSpPr>
            <p:spPr>
              <a:xfrm>
                <a:off x="7162920" y="3813120"/>
                <a:ext cx="203760" cy="12664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cxnSp>
            <p:nvCxnSpPr>
              <p:cNvPr id="709" name=""/>
              <p:cNvCxnSpPr>
                <a:stCxn id="695" idx="2"/>
                <a:endCxn id="630" idx="3"/>
              </p:cNvCxnSpPr>
              <p:nvPr/>
            </p:nvCxnSpPr>
            <p:spPr>
              <a:xfrm flipH="1">
                <a:off x="4613040" y="3265920"/>
                <a:ext cx="1445040" cy="2049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</p:cxnSp>
          <p:sp>
            <p:nvSpPr>
              <p:cNvPr id="710" name=""/>
              <p:cNvSpPr/>
              <p:nvPr/>
            </p:nvSpPr>
            <p:spPr>
              <a:xfrm>
                <a:off x="6103800" y="2076120"/>
                <a:ext cx="176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Objetos Distribuí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1" name=""/>
              <p:cNvCxnSpPr>
                <a:stCxn id="704" idx="2"/>
                <a:endCxn id="677" idx="3"/>
              </p:cNvCxnSpPr>
              <p:nvPr/>
            </p:nvCxnSpPr>
            <p:spPr>
              <a:xfrm flipH="1">
                <a:off x="5041440" y="3254400"/>
                <a:ext cx="1000800" cy="1009800"/>
              </a:xfrm>
              <a:prstGeom prst="straightConnector1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arrow" w="med"/>
              </a:ln>
            </p:spPr>
          </p:cxnSp>
        </p:grpSp>
      </p:grpSp>
      <p:sp>
        <p:nvSpPr>
          <p:cNvPr id="712" name=""/>
          <p:cNvSpPr/>
          <p:nvPr/>
        </p:nvSpPr>
        <p:spPr>
          <a:xfrm>
            <a:off x="1452600" y="22824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omponentes de uma arquite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Resum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gração chave para produtiv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mente tecnologia baseada em produtos não é t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minuição da complexidade através de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tetura de desenvolvimento(Web e Corporativo) baseada em processo - resposta para Produtiv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Muito Obrigado !!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Cont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ww.msainfor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berto Marcio Ferreira de So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to@msainfor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iccardo Lanzu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nzuolo@datran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Referências Bibliográfica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YAD Mohamed E. e outros. Building application frameworks. Wiley. ISBN 0-471-24875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VONI, Darren. Java application frameworks. Wiley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BN 0-471-32930-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COBSON Ivar e outros. Software reuse. Addison Wesley.  ISBN 0-201-92476-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RUCHTEN, P. The 4+1 view model of architecture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EEE Software. Novembro de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SON-HAEFEL, Richard. Enterprise Java Beans. O’Reilly. ISBN 1-56592-605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FALI, Robert e outros. The essential Client/Server survival guide. Wiley.  ISBN 0-471-15325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FALI, Robert e outros. The essential distributed objects survival guide. Wiley. ISBN 0-471-12993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Alguns de nossos clientes</a:t>
            </a:r>
            <a:br>
              <a:rPr sz="4400"/>
            </a:b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57" name="clientes_bancos(1)" descr=""/>
          <p:cNvPicPr/>
          <p:nvPr/>
        </p:nvPicPr>
        <p:blipFill>
          <a:blip r:embed="rId1"/>
          <a:stretch/>
        </p:blipFill>
        <p:spPr>
          <a:xfrm>
            <a:off x="3387600" y="835200"/>
            <a:ext cx="2381400" cy="102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70440" y="1847880"/>
            <a:ext cx="2057400" cy="432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ABN AM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ASB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BAS/SUDAME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B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BANDE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BANE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B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BE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B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HS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lientes_industrias" descr=""/>
          <p:cNvPicPr/>
          <p:nvPr/>
        </p:nvPicPr>
        <p:blipFill>
          <a:blip r:embed="rId2"/>
          <a:stretch/>
        </p:blipFill>
        <p:spPr>
          <a:xfrm>
            <a:off x="355680" y="1428840"/>
            <a:ext cx="2539800" cy="87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98560" y="2428920"/>
            <a:ext cx="2271600" cy="1952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TATIAIA MÓV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KOD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MANNES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RE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lientes_transporte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2468520" cy="966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9400" y="5257800"/>
            <a:ext cx="207000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MRS LOGÍ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lientes_governo" descr=""/>
          <p:cNvPicPr/>
          <p:nvPr/>
        </p:nvPicPr>
        <p:blipFill>
          <a:blip r:embed="rId4"/>
          <a:stretch/>
        </p:blipFill>
        <p:spPr>
          <a:xfrm>
            <a:off x="6248520" y="1447920"/>
            <a:ext cx="2469960" cy="625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81680" y="2133720"/>
            <a:ext cx="1812960" cy="23173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SERP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CE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CO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DATAPR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PLAN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TAI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lientes_universidades" descr=""/>
          <p:cNvPicPr/>
          <p:nvPr/>
        </p:nvPicPr>
        <p:blipFill>
          <a:blip r:embed="rId5"/>
          <a:stretch/>
        </p:blipFill>
        <p:spPr>
          <a:xfrm>
            <a:off x="303120" y="4640400"/>
            <a:ext cx="2627280" cy="66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68400" y="5415120"/>
            <a:ext cx="1873080" cy="76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UF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UNIS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71080" y="976320"/>
            <a:ext cx="6326640" cy="969840"/>
            <a:chOff x="271080" y="976320"/>
            <a:chExt cx="6326640" cy="969840"/>
          </a:xfrm>
        </p:grpSpPr>
        <p:sp>
          <p:nvSpPr>
            <p:cNvPr id="68" name=""/>
            <p:cNvSpPr/>
            <p:nvPr/>
          </p:nvSpPr>
          <p:spPr>
            <a:xfrm>
              <a:off x="271080" y="1033560"/>
              <a:ext cx="504072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00"/>
                  </a:solidFill>
                  <a:latin typeface="Tahoma"/>
                </a:rPr>
                <a:t>Gerência de Projetos 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00"/>
                  </a:solidFill>
                  <a:latin typeface="Tahoma"/>
                </a:rPr>
                <a:t>Desenvolvimento de Aplic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5748480" y="976320"/>
              <a:ext cx="849240" cy="96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2649600" y="2006640"/>
            <a:ext cx="6243120" cy="1054080"/>
            <a:chOff x="2649600" y="2006640"/>
            <a:chExt cx="6243120" cy="1054080"/>
          </a:xfrm>
        </p:grpSpPr>
        <p:sp>
          <p:nvSpPr>
            <p:cNvPr id="71" name=""/>
            <p:cNvSpPr/>
            <p:nvPr/>
          </p:nvSpPr>
          <p:spPr>
            <a:xfrm>
              <a:off x="3992400" y="2125800"/>
              <a:ext cx="4900320" cy="8254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3300"/>
                  </a:solidFill>
                  <a:latin typeface="Tahoma"/>
                </a:rPr>
                <a:t>Transferência de Know-How  em Tecnologia da Infor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2649600" y="2006640"/>
              <a:ext cx="1050840" cy="105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244440" y="3154320"/>
            <a:ext cx="7729200" cy="1079640"/>
            <a:chOff x="244440" y="3154320"/>
            <a:chExt cx="7729200" cy="1079640"/>
          </a:xfrm>
        </p:grpSpPr>
        <p:sp>
          <p:nvSpPr>
            <p:cNvPr id="74" name=""/>
            <p:cNvSpPr/>
            <p:nvPr/>
          </p:nvSpPr>
          <p:spPr>
            <a:xfrm>
              <a:off x="244440" y="3294000"/>
              <a:ext cx="5951880" cy="703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Tahoma"/>
                </a:rPr>
                <a:t>Suporte Técnico 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Tahoma"/>
                </a:rPr>
                <a:t>Gerenciamento de Ativos de Infor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5">
              <a:lum contrast="-12000"/>
            </a:blip>
            <a:stretch/>
          </p:blipFill>
          <p:spPr>
            <a:xfrm>
              <a:off x="6515640" y="3154320"/>
              <a:ext cx="145800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244440" y="5627520"/>
            <a:ext cx="458640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cc"/>
                </a:solidFill>
                <a:latin typeface="Tahoma"/>
              </a:rPr>
              <a:t>Ferrament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cc"/>
                </a:solidFill>
                <a:latin typeface="Tahoma"/>
              </a:rPr>
              <a:t>Produ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2801880" y="4233960"/>
            <a:ext cx="898560" cy="1039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92400" y="4397400"/>
            <a:ext cx="4900680" cy="825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cc"/>
                </a:solidFill>
                <a:latin typeface="Tahoma"/>
              </a:rPr>
              <a:t>Gerenciamento Eletrônico de Documentos</a:t>
            </a:r>
            <a:r>
              <a:rPr b="1" lang="pt-BR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Linhas de Negócio</a:t>
            </a:r>
            <a:br>
              <a:rPr sz="4400"/>
            </a:b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resc" descr=""/>
          <p:cNvPicPr/>
          <p:nvPr/>
        </p:nvPicPr>
        <p:blipFill>
          <a:blip r:embed="rId1"/>
          <a:stretch/>
        </p:blipFill>
        <p:spPr>
          <a:xfrm>
            <a:off x="6275520" y="3360600"/>
            <a:ext cx="2868480" cy="349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vend_empr" descr=""/>
          <p:cNvPicPr/>
          <p:nvPr/>
        </p:nvPicPr>
        <p:blipFill>
          <a:blip r:embed="rId2"/>
          <a:stretch/>
        </p:blipFill>
        <p:spPr>
          <a:xfrm>
            <a:off x="6294600" y="0"/>
            <a:ext cx="2849400" cy="33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695520" y="2917800"/>
            <a:ext cx="216180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100 Mai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Empres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de </a:t>
            </a:r>
            <a:r>
              <a:rPr b="1" lang="pt-BR" sz="2000" spc="-1" strike="noStrike" u="sng">
                <a:solidFill>
                  <a:srgbClr val="ff3300"/>
                </a:solidFill>
                <a:uFillTx/>
                <a:latin typeface="Tahoma"/>
              </a:rPr>
              <a:t>Com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14520" y="4919760"/>
          <a:ext cx="232236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" y="4919760"/>
                    <a:ext cx="23223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294600" y="2386080"/>
            <a:ext cx="2849400" cy="2286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54640" y="6378480"/>
            <a:ext cx="2889360" cy="2286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419640" y="0"/>
            <a:ext cx="2867040" cy="3362400"/>
            <a:chOff x="3419640" y="0"/>
            <a:chExt cx="2867040" cy="3362400"/>
          </a:xfrm>
        </p:grpSpPr>
        <p:pic>
          <p:nvPicPr>
            <p:cNvPr id="88" name="liquid" descr=""/>
            <p:cNvPicPr/>
            <p:nvPr/>
          </p:nvPicPr>
          <p:blipFill>
            <a:blip r:embed="rId5"/>
            <a:stretch/>
          </p:blipFill>
          <p:spPr>
            <a:xfrm>
              <a:off x="3419640" y="0"/>
              <a:ext cx="2867040" cy="3362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3800520" y="685800"/>
              <a:ext cx="2438640" cy="2286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21400" y="3095640"/>
              <a:ext cx="385920" cy="2541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22520" y="3375000"/>
            <a:ext cx="2826000" cy="3482640"/>
            <a:chOff x="3422520" y="3375000"/>
            <a:chExt cx="2826000" cy="3482640"/>
          </a:xfrm>
        </p:grpSpPr>
        <p:pic>
          <p:nvPicPr>
            <p:cNvPr id="92" name="endiv" descr=""/>
            <p:cNvPicPr/>
            <p:nvPr/>
          </p:nvPicPr>
          <p:blipFill>
            <a:blip r:embed="rId6"/>
            <a:stretch/>
          </p:blipFill>
          <p:spPr>
            <a:xfrm>
              <a:off x="3422520" y="3375000"/>
              <a:ext cx="2826000" cy="3482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3422520" y="4087440"/>
              <a:ext cx="2804040" cy="26028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3960" y="6568920"/>
              <a:ext cx="396000" cy="28872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06680" y="0"/>
            <a:ext cx="573732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498920" y="1165320"/>
            <a:ext cx="3729240" cy="4483080"/>
            <a:chOff x="4498920" y="1165320"/>
            <a:chExt cx="3729240" cy="4483080"/>
          </a:xfrm>
        </p:grpSpPr>
        <p:pic>
          <p:nvPicPr>
            <p:cNvPr id="97" name="excel" descr=""/>
            <p:cNvPicPr/>
            <p:nvPr/>
          </p:nvPicPr>
          <p:blipFill>
            <a:blip r:embed="rId7"/>
            <a:stretch/>
          </p:blipFill>
          <p:spPr>
            <a:xfrm>
              <a:off x="4525920" y="1165320"/>
              <a:ext cx="3702240" cy="44830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>
              <a:off x="4498920" y="4738680"/>
              <a:ext cx="3727440" cy="42696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040" y="1049040"/>
            <a:ext cx="3254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3300"/>
                </a:solidFill>
                <a:latin typeface="Tahoma"/>
              </a:rPr>
              <a:t>Software Básico e de Produtividade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11760" y="3414600"/>
            <a:ext cx="2685960" cy="344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85120" y="0"/>
            <a:ext cx="2558880" cy="345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583320" y="3414600"/>
            <a:ext cx="2560680" cy="344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017960" y="0"/>
            <a:ext cx="2568600" cy="346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02040" y="0"/>
            <a:ext cx="52419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9400" y="1049040"/>
            <a:ext cx="35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Serviços Operacionai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48320" y="2631960"/>
            <a:ext cx="185256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200 Ma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Empres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3300"/>
                </a:solidFill>
                <a:uFillTx/>
                <a:latin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do 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90560" y="4829040"/>
            <a:ext cx="2347920" cy="881280"/>
            <a:chOff x="790560" y="4829040"/>
            <a:chExt cx="2347920" cy="881280"/>
          </a:xfrm>
        </p:grpSpPr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790560" y="4829040"/>
              <a:ext cx="234792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903240" y="5521320"/>
              <a:ext cx="89064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832280" y="1154160"/>
            <a:ext cx="3440160" cy="461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tetura do SA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operab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tetura para desenvolv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AD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amenta CASE com gerador de programas Co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dor de Aplicações para main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a em ambiente Uni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i migrado para ambiente OS/3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Riccardo/Beto</dc:creator>
  <dc:description/>
  <dc:language>en-US</dc:language>
  <cp:lastModifiedBy>Riccardo Lanzuolo</cp:lastModifiedBy>
  <cp:lastPrinted>2000-02-16T14:19:36Z</cp:lastPrinted>
  <dcterms:modified xsi:type="dcterms:W3CDTF">2000-05-23T18:33:35Z</dcterms:modified>
  <cp:revision>186</cp:revision>
  <dc:subject>OS/390</dc:subject>
  <dc:title>Apresentação IBM</dc:title>
</cp:coreProperties>
</file>