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06560" y="2209320"/>
            <a:ext cx="66866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06560" y="4518000"/>
            <a:ext cx="66866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06560" y="2209320"/>
            <a:ext cx="32630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040" y="2209320"/>
            <a:ext cx="32630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06560" y="4518000"/>
            <a:ext cx="32630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3040" y="4518000"/>
            <a:ext cx="32630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06560" y="2209320"/>
            <a:ext cx="2152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7360" y="2209320"/>
            <a:ext cx="2152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28160" y="2209320"/>
            <a:ext cx="2152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06560" y="4518000"/>
            <a:ext cx="2152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67360" y="4518000"/>
            <a:ext cx="2152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28160" y="4518000"/>
            <a:ext cx="215280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06560" y="2209320"/>
            <a:ext cx="66866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06560" y="2209320"/>
            <a:ext cx="6686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06560" y="2209320"/>
            <a:ext cx="3263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3040" y="2209320"/>
            <a:ext cx="3263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06560" y="2209320"/>
            <a:ext cx="32630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3040" y="2209320"/>
            <a:ext cx="3263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06560" y="4518000"/>
            <a:ext cx="32630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06560" y="2209320"/>
            <a:ext cx="3263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3040" y="2209320"/>
            <a:ext cx="32630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3040" y="4518000"/>
            <a:ext cx="32630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06560" y="2209320"/>
            <a:ext cx="32630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3040" y="2209320"/>
            <a:ext cx="32630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06560" y="4518000"/>
            <a:ext cx="6686640" cy="21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ra%20superior" descr=""/>
          <p:cNvPicPr/>
          <p:nvPr/>
        </p:nvPicPr>
        <p:blipFill>
          <a:blip r:embed="rId2"/>
          <a:stretch/>
        </p:blipFill>
        <p:spPr>
          <a:xfrm>
            <a:off x="2476440" y="0"/>
            <a:ext cx="7429680" cy="1905120"/>
          </a:xfrm>
          <a:prstGeom prst="rect">
            <a:avLst/>
          </a:prstGeom>
          <a:ln w="0">
            <a:noFill/>
          </a:ln>
        </p:spPr>
      </p:pic>
      <p:pic>
        <p:nvPicPr>
          <p:cNvPr id="1" name="ace" descr=""/>
          <p:cNvPicPr/>
          <p:nvPr/>
        </p:nvPicPr>
        <p:blipFill>
          <a:blip r:embed="rId3"/>
          <a:stretch/>
        </p:blipFill>
        <p:spPr>
          <a:xfrm>
            <a:off x="0" y="0"/>
            <a:ext cx="24764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806560" y="2209320"/>
            <a:ext cx="6686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47320" y="61722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o/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2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3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9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06200" y="2209680"/>
            <a:ext cx="6769080" cy="3353040"/>
          </a:xfrm>
          <a:prstGeom prst="rect">
            <a:avLst/>
          </a:prstGeom>
          <a:solidFill>
            <a:srgbClr val="d5ddff">
              <a:alpha val="5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urier New"/>
              </a:rPr>
              <a:t>Aumente  os  negócios  de  sua Empresa ao disponibilizar seu</a:t>
            </a:r>
            <a:br>
              <a:rPr sz="5400"/>
            </a:br>
            <a:r>
              <a:rPr b="1" lang="en-US" sz="5400" spc="-1" strike="noStrike">
                <a:solidFill>
                  <a:srgbClr val="000099"/>
                </a:solidFill>
                <a:latin typeface="Courier New"/>
              </a:rPr>
              <a:t>legado na Intern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59200" y="5867280"/>
            <a:ext cx="6769080" cy="685800"/>
          </a:xfrm>
          <a:prstGeom prst="rect">
            <a:avLst/>
          </a:prstGeom>
          <a:solidFill>
            <a:srgbClr val="d5dd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urier New"/>
              </a:rPr>
              <a:t>André Cecili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19720" y="4495680"/>
          <a:ext cx="3124080" cy="37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495680"/>
                    <a:ext cx="31240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29000" y="2438280"/>
          <a:ext cx="113364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438280"/>
                    <a:ext cx="1133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629400" y="2914560"/>
          <a:ext cx="2514600" cy="666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2914560"/>
                    <a:ext cx="2514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705720" y="4495680"/>
          <a:ext cx="1657080" cy="58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495680"/>
                    <a:ext cx="16570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3508920" y="4343400"/>
            <a:ext cx="1684800" cy="1069200"/>
            <a:chOff x="3508920" y="4343400"/>
            <a:chExt cx="1684800" cy="1069200"/>
          </a:xfrm>
        </p:grpSpPr>
        <p:graphicFrame>
          <p:nvGraphicFramePr>
            <p:cNvPr id="117" name=""/>
            <p:cNvGraphicFramePr/>
            <p:nvPr/>
          </p:nvGraphicFramePr>
          <p:xfrm>
            <a:off x="4038480" y="4343400"/>
            <a:ext cx="622080" cy="5619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38480" y="4343400"/>
                      <a:ext cx="6220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3508920" y="4952880"/>
              <a:ext cx="16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DATAM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33720" y="2711520"/>
          <a:ext cx="1919160" cy="869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33720" y="2711520"/>
                    <a:ext cx="19191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400800" y="2584440"/>
          <a:ext cx="2438280" cy="996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2584440"/>
                    <a:ext cx="24382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es de Refer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1905120"/>
            <a:ext cx="73915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99"/>
                </a:solidFill>
                <a:uFillTx/>
                <a:latin typeface="Times New Roman"/>
              </a:rPr>
              <a:t>Cliente na área de seg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querimento 1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ssibilitar acesso das empresas estipulantes através da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querimento 2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arantir acesso somente a usuários cadast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querimento 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s informações necessárias para a operação do sistema de importação deverão estar centralizadas de formas garantir o controle e visualização das mes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querimento 4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sistema deve permitir a maior flexibilidade possível na obtenção dos resultados desejados, a geração dos relatórios é feita sempre de acordo com parâmetros informados pelo usuário no momento da ger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olu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tilização do Domino/S390 R5 acessando diretamente os dados da base corporativa (DB2 for OS/390. Utilização de browsers para acesso à aplicaçã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es de Refer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1905120"/>
            <a:ext cx="73915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99"/>
                </a:solidFill>
                <a:uFillTx/>
                <a:latin typeface="Times New Roman"/>
              </a:rPr>
              <a:t>Cliente na área de Capit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ponibilizar rapidamente o sistema de Call Center (baseado em interface caracter em sessões 3270) na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olu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tilização do Host Publisher como interface gráfica para a WEB.  A parte de controle de acesso foi feita tomando como base um servlet Java que continha uma macro de acesso as transações exist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es de Refer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1905120"/>
            <a:ext cx="73915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99"/>
                </a:solidFill>
                <a:uFillTx/>
                <a:latin typeface="Times New Roman"/>
              </a:rPr>
              <a:t>Cliente na área banc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ponibilizar rapidamente o sistema decrédito corporativo (baseado em interface caracter em sessões 3270)  na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olu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Utilização do Host Publisher como interface gráfica para a WEB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es de Refer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534520" y="2057400"/>
          <a:ext cx="1160280" cy="11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4520" y="2057400"/>
                    <a:ext cx="11602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743200" y="2438280"/>
            <a:ext cx="563868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Times New Roman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Sobrecarga no ambiente de produ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Times New Roman"/>
              </a:rPr>
              <a:t>Recomend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Otimização do ambiente através do downsizing do 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Times New Roman"/>
              </a:rPr>
              <a:t>Solu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imes New Roman"/>
              </a:rPr>
              <a:t>Utilização do VisualAge Generator, com desenvolvimento sendo feito na plataforma intel e execução no Main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es de Refer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905120"/>
            <a:ext cx="7391520" cy="49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99"/>
                </a:solidFill>
                <a:uFillTx/>
                <a:latin typeface="Times New Roman"/>
              </a:rPr>
              <a:t>Sistema WEB Import Interfa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99"/>
                </a:solidFill>
                <a:uFillTx/>
                <a:latin typeface="Times New Roman"/>
              </a:rPr>
              <a:t>(WI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querimento 1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rcerização da operação de importação (acesso em diferentes localidad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Problema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O sistema devera ser operado remotamente e com baixo custo de infra-estrutura de  comunicação e equipamen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Solução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O sistema foi desenvolvido na plataforma Web, utilizando o WebSphere como gerenciador  de aplicações e segurança e aplicações Java como solução para colocar um aplicação corporativa na Web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querimento 2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sistema devera estar interligado com o legado, recebendo e enviando informações para outras áreas da IBM com diversos amb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Problema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Como garantir o fluxo das informações para diversas áreas do legado e em ambientes  difer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Solu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: Utilização do MQSeries para garantir a comunicação com os S/390's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equerimento 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s informações necessárias para a operação do sistema de importação deverão estar centralizadas de formas garantir o controle e visualização das mes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Problema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O grande volume de informações para armazen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Solução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Utilização do DB2 no S/390 para suportar o volume de informações e garantir que a  unicidade das informações do Leg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772400" y="1981080"/>
          <a:ext cx="1924200" cy="8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1981080"/>
                    <a:ext cx="192420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es de Refer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14600" y="1981080"/>
          <a:ext cx="7391520" cy="489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7391520" cy="48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8763840" y="1295280"/>
            <a:ext cx="895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I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es de Refer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595600" y="2057400"/>
          <a:ext cx="7310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5600" y="2057400"/>
                    <a:ext cx="7310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8763840" y="1295280"/>
            <a:ext cx="895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I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es de Refer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76520" y="1981080"/>
          <a:ext cx="710100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981080"/>
                    <a:ext cx="71010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8763840" y="1295280"/>
            <a:ext cx="895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I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90560" y="2514600"/>
            <a:ext cx="6686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nálise das Competê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mplement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41680" y="304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21400" y="228600"/>
            <a:ext cx="3054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1981080"/>
            <a:ext cx="6686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presentação da Empresa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es de Referê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81200" y="2133720"/>
          <a:ext cx="7324920" cy="46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1200" y="2133720"/>
                    <a:ext cx="732492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8763840" y="1295280"/>
            <a:ext cx="895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I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06560" y="2209680"/>
            <a:ext cx="66866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undação: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37040" y="228600"/>
            <a:ext cx="6438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presentação d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274320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23000"/>
          </a:bodyPr>
          <a:p>
            <a:pPr marL="78840" indent="-788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Escritórios: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io de Janeiro e São Pa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8840" indent="-788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tuação: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incipais cap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8840" indent="-788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85 colaboradores 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0 em tec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8840" indent="-788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Faturamento Previsto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R$ 8 milh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23760" y="2361960"/>
            <a:ext cx="6769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00"/>
              </a:spcBef>
              <a:buClr>
                <a:srgbClr val="0000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r uma empresa que atenda, com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qualidade e precisão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spcBef>
                <a:spcPts val="901"/>
              </a:spcBef>
              <a:buClr>
                <a:srgbClr val="0000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 necessidades dos Clientes, utilizando a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melhor solução tecnológica</a:t>
            </a: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cedendo suas expectativas</a:t>
            </a:r>
            <a:r>
              <a:rPr b="1" lang="en-US" sz="3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spcBef>
                <a:spcPts val="700"/>
              </a:spcBef>
              <a:buClr>
                <a:srgbClr val="0000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 posicionando-se com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primeira opção de parceria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7040" y="228600"/>
            <a:ext cx="6438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ção Geral d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24680" y="990720"/>
            <a:ext cx="1650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ianças e Parc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981160" y="2347920"/>
          <a:ext cx="747900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1160" y="2347920"/>
                    <a:ext cx="74790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41680" y="304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01920" y="228600"/>
            <a:ext cx="6273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álise das Competê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90880" y="2133720"/>
          <a:ext cx="6402240" cy="43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2133720"/>
                    <a:ext cx="6402240" cy="43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794040" y="2465280"/>
          <a:ext cx="1158840" cy="11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040" y="2465280"/>
                    <a:ext cx="115884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629400" y="2590920"/>
          <a:ext cx="1506600" cy="99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590920"/>
                    <a:ext cx="1506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895480" y="4724280"/>
          <a:ext cx="2538360" cy="741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724280"/>
                    <a:ext cx="25383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553080" y="4724280"/>
          <a:ext cx="1905120" cy="773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4724280"/>
                    <a:ext cx="190512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772400" y="2057400"/>
          <a:ext cx="1584360" cy="102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2057400"/>
                    <a:ext cx="15843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7543440" y="5257800"/>
            <a:ext cx="1715400" cy="1297800"/>
            <a:chOff x="7543440" y="5257800"/>
            <a:chExt cx="1715400" cy="1297800"/>
          </a:xfrm>
        </p:grpSpPr>
        <p:graphicFrame>
          <p:nvGraphicFramePr>
            <p:cNvPr id="80" name=""/>
            <p:cNvGraphicFramePr/>
            <p:nvPr/>
          </p:nvGraphicFramePr>
          <p:xfrm>
            <a:off x="8001000" y="5257800"/>
            <a:ext cx="838080" cy="8348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01000" y="5257800"/>
                      <a:ext cx="838080" cy="8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7543440" y="609588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Sul Amé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7696080" y="3581280"/>
          <a:ext cx="1524240" cy="1366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96080" y="3581280"/>
                    <a:ext cx="152424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200400" y="5334120"/>
          <a:ext cx="2438280" cy="7189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5334120"/>
                    <a:ext cx="24382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276720" y="4191120"/>
          <a:ext cx="2133360" cy="7938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4191120"/>
                    <a:ext cx="21333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09880" y="2133720"/>
          <a:ext cx="984240" cy="16761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2133720"/>
                    <a:ext cx="9842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613480" y="533520"/>
            <a:ext cx="57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257800" y="2900520"/>
          <a:ext cx="1905120" cy="68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900520"/>
                    <a:ext cx="190512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971800" y="2452680"/>
          <a:ext cx="1981080" cy="1128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452680"/>
                    <a:ext cx="198108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352680" y="4648320"/>
          <a:ext cx="1090800" cy="1447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4648320"/>
                    <a:ext cx="10908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292640" y="228600"/>
            <a:ext cx="528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0120" y="4800600"/>
          <a:ext cx="1600200" cy="968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4800600"/>
                    <a:ext cx="16002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620120" y="2525760"/>
          <a:ext cx="1790640" cy="1055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2525760"/>
                    <a:ext cx="17906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257800" y="4724280"/>
          <a:ext cx="1981080" cy="11318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4724280"/>
                    <a:ext cx="1981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br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20:57:18Z</dcterms:created>
  <dc:creator>André Ceciliano</dc:creator>
  <dc:description/>
  <dc:language>en-US</dc:language>
  <cp:lastModifiedBy>André Ceciliano</cp:lastModifiedBy>
  <cp:lastPrinted>2000-04-04T01:04:22Z</cp:lastPrinted>
  <dcterms:modified xsi:type="dcterms:W3CDTF">2000-05-03T01:37:36Z</dcterms:modified>
  <cp:revision>41</cp:revision>
  <dc:subject/>
  <dc:title>Apresentação da Empresa</dc:title>
</cp:coreProperties>
</file>