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2782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070-C651-4F3C-9DB9-54111E85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6AA-6CD3-4608-8E65-6FE9F66B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0F5-CA8F-44E9-82A2-BB3A30F5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CAD-BA2F-426C-8746-4DD51F80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9AB-062D-44EF-9ADB-666DFFE2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3C2-ABE1-4D75-8048-9A96FD26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012-F2ED-49CE-9E58-20AA71BF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7A3-FC08-4AB4-BF36-58D63D6D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833-A1DC-4CD6-8969-4FF6B39F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E46-8DB8-448C-AD05-98536248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7E8-C58E-4CE7-B3C7-30212980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ECD-C421-494B-84EC-1FBFACD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4BA9-A57E-4FA9-8DD2-CDB20D8C7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anco Santander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Q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udo de c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ovas Implement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bida de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ébito e Crédito 24 horas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( Sensibilização de saldos em agência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roveitamento de cheques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( Compensaç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6640" y="990720"/>
            <a:ext cx="641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io Silvio Nusbau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.: (011) 538-649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: mnusbaum@santander.com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unicação entre platafo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ile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nsações síncr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nsações assíncronas e store-and-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orque MQSeri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lução aberta ( TCP/IP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ternativa técnica x C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enciamento de proce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dron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tratégia de Implem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hecimento do prod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rfaces padrão x especia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finição de fi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talação auto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de de agências ( 50 ponto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lent mode ( próprio MQ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ustomização ( desenvolvimento intern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tart automático 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tart automático do liste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ção de fi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29000" y="4267080"/>
          <a:ext cx="140004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267080"/>
                    <a:ext cx="14000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562720" y="6095880"/>
          <a:ext cx="49536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6095880"/>
                    <a:ext cx="495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371600" y="6095880"/>
          <a:ext cx="49536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6095880"/>
                    <a:ext cx="495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191120" y="6248520"/>
          <a:ext cx="4953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6248520"/>
                    <a:ext cx="4953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600200" y="4343400"/>
          <a:ext cx="49536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43400"/>
                    <a:ext cx="495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629400" y="5486400"/>
          <a:ext cx="495360" cy="40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29400" y="5486400"/>
                    <a:ext cx="495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066680" y="5257800"/>
          <a:ext cx="495360" cy="40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5257800"/>
                    <a:ext cx="495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429000" y="1905120"/>
            <a:ext cx="1905120" cy="24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/390 1.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lell Sys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55 (MQ) e R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CS 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Q 1.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4267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657600"/>
            <a:ext cx="1219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 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43200" y="6248520"/>
          <a:ext cx="495360" cy="409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43200" y="6248520"/>
                    <a:ext cx="4953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81080" y="449568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447920" y="49528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752480" y="5105160"/>
            <a:ext cx="1905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200400" y="5105520"/>
            <a:ext cx="7621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19720" y="5105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724280" y="495252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724280" y="4724280"/>
            <a:ext cx="1905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629400" y="4495680"/>
          <a:ext cx="495360" cy="409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4495680"/>
                    <a:ext cx="495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flipH="1">
            <a:off x="4800600" y="4648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mbiente Oper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plicação Pilo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209680"/>
            <a:ext cx="1371600" cy="63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mulador 32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4156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16002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32000" y="174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9560" y="15238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505320"/>
            <a:ext cx="1371600" cy="463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724280"/>
            <a:ext cx="1371600" cy="343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ina M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209680"/>
            <a:ext cx="1371600" cy="63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ransaçã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2209680"/>
            <a:ext cx="1371600" cy="63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érica M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7120" y="20224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3581280"/>
            <a:ext cx="1371600" cy="463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57400" y="38098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29520" y="333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4724280"/>
            <a:ext cx="914400" cy="347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4480" y="44956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9720" y="4952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791320"/>
            <a:ext cx="3656160" cy="463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stema. Gerenciador. de Impres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5257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ultados do Pilo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si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abilidade do prod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mplificação dos proces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role do processo fora da apl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ultados do Pilo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ert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mento/administração d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ção de novas filas em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isão centralizada da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ertas de problemas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( Status das filas e canai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ções pro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ra-estrutura de controle de processos já ex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sist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vos prod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renciamento/Administ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dutos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ívoli ( IB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minpac / Command Center ( Candl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mand MQ ( Boole &amp; Babbag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trol ( BMC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33:34Z</dcterms:created>
  <dc:creator>Pinheiro</dc:creator>
  <dc:description/>
  <dc:language>en-US</dc:language>
  <cp:lastModifiedBy>Banco Santander Brasil S/A</cp:lastModifiedBy>
  <cp:lastPrinted>1999-03-04T18:01:45Z</cp:lastPrinted>
  <dcterms:modified xsi:type="dcterms:W3CDTF">1999-03-05T20:25:48Z</dcterms:modified>
  <cp:revision>21</cp:revision>
  <dc:subject/>
  <dc:title>BANCO SANTANDER BRASIL</dc:title>
</cp:coreProperties>
</file>