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0785-1849-4533-BEDE-C4B0B1F30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4CB4-C52D-4832-97E7-626F9509D7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a50a1"/>
                </a:solidFill>
                <a:latin typeface="Arial"/>
                <a:ea typeface="Times New Roman"/>
              </a:rPr>
              <a:t>This is the “Presentation title” page.  Type the title of your presentation in the "Presentation title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tte page est la page de titre d’une présentation . Saisissez votre titre dans la zone « Titre de la présentation 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BFBBE-C0B8-4A72-9CD9-DDD6E0534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FABD-62C0-4B08-A4E0-2B746B0E6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260F-4CAE-412D-BBCD-98E158FBE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51BC-D869-4C7B-9C66-034701E29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BB7CC-85AE-4FCE-AAB2-DA6A82E3E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70A4-B61A-4B04-89B2-8377E6027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88116-F239-4250-8936-C3786A0B4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2D2D-6747-403B-B8FC-3E60FC29C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1697-FBB6-4BE8-B4D0-37379F595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5ECF-8F6D-4E97-A8FD-0D365F737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6246A-E045-4723-A0E1-3FDCAC9BE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834C-2950-4BC5-9953-1D1FBA3D5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248520"/>
            <a:ext cx="531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2002 CAAV5 Developers‘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Parc des Princes - Par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9924-6746-4DE1-A488-4C36FBDA5D76}" type="slidenum">
              <a:rPr b="1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irgule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DS" descr=""/>
          <p:cNvPicPr/>
          <p:nvPr/>
        </p:nvPicPr>
        <p:blipFill>
          <a:blip r:embed="rId7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oding Blends</a:t>
            </a:r>
            <a:br>
              <a:rPr sz="3500"/>
            </a:b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ATTopBlend Operator</a:t>
            </a:r>
            <a:br>
              <a:rPr sz="3500"/>
            </a:b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880" y="175248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DomainGi (Gi = G0, G1, 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Each Gi sub-domain/domain of one wire is associated with each Gi sub-domain/domain of the other wire. The extremities of sub-domain/domain are coup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The coupling is carried out edge-by-edge. You must have the same number of vertices on each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2FB9-B103-4853-9CB8-B5AB6957FF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- Examples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5638680"/>
            <a:ext cx="3733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No coupling mode specified </a:t>
            </a:r>
            <a:r>
              <a:rPr b="0" lang="en-US" sz="1400" spc="-1" strike="noStrike">
                <a:solidFill>
                  <a:srgbClr val="120c80"/>
                </a:solidFill>
                <a:latin typeface="Arial"/>
              </a:rPr>
              <a:t>or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 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523880"/>
            <a:ext cx="3733920" cy="827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ouplingedgeG0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676240" cy="2867040"/>
          </a:xfrm>
          <a:prstGeom prst="rect">
            <a:avLst/>
          </a:prstGeom>
          <a:ln w="0">
            <a:noFill/>
          </a:ln>
        </p:spPr>
      </p:pic>
      <p:pic>
        <p:nvPicPr>
          <p:cNvPr id="99" name="couplingGo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2362320" cy="252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914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33560" y="2286000"/>
            <a:ext cx="15238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480" y="4114440"/>
            <a:ext cx="1828800" cy="1676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678D-4916-44BE-AB73-E34E1FECB8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181480"/>
            <a:ext cx="3581640" cy="723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CATTopBlendCouplingMode_Domain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2toG0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30765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840" y="266688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048120"/>
            <a:ext cx="16765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572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RROR – not the same number of ver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029200"/>
            <a:ext cx="5410080" cy="99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4852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03E5-715D-4E10-B57E-E1D9AB7278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Mode (cont’d)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838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 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16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4A95-B48B-4F2A-9D81-2CF081D987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dgecoupling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752560" cy="252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68580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1 and Wire 2 are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1 –Same number of vertices/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s below are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1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2857680" cy="2543400"/>
          </a:xfrm>
          <a:prstGeom prst="rect">
            <a:avLst/>
          </a:prstGeom>
          <a:ln w="0">
            <a:noFill/>
          </a:ln>
        </p:spPr>
      </p:pic>
      <p:pic>
        <p:nvPicPr>
          <p:cNvPr id="127" name="g2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2943360" cy="259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25360" y="5638680"/>
            <a:ext cx="3075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360" y="4800600"/>
            <a:ext cx="3531240" cy="5457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240" y="4191120"/>
            <a:ext cx="35312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CATTopBlendCouplingMode_Domain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980720" y="29714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571640" y="3657240"/>
            <a:ext cx="30492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920" y="4571640"/>
            <a:ext cx="3045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2E35-1AC8-487A-8289-E21AD0D52D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SetCouplingLines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762120"/>
            <a:ext cx="43434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Wire 1 G2 and Wire 2 </a:t>
            </a:r>
            <a:r>
              <a:rPr b="1" lang="en-US" sz="1800" spc="-1" strike="noStrike">
                <a:solidFill>
                  <a:srgbClr val="120c80"/>
                </a:solidFill>
                <a:latin typeface="Arial"/>
              </a:rPr>
              <a:t>G0 </a:t>
            </a:r>
            <a:r>
              <a:rPr b="0" lang="en-US" sz="1800" spc="-1" strike="noStrike">
                <a:solidFill>
                  <a:srgbClr val="120c80"/>
                </a:solidFill>
                <a:latin typeface="Arial"/>
              </a:rPr>
              <a:t>(sample provi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20c80"/>
                </a:solidFill>
                <a:latin typeface="Arial"/>
              </a:rPr>
              <a:t>Note: The result below is obtained with SetTransitionContinu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88620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c80"/>
                </a:solidFill>
                <a:latin typeface="Arial"/>
              </a:rPr>
              <a:t>Three coupling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uplinglines" descr=""/>
          <p:cNvPicPr/>
          <p:nvPr/>
        </p:nvPicPr>
        <p:blipFill>
          <a:blip r:embed="rId1"/>
          <a:stretch/>
        </p:blipFill>
        <p:spPr>
          <a:xfrm>
            <a:off x="2714760" y="2057400"/>
            <a:ext cx="3714480" cy="3362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3580920" y="4114800"/>
            <a:ext cx="34290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3276720"/>
            <a:ext cx="1447920" cy="761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85840" y="380988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48E83-2C3A-4521-AF79-2698FE4FAB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36:20Z</dcterms:created>
  <dc:creator>CCY</dc:creator>
  <dc:description/>
  <dc:language>en-US</dc:language>
  <cp:lastModifiedBy>CRE</cp:lastModifiedBy>
  <dcterms:modified xsi:type="dcterms:W3CDTF">2002-12-23T18:53:45Z</dcterms:modified>
  <cp:revision>143</cp:revision>
  <dc:subject/>
  <dc:title>Présentation PowerPoint</dc:title>
</cp:coreProperties>
</file>