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EE51-4C3B-4C4A-BBFB-BA1D3CEBF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AC51-EE97-47B0-A6FC-30254373B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2B49-BFB5-420C-807E-F8B02F339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EAC7-F8ED-48FE-9F35-3F60F8CB5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0147-4E99-42C6-BE8C-AE2DFD5D5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0E6D-4834-4102-9745-E8121C270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5E39-FD54-48FB-9F6A-096A51238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40E2-13BA-4EC1-AE1A-AEB8E96E5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18A1-7777-4A6B-98D0-29E4179AB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BCD5-342D-4B05-85AD-615275234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D835-A504-4DDB-A2EC-17CC105F9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202B-E3ED-4D8E-AD82-D79C89E6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547EA-E9DC-4CEA-AE32-5ACBAFB34D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685800"/>
            <a:ext cx="12193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5105520"/>
            <a:ext cx="152388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1219320"/>
            <a:ext cx="13716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proc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3429000"/>
            <a:ext cx="1371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emb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4495680"/>
            <a:ext cx="1371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er / link-ed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2209680"/>
            <a:ext cx="1371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i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685800"/>
            <a:ext cx="1219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0000"/>
                </a:solidFill>
                <a:latin typeface="Times New Roman"/>
              </a:rPr>
              <a:t>source progr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396252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33cc"/>
                </a:solidFill>
                <a:latin typeface="Times New Roman"/>
              </a:rPr>
              <a:t>translatable machine c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752480"/>
            <a:ext cx="121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33cc"/>
                </a:solidFill>
                <a:latin typeface="Times New Roman"/>
              </a:rPr>
              <a:t>source progr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5105520"/>
            <a:ext cx="1371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0000"/>
                </a:solidFill>
                <a:latin typeface="Times New Roman"/>
              </a:rPr>
              <a:t>Absolute machine c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2743200"/>
            <a:ext cx="1371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33cc"/>
                </a:solidFill>
                <a:latin typeface="Times New Roman"/>
              </a:rPr>
              <a:t>Target progr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33cc"/>
                </a:solidFill>
                <a:latin typeface="Times New Roman"/>
              </a:rPr>
              <a:t>(assembling languag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990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66680" y="1905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6668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6668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66680" y="3733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4191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66680" y="4800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33720" y="4495680"/>
            <a:ext cx="12189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33cc"/>
                </a:solidFill>
                <a:latin typeface="Times New Roman"/>
              </a:rPr>
              <a:t>External Libra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1752120" y="46483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5715000"/>
            <a:ext cx="2438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Program gene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57800" y="1371600"/>
            <a:ext cx="1371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257800" y="3352680"/>
            <a:ext cx="13716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mediate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257800" y="4038480"/>
            <a:ext cx="1371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257800" y="2666880"/>
            <a:ext cx="1371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mantic analy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257800" y="1981080"/>
            <a:ext cx="1371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257800" y="4724280"/>
            <a:ext cx="1371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de gen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9880" y="2666880"/>
            <a:ext cx="10670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086600" y="2666880"/>
            <a:ext cx="10666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4120" y="762120"/>
            <a:ext cx="121896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88200" y="762120"/>
            <a:ext cx="99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0000"/>
                </a:solidFill>
                <a:latin typeface="Times New Roman"/>
              </a:rPr>
              <a:t>source progr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724280" y="5715000"/>
            <a:ext cx="2438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Program Compi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943600" y="1066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94360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4360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943600" y="2971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94360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943600" y="4343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876920" y="1523880"/>
            <a:ext cx="38088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876920" y="2133720"/>
            <a:ext cx="3808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4876920" y="2819160"/>
            <a:ext cx="38088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2895480"/>
            <a:ext cx="38088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76920" y="2895480"/>
            <a:ext cx="38088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876920" y="2895480"/>
            <a:ext cx="38088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629400" y="1523880"/>
            <a:ext cx="45720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 flipV="1">
            <a:off x="6629400" y="2133720"/>
            <a:ext cx="45720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6629400" y="2819160"/>
            <a:ext cx="4572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6629400" y="289548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629400" y="2895480"/>
            <a:ext cx="457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6629400" y="2895480"/>
            <a:ext cx="45720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2280" y="2057400"/>
            <a:ext cx="1905120" cy="6094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76720" y="380880"/>
            <a:ext cx="5638680" cy="6096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057400" y="1980720"/>
            <a:ext cx="15238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81680" y="1295280"/>
            <a:ext cx="213372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781680" y="3657600"/>
            <a:ext cx="213372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705720" y="5105520"/>
            <a:ext cx="213336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534520" y="1295280"/>
            <a:ext cx="0" cy="236232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3657600"/>
            <a:ext cx="0" cy="144792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543800" y="4191120"/>
            <a:ext cx="9144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cc"/>
                </a:solidFill>
                <a:latin typeface="Times New Roman"/>
              </a:rPr>
              <a:t>final 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2057400"/>
            <a:ext cx="9144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cc"/>
                </a:solidFill>
                <a:latin typeface="Times New Roman"/>
              </a:rPr>
              <a:t>front 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2T17:45:30Z</dcterms:created>
  <dc:creator>jvl</dc:creator>
  <dc:description/>
  <dc:language>en-US</dc:language>
  <cp:lastModifiedBy>jvl</cp:lastModifiedBy>
  <dcterms:modified xsi:type="dcterms:W3CDTF">2001-04-12T18:44:52Z</dcterms:modified>
  <cp:revision>5</cp:revision>
  <dc:subject/>
  <dc:title>PowerPoint Presentation</dc:title>
</cp:coreProperties>
</file>