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4.jpeg" ContentType="image/jpeg"/>
  <Override PartName="/ppt/media/image2.png" ContentType="image/png"/>
  <Override PartName="/ppt/media/image11.jpeg" ContentType="image/jpeg"/>
  <Override PartName="/ppt/media/image9.jpeg" ContentType="image/jpeg"/>
  <Override PartName="/ppt/media/image1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5.png" ContentType="image/png"/>
  <Override PartName="/ppt/media/image8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B49DE-3D85-4559-A71E-D4207B5B2AC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5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i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56EC7-6F40-4370-BD2A-C4423888138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a50a1"/>
                </a:solidFill>
                <a:latin typeface="Arial"/>
                <a:ea typeface="Times New Roman"/>
              </a:rPr>
              <a:t>This is the “Presentation title” page.  Type the title of your presentation in the "Presentation title” fiel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Cette page est la page de titre d’une présentation . Saisissez votre titre dans la zone « Titre de la présentation »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B541C0-69EE-4108-8E73-0FAFB3529C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14200" y="1943280"/>
            <a:ext cx="76071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14200" y="3843000"/>
            <a:ext cx="76071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7CACF3-C2FE-4768-B10A-28F0C4749C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14200" y="1943280"/>
            <a:ext cx="37119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12280" y="1943280"/>
            <a:ext cx="37119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14200" y="3843000"/>
            <a:ext cx="37119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12280" y="3843000"/>
            <a:ext cx="37119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6B7961-A645-416C-B0AC-9E97A44901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14200" y="1943280"/>
            <a:ext cx="244944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686400" y="1943280"/>
            <a:ext cx="244944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258960" y="1943280"/>
            <a:ext cx="244944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14200" y="3843000"/>
            <a:ext cx="244944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686400" y="3843000"/>
            <a:ext cx="244944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258960" y="3843000"/>
            <a:ext cx="244944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575680-AEF5-4E97-B9F5-D4B48C0E57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14200" y="1943280"/>
            <a:ext cx="7607160" cy="36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14200" y="1943280"/>
            <a:ext cx="7607160" cy="36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14200" y="1943280"/>
            <a:ext cx="3711960" cy="36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012280" y="1943280"/>
            <a:ext cx="3711960" cy="36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18880" y="301320"/>
            <a:ext cx="6118200" cy="387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14200" y="1943280"/>
            <a:ext cx="37119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12280" y="1943280"/>
            <a:ext cx="3711960" cy="36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14200" y="3843000"/>
            <a:ext cx="37119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14200" y="1943280"/>
            <a:ext cx="7607160" cy="36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96B759-079D-49D8-A474-A1034E3F2D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14200" y="1943280"/>
            <a:ext cx="3711960" cy="36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12280" y="1943280"/>
            <a:ext cx="37119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012280" y="3843000"/>
            <a:ext cx="37119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14200" y="1943280"/>
            <a:ext cx="37119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12280" y="1943280"/>
            <a:ext cx="37119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14200" y="3843000"/>
            <a:ext cx="76071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14200" y="1943280"/>
            <a:ext cx="76071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14200" y="3843000"/>
            <a:ext cx="76071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14200" y="1943280"/>
            <a:ext cx="37119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012280" y="1943280"/>
            <a:ext cx="37119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14200" y="3843000"/>
            <a:ext cx="37119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012280" y="3843000"/>
            <a:ext cx="37119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14200" y="1943280"/>
            <a:ext cx="244944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686400" y="1943280"/>
            <a:ext cx="244944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258960" y="1943280"/>
            <a:ext cx="244944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14200" y="3843000"/>
            <a:ext cx="244944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686400" y="3843000"/>
            <a:ext cx="244944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258960" y="3843000"/>
            <a:ext cx="244944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14200" y="1943280"/>
            <a:ext cx="7607160" cy="36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3812C9-A881-473B-A171-B73581B198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14200" y="1943280"/>
            <a:ext cx="3711960" cy="36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12280" y="1943280"/>
            <a:ext cx="3711960" cy="36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6D363B-057F-496C-B3E0-CC01716117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8CBC3F-DA32-4E38-A096-F20226F9AE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118880" y="301320"/>
            <a:ext cx="6118200" cy="387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6D1519-FEDF-4EF1-8F98-8E691F9257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14200" y="1943280"/>
            <a:ext cx="37119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12280" y="1943280"/>
            <a:ext cx="3711960" cy="36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14200" y="3843000"/>
            <a:ext cx="37119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EBBFE4-DC65-4F47-82AE-832271328E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14200" y="1943280"/>
            <a:ext cx="3711960" cy="36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12280" y="1943280"/>
            <a:ext cx="37119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12280" y="3843000"/>
            <a:ext cx="37119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CA096A-66C6-41FC-9D92-F67A552389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14200" y="1943280"/>
            <a:ext cx="37119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12280" y="1943280"/>
            <a:ext cx="37119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14200" y="3843000"/>
            <a:ext cx="76071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947331-4EFC-4298-83CD-034594ED36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7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fond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20c8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14200" y="1943280"/>
            <a:ext cx="7607160" cy="36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1001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20c8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  <a:p>
            <a:pPr lvl="1" marL="952560" indent="-380880">
              <a:spcBef>
                <a:spcPts val="1001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20c8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  <a:p>
            <a:pPr lvl="2" marL="1428840" indent="-285840">
              <a:spcBef>
                <a:spcPts val="10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20c8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  <a:p>
            <a:pPr lvl="3" marL="1809720" indent="-190440">
              <a:spcBef>
                <a:spcPts val="1001"/>
              </a:spcBef>
              <a:buClr>
                <a:srgbClr val="120c8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20c8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  <a:p>
            <a:pPr lvl="4" marL="2381400" indent="-187560">
              <a:spcBef>
                <a:spcPts val="1001"/>
              </a:spcBef>
              <a:buClr>
                <a:srgbClr val="120c8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20c8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  <a:p>
            <a:pPr lvl="5" marL="2381400" indent="-187560"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20c8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  <a:p>
            <a:pPr lvl="6" marL="2381400" indent="-187560"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20c8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904760" y="6248520"/>
            <a:ext cx="531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36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r>
              <a:rPr b="1" lang="en-US" sz="1000" spc="-1" strike="noStrike">
                <a:solidFill>
                  <a:srgbClr val="b2b2b2"/>
                </a:solidFill>
                <a:latin typeface="Arial"/>
              </a:rPr>
              <a:t>2002 CAAV5 Developers‘ Conferen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b2b2b2"/>
                </a:solidFill>
                <a:latin typeface="Arial"/>
              </a:rPr>
              <a:t>Parc des Princes - Pari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672400" y="6610320"/>
            <a:ext cx="333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7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E140A-BC03-4638-9497-E95AC2534763}" type="slidenum">
              <a:rPr b="1" lang="en-US" sz="7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virgule" descr=""/>
          <p:cNvPicPr/>
          <p:nvPr/>
        </p:nvPicPr>
        <p:blipFill>
          <a:blip r:embed="rId6"/>
          <a:stretch/>
        </p:blipFill>
        <p:spPr>
          <a:xfrm>
            <a:off x="539640" y="574560"/>
            <a:ext cx="1739880" cy="48096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8362800" y="6585120"/>
            <a:ext cx="0" cy="26964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DS" descr=""/>
          <p:cNvPicPr/>
          <p:nvPr/>
        </p:nvPicPr>
        <p:blipFill>
          <a:blip r:embed="rId7"/>
          <a:stretch/>
        </p:blipFill>
        <p:spPr>
          <a:xfrm>
            <a:off x="179280" y="5600880"/>
            <a:ext cx="1257480" cy="946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20c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6024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i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DS" descr=""/>
          <p:cNvPicPr/>
          <p:nvPr/>
        </p:nvPicPr>
        <p:blipFill>
          <a:blip r:embed="rId3"/>
          <a:stretch/>
        </p:blipFill>
        <p:spPr>
          <a:xfrm>
            <a:off x="179280" y="5600880"/>
            <a:ext cx="1257480" cy="9460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5410080"/>
            <a:ext cx="228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36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20c8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  <a:p>
            <a:pPr lvl="1" marL="57168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20c8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120c80"/>
              </a:solidFill>
              <a:latin typeface="Arial"/>
            </a:endParaRPr>
          </a:p>
          <a:p>
            <a:pPr lvl="2" marL="1143000" algn="ctr">
              <a:buClr>
                <a:srgbClr val="eb8b18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120c80"/>
                </a:solidFill>
                <a:latin typeface="Arial"/>
              </a:rPr>
              <a:t>Third Outline Level</a:t>
            </a:r>
            <a:endParaRPr b="0" i="1" lang="en-US" sz="1500" spc="-1" strike="noStrike">
              <a:solidFill>
                <a:srgbClr val="120c80"/>
              </a:solidFill>
              <a:latin typeface="Arial"/>
            </a:endParaRPr>
          </a:p>
          <a:p>
            <a:pPr lvl="3" marL="1523880" indent="95400" algn="ctr">
              <a:spcBef>
                <a:spcPts val="300"/>
              </a:spcBef>
              <a:buClr>
                <a:srgbClr val="120c80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120c80"/>
                </a:solidFill>
                <a:latin typeface="Arial"/>
              </a:rPr>
              <a:t>Fourth Outline Level</a:t>
            </a:r>
            <a:endParaRPr b="0" i="1" lang="en-US" sz="1200" spc="-1" strike="noStrike">
              <a:solidFill>
                <a:srgbClr val="120c80"/>
              </a:solidFill>
              <a:latin typeface="Arial"/>
            </a:endParaRPr>
          </a:p>
          <a:p>
            <a:pPr lvl="4" marL="2193840" algn="ctr">
              <a:spcBef>
                <a:spcPts val="249"/>
              </a:spcBef>
              <a:buClr>
                <a:srgbClr val="120c8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120c80"/>
                </a:solidFill>
                <a:latin typeface="Arial"/>
              </a:rPr>
              <a:t>Fifth Outline Level</a:t>
            </a:r>
            <a:endParaRPr b="0" i="1" lang="en-US" sz="1000" spc="-1" strike="noStrike">
              <a:solidFill>
                <a:srgbClr val="120c80"/>
              </a:solidFill>
              <a:latin typeface="Arial"/>
            </a:endParaRPr>
          </a:p>
          <a:p>
            <a:pPr lvl="5" marL="2193840">
              <a:spcBef>
                <a:spcPts val="2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120c80"/>
                </a:solidFill>
                <a:latin typeface="Arial"/>
              </a:rPr>
              <a:t>Sixth Outline Level</a:t>
            </a:r>
            <a:endParaRPr b="0" i="1" lang="en-US" sz="1000" spc="-1" strike="noStrike">
              <a:solidFill>
                <a:srgbClr val="120c80"/>
              </a:solidFill>
              <a:latin typeface="Arial"/>
            </a:endParaRPr>
          </a:p>
          <a:p>
            <a:pPr lvl="6" marL="2193840">
              <a:spcBef>
                <a:spcPts val="2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120c80"/>
                </a:solidFill>
                <a:latin typeface="Arial"/>
              </a:rPr>
              <a:t>Seventh Outline Level</a:t>
            </a:r>
            <a:endParaRPr b="0" i="1" lang="en-US" sz="1000" spc="-1" strike="noStrike">
              <a:solidFill>
                <a:srgbClr val="120c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20c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6024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500" spc="-1" strike="noStrike">
                <a:solidFill>
                  <a:srgbClr val="ffffff"/>
                </a:solidFill>
                <a:latin typeface="Arial"/>
              </a:rPr>
              <a:t>Coding Blends</a:t>
            </a:r>
            <a:br>
              <a:rPr sz="3500"/>
            </a:br>
            <a:r>
              <a:rPr b="1" i="1" lang="en-US" sz="3500" spc="-1" strike="noStrike">
                <a:solidFill>
                  <a:srgbClr val="ffffff"/>
                </a:solidFill>
                <a:latin typeface="Arial"/>
              </a:rPr>
              <a:t>CATTopBlend Operator</a:t>
            </a:r>
            <a:br>
              <a:rPr sz="3500"/>
            </a:br>
            <a:endParaRPr b="1" i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20c80"/>
                </a:solidFill>
                <a:latin typeface="Arial"/>
              </a:rPr>
              <a:t>SetCouplingMode </a:t>
            </a: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028880" y="1752480"/>
            <a:ext cx="7086600" cy="27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20c80"/>
                </a:solidFill>
                <a:latin typeface="Arial"/>
              </a:rPr>
              <a:t>CATTopBlendCouplingMode_DomainGi (Gi = G0, G1, G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20c80"/>
                </a:solidFill>
                <a:latin typeface="Arial"/>
              </a:rPr>
              <a:t>Each Gi sub-domain/domain of one wire is associated with each Gi sub-domain/domain of the other wire. The extremities of sub-domain/domain are coupl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20c80"/>
                </a:solidFill>
                <a:latin typeface="Arial"/>
              </a:rPr>
              <a:t>CATTopBlendCouplingMode_Ed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20c80"/>
                </a:solidFill>
                <a:latin typeface="Arial"/>
              </a:rPr>
              <a:t>The coupling is carried out edge-by-edge. You must have the same number of vertices on each wi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70013E-EB53-469F-95AE-351BBC4A8F4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20c80"/>
                </a:solidFill>
                <a:latin typeface="Arial"/>
              </a:rPr>
              <a:t>SetCouplingMode - Examples</a:t>
            </a: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800600" y="5638680"/>
            <a:ext cx="373392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20c80"/>
                </a:solidFill>
                <a:latin typeface="Arial"/>
              </a:rPr>
              <a:t>No coupling mode specified </a:t>
            </a:r>
            <a:r>
              <a:rPr b="0" lang="en-US" sz="1400" spc="-1" strike="noStrike">
                <a:solidFill>
                  <a:srgbClr val="120c80"/>
                </a:solidFill>
                <a:latin typeface="Arial"/>
              </a:rPr>
              <a:t>or</a:t>
            </a:r>
            <a:r>
              <a:rPr b="1" lang="en-US" sz="1400" spc="-1" strike="noStrike">
                <a:solidFill>
                  <a:srgbClr val="120c80"/>
                </a:solidFill>
                <a:latin typeface="Arial"/>
              </a:rPr>
              <a:t> CATTopBlendCouplingMode_DomainG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114800" y="1523880"/>
            <a:ext cx="3733920" cy="827280"/>
          </a:xfrm>
          <a:prstGeom prst="rect">
            <a:avLst/>
          </a:prstGeom>
          <a:solidFill>
            <a:srgbClr val="dddddd"/>
          </a:solidFill>
          <a:ln w="9360">
            <a:solidFill>
              <a:srgbClr val="dddddd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 marL="457200" indent="-457200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20c80"/>
                </a:solidFill>
                <a:latin typeface="Arial"/>
              </a:rPr>
              <a:t>CATTopBlendCouplingMode_DomainG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20c80"/>
                </a:solidFill>
                <a:latin typeface="Arial"/>
              </a:rPr>
              <a:t>CATTopBlendCouplingMode_DomainG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20c80"/>
                </a:solidFill>
                <a:latin typeface="Arial"/>
              </a:rPr>
              <a:t>CATTopBlendCouplingMode_Ed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couplingedgeG0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2676240" cy="2867040"/>
          </a:xfrm>
          <a:prstGeom prst="rect">
            <a:avLst/>
          </a:prstGeom>
          <a:ln w="0">
            <a:noFill/>
          </a:ln>
        </p:spPr>
      </p:pic>
      <p:pic>
        <p:nvPicPr>
          <p:cNvPr id="99" name="couplingGo" descr=""/>
          <p:cNvPicPr/>
          <p:nvPr/>
        </p:nvPicPr>
        <p:blipFill>
          <a:blip r:embed="rId2"/>
          <a:stretch/>
        </p:blipFill>
        <p:spPr>
          <a:xfrm>
            <a:off x="4114800" y="3048120"/>
            <a:ext cx="2362320" cy="25239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914400"/>
            <a:ext cx="36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20c80"/>
                </a:solidFill>
                <a:latin typeface="Arial"/>
              </a:rPr>
              <a:t>Wire 1 and Wire 2 are </a:t>
            </a:r>
            <a:r>
              <a:rPr b="1" lang="en-US" sz="1800" spc="-1" strike="noStrike">
                <a:solidFill>
                  <a:srgbClr val="120c80"/>
                </a:solidFill>
                <a:latin typeface="Arial"/>
              </a:rPr>
              <a:t>G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3733560" y="2286000"/>
            <a:ext cx="1523880" cy="45720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 flipV="1">
            <a:off x="6324480" y="4114440"/>
            <a:ext cx="1828800" cy="167652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AB4CBA-AA88-4278-A8D5-F81EEC3F1D6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20c80"/>
                </a:solidFill>
                <a:latin typeface="Arial"/>
              </a:rPr>
              <a:t>SetCouplingMode (cont’d)</a:t>
            </a: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81080" y="5181480"/>
            <a:ext cx="3581640" cy="723600"/>
          </a:xfrm>
          <a:prstGeom prst="rect">
            <a:avLst/>
          </a:prstGeom>
          <a:solidFill>
            <a:srgbClr val="dddddd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20c80"/>
                </a:solidFill>
                <a:latin typeface="Arial"/>
              </a:rPr>
              <a:t>CATTopBlendCouplingMode_DomainG1CATTopBlendCouplingMode_DomainG2</a:t>
            </a:r>
            <a:r>
              <a:rPr b="0" lang="en-US" sz="1800" spc="-1" strike="noStrike">
                <a:solidFill>
                  <a:srgbClr val="120c8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120c80"/>
                </a:solidFill>
                <a:latin typeface="Arial"/>
              </a:rPr>
              <a:t>CATTopBlendCouplingMode_Ed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114800" y="106668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20c80"/>
                </a:solidFill>
                <a:latin typeface="Arial"/>
              </a:rPr>
              <a:t>Wire 1 </a:t>
            </a:r>
            <a:r>
              <a:rPr b="1" lang="en-US" sz="1800" spc="-1" strike="noStrike">
                <a:solidFill>
                  <a:srgbClr val="120c80"/>
                </a:solidFill>
                <a:latin typeface="Arial"/>
              </a:rPr>
              <a:t>G2</a:t>
            </a:r>
            <a:r>
              <a:rPr b="0" lang="en-US" sz="1800" spc="-1" strike="noStrike">
                <a:solidFill>
                  <a:srgbClr val="120c80"/>
                </a:solidFill>
                <a:latin typeface="Arial"/>
              </a:rPr>
              <a:t> and Wire 2 </a:t>
            </a:r>
            <a:r>
              <a:rPr b="1" lang="en-US" sz="1800" spc="-1" strike="noStrike">
                <a:solidFill>
                  <a:srgbClr val="120c80"/>
                </a:solidFill>
                <a:latin typeface="Arial"/>
              </a:rPr>
              <a:t>G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G2toG0" descr=""/>
          <p:cNvPicPr/>
          <p:nvPr/>
        </p:nvPicPr>
        <p:blipFill>
          <a:blip r:embed="rId1"/>
          <a:stretch/>
        </p:blipFill>
        <p:spPr>
          <a:xfrm>
            <a:off x="4114800" y="1676520"/>
            <a:ext cx="3076560" cy="27525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609840" y="2666880"/>
            <a:ext cx="3531240" cy="307080"/>
          </a:xfrm>
          <a:prstGeom prst="rect">
            <a:avLst/>
          </a:prstGeom>
          <a:solidFill>
            <a:srgbClr val="dddddd"/>
          </a:solidFill>
          <a:ln w="9360">
            <a:solidFill>
              <a:srgbClr val="dddddd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36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20c80"/>
                </a:solidFill>
                <a:latin typeface="Arial"/>
              </a:rPr>
              <a:t>CATTopBlendCouplingMode_DomainG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743200" y="3048120"/>
            <a:ext cx="1676520" cy="53316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781680" y="4572000"/>
            <a:ext cx="2210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ERROR – not the same number of vert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990720" y="5029200"/>
            <a:ext cx="5410080" cy="99072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6248520" y="5028840"/>
            <a:ext cx="3808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01E02B-38F4-49C9-BC30-459FECDDF19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edgecoupling" descr=""/>
          <p:cNvPicPr/>
          <p:nvPr/>
        </p:nvPicPr>
        <p:blipFill>
          <a:blip r:embed="rId1"/>
          <a:stretch/>
        </p:blipFill>
        <p:spPr>
          <a:xfrm>
            <a:off x="5791320" y="2895480"/>
            <a:ext cx="2752560" cy="252432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20c80"/>
                </a:solidFill>
                <a:latin typeface="Arial"/>
              </a:rPr>
              <a:t>SetCouplingMode (cont’d)</a:t>
            </a: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038480" y="838080"/>
            <a:ext cx="4343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20c80"/>
                </a:solidFill>
                <a:latin typeface="Arial"/>
              </a:rPr>
              <a:t>Wire 1 G1 and Wire 2 are </a:t>
            </a:r>
            <a:r>
              <a:rPr b="1" lang="en-US" sz="1800" spc="-1" strike="noStrike">
                <a:solidFill>
                  <a:srgbClr val="120c80"/>
                </a:solidFill>
                <a:latin typeface="Arial"/>
              </a:rPr>
              <a:t>G1 –Same number of vertices/edges (sample provide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g1" descr=""/>
          <p:cNvPicPr/>
          <p:nvPr/>
        </p:nvPicPr>
        <p:blipFill>
          <a:blip r:embed="rId2"/>
          <a:stretch/>
        </p:blipFill>
        <p:spPr>
          <a:xfrm>
            <a:off x="3429000" y="1981080"/>
            <a:ext cx="2857680" cy="2543400"/>
          </a:xfrm>
          <a:prstGeom prst="rect">
            <a:avLst/>
          </a:prstGeom>
          <a:ln w="0">
            <a:noFill/>
          </a:ln>
        </p:spPr>
      </p:pic>
      <p:pic>
        <p:nvPicPr>
          <p:cNvPr id="116" name="g2" descr=""/>
          <p:cNvPicPr/>
          <p:nvPr/>
        </p:nvPicPr>
        <p:blipFill>
          <a:blip r:embed="rId3"/>
          <a:stretch/>
        </p:blipFill>
        <p:spPr>
          <a:xfrm>
            <a:off x="838080" y="1219320"/>
            <a:ext cx="2943360" cy="259056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4725360" y="5638680"/>
            <a:ext cx="3075840" cy="307080"/>
          </a:xfrm>
          <a:prstGeom prst="rect">
            <a:avLst/>
          </a:prstGeom>
          <a:solidFill>
            <a:srgbClr val="dddddd"/>
          </a:solidFill>
          <a:ln w="9360">
            <a:solidFill>
              <a:srgbClr val="dddddd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36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20c80"/>
                </a:solidFill>
                <a:latin typeface="Arial"/>
              </a:rPr>
              <a:t>CATTopBlendCouplingMode_Ed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286360" y="4800600"/>
            <a:ext cx="3531240" cy="545760"/>
          </a:xfrm>
          <a:prstGeom prst="rect">
            <a:avLst/>
          </a:prstGeom>
          <a:solidFill>
            <a:srgbClr val="dddddd"/>
          </a:solidFill>
          <a:ln w="9360">
            <a:solidFill>
              <a:srgbClr val="dddddd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36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20c80"/>
                </a:solidFill>
                <a:latin typeface="Arial"/>
              </a:rPr>
              <a:t>CATTopBlendCouplingMode_DomainG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20c80"/>
                </a:solidFill>
                <a:latin typeface="Arial"/>
              </a:rPr>
              <a:t>CATTopBlendCouplingMode_DomainG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81240" y="4191120"/>
            <a:ext cx="3531240" cy="307080"/>
          </a:xfrm>
          <a:prstGeom prst="rect">
            <a:avLst/>
          </a:prstGeom>
          <a:solidFill>
            <a:srgbClr val="dddddd"/>
          </a:solidFill>
          <a:ln w="9360">
            <a:solidFill>
              <a:srgbClr val="dddddd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36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20c80"/>
                </a:solidFill>
                <a:latin typeface="Arial"/>
              </a:rPr>
              <a:t>CATTopBlendCouplingMode_DomainG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 flipV="1">
            <a:off x="1980720" y="2971440"/>
            <a:ext cx="304920" cy="114300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 flipV="1">
            <a:off x="4571640" y="3657240"/>
            <a:ext cx="304920" cy="114300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 flipV="1">
            <a:off x="7162920" y="4571640"/>
            <a:ext cx="304560" cy="114300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3EEE12-5627-4DED-B2B4-A932EB97396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edgecoupling" descr=""/>
          <p:cNvPicPr/>
          <p:nvPr/>
        </p:nvPicPr>
        <p:blipFill>
          <a:blip r:embed="rId1"/>
          <a:stretch/>
        </p:blipFill>
        <p:spPr>
          <a:xfrm>
            <a:off x="5791320" y="2895480"/>
            <a:ext cx="2752560" cy="252432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20c80"/>
                </a:solidFill>
                <a:latin typeface="Arial"/>
              </a:rPr>
              <a:t>SetCouplingLine </a:t>
            </a: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67080" y="685800"/>
            <a:ext cx="4343400" cy="125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20c80"/>
                </a:solidFill>
                <a:latin typeface="Arial"/>
              </a:rPr>
              <a:t>Wire 1 G1 and Wire 2 are </a:t>
            </a:r>
            <a:r>
              <a:rPr b="1" lang="en-US" sz="1800" spc="-1" strike="noStrike">
                <a:solidFill>
                  <a:srgbClr val="120c80"/>
                </a:solidFill>
                <a:latin typeface="Arial"/>
              </a:rPr>
              <a:t>G1 –Same number of vertices/ed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20c80"/>
                </a:solidFill>
                <a:latin typeface="Arial"/>
              </a:rPr>
              <a:t>Note: The results below are obtained with SetTransitionContinu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g1" descr=""/>
          <p:cNvPicPr/>
          <p:nvPr/>
        </p:nvPicPr>
        <p:blipFill>
          <a:blip r:embed="rId2"/>
          <a:stretch/>
        </p:blipFill>
        <p:spPr>
          <a:xfrm>
            <a:off x="3429000" y="1981080"/>
            <a:ext cx="2857680" cy="2543400"/>
          </a:xfrm>
          <a:prstGeom prst="rect">
            <a:avLst/>
          </a:prstGeom>
          <a:ln w="0">
            <a:noFill/>
          </a:ln>
        </p:spPr>
      </p:pic>
      <p:pic>
        <p:nvPicPr>
          <p:cNvPr id="127" name="g2" descr=""/>
          <p:cNvPicPr/>
          <p:nvPr/>
        </p:nvPicPr>
        <p:blipFill>
          <a:blip r:embed="rId3"/>
          <a:stretch/>
        </p:blipFill>
        <p:spPr>
          <a:xfrm>
            <a:off x="838080" y="1219320"/>
            <a:ext cx="2943360" cy="259056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4725360" y="5638680"/>
            <a:ext cx="3075840" cy="307080"/>
          </a:xfrm>
          <a:prstGeom prst="rect">
            <a:avLst/>
          </a:prstGeom>
          <a:solidFill>
            <a:srgbClr val="dddddd"/>
          </a:solidFill>
          <a:ln w="9360">
            <a:solidFill>
              <a:srgbClr val="dddddd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36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20c80"/>
                </a:solidFill>
                <a:latin typeface="Arial"/>
              </a:rPr>
              <a:t>CATTopBlendCouplingMode_Ed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360" y="4800600"/>
            <a:ext cx="3531240" cy="545760"/>
          </a:xfrm>
          <a:prstGeom prst="rect">
            <a:avLst/>
          </a:prstGeom>
          <a:solidFill>
            <a:srgbClr val="dddddd"/>
          </a:solidFill>
          <a:ln w="9360">
            <a:solidFill>
              <a:srgbClr val="dddddd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36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20c80"/>
                </a:solidFill>
                <a:latin typeface="Arial"/>
              </a:rPr>
              <a:t>CATTopBlendCouplingMode_DomainG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20c80"/>
                </a:solidFill>
                <a:latin typeface="Arial"/>
              </a:rPr>
              <a:t>CATTopBlendCouplingMode_DomainG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1240" y="4191120"/>
            <a:ext cx="3531240" cy="307080"/>
          </a:xfrm>
          <a:prstGeom prst="rect">
            <a:avLst/>
          </a:prstGeom>
          <a:solidFill>
            <a:srgbClr val="dddddd"/>
          </a:solidFill>
          <a:ln w="9360">
            <a:solidFill>
              <a:srgbClr val="dddddd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36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20c80"/>
                </a:solidFill>
                <a:latin typeface="Arial"/>
              </a:rPr>
              <a:t>CATTopBlendCouplingMode_DomainG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980720" y="2971440"/>
            <a:ext cx="304920" cy="114300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H="1" flipV="1">
            <a:off x="4571640" y="3657240"/>
            <a:ext cx="304920" cy="114300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H="1" flipV="1">
            <a:off x="7162920" y="4571640"/>
            <a:ext cx="304560" cy="114300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98853D-58CA-47A5-8987-4DC8F7C1B37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20c80"/>
                </a:solidFill>
                <a:latin typeface="Arial"/>
              </a:rPr>
              <a:t>SetCouplingLines </a:t>
            </a: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343400" y="762120"/>
            <a:ext cx="4343400" cy="125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20c80"/>
                </a:solidFill>
                <a:latin typeface="Arial"/>
              </a:rPr>
              <a:t>Wire 1 G2 and Wire 2 </a:t>
            </a:r>
            <a:r>
              <a:rPr b="1" lang="en-US" sz="1800" spc="-1" strike="noStrike">
                <a:solidFill>
                  <a:srgbClr val="120c80"/>
                </a:solidFill>
                <a:latin typeface="Arial"/>
              </a:rPr>
              <a:t>G0 </a:t>
            </a:r>
            <a:r>
              <a:rPr b="0" lang="en-US" sz="1800" spc="-1" strike="noStrike">
                <a:solidFill>
                  <a:srgbClr val="120c80"/>
                </a:solidFill>
                <a:latin typeface="Arial"/>
              </a:rPr>
              <a:t>(sample provide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20c80"/>
                </a:solidFill>
                <a:latin typeface="Arial"/>
              </a:rPr>
              <a:t>Note: The result below is obtained with SetTransitionContinu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086600" y="3886200"/>
            <a:ext cx="1219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20c80"/>
                </a:solidFill>
                <a:latin typeface="Arial"/>
              </a:rPr>
              <a:t>Three coupling l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couplinglines" descr=""/>
          <p:cNvPicPr/>
          <p:nvPr/>
        </p:nvPicPr>
        <p:blipFill>
          <a:blip r:embed="rId1"/>
          <a:stretch/>
        </p:blipFill>
        <p:spPr>
          <a:xfrm>
            <a:off x="2714760" y="2057400"/>
            <a:ext cx="3714480" cy="33624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 flipH="1" flipV="1">
            <a:off x="3580920" y="4114800"/>
            <a:ext cx="3429000" cy="38088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 flipV="1">
            <a:off x="5410080" y="3276720"/>
            <a:ext cx="1447920" cy="76176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H="1" flipV="1">
            <a:off x="3885840" y="3809880"/>
            <a:ext cx="3048120" cy="53352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9DD485-9992-4E2E-BD18-75610D2D730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4T17:36:20Z</dcterms:created>
  <dc:creator>CCY</dc:creator>
  <dc:description/>
  <dc:language>en-US</dc:language>
  <cp:lastModifiedBy>CRE</cp:lastModifiedBy>
  <dcterms:modified xsi:type="dcterms:W3CDTF">2002-12-23T18:53:45Z</dcterms:modified>
  <cp:revision>143</cp:revision>
  <dc:subject/>
  <dc:title>Présentation PowerPoint</dc:title>
</cp:coreProperties>
</file>