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4034-DB66-4CD0-9448-C4981278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12A9-A646-47A8-B551-4F40BA6F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3EE4-CAE8-4CDD-8B6E-633526A2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9EDC-EACE-42CF-8474-9DAE961A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046E-C9A6-441B-BD44-E126D7F3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A5A-996F-4470-8814-6D79ABE1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E67F-B351-4AB4-B562-80314366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38A5-FE44-42BD-8C54-E73A6659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A4AE-00A2-4263-86E3-31FA65B5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35CC-75C9-4F29-8C2B-114837E9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E0F6-08AF-4368-B722-9A38DCA7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BFF-6AEE-40A8-AB65-CCC4ECED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F24A-CBB9-40E0-AE2E-43205D10F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85800"/>
            <a:ext cx="12193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5105520"/>
            <a:ext cx="15238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219320"/>
            <a:ext cx="1371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4290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mb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495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er / link-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09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858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9625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translatable machin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752480"/>
            <a:ext cx="121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10552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Absolute machin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74320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(assembling languag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9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4495680"/>
            <a:ext cx="12189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External Libr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75212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57150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gram 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3716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335268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40384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26668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19810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7242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2666880"/>
            <a:ext cx="1067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66688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762120"/>
            <a:ext cx="12189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8200" y="76212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57150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gram Compi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876920" y="1523880"/>
            <a:ext cx="3808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876920" y="21337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876920" y="28191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289548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2895480"/>
            <a:ext cx="3808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2895480"/>
            <a:ext cx="38088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152388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629400" y="21337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6629400" y="28191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629400" y="2895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629400" y="289548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629400" y="2895480"/>
            <a:ext cx="45720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057400"/>
            <a:ext cx="1905120" cy="609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380880"/>
            <a:ext cx="5638680" cy="609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1980720"/>
            <a:ext cx="1523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1295280"/>
            <a:ext cx="2133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3657600"/>
            <a:ext cx="2133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5105520"/>
            <a:ext cx="21333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34520" y="1295280"/>
            <a:ext cx="0" cy="23623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3657600"/>
            <a:ext cx="0" cy="14479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4191120"/>
            <a:ext cx="9144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final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057400"/>
            <a:ext cx="914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front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5:30Z</dcterms:created>
  <dc:creator>jvl</dc:creator>
  <dc:description/>
  <dc:language>en-US</dc:language>
  <cp:lastModifiedBy>jvl</cp:lastModifiedBy>
  <dcterms:modified xsi:type="dcterms:W3CDTF">2001-04-12T18:44:52Z</dcterms:modified>
  <cp:revision>5</cp:revision>
  <dc:subject/>
  <dc:title>PowerPoint Presentation</dc:title>
</cp:coreProperties>
</file>