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288-D9EE-420C-AE4B-B970B5AB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07BB-BFC4-4DB2-9C51-D087AA9F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20C-92E1-4DCB-BC86-833861FE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520-0D00-40EB-954F-132BDDD5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E879-50AF-42EF-8E7D-97A70F8B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7D89-1F38-4978-BA11-4A195AF2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1314-967F-40DB-A414-0997A5B9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C00-7435-4B17-9CFA-C66360EC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F176-460C-419D-BE3C-874FC693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341-976C-4C4F-84BF-2251555C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AD3-9A32-4E06-917A-FB13058C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988-376D-4911-AE6A-5F1E0042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2398-80BB-4D35-89CA-2E75AD3A0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12193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105520"/>
            <a:ext cx="1523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21932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4290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mb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495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er / link-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09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858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9625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ranslatabl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752480"/>
            <a:ext cx="12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10552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Absolut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7432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(assembling languag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9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4495680"/>
            <a:ext cx="12189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External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75212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716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33526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40384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26668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19810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7242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2666880"/>
            <a:ext cx="1067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66688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762120"/>
            <a:ext cx="12189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8200" y="76212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76920" y="1523880"/>
            <a:ext cx="3808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76920" y="21337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876920" y="28191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28954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2895480"/>
            <a:ext cx="3808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2895480"/>
            <a:ext cx="38088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15238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629400" y="21337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6629400" y="28191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629400" y="2895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629400" y="289548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629400" y="2895480"/>
            <a:ext cx="45720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057400"/>
            <a:ext cx="1905120" cy="609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380880"/>
            <a:ext cx="5638680" cy="609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1980720"/>
            <a:ext cx="1523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129528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365760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5105520"/>
            <a:ext cx="21333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34520" y="1295280"/>
            <a:ext cx="0" cy="23623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3657600"/>
            <a:ext cx="0" cy="14479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4191120"/>
            <a:ext cx="9144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inal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05740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ront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5:30Z</dcterms:created>
  <dc:creator>jvl</dc:creator>
  <dc:description/>
  <dc:language>en-US</dc:language>
  <cp:lastModifiedBy>jvl</cp:lastModifiedBy>
  <dcterms:modified xsi:type="dcterms:W3CDTF">2001-04-12T18:44:52Z</dcterms:modified>
  <cp:revision>5</cp:revision>
  <dc:subject/>
  <dc:title>PowerPoint Presentation</dc:title>
</cp:coreProperties>
</file>