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6D3E-02B5-434E-AE24-C2770FFB18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95A0-BD46-4B00-BE6E-0049BC73BD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a50a1"/>
                </a:solidFill>
                <a:latin typeface="Arial"/>
                <a:ea typeface="Times New Roman"/>
              </a:rPr>
              <a:t>This is the “Presentation title” page.  Type the title of your presentation in the "Presentation title”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ette page est la page de titre d’une présentation . Saisissez votre titre dans la zone « Titre de la présentation 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62022-7289-4BC3-B566-6457693AC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C7D9-F3CE-44DC-8BAE-9A96670B5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F5A11-306A-4FEA-BCC0-A9D4FA51C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A19A2-33AB-42DA-AC8C-BC8061546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420BC-506A-42D6-90E4-3AB41CCF4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2AB9E-EF00-4FC1-BB34-C3A56460D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9A519-B5AA-43AC-B0F9-777C78E78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2363A-760A-4AFF-949F-35BDB430B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F683A-E0D0-4903-BC13-A911C49B6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2BA68-3821-48B3-9A41-A878B6404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DFA55-B6C4-4D44-AE25-A13AC22C2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7D5CF-6A36-46E2-A6D2-E27DADDF3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248520"/>
            <a:ext cx="531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2002 CAAV5 Developers‘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Parc des Princes - Par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72400" y="6610320"/>
            <a:ext cx="33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D186-DBBA-40F5-8424-FE08604F9747}" type="slidenum">
              <a:rPr b="1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virgule" descr=""/>
          <p:cNvPicPr/>
          <p:nvPr/>
        </p:nvPicPr>
        <p:blipFill>
          <a:blip r:embed="rId6"/>
          <a:stretch/>
        </p:blipFill>
        <p:spPr>
          <a:xfrm>
            <a:off x="539640" y="574560"/>
            <a:ext cx="173988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DS" descr=""/>
          <p:cNvPicPr/>
          <p:nvPr/>
        </p:nvPicPr>
        <p:blipFill>
          <a:blip r:embed="rId7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DS" descr=""/>
          <p:cNvPicPr/>
          <p:nvPr/>
        </p:nvPicPr>
        <p:blipFill>
          <a:blip r:embed="rId3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410080"/>
            <a:ext cx="228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571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143000" algn="ctr">
              <a:buClr>
                <a:srgbClr val="eb8b1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0" i="1" lang="en-US" sz="1500" spc="-1" strike="noStrike">
              <a:solidFill>
                <a:srgbClr val="120c80"/>
              </a:solidFill>
              <a:latin typeface="Arial"/>
            </a:endParaRPr>
          </a:p>
          <a:p>
            <a:pPr lvl="3" marL="1523880" indent="95400" algn="ctr">
              <a:spcBef>
                <a:spcPts val="300"/>
              </a:spcBef>
              <a:buClr>
                <a:srgbClr val="120c8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0" i="1" lang="en-US" sz="1200" spc="-1" strike="noStrike">
              <a:solidFill>
                <a:srgbClr val="120c80"/>
              </a:solidFill>
              <a:latin typeface="Arial"/>
            </a:endParaRPr>
          </a:p>
          <a:p>
            <a:pPr lvl="4" marL="2193840" algn="ctr">
              <a:spcBef>
                <a:spcPts val="249"/>
              </a:spcBef>
              <a:buClr>
                <a:srgbClr val="120c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5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6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oding Blends</a:t>
            </a:r>
            <a:br>
              <a:rPr sz="3500"/>
            </a:b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ATTopBlend Operator</a:t>
            </a:r>
            <a:br>
              <a:rPr sz="3500"/>
            </a:b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28880" y="1752480"/>
            <a:ext cx="7086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DomainGi (Gi = G0, G1, G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Each Gi sub-domain/domain of one wire is associated with each Gi sub-domain/domain of the other wire. The extremities of sub-domain/domain are coup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The coupling is carried out edge-by-edge. You must have the same number of vertices on each w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EF5E4-CA69-4591-A25A-BB13C6B1D4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- Examples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5638680"/>
            <a:ext cx="373392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No coupling mode specified </a:t>
            </a:r>
            <a:r>
              <a:rPr b="0" lang="en-US" sz="1400" spc="-1" strike="noStrike">
                <a:solidFill>
                  <a:srgbClr val="120c80"/>
                </a:solidFill>
                <a:latin typeface="Arial"/>
              </a:rPr>
              <a:t>or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 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523880"/>
            <a:ext cx="3733920" cy="827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ouplingedgeG0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2676240" cy="2867040"/>
          </a:xfrm>
          <a:prstGeom prst="rect">
            <a:avLst/>
          </a:prstGeom>
          <a:ln w="0">
            <a:noFill/>
          </a:ln>
        </p:spPr>
      </p:pic>
      <p:pic>
        <p:nvPicPr>
          <p:cNvPr id="99" name="couplingGo" descr=""/>
          <p:cNvPicPr/>
          <p:nvPr/>
        </p:nvPicPr>
        <p:blipFill>
          <a:blip r:embed="rId2"/>
          <a:stretch/>
        </p:blipFill>
        <p:spPr>
          <a:xfrm>
            <a:off x="4114800" y="3048120"/>
            <a:ext cx="2362320" cy="2523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914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733560" y="2286000"/>
            <a:ext cx="152388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324480" y="4114440"/>
            <a:ext cx="1828800" cy="1676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BBDA-50AE-4768-909D-FA5E996153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181480"/>
            <a:ext cx="3581640" cy="723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CATTopBlendCouplingMode_Domain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066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G2toG0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3076560" cy="2752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840" y="266688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3048120"/>
            <a:ext cx="167652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457200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ERROR – not the same number of ver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029200"/>
            <a:ext cx="5410080" cy="99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248520" y="5028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210FB-1FB8-4ACB-A969-8E8A1CA0B2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8380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 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16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F93F7-AB67-4292-8F8A-1FCA840D0D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68580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s below are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27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04362-4C21-436A-BE25-DFAFDC626A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s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76212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2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 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 below is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388620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c80"/>
                </a:solidFill>
                <a:latin typeface="Arial"/>
              </a:rPr>
              <a:t>Three coupling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ouplinglines" descr=""/>
          <p:cNvPicPr/>
          <p:nvPr/>
        </p:nvPicPr>
        <p:blipFill>
          <a:blip r:embed="rId1"/>
          <a:stretch/>
        </p:blipFill>
        <p:spPr>
          <a:xfrm>
            <a:off x="2714760" y="2057400"/>
            <a:ext cx="3714480" cy="3362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 flipV="1">
            <a:off x="3580920" y="4114800"/>
            <a:ext cx="34290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10080" y="3276720"/>
            <a:ext cx="1447920" cy="761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85840" y="380988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4FB95-BD9E-40B1-896D-0756A39DDD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7:36:20Z</dcterms:created>
  <dc:creator>CCY</dc:creator>
  <dc:description/>
  <dc:language>en-US</dc:language>
  <cp:lastModifiedBy>CRE</cp:lastModifiedBy>
  <dcterms:modified xsi:type="dcterms:W3CDTF">2002-12-23T18:53:45Z</dcterms:modified>
  <cp:revision>143</cp:revision>
  <dc:subject/>
  <dc:title>Présentation PowerPoint</dc:title>
</cp:coreProperties>
</file>