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2AB57-3756-4D3F-BE15-AF433FF39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D142C-79DF-4F11-9E48-C07E17ADB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07A21-9222-456E-BD9A-86342F3AA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D59B0-779D-4B05-89E4-78192F8D0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A2AAF-59B7-4F6C-A72E-9B73B4EAA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A3F01-57E8-4E7A-8D56-AA374C6DE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4710C-D887-4231-8CB0-30225CC46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28BF6-EFDA-4CAA-A16D-E9AB0FA02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9F0F9-C260-4C48-B2CE-461856F62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437EE-2AE0-4F04-9D03-0ABDF1205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55C85-AA0A-49E5-8142-03A61749C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E96A9-E07A-4D97-9839-6594F0B60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C7006-EE5C-41B2-B54B-FFD805E45C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685800"/>
            <a:ext cx="12193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04920" y="5105520"/>
            <a:ext cx="152388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80880" y="1219320"/>
            <a:ext cx="137160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process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3429000"/>
            <a:ext cx="13716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semb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80880" y="4495680"/>
            <a:ext cx="13716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ader / link-edi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2209680"/>
            <a:ext cx="13716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i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685800"/>
            <a:ext cx="1219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0000"/>
                </a:solidFill>
                <a:latin typeface="Times New Roman"/>
              </a:rPr>
              <a:t>source progra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396252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3333cc"/>
                </a:solidFill>
                <a:latin typeface="Times New Roman"/>
              </a:rPr>
              <a:t>translatable machine c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1752480"/>
            <a:ext cx="1219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3333cc"/>
                </a:solidFill>
                <a:latin typeface="Times New Roman"/>
              </a:rPr>
              <a:t>source progra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5105520"/>
            <a:ext cx="1371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0000"/>
                </a:solidFill>
                <a:latin typeface="Times New Roman"/>
              </a:rPr>
              <a:t>Absolute machine c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2743200"/>
            <a:ext cx="1371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3333cc"/>
                </a:solidFill>
                <a:latin typeface="Times New Roman"/>
              </a:rPr>
              <a:t>Target progra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3333cc"/>
                </a:solidFill>
                <a:latin typeface="Times New Roman"/>
              </a:rPr>
              <a:t>(assembling languag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066680" y="990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066680" y="1905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066680" y="1523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066680" y="2514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066680" y="3124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066680" y="3733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066680" y="4191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66680" y="48006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33720" y="4495680"/>
            <a:ext cx="121896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3333cc"/>
                </a:solidFill>
                <a:latin typeface="Times New Roman"/>
              </a:rPr>
              <a:t>External Librari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1752120" y="46483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5715000"/>
            <a:ext cx="2438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Program gene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57800" y="1371600"/>
            <a:ext cx="13716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an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257800" y="3352680"/>
            <a:ext cx="137160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mediate 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257800" y="4038480"/>
            <a:ext cx="13716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m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257800" y="2666880"/>
            <a:ext cx="13716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mantic analy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257800" y="1981080"/>
            <a:ext cx="13716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257800" y="4724280"/>
            <a:ext cx="13716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de gen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809880" y="2666880"/>
            <a:ext cx="106704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086600" y="2666880"/>
            <a:ext cx="10666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4120" y="762120"/>
            <a:ext cx="121896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488200" y="762120"/>
            <a:ext cx="996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0000"/>
                </a:solidFill>
                <a:latin typeface="Times New Roman"/>
              </a:rPr>
              <a:t>source progra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724280" y="5715000"/>
            <a:ext cx="2438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Program Compil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943600" y="1066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943600" y="1676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943600" y="2286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943600" y="29718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94360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943600" y="43434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4876920" y="1523880"/>
            <a:ext cx="38088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876920" y="2133720"/>
            <a:ext cx="38088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4876920" y="2819160"/>
            <a:ext cx="38088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876920" y="2895480"/>
            <a:ext cx="38088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876920" y="2895480"/>
            <a:ext cx="38088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876920" y="2895480"/>
            <a:ext cx="380880" cy="198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629400" y="1523880"/>
            <a:ext cx="45720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 flipV="1">
            <a:off x="6629400" y="2133720"/>
            <a:ext cx="45720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 flipV="1">
            <a:off x="6629400" y="2819160"/>
            <a:ext cx="4572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6629400" y="289548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6629400" y="2895480"/>
            <a:ext cx="45720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6629400" y="2895480"/>
            <a:ext cx="457200" cy="198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52280" y="2057400"/>
            <a:ext cx="1905120" cy="6094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276720" y="380880"/>
            <a:ext cx="5638680" cy="60962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057400" y="1980720"/>
            <a:ext cx="152388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781680" y="1295280"/>
            <a:ext cx="2133720" cy="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781680" y="3657600"/>
            <a:ext cx="2133720" cy="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705720" y="5105520"/>
            <a:ext cx="2133360" cy="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534520" y="1295280"/>
            <a:ext cx="0" cy="2362320"/>
          </a:xfrm>
          <a:prstGeom prst="line">
            <a:avLst/>
          </a:prstGeom>
          <a:ln w="93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458200" y="3657600"/>
            <a:ext cx="0" cy="1447920"/>
          </a:xfrm>
          <a:prstGeom prst="line">
            <a:avLst/>
          </a:prstGeom>
          <a:ln w="93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543800" y="4191120"/>
            <a:ext cx="914400" cy="3045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3333cc"/>
                </a:solidFill>
                <a:latin typeface="Times New Roman"/>
              </a:rPr>
              <a:t>final ta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620120" y="2057400"/>
            <a:ext cx="9144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3333cc"/>
                </a:solidFill>
                <a:latin typeface="Times New Roman"/>
              </a:rPr>
              <a:t>front ta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12T17:45:30Z</dcterms:created>
  <dc:creator>jvl</dc:creator>
  <dc:description/>
  <dc:language>en-US</dc:language>
  <cp:lastModifiedBy>jvl</cp:lastModifiedBy>
  <dcterms:modified xsi:type="dcterms:W3CDTF">2001-04-12T18:44:52Z</dcterms:modified>
  <cp:revision>5</cp:revision>
  <dc:subject/>
  <dc:title>PowerPoint Presentation</dc:title>
</cp:coreProperties>
</file>