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5AE7-66C1-4942-BEA0-3058E2AE33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0378-4524-44C1-8EE1-23E8C1D4E6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a50a1"/>
                </a:solidFill>
                <a:latin typeface="Arial"/>
                <a:ea typeface="Times New Roman"/>
              </a:rPr>
              <a:t>This is the “Presentation title” page.  Type the title of your presentation in the "Presentation title”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ette page est la page de titre d’une présentation . Saisissez votre titre dans la zone « Titre de la présentation 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A43BD-4BF4-4EE2-A42E-B14C29AD3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62422-A832-49FA-8395-EC9177CBB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85C98-56CC-4FD9-8A1A-34F1BEEA1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2AAE7-D282-435F-81DA-61C153212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5D638-C9FB-475A-8410-ED39BE26E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146DE-6DC0-4C9A-823C-84894220E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340C7-D863-42B4-9542-5B7D5037D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949AA-80BE-4D23-A525-A2D988B94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50B49-3FEA-4B20-AE99-072038476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82023-243F-4644-8122-1DDEF0442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6966-41C3-4BDC-AF35-C8FD6028E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F1FFB-099C-41E0-B5C7-47E5BFAC7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248520"/>
            <a:ext cx="531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2002 CAAV5 Developers‘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Parc des Princes - Par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72400" y="6610320"/>
            <a:ext cx="33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80FC-5E26-4FE3-AD4F-1A985EEB932D}" type="slidenum">
              <a:rPr b="1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virgule" descr=""/>
          <p:cNvPicPr/>
          <p:nvPr/>
        </p:nvPicPr>
        <p:blipFill>
          <a:blip r:embed="rId6"/>
          <a:stretch/>
        </p:blipFill>
        <p:spPr>
          <a:xfrm>
            <a:off x="539640" y="574560"/>
            <a:ext cx="173988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DS" descr=""/>
          <p:cNvPicPr/>
          <p:nvPr/>
        </p:nvPicPr>
        <p:blipFill>
          <a:blip r:embed="rId7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DS" descr=""/>
          <p:cNvPicPr/>
          <p:nvPr/>
        </p:nvPicPr>
        <p:blipFill>
          <a:blip r:embed="rId3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410080"/>
            <a:ext cx="228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571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143000" algn="ctr">
              <a:buClr>
                <a:srgbClr val="eb8b1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0" i="1" lang="en-US" sz="1500" spc="-1" strike="noStrike">
              <a:solidFill>
                <a:srgbClr val="120c80"/>
              </a:solidFill>
              <a:latin typeface="Arial"/>
            </a:endParaRPr>
          </a:p>
          <a:p>
            <a:pPr lvl="3" marL="1523880" indent="95400" algn="ctr">
              <a:spcBef>
                <a:spcPts val="300"/>
              </a:spcBef>
              <a:buClr>
                <a:srgbClr val="120c8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0" i="1" lang="en-US" sz="1200" spc="-1" strike="noStrike">
              <a:solidFill>
                <a:srgbClr val="120c80"/>
              </a:solidFill>
              <a:latin typeface="Arial"/>
            </a:endParaRPr>
          </a:p>
          <a:p>
            <a:pPr lvl="4" marL="2193840" algn="ctr">
              <a:spcBef>
                <a:spcPts val="249"/>
              </a:spcBef>
              <a:buClr>
                <a:srgbClr val="120c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5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6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oding Blends</a:t>
            </a:r>
            <a:br>
              <a:rPr sz="3500"/>
            </a:b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ATTopBlend Operator</a:t>
            </a:r>
            <a:br>
              <a:rPr sz="3500"/>
            </a:b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28880" y="1752480"/>
            <a:ext cx="7086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DomainGi (Gi = G0, G1, G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Each Gi sub-domain/domain of one wire is associated with each Gi sub-domain/domain of the other wire. The extremities of sub-domain/domain are coup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The coupling is carried out edge-by-edge. You must have the same number of vertices on each w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70581-C823-46D9-9E4A-CEE43DFA40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- Examples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5638680"/>
            <a:ext cx="373392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No coupling mode specified </a:t>
            </a:r>
            <a:r>
              <a:rPr b="0" lang="en-US" sz="1400" spc="-1" strike="noStrike">
                <a:solidFill>
                  <a:srgbClr val="120c80"/>
                </a:solidFill>
                <a:latin typeface="Arial"/>
              </a:rPr>
              <a:t>or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 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523880"/>
            <a:ext cx="3733920" cy="827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ouplingedgeG0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2676240" cy="2867040"/>
          </a:xfrm>
          <a:prstGeom prst="rect">
            <a:avLst/>
          </a:prstGeom>
          <a:ln w="0">
            <a:noFill/>
          </a:ln>
        </p:spPr>
      </p:pic>
      <p:pic>
        <p:nvPicPr>
          <p:cNvPr id="99" name="couplingGo" descr=""/>
          <p:cNvPicPr/>
          <p:nvPr/>
        </p:nvPicPr>
        <p:blipFill>
          <a:blip r:embed="rId2"/>
          <a:stretch/>
        </p:blipFill>
        <p:spPr>
          <a:xfrm>
            <a:off x="4114800" y="3048120"/>
            <a:ext cx="2362320" cy="2523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914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733560" y="2286000"/>
            <a:ext cx="152388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324480" y="4114440"/>
            <a:ext cx="1828800" cy="1676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431E3-28BF-494A-9E7D-4FAF039589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181480"/>
            <a:ext cx="3581640" cy="723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CATTopBlendCouplingMode_Domain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066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G2toG0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3076560" cy="2752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840" y="266688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3048120"/>
            <a:ext cx="167652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457200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ERROR – not the same number of ver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029200"/>
            <a:ext cx="5410080" cy="99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248520" y="5028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128D-5223-45FB-A44F-10FABD905A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8380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 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16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C532-E5F8-4330-A0AB-8169AAB7BC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68580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s below are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27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4A3C3-3E30-4456-BE8A-41E965F3BB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s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76212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2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 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 below is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388620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c80"/>
                </a:solidFill>
                <a:latin typeface="Arial"/>
              </a:rPr>
              <a:t>Three coupling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ouplinglines" descr=""/>
          <p:cNvPicPr/>
          <p:nvPr/>
        </p:nvPicPr>
        <p:blipFill>
          <a:blip r:embed="rId1"/>
          <a:stretch/>
        </p:blipFill>
        <p:spPr>
          <a:xfrm>
            <a:off x="2714760" y="2057400"/>
            <a:ext cx="3714480" cy="3362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 flipV="1">
            <a:off x="3580920" y="4114800"/>
            <a:ext cx="34290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10080" y="3276720"/>
            <a:ext cx="1447920" cy="761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85840" y="380988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EB3C5-A19E-4874-9C17-21129ADE0B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7:36:20Z</dcterms:created>
  <dc:creator>CCY</dc:creator>
  <dc:description/>
  <dc:language>en-US</dc:language>
  <cp:lastModifiedBy>CRE</cp:lastModifiedBy>
  <dcterms:modified xsi:type="dcterms:W3CDTF">2002-12-23T18:53:45Z</dcterms:modified>
  <cp:revision>143</cp:revision>
  <dc:subject/>
  <dc:title>Présentation PowerPoint</dc:title>
</cp:coreProperties>
</file>