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9125-B344-47CB-BD7A-ABB616DA9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EB4D-4773-4F28-B46F-C5ED23CE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4D33-FD22-4AE1-BABD-6267AA0AA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6A44-841D-4350-A29C-AAD642933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6EE3-21C5-4481-85A1-ACAFA2F6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EEF3-E582-401A-BFDE-83ABA797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7724-D9C7-4F43-A2AB-CE11A2F7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FE93-76B3-404C-BC5F-CA98E231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3B4D-DFC3-495C-B0DA-68877DF5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A99E-C67A-4D23-8116-D475766D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7FC0-55BE-484E-9A3E-38A375EF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C130-3158-4287-A760-32A8CE37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BB3C-98EE-438F-BB97-7776996AE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685800"/>
            <a:ext cx="12193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5105520"/>
            <a:ext cx="152388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219320"/>
            <a:ext cx="1371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pro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342900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emb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4956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er / link-ed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22096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8580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Times New Roman"/>
              </a:rPr>
              <a:t>source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396252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cc"/>
                </a:solidFill>
                <a:latin typeface="Times New Roman"/>
              </a:rPr>
              <a:t>translatable machin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752480"/>
            <a:ext cx="121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5105520"/>
            <a:ext cx="1371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Times New Roman"/>
              </a:rPr>
              <a:t>Absolute machin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274320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cc"/>
                </a:solidFill>
                <a:latin typeface="Times New Roman"/>
              </a:rPr>
              <a:t>Target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cc"/>
                </a:solidFill>
                <a:latin typeface="Times New Roman"/>
              </a:rPr>
              <a:t>(assembling languag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990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33720" y="4495680"/>
            <a:ext cx="12189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cc"/>
                </a:solidFill>
                <a:latin typeface="Times New Roman"/>
              </a:rPr>
              <a:t>External Libra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752120" y="4648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5715000"/>
            <a:ext cx="2438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Program gen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137160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57800" y="3352680"/>
            <a:ext cx="13716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40384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57800" y="26668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antic 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57800" y="19810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47242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9880" y="2666880"/>
            <a:ext cx="10670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6600" y="2666880"/>
            <a:ext cx="1066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762120"/>
            <a:ext cx="121896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8200" y="76212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Times New Roman"/>
              </a:rPr>
              <a:t>source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724280" y="5715000"/>
            <a:ext cx="2438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Program Compi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43600" y="1066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360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4360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94360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876920" y="1523880"/>
            <a:ext cx="38088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876920" y="2133720"/>
            <a:ext cx="3808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876920" y="281916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2895480"/>
            <a:ext cx="3808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76920" y="2895480"/>
            <a:ext cx="38088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76920" y="2895480"/>
            <a:ext cx="38088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29400" y="152388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6629400" y="2133720"/>
            <a:ext cx="4572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6629400" y="2819160"/>
            <a:ext cx="4572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629400" y="28954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629400" y="2895480"/>
            <a:ext cx="457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6629400" y="2895480"/>
            <a:ext cx="45720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2057400"/>
            <a:ext cx="1905120" cy="6094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380880"/>
            <a:ext cx="5638680" cy="6096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057400" y="1980720"/>
            <a:ext cx="15238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81680" y="1295280"/>
            <a:ext cx="213372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81680" y="3657600"/>
            <a:ext cx="213372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5105520"/>
            <a:ext cx="213336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534520" y="1295280"/>
            <a:ext cx="0" cy="236232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3657600"/>
            <a:ext cx="0" cy="144792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4191120"/>
            <a:ext cx="9144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cc"/>
                </a:solidFill>
                <a:latin typeface="Times New Roman"/>
              </a:rPr>
              <a:t>final 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2057400"/>
            <a:ext cx="914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cc"/>
                </a:solidFill>
                <a:latin typeface="Times New Roman"/>
              </a:rPr>
              <a:t>front 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7:45:30Z</dcterms:created>
  <dc:creator>jvl</dc:creator>
  <dc:description/>
  <dc:language>en-US</dc:language>
  <cp:lastModifiedBy>jvl</cp:lastModifiedBy>
  <dcterms:modified xsi:type="dcterms:W3CDTF">2001-04-12T18:44:52Z</dcterms:modified>
  <cp:revision>5</cp:revision>
  <dc:subject/>
  <dc:title>PowerPoint Presentation</dc:title>
</cp:coreProperties>
</file>