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9C1-0372-47A1-A19D-A3AA6465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CE6-C04A-4295-8716-A75F3C78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59E-275C-47C4-AEA4-BA6F318A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2BC-EBD2-48B3-A5EE-7EF64CCA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DD5-BEA2-40BE-8922-3E1B52D8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100-0896-452A-A07E-95BCD7D4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5B0-715D-400B-999B-B86200E5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5BD-282C-422E-A4AB-7CBEE2F0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821-9CA9-4F6D-A6DA-BBC30D5E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E2E-CA5D-40B4-9F9C-A1BE6E87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6D8-8924-41A1-BD77-F5F388C9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B92-DEA1-4F8B-8687-8CD89EDD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A77F-C0C7-43E8-8A9C-30459D94F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04920"/>
            <a:ext cx="2438280" cy="1066680"/>
            <a:chOff x="3429000" y="304920"/>
            <a:chExt cx="2438280" cy="1066680"/>
          </a:xfrm>
        </p:grpSpPr>
        <p:sp>
          <p:nvSpPr>
            <p:cNvPr id="43" name=""/>
            <p:cNvSpPr/>
            <p:nvPr/>
          </p:nvSpPr>
          <p:spPr>
            <a:xfrm>
              <a:off x="3429000" y="304920"/>
              <a:ext cx="2209680" cy="106668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62520" y="53352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roje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46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49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7200" y="2057400"/>
            <a:ext cx="1752480" cy="685800"/>
            <a:chOff x="457200" y="2057400"/>
            <a:chExt cx="1752480" cy="685800"/>
          </a:xfrm>
        </p:grpSpPr>
        <p:sp>
          <p:nvSpPr>
            <p:cNvPr id="52" name=""/>
            <p:cNvSpPr/>
            <p:nvPr/>
          </p:nvSpPr>
          <p:spPr>
            <a:xfrm>
              <a:off x="457200" y="205740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0120" y="2057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24080"/>
            <a:ext cx="1752480" cy="685800"/>
            <a:chOff x="457200" y="3124080"/>
            <a:chExt cx="1752480" cy="685800"/>
          </a:xfrm>
        </p:grpSpPr>
        <p:sp>
          <p:nvSpPr>
            <p:cNvPr id="55" name=""/>
            <p:cNvSpPr/>
            <p:nvPr/>
          </p:nvSpPr>
          <p:spPr>
            <a:xfrm>
              <a:off x="457200" y="312408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120" y="3124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19720" y="1981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6"/>
            <a:endCxn id="60" idx="2"/>
          </p:cNvCxnSpPr>
          <p:nvPr/>
        </p:nvCxnSpPr>
        <p:spPr>
          <a:xfrm>
            <a:off x="2209680" y="2400480"/>
            <a:ext cx="1371960" cy="114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1" name=""/>
          <p:cNvCxnSpPr>
            <a:stCxn id="60" idx="0"/>
            <a:endCxn id="43" idx="2"/>
          </p:cNvCxnSpPr>
          <p:nvPr/>
        </p:nvCxnSpPr>
        <p:spPr>
          <a:xfrm flipV="1">
            <a:off x="3657600" y="1371600"/>
            <a:ext cx="876600" cy="10670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2" name=""/>
          <p:cNvCxnSpPr>
            <a:stCxn id="60" idx="6"/>
            <a:endCxn id="46" idx="1"/>
          </p:cNvCxnSpPr>
          <p:nvPr/>
        </p:nvCxnSpPr>
        <p:spPr>
          <a:xfrm flipV="1">
            <a:off x="3733560" y="236196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63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60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0" y="5029200"/>
            <a:ext cx="1295280" cy="1190160"/>
            <a:chOff x="2286000" y="5029200"/>
            <a:chExt cx="1295280" cy="1190160"/>
          </a:xfrm>
        </p:grpSpPr>
        <p:sp>
          <p:nvSpPr>
            <p:cNvPr id="66" name=""/>
            <p:cNvSpPr/>
            <p:nvPr/>
          </p:nvSpPr>
          <p:spPr>
            <a:xfrm>
              <a:off x="26668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09880" y="5029200"/>
            <a:ext cx="1295280" cy="1190160"/>
            <a:chOff x="3809880" y="5029200"/>
            <a:chExt cx="1295280" cy="1190160"/>
          </a:xfrm>
        </p:grpSpPr>
        <p:sp>
          <p:nvSpPr>
            <p:cNvPr id="69" name=""/>
            <p:cNvSpPr/>
            <p:nvPr/>
          </p:nvSpPr>
          <p:spPr>
            <a:xfrm>
              <a:off x="419076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5029200"/>
            <a:ext cx="1295280" cy="1190160"/>
            <a:chOff x="5257800" y="5029200"/>
            <a:chExt cx="1295280" cy="1190160"/>
          </a:xfrm>
        </p:grpSpPr>
        <p:sp>
          <p:nvSpPr>
            <p:cNvPr id="72" name=""/>
            <p:cNvSpPr/>
            <p:nvPr/>
          </p:nvSpPr>
          <p:spPr>
            <a:xfrm>
              <a:off x="56386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" name=""/>
          <p:cNvCxnSpPr>
            <a:stCxn id="55" idx="6"/>
            <a:endCxn id="75" idx="2"/>
          </p:cNvCxnSpPr>
          <p:nvPr/>
        </p:nvCxnSpPr>
        <p:spPr>
          <a:xfrm flipV="1">
            <a:off x="2209680" y="3276720"/>
            <a:ext cx="1981800" cy="1908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6" name=""/>
          <p:cNvCxnSpPr>
            <a:stCxn id="77" idx="1"/>
            <a:endCxn id="47" idx="1"/>
          </p:cNvCxnSpPr>
          <p:nvPr/>
        </p:nvCxnSpPr>
        <p:spPr>
          <a:xfrm flipV="1">
            <a:off x="426708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8" name=""/>
          <p:cNvCxnSpPr>
            <a:stCxn id="43" idx="2"/>
            <a:endCxn id="77" idx="1"/>
          </p:cNvCxnSpPr>
          <p:nvPr/>
        </p:nvCxnSpPr>
        <p:spPr>
          <a:xfrm flipH="1">
            <a:off x="4267080" y="1371600"/>
            <a:ext cx="267120" cy="19674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5" idx="6"/>
            <a:endCxn id="58" idx="2"/>
          </p:cNvCxnSpPr>
          <p:nvPr/>
        </p:nvCxnSpPr>
        <p:spPr>
          <a:xfrm>
            <a:off x="2209680" y="3467160"/>
            <a:ext cx="281988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0" name=""/>
          <p:cNvCxnSpPr>
            <a:stCxn id="58" idx="6"/>
            <a:endCxn id="50" idx="1"/>
          </p:cNvCxnSpPr>
          <p:nvPr/>
        </p:nvCxnSpPr>
        <p:spPr>
          <a:xfrm flipV="1">
            <a:off x="5181480" y="3338280"/>
            <a:ext cx="1143360" cy="47232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1" name=""/>
          <p:cNvCxnSpPr>
            <a:stCxn id="43" idx="2"/>
            <a:endCxn id="58" idx="0"/>
          </p:cNvCxnSpPr>
          <p:nvPr/>
        </p:nvCxnSpPr>
        <p:spPr>
          <a:xfrm>
            <a:off x="4533840" y="1371600"/>
            <a:ext cx="572040" cy="236268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04920"/>
            <a:ext cx="2556000" cy="10666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7800" y="533520"/>
            <a:ext cx="22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Proj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87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90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143000" y="2057400"/>
            <a:ext cx="1904760" cy="798120"/>
            <a:chOff x="1143000" y="2057400"/>
            <a:chExt cx="1904760" cy="798120"/>
          </a:xfrm>
        </p:grpSpPr>
        <p:sp>
          <p:nvSpPr>
            <p:cNvPr id="93" name=""/>
            <p:cNvSpPr/>
            <p:nvPr/>
          </p:nvSpPr>
          <p:spPr>
            <a:xfrm>
              <a:off x="1143000" y="2057400"/>
              <a:ext cx="1904760" cy="7981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1560" y="205740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124080"/>
            <a:ext cx="1904760" cy="684360"/>
            <a:chOff x="1143000" y="3124080"/>
            <a:chExt cx="1904760" cy="684360"/>
          </a:xfrm>
        </p:grpSpPr>
        <p:sp>
          <p:nvSpPr>
            <p:cNvPr id="96" name=""/>
            <p:cNvSpPr/>
            <p:nvPr/>
          </p:nvSpPr>
          <p:spPr>
            <a:xfrm>
              <a:off x="1143000" y="3124080"/>
              <a:ext cx="1904760" cy="6843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1560" y="312408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6724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3" idx="6"/>
            <a:endCxn id="101" idx="2"/>
          </p:cNvCxnSpPr>
          <p:nvPr/>
        </p:nvCxnSpPr>
        <p:spPr>
          <a:xfrm>
            <a:off x="3047760" y="2457000"/>
            <a:ext cx="533880" cy="57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2" name=""/>
          <p:cNvCxnSpPr>
            <a:stCxn id="101" idx="0"/>
            <a:endCxn id="84" idx="2"/>
          </p:cNvCxnSpPr>
          <p:nvPr/>
        </p:nvCxnSpPr>
        <p:spPr>
          <a:xfrm flipV="1">
            <a:off x="3657600" y="1370880"/>
            <a:ext cx="8215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3" name=""/>
          <p:cNvCxnSpPr>
            <a:stCxn id="101" idx="6"/>
            <a:endCxn id="87" idx="1"/>
          </p:cNvCxnSpPr>
          <p:nvPr/>
        </p:nvCxnSpPr>
        <p:spPr>
          <a:xfrm flipV="1">
            <a:off x="3733920" y="236160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104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101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5029200"/>
            <a:ext cx="1523520" cy="1227600"/>
            <a:chOff x="2057400" y="5029200"/>
            <a:chExt cx="1523520" cy="1227600"/>
          </a:xfrm>
        </p:grpSpPr>
        <p:sp>
          <p:nvSpPr>
            <p:cNvPr id="107" name=""/>
            <p:cNvSpPr/>
            <p:nvPr/>
          </p:nvSpPr>
          <p:spPr>
            <a:xfrm>
              <a:off x="2505240" y="5029200"/>
              <a:ext cx="627480" cy="566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567612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5029200"/>
            <a:ext cx="1447560" cy="1227600"/>
            <a:chOff x="3657600" y="5029200"/>
            <a:chExt cx="1447560" cy="1227600"/>
          </a:xfrm>
        </p:grpSpPr>
        <p:sp>
          <p:nvSpPr>
            <p:cNvPr id="110" name=""/>
            <p:cNvSpPr/>
            <p:nvPr/>
          </p:nvSpPr>
          <p:spPr>
            <a:xfrm>
              <a:off x="4083120" y="5029200"/>
              <a:ext cx="596160" cy="566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67612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7800" y="5029200"/>
            <a:ext cx="1523520" cy="1195560"/>
            <a:chOff x="5257800" y="5029200"/>
            <a:chExt cx="1523520" cy="1195560"/>
          </a:xfrm>
        </p:grpSpPr>
        <p:sp>
          <p:nvSpPr>
            <p:cNvPr id="113" name=""/>
            <p:cNvSpPr/>
            <p:nvPr/>
          </p:nvSpPr>
          <p:spPr>
            <a:xfrm>
              <a:off x="5705640" y="5029200"/>
              <a:ext cx="627480" cy="53820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564408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96" idx="6"/>
            <a:endCxn id="116" idx="2"/>
          </p:cNvCxnSpPr>
          <p:nvPr/>
        </p:nvCxnSpPr>
        <p:spPr>
          <a:xfrm flipV="1">
            <a:off x="3047760" y="3276000"/>
            <a:ext cx="1143720" cy="191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7" name=""/>
          <p:cNvCxnSpPr>
            <a:stCxn id="118" idx="1"/>
            <a:endCxn id="88" idx="1"/>
          </p:cNvCxnSpPr>
          <p:nvPr/>
        </p:nvCxnSpPr>
        <p:spPr>
          <a:xfrm flipV="1">
            <a:off x="426672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9" name=""/>
          <p:cNvCxnSpPr>
            <a:stCxn id="84" idx="2"/>
            <a:endCxn id="118" idx="1"/>
          </p:cNvCxnSpPr>
          <p:nvPr/>
        </p:nvCxnSpPr>
        <p:spPr>
          <a:xfrm flipH="1">
            <a:off x="4266360" y="1371600"/>
            <a:ext cx="212040" cy="19677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6" idx="6"/>
            <a:endCxn id="99" idx="2"/>
          </p:cNvCxnSpPr>
          <p:nvPr/>
        </p:nvCxnSpPr>
        <p:spPr>
          <a:xfrm>
            <a:off x="3047760" y="3467160"/>
            <a:ext cx="198180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1" name=""/>
          <p:cNvCxnSpPr>
            <a:stCxn id="99" idx="6"/>
            <a:endCxn id="91" idx="1"/>
          </p:cNvCxnSpPr>
          <p:nvPr/>
        </p:nvCxnSpPr>
        <p:spPr>
          <a:xfrm flipV="1">
            <a:off x="5181120" y="3337920"/>
            <a:ext cx="1143720" cy="47196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2" name=""/>
          <p:cNvCxnSpPr>
            <a:stCxn id="84" idx="2"/>
            <a:endCxn id="99" idx="0"/>
          </p:cNvCxnSpPr>
          <p:nvPr/>
        </p:nvCxnSpPr>
        <p:spPr>
          <a:xfrm>
            <a:off x="4478400" y="1371600"/>
            <a:ext cx="627840" cy="23630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84" idx="1"/>
          </p:cNvCxnSpPr>
          <p:nvPr/>
        </p:nvCxnSpPr>
        <p:spPr>
          <a:xfrm>
            <a:off x="2666880" y="83772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715000" y="838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0" cy="373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847880" y="0"/>
          <a:ext cx="5108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0"/>
                    <a:ext cx="5108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04920"/>
          <a:ext cx="91440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685800"/>
            <a:ext cx="6781680" cy="1523880"/>
            <a:chOff x="228600" y="685800"/>
            <a:chExt cx="6781680" cy="1523880"/>
          </a:xfrm>
        </p:grpSpPr>
        <p:sp>
          <p:nvSpPr>
            <p:cNvPr id="138" name=""/>
            <p:cNvSpPr/>
            <p:nvPr/>
          </p:nvSpPr>
          <p:spPr>
            <a:xfrm>
              <a:off x="2286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AUL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CA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685800"/>
              <a:ext cx="15242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968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685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96840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968400"/>
              <a:ext cx="1523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PM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55600"/>
            <a:ext cx="7391520" cy="5181480"/>
          </a:xfrm>
          <a:prstGeom prst="rect">
            <a:avLst/>
          </a:prstGeom>
          <a:solidFill>
            <a:srgbClr val="fb8d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77920"/>
            <a:ext cx="0" cy="509256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82760"/>
            <a:ext cx="304812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76440" y="28062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514920" y="28062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82760"/>
            <a:ext cx="304776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9880" y="4521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1 :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53564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2 : Publish in the databas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 admin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316400" y="2131920"/>
            <a:ext cx="609840" cy="7391520"/>
          </a:xfrm>
          <a:custGeom>
            <a:avLst/>
            <a:gdLst>
              <a:gd name="textAreaLeft" fmla="*/ 389520 w 609840"/>
              <a:gd name="textAreaRight" fmla="*/ 610200 w 60984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280" y="61326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ll People cust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7400" y="646200"/>
            <a:ext cx="1066680" cy="990360"/>
            <a:chOff x="2057400" y="646200"/>
            <a:chExt cx="1066680" cy="990360"/>
          </a:xfrm>
        </p:grpSpPr>
        <p:sp>
          <p:nvSpPr>
            <p:cNvPr id="165" name=""/>
            <p:cNvSpPr/>
            <p:nvPr/>
          </p:nvSpPr>
          <p:spPr>
            <a:xfrm>
              <a:off x="2057400" y="646200"/>
              <a:ext cx="106668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209680" y="722160"/>
              <a:ext cx="761040" cy="838440"/>
              <a:chOff x="2209680" y="722160"/>
              <a:chExt cx="761040" cy="838440"/>
            </a:xfrm>
          </p:grpSpPr>
          <p:sp>
            <p:nvSpPr>
              <p:cNvPr id="167" name=""/>
              <p:cNvSpPr/>
              <p:nvPr/>
            </p:nvSpPr>
            <p:spPr>
              <a:xfrm>
                <a:off x="2209680" y="100152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135108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stCxn id="168" idx="0"/>
                <a:endCxn id="167" idx="2"/>
              </p:cNvCxnSpPr>
              <p:nvPr/>
            </p:nvCxnSpPr>
            <p:spPr>
              <a:xfrm flipV="1">
                <a:off x="2331000" y="1210680"/>
                <a:ext cx="1080" cy="14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0" name=""/>
              <p:cNvSpPr/>
              <p:nvPr/>
            </p:nvSpPr>
            <p:spPr>
              <a:xfrm>
                <a:off x="2727360" y="7221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27360" y="10713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2" name=""/>
              <p:cNvCxnSpPr>
                <a:stCxn id="171" idx="0"/>
                <a:endCxn id="170" idx="2"/>
              </p:cNvCxnSpPr>
              <p:nvPr/>
            </p:nvCxnSpPr>
            <p:spPr>
              <a:xfrm flipV="1">
                <a:off x="2849040" y="931320"/>
                <a:ext cx="1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3" name=""/>
              <p:cNvCxnSpPr>
                <a:stCxn id="168" idx="3"/>
                <a:endCxn id="171" idx="1"/>
              </p:cNvCxnSpPr>
              <p:nvPr/>
            </p:nvCxnSpPr>
            <p:spPr>
              <a:xfrm flipV="1">
                <a:off x="2452680" y="1175760"/>
                <a:ext cx="274680" cy="28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74" name=""/>
          <p:cNvSpPr/>
          <p:nvPr/>
        </p:nvSpPr>
        <p:spPr>
          <a:xfrm>
            <a:off x="1143000" y="1712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the customiz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323440" y="19033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2627280"/>
            <a:ext cx="609480" cy="838080"/>
            <a:chOff x="2286000" y="2627280"/>
            <a:chExt cx="609480" cy="838080"/>
          </a:xfrm>
        </p:grpSpPr>
        <p:sp>
          <p:nvSpPr>
            <p:cNvPr id="177" name=""/>
            <p:cNvSpPr/>
            <p:nvPr/>
          </p:nvSpPr>
          <p:spPr>
            <a:xfrm>
              <a:off x="2286000" y="27795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6272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285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0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1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1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34653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of metadat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86400" y="569880"/>
            <a:ext cx="609480" cy="838080"/>
            <a:chOff x="5486400" y="569880"/>
            <a:chExt cx="609480" cy="838080"/>
          </a:xfrm>
        </p:grpSpPr>
        <p:sp>
          <p:nvSpPr>
            <p:cNvPr id="185" name=""/>
            <p:cNvSpPr/>
            <p:nvPr/>
          </p:nvSpPr>
          <p:spPr>
            <a:xfrm>
              <a:off x="548640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24480" y="569880"/>
            <a:ext cx="609480" cy="838080"/>
            <a:chOff x="6324480" y="569880"/>
            <a:chExt cx="609480" cy="838080"/>
          </a:xfrm>
        </p:grpSpPr>
        <p:sp>
          <p:nvSpPr>
            <p:cNvPr id="192" name=""/>
            <p:cNvSpPr/>
            <p:nvPr/>
          </p:nvSpPr>
          <p:spPr>
            <a:xfrm>
              <a:off x="632448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080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080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162920" y="569880"/>
            <a:ext cx="609480" cy="838080"/>
            <a:chOff x="7162920" y="569880"/>
            <a:chExt cx="609480" cy="838080"/>
          </a:xfrm>
        </p:grpSpPr>
        <p:sp>
          <p:nvSpPr>
            <p:cNvPr id="199" name=""/>
            <p:cNvSpPr/>
            <p:nvPr/>
          </p:nvSpPr>
          <p:spPr>
            <a:xfrm>
              <a:off x="716292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92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924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924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6960" y="140796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 SQL scripts and needed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46400"/>
            <a:ext cx="762120" cy="9144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6134040" y="220824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2367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updat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/>
          <p:nvPr/>
        </p:nvCxnSpPr>
        <p:spPr>
          <a:xfrm flipV="1" rot="10800000">
            <a:off x="3141000" y="1103040"/>
            <a:ext cx="2269080" cy="2070720"/>
          </a:xfrm>
          <a:prstGeom prst="curvedConnector5">
            <a:avLst>
              <a:gd name="adj1" fmla="val 49952"/>
              <a:gd name="adj2" fmla="val 49991"/>
              <a:gd name="adj3" fmla="val 49952"/>
            </a:avLst>
          </a:prstGeom>
          <a:ln w="76320">
            <a:solidFill>
              <a:srgbClr val="3366f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9:48Z</dcterms:created>
  <dc:creator>fya</dc:creator>
  <dc:description/>
  <dc:language>en-US</dc:language>
  <cp:lastModifiedBy>fya</cp:lastModifiedBy>
  <dcterms:modified xsi:type="dcterms:W3CDTF">2004-03-08T15:44:38Z</dcterms:modified>
  <cp:revision>11</cp:revision>
  <dc:subject/>
  <dc:title>Slide 1</dc:title>
</cp:coreProperties>
</file>