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FD9E-9823-42BE-845A-FDFC533D74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i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5EDA-0786-4218-8431-7A62E1436D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a50a1"/>
                </a:solidFill>
                <a:latin typeface="Arial"/>
                <a:ea typeface="Times New Roman"/>
              </a:rPr>
              <a:t>This is the “Presentation title” page.  Type the title of your presentation in the "Presentation title” f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ette page est la page de titre d’une présentation . Saisissez votre titre dans la zone « Titre de la présentation 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83157-A120-4279-A23D-9A48C9EB1D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ECC64-6369-4BCA-B4B1-39B7059385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36933-EBA2-409D-B7C6-3C0DAF2D12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864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896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142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864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896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4C69D-3991-4FA9-9712-AAEF600842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18880" y="301320"/>
            <a:ext cx="611820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167EB-6FE3-4812-8917-CBB39F98D2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864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5896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142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864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5896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0A092-798D-4E93-9391-B0CA20F642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CA699-7F9B-4DD6-95EA-70CDD38CC1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49BC3-3428-43D1-86A1-992989E53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18880" y="301320"/>
            <a:ext cx="611820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38288-5BC5-4900-A95B-009CD5DAC0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3CB09-2063-4AA8-8AF6-47F6B4BA02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5B351-B8D5-4007-B2F0-3A48201D7C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EC860-F27F-4F99-9919-1E1BC3C73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ond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spcBef>
                <a:spcPts val="1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428840" indent="-28584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3" marL="1809720" indent="-190440">
              <a:spcBef>
                <a:spcPts val="1001"/>
              </a:spcBef>
              <a:buClr>
                <a:srgbClr val="120c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4" marL="2381400" indent="-187560">
              <a:spcBef>
                <a:spcPts val="1001"/>
              </a:spcBef>
              <a:buClr>
                <a:srgbClr val="120c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5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6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904760" y="6248520"/>
            <a:ext cx="531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r>
              <a:rPr b="1" lang="en-US" sz="1000" spc="-1" strike="noStrike">
                <a:solidFill>
                  <a:srgbClr val="b2b2b2"/>
                </a:solidFill>
                <a:latin typeface="Arial"/>
              </a:rPr>
              <a:t>2002 CAAV5 Developers‘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2b2b2"/>
                </a:solidFill>
                <a:latin typeface="Arial"/>
              </a:rPr>
              <a:t>Parc des Princes - Pari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72400" y="6610320"/>
            <a:ext cx="33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6284-1508-465F-BF0C-696E2144589E}" type="slidenum">
              <a:rPr b="1" lang="en-US" sz="7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virgule" descr=""/>
          <p:cNvPicPr/>
          <p:nvPr/>
        </p:nvPicPr>
        <p:blipFill>
          <a:blip r:embed="rId6"/>
          <a:stretch/>
        </p:blipFill>
        <p:spPr>
          <a:xfrm>
            <a:off x="539640" y="574560"/>
            <a:ext cx="1739880" cy="480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362800" y="6585120"/>
            <a:ext cx="0" cy="2696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DS" descr=""/>
          <p:cNvPicPr/>
          <p:nvPr/>
        </p:nvPicPr>
        <p:blipFill>
          <a:blip r:embed="rId7"/>
          <a:stretch/>
        </p:blipFill>
        <p:spPr>
          <a:xfrm>
            <a:off x="179280" y="5600880"/>
            <a:ext cx="1257480" cy="94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0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6024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DS" descr=""/>
          <p:cNvPicPr/>
          <p:nvPr/>
        </p:nvPicPr>
        <p:blipFill>
          <a:blip r:embed="rId3"/>
          <a:stretch/>
        </p:blipFill>
        <p:spPr>
          <a:xfrm>
            <a:off x="179280" y="5600880"/>
            <a:ext cx="1257480" cy="946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5410080"/>
            <a:ext cx="228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5716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143000" algn="ctr">
              <a:buClr>
                <a:srgbClr val="eb8b1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0" i="1" lang="en-US" sz="1500" spc="-1" strike="noStrike">
              <a:solidFill>
                <a:srgbClr val="120c80"/>
              </a:solidFill>
              <a:latin typeface="Arial"/>
            </a:endParaRPr>
          </a:p>
          <a:p>
            <a:pPr lvl="3" marL="1523880" indent="95400" algn="ctr">
              <a:spcBef>
                <a:spcPts val="300"/>
              </a:spcBef>
              <a:buClr>
                <a:srgbClr val="120c8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0" i="1" lang="en-US" sz="1200" spc="-1" strike="noStrike">
              <a:solidFill>
                <a:srgbClr val="120c80"/>
              </a:solidFill>
              <a:latin typeface="Arial"/>
            </a:endParaRPr>
          </a:p>
          <a:p>
            <a:pPr lvl="4" marL="2193840" algn="ctr">
              <a:spcBef>
                <a:spcPts val="249"/>
              </a:spcBef>
              <a:buClr>
                <a:srgbClr val="120c8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0" i="1" lang="en-US" sz="1000" spc="-1" strike="noStrike">
              <a:solidFill>
                <a:srgbClr val="120c80"/>
              </a:solidFill>
              <a:latin typeface="Arial"/>
            </a:endParaRPr>
          </a:p>
          <a:p>
            <a:pPr lvl="5" marL="219384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0" i="1" lang="en-US" sz="1000" spc="-1" strike="noStrike">
              <a:solidFill>
                <a:srgbClr val="120c80"/>
              </a:solidFill>
              <a:latin typeface="Arial"/>
            </a:endParaRPr>
          </a:p>
          <a:p>
            <a:pPr lvl="6" marL="219384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0" i="1" lang="en-US" sz="1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0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6024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oding Blends</a:t>
            </a:r>
            <a:br>
              <a:rPr sz="3500"/>
            </a:b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ATTopBlend Operator</a:t>
            </a:r>
            <a:br>
              <a:rPr sz="3500"/>
            </a:br>
            <a:endParaRPr b="1" i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28880" y="1752480"/>
            <a:ext cx="7086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ATTopBlendCouplingMode_DomainGi (Gi = G0, G1, G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c80"/>
                </a:solidFill>
                <a:latin typeface="Arial"/>
              </a:rPr>
              <a:t>Each Gi sub-domain/domain of one wire is associated with each Gi sub-domain/domain of the other wire. The extremities of sub-domain/domain are coupl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c80"/>
                </a:solidFill>
                <a:latin typeface="Arial"/>
              </a:rPr>
              <a:t>The coupling is carried out edge-by-edge. You must have the same number of vertices on each w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3F646-F2E4-4154-AE4D-4E17B46013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- Examples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5638680"/>
            <a:ext cx="373392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No coupling mode specified </a:t>
            </a:r>
            <a:r>
              <a:rPr b="0" lang="en-US" sz="1400" spc="-1" strike="noStrike">
                <a:solidFill>
                  <a:srgbClr val="120c80"/>
                </a:solidFill>
                <a:latin typeface="Arial"/>
              </a:rPr>
              <a:t>or</a:t>
            </a: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 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1523880"/>
            <a:ext cx="3733920" cy="8272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couplingedgeG0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2676240" cy="2867040"/>
          </a:xfrm>
          <a:prstGeom prst="rect">
            <a:avLst/>
          </a:prstGeom>
          <a:ln w="0">
            <a:noFill/>
          </a:ln>
        </p:spPr>
      </p:pic>
      <p:pic>
        <p:nvPicPr>
          <p:cNvPr id="99" name="couplingGo" descr=""/>
          <p:cNvPicPr/>
          <p:nvPr/>
        </p:nvPicPr>
        <p:blipFill>
          <a:blip r:embed="rId2"/>
          <a:stretch/>
        </p:blipFill>
        <p:spPr>
          <a:xfrm>
            <a:off x="4114800" y="3048120"/>
            <a:ext cx="2362320" cy="2523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9144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and Wire 2 are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733560" y="2286000"/>
            <a:ext cx="152388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324480" y="4114440"/>
            <a:ext cx="1828800" cy="16765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BF6B3-4A05-416E-A0EB-95FD7B7480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(cont’d)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5181480"/>
            <a:ext cx="3581640" cy="723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CATTopBlendCouplingMode_DomainG2</a:t>
            </a: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10666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2</a:t>
            </a: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 and Wire 2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G2toG0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3076560" cy="2752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09840" y="2666880"/>
            <a:ext cx="35312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3048120"/>
            <a:ext cx="1676520" cy="5331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81680" y="4572000"/>
            <a:ext cx="221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ERROR – not the same number of vert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5029200"/>
            <a:ext cx="5410080" cy="99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248520" y="502884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046DB-5404-4048-84A4-45D5B001C3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edgecoupling" descr=""/>
          <p:cNvPicPr/>
          <p:nvPr/>
        </p:nvPicPr>
        <p:blipFill>
          <a:blip r:embed="rId1"/>
          <a:stretch/>
        </p:blipFill>
        <p:spPr>
          <a:xfrm>
            <a:off x="5791320" y="2895480"/>
            <a:ext cx="2752560" cy="25243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(cont’d)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8380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G1 and Wire 2 are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1 –Same number of vertices/edges (sample provi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g1" descr=""/>
          <p:cNvPicPr/>
          <p:nvPr/>
        </p:nvPicPr>
        <p:blipFill>
          <a:blip r:embed="rId2"/>
          <a:stretch/>
        </p:blipFill>
        <p:spPr>
          <a:xfrm>
            <a:off x="3429000" y="1981080"/>
            <a:ext cx="2857680" cy="2543400"/>
          </a:xfrm>
          <a:prstGeom prst="rect">
            <a:avLst/>
          </a:prstGeom>
          <a:ln w="0">
            <a:noFill/>
          </a:ln>
        </p:spPr>
      </p:pic>
      <p:pic>
        <p:nvPicPr>
          <p:cNvPr id="116" name="g2" descr=""/>
          <p:cNvPicPr/>
          <p:nvPr/>
        </p:nvPicPr>
        <p:blipFill>
          <a:blip r:embed="rId3"/>
          <a:stretch/>
        </p:blipFill>
        <p:spPr>
          <a:xfrm>
            <a:off x="838080" y="1219320"/>
            <a:ext cx="2943360" cy="2590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725360" y="5638680"/>
            <a:ext cx="30758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360" y="4800600"/>
            <a:ext cx="3531240" cy="5457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1240" y="4191120"/>
            <a:ext cx="35312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1980720" y="29714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571640" y="36572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7162920" y="4571640"/>
            <a:ext cx="30456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F45B1-2CEC-43F9-BFC8-250A8423B4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edgecoupling" descr=""/>
          <p:cNvPicPr/>
          <p:nvPr/>
        </p:nvPicPr>
        <p:blipFill>
          <a:blip r:embed="rId1"/>
          <a:stretch/>
        </p:blipFill>
        <p:spPr>
          <a:xfrm>
            <a:off x="5791320" y="2895480"/>
            <a:ext cx="2752560" cy="25243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Line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685800"/>
            <a:ext cx="434340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G1 and Wire 2 are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1 –Same number of vertices/ed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Note: The results below are obtained with SetTransitionContinu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g1" descr=""/>
          <p:cNvPicPr/>
          <p:nvPr/>
        </p:nvPicPr>
        <p:blipFill>
          <a:blip r:embed="rId2"/>
          <a:stretch/>
        </p:blipFill>
        <p:spPr>
          <a:xfrm>
            <a:off x="3429000" y="1981080"/>
            <a:ext cx="2857680" cy="2543400"/>
          </a:xfrm>
          <a:prstGeom prst="rect">
            <a:avLst/>
          </a:prstGeom>
          <a:ln w="0">
            <a:noFill/>
          </a:ln>
        </p:spPr>
      </p:pic>
      <p:pic>
        <p:nvPicPr>
          <p:cNvPr id="127" name="g2" descr=""/>
          <p:cNvPicPr/>
          <p:nvPr/>
        </p:nvPicPr>
        <p:blipFill>
          <a:blip r:embed="rId3"/>
          <a:stretch/>
        </p:blipFill>
        <p:spPr>
          <a:xfrm>
            <a:off x="838080" y="1219320"/>
            <a:ext cx="2943360" cy="2590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725360" y="5638680"/>
            <a:ext cx="30758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360" y="4800600"/>
            <a:ext cx="3531240" cy="5457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1240" y="4191120"/>
            <a:ext cx="35312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980720" y="29714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4571640" y="36572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7162920" y="4571640"/>
            <a:ext cx="30456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23907-ABE6-4181-93D7-4CE7674D01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Lines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762120"/>
            <a:ext cx="434340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G2 and Wire 2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0 </a:t>
            </a: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(sample provi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Note: The result below is obtained with SetTransitionContinu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86600" y="3886200"/>
            <a:ext cx="12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20c80"/>
                </a:solidFill>
                <a:latin typeface="Arial"/>
              </a:rPr>
              <a:t>Three coupling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couplinglines" descr=""/>
          <p:cNvPicPr/>
          <p:nvPr/>
        </p:nvPicPr>
        <p:blipFill>
          <a:blip r:embed="rId1"/>
          <a:stretch/>
        </p:blipFill>
        <p:spPr>
          <a:xfrm>
            <a:off x="2714760" y="2057400"/>
            <a:ext cx="3714480" cy="3362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flipH="1" flipV="1">
            <a:off x="3580920" y="4114800"/>
            <a:ext cx="34290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5410080" y="3276720"/>
            <a:ext cx="1447920" cy="7617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885840" y="380988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41AEE-6C09-4F75-92C2-D1BEF95D83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7:36:20Z</dcterms:created>
  <dc:creator>CCY</dc:creator>
  <dc:description/>
  <dc:language>en-US</dc:language>
  <cp:lastModifiedBy>CRE</cp:lastModifiedBy>
  <dcterms:modified xsi:type="dcterms:W3CDTF">2002-12-23T18:53:45Z</dcterms:modified>
  <cp:revision>143</cp:revision>
  <dc:subject/>
  <dc:title>Présentation PowerPoint</dc:title>
</cp:coreProperties>
</file>