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05A-317B-4797-ADFE-332D15FE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BBB-22EC-4383-B232-E1215850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064-D3EB-4587-9C88-C1B53C2B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086-D8EC-4246-929D-6A97FBCC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E96-FFF0-4993-A214-9769D8EC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5479-3BF0-4BBF-A2F1-D352ED0F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3C8-2ACE-4665-AA73-87B4D020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823-00F2-4F22-9E7C-CFDFACE0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A64-0449-40CA-8EE5-BAED8D68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CED-70B5-4B7D-9778-9BC5D650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B3C-87D9-4032-B7EC-D71440F1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71D-D077-4FB9-A425-B1C5FC8F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8772-D0CD-4FBE-8F76-C49BFCF63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12193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105520"/>
            <a:ext cx="1523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21932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4290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495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er / link-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09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858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9625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ranslatabl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752480"/>
            <a:ext cx="12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10552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Absolut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7432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(assembling languag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9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4495680"/>
            <a:ext cx="12189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External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5212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716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3526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40384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26668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19810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7242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26668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66688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762120"/>
            <a:ext cx="12189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8200" y="76212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76920" y="152388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76920" y="21337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876920" y="28191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28954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8954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28954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1523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629400" y="21337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629400" y="28191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29400" y="2895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629400" y="28954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629400" y="2895480"/>
            <a:ext cx="45720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057400"/>
            <a:ext cx="1905120" cy="609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80880"/>
            <a:ext cx="5638680" cy="609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198072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129528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365760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105520"/>
            <a:ext cx="21333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34520" y="1295280"/>
            <a:ext cx="0" cy="23623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3657600"/>
            <a:ext cx="0" cy="14479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4191120"/>
            <a:ext cx="9144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inal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05740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ront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5:30Z</dcterms:created>
  <dc:creator>jvl</dc:creator>
  <dc:description/>
  <dc:language>en-US</dc:language>
  <cp:lastModifiedBy>jvl</cp:lastModifiedBy>
  <dcterms:modified xsi:type="dcterms:W3CDTF">2001-04-12T18:44:52Z</dcterms:modified>
  <cp:revision>5</cp:revision>
  <dc:subject/>
  <dc:title>PowerPoint Presentation</dc:title>
</cp:coreProperties>
</file>