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847C-1BC8-4BE2-A3C5-7DC322642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6C68-7FD7-4808-89AD-F1BD9109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B40C-0AEB-4211-8F42-585F4F2F1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2A79-D1C0-4201-97BD-C8C60B390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F342-541C-4192-9176-2E5AB05E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38CE-B176-4A63-8EF1-2AC7609B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9A44-FF2A-4200-8796-27DFDEF0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7FCA-3EE6-4B23-868B-8FBF5279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BF79-CEA2-4F23-9439-C94E8FB9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93ED-734F-4056-8E8A-819253A1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F911-CA5E-4B79-B136-EF843AB4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E065-7C22-4364-9D8C-4C0B8E36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72C4-2DC3-4805-86CD-27FA38F98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52680" y="1981080"/>
            <a:ext cx="2362320" cy="2362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429000" y="304920"/>
            <a:ext cx="2438280" cy="1066680"/>
            <a:chOff x="3429000" y="304920"/>
            <a:chExt cx="2438280" cy="1066680"/>
          </a:xfrm>
        </p:grpSpPr>
        <p:sp>
          <p:nvSpPr>
            <p:cNvPr id="43" name=""/>
            <p:cNvSpPr/>
            <p:nvPr/>
          </p:nvSpPr>
          <p:spPr>
            <a:xfrm>
              <a:off x="3429000" y="304920"/>
              <a:ext cx="2209680" cy="1066680"/>
            </a:xfrm>
            <a:prstGeom prst="flowChartDecision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962520" y="533520"/>
              <a:ext cx="1904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Projec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ject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6324480" y="2057400"/>
            <a:ext cx="1600200" cy="609480"/>
            <a:chOff x="6324480" y="2057400"/>
            <a:chExt cx="1600200" cy="609480"/>
          </a:xfrm>
        </p:grpSpPr>
        <p:sp>
          <p:nvSpPr>
            <p:cNvPr id="46" name=""/>
            <p:cNvSpPr/>
            <p:nvPr/>
          </p:nvSpPr>
          <p:spPr>
            <a:xfrm>
              <a:off x="6324480" y="2057400"/>
              <a:ext cx="16002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324480" y="205740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Rol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sign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6324480" y="3048120"/>
            <a:ext cx="1600200" cy="609480"/>
            <a:chOff x="6324480" y="3048120"/>
            <a:chExt cx="1600200" cy="609480"/>
          </a:xfrm>
        </p:grpSpPr>
        <p:sp>
          <p:nvSpPr>
            <p:cNvPr id="49" name=""/>
            <p:cNvSpPr/>
            <p:nvPr/>
          </p:nvSpPr>
          <p:spPr>
            <a:xfrm>
              <a:off x="6324480" y="3048120"/>
              <a:ext cx="16002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24480" y="304812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Rol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eck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57200" y="2057400"/>
            <a:ext cx="1752480" cy="685800"/>
            <a:chOff x="457200" y="2057400"/>
            <a:chExt cx="1752480" cy="685800"/>
          </a:xfrm>
        </p:grpSpPr>
        <p:sp>
          <p:nvSpPr>
            <p:cNvPr id="52" name=""/>
            <p:cNvSpPr/>
            <p:nvPr/>
          </p:nvSpPr>
          <p:spPr>
            <a:xfrm>
              <a:off x="457200" y="2057400"/>
              <a:ext cx="1752480" cy="6858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70120" y="205740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scOrg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am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57200" y="3124080"/>
            <a:ext cx="1752480" cy="685800"/>
            <a:chOff x="457200" y="3124080"/>
            <a:chExt cx="1752480" cy="685800"/>
          </a:xfrm>
        </p:grpSpPr>
        <p:sp>
          <p:nvSpPr>
            <p:cNvPr id="55" name=""/>
            <p:cNvSpPr/>
            <p:nvPr/>
          </p:nvSpPr>
          <p:spPr>
            <a:xfrm>
              <a:off x="457200" y="3124080"/>
              <a:ext cx="1752480" cy="6858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70120" y="3124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scOrg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am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4419720" y="1981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scCon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37339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52" idx="6"/>
            <a:endCxn id="60" idx="2"/>
          </p:cNvCxnSpPr>
          <p:nvPr/>
        </p:nvCxnSpPr>
        <p:spPr>
          <a:xfrm>
            <a:off x="2209680" y="2400480"/>
            <a:ext cx="1371960" cy="11448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61" name=""/>
          <p:cNvCxnSpPr>
            <a:stCxn id="60" idx="0"/>
            <a:endCxn id="43" idx="2"/>
          </p:cNvCxnSpPr>
          <p:nvPr/>
        </p:nvCxnSpPr>
        <p:spPr>
          <a:xfrm flipV="1">
            <a:off x="3657600" y="1371600"/>
            <a:ext cx="876600" cy="106704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62" name=""/>
          <p:cNvCxnSpPr>
            <a:stCxn id="60" idx="6"/>
            <a:endCxn id="46" idx="1"/>
          </p:cNvCxnSpPr>
          <p:nvPr/>
        </p:nvCxnSpPr>
        <p:spPr>
          <a:xfrm flipV="1">
            <a:off x="3733560" y="2361960"/>
            <a:ext cx="2591280" cy="15300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grpSp>
        <p:nvGrpSpPr>
          <p:cNvPr id="63" name=""/>
          <p:cNvGrpSpPr/>
          <p:nvPr/>
        </p:nvGrpSpPr>
        <p:grpSpPr>
          <a:xfrm>
            <a:off x="3581280" y="2438280"/>
            <a:ext cx="685800" cy="276480"/>
            <a:chOff x="3581280" y="2438280"/>
            <a:chExt cx="685800" cy="276480"/>
          </a:xfrm>
        </p:grpSpPr>
        <p:sp>
          <p:nvSpPr>
            <p:cNvPr id="60" name=""/>
            <p:cNvSpPr/>
            <p:nvPr/>
          </p:nvSpPr>
          <p:spPr>
            <a:xfrm>
              <a:off x="3581280" y="24382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657600" y="243828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xt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286000" y="5029200"/>
            <a:ext cx="1295280" cy="1190160"/>
            <a:chOff x="2286000" y="5029200"/>
            <a:chExt cx="1295280" cy="1190160"/>
          </a:xfrm>
        </p:grpSpPr>
        <p:sp>
          <p:nvSpPr>
            <p:cNvPr id="66" name=""/>
            <p:cNvSpPr/>
            <p:nvPr/>
          </p:nvSpPr>
          <p:spPr>
            <a:xfrm>
              <a:off x="2666880" y="5029200"/>
              <a:ext cx="533520" cy="53352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86000" y="5638680"/>
              <a:ext cx="129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809880" y="5029200"/>
            <a:ext cx="1295280" cy="1190160"/>
            <a:chOff x="3809880" y="5029200"/>
            <a:chExt cx="1295280" cy="1190160"/>
          </a:xfrm>
        </p:grpSpPr>
        <p:sp>
          <p:nvSpPr>
            <p:cNvPr id="69" name=""/>
            <p:cNvSpPr/>
            <p:nvPr/>
          </p:nvSpPr>
          <p:spPr>
            <a:xfrm>
              <a:off x="4190760" y="5029200"/>
              <a:ext cx="533520" cy="533520"/>
            </a:xfrm>
            <a:prstGeom prst="smileyFace">
              <a:avLst>
                <a:gd name="adj" fmla="val 9282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809880" y="5638680"/>
              <a:ext cx="129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257800" y="5029200"/>
            <a:ext cx="1295280" cy="1190160"/>
            <a:chOff x="5257800" y="5029200"/>
            <a:chExt cx="1295280" cy="1190160"/>
          </a:xfrm>
        </p:grpSpPr>
        <p:sp>
          <p:nvSpPr>
            <p:cNvPr id="72" name=""/>
            <p:cNvSpPr/>
            <p:nvPr/>
          </p:nvSpPr>
          <p:spPr>
            <a:xfrm>
              <a:off x="5638680" y="5029200"/>
              <a:ext cx="533520" cy="533520"/>
            </a:xfrm>
            <a:prstGeom prst="smileyFace">
              <a:avLst>
                <a:gd name="adj" fmla="val 9282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57800" y="5638680"/>
              <a:ext cx="129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i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4" name=""/>
          <p:cNvCxnSpPr>
            <a:stCxn id="55" idx="6"/>
            <a:endCxn id="75" idx="2"/>
          </p:cNvCxnSpPr>
          <p:nvPr/>
        </p:nvCxnSpPr>
        <p:spPr>
          <a:xfrm flipV="1">
            <a:off x="2209680" y="3276720"/>
            <a:ext cx="1981800" cy="19080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cxnSp>
        <p:nvCxnSpPr>
          <p:cNvPr id="76" name=""/>
          <p:cNvCxnSpPr>
            <a:stCxn id="77" idx="1"/>
            <a:endCxn id="47" idx="1"/>
          </p:cNvCxnSpPr>
          <p:nvPr/>
        </p:nvCxnSpPr>
        <p:spPr>
          <a:xfrm flipV="1">
            <a:off x="4267080" y="2347560"/>
            <a:ext cx="2057760" cy="99144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cxnSp>
        <p:nvCxnSpPr>
          <p:cNvPr id="78" name=""/>
          <p:cNvCxnSpPr>
            <a:stCxn id="43" idx="2"/>
            <a:endCxn id="77" idx="1"/>
          </p:cNvCxnSpPr>
          <p:nvPr/>
        </p:nvCxnSpPr>
        <p:spPr>
          <a:xfrm flipH="1">
            <a:off x="4267080" y="1371600"/>
            <a:ext cx="267120" cy="196740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sp>
        <p:nvSpPr>
          <p:cNvPr id="75" name=""/>
          <p:cNvSpPr/>
          <p:nvPr/>
        </p:nvSpPr>
        <p:spPr>
          <a:xfrm>
            <a:off x="4191120" y="320040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320040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x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55" idx="6"/>
            <a:endCxn id="58" idx="2"/>
          </p:cNvCxnSpPr>
          <p:nvPr/>
        </p:nvCxnSpPr>
        <p:spPr>
          <a:xfrm>
            <a:off x="2209680" y="3467160"/>
            <a:ext cx="2819880" cy="34344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cxnSp>
        <p:nvCxnSpPr>
          <p:cNvPr id="80" name=""/>
          <p:cNvCxnSpPr>
            <a:stCxn id="58" idx="6"/>
            <a:endCxn id="50" idx="1"/>
          </p:cNvCxnSpPr>
          <p:nvPr/>
        </p:nvCxnSpPr>
        <p:spPr>
          <a:xfrm flipV="1">
            <a:off x="5181480" y="3338280"/>
            <a:ext cx="1143360" cy="47232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cxnSp>
        <p:nvCxnSpPr>
          <p:cNvPr id="81" name=""/>
          <p:cNvCxnSpPr>
            <a:stCxn id="43" idx="2"/>
            <a:endCxn id="58" idx="0"/>
          </p:cNvCxnSpPr>
          <p:nvPr/>
        </p:nvCxnSpPr>
        <p:spPr>
          <a:xfrm>
            <a:off x="4533840" y="1371600"/>
            <a:ext cx="572040" cy="236268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sp>
        <p:nvSpPr>
          <p:cNvPr id="82" name=""/>
          <p:cNvSpPr/>
          <p:nvPr/>
        </p:nvSpPr>
        <p:spPr>
          <a:xfrm>
            <a:off x="5084640" y="37339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xt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352680" y="1981080"/>
            <a:ext cx="2362320" cy="2362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00400" y="304920"/>
            <a:ext cx="2556000" cy="1066680"/>
          </a:xfrm>
          <a:prstGeom prst="flowChartDecision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17800" y="533520"/>
            <a:ext cx="220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Projec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324480" y="2057400"/>
            <a:ext cx="1600200" cy="609480"/>
            <a:chOff x="6324480" y="2057400"/>
            <a:chExt cx="1600200" cy="609480"/>
          </a:xfrm>
        </p:grpSpPr>
        <p:sp>
          <p:nvSpPr>
            <p:cNvPr id="87" name=""/>
            <p:cNvSpPr/>
            <p:nvPr/>
          </p:nvSpPr>
          <p:spPr>
            <a:xfrm>
              <a:off x="6324480" y="2057400"/>
              <a:ext cx="16002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324480" y="205740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Rol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sign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324480" y="3048120"/>
            <a:ext cx="1600200" cy="609480"/>
            <a:chOff x="6324480" y="3048120"/>
            <a:chExt cx="1600200" cy="609480"/>
          </a:xfrm>
        </p:grpSpPr>
        <p:sp>
          <p:nvSpPr>
            <p:cNvPr id="90" name=""/>
            <p:cNvSpPr/>
            <p:nvPr/>
          </p:nvSpPr>
          <p:spPr>
            <a:xfrm>
              <a:off x="6324480" y="3048120"/>
              <a:ext cx="16002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324480" y="304812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Rol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eck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1143000" y="2057400"/>
            <a:ext cx="1904760" cy="798120"/>
            <a:chOff x="1143000" y="2057400"/>
            <a:chExt cx="1904760" cy="798120"/>
          </a:xfrm>
        </p:grpSpPr>
        <p:sp>
          <p:nvSpPr>
            <p:cNvPr id="93" name=""/>
            <p:cNvSpPr/>
            <p:nvPr/>
          </p:nvSpPr>
          <p:spPr>
            <a:xfrm>
              <a:off x="1143000" y="2057400"/>
              <a:ext cx="1904760" cy="7981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91560" y="2057400"/>
              <a:ext cx="132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scOrg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am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143000" y="3124080"/>
            <a:ext cx="1904760" cy="684360"/>
            <a:chOff x="1143000" y="3124080"/>
            <a:chExt cx="1904760" cy="684360"/>
          </a:xfrm>
        </p:grpSpPr>
        <p:sp>
          <p:nvSpPr>
            <p:cNvPr id="96" name=""/>
            <p:cNvSpPr/>
            <p:nvPr/>
          </p:nvSpPr>
          <p:spPr>
            <a:xfrm>
              <a:off x="1143000" y="3124080"/>
              <a:ext cx="1904760" cy="6843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91560" y="3124080"/>
              <a:ext cx="132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scOrg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am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4467240" y="1981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scCon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37339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93" idx="6"/>
            <a:endCxn id="101" idx="2"/>
          </p:cNvCxnSpPr>
          <p:nvPr/>
        </p:nvCxnSpPr>
        <p:spPr>
          <a:xfrm>
            <a:off x="3047760" y="2457000"/>
            <a:ext cx="533880" cy="5796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102" name=""/>
          <p:cNvCxnSpPr>
            <a:stCxn id="101" idx="0"/>
            <a:endCxn id="84" idx="2"/>
          </p:cNvCxnSpPr>
          <p:nvPr/>
        </p:nvCxnSpPr>
        <p:spPr>
          <a:xfrm flipV="1">
            <a:off x="3657600" y="1370880"/>
            <a:ext cx="821520" cy="106740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103" name=""/>
          <p:cNvCxnSpPr>
            <a:stCxn id="101" idx="6"/>
            <a:endCxn id="87" idx="1"/>
          </p:cNvCxnSpPr>
          <p:nvPr/>
        </p:nvCxnSpPr>
        <p:spPr>
          <a:xfrm flipV="1">
            <a:off x="3733920" y="2361600"/>
            <a:ext cx="2591280" cy="15300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grpSp>
        <p:nvGrpSpPr>
          <p:cNvPr id="104" name=""/>
          <p:cNvGrpSpPr/>
          <p:nvPr/>
        </p:nvGrpSpPr>
        <p:grpSpPr>
          <a:xfrm>
            <a:off x="3581280" y="2438280"/>
            <a:ext cx="685800" cy="276480"/>
            <a:chOff x="3581280" y="2438280"/>
            <a:chExt cx="685800" cy="276480"/>
          </a:xfrm>
        </p:grpSpPr>
        <p:sp>
          <p:nvSpPr>
            <p:cNvPr id="101" name=""/>
            <p:cNvSpPr/>
            <p:nvPr/>
          </p:nvSpPr>
          <p:spPr>
            <a:xfrm>
              <a:off x="3581280" y="24382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57600" y="243828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xt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057400" y="5029200"/>
            <a:ext cx="1523520" cy="1227600"/>
            <a:chOff x="2057400" y="5029200"/>
            <a:chExt cx="1523520" cy="1227600"/>
          </a:xfrm>
        </p:grpSpPr>
        <p:sp>
          <p:nvSpPr>
            <p:cNvPr id="107" name=""/>
            <p:cNvSpPr/>
            <p:nvPr/>
          </p:nvSpPr>
          <p:spPr>
            <a:xfrm>
              <a:off x="2505240" y="5029200"/>
              <a:ext cx="627480" cy="56628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57400" y="5676120"/>
              <a:ext cx="1523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usto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657600" y="5029200"/>
            <a:ext cx="1447560" cy="1227600"/>
            <a:chOff x="3657600" y="5029200"/>
            <a:chExt cx="1447560" cy="1227600"/>
          </a:xfrm>
        </p:grpSpPr>
        <p:sp>
          <p:nvSpPr>
            <p:cNvPr id="110" name=""/>
            <p:cNvSpPr/>
            <p:nvPr/>
          </p:nvSpPr>
          <p:spPr>
            <a:xfrm>
              <a:off x="4083120" y="5029200"/>
              <a:ext cx="596160" cy="566280"/>
            </a:xfrm>
            <a:prstGeom prst="smileyFace">
              <a:avLst>
                <a:gd name="adj" fmla="val 9282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57600" y="5676120"/>
              <a:ext cx="1447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usto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257800" y="5029200"/>
            <a:ext cx="1523520" cy="1195560"/>
            <a:chOff x="5257800" y="5029200"/>
            <a:chExt cx="1523520" cy="1195560"/>
          </a:xfrm>
        </p:grpSpPr>
        <p:sp>
          <p:nvSpPr>
            <p:cNvPr id="113" name=""/>
            <p:cNvSpPr/>
            <p:nvPr/>
          </p:nvSpPr>
          <p:spPr>
            <a:xfrm>
              <a:off x="5705640" y="5029200"/>
              <a:ext cx="627480" cy="538200"/>
            </a:xfrm>
            <a:prstGeom prst="smileyFace">
              <a:avLst>
                <a:gd name="adj" fmla="val 9282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57800" y="5644080"/>
              <a:ext cx="1523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usto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i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5" name=""/>
          <p:cNvCxnSpPr>
            <a:stCxn id="96" idx="6"/>
            <a:endCxn id="116" idx="2"/>
          </p:cNvCxnSpPr>
          <p:nvPr/>
        </p:nvCxnSpPr>
        <p:spPr>
          <a:xfrm flipV="1">
            <a:off x="3047760" y="3276000"/>
            <a:ext cx="1143720" cy="19116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cxnSp>
        <p:nvCxnSpPr>
          <p:cNvPr id="117" name=""/>
          <p:cNvCxnSpPr>
            <a:stCxn id="118" idx="1"/>
            <a:endCxn id="88" idx="1"/>
          </p:cNvCxnSpPr>
          <p:nvPr/>
        </p:nvCxnSpPr>
        <p:spPr>
          <a:xfrm flipV="1">
            <a:off x="4266720" y="2347560"/>
            <a:ext cx="2057760" cy="99144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cxnSp>
        <p:nvCxnSpPr>
          <p:cNvPr id="119" name=""/>
          <p:cNvCxnSpPr>
            <a:stCxn id="84" idx="2"/>
            <a:endCxn id="118" idx="1"/>
          </p:cNvCxnSpPr>
          <p:nvPr/>
        </p:nvCxnSpPr>
        <p:spPr>
          <a:xfrm flipH="1">
            <a:off x="4266360" y="1371600"/>
            <a:ext cx="212040" cy="196776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4191120" y="320040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67080" y="320040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x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96" idx="6"/>
            <a:endCxn id="99" idx="2"/>
          </p:cNvCxnSpPr>
          <p:nvPr/>
        </p:nvCxnSpPr>
        <p:spPr>
          <a:xfrm>
            <a:off x="3047760" y="3467160"/>
            <a:ext cx="1981800" cy="34344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cxnSp>
        <p:nvCxnSpPr>
          <p:cNvPr id="121" name=""/>
          <p:cNvCxnSpPr>
            <a:stCxn id="99" idx="6"/>
            <a:endCxn id="91" idx="1"/>
          </p:cNvCxnSpPr>
          <p:nvPr/>
        </p:nvCxnSpPr>
        <p:spPr>
          <a:xfrm flipV="1">
            <a:off x="5181120" y="3337920"/>
            <a:ext cx="1143720" cy="47196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cxnSp>
        <p:nvCxnSpPr>
          <p:cNvPr id="122" name=""/>
          <p:cNvCxnSpPr>
            <a:stCxn id="84" idx="2"/>
            <a:endCxn id="99" idx="0"/>
          </p:cNvCxnSpPr>
          <p:nvPr/>
        </p:nvCxnSpPr>
        <p:spPr>
          <a:xfrm>
            <a:off x="4478400" y="1371600"/>
            <a:ext cx="627840" cy="236304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5084640" y="37339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xt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04920"/>
            <a:ext cx="2209680" cy="1066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609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248520" y="304920"/>
            <a:ext cx="2209680" cy="1066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609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4" idx="3"/>
            <a:endCxn id="84" idx="1"/>
          </p:cNvCxnSpPr>
          <p:nvPr/>
        </p:nvCxnSpPr>
        <p:spPr>
          <a:xfrm>
            <a:off x="2666880" y="837720"/>
            <a:ext cx="534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5715000" y="83808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105520"/>
            <a:ext cx="19814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5486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371600"/>
            <a:ext cx="0" cy="373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847880" y="0"/>
          <a:ext cx="51084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7880" y="0"/>
                    <a:ext cx="51084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0" y="304920"/>
          <a:ext cx="9144000" cy="614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9144000" cy="61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228600" y="685800"/>
            <a:ext cx="6781680" cy="1523880"/>
            <a:chOff x="228600" y="685800"/>
            <a:chExt cx="6781680" cy="1523880"/>
          </a:xfrm>
        </p:grpSpPr>
        <p:sp>
          <p:nvSpPr>
            <p:cNvPr id="138" name=""/>
            <p:cNvSpPr/>
            <p:nvPr/>
          </p:nvSpPr>
          <p:spPr>
            <a:xfrm>
              <a:off x="228600" y="685800"/>
              <a:ext cx="1523880" cy="1523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8600" y="968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8600" y="6858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j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600" y="968400"/>
              <a:ext cx="15238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FAULT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JECTCA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JECTF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81080" y="685800"/>
              <a:ext cx="1524240" cy="1523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81080" y="96840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81080" y="685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ganiz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981080" y="968400"/>
              <a:ext cx="1524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CHA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33920" y="685800"/>
              <a:ext cx="1523880" cy="1523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33920" y="968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33920" y="6858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33920" y="968400"/>
              <a:ext cx="15238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PMADMI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ECK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IGN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GINE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86400" y="685800"/>
              <a:ext cx="1523880" cy="1523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86400" y="968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86400" y="6858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86400" y="968400"/>
              <a:ext cx="15238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CHA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14400" y="255600"/>
            <a:ext cx="7391520" cy="5181480"/>
          </a:xfrm>
          <a:prstGeom prst="rect">
            <a:avLst/>
          </a:prstGeom>
          <a:solidFill>
            <a:srgbClr val="fb8d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277920"/>
            <a:ext cx="0" cy="5092560"/>
          </a:xfrm>
          <a:prstGeom prst="line">
            <a:avLst/>
          </a:prstGeom>
          <a:ln w="507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482760"/>
            <a:ext cx="3048120" cy="3352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2476440" y="2806200"/>
            <a:ext cx="228600" cy="3048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23"/>
                </a:lnTo>
                <a:cubicBezTo>
                  <a:pt x="10800" y="9823"/>
                  <a:pt x="5400" y="10723"/>
                  <a:pt x="0" y="10723"/>
                </a:cubicBezTo>
                <a:cubicBezTo>
                  <a:pt x="5400" y="10723"/>
                  <a:pt x="10800" y="11623"/>
                  <a:pt x="10800" y="1252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6514920" y="2806200"/>
            <a:ext cx="228600" cy="3047760"/>
          </a:xfrm>
          <a:custGeom>
            <a:avLst/>
            <a:gdLst>
              <a:gd name="textAreaLeft" fmla="*/ 146160 w 228600"/>
              <a:gd name="textAreaRight" fmla="*/ 228960 w 228600"/>
              <a:gd name="textAreaTop" fmla="*/ 79200 h 3047760"/>
              <a:gd name="textAreaBottom" fmla="*/ 2968560 h 304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23"/>
                </a:lnTo>
                <a:cubicBezTo>
                  <a:pt x="10800" y="9823"/>
                  <a:pt x="5400" y="10723"/>
                  <a:pt x="0" y="10723"/>
                </a:cubicBezTo>
                <a:cubicBezTo>
                  <a:pt x="5400" y="10723"/>
                  <a:pt x="10800" y="11623"/>
                  <a:pt x="10800" y="1252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05520" y="482760"/>
            <a:ext cx="3047760" cy="3352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69880" y="452124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1 :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86400" y="453564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2 : Publish in the databas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by admin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4316400" y="2131920"/>
            <a:ext cx="609840" cy="7391520"/>
          </a:xfrm>
          <a:custGeom>
            <a:avLst/>
            <a:gdLst>
              <a:gd name="textAreaLeft" fmla="*/ 389520 w 609840"/>
              <a:gd name="textAreaRight" fmla="*/ 610200 w 609840"/>
              <a:gd name="textAreaTop" fmla="*/ 192600 h 7391520"/>
              <a:gd name="textAreaBottom" fmla="*/ 7198920 h 739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00280" y="613260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ull People custo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057400" y="646200"/>
            <a:ext cx="1066680" cy="990360"/>
            <a:chOff x="2057400" y="646200"/>
            <a:chExt cx="1066680" cy="990360"/>
          </a:xfrm>
        </p:grpSpPr>
        <p:sp>
          <p:nvSpPr>
            <p:cNvPr id="165" name=""/>
            <p:cNvSpPr/>
            <p:nvPr/>
          </p:nvSpPr>
          <p:spPr>
            <a:xfrm>
              <a:off x="2057400" y="646200"/>
              <a:ext cx="1066680" cy="99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209680" y="722160"/>
              <a:ext cx="761040" cy="838440"/>
              <a:chOff x="2209680" y="722160"/>
              <a:chExt cx="761040" cy="838440"/>
            </a:xfrm>
          </p:grpSpPr>
          <p:sp>
            <p:nvSpPr>
              <p:cNvPr id="167" name=""/>
              <p:cNvSpPr/>
              <p:nvPr/>
            </p:nvSpPr>
            <p:spPr>
              <a:xfrm>
                <a:off x="2209680" y="1001520"/>
                <a:ext cx="243360" cy="209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209680" y="1351080"/>
                <a:ext cx="243360" cy="209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9" name=""/>
              <p:cNvCxnSpPr>
                <a:stCxn id="168" idx="0"/>
                <a:endCxn id="167" idx="2"/>
              </p:cNvCxnSpPr>
              <p:nvPr/>
            </p:nvCxnSpPr>
            <p:spPr>
              <a:xfrm flipV="1">
                <a:off x="2331000" y="1210680"/>
                <a:ext cx="1080" cy="140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70" name=""/>
              <p:cNvSpPr/>
              <p:nvPr/>
            </p:nvSpPr>
            <p:spPr>
              <a:xfrm>
                <a:off x="2727360" y="722160"/>
                <a:ext cx="243360" cy="209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727360" y="1071360"/>
                <a:ext cx="243360" cy="209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72" name=""/>
              <p:cNvCxnSpPr>
                <a:stCxn id="171" idx="0"/>
                <a:endCxn id="170" idx="2"/>
              </p:cNvCxnSpPr>
              <p:nvPr/>
            </p:nvCxnSpPr>
            <p:spPr>
              <a:xfrm flipV="1">
                <a:off x="2849040" y="931320"/>
                <a:ext cx="1080" cy="140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73" name=""/>
              <p:cNvCxnSpPr>
                <a:stCxn id="168" idx="3"/>
                <a:endCxn id="171" idx="1"/>
              </p:cNvCxnSpPr>
              <p:nvPr/>
            </p:nvCxnSpPr>
            <p:spPr>
              <a:xfrm flipV="1">
                <a:off x="2452680" y="1175760"/>
                <a:ext cx="274680" cy="280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sp>
        <p:nvSpPr>
          <p:cNvPr id="174" name=""/>
          <p:cNvSpPr/>
          <p:nvPr/>
        </p:nvSpPr>
        <p:spPr>
          <a:xfrm>
            <a:off x="1143000" y="17128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ign the customized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5400000">
            <a:off x="2323440" y="190332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286000" y="2627280"/>
            <a:ext cx="609480" cy="838080"/>
            <a:chOff x="2286000" y="2627280"/>
            <a:chExt cx="609480" cy="838080"/>
          </a:xfrm>
        </p:grpSpPr>
        <p:sp>
          <p:nvSpPr>
            <p:cNvPr id="177" name=""/>
            <p:cNvSpPr/>
            <p:nvPr/>
          </p:nvSpPr>
          <p:spPr>
            <a:xfrm>
              <a:off x="2286000" y="2779560"/>
              <a:ext cx="609480" cy="685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86000" y="2627280"/>
              <a:ext cx="380880" cy="152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62320" y="2855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62320" y="30081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62320" y="3160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62320" y="3313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1371600" y="346536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tion of metadata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486400" y="569880"/>
            <a:ext cx="609480" cy="838080"/>
            <a:chOff x="5486400" y="569880"/>
            <a:chExt cx="609480" cy="838080"/>
          </a:xfrm>
        </p:grpSpPr>
        <p:sp>
          <p:nvSpPr>
            <p:cNvPr id="185" name=""/>
            <p:cNvSpPr/>
            <p:nvPr/>
          </p:nvSpPr>
          <p:spPr>
            <a:xfrm>
              <a:off x="5486400" y="722160"/>
              <a:ext cx="609480" cy="685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86400" y="569880"/>
              <a:ext cx="380880" cy="152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62720" y="798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562720" y="950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62720" y="1103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62720" y="1255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324480" y="569880"/>
            <a:ext cx="609480" cy="838080"/>
            <a:chOff x="6324480" y="569880"/>
            <a:chExt cx="609480" cy="838080"/>
          </a:xfrm>
        </p:grpSpPr>
        <p:sp>
          <p:nvSpPr>
            <p:cNvPr id="192" name=""/>
            <p:cNvSpPr/>
            <p:nvPr/>
          </p:nvSpPr>
          <p:spPr>
            <a:xfrm>
              <a:off x="6324480" y="722160"/>
              <a:ext cx="609480" cy="685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24480" y="569880"/>
              <a:ext cx="380880" cy="152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00800" y="798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400800" y="950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00800" y="1103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00800" y="1255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7162920" y="569880"/>
            <a:ext cx="609480" cy="838080"/>
            <a:chOff x="7162920" y="569880"/>
            <a:chExt cx="609480" cy="838080"/>
          </a:xfrm>
        </p:grpSpPr>
        <p:sp>
          <p:nvSpPr>
            <p:cNvPr id="199" name=""/>
            <p:cNvSpPr/>
            <p:nvPr/>
          </p:nvSpPr>
          <p:spPr>
            <a:xfrm>
              <a:off x="7162920" y="722160"/>
              <a:ext cx="609480" cy="685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162920" y="569880"/>
              <a:ext cx="380880" cy="152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39240" y="798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39240" y="950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239240" y="1103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239240" y="1255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5106960" y="1407960"/>
            <a:ext cx="312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te SQL scripts and needed f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086600" y="2246400"/>
            <a:ext cx="762120" cy="91440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6134040" y="2208240"/>
            <a:ext cx="990720" cy="761760"/>
          </a:xfrm>
          <a:custGeom>
            <a:avLst/>
            <a:gdLst>
              <a:gd name="textAreaLeft" fmla="*/ 330120 w 990720"/>
              <a:gd name="textAreaRight" fmla="*/ 848520 w 990720"/>
              <a:gd name="textAreaTop" fmla="*/ 438840 h 761760"/>
              <a:gd name="textAreaBottom" fmla="*/ 6526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05520" y="32367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update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/>
          <p:nvPr/>
        </p:nvCxnSpPr>
        <p:spPr>
          <a:xfrm flipV="1" rot="10800000">
            <a:off x="3141000" y="1103040"/>
            <a:ext cx="2269080" cy="2070720"/>
          </a:xfrm>
          <a:prstGeom prst="curvedConnector5">
            <a:avLst>
              <a:gd name="adj1" fmla="val 49952"/>
              <a:gd name="adj2" fmla="val 49991"/>
              <a:gd name="adj3" fmla="val 49952"/>
            </a:avLst>
          </a:prstGeom>
          <a:ln w="76320">
            <a:solidFill>
              <a:srgbClr val="3366ff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10:09:48Z</dcterms:created>
  <dc:creator>fya</dc:creator>
  <dc:description/>
  <dc:language>en-US</dc:language>
  <cp:lastModifiedBy>fya</cp:lastModifiedBy>
  <dcterms:modified xsi:type="dcterms:W3CDTF">2004-03-08T15:44:38Z</dcterms:modified>
  <cp:revision>11</cp:revision>
  <dc:subject/>
  <dc:title>Slide 1</dc:title>
</cp:coreProperties>
</file>