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5B8B-D3AA-4AFE-823D-5336090A9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D588-E6A0-49A2-BA5A-6119A661E2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a50a1"/>
                </a:solidFill>
                <a:latin typeface="Arial"/>
                <a:ea typeface="Times New Roman"/>
              </a:rPr>
              <a:t>This is the “Presentation title” page.  Type the title of your presentation in the "Presentation title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page est la page de titre d’une présentation . Saisissez votre titre dans la zone « Titre de la présentation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199C-1FFE-4E57-B713-477DE2111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3972-F0A0-4A07-849F-11FE85D40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A835-2157-4256-85F0-1084852C1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14B0-4C17-4EEC-8453-F42CF700F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C81F-B883-421D-8881-E3E2326D8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BA29-C93A-49B7-B906-302BFEE2A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A202-F2E1-4D24-876A-CB2FF0C1C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5964A-E6D0-4F60-B248-CC074CBAB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C4EE-7873-48F1-A933-CCD163FA2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65FA-6941-42A6-85FC-635EE147A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C45F-CC7A-4145-B8E2-5375469ED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2177E-C3FF-4818-BBC1-EE28AB146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248520"/>
            <a:ext cx="531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2002 CAAV5 Developers‘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Parc des Princes - Par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6312-3529-4116-8EF1-58808AA0C572}" type="slidenum">
              <a:rPr b="1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gule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S" descr=""/>
          <p:cNvPicPr/>
          <p:nvPr/>
        </p:nvPicPr>
        <p:blipFill>
          <a:blip r:embed="rId7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oding Blends</a:t>
            </a:r>
            <a:br>
              <a:rPr sz="3500"/>
            </a:b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ATTopBlend Operator</a:t>
            </a:r>
            <a:br>
              <a:rPr sz="3500"/>
            </a:b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175248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DomainGi (Gi = G0, G1, 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Each Gi sub-domain/domain of one wire is associated with each Gi sub-domain/domain of the other wire. The extremities of sub-domain/domain are coup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The coupling is carried out edge-by-edge. You must have the same number of vertices on each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02B7-C4CB-4B50-BC90-182BF7AB5C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- Examples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638680"/>
            <a:ext cx="3733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o coupling mode specified </a:t>
            </a:r>
            <a:r>
              <a:rPr b="0" lang="en-US" sz="1400" spc="-1" strike="noStrike">
                <a:solidFill>
                  <a:srgbClr val="120c80"/>
                </a:solidFill>
                <a:latin typeface="Arial"/>
              </a:rPr>
              <a:t>or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 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523880"/>
            <a:ext cx="373392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uplingedgeG0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676240" cy="2867040"/>
          </a:xfrm>
          <a:prstGeom prst="rect">
            <a:avLst/>
          </a:prstGeom>
          <a:ln w="0">
            <a:noFill/>
          </a:ln>
        </p:spPr>
      </p:pic>
      <p:pic>
        <p:nvPicPr>
          <p:cNvPr id="99" name="couplingGo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2362320" cy="25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2286000"/>
            <a:ext cx="15238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480" y="4114440"/>
            <a:ext cx="1828800" cy="1676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2077-CC82-43F9-9A86-42F7DA8EF6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181480"/>
            <a:ext cx="3581640" cy="723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CATTopBlendCouplingMode_Domain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2toG0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0765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840" y="266688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16765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572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RROR – not the same number of ver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029200"/>
            <a:ext cx="541008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4852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94AC-6C0C-4771-83F8-3597039663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838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 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224A-45B5-478F-B92F-801033A66A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8580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s below are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27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8E1E-36EA-4C41-846F-4F568E15A9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s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76212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2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 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 below is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862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80"/>
                </a:solidFill>
                <a:latin typeface="Arial"/>
              </a:rPr>
              <a:t>Three coupling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uplinglines" descr=""/>
          <p:cNvPicPr/>
          <p:nvPr/>
        </p:nvPicPr>
        <p:blipFill>
          <a:blip r:embed="rId1"/>
          <a:stretch/>
        </p:blipFill>
        <p:spPr>
          <a:xfrm>
            <a:off x="2714760" y="2057400"/>
            <a:ext cx="3714480" cy="3362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3580920" y="4114800"/>
            <a:ext cx="34290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3276720"/>
            <a:ext cx="144792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85840" y="380988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4DCC4-5E8E-401E-94D4-D3A4C4EB8B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36:20Z</dcterms:created>
  <dc:creator>CCY</dc:creator>
  <dc:description/>
  <dc:language>en-US</dc:language>
  <cp:lastModifiedBy>CRE</cp:lastModifiedBy>
  <dcterms:modified xsi:type="dcterms:W3CDTF">2002-12-23T18:53:45Z</dcterms:modified>
  <cp:revision>143</cp:revision>
  <dc:subject/>
  <dc:title>Présentation PowerPoint</dc:title>
</cp:coreProperties>
</file>